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gif" ContentType="image/gif"/>
  <Override PartName="/ppt/media/image8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328%20zz.wav" ContentType="audio/x-wav"/>
  <Override PartName="/ppt/media/image14.jpeg" ContentType="image/jpeg"/>
  <Override PartName="/ppt/media/image5.gif" ContentType="image/gif"/>
  <Override PartName="/ppt/media/image13.png" ContentType="image/png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528264-F96C-43BF-B8F0-28E45FC9F2D8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25820A-793F-4585-A6BC-B8FCFE500E7F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33BA0A-5440-464A-858B-37D99364D9F9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7583A50-9742-4316-A1EC-1C91C1B9A732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222D407-8593-4C75-91B3-E82F443476D2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2A3CE4-CD63-43A0-949D-758744ACF0B0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CCB963-A533-435A-B7FB-9CC64A6A0A58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9C537A8-B307-4E43-B89D-71C912F68CC7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F64B77-AC16-479B-A13E-AB6AD682F845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212FE1-61FE-4A94-89C0-B1EB5A648500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E93B8F8-BCD0-49B0-952B-369CE6470ED7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279E60-C163-402B-8054-B21B0FEFFEC1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503BCC-4521-41E4-BD85-A388083451AA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A5E710-F51F-4B18-BFA8-212EE0AA50B2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2D7BEC-4ADE-4BE5-9FAE-CEB4D57775CC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F3C8476-8340-4E0C-8425-68F6E066F514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01E54B-8742-40D4-A9C2-D234DCF63611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E900A2-7AF2-4B07-9E05-1D87F48F6C4B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DFE9B24-CCE8-4E54-BF9C-0DE52CE4EB5F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9585F4-15B1-44A4-B19C-1DED2AA3C726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991ECF-873D-4076-8E00-9664776C7128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1BFD2B-6960-465C-AC07-45FD871875A9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01245B-F1E5-4B9B-8B38-B0AAFAB69C2A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2A134E-3093-4563-A3A8-59622D90EBF7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4741F7-84E9-4444-8889-DE8DE1F92DA2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32D79E1-1E85-4348-92BF-E1AA0F14E52A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7CF2C5-C008-4F91-8A38-CC6D1B5A04F5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FA5A6F-9E7F-4D65-B772-CC2FE619FE43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B4E385-F409-4810-BAD9-5B208434595E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F1A22-78A4-449E-A8DC-03C472099B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06613-2F1A-412F-9457-016A1A6B1C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7EB4E-594B-4C6F-96AA-624B6D11A6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2DC93-3409-4F8A-B0D8-974E204C52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1B3D1-21D7-44F1-BAAB-10F2096F1F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A942D-B5E0-4DAA-B1C6-43A96F7BF0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400A6-9A25-4EDF-98A7-3771ACEC5C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ACFF9-6E7B-47BE-9844-7F3573B2F7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DFB6C-617C-4050-BB14-4B362B7501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DE669-419F-41B1-8283-7691F8F55B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EBE73-02ED-42FE-A238-FD6B5007FC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55A91-6473-4428-869B-CC338296D8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593D55-4DCA-4612-B57C-FF5C550B0AAA}" type="slidenum">
              <a:rPr b="0" lang="fr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audio" Target="../media/328%20zz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7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11.gi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2.gi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8.gif"/><Relationship Id="rId16" Type="http://schemas.openxmlformats.org/officeDocument/2006/relationships/image" Target="../media/image8.gi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13.pn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98560" y="160020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798560" y="4724280"/>
            <a:ext cx="5486400" cy="476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116000" y="2565360"/>
            <a:ext cx="6985080" cy="1727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stallazione del programma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Amore"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2195640" y="5516640"/>
            <a:ext cx="4357440" cy="117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4360" y="-2921040"/>
            <a:ext cx="7772400" cy="83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Non c’è problema.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“Amore” cancellerà automaticamente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“Pena_passata.exe dal suo sistema.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Può darsi che resti qualche residuo sull’hard disk, ma non influirà sugli altri programmi.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“Amore” finirà per rimpiazzare anche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“Bassa_stima.exe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63640" y="148428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692360" y="501336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39640" y="5516640"/>
            <a:ext cx="754200" cy="914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7885080" y="476280"/>
            <a:ext cx="103968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4360" y="-4492800"/>
            <a:ext cx="7772400" cy="10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con un programma incorporato chiamato</a:t>
            </a:r>
            <a:r>
              <a:rPr b="1" lang="it-IT" sz="32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“Alta_stima.exe.” 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Tuttavia, deve disattivare completamente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i programmi “Collera.exe” e “Risentimento.com Questi programmi impediscono l’installazione corretta di “Amore”.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Può arrestarli ora? </a:t>
            </a:r>
            <a:br>
              <a:rPr sz="2800"/>
            </a:b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63640" y="501336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763640" y="1484280"/>
            <a:ext cx="54864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4360" y="1709640"/>
            <a:ext cx="7772400" cy="31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Non so come fare.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Può dirmi come faccio ad arrestarli? </a:t>
            </a: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835280" y="177336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798560" y="4724280"/>
            <a:ext cx="54864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-2125800"/>
            <a:ext cx="7772400" cy="66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Con piacere.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Vada al meno di “Avvio” e attivi “Perdono.exe”. 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Lo faccia tante volte finché “Collera.exe e Risentimento.com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non siano stati completamente cancella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835280" y="155736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763640" y="4797360"/>
            <a:ext cx="54864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-3009960"/>
            <a:ext cx="7772400" cy="83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Fatto.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“Amore” ha cominciato il processo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di installazione automatica.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E’ normale?</a:t>
            </a:r>
            <a:r>
              <a:rPr b="1" lang="fr-CA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63640" y="162864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798560" y="487692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7543800" y="5029200"/>
            <a:ext cx="1257480" cy="130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11280" y="1400040"/>
            <a:ext cx="77724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Sì. Lei vedrà tra poco una scritta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che dice che “Amore” sarà attivo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finché il suo “Cuore” funziona.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Ha visto questo messaggio?</a:t>
            </a:r>
            <a:r>
              <a:rPr b="1" lang="fr-CA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763640" y="162864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763640" y="472428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990720" y="5257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1905120" y="5943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1258920" y="4724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1523880" y="5562720"/>
            <a:ext cx="45720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-2309760"/>
            <a:ext cx="7772400" cy="69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Sì, eccolo!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A questo punto l’installazione è finita?</a:t>
            </a:r>
            <a:r>
              <a:rPr b="1" lang="fr-CA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63640" y="472428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835280" y="1628640"/>
            <a:ext cx="54864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-2368440"/>
            <a:ext cx="7772400" cy="70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Sì, ma si ricordi che Lei non ha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che il programma di base.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Lei deve ora connettersi con altri “Cuori”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per ricevere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gli aggiornamenti necessari.</a:t>
            </a:r>
            <a:r>
              <a:rPr b="1" lang="fr-CA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835280" y="170028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692360" y="486900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1371600" y="990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3048120" y="380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380880" y="3505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838080" y="213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6095880" y="380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4419720" y="838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0"/>
          <a:stretch/>
        </p:blipFill>
        <p:spPr>
          <a:xfrm>
            <a:off x="8153280" y="1371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1"/>
          <a:stretch/>
        </p:blipFill>
        <p:spPr>
          <a:xfrm>
            <a:off x="7391520" y="304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2"/>
          <a:stretch/>
        </p:blipFill>
        <p:spPr>
          <a:xfrm>
            <a:off x="1332000" y="6021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3"/>
          <a:stretch/>
        </p:blipFill>
        <p:spPr>
          <a:xfrm>
            <a:off x="457200" y="4952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4"/>
          <a:stretch/>
        </p:blipFill>
        <p:spPr>
          <a:xfrm>
            <a:off x="990720" y="1523880"/>
            <a:ext cx="388800" cy="3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-2247840"/>
            <a:ext cx="7772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Accidenti.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Ho ricevuto un messaggio di errore.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Che faccio?</a:t>
            </a:r>
            <a:r>
              <a:rPr b="1" lang="fr-CA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798560" y="152388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843280" y="3645000"/>
            <a:ext cx="3370320" cy="10224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835280" y="4941720"/>
            <a:ext cx="54864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-2855880"/>
            <a:ext cx="7772400" cy="80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Che cosa dice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il messaggio d’errore?</a:t>
            </a:r>
            <a:r>
              <a:rPr b="1" lang="fr-CA" sz="2800" spc="-1" strike="noStrike">
                <a:solidFill>
                  <a:srgbClr val="ffff00"/>
                </a:solidFill>
                <a:latin typeface="Verdana"/>
                <a:ea typeface="Arial"/>
              </a:rPr>
              <a:t> </a:t>
            </a: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798560" y="464832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798560" y="2286000"/>
            <a:ext cx="54864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4360" y="-3435480"/>
            <a:ext cx="7772400" cy="9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Un cliente telefona in un negozio PC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per avere dell’aiuto. </a:t>
            </a:r>
            <a:br>
              <a:rPr sz="2800"/>
            </a:b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L’impiegato risponde: Sì, Buon giorno!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che cosa posso fare per lei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63640" y="155736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835280" y="4941720"/>
            <a:ext cx="54864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-3009960"/>
            <a:ext cx="7772400" cy="83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Dice: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Verdana"/>
                <a:ea typeface="Arial"/>
              </a:rPr>
              <a:t>“Programma non attivato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Verdana"/>
                <a:ea typeface="Arial"/>
              </a:rPr>
              <a:t>in alcune componenti interne”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Che significa?</a:t>
            </a:r>
            <a:r>
              <a:rPr b="1" lang="fr-CA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763640" y="479736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763640" y="1557360"/>
            <a:ext cx="54864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5800" y="-3862440"/>
            <a:ext cx="7772400" cy="100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Niente panico.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E’ un problema corrente.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Significa che “Amore” è configurato per essere eseguito da altri “Cuori” esterni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ma non è stato ancora eseguito nel suo “Cuore”. 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E’ una tappa un po’ complessa della programmazione,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o - per dirla in parole semplici -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significa che Lei deve “Amare”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il suo proprio sistema prima di poter “Amare”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gli altri sistemi.</a:t>
            </a:r>
            <a:r>
              <a:rPr b="0" lang="fr-CA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4360" y="-1335240"/>
            <a:ext cx="7772400" cy="60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Allora che devo fare? </a:t>
            </a:r>
            <a:br>
              <a:rPr sz="2800"/>
            </a:br>
            <a:r>
              <a:rPr b="0" i="1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Ha il programma</a:t>
            </a:r>
            <a:br>
              <a:rPr sz="2800"/>
            </a:br>
            <a:r>
              <a:rPr b="0" i="1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“Auto-accusa”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 ?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Sì ce l’ho. </a:t>
            </a:r>
            <a:br>
              <a:rPr sz="2800"/>
            </a:br>
            <a:r>
              <a:rPr b="0" i="1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Benissimo. Lei impara in fretta.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Grazie.</a:t>
            </a:r>
            <a:r>
              <a:rPr b="1" lang="fr-CA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63640" y="148428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3640" y="4797360"/>
            <a:ext cx="54864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4360" y="-2743200"/>
            <a:ext cx="7772400" cy="80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Prego.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Clicchi nelle cartelle seguenti al fine di copiare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nel suo “Cuore” questi files: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Arial"/>
              </a:rPr>
              <a:t>“Auto-perdono.doc”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Arial"/>
              </a:rPr>
              <a:t>“Auto-stima.txt”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Arial"/>
              </a:rPr>
              <a:t>“Valore.inf”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Arial"/>
              </a:rPr>
              <a:t>e “Realizzazione.htm”.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Arial"/>
              </a:rPr>
              <a:t>Il sistema sostituirà ogni file incompatibile e attiverà la rigenerazione di tutte le cartelle difett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09480" y="2590920"/>
            <a:ext cx="45720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11280" y="-1622520"/>
            <a:ext cx="7772400" cy="64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Deve ugualmente cancellare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Verdana"/>
                <a:ea typeface="Arial"/>
              </a:rPr>
              <a:t>“Autocritica-distruttiva.exe”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Verdana"/>
                <a:ea typeface="Arial"/>
              </a:rPr>
              <a:t>da tutti i suoi repertori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Verdana"/>
                <a:ea typeface="Arial"/>
              </a:rPr>
              <a:t>come pure tutte le cartelle cestinate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Verdana"/>
                <a:ea typeface="Arial"/>
              </a:rPr>
              <a:t>in modo da essere sicuro di averle completamente cancell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763640" y="494172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835280" y="155736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990720" y="2438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380880" y="2971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304920" y="2362320"/>
            <a:ext cx="45720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826920" y="-2550960"/>
            <a:ext cx="7417080" cy="74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Capito!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Olé. Il mio “Cuore” sta attivando dei programmi molto belli. 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“Sorriso.mpg” sta attivandosi sul monitor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e indica che “Calore.com”, “Pace.exe” e “Felicità.com” stanno per essere copiati nel mio “Cuor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763640" y="1413000"/>
            <a:ext cx="5486400" cy="533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835280" y="4869000"/>
            <a:ext cx="54864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4360" y="-3102120"/>
            <a:ext cx="7772400" cy="80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Ciò significa che “Amore” è in via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di installazione e di esecuzione.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Ora Lei può cavarsela da solo.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Ancora una cosa,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prima di lasciarla.</a:t>
            </a:r>
            <a:br>
              <a:rPr sz="2800"/>
            </a:br>
            <a:r>
              <a:rPr b="0" i="1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Sì, che cos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835280" y="1484280"/>
            <a:ext cx="5486400" cy="533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1835280" y="4941720"/>
            <a:ext cx="548640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-3032280"/>
            <a:ext cx="7772400" cy="88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“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Amore”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è un programma gratuito.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Procuri di darlo,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con tutti i suoi moduli,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ad ogni persona che conosce.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A loro volta, lo daranno ad altri e Lei riceverà degli aggiornamenti molto piacevoli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in cambio. </a:t>
            </a:r>
            <a:br>
              <a:rPr sz="2400"/>
            </a:br>
            <a:br>
              <a:rPr sz="2400"/>
            </a:br>
            <a:r>
              <a:rPr b="0" i="1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Lo farò</a:t>
            </a:r>
            <a:br>
              <a:rPr sz="2400"/>
            </a:br>
            <a:r>
              <a:rPr b="0" i="1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grazie del suo aiuto!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8305920" y="1523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990720" y="457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7696080" y="609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1600200" y="1295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685800" y="4724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762120" y="213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8"/>
          <a:stretch/>
        </p:blipFill>
        <p:spPr>
          <a:xfrm>
            <a:off x="838080" y="3276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9"/>
          <a:stretch/>
        </p:blipFill>
        <p:spPr>
          <a:xfrm>
            <a:off x="4211640" y="5877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0"/>
          <a:stretch/>
        </p:blipFill>
        <p:spPr>
          <a:xfrm>
            <a:off x="8229600" y="2971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1"/>
          <a:stretch/>
        </p:blipFill>
        <p:spPr>
          <a:xfrm>
            <a:off x="7391520" y="1752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2"/>
          <a:stretch/>
        </p:blipFill>
        <p:spPr>
          <a:xfrm>
            <a:off x="8458200" y="5029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3"/>
          <a:stretch/>
        </p:blipFill>
        <p:spPr>
          <a:xfrm>
            <a:off x="395280" y="2781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4"/>
          <a:stretch/>
        </p:blipFill>
        <p:spPr>
          <a:xfrm>
            <a:off x="7696080" y="4343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5"/>
          <a:stretch/>
        </p:blipFill>
        <p:spPr>
          <a:xfrm>
            <a:off x="1476360" y="5445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6"/>
          <a:stretch/>
        </p:blipFill>
        <p:spPr>
          <a:xfrm>
            <a:off x="7467480" y="5562720"/>
            <a:ext cx="45720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-2705040"/>
            <a:ext cx="7772400" cy="77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36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763640" y="486900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1908000" y="148428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1835280" y="4149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6732720" y="4149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6588000" y="2349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7"/>
          <a:stretch/>
        </p:blipFill>
        <p:spPr>
          <a:xfrm>
            <a:off x="1763640" y="2276640"/>
            <a:ext cx="503280" cy="502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556000" y="5229360"/>
            <a:ext cx="345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8"/>
          <a:stretch/>
        </p:blipFill>
        <p:spPr>
          <a:xfrm>
            <a:off x="3132000" y="1989000"/>
            <a:ext cx="2721240" cy="25304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9"/>
          <a:stretch/>
        </p:blipFill>
        <p:spPr>
          <a:xfrm>
            <a:off x="2340000" y="5877000"/>
            <a:ext cx="4572000" cy="32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0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5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 fill="hold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835280" y="4724280"/>
            <a:ext cx="5486400" cy="476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-103500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Ho trovato un programma chiamato «Amore»,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ma non so come funziona.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Può aiutarmi?</a:t>
            </a:r>
            <a:r>
              <a:rPr b="1" lang="fr-CA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692360" y="155736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7848720" y="1371600"/>
            <a:ext cx="8571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4360" y="-4108320"/>
            <a:ext cx="7772400" cy="100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fr-CA" sz="4400" spc="-1" strike="noStrike">
                <a:solidFill>
                  <a:srgbClr val="990033"/>
                </a:solidFill>
                <a:latin typeface="Verdana"/>
                <a:ea typeface="Arial"/>
              </a:rPr>
              <a:t>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Certamente!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Ma io non posso installarglielo.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Dovrà farlo Lei stesso.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Io posso darle le istruzioni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per telefono.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Va bene?</a:t>
            </a:r>
            <a:r>
              <a:rPr b="1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948360" y="5516640"/>
            <a:ext cx="1668600" cy="925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835280" y="486900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1835280" y="1557360"/>
            <a:ext cx="54864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4360" y="-2452680"/>
            <a:ext cx="7772400" cy="68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fr-CA" sz="4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D’accordo, posso tentare.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Non ne capisco molto di informatica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 ma ora sono pronto per l’installazione.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Da dove devo cominciare?</a:t>
            </a:r>
            <a:r>
              <a:rPr b="1" lang="fr-CA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596360" y="5373720"/>
            <a:ext cx="753840" cy="914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763640" y="479736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1835280" y="1628640"/>
            <a:ext cx="54864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4360" y="-1762200"/>
            <a:ext cx="7772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Il primo passo è di aprire il suo “Cuore”.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L’ha trovato?</a:t>
            </a:r>
            <a:r>
              <a:rPr b="1" lang="fr-CA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763640" y="162864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835280" y="494172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4284720" y="4149720"/>
            <a:ext cx="45720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-2125800"/>
            <a:ext cx="7772400" cy="66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Sì, eccolo.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Ma ci sono diversi programmi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che girano in questo momento.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E’ possibile continuare l’installazione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mentre questi funzionano?</a:t>
            </a:r>
            <a:r>
              <a:rPr b="1" lang="fr-CA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763640" y="162864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763640" y="4797360"/>
            <a:ext cx="54864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-1638360"/>
            <a:ext cx="77724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it-IT" sz="2800" spc="-1" strike="noStrike">
                <a:solidFill>
                  <a:srgbClr val="ffff00"/>
                </a:solidFill>
                <a:latin typeface="Verdana"/>
                <a:ea typeface="Arial"/>
              </a:rPr>
              <a:t>Quali programmi sono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908000" y="177336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798560" y="4724280"/>
            <a:ext cx="54864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4360" y="-3006720"/>
            <a:ext cx="7772400" cy="86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Un istante che guardo.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Pena_passata.exe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Bassa_stima.exe,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Collera_exe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e Risentimento.com</a:t>
            </a:r>
            <a:br>
              <a:rPr sz="2800"/>
            </a:b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sono in funzione.</a:t>
            </a:r>
            <a:r>
              <a:rPr b="0" i="1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667640" y="5373720"/>
            <a:ext cx="754200" cy="914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763640" y="1484280"/>
            <a:ext cx="5486400" cy="476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763640" y="4797360"/>
            <a:ext cx="5486400" cy="476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06:54:59Z</dcterms:created>
  <dc:creator/>
  <dc:description/>
  <dc:language>en-US</dc:language>
  <cp:lastModifiedBy>Angela</cp:lastModifiedBy>
  <dcterms:modified xsi:type="dcterms:W3CDTF">2012-04-08T08:40:36Z</dcterms:modified>
  <cp:revision>2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e Virus constructeur d'Amour">
    <vt:lpwstr>Excellent</vt:lpwstr>
  </property>
</Properties>
</file>