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328%20zz.wav" ContentType="audio/x-wav"/>
  <Override PartName="/ppt/media/image14.jpeg" ContentType="image/jpeg"/>
  <Override PartName="/ppt/media/image5.gif" ContentType="image/gif"/>
  <Override PartName="/ppt/media/image13.png" ContentType="image/png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040D1F-C253-4532-B811-1A52B768B30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ECB6E5-E31D-4986-8624-30C4AF4B303D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729D27-8FAA-4256-92FB-05C6108E982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3955F5-1E59-455F-830D-89E7EAEA96F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11234E-A75E-45E8-94EC-1D7CFCE7608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EEF5DE-1BC8-4B21-96B0-422B26980CA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129856-CEDB-4886-9938-7CE34BC5B46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67191D-51FE-44DA-B8DB-E7F349E3F736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97D14B-2047-4AD8-A69B-2527F8570F0B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79EA05-8927-4832-BCB3-C7908AF8F7DE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4151F8-92F4-4E12-8848-7608B80E6817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F8E4D7-D4B5-4E35-9276-921FCA5E4CB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8C1300-3ED7-432A-B98A-9A6B9B28BA63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8DAC3F-B485-4BA3-8FBC-6335D6EDD17E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8D13E2-52C6-4DAD-A758-00F7CF30D9AA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97B503-34C0-4953-B232-26820B9BEA7B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657008-4CC8-40E7-87F4-C3C32981D541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701B9F-0F7B-41B3-8527-9BB3A8691CB1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38D54A-391D-46BE-8F94-FE252E85197D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B7AC76-5163-41CB-8BAE-34A282DE47DC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487DAE-1CBF-4C73-B40A-20C2DA9A3503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092483-7A8E-493B-A849-01395818057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9E7723-75F2-4AC1-AEB7-C2E49DE69B03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F9A846-9CB1-48BE-A78D-8E3E3E41EA8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14006B-0EB9-497C-9B60-E073E24878A7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CD969F-55ED-448B-9896-7F9D86DFDCE6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84DEB7-FD8B-4353-9141-EBCBBCACA7A8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2410F6-5A0E-4A9A-9102-72657F3F77C3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A9FDBA-E788-406E-A95A-930E9C65BFF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DAB4-B808-4094-A47B-D9BBDF12E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2A45-D147-4DB7-B51D-1CF70FC0F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99625-2EEA-4BEC-9843-DB8463949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5B41B-43A3-4CE5-9934-A312672CA9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6FD5-3BC1-4A0D-8D53-FD82153686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6203-79E8-4950-A93A-FD2A9A7DF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15D36-7CEA-41F2-962F-F8E310078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FDC51-C393-4285-BA1B-5EDB59607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BD38-EBA6-4D02-B809-BD97F515B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C964-7749-4360-AD92-5F172AE51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4F90-9971-4C4B-8F53-9656C0E95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5474-3C51-490A-AA18-9155E0A84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5F3DCE-4ACD-4DE5-BF6C-6588118458AB}" type="slidenum">
              <a:rPr b="0" lang="fr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audio" Target="../media/328%20zz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7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11.gi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2.gi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8560" y="160020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798560" y="4724280"/>
            <a:ext cx="548640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116000" y="2565360"/>
            <a:ext cx="6985080" cy="1727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stallazione del programma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Amore"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2195640" y="5516640"/>
            <a:ext cx="4357440" cy="117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4360" y="-2921040"/>
            <a:ext cx="7772400" cy="83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Non c’è problema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“Amore” cancellerà automaticamente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“Pena_passata.exe dal suo sistema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Può darsi che resti qualche residuo sull’hard disk, ma non influirà sugli altri programmi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“Amore” finirà per rimpiazzare anche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“Bassa_stima.exe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63640" y="148428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692360" y="501336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39640" y="5516640"/>
            <a:ext cx="75420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885080" y="476280"/>
            <a:ext cx="103968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4360" y="-4492800"/>
            <a:ext cx="7772400" cy="10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on un programma incorporato chiamato</a:t>
            </a:r>
            <a:r>
              <a:rPr b="1" lang="it-IT" sz="32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“Alta_stima.exe.” 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Tuttavia, deve disattivare completamente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i programmi “Collera.exe” e “Risentimento.com Questi programmi impediscono l’installazione corretta di “Amore”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Può arrestarli ora? </a:t>
            </a:r>
            <a:br>
              <a:rPr sz="2800"/>
            </a:b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63640" y="501336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63640" y="148428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4360" y="1709640"/>
            <a:ext cx="777240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Non so come fare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Può dirmi come faccio ad arrestarli? 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835280" y="177336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798560" y="472428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-2125800"/>
            <a:ext cx="7772400" cy="66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on piacere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Vada al meno di “Avvio” e attivi “Perdono.exe”. 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Lo faccia tante volte finché “Collera.exe e Risentimento.com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non siano stati completamente cancell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835280" y="155736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763640" y="479736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-3009960"/>
            <a:ext cx="7772400" cy="83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Fatto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“Amore” ha cominciato il processo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di installazione automatica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E’ normale?</a:t>
            </a:r>
            <a:r>
              <a:rPr b="1" lang="fr-CA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798560" y="487692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7543800" y="5029200"/>
            <a:ext cx="1257480" cy="130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11280" y="140004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Sì. Lei vedrà tra poco una scritta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he dice che “Amore” sarà attivo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finché il suo “Cuore” funziona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Ha visto questo messaggio?</a:t>
            </a:r>
            <a:r>
              <a:rPr b="1" lang="fr-CA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763640" y="472428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99072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905120" y="5943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125892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1523880" y="556272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-2309760"/>
            <a:ext cx="7772400" cy="69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Sì, eccolo!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A questo punto l’installazione è finita?</a:t>
            </a:r>
            <a:r>
              <a:rPr b="1" lang="fr-CA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63640" y="472428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835280" y="162864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-2368440"/>
            <a:ext cx="7772400" cy="70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Sì, ma si ricordi che Lei non ha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he il programma di base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Lei deve ora connettersi con altri “Cuori”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per ricevere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gli aggiornamenti necessari.</a:t>
            </a:r>
            <a:r>
              <a:rPr b="1" lang="fr-CA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835280" y="170028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692360" y="486900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371600" y="990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3048120" y="380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380880" y="3505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83808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6095880" y="380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4419720" y="838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8153280" y="1371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7391520" y="304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1332000" y="6021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3"/>
          <a:stretch/>
        </p:blipFill>
        <p:spPr>
          <a:xfrm>
            <a:off x="45720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4"/>
          <a:stretch/>
        </p:blipFill>
        <p:spPr>
          <a:xfrm>
            <a:off x="990720" y="1523880"/>
            <a:ext cx="388800" cy="3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-2247840"/>
            <a:ext cx="7772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Accidenti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Ho ricevuto un messaggio di errore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he faccio?</a:t>
            </a:r>
            <a:r>
              <a:rPr b="1" lang="fr-CA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98560" y="152388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3370320" cy="1022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835280" y="494172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-2855880"/>
            <a:ext cx="7772400" cy="80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he cosa dice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il messaggio d’errore?</a:t>
            </a:r>
            <a:r>
              <a:rPr b="1" lang="fr-CA" sz="28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798560" y="464832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798560" y="228600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-3435480"/>
            <a:ext cx="7772400" cy="9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Un cliente telefona in un negozio PC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per avere dell’aiuto. 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L’impiegato risponde: Sì, Buon giorno!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he cosa posso fare per lei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63640" y="155736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-3009960"/>
            <a:ext cx="7772400" cy="83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Dice: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Arial"/>
              </a:rPr>
              <a:t>“Programma non attivato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Arial"/>
              </a:rPr>
              <a:t>in alcune componenti interne”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he significa?</a:t>
            </a:r>
            <a:r>
              <a:rPr b="1" lang="fr-CA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63640" y="479736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763640" y="155736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-3862440"/>
            <a:ext cx="7772400" cy="10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Niente panico.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E’ un problema corrente.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Significa che “Amore” è configurato per essere eseguito da altri “Cuori” esterni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ma non è stato ancora eseguito nel suo “Cuore”. 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E’ una tappa un po’ complessa della programmazione,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o - per dirla in parole semplici -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significa che Lei deve “Amare”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il suo proprio sistema prima di poter “Amare”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gli altri sistemi.</a:t>
            </a:r>
            <a:r>
              <a:rPr b="0" lang="fr-CA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4360" y="-1335240"/>
            <a:ext cx="7772400" cy="60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Allora che devo fare? </a:t>
            </a:r>
            <a:br>
              <a:rPr sz="2800"/>
            </a:br>
            <a:r>
              <a:rPr b="0" i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Ha il programma</a:t>
            </a:r>
            <a:br>
              <a:rPr sz="2800"/>
            </a:br>
            <a:r>
              <a:rPr b="0" i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“Auto-accusa”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 ?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Sì ce l’ho. </a:t>
            </a:r>
            <a:br>
              <a:rPr sz="2800"/>
            </a:br>
            <a:r>
              <a:rPr b="0" i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Benissimo. Lei impara in fretta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Grazie.</a:t>
            </a:r>
            <a:r>
              <a:rPr b="1" lang="fr-CA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63640" y="148428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3640" y="479736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-2743200"/>
            <a:ext cx="7772400" cy="80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Prego.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Clicchi nelle cartelle seguenti al fine di copiare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nel suo “Cuore” questi files: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Arial"/>
              </a:rPr>
              <a:t>“Auto-perdono.doc”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Arial"/>
              </a:rPr>
              <a:t>“Auto-stima.txt”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Arial"/>
              </a:rPr>
              <a:t>“Valore.inf”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Arial"/>
              </a:rPr>
              <a:t>e “Realizzazione.htm”.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Arial"/>
              </a:rPr>
              <a:t>Il sistema sostituirà ogni file incompatibile e attiverà la rigenerazione di tutte le cartelle difett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11280" y="-1622520"/>
            <a:ext cx="777240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Deve ugualmente cancellare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Arial"/>
              </a:rPr>
              <a:t>“Autocritica-distruttiva.exe”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Arial"/>
              </a:rPr>
              <a:t>da tutti i suoi repertori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Arial"/>
              </a:rPr>
              <a:t>come pure tutte le cartelle cestinate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Arial"/>
              </a:rPr>
              <a:t>in modo da essere sicuro di averle completamente cancel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63640" y="494172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835280" y="155736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990720" y="243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380880" y="2971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304920" y="236232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26920" y="-2550960"/>
            <a:ext cx="7417080" cy="74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apito!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Olé. Il mio “Cuore” sta attivando dei programmi molto belli. 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“Sorriso.mpg” sta attivandosi sul monitor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e indica che “Calore.com”, “Pace.exe” e “Felicità.com” stanno per essere copiati nel mio “Cuor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63640" y="1413000"/>
            <a:ext cx="5486400" cy="533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835280" y="486900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4360" y="-3102120"/>
            <a:ext cx="7772400" cy="80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iò significa che “Amore” è in via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di installazione e di esecuzione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Ora Lei può cavarsela da solo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Ancora una cosa,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prima di lasciarla.</a:t>
            </a:r>
            <a:br>
              <a:rPr sz="2800"/>
            </a:br>
            <a:r>
              <a:rPr b="0" i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Sì, che co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835280" y="1484280"/>
            <a:ext cx="5486400" cy="5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4864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-3032280"/>
            <a:ext cx="7772400" cy="88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“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Amore”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è un programma gratuito.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Procuri di darlo,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con tutti i suoi moduli,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ad ogni persona che conosce.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A loro volta, lo daranno ad altri e Lei riceverà degli aggiornamenti molto piacevoli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in cambio. </a:t>
            </a:r>
            <a:br>
              <a:rPr sz="2400"/>
            </a:br>
            <a:br>
              <a:rPr sz="2400"/>
            </a:br>
            <a:r>
              <a:rPr b="0" i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Lo farò</a:t>
            </a:r>
            <a:br>
              <a:rPr sz="2400"/>
            </a:br>
            <a:r>
              <a:rPr b="0" i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grazie del suo aiuto!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305920" y="1523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990720" y="457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696080" y="609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1600200" y="1295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68580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76212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838080" y="3276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9"/>
          <a:stretch/>
        </p:blipFill>
        <p:spPr>
          <a:xfrm>
            <a:off x="4211640" y="5877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0"/>
          <a:stretch/>
        </p:blipFill>
        <p:spPr>
          <a:xfrm>
            <a:off x="8229600" y="2971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1"/>
          <a:stretch/>
        </p:blipFill>
        <p:spPr>
          <a:xfrm>
            <a:off x="7391520" y="175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2"/>
          <a:stretch/>
        </p:blipFill>
        <p:spPr>
          <a:xfrm>
            <a:off x="8458200" y="5029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3"/>
          <a:stretch/>
        </p:blipFill>
        <p:spPr>
          <a:xfrm>
            <a:off x="395280" y="2781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4"/>
          <a:stretch/>
        </p:blipFill>
        <p:spPr>
          <a:xfrm>
            <a:off x="7696080" y="4343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5"/>
          <a:stretch/>
        </p:blipFill>
        <p:spPr>
          <a:xfrm>
            <a:off x="1476360" y="5445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6"/>
          <a:stretch/>
        </p:blipFill>
        <p:spPr>
          <a:xfrm>
            <a:off x="7467480" y="556272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-2705040"/>
            <a:ext cx="7772400" cy="77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763640" y="486900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908000" y="148428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835280" y="4149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6732720" y="4149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6588000" y="2349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1763640" y="2276640"/>
            <a:ext cx="503280" cy="502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556000" y="522936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3132000" y="1989000"/>
            <a:ext cx="2721240" cy="2530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2340000" y="5877000"/>
            <a:ext cx="4572000" cy="3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4724280"/>
            <a:ext cx="548640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-103500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Ho trovato un programma chiamato «Amore»,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ma non so come funziona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Può aiutarmi?</a:t>
            </a:r>
            <a:r>
              <a:rPr b="1" lang="fr-CA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692360" y="155736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848720" y="1371600"/>
            <a:ext cx="8571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4360" y="-4108320"/>
            <a:ext cx="7772400" cy="10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fr-CA" sz="4400" spc="-1" strike="noStrike">
                <a:solidFill>
                  <a:srgbClr val="990033"/>
                </a:solidFill>
                <a:latin typeface="Verdana"/>
                <a:ea typeface="Arial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ertamente!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Ma io non posso installarglielo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Dovrà farlo Lei stesso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Io posso darle le istruzioni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per telefono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Va bene?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948360" y="5516640"/>
            <a:ext cx="1668600" cy="925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835280" y="486900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835280" y="155736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-2452680"/>
            <a:ext cx="77724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fr-CA" sz="4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D’accordo, posso tentare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Non ne capisco molto di informatica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 ma ora sono pronto per l’installazione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Da dove devo cominciare?</a:t>
            </a:r>
            <a:r>
              <a:rPr b="1" lang="fr-CA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596360" y="5373720"/>
            <a:ext cx="75384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63640" y="479736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835280" y="162864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4360" y="-176220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Il primo passo è di aprire il suo “Cuore”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L’ha trovato?</a:t>
            </a:r>
            <a:r>
              <a:rPr b="1" lang="fr-CA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284720" y="414972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-2125800"/>
            <a:ext cx="7772400" cy="66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Sì, eccolo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Ma ci sono diversi programmi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he girano in questo momento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E’ possibile continuare l’installazione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mentre questi funzionano?</a:t>
            </a:r>
            <a:r>
              <a:rPr b="1" lang="fr-CA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763640" y="479736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-1638360"/>
            <a:ext cx="77724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Arial"/>
              </a:rPr>
              <a:t>Quali programmi sono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908000" y="177336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798560" y="472428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4360" y="-3006720"/>
            <a:ext cx="7772400" cy="86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Un istante che guardo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Pena_passata.exe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Bassa_stima.exe,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ollera_exe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e Risentimento.com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sono in funzione.</a:t>
            </a:r>
            <a:r>
              <a:rPr b="0" i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667640" y="5373720"/>
            <a:ext cx="75420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763640" y="148428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763640" y="479736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6:54:59Z</dcterms:created>
  <dc:creator/>
  <dc:description/>
  <dc:language>en-US</dc:language>
  <cp:lastModifiedBy>Angela</cp:lastModifiedBy>
  <dcterms:modified xsi:type="dcterms:W3CDTF">2012-04-08T08:40:36Z</dcterms:modified>
  <cp:revision>2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e Virus constructeur d'Amour">
    <vt:lpwstr>Excellent</vt:lpwstr>
  </property>
</Properties>
</file>