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5293-6E13-42F7-8B64-83A84D3E9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4064-AB95-4FC9-9965-5347349E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7A8C-F8F1-41FF-BCB0-EE508597C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4C18-64C1-462B-BE52-1A29B74CE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E9A4-8017-4498-92DD-17125E28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D059-84EC-41E4-AC16-1E4A8E04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1176-133A-448A-8FD0-930AC521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F3EF-9C7E-4D1C-81E8-BF870969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654C-84FE-43F6-B3EF-A0B1E2AE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B9B0-7F59-4EFF-BBA6-19A67D80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B105-A00C-4BE4-A68B-38FDA315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073C-84D3-4090-BA53-42068D8C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C496-2A19-4157-B961-8BF0B91C4B4C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62760" y="3282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92840" y="3282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79280" y="333360"/>
          <a:ext cx="8845560" cy="5972040"/>
        </p:xfrm>
        <a:graphic>
          <a:graphicData uri="http://schemas.openxmlformats.org/drawingml/2006/table">
            <a:tbl>
              <a:tblPr/>
              <a:tblGrid>
                <a:gridCol w="581040"/>
                <a:gridCol w="1901880"/>
                <a:gridCol w="1060560"/>
                <a:gridCol w="1060200"/>
                <a:gridCol w="1060560"/>
                <a:gridCol w="1060560"/>
                <a:gridCol w="1060200"/>
                <a:gridCol w="1060560"/>
              </a:tblGrid>
              <a:tr h="39528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Healthcare Matri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Institute of Medicine Aims for Safe C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7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af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ffec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ffic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quit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atient Cente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Assessment of C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atient C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dical Knowled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mun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fessional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ystems-based Pract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Impro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actice-based Learning and Impro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199080" y="1413000"/>
            <a:ext cx="4852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CGME Core Compet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14:33:09Z</dcterms:created>
  <dc:creator>Robert Schwann</dc:creator>
  <dc:description/>
  <dc:language>en-US</dc:language>
  <cp:lastModifiedBy>Robert Schwann</cp:lastModifiedBy>
  <dcterms:modified xsi:type="dcterms:W3CDTF">2012-03-06T14:40:51Z</dcterms:modified>
  <cp:revision>1</cp:revision>
  <dc:subject/>
  <dc:title>投影片 1</dc:title>
</cp:coreProperties>
</file>