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20D-3D02-455F-B2AD-3EA9E84C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967-77DC-4B67-9E08-75DCC23C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F9D-3FAC-4352-9FDF-5BA29FDC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0E4-B76F-450D-BA67-5BB01831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046B-4E76-4FC9-BE11-62519262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6543-2AB7-4FE0-9762-104C13E5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A6F9-5CBD-4CC6-8F84-D4D79789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6010-14E9-41B2-9044-6483A421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6D9F-0723-4CA2-BC36-0493C977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F125-1BEE-4E5A-A6A3-63EE91E0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1F91-1DCA-4669-B0C7-AD827BB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DA5-2FB1-46C3-8907-28E7646C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CB5C-DAEB-4A67-B21D-A0B539AC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F2FF-187A-4D57-8AC7-85F8CEAF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E6B2-3ECA-41B7-9AB2-0B1BD744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C8EA-BAF0-4E45-9845-1DC5FCB9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C727-A65F-4DD0-819A-8F04A85E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206-36D6-4646-BD7E-17737302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462-92EB-4054-94BB-52112B9A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009-1A7E-4358-BC3C-5C49E846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AD4-62D4-4957-8C30-D87EFED4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1BD-D0D4-45C9-927B-32C5406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454-8CDD-47DB-A9B6-31D90FAD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518-3CF9-47F5-AB3D-C228E9C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34CF-A788-4597-BC4C-65459380230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B493-1B6F-48BF-B882-1D2D39B79CC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nvidia.com/" TargetMode="External"/><Relationship Id="rId2" Type="http://schemas.openxmlformats.org/officeDocument/2006/relationships/hyperlink" Target="http://www.nvidia.com/" TargetMode="External"/><Relationship Id="rId3" Type="http://schemas.openxmlformats.org/officeDocument/2006/relationships/hyperlink" Target="http://www.nvidia.com/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Vertex Shaders, Pixel Shaders and Shading Languag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E47D-D83F-4729-B18C-FCAD382DC9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Pixel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General spec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in V.S., data are stored as “vecto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flow control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sets of inpu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terpolated/ lamped diffuse and specular colors and alph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 constants regis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 or more texture coordin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“texture coordinates” actually can represent anything. Ex: light vector (x,y,z), half angle (x,y,z) or planar coordinates (x,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ure addressing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U. (perform arithmetic instru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U must be executed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xture addressing instructions.(My gues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132-7D0D-43C3-99B6-6DF31F796F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Pixel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exture addressing 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 dependent texture read,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1d rx tx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x is register x, tx is texture coordinates 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 specific texture using tx as texture coordinates, and store the fetched value in r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The selection of texture being accessed is determined by the number of regis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uses of dependent texture re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rmalization: access a normalizing cube map, the normalized value of tx is stored in r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wer function: access a power function texture, the powered value of tx is stored in r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689-24DD-41ED-BB30-0285AF809A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Pixel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How to implement successive rendering pa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est way: use P.S’s 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ph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” command; however, it is supported only in P.S 1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nder to a texture”: store intermediate results in textures, and access them as textures in successive p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in problem: limited precision of tex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back buffers or “pixel buffers”: when the graphic hardware do not support the “render to a texture” feature, we can only store intermediate results in buffers in host/CP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210-5566-4AF6-B5C4-321F8B6ADE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Pixel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4/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mplement phong shading by Pixel Sh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mula: c = ( n.l + a ) * d + (n.h)^shi *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: final color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hall be outputted in r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: pixel norm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tored in bumped normal 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: light direction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tored in tex. coordinate t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: ambient constan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tored constant c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: diffuse col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tored in diffuse 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: half-angle vector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tored in t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i: shininess constan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tored in shininess 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: gloss constan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tored in gloss 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2D0-A161-4CB5-9849-C15C3C76B6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Pixel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5/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mplement phong shading by P.S.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ures prepa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ffuse map/gloss map is set to be associated with r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mped normal map/shininess map is to be associated with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rmalizing map is to be associated with r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wer function map is to be associated with r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gister prepa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0: surface lo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1: light ve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2: half-angle ve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7: ambient cons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9F2-B74A-4D15-9741-B5E3B89BCF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Pixel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6/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mplement phong shading by P.S.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1d  r1, t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Access normal/shininess map by surface location and store fetched value in r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1d  r2, t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Store normalized value of light vector in r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crd  r3.rgb, t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Carry half-angle value directly into r3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p3_sat  r5.xyz, r1_bx2, r2_bx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Calculate (n.l) and store the result in r5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_bx2 is signed scale [0,1] to [-1,1], </a:t>
            </a:r>
            <a:br>
              <a:rPr sz="1400"/>
            </a:b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  _sat is clamping [-1,1] to [0,1]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p3_sat r2.xyz, r1_bx2, r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Calculate n.h and store the result in r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v  r2.y, r1.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Carry shininess(alpha of r1) into r2, now r2 has n.h in x and shininess in 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h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Because we want to perform texture instructions again, start second phase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1d  r0, t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Access diffuse/gloss map by surface location and store fetched value in r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1d  r3,r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By accessing the power function map, store (n.h)^shininess value in r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  r4.rgb, r5, c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Calculate (n.l + a) and store the result in r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l  r0.rgb, r0, r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Calculate (n.h + a)*d and store the result in r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mul_x2  r0.a, r0.a, r3.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Calculate g* (n.h)^shininess and store the result in r0.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  r0.rgb, r0, r0.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//Calculate (n.h + a)*d + g* (n.h)^shininess and store it in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D53-5E91-46AC-877E-AC641312A3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Pixel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7/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future of P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VIDIA’s NV3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lve the precision problem by providing “fat pixels”, with 16- and 32-bit floating point for each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limit on when and how texture addressing instructions are performed, and more texture addressing instructions like scaling and offse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w input: window space position (x,y,z,1/w) of pixels and fog dist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arithmetic instru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limit is 10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8E1-6894-489A-9D37-683210B15E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Programmable Shading Hardwa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Graphic hardware with </a:t>
            </a:r>
            <a:br>
              <a:rPr sz="2000"/>
            </a:b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programmable stages of </a:t>
            </a:r>
            <a:br>
              <a:rPr sz="2000"/>
            </a:b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rendering pipeline is </a:t>
            </a:r>
            <a:br>
              <a:rPr sz="2000"/>
            </a:b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alled “GPU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Vertex shader and pixel shader </a:t>
            </a:r>
            <a:br>
              <a:rPr sz="2000"/>
            </a:b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an be paralleized to achieve</a:t>
            </a:r>
            <a:br>
              <a:rPr sz="2000"/>
            </a:b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higher polygon-per-second</a:t>
            </a:r>
            <a:br>
              <a:rPr sz="2000"/>
            </a:b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ates and pixel fill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57760" y="1928880"/>
            <a:ext cx="4157640" cy="37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15F-0F40-44B8-B24B-0D58B44F56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Dependent Texture Rea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ability to take various kinds of values of a pixel as tex. coordinates to fetch tex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mportant for the pixel shading 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the color of a pixel as tex. coordinates to fetch text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dexing a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power function tex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 values that we want to power(which are usually not ordinary texture coordina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vironment-Mapped-Bump Mapping in DX6.0: Use reflection vector to index into an environment map, but the indexing would be perturbed by an bump-mapping displacement m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97A-0436-43BB-B8A8-B1EC97E9F8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Hardware shading in nVIDIA’s graphic hardwa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IVA 128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rdware rasterizers and perspective-correct textur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NT / TNT2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ingle pass multi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Geforce 256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“Register Combiners”: a generalization of multi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Geforce2 G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er-pixel sh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Geforce3 and higher:</a:t>
            </a:r>
            <a:r>
              <a:rPr b="0" lang="en-US" sz="2000" spc="-1" strike="noStrike">
                <a:solidFill>
                  <a:srgbClr val="3d00a5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able hardware pixel sh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E8C-35D1-4E47-9C18-C683DAE95C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Overview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Why do shaders developed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tex Shader was to replace hardware transform and lighting(T&amp;L)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velopers gain more control over the lighting model of verti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ation can be made for models with special condi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effects and object deform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Shader was to replace Texturing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velopers can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manipulate each pixels direct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making handcrafted phong shading and other per-pixel effects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modify the z-depth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ke texture accessing and manipulation even easi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limit on when and how texture fetches are perfor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 to up to 16 textu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ipulation of texture coordinates, like scaling and offset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7ED-D412-44A9-B2E7-4F846C014A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Register Combin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nVIDIA’s Register Comb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stomable per-pixel shading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ltitex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What R.C can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-pixel phong sh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mp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ulate specular lighting with texture m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How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up and control the behaviors of R.C b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to OpenGL function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X7.0 or hig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319800" y="1828800"/>
            <a:ext cx="2081160" cy="2209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207972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CE2-E6D6-4BF3-ACC9-13297A8F95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Register Combin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4400" y="2119320"/>
            <a:ext cx="8229600" cy="4129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E5B-8212-4CC0-B994-EACE3ACBE0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Register Combin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Diagram of a General Comb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1765440"/>
            <a:ext cx="6705720" cy="494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EF8-61F1-429E-9830-4481C17E88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Register Combin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4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nput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00200" y="2227320"/>
            <a:ext cx="6705720" cy="396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D20-7961-4B88-81A5-17170DEF75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Register Combin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5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BG combiner fun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lpha combiner offers fewer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71760" y="2209680"/>
            <a:ext cx="6276960" cy="31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4A4-3B44-4F43-96FE-8A9FA37352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Register Combin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6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Example: 2 textures com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Final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Final Combi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responsible for the post-texturing specular add and fog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 to two combiners are available, and enabling only one may yield higher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7681680" cy="21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562-BAB1-4DB4-8B1F-1DDAE9AE6D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Shading Language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benefits of using higher level shad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e of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 to wr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 to maint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rt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hading language compiler can perform optimization on the generated co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fact, these benefits can apply to any high level programming languages, like C over assembly c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F60-3B91-4EAD-87E8-A442BAC63A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Shading Language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Examples of Shading Langu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ok’s “Shade Tr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ression tree of shading ope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ake III Arena” scripting lang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“RenderMan” specification of a shading lang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ford real-time shading language (RTS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X9’s High Level Shading Language(HLS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VIDIA’s “Cg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I’s “RenderMonke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080-E9E7-40EF-BAFD-A5E7BDAA14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nderMan shading language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enderMan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nderMan” was designed by Pixar as an interface between modeling programs and a render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able implement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ar’s “PhotoRealistic RenderMan”(PRMan) on various Unix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rry Girtz’s “Blue Moon Rendering Tools”(BMRT), which is a ray tracer instead of traditional scan-line based render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rrently, RenderMan can not be evaluated in real-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1E9-7F18-499C-A275-2A85EB096E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nderMan shading language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802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Logical model for RenderMan’s shading l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s procedural modeling(Ex: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subdivision of patche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orm&amp;Displac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s transformation on positions, normal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directions and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rface&amp;L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s per-pixel surface sh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lu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ls the attenuation of the light pas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ough objects or even ope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mosp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other Volume procedure, but it is intend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odel any fog or other effects betwe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rfaces and the ey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ws changes to the final pixel col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42100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569-4728-438B-88CF-0606D43997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Overview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How to write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embly-like langu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ding Languages”: High-Level Shading Languages (HLSL), like the nVIDIA’s Cg and ATI’s RenderMon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Difference between V.S and P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.S can only modify values associated with vertices, but P.S provi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er-pixel sh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.S have flow control such as branch and jump, but P.S. currently don’t h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.S. is not necessarily language-based, for example, for example, nVIDIA enhance each texture stage with a register combiner (offering arithmetic instruc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0AD-5E07-42BA-A7D2-9BD6CBB611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nderMan shading language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A simple RenderMan elevation-based coloring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/*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levhf_elev.sl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     Version 1.0 by Daylon Graphics Ltd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     This is a simple matte shader that colors a point depending on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     its elevation. The heightfield is assumed to be based on an object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     (such as a "Pz" PatchMesh) where the elevations are oriented along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     the Z axis in object space.  *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rface levhf_elev(color ColorLo = color(0,0,1), ColorHi = color(1,1,1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point where = transform("object", P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color c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  <a:hlinkClick r:id="rId1"/>
              </a:rPr>
              <a:t>mi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ColorLo, ColorHi, zcomp(where)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   normal Nf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  <a:hlinkClick r:id="rId2"/>
              </a:rPr>
              <a:t>faceforw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ormalize(N),I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Oi = O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Ci = c * Os * Cs * (1 * ambient() + 1 *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  <a:hlinkClick r:id="rId3"/>
              </a:rPr>
              <a:t>diffu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Nf)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553080" y="4548240"/>
            <a:ext cx="221004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7A6-1B7D-4661-8A2A-02BF4A3109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C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g” means “C for Graph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Fe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-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yntactically equivalent to DirectX’s HLS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ross-API ( DirectX and OpenGL) and cross-platform ( Windows, Linux and Mac OS) lang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180-90E8-4A87-9C28-3478A02379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C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Platform in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s with all programmable GPUs that support DX8/9 or OpenGL1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71800" y="2774880"/>
            <a:ext cx="4343400" cy="347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000-D468-4B4E-B502-AA97DD4249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C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g system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4100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686-E2F9-4980-A526-E9C74E2461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C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4/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g language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g profile defines a subset of the full Cg language that is supported on a particular hardware platform supporting a particular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fact, graphic hardware are termed as “DX8 class hardware”, “DX9 class hardware”…  instead of  “Geforce3”, “GeforceFX”, “Radeon”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rrently supported pro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X9 vertex shaders / pixel sh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GL ARB vertex programs / pixel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GL NV30 vertex programs / pixel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X8 vertex shaders / pixel sh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GL NV2X vertex programs / pixel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F2A-787A-49B4-92BD-EE65A1E1DE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C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5/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23888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FD1-9E0D-419E-A6D9-FA4560091B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C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6/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85840" y="1565280"/>
            <a:ext cx="7577280" cy="39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58B-B9F4-4A0B-ACAB-A1B16E034D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C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7/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structure of Cg runtim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are distinguished by prefix: “cg”, “cgGL”, “cgD3D8” or “cgD3D9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47920" y="2352600"/>
            <a:ext cx="4419360" cy="29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AE9-12C4-4B3D-A3F4-B7A425161F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C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8/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How to run your first Cg program with VC6.0 and OpenGL+GL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rstly, install “Cg toolset” provided by nVIDIA, it will install various Cg programs and set up variables associated with V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one of the workspace provided by nVIDIA (Ex: \SDK\DEMOS\OpenGL\src\cg_simple\cg_simple.dsw )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then “set active configuration” to “Win32 debug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w the program shall be execu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ake this cg_simple workspace as an template, create and experiment with new programs of your 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97F-EDD6-4343-8C07-EAAB1D9D57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C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9/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How is it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g_simple.cg is custom-built by cgc.exe. (This is made possible by VC’s project sett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anguage profile is chosen by calling to Cg runtime AP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.cg file is compiled to assembly codes and loaded by calling to Cg runtime API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at run 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FDF-0416-46BD-8AEA-08C472361F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Vertex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Hardware T&amp;L versus Vertex Sha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ware T&amp;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ask of T&amp;L of vertices was offloaded to graphic hardware because we want to free CPU for other tas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rawback was that it forced the use of basic hard-wired Gouraud/ Phong lighting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tex Sha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ware-assisted and programmable version of Hardware T&amp;L s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.S can emulate all of the functionality of the Hardware T&amp;L, and with optimizations it can even be faster then the hard-wired pa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A84-52CA-406C-B2FF-538AE2BA51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nVIDIA’s C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0/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g shader example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Basic per-vertex ligh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3504960" cy="28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A12-21A7-4F61-A4B1-82D73A3C2A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Vertex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Examples of optimizations made for models with special cond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ormals are only rotated and translated, renormalization of normals is un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transform the light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o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the model’s space and perform lighting there, reducing the standard modelview transform/ lighting/ projection transform into lighting/ modelview and projection transfor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A30-A86F-4313-A8A5-C5BD58B758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Vertex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first version (DX8) of vertex shader specific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 to 128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7 different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explicit flow control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can translate “if-then-else” statements into branchless cod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e P.2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early return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 Types of mem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-vertex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-vertex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mp. regis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ant mem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279-9BCF-42E1-87E7-6B47D361D5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Vertex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4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More on mem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 are stored as “Vectors”, which consist of one to four elements( a element is a signed 32-bit floating poi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ant memory is read-only to the shader, and holds the same data for all vertices processed.(Ex. Light attribu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ertex’s homogeneous clip position must always be output , other things like diffuse and specular colors, texture coordinates, fog and point size can also be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51C-590D-4790-8E37-310D026924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Vertex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5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Examples of V.S. u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tion bl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92F-DB61-4368-921C-448C0C1D63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Vertex Shader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6/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 de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form or even define the object’s vertices by V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ge curls, heat haze, water rip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using the entire frame buffer’s contents as a texture on a me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future of V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X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ruction count up to 256 ste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ant memory up to 256 vec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egister for displacement mapp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w data forma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Flow control instruc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X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dicate condition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broutine sta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integration with pixel shad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5F7-E324-499B-B591-219873D76A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05:23:47Z</dcterms:created>
  <dc:creator>Administrator</dc:creator>
  <dc:description/>
  <dc:language>en-US</dc:language>
  <cp:lastModifiedBy>rekan</cp:lastModifiedBy>
  <dcterms:modified xsi:type="dcterms:W3CDTF">2009-07-04T06:43:17Z</dcterms:modified>
  <cp:revision>234</cp:revision>
  <dc:subject/>
  <dc:title>Vertex Shaders, Pixel Shaders and Shading Languages</dc:title>
</cp:coreProperties>
</file>