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F5D-6185-457C-82F3-F5DA895D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F97-E85D-40B9-973C-FE9CF7E6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FED-E667-49B4-A50E-272CF7E3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3DD-AEC5-404E-B912-594385C3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09CA-9C51-4B12-843D-17DF0275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3BF6-1000-4DAD-A2CF-2DB05491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885A-7A56-4B6D-A83A-FC2E5A1E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2559-8FC8-48CD-AB73-A02B7DB4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D31C-B1E4-4BDD-B587-15730A83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C1A-1BA8-46C7-A5AD-AE86536D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B96D-8109-4396-91C2-6EF8242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B44-AF7F-474F-ABAF-B39544E5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49FF-26AB-45C6-BD0F-933DBE9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9EE-63DE-4AB1-91B3-0D0CE69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3968-4F6A-48CD-AC67-328753B1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5EE2-F235-469B-97D4-12A4E3A2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4DB-608B-46D8-AFDC-CD8649B9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52F-A471-4414-8B31-4437336D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3D6-BA57-4700-9FAF-FAC5DFBB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716-109B-4CF9-8C8F-19B25C5E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EDA-B6EF-49A6-9EC1-FFA8FD38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B4C-2140-462D-B50A-2F66D6D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6EE-AE19-4B59-B8DB-D873A73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7E9-7D29-4D3D-80C9-E0661CC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AFBD-8C8B-40A2-84D2-004CA5550324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A711-9062-4C35-8D5F-C158D3B328D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B46E-99DC-4D77-B8DB-78D3F5A3D0D6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CF6E-976F-47D0-9F4A-EDCE78798FA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Sparse Matrix Solvers on the GPU: Conjugate Gradients and Multigr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1360" y="3906720"/>
            <a:ext cx="4604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Jeff Boltz  Ian Farmer  Eitan Grinspun  Peter Schr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alte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37BA-57BA-4A5C-9F8D-BF44364723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Sparse Matrix Vector Multiply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culate y = 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rised of several inner products between a row of A and x, done by fragment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inner products on rows with a particular number of off-diagonal, non-zero entries, a fragment program (“kernel”) is specialized fo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51280" y="4653000"/>
            <a:ext cx="4388760" cy="1678680"/>
            <a:chOff x="3851280" y="4653000"/>
            <a:chExt cx="4388760" cy="16786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3851280" y="4653000"/>
              <a:ext cx="220356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289920" y="5085000"/>
              <a:ext cx="1950120" cy="3373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新細明體"/>
                </a:rPr>
                <a:t>Fragment program #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85240" y="4653000"/>
              <a:ext cx="195012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Fragment program #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5240" y="5516640"/>
              <a:ext cx="1950120" cy="337320"/>
            </a:xfrm>
            <a:prstGeom prst="rect">
              <a:avLst/>
            </a:pr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cc"/>
                  </a:solidFill>
                  <a:latin typeface="Times New Roman"/>
                  <a:ea typeface="新細明體"/>
                </a:rPr>
                <a:t>Fragment program #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867280" y="4869000"/>
              <a:ext cx="43200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867280" y="4869000"/>
              <a:ext cx="432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867280" y="5229360"/>
              <a:ext cx="432000" cy="287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867280" y="5229360"/>
              <a:ext cx="432000" cy="719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867280" y="5084640"/>
              <a:ext cx="43200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938560" y="5300280"/>
              <a:ext cx="360360" cy="36036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1120" y="5994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DBB-375A-48F1-8E81-5CB392F010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Sparse Matrix Vector Multiply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extur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 is stored in tex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is stored in two textu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agonal entries are stor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ff-diagonal non-zero entries are stor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segments, index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199080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30440" y="1700280"/>
            <a:ext cx="37119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mply correspondence in texture coord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932360" y="1916280"/>
            <a:ext cx="287280" cy="14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71808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3560" y="3300480"/>
            <a:ext cx="1275120" cy="37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tores a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  <a:ea typeface="新細明體"/>
              </a:rPr>
              <a:t>ii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84360" y="3646440"/>
            <a:ext cx="792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84360" y="2060640"/>
            <a:ext cx="358920" cy="165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3862440"/>
            <a:ext cx="14436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38560" y="2289240"/>
            <a:ext cx="1081080" cy="942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924360" y="4408560"/>
            <a:ext cx="3960720" cy="2352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1512720" cy="969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rot="2030400">
            <a:off x="3850920" y="5445000"/>
            <a:ext cx="2016000" cy="14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76360" y="5157720"/>
            <a:ext cx="86364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4365720"/>
            <a:ext cx="14292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51280" y="2060640"/>
            <a:ext cx="244944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73320" y="249228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i] is the i-th element of 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A04-1379-4566-B2F3-3460FC0AD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Sparse Matrix Vector Multiply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2880" y="134136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nner product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rnel operations for row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j =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i] =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i] *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i] +     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j+c] *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j+c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003640" y="2708280"/>
                <a:ext cx="536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3564000" y="335772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278000" y="2577960"/>
            <a:ext cx="3190680" cy="490680"/>
            <a:chOff x="1278000" y="2577960"/>
            <a:chExt cx="3190680" cy="490680"/>
          </a:xfrm>
        </p:grpSpPr>
        <p:sp>
          <p:nvSpPr>
            <p:cNvPr id="218" name=""/>
            <p:cNvSpPr/>
            <p:nvPr/>
          </p:nvSpPr>
          <p:spPr>
            <a:xfrm>
              <a:off x="1278000" y="2577960"/>
              <a:ext cx="3190680" cy="370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A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ii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will multiply the i-th element of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64000" y="2923920"/>
              <a:ext cx="36036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00360" y="3459240"/>
            <a:ext cx="3959280" cy="3282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437080" y="335772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86080" y="1989000"/>
            <a:ext cx="2664720" cy="1008000"/>
            <a:chOff x="5986080" y="1989000"/>
            <a:chExt cx="2664720" cy="1008000"/>
          </a:xfrm>
        </p:grpSpPr>
        <p:sp>
          <p:nvSpPr>
            <p:cNvPr id="223" name=""/>
            <p:cNvSpPr/>
            <p:nvPr/>
          </p:nvSpPr>
          <p:spPr>
            <a:xfrm>
              <a:off x="5986080" y="1989000"/>
              <a:ext cx="2664720" cy="614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C</a:t>
              </a:r>
              <a:r>
                <a:rPr b="0" i="1" lang="en-US" sz="1600" spc="-1" strike="noStrike" baseline="30000">
                  <a:solidFill>
                    <a:srgbClr val="ff0000"/>
                  </a:solidFill>
                  <a:latin typeface="Times New Roman"/>
                  <a:ea typeface="新細明體"/>
                </a:rPr>
                <a:t>a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[*]</a:t>
              </a:r>
              <a:r>
                <a:rPr b="0" i="1" lang="en-US" sz="1600" spc="-1" strike="noStrike" baseline="30000">
                  <a:solidFill>
                    <a:srgbClr val="ff00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is used to index 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A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j</a:t>
              </a:r>
              <a:r>
                <a:rPr b="0" i="1" lang="en-US" sz="1600" spc="-1" strike="noStrike" baseline="30000">
                  <a:solidFill>
                    <a:srgbClr val="ff0000"/>
                  </a:solidFill>
                  <a:latin typeface="Times New Roman"/>
                  <a:ea typeface="新細明體"/>
                </a:rPr>
                <a:t>x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[*] to 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corresponding elements in 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X</a:t>
              </a:r>
              <a:r>
                <a:rPr b="0" i="1" lang="en-US" sz="1600" spc="-1" strike="noStrike" baseline="30000">
                  <a:solidFill>
                    <a:srgbClr val="ff0000"/>
                  </a:solidFill>
                  <a:latin typeface="Times New Roman"/>
                  <a:ea typeface="新細明體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608880" y="2565000"/>
              <a:ext cx="360000" cy="43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79A-D2EC-4A7F-B92F-3CC200218A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ample: Geometric Flow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1/5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mesh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esh is a 2-manifold triangle mesh with bound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= 1,…,n denotes the vertices V with edges E={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note the set of vertices in 1-ring neighborhood of vertex i as N(i) = { j |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 E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notes the DOF of i, i.e. 3D positio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= (x, y, 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Our goal is to solve </a:t>
            </a: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Ax = f</a:t>
            </a: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 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i = 1,…,n:  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+ ∑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€N(i)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f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ing the rows are sorted by number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f-diagonal, non-zero coefficients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2987640" y="486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313-FEC7-458C-8D82-D42B664DB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ample: Geometric Flow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2/5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Vertex positions x</a:t>
            </a:r>
            <a:r>
              <a:rPr b="0" lang="en-US" sz="2800" spc="-1" strike="noStrike" baseline="-25000">
                <a:solidFill>
                  <a:srgbClr val="0099cc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t) are functions of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σ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t) = −</a:t>
            </a:r>
            <a:r>
              <a:rPr b="0" lang="el-GR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λ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新細明體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(t)*H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新細明體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(t)*n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新細明體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For every time step ∆t = t</a:t>
            </a:r>
            <a:r>
              <a:rPr b="0" lang="en-US" sz="2800" spc="-1" strike="noStrike" baseline="30000">
                <a:solidFill>
                  <a:srgbClr val="0099cc"/>
                </a:solidFill>
                <a:latin typeface="Times New Roman"/>
                <a:ea typeface="新細明體"/>
              </a:rPr>
              <a:t>(k+1)</a:t>
            </a: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-t</a:t>
            </a:r>
            <a:r>
              <a:rPr b="0" lang="en-US" sz="2800" spc="-1" strike="noStrike" baseline="30000">
                <a:solidFill>
                  <a:srgbClr val="0099cc"/>
                </a:solidFill>
                <a:latin typeface="Times New Roman"/>
                <a:ea typeface="新細明體"/>
              </a:rPr>
              <a:t>(k)</a:t>
            </a: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, A</a:t>
            </a:r>
            <a:r>
              <a:rPr b="0" lang="en-US" sz="2800" spc="-1" strike="noStrike" baseline="30000">
                <a:solidFill>
                  <a:srgbClr val="0099cc"/>
                </a:solidFill>
                <a:latin typeface="Times New Roman"/>
                <a:ea typeface="新細明體"/>
              </a:rPr>
              <a:t>(k) </a:t>
            </a:r>
            <a:r>
              <a:rPr b="0" lang="en-US" sz="28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s upd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(k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−</a:t>
            </a:r>
            <a:r>
              <a:rPr b="0" lang="el-GR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λ</a:t>
            </a:r>
            <a:r>
              <a:rPr b="0" lang="en-US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∆t*( cot(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α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(k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+ cot(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β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(k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i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(k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4</a:t>
            </a:r>
            <a:r>
              <a:rPr b="0" lang="en-US" sz="2400" spc="-1" strike="noStrike">
                <a:solidFill>
                  <a:srgbClr val="003366"/>
                </a:solidFill>
                <a:latin typeface="Impact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新細明體"/>
              </a:rPr>
              <a:t>(k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− ∑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€N(i)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2040" y="2637000"/>
            <a:ext cx="4257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t)*ni(t): the mean curvatur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t): the speed function, assumed to be constant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82920" y="5013360"/>
            <a:ext cx="5005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(k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(k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ngles opposite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 time 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(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  <a:ea typeface="新細明體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(k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the area of the triangles incident to vertex i at time 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(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95280" y="5013360"/>
            <a:ext cx="936720" cy="724680"/>
            <a:chOff x="2195280" y="5013360"/>
            <a:chExt cx="936720" cy="724680"/>
          </a:xfrm>
        </p:grpSpPr>
        <p:sp>
          <p:nvSpPr>
            <p:cNvPr id="233" name=""/>
            <p:cNvSpPr/>
            <p:nvPr/>
          </p:nvSpPr>
          <p:spPr>
            <a:xfrm flipH="1">
              <a:off x="2268000" y="5183280"/>
              <a:ext cx="576360" cy="433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195280" y="5040000"/>
              <a:ext cx="64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195640" y="5040000"/>
              <a:ext cx="7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2843280" y="5183280"/>
              <a:ext cx="288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68000" y="5616720"/>
              <a:ext cx="86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50133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4880" y="5400720"/>
              <a:ext cx="2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62400" y="522936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e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i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B6F-5D29-4E30-B139-286B886B1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ample: Geometric Flow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3/5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m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like texture is added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our textures inde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four vertices on the two triangles opposing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j] = −</a:t>
            </a:r>
            <a:r>
              <a:rPr b="0" lang="el-GR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λ</a:t>
            </a:r>
            <a:r>
              <a:rPr b="0" lang="en-US" sz="2400" spc="-1" strike="noStrike">
                <a:solidFill>
                  <a:srgbClr val="003366"/>
                </a:solidFill>
                <a:latin typeface="新細明體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∆t*( cot(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,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,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+ cot(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,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,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t( a, b, c) = (a-b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c-b) / || (a-b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c-b)|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j]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 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j]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j]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 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j]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692320" y="3117960"/>
            <a:ext cx="1514160" cy="1154880"/>
            <a:chOff x="5692320" y="3117960"/>
            <a:chExt cx="1514160" cy="1154880"/>
          </a:xfrm>
        </p:grpSpPr>
        <p:sp>
          <p:nvSpPr>
            <p:cNvPr id="244" name=""/>
            <p:cNvSpPr/>
            <p:nvPr/>
          </p:nvSpPr>
          <p:spPr>
            <a:xfrm flipH="1">
              <a:off x="5809680" y="3408840"/>
              <a:ext cx="932040" cy="74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692320" y="3163680"/>
              <a:ext cx="10494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5692680" y="3163680"/>
              <a:ext cx="11736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739560" y="3408840"/>
              <a:ext cx="466920" cy="8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5809680" y="4150800"/>
              <a:ext cx="139644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82320" y="31179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14360" y="3781080"/>
              <a:ext cx="2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5480" y="3487680"/>
              <a:ext cx="334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e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i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514120" y="4098960"/>
            <a:ext cx="3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97560" y="285264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53160" y="311796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7320" y="419724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EBA-7449-4277-9308-3E251D568E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ample: Geometric Flow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4/5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mplementation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i] = 4</a:t>
            </a:r>
            <a:r>
              <a:rPr b="0" lang="en-US" sz="2400" spc="-1" strike="noStrike">
                <a:solidFill>
                  <a:srgbClr val="003366"/>
                </a:solidFill>
                <a:latin typeface="Impact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,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,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−    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j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[i] + c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prepared, now we can use the conjugate gradient solver to solve Ax =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971960" y="2131920"/>
                <a:ext cx="536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611-64A7-4BA5-8175-8A863982DA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ample: Geometric Flow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5/5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4386240" cy="53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163-56B4-4FBF-A865-4A755ECFA1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Vector Inner Produ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equire a “sum-reduction operator” to calculate sum of all elements in a vector or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duction is achieved by rendering a quadrilateral with half the dimension along either axis, summing four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lying this process repeatedly, akin to a mip-map pyramid, we will finally render a single pixel quadrilateral containing the sum-reduction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C51-0715-4865-B2EE-9B5D0A3B81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ptimization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IMD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PU execute operations on tupl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ixel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Hiding memory-acces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ause the GPU is multi-threaded, instructions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… is executed over q record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lea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n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, I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, … , I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, I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, ... , I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, I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us the fragment units process tuples in batches of size 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505-1B11-4AF7-915E-BE5034713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utlin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njugate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parse Matrix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parse Matrix Vector Multi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ample: Geometric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Vector Inner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egular Grid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Multigri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78136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65400" y="2003400"/>
            <a:ext cx="25628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 matrix that has many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79640" y="2205000"/>
            <a:ext cx="12236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CE1-A240-4319-B675-26C5C4714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ptimization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41320" y="1657440"/>
            <a:ext cx="6286680" cy="45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621-5050-4B0F-85F9-35C7C78E2D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ptimization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hould stream our data into a sequence of rectangles of size 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, however, the value of p and q is hardware-dependent thus nearly-impossible to calculate, so we should experiment with the size of rectangles until it reveals the real value of 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Geforce FX, we found that a rectangle of 26x18 pixels gives the lowest proportion of  wasted 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424-DCDB-4B22-803A-6E832F355D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gular Grid Solv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lliptic PDEs, they can be solved via discretizations, which lead to large linear systems (in matrix 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at case the matrices are in very regular structure, thus enabling implementation of a Multigrid 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55440" y="4221000"/>
            <a:ext cx="3447000" cy="741240"/>
            <a:chOff x="2755440" y="4221000"/>
            <a:chExt cx="3447000" cy="741240"/>
          </a:xfrm>
        </p:grpSpPr>
        <p:sp>
          <p:nvSpPr>
            <p:cNvPr id="272" name=""/>
            <p:cNvSpPr/>
            <p:nvPr/>
          </p:nvSpPr>
          <p:spPr>
            <a:xfrm>
              <a:off x="2755440" y="4221000"/>
              <a:ext cx="3447000" cy="741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Au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xx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+ 2Bu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xy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+ Cu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yy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+ Du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x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+ Eu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新細明體"/>
                </a:rPr>
                <a:t>y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+ F = 0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where                     is positive defin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3402000" y="4505400"/>
              <a:ext cx="85716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2484360" y="2637000"/>
            <a:ext cx="165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276720" y="2708280"/>
            <a:ext cx="503280" cy="151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38A-014E-4C86-8256-11F84CD48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iscretization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1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19923" r="0" b="0"/>
          <a:stretch/>
        </p:blipFill>
        <p:spPr>
          <a:xfrm>
            <a:off x="2124000" y="1700280"/>
            <a:ext cx="5977080" cy="3244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173240" y="134136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some reductions leads 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74840" y="5300640"/>
            <a:ext cx="4457880" cy="1368360"/>
            <a:chOff x="2274840" y="5300640"/>
            <a:chExt cx="4457880" cy="136836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2346480" y="5305320"/>
              <a:ext cx="4386240" cy="13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274840" y="5300640"/>
              <a:ext cx="64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661000" y="4149720"/>
            <a:ext cx="2294280" cy="337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新細明體"/>
              </a:rPr>
              <a:t>S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ome kind of re-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714920" y="4437000"/>
            <a:ext cx="936720" cy="14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3280" y="4508640"/>
            <a:ext cx="3529080" cy="50472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FD5-D032-4646-AEBC-686F0AC330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iscretization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2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0000" y="5373720"/>
            <a:ext cx="64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332000" y="2279520"/>
            <a:ext cx="6985080" cy="3956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173240" y="1700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62C-C90C-45FA-84A5-942C01F8B7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is a boost to traditional iterative methods for solving large linear systems (Ex: Jacobi, Gauss-Seidel, CG,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Nested itera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stimate initial guesses from coarsest grid to the finest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Coarse grid correla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stimate the error term in coarser grid.(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1484280"/>
            <a:ext cx="4394160" cy="857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(new)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= (D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L+U)) *v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(old)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+ D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*f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here 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s the diagonal part, L is the strictly lower part and U is the strictly higher part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2349360"/>
            <a:ext cx="7164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2997360"/>
            <a:ext cx="79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09800" y="3298680"/>
            <a:ext cx="31294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(new)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= ((D-L)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U)) *v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(old)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+ (D-L)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*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300720" y="2997360"/>
            <a:ext cx="716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299736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4B4-3D35-4F9C-A14C-8134F7D84D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Nested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Motiv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e initial guess at coarser grids is advantageou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laxation (=iteration) is much che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gence rate is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To 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e on Au = f on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initial guess for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/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e on Au = f on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/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initial guess for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/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. . 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e on Au = f on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4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initial guess for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e on Au = f on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initial guess for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e on Au = f on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94600" y="1628640"/>
            <a:ext cx="3769560" cy="614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e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  <a:ea typeface="新細明體"/>
              </a:rPr>
              <a:t>(n)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= R*e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  <a:ea typeface="新細明體"/>
              </a:rPr>
              <a:t>(n-1)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, thus C.Rate is lo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  <a:ea typeface="新細明體"/>
              </a:rPr>
              <a:t>10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 1/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R) ),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where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R) is max{ eigenvalue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3716280"/>
            <a:ext cx="1729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64000" y="2205000"/>
            <a:ext cx="100800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C30-3548-4954-87EB-CB366F5D27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arse Grid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Motivation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 at coarser grids is more oscillatory (makes the relaxation of error more effect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To 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908000" y="3546360"/>
            <a:ext cx="6280200" cy="18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9AD-4921-4E21-9A9B-D0A3A5C85C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arse Grid Correlation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666800" y="2509920"/>
            <a:ext cx="6577200" cy="3511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47880" y="5057640"/>
            <a:ext cx="1910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estriction” 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27280" y="4292640"/>
            <a:ext cx="50472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340000" y="4797360"/>
            <a:ext cx="2872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41200" y="4667400"/>
            <a:ext cx="21268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nterpolation” 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6000" y="4221000"/>
            <a:ext cx="50472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877080" y="4652640"/>
            <a:ext cx="28728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62B-71AC-4880-B750-1DF38F3C3C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1D Interpolation/Restriction between G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762200" y="2349360"/>
            <a:ext cx="6265800" cy="379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7165800" y="4438440"/>
            <a:ext cx="358560" cy="1005120"/>
            <a:chOff x="7165800" y="4438440"/>
            <a:chExt cx="358560" cy="1005120"/>
          </a:xfrm>
        </p:grpSpPr>
        <p:sp>
          <p:nvSpPr>
            <p:cNvPr id="318" name=""/>
            <p:cNvSpPr/>
            <p:nvPr/>
          </p:nvSpPr>
          <p:spPr>
            <a:xfrm flipV="1">
              <a:off x="7524360" y="4438440"/>
              <a:ext cx="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832440" y="47728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estri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812000" y="4222800"/>
            <a:ext cx="360000" cy="1220040"/>
            <a:chOff x="7812000" y="4222800"/>
            <a:chExt cx="360000" cy="1220040"/>
          </a:xfrm>
        </p:grpSpPr>
        <p:sp>
          <p:nvSpPr>
            <p:cNvPr id="321" name=""/>
            <p:cNvSpPr/>
            <p:nvPr/>
          </p:nvSpPr>
          <p:spPr>
            <a:xfrm>
              <a:off x="7812000" y="4437000"/>
              <a:ext cx="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7393320" y="466416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2F6-CF1D-434B-9C3D-5AC6D74349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onjugate Gradient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terative method for solving linear systems of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x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st suited for large sparse systems because it will cost much longer if solved by back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86000" y="4076640"/>
            <a:ext cx="268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5080" y="3438360"/>
            <a:ext cx="49672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: a known square linear matri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There is a “nonlinear CG” for nonlinear metrics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:  the wanted unknown v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:  a known v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065-2BE7-4A20-A174-C072538E6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6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2D Interpolation/Restriction between G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34080" cy="37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C4A-284D-469C-BE62-DDA90E1C92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7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“V-cycle”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50920" y="6308640"/>
            <a:ext cx="62661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690560" y="2290680"/>
            <a:ext cx="6553440" cy="43070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667640" y="6093000"/>
            <a:ext cx="7207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9080" y="328464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新細明體"/>
              </a:rPr>
              <a:t>(= 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esidual, actu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76360" y="2852640"/>
            <a:ext cx="503280" cy="3603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49440" y="3141720"/>
            <a:ext cx="142920" cy="216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3400" y="294804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(=error, actu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59280" y="3284640"/>
            <a:ext cx="433080" cy="3603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419640" y="3213000"/>
            <a:ext cx="504720" cy="144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16960" y="6332400"/>
            <a:ext cx="23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33cc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ff33cc"/>
                </a:solidFill>
                <a:latin typeface="Times New Roman"/>
              </a:rPr>
              <a:t> = the lowest level of 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A1F-EB92-43E7-B4ED-D0412B1DB5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8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“V-cycle” Implementation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 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50920" y="6308640"/>
            <a:ext cx="62661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905800" cy="45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B81-4154-4AD6-8780-01ABE1202B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ultigrid Metho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9/9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“V-cycle” Implementation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 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6308640"/>
            <a:ext cx="62661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249200" y="2133720"/>
            <a:ext cx="7067880" cy="421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979640" y="6094440"/>
            <a:ext cx="64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359-37D7-42AB-8664-A01F34152E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onjugate Gradient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elation to the “minimum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olution to Ax = b minimizes the quadratic for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if A is symmetric, f ’(x) become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(x) is minimized when f ’(x) = Ax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86000" y="4076640"/>
            <a:ext cx="268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3320" y="270828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f(x) = ½x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x – 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 +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92360" y="3284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f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(x) = ½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 + ½Ax –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000" y="43401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f ’(x) = Ax –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CAE-8BD9-4647-9D32-CD19E65DE5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onjugate Gradient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86000" y="4076640"/>
            <a:ext cx="268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27320" y="2278080"/>
            <a:ext cx="439740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0" r="8314" b="0"/>
          <a:stretch/>
        </p:blipFill>
        <p:spPr>
          <a:xfrm>
            <a:off x="1042920" y="3213000"/>
            <a:ext cx="3168720" cy="285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97080" y="5994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016000" cy="2012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03600" y="561348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tours of f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372360" y="3357720"/>
            <a:ext cx="2631960" cy="2562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38520" y="58500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elation to the “minimum” problem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7F2-BAAB-43EE-AC79-821DCE7F39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onjugate Gradient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elation to the “minimum” problem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86000" y="4017960"/>
            <a:ext cx="268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7640" y="2104920"/>
            <a:ext cx="6769440" cy="4564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60800" y="3500280"/>
            <a:ext cx="16833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z</a:t>
            </a:r>
            <a:r>
              <a:rPr b="0" lang="en-US" sz="1600" spc="-1" strike="noStrike" baseline="30000">
                <a:solidFill>
                  <a:srgbClr val="ff0000"/>
                </a:solidFill>
                <a:latin typeface="Times New Roman"/>
                <a:ea typeface="新細明體"/>
              </a:rPr>
              <a:t>T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z &gt; 0 for every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nonzero vector 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603396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4091040"/>
            <a:ext cx="100800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39360" y="5084640"/>
            <a:ext cx="28353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 is Hermitan(=real symmetric)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with negative eigen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603396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659640" y="5675400"/>
            <a:ext cx="50472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95560" y="4927680"/>
            <a:ext cx="16408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Eigenvalues of A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re of both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6394320"/>
            <a:ext cx="107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5530680"/>
            <a:ext cx="35892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B5E-F2FE-4689-8DCF-71B02CC6DB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onjugate Gradient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Method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ries to find the local-minimum by generating orthogonal search directions with calculated moving di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86000" y="4076640"/>
            <a:ext cx="268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88000" y="3051000"/>
            <a:ext cx="3600360" cy="3546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19280" y="3933720"/>
            <a:ext cx="30970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+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: ite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moving dis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: moving dir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Procedure continues until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sidual r (=Ax-b) approaching z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6165720"/>
            <a:ext cx="934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4000" y="494172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458136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39120" y="525312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8AF-2015-4CBC-8707-48A3C6366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onjugate Gradient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6/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Method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0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is randomly cho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0)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=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0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b – A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iter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T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/ (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+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=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–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T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+1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/ 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  <a:ea typeface="新細明體"/>
              </a:rPr>
              <a:t>T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=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+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+1)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es until r is zero or below some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934-3039-44D2-9281-F25F9955B7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Sparse Matrix Solv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 of a conjugate gradient solver requires only a few non-trivial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Sparse matrix vector multiply: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a sparse matrix data structure and a fragment program to execute the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Vector inner produc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a sum-reduction operator. (calculate sum of all elements in a vector or matr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A9E-DA34-4F43-BC65-9E1F0B2A6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05:23:47Z</dcterms:created>
  <dc:creator>Administrator</dc:creator>
  <dc:description/>
  <dc:language>en-US</dc:language>
  <cp:lastModifiedBy>rekan</cp:lastModifiedBy>
  <dcterms:modified xsi:type="dcterms:W3CDTF">2003-12-25T01:56:05Z</dcterms:modified>
  <cp:revision>363</cp:revision>
  <dc:subject/>
  <dc:title>Vertex Shaders, Pixel Shaders and Shading Languages</dc:title>
</cp:coreProperties>
</file>