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6F7-C894-48AA-A274-743EF0EB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4A0-80AA-4572-9807-853DDEA3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E05-8BCF-4BD6-9B18-ED287F8D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B15-65D3-498D-A37A-37E2D161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4328-5AA1-4032-9E46-147E2606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52B8-3420-4A75-8805-C12D070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D51E-3C3A-4CE4-9BCE-E61F743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1EF-C363-4CE5-96F6-01BC914F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84DA-DA89-49F0-B6E3-32B8BA1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68CF-11EA-43BD-8EB9-682AD253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54D-3357-431A-95A6-CF1F51F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7C6-BC14-48A6-8801-4BB46174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E7F0-FAAC-4084-A650-32737BE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288-DA2F-464B-8FD8-9D2F91F7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BCCD-9088-4841-9593-3788EF3C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C58-C830-4A77-8747-2990A7E1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2C73-5F1D-4875-88D5-4B933EB4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B4D-3FE8-432A-8179-B205DE39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F4F-53A4-4AE5-BCE1-C35C7573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8B2-FA59-4CB2-AEBD-44FFA195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03D-53D0-4F33-AB10-D2E855A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7FE-4A43-434C-A68B-8B73502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D2B-E35A-4FD4-89CC-3A3B5842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88C-90ED-4D28-B25B-DD2E3AC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90C4-08FB-4AAF-918B-65A796039C7C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0A3-138B-41A8-AD54-FF5AA819D89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A141-6F89-48D3-9707-CC552315B455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2DB2-B632-4043-AA6A-AAB45076305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tended Intersection Queries On A Geometric SIMD Machine Mod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0567-6B43-4CA7-AE00-882B7FA5F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: A set of objec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{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…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, a set of colo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{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…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 and a mapp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ery: Given a point p, find the number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istinctly col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s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Define this operation to be Q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AE9-6B88-497E-A6BE-366886FF75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413000"/>
            <a:ext cx="77724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rt the objects by color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 the sub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color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 {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…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ign each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z-value = ( i + (j /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 ) ) / k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all objects to stencil buffer with z-test opened and operation=INCREAMENT, in the following ord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for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, i=k,k-1,…,1 do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    for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  <a:ea typeface="新細明體"/>
              </a:rPr>
              <a:t>ij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, j=1,2,…,|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| do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        draw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  <a:ea typeface="新細明體"/>
              </a:rPr>
              <a:t>ij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to stencil buffe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 Q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be StencilBuffer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BD9-A72C-4870-9B4E-33B2BD7AA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order of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184720" cy="340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160" y="6035760"/>
            <a:ext cx="63666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For groups of different color, render them in back-to-front order to correctly</a:t>
            </a:r>
            <a:br>
              <a:rPr sz="1600"/>
            </a:b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accumulate number of different color objects intersected in one pixel-r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427640" y="5734080"/>
            <a:ext cx="144360" cy="2887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557360"/>
            <a:ext cx="3270240" cy="10674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For objects in the same group, render them in front-to-back order to avoid duplicate counting of objects of the same co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58920" y="2637000"/>
            <a:ext cx="1584360" cy="25207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99B-A180-4CC5-8494-C0D7BBAA6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duce other intersection query problems to 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ay-shoot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iven a set of colored line segments, find the number of distinctly colored line segments that intersect with a given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quer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p the line segment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dual space, du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becomes a point, and each line segment becomes a double-wedge. Thus each line segment intersect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f its double-wedge contains du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Reduction to counting probl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double-wedges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du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337-2536-4967-B0E0-5AA41A56A4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duce other intersection query problems to 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ange count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iven a set of colored intervals on the real line (ex: [2, 3.5]), find the number of distinctly colored intervals that intersect with a given interval [a,b] for quer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p each interval [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 to a 2-sided rectangle in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 [(-∞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∞)], thus [a,b] intersects with [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 iff (a,b) lies in the rectangle (which implies a≤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b≥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Reduction to counting probl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2-sided rectangles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(a,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2F1-B142-4F3D-8C4E-C04347AE5D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duce other intersection query problems to 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844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Range count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5300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00720" y="2852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74000" y="513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60680" y="256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69600" y="2492280"/>
            <a:ext cx="4578480" cy="2409120"/>
            <a:chOff x="1569600" y="2492280"/>
            <a:chExt cx="4578480" cy="2409120"/>
          </a:xfrm>
        </p:grpSpPr>
        <p:sp>
          <p:nvSpPr>
            <p:cNvPr id="177" name=""/>
            <p:cNvSpPr/>
            <p:nvPr/>
          </p:nvSpPr>
          <p:spPr>
            <a:xfrm>
              <a:off x="5364000" y="4508280"/>
              <a:ext cx="71640" cy="71280"/>
            </a:xfrm>
            <a:prstGeom prst="ellipse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26280" y="4336920"/>
              <a:ext cx="721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(b</a:t>
              </a:r>
              <a:r>
                <a:rPr b="0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, a</a:t>
              </a:r>
              <a:r>
                <a:rPr b="0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268000" y="4579560"/>
              <a:ext cx="3095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435640" y="2779560"/>
              <a:ext cx="0" cy="1800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69600" y="4530600"/>
              <a:ext cx="79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(-∞, a</a:t>
              </a:r>
              <a:r>
                <a:rPr b="0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5200" y="2492280"/>
              <a:ext cx="744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(b</a:t>
              </a:r>
              <a:r>
                <a:rPr b="0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, ∞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076360" y="4147920"/>
              <a:ext cx="35892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219640" y="4290840"/>
              <a:ext cx="216000" cy="288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003640" y="4003560"/>
              <a:ext cx="432000" cy="57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932360" y="3858840"/>
              <a:ext cx="503280" cy="648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708360" y="3573360"/>
            <a:ext cx="71640" cy="71640"/>
          </a:xfrm>
          <a:prstGeom prst="ellips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7400" y="3740040"/>
            <a:ext cx="1974240" cy="614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I</a:t>
            </a: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f (a, b ) lies in [b</a:t>
            </a:r>
            <a:r>
              <a:rPr b="0" lang="en-US" sz="16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, a</a:t>
            </a:r>
            <a:r>
              <a:rPr b="0" lang="en-US" sz="1600" spc="-1" strike="noStrike" baseline="-25000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],</a:t>
            </a:r>
            <a:br>
              <a:rPr sz="1600"/>
            </a:b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a≤ bi and b≥ 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13400" y="3933720"/>
            <a:ext cx="67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[b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, a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EB3-F28F-411F-8BB4-53AC0C569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duce other intersection query problems to 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Depth query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ontour problem, but now each poin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lored and “location depth” of point u is the minimal distinctly colored poin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lay on one sid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 €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ame as the depth contour algorithm, but step1(store the “level” of all points 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stencil buffer) is done by the solution to counting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Reduction to counting proble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half-spac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every 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083-A85A-4E26-8FF5-28F04985A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duce other intersection query problems to the counting proble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Depth query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of extended depth conto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2987640"/>
            <a:ext cx="7128000" cy="37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C7F-2C78-42ED-976A-C77A2E71B7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perimental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ime spent to solve count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79640" y="2467080"/>
            <a:ext cx="5689440" cy="42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8DD-0564-4605-BE9D-4C11116254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utlin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tended intersection que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Geometric SIMD machin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Use SIMD model to solve intersection quer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EFC-9779-484D-8FDF-DEB10BC83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tended Intersection Query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a set of geometric objects (points, lines or polygons) and a query object, the goal is to find the intersection between the query object and the object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E4E-89EF-4C50-9976-3DE41AF8E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tended Intersection Query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Problem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shoot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d intersections between geometric objects and a ray/line for que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ge count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d the number of objects caught in some given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query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are essentially depth contour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76D-1BD2-437B-B30F-946B3627E2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Geometric SIMD Machine Mode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What is a “SIMD” mach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gle Instruction Multiple Data”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means a single program can be executed on multiple dat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 parall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: The graphic card, with its pixel programs run on each of the frame buffer’s pixels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630-4B52-40AA-BEE8-89CEAFEE6E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Geometric SIMD Machine Mode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408720" cy="358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43880" y="5805360"/>
            <a:ext cx="3644640" cy="3373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Perform transformations and raster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419640" y="5373360"/>
            <a:ext cx="288720" cy="4316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8160" y="5388120"/>
            <a:ext cx="1662120" cy="3373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Geometric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66920" y="5084280"/>
            <a:ext cx="217440" cy="2890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2680" y="6308640"/>
            <a:ext cx="5609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Frame buffer( include color buffer, stencil buffer and depth buff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003640" y="5229360"/>
            <a:ext cx="216000" cy="1079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4600" y="5516640"/>
            <a:ext cx="29559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Compute statistics (histograms,</a:t>
            </a:r>
            <a:br>
              <a:rPr sz="1600"/>
            </a:b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MinMax or others) over the frame</a:t>
            </a:r>
            <a:br>
              <a:rPr sz="1600"/>
            </a:b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buffer to send back to the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87640" y="5229360"/>
            <a:ext cx="289080" cy="287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17320" y="1498680"/>
            <a:ext cx="5136840" cy="3373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  <a:ea typeface="新細明體"/>
              </a:rPr>
              <a:t>The program to be executed on each grid cell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076360" y="1844640"/>
            <a:ext cx="71640" cy="7207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871-9A67-4953-AE95-2BFBE43A2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Geometric SIMD Machine Mode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ource of errors in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ampling from the continuous space into discrete g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error of sampling can be minimized by increasing the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mite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06E-17D0-4F83-88BB-808B05F7F9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Geometric SIMD Machine Mode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bottlenecks of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triangles can be processed per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ical numbers range between 10-100 millions, which are usually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pixels can be transferred to the grid program per second (fill-r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ain bottle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0BD-43B2-41C9-A49F-3B53C0A08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Use SIMD model to solve intersection query problem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Firstly, we propose a core “counting” problem and its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n we show that other intersection query problems can be reduced to the cor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us all problems can be dealt by solving the counting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76D-02C4-4A0A-9AC8-EDCA5DE222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05:23:47Z</dcterms:created>
  <dc:creator>Administrator</dc:creator>
  <dc:description/>
  <dc:language>en-US</dc:language>
  <cp:lastModifiedBy>rekan</cp:lastModifiedBy>
  <dcterms:modified xsi:type="dcterms:W3CDTF">2003-11-02T13:25:24Z</dcterms:modified>
  <cp:revision>334</cp:revision>
  <dc:subject/>
  <dc:title>Vertex Shaders, Pixel Shaders and Shading Languages</dc:title>
</cp:coreProperties>
</file>