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85B1-210F-4691-AA61-7F5F1DEA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E411-107E-4D1F-98E5-FC291176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BCD-E59D-46A0-BAFA-738A8B67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0CBA-1557-4E57-9CF1-C6B83D23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A0FC-7780-4B41-9DB2-EC8C793F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6B76-62F5-4301-A053-7E87238E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0881-4A54-4103-979B-736CAF94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D63B-275C-4C08-AF4B-9F868AA2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AA02-91EE-43F9-9E74-D6D95E81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2618-99D2-46A9-912D-BE613319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C0A0-AA24-4E24-AC9D-D1BE92CD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A6E-8ADB-4FED-9457-D18B99EF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2B62-2673-4C65-88BC-7318C09D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C343-A2B5-4B7D-8DF8-ED9F0614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87D5-F717-4C6F-BCCA-813D50EC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F38B-6EB9-4CA1-B729-B423BFA4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9C33-7307-48AF-845F-B1D6348F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7C0-DEF0-4B47-B985-2CD5CE5A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0B6E-9EBD-488C-9CEB-1283BE55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D56-C46A-4772-AFF5-46F54AAA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CB96-0FDF-4C92-918D-9A63CBB6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BCD9-5E49-469D-9DA0-59C7BE7D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6411-05E7-4B11-B0FA-4E6E62A9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9257-A2B2-466C-8569-7D510101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268E-A06E-4683-BEC5-22E3A50C44DB}" type="datetime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4017-5F08-4480-8D64-6D35C6472F6A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236E-9AD9-421A-A7AD-B585F8E13D94}" type="datetime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BB1C-E930-44C9-ACD0-65A50B13BB5F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Hardware-assisted Computation of Depth Contour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C753-F3B3-4B26-963F-27669D4CCF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Background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8/9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The k-contour is related to the convex hull of the k and (n-k) levels of the dual arrangement (</a:t>
            </a:r>
            <a:r>
              <a:rPr b="0" i="1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BD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(P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046400" y="3165480"/>
            <a:ext cx="2037960" cy="2806200"/>
            <a:chOff x="4046400" y="3165480"/>
            <a:chExt cx="2037960" cy="2806200"/>
          </a:xfrm>
        </p:grpSpPr>
        <p:grpSp>
          <p:nvGrpSpPr>
            <p:cNvPr id="222" name=""/>
            <p:cNvGrpSpPr/>
            <p:nvPr/>
          </p:nvGrpSpPr>
          <p:grpSpPr>
            <a:xfrm>
              <a:off x="4046400" y="3165480"/>
              <a:ext cx="2037960" cy="2806200"/>
              <a:chOff x="4046400" y="3165480"/>
              <a:chExt cx="2037960" cy="2806200"/>
            </a:xfrm>
          </p:grpSpPr>
          <p:sp>
            <p:nvSpPr>
              <p:cNvPr id="223" name=""/>
              <p:cNvSpPr/>
              <p:nvPr/>
            </p:nvSpPr>
            <p:spPr>
              <a:xfrm>
                <a:off x="4054320" y="3165480"/>
                <a:ext cx="2025720" cy="90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049280" y="3522240"/>
                <a:ext cx="2035080" cy="58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046400" y="3934800"/>
                <a:ext cx="2030760" cy="31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046400" y="4466880"/>
                <a:ext cx="2025720" cy="1504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046400" y="4493160"/>
                <a:ext cx="2028960" cy="10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046400" y="4587840"/>
                <a:ext cx="2034000" cy="21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4046400" y="4218120"/>
                <a:ext cx="2028960" cy="93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4046400" y="4011840"/>
                <a:ext cx="2028960" cy="148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4046400" y="3892320"/>
                <a:ext cx="2023920" cy="19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047840" y="3936600"/>
              <a:ext cx="2030400" cy="1218600"/>
              <a:chOff x="4047840" y="3936600"/>
              <a:chExt cx="2030400" cy="1218600"/>
            </a:xfrm>
          </p:grpSpPr>
          <p:sp>
            <p:nvSpPr>
              <p:cNvPr id="233" name=""/>
              <p:cNvSpPr/>
              <p:nvPr/>
            </p:nvSpPr>
            <p:spPr>
              <a:xfrm>
                <a:off x="4050000" y="4708440"/>
                <a:ext cx="2022120" cy="446760"/>
              </a:xfrm>
              <a:custGeom>
                <a:avLst/>
                <a:gdLst/>
                <a:ahLst/>
                <a:rect l="l" t="t" r="r" b="b"/>
                <a:pathLst>
                  <a:path w="3200" h="564">
                    <a:moveTo>
                      <a:pt x="0" y="564"/>
                    </a:moveTo>
                    <a:lnTo>
                      <a:pt x="900" y="228"/>
                    </a:lnTo>
                    <a:lnTo>
                      <a:pt x="1104" y="352"/>
                    </a:lnTo>
                    <a:lnTo>
                      <a:pt x="1268" y="256"/>
                    </a:lnTo>
                    <a:lnTo>
                      <a:pt x="1412" y="320"/>
                    </a:lnTo>
                    <a:lnTo>
                      <a:pt x="1832" y="0"/>
                    </a:lnTo>
                    <a:lnTo>
                      <a:pt x="3200" y="124"/>
                    </a:lnTo>
                  </a:path>
                </a:pathLst>
              </a:custGeom>
              <a:noFill/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047840" y="3936600"/>
                <a:ext cx="2030400" cy="263160"/>
              </a:xfrm>
              <a:custGeom>
                <a:avLst/>
                <a:gdLst/>
                <a:ahLst/>
                <a:rect l="l" t="t" r="r" b="b"/>
                <a:pathLst>
                  <a:path w="3212" h="332">
                    <a:moveTo>
                      <a:pt x="0" y="0"/>
                    </a:moveTo>
                    <a:lnTo>
                      <a:pt x="2676" y="332"/>
                    </a:lnTo>
                    <a:lnTo>
                      <a:pt x="2928" y="148"/>
                    </a:lnTo>
                    <a:lnTo>
                      <a:pt x="3064" y="180"/>
                    </a:lnTo>
                    <a:lnTo>
                      <a:pt x="3140" y="128"/>
                    </a:lnTo>
                    <a:lnTo>
                      <a:pt x="3212" y="156"/>
                    </a:lnTo>
                  </a:path>
                </a:pathLst>
              </a:custGeom>
              <a:noFill/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1403280" y="3500280"/>
            <a:ext cx="2192040" cy="2163600"/>
            <a:chOff x="1403280" y="3500280"/>
            <a:chExt cx="2192040" cy="2163600"/>
          </a:xfrm>
        </p:grpSpPr>
        <p:grpSp>
          <p:nvGrpSpPr>
            <p:cNvPr id="236" name=""/>
            <p:cNvGrpSpPr/>
            <p:nvPr/>
          </p:nvGrpSpPr>
          <p:grpSpPr>
            <a:xfrm>
              <a:off x="1403280" y="3500280"/>
              <a:ext cx="2192040" cy="2163600"/>
              <a:chOff x="1403280" y="3500280"/>
              <a:chExt cx="2192040" cy="2163600"/>
            </a:xfrm>
          </p:grpSpPr>
          <p:sp>
            <p:nvSpPr>
              <p:cNvPr id="237" name=""/>
              <p:cNvSpPr/>
              <p:nvPr/>
            </p:nvSpPr>
            <p:spPr>
              <a:xfrm>
                <a:off x="1403280" y="3500280"/>
                <a:ext cx="9288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664280" y="3754080"/>
                <a:ext cx="9288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164680" y="4177440"/>
                <a:ext cx="9288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85400" y="4178160"/>
                <a:ext cx="9288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240000" y="4074480"/>
                <a:ext cx="9324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502440" y="3970440"/>
                <a:ext cx="9288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122920" y="4977720"/>
                <a:ext cx="9288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971360" y="5320440"/>
                <a:ext cx="9324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57520" y="5565240"/>
                <a:ext cx="9288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052720" y="4150080"/>
              <a:ext cx="884880" cy="884880"/>
            </a:xfrm>
            <a:custGeom>
              <a:avLst/>
              <a:gdLst/>
              <a:ahLst/>
              <a:rect l="l" t="t" r="r" b="b"/>
              <a:pathLst>
                <a:path w="912" h="860">
                  <a:moveTo>
                    <a:pt x="120" y="860"/>
                  </a:moveTo>
                  <a:lnTo>
                    <a:pt x="0" y="624"/>
                  </a:lnTo>
                  <a:lnTo>
                    <a:pt x="168" y="84"/>
                  </a:lnTo>
                  <a:lnTo>
                    <a:pt x="724" y="0"/>
                  </a:lnTo>
                  <a:lnTo>
                    <a:pt x="912" y="84"/>
                  </a:lnTo>
                  <a:lnTo>
                    <a:pt x="416" y="656"/>
                  </a:lnTo>
                  <a:lnTo>
                    <a:pt x="120" y="860"/>
                  </a:lnTo>
                  <a:close/>
                </a:path>
              </a:pathLst>
            </a:custGeom>
            <a:noFill/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566040" y="3141720"/>
            <a:ext cx="2037960" cy="2806200"/>
            <a:chOff x="6566040" y="3141720"/>
            <a:chExt cx="2037960" cy="2806200"/>
          </a:xfrm>
        </p:grpSpPr>
        <p:grpSp>
          <p:nvGrpSpPr>
            <p:cNvPr id="248" name=""/>
            <p:cNvGrpSpPr/>
            <p:nvPr/>
          </p:nvGrpSpPr>
          <p:grpSpPr>
            <a:xfrm>
              <a:off x="6566040" y="3141720"/>
              <a:ext cx="2037960" cy="2806200"/>
              <a:chOff x="6566040" y="3141720"/>
              <a:chExt cx="2037960" cy="2806200"/>
            </a:xfrm>
          </p:grpSpPr>
          <p:sp>
            <p:nvSpPr>
              <p:cNvPr id="249" name=""/>
              <p:cNvSpPr/>
              <p:nvPr/>
            </p:nvSpPr>
            <p:spPr>
              <a:xfrm>
                <a:off x="6573960" y="3141720"/>
                <a:ext cx="2025720" cy="90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568920" y="3498480"/>
                <a:ext cx="2035080" cy="58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566040" y="3911040"/>
                <a:ext cx="2030760" cy="31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566040" y="4443120"/>
                <a:ext cx="2025720" cy="1504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566040" y="4469400"/>
                <a:ext cx="2028960" cy="10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66040" y="4564080"/>
                <a:ext cx="2034000" cy="21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6566040" y="4194360"/>
                <a:ext cx="2028960" cy="93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6566040" y="3988080"/>
                <a:ext cx="2028960" cy="148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6566040" y="3868560"/>
                <a:ext cx="2023920" cy="19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6567480" y="3913200"/>
              <a:ext cx="2030400" cy="1218960"/>
              <a:chOff x="6567480" y="3913200"/>
              <a:chExt cx="2030400" cy="1218960"/>
            </a:xfrm>
          </p:grpSpPr>
          <p:sp>
            <p:nvSpPr>
              <p:cNvPr id="259" name=""/>
              <p:cNvSpPr/>
              <p:nvPr/>
            </p:nvSpPr>
            <p:spPr>
              <a:xfrm>
                <a:off x="6569640" y="4685400"/>
                <a:ext cx="2022120" cy="446760"/>
              </a:xfrm>
              <a:custGeom>
                <a:avLst/>
                <a:gdLst/>
                <a:ahLst/>
                <a:rect l="l" t="t" r="r" b="b"/>
                <a:pathLst>
                  <a:path w="3200" h="564">
                    <a:moveTo>
                      <a:pt x="0" y="564"/>
                    </a:moveTo>
                    <a:lnTo>
                      <a:pt x="900" y="228"/>
                    </a:lnTo>
                    <a:lnTo>
                      <a:pt x="1104" y="352"/>
                    </a:lnTo>
                    <a:lnTo>
                      <a:pt x="1268" y="256"/>
                    </a:lnTo>
                    <a:lnTo>
                      <a:pt x="1412" y="320"/>
                    </a:lnTo>
                    <a:lnTo>
                      <a:pt x="1832" y="0"/>
                    </a:lnTo>
                    <a:lnTo>
                      <a:pt x="3200" y="124"/>
                    </a:lnTo>
                  </a:path>
                </a:pathLst>
              </a:custGeom>
              <a:noFill/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567480" y="3913200"/>
                <a:ext cx="2030400" cy="263520"/>
              </a:xfrm>
              <a:custGeom>
                <a:avLst/>
                <a:gdLst/>
                <a:ahLst/>
                <a:rect l="l" t="t" r="r" b="b"/>
                <a:pathLst>
                  <a:path w="3212" h="332">
                    <a:moveTo>
                      <a:pt x="0" y="0"/>
                    </a:moveTo>
                    <a:lnTo>
                      <a:pt x="2676" y="332"/>
                    </a:lnTo>
                    <a:lnTo>
                      <a:pt x="2928" y="148"/>
                    </a:lnTo>
                    <a:lnTo>
                      <a:pt x="3064" y="180"/>
                    </a:lnTo>
                    <a:lnTo>
                      <a:pt x="3140" y="128"/>
                    </a:lnTo>
                    <a:lnTo>
                      <a:pt x="3212" y="156"/>
                    </a:lnTo>
                  </a:path>
                </a:pathLst>
              </a:custGeom>
              <a:noFill/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568920" y="3913200"/>
              <a:ext cx="2024280" cy="1219320"/>
              <a:chOff x="6568920" y="3913200"/>
              <a:chExt cx="2024280" cy="1219320"/>
            </a:xfrm>
          </p:grpSpPr>
          <p:sp>
            <p:nvSpPr>
              <p:cNvPr id="262" name=""/>
              <p:cNvSpPr/>
              <p:nvPr/>
            </p:nvSpPr>
            <p:spPr>
              <a:xfrm>
                <a:off x="6571080" y="4687920"/>
                <a:ext cx="2012400" cy="444600"/>
              </a:xfrm>
              <a:custGeom>
                <a:avLst/>
                <a:gdLst/>
                <a:ahLst/>
                <a:rect l="l" t="t" r="r" b="b"/>
                <a:pathLst>
                  <a:path w="3180" h="560">
                    <a:moveTo>
                      <a:pt x="0" y="560"/>
                    </a:moveTo>
                    <a:lnTo>
                      <a:pt x="896" y="224"/>
                    </a:lnTo>
                    <a:lnTo>
                      <a:pt x="1828" y="0"/>
                    </a:lnTo>
                    <a:lnTo>
                      <a:pt x="3180" y="116"/>
                    </a:lnTo>
                  </a:path>
                </a:pathLst>
              </a:custGeom>
              <a:noFill/>
              <a:ln w="507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568920" y="3913200"/>
                <a:ext cx="2024280" cy="263520"/>
              </a:xfrm>
              <a:custGeom>
                <a:avLst/>
                <a:gdLst/>
                <a:ahLst/>
                <a:rect l="l" t="t" r="r" b="b"/>
                <a:pathLst>
                  <a:path w="3200" h="332">
                    <a:moveTo>
                      <a:pt x="0" y="0"/>
                    </a:moveTo>
                    <a:lnTo>
                      <a:pt x="2664" y="332"/>
                    </a:lnTo>
                    <a:lnTo>
                      <a:pt x="3200" y="152"/>
                    </a:lnTo>
                  </a:path>
                </a:pathLst>
              </a:custGeom>
              <a:noFill/>
              <a:ln w="507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"/>
          <p:cNvSpPr/>
          <p:nvPr/>
        </p:nvSpPr>
        <p:spPr>
          <a:xfrm>
            <a:off x="1547640" y="5661000"/>
            <a:ext cx="20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k-contou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k=3) of P in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6010200"/>
            <a:ext cx="2232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 and (n-k) levels of the dual arran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72360" y="6010200"/>
            <a:ext cx="22320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x hull of the k and (n-k) levels of the dual arran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0DC-3B46-4103-BAE0-FBCE318B39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Background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9/9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The “location depth” of u in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新細明體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 is equal to the “depth” of line l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(u), which is : mi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新細明體"/>
              </a:rPr>
              <a:t>d€l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 ( min( n-level(d) , level(d) )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vel” value only changes at line intersection points, so 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d€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 min( n-level(d) , level(d) ) ) must exists at some d €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D6B-A4DF-4326-83EA-4182BB2618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Algorithm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1/5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Step1: Store the “level” of all points of </a:t>
            </a:r>
            <a:r>
              <a:rPr b="1" i="1" lang="en-US" sz="3200" spc="-1" strike="noStrike" u="sng">
                <a:solidFill>
                  <a:srgbClr val="0099cc"/>
                </a:solidFill>
                <a:uFillTx/>
                <a:latin typeface="Times New Roman"/>
                <a:ea typeface="新細明體"/>
              </a:rPr>
              <a:t>D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 in the stencil buffer (SB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 each p € P, calculate l’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p), then increment all pixels in Stencil buffer that lie above l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851280" y="3944880"/>
            <a:ext cx="2747880" cy="22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65B-60B2-45FF-945B-BD84244617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Algorithm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2/5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73240" y="1690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Step2: Draw all d € </a:t>
            </a:r>
            <a:r>
              <a:rPr b="0" i="1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BD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(P) with </a:t>
            </a:r>
            <a:br>
              <a:rPr sz="3200"/>
            </a:b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color = min( n-level(d) , level(d) ) in the color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 all p € P, mark all poin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p) in the CB, then for all marked points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CB, draw them with color = min( S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, n - S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381-F22C-4EB2-9BA9-298A0B76C6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Algorithm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3/5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Step3: For all points d € </a:t>
            </a:r>
            <a:r>
              <a:rPr b="0" i="1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BD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(P), draw </a:t>
            </a:r>
            <a:r>
              <a:rPr b="0" i="1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BP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(d) which color = min( n-level(d) , level(d) ) </a:t>
            </a:r>
            <a:r>
              <a:rPr b="1" i="1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, 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and record the minimum value if </a:t>
            </a:r>
            <a:r>
              <a:rPr b="0" i="1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BP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(d) overla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 all pixels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CB that have been drawn previously, add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C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to a (line,  value ) set. Then for every member M in the set, enable depth test = LESS, then draw M.line with color = M.value and depth = M.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F8CC-0FEC-4036-9A55-8D675A67A7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Algorithm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4/5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Step4: Now the color buffer shall be a pixelized version of the depth cont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point u in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its color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d € {u=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B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(d)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 min( n-level(d) , level(d) ) ), and if u €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d), then d €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u), thus it is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d €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B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(u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 min( n-level(d) , level(d) ) ), according to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it is the location depth of 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BD5-9C5A-45ED-8670-AE40CA8692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Algorithm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5/5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91280" y="2732040"/>
            <a:ext cx="3168360" cy="30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48360" y="4125960"/>
            <a:ext cx="71640" cy="71280"/>
          </a:xfrm>
          <a:prstGeom prst="flowChartConnector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93080" y="2708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47640" y="2732040"/>
            <a:ext cx="3168720" cy="30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47640" y="2708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32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Illu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2339640" y="2708280"/>
            <a:ext cx="2376360" cy="23032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74960" y="2276640"/>
            <a:ext cx="6968520" cy="337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BD</a:t>
            </a: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u): y=-x+2, its’ “depth”= min( 30 , 40 , 50 ) = 30 , thus u’s depth shall be 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56000" y="2637000"/>
            <a:ext cx="0" cy="2156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1080" y="3718080"/>
            <a:ext cx="71280" cy="71280"/>
          </a:xfrm>
          <a:prstGeom prst="flowChartConnector">
            <a:avLst/>
          </a:prstGeom>
          <a:noFill/>
          <a:ln w="7632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80000" y="4076640"/>
            <a:ext cx="71280" cy="71640"/>
          </a:xfrm>
          <a:prstGeom prst="flowChartConnector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11640" y="4508640"/>
            <a:ext cx="71280" cy="71280"/>
          </a:xfrm>
          <a:prstGeom prst="flowChartConnector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61760" y="35971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  <a:ea typeface="新細明體"/>
              </a:rPr>
              <a:t>d</a:t>
            </a:r>
            <a:r>
              <a:rPr b="0" lang="en-US" sz="1600" spc="-1" strike="noStrike" baseline="30000">
                <a:solidFill>
                  <a:srgbClr val="3366cc"/>
                </a:solidFill>
                <a:latin typeface="Times New Roman"/>
                <a:ea typeface="新細明體"/>
              </a:rPr>
              <a:t>1</a:t>
            </a:r>
            <a:r>
              <a:rPr b="0" lang="en-US" sz="1600" spc="-1" strike="noStrike">
                <a:solidFill>
                  <a:srgbClr val="3366cc"/>
                </a:solidFill>
                <a:latin typeface="Times New Roman"/>
                <a:ea typeface="新細明體"/>
              </a:rPr>
              <a:t>=(1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99880" y="40291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新細明體"/>
              </a:rPr>
              <a:t>d</a:t>
            </a:r>
            <a:r>
              <a:rPr b="0" lang="en-US" sz="1600" spc="-1" strike="noStrike" baseline="30000">
                <a:solidFill>
                  <a:srgbClr val="006600"/>
                </a:solidFill>
                <a:latin typeface="Times New Roman"/>
                <a:ea typeface="新細明體"/>
              </a:rPr>
              <a:t>2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新細明體"/>
              </a:rPr>
              <a:t>=(2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36920" y="45086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d</a:t>
            </a:r>
            <a:r>
              <a:rPr b="0" lang="en-US" sz="1600" spc="-1" strike="noStrike" baseline="30000">
                <a:solidFill>
                  <a:srgbClr val="ff00ff"/>
                </a:solidFill>
                <a:latin typeface="Times New Roman"/>
                <a:ea typeface="新細明體"/>
              </a:rPr>
              <a:t>3</a:t>
            </a:r>
            <a:r>
              <a:rPr b="0" lang="en-US" sz="16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=(3,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02360" y="340200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  <a:ea typeface="新細明體"/>
              </a:rPr>
              <a:t>color=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99080" y="381312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新細明體"/>
              </a:rPr>
              <a:t>color=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31080" y="424512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color=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099200" y="4076640"/>
            <a:ext cx="18874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u=(1,2), its’ color = </a:t>
            </a:r>
            <a:br>
              <a:rPr sz="1600"/>
            </a:b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min( 30, 40, 50 )=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132000" y="2781360"/>
            <a:ext cx="50328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555640" y="2997360"/>
            <a:ext cx="216036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1547640" y="4076280"/>
            <a:ext cx="3168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2708280"/>
            <a:ext cx="1584360" cy="302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53360" y="6021360"/>
            <a:ext cx="2539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lack lines are lines €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2" idx="0"/>
            <a:endCxn id="299" idx="0"/>
          </p:cNvCxnSpPr>
          <p:nvPr/>
        </p:nvCxnSpPr>
        <p:spPr>
          <a:xfrm flipH="1" flipV="1" rot="5400000">
            <a:off x="2296800" y="5760720"/>
            <a:ext cx="288000" cy="234000"/>
          </a:xfrm>
          <a:prstGeom prst="curvedConnector5">
            <a:avLst>
              <a:gd name="adj1" fmla="val 49687"/>
              <a:gd name="adj2" fmla="val 49922"/>
              <a:gd name="adj3" fmla="val 496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 flipH="1">
            <a:off x="5651640" y="2708280"/>
            <a:ext cx="2520720" cy="302580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157440" y="2708280"/>
            <a:ext cx="1582920" cy="30258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587640" y="2708280"/>
            <a:ext cx="792360" cy="30258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03880" y="5962680"/>
            <a:ext cx="43174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aw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d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d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d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with color=30, 40, 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"/>
          <p:cNvCxnSpPr>
            <a:stCxn id="307" idx="0"/>
            <a:endCxn id="306" idx="0"/>
          </p:cNvCxnSpPr>
          <p:nvPr/>
        </p:nvCxnSpPr>
        <p:spPr>
          <a:xfrm flipH="1" flipV="1" rot="5400000">
            <a:off x="6468840" y="5841360"/>
            <a:ext cx="214920" cy="27720"/>
          </a:xfrm>
          <a:prstGeom prst="curvedConnector5">
            <a:avLst>
              <a:gd name="adj1" fmla="val 53187"/>
              <a:gd name="adj2" fmla="val 50000"/>
              <a:gd name="adj3" fmla="val 531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307" idx="0"/>
            <a:endCxn id="305" idx="0"/>
          </p:cNvCxnSpPr>
          <p:nvPr/>
        </p:nvCxnSpPr>
        <p:spPr>
          <a:xfrm flipV="1" rot="16200000">
            <a:off x="6253560" y="5653080"/>
            <a:ext cx="214920" cy="403920"/>
          </a:xfrm>
          <a:prstGeom prst="curvedConnector5">
            <a:avLst>
              <a:gd name="adj1" fmla="val 53187"/>
              <a:gd name="adj2" fmla="val 49955"/>
              <a:gd name="adj3" fmla="val 531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7" idx="0"/>
            <a:endCxn id="304" idx="0"/>
          </p:cNvCxnSpPr>
          <p:nvPr/>
        </p:nvCxnSpPr>
        <p:spPr>
          <a:xfrm flipV="1" rot="16200000">
            <a:off x="5999400" y="5399280"/>
            <a:ext cx="214920" cy="911880"/>
          </a:xfrm>
          <a:prstGeom prst="curvedConnector5">
            <a:avLst>
              <a:gd name="adj1" fmla="val 53187"/>
              <a:gd name="adj2" fmla="val 50000"/>
              <a:gd name="adj3" fmla="val 531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6648840" y="520236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BP</a:t>
            </a:r>
            <a:r>
              <a:rPr b="0" lang="en-US" sz="16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(d</a:t>
            </a:r>
            <a:r>
              <a:rPr b="0" lang="en-US" sz="1600" spc="-1" strike="noStrike" baseline="30000">
                <a:solidFill>
                  <a:srgbClr val="ff00ff"/>
                </a:solidFill>
                <a:latin typeface="Times New Roman"/>
                <a:ea typeface="新細明體"/>
              </a:rPr>
              <a:t>3</a:t>
            </a:r>
            <a:r>
              <a:rPr b="0" lang="en-US" sz="16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): y=3x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49760" y="486900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imes New Roman"/>
                <a:ea typeface="新細明體"/>
              </a:rPr>
              <a:t>BP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新細明體"/>
              </a:rPr>
              <a:t>(d</a:t>
            </a:r>
            <a:r>
              <a:rPr b="0" lang="en-US" sz="1600" spc="-1" strike="noStrike" baseline="30000">
                <a:solidFill>
                  <a:srgbClr val="006600"/>
                </a:solidFill>
                <a:latin typeface="Times New Roman"/>
                <a:ea typeface="新細明體"/>
              </a:rPr>
              <a:t>2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  <a:ea typeface="新細明體"/>
              </a:rPr>
              <a:t>): y=2x+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26120" y="4460760"/>
            <a:ext cx="13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cc"/>
                </a:solidFill>
                <a:latin typeface="Times New Roman"/>
                <a:ea typeface="新細明體"/>
              </a:rPr>
              <a:t>BP</a:t>
            </a:r>
            <a:r>
              <a:rPr b="0" lang="en-US" sz="1600" spc="-1" strike="noStrike">
                <a:solidFill>
                  <a:srgbClr val="3366cc"/>
                </a:solidFill>
                <a:latin typeface="Times New Roman"/>
                <a:ea typeface="新細明體"/>
              </a:rPr>
              <a:t>(d</a:t>
            </a:r>
            <a:r>
              <a:rPr b="0" lang="en-US" sz="1600" spc="-1" strike="noStrike" baseline="30000">
                <a:solidFill>
                  <a:srgbClr val="3366cc"/>
                </a:solidFill>
                <a:latin typeface="Times New Roman"/>
                <a:ea typeface="新細明體"/>
              </a:rPr>
              <a:t>1</a:t>
            </a:r>
            <a:r>
              <a:rPr b="0" lang="en-US" sz="1600" spc="-1" strike="noStrike">
                <a:solidFill>
                  <a:srgbClr val="3366cc"/>
                </a:solidFill>
                <a:latin typeface="Times New Roman"/>
                <a:ea typeface="新細明體"/>
              </a:rPr>
              <a:t>): y=x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71EB-E0F9-49F0-AFC0-9BB4D137A1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Experimental Resul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19280" y="2457360"/>
          <a:ext cx="6375240" cy="2124000"/>
        </p:xfrm>
        <a:graphic>
          <a:graphicData uri="http://schemas.openxmlformats.org/drawingml/2006/table">
            <a:tbl>
              <a:tblPr/>
              <a:tblGrid>
                <a:gridCol w="2089080"/>
                <a:gridCol w="1314360"/>
                <a:gridCol w="1486080"/>
                <a:gridCol w="1485720"/>
              </a:tblGrid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N=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N=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N=1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3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8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iller’s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 Optimal, O(n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)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!!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HALF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9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!!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1284480" y="2009880"/>
            <a:ext cx="73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unning time ( in seconds ) on a average PC ( 900MHZ CPU with Geforce2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A4B-C421-4A24-91FC-34EB53C0CF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Outlin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Experimental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175-EB08-42F3-AB1E-F729901A52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Background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1/9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What is “depth contours”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way to identify the “core” of a bivariate(2D) distrib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986120" y="3429000"/>
            <a:ext cx="1938240" cy="19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95840" y="3429000"/>
            <a:ext cx="1892160" cy="19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995640" y="4365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8000" y="54450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A bivariate distrib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44500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Depth contours, the brighter the deep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32720" y="4492800"/>
            <a:ext cx="1942920" cy="946440"/>
          </a:xfrm>
          <a:prstGeom prst="rect">
            <a:avLst/>
          </a:pr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Tahoma"/>
                <a:ea typeface="新細明體"/>
              </a:rPr>
              <a:t>The deepest contour is the core of distribution, called the Turkey medi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435280" y="4725720"/>
            <a:ext cx="1297080" cy="21564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A2F-3621-4F34-9894-52468D7ED6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Background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2/9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69992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What is “depth contours” by defin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iven a set of 2D points P, the 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location dep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” of a points u is the minimum numbers of points of P lying in any close halfplane defined by a line through 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132000" y="3679920"/>
            <a:ext cx="3835440" cy="2197080"/>
            <a:chOff x="3132000" y="3679920"/>
            <a:chExt cx="3835440" cy="2197080"/>
          </a:xfrm>
        </p:grpSpPr>
        <p:sp>
          <p:nvSpPr>
            <p:cNvPr id="143" name=""/>
            <p:cNvSpPr/>
            <p:nvPr/>
          </p:nvSpPr>
          <p:spPr>
            <a:xfrm>
              <a:off x="3138480" y="3679920"/>
              <a:ext cx="2382840" cy="21970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34960" y="3895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00"/>
                  </a:solidFill>
                  <a:latin typeface="Times New Roman"/>
                  <a:ea typeface="新細明體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76440" y="3679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00"/>
                  </a:solidFill>
                  <a:latin typeface="Times New Roman"/>
                  <a:ea typeface="新細明體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424320" y="3892320"/>
              <a:ext cx="2800080" cy="17542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14600" y="3824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00"/>
                  </a:solidFill>
                  <a:latin typeface="Times New Roman"/>
                  <a:ea typeface="新細明體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68800" y="3679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00"/>
                  </a:solidFill>
                  <a:latin typeface="Times New Roman"/>
                  <a:ea typeface="新細明體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703680" y="3917880"/>
              <a:ext cx="1707840" cy="1297080"/>
              <a:chOff x="3703680" y="3917880"/>
              <a:chExt cx="1707840" cy="129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4052160" y="5142960"/>
                <a:ext cx="69840" cy="72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65720" y="4205880"/>
                <a:ext cx="69840" cy="72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03680" y="4674600"/>
                <a:ext cx="69480" cy="72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58640" y="4890600"/>
                <a:ext cx="69480" cy="72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261320" y="4566240"/>
                <a:ext cx="69840" cy="72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17240" y="4818600"/>
                <a:ext cx="69480" cy="72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42040" y="3917880"/>
                <a:ext cx="69480" cy="72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888800" y="4602240"/>
                <a:ext cx="69840" cy="72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 flipV="1">
              <a:off x="3132000" y="4119480"/>
              <a:ext cx="3494160" cy="1386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0080" y="4402080"/>
              <a:ext cx="26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00"/>
                  </a:solidFill>
                  <a:latin typeface="Times New Roman"/>
                  <a:ea typeface="新細明體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35360" y="4183200"/>
              <a:ext cx="22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00"/>
                  </a:solidFill>
                  <a:latin typeface="Times New Roman"/>
                  <a:ea typeface="新細明體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1000" y="4918320"/>
              <a:ext cx="6984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4524120" y="4953240"/>
              <a:ext cx="2443320" cy="578160"/>
              <a:chOff x="4524120" y="4953240"/>
              <a:chExt cx="2443320" cy="578160"/>
            </a:xfrm>
          </p:grpSpPr>
          <p:sp>
            <p:nvSpPr>
              <p:cNvPr id="163" name=""/>
              <p:cNvSpPr/>
              <p:nvPr/>
            </p:nvSpPr>
            <p:spPr>
              <a:xfrm>
                <a:off x="5244480" y="5194080"/>
                <a:ext cx="1722960" cy="337320"/>
              </a:xfrm>
              <a:prstGeom prst="rect">
                <a:avLst/>
              </a:prstGeom>
              <a:noFill/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99cc"/>
                    </a:solidFill>
                    <a:latin typeface="Times New Roman"/>
                    <a:ea typeface="新細明體"/>
                  </a:rPr>
                  <a:t>Location depth =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4120" y="4953240"/>
                <a:ext cx="669960" cy="23724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4240080" y="5408640"/>
              <a:ext cx="287280" cy="337320"/>
            </a:xfrm>
            <a:prstGeom prst="rect">
              <a:avLst/>
            </a:prstGeom>
            <a:noFill/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cc"/>
                  </a:solidFill>
                  <a:latin typeface="Times New Roman"/>
                  <a:ea typeface="新細明體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83000" y="5047920"/>
              <a:ext cx="144360" cy="36036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848-8775-46C0-8BE4-2503E08B9E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Background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3/9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70172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What is “depth contours” by definition? </a:t>
            </a:r>
            <a:r>
              <a:rPr b="0" lang="en-US" sz="16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Co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et of all points with depth &gt;= k is called the depth contour of depth k, or 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k-conto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575160" y="3308400"/>
            <a:ext cx="2797560" cy="2353320"/>
            <a:chOff x="3575160" y="3308400"/>
            <a:chExt cx="2797560" cy="2353320"/>
          </a:xfrm>
        </p:grpSpPr>
        <p:sp>
          <p:nvSpPr>
            <p:cNvPr id="170" name=""/>
            <p:cNvSpPr/>
            <p:nvPr/>
          </p:nvSpPr>
          <p:spPr>
            <a:xfrm>
              <a:off x="4576680" y="3740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786120" y="3597480"/>
              <a:ext cx="2447640" cy="1800000"/>
              <a:chOff x="3786120" y="3597480"/>
              <a:chExt cx="2447640" cy="18000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3786120" y="3597480"/>
                <a:ext cx="2447640" cy="1800000"/>
                <a:chOff x="3786120" y="3597480"/>
                <a:chExt cx="2447640" cy="18000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285440" y="5297400"/>
                  <a:ext cx="99720" cy="100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735440" y="3997080"/>
                  <a:ext cx="99720" cy="99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786120" y="4647240"/>
                  <a:ext cx="99720" cy="99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584680" y="4947480"/>
                  <a:ext cx="99720" cy="99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585320" y="4497480"/>
                  <a:ext cx="99720" cy="99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235760" y="4847400"/>
                  <a:ext cx="99720" cy="100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134040" y="3597480"/>
                  <a:ext cx="99720" cy="99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835800" y="3647160"/>
                  <a:ext cx="2347920" cy="1699920"/>
                </a:xfrm>
                <a:custGeom>
                  <a:avLst/>
                  <a:gdLst/>
                  <a:ahLst/>
                  <a:rect l="l" t="t" r="r" b="b"/>
                  <a:pathLst>
                    <a:path w="2256" h="1632">
                      <a:moveTo>
                        <a:pt x="0" y="1008"/>
                      </a:moveTo>
                      <a:lnTo>
                        <a:pt x="912" y="384"/>
                      </a:lnTo>
                      <a:lnTo>
                        <a:pt x="2256" y="0"/>
                      </a:lnTo>
                      <a:lnTo>
                        <a:pt x="1728" y="1296"/>
                      </a:lnTo>
                      <a:lnTo>
                        <a:pt x="480" y="1632"/>
                      </a:lnTo>
                      <a:lnTo>
                        <a:pt x="0" y="1008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484600" y="4547160"/>
                  <a:ext cx="99720" cy="100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4247280" y="4005360"/>
                <a:ext cx="1289160" cy="1100880"/>
              </a:xfrm>
              <a:custGeom>
                <a:avLst/>
                <a:gdLst/>
                <a:ahLst/>
                <a:rect l="l" t="t" r="r" b="b"/>
                <a:pathLst>
                  <a:path w="1239" h="1057">
                    <a:moveTo>
                      <a:pt x="466" y="1057"/>
                    </a:moveTo>
                    <a:lnTo>
                      <a:pt x="40" y="852"/>
                    </a:lnTo>
                    <a:lnTo>
                      <a:pt x="0" y="489"/>
                    </a:lnTo>
                    <a:lnTo>
                      <a:pt x="1113" y="0"/>
                    </a:lnTo>
                    <a:lnTo>
                      <a:pt x="1239" y="576"/>
                    </a:lnTo>
                    <a:lnTo>
                      <a:pt x="466" y="1057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089760" y="330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13400" y="4987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22800" y="5324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75160" y="4389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13400" y="43401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00680" y="46274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54440" y="4389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BC24-1B45-4635-A10A-0EEA4F53F8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Background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4/9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Point-line d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mapping between the primal plan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the dual plan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s get mapped to lines and vice-ver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Point (a,b) in </a:t>
            </a: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新細明體"/>
              </a:rPr>
              <a:t>P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 →Line “y = -ax + b” in </a:t>
            </a: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新細明體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Line “y = ax + b” in </a:t>
            </a: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新細明體"/>
              </a:rPr>
              <a:t>P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 ← Point (a,b) in </a:t>
            </a: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新細明體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pping 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denot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pping 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denot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If u € 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P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(d), then d € 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D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(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891-8E5E-42FE-8061-B5CBDDE3BD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Background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5/9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“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Bounded Du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ctually pixelized in the frame buffers, the plane is bounded by [-1, 1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“bounding dual” of point u is defined as: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(x,y)-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B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(u) = { (dx,dy) € l , |dx| ≤ x , |dy| ≤ y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fine (x,y)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P) as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 €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x,y)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Any two line intersects in (x,y)-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BD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(P) must intersect within [-x, x]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新細明體"/>
              </a:rPr>
              <a:t>X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 [-y, y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433-420A-4DB1-B249-E69B41FDC0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Background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6/9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Bounded union le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point sets P bounded in [-x, x]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[-y, y], each intersection point q €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P) lies either in (x,2y)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D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P) or (x,2y)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D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our case, set x=1 and y=2, the tw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D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1,2)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D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P) : (px,py) → y = -px * x +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1,2)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D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P) : (px,py) → y = -py * x + 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C2F9-CB80-489F-B189-C01E9C3F31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Background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7/9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“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  <a:ea typeface="新細明體"/>
              </a:rPr>
              <a:t>Level” of a point x in </a:t>
            </a:r>
            <a:r>
              <a:rPr b="1" i="1" lang="en-US" sz="3200" spc="-1" strike="noStrike" u="sng">
                <a:solidFill>
                  <a:srgbClr val="0099cc"/>
                </a:solidFill>
                <a:uFillTx/>
                <a:latin typeface="Times New Roman"/>
                <a:ea typeface="新細明體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umber of lin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P) that lie strictly below or passing through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825640" y="3141720"/>
            <a:ext cx="3977640" cy="2736360"/>
            <a:chOff x="2825640" y="3141720"/>
            <a:chExt cx="3977640" cy="2736360"/>
          </a:xfrm>
        </p:grpSpPr>
        <p:grpSp>
          <p:nvGrpSpPr>
            <p:cNvPr id="199" name=""/>
            <p:cNvGrpSpPr/>
            <p:nvPr/>
          </p:nvGrpSpPr>
          <p:grpSpPr>
            <a:xfrm>
              <a:off x="4338360" y="3141720"/>
              <a:ext cx="2464920" cy="2736360"/>
              <a:chOff x="4338360" y="3141720"/>
              <a:chExt cx="2464920" cy="2736360"/>
            </a:xfrm>
          </p:grpSpPr>
          <p:sp>
            <p:nvSpPr>
              <p:cNvPr id="200" name=""/>
              <p:cNvSpPr/>
              <p:nvPr/>
            </p:nvSpPr>
            <p:spPr>
              <a:xfrm>
                <a:off x="4338360" y="3898080"/>
                <a:ext cx="2455560" cy="19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38360" y="3933720"/>
                <a:ext cx="2458800" cy="139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38360" y="4056840"/>
                <a:ext cx="2464920" cy="28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4338360" y="3569400"/>
                <a:ext cx="2458800" cy="123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4338360" y="3298320"/>
                <a:ext cx="2458800" cy="196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4338360" y="3141720"/>
                <a:ext cx="2453400" cy="252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4410000" y="4438440"/>
              <a:ext cx="71280" cy="7272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30720" y="4438440"/>
              <a:ext cx="71280" cy="7272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83080" y="4149360"/>
              <a:ext cx="71640" cy="7272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25640" y="4608360"/>
              <a:ext cx="71280" cy="7272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97640" y="443844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Times New Roman"/>
                  <a:ea typeface="新細明體"/>
                </a:rPr>
                <a:t>level=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25640" y="4197240"/>
              <a:ext cx="71280" cy="72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27440" y="4798800"/>
              <a:ext cx="71280" cy="72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75080" y="4509720"/>
              <a:ext cx="71280" cy="72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99080" y="4941720"/>
              <a:ext cx="71280" cy="72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97640" y="407808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level=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25640" y="4941720"/>
              <a:ext cx="71280" cy="7272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03440" y="3790800"/>
              <a:ext cx="71640" cy="72720"/>
            </a:xfrm>
            <a:prstGeom prst="ellipse">
              <a:avLst/>
            </a:prstGeom>
            <a:noFill/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99440" y="479880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cc"/>
                  </a:solidFill>
                  <a:latin typeface="Times New Roman"/>
                  <a:ea typeface="新細明體"/>
                </a:rPr>
                <a:t>level=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GM Lab, Chpeng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B1CE-8524-4776-9406-6F740BA48E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1T05:23:47Z</dcterms:created>
  <dc:creator>Administrator</dc:creator>
  <dc:description/>
  <dc:language>en-US</dc:language>
  <cp:lastModifiedBy>rekan</cp:lastModifiedBy>
  <dcterms:modified xsi:type="dcterms:W3CDTF">2003-11-03T05:11:54Z</dcterms:modified>
  <cp:revision>295</cp:revision>
  <dc:subject/>
  <dc:title>Vertex Shaders, Pixel Shaders and Shading Languages</dc:title>
</cp:coreProperties>
</file>