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B8A2-9C9C-474A-ADD5-E24A3ED1900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3F5B-8BF1-4BC8-AD22-CD624F822893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730-C8F0-4E16-84C8-7E90C8D5EEA8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6F91-35AA-4C0F-9E19-C1865A5FAFC8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D067-55E2-4EEB-92A5-EE6D8BB2F337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75C7-2E50-4A64-A8DA-5670D7F34202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874B-3CC2-48FB-BD6D-DD27370FD86F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F2F0-3AE6-4FAB-B85B-71BF78984B41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FED3-4429-4544-9C50-419AB79CA503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7CB-9CC6-4BE4-AE70-9DE197AEDF3E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7625-F965-4911-AF0D-1150FED1533C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F9CF-8E70-43AF-A7B7-EB33387D674A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B175-10CA-4195-A21D-64B5E1A139A3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27CD-C84A-4633-A3D4-CA8BDE280684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4FC-49D8-413F-AFEB-AEA099994708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61D8-1E56-4415-B4A6-00D81E749044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C33D-2DE8-4343-8C40-DBA8997444A0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468C-89B0-4D9C-BD15-C5EFE6FA2F8B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F55C-12D4-4758-947D-C05B6F2B95BE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2BC-F11E-40FF-B6A5-29B20760F27B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014-A816-4C9C-8F60-E583432FB7ED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FFE5-1665-4A19-99F3-64C0877CA734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AE2-03C8-4105-AFD1-7DB9DEB1A6C5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AE4D-E5F6-4F85-A63B-09FAEFA51137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105-3BAE-41D9-80E4-797D0BAF33EC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2A23-FC0B-44A7-ABD4-A6D2CCCDC176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B6FF-3558-49A4-9CEF-6598CCB531EA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12C5-9E6A-4809-951E-563D3217BE6C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3D8F-9B16-4752-8315-66FD07597073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F7FA-61D0-42BB-B69B-5E3DB9EE606A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BBE5-E4A0-4092-BB4E-F13BF29779F7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69C4-7BEA-49C1-959A-BF3D8D0A8686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0D9F-2CAF-4A11-A16A-2DA273D141D6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087-754B-4F1D-AA55-7B54FE4D9F9B}" type="slidenum">
              <a:rPr b="0" lang="es-ES" sz="1200" spc="-1" strike="noStrike">
                <a:solidFill>
                  <a:srgbClr val="402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892-8E45-4B80-9F64-239D408A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6EF-6EB3-4FEF-977C-0195DE9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A46-2998-42CE-817C-08985455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ABF-8BFB-4A24-9762-BD61679D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6B7B-1491-4E57-8AE6-4D812675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C063-C141-437A-BADB-1C17B56D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F02A-4E23-4E5A-B706-69D943FC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8159-7FDF-4E8E-95C6-449A0CA3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B261-A89F-4286-9CCB-485F92AA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5953-2C40-4148-8B23-5BBD7B0A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24B3-B395-46EE-9B74-BA7590C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518-082D-47AD-9C93-DA50861A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AEB5-9EB3-4F92-AACB-4ABF64CA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29C2-B289-4C0F-A9D8-F9676F9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6586-D321-454D-A74B-13ACBE24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B706-CC11-4BF6-9DD1-C105B83C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B5E9-9E63-4EF9-9D54-84176FCF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8D2-9AB0-43F6-9A7E-06A1FA51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D7C-8224-4215-8EFD-4BF6C7C5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067-B8D5-4E20-97AC-4205286E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225-43D9-4ACF-9338-A2BDDDB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E2F-D95A-4A00-8C19-5FBED1C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AEC-3C11-4690-87AE-8325003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6FE-4094-44D3-97D2-5418C21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857-85A1-456E-937E-B27EBA1F7E98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3CC3-EEBE-48B9-A4D5-1AB810E0D742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1.unavarra.es/aula-experiencia/" TargetMode="External"/><Relationship Id="rId2" Type="http://schemas.openxmlformats.org/officeDocument/2006/relationships/hyperlink" Target="http://www.unav.es/servicio/actividades/senior" TargetMode="External"/><Relationship Id="rId3" Type="http://schemas.openxmlformats.org/officeDocument/2006/relationships/hyperlink" Target="http://www.uned.es/ca-pamplona/estudios/PROGRAMA%20UNED%20SENIOR%202012-13.pdf" TargetMode="External"/><Relationship Id="rId4" Type="http://schemas.openxmlformats.org/officeDocument/2006/relationships/hyperlink" Target="http://www.bilaketa.com/es/mayor/fr_mayor_universidad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epumayores.org/" TargetMode="External"/><Relationship Id="rId2" Type="http://schemas.openxmlformats.org/officeDocument/2006/relationships/hyperlink" Target="http://www.caumas.org/" TargetMode="External"/><Relationship Id="rId3" Type="http://schemas.openxmlformats.org/officeDocument/2006/relationships/hyperlink" Target="http://aulexna.blogspot.com.e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1.unavarra.es/estudios/informacion-academica/carne-universitario/solicitud-y-renovacion?submenu=y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2130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6633"/>
                </a:solidFill>
                <a:latin typeface="Times New Roman"/>
              </a:rPr>
              <a:t>Asociación de Alumnos y Antiguos Alumnos del Aula de la Experiencia de Pamplona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4726080"/>
            <a:ext cx="65451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Times New Roman"/>
              </a:rPr>
              <a:t>José Angel Bañales  (Preside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Times New Roman"/>
              </a:rPr>
              <a:t>Rafael Lacalle  (Vicepreside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45080" y="598788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Arial"/>
              </a:rPr>
              <a:t>Pamplona, 27 de septiembre de 2012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4" name="6 Imagen" descr="AULEXNA Prueba 3 Transparente.gif"/>
          <p:cNvPicPr/>
          <p:nvPr/>
        </p:nvPicPr>
        <p:blipFill>
          <a:blip r:embed="rId1"/>
          <a:stretch/>
        </p:blipFill>
        <p:spPr>
          <a:xfrm>
            <a:off x="1798560" y="476280"/>
            <a:ext cx="5329440" cy="2665440"/>
          </a:xfrm>
          <a:prstGeom prst="rect">
            <a:avLst/>
          </a:prstGeom>
          <a:ln w="0">
            <a:noFill/>
          </a:ln>
        </p:spPr>
      </p:pic>
      <p:pic>
        <p:nvPicPr>
          <p:cNvPr id="95" name="7 Imagen" descr="UPNA cast-eusk (color) s-l.gif"/>
          <p:cNvPicPr/>
          <p:nvPr/>
        </p:nvPicPr>
        <p:blipFill>
          <a:blip r:embed="rId2"/>
          <a:stretch/>
        </p:blipFill>
        <p:spPr>
          <a:xfrm>
            <a:off x="6156360" y="2135160"/>
            <a:ext cx="203184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3.-  PUM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2000"/>
                </a:solidFill>
                <a:latin typeface="Times New Roman"/>
              </a:rPr>
              <a:t>¿Qué son los PUM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2000"/>
                </a:solidFill>
                <a:latin typeface="Times New Roman"/>
              </a:rPr>
              <a:t>¿Dónde nacen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2000"/>
                </a:solidFill>
                <a:latin typeface="Times New Roman"/>
              </a:rPr>
              <a:t>¿A qué responden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2000"/>
                </a:solidFill>
                <a:latin typeface="Times New Roman"/>
              </a:rPr>
              <a:t>¿Cuándo nacen en España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2000"/>
                </a:solidFill>
                <a:latin typeface="Times New Roman"/>
              </a:rPr>
              <a:t>Situación actual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4.-  PUM  EN NAVARRA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UPNA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iplomatura en Humanidades y Ciencias Sociales (Aula de la Experienci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4.-  PUM  EN NAVARRA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UPNA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iplomatura en Humanidades y Ciencias Sociales (Aula de la Experienci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UN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rograma Seni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4.-  PUM  EN NAVARRA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UPNA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iplomatura en Humanidades y Ciencias Sociales (Aula de la Experienci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UN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rograma Seni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UNED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rograma Seni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4.-  PUM  EN NAVARRA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UPNA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iplomatura en Humanidades y Ciencias Sociales (Aula de la Experienci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UN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rograma Seni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UNED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rograma Seni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a7f32"/>
                </a:solidFill>
                <a:uFillTx/>
                <a:latin typeface="Times New Roman"/>
                <a:hlinkClick r:id="rId4"/>
              </a:rPr>
              <a:t>Fundación Bilaketa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Universidad de Mayores Francisco Yndurá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5.- ASOCIACIONISMO PUM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AEPUM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Universidad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5.- ASOCIACIONISMO PUM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AEPUM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Universidad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CAUMAS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Estudian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5.- ASOCIACIONISMO PUM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AEPUM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Universidad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CAUMAS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Estudian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AULEXNA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Nuestra asociació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6.- AULA DE LA EXPERIENCIA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547640" y="1701720"/>
            <a:ext cx="6554880" cy="144000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Rector: D. Julio Lafuente López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8" name="7 Imagen" descr="UPNA cast-eusk (color) s-l.gif"/>
          <p:cNvPicPr/>
          <p:nvPr/>
        </p:nvPicPr>
        <p:blipFill>
          <a:blip r:embed="rId1"/>
          <a:stretch/>
        </p:blipFill>
        <p:spPr>
          <a:xfrm>
            <a:off x="3851280" y="1773360"/>
            <a:ext cx="1938240" cy="93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6.- AULA DE LA EXPERIENCIA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1547640" y="1701720"/>
            <a:ext cx="6554880" cy="144000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Rector: D. Julio Lafuente López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46200" y="4437000"/>
            <a:ext cx="6554880" cy="144000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Vicerrectorado de Proyección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Social y Cultura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Dña Eloísa Ramírez Vaquero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995640" y="3213000"/>
            <a:ext cx="1297080" cy="108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4284720" y="6021360"/>
            <a:ext cx="107928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44" name="7 Imagen" descr="UPNA cast-eusk (color) s-l.gif"/>
          <p:cNvPicPr/>
          <p:nvPr/>
        </p:nvPicPr>
        <p:blipFill>
          <a:blip r:embed="rId1"/>
          <a:stretch/>
        </p:blipFill>
        <p:spPr>
          <a:xfrm>
            <a:off x="3851280" y="1773360"/>
            <a:ext cx="193824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1.- Acceso a la Universidad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lectiv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260360" y="2997360"/>
            <a:ext cx="73440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1332000" y="1343160"/>
            <a:ext cx="7273800" cy="201600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Diplomatura de Humanidades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y Ciencias Sociales (A. de la E.)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Director: D. Jesús Mª Osés Gorráiz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Subdirectora: Dña. Cristina Zoco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067280" y="404640"/>
            <a:ext cx="1009440" cy="86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1332000" y="1343160"/>
            <a:ext cx="7273800" cy="201600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Diplomatura de Humanidades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y Ciencias Sociales (A. de la E.)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Director: D. Jesús Mª Osés Gorráiz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Subdirectora: Dña. Cristina Zoco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546200" y="4437000"/>
            <a:ext cx="6554880" cy="144000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ALUMNOS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bfae2"/>
                </a:solidFill>
                <a:latin typeface="Arial"/>
              </a:rPr>
              <a:t>Delegados de Alumnos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3997440" y="343044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284720" y="6021360"/>
            <a:ext cx="107928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67280" y="404640"/>
            <a:ext cx="1009440" cy="86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828720" y="2492280"/>
            <a:ext cx="3959280" cy="201636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Ordenación Académica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y Pedagógica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Jesús Mª  Osés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2078400">
            <a:off x="2881080" y="498240"/>
            <a:ext cx="1008000" cy="1711080"/>
          </a:xfrm>
          <a:prstGeom prst="downArrow">
            <a:avLst>
              <a:gd name="adj1" fmla="val 50000"/>
              <a:gd name="adj2" fmla="val 303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19730400">
            <a:off x="5419800" y="549360"/>
            <a:ext cx="1008000" cy="1608120"/>
          </a:xfrm>
          <a:prstGeom prst="downArrow">
            <a:avLst>
              <a:gd name="adj1" fmla="val 50000"/>
              <a:gd name="adj2" fmla="val 3035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828720" y="2492280"/>
            <a:ext cx="3959280" cy="201636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Ordenación Académica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y Pedagógica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Jesús Mª  Osés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2078400">
            <a:off x="2881080" y="498240"/>
            <a:ext cx="1008000" cy="1711080"/>
          </a:xfrm>
          <a:prstGeom prst="downArrow">
            <a:avLst>
              <a:gd name="adj1" fmla="val 50000"/>
              <a:gd name="adj2" fmla="val 303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003640" y="2492280"/>
            <a:ext cx="3959280" cy="2016360"/>
          </a:xfrm>
          <a:prstGeom prst="flowChartProcess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Organización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y de Gestión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fae2"/>
                </a:solidFill>
                <a:latin typeface="Arial"/>
              </a:rPr>
              <a:t>Jesús Casado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9730400">
            <a:off x="5419800" y="549360"/>
            <a:ext cx="1008000" cy="1608120"/>
          </a:xfrm>
          <a:prstGeom prst="downArrow">
            <a:avLst>
              <a:gd name="adj1" fmla="val 50000"/>
              <a:gd name="adj2" fmla="val 3035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7.- RECURSOS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Carnet de Alumno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ágina Web UPNA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http://www.unavarra.es/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rreo Electrónico del alumno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ortal del Estudiante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1954440" indent="-217080"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xpedi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1954440" indent="-217080"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rr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Actividades cultur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1" name="3 Imagen" descr="121347_carne.jpg"/>
          <p:cNvPicPr/>
          <p:nvPr/>
        </p:nvPicPr>
        <p:blipFill>
          <a:blip r:embed="rId2"/>
          <a:stretch/>
        </p:blipFill>
        <p:spPr>
          <a:xfrm>
            <a:off x="5364000" y="1668600"/>
            <a:ext cx="1513080" cy="968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8.- AULEXNA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3" name="Picture 3" descr="AULEXNA_Transparente"/>
          <p:cNvPicPr/>
          <p:nvPr/>
        </p:nvPicPr>
        <p:blipFill>
          <a:blip r:embed="rId1"/>
          <a:stretch/>
        </p:blipFill>
        <p:spPr>
          <a:xfrm>
            <a:off x="900000" y="2255760"/>
            <a:ext cx="7786800" cy="3036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8.- 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Fundación y Estatutos  año 2.00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or qué se cre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Fi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Junta Directiv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uota anual  10,00 Eu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sociación de la UPN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6" name="4 Imagen" descr="AULEXNA Prueba 3 Transparente.gif"/>
          <p:cNvPicPr/>
          <p:nvPr/>
        </p:nvPicPr>
        <p:blipFill>
          <a:blip r:embed="rId1"/>
          <a:stretch/>
        </p:blipFill>
        <p:spPr>
          <a:xfrm>
            <a:off x="1763640" y="333360"/>
            <a:ext cx="3095640" cy="15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8.-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Funcionamien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Junta Directiva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4 cargos + vocale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Reunión mensual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cargos semanal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Oficina abierta (231 de El Sario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orreo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ulexna@gmail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Blog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http://aulexna.blogspot.com.es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Boletín mensu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9" name="4 Imagen" descr="AULEXNA Prueba 3 Transparente.gif"/>
          <p:cNvPicPr/>
          <p:nvPr/>
        </p:nvPicPr>
        <p:blipFill>
          <a:blip r:embed="rId1"/>
          <a:stretch/>
        </p:blipFill>
        <p:spPr>
          <a:xfrm>
            <a:off x="1763640" y="333360"/>
            <a:ext cx="3095640" cy="15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8.-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8066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yuda y asesoramiento a los alumnos A. 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2" name="4 Imagen" descr="AULEXNA Prueba 3 Transparente.gif"/>
          <p:cNvPicPr/>
          <p:nvPr/>
        </p:nvPicPr>
        <p:blipFill>
          <a:blip r:embed="rId1"/>
          <a:stretch/>
        </p:blipFill>
        <p:spPr>
          <a:xfrm>
            <a:off x="1763640" y="333360"/>
            <a:ext cx="3095640" cy="15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8.-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8066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yuda y asesoramiento a los alumnos A. 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ursos de Extens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istoria de Navar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urocienc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istoria del cin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ronología filosófica siglo X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5" name="4 Imagen" descr="AULEXNA Prueba 3 Transparente.gif"/>
          <p:cNvPicPr/>
          <p:nvPr/>
        </p:nvPicPr>
        <p:blipFill>
          <a:blip r:embed="rId1"/>
          <a:stretch/>
        </p:blipFill>
        <p:spPr>
          <a:xfrm>
            <a:off x="1763640" y="333360"/>
            <a:ext cx="309564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1.- Acceso a la Universidad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lectiv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25 años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ueb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1260360" y="2997360"/>
            <a:ext cx="73440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8.-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8066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yuda y asesoramiento a los alumnos A. 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ursos de Extens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istoria de Navar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urocienc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istoria del cin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ronología filosófica siglo X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ctividades para to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harl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s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alidas cultur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8" name="4 Imagen" descr="AULEXNA Prueba 3 Transparente.gif"/>
          <p:cNvPicPr/>
          <p:nvPr/>
        </p:nvPicPr>
        <p:blipFill>
          <a:blip r:embed="rId1"/>
          <a:stretch/>
        </p:blipFill>
        <p:spPr>
          <a:xfrm>
            <a:off x="1763640" y="333360"/>
            <a:ext cx="309564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8.-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8066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2000"/>
                </a:solidFill>
                <a:latin typeface="Times New Roman"/>
              </a:rPr>
              <a:t>Para hacerse soci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Rellenar el impreso y entregarl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 delegado de cur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n la Oficin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gresar 10 euros en la cuenta o en man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Recomendamos tener dirección de Emai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1" name="4 Imagen" descr="AULEXNA Prueba 3 Transparente.gif"/>
          <p:cNvPicPr/>
          <p:nvPr/>
        </p:nvPicPr>
        <p:blipFill>
          <a:blip r:embed="rId1"/>
          <a:stretch/>
        </p:blipFill>
        <p:spPr>
          <a:xfrm>
            <a:off x="1763640" y="333360"/>
            <a:ext cx="3095640" cy="15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6633"/>
                </a:solidFill>
                <a:latin typeface="Times New Roman"/>
              </a:rPr>
              <a:t>FIN de la PRESENTACIÓN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El asociarse es volunta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Os invitamos a haceros soci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6633"/>
                </a:solidFill>
                <a:latin typeface="Times New Roman"/>
              </a:rPr>
              <a:t>FIN de la PRESENTACIÓN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El asociarse es volunta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Os invitamos a haceros soci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2000"/>
                </a:solidFill>
                <a:latin typeface="Times New Roman"/>
              </a:rPr>
              <a:t>Gracias por la atenció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1.- Acceso a la Universidad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lectiv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25 años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ueb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40 año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ida labor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260360" y="2997360"/>
            <a:ext cx="73440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1.- Acceso a la Universidad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lectiv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25 años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ueb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40 año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ida labor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45 año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ueb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260360" y="2997360"/>
            <a:ext cx="73440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Times New Roman"/>
              </a:rPr>
              <a:t>1.- Acceso a la Universidad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lectiv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25 años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ueb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40 año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ida labor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45 año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ueb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yores de 50 año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U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1260360" y="2997360"/>
            <a:ext cx="73440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2.-  ESTATUTO DEL ESTUDIANT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3286080"/>
            <a:ext cx="77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ficiale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(grado, master, doctorado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66760" y="2038320"/>
            <a:ext cx="45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2000"/>
                </a:solidFill>
                <a:latin typeface="Times New Roman"/>
              </a:rPr>
              <a:t>Alumnos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2.-  ESTATUTO DEL ESTUDIANT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3286080"/>
            <a:ext cx="77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ficiale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(grado, master, doctorado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 larga duración, formación continu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166760" y="2038320"/>
            <a:ext cx="45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2000"/>
                </a:solidFill>
                <a:latin typeface="Times New Roman"/>
              </a:rPr>
              <a:t>Alumnos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2.-  ESTATUTO DEL ESTUDIANT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3286080"/>
            <a:ext cx="77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ficiales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(grado, master, doctorado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 larga duración, formación continu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tros estudios, titulaciones propi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166760" y="2038320"/>
            <a:ext cx="45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2000"/>
                </a:solidFill>
                <a:latin typeface="Times New Roman"/>
              </a:rPr>
              <a:t>Alumnos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21:15:47Z</dcterms:created>
  <dc:creator>Rafael Lacalle Vicente</dc:creator>
  <dc:description/>
  <dc:language>en-US</dc:language>
  <cp:lastModifiedBy>Rafael Lacalle</cp:lastModifiedBy>
  <cp:lastPrinted>1899-12-30T00:00:00Z</cp:lastPrinted>
  <dcterms:modified xsi:type="dcterms:W3CDTF">2012-09-28T08:57:34Z</dcterms:modified>
  <cp:revision>21</cp:revision>
  <dc:subject/>
  <dc:title>Asociación de Alumnos y Antiguos Alumnos del Aula de la Experiencia de Pamplo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