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357-40D7-40B7-8A08-3A92917F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4E9-2D38-4AA8-80D5-61AB12E0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DEA31-B95D-4EB5-A191-C8FBAF18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69DE8-91FA-4EC4-92B2-77914254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70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349F7-1F7E-4D28-9EF7-6C4F1135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3F023-291A-4C57-A7F7-9333792D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2BF59-6E99-4352-90E8-83EC7076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00536-14A5-4B6F-A431-147407AF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6397A7-FC69-4FFA-91C0-C18E33DF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870EE0-2FF1-49D8-A441-DBBBA721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7E76F2-F2CC-49C4-8EFE-11AF4254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8DEE3-9CE4-46DD-92E1-B010122A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C43C-8B80-4ED1-ADE5-F8995C54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DAD25-09BE-4F8D-912D-A5FBBBCB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F5A14-3562-4397-87ED-43290917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C7ACDE-1379-4CAE-AA66-D5C54E20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10E430-6715-4608-AD23-A0D0FDB8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70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8B026-3442-4962-9CCB-4051B2F7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0CF2A-449E-47E6-99D8-0D33183E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0B130-539A-4077-BBC3-FF9AD35C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903D1-1D64-417A-8939-E50D845A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4D574-C58E-45CA-87DC-B6AAD3D5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2549B-9AD6-4E61-B7D9-52C23000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C6A-C7AA-4E64-B660-43878C0E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41EEEE-AEEE-4295-986A-0EC048B3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F2ED1F-E197-407F-91E0-DB1B8B66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C35AC5-42FE-45C4-BC27-94B5B6AF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5B917A-AA1B-42DD-AAC1-232CA463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117439-4CA5-43EA-99EC-8232F6C5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176597-26E9-4DB6-9C66-07B6CE2B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70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328A91-BEA2-4477-9083-E5299546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B79BFD-89CE-4848-A211-CC04F6B4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4C25C8-C8DB-482B-9796-71B866A0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5209CE-9889-441E-8A39-A1B972F3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87572-C158-4A4A-85D9-68038CEF2F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7FDE78-37F7-4DFF-B54B-A3CC8E5A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708C2A-CBCF-4C72-8DBA-BD6AA8E6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FE4B60-5A9A-4C97-ABC4-4425A686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67C7F-91AA-4401-938E-8281E82A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E3A05E-BA17-4196-A886-703B7C03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CE7044-5B47-4C46-B872-E16FEF42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B6F43-FD9A-4C18-830A-93B1634F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F1F3C7-E47C-4E4E-BB5A-E4B2F844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70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27EE0-873B-4B1C-AD0D-63568646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0320E-D2F9-4877-AC2A-C5C274B6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1E217-7258-459E-8633-48B5370C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C12193-D3C1-4C0F-B09F-11323137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9DC89-C611-4D15-95A8-EE189A9D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37FA19-8170-4017-A7FE-6CDD7A4E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041B4B-F9A7-467F-A533-35B921B5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CB4BF-518E-49D7-88E9-66F300E1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2FAB3-5D1D-4568-A9D7-33B1A398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AB16E-3BAA-4751-A4C8-B0600631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30A2C-3AF7-43D6-8851-5BBD2C05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70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CC828-B4AB-472D-BE93-E49F9E3B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3757F-5EE5-42BE-BE2E-72EC0493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C19-07B2-4E51-88C3-6692446F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2275F-E869-4EA8-88C1-BADE0627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256FE-20D5-4F99-B063-FE26EF75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8A7A3-0F3D-4B67-B68F-537B8518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1DE25-154C-4918-B8B7-054D4EE6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B01D7-ADDF-480F-A4AB-A686D4D01D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1A6-9DC5-428B-BC0B-CABDF9FF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70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867747-45CA-47F4-B018-489E8349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5E776A-43AC-4484-97CF-63746EB9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06527B-00A2-420B-95CE-36D61C7E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C061-14EE-444D-AA80-36833612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A035EE-C0DB-4CB2-98E0-9090C73F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86AC3A-582E-46E6-BF45-87F04C00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70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C69C80-984F-4094-8426-3E1ABAC9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9FAFF7-8FC8-4969-A5F4-2BE053DF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54BB3E-5EE0-4248-B2B5-9406B023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47AFDF-0525-4991-86F6-F1A46A82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591359-3B50-4D12-99B7-91DD19BD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AC4196-1D25-4D0D-9647-4B82FB6C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2C2621-0DD7-42C3-BD4E-164E5248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9D8F5E-50E4-4E56-9768-045DC139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27B-59D1-4D4C-8A61-B8748932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DC8BCA-88EA-4047-8B2A-BCA20A09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1C723F-0097-4F08-99AE-9EBC5189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925BC5-923A-4C51-86D1-793D5C9B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F8A56C-4777-4D99-9992-3CD4235D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70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AC4574-2618-48DF-8A8E-6AAFA96A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2B225B-52E0-4234-9306-2645C25B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A9816B-6EE3-4FFA-88AB-40F3DCE8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C597A8-28CA-4E00-A877-F64E4F59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D52CB3-6040-4D6E-A241-47205B4F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CCA581-7234-47B2-88D5-EE7BCD1B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0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024-3B79-4F95-A3E5-E754294D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5584EF-3AA5-4679-9DDC-60F09B77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7C8006-E7F3-4664-9B9D-3158C590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F2B904-0E81-42C7-8301-0435C760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492CF0-C439-4B12-8753-334830FD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A2F18E-8F72-4B79-B7A5-CA02C34F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906A18-29F5-40C1-8D3F-54A4DE26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70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0EC3C6-453C-482A-A4CC-3CD5BEA6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B7779A-9202-421A-9BCE-7A0054AB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21FEDE-2275-423D-AC4E-B25B26E3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C60605-FFD4-4C4A-A0CC-6AB4C3F2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1E6-3629-41E1-9C62-474DF78B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056FF1-24DE-4CF5-8783-39869A49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AAFE23-5826-488C-86C2-022C6A56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31960C-F166-47CC-B1D6-4DAFDFC4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21E441-986E-4B6A-A51C-E0153E82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8B4EDA-F404-4E63-A6A7-81D94134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61A2E3-4789-4254-83D1-6860672E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A6A43D-7E40-4515-AF0A-EB4F8F1A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BA7B67-1246-4B59-8934-76DE2804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70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EFE4D0-91DE-4BA2-A125-F81C54AA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759AE7-6FA3-406C-8D4C-8CD79FD5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CF5-E3B1-4895-A719-DD213639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3B3CC1-374C-4FEA-88E8-34824671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E253F5-E2CB-4C42-A192-D1B64ED3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88BA29-F46C-48A9-91FF-6E585DF2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149C54-4F13-4479-B14A-2972E08B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176CE1-1E0C-4561-90DD-4611B345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8324FA-826F-4A50-BA88-87E6A228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D045B3-6144-4AB9-892C-E48B88D8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BE1AF8-1E56-4D4F-9CA7-74A31210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80EDC1-83DF-4B53-8E43-C09E2CBE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6A4F82-B9AB-43AA-951E-F7449DC2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8B5-B706-483A-BA1E-35737F79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70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E0E5A9-70E9-481F-9B1F-DA5BC673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9BC8D9-E5DF-4427-A8E1-D5C056B3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7F05E3-A0C0-4EB0-B2C3-18228ED9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2BB3F2-4E33-4471-BE4D-BDA08E29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5555A3-CEDE-4AA8-BBAC-B657D5DC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88C7BD-034A-496B-8E3A-A74F3EB2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21F9AC-996F-4007-A5D5-A08736FA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BFA64-94FC-4C1A-8A92-9F4E1D9F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C6B30-3DD3-4858-AA05-564C7854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7917F-B86B-4B34-A76E-7D171816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bbb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9bbb5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bbb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9bbb59"/>
                </a:solidFill>
                <a:latin typeface="Calibri"/>
              </a:rPr>
              <a:t>Grupo de Trabalho Electric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7DC2-3846-45B0-ACEF-5289CB04CE88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magem 6" descr="logoapren.JPG"/>
          <p:cNvPicPr/>
          <p:nvPr/>
        </p:nvPicPr>
        <p:blipFill>
          <a:blip r:embed="rId2"/>
          <a:stretch/>
        </p:blipFill>
        <p:spPr>
          <a:xfrm>
            <a:off x="6500880" y="6215040"/>
            <a:ext cx="2643120" cy="642960"/>
          </a:xfrm>
          <a:prstGeom prst="rect">
            <a:avLst/>
          </a:prstGeom>
          <a:ln w="0">
            <a:noFill/>
          </a:ln>
        </p:spPr>
      </p:pic>
      <p:sp>
        <p:nvSpPr>
          <p:cNvPr id="6" name="Conexão recta 10"/>
          <p:cNvSpPr/>
          <p:nvPr/>
        </p:nvSpPr>
        <p:spPr>
          <a:xfrm>
            <a:off x="428760" y="1000080"/>
            <a:ext cx="8286480" cy="1800"/>
          </a:xfrm>
          <a:prstGeom prst="line">
            <a:avLst/>
          </a:prstGeom>
          <a:ln w="316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Imagem 6" descr="logoapren.JPG"/>
          <p:cNvPicPr/>
          <p:nvPr/>
        </p:nvPicPr>
        <p:blipFill>
          <a:blip r:embed="rId2"/>
          <a:stretch/>
        </p:blipFill>
        <p:spPr>
          <a:xfrm>
            <a:off x="6500880" y="6215040"/>
            <a:ext cx="2643120" cy="642960"/>
          </a:xfrm>
          <a:prstGeom prst="rect">
            <a:avLst/>
          </a:prstGeom>
          <a:ln w="0">
            <a:noFill/>
          </a:ln>
        </p:spPr>
      </p:pic>
      <p:sp>
        <p:nvSpPr>
          <p:cNvPr id="386" name="Conexão recta 10"/>
          <p:cNvSpPr/>
          <p:nvPr/>
        </p:nvSpPr>
        <p:spPr>
          <a:xfrm>
            <a:off x="428760" y="1000080"/>
            <a:ext cx="8286480" cy="1800"/>
          </a:xfrm>
          <a:prstGeom prst="line">
            <a:avLst/>
          </a:prstGeom>
          <a:ln w="316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bbb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9bbb5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FC17-02AD-400C-ADC3-8A9D53CD70EA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Imagem 6" descr="logoapren.JPG"/>
          <p:cNvPicPr/>
          <p:nvPr/>
        </p:nvPicPr>
        <p:blipFill>
          <a:blip r:embed="rId2"/>
          <a:stretch/>
        </p:blipFill>
        <p:spPr>
          <a:xfrm>
            <a:off x="6500880" y="6215040"/>
            <a:ext cx="2643120" cy="642960"/>
          </a:xfrm>
          <a:prstGeom prst="rect">
            <a:avLst/>
          </a:prstGeom>
          <a:ln w="0">
            <a:noFill/>
          </a:ln>
        </p:spPr>
      </p:pic>
      <p:sp>
        <p:nvSpPr>
          <p:cNvPr id="429" name="Conexão recta 10"/>
          <p:cNvSpPr/>
          <p:nvPr/>
        </p:nvSpPr>
        <p:spPr>
          <a:xfrm>
            <a:off x="428760" y="1000080"/>
            <a:ext cx="8286480" cy="1800"/>
          </a:xfrm>
          <a:prstGeom prst="line">
            <a:avLst/>
          </a:prstGeom>
          <a:ln w="316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bbb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9bbb5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7022-2EDC-4EC0-BF86-E180FE693F4A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Imagem 6" descr="logoapren.JPG"/>
          <p:cNvPicPr/>
          <p:nvPr/>
        </p:nvPicPr>
        <p:blipFill>
          <a:blip r:embed="rId2"/>
          <a:stretch/>
        </p:blipFill>
        <p:spPr>
          <a:xfrm>
            <a:off x="6500880" y="6215040"/>
            <a:ext cx="2643120" cy="642960"/>
          </a:xfrm>
          <a:prstGeom prst="rect">
            <a:avLst/>
          </a:prstGeom>
          <a:ln w="0">
            <a:noFill/>
          </a:ln>
        </p:spPr>
      </p:pic>
      <p:sp>
        <p:nvSpPr>
          <p:cNvPr id="472" name="Conexão recta 10"/>
          <p:cNvSpPr/>
          <p:nvPr/>
        </p:nvSpPr>
        <p:spPr>
          <a:xfrm>
            <a:off x="428760" y="1000080"/>
            <a:ext cx="8286480" cy="1800"/>
          </a:xfrm>
          <a:prstGeom prst="line">
            <a:avLst/>
          </a:prstGeom>
          <a:ln w="316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bbb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9bbb5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3BD8-8077-45C6-83CD-D828346EE684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m 6" descr="logoapren.JPG"/>
          <p:cNvPicPr/>
          <p:nvPr/>
        </p:nvPicPr>
        <p:blipFill>
          <a:blip r:embed="rId2"/>
          <a:stretch/>
        </p:blipFill>
        <p:spPr>
          <a:xfrm>
            <a:off x="6500880" y="6215040"/>
            <a:ext cx="2643120" cy="642960"/>
          </a:xfrm>
          <a:prstGeom prst="rect">
            <a:avLst/>
          </a:prstGeom>
          <a:ln w="0">
            <a:noFill/>
          </a:ln>
        </p:spPr>
      </p:pic>
      <p:sp>
        <p:nvSpPr>
          <p:cNvPr id="44" name="Conexão recta 10"/>
          <p:cNvSpPr/>
          <p:nvPr/>
        </p:nvSpPr>
        <p:spPr>
          <a:xfrm>
            <a:off x="428760" y="1000080"/>
            <a:ext cx="8286480" cy="1800"/>
          </a:xfrm>
          <a:prstGeom prst="line">
            <a:avLst/>
          </a:prstGeom>
          <a:ln w="316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bbb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9bbb5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79BD-8EF5-4ADF-B36A-3F75EAADC594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m 6" descr="logoapren.JPG"/>
          <p:cNvPicPr/>
          <p:nvPr/>
        </p:nvPicPr>
        <p:blipFill>
          <a:blip r:embed="rId2"/>
          <a:stretch/>
        </p:blipFill>
        <p:spPr>
          <a:xfrm>
            <a:off x="6500880" y="6215040"/>
            <a:ext cx="2643120" cy="642960"/>
          </a:xfrm>
          <a:prstGeom prst="rect">
            <a:avLst/>
          </a:prstGeom>
          <a:ln w="0">
            <a:noFill/>
          </a:ln>
        </p:spPr>
      </p:pic>
      <p:sp>
        <p:nvSpPr>
          <p:cNvPr id="86" name="Conexão recta 10"/>
          <p:cNvSpPr/>
          <p:nvPr/>
        </p:nvSpPr>
        <p:spPr>
          <a:xfrm>
            <a:off x="428760" y="1000080"/>
            <a:ext cx="8286480" cy="1800"/>
          </a:xfrm>
          <a:prstGeom prst="line">
            <a:avLst/>
          </a:prstGeom>
          <a:ln w="316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bbb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9bbb5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bbb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9bbb59"/>
                </a:solidFill>
                <a:latin typeface="Calibri"/>
              </a:rPr>
              <a:t>Grupo de Trabalho da Electricidade de 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m 6" descr="logoapren.JPG"/>
          <p:cNvPicPr/>
          <p:nvPr/>
        </p:nvPicPr>
        <p:blipFill>
          <a:blip r:embed="rId2"/>
          <a:stretch/>
        </p:blipFill>
        <p:spPr>
          <a:xfrm>
            <a:off x="6500880" y="6215040"/>
            <a:ext cx="2643120" cy="642960"/>
          </a:xfrm>
          <a:prstGeom prst="rect">
            <a:avLst/>
          </a:prstGeom>
          <a:ln w="0">
            <a:noFill/>
          </a:ln>
        </p:spPr>
      </p:pic>
      <p:sp>
        <p:nvSpPr>
          <p:cNvPr id="128" name="Conexão recta 10"/>
          <p:cNvSpPr/>
          <p:nvPr/>
        </p:nvSpPr>
        <p:spPr>
          <a:xfrm>
            <a:off x="428760" y="1000080"/>
            <a:ext cx="8286480" cy="1800"/>
          </a:xfrm>
          <a:prstGeom prst="line">
            <a:avLst/>
          </a:prstGeom>
          <a:ln w="316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bbb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9bbb5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5A08-9E4C-411C-9341-65FDB16FD2E4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magem 6" descr="logoapren.JPG"/>
          <p:cNvPicPr/>
          <p:nvPr/>
        </p:nvPicPr>
        <p:blipFill>
          <a:blip r:embed="rId2"/>
          <a:stretch/>
        </p:blipFill>
        <p:spPr>
          <a:xfrm>
            <a:off x="6500880" y="6215040"/>
            <a:ext cx="2643120" cy="642960"/>
          </a:xfrm>
          <a:prstGeom prst="rect">
            <a:avLst/>
          </a:prstGeom>
          <a:ln w="0">
            <a:noFill/>
          </a:ln>
        </p:spPr>
      </p:pic>
      <p:sp>
        <p:nvSpPr>
          <p:cNvPr id="171" name="Conexão recta 10"/>
          <p:cNvSpPr/>
          <p:nvPr/>
        </p:nvSpPr>
        <p:spPr>
          <a:xfrm>
            <a:off x="428760" y="1000080"/>
            <a:ext cx="8286480" cy="1800"/>
          </a:xfrm>
          <a:prstGeom prst="line">
            <a:avLst/>
          </a:prstGeom>
          <a:ln w="316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bbb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9bbb5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6F47-9F5E-4749-9AD2-D23FD48DDE13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Imagem 6" descr="logoapren.JPG"/>
          <p:cNvPicPr/>
          <p:nvPr/>
        </p:nvPicPr>
        <p:blipFill>
          <a:blip r:embed="rId2"/>
          <a:stretch/>
        </p:blipFill>
        <p:spPr>
          <a:xfrm>
            <a:off x="6500880" y="6215040"/>
            <a:ext cx="2643120" cy="642960"/>
          </a:xfrm>
          <a:prstGeom prst="rect">
            <a:avLst/>
          </a:prstGeom>
          <a:ln w="0">
            <a:noFill/>
          </a:ln>
        </p:spPr>
      </p:pic>
      <p:sp>
        <p:nvSpPr>
          <p:cNvPr id="214" name="Conexão recta 10"/>
          <p:cNvSpPr/>
          <p:nvPr/>
        </p:nvSpPr>
        <p:spPr>
          <a:xfrm>
            <a:off x="428760" y="1000080"/>
            <a:ext cx="8286480" cy="1800"/>
          </a:xfrm>
          <a:prstGeom prst="line">
            <a:avLst/>
          </a:prstGeom>
          <a:ln w="316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bbb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9bbb5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175A-F6C5-4DDB-B1FE-28B7CCE02D5A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Imagem 6" descr="logoapren.JPG"/>
          <p:cNvPicPr/>
          <p:nvPr/>
        </p:nvPicPr>
        <p:blipFill>
          <a:blip r:embed="rId2"/>
          <a:stretch/>
        </p:blipFill>
        <p:spPr>
          <a:xfrm>
            <a:off x="6500880" y="6215040"/>
            <a:ext cx="2643120" cy="642960"/>
          </a:xfrm>
          <a:prstGeom prst="rect">
            <a:avLst/>
          </a:prstGeom>
          <a:ln w="0">
            <a:noFill/>
          </a:ln>
        </p:spPr>
      </p:pic>
      <p:sp>
        <p:nvSpPr>
          <p:cNvPr id="257" name="Conexão recta 10"/>
          <p:cNvSpPr/>
          <p:nvPr/>
        </p:nvSpPr>
        <p:spPr>
          <a:xfrm>
            <a:off x="428760" y="1000080"/>
            <a:ext cx="8286480" cy="1800"/>
          </a:xfrm>
          <a:prstGeom prst="line">
            <a:avLst/>
          </a:prstGeom>
          <a:ln w="316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bbb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9bbb5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965B-9570-4E26-AA0A-20C8A31D646C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Imagem 6" descr="logoapren.JPG"/>
          <p:cNvPicPr/>
          <p:nvPr/>
        </p:nvPicPr>
        <p:blipFill>
          <a:blip r:embed="rId2"/>
          <a:stretch/>
        </p:blipFill>
        <p:spPr>
          <a:xfrm>
            <a:off x="6500880" y="6215040"/>
            <a:ext cx="2643120" cy="642960"/>
          </a:xfrm>
          <a:prstGeom prst="rect">
            <a:avLst/>
          </a:prstGeom>
          <a:ln w="0">
            <a:noFill/>
          </a:ln>
        </p:spPr>
      </p:pic>
      <p:sp>
        <p:nvSpPr>
          <p:cNvPr id="300" name="Conexão recta 10"/>
          <p:cNvSpPr/>
          <p:nvPr/>
        </p:nvSpPr>
        <p:spPr>
          <a:xfrm>
            <a:off x="428760" y="1000080"/>
            <a:ext cx="8286480" cy="1800"/>
          </a:xfrm>
          <a:prstGeom prst="line">
            <a:avLst/>
          </a:prstGeom>
          <a:ln w="316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bbb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9bbb5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06F0-E6EC-4373-B0B1-B65877695784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m 6" descr="logoapren.JPG"/>
          <p:cNvPicPr/>
          <p:nvPr/>
        </p:nvPicPr>
        <p:blipFill>
          <a:blip r:embed="rId2"/>
          <a:stretch/>
        </p:blipFill>
        <p:spPr>
          <a:xfrm>
            <a:off x="6500880" y="6215040"/>
            <a:ext cx="2643120" cy="642960"/>
          </a:xfrm>
          <a:prstGeom prst="rect">
            <a:avLst/>
          </a:prstGeom>
          <a:ln w="0">
            <a:noFill/>
          </a:ln>
        </p:spPr>
      </p:pic>
      <p:sp>
        <p:nvSpPr>
          <p:cNvPr id="343" name="Conexão recta 10"/>
          <p:cNvSpPr/>
          <p:nvPr/>
        </p:nvSpPr>
        <p:spPr>
          <a:xfrm>
            <a:off x="428760" y="1000080"/>
            <a:ext cx="8286480" cy="1800"/>
          </a:xfrm>
          <a:prstGeom prst="line">
            <a:avLst/>
          </a:prstGeom>
          <a:ln w="316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bbb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9bbb5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AAB7-40F2-42CB-857C-6DD375F7B4A5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6600"/>
                </a:solidFill>
                <a:latin typeface="Calibri"/>
              </a:rPr>
              <a:t>Decomposição da factura de electricidade de um consumidor doméstico em 2013</a:t>
            </a: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9bbb59"/>
                </a:solidFill>
                <a:latin typeface="Calibri"/>
              </a:rPr>
              <a:t>Consumidor em BTN simples com potência contratada de 6,9 k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CaixaDeTexto 3"/>
          <p:cNvSpPr/>
          <p:nvPr/>
        </p:nvSpPr>
        <p:spPr>
          <a:xfrm>
            <a:off x="324000" y="5516640"/>
            <a:ext cx="86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Nota: os cálculos que resultaram nestes valores foram validados pela E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Gráfico 4" descr=""/>
          <p:cNvPicPr/>
          <p:nvPr/>
        </p:nvPicPr>
        <p:blipFill>
          <a:blip r:embed="rId1"/>
          <a:stretch/>
        </p:blipFill>
        <p:spPr>
          <a:xfrm>
            <a:off x="579600" y="182520"/>
            <a:ext cx="7984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Gráfico 2" descr=""/>
          <p:cNvPicPr/>
          <p:nvPr/>
        </p:nvPicPr>
        <p:blipFill>
          <a:blip r:embed="rId1"/>
          <a:stretch/>
        </p:blipFill>
        <p:spPr>
          <a:xfrm>
            <a:off x="2243160" y="1852560"/>
            <a:ext cx="46576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Gráfico 2" descr=""/>
          <p:cNvPicPr/>
          <p:nvPr/>
        </p:nvPicPr>
        <p:blipFill>
          <a:blip r:embed="rId1"/>
          <a:stretch/>
        </p:blipFill>
        <p:spPr>
          <a:xfrm>
            <a:off x="2273400" y="1852560"/>
            <a:ext cx="45972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Gráfico 4" descr=""/>
          <p:cNvPicPr/>
          <p:nvPr/>
        </p:nvPicPr>
        <p:blipFill>
          <a:blip r:embed="rId1"/>
          <a:stretch/>
        </p:blipFill>
        <p:spPr>
          <a:xfrm>
            <a:off x="2273400" y="1316160"/>
            <a:ext cx="459720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Gráfico 4" descr=""/>
          <p:cNvPicPr/>
          <p:nvPr/>
        </p:nvPicPr>
        <p:blipFill>
          <a:blip r:embed="rId1"/>
          <a:stretch/>
        </p:blipFill>
        <p:spPr>
          <a:xfrm>
            <a:off x="2109960" y="1316160"/>
            <a:ext cx="492408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Gráfico 2" descr=""/>
          <p:cNvPicPr/>
          <p:nvPr/>
        </p:nvPicPr>
        <p:blipFill>
          <a:blip r:embed="rId1"/>
          <a:stretch/>
        </p:blipFill>
        <p:spPr>
          <a:xfrm>
            <a:off x="165240" y="1255680"/>
            <a:ext cx="4705200" cy="4035600"/>
          </a:xfrm>
          <a:prstGeom prst="rect">
            <a:avLst/>
          </a:prstGeom>
          <a:ln w="0">
            <a:noFill/>
          </a:ln>
        </p:spPr>
      </p:pic>
      <p:pic>
        <p:nvPicPr>
          <p:cNvPr id="523" name="Gráfico 3" descr=""/>
          <p:cNvPicPr/>
          <p:nvPr/>
        </p:nvPicPr>
        <p:blipFill>
          <a:blip r:embed="rId2"/>
          <a:stretch/>
        </p:blipFill>
        <p:spPr>
          <a:xfrm>
            <a:off x="4992840" y="3200400"/>
            <a:ext cx="4054320" cy="2828880"/>
          </a:xfrm>
          <a:prstGeom prst="rect">
            <a:avLst/>
          </a:prstGeom>
          <a:ln w="0">
            <a:noFill/>
          </a:ln>
        </p:spPr>
      </p:pic>
      <p:sp>
        <p:nvSpPr>
          <p:cNvPr id="524" name="CaixaDeTexto 4"/>
          <p:cNvSpPr/>
          <p:nvPr/>
        </p:nvSpPr>
        <p:spPr>
          <a:xfrm>
            <a:off x="5148360" y="1773360"/>
            <a:ext cx="3671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Nota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A divisão dos pagamentos à PRE Renovável é função não só do custo por tecnologia mas também da quantidade de electricidade produzida. Por exemplo as eólicas pesam 54% nos apoios mas 69% na produ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ângulo 5"/>
          <p:cNvSpPr/>
          <p:nvPr/>
        </p:nvSpPr>
        <p:spPr>
          <a:xfrm>
            <a:off x="4952880" y="1628640"/>
            <a:ext cx="4140360" cy="4464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1:39:18Z</dcterms:created>
  <dc:creator>APREN</dc:creator>
  <dc:description/>
  <dc:language>en-US</dc:language>
  <cp:lastModifiedBy>Isabel Cancela de Abreu</cp:lastModifiedBy>
  <dcterms:modified xsi:type="dcterms:W3CDTF">2012-12-17T11:51:16Z</dcterms:modified>
  <cp:revision>158</cp:revision>
  <dc:subject/>
  <dc:title>Diapositivo 1</dc:title>
</cp:coreProperties>
</file>