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9.wav" ContentType="audio/x-wav"/>
  <Override PartName="/ppt/media/image4.png" ContentType="image/png"/>
  <Override PartName="/ppt/media/S8.wav" ContentType="audio/x-wav"/>
  <Override PartName="/ppt/media/image3.png" ContentType="image/png"/>
  <Override PartName="/ppt/media/S7.wav" ContentType="audio/x-wav"/>
  <Override PartName="/ppt/media/image2.png" ContentType="image/png"/>
  <Override PartName="/ppt/media/S6.wav" ContentType="audio/x-wav"/>
  <Override PartName="/ppt/media/image1.png" ContentType="image/png"/>
  <Override PartName="/ppt/media/S5.wav" ContentType="audio/x-wav"/>
  <Override PartName="/ppt/media/S4.wav" ContentType="audio/x-wav"/>
  <Override PartName="/ppt/media/S19.wav" ContentType="audio/x-wav"/>
  <Override PartName="/ppt/media/S21.wav" ContentType="audio/x-wav"/>
  <Override PartName="/ppt/media/image5.gif" ContentType="image/gif"/>
  <Override PartName="/ppt/media/S13.wav" ContentType="audio/x-wav"/>
  <Override PartName="/ppt/media/S15.wav" ContentType="audio/x-wav"/>
  <Override PartName="/ppt/media/S14.wav" ContentType="audio/x-wav"/>
  <Override PartName="/ppt/media/S12.wav" ContentType="audio/x-wav"/>
  <Override PartName="/ppt/media/S11.wav" ContentType="audio/x-wav"/>
  <Override PartName="/ppt/media/S10.wav" ContentType="audio/x-wav"/>
  <Override PartName="/ppt/media/S16.wav" ContentType="audio/x-wav"/>
  <Override PartName="/ppt/media/S1.wav" ContentType="audio/x-wav"/>
  <Override PartName="/ppt/media/S17.wav" ContentType="audio/x-wav"/>
  <Override PartName="/ppt/media/S2.wav" ContentType="audio/x-wav"/>
  <Override PartName="/ppt/media/S3.wav" ContentType="audio/x-wav"/>
  <Override PartName="/ppt/media/S20.wav" ContentType="audio/x-wav"/>
  <Override PartName="/ppt/media/S18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7120" y="700200"/>
            <a:ext cx="4879800" cy="365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4240"/>
            <a:ext cx="297036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760" y="9264240"/>
            <a:ext cx="297000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87F2-247B-4CD2-B275-660B2ABDF31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C423-85D2-4F77-9BA8-3806FE7984F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EAA3-140B-4030-830C-0A25B95FB61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6819-9194-48CF-B225-E6DDBCEB2F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18C9-C562-45E0-B90E-619159AA3A1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DE3F-8E6E-4E8D-AE9C-478A2FDD905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BE2D-DFCB-4DF1-AB14-2A75FB9F407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D643-D8EC-4C62-9D51-E260D291C77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9A40-5569-4F4E-9589-0C4FCFEEC3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19A8-C29F-4AE7-A89D-62CBE8A325A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B064-8538-43DF-BAC5-1F0C2CEBD3D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4CB4-77D1-4BF1-A59B-C60C9856259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74EE-1506-4352-B981-5036DE171BD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9AB3-13CF-4F09-AE4D-D16DE8C2BC7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A046-E0E7-43C5-922E-C1DC7B17EC2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7080-B314-491D-8804-889D649B1EC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E950-657A-47A0-912B-E5818A2732D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AD18-A832-4971-AA70-C0D054611B7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C91F-D9D4-43CF-87E9-9B6564E4D03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FA70-59B7-43C5-BD0C-A36783D72B4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E5C2-438D-46D6-93FF-42A559B9CCA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9264600"/>
            <a:ext cx="2970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5AFE-29E5-4B0C-85DC-40B4C45D3CB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87480" y="7002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040" y="4670280"/>
            <a:ext cx="5025960" cy="43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538-4D9A-4D59-862F-0ADB1EE6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5DE-6BF8-4FAE-9714-54E4A9B8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788-B69D-4E39-B55C-59E1F807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15A-3EFA-44D6-96C7-B8953FFD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BB5-6C1B-421C-A41F-4A047130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15C-E7FE-4C80-B5D9-A2F414EC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B6A-F27C-4A5B-B39B-F3298C7A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EA05-6329-4A50-B857-75E491AE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F6E-66EC-4304-B347-6E028690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F94-E2A5-4541-B5DA-E2761211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8DA-5D7E-47D3-B729-CAFA4480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516-DF00-4CDF-B208-E2A7E228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23EC-774B-45EF-899C-33B85BE764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S1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S10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ymantec/" TargetMode="External"/><Relationship Id="rId2" Type="http://schemas.openxmlformats.org/officeDocument/2006/relationships/hyperlink" Target="http://www.antivirus.com/" TargetMode="External"/><Relationship Id="rId3" Type="http://schemas.openxmlformats.org/officeDocument/2006/relationships/audio" Target="../media/S11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S1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S13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S14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S15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S16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S17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quatrocantos.com/lendas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S18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forascammer.blogspot.com.br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S19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S20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S21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S3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S4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S5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6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7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8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9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189000"/>
            <a:ext cx="882000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pt-BR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ocê sabe usar seu </a:t>
            </a:r>
            <a:r>
              <a:rPr b="0" i="1" lang="pt-BR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-mail</a:t>
            </a:r>
            <a:r>
              <a:rPr b="0" lang="pt-BR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</a:t>
            </a:r>
            <a:br>
              <a:rPr sz="6000"/>
            </a:br>
            <a:br>
              <a:rPr sz="6000"/>
            </a:br>
            <a:r>
              <a:rPr b="0" lang="pt-BR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Tem certeza?</a:t>
            </a:r>
            <a:br>
              <a:rPr sz="6000"/>
            </a:br>
            <a:br>
              <a:rPr sz="6000"/>
            </a:br>
            <a:r>
              <a:rPr b="0" lang="pt-BR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Então, vejamos...</a:t>
            </a:r>
            <a:br>
              <a:rPr sz="6000"/>
            </a:br>
            <a:r>
              <a:rPr b="0" lang="pt-BR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pt-B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igue o 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♪</a:t>
            </a:r>
            <a:r>
              <a:rPr b="0" lang="pt-B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m 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♫</a:t>
            </a:r>
            <a:r>
              <a:rPr b="0" lang="pt-B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6637320" y="1773360"/>
            <a:ext cx="2390760" cy="3265200"/>
          </a:xfrm>
          <a:prstGeom prst="rect">
            <a:avLst/>
          </a:prstGeom>
          <a:ln w="0">
            <a:noFill/>
          </a:ln>
        </p:spPr>
      </p:pic>
    </p:spTree>
  </p:cSld>
  <p:transition>
    <p:pull dir="ru"/>
    <p:sndAc>
      <p:stSnd>
        <p:snd r:embed="rId2" name="S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</a:t>
            </a:r>
            <a:r>
              <a:rPr b="0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istem os vírus: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Good Times”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Bad Times”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Sapinhos Budweiser”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4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0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UNCA</a:t>
            </a:r>
            <a:r>
              <a:rPr b="0" lang="pt-B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mas NUNCA mesmo!)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vi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alquer 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sagem alertando sobre vírus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quiser enviar,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firme antes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s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br>
              <a:rPr sz="3200"/>
            </a:b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ttp://www.symantec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</a:t>
            </a:r>
            <a:br>
              <a:rPr sz="3200"/>
            </a:b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http://www.antivirus.com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mbre-se, alguns vírus podem infectar a máquina só depois de serem lidos no programa Outloo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5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3" name="S11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O REPASSAR UMA MENSAGEM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</a:t>
            </a:r>
            <a:r>
              <a:rPr b="0" lang="pt-BR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ucado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or favor!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re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queles 8 quilômetros de </a:t>
            </a:r>
            <a:r>
              <a:rPr b="0" lang="pt-B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beçalhos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todos que a receberam. </a:t>
            </a:r>
            <a:r>
              <a:rPr b="0" lang="pt-B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ixe apenas 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conteúdo da mensagem.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ÃO envie de volta 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quem te mandou...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 já le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6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2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04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m mulheres sofrendo no Afeganistão!</a:t>
            </a:r>
            <a:br>
              <a:rPr sz="3000"/>
            </a:b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finanças de diversas entidades estão vulneráveis!</a:t>
            </a:r>
            <a:br>
              <a:rPr sz="3000"/>
            </a:b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, enviar/reenviar mensagens </a:t>
            </a:r>
            <a:br>
              <a:rPr sz="3000"/>
            </a:br>
            <a:r>
              <a:rPr b="0" lang="pt-BR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ÃO AJUDARÁ</a:t>
            </a:r>
            <a:r>
              <a:rPr b="0" lang="pt-B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essas causas.</a:t>
            </a:r>
            <a:br>
              <a:rPr sz="3000"/>
            </a:br>
            <a:br>
              <a:rPr sz="3000"/>
            </a:br>
            <a:r>
              <a:rPr b="0" i="1" lang="pt-B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 ajudar?</a:t>
            </a: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ure entidades de renome, ONGs, associações religiosas ou associações internacionais (ONU, etc).</a:t>
            </a:r>
            <a:br>
              <a:rPr sz="3000"/>
            </a:br>
            <a:br>
              <a:rPr sz="3000"/>
            </a:br>
            <a:r>
              <a:rPr b="0" i="1" lang="pt-BR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-mails</a:t>
            </a:r>
            <a:r>
              <a:rPr b="0" lang="pt-BR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de "abaixo-assinado" são falsos </a:t>
            </a:r>
            <a:r>
              <a:rPr b="0" lang="pt-B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nada significam. São apenas meios de obterem endereços eletrônico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7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3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iste projeto para ser votado 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ngresso Nacional que 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zirá a área da Floresta Amazônica em 50%, 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eixar de cobrar pedágio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qualquer outro que um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judaria!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ão,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ÃO perca tempo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 </a:t>
            </a:r>
            <a:r>
              <a:rPr b="0" lang="pt-B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pague mico”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inando e repassando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s protestos e comunicados furios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8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4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cê </a:t>
            </a:r>
            <a:r>
              <a:rPr b="0" lang="pt-B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ai...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Morrer”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Ficar doente”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Ter má sorte no amor”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Nem perder nada”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</a:t>
            </a:r>
            <a:r>
              <a:rPr b="0" lang="pt-B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REBENTAR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ma </a:t>
            </a:r>
            <a:r>
              <a:rPr b="0" lang="pt-BR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rrente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religiosa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 ou nã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9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5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crever ou enviar qualquer </a:t>
            </a:r>
            <a:r>
              <a:rPr b="0" i="1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qualquer coisa é tão fácil quanto rabiscar os muros de uma área pública.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ÃO acredite automaticamente em tudo.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erve o texto...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ita...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ise...</a:t>
            </a:r>
            <a:br>
              <a:rPr sz="3600"/>
            </a:br>
            <a:br>
              <a:rPr sz="3600"/>
            </a:br>
            <a:r>
              <a:rPr b="0" i="1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inteligente. Nada cai do céu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28"/>
          <p:cNvSpPr/>
          <p:nvPr/>
        </p:nvSpPr>
        <p:spPr>
          <a:xfrm>
            <a:off x="179640" y="146160"/>
            <a:ext cx="9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10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6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60436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sagens pedindo ajuda com fotos comoventes..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 repasse!!!</a:t>
            </a:r>
            <a:br>
              <a:rPr sz="3200"/>
            </a:br>
            <a:br>
              <a:rPr sz="3200"/>
            </a:br>
            <a:r>
              <a:rPr b="0" i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Fazer a sua parte não é dessa forma”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pt-B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rifique a veracidade das informações.</a:t>
            </a:r>
            <a:br>
              <a:rPr sz="3200"/>
            </a:br>
            <a:r>
              <a:rPr b="0" lang="pt-B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9,99%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ão falsas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 ajudar efetivamente? Fazer essa opção?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óximo de sua casa, há sempre alguém carente ou entidade precisando de aju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-36000" y="-100080"/>
            <a:ext cx="9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11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7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6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ntes de repassar 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uma mensage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aça uma rápida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onsult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sit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sob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ulhas virtuais (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hoax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2f2f2"/>
                </a:solidFill>
                <a:latin typeface="Times New Roman"/>
              </a:rPr>
              <a:t>  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quatrocantos.com/lendas/</a:t>
            </a:r>
            <a:r>
              <a:rPr b="0" lang="pt-BR" sz="3200" spc="-1" strike="noStrike">
                <a:solidFill>
                  <a:srgbClr val="f2f2f2"/>
                </a:solidFill>
                <a:latin typeface="Times New Roman"/>
              </a:rPr>
              <a:t>  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2f2f2"/>
                </a:solidFill>
                <a:latin typeface="Times New Roman"/>
              </a:rPr>
              <a:t>   </a:t>
            </a:r>
            <a:r>
              <a:rPr b="0" lang="pt-BR" sz="3200" spc="-1" strike="noStrike" u="sng">
                <a:solidFill>
                  <a:srgbClr val="f2f2f2"/>
                </a:solidFill>
                <a:uFillTx/>
                <a:latin typeface="Times New Roman"/>
              </a:rPr>
              <a:t>http://www.e-farsas.com</a:t>
            </a:r>
            <a:r>
              <a:rPr b="0" lang="pt-BR" sz="3200" spc="-1" strike="noStrike">
                <a:solidFill>
                  <a:srgbClr val="f2f2f2"/>
                </a:solidFill>
                <a:latin typeface="Times New Roman"/>
              </a:rPr>
              <a:t>/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u faça uma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pesquis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mais completa, ligando para os telefones indicados ou entrando na página do órgão informado na mensag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IDADO!</a:t>
            </a:r>
            <a:br>
              <a:rPr sz="3200"/>
            </a:br>
            <a:r>
              <a:rPr b="0" lang="pt-B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idado ao repassar mensagens com listas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, principalmente, com dados reais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so pode facilitar para: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altantes...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questradores...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liantes...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us elementos...</a:t>
            </a:r>
            <a:br>
              <a:rPr sz="3200"/>
            </a:br>
            <a:br>
              <a:rPr sz="3200"/>
            </a:br>
            <a:r>
              <a:rPr b="0" i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ão se esqueça que eles também tem acesso </a:t>
            </a:r>
            <a:br>
              <a:rPr sz="3200"/>
            </a:br>
            <a:r>
              <a:rPr b="0" i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e-mails e à Internet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5280" y="44280"/>
            <a:ext cx="9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12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8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9880" y="155700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ras importantes: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2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70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S CUIDADO AIND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tângulo 4"/>
          <p:cNvSpPr/>
          <p:nvPr/>
        </p:nvSpPr>
        <p:spPr>
          <a:xfrm>
            <a:off x="468360" y="167472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o responder mensagens de pretendentes em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relacionamentos,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equ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º se ele/ela não é um golpista virtual (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mmer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squis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IP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PC da pessoa corresponde ao local onde ela diz residir e se o texto e as fotos em suas mensagens já aparecem na Internet. Use o Google Images para fazer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load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s fotos dela ou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ult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ttp://forascammer.blogspot.com.br/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64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ora REENVIE esta mensagem!!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jude a colocar </a:t>
            </a:r>
            <a:r>
              <a:rPr b="0" lang="pt-B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DEM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ssa imensa casa chamada Internet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 tipo de informação irá ajudar a quem não tem muita prática nesse meio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s não esqueça:</a:t>
            </a:r>
            <a:br>
              <a:rPr sz="3200"/>
            </a:br>
            <a:r>
              <a:rPr b="0" i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0" i="1" lang="pt-B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CCO”</a:t>
            </a:r>
            <a:br>
              <a:rPr sz="3200"/>
            </a:br>
            <a:r>
              <a:rPr b="0" i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ixe apenas o nome do assunto.</a:t>
            </a:r>
            <a:br>
              <a:rPr sz="3200"/>
            </a:br>
            <a:r>
              <a:rPr b="0" i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ire o lixo que vem antes da mensagem.</a:t>
            </a:r>
            <a:br>
              <a:rPr sz="3200"/>
            </a:br>
            <a:r>
              <a:rPr b="0" i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uncie os golpista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9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e atenção!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ÃO se melindre por alguém estar lhe corrigindo sobre o que foi mencionado neste </a:t>
            </a:r>
            <a:r>
              <a:rPr b="0" i="1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</a:t>
            </a:r>
            <a:r>
              <a:rPr b="0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 uma apenas uma forma de melhorar a vida de todos.</a:t>
            </a:r>
            <a:br>
              <a:rPr sz="4000"/>
            </a:br>
            <a:br>
              <a:rPr sz="4000"/>
            </a:br>
            <a:r>
              <a:rPr b="0" i="1" lang="pt-B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De boas intenções o inferno está chei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20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800" y="325080"/>
            <a:ext cx="8964360" cy="17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É um serviço de utilidade pública </a:t>
            </a:r>
            <a:r>
              <a:rPr b="0" lang="pt-BR" sz="3000" spc="-1" strike="noStrike">
                <a:solidFill>
                  <a:srgbClr val="ffff00"/>
                </a:solidFill>
                <a:latin typeface="Times New Roman"/>
              </a:rPr>
              <a:t>por uma</a:t>
            </a:r>
            <a:br>
              <a:rPr sz="3000"/>
            </a:br>
            <a:r>
              <a:rPr b="0" lang="pt-BR" sz="3000" spc="-1" strike="noStrike">
                <a:solidFill>
                  <a:srgbClr val="ffff00"/>
                </a:solidFill>
                <a:latin typeface="Times New Roman"/>
              </a:rPr>
              <a:t>Internet</a:t>
            </a: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international network </a:t>
            </a: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- rede internacional)</a:t>
            </a:r>
            <a:br>
              <a:rPr sz="3000"/>
            </a:br>
            <a:r>
              <a:rPr b="0" lang="pt-BR" sz="3000" spc="-1" strike="noStrike">
                <a:solidFill>
                  <a:srgbClr val="ffff00"/>
                </a:solidFill>
                <a:latin typeface="Times New Roman"/>
              </a:rPr>
              <a:t>livre da criminalidade virtual</a:t>
            </a: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homem_em_mov"/>
          <p:cNvPicPr/>
          <p:nvPr/>
        </p:nvPicPr>
        <p:blipFill>
          <a:blip r:embed="rId1"/>
          <a:stretch/>
        </p:blipFill>
        <p:spPr>
          <a:xfrm>
            <a:off x="3332160" y="2205000"/>
            <a:ext cx="26701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6697440" cy="48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Line 5"/>
          <p:cNvSpPr/>
          <p:nvPr/>
        </p:nvSpPr>
        <p:spPr>
          <a:xfrm>
            <a:off x="3924360" y="2421000"/>
            <a:ext cx="3168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734160" y="162864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mpre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utilize 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ENCAMINHAR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a repassar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us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e-m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S3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68160" y="1700280"/>
            <a:ext cx="7961400" cy="48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Text Box 5"/>
          <p:cNvSpPr/>
          <p:nvPr/>
        </p:nvSpPr>
        <p:spPr>
          <a:xfrm>
            <a:off x="869400" y="369720"/>
            <a:ext cx="75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Utiliz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sempre o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t-BR" sz="2400" spc="-1" strike="noStrike" u="sng">
                <a:solidFill>
                  <a:srgbClr val="ff0000"/>
                </a:solidFill>
                <a:uFillTx/>
                <a:latin typeface="Times New Roman"/>
              </a:rPr>
              <a:t>“Cco”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a inserir os destinat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NÃO UTILIZE </a:t>
            </a:r>
            <a:r>
              <a:rPr b="1" lang="pt-BR" sz="2400" spc="-1" strike="noStrike" u="sng">
                <a:solidFill>
                  <a:srgbClr val="ff0000"/>
                </a:solidFill>
                <a:uFillTx/>
                <a:latin typeface="Times New Roman"/>
              </a:rPr>
              <a:t>“Para”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pt-BR" sz="2400" spc="-1" strike="noStrike" u="sng">
                <a:solidFill>
                  <a:srgbClr val="ff0000"/>
                </a:solidFill>
                <a:uFillTx/>
                <a:latin typeface="Times New Roman"/>
              </a:rPr>
              <a:t>“Cc”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a colocar os destinat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 flipV="1">
            <a:off x="1258920" y="765000"/>
            <a:ext cx="1728720" cy="2159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25400" y="3700440"/>
            <a:ext cx="784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ATE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tilizando o “Cco” seus amigos não saberão para quem mais você enviou a mensagem, mas apenas que veio de você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sim, você diminui a propagação de vírus 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pam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mensagens eletrônicas não-solicitadas e  enviadas em mas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S4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4723920"/>
            <a:ext cx="8785440" cy="20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r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 campo assunto 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EN”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ENC”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FWD”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RE”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 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RES”.</a:t>
            </a:r>
            <a:br>
              <a:rPr sz="2400"/>
            </a:br>
            <a:r>
              <a:rPr b="0" lang="pt-B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ix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mente o próprio assunto.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muito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selegant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se tipo de indicação no assunto. Além de ser uma formas de utilizarem os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seus amigos para passar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M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657440" y="115920"/>
            <a:ext cx="7378560" cy="4505400"/>
          </a:xfrm>
          <a:prstGeom prst="rect">
            <a:avLst/>
          </a:prstGeom>
          <a:ln w="0">
            <a:noFill/>
          </a:ln>
        </p:spPr>
      </p:pic>
      <p:sp>
        <p:nvSpPr>
          <p:cNvPr id="60" name="Line 6"/>
          <p:cNvSpPr/>
          <p:nvPr/>
        </p:nvSpPr>
        <p:spPr>
          <a:xfrm flipH="1">
            <a:off x="684000" y="1628640"/>
            <a:ext cx="1871640" cy="316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S5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61976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ém disso...</a:t>
            </a:r>
            <a:br>
              <a:rPr sz="7000"/>
            </a:br>
            <a:br>
              <a:rPr sz="7000"/>
            </a:br>
            <a:r>
              <a:rPr b="0" lang="pt-BR" sz="7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ão acredite em tudo o que você lê!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6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</a:t>
            </a:r>
            <a:r>
              <a:rPr b="0" lang="pt-B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porque alguém escreveu quatro degraus anteriores da pirâmide que é verdade</a:t>
            </a:r>
            <a:br>
              <a:rPr sz="4800"/>
            </a:br>
            <a:br>
              <a:rPr sz="4800"/>
            </a:br>
            <a:r>
              <a:rPr b="0" lang="pt-BR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serve:</a:t>
            </a:r>
            <a:br>
              <a:rPr sz="4800"/>
            </a:br>
            <a:r>
              <a:rPr b="0" lang="pt-B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mais uma mera menti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1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7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2800" y="549000"/>
            <a:ext cx="877716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 EXISTE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ganização 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drões de fígado.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nguém está acordando numa banheira cheia de gelo.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serve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só mais uma forma de conseguir </a:t>
            </a:r>
            <a:br>
              <a:rPr sz="4400"/>
            </a:br>
            <a:r>
              <a:rPr b="0" i="1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s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 enviar </a:t>
            </a:r>
            <a:r>
              <a:rPr b="0" i="1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2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8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8520" y="33300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UNCA abra 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exos com: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t-BR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“.exe”</a:t>
            </a: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clu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ses </a:t>
            </a:r>
            <a:r>
              <a:rPr b="0" i="1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s. </a:t>
            </a:r>
            <a:br>
              <a:rPr sz="4400"/>
            </a:br>
            <a:br>
              <a:rPr sz="4400"/>
            </a:br>
            <a:r>
              <a:rPr b="0" i="1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uriosidade matou o gato”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ó abra esse arquivo se a pessoa que o mandou é de sua inteira confiança,</a:t>
            </a:r>
            <a:br>
              <a:rPr sz="4400"/>
            </a:br>
            <a:r>
              <a:rPr b="0" lang="pt-B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S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firme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tes se essa pessoa </a:t>
            </a:r>
            <a:r>
              <a:rPr b="0" lang="pt-BR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almente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e mandou este arquiv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3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9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6:34:07Z</dcterms:created>
  <dc:creator>Diana Levacov</dc:creator>
  <dc:description/>
  <dc:language>en-US</dc:language>
  <cp:lastModifiedBy>Diana Levacov</cp:lastModifiedBy>
  <cp:lastPrinted>2005-02-10T16:27:29Z</cp:lastPrinted>
  <dcterms:modified xsi:type="dcterms:W3CDTF">2013-02-15T18:13:53Z</dcterms:modified>
  <cp:revision>201</cp:revision>
  <dc:subject/>
  <dc:title>Slide sem título</dc:title>
</cp:coreProperties>
</file>