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CC4-D5F9-4502-8302-AAA154D2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arching, fundamental precept pervasive i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personnel, public exposures, environmental releases / dischar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” also includes economic considerations, as part of feas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ENOUGH to just comply with the established dose limi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DFCI’s internal administrative limit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reduce your dose or exposure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reasonable steps or measures, then YOU MUST DO S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pe testing is great for all radionuclides (isotopes); recommend use for any amount of S-35 or C-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know how to use the appropriate instrument before working with rad materia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the instrument for serviceability before each u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ors (probes) are interchangeable (‘swappable’) on the survey meter bas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different types available, but most DFCI labs use Ludlum model 3 survey me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he pancake probe G- det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 retainer (cover plate) properly latching, sec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 split, cut?  Bare conductor anywhere?  900 Vol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ntillation detector: check for light leaks, cable/connector ‘shorts’.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uch thing as “zero” radioactivity or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or ‘net’ increase in count rate as an indicator of contamination, or elevate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r reading will fluctuate across a range – the average or center of that range is “background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eter (or the detector) can have a different background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vated background may indicate contamination of the detecto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 to see or detect a small net increase; use your judgement, but anything &gt; 3 times background is CLEARLY an indication of radioactivity or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is important: exposure minimization, tracking extent, ‘cleanability’ may get worse with ti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the entire container after disposing what you believe to be non-radioactive materia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otal (summed together) there may be enough radioactivity to be detected,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pieces may not have been ‘hot’ enough to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09AB-669C-4E39-AB66-1709840BA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588C-4F39-4FCB-B0B5-5B12445AC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061A-B2BD-4E9C-BE84-E6D2DB877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5288-31DC-4FEA-8534-6551DF993F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79EC-AA9B-4DDE-A79E-2D868B8721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2737-F207-4014-AD6D-ABB5AF54E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EDA0-496B-4940-A5DA-135341C1C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510B-A99D-4AB1-9096-EEB5A1528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42BD-7399-4CAC-B199-4674514F3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A89D-7D8F-48CA-9A68-682A3B420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643E-7641-48A2-9F9E-CAF964CAB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3F6D-E160-41EC-B2F6-6467732F8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52560"/>
            <a:ext cx="9144000" cy="6963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8200" y="622476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CC28-EF47-4584-9FFF-7FC57DCDC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4120" y="6224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2247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3720" y="673200"/>
            <a:ext cx="588816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2007 Radiation Refresher Train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895480"/>
            <a:ext cx="713556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yna M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tion Safety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Health &amp; Safet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ks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town Snell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315-268-66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llas@clarkson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72000" y="5867280"/>
            <a:ext cx="3394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This training course has been partially ada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from slides provided by Steve Backurz, Rad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Safety Officer of The University of New Hampsh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241200" y="433440"/>
            <a:ext cx="8902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indent="0" algn="ctr"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rkson Anticip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r Radiation Exp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2120" y="1957320"/>
            <a:ext cx="782784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nticipated Exposures: Less than the minimum detectable dose for film badges    (10 mrem/month) - essentially zer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2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verage annual background exposure for U.S. population = 360 mrem/ye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ate and Federal Exposure Limits = 5000 mrem/ye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09480" y="144792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goal is to eliminate any unnecessary dose to yourself, coworkers, &amp; the publ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90920" y="2666880"/>
            <a:ext cx="609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d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590920" y="33526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d"/>
                </a:solidFill>
                <a:latin typeface="Verdana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90920" y="3962520"/>
            <a:ext cx="196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d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90920" y="4572000"/>
            <a:ext cx="514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d"/>
                </a:solidFill>
                <a:latin typeface="Verdana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90920" y="5257800"/>
            <a:ext cx="426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d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4600" y="2666880"/>
            <a:ext cx="657360" cy="35053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90920" y="33526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L 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26668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A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9092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 easona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39625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A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90920" y="5257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A chiev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ducing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241200" y="336600"/>
            <a:ext cx="8902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ing ALA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3520" y="1371600"/>
            <a:ext cx="810576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15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im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inimize the time that you are in contact with radioactive material to reduce expo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5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stanc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ep your distance. If you double the distance the exposure rate drops by factor of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5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hielding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lace a barrier between you and the radioactive 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5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ource Reduc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rder and use the smallest amount of radioactive materials as necessa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5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tective clothing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tects against contamination only - keeps radioactive material off skin and clot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69760" y="838080"/>
            <a:ext cx="435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ect Yourself &amp; Your Colleague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4920" y="5029200"/>
            <a:ext cx="9213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TIMIZE USE OF ALL PROTECTIV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CHANISMS TO MINIMIZE DO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ielding Recommend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s (ex: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aterial with low atomic number,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tic, lucite, acry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, paper, 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s (ex: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or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aterial with high atomic number,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, concrete, bricks, stainless steel, cast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2819160" cy="240516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rcRect l="11290" t="0" r="9676" b="0"/>
          <a:stretch/>
        </p:blipFill>
        <p:spPr>
          <a:xfrm>
            <a:off x="5562720" y="3886200"/>
            <a:ext cx="25905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ti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 is a low energy beta emitter and cannot be detected with a survey me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do swipes and use liquid scintillation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, you mu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rol contamin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prevent internal expos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you can’t see it or detect it easily, it’s movement can be insidio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have no “real time” check on the contamination status of your work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is a high energy beta emitter. Use lots of shiel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ye is sensitive to beta radiation. Wear safety glasses when working with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orms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d in research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at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they can easily change from a solid or liquid to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volatile forms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, any iodine gas released is radioactive, and can be quickly inha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have a special hood for use of volatile forms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 YOU ORDER THE BOUND VERSION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ve Clo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93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a very effective means of preventing skin, eyes, &amp; clothing from becoming contam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yewear to prevent splashes and provide shielding for high energy beta emi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 C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ves (may want double lay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osed toe footw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much easier to remove contaminated clothing than to decontaminate your sk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lnSpc>
                <a:spcPct val="80000"/>
              </a:lnSpc>
              <a:buNone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2746440" cy="52578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733920" y="4495680"/>
            <a:ext cx="3200400" cy="129564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257800" y="4191120"/>
            <a:ext cx="1066680" cy="7596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5410080" y="2057040"/>
            <a:ext cx="1447920" cy="76212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172200" y="2590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3352680"/>
            <a:ext cx="3657600" cy="45720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380880" y="1219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h your hands every time you change glo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rcRect l="37510" t="27238" r="7809" b="0"/>
          <a:stretch/>
        </p:blipFill>
        <p:spPr>
          <a:xfrm>
            <a:off x="3116160" y="1828800"/>
            <a:ext cx="3665520" cy="39164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31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Rules of Radiatio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Ingesting Radioactive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57200" y="1600200"/>
            <a:ext cx="54864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n’t bring hands or objects near your mouth during an experi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ting, drinking, smoking, applying cosmetics are strictly prohibited in rad lab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ver mouth pipet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ver store personal food items in refrigerators or freezers used for radioactive material or other hazardous material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705720" y="838080"/>
            <a:ext cx="2000160" cy="2057040"/>
            <a:chOff x="6705720" y="838080"/>
            <a:chExt cx="2000160" cy="2057040"/>
          </a:xfrm>
        </p:grpSpPr>
        <p:sp>
          <p:nvSpPr>
            <p:cNvPr id="798" name=""/>
            <p:cNvSpPr/>
            <p:nvPr/>
          </p:nvSpPr>
          <p:spPr>
            <a:xfrm>
              <a:off x="6705720" y="838080"/>
              <a:ext cx="200016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7017840" y="1400400"/>
              <a:ext cx="1500120" cy="1494720"/>
              <a:chOff x="7017840" y="1400400"/>
              <a:chExt cx="1500120" cy="149472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7017840" y="1400400"/>
                <a:ext cx="1500120" cy="1494720"/>
                <a:chOff x="7017840" y="1400400"/>
                <a:chExt cx="1500120" cy="149472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7017840" y="1400400"/>
                  <a:ext cx="1500120" cy="1494720"/>
                </a:xfrm>
                <a:prstGeom prst="ellipse">
                  <a:avLst/>
                </a:prstGeom>
                <a:solidFill>
                  <a:srgbClr val="e817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139520" y="1530720"/>
                  <a:ext cx="1247760" cy="1242720"/>
                </a:xfrm>
                <a:prstGeom prst="ellipse">
                  <a:avLst/>
                </a:pr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7298640" y="1850040"/>
                <a:ext cx="1071000" cy="774360"/>
                <a:chOff x="7298640" y="1850040"/>
                <a:chExt cx="1071000" cy="77436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7565760" y="2049840"/>
                  <a:ext cx="781200" cy="574560"/>
                </a:xfrm>
                <a:custGeom>
                  <a:avLst/>
                  <a:gdLst/>
                  <a:ahLst/>
                  <a:rect l="l" t="t" r="r" b="b"/>
                  <a:pathLst>
                    <a:path w="2002" h="1472">
                      <a:moveTo>
                        <a:pt x="622" y="1164"/>
                      </a:moveTo>
                      <a:lnTo>
                        <a:pt x="443" y="1120"/>
                      </a:lnTo>
                      <a:lnTo>
                        <a:pt x="382" y="1107"/>
                      </a:lnTo>
                      <a:lnTo>
                        <a:pt x="219" y="1070"/>
                      </a:lnTo>
                      <a:lnTo>
                        <a:pt x="141" y="1050"/>
                      </a:lnTo>
                      <a:lnTo>
                        <a:pt x="0" y="1017"/>
                      </a:lnTo>
                      <a:lnTo>
                        <a:pt x="79" y="976"/>
                      </a:lnTo>
                      <a:lnTo>
                        <a:pt x="217" y="903"/>
                      </a:lnTo>
                      <a:lnTo>
                        <a:pt x="353" y="831"/>
                      </a:lnTo>
                      <a:lnTo>
                        <a:pt x="491" y="759"/>
                      </a:lnTo>
                      <a:lnTo>
                        <a:pt x="627" y="687"/>
                      </a:lnTo>
                      <a:lnTo>
                        <a:pt x="765" y="615"/>
                      </a:lnTo>
                      <a:lnTo>
                        <a:pt x="900" y="542"/>
                      </a:lnTo>
                      <a:lnTo>
                        <a:pt x="1038" y="470"/>
                      </a:lnTo>
                      <a:lnTo>
                        <a:pt x="1172" y="400"/>
                      </a:lnTo>
                      <a:lnTo>
                        <a:pt x="1310" y="328"/>
                      </a:lnTo>
                      <a:lnTo>
                        <a:pt x="1446" y="256"/>
                      </a:lnTo>
                      <a:lnTo>
                        <a:pt x="1582" y="184"/>
                      </a:lnTo>
                      <a:lnTo>
                        <a:pt x="1719" y="114"/>
                      </a:lnTo>
                      <a:lnTo>
                        <a:pt x="1855" y="42"/>
                      </a:lnTo>
                      <a:lnTo>
                        <a:pt x="1925" y="2"/>
                      </a:lnTo>
                      <a:lnTo>
                        <a:pt x="2002" y="0"/>
                      </a:lnTo>
                      <a:lnTo>
                        <a:pt x="1617" y="1444"/>
                      </a:lnTo>
                      <a:lnTo>
                        <a:pt x="1531" y="1424"/>
                      </a:lnTo>
                      <a:lnTo>
                        <a:pt x="1516" y="1472"/>
                      </a:lnTo>
                      <a:lnTo>
                        <a:pt x="622" y="1164"/>
                      </a:lnTo>
                      <a:lnTo>
                        <a:pt x="622" y="1164"/>
                      </a:lnTo>
                      <a:close/>
                    </a:path>
                  </a:pathLst>
                </a:custGeom>
                <a:solidFill>
                  <a:srgbClr val="e2bf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808400" y="2049840"/>
                  <a:ext cx="538200" cy="574560"/>
                </a:xfrm>
                <a:custGeom>
                  <a:avLst/>
                  <a:gdLst/>
                  <a:ahLst/>
                  <a:rect l="l" t="t" r="r" b="b"/>
                  <a:pathLst>
                    <a:path w="1380" h="1472">
                      <a:moveTo>
                        <a:pt x="723" y="1336"/>
                      </a:moveTo>
                      <a:lnTo>
                        <a:pt x="493" y="1282"/>
                      </a:lnTo>
                      <a:lnTo>
                        <a:pt x="480" y="1277"/>
                      </a:lnTo>
                      <a:lnTo>
                        <a:pt x="270" y="1227"/>
                      </a:lnTo>
                      <a:lnTo>
                        <a:pt x="241" y="1223"/>
                      </a:lnTo>
                      <a:lnTo>
                        <a:pt x="46" y="1175"/>
                      </a:lnTo>
                      <a:lnTo>
                        <a:pt x="0" y="1164"/>
                      </a:lnTo>
                      <a:lnTo>
                        <a:pt x="894" y="1472"/>
                      </a:lnTo>
                      <a:lnTo>
                        <a:pt x="909" y="1424"/>
                      </a:lnTo>
                      <a:lnTo>
                        <a:pt x="995" y="1444"/>
                      </a:lnTo>
                      <a:lnTo>
                        <a:pt x="1380" y="0"/>
                      </a:lnTo>
                      <a:lnTo>
                        <a:pt x="1303" y="2"/>
                      </a:lnTo>
                      <a:lnTo>
                        <a:pt x="1281" y="103"/>
                      </a:lnTo>
                      <a:lnTo>
                        <a:pt x="1257" y="203"/>
                      </a:lnTo>
                      <a:lnTo>
                        <a:pt x="1235" y="287"/>
                      </a:lnTo>
                      <a:lnTo>
                        <a:pt x="1209" y="398"/>
                      </a:lnTo>
                      <a:lnTo>
                        <a:pt x="1189" y="470"/>
                      </a:lnTo>
                      <a:lnTo>
                        <a:pt x="1159" y="595"/>
                      </a:lnTo>
                      <a:lnTo>
                        <a:pt x="1143" y="654"/>
                      </a:lnTo>
                      <a:lnTo>
                        <a:pt x="1111" y="790"/>
                      </a:lnTo>
                      <a:lnTo>
                        <a:pt x="1097" y="838"/>
                      </a:lnTo>
                      <a:lnTo>
                        <a:pt x="1060" y="989"/>
                      </a:lnTo>
                      <a:lnTo>
                        <a:pt x="1051" y="1024"/>
                      </a:lnTo>
                      <a:lnTo>
                        <a:pt x="1012" y="1183"/>
                      </a:lnTo>
                      <a:lnTo>
                        <a:pt x="1005" y="1205"/>
                      </a:lnTo>
                      <a:lnTo>
                        <a:pt x="960" y="1393"/>
                      </a:lnTo>
                      <a:lnTo>
                        <a:pt x="723" y="13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738560" y="2392920"/>
                  <a:ext cx="93240" cy="111240"/>
                </a:xfrm>
                <a:custGeom>
                  <a:avLst/>
                  <a:gdLst/>
                  <a:ahLst/>
                  <a:rect l="l" t="t" r="r" b="b"/>
                  <a:pathLst>
                    <a:path w="239" h="285">
                      <a:moveTo>
                        <a:pt x="179" y="285"/>
                      </a:moveTo>
                      <a:lnTo>
                        <a:pt x="0" y="241"/>
                      </a:lnTo>
                      <a:lnTo>
                        <a:pt x="239" y="118"/>
                      </a:lnTo>
                      <a:lnTo>
                        <a:pt x="142" y="0"/>
                      </a:lnTo>
                      <a:lnTo>
                        <a:pt x="6" y="72"/>
                      </a:lnTo>
                      <a:lnTo>
                        <a:pt x="179" y="285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565760" y="2430720"/>
                  <a:ext cx="54720" cy="28800"/>
                </a:xfrm>
                <a:custGeom>
                  <a:avLst/>
                  <a:gdLst/>
                  <a:ahLst/>
                  <a:rect l="l" t="t" r="r" b="b"/>
                  <a:pathLst>
                    <a:path w="141" h="74">
                      <a:moveTo>
                        <a:pt x="141" y="74"/>
                      </a:moveTo>
                      <a:lnTo>
                        <a:pt x="0" y="41"/>
                      </a:lnTo>
                      <a:lnTo>
                        <a:pt x="79" y="0"/>
                      </a:lnTo>
                      <a:lnTo>
                        <a:pt x="141" y="74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650360" y="2374200"/>
                  <a:ext cx="90360" cy="107640"/>
                </a:xfrm>
                <a:custGeom>
                  <a:avLst/>
                  <a:gdLst/>
                  <a:ahLst/>
                  <a:rect l="l" t="t" r="r" b="b"/>
                  <a:pathLst>
                    <a:path w="232" h="276">
                      <a:moveTo>
                        <a:pt x="165" y="276"/>
                      </a:moveTo>
                      <a:lnTo>
                        <a:pt x="2" y="239"/>
                      </a:lnTo>
                      <a:lnTo>
                        <a:pt x="232" y="120"/>
                      </a:lnTo>
                      <a:lnTo>
                        <a:pt x="136" y="0"/>
                      </a:lnTo>
                      <a:lnTo>
                        <a:pt x="0" y="72"/>
                      </a:lnTo>
                      <a:lnTo>
                        <a:pt x="165" y="276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757280" y="2318040"/>
                  <a:ext cx="180720" cy="92520"/>
                </a:xfrm>
                <a:custGeom>
                  <a:avLst/>
                  <a:gdLst/>
                  <a:ahLst/>
                  <a:rect l="l" t="t" r="r" b="b"/>
                  <a:pathLst>
                    <a:path w="464" h="238">
                      <a:moveTo>
                        <a:pt x="136" y="0"/>
                      </a:moveTo>
                      <a:lnTo>
                        <a:pt x="0" y="72"/>
                      </a:lnTo>
                      <a:lnTo>
                        <a:pt x="94" y="192"/>
                      </a:lnTo>
                      <a:lnTo>
                        <a:pt x="368" y="48"/>
                      </a:lnTo>
                      <a:lnTo>
                        <a:pt x="464" y="168"/>
                      </a:lnTo>
                      <a:lnTo>
                        <a:pt x="328" y="238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864200" y="2261520"/>
                  <a:ext cx="90360" cy="75240"/>
                </a:xfrm>
                <a:custGeom>
                  <a:avLst/>
                  <a:gdLst/>
                  <a:ahLst/>
                  <a:rect l="l" t="t" r="r" b="b"/>
                  <a:pathLst>
                    <a:path w="232" h="193">
                      <a:moveTo>
                        <a:pt x="0" y="73"/>
                      </a:moveTo>
                      <a:lnTo>
                        <a:pt x="135" y="0"/>
                      </a:lnTo>
                      <a:lnTo>
                        <a:pt x="232" y="121"/>
                      </a:lnTo>
                      <a:lnTo>
                        <a:pt x="94" y="193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954920" y="2206080"/>
                  <a:ext cx="106560" cy="149400"/>
                </a:xfrm>
                <a:custGeom>
                  <a:avLst/>
                  <a:gdLst/>
                  <a:ahLst/>
                  <a:rect l="l" t="t" r="r" b="b"/>
                  <a:pathLst>
                    <a:path w="274" h="383">
                      <a:moveTo>
                        <a:pt x="41" y="70"/>
                      </a:moveTo>
                      <a:lnTo>
                        <a:pt x="175" y="0"/>
                      </a:lnTo>
                      <a:lnTo>
                        <a:pt x="274" y="121"/>
                      </a:lnTo>
                      <a:lnTo>
                        <a:pt x="0" y="263"/>
                      </a:lnTo>
                      <a:lnTo>
                        <a:pt x="96" y="383"/>
                      </a:lnTo>
                      <a:lnTo>
                        <a:pt x="232" y="311"/>
                      </a:lnTo>
                      <a:lnTo>
                        <a:pt x="41" y="70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061840" y="2149920"/>
                  <a:ext cx="105840" cy="150120"/>
                </a:xfrm>
                <a:custGeom>
                  <a:avLst/>
                  <a:gdLst/>
                  <a:ahLst/>
                  <a:rect l="l" t="t" r="r" b="b"/>
                  <a:pathLst>
                    <a:path w="271" h="385">
                      <a:moveTo>
                        <a:pt x="39" y="72"/>
                      </a:moveTo>
                      <a:lnTo>
                        <a:pt x="175" y="0"/>
                      </a:lnTo>
                      <a:lnTo>
                        <a:pt x="271" y="120"/>
                      </a:lnTo>
                      <a:lnTo>
                        <a:pt x="0" y="265"/>
                      </a:lnTo>
                      <a:lnTo>
                        <a:pt x="96" y="385"/>
                      </a:lnTo>
                      <a:lnTo>
                        <a:pt x="232" y="313"/>
                      </a:lnTo>
                      <a:lnTo>
                        <a:pt x="39" y="72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167680" y="2094480"/>
                  <a:ext cx="106560" cy="149400"/>
                </a:xfrm>
                <a:custGeom>
                  <a:avLst/>
                  <a:gdLst/>
                  <a:ahLst/>
                  <a:rect l="l" t="t" r="r" b="b"/>
                  <a:pathLst>
                    <a:path w="274" h="383">
                      <a:moveTo>
                        <a:pt x="40" y="70"/>
                      </a:moveTo>
                      <a:lnTo>
                        <a:pt x="177" y="0"/>
                      </a:lnTo>
                      <a:lnTo>
                        <a:pt x="274" y="120"/>
                      </a:lnTo>
                      <a:lnTo>
                        <a:pt x="0" y="262"/>
                      </a:lnTo>
                      <a:lnTo>
                        <a:pt x="96" y="383"/>
                      </a:lnTo>
                      <a:lnTo>
                        <a:pt x="234" y="310"/>
                      </a:lnTo>
                      <a:lnTo>
                        <a:pt x="40" y="70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289720" y="2050560"/>
                  <a:ext cx="27000" cy="39240"/>
                </a:xfrm>
                <a:custGeom>
                  <a:avLst/>
                  <a:gdLst/>
                  <a:ahLst/>
                  <a:rect l="l" t="t" r="r" b="b"/>
                  <a:pathLst>
                    <a:path w="70" h="101">
                      <a:moveTo>
                        <a:pt x="48" y="101"/>
                      </a:moveTo>
                      <a:lnTo>
                        <a:pt x="70" y="0"/>
                      </a:lnTo>
                      <a:lnTo>
                        <a:pt x="0" y="40"/>
                      </a:lnTo>
                      <a:lnTo>
                        <a:pt x="48" y="101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274600" y="2129040"/>
                  <a:ext cx="24480" cy="32760"/>
                </a:xfrm>
                <a:custGeom>
                  <a:avLst/>
                  <a:gdLst/>
                  <a:ahLst/>
                  <a:rect l="l" t="t" r="r" b="b"/>
                  <a:pathLst>
                    <a:path w="63" h="84">
                      <a:moveTo>
                        <a:pt x="41" y="84"/>
                      </a:moveTo>
                      <a:lnTo>
                        <a:pt x="63" y="0"/>
                      </a:lnTo>
                      <a:lnTo>
                        <a:pt x="0" y="31"/>
                      </a:lnTo>
                      <a:lnTo>
                        <a:pt x="41" y="84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152560" y="2243880"/>
                  <a:ext cx="108360" cy="74880"/>
                </a:xfrm>
                <a:custGeom>
                  <a:avLst/>
                  <a:gdLst/>
                  <a:ahLst/>
                  <a:rect l="l" t="t" r="r" b="b"/>
                  <a:pathLst>
                    <a:path w="278" h="192">
                      <a:moveTo>
                        <a:pt x="262" y="157"/>
                      </a:moveTo>
                      <a:lnTo>
                        <a:pt x="278" y="98"/>
                      </a:lnTo>
                      <a:lnTo>
                        <a:pt x="96" y="192"/>
                      </a:lnTo>
                      <a:lnTo>
                        <a:pt x="0" y="72"/>
                      </a:lnTo>
                      <a:lnTo>
                        <a:pt x="135" y="0"/>
                      </a:lnTo>
                      <a:lnTo>
                        <a:pt x="262" y="157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258760" y="2205000"/>
                  <a:ext cx="21240" cy="28080"/>
                </a:xfrm>
                <a:custGeom>
                  <a:avLst/>
                  <a:gdLst/>
                  <a:ahLst/>
                  <a:rect l="l" t="t" r="r" b="b"/>
                  <a:pathLst>
                    <a:path w="55" h="72">
                      <a:moveTo>
                        <a:pt x="35" y="72"/>
                      </a:moveTo>
                      <a:lnTo>
                        <a:pt x="55" y="0"/>
                      </a:lnTo>
                      <a:lnTo>
                        <a:pt x="0" y="26"/>
                      </a:lnTo>
                      <a:lnTo>
                        <a:pt x="35" y="72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136720" y="2318760"/>
                  <a:ext cx="105120" cy="74880"/>
                </a:xfrm>
                <a:custGeom>
                  <a:avLst/>
                  <a:gdLst/>
                  <a:ahLst/>
                  <a:rect l="l" t="t" r="r" b="b"/>
                  <a:pathLst>
                    <a:path w="270" h="192">
                      <a:moveTo>
                        <a:pt x="256" y="149"/>
                      </a:moveTo>
                      <a:lnTo>
                        <a:pt x="270" y="101"/>
                      </a:lnTo>
                      <a:lnTo>
                        <a:pt x="97" y="192"/>
                      </a:lnTo>
                      <a:lnTo>
                        <a:pt x="0" y="72"/>
                      </a:lnTo>
                      <a:lnTo>
                        <a:pt x="136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121600" y="2393640"/>
                  <a:ext cx="100440" cy="74520"/>
                </a:xfrm>
                <a:custGeom>
                  <a:avLst/>
                  <a:gdLst/>
                  <a:ahLst/>
                  <a:rect l="l" t="t" r="r" b="b"/>
                  <a:pathLst>
                    <a:path w="258" h="191">
                      <a:moveTo>
                        <a:pt x="249" y="143"/>
                      </a:moveTo>
                      <a:lnTo>
                        <a:pt x="258" y="108"/>
                      </a:lnTo>
                      <a:lnTo>
                        <a:pt x="96" y="191"/>
                      </a:lnTo>
                      <a:lnTo>
                        <a:pt x="0" y="70"/>
                      </a:lnTo>
                      <a:lnTo>
                        <a:pt x="136" y="0"/>
                      </a:lnTo>
                      <a:lnTo>
                        <a:pt x="249" y="143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105760" y="2468160"/>
                  <a:ext cx="97200" cy="74160"/>
                </a:xfrm>
                <a:custGeom>
                  <a:avLst/>
                  <a:gdLst/>
                  <a:ahLst/>
                  <a:rect l="l" t="t" r="r" b="b"/>
                  <a:pathLst>
                    <a:path w="250" h="190">
                      <a:moveTo>
                        <a:pt x="243" y="133"/>
                      </a:moveTo>
                      <a:lnTo>
                        <a:pt x="250" y="111"/>
                      </a:lnTo>
                      <a:lnTo>
                        <a:pt x="97" y="190"/>
                      </a:lnTo>
                      <a:lnTo>
                        <a:pt x="0" y="70"/>
                      </a:lnTo>
                      <a:lnTo>
                        <a:pt x="136" y="0"/>
                      </a:lnTo>
                      <a:lnTo>
                        <a:pt x="243" y="133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030160" y="2300040"/>
                  <a:ext cx="106200" cy="149400"/>
                </a:xfrm>
                <a:custGeom>
                  <a:avLst/>
                  <a:gdLst/>
                  <a:ahLst/>
                  <a:rect l="l" t="t" r="r" b="b"/>
                  <a:pathLst>
                    <a:path w="273" h="383">
                      <a:moveTo>
                        <a:pt x="273" y="120"/>
                      </a:moveTo>
                      <a:lnTo>
                        <a:pt x="0" y="262"/>
                      </a:lnTo>
                      <a:lnTo>
                        <a:pt x="96" y="383"/>
                      </a:lnTo>
                      <a:lnTo>
                        <a:pt x="234" y="310"/>
                      </a:lnTo>
                      <a:lnTo>
                        <a:pt x="39" y="70"/>
                      </a:lnTo>
                      <a:lnTo>
                        <a:pt x="177" y="0"/>
                      </a:lnTo>
                      <a:lnTo>
                        <a:pt x="273" y="120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923240" y="2355480"/>
                  <a:ext cx="106560" cy="149400"/>
                </a:xfrm>
                <a:custGeom>
                  <a:avLst/>
                  <a:gdLst/>
                  <a:ahLst/>
                  <a:rect l="l" t="t" r="r" b="b"/>
                  <a:pathLst>
                    <a:path w="274" h="383">
                      <a:moveTo>
                        <a:pt x="177" y="0"/>
                      </a:moveTo>
                      <a:lnTo>
                        <a:pt x="274" y="120"/>
                      </a:lnTo>
                      <a:lnTo>
                        <a:pt x="0" y="265"/>
                      </a:lnTo>
                      <a:lnTo>
                        <a:pt x="96" y="383"/>
                      </a:lnTo>
                      <a:lnTo>
                        <a:pt x="234" y="313"/>
                      </a:lnTo>
                      <a:lnTo>
                        <a:pt x="39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001000" y="2449800"/>
                  <a:ext cx="104760" cy="121680"/>
                </a:xfrm>
                <a:custGeom>
                  <a:avLst/>
                  <a:gdLst/>
                  <a:ahLst/>
                  <a:rect l="l" t="t" r="r" b="b"/>
                  <a:pathLst>
                    <a:path w="269" h="312">
                      <a:moveTo>
                        <a:pt x="230" y="312"/>
                      </a:moveTo>
                      <a:lnTo>
                        <a:pt x="0" y="258"/>
                      </a:lnTo>
                      <a:lnTo>
                        <a:pt x="269" y="118"/>
                      </a:lnTo>
                      <a:lnTo>
                        <a:pt x="171" y="0"/>
                      </a:lnTo>
                      <a:lnTo>
                        <a:pt x="35" y="72"/>
                      </a:lnTo>
                      <a:lnTo>
                        <a:pt x="230" y="312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13880" y="2504880"/>
                  <a:ext cx="81720" cy="43200"/>
                </a:xfrm>
                <a:custGeom>
                  <a:avLst/>
                  <a:gdLst/>
                  <a:ahLst/>
                  <a:rect l="l" t="t" r="r" b="b"/>
                  <a:pathLst>
                    <a:path w="210" h="111">
                      <a:moveTo>
                        <a:pt x="210" y="111"/>
                      </a:moveTo>
                      <a:lnTo>
                        <a:pt x="0" y="61"/>
                      </a:lnTo>
                      <a:lnTo>
                        <a:pt x="120" y="0"/>
                      </a:lnTo>
                      <a:lnTo>
                        <a:pt x="210" y="111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826400" y="2410920"/>
                  <a:ext cx="96480" cy="116280"/>
                </a:xfrm>
                <a:custGeom>
                  <a:avLst/>
                  <a:gdLst/>
                  <a:ahLst/>
                  <a:rect l="l" t="t" r="r" b="b"/>
                  <a:pathLst>
                    <a:path w="248" h="298">
                      <a:moveTo>
                        <a:pt x="0" y="250"/>
                      </a:moveTo>
                      <a:lnTo>
                        <a:pt x="195" y="298"/>
                      </a:lnTo>
                      <a:lnTo>
                        <a:pt x="14" y="72"/>
                      </a:lnTo>
                      <a:lnTo>
                        <a:pt x="151" y="0"/>
                      </a:lnTo>
                      <a:lnTo>
                        <a:pt x="248" y="123"/>
                      </a:lnTo>
                      <a:lnTo>
                        <a:pt x="0" y="250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090640" y="2542680"/>
                  <a:ext cx="92160" cy="51120"/>
                </a:xfrm>
                <a:custGeom>
                  <a:avLst/>
                  <a:gdLst/>
                  <a:ahLst/>
                  <a:rect l="l" t="t" r="r" b="b"/>
                  <a:pathLst>
                    <a:path w="237" h="131">
                      <a:moveTo>
                        <a:pt x="0" y="74"/>
                      </a:moveTo>
                      <a:lnTo>
                        <a:pt x="237" y="131"/>
                      </a:lnTo>
                      <a:lnTo>
                        <a:pt x="136" y="0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298640" y="2066040"/>
                  <a:ext cx="1069920" cy="361800"/>
                </a:xfrm>
                <a:custGeom>
                  <a:avLst/>
                  <a:gdLst/>
                  <a:ahLst/>
                  <a:rect l="l" t="t" r="r" b="b"/>
                  <a:pathLst>
                    <a:path w="2742" h="927">
                      <a:moveTo>
                        <a:pt x="44" y="789"/>
                      </a:moveTo>
                      <a:lnTo>
                        <a:pt x="11" y="743"/>
                      </a:lnTo>
                      <a:lnTo>
                        <a:pt x="0" y="695"/>
                      </a:lnTo>
                      <a:lnTo>
                        <a:pt x="11" y="647"/>
                      </a:lnTo>
                      <a:lnTo>
                        <a:pt x="39" y="599"/>
                      </a:lnTo>
                      <a:lnTo>
                        <a:pt x="85" y="549"/>
                      </a:lnTo>
                      <a:lnTo>
                        <a:pt x="145" y="500"/>
                      </a:lnTo>
                      <a:lnTo>
                        <a:pt x="217" y="450"/>
                      </a:lnTo>
                      <a:lnTo>
                        <a:pt x="298" y="404"/>
                      </a:lnTo>
                      <a:lnTo>
                        <a:pt x="385" y="358"/>
                      </a:lnTo>
                      <a:lnTo>
                        <a:pt x="480" y="315"/>
                      </a:lnTo>
                      <a:lnTo>
                        <a:pt x="578" y="273"/>
                      </a:lnTo>
                      <a:lnTo>
                        <a:pt x="677" y="236"/>
                      </a:lnTo>
                      <a:lnTo>
                        <a:pt x="775" y="201"/>
                      </a:lnTo>
                      <a:lnTo>
                        <a:pt x="869" y="170"/>
                      </a:lnTo>
                      <a:lnTo>
                        <a:pt x="959" y="144"/>
                      </a:lnTo>
                      <a:lnTo>
                        <a:pt x="1040" y="122"/>
                      </a:lnTo>
                      <a:lnTo>
                        <a:pt x="1064" y="116"/>
                      </a:lnTo>
                      <a:lnTo>
                        <a:pt x="1088" y="109"/>
                      </a:lnTo>
                      <a:lnTo>
                        <a:pt x="1115" y="102"/>
                      </a:lnTo>
                      <a:lnTo>
                        <a:pt x="1143" y="98"/>
                      </a:lnTo>
                      <a:lnTo>
                        <a:pt x="1172" y="92"/>
                      </a:lnTo>
                      <a:lnTo>
                        <a:pt x="1200" y="85"/>
                      </a:lnTo>
                      <a:lnTo>
                        <a:pt x="1231" y="81"/>
                      </a:lnTo>
                      <a:lnTo>
                        <a:pt x="1261" y="74"/>
                      </a:lnTo>
                      <a:lnTo>
                        <a:pt x="1292" y="67"/>
                      </a:lnTo>
                      <a:lnTo>
                        <a:pt x="1325" y="63"/>
                      </a:lnTo>
                      <a:lnTo>
                        <a:pt x="1358" y="57"/>
                      </a:lnTo>
                      <a:lnTo>
                        <a:pt x="1391" y="50"/>
                      </a:lnTo>
                      <a:lnTo>
                        <a:pt x="1423" y="46"/>
                      </a:lnTo>
                      <a:lnTo>
                        <a:pt x="1456" y="41"/>
                      </a:lnTo>
                      <a:lnTo>
                        <a:pt x="1491" y="35"/>
                      </a:lnTo>
                      <a:lnTo>
                        <a:pt x="1524" y="30"/>
                      </a:lnTo>
                      <a:lnTo>
                        <a:pt x="1559" y="26"/>
                      </a:lnTo>
                      <a:lnTo>
                        <a:pt x="1594" y="22"/>
                      </a:lnTo>
                      <a:lnTo>
                        <a:pt x="1629" y="19"/>
                      </a:lnTo>
                      <a:lnTo>
                        <a:pt x="1664" y="15"/>
                      </a:lnTo>
                      <a:lnTo>
                        <a:pt x="1697" y="13"/>
                      </a:lnTo>
                      <a:lnTo>
                        <a:pt x="1732" y="8"/>
                      </a:lnTo>
                      <a:lnTo>
                        <a:pt x="1767" y="6"/>
                      </a:lnTo>
                      <a:lnTo>
                        <a:pt x="1800" y="4"/>
                      </a:lnTo>
                      <a:lnTo>
                        <a:pt x="1853" y="2"/>
                      </a:lnTo>
                      <a:lnTo>
                        <a:pt x="1905" y="0"/>
                      </a:lnTo>
                      <a:lnTo>
                        <a:pt x="1956" y="0"/>
                      </a:lnTo>
                      <a:lnTo>
                        <a:pt x="2006" y="2"/>
                      </a:lnTo>
                      <a:lnTo>
                        <a:pt x="2052" y="4"/>
                      </a:lnTo>
                      <a:lnTo>
                        <a:pt x="2098" y="8"/>
                      </a:lnTo>
                      <a:lnTo>
                        <a:pt x="2139" y="13"/>
                      </a:lnTo>
                      <a:lnTo>
                        <a:pt x="2179" y="22"/>
                      </a:lnTo>
                      <a:lnTo>
                        <a:pt x="2216" y="30"/>
                      </a:lnTo>
                      <a:lnTo>
                        <a:pt x="2249" y="41"/>
                      </a:lnTo>
                      <a:lnTo>
                        <a:pt x="2280" y="52"/>
                      </a:lnTo>
                      <a:lnTo>
                        <a:pt x="2306" y="67"/>
                      </a:lnTo>
                      <a:lnTo>
                        <a:pt x="2328" y="83"/>
                      </a:lnTo>
                      <a:lnTo>
                        <a:pt x="2345" y="102"/>
                      </a:lnTo>
                      <a:lnTo>
                        <a:pt x="2356" y="122"/>
                      </a:lnTo>
                      <a:lnTo>
                        <a:pt x="2365" y="146"/>
                      </a:lnTo>
                      <a:lnTo>
                        <a:pt x="2378" y="271"/>
                      </a:lnTo>
                      <a:lnTo>
                        <a:pt x="2398" y="273"/>
                      </a:lnTo>
                      <a:lnTo>
                        <a:pt x="2422" y="275"/>
                      </a:lnTo>
                      <a:lnTo>
                        <a:pt x="2446" y="280"/>
                      </a:lnTo>
                      <a:lnTo>
                        <a:pt x="2472" y="284"/>
                      </a:lnTo>
                      <a:lnTo>
                        <a:pt x="2501" y="291"/>
                      </a:lnTo>
                      <a:lnTo>
                        <a:pt x="2529" y="297"/>
                      </a:lnTo>
                      <a:lnTo>
                        <a:pt x="2558" y="306"/>
                      </a:lnTo>
                      <a:lnTo>
                        <a:pt x="2586" y="315"/>
                      </a:lnTo>
                      <a:lnTo>
                        <a:pt x="2615" y="326"/>
                      </a:lnTo>
                      <a:lnTo>
                        <a:pt x="2641" y="339"/>
                      </a:lnTo>
                      <a:lnTo>
                        <a:pt x="2665" y="352"/>
                      </a:lnTo>
                      <a:lnTo>
                        <a:pt x="2687" y="365"/>
                      </a:lnTo>
                      <a:lnTo>
                        <a:pt x="2707" y="382"/>
                      </a:lnTo>
                      <a:lnTo>
                        <a:pt x="2722" y="400"/>
                      </a:lnTo>
                      <a:lnTo>
                        <a:pt x="2733" y="420"/>
                      </a:lnTo>
                      <a:lnTo>
                        <a:pt x="2739" y="439"/>
                      </a:lnTo>
                      <a:lnTo>
                        <a:pt x="2742" y="465"/>
                      </a:lnTo>
                      <a:lnTo>
                        <a:pt x="2733" y="492"/>
                      </a:lnTo>
                      <a:lnTo>
                        <a:pt x="2720" y="516"/>
                      </a:lnTo>
                      <a:lnTo>
                        <a:pt x="2698" y="540"/>
                      </a:lnTo>
                      <a:lnTo>
                        <a:pt x="2669" y="564"/>
                      </a:lnTo>
                      <a:lnTo>
                        <a:pt x="2637" y="586"/>
                      </a:lnTo>
                      <a:lnTo>
                        <a:pt x="2595" y="608"/>
                      </a:lnTo>
                      <a:lnTo>
                        <a:pt x="2549" y="627"/>
                      </a:lnTo>
                      <a:lnTo>
                        <a:pt x="2499" y="647"/>
                      </a:lnTo>
                      <a:lnTo>
                        <a:pt x="2444" y="667"/>
                      </a:lnTo>
                      <a:lnTo>
                        <a:pt x="2385" y="684"/>
                      </a:lnTo>
                      <a:lnTo>
                        <a:pt x="2321" y="702"/>
                      </a:lnTo>
                      <a:lnTo>
                        <a:pt x="2256" y="719"/>
                      </a:lnTo>
                      <a:lnTo>
                        <a:pt x="2185" y="735"/>
                      </a:lnTo>
                      <a:lnTo>
                        <a:pt x="2115" y="750"/>
                      </a:lnTo>
                      <a:lnTo>
                        <a:pt x="2041" y="763"/>
                      </a:lnTo>
                      <a:lnTo>
                        <a:pt x="1964" y="776"/>
                      </a:lnTo>
                      <a:lnTo>
                        <a:pt x="1890" y="789"/>
                      </a:lnTo>
                      <a:lnTo>
                        <a:pt x="1811" y="802"/>
                      </a:lnTo>
                      <a:lnTo>
                        <a:pt x="1734" y="813"/>
                      </a:lnTo>
                      <a:lnTo>
                        <a:pt x="1658" y="822"/>
                      </a:lnTo>
                      <a:lnTo>
                        <a:pt x="1579" y="833"/>
                      </a:lnTo>
                      <a:lnTo>
                        <a:pt x="1504" y="842"/>
                      </a:lnTo>
                      <a:lnTo>
                        <a:pt x="1430" y="850"/>
                      </a:lnTo>
                      <a:lnTo>
                        <a:pt x="1356" y="857"/>
                      </a:lnTo>
                      <a:lnTo>
                        <a:pt x="1285" y="864"/>
                      </a:lnTo>
                      <a:lnTo>
                        <a:pt x="1218" y="870"/>
                      </a:lnTo>
                      <a:lnTo>
                        <a:pt x="1154" y="874"/>
                      </a:lnTo>
                      <a:lnTo>
                        <a:pt x="1093" y="879"/>
                      </a:lnTo>
                      <a:lnTo>
                        <a:pt x="1034" y="883"/>
                      </a:lnTo>
                      <a:lnTo>
                        <a:pt x="981" y="885"/>
                      </a:lnTo>
                      <a:lnTo>
                        <a:pt x="933" y="888"/>
                      </a:lnTo>
                      <a:lnTo>
                        <a:pt x="869" y="899"/>
                      </a:lnTo>
                      <a:lnTo>
                        <a:pt x="804" y="907"/>
                      </a:lnTo>
                      <a:lnTo>
                        <a:pt x="738" y="914"/>
                      </a:lnTo>
                      <a:lnTo>
                        <a:pt x="672" y="920"/>
                      </a:lnTo>
                      <a:lnTo>
                        <a:pt x="607" y="923"/>
                      </a:lnTo>
                      <a:lnTo>
                        <a:pt x="543" y="927"/>
                      </a:lnTo>
                      <a:lnTo>
                        <a:pt x="480" y="927"/>
                      </a:lnTo>
                      <a:lnTo>
                        <a:pt x="421" y="925"/>
                      </a:lnTo>
                      <a:lnTo>
                        <a:pt x="361" y="923"/>
                      </a:lnTo>
                      <a:lnTo>
                        <a:pt x="307" y="918"/>
                      </a:lnTo>
                      <a:lnTo>
                        <a:pt x="256" y="914"/>
                      </a:lnTo>
                      <a:lnTo>
                        <a:pt x="210" y="905"/>
                      </a:lnTo>
                      <a:lnTo>
                        <a:pt x="169" y="896"/>
                      </a:lnTo>
                      <a:lnTo>
                        <a:pt x="131" y="885"/>
                      </a:lnTo>
                      <a:lnTo>
                        <a:pt x="99" y="874"/>
                      </a:lnTo>
                      <a:lnTo>
                        <a:pt x="75" y="859"/>
                      </a:lnTo>
                      <a:lnTo>
                        <a:pt x="44" y="789"/>
                      </a:lnTo>
                      <a:close/>
                    </a:path>
                  </a:pathLst>
                </a:custGeom>
                <a:solidFill>
                  <a:srgbClr val="38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664760" y="2173680"/>
                  <a:ext cx="704880" cy="240840"/>
                </a:xfrm>
                <a:custGeom>
                  <a:avLst/>
                  <a:gdLst/>
                  <a:ahLst/>
                  <a:rect l="l" t="t" r="r" b="b"/>
                  <a:pathLst>
                    <a:path w="1807" h="617">
                      <a:moveTo>
                        <a:pt x="1446" y="0"/>
                      </a:moveTo>
                      <a:lnTo>
                        <a:pt x="1465" y="2"/>
                      </a:lnTo>
                      <a:lnTo>
                        <a:pt x="1490" y="5"/>
                      </a:lnTo>
                      <a:lnTo>
                        <a:pt x="1514" y="9"/>
                      </a:lnTo>
                      <a:lnTo>
                        <a:pt x="1540" y="13"/>
                      </a:lnTo>
                      <a:lnTo>
                        <a:pt x="1568" y="20"/>
                      </a:lnTo>
                      <a:lnTo>
                        <a:pt x="1597" y="26"/>
                      </a:lnTo>
                      <a:lnTo>
                        <a:pt x="1625" y="35"/>
                      </a:lnTo>
                      <a:lnTo>
                        <a:pt x="1654" y="44"/>
                      </a:lnTo>
                      <a:lnTo>
                        <a:pt x="1682" y="55"/>
                      </a:lnTo>
                      <a:lnTo>
                        <a:pt x="1709" y="68"/>
                      </a:lnTo>
                      <a:lnTo>
                        <a:pt x="1733" y="81"/>
                      </a:lnTo>
                      <a:lnTo>
                        <a:pt x="1752" y="94"/>
                      </a:lnTo>
                      <a:lnTo>
                        <a:pt x="1772" y="112"/>
                      </a:lnTo>
                      <a:lnTo>
                        <a:pt x="1787" y="129"/>
                      </a:lnTo>
                      <a:lnTo>
                        <a:pt x="1798" y="149"/>
                      </a:lnTo>
                      <a:lnTo>
                        <a:pt x="1805" y="169"/>
                      </a:lnTo>
                      <a:lnTo>
                        <a:pt x="1807" y="195"/>
                      </a:lnTo>
                      <a:lnTo>
                        <a:pt x="1800" y="221"/>
                      </a:lnTo>
                      <a:lnTo>
                        <a:pt x="1785" y="245"/>
                      </a:lnTo>
                      <a:lnTo>
                        <a:pt x="1763" y="269"/>
                      </a:lnTo>
                      <a:lnTo>
                        <a:pt x="1737" y="293"/>
                      </a:lnTo>
                      <a:lnTo>
                        <a:pt x="1702" y="315"/>
                      </a:lnTo>
                      <a:lnTo>
                        <a:pt x="1663" y="337"/>
                      </a:lnTo>
                      <a:lnTo>
                        <a:pt x="1617" y="357"/>
                      </a:lnTo>
                      <a:lnTo>
                        <a:pt x="1566" y="376"/>
                      </a:lnTo>
                      <a:lnTo>
                        <a:pt x="1511" y="396"/>
                      </a:lnTo>
                      <a:lnTo>
                        <a:pt x="1452" y="414"/>
                      </a:lnTo>
                      <a:lnTo>
                        <a:pt x="1389" y="431"/>
                      </a:lnTo>
                      <a:lnTo>
                        <a:pt x="1323" y="449"/>
                      </a:lnTo>
                      <a:lnTo>
                        <a:pt x="1253" y="464"/>
                      </a:lnTo>
                      <a:lnTo>
                        <a:pt x="1181" y="479"/>
                      </a:lnTo>
                      <a:lnTo>
                        <a:pt x="1109" y="492"/>
                      </a:lnTo>
                      <a:lnTo>
                        <a:pt x="1032" y="505"/>
                      </a:lnTo>
                      <a:lnTo>
                        <a:pt x="955" y="519"/>
                      </a:lnTo>
                      <a:lnTo>
                        <a:pt x="879" y="532"/>
                      </a:lnTo>
                      <a:lnTo>
                        <a:pt x="802" y="543"/>
                      </a:lnTo>
                      <a:lnTo>
                        <a:pt x="723" y="551"/>
                      </a:lnTo>
                      <a:lnTo>
                        <a:pt x="646" y="562"/>
                      </a:lnTo>
                      <a:lnTo>
                        <a:pt x="572" y="571"/>
                      </a:lnTo>
                      <a:lnTo>
                        <a:pt x="498" y="580"/>
                      </a:lnTo>
                      <a:lnTo>
                        <a:pt x="423" y="586"/>
                      </a:lnTo>
                      <a:lnTo>
                        <a:pt x="353" y="593"/>
                      </a:lnTo>
                      <a:lnTo>
                        <a:pt x="285" y="599"/>
                      </a:lnTo>
                      <a:lnTo>
                        <a:pt x="222" y="604"/>
                      </a:lnTo>
                      <a:lnTo>
                        <a:pt x="160" y="608"/>
                      </a:lnTo>
                      <a:lnTo>
                        <a:pt x="101" y="613"/>
                      </a:lnTo>
                      <a:lnTo>
                        <a:pt x="49" y="615"/>
                      </a:lnTo>
                      <a:lnTo>
                        <a:pt x="0" y="617"/>
                      </a:lnTo>
                      <a:lnTo>
                        <a:pt x="55" y="608"/>
                      </a:lnTo>
                      <a:lnTo>
                        <a:pt x="110" y="599"/>
                      </a:lnTo>
                      <a:lnTo>
                        <a:pt x="167" y="589"/>
                      </a:lnTo>
                      <a:lnTo>
                        <a:pt x="222" y="578"/>
                      </a:lnTo>
                      <a:lnTo>
                        <a:pt x="276" y="567"/>
                      </a:lnTo>
                      <a:lnTo>
                        <a:pt x="333" y="556"/>
                      </a:lnTo>
                      <a:lnTo>
                        <a:pt x="388" y="545"/>
                      </a:lnTo>
                      <a:lnTo>
                        <a:pt x="443" y="532"/>
                      </a:lnTo>
                      <a:lnTo>
                        <a:pt x="498" y="519"/>
                      </a:lnTo>
                      <a:lnTo>
                        <a:pt x="550" y="505"/>
                      </a:lnTo>
                      <a:lnTo>
                        <a:pt x="605" y="490"/>
                      </a:lnTo>
                      <a:lnTo>
                        <a:pt x="657" y="475"/>
                      </a:lnTo>
                      <a:lnTo>
                        <a:pt x="708" y="460"/>
                      </a:lnTo>
                      <a:lnTo>
                        <a:pt x="760" y="442"/>
                      </a:lnTo>
                      <a:lnTo>
                        <a:pt x="811" y="427"/>
                      </a:lnTo>
                      <a:lnTo>
                        <a:pt x="859" y="407"/>
                      </a:lnTo>
                      <a:lnTo>
                        <a:pt x="907" y="390"/>
                      </a:lnTo>
                      <a:lnTo>
                        <a:pt x="955" y="370"/>
                      </a:lnTo>
                      <a:lnTo>
                        <a:pt x="1001" y="350"/>
                      </a:lnTo>
                      <a:lnTo>
                        <a:pt x="1045" y="328"/>
                      </a:lnTo>
                      <a:lnTo>
                        <a:pt x="1089" y="306"/>
                      </a:lnTo>
                      <a:lnTo>
                        <a:pt x="1130" y="282"/>
                      </a:lnTo>
                      <a:lnTo>
                        <a:pt x="1170" y="260"/>
                      </a:lnTo>
                      <a:lnTo>
                        <a:pt x="1209" y="234"/>
                      </a:lnTo>
                      <a:lnTo>
                        <a:pt x="1244" y="208"/>
                      </a:lnTo>
                      <a:lnTo>
                        <a:pt x="1279" y="182"/>
                      </a:lnTo>
                      <a:lnTo>
                        <a:pt x="1312" y="156"/>
                      </a:lnTo>
                      <a:lnTo>
                        <a:pt x="1343" y="125"/>
                      </a:lnTo>
                      <a:lnTo>
                        <a:pt x="1373" y="96"/>
                      </a:lnTo>
                      <a:lnTo>
                        <a:pt x="1400" y="66"/>
                      </a:lnTo>
                      <a:lnTo>
                        <a:pt x="1424" y="33"/>
                      </a:lnTo>
                      <a:lnTo>
                        <a:pt x="14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298640" y="2095200"/>
                  <a:ext cx="492120" cy="314280"/>
                </a:xfrm>
                <a:custGeom>
                  <a:avLst/>
                  <a:gdLst/>
                  <a:ahLst/>
                  <a:rect l="l" t="t" r="r" b="b"/>
                  <a:pathLst>
                    <a:path w="1261" h="805">
                      <a:moveTo>
                        <a:pt x="44" y="715"/>
                      </a:moveTo>
                      <a:lnTo>
                        <a:pt x="11" y="669"/>
                      </a:lnTo>
                      <a:lnTo>
                        <a:pt x="0" y="621"/>
                      </a:lnTo>
                      <a:lnTo>
                        <a:pt x="11" y="573"/>
                      </a:lnTo>
                      <a:lnTo>
                        <a:pt x="39" y="525"/>
                      </a:lnTo>
                      <a:lnTo>
                        <a:pt x="85" y="475"/>
                      </a:lnTo>
                      <a:lnTo>
                        <a:pt x="145" y="426"/>
                      </a:lnTo>
                      <a:lnTo>
                        <a:pt x="217" y="376"/>
                      </a:lnTo>
                      <a:lnTo>
                        <a:pt x="298" y="330"/>
                      </a:lnTo>
                      <a:lnTo>
                        <a:pt x="385" y="284"/>
                      </a:lnTo>
                      <a:lnTo>
                        <a:pt x="480" y="241"/>
                      </a:lnTo>
                      <a:lnTo>
                        <a:pt x="578" y="199"/>
                      </a:lnTo>
                      <a:lnTo>
                        <a:pt x="677" y="162"/>
                      </a:lnTo>
                      <a:lnTo>
                        <a:pt x="775" y="127"/>
                      </a:lnTo>
                      <a:lnTo>
                        <a:pt x="869" y="96"/>
                      </a:lnTo>
                      <a:lnTo>
                        <a:pt x="959" y="70"/>
                      </a:lnTo>
                      <a:lnTo>
                        <a:pt x="1040" y="48"/>
                      </a:lnTo>
                      <a:lnTo>
                        <a:pt x="1064" y="42"/>
                      </a:lnTo>
                      <a:lnTo>
                        <a:pt x="1088" y="35"/>
                      </a:lnTo>
                      <a:lnTo>
                        <a:pt x="1115" y="28"/>
                      </a:lnTo>
                      <a:lnTo>
                        <a:pt x="1143" y="24"/>
                      </a:lnTo>
                      <a:lnTo>
                        <a:pt x="1172" y="18"/>
                      </a:lnTo>
                      <a:lnTo>
                        <a:pt x="1200" y="11"/>
                      </a:lnTo>
                      <a:lnTo>
                        <a:pt x="1231" y="7"/>
                      </a:lnTo>
                      <a:lnTo>
                        <a:pt x="1261" y="0"/>
                      </a:lnTo>
                      <a:lnTo>
                        <a:pt x="1255" y="26"/>
                      </a:lnTo>
                      <a:lnTo>
                        <a:pt x="1176" y="42"/>
                      </a:lnTo>
                      <a:lnTo>
                        <a:pt x="1088" y="61"/>
                      </a:lnTo>
                      <a:lnTo>
                        <a:pt x="996" y="85"/>
                      </a:lnTo>
                      <a:lnTo>
                        <a:pt x="900" y="112"/>
                      </a:lnTo>
                      <a:lnTo>
                        <a:pt x="802" y="142"/>
                      </a:lnTo>
                      <a:lnTo>
                        <a:pt x="703" y="177"/>
                      </a:lnTo>
                      <a:lnTo>
                        <a:pt x="607" y="212"/>
                      </a:lnTo>
                      <a:lnTo>
                        <a:pt x="515" y="252"/>
                      </a:lnTo>
                      <a:lnTo>
                        <a:pt x="425" y="291"/>
                      </a:lnTo>
                      <a:lnTo>
                        <a:pt x="344" y="335"/>
                      </a:lnTo>
                      <a:lnTo>
                        <a:pt x="272" y="376"/>
                      </a:lnTo>
                      <a:lnTo>
                        <a:pt x="208" y="420"/>
                      </a:lnTo>
                      <a:lnTo>
                        <a:pt x="158" y="466"/>
                      </a:lnTo>
                      <a:lnTo>
                        <a:pt x="121" y="510"/>
                      </a:lnTo>
                      <a:lnTo>
                        <a:pt x="101" y="556"/>
                      </a:lnTo>
                      <a:lnTo>
                        <a:pt x="96" y="599"/>
                      </a:lnTo>
                      <a:lnTo>
                        <a:pt x="110" y="643"/>
                      </a:lnTo>
                      <a:lnTo>
                        <a:pt x="138" y="678"/>
                      </a:lnTo>
                      <a:lnTo>
                        <a:pt x="180" y="706"/>
                      </a:lnTo>
                      <a:lnTo>
                        <a:pt x="234" y="730"/>
                      </a:lnTo>
                      <a:lnTo>
                        <a:pt x="298" y="748"/>
                      </a:lnTo>
                      <a:lnTo>
                        <a:pt x="368" y="759"/>
                      </a:lnTo>
                      <a:lnTo>
                        <a:pt x="445" y="768"/>
                      </a:lnTo>
                      <a:lnTo>
                        <a:pt x="526" y="770"/>
                      </a:lnTo>
                      <a:lnTo>
                        <a:pt x="609" y="770"/>
                      </a:lnTo>
                      <a:lnTo>
                        <a:pt x="694" y="768"/>
                      </a:lnTo>
                      <a:lnTo>
                        <a:pt x="775" y="761"/>
                      </a:lnTo>
                      <a:lnTo>
                        <a:pt x="856" y="752"/>
                      </a:lnTo>
                      <a:lnTo>
                        <a:pt x="931" y="744"/>
                      </a:lnTo>
                      <a:lnTo>
                        <a:pt x="999" y="735"/>
                      </a:lnTo>
                      <a:lnTo>
                        <a:pt x="1058" y="724"/>
                      </a:lnTo>
                      <a:lnTo>
                        <a:pt x="1108" y="713"/>
                      </a:lnTo>
                      <a:lnTo>
                        <a:pt x="1115" y="730"/>
                      </a:lnTo>
                      <a:lnTo>
                        <a:pt x="1062" y="741"/>
                      </a:lnTo>
                      <a:lnTo>
                        <a:pt x="1001" y="755"/>
                      </a:lnTo>
                      <a:lnTo>
                        <a:pt x="935" y="765"/>
                      </a:lnTo>
                      <a:lnTo>
                        <a:pt x="861" y="776"/>
                      </a:lnTo>
                      <a:lnTo>
                        <a:pt x="784" y="785"/>
                      </a:lnTo>
                      <a:lnTo>
                        <a:pt x="705" y="794"/>
                      </a:lnTo>
                      <a:lnTo>
                        <a:pt x="622" y="800"/>
                      </a:lnTo>
                      <a:lnTo>
                        <a:pt x="541" y="805"/>
                      </a:lnTo>
                      <a:lnTo>
                        <a:pt x="462" y="805"/>
                      </a:lnTo>
                      <a:lnTo>
                        <a:pt x="383" y="805"/>
                      </a:lnTo>
                      <a:lnTo>
                        <a:pt x="309" y="798"/>
                      </a:lnTo>
                      <a:lnTo>
                        <a:pt x="241" y="792"/>
                      </a:lnTo>
                      <a:lnTo>
                        <a:pt x="177" y="779"/>
                      </a:lnTo>
                      <a:lnTo>
                        <a:pt x="125" y="763"/>
                      </a:lnTo>
                      <a:lnTo>
                        <a:pt x="79" y="741"/>
                      </a:lnTo>
                      <a:lnTo>
                        <a:pt x="44" y="7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001000" y="2066040"/>
                  <a:ext cx="221040" cy="213120"/>
                </a:xfrm>
                <a:custGeom>
                  <a:avLst/>
                  <a:gdLst/>
                  <a:ahLst/>
                  <a:rect l="l" t="t" r="r" b="b"/>
                  <a:pathLst>
                    <a:path w="567" h="546">
                      <a:moveTo>
                        <a:pt x="0" y="4"/>
                      </a:moveTo>
                      <a:lnTo>
                        <a:pt x="53" y="2"/>
                      </a:lnTo>
                      <a:lnTo>
                        <a:pt x="105" y="0"/>
                      </a:lnTo>
                      <a:lnTo>
                        <a:pt x="156" y="0"/>
                      </a:lnTo>
                      <a:lnTo>
                        <a:pt x="206" y="2"/>
                      </a:lnTo>
                      <a:lnTo>
                        <a:pt x="252" y="4"/>
                      </a:lnTo>
                      <a:lnTo>
                        <a:pt x="298" y="8"/>
                      </a:lnTo>
                      <a:lnTo>
                        <a:pt x="339" y="13"/>
                      </a:lnTo>
                      <a:lnTo>
                        <a:pt x="379" y="22"/>
                      </a:lnTo>
                      <a:lnTo>
                        <a:pt x="416" y="30"/>
                      </a:lnTo>
                      <a:lnTo>
                        <a:pt x="449" y="41"/>
                      </a:lnTo>
                      <a:lnTo>
                        <a:pt x="480" y="52"/>
                      </a:lnTo>
                      <a:lnTo>
                        <a:pt x="506" y="67"/>
                      </a:lnTo>
                      <a:lnTo>
                        <a:pt x="528" y="83"/>
                      </a:lnTo>
                      <a:lnTo>
                        <a:pt x="545" y="102"/>
                      </a:lnTo>
                      <a:lnTo>
                        <a:pt x="556" y="122"/>
                      </a:lnTo>
                      <a:lnTo>
                        <a:pt x="565" y="146"/>
                      </a:lnTo>
                      <a:lnTo>
                        <a:pt x="567" y="175"/>
                      </a:lnTo>
                      <a:lnTo>
                        <a:pt x="561" y="205"/>
                      </a:lnTo>
                      <a:lnTo>
                        <a:pt x="550" y="236"/>
                      </a:lnTo>
                      <a:lnTo>
                        <a:pt x="532" y="264"/>
                      </a:lnTo>
                      <a:lnTo>
                        <a:pt x="508" y="295"/>
                      </a:lnTo>
                      <a:lnTo>
                        <a:pt x="482" y="323"/>
                      </a:lnTo>
                      <a:lnTo>
                        <a:pt x="451" y="352"/>
                      </a:lnTo>
                      <a:lnTo>
                        <a:pt x="416" y="378"/>
                      </a:lnTo>
                      <a:lnTo>
                        <a:pt x="379" y="406"/>
                      </a:lnTo>
                      <a:lnTo>
                        <a:pt x="339" y="431"/>
                      </a:lnTo>
                      <a:lnTo>
                        <a:pt x="300" y="455"/>
                      </a:lnTo>
                      <a:lnTo>
                        <a:pt x="261" y="476"/>
                      </a:lnTo>
                      <a:lnTo>
                        <a:pt x="219" y="498"/>
                      </a:lnTo>
                      <a:lnTo>
                        <a:pt x="180" y="516"/>
                      </a:lnTo>
                      <a:lnTo>
                        <a:pt x="140" y="533"/>
                      </a:lnTo>
                      <a:lnTo>
                        <a:pt x="103" y="546"/>
                      </a:lnTo>
                      <a:lnTo>
                        <a:pt x="101" y="525"/>
                      </a:lnTo>
                      <a:lnTo>
                        <a:pt x="127" y="511"/>
                      </a:lnTo>
                      <a:lnTo>
                        <a:pt x="156" y="496"/>
                      </a:lnTo>
                      <a:lnTo>
                        <a:pt x="186" y="479"/>
                      </a:lnTo>
                      <a:lnTo>
                        <a:pt x="217" y="461"/>
                      </a:lnTo>
                      <a:lnTo>
                        <a:pt x="248" y="441"/>
                      </a:lnTo>
                      <a:lnTo>
                        <a:pt x="278" y="422"/>
                      </a:lnTo>
                      <a:lnTo>
                        <a:pt x="309" y="398"/>
                      </a:lnTo>
                      <a:lnTo>
                        <a:pt x="337" y="376"/>
                      </a:lnTo>
                      <a:lnTo>
                        <a:pt x="364" y="352"/>
                      </a:lnTo>
                      <a:lnTo>
                        <a:pt x="388" y="326"/>
                      </a:lnTo>
                      <a:lnTo>
                        <a:pt x="407" y="299"/>
                      </a:lnTo>
                      <a:lnTo>
                        <a:pt x="425" y="273"/>
                      </a:lnTo>
                      <a:lnTo>
                        <a:pt x="438" y="247"/>
                      </a:lnTo>
                      <a:lnTo>
                        <a:pt x="445" y="218"/>
                      </a:lnTo>
                      <a:lnTo>
                        <a:pt x="447" y="192"/>
                      </a:lnTo>
                      <a:lnTo>
                        <a:pt x="442" y="164"/>
                      </a:lnTo>
                      <a:lnTo>
                        <a:pt x="431" y="142"/>
                      </a:lnTo>
                      <a:lnTo>
                        <a:pt x="416" y="122"/>
                      </a:lnTo>
                      <a:lnTo>
                        <a:pt x="394" y="105"/>
                      </a:lnTo>
                      <a:lnTo>
                        <a:pt x="366" y="89"/>
                      </a:lnTo>
                      <a:lnTo>
                        <a:pt x="335" y="76"/>
                      </a:lnTo>
                      <a:lnTo>
                        <a:pt x="300" y="65"/>
                      </a:lnTo>
                      <a:lnTo>
                        <a:pt x="263" y="54"/>
                      </a:lnTo>
                      <a:lnTo>
                        <a:pt x="226" y="48"/>
                      </a:lnTo>
                      <a:lnTo>
                        <a:pt x="188" y="41"/>
                      </a:lnTo>
                      <a:lnTo>
                        <a:pt x="151" y="37"/>
                      </a:lnTo>
                      <a:lnTo>
                        <a:pt x="116" y="32"/>
                      </a:lnTo>
                      <a:lnTo>
                        <a:pt x="83" y="30"/>
                      </a:lnTo>
                      <a:lnTo>
                        <a:pt x="55" y="28"/>
                      </a:lnTo>
                      <a:lnTo>
                        <a:pt x="31" y="26"/>
                      </a:lnTo>
                      <a:lnTo>
                        <a:pt x="13" y="26"/>
                      </a:lnTo>
                      <a:lnTo>
                        <a:pt x="2" y="2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443000" y="2202840"/>
                  <a:ext cx="367560" cy="152640"/>
                </a:xfrm>
                <a:custGeom>
                  <a:avLst/>
                  <a:gdLst/>
                  <a:ahLst/>
                  <a:rect l="l" t="t" r="r" b="b"/>
                  <a:pathLst>
                    <a:path w="942" h="391">
                      <a:moveTo>
                        <a:pt x="296" y="0"/>
                      </a:moveTo>
                      <a:lnTo>
                        <a:pt x="243" y="26"/>
                      </a:lnTo>
                      <a:lnTo>
                        <a:pt x="188" y="56"/>
                      </a:lnTo>
                      <a:lnTo>
                        <a:pt x="134" y="91"/>
                      </a:lnTo>
                      <a:lnTo>
                        <a:pt x="83" y="129"/>
                      </a:lnTo>
                      <a:lnTo>
                        <a:pt x="42" y="168"/>
                      </a:lnTo>
                      <a:lnTo>
                        <a:pt x="11" y="207"/>
                      </a:lnTo>
                      <a:lnTo>
                        <a:pt x="0" y="249"/>
                      </a:lnTo>
                      <a:lnTo>
                        <a:pt x="9" y="290"/>
                      </a:lnTo>
                      <a:lnTo>
                        <a:pt x="33" y="323"/>
                      </a:lnTo>
                      <a:lnTo>
                        <a:pt x="70" y="347"/>
                      </a:lnTo>
                      <a:lnTo>
                        <a:pt x="116" y="367"/>
                      </a:lnTo>
                      <a:lnTo>
                        <a:pt x="173" y="380"/>
                      </a:lnTo>
                      <a:lnTo>
                        <a:pt x="237" y="387"/>
                      </a:lnTo>
                      <a:lnTo>
                        <a:pt x="307" y="391"/>
                      </a:lnTo>
                      <a:lnTo>
                        <a:pt x="379" y="391"/>
                      </a:lnTo>
                      <a:lnTo>
                        <a:pt x="456" y="387"/>
                      </a:lnTo>
                      <a:lnTo>
                        <a:pt x="530" y="378"/>
                      </a:lnTo>
                      <a:lnTo>
                        <a:pt x="607" y="369"/>
                      </a:lnTo>
                      <a:lnTo>
                        <a:pt x="679" y="360"/>
                      </a:lnTo>
                      <a:lnTo>
                        <a:pt x="747" y="347"/>
                      </a:lnTo>
                      <a:lnTo>
                        <a:pt x="808" y="336"/>
                      </a:lnTo>
                      <a:lnTo>
                        <a:pt x="863" y="325"/>
                      </a:lnTo>
                      <a:lnTo>
                        <a:pt x="907" y="315"/>
                      </a:lnTo>
                      <a:lnTo>
                        <a:pt x="942" y="306"/>
                      </a:lnTo>
                      <a:lnTo>
                        <a:pt x="940" y="282"/>
                      </a:lnTo>
                      <a:lnTo>
                        <a:pt x="911" y="286"/>
                      </a:lnTo>
                      <a:lnTo>
                        <a:pt x="876" y="293"/>
                      </a:lnTo>
                      <a:lnTo>
                        <a:pt x="832" y="299"/>
                      </a:lnTo>
                      <a:lnTo>
                        <a:pt x="784" y="308"/>
                      </a:lnTo>
                      <a:lnTo>
                        <a:pt x="732" y="315"/>
                      </a:lnTo>
                      <a:lnTo>
                        <a:pt x="675" y="321"/>
                      </a:lnTo>
                      <a:lnTo>
                        <a:pt x="618" y="325"/>
                      </a:lnTo>
                      <a:lnTo>
                        <a:pt x="556" y="330"/>
                      </a:lnTo>
                      <a:lnTo>
                        <a:pt x="497" y="330"/>
                      </a:lnTo>
                      <a:lnTo>
                        <a:pt x="440" y="330"/>
                      </a:lnTo>
                      <a:lnTo>
                        <a:pt x="383" y="325"/>
                      </a:lnTo>
                      <a:lnTo>
                        <a:pt x="333" y="319"/>
                      </a:lnTo>
                      <a:lnTo>
                        <a:pt x="285" y="306"/>
                      </a:lnTo>
                      <a:lnTo>
                        <a:pt x="245" y="290"/>
                      </a:lnTo>
                      <a:lnTo>
                        <a:pt x="210" y="269"/>
                      </a:lnTo>
                      <a:lnTo>
                        <a:pt x="186" y="242"/>
                      </a:lnTo>
                      <a:lnTo>
                        <a:pt x="171" y="210"/>
                      </a:lnTo>
                      <a:lnTo>
                        <a:pt x="171" y="175"/>
                      </a:lnTo>
                      <a:lnTo>
                        <a:pt x="180" y="144"/>
                      </a:lnTo>
                      <a:lnTo>
                        <a:pt x="199" y="111"/>
                      </a:lnTo>
                      <a:lnTo>
                        <a:pt x="221" y="83"/>
                      </a:lnTo>
                      <a:lnTo>
                        <a:pt x="248" y="59"/>
                      </a:lnTo>
                      <a:lnTo>
                        <a:pt x="274" y="39"/>
                      </a:lnTo>
                      <a:lnTo>
                        <a:pt x="296" y="26"/>
                      </a:lnTo>
                      <a:lnTo>
                        <a:pt x="2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7866720" y="2117160"/>
                  <a:ext cx="211680" cy="117000"/>
                </a:xfrm>
                <a:custGeom>
                  <a:avLst/>
                  <a:gdLst/>
                  <a:ahLst/>
                  <a:rect l="l" t="t" r="r" b="b"/>
                  <a:pathLst>
                    <a:path w="543" h="300">
                      <a:moveTo>
                        <a:pt x="5" y="11"/>
                      </a:moveTo>
                      <a:lnTo>
                        <a:pt x="33" y="6"/>
                      </a:lnTo>
                      <a:lnTo>
                        <a:pt x="64" y="4"/>
                      </a:lnTo>
                      <a:lnTo>
                        <a:pt x="99" y="2"/>
                      </a:lnTo>
                      <a:lnTo>
                        <a:pt x="136" y="2"/>
                      </a:lnTo>
                      <a:lnTo>
                        <a:pt x="175" y="0"/>
                      </a:lnTo>
                      <a:lnTo>
                        <a:pt x="217" y="2"/>
                      </a:lnTo>
                      <a:lnTo>
                        <a:pt x="259" y="4"/>
                      </a:lnTo>
                      <a:lnTo>
                        <a:pt x="298" y="9"/>
                      </a:lnTo>
                      <a:lnTo>
                        <a:pt x="340" y="13"/>
                      </a:lnTo>
                      <a:lnTo>
                        <a:pt x="377" y="20"/>
                      </a:lnTo>
                      <a:lnTo>
                        <a:pt x="414" y="26"/>
                      </a:lnTo>
                      <a:lnTo>
                        <a:pt x="447" y="37"/>
                      </a:lnTo>
                      <a:lnTo>
                        <a:pt x="475" y="48"/>
                      </a:lnTo>
                      <a:lnTo>
                        <a:pt x="500" y="61"/>
                      </a:lnTo>
                      <a:lnTo>
                        <a:pt x="519" y="74"/>
                      </a:lnTo>
                      <a:lnTo>
                        <a:pt x="532" y="92"/>
                      </a:lnTo>
                      <a:lnTo>
                        <a:pt x="541" y="111"/>
                      </a:lnTo>
                      <a:lnTo>
                        <a:pt x="543" y="133"/>
                      </a:lnTo>
                      <a:lnTo>
                        <a:pt x="541" y="157"/>
                      </a:lnTo>
                      <a:lnTo>
                        <a:pt x="532" y="186"/>
                      </a:lnTo>
                      <a:lnTo>
                        <a:pt x="515" y="214"/>
                      </a:lnTo>
                      <a:lnTo>
                        <a:pt x="491" y="243"/>
                      </a:lnTo>
                      <a:lnTo>
                        <a:pt x="456" y="271"/>
                      </a:lnTo>
                      <a:lnTo>
                        <a:pt x="410" y="300"/>
                      </a:lnTo>
                      <a:lnTo>
                        <a:pt x="386" y="291"/>
                      </a:lnTo>
                      <a:lnTo>
                        <a:pt x="408" y="273"/>
                      </a:lnTo>
                      <a:lnTo>
                        <a:pt x="425" y="254"/>
                      </a:lnTo>
                      <a:lnTo>
                        <a:pt x="436" y="234"/>
                      </a:lnTo>
                      <a:lnTo>
                        <a:pt x="443" y="214"/>
                      </a:lnTo>
                      <a:lnTo>
                        <a:pt x="445" y="195"/>
                      </a:lnTo>
                      <a:lnTo>
                        <a:pt x="443" y="173"/>
                      </a:lnTo>
                      <a:lnTo>
                        <a:pt x="436" y="153"/>
                      </a:lnTo>
                      <a:lnTo>
                        <a:pt x="425" y="131"/>
                      </a:lnTo>
                      <a:lnTo>
                        <a:pt x="416" y="118"/>
                      </a:lnTo>
                      <a:lnTo>
                        <a:pt x="405" y="107"/>
                      </a:lnTo>
                      <a:lnTo>
                        <a:pt x="390" y="96"/>
                      </a:lnTo>
                      <a:lnTo>
                        <a:pt x="375" y="85"/>
                      </a:lnTo>
                      <a:lnTo>
                        <a:pt x="355" y="74"/>
                      </a:lnTo>
                      <a:lnTo>
                        <a:pt x="333" y="63"/>
                      </a:lnTo>
                      <a:lnTo>
                        <a:pt x="309" y="55"/>
                      </a:lnTo>
                      <a:lnTo>
                        <a:pt x="283" y="48"/>
                      </a:lnTo>
                      <a:lnTo>
                        <a:pt x="254" y="39"/>
                      </a:lnTo>
                      <a:lnTo>
                        <a:pt x="224" y="35"/>
                      </a:lnTo>
                      <a:lnTo>
                        <a:pt x="191" y="30"/>
                      </a:lnTo>
                      <a:lnTo>
                        <a:pt x="158" y="26"/>
                      </a:lnTo>
                      <a:lnTo>
                        <a:pt x="121" y="26"/>
                      </a:lnTo>
                      <a:lnTo>
                        <a:pt x="81" y="26"/>
                      </a:lnTo>
                      <a:lnTo>
                        <a:pt x="42" y="26"/>
                      </a:lnTo>
                      <a:lnTo>
                        <a:pt x="0" y="3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461720" y="186768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211" h="193">
                      <a:moveTo>
                        <a:pt x="38" y="42"/>
                      </a:moveTo>
                      <a:lnTo>
                        <a:pt x="38" y="40"/>
                      </a:lnTo>
                      <a:lnTo>
                        <a:pt x="42" y="37"/>
                      </a:lnTo>
                      <a:lnTo>
                        <a:pt x="44" y="35"/>
                      </a:lnTo>
                      <a:lnTo>
                        <a:pt x="46" y="35"/>
                      </a:lnTo>
                      <a:lnTo>
                        <a:pt x="64" y="22"/>
                      </a:lnTo>
                      <a:lnTo>
                        <a:pt x="86" y="13"/>
                      </a:lnTo>
                      <a:lnTo>
                        <a:pt x="108" y="5"/>
                      </a:lnTo>
                      <a:lnTo>
                        <a:pt x="127" y="0"/>
                      </a:lnTo>
                      <a:lnTo>
                        <a:pt x="149" y="0"/>
                      </a:lnTo>
                      <a:lnTo>
                        <a:pt x="167" y="2"/>
                      </a:lnTo>
                      <a:lnTo>
                        <a:pt x="182" y="9"/>
                      </a:lnTo>
                      <a:lnTo>
                        <a:pt x="195" y="20"/>
                      </a:lnTo>
                      <a:lnTo>
                        <a:pt x="204" y="35"/>
                      </a:lnTo>
                      <a:lnTo>
                        <a:pt x="208" y="53"/>
                      </a:lnTo>
                      <a:lnTo>
                        <a:pt x="211" y="70"/>
                      </a:lnTo>
                      <a:lnTo>
                        <a:pt x="208" y="90"/>
                      </a:lnTo>
                      <a:lnTo>
                        <a:pt x="200" y="112"/>
                      </a:lnTo>
                      <a:lnTo>
                        <a:pt x="189" y="131"/>
                      </a:lnTo>
                      <a:lnTo>
                        <a:pt x="171" y="151"/>
                      </a:lnTo>
                      <a:lnTo>
                        <a:pt x="149" y="169"/>
                      </a:lnTo>
                      <a:lnTo>
                        <a:pt x="145" y="171"/>
                      </a:lnTo>
                      <a:lnTo>
                        <a:pt x="145" y="173"/>
                      </a:lnTo>
                      <a:lnTo>
                        <a:pt x="143" y="175"/>
                      </a:lnTo>
                      <a:lnTo>
                        <a:pt x="138" y="177"/>
                      </a:lnTo>
                      <a:lnTo>
                        <a:pt x="121" y="184"/>
                      </a:lnTo>
                      <a:lnTo>
                        <a:pt x="101" y="188"/>
                      </a:lnTo>
                      <a:lnTo>
                        <a:pt x="84" y="193"/>
                      </a:lnTo>
                      <a:lnTo>
                        <a:pt x="66" y="191"/>
                      </a:lnTo>
                      <a:lnTo>
                        <a:pt x="51" y="188"/>
                      </a:lnTo>
                      <a:lnTo>
                        <a:pt x="35" y="182"/>
                      </a:lnTo>
                      <a:lnTo>
                        <a:pt x="22" y="171"/>
                      </a:lnTo>
                      <a:lnTo>
                        <a:pt x="11" y="158"/>
                      </a:lnTo>
                      <a:lnTo>
                        <a:pt x="0" y="125"/>
                      </a:lnTo>
                      <a:lnTo>
                        <a:pt x="3" y="94"/>
                      </a:lnTo>
                      <a:lnTo>
                        <a:pt x="18" y="66"/>
                      </a:lnTo>
                      <a:lnTo>
                        <a:pt x="38" y="42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506720" y="1876320"/>
                  <a:ext cx="29880" cy="2988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9" y="64"/>
                      </a:moveTo>
                      <a:lnTo>
                        <a:pt x="0" y="42"/>
                      </a:lnTo>
                      <a:lnTo>
                        <a:pt x="5" y="24"/>
                      </a:lnTo>
                      <a:lnTo>
                        <a:pt x="14" y="11"/>
                      </a:lnTo>
                      <a:lnTo>
                        <a:pt x="22" y="4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62" y="7"/>
                      </a:lnTo>
                      <a:lnTo>
                        <a:pt x="73" y="20"/>
                      </a:lnTo>
                      <a:lnTo>
                        <a:pt x="77" y="37"/>
                      </a:lnTo>
                      <a:lnTo>
                        <a:pt x="75" y="53"/>
                      </a:lnTo>
                      <a:lnTo>
                        <a:pt x="68" y="66"/>
                      </a:lnTo>
                      <a:lnTo>
                        <a:pt x="60" y="72"/>
                      </a:lnTo>
                      <a:lnTo>
                        <a:pt x="49" y="77"/>
                      </a:lnTo>
                      <a:lnTo>
                        <a:pt x="35" y="77"/>
                      </a:lnTo>
                      <a:lnTo>
                        <a:pt x="22" y="74"/>
                      </a:lnTo>
                      <a:lnTo>
                        <a:pt x="9" y="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515360" y="193392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53" h="59">
                      <a:moveTo>
                        <a:pt x="0" y="8"/>
                      </a:moveTo>
                      <a:lnTo>
                        <a:pt x="5" y="6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53" y="54"/>
                      </a:lnTo>
                      <a:lnTo>
                        <a:pt x="51" y="54"/>
                      </a:lnTo>
                      <a:lnTo>
                        <a:pt x="48" y="57"/>
                      </a:lnTo>
                      <a:lnTo>
                        <a:pt x="44" y="57"/>
                      </a:lnTo>
                      <a:lnTo>
                        <a:pt x="42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464960" y="1869840"/>
                  <a:ext cx="14400" cy="1440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37" y="30"/>
                      </a:moveTo>
                      <a:lnTo>
                        <a:pt x="35" y="30"/>
                      </a:lnTo>
                      <a:lnTo>
                        <a:pt x="33" y="32"/>
                      </a:lnTo>
                      <a:lnTo>
                        <a:pt x="29" y="35"/>
                      </a:lnTo>
                      <a:lnTo>
                        <a:pt x="29" y="37"/>
                      </a:lnTo>
                      <a:lnTo>
                        <a:pt x="0" y="0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333560" y="1850040"/>
                  <a:ext cx="550080" cy="345600"/>
                </a:xfrm>
                <a:custGeom>
                  <a:avLst/>
                  <a:gdLst/>
                  <a:ahLst/>
                  <a:rect l="l" t="t" r="r" b="b"/>
                  <a:pathLst>
                    <a:path w="1410" h="886">
                      <a:moveTo>
                        <a:pt x="223" y="414"/>
                      </a:moveTo>
                      <a:lnTo>
                        <a:pt x="252" y="394"/>
                      </a:lnTo>
                      <a:lnTo>
                        <a:pt x="282" y="374"/>
                      </a:lnTo>
                      <a:lnTo>
                        <a:pt x="313" y="355"/>
                      </a:lnTo>
                      <a:lnTo>
                        <a:pt x="348" y="337"/>
                      </a:lnTo>
                      <a:lnTo>
                        <a:pt x="385" y="320"/>
                      </a:lnTo>
                      <a:lnTo>
                        <a:pt x="425" y="302"/>
                      </a:lnTo>
                      <a:lnTo>
                        <a:pt x="464" y="287"/>
                      </a:lnTo>
                      <a:lnTo>
                        <a:pt x="508" y="274"/>
                      </a:lnTo>
                      <a:lnTo>
                        <a:pt x="512" y="272"/>
                      </a:lnTo>
                      <a:lnTo>
                        <a:pt x="514" y="272"/>
                      </a:lnTo>
                      <a:lnTo>
                        <a:pt x="519" y="272"/>
                      </a:lnTo>
                      <a:lnTo>
                        <a:pt x="521" y="269"/>
                      </a:lnTo>
                      <a:lnTo>
                        <a:pt x="525" y="267"/>
                      </a:lnTo>
                      <a:lnTo>
                        <a:pt x="528" y="267"/>
                      </a:lnTo>
                      <a:lnTo>
                        <a:pt x="532" y="267"/>
                      </a:lnTo>
                      <a:lnTo>
                        <a:pt x="536" y="265"/>
                      </a:lnTo>
                      <a:lnTo>
                        <a:pt x="552" y="250"/>
                      </a:lnTo>
                      <a:lnTo>
                        <a:pt x="571" y="234"/>
                      </a:lnTo>
                      <a:lnTo>
                        <a:pt x="593" y="221"/>
                      </a:lnTo>
                      <a:lnTo>
                        <a:pt x="615" y="206"/>
                      </a:lnTo>
                      <a:lnTo>
                        <a:pt x="641" y="193"/>
                      </a:lnTo>
                      <a:lnTo>
                        <a:pt x="668" y="180"/>
                      </a:lnTo>
                      <a:lnTo>
                        <a:pt x="696" y="167"/>
                      </a:lnTo>
                      <a:lnTo>
                        <a:pt x="727" y="156"/>
                      </a:lnTo>
                      <a:lnTo>
                        <a:pt x="738" y="151"/>
                      </a:lnTo>
                      <a:lnTo>
                        <a:pt x="749" y="147"/>
                      </a:lnTo>
                      <a:lnTo>
                        <a:pt x="760" y="142"/>
                      </a:lnTo>
                      <a:lnTo>
                        <a:pt x="771" y="140"/>
                      </a:lnTo>
                      <a:lnTo>
                        <a:pt x="779" y="136"/>
                      </a:lnTo>
                      <a:lnTo>
                        <a:pt x="790" y="132"/>
                      </a:lnTo>
                      <a:lnTo>
                        <a:pt x="801" y="129"/>
                      </a:lnTo>
                      <a:lnTo>
                        <a:pt x="812" y="125"/>
                      </a:lnTo>
                      <a:lnTo>
                        <a:pt x="841" y="107"/>
                      </a:lnTo>
                      <a:lnTo>
                        <a:pt x="871" y="90"/>
                      </a:lnTo>
                      <a:lnTo>
                        <a:pt x="904" y="77"/>
                      </a:lnTo>
                      <a:lnTo>
                        <a:pt x="939" y="64"/>
                      </a:lnTo>
                      <a:lnTo>
                        <a:pt x="972" y="53"/>
                      </a:lnTo>
                      <a:lnTo>
                        <a:pt x="1005" y="44"/>
                      </a:lnTo>
                      <a:lnTo>
                        <a:pt x="1036" y="35"/>
                      </a:lnTo>
                      <a:lnTo>
                        <a:pt x="1062" y="31"/>
                      </a:lnTo>
                      <a:lnTo>
                        <a:pt x="1086" y="22"/>
                      </a:lnTo>
                      <a:lnTo>
                        <a:pt x="1108" y="16"/>
                      </a:lnTo>
                      <a:lnTo>
                        <a:pt x="1132" y="9"/>
                      </a:lnTo>
                      <a:lnTo>
                        <a:pt x="1156" y="5"/>
                      </a:lnTo>
                      <a:lnTo>
                        <a:pt x="1178" y="3"/>
                      </a:lnTo>
                      <a:lnTo>
                        <a:pt x="1202" y="0"/>
                      </a:lnTo>
                      <a:lnTo>
                        <a:pt x="1224" y="0"/>
                      </a:lnTo>
                      <a:lnTo>
                        <a:pt x="1248" y="0"/>
                      </a:lnTo>
                      <a:lnTo>
                        <a:pt x="1274" y="0"/>
                      </a:lnTo>
                      <a:lnTo>
                        <a:pt x="1303" y="3"/>
                      </a:lnTo>
                      <a:lnTo>
                        <a:pt x="1333" y="9"/>
                      </a:lnTo>
                      <a:lnTo>
                        <a:pt x="1362" y="20"/>
                      </a:lnTo>
                      <a:lnTo>
                        <a:pt x="1386" y="33"/>
                      </a:lnTo>
                      <a:lnTo>
                        <a:pt x="1404" y="51"/>
                      </a:lnTo>
                      <a:lnTo>
                        <a:pt x="1410" y="75"/>
                      </a:lnTo>
                      <a:lnTo>
                        <a:pt x="1401" y="105"/>
                      </a:lnTo>
                      <a:lnTo>
                        <a:pt x="1386" y="132"/>
                      </a:lnTo>
                      <a:lnTo>
                        <a:pt x="1362" y="160"/>
                      </a:lnTo>
                      <a:lnTo>
                        <a:pt x="1333" y="188"/>
                      </a:lnTo>
                      <a:lnTo>
                        <a:pt x="1301" y="221"/>
                      </a:lnTo>
                      <a:lnTo>
                        <a:pt x="1261" y="254"/>
                      </a:lnTo>
                      <a:lnTo>
                        <a:pt x="1220" y="287"/>
                      </a:lnTo>
                      <a:lnTo>
                        <a:pt x="1174" y="320"/>
                      </a:lnTo>
                      <a:lnTo>
                        <a:pt x="1125" y="352"/>
                      </a:lnTo>
                      <a:lnTo>
                        <a:pt x="1077" y="387"/>
                      </a:lnTo>
                      <a:lnTo>
                        <a:pt x="1027" y="420"/>
                      </a:lnTo>
                      <a:lnTo>
                        <a:pt x="977" y="451"/>
                      </a:lnTo>
                      <a:lnTo>
                        <a:pt x="926" y="481"/>
                      </a:lnTo>
                      <a:lnTo>
                        <a:pt x="878" y="512"/>
                      </a:lnTo>
                      <a:lnTo>
                        <a:pt x="832" y="538"/>
                      </a:lnTo>
                      <a:lnTo>
                        <a:pt x="788" y="565"/>
                      </a:lnTo>
                      <a:lnTo>
                        <a:pt x="749" y="586"/>
                      </a:lnTo>
                      <a:lnTo>
                        <a:pt x="698" y="615"/>
                      </a:lnTo>
                      <a:lnTo>
                        <a:pt x="650" y="643"/>
                      </a:lnTo>
                      <a:lnTo>
                        <a:pt x="602" y="670"/>
                      </a:lnTo>
                      <a:lnTo>
                        <a:pt x="556" y="698"/>
                      </a:lnTo>
                      <a:lnTo>
                        <a:pt x="510" y="724"/>
                      </a:lnTo>
                      <a:lnTo>
                        <a:pt x="466" y="750"/>
                      </a:lnTo>
                      <a:lnTo>
                        <a:pt x="422" y="775"/>
                      </a:lnTo>
                      <a:lnTo>
                        <a:pt x="381" y="796"/>
                      </a:lnTo>
                      <a:lnTo>
                        <a:pt x="339" y="818"/>
                      </a:lnTo>
                      <a:lnTo>
                        <a:pt x="300" y="836"/>
                      </a:lnTo>
                      <a:lnTo>
                        <a:pt x="263" y="853"/>
                      </a:lnTo>
                      <a:lnTo>
                        <a:pt x="225" y="866"/>
                      </a:lnTo>
                      <a:lnTo>
                        <a:pt x="193" y="875"/>
                      </a:lnTo>
                      <a:lnTo>
                        <a:pt x="160" y="884"/>
                      </a:lnTo>
                      <a:lnTo>
                        <a:pt x="127" y="886"/>
                      </a:lnTo>
                      <a:lnTo>
                        <a:pt x="98" y="886"/>
                      </a:lnTo>
                      <a:lnTo>
                        <a:pt x="83" y="884"/>
                      </a:lnTo>
                      <a:lnTo>
                        <a:pt x="66" y="880"/>
                      </a:lnTo>
                      <a:lnTo>
                        <a:pt x="50" y="873"/>
                      </a:lnTo>
                      <a:lnTo>
                        <a:pt x="35" y="862"/>
                      </a:lnTo>
                      <a:lnTo>
                        <a:pt x="22" y="849"/>
                      </a:lnTo>
                      <a:lnTo>
                        <a:pt x="11" y="831"/>
                      </a:lnTo>
                      <a:lnTo>
                        <a:pt x="2" y="810"/>
                      </a:lnTo>
                      <a:lnTo>
                        <a:pt x="0" y="781"/>
                      </a:lnTo>
                      <a:lnTo>
                        <a:pt x="2" y="748"/>
                      </a:lnTo>
                      <a:lnTo>
                        <a:pt x="9" y="707"/>
                      </a:lnTo>
                      <a:lnTo>
                        <a:pt x="24" y="663"/>
                      </a:lnTo>
                      <a:lnTo>
                        <a:pt x="46" y="615"/>
                      </a:lnTo>
                      <a:lnTo>
                        <a:pt x="77" y="565"/>
                      </a:lnTo>
                      <a:lnTo>
                        <a:pt x="116" y="514"/>
                      </a:lnTo>
                      <a:lnTo>
                        <a:pt x="164" y="464"/>
                      </a:lnTo>
                      <a:lnTo>
                        <a:pt x="223" y="414"/>
                      </a:lnTo>
                      <a:close/>
                    </a:path>
                  </a:pathLst>
                </a:custGeom>
                <a:solidFill>
                  <a:srgbClr val="e8d1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467840" y="2051280"/>
                  <a:ext cx="511560" cy="316800"/>
                </a:xfrm>
                <a:custGeom>
                  <a:avLst/>
                  <a:gdLst/>
                  <a:ahLst/>
                  <a:rect l="l" t="t" r="r" b="b"/>
                  <a:pathLst>
                    <a:path w="1311" h="812">
                      <a:moveTo>
                        <a:pt x="0" y="792"/>
                      </a:moveTo>
                      <a:lnTo>
                        <a:pt x="28" y="786"/>
                      </a:lnTo>
                      <a:lnTo>
                        <a:pt x="63" y="770"/>
                      </a:lnTo>
                      <a:lnTo>
                        <a:pt x="105" y="753"/>
                      </a:lnTo>
                      <a:lnTo>
                        <a:pt x="153" y="729"/>
                      </a:lnTo>
                      <a:lnTo>
                        <a:pt x="205" y="703"/>
                      </a:lnTo>
                      <a:lnTo>
                        <a:pt x="260" y="672"/>
                      </a:lnTo>
                      <a:lnTo>
                        <a:pt x="317" y="639"/>
                      </a:lnTo>
                      <a:lnTo>
                        <a:pt x="374" y="606"/>
                      </a:lnTo>
                      <a:lnTo>
                        <a:pt x="433" y="571"/>
                      </a:lnTo>
                      <a:lnTo>
                        <a:pt x="490" y="536"/>
                      </a:lnTo>
                      <a:lnTo>
                        <a:pt x="545" y="503"/>
                      </a:lnTo>
                      <a:lnTo>
                        <a:pt x="595" y="471"/>
                      </a:lnTo>
                      <a:lnTo>
                        <a:pt x="643" y="442"/>
                      </a:lnTo>
                      <a:lnTo>
                        <a:pt x="685" y="414"/>
                      </a:lnTo>
                      <a:lnTo>
                        <a:pt x="722" y="392"/>
                      </a:lnTo>
                      <a:lnTo>
                        <a:pt x="751" y="374"/>
                      </a:lnTo>
                      <a:lnTo>
                        <a:pt x="775" y="359"/>
                      </a:lnTo>
                      <a:lnTo>
                        <a:pt x="801" y="342"/>
                      </a:lnTo>
                      <a:lnTo>
                        <a:pt x="832" y="324"/>
                      </a:lnTo>
                      <a:lnTo>
                        <a:pt x="865" y="302"/>
                      </a:lnTo>
                      <a:lnTo>
                        <a:pt x="900" y="280"/>
                      </a:lnTo>
                      <a:lnTo>
                        <a:pt x="935" y="256"/>
                      </a:lnTo>
                      <a:lnTo>
                        <a:pt x="974" y="232"/>
                      </a:lnTo>
                      <a:lnTo>
                        <a:pt x="1011" y="206"/>
                      </a:lnTo>
                      <a:lnTo>
                        <a:pt x="1049" y="182"/>
                      </a:lnTo>
                      <a:lnTo>
                        <a:pt x="1086" y="158"/>
                      </a:lnTo>
                      <a:lnTo>
                        <a:pt x="1123" y="134"/>
                      </a:lnTo>
                      <a:lnTo>
                        <a:pt x="1158" y="110"/>
                      </a:lnTo>
                      <a:lnTo>
                        <a:pt x="1191" y="88"/>
                      </a:lnTo>
                      <a:lnTo>
                        <a:pt x="1219" y="68"/>
                      </a:lnTo>
                      <a:lnTo>
                        <a:pt x="1248" y="49"/>
                      </a:lnTo>
                      <a:lnTo>
                        <a:pt x="1270" y="33"/>
                      </a:lnTo>
                      <a:lnTo>
                        <a:pt x="1283" y="22"/>
                      </a:lnTo>
                      <a:lnTo>
                        <a:pt x="1294" y="14"/>
                      </a:lnTo>
                      <a:lnTo>
                        <a:pt x="1303" y="7"/>
                      </a:lnTo>
                      <a:lnTo>
                        <a:pt x="1309" y="0"/>
                      </a:lnTo>
                      <a:lnTo>
                        <a:pt x="1311" y="31"/>
                      </a:lnTo>
                      <a:lnTo>
                        <a:pt x="1309" y="62"/>
                      </a:lnTo>
                      <a:lnTo>
                        <a:pt x="1298" y="95"/>
                      </a:lnTo>
                      <a:lnTo>
                        <a:pt x="1270" y="123"/>
                      </a:lnTo>
                      <a:lnTo>
                        <a:pt x="1257" y="132"/>
                      </a:lnTo>
                      <a:lnTo>
                        <a:pt x="1237" y="147"/>
                      </a:lnTo>
                      <a:lnTo>
                        <a:pt x="1211" y="164"/>
                      </a:lnTo>
                      <a:lnTo>
                        <a:pt x="1178" y="184"/>
                      </a:lnTo>
                      <a:lnTo>
                        <a:pt x="1143" y="208"/>
                      </a:lnTo>
                      <a:lnTo>
                        <a:pt x="1101" y="234"/>
                      </a:lnTo>
                      <a:lnTo>
                        <a:pt x="1060" y="263"/>
                      </a:lnTo>
                      <a:lnTo>
                        <a:pt x="1016" y="291"/>
                      </a:lnTo>
                      <a:lnTo>
                        <a:pt x="972" y="320"/>
                      </a:lnTo>
                      <a:lnTo>
                        <a:pt x="926" y="348"/>
                      </a:lnTo>
                      <a:lnTo>
                        <a:pt x="882" y="377"/>
                      </a:lnTo>
                      <a:lnTo>
                        <a:pt x="841" y="405"/>
                      </a:lnTo>
                      <a:lnTo>
                        <a:pt x="801" y="429"/>
                      </a:lnTo>
                      <a:lnTo>
                        <a:pt x="766" y="451"/>
                      </a:lnTo>
                      <a:lnTo>
                        <a:pt x="735" y="471"/>
                      </a:lnTo>
                      <a:lnTo>
                        <a:pt x="709" y="486"/>
                      </a:lnTo>
                      <a:lnTo>
                        <a:pt x="685" y="499"/>
                      </a:lnTo>
                      <a:lnTo>
                        <a:pt x="659" y="517"/>
                      </a:lnTo>
                      <a:lnTo>
                        <a:pt x="628" y="534"/>
                      </a:lnTo>
                      <a:lnTo>
                        <a:pt x="597" y="554"/>
                      </a:lnTo>
                      <a:lnTo>
                        <a:pt x="565" y="573"/>
                      </a:lnTo>
                      <a:lnTo>
                        <a:pt x="530" y="593"/>
                      </a:lnTo>
                      <a:lnTo>
                        <a:pt x="497" y="615"/>
                      </a:lnTo>
                      <a:lnTo>
                        <a:pt x="462" y="635"/>
                      </a:lnTo>
                      <a:lnTo>
                        <a:pt x="429" y="654"/>
                      </a:lnTo>
                      <a:lnTo>
                        <a:pt x="396" y="674"/>
                      </a:lnTo>
                      <a:lnTo>
                        <a:pt x="365" y="694"/>
                      </a:lnTo>
                      <a:lnTo>
                        <a:pt x="337" y="711"/>
                      </a:lnTo>
                      <a:lnTo>
                        <a:pt x="313" y="727"/>
                      </a:lnTo>
                      <a:lnTo>
                        <a:pt x="289" y="740"/>
                      </a:lnTo>
                      <a:lnTo>
                        <a:pt x="271" y="751"/>
                      </a:lnTo>
                      <a:lnTo>
                        <a:pt x="256" y="759"/>
                      </a:lnTo>
                      <a:lnTo>
                        <a:pt x="230" y="773"/>
                      </a:lnTo>
                      <a:lnTo>
                        <a:pt x="199" y="786"/>
                      </a:lnTo>
                      <a:lnTo>
                        <a:pt x="164" y="799"/>
                      </a:lnTo>
                      <a:lnTo>
                        <a:pt x="131" y="808"/>
                      </a:lnTo>
                      <a:lnTo>
                        <a:pt x="96" y="812"/>
                      </a:lnTo>
                      <a:lnTo>
                        <a:pt x="61" y="812"/>
                      </a:lnTo>
                      <a:lnTo>
                        <a:pt x="28" y="805"/>
                      </a:lnTo>
                      <a:lnTo>
                        <a:pt x="0" y="792"/>
                      </a:lnTo>
                      <a:close/>
                    </a:path>
                  </a:pathLst>
                </a:custGeom>
                <a:solidFill>
                  <a:srgbClr val="2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609680" y="1861920"/>
                  <a:ext cx="138240" cy="160200"/>
                </a:xfrm>
                <a:custGeom>
                  <a:avLst/>
                  <a:gdLst/>
                  <a:ahLst/>
                  <a:rect l="l" t="t" r="r" b="b"/>
                  <a:pathLst>
                    <a:path w="355" h="411">
                      <a:moveTo>
                        <a:pt x="355" y="0"/>
                      </a:moveTo>
                      <a:lnTo>
                        <a:pt x="329" y="4"/>
                      </a:lnTo>
                      <a:lnTo>
                        <a:pt x="298" y="13"/>
                      </a:lnTo>
                      <a:lnTo>
                        <a:pt x="265" y="22"/>
                      </a:lnTo>
                      <a:lnTo>
                        <a:pt x="232" y="33"/>
                      </a:lnTo>
                      <a:lnTo>
                        <a:pt x="197" y="46"/>
                      </a:lnTo>
                      <a:lnTo>
                        <a:pt x="164" y="59"/>
                      </a:lnTo>
                      <a:lnTo>
                        <a:pt x="134" y="76"/>
                      </a:lnTo>
                      <a:lnTo>
                        <a:pt x="105" y="94"/>
                      </a:lnTo>
                      <a:lnTo>
                        <a:pt x="88" y="129"/>
                      </a:lnTo>
                      <a:lnTo>
                        <a:pt x="66" y="175"/>
                      </a:lnTo>
                      <a:lnTo>
                        <a:pt x="42" y="223"/>
                      </a:lnTo>
                      <a:lnTo>
                        <a:pt x="22" y="273"/>
                      </a:lnTo>
                      <a:lnTo>
                        <a:pt x="7" y="321"/>
                      </a:lnTo>
                      <a:lnTo>
                        <a:pt x="0" y="361"/>
                      </a:lnTo>
                      <a:lnTo>
                        <a:pt x="5" y="394"/>
                      </a:lnTo>
                      <a:lnTo>
                        <a:pt x="24" y="411"/>
                      </a:lnTo>
                      <a:lnTo>
                        <a:pt x="48" y="405"/>
                      </a:lnTo>
                      <a:lnTo>
                        <a:pt x="72" y="370"/>
                      </a:lnTo>
                      <a:lnTo>
                        <a:pt x="97" y="313"/>
                      </a:lnTo>
                      <a:lnTo>
                        <a:pt x="127" y="245"/>
                      </a:lnTo>
                      <a:lnTo>
                        <a:pt x="164" y="171"/>
                      </a:lnTo>
                      <a:lnTo>
                        <a:pt x="213" y="101"/>
                      </a:lnTo>
                      <a:lnTo>
                        <a:pt x="274" y="41"/>
                      </a:lnTo>
                      <a:lnTo>
                        <a:pt x="3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375320" y="1956960"/>
                  <a:ext cx="156240" cy="170280"/>
                </a:xfrm>
                <a:custGeom>
                  <a:avLst/>
                  <a:gdLst/>
                  <a:ahLst/>
                  <a:rect l="l" t="t" r="r" b="b"/>
                  <a:pathLst>
                    <a:path w="401" h="437">
                      <a:moveTo>
                        <a:pt x="401" y="0"/>
                      </a:moveTo>
                      <a:lnTo>
                        <a:pt x="357" y="13"/>
                      </a:lnTo>
                      <a:lnTo>
                        <a:pt x="318" y="28"/>
                      </a:lnTo>
                      <a:lnTo>
                        <a:pt x="278" y="46"/>
                      </a:lnTo>
                      <a:lnTo>
                        <a:pt x="241" y="63"/>
                      </a:lnTo>
                      <a:lnTo>
                        <a:pt x="206" y="81"/>
                      </a:lnTo>
                      <a:lnTo>
                        <a:pt x="175" y="100"/>
                      </a:lnTo>
                      <a:lnTo>
                        <a:pt x="145" y="120"/>
                      </a:lnTo>
                      <a:lnTo>
                        <a:pt x="116" y="140"/>
                      </a:lnTo>
                      <a:lnTo>
                        <a:pt x="94" y="164"/>
                      </a:lnTo>
                      <a:lnTo>
                        <a:pt x="70" y="201"/>
                      </a:lnTo>
                      <a:lnTo>
                        <a:pt x="44" y="247"/>
                      </a:lnTo>
                      <a:lnTo>
                        <a:pt x="22" y="297"/>
                      </a:lnTo>
                      <a:lnTo>
                        <a:pt x="7" y="345"/>
                      </a:lnTo>
                      <a:lnTo>
                        <a:pt x="0" y="389"/>
                      </a:lnTo>
                      <a:lnTo>
                        <a:pt x="7" y="420"/>
                      </a:lnTo>
                      <a:lnTo>
                        <a:pt x="31" y="437"/>
                      </a:lnTo>
                      <a:lnTo>
                        <a:pt x="44" y="437"/>
                      </a:lnTo>
                      <a:lnTo>
                        <a:pt x="57" y="428"/>
                      </a:lnTo>
                      <a:lnTo>
                        <a:pt x="68" y="413"/>
                      </a:lnTo>
                      <a:lnTo>
                        <a:pt x="81" y="391"/>
                      </a:lnTo>
                      <a:lnTo>
                        <a:pt x="94" y="365"/>
                      </a:lnTo>
                      <a:lnTo>
                        <a:pt x="107" y="337"/>
                      </a:lnTo>
                      <a:lnTo>
                        <a:pt x="123" y="302"/>
                      </a:lnTo>
                      <a:lnTo>
                        <a:pt x="140" y="267"/>
                      </a:lnTo>
                      <a:lnTo>
                        <a:pt x="160" y="229"/>
                      </a:lnTo>
                      <a:lnTo>
                        <a:pt x="184" y="192"/>
                      </a:lnTo>
                      <a:lnTo>
                        <a:pt x="210" y="155"/>
                      </a:lnTo>
                      <a:lnTo>
                        <a:pt x="239" y="118"/>
                      </a:lnTo>
                      <a:lnTo>
                        <a:pt x="272" y="83"/>
                      </a:lnTo>
                      <a:lnTo>
                        <a:pt x="309" y="52"/>
                      </a:lnTo>
                      <a:lnTo>
                        <a:pt x="353" y="24"/>
                      </a:lnTo>
                      <a:lnTo>
                        <a:pt x="40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479360" y="1910880"/>
                  <a:ext cx="137520" cy="193680"/>
                </a:xfrm>
                <a:custGeom>
                  <a:avLst/>
                  <a:gdLst/>
                  <a:ahLst/>
                  <a:rect l="l" t="t" r="r" b="b"/>
                  <a:pathLst>
                    <a:path w="353" h="496">
                      <a:moveTo>
                        <a:pt x="353" y="0"/>
                      </a:moveTo>
                      <a:lnTo>
                        <a:pt x="322" y="11"/>
                      </a:lnTo>
                      <a:lnTo>
                        <a:pt x="294" y="24"/>
                      </a:lnTo>
                      <a:lnTo>
                        <a:pt x="267" y="37"/>
                      </a:lnTo>
                      <a:lnTo>
                        <a:pt x="241" y="50"/>
                      </a:lnTo>
                      <a:lnTo>
                        <a:pt x="219" y="65"/>
                      </a:lnTo>
                      <a:lnTo>
                        <a:pt x="197" y="78"/>
                      </a:lnTo>
                      <a:lnTo>
                        <a:pt x="178" y="94"/>
                      </a:lnTo>
                      <a:lnTo>
                        <a:pt x="162" y="109"/>
                      </a:lnTo>
                      <a:lnTo>
                        <a:pt x="167" y="116"/>
                      </a:lnTo>
                      <a:lnTo>
                        <a:pt x="167" y="129"/>
                      </a:lnTo>
                      <a:lnTo>
                        <a:pt x="158" y="144"/>
                      </a:lnTo>
                      <a:lnTo>
                        <a:pt x="136" y="161"/>
                      </a:lnTo>
                      <a:lnTo>
                        <a:pt x="105" y="190"/>
                      </a:lnTo>
                      <a:lnTo>
                        <a:pt x="73" y="234"/>
                      </a:lnTo>
                      <a:lnTo>
                        <a:pt x="44" y="288"/>
                      </a:lnTo>
                      <a:lnTo>
                        <a:pt x="20" y="345"/>
                      </a:lnTo>
                      <a:lnTo>
                        <a:pt x="5" y="402"/>
                      </a:lnTo>
                      <a:lnTo>
                        <a:pt x="0" y="448"/>
                      </a:lnTo>
                      <a:lnTo>
                        <a:pt x="11" y="483"/>
                      </a:lnTo>
                      <a:lnTo>
                        <a:pt x="40" y="496"/>
                      </a:lnTo>
                      <a:lnTo>
                        <a:pt x="70" y="485"/>
                      </a:lnTo>
                      <a:lnTo>
                        <a:pt x="92" y="446"/>
                      </a:lnTo>
                      <a:lnTo>
                        <a:pt x="114" y="389"/>
                      </a:lnTo>
                      <a:lnTo>
                        <a:pt x="136" y="319"/>
                      </a:lnTo>
                      <a:lnTo>
                        <a:pt x="167" y="238"/>
                      </a:lnTo>
                      <a:lnTo>
                        <a:pt x="208" y="155"/>
                      </a:lnTo>
                      <a:lnTo>
                        <a:pt x="270" y="74"/>
                      </a:lnTo>
                      <a:lnTo>
                        <a:pt x="3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712280" y="1850040"/>
                  <a:ext cx="108360" cy="111960"/>
                </a:xfrm>
                <a:custGeom>
                  <a:avLst/>
                  <a:gdLst/>
                  <a:ahLst/>
                  <a:rect l="l" t="t" r="r" b="b"/>
                  <a:pathLst>
                    <a:path w="278" h="287">
                      <a:moveTo>
                        <a:pt x="278" y="0"/>
                      </a:moveTo>
                      <a:lnTo>
                        <a:pt x="254" y="0"/>
                      </a:lnTo>
                      <a:lnTo>
                        <a:pt x="232" y="0"/>
                      </a:lnTo>
                      <a:lnTo>
                        <a:pt x="208" y="3"/>
                      </a:lnTo>
                      <a:lnTo>
                        <a:pt x="186" y="5"/>
                      </a:lnTo>
                      <a:lnTo>
                        <a:pt x="162" y="9"/>
                      </a:lnTo>
                      <a:lnTo>
                        <a:pt x="138" y="16"/>
                      </a:lnTo>
                      <a:lnTo>
                        <a:pt x="116" y="22"/>
                      </a:lnTo>
                      <a:lnTo>
                        <a:pt x="92" y="31"/>
                      </a:lnTo>
                      <a:lnTo>
                        <a:pt x="94" y="40"/>
                      </a:lnTo>
                      <a:lnTo>
                        <a:pt x="92" y="51"/>
                      </a:lnTo>
                      <a:lnTo>
                        <a:pt x="81" y="68"/>
                      </a:lnTo>
                      <a:lnTo>
                        <a:pt x="66" y="86"/>
                      </a:lnTo>
                      <a:lnTo>
                        <a:pt x="55" y="103"/>
                      </a:lnTo>
                      <a:lnTo>
                        <a:pt x="37" y="129"/>
                      </a:lnTo>
                      <a:lnTo>
                        <a:pt x="22" y="162"/>
                      </a:lnTo>
                      <a:lnTo>
                        <a:pt x="9" y="195"/>
                      </a:lnTo>
                      <a:lnTo>
                        <a:pt x="0" y="230"/>
                      </a:lnTo>
                      <a:lnTo>
                        <a:pt x="0" y="258"/>
                      </a:lnTo>
                      <a:lnTo>
                        <a:pt x="13" y="278"/>
                      </a:lnTo>
                      <a:lnTo>
                        <a:pt x="42" y="287"/>
                      </a:lnTo>
                      <a:lnTo>
                        <a:pt x="61" y="278"/>
                      </a:lnTo>
                      <a:lnTo>
                        <a:pt x="72" y="256"/>
                      </a:lnTo>
                      <a:lnTo>
                        <a:pt x="81" y="221"/>
                      </a:lnTo>
                      <a:lnTo>
                        <a:pt x="92" y="180"/>
                      </a:lnTo>
                      <a:lnTo>
                        <a:pt x="109" y="132"/>
                      </a:lnTo>
                      <a:lnTo>
                        <a:pt x="142" y="86"/>
                      </a:lnTo>
                      <a:lnTo>
                        <a:pt x="197" y="40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71720" y="1890720"/>
                  <a:ext cx="519840" cy="336600"/>
                </a:xfrm>
                <a:custGeom>
                  <a:avLst/>
                  <a:gdLst/>
                  <a:ahLst/>
                  <a:rect l="l" t="t" r="r" b="b"/>
                  <a:pathLst>
                    <a:path w="1332" h="862">
                      <a:moveTo>
                        <a:pt x="1303" y="0"/>
                      </a:moveTo>
                      <a:lnTo>
                        <a:pt x="1288" y="27"/>
                      </a:lnTo>
                      <a:lnTo>
                        <a:pt x="1264" y="55"/>
                      </a:lnTo>
                      <a:lnTo>
                        <a:pt x="1235" y="83"/>
                      </a:lnTo>
                      <a:lnTo>
                        <a:pt x="1203" y="116"/>
                      </a:lnTo>
                      <a:lnTo>
                        <a:pt x="1163" y="149"/>
                      </a:lnTo>
                      <a:lnTo>
                        <a:pt x="1122" y="182"/>
                      </a:lnTo>
                      <a:lnTo>
                        <a:pt x="1076" y="215"/>
                      </a:lnTo>
                      <a:lnTo>
                        <a:pt x="1027" y="247"/>
                      </a:lnTo>
                      <a:lnTo>
                        <a:pt x="979" y="282"/>
                      </a:lnTo>
                      <a:lnTo>
                        <a:pt x="929" y="315"/>
                      </a:lnTo>
                      <a:lnTo>
                        <a:pt x="879" y="346"/>
                      </a:lnTo>
                      <a:lnTo>
                        <a:pt x="828" y="376"/>
                      </a:lnTo>
                      <a:lnTo>
                        <a:pt x="780" y="407"/>
                      </a:lnTo>
                      <a:lnTo>
                        <a:pt x="734" y="433"/>
                      </a:lnTo>
                      <a:lnTo>
                        <a:pt x="690" y="460"/>
                      </a:lnTo>
                      <a:lnTo>
                        <a:pt x="651" y="481"/>
                      </a:lnTo>
                      <a:lnTo>
                        <a:pt x="600" y="510"/>
                      </a:lnTo>
                      <a:lnTo>
                        <a:pt x="552" y="538"/>
                      </a:lnTo>
                      <a:lnTo>
                        <a:pt x="504" y="565"/>
                      </a:lnTo>
                      <a:lnTo>
                        <a:pt x="458" y="593"/>
                      </a:lnTo>
                      <a:lnTo>
                        <a:pt x="412" y="619"/>
                      </a:lnTo>
                      <a:lnTo>
                        <a:pt x="368" y="645"/>
                      </a:lnTo>
                      <a:lnTo>
                        <a:pt x="324" y="670"/>
                      </a:lnTo>
                      <a:lnTo>
                        <a:pt x="283" y="691"/>
                      </a:lnTo>
                      <a:lnTo>
                        <a:pt x="241" y="713"/>
                      </a:lnTo>
                      <a:lnTo>
                        <a:pt x="202" y="731"/>
                      </a:lnTo>
                      <a:lnTo>
                        <a:pt x="165" y="748"/>
                      </a:lnTo>
                      <a:lnTo>
                        <a:pt x="127" y="761"/>
                      </a:lnTo>
                      <a:lnTo>
                        <a:pt x="95" y="770"/>
                      </a:lnTo>
                      <a:lnTo>
                        <a:pt x="62" y="779"/>
                      </a:lnTo>
                      <a:lnTo>
                        <a:pt x="29" y="781"/>
                      </a:lnTo>
                      <a:lnTo>
                        <a:pt x="0" y="781"/>
                      </a:lnTo>
                      <a:lnTo>
                        <a:pt x="16" y="803"/>
                      </a:lnTo>
                      <a:lnTo>
                        <a:pt x="3" y="823"/>
                      </a:lnTo>
                      <a:lnTo>
                        <a:pt x="14" y="823"/>
                      </a:lnTo>
                      <a:lnTo>
                        <a:pt x="24" y="820"/>
                      </a:lnTo>
                      <a:lnTo>
                        <a:pt x="35" y="820"/>
                      </a:lnTo>
                      <a:lnTo>
                        <a:pt x="46" y="823"/>
                      </a:lnTo>
                      <a:lnTo>
                        <a:pt x="57" y="823"/>
                      </a:lnTo>
                      <a:lnTo>
                        <a:pt x="66" y="827"/>
                      </a:lnTo>
                      <a:lnTo>
                        <a:pt x="73" y="829"/>
                      </a:lnTo>
                      <a:lnTo>
                        <a:pt x="77" y="836"/>
                      </a:lnTo>
                      <a:lnTo>
                        <a:pt x="86" y="849"/>
                      </a:lnTo>
                      <a:lnTo>
                        <a:pt x="99" y="860"/>
                      </a:lnTo>
                      <a:lnTo>
                        <a:pt x="112" y="862"/>
                      </a:lnTo>
                      <a:lnTo>
                        <a:pt x="127" y="851"/>
                      </a:lnTo>
                      <a:lnTo>
                        <a:pt x="143" y="834"/>
                      </a:lnTo>
                      <a:lnTo>
                        <a:pt x="158" y="814"/>
                      </a:lnTo>
                      <a:lnTo>
                        <a:pt x="171" y="801"/>
                      </a:lnTo>
                      <a:lnTo>
                        <a:pt x="182" y="790"/>
                      </a:lnTo>
                      <a:lnTo>
                        <a:pt x="193" y="783"/>
                      </a:lnTo>
                      <a:lnTo>
                        <a:pt x="204" y="777"/>
                      </a:lnTo>
                      <a:lnTo>
                        <a:pt x="213" y="770"/>
                      </a:lnTo>
                      <a:lnTo>
                        <a:pt x="222" y="764"/>
                      </a:lnTo>
                      <a:lnTo>
                        <a:pt x="235" y="759"/>
                      </a:lnTo>
                      <a:lnTo>
                        <a:pt x="250" y="757"/>
                      </a:lnTo>
                      <a:lnTo>
                        <a:pt x="268" y="761"/>
                      </a:lnTo>
                      <a:lnTo>
                        <a:pt x="276" y="779"/>
                      </a:lnTo>
                      <a:lnTo>
                        <a:pt x="283" y="775"/>
                      </a:lnTo>
                      <a:lnTo>
                        <a:pt x="296" y="768"/>
                      </a:lnTo>
                      <a:lnTo>
                        <a:pt x="309" y="766"/>
                      </a:lnTo>
                      <a:lnTo>
                        <a:pt x="322" y="766"/>
                      </a:lnTo>
                      <a:lnTo>
                        <a:pt x="322" y="750"/>
                      </a:lnTo>
                      <a:lnTo>
                        <a:pt x="322" y="737"/>
                      </a:lnTo>
                      <a:lnTo>
                        <a:pt x="327" y="729"/>
                      </a:lnTo>
                      <a:lnTo>
                        <a:pt x="333" y="722"/>
                      </a:lnTo>
                      <a:lnTo>
                        <a:pt x="346" y="715"/>
                      </a:lnTo>
                      <a:lnTo>
                        <a:pt x="364" y="711"/>
                      </a:lnTo>
                      <a:lnTo>
                        <a:pt x="381" y="711"/>
                      </a:lnTo>
                      <a:lnTo>
                        <a:pt x="395" y="726"/>
                      </a:lnTo>
                      <a:lnTo>
                        <a:pt x="397" y="711"/>
                      </a:lnTo>
                      <a:lnTo>
                        <a:pt x="399" y="696"/>
                      </a:lnTo>
                      <a:lnTo>
                        <a:pt x="403" y="683"/>
                      </a:lnTo>
                      <a:lnTo>
                        <a:pt x="410" y="672"/>
                      </a:lnTo>
                      <a:lnTo>
                        <a:pt x="414" y="665"/>
                      </a:lnTo>
                      <a:lnTo>
                        <a:pt x="421" y="659"/>
                      </a:lnTo>
                      <a:lnTo>
                        <a:pt x="430" y="652"/>
                      </a:lnTo>
                      <a:lnTo>
                        <a:pt x="441" y="643"/>
                      </a:lnTo>
                      <a:lnTo>
                        <a:pt x="449" y="637"/>
                      </a:lnTo>
                      <a:lnTo>
                        <a:pt x="460" y="630"/>
                      </a:lnTo>
                      <a:lnTo>
                        <a:pt x="471" y="628"/>
                      </a:lnTo>
                      <a:lnTo>
                        <a:pt x="482" y="626"/>
                      </a:lnTo>
                      <a:lnTo>
                        <a:pt x="493" y="626"/>
                      </a:lnTo>
                      <a:lnTo>
                        <a:pt x="506" y="626"/>
                      </a:lnTo>
                      <a:lnTo>
                        <a:pt x="517" y="624"/>
                      </a:lnTo>
                      <a:lnTo>
                        <a:pt x="530" y="624"/>
                      </a:lnTo>
                      <a:lnTo>
                        <a:pt x="543" y="621"/>
                      </a:lnTo>
                      <a:lnTo>
                        <a:pt x="554" y="619"/>
                      </a:lnTo>
                      <a:lnTo>
                        <a:pt x="565" y="617"/>
                      </a:lnTo>
                      <a:lnTo>
                        <a:pt x="576" y="610"/>
                      </a:lnTo>
                      <a:lnTo>
                        <a:pt x="581" y="591"/>
                      </a:lnTo>
                      <a:lnTo>
                        <a:pt x="592" y="569"/>
                      </a:lnTo>
                      <a:lnTo>
                        <a:pt x="607" y="549"/>
                      </a:lnTo>
                      <a:lnTo>
                        <a:pt x="629" y="532"/>
                      </a:lnTo>
                      <a:lnTo>
                        <a:pt x="653" y="516"/>
                      </a:lnTo>
                      <a:lnTo>
                        <a:pt x="681" y="506"/>
                      </a:lnTo>
                      <a:lnTo>
                        <a:pt x="712" y="499"/>
                      </a:lnTo>
                      <a:lnTo>
                        <a:pt x="745" y="499"/>
                      </a:lnTo>
                      <a:lnTo>
                        <a:pt x="749" y="477"/>
                      </a:lnTo>
                      <a:lnTo>
                        <a:pt x="762" y="457"/>
                      </a:lnTo>
                      <a:lnTo>
                        <a:pt x="776" y="442"/>
                      </a:lnTo>
                      <a:lnTo>
                        <a:pt x="793" y="433"/>
                      </a:lnTo>
                      <a:lnTo>
                        <a:pt x="808" y="429"/>
                      </a:lnTo>
                      <a:lnTo>
                        <a:pt x="819" y="429"/>
                      </a:lnTo>
                      <a:lnTo>
                        <a:pt x="826" y="431"/>
                      </a:lnTo>
                      <a:lnTo>
                        <a:pt x="833" y="440"/>
                      </a:lnTo>
                      <a:lnTo>
                        <a:pt x="843" y="446"/>
                      </a:lnTo>
                      <a:lnTo>
                        <a:pt x="859" y="449"/>
                      </a:lnTo>
                      <a:lnTo>
                        <a:pt x="872" y="444"/>
                      </a:lnTo>
                      <a:lnTo>
                        <a:pt x="879" y="431"/>
                      </a:lnTo>
                      <a:lnTo>
                        <a:pt x="879" y="422"/>
                      </a:lnTo>
                      <a:lnTo>
                        <a:pt x="881" y="411"/>
                      </a:lnTo>
                      <a:lnTo>
                        <a:pt x="885" y="401"/>
                      </a:lnTo>
                      <a:lnTo>
                        <a:pt x="892" y="392"/>
                      </a:lnTo>
                      <a:lnTo>
                        <a:pt x="900" y="383"/>
                      </a:lnTo>
                      <a:lnTo>
                        <a:pt x="914" y="379"/>
                      </a:lnTo>
                      <a:lnTo>
                        <a:pt x="933" y="376"/>
                      </a:lnTo>
                      <a:lnTo>
                        <a:pt x="957" y="379"/>
                      </a:lnTo>
                      <a:lnTo>
                        <a:pt x="962" y="361"/>
                      </a:lnTo>
                      <a:lnTo>
                        <a:pt x="970" y="344"/>
                      </a:lnTo>
                      <a:lnTo>
                        <a:pt x="981" y="326"/>
                      </a:lnTo>
                      <a:lnTo>
                        <a:pt x="999" y="309"/>
                      </a:lnTo>
                      <a:lnTo>
                        <a:pt x="1019" y="296"/>
                      </a:lnTo>
                      <a:lnTo>
                        <a:pt x="1045" y="285"/>
                      </a:lnTo>
                      <a:lnTo>
                        <a:pt x="1076" y="278"/>
                      </a:lnTo>
                      <a:lnTo>
                        <a:pt x="1113" y="278"/>
                      </a:lnTo>
                      <a:lnTo>
                        <a:pt x="1106" y="265"/>
                      </a:lnTo>
                      <a:lnTo>
                        <a:pt x="1104" y="250"/>
                      </a:lnTo>
                      <a:lnTo>
                        <a:pt x="1108" y="239"/>
                      </a:lnTo>
                      <a:lnTo>
                        <a:pt x="1119" y="230"/>
                      </a:lnTo>
                      <a:lnTo>
                        <a:pt x="1135" y="226"/>
                      </a:lnTo>
                      <a:lnTo>
                        <a:pt x="1150" y="226"/>
                      </a:lnTo>
                      <a:lnTo>
                        <a:pt x="1163" y="230"/>
                      </a:lnTo>
                      <a:lnTo>
                        <a:pt x="1172" y="241"/>
                      </a:lnTo>
                      <a:lnTo>
                        <a:pt x="1179" y="228"/>
                      </a:lnTo>
                      <a:lnTo>
                        <a:pt x="1192" y="212"/>
                      </a:lnTo>
                      <a:lnTo>
                        <a:pt x="1207" y="204"/>
                      </a:lnTo>
                      <a:lnTo>
                        <a:pt x="1227" y="202"/>
                      </a:lnTo>
                      <a:lnTo>
                        <a:pt x="1216" y="188"/>
                      </a:lnTo>
                      <a:lnTo>
                        <a:pt x="1209" y="175"/>
                      </a:lnTo>
                      <a:lnTo>
                        <a:pt x="1209" y="160"/>
                      </a:lnTo>
                      <a:lnTo>
                        <a:pt x="1218" y="145"/>
                      </a:lnTo>
                      <a:lnTo>
                        <a:pt x="1233" y="132"/>
                      </a:lnTo>
                      <a:lnTo>
                        <a:pt x="1246" y="123"/>
                      </a:lnTo>
                      <a:lnTo>
                        <a:pt x="1260" y="121"/>
                      </a:lnTo>
                      <a:lnTo>
                        <a:pt x="1273" y="121"/>
                      </a:lnTo>
                      <a:lnTo>
                        <a:pt x="1284" y="123"/>
                      </a:lnTo>
                      <a:lnTo>
                        <a:pt x="1292" y="125"/>
                      </a:lnTo>
                      <a:lnTo>
                        <a:pt x="1301" y="127"/>
                      </a:lnTo>
                      <a:lnTo>
                        <a:pt x="1312" y="125"/>
                      </a:lnTo>
                      <a:lnTo>
                        <a:pt x="1303" y="114"/>
                      </a:lnTo>
                      <a:lnTo>
                        <a:pt x="1303" y="101"/>
                      </a:lnTo>
                      <a:lnTo>
                        <a:pt x="1312" y="92"/>
                      </a:lnTo>
                      <a:lnTo>
                        <a:pt x="1332" y="90"/>
                      </a:lnTo>
                      <a:lnTo>
                        <a:pt x="1314" y="75"/>
                      </a:lnTo>
                      <a:lnTo>
                        <a:pt x="1308" y="55"/>
                      </a:lnTo>
                      <a:lnTo>
                        <a:pt x="1312" y="33"/>
                      </a:lnTo>
                      <a:lnTo>
                        <a:pt x="1330" y="16"/>
                      </a:lnTo>
                      <a:lnTo>
                        <a:pt x="1321" y="13"/>
                      </a:lnTo>
                      <a:lnTo>
                        <a:pt x="1314" y="11"/>
                      </a:lnTo>
                      <a:lnTo>
                        <a:pt x="1308" y="7"/>
                      </a:lnTo>
                      <a:lnTo>
                        <a:pt x="1303" y="0"/>
                      </a:lnTo>
                      <a:close/>
                    </a:path>
                  </a:pathLst>
                </a:custGeom>
                <a:solidFill>
                  <a:srgbClr val="e2bf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50840" y="1892880"/>
                  <a:ext cx="576000" cy="378000"/>
                </a:xfrm>
                <a:custGeom>
                  <a:avLst/>
                  <a:gdLst/>
                  <a:ahLst/>
                  <a:rect l="l" t="t" r="r" b="b"/>
                  <a:pathLst>
                    <a:path w="1476" h="969">
                      <a:moveTo>
                        <a:pt x="1384" y="11"/>
                      </a:moveTo>
                      <a:lnTo>
                        <a:pt x="1366" y="28"/>
                      </a:lnTo>
                      <a:lnTo>
                        <a:pt x="1362" y="50"/>
                      </a:lnTo>
                      <a:lnTo>
                        <a:pt x="1368" y="70"/>
                      </a:lnTo>
                      <a:lnTo>
                        <a:pt x="1386" y="85"/>
                      </a:lnTo>
                      <a:lnTo>
                        <a:pt x="1366" y="87"/>
                      </a:lnTo>
                      <a:lnTo>
                        <a:pt x="1357" y="96"/>
                      </a:lnTo>
                      <a:lnTo>
                        <a:pt x="1357" y="109"/>
                      </a:lnTo>
                      <a:lnTo>
                        <a:pt x="1366" y="120"/>
                      </a:lnTo>
                      <a:lnTo>
                        <a:pt x="1355" y="122"/>
                      </a:lnTo>
                      <a:lnTo>
                        <a:pt x="1346" y="120"/>
                      </a:lnTo>
                      <a:lnTo>
                        <a:pt x="1338" y="118"/>
                      </a:lnTo>
                      <a:lnTo>
                        <a:pt x="1327" y="116"/>
                      </a:lnTo>
                      <a:lnTo>
                        <a:pt x="1314" y="116"/>
                      </a:lnTo>
                      <a:lnTo>
                        <a:pt x="1300" y="118"/>
                      </a:lnTo>
                      <a:lnTo>
                        <a:pt x="1287" y="127"/>
                      </a:lnTo>
                      <a:lnTo>
                        <a:pt x="1272" y="140"/>
                      </a:lnTo>
                      <a:lnTo>
                        <a:pt x="1263" y="155"/>
                      </a:lnTo>
                      <a:lnTo>
                        <a:pt x="1263" y="170"/>
                      </a:lnTo>
                      <a:lnTo>
                        <a:pt x="1270" y="183"/>
                      </a:lnTo>
                      <a:lnTo>
                        <a:pt x="1281" y="197"/>
                      </a:lnTo>
                      <a:lnTo>
                        <a:pt x="1261" y="199"/>
                      </a:lnTo>
                      <a:lnTo>
                        <a:pt x="1246" y="207"/>
                      </a:lnTo>
                      <a:lnTo>
                        <a:pt x="1233" y="223"/>
                      </a:lnTo>
                      <a:lnTo>
                        <a:pt x="1226" y="236"/>
                      </a:lnTo>
                      <a:lnTo>
                        <a:pt x="1217" y="225"/>
                      </a:lnTo>
                      <a:lnTo>
                        <a:pt x="1204" y="221"/>
                      </a:lnTo>
                      <a:lnTo>
                        <a:pt x="1189" y="221"/>
                      </a:lnTo>
                      <a:lnTo>
                        <a:pt x="1173" y="225"/>
                      </a:lnTo>
                      <a:lnTo>
                        <a:pt x="1162" y="234"/>
                      </a:lnTo>
                      <a:lnTo>
                        <a:pt x="1158" y="245"/>
                      </a:lnTo>
                      <a:lnTo>
                        <a:pt x="1160" y="260"/>
                      </a:lnTo>
                      <a:lnTo>
                        <a:pt x="1167" y="273"/>
                      </a:lnTo>
                      <a:lnTo>
                        <a:pt x="1130" y="273"/>
                      </a:lnTo>
                      <a:lnTo>
                        <a:pt x="1099" y="280"/>
                      </a:lnTo>
                      <a:lnTo>
                        <a:pt x="1073" y="291"/>
                      </a:lnTo>
                      <a:lnTo>
                        <a:pt x="1053" y="304"/>
                      </a:lnTo>
                      <a:lnTo>
                        <a:pt x="1035" y="321"/>
                      </a:lnTo>
                      <a:lnTo>
                        <a:pt x="1024" y="339"/>
                      </a:lnTo>
                      <a:lnTo>
                        <a:pt x="1016" y="356"/>
                      </a:lnTo>
                      <a:lnTo>
                        <a:pt x="1011" y="374"/>
                      </a:lnTo>
                      <a:lnTo>
                        <a:pt x="987" y="371"/>
                      </a:lnTo>
                      <a:lnTo>
                        <a:pt x="968" y="374"/>
                      </a:lnTo>
                      <a:lnTo>
                        <a:pt x="954" y="378"/>
                      </a:lnTo>
                      <a:lnTo>
                        <a:pt x="946" y="387"/>
                      </a:lnTo>
                      <a:lnTo>
                        <a:pt x="939" y="396"/>
                      </a:lnTo>
                      <a:lnTo>
                        <a:pt x="935" y="406"/>
                      </a:lnTo>
                      <a:lnTo>
                        <a:pt x="933" y="417"/>
                      </a:lnTo>
                      <a:lnTo>
                        <a:pt x="933" y="426"/>
                      </a:lnTo>
                      <a:lnTo>
                        <a:pt x="926" y="439"/>
                      </a:lnTo>
                      <a:lnTo>
                        <a:pt x="913" y="444"/>
                      </a:lnTo>
                      <a:lnTo>
                        <a:pt x="897" y="441"/>
                      </a:lnTo>
                      <a:lnTo>
                        <a:pt x="887" y="435"/>
                      </a:lnTo>
                      <a:lnTo>
                        <a:pt x="880" y="426"/>
                      </a:lnTo>
                      <a:lnTo>
                        <a:pt x="873" y="424"/>
                      </a:lnTo>
                      <a:lnTo>
                        <a:pt x="862" y="424"/>
                      </a:lnTo>
                      <a:lnTo>
                        <a:pt x="847" y="428"/>
                      </a:lnTo>
                      <a:lnTo>
                        <a:pt x="830" y="437"/>
                      </a:lnTo>
                      <a:lnTo>
                        <a:pt x="816" y="452"/>
                      </a:lnTo>
                      <a:lnTo>
                        <a:pt x="803" y="472"/>
                      </a:lnTo>
                      <a:lnTo>
                        <a:pt x="799" y="494"/>
                      </a:lnTo>
                      <a:lnTo>
                        <a:pt x="766" y="494"/>
                      </a:lnTo>
                      <a:lnTo>
                        <a:pt x="735" y="501"/>
                      </a:lnTo>
                      <a:lnTo>
                        <a:pt x="707" y="511"/>
                      </a:lnTo>
                      <a:lnTo>
                        <a:pt x="683" y="527"/>
                      </a:lnTo>
                      <a:lnTo>
                        <a:pt x="661" y="544"/>
                      </a:lnTo>
                      <a:lnTo>
                        <a:pt x="646" y="564"/>
                      </a:lnTo>
                      <a:lnTo>
                        <a:pt x="635" y="586"/>
                      </a:lnTo>
                      <a:lnTo>
                        <a:pt x="630" y="605"/>
                      </a:lnTo>
                      <a:lnTo>
                        <a:pt x="619" y="612"/>
                      </a:lnTo>
                      <a:lnTo>
                        <a:pt x="608" y="614"/>
                      </a:lnTo>
                      <a:lnTo>
                        <a:pt x="597" y="616"/>
                      </a:lnTo>
                      <a:lnTo>
                        <a:pt x="584" y="619"/>
                      </a:lnTo>
                      <a:lnTo>
                        <a:pt x="571" y="619"/>
                      </a:lnTo>
                      <a:lnTo>
                        <a:pt x="560" y="621"/>
                      </a:lnTo>
                      <a:lnTo>
                        <a:pt x="547" y="621"/>
                      </a:lnTo>
                      <a:lnTo>
                        <a:pt x="536" y="621"/>
                      </a:lnTo>
                      <a:lnTo>
                        <a:pt x="525" y="623"/>
                      </a:lnTo>
                      <a:lnTo>
                        <a:pt x="514" y="625"/>
                      </a:lnTo>
                      <a:lnTo>
                        <a:pt x="503" y="632"/>
                      </a:lnTo>
                      <a:lnTo>
                        <a:pt x="495" y="638"/>
                      </a:lnTo>
                      <a:lnTo>
                        <a:pt x="484" y="647"/>
                      </a:lnTo>
                      <a:lnTo>
                        <a:pt x="475" y="654"/>
                      </a:lnTo>
                      <a:lnTo>
                        <a:pt x="468" y="660"/>
                      </a:lnTo>
                      <a:lnTo>
                        <a:pt x="464" y="667"/>
                      </a:lnTo>
                      <a:lnTo>
                        <a:pt x="457" y="678"/>
                      </a:lnTo>
                      <a:lnTo>
                        <a:pt x="453" y="691"/>
                      </a:lnTo>
                      <a:lnTo>
                        <a:pt x="451" y="706"/>
                      </a:lnTo>
                      <a:lnTo>
                        <a:pt x="449" y="721"/>
                      </a:lnTo>
                      <a:lnTo>
                        <a:pt x="435" y="706"/>
                      </a:lnTo>
                      <a:lnTo>
                        <a:pt x="418" y="706"/>
                      </a:lnTo>
                      <a:lnTo>
                        <a:pt x="400" y="710"/>
                      </a:lnTo>
                      <a:lnTo>
                        <a:pt x="387" y="717"/>
                      </a:lnTo>
                      <a:lnTo>
                        <a:pt x="381" y="724"/>
                      </a:lnTo>
                      <a:lnTo>
                        <a:pt x="376" y="732"/>
                      </a:lnTo>
                      <a:lnTo>
                        <a:pt x="376" y="745"/>
                      </a:lnTo>
                      <a:lnTo>
                        <a:pt x="376" y="761"/>
                      </a:lnTo>
                      <a:lnTo>
                        <a:pt x="363" y="761"/>
                      </a:lnTo>
                      <a:lnTo>
                        <a:pt x="350" y="763"/>
                      </a:lnTo>
                      <a:lnTo>
                        <a:pt x="337" y="770"/>
                      </a:lnTo>
                      <a:lnTo>
                        <a:pt x="330" y="774"/>
                      </a:lnTo>
                      <a:lnTo>
                        <a:pt x="322" y="756"/>
                      </a:lnTo>
                      <a:lnTo>
                        <a:pt x="304" y="752"/>
                      </a:lnTo>
                      <a:lnTo>
                        <a:pt x="289" y="754"/>
                      </a:lnTo>
                      <a:lnTo>
                        <a:pt x="276" y="759"/>
                      </a:lnTo>
                      <a:lnTo>
                        <a:pt x="267" y="765"/>
                      </a:lnTo>
                      <a:lnTo>
                        <a:pt x="258" y="772"/>
                      </a:lnTo>
                      <a:lnTo>
                        <a:pt x="247" y="778"/>
                      </a:lnTo>
                      <a:lnTo>
                        <a:pt x="236" y="785"/>
                      </a:lnTo>
                      <a:lnTo>
                        <a:pt x="225" y="796"/>
                      </a:lnTo>
                      <a:lnTo>
                        <a:pt x="212" y="809"/>
                      </a:lnTo>
                      <a:lnTo>
                        <a:pt x="197" y="829"/>
                      </a:lnTo>
                      <a:lnTo>
                        <a:pt x="181" y="846"/>
                      </a:lnTo>
                      <a:lnTo>
                        <a:pt x="166" y="857"/>
                      </a:lnTo>
                      <a:lnTo>
                        <a:pt x="153" y="855"/>
                      </a:lnTo>
                      <a:lnTo>
                        <a:pt x="140" y="844"/>
                      </a:lnTo>
                      <a:lnTo>
                        <a:pt x="131" y="831"/>
                      </a:lnTo>
                      <a:lnTo>
                        <a:pt x="127" y="824"/>
                      </a:lnTo>
                      <a:lnTo>
                        <a:pt x="120" y="822"/>
                      </a:lnTo>
                      <a:lnTo>
                        <a:pt x="111" y="818"/>
                      </a:lnTo>
                      <a:lnTo>
                        <a:pt x="100" y="818"/>
                      </a:lnTo>
                      <a:lnTo>
                        <a:pt x="89" y="815"/>
                      </a:lnTo>
                      <a:lnTo>
                        <a:pt x="78" y="815"/>
                      </a:lnTo>
                      <a:lnTo>
                        <a:pt x="68" y="818"/>
                      </a:lnTo>
                      <a:lnTo>
                        <a:pt x="57" y="818"/>
                      </a:lnTo>
                      <a:lnTo>
                        <a:pt x="39" y="826"/>
                      </a:lnTo>
                      <a:lnTo>
                        <a:pt x="24" y="840"/>
                      </a:lnTo>
                      <a:lnTo>
                        <a:pt x="13" y="853"/>
                      </a:lnTo>
                      <a:lnTo>
                        <a:pt x="4" y="866"/>
                      </a:lnTo>
                      <a:lnTo>
                        <a:pt x="0" y="879"/>
                      </a:lnTo>
                      <a:lnTo>
                        <a:pt x="4" y="890"/>
                      </a:lnTo>
                      <a:lnTo>
                        <a:pt x="17" y="901"/>
                      </a:lnTo>
                      <a:lnTo>
                        <a:pt x="41" y="905"/>
                      </a:lnTo>
                      <a:lnTo>
                        <a:pt x="43" y="912"/>
                      </a:lnTo>
                      <a:lnTo>
                        <a:pt x="43" y="918"/>
                      </a:lnTo>
                      <a:lnTo>
                        <a:pt x="41" y="923"/>
                      </a:lnTo>
                      <a:lnTo>
                        <a:pt x="37" y="927"/>
                      </a:lnTo>
                      <a:lnTo>
                        <a:pt x="35" y="931"/>
                      </a:lnTo>
                      <a:lnTo>
                        <a:pt x="35" y="938"/>
                      </a:lnTo>
                      <a:lnTo>
                        <a:pt x="37" y="944"/>
                      </a:lnTo>
                      <a:lnTo>
                        <a:pt x="43" y="951"/>
                      </a:lnTo>
                      <a:lnTo>
                        <a:pt x="48" y="953"/>
                      </a:lnTo>
                      <a:lnTo>
                        <a:pt x="54" y="958"/>
                      </a:lnTo>
                      <a:lnTo>
                        <a:pt x="61" y="962"/>
                      </a:lnTo>
                      <a:lnTo>
                        <a:pt x="68" y="964"/>
                      </a:lnTo>
                      <a:lnTo>
                        <a:pt x="78" y="966"/>
                      </a:lnTo>
                      <a:lnTo>
                        <a:pt x="89" y="969"/>
                      </a:lnTo>
                      <a:lnTo>
                        <a:pt x="105" y="966"/>
                      </a:lnTo>
                      <a:lnTo>
                        <a:pt x="122" y="962"/>
                      </a:lnTo>
                      <a:lnTo>
                        <a:pt x="124" y="944"/>
                      </a:lnTo>
                      <a:lnTo>
                        <a:pt x="129" y="931"/>
                      </a:lnTo>
                      <a:lnTo>
                        <a:pt x="133" y="923"/>
                      </a:lnTo>
                      <a:lnTo>
                        <a:pt x="142" y="920"/>
                      </a:lnTo>
                      <a:lnTo>
                        <a:pt x="153" y="923"/>
                      </a:lnTo>
                      <a:lnTo>
                        <a:pt x="160" y="925"/>
                      </a:lnTo>
                      <a:lnTo>
                        <a:pt x="168" y="927"/>
                      </a:lnTo>
                      <a:lnTo>
                        <a:pt x="177" y="927"/>
                      </a:lnTo>
                      <a:lnTo>
                        <a:pt x="186" y="925"/>
                      </a:lnTo>
                      <a:lnTo>
                        <a:pt x="192" y="923"/>
                      </a:lnTo>
                      <a:lnTo>
                        <a:pt x="197" y="916"/>
                      </a:lnTo>
                      <a:lnTo>
                        <a:pt x="197" y="907"/>
                      </a:lnTo>
                      <a:lnTo>
                        <a:pt x="199" y="899"/>
                      </a:lnTo>
                      <a:lnTo>
                        <a:pt x="203" y="892"/>
                      </a:lnTo>
                      <a:lnTo>
                        <a:pt x="210" y="890"/>
                      </a:lnTo>
                      <a:lnTo>
                        <a:pt x="221" y="888"/>
                      </a:lnTo>
                      <a:lnTo>
                        <a:pt x="234" y="890"/>
                      </a:lnTo>
                      <a:lnTo>
                        <a:pt x="249" y="892"/>
                      </a:lnTo>
                      <a:lnTo>
                        <a:pt x="265" y="892"/>
                      </a:lnTo>
                      <a:lnTo>
                        <a:pt x="280" y="888"/>
                      </a:lnTo>
                      <a:lnTo>
                        <a:pt x="291" y="879"/>
                      </a:lnTo>
                      <a:lnTo>
                        <a:pt x="297" y="870"/>
                      </a:lnTo>
                      <a:lnTo>
                        <a:pt x="297" y="864"/>
                      </a:lnTo>
                      <a:lnTo>
                        <a:pt x="297" y="855"/>
                      </a:lnTo>
                      <a:lnTo>
                        <a:pt x="297" y="846"/>
                      </a:lnTo>
                      <a:lnTo>
                        <a:pt x="300" y="835"/>
                      </a:lnTo>
                      <a:lnTo>
                        <a:pt x="306" y="824"/>
                      </a:lnTo>
                      <a:lnTo>
                        <a:pt x="315" y="818"/>
                      </a:lnTo>
                      <a:lnTo>
                        <a:pt x="326" y="813"/>
                      </a:lnTo>
                      <a:lnTo>
                        <a:pt x="337" y="809"/>
                      </a:lnTo>
                      <a:lnTo>
                        <a:pt x="350" y="807"/>
                      </a:lnTo>
                      <a:lnTo>
                        <a:pt x="365" y="811"/>
                      </a:lnTo>
                      <a:lnTo>
                        <a:pt x="385" y="815"/>
                      </a:lnTo>
                      <a:lnTo>
                        <a:pt x="403" y="815"/>
                      </a:lnTo>
                      <a:lnTo>
                        <a:pt x="422" y="813"/>
                      </a:lnTo>
                      <a:lnTo>
                        <a:pt x="442" y="809"/>
                      </a:lnTo>
                      <a:lnTo>
                        <a:pt x="460" y="800"/>
                      </a:lnTo>
                      <a:lnTo>
                        <a:pt x="475" y="791"/>
                      </a:lnTo>
                      <a:lnTo>
                        <a:pt x="488" y="780"/>
                      </a:lnTo>
                      <a:lnTo>
                        <a:pt x="497" y="770"/>
                      </a:lnTo>
                      <a:lnTo>
                        <a:pt x="505" y="756"/>
                      </a:lnTo>
                      <a:lnTo>
                        <a:pt x="514" y="743"/>
                      </a:lnTo>
                      <a:lnTo>
                        <a:pt x="527" y="732"/>
                      </a:lnTo>
                      <a:lnTo>
                        <a:pt x="543" y="728"/>
                      </a:lnTo>
                      <a:lnTo>
                        <a:pt x="556" y="726"/>
                      </a:lnTo>
                      <a:lnTo>
                        <a:pt x="565" y="719"/>
                      </a:lnTo>
                      <a:lnTo>
                        <a:pt x="567" y="710"/>
                      </a:lnTo>
                      <a:lnTo>
                        <a:pt x="567" y="700"/>
                      </a:lnTo>
                      <a:lnTo>
                        <a:pt x="567" y="689"/>
                      </a:lnTo>
                      <a:lnTo>
                        <a:pt x="571" y="678"/>
                      </a:lnTo>
                      <a:lnTo>
                        <a:pt x="582" y="669"/>
                      </a:lnTo>
                      <a:lnTo>
                        <a:pt x="595" y="669"/>
                      </a:lnTo>
                      <a:lnTo>
                        <a:pt x="604" y="671"/>
                      </a:lnTo>
                      <a:lnTo>
                        <a:pt x="615" y="671"/>
                      </a:lnTo>
                      <a:lnTo>
                        <a:pt x="626" y="671"/>
                      </a:lnTo>
                      <a:lnTo>
                        <a:pt x="635" y="669"/>
                      </a:lnTo>
                      <a:lnTo>
                        <a:pt x="646" y="665"/>
                      </a:lnTo>
                      <a:lnTo>
                        <a:pt x="654" y="660"/>
                      </a:lnTo>
                      <a:lnTo>
                        <a:pt x="661" y="654"/>
                      </a:lnTo>
                      <a:lnTo>
                        <a:pt x="668" y="647"/>
                      </a:lnTo>
                      <a:lnTo>
                        <a:pt x="674" y="638"/>
                      </a:lnTo>
                      <a:lnTo>
                        <a:pt x="681" y="627"/>
                      </a:lnTo>
                      <a:lnTo>
                        <a:pt x="687" y="616"/>
                      </a:lnTo>
                      <a:lnTo>
                        <a:pt x="698" y="608"/>
                      </a:lnTo>
                      <a:lnTo>
                        <a:pt x="707" y="599"/>
                      </a:lnTo>
                      <a:lnTo>
                        <a:pt x="718" y="592"/>
                      </a:lnTo>
                      <a:lnTo>
                        <a:pt x="729" y="590"/>
                      </a:lnTo>
                      <a:lnTo>
                        <a:pt x="740" y="592"/>
                      </a:lnTo>
                      <a:lnTo>
                        <a:pt x="751" y="597"/>
                      </a:lnTo>
                      <a:lnTo>
                        <a:pt x="762" y="599"/>
                      </a:lnTo>
                      <a:lnTo>
                        <a:pt x="775" y="599"/>
                      </a:lnTo>
                      <a:lnTo>
                        <a:pt x="784" y="597"/>
                      </a:lnTo>
                      <a:lnTo>
                        <a:pt x="792" y="592"/>
                      </a:lnTo>
                      <a:lnTo>
                        <a:pt x="799" y="588"/>
                      </a:lnTo>
                      <a:lnTo>
                        <a:pt x="801" y="579"/>
                      </a:lnTo>
                      <a:lnTo>
                        <a:pt x="801" y="570"/>
                      </a:lnTo>
                      <a:lnTo>
                        <a:pt x="799" y="551"/>
                      </a:lnTo>
                      <a:lnTo>
                        <a:pt x="803" y="538"/>
                      </a:lnTo>
                      <a:lnTo>
                        <a:pt x="812" y="529"/>
                      </a:lnTo>
                      <a:lnTo>
                        <a:pt x="823" y="527"/>
                      </a:lnTo>
                      <a:lnTo>
                        <a:pt x="838" y="531"/>
                      </a:lnTo>
                      <a:lnTo>
                        <a:pt x="854" y="538"/>
                      </a:lnTo>
                      <a:lnTo>
                        <a:pt x="869" y="540"/>
                      </a:lnTo>
                      <a:lnTo>
                        <a:pt x="880" y="533"/>
                      </a:lnTo>
                      <a:lnTo>
                        <a:pt x="893" y="525"/>
                      </a:lnTo>
                      <a:lnTo>
                        <a:pt x="908" y="516"/>
                      </a:lnTo>
                      <a:lnTo>
                        <a:pt x="922" y="514"/>
                      </a:lnTo>
                      <a:lnTo>
                        <a:pt x="935" y="514"/>
                      </a:lnTo>
                      <a:lnTo>
                        <a:pt x="943" y="516"/>
                      </a:lnTo>
                      <a:lnTo>
                        <a:pt x="954" y="518"/>
                      </a:lnTo>
                      <a:lnTo>
                        <a:pt x="965" y="518"/>
                      </a:lnTo>
                      <a:lnTo>
                        <a:pt x="978" y="516"/>
                      </a:lnTo>
                      <a:lnTo>
                        <a:pt x="983" y="514"/>
                      </a:lnTo>
                      <a:lnTo>
                        <a:pt x="987" y="511"/>
                      </a:lnTo>
                      <a:lnTo>
                        <a:pt x="992" y="509"/>
                      </a:lnTo>
                      <a:lnTo>
                        <a:pt x="996" y="507"/>
                      </a:lnTo>
                      <a:lnTo>
                        <a:pt x="1005" y="501"/>
                      </a:lnTo>
                      <a:lnTo>
                        <a:pt x="1016" y="490"/>
                      </a:lnTo>
                      <a:lnTo>
                        <a:pt x="1027" y="481"/>
                      </a:lnTo>
                      <a:lnTo>
                        <a:pt x="1035" y="470"/>
                      </a:lnTo>
                      <a:lnTo>
                        <a:pt x="1042" y="457"/>
                      </a:lnTo>
                      <a:lnTo>
                        <a:pt x="1044" y="446"/>
                      </a:lnTo>
                      <a:lnTo>
                        <a:pt x="1044" y="433"/>
                      </a:lnTo>
                      <a:lnTo>
                        <a:pt x="1038" y="422"/>
                      </a:lnTo>
                      <a:lnTo>
                        <a:pt x="1044" y="409"/>
                      </a:lnTo>
                      <a:lnTo>
                        <a:pt x="1053" y="396"/>
                      </a:lnTo>
                      <a:lnTo>
                        <a:pt x="1066" y="385"/>
                      </a:lnTo>
                      <a:lnTo>
                        <a:pt x="1081" y="380"/>
                      </a:lnTo>
                      <a:lnTo>
                        <a:pt x="1090" y="378"/>
                      </a:lnTo>
                      <a:lnTo>
                        <a:pt x="1103" y="376"/>
                      </a:lnTo>
                      <a:lnTo>
                        <a:pt x="1116" y="374"/>
                      </a:lnTo>
                      <a:lnTo>
                        <a:pt x="1130" y="369"/>
                      </a:lnTo>
                      <a:lnTo>
                        <a:pt x="1143" y="365"/>
                      </a:lnTo>
                      <a:lnTo>
                        <a:pt x="1154" y="358"/>
                      </a:lnTo>
                      <a:lnTo>
                        <a:pt x="1162" y="352"/>
                      </a:lnTo>
                      <a:lnTo>
                        <a:pt x="1169" y="343"/>
                      </a:lnTo>
                      <a:lnTo>
                        <a:pt x="1173" y="332"/>
                      </a:lnTo>
                      <a:lnTo>
                        <a:pt x="1182" y="321"/>
                      </a:lnTo>
                      <a:lnTo>
                        <a:pt x="1193" y="308"/>
                      </a:lnTo>
                      <a:lnTo>
                        <a:pt x="1204" y="297"/>
                      </a:lnTo>
                      <a:lnTo>
                        <a:pt x="1219" y="288"/>
                      </a:lnTo>
                      <a:lnTo>
                        <a:pt x="1235" y="284"/>
                      </a:lnTo>
                      <a:lnTo>
                        <a:pt x="1254" y="286"/>
                      </a:lnTo>
                      <a:lnTo>
                        <a:pt x="1274" y="297"/>
                      </a:lnTo>
                      <a:lnTo>
                        <a:pt x="1278" y="295"/>
                      </a:lnTo>
                      <a:lnTo>
                        <a:pt x="1283" y="293"/>
                      </a:lnTo>
                      <a:lnTo>
                        <a:pt x="1285" y="291"/>
                      </a:lnTo>
                      <a:lnTo>
                        <a:pt x="1289" y="288"/>
                      </a:lnTo>
                      <a:lnTo>
                        <a:pt x="1294" y="284"/>
                      </a:lnTo>
                      <a:lnTo>
                        <a:pt x="1298" y="282"/>
                      </a:lnTo>
                      <a:lnTo>
                        <a:pt x="1300" y="277"/>
                      </a:lnTo>
                      <a:lnTo>
                        <a:pt x="1305" y="273"/>
                      </a:lnTo>
                      <a:lnTo>
                        <a:pt x="1311" y="266"/>
                      </a:lnTo>
                      <a:lnTo>
                        <a:pt x="1316" y="258"/>
                      </a:lnTo>
                      <a:lnTo>
                        <a:pt x="1318" y="251"/>
                      </a:lnTo>
                      <a:lnTo>
                        <a:pt x="1322" y="242"/>
                      </a:lnTo>
                      <a:lnTo>
                        <a:pt x="1335" y="240"/>
                      </a:lnTo>
                      <a:lnTo>
                        <a:pt x="1346" y="236"/>
                      </a:lnTo>
                      <a:lnTo>
                        <a:pt x="1351" y="229"/>
                      </a:lnTo>
                      <a:lnTo>
                        <a:pt x="1349" y="223"/>
                      </a:lnTo>
                      <a:lnTo>
                        <a:pt x="1349" y="212"/>
                      </a:lnTo>
                      <a:lnTo>
                        <a:pt x="1351" y="203"/>
                      </a:lnTo>
                      <a:lnTo>
                        <a:pt x="1357" y="199"/>
                      </a:lnTo>
                      <a:lnTo>
                        <a:pt x="1364" y="197"/>
                      </a:lnTo>
                      <a:lnTo>
                        <a:pt x="1375" y="197"/>
                      </a:lnTo>
                      <a:lnTo>
                        <a:pt x="1386" y="194"/>
                      </a:lnTo>
                      <a:lnTo>
                        <a:pt x="1395" y="192"/>
                      </a:lnTo>
                      <a:lnTo>
                        <a:pt x="1399" y="192"/>
                      </a:lnTo>
                      <a:lnTo>
                        <a:pt x="1401" y="179"/>
                      </a:lnTo>
                      <a:lnTo>
                        <a:pt x="1403" y="168"/>
                      </a:lnTo>
                      <a:lnTo>
                        <a:pt x="1410" y="157"/>
                      </a:lnTo>
                      <a:lnTo>
                        <a:pt x="1421" y="151"/>
                      </a:lnTo>
                      <a:lnTo>
                        <a:pt x="1434" y="148"/>
                      </a:lnTo>
                      <a:lnTo>
                        <a:pt x="1451" y="144"/>
                      </a:lnTo>
                      <a:lnTo>
                        <a:pt x="1467" y="135"/>
                      </a:lnTo>
                      <a:lnTo>
                        <a:pt x="1473" y="118"/>
                      </a:lnTo>
                      <a:lnTo>
                        <a:pt x="1469" y="109"/>
                      </a:lnTo>
                      <a:lnTo>
                        <a:pt x="1467" y="102"/>
                      </a:lnTo>
                      <a:lnTo>
                        <a:pt x="1462" y="96"/>
                      </a:lnTo>
                      <a:lnTo>
                        <a:pt x="1458" y="94"/>
                      </a:lnTo>
                      <a:lnTo>
                        <a:pt x="1458" y="87"/>
                      </a:lnTo>
                      <a:lnTo>
                        <a:pt x="1460" y="78"/>
                      </a:lnTo>
                      <a:lnTo>
                        <a:pt x="1462" y="70"/>
                      </a:lnTo>
                      <a:lnTo>
                        <a:pt x="1467" y="63"/>
                      </a:lnTo>
                      <a:lnTo>
                        <a:pt x="1473" y="57"/>
                      </a:lnTo>
                      <a:lnTo>
                        <a:pt x="1476" y="46"/>
                      </a:lnTo>
                      <a:lnTo>
                        <a:pt x="1476" y="32"/>
                      </a:lnTo>
                      <a:lnTo>
                        <a:pt x="1471" y="22"/>
                      </a:lnTo>
                      <a:lnTo>
                        <a:pt x="1467" y="17"/>
                      </a:lnTo>
                      <a:lnTo>
                        <a:pt x="1460" y="11"/>
                      </a:lnTo>
                      <a:lnTo>
                        <a:pt x="1454" y="6"/>
                      </a:lnTo>
                      <a:lnTo>
                        <a:pt x="1443" y="2"/>
                      </a:lnTo>
                      <a:lnTo>
                        <a:pt x="1432" y="0"/>
                      </a:lnTo>
                      <a:lnTo>
                        <a:pt x="1416" y="0"/>
                      </a:lnTo>
                      <a:lnTo>
                        <a:pt x="1401" y="2"/>
                      </a:lnTo>
                      <a:lnTo>
                        <a:pt x="1384" y="11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739280" y="2003760"/>
                  <a:ext cx="120600" cy="92520"/>
                </a:xfrm>
                <a:custGeom>
                  <a:avLst/>
                  <a:gdLst/>
                  <a:ahLst/>
                  <a:rect l="l" t="t" r="r" b="b"/>
                  <a:pathLst>
                    <a:path w="309" h="238">
                      <a:moveTo>
                        <a:pt x="293" y="4"/>
                      </a:moveTo>
                      <a:lnTo>
                        <a:pt x="289" y="7"/>
                      </a:lnTo>
                      <a:lnTo>
                        <a:pt x="287" y="9"/>
                      </a:lnTo>
                      <a:lnTo>
                        <a:pt x="282" y="11"/>
                      </a:lnTo>
                      <a:lnTo>
                        <a:pt x="278" y="13"/>
                      </a:lnTo>
                      <a:lnTo>
                        <a:pt x="258" y="2"/>
                      </a:lnTo>
                      <a:lnTo>
                        <a:pt x="239" y="0"/>
                      </a:lnTo>
                      <a:lnTo>
                        <a:pt x="223" y="4"/>
                      </a:lnTo>
                      <a:lnTo>
                        <a:pt x="208" y="13"/>
                      </a:lnTo>
                      <a:lnTo>
                        <a:pt x="197" y="24"/>
                      </a:lnTo>
                      <a:lnTo>
                        <a:pt x="186" y="37"/>
                      </a:lnTo>
                      <a:lnTo>
                        <a:pt x="177" y="48"/>
                      </a:lnTo>
                      <a:lnTo>
                        <a:pt x="173" y="59"/>
                      </a:lnTo>
                      <a:lnTo>
                        <a:pt x="166" y="68"/>
                      </a:lnTo>
                      <a:lnTo>
                        <a:pt x="158" y="74"/>
                      </a:lnTo>
                      <a:lnTo>
                        <a:pt x="147" y="81"/>
                      </a:lnTo>
                      <a:lnTo>
                        <a:pt x="134" y="85"/>
                      </a:lnTo>
                      <a:lnTo>
                        <a:pt x="120" y="90"/>
                      </a:lnTo>
                      <a:lnTo>
                        <a:pt x="107" y="92"/>
                      </a:lnTo>
                      <a:lnTo>
                        <a:pt x="94" y="94"/>
                      </a:lnTo>
                      <a:lnTo>
                        <a:pt x="85" y="96"/>
                      </a:lnTo>
                      <a:lnTo>
                        <a:pt x="70" y="101"/>
                      </a:lnTo>
                      <a:lnTo>
                        <a:pt x="57" y="112"/>
                      </a:lnTo>
                      <a:lnTo>
                        <a:pt x="48" y="125"/>
                      </a:lnTo>
                      <a:lnTo>
                        <a:pt x="42" y="138"/>
                      </a:lnTo>
                      <a:lnTo>
                        <a:pt x="46" y="147"/>
                      </a:lnTo>
                      <a:lnTo>
                        <a:pt x="48" y="155"/>
                      </a:lnTo>
                      <a:lnTo>
                        <a:pt x="48" y="166"/>
                      </a:lnTo>
                      <a:lnTo>
                        <a:pt x="46" y="175"/>
                      </a:lnTo>
                      <a:lnTo>
                        <a:pt x="37" y="190"/>
                      </a:lnTo>
                      <a:lnTo>
                        <a:pt x="26" y="201"/>
                      </a:lnTo>
                      <a:lnTo>
                        <a:pt x="13" y="214"/>
                      </a:lnTo>
                      <a:lnTo>
                        <a:pt x="0" y="223"/>
                      </a:lnTo>
                      <a:lnTo>
                        <a:pt x="4" y="230"/>
                      </a:lnTo>
                      <a:lnTo>
                        <a:pt x="11" y="234"/>
                      </a:lnTo>
                      <a:lnTo>
                        <a:pt x="20" y="236"/>
                      </a:lnTo>
                      <a:lnTo>
                        <a:pt x="28" y="238"/>
                      </a:lnTo>
                      <a:lnTo>
                        <a:pt x="37" y="236"/>
                      </a:lnTo>
                      <a:lnTo>
                        <a:pt x="53" y="234"/>
                      </a:lnTo>
                      <a:lnTo>
                        <a:pt x="74" y="227"/>
                      </a:lnTo>
                      <a:lnTo>
                        <a:pt x="99" y="221"/>
                      </a:lnTo>
                      <a:lnTo>
                        <a:pt x="125" y="212"/>
                      </a:lnTo>
                      <a:lnTo>
                        <a:pt x="151" y="203"/>
                      </a:lnTo>
                      <a:lnTo>
                        <a:pt x="175" y="192"/>
                      </a:lnTo>
                      <a:lnTo>
                        <a:pt x="197" y="182"/>
                      </a:lnTo>
                      <a:lnTo>
                        <a:pt x="217" y="168"/>
                      </a:lnTo>
                      <a:lnTo>
                        <a:pt x="237" y="153"/>
                      </a:lnTo>
                      <a:lnTo>
                        <a:pt x="256" y="138"/>
                      </a:lnTo>
                      <a:lnTo>
                        <a:pt x="274" y="120"/>
                      </a:lnTo>
                      <a:lnTo>
                        <a:pt x="289" y="103"/>
                      </a:lnTo>
                      <a:lnTo>
                        <a:pt x="300" y="90"/>
                      </a:lnTo>
                      <a:lnTo>
                        <a:pt x="309" y="77"/>
                      </a:lnTo>
                      <a:lnTo>
                        <a:pt x="309" y="66"/>
                      </a:lnTo>
                      <a:lnTo>
                        <a:pt x="304" y="48"/>
                      </a:lnTo>
                      <a:lnTo>
                        <a:pt x="298" y="31"/>
                      </a:lnTo>
                      <a:lnTo>
                        <a:pt x="296" y="15"/>
                      </a:lnTo>
                      <a:lnTo>
                        <a:pt x="29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398360" y="2177280"/>
                  <a:ext cx="174240" cy="102240"/>
                </a:xfrm>
                <a:custGeom>
                  <a:avLst/>
                  <a:gdLst/>
                  <a:ahLst/>
                  <a:rect l="l" t="t" r="r" b="b"/>
                  <a:pathLst>
                    <a:path w="447" h="262">
                      <a:moveTo>
                        <a:pt x="421" y="0"/>
                      </a:moveTo>
                      <a:lnTo>
                        <a:pt x="405" y="4"/>
                      </a:lnTo>
                      <a:lnTo>
                        <a:pt x="392" y="15"/>
                      </a:lnTo>
                      <a:lnTo>
                        <a:pt x="383" y="28"/>
                      </a:lnTo>
                      <a:lnTo>
                        <a:pt x="375" y="42"/>
                      </a:lnTo>
                      <a:lnTo>
                        <a:pt x="366" y="52"/>
                      </a:lnTo>
                      <a:lnTo>
                        <a:pt x="353" y="63"/>
                      </a:lnTo>
                      <a:lnTo>
                        <a:pt x="338" y="72"/>
                      </a:lnTo>
                      <a:lnTo>
                        <a:pt x="320" y="81"/>
                      </a:lnTo>
                      <a:lnTo>
                        <a:pt x="300" y="85"/>
                      </a:lnTo>
                      <a:lnTo>
                        <a:pt x="281" y="87"/>
                      </a:lnTo>
                      <a:lnTo>
                        <a:pt x="263" y="87"/>
                      </a:lnTo>
                      <a:lnTo>
                        <a:pt x="243" y="83"/>
                      </a:lnTo>
                      <a:lnTo>
                        <a:pt x="228" y="79"/>
                      </a:lnTo>
                      <a:lnTo>
                        <a:pt x="215" y="81"/>
                      </a:lnTo>
                      <a:lnTo>
                        <a:pt x="204" y="85"/>
                      </a:lnTo>
                      <a:lnTo>
                        <a:pt x="193" y="90"/>
                      </a:lnTo>
                      <a:lnTo>
                        <a:pt x="184" y="96"/>
                      </a:lnTo>
                      <a:lnTo>
                        <a:pt x="178" y="107"/>
                      </a:lnTo>
                      <a:lnTo>
                        <a:pt x="175" y="118"/>
                      </a:lnTo>
                      <a:lnTo>
                        <a:pt x="175" y="127"/>
                      </a:lnTo>
                      <a:lnTo>
                        <a:pt x="175" y="136"/>
                      </a:lnTo>
                      <a:lnTo>
                        <a:pt x="175" y="142"/>
                      </a:lnTo>
                      <a:lnTo>
                        <a:pt x="169" y="151"/>
                      </a:lnTo>
                      <a:lnTo>
                        <a:pt x="158" y="160"/>
                      </a:lnTo>
                      <a:lnTo>
                        <a:pt x="143" y="164"/>
                      </a:lnTo>
                      <a:lnTo>
                        <a:pt x="127" y="164"/>
                      </a:lnTo>
                      <a:lnTo>
                        <a:pt x="112" y="162"/>
                      </a:lnTo>
                      <a:lnTo>
                        <a:pt x="99" y="160"/>
                      </a:lnTo>
                      <a:lnTo>
                        <a:pt x="88" y="162"/>
                      </a:lnTo>
                      <a:lnTo>
                        <a:pt x="81" y="164"/>
                      </a:lnTo>
                      <a:lnTo>
                        <a:pt x="77" y="171"/>
                      </a:lnTo>
                      <a:lnTo>
                        <a:pt x="75" y="179"/>
                      </a:lnTo>
                      <a:lnTo>
                        <a:pt x="75" y="188"/>
                      </a:lnTo>
                      <a:lnTo>
                        <a:pt x="70" y="195"/>
                      </a:lnTo>
                      <a:lnTo>
                        <a:pt x="64" y="197"/>
                      </a:lnTo>
                      <a:lnTo>
                        <a:pt x="55" y="199"/>
                      </a:lnTo>
                      <a:lnTo>
                        <a:pt x="46" y="199"/>
                      </a:lnTo>
                      <a:lnTo>
                        <a:pt x="38" y="197"/>
                      </a:lnTo>
                      <a:lnTo>
                        <a:pt x="31" y="195"/>
                      </a:lnTo>
                      <a:lnTo>
                        <a:pt x="20" y="192"/>
                      </a:lnTo>
                      <a:lnTo>
                        <a:pt x="11" y="195"/>
                      </a:lnTo>
                      <a:lnTo>
                        <a:pt x="7" y="203"/>
                      </a:lnTo>
                      <a:lnTo>
                        <a:pt x="2" y="216"/>
                      </a:lnTo>
                      <a:lnTo>
                        <a:pt x="0" y="234"/>
                      </a:lnTo>
                      <a:lnTo>
                        <a:pt x="5" y="245"/>
                      </a:lnTo>
                      <a:lnTo>
                        <a:pt x="11" y="251"/>
                      </a:lnTo>
                      <a:lnTo>
                        <a:pt x="13" y="256"/>
                      </a:lnTo>
                      <a:lnTo>
                        <a:pt x="16" y="258"/>
                      </a:lnTo>
                      <a:lnTo>
                        <a:pt x="38" y="260"/>
                      </a:lnTo>
                      <a:lnTo>
                        <a:pt x="59" y="262"/>
                      </a:lnTo>
                      <a:lnTo>
                        <a:pt x="79" y="262"/>
                      </a:lnTo>
                      <a:lnTo>
                        <a:pt x="101" y="260"/>
                      </a:lnTo>
                      <a:lnTo>
                        <a:pt x="121" y="260"/>
                      </a:lnTo>
                      <a:lnTo>
                        <a:pt x="136" y="258"/>
                      </a:lnTo>
                      <a:lnTo>
                        <a:pt x="151" y="254"/>
                      </a:lnTo>
                      <a:lnTo>
                        <a:pt x="160" y="251"/>
                      </a:lnTo>
                      <a:lnTo>
                        <a:pt x="169" y="249"/>
                      </a:lnTo>
                      <a:lnTo>
                        <a:pt x="180" y="245"/>
                      </a:lnTo>
                      <a:lnTo>
                        <a:pt x="193" y="243"/>
                      </a:lnTo>
                      <a:lnTo>
                        <a:pt x="204" y="238"/>
                      </a:lnTo>
                      <a:lnTo>
                        <a:pt x="217" y="236"/>
                      </a:lnTo>
                      <a:lnTo>
                        <a:pt x="228" y="232"/>
                      </a:lnTo>
                      <a:lnTo>
                        <a:pt x="239" y="230"/>
                      </a:lnTo>
                      <a:lnTo>
                        <a:pt x="248" y="227"/>
                      </a:lnTo>
                      <a:lnTo>
                        <a:pt x="256" y="223"/>
                      </a:lnTo>
                      <a:lnTo>
                        <a:pt x="267" y="216"/>
                      </a:lnTo>
                      <a:lnTo>
                        <a:pt x="278" y="208"/>
                      </a:lnTo>
                      <a:lnTo>
                        <a:pt x="294" y="199"/>
                      </a:lnTo>
                      <a:lnTo>
                        <a:pt x="309" y="190"/>
                      </a:lnTo>
                      <a:lnTo>
                        <a:pt x="324" y="184"/>
                      </a:lnTo>
                      <a:lnTo>
                        <a:pt x="342" y="175"/>
                      </a:lnTo>
                      <a:lnTo>
                        <a:pt x="357" y="171"/>
                      </a:lnTo>
                      <a:lnTo>
                        <a:pt x="373" y="157"/>
                      </a:lnTo>
                      <a:lnTo>
                        <a:pt x="388" y="142"/>
                      </a:lnTo>
                      <a:lnTo>
                        <a:pt x="403" y="129"/>
                      </a:lnTo>
                      <a:lnTo>
                        <a:pt x="419" y="114"/>
                      </a:lnTo>
                      <a:lnTo>
                        <a:pt x="429" y="101"/>
                      </a:lnTo>
                      <a:lnTo>
                        <a:pt x="440" y="87"/>
                      </a:lnTo>
                      <a:lnTo>
                        <a:pt x="447" y="77"/>
                      </a:lnTo>
                      <a:lnTo>
                        <a:pt x="447" y="70"/>
                      </a:lnTo>
                      <a:lnTo>
                        <a:pt x="440" y="59"/>
                      </a:lnTo>
                      <a:lnTo>
                        <a:pt x="436" y="46"/>
                      </a:lnTo>
                      <a:lnTo>
                        <a:pt x="432" y="37"/>
                      </a:lnTo>
                      <a:lnTo>
                        <a:pt x="436" y="31"/>
                      </a:lnTo>
                      <a:lnTo>
                        <a:pt x="434" y="24"/>
                      </a:lnTo>
                      <a:lnTo>
                        <a:pt x="432" y="15"/>
                      </a:lnTo>
                      <a:lnTo>
                        <a:pt x="425" y="9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70080" y="2093400"/>
                  <a:ext cx="163440" cy="102960"/>
                </a:xfrm>
                <a:custGeom>
                  <a:avLst/>
                  <a:gdLst/>
                  <a:ahLst/>
                  <a:rect l="l" t="t" r="r" b="b"/>
                  <a:pathLst>
                    <a:path w="419" h="264">
                      <a:moveTo>
                        <a:pt x="416" y="2"/>
                      </a:moveTo>
                      <a:lnTo>
                        <a:pt x="403" y="4"/>
                      </a:lnTo>
                      <a:lnTo>
                        <a:pt x="392" y="4"/>
                      </a:lnTo>
                      <a:lnTo>
                        <a:pt x="381" y="2"/>
                      </a:lnTo>
                      <a:lnTo>
                        <a:pt x="373" y="0"/>
                      </a:lnTo>
                      <a:lnTo>
                        <a:pt x="360" y="0"/>
                      </a:lnTo>
                      <a:lnTo>
                        <a:pt x="346" y="2"/>
                      </a:lnTo>
                      <a:lnTo>
                        <a:pt x="331" y="11"/>
                      </a:lnTo>
                      <a:lnTo>
                        <a:pt x="318" y="19"/>
                      </a:lnTo>
                      <a:lnTo>
                        <a:pt x="307" y="26"/>
                      </a:lnTo>
                      <a:lnTo>
                        <a:pt x="292" y="24"/>
                      </a:lnTo>
                      <a:lnTo>
                        <a:pt x="276" y="17"/>
                      </a:lnTo>
                      <a:lnTo>
                        <a:pt x="261" y="13"/>
                      </a:lnTo>
                      <a:lnTo>
                        <a:pt x="250" y="15"/>
                      </a:lnTo>
                      <a:lnTo>
                        <a:pt x="241" y="24"/>
                      </a:lnTo>
                      <a:lnTo>
                        <a:pt x="237" y="37"/>
                      </a:lnTo>
                      <a:lnTo>
                        <a:pt x="239" y="56"/>
                      </a:lnTo>
                      <a:lnTo>
                        <a:pt x="239" y="65"/>
                      </a:lnTo>
                      <a:lnTo>
                        <a:pt x="237" y="74"/>
                      </a:lnTo>
                      <a:lnTo>
                        <a:pt x="230" y="78"/>
                      </a:lnTo>
                      <a:lnTo>
                        <a:pt x="222" y="83"/>
                      </a:lnTo>
                      <a:lnTo>
                        <a:pt x="213" y="85"/>
                      </a:lnTo>
                      <a:lnTo>
                        <a:pt x="200" y="85"/>
                      </a:lnTo>
                      <a:lnTo>
                        <a:pt x="189" y="83"/>
                      </a:lnTo>
                      <a:lnTo>
                        <a:pt x="178" y="78"/>
                      </a:lnTo>
                      <a:lnTo>
                        <a:pt x="167" y="76"/>
                      </a:lnTo>
                      <a:lnTo>
                        <a:pt x="156" y="78"/>
                      </a:lnTo>
                      <a:lnTo>
                        <a:pt x="145" y="85"/>
                      </a:lnTo>
                      <a:lnTo>
                        <a:pt x="136" y="94"/>
                      </a:lnTo>
                      <a:lnTo>
                        <a:pt x="125" y="102"/>
                      </a:lnTo>
                      <a:lnTo>
                        <a:pt x="119" y="113"/>
                      </a:lnTo>
                      <a:lnTo>
                        <a:pt x="112" y="124"/>
                      </a:lnTo>
                      <a:lnTo>
                        <a:pt x="106" y="133"/>
                      </a:lnTo>
                      <a:lnTo>
                        <a:pt x="99" y="140"/>
                      </a:lnTo>
                      <a:lnTo>
                        <a:pt x="92" y="146"/>
                      </a:lnTo>
                      <a:lnTo>
                        <a:pt x="84" y="151"/>
                      </a:lnTo>
                      <a:lnTo>
                        <a:pt x="73" y="155"/>
                      </a:lnTo>
                      <a:lnTo>
                        <a:pt x="64" y="157"/>
                      </a:lnTo>
                      <a:lnTo>
                        <a:pt x="53" y="157"/>
                      </a:lnTo>
                      <a:lnTo>
                        <a:pt x="42" y="157"/>
                      </a:lnTo>
                      <a:lnTo>
                        <a:pt x="33" y="155"/>
                      </a:lnTo>
                      <a:lnTo>
                        <a:pt x="20" y="155"/>
                      </a:lnTo>
                      <a:lnTo>
                        <a:pt x="9" y="164"/>
                      </a:lnTo>
                      <a:lnTo>
                        <a:pt x="5" y="175"/>
                      </a:lnTo>
                      <a:lnTo>
                        <a:pt x="5" y="186"/>
                      </a:lnTo>
                      <a:lnTo>
                        <a:pt x="3" y="199"/>
                      </a:lnTo>
                      <a:lnTo>
                        <a:pt x="0" y="214"/>
                      </a:lnTo>
                      <a:lnTo>
                        <a:pt x="0" y="227"/>
                      </a:lnTo>
                      <a:lnTo>
                        <a:pt x="3" y="240"/>
                      </a:lnTo>
                      <a:lnTo>
                        <a:pt x="7" y="251"/>
                      </a:lnTo>
                      <a:lnTo>
                        <a:pt x="14" y="260"/>
                      </a:lnTo>
                      <a:lnTo>
                        <a:pt x="25" y="264"/>
                      </a:lnTo>
                      <a:lnTo>
                        <a:pt x="38" y="264"/>
                      </a:lnTo>
                      <a:lnTo>
                        <a:pt x="53" y="260"/>
                      </a:lnTo>
                      <a:lnTo>
                        <a:pt x="79" y="253"/>
                      </a:lnTo>
                      <a:lnTo>
                        <a:pt x="116" y="245"/>
                      </a:lnTo>
                      <a:lnTo>
                        <a:pt x="156" y="231"/>
                      </a:lnTo>
                      <a:lnTo>
                        <a:pt x="195" y="221"/>
                      </a:lnTo>
                      <a:lnTo>
                        <a:pt x="230" y="207"/>
                      </a:lnTo>
                      <a:lnTo>
                        <a:pt x="261" y="196"/>
                      </a:lnTo>
                      <a:lnTo>
                        <a:pt x="279" y="188"/>
                      </a:lnTo>
                      <a:lnTo>
                        <a:pt x="292" y="179"/>
                      </a:lnTo>
                      <a:lnTo>
                        <a:pt x="309" y="170"/>
                      </a:lnTo>
                      <a:lnTo>
                        <a:pt x="327" y="159"/>
                      </a:lnTo>
                      <a:lnTo>
                        <a:pt x="344" y="148"/>
                      </a:lnTo>
                      <a:lnTo>
                        <a:pt x="362" y="135"/>
                      </a:lnTo>
                      <a:lnTo>
                        <a:pt x="379" y="120"/>
                      </a:lnTo>
                      <a:lnTo>
                        <a:pt x="392" y="107"/>
                      </a:lnTo>
                      <a:lnTo>
                        <a:pt x="401" y="89"/>
                      </a:lnTo>
                      <a:lnTo>
                        <a:pt x="412" y="59"/>
                      </a:lnTo>
                      <a:lnTo>
                        <a:pt x="419" y="35"/>
                      </a:lnTo>
                      <a:lnTo>
                        <a:pt x="419" y="15"/>
                      </a:lnTo>
                      <a:lnTo>
                        <a:pt x="41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860240" y="1937160"/>
                  <a:ext cx="91080" cy="74520"/>
                </a:xfrm>
                <a:custGeom>
                  <a:avLst/>
                  <a:gdLst/>
                  <a:ahLst/>
                  <a:rect l="l" t="t" r="r" b="b"/>
                  <a:pathLst>
                    <a:path w="234" h="191">
                      <a:moveTo>
                        <a:pt x="206" y="5"/>
                      </a:moveTo>
                      <a:lnTo>
                        <a:pt x="197" y="3"/>
                      </a:lnTo>
                      <a:lnTo>
                        <a:pt x="188" y="0"/>
                      </a:lnTo>
                      <a:lnTo>
                        <a:pt x="177" y="3"/>
                      </a:lnTo>
                      <a:lnTo>
                        <a:pt x="168" y="5"/>
                      </a:lnTo>
                      <a:lnTo>
                        <a:pt x="162" y="22"/>
                      </a:lnTo>
                      <a:lnTo>
                        <a:pt x="146" y="31"/>
                      </a:lnTo>
                      <a:lnTo>
                        <a:pt x="129" y="35"/>
                      </a:lnTo>
                      <a:lnTo>
                        <a:pt x="116" y="38"/>
                      </a:lnTo>
                      <a:lnTo>
                        <a:pt x="105" y="44"/>
                      </a:lnTo>
                      <a:lnTo>
                        <a:pt x="98" y="55"/>
                      </a:lnTo>
                      <a:lnTo>
                        <a:pt x="96" y="66"/>
                      </a:lnTo>
                      <a:lnTo>
                        <a:pt x="94" y="79"/>
                      </a:lnTo>
                      <a:lnTo>
                        <a:pt x="90" y="79"/>
                      </a:lnTo>
                      <a:lnTo>
                        <a:pt x="81" y="81"/>
                      </a:lnTo>
                      <a:lnTo>
                        <a:pt x="70" y="84"/>
                      </a:lnTo>
                      <a:lnTo>
                        <a:pt x="59" y="84"/>
                      </a:lnTo>
                      <a:lnTo>
                        <a:pt x="52" y="86"/>
                      </a:lnTo>
                      <a:lnTo>
                        <a:pt x="46" y="90"/>
                      </a:lnTo>
                      <a:lnTo>
                        <a:pt x="44" y="99"/>
                      </a:lnTo>
                      <a:lnTo>
                        <a:pt x="44" y="110"/>
                      </a:lnTo>
                      <a:lnTo>
                        <a:pt x="46" y="116"/>
                      </a:lnTo>
                      <a:lnTo>
                        <a:pt x="41" y="123"/>
                      </a:lnTo>
                      <a:lnTo>
                        <a:pt x="30" y="127"/>
                      </a:lnTo>
                      <a:lnTo>
                        <a:pt x="17" y="129"/>
                      </a:lnTo>
                      <a:lnTo>
                        <a:pt x="13" y="138"/>
                      </a:lnTo>
                      <a:lnTo>
                        <a:pt x="11" y="145"/>
                      </a:lnTo>
                      <a:lnTo>
                        <a:pt x="6" y="153"/>
                      </a:lnTo>
                      <a:lnTo>
                        <a:pt x="0" y="160"/>
                      </a:lnTo>
                      <a:lnTo>
                        <a:pt x="2" y="169"/>
                      </a:lnTo>
                      <a:lnTo>
                        <a:pt x="2" y="180"/>
                      </a:lnTo>
                      <a:lnTo>
                        <a:pt x="4" y="188"/>
                      </a:lnTo>
                      <a:lnTo>
                        <a:pt x="9" y="191"/>
                      </a:lnTo>
                      <a:lnTo>
                        <a:pt x="13" y="191"/>
                      </a:lnTo>
                      <a:lnTo>
                        <a:pt x="22" y="188"/>
                      </a:lnTo>
                      <a:lnTo>
                        <a:pt x="33" y="186"/>
                      </a:lnTo>
                      <a:lnTo>
                        <a:pt x="48" y="184"/>
                      </a:lnTo>
                      <a:lnTo>
                        <a:pt x="63" y="182"/>
                      </a:lnTo>
                      <a:lnTo>
                        <a:pt x="79" y="178"/>
                      </a:lnTo>
                      <a:lnTo>
                        <a:pt x="92" y="173"/>
                      </a:lnTo>
                      <a:lnTo>
                        <a:pt x="103" y="169"/>
                      </a:lnTo>
                      <a:lnTo>
                        <a:pt x="116" y="162"/>
                      </a:lnTo>
                      <a:lnTo>
                        <a:pt x="133" y="151"/>
                      </a:lnTo>
                      <a:lnTo>
                        <a:pt x="153" y="136"/>
                      </a:lnTo>
                      <a:lnTo>
                        <a:pt x="173" y="121"/>
                      </a:lnTo>
                      <a:lnTo>
                        <a:pt x="192" y="105"/>
                      </a:lnTo>
                      <a:lnTo>
                        <a:pt x="210" y="90"/>
                      </a:lnTo>
                      <a:lnTo>
                        <a:pt x="223" y="75"/>
                      </a:lnTo>
                      <a:lnTo>
                        <a:pt x="230" y="64"/>
                      </a:lnTo>
                      <a:lnTo>
                        <a:pt x="232" y="49"/>
                      </a:lnTo>
                      <a:lnTo>
                        <a:pt x="234" y="38"/>
                      </a:lnTo>
                      <a:lnTo>
                        <a:pt x="232" y="29"/>
                      </a:lnTo>
                      <a:lnTo>
                        <a:pt x="232" y="22"/>
                      </a:lnTo>
                      <a:lnTo>
                        <a:pt x="228" y="18"/>
                      </a:lnTo>
                      <a:lnTo>
                        <a:pt x="223" y="14"/>
                      </a:lnTo>
                      <a:lnTo>
                        <a:pt x="214" y="9"/>
                      </a:lnTo>
                      <a:lnTo>
                        <a:pt x="20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755840" y="2003760"/>
                  <a:ext cx="91800" cy="68040"/>
                </a:xfrm>
                <a:custGeom>
                  <a:avLst/>
                  <a:gdLst/>
                  <a:ahLst/>
                  <a:rect l="l" t="t" r="r" b="b"/>
                  <a:pathLst>
                    <a:path w="236" h="175">
                      <a:moveTo>
                        <a:pt x="236" y="13"/>
                      </a:moveTo>
                      <a:lnTo>
                        <a:pt x="216" y="2"/>
                      </a:lnTo>
                      <a:lnTo>
                        <a:pt x="197" y="0"/>
                      </a:lnTo>
                      <a:lnTo>
                        <a:pt x="181" y="4"/>
                      </a:lnTo>
                      <a:lnTo>
                        <a:pt x="166" y="13"/>
                      </a:lnTo>
                      <a:lnTo>
                        <a:pt x="155" y="24"/>
                      </a:lnTo>
                      <a:lnTo>
                        <a:pt x="144" y="37"/>
                      </a:lnTo>
                      <a:lnTo>
                        <a:pt x="135" y="48"/>
                      </a:lnTo>
                      <a:lnTo>
                        <a:pt x="131" y="59"/>
                      </a:lnTo>
                      <a:lnTo>
                        <a:pt x="124" y="68"/>
                      </a:lnTo>
                      <a:lnTo>
                        <a:pt x="116" y="74"/>
                      </a:lnTo>
                      <a:lnTo>
                        <a:pt x="105" y="81"/>
                      </a:lnTo>
                      <a:lnTo>
                        <a:pt x="92" y="85"/>
                      </a:lnTo>
                      <a:lnTo>
                        <a:pt x="78" y="90"/>
                      </a:lnTo>
                      <a:lnTo>
                        <a:pt x="65" y="92"/>
                      </a:lnTo>
                      <a:lnTo>
                        <a:pt x="52" y="94"/>
                      </a:lnTo>
                      <a:lnTo>
                        <a:pt x="43" y="96"/>
                      </a:lnTo>
                      <a:lnTo>
                        <a:pt x="28" y="101"/>
                      </a:lnTo>
                      <a:lnTo>
                        <a:pt x="15" y="112"/>
                      </a:lnTo>
                      <a:lnTo>
                        <a:pt x="6" y="125"/>
                      </a:lnTo>
                      <a:lnTo>
                        <a:pt x="0" y="138"/>
                      </a:lnTo>
                      <a:lnTo>
                        <a:pt x="4" y="147"/>
                      </a:lnTo>
                      <a:lnTo>
                        <a:pt x="6" y="155"/>
                      </a:lnTo>
                      <a:lnTo>
                        <a:pt x="6" y="166"/>
                      </a:lnTo>
                      <a:lnTo>
                        <a:pt x="4" y="175"/>
                      </a:lnTo>
                      <a:lnTo>
                        <a:pt x="32" y="168"/>
                      </a:lnTo>
                      <a:lnTo>
                        <a:pt x="67" y="160"/>
                      </a:lnTo>
                      <a:lnTo>
                        <a:pt x="109" y="144"/>
                      </a:lnTo>
                      <a:lnTo>
                        <a:pt x="153" y="125"/>
                      </a:lnTo>
                      <a:lnTo>
                        <a:pt x="190" y="101"/>
                      </a:lnTo>
                      <a:lnTo>
                        <a:pt x="221" y="74"/>
                      </a:lnTo>
                      <a:lnTo>
                        <a:pt x="236" y="46"/>
                      </a:lnTo>
                      <a:lnTo>
                        <a:pt x="236" y="13"/>
                      </a:lnTo>
                      <a:close/>
                    </a:path>
                  </a:pathLst>
                </a:custGeom>
                <a:solidFill>
                  <a:srgbClr val="ea1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427520" y="2193480"/>
                  <a:ext cx="117000" cy="5976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300" y="0"/>
                      </a:moveTo>
                      <a:lnTo>
                        <a:pt x="291" y="10"/>
                      </a:lnTo>
                      <a:lnTo>
                        <a:pt x="278" y="21"/>
                      </a:lnTo>
                      <a:lnTo>
                        <a:pt x="263" y="30"/>
                      </a:lnTo>
                      <a:lnTo>
                        <a:pt x="245" y="39"/>
                      </a:lnTo>
                      <a:lnTo>
                        <a:pt x="225" y="43"/>
                      </a:lnTo>
                      <a:lnTo>
                        <a:pt x="206" y="45"/>
                      </a:lnTo>
                      <a:lnTo>
                        <a:pt x="188" y="45"/>
                      </a:lnTo>
                      <a:lnTo>
                        <a:pt x="168" y="41"/>
                      </a:lnTo>
                      <a:lnTo>
                        <a:pt x="153" y="37"/>
                      </a:lnTo>
                      <a:lnTo>
                        <a:pt x="140" y="39"/>
                      </a:lnTo>
                      <a:lnTo>
                        <a:pt x="129" y="43"/>
                      </a:lnTo>
                      <a:lnTo>
                        <a:pt x="118" y="48"/>
                      </a:lnTo>
                      <a:lnTo>
                        <a:pt x="109" y="54"/>
                      </a:lnTo>
                      <a:lnTo>
                        <a:pt x="103" y="65"/>
                      </a:lnTo>
                      <a:lnTo>
                        <a:pt x="100" y="76"/>
                      </a:lnTo>
                      <a:lnTo>
                        <a:pt x="100" y="85"/>
                      </a:lnTo>
                      <a:lnTo>
                        <a:pt x="100" y="94"/>
                      </a:lnTo>
                      <a:lnTo>
                        <a:pt x="100" y="100"/>
                      </a:lnTo>
                      <a:lnTo>
                        <a:pt x="94" y="109"/>
                      </a:lnTo>
                      <a:lnTo>
                        <a:pt x="83" y="118"/>
                      </a:lnTo>
                      <a:lnTo>
                        <a:pt x="68" y="122"/>
                      </a:lnTo>
                      <a:lnTo>
                        <a:pt x="52" y="122"/>
                      </a:lnTo>
                      <a:lnTo>
                        <a:pt x="37" y="120"/>
                      </a:lnTo>
                      <a:lnTo>
                        <a:pt x="24" y="118"/>
                      </a:lnTo>
                      <a:lnTo>
                        <a:pt x="13" y="120"/>
                      </a:lnTo>
                      <a:lnTo>
                        <a:pt x="6" y="122"/>
                      </a:lnTo>
                      <a:lnTo>
                        <a:pt x="2" y="129"/>
                      </a:lnTo>
                      <a:lnTo>
                        <a:pt x="0" y="137"/>
                      </a:lnTo>
                      <a:lnTo>
                        <a:pt x="15" y="144"/>
                      </a:lnTo>
                      <a:lnTo>
                        <a:pt x="35" y="150"/>
                      </a:lnTo>
                      <a:lnTo>
                        <a:pt x="54" y="153"/>
                      </a:lnTo>
                      <a:lnTo>
                        <a:pt x="79" y="153"/>
                      </a:lnTo>
                      <a:lnTo>
                        <a:pt x="100" y="153"/>
                      </a:lnTo>
                      <a:lnTo>
                        <a:pt x="125" y="148"/>
                      </a:lnTo>
                      <a:lnTo>
                        <a:pt x="146" y="142"/>
                      </a:lnTo>
                      <a:lnTo>
                        <a:pt x="168" y="131"/>
                      </a:lnTo>
                      <a:lnTo>
                        <a:pt x="190" y="120"/>
                      </a:lnTo>
                      <a:lnTo>
                        <a:pt x="214" y="105"/>
                      </a:lnTo>
                      <a:lnTo>
                        <a:pt x="238" y="89"/>
                      </a:lnTo>
                      <a:lnTo>
                        <a:pt x="260" y="72"/>
                      </a:lnTo>
                      <a:lnTo>
                        <a:pt x="280" y="52"/>
                      </a:lnTo>
                      <a:lnTo>
                        <a:pt x="293" y="35"/>
                      </a:lnTo>
                      <a:lnTo>
                        <a:pt x="300" y="17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ea1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7583040" y="2093400"/>
                  <a:ext cx="132480" cy="774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340" y="0"/>
                      </a:moveTo>
                      <a:lnTo>
                        <a:pt x="327" y="0"/>
                      </a:lnTo>
                      <a:lnTo>
                        <a:pt x="313" y="2"/>
                      </a:lnTo>
                      <a:lnTo>
                        <a:pt x="298" y="11"/>
                      </a:lnTo>
                      <a:lnTo>
                        <a:pt x="285" y="19"/>
                      </a:lnTo>
                      <a:lnTo>
                        <a:pt x="274" y="26"/>
                      </a:lnTo>
                      <a:lnTo>
                        <a:pt x="259" y="24"/>
                      </a:lnTo>
                      <a:lnTo>
                        <a:pt x="243" y="17"/>
                      </a:lnTo>
                      <a:lnTo>
                        <a:pt x="228" y="13"/>
                      </a:lnTo>
                      <a:lnTo>
                        <a:pt x="217" y="15"/>
                      </a:lnTo>
                      <a:lnTo>
                        <a:pt x="208" y="24"/>
                      </a:lnTo>
                      <a:lnTo>
                        <a:pt x="204" y="37"/>
                      </a:lnTo>
                      <a:lnTo>
                        <a:pt x="206" y="56"/>
                      </a:lnTo>
                      <a:lnTo>
                        <a:pt x="206" y="65"/>
                      </a:lnTo>
                      <a:lnTo>
                        <a:pt x="204" y="74"/>
                      </a:lnTo>
                      <a:lnTo>
                        <a:pt x="197" y="78"/>
                      </a:lnTo>
                      <a:lnTo>
                        <a:pt x="189" y="83"/>
                      </a:lnTo>
                      <a:lnTo>
                        <a:pt x="180" y="85"/>
                      </a:lnTo>
                      <a:lnTo>
                        <a:pt x="167" y="85"/>
                      </a:lnTo>
                      <a:lnTo>
                        <a:pt x="156" y="83"/>
                      </a:lnTo>
                      <a:lnTo>
                        <a:pt x="145" y="78"/>
                      </a:lnTo>
                      <a:lnTo>
                        <a:pt x="134" y="76"/>
                      </a:lnTo>
                      <a:lnTo>
                        <a:pt x="123" y="78"/>
                      </a:lnTo>
                      <a:lnTo>
                        <a:pt x="112" y="85"/>
                      </a:lnTo>
                      <a:lnTo>
                        <a:pt x="103" y="94"/>
                      </a:lnTo>
                      <a:lnTo>
                        <a:pt x="92" y="102"/>
                      </a:lnTo>
                      <a:lnTo>
                        <a:pt x="86" y="113"/>
                      </a:lnTo>
                      <a:lnTo>
                        <a:pt x="79" y="124"/>
                      </a:lnTo>
                      <a:lnTo>
                        <a:pt x="73" y="133"/>
                      </a:lnTo>
                      <a:lnTo>
                        <a:pt x="66" y="140"/>
                      </a:lnTo>
                      <a:lnTo>
                        <a:pt x="59" y="146"/>
                      </a:lnTo>
                      <a:lnTo>
                        <a:pt x="51" y="151"/>
                      </a:lnTo>
                      <a:lnTo>
                        <a:pt x="40" y="155"/>
                      </a:lnTo>
                      <a:lnTo>
                        <a:pt x="31" y="157"/>
                      </a:lnTo>
                      <a:lnTo>
                        <a:pt x="20" y="157"/>
                      </a:lnTo>
                      <a:lnTo>
                        <a:pt x="9" y="157"/>
                      </a:lnTo>
                      <a:lnTo>
                        <a:pt x="0" y="155"/>
                      </a:lnTo>
                      <a:lnTo>
                        <a:pt x="2" y="166"/>
                      </a:lnTo>
                      <a:lnTo>
                        <a:pt x="9" y="177"/>
                      </a:lnTo>
                      <a:lnTo>
                        <a:pt x="20" y="186"/>
                      </a:lnTo>
                      <a:lnTo>
                        <a:pt x="35" y="192"/>
                      </a:lnTo>
                      <a:lnTo>
                        <a:pt x="53" y="196"/>
                      </a:lnTo>
                      <a:lnTo>
                        <a:pt x="75" y="199"/>
                      </a:lnTo>
                      <a:lnTo>
                        <a:pt x="99" y="194"/>
                      </a:lnTo>
                      <a:lnTo>
                        <a:pt x="125" y="188"/>
                      </a:lnTo>
                      <a:lnTo>
                        <a:pt x="156" y="177"/>
                      </a:lnTo>
                      <a:lnTo>
                        <a:pt x="191" y="161"/>
                      </a:lnTo>
                      <a:lnTo>
                        <a:pt x="226" y="142"/>
                      </a:lnTo>
                      <a:lnTo>
                        <a:pt x="263" y="120"/>
                      </a:lnTo>
                      <a:lnTo>
                        <a:pt x="294" y="94"/>
                      </a:lnTo>
                      <a:lnTo>
                        <a:pt x="320" y="65"/>
                      </a:lnTo>
                      <a:lnTo>
                        <a:pt x="335" y="32"/>
                      </a:lnTo>
                      <a:lnTo>
                        <a:pt x="340" y="0"/>
                      </a:lnTo>
                      <a:close/>
                    </a:path>
                  </a:pathLst>
                </a:custGeom>
                <a:solidFill>
                  <a:srgbClr val="ea1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866720" y="1937160"/>
                  <a:ext cx="73440" cy="50040"/>
                </a:xfrm>
                <a:custGeom>
                  <a:avLst/>
                  <a:gdLst/>
                  <a:ahLst/>
                  <a:rect l="l" t="t" r="r" b="b"/>
                  <a:pathLst>
                    <a:path w="189" h="129">
                      <a:moveTo>
                        <a:pt x="189" y="5"/>
                      </a:moveTo>
                      <a:lnTo>
                        <a:pt x="180" y="3"/>
                      </a:lnTo>
                      <a:lnTo>
                        <a:pt x="171" y="0"/>
                      </a:lnTo>
                      <a:lnTo>
                        <a:pt x="160" y="3"/>
                      </a:lnTo>
                      <a:lnTo>
                        <a:pt x="151" y="5"/>
                      </a:lnTo>
                      <a:lnTo>
                        <a:pt x="145" y="22"/>
                      </a:lnTo>
                      <a:lnTo>
                        <a:pt x="129" y="31"/>
                      </a:lnTo>
                      <a:lnTo>
                        <a:pt x="112" y="35"/>
                      </a:lnTo>
                      <a:lnTo>
                        <a:pt x="99" y="38"/>
                      </a:lnTo>
                      <a:lnTo>
                        <a:pt x="88" y="44"/>
                      </a:lnTo>
                      <a:lnTo>
                        <a:pt x="81" y="55"/>
                      </a:lnTo>
                      <a:lnTo>
                        <a:pt x="79" y="66"/>
                      </a:lnTo>
                      <a:lnTo>
                        <a:pt x="77" y="79"/>
                      </a:lnTo>
                      <a:lnTo>
                        <a:pt x="73" y="79"/>
                      </a:lnTo>
                      <a:lnTo>
                        <a:pt x="64" y="81"/>
                      </a:lnTo>
                      <a:lnTo>
                        <a:pt x="53" y="84"/>
                      </a:lnTo>
                      <a:lnTo>
                        <a:pt x="42" y="84"/>
                      </a:lnTo>
                      <a:lnTo>
                        <a:pt x="35" y="86"/>
                      </a:lnTo>
                      <a:lnTo>
                        <a:pt x="29" y="90"/>
                      </a:lnTo>
                      <a:lnTo>
                        <a:pt x="27" y="99"/>
                      </a:lnTo>
                      <a:lnTo>
                        <a:pt x="27" y="110"/>
                      </a:lnTo>
                      <a:lnTo>
                        <a:pt x="29" y="116"/>
                      </a:lnTo>
                      <a:lnTo>
                        <a:pt x="24" y="123"/>
                      </a:lnTo>
                      <a:lnTo>
                        <a:pt x="13" y="127"/>
                      </a:lnTo>
                      <a:lnTo>
                        <a:pt x="0" y="129"/>
                      </a:lnTo>
                      <a:lnTo>
                        <a:pt x="27" y="129"/>
                      </a:lnTo>
                      <a:lnTo>
                        <a:pt x="59" y="125"/>
                      </a:lnTo>
                      <a:lnTo>
                        <a:pt x="92" y="114"/>
                      </a:lnTo>
                      <a:lnTo>
                        <a:pt x="125" y="99"/>
                      </a:lnTo>
                      <a:lnTo>
                        <a:pt x="154" y="81"/>
                      </a:lnTo>
                      <a:lnTo>
                        <a:pt x="175" y="57"/>
                      </a:lnTo>
                      <a:lnTo>
                        <a:pt x="189" y="33"/>
                      </a:lnTo>
                      <a:lnTo>
                        <a:pt x="189" y="5"/>
                      </a:lnTo>
                      <a:close/>
                    </a:path>
                  </a:pathLst>
                </a:custGeom>
                <a:solidFill>
                  <a:srgbClr val="ea1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397640" y="2265840"/>
                  <a:ext cx="97560" cy="8712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0"/>
                      </a:moveTo>
                      <a:lnTo>
                        <a:pt x="241" y="3"/>
                      </a:lnTo>
                      <a:lnTo>
                        <a:pt x="230" y="5"/>
                      </a:lnTo>
                      <a:lnTo>
                        <a:pt x="219" y="9"/>
                      </a:lnTo>
                      <a:lnTo>
                        <a:pt x="206" y="11"/>
                      </a:lnTo>
                      <a:lnTo>
                        <a:pt x="195" y="16"/>
                      </a:lnTo>
                      <a:lnTo>
                        <a:pt x="182" y="18"/>
                      </a:lnTo>
                      <a:lnTo>
                        <a:pt x="171" y="22"/>
                      </a:lnTo>
                      <a:lnTo>
                        <a:pt x="162" y="24"/>
                      </a:lnTo>
                      <a:lnTo>
                        <a:pt x="156" y="27"/>
                      </a:lnTo>
                      <a:lnTo>
                        <a:pt x="147" y="29"/>
                      </a:lnTo>
                      <a:lnTo>
                        <a:pt x="138" y="31"/>
                      </a:lnTo>
                      <a:lnTo>
                        <a:pt x="125" y="33"/>
                      </a:lnTo>
                      <a:lnTo>
                        <a:pt x="112" y="33"/>
                      </a:lnTo>
                      <a:lnTo>
                        <a:pt x="99" y="35"/>
                      </a:lnTo>
                      <a:lnTo>
                        <a:pt x="83" y="35"/>
                      </a:lnTo>
                      <a:lnTo>
                        <a:pt x="68" y="35"/>
                      </a:lnTo>
                      <a:lnTo>
                        <a:pt x="55" y="35"/>
                      </a:lnTo>
                      <a:lnTo>
                        <a:pt x="42" y="33"/>
                      </a:lnTo>
                      <a:lnTo>
                        <a:pt x="29" y="33"/>
                      </a:lnTo>
                      <a:lnTo>
                        <a:pt x="18" y="31"/>
                      </a:lnTo>
                      <a:lnTo>
                        <a:pt x="15" y="29"/>
                      </a:lnTo>
                      <a:lnTo>
                        <a:pt x="13" y="24"/>
                      </a:lnTo>
                      <a:lnTo>
                        <a:pt x="7" y="18"/>
                      </a:lnTo>
                      <a:lnTo>
                        <a:pt x="2" y="7"/>
                      </a:lnTo>
                      <a:lnTo>
                        <a:pt x="0" y="44"/>
                      </a:lnTo>
                      <a:lnTo>
                        <a:pt x="2" y="81"/>
                      </a:lnTo>
                      <a:lnTo>
                        <a:pt x="11" y="114"/>
                      </a:lnTo>
                      <a:lnTo>
                        <a:pt x="33" y="138"/>
                      </a:lnTo>
                      <a:lnTo>
                        <a:pt x="44" y="164"/>
                      </a:lnTo>
                      <a:lnTo>
                        <a:pt x="57" y="186"/>
                      </a:lnTo>
                      <a:lnTo>
                        <a:pt x="70" y="208"/>
                      </a:lnTo>
                      <a:lnTo>
                        <a:pt x="85" y="224"/>
                      </a:lnTo>
                      <a:lnTo>
                        <a:pt x="96" y="208"/>
                      </a:lnTo>
                      <a:lnTo>
                        <a:pt x="105" y="195"/>
                      </a:lnTo>
                      <a:lnTo>
                        <a:pt x="114" y="184"/>
                      </a:lnTo>
                      <a:lnTo>
                        <a:pt x="125" y="173"/>
                      </a:lnTo>
                      <a:lnTo>
                        <a:pt x="131" y="151"/>
                      </a:lnTo>
                      <a:lnTo>
                        <a:pt x="142" y="129"/>
                      </a:lnTo>
                      <a:lnTo>
                        <a:pt x="153" y="108"/>
                      </a:lnTo>
                      <a:lnTo>
                        <a:pt x="167" y="84"/>
                      </a:lnTo>
                      <a:lnTo>
                        <a:pt x="182" y="62"/>
                      </a:lnTo>
                      <a:lnTo>
                        <a:pt x="202" y="40"/>
                      </a:lnTo>
                      <a:lnTo>
                        <a:pt x="223" y="18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537680" y="1945440"/>
                  <a:ext cx="450360" cy="298800"/>
                </a:xfrm>
                <a:custGeom>
                  <a:avLst/>
                  <a:gdLst/>
                  <a:ahLst/>
                  <a:rect l="l" t="t" r="r" b="b"/>
                  <a:pathLst>
                    <a:path w="1154" h="766">
                      <a:moveTo>
                        <a:pt x="1117" y="68"/>
                      </a:moveTo>
                      <a:lnTo>
                        <a:pt x="1106" y="48"/>
                      </a:lnTo>
                      <a:lnTo>
                        <a:pt x="1093" y="29"/>
                      </a:lnTo>
                      <a:lnTo>
                        <a:pt x="1075" y="13"/>
                      </a:lnTo>
                      <a:lnTo>
                        <a:pt x="1058" y="0"/>
                      </a:lnTo>
                      <a:lnTo>
                        <a:pt x="1058" y="7"/>
                      </a:lnTo>
                      <a:lnTo>
                        <a:pt x="1060" y="16"/>
                      </a:lnTo>
                      <a:lnTo>
                        <a:pt x="1058" y="27"/>
                      </a:lnTo>
                      <a:lnTo>
                        <a:pt x="1056" y="42"/>
                      </a:lnTo>
                      <a:lnTo>
                        <a:pt x="1049" y="53"/>
                      </a:lnTo>
                      <a:lnTo>
                        <a:pt x="1036" y="68"/>
                      </a:lnTo>
                      <a:lnTo>
                        <a:pt x="1018" y="83"/>
                      </a:lnTo>
                      <a:lnTo>
                        <a:pt x="999" y="99"/>
                      </a:lnTo>
                      <a:lnTo>
                        <a:pt x="979" y="114"/>
                      </a:lnTo>
                      <a:lnTo>
                        <a:pt x="959" y="129"/>
                      </a:lnTo>
                      <a:lnTo>
                        <a:pt x="942" y="140"/>
                      </a:lnTo>
                      <a:lnTo>
                        <a:pt x="929" y="147"/>
                      </a:lnTo>
                      <a:lnTo>
                        <a:pt x="918" y="151"/>
                      </a:lnTo>
                      <a:lnTo>
                        <a:pt x="905" y="156"/>
                      </a:lnTo>
                      <a:lnTo>
                        <a:pt x="889" y="160"/>
                      </a:lnTo>
                      <a:lnTo>
                        <a:pt x="874" y="162"/>
                      </a:lnTo>
                      <a:lnTo>
                        <a:pt x="859" y="164"/>
                      </a:lnTo>
                      <a:lnTo>
                        <a:pt x="848" y="166"/>
                      </a:lnTo>
                      <a:lnTo>
                        <a:pt x="839" y="169"/>
                      </a:lnTo>
                      <a:lnTo>
                        <a:pt x="835" y="169"/>
                      </a:lnTo>
                      <a:lnTo>
                        <a:pt x="830" y="166"/>
                      </a:lnTo>
                      <a:lnTo>
                        <a:pt x="828" y="158"/>
                      </a:lnTo>
                      <a:lnTo>
                        <a:pt x="828" y="147"/>
                      </a:lnTo>
                      <a:lnTo>
                        <a:pt x="826" y="138"/>
                      </a:lnTo>
                      <a:lnTo>
                        <a:pt x="821" y="142"/>
                      </a:lnTo>
                      <a:lnTo>
                        <a:pt x="819" y="147"/>
                      </a:lnTo>
                      <a:lnTo>
                        <a:pt x="815" y="149"/>
                      </a:lnTo>
                      <a:lnTo>
                        <a:pt x="810" y="153"/>
                      </a:lnTo>
                      <a:lnTo>
                        <a:pt x="813" y="164"/>
                      </a:lnTo>
                      <a:lnTo>
                        <a:pt x="815" y="180"/>
                      </a:lnTo>
                      <a:lnTo>
                        <a:pt x="821" y="197"/>
                      </a:lnTo>
                      <a:lnTo>
                        <a:pt x="826" y="215"/>
                      </a:lnTo>
                      <a:lnTo>
                        <a:pt x="826" y="226"/>
                      </a:lnTo>
                      <a:lnTo>
                        <a:pt x="817" y="239"/>
                      </a:lnTo>
                      <a:lnTo>
                        <a:pt x="806" y="252"/>
                      </a:lnTo>
                      <a:lnTo>
                        <a:pt x="791" y="269"/>
                      </a:lnTo>
                      <a:lnTo>
                        <a:pt x="773" y="287"/>
                      </a:lnTo>
                      <a:lnTo>
                        <a:pt x="754" y="302"/>
                      </a:lnTo>
                      <a:lnTo>
                        <a:pt x="734" y="317"/>
                      </a:lnTo>
                      <a:lnTo>
                        <a:pt x="714" y="331"/>
                      </a:lnTo>
                      <a:lnTo>
                        <a:pt x="692" y="341"/>
                      </a:lnTo>
                      <a:lnTo>
                        <a:pt x="668" y="352"/>
                      </a:lnTo>
                      <a:lnTo>
                        <a:pt x="642" y="361"/>
                      </a:lnTo>
                      <a:lnTo>
                        <a:pt x="616" y="370"/>
                      </a:lnTo>
                      <a:lnTo>
                        <a:pt x="591" y="376"/>
                      </a:lnTo>
                      <a:lnTo>
                        <a:pt x="570" y="383"/>
                      </a:lnTo>
                      <a:lnTo>
                        <a:pt x="554" y="385"/>
                      </a:lnTo>
                      <a:lnTo>
                        <a:pt x="545" y="387"/>
                      </a:lnTo>
                      <a:lnTo>
                        <a:pt x="537" y="385"/>
                      </a:lnTo>
                      <a:lnTo>
                        <a:pt x="528" y="383"/>
                      </a:lnTo>
                      <a:lnTo>
                        <a:pt x="521" y="379"/>
                      </a:lnTo>
                      <a:lnTo>
                        <a:pt x="517" y="372"/>
                      </a:lnTo>
                      <a:lnTo>
                        <a:pt x="513" y="374"/>
                      </a:lnTo>
                      <a:lnTo>
                        <a:pt x="508" y="376"/>
                      </a:lnTo>
                      <a:lnTo>
                        <a:pt x="504" y="379"/>
                      </a:lnTo>
                      <a:lnTo>
                        <a:pt x="499" y="381"/>
                      </a:lnTo>
                      <a:lnTo>
                        <a:pt x="502" y="394"/>
                      </a:lnTo>
                      <a:lnTo>
                        <a:pt x="502" y="414"/>
                      </a:lnTo>
                      <a:lnTo>
                        <a:pt x="495" y="438"/>
                      </a:lnTo>
                      <a:lnTo>
                        <a:pt x="484" y="468"/>
                      </a:lnTo>
                      <a:lnTo>
                        <a:pt x="475" y="486"/>
                      </a:lnTo>
                      <a:lnTo>
                        <a:pt x="462" y="499"/>
                      </a:lnTo>
                      <a:lnTo>
                        <a:pt x="445" y="514"/>
                      </a:lnTo>
                      <a:lnTo>
                        <a:pt x="427" y="527"/>
                      </a:lnTo>
                      <a:lnTo>
                        <a:pt x="410" y="538"/>
                      </a:lnTo>
                      <a:lnTo>
                        <a:pt x="392" y="549"/>
                      </a:lnTo>
                      <a:lnTo>
                        <a:pt x="375" y="558"/>
                      </a:lnTo>
                      <a:lnTo>
                        <a:pt x="362" y="567"/>
                      </a:lnTo>
                      <a:lnTo>
                        <a:pt x="344" y="575"/>
                      </a:lnTo>
                      <a:lnTo>
                        <a:pt x="313" y="586"/>
                      </a:lnTo>
                      <a:lnTo>
                        <a:pt x="278" y="600"/>
                      </a:lnTo>
                      <a:lnTo>
                        <a:pt x="239" y="610"/>
                      </a:lnTo>
                      <a:lnTo>
                        <a:pt x="199" y="624"/>
                      </a:lnTo>
                      <a:lnTo>
                        <a:pt x="162" y="632"/>
                      </a:lnTo>
                      <a:lnTo>
                        <a:pt x="136" y="639"/>
                      </a:lnTo>
                      <a:lnTo>
                        <a:pt x="121" y="643"/>
                      </a:lnTo>
                      <a:lnTo>
                        <a:pt x="108" y="643"/>
                      </a:lnTo>
                      <a:lnTo>
                        <a:pt x="97" y="639"/>
                      </a:lnTo>
                      <a:lnTo>
                        <a:pt x="90" y="630"/>
                      </a:lnTo>
                      <a:lnTo>
                        <a:pt x="86" y="619"/>
                      </a:lnTo>
                      <a:lnTo>
                        <a:pt x="83" y="606"/>
                      </a:lnTo>
                      <a:lnTo>
                        <a:pt x="83" y="593"/>
                      </a:lnTo>
                      <a:lnTo>
                        <a:pt x="86" y="578"/>
                      </a:lnTo>
                      <a:lnTo>
                        <a:pt x="88" y="565"/>
                      </a:lnTo>
                      <a:lnTo>
                        <a:pt x="88" y="575"/>
                      </a:lnTo>
                      <a:lnTo>
                        <a:pt x="86" y="584"/>
                      </a:lnTo>
                      <a:lnTo>
                        <a:pt x="77" y="591"/>
                      </a:lnTo>
                      <a:lnTo>
                        <a:pt x="64" y="593"/>
                      </a:lnTo>
                      <a:lnTo>
                        <a:pt x="68" y="602"/>
                      </a:lnTo>
                      <a:lnTo>
                        <a:pt x="75" y="608"/>
                      </a:lnTo>
                      <a:lnTo>
                        <a:pt x="77" y="617"/>
                      </a:lnTo>
                      <a:lnTo>
                        <a:pt x="79" y="624"/>
                      </a:lnTo>
                      <a:lnTo>
                        <a:pt x="75" y="630"/>
                      </a:lnTo>
                      <a:lnTo>
                        <a:pt x="79" y="639"/>
                      </a:lnTo>
                      <a:lnTo>
                        <a:pt x="83" y="652"/>
                      </a:lnTo>
                      <a:lnTo>
                        <a:pt x="90" y="663"/>
                      </a:lnTo>
                      <a:lnTo>
                        <a:pt x="90" y="670"/>
                      </a:lnTo>
                      <a:lnTo>
                        <a:pt x="83" y="680"/>
                      </a:lnTo>
                      <a:lnTo>
                        <a:pt x="72" y="694"/>
                      </a:lnTo>
                      <a:lnTo>
                        <a:pt x="62" y="707"/>
                      </a:lnTo>
                      <a:lnTo>
                        <a:pt x="46" y="722"/>
                      </a:lnTo>
                      <a:lnTo>
                        <a:pt x="31" y="735"/>
                      </a:lnTo>
                      <a:lnTo>
                        <a:pt x="16" y="750"/>
                      </a:lnTo>
                      <a:lnTo>
                        <a:pt x="0" y="764"/>
                      </a:lnTo>
                      <a:lnTo>
                        <a:pt x="11" y="766"/>
                      </a:lnTo>
                      <a:lnTo>
                        <a:pt x="24" y="766"/>
                      </a:lnTo>
                      <a:lnTo>
                        <a:pt x="40" y="766"/>
                      </a:lnTo>
                      <a:lnTo>
                        <a:pt x="57" y="766"/>
                      </a:lnTo>
                      <a:lnTo>
                        <a:pt x="72" y="766"/>
                      </a:lnTo>
                      <a:lnTo>
                        <a:pt x="90" y="766"/>
                      </a:lnTo>
                      <a:lnTo>
                        <a:pt x="105" y="764"/>
                      </a:lnTo>
                      <a:lnTo>
                        <a:pt x="118" y="761"/>
                      </a:lnTo>
                      <a:lnTo>
                        <a:pt x="127" y="759"/>
                      </a:lnTo>
                      <a:lnTo>
                        <a:pt x="138" y="757"/>
                      </a:lnTo>
                      <a:lnTo>
                        <a:pt x="151" y="755"/>
                      </a:lnTo>
                      <a:lnTo>
                        <a:pt x="167" y="753"/>
                      </a:lnTo>
                      <a:lnTo>
                        <a:pt x="182" y="750"/>
                      </a:lnTo>
                      <a:lnTo>
                        <a:pt x="197" y="750"/>
                      </a:lnTo>
                      <a:lnTo>
                        <a:pt x="215" y="748"/>
                      </a:lnTo>
                      <a:lnTo>
                        <a:pt x="232" y="748"/>
                      </a:lnTo>
                      <a:lnTo>
                        <a:pt x="241" y="748"/>
                      </a:lnTo>
                      <a:lnTo>
                        <a:pt x="248" y="748"/>
                      </a:lnTo>
                      <a:lnTo>
                        <a:pt x="254" y="748"/>
                      </a:lnTo>
                      <a:lnTo>
                        <a:pt x="263" y="750"/>
                      </a:lnTo>
                      <a:lnTo>
                        <a:pt x="272" y="753"/>
                      </a:lnTo>
                      <a:lnTo>
                        <a:pt x="283" y="755"/>
                      </a:lnTo>
                      <a:lnTo>
                        <a:pt x="291" y="757"/>
                      </a:lnTo>
                      <a:lnTo>
                        <a:pt x="300" y="759"/>
                      </a:lnTo>
                      <a:lnTo>
                        <a:pt x="309" y="753"/>
                      </a:lnTo>
                      <a:lnTo>
                        <a:pt x="316" y="744"/>
                      </a:lnTo>
                      <a:lnTo>
                        <a:pt x="320" y="735"/>
                      </a:lnTo>
                      <a:lnTo>
                        <a:pt x="322" y="729"/>
                      </a:lnTo>
                      <a:lnTo>
                        <a:pt x="326" y="718"/>
                      </a:lnTo>
                      <a:lnTo>
                        <a:pt x="333" y="698"/>
                      </a:lnTo>
                      <a:lnTo>
                        <a:pt x="344" y="672"/>
                      </a:lnTo>
                      <a:lnTo>
                        <a:pt x="357" y="641"/>
                      </a:lnTo>
                      <a:lnTo>
                        <a:pt x="372" y="608"/>
                      </a:lnTo>
                      <a:lnTo>
                        <a:pt x="390" y="578"/>
                      </a:lnTo>
                      <a:lnTo>
                        <a:pt x="410" y="551"/>
                      </a:lnTo>
                      <a:lnTo>
                        <a:pt x="429" y="534"/>
                      </a:lnTo>
                      <a:lnTo>
                        <a:pt x="440" y="527"/>
                      </a:lnTo>
                      <a:lnTo>
                        <a:pt x="451" y="521"/>
                      </a:lnTo>
                      <a:lnTo>
                        <a:pt x="464" y="514"/>
                      </a:lnTo>
                      <a:lnTo>
                        <a:pt x="480" y="508"/>
                      </a:lnTo>
                      <a:lnTo>
                        <a:pt x="489" y="505"/>
                      </a:lnTo>
                      <a:lnTo>
                        <a:pt x="497" y="503"/>
                      </a:lnTo>
                      <a:lnTo>
                        <a:pt x="504" y="501"/>
                      </a:lnTo>
                      <a:lnTo>
                        <a:pt x="513" y="497"/>
                      </a:lnTo>
                      <a:lnTo>
                        <a:pt x="521" y="495"/>
                      </a:lnTo>
                      <a:lnTo>
                        <a:pt x="532" y="492"/>
                      </a:lnTo>
                      <a:lnTo>
                        <a:pt x="541" y="490"/>
                      </a:lnTo>
                      <a:lnTo>
                        <a:pt x="552" y="488"/>
                      </a:lnTo>
                      <a:lnTo>
                        <a:pt x="563" y="486"/>
                      </a:lnTo>
                      <a:lnTo>
                        <a:pt x="572" y="486"/>
                      </a:lnTo>
                      <a:lnTo>
                        <a:pt x="583" y="484"/>
                      </a:lnTo>
                      <a:lnTo>
                        <a:pt x="594" y="481"/>
                      </a:lnTo>
                      <a:lnTo>
                        <a:pt x="607" y="479"/>
                      </a:lnTo>
                      <a:lnTo>
                        <a:pt x="618" y="479"/>
                      </a:lnTo>
                      <a:lnTo>
                        <a:pt x="629" y="477"/>
                      </a:lnTo>
                      <a:lnTo>
                        <a:pt x="642" y="477"/>
                      </a:lnTo>
                      <a:lnTo>
                        <a:pt x="653" y="477"/>
                      </a:lnTo>
                      <a:lnTo>
                        <a:pt x="664" y="477"/>
                      </a:lnTo>
                      <a:lnTo>
                        <a:pt x="672" y="477"/>
                      </a:lnTo>
                      <a:lnTo>
                        <a:pt x="683" y="477"/>
                      </a:lnTo>
                      <a:lnTo>
                        <a:pt x="694" y="477"/>
                      </a:lnTo>
                      <a:lnTo>
                        <a:pt x="705" y="477"/>
                      </a:lnTo>
                      <a:lnTo>
                        <a:pt x="716" y="477"/>
                      </a:lnTo>
                      <a:lnTo>
                        <a:pt x="727" y="477"/>
                      </a:lnTo>
                      <a:lnTo>
                        <a:pt x="738" y="477"/>
                      </a:lnTo>
                      <a:lnTo>
                        <a:pt x="751" y="477"/>
                      </a:lnTo>
                      <a:lnTo>
                        <a:pt x="762" y="479"/>
                      </a:lnTo>
                      <a:lnTo>
                        <a:pt x="773" y="479"/>
                      </a:lnTo>
                      <a:lnTo>
                        <a:pt x="775" y="464"/>
                      </a:lnTo>
                      <a:lnTo>
                        <a:pt x="775" y="446"/>
                      </a:lnTo>
                      <a:lnTo>
                        <a:pt x="778" y="431"/>
                      </a:lnTo>
                      <a:lnTo>
                        <a:pt x="778" y="418"/>
                      </a:lnTo>
                      <a:lnTo>
                        <a:pt x="780" y="394"/>
                      </a:lnTo>
                      <a:lnTo>
                        <a:pt x="782" y="372"/>
                      </a:lnTo>
                      <a:lnTo>
                        <a:pt x="786" y="352"/>
                      </a:lnTo>
                      <a:lnTo>
                        <a:pt x="791" y="335"/>
                      </a:lnTo>
                      <a:lnTo>
                        <a:pt x="799" y="315"/>
                      </a:lnTo>
                      <a:lnTo>
                        <a:pt x="813" y="293"/>
                      </a:lnTo>
                      <a:lnTo>
                        <a:pt x="830" y="271"/>
                      </a:lnTo>
                      <a:lnTo>
                        <a:pt x="854" y="247"/>
                      </a:lnTo>
                      <a:lnTo>
                        <a:pt x="881" y="226"/>
                      </a:lnTo>
                      <a:lnTo>
                        <a:pt x="913" y="208"/>
                      </a:lnTo>
                      <a:lnTo>
                        <a:pt x="951" y="191"/>
                      </a:lnTo>
                      <a:lnTo>
                        <a:pt x="992" y="180"/>
                      </a:lnTo>
                      <a:lnTo>
                        <a:pt x="1005" y="177"/>
                      </a:lnTo>
                      <a:lnTo>
                        <a:pt x="1021" y="175"/>
                      </a:lnTo>
                      <a:lnTo>
                        <a:pt x="1034" y="175"/>
                      </a:lnTo>
                      <a:lnTo>
                        <a:pt x="1049" y="175"/>
                      </a:lnTo>
                      <a:lnTo>
                        <a:pt x="1062" y="175"/>
                      </a:lnTo>
                      <a:lnTo>
                        <a:pt x="1078" y="175"/>
                      </a:lnTo>
                      <a:lnTo>
                        <a:pt x="1091" y="177"/>
                      </a:lnTo>
                      <a:lnTo>
                        <a:pt x="1104" y="180"/>
                      </a:lnTo>
                      <a:lnTo>
                        <a:pt x="1119" y="182"/>
                      </a:lnTo>
                      <a:lnTo>
                        <a:pt x="1132" y="186"/>
                      </a:lnTo>
                      <a:lnTo>
                        <a:pt x="1143" y="191"/>
                      </a:lnTo>
                      <a:lnTo>
                        <a:pt x="1154" y="195"/>
                      </a:lnTo>
                      <a:lnTo>
                        <a:pt x="1152" y="182"/>
                      </a:lnTo>
                      <a:lnTo>
                        <a:pt x="1148" y="164"/>
                      </a:lnTo>
                      <a:lnTo>
                        <a:pt x="1139" y="147"/>
                      </a:lnTo>
                      <a:lnTo>
                        <a:pt x="1132" y="136"/>
                      </a:lnTo>
                      <a:lnTo>
                        <a:pt x="1132" y="121"/>
                      </a:lnTo>
                      <a:lnTo>
                        <a:pt x="1130" y="103"/>
                      </a:lnTo>
                      <a:lnTo>
                        <a:pt x="1124" y="86"/>
                      </a:lnTo>
                      <a:lnTo>
                        <a:pt x="1117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7410600" y="2275200"/>
                  <a:ext cx="50040" cy="77760"/>
                </a:xfrm>
                <a:custGeom>
                  <a:avLst/>
                  <a:gdLst/>
                  <a:ahLst/>
                  <a:rect l="l" t="t" r="r" b="b"/>
                  <a:pathLst>
                    <a:path w="129" h="200">
                      <a:moveTo>
                        <a:pt x="35" y="11"/>
                      </a:moveTo>
                      <a:lnTo>
                        <a:pt x="50" y="11"/>
                      </a:lnTo>
                      <a:lnTo>
                        <a:pt x="66" y="11"/>
                      </a:lnTo>
                      <a:lnTo>
                        <a:pt x="79" y="9"/>
                      </a:lnTo>
                      <a:lnTo>
                        <a:pt x="92" y="9"/>
                      </a:lnTo>
                      <a:lnTo>
                        <a:pt x="105" y="7"/>
                      </a:lnTo>
                      <a:lnTo>
                        <a:pt x="114" y="5"/>
                      </a:lnTo>
                      <a:lnTo>
                        <a:pt x="123" y="3"/>
                      </a:lnTo>
                      <a:lnTo>
                        <a:pt x="129" y="0"/>
                      </a:lnTo>
                      <a:lnTo>
                        <a:pt x="114" y="20"/>
                      </a:lnTo>
                      <a:lnTo>
                        <a:pt x="98" y="38"/>
                      </a:lnTo>
                      <a:lnTo>
                        <a:pt x="85" y="57"/>
                      </a:lnTo>
                      <a:lnTo>
                        <a:pt x="74" y="77"/>
                      </a:lnTo>
                      <a:lnTo>
                        <a:pt x="66" y="101"/>
                      </a:lnTo>
                      <a:lnTo>
                        <a:pt x="59" y="130"/>
                      </a:lnTo>
                      <a:lnTo>
                        <a:pt x="55" y="160"/>
                      </a:lnTo>
                      <a:lnTo>
                        <a:pt x="52" y="200"/>
                      </a:lnTo>
                      <a:lnTo>
                        <a:pt x="37" y="184"/>
                      </a:lnTo>
                      <a:lnTo>
                        <a:pt x="24" y="162"/>
                      </a:lnTo>
                      <a:lnTo>
                        <a:pt x="11" y="140"/>
                      </a:lnTo>
                      <a:lnTo>
                        <a:pt x="0" y="114"/>
                      </a:lnTo>
                      <a:lnTo>
                        <a:pt x="2" y="90"/>
                      </a:lnTo>
                      <a:lnTo>
                        <a:pt x="7" y="62"/>
                      </a:lnTo>
                      <a:lnTo>
                        <a:pt x="17" y="33"/>
                      </a:lnTo>
                      <a:lnTo>
                        <a:pt x="35" y="11"/>
                      </a:lnTo>
                      <a:close/>
                    </a:path>
                  </a:pathLst>
                </a:custGeom>
                <a:solidFill>
                  <a:srgbClr val="efd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726680" y="2074680"/>
                  <a:ext cx="106560" cy="53280"/>
                </a:xfrm>
                <a:custGeom>
                  <a:avLst/>
                  <a:gdLst/>
                  <a:ahLst/>
                  <a:rect l="l" t="t" r="r" b="b"/>
                  <a:pathLst>
                    <a:path w="274" h="137">
                      <a:moveTo>
                        <a:pt x="0" y="137"/>
                      </a:moveTo>
                      <a:lnTo>
                        <a:pt x="11" y="107"/>
                      </a:lnTo>
                      <a:lnTo>
                        <a:pt x="18" y="83"/>
                      </a:lnTo>
                      <a:lnTo>
                        <a:pt x="18" y="63"/>
                      </a:lnTo>
                      <a:lnTo>
                        <a:pt x="15" y="50"/>
                      </a:lnTo>
                      <a:lnTo>
                        <a:pt x="20" y="48"/>
                      </a:lnTo>
                      <a:lnTo>
                        <a:pt x="24" y="45"/>
                      </a:lnTo>
                      <a:lnTo>
                        <a:pt x="29" y="43"/>
                      </a:lnTo>
                      <a:lnTo>
                        <a:pt x="33" y="41"/>
                      </a:lnTo>
                      <a:lnTo>
                        <a:pt x="37" y="48"/>
                      </a:lnTo>
                      <a:lnTo>
                        <a:pt x="44" y="52"/>
                      </a:lnTo>
                      <a:lnTo>
                        <a:pt x="53" y="54"/>
                      </a:lnTo>
                      <a:lnTo>
                        <a:pt x="61" y="56"/>
                      </a:lnTo>
                      <a:lnTo>
                        <a:pt x="70" y="54"/>
                      </a:lnTo>
                      <a:lnTo>
                        <a:pt x="86" y="52"/>
                      </a:lnTo>
                      <a:lnTo>
                        <a:pt x="107" y="45"/>
                      </a:lnTo>
                      <a:lnTo>
                        <a:pt x="132" y="39"/>
                      </a:lnTo>
                      <a:lnTo>
                        <a:pt x="158" y="30"/>
                      </a:lnTo>
                      <a:lnTo>
                        <a:pt x="184" y="21"/>
                      </a:lnTo>
                      <a:lnTo>
                        <a:pt x="208" y="10"/>
                      </a:lnTo>
                      <a:lnTo>
                        <a:pt x="230" y="0"/>
                      </a:lnTo>
                      <a:lnTo>
                        <a:pt x="239" y="0"/>
                      </a:lnTo>
                      <a:lnTo>
                        <a:pt x="250" y="2"/>
                      </a:lnTo>
                      <a:lnTo>
                        <a:pt x="261" y="2"/>
                      </a:lnTo>
                      <a:lnTo>
                        <a:pt x="274" y="0"/>
                      </a:lnTo>
                      <a:lnTo>
                        <a:pt x="267" y="24"/>
                      </a:lnTo>
                      <a:lnTo>
                        <a:pt x="263" y="52"/>
                      </a:lnTo>
                      <a:lnTo>
                        <a:pt x="263" y="80"/>
                      </a:lnTo>
                      <a:lnTo>
                        <a:pt x="263" y="107"/>
                      </a:lnTo>
                      <a:lnTo>
                        <a:pt x="228" y="107"/>
                      </a:lnTo>
                      <a:lnTo>
                        <a:pt x="195" y="104"/>
                      </a:lnTo>
                      <a:lnTo>
                        <a:pt x="160" y="107"/>
                      </a:lnTo>
                      <a:lnTo>
                        <a:pt x="127" y="107"/>
                      </a:lnTo>
                      <a:lnTo>
                        <a:pt x="94" y="111"/>
                      </a:lnTo>
                      <a:lnTo>
                        <a:pt x="61" y="115"/>
                      </a:lnTo>
                      <a:lnTo>
                        <a:pt x="31" y="124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efd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537680" y="2166120"/>
                  <a:ext cx="141120" cy="77400"/>
                </a:xfrm>
                <a:custGeom>
                  <a:avLst/>
                  <a:gdLst/>
                  <a:ahLst/>
                  <a:rect l="l" t="t" r="r" b="b"/>
                  <a:pathLst>
                    <a:path w="362" h="199">
                      <a:moveTo>
                        <a:pt x="0" y="199"/>
                      </a:moveTo>
                      <a:lnTo>
                        <a:pt x="16" y="185"/>
                      </a:lnTo>
                      <a:lnTo>
                        <a:pt x="31" y="170"/>
                      </a:lnTo>
                      <a:lnTo>
                        <a:pt x="46" y="157"/>
                      </a:lnTo>
                      <a:lnTo>
                        <a:pt x="62" y="142"/>
                      </a:lnTo>
                      <a:lnTo>
                        <a:pt x="72" y="129"/>
                      </a:lnTo>
                      <a:lnTo>
                        <a:pt x="83" y="115"/>
                      </a:lnTo>
                      <a:lnTo>
                        <a:pt x="90" y="105"/>
                      </a:lnTo>
                      <a:lnTo>
                        <a:pt x="90" y="98"/>
                      </a:lnTo>
                      <a:lnTo>
                        <a:pt x="83" y="87"/>
                      </a:lnTo>
                      <a:lnTo>
                        <a:pt x="79" y="74"/>
                      </a:lnTo>
                      <a:lnTo>
                        <a:pt x="75" y="65"/>
                      </a:lnTo>
                      <a:lnTo>
                        <a:pt x="79" y="59"/>
                      </a:lnTo>
                      <a:lnTo>
                        <a:pt x="77" y="52"/>
                      </a:lnTo>
                      <a:lnTo>
                        <a:pt x="75" y="43"/>
                      </a:lnTo>
                      <a:lnTo>
                        <a:pt x="68" y="37"/>
                      </a:lnTo>
                      <a:lnTo>
                        <a:pt x="64" y="28"/>
                      </a:lnTo>
                      <a:lnTo>
                        <a:pt x="77" y="26"/>
                      </a:lnTo>
                      <a:lnTo>
                        <a:pt x="86" y="19"/>
                      </a:lnTo>
                      <a:lnTo>
                        <a:pt x="88" y="10"/>
                      </a:lnTo>
                      <a:lnTo>
                        <a:pt x="88" y="0"/>
                      </a:lnTo>
                      <a:lnTo>
                        <a:pt x="86" y="13"/>
                      </a:lnTo>
                      <a:lnTo>
                        <a:pt x="83" y="28"/>
                      </a:lnTo>
                      <a:lnTo>
                        <a:pt x="83" y="41"/>
                      </a:lnTo>
                      <a:lnTo>
                        <a:pt x="86" y="54"/>
                      </a:lnTo>
                      <a:lnTo>
                        <a:pt x="90" y="65"/>
                      </a:lnTo>
                      <a:lnTo>
                        <a:pt x="97" y="74"/>
                      </a:lnTo>
                      <a:lnTo>
                        <a:pt x="108" y="78"/>
                      </a:lnTo>
                      <a:lnTo>
                        <a:pt x="121" y="78"/>
                      </a:lnTo>
                      <a:lnTo>
                        <a:pt x="136" y="74"/>
                      </a:lnTo>
                      <a:lnTo>
                        <a:pt x="162" y="67"/>
                      </a:lnTo>
                      <a:lnTo>
                        <a:pt x="199" y="59"/>
                      </a:lnTo>
                      <a:lnTo>
                        <a:pt x="239" y="45"/>
                      </a:lnTo>
                      <a:lnTo>
                        <a:pt x="278" y="35"/>
                      </a:lnTo>
                      <a:lnTo>
                        <a:pt x="313" y="21"/>
                      </a:lnTo>
                      <a:lnTo>
                        <a:pt x="344" y="10"/>
                      </a:lnTo>
                      <a:lnTo>
                        <a:pt x="362" y="2"/>
                      </a:lnTo>
                      <a:lnTo>
                        <a:pt x="335" y="41"/>
                      </a:lnTo>
                      <a:lnTo>
                        <a:pt x="316" y="78"/>
                      </a:lnTo>
                      <a:lnTo>
                        <a:pt x="307" y="118"/>
                      </a:lnTo>
                      <a:lnTo>
                        <a:pt x="305" y="161"/>
                      </a:lnTo>
                      <a:lnTo>
                        <a:pt x="276" y="155"/>
                      </a:lnTo>
                      <a:lnTo>
                        <a:pt x="243" y="148"/>
                      </a:lnTo>
                      <a:lnTo>
                        <a:pt x="208" y="142"/>
                      </a:lnTo>
                      <a:lnTo>
                        <a:pt x="169" y="140"/>
                      </a:lnTo>
                      <a:lnTo>
                        <a:pt x="129" y="144"/>
                      </a:lnTo>
                      <a:lnTo>
                        <a:pt x="88" y="153"/>
                      </a:lnTo>
                      <a:lnTo>
                        <a:pt x="44" y="170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efd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900200" y="1962000"/>
                  <a:ext cx="79200" cy="40680"/>
                </a:xfrm>
                <a:custGeom>
                  <a:avLst/>
                  <a:gdLst/>
                  <a:ahLst/>
                  <a:rect l="l" t="t" r="r" b="b"/>
                  <a:pathLst>
                    <a:path w="203" h="105">
                      <a:moveTo>
                        <a:pt x="127" y="0"/>
                      </a:moveTo>
                      <a:lnTo>
                        <a:pt x="120" y="11"/>
                      </a:lnTo>
                      <a:lnTo>
                        <a:pt x="107" y="26"/>
                      </a:lnTo>
                      <a:lnTo>
                        <a:pt x="89" y="41"/>
                      </a:lnTo>
                      <a:lnTo>
                        <a:pt x="70" y="57"/>
                      </a:lnTo>
                      <a:lnTo>
                        <a:pt x="50" y="72"/>
                      </a:lnTo>
                      <a:lnTo>
                        <a:pt x="30" y="87"/>
                      </a:lnTo>
                      <a:lnTo>
                        <a:pt x="13" y="98"/>
                      </a:lnTo>
                      <a:lnTo>
                        <a:pt x="0" y="105"/>
                      </a:lnTo>
                      <a:lnTo>
                        <a:pt x="24" y="98"/>
                      </a:lnTo>
                      <a:lnTo>
                        <a:pt x="50" y="94"/>
                      </a:lnTo>
                      <a:lnTo>
                        <a:pt x="79" y="89"/>
                      </a:lnTo>
                      <a:lnTo>
                        <a:pt x="109" y="85"/>
                      </a:lnTo>
                      <a:lnTo>
                        <a:pt x="135" y="85"/>
                      </a:lnTo>
                      <a:lnTo>
                        <a:pt x="162" y="85"/>
                      </a:lnTo>
                      <a:lnTo>
                        <a:pt x="186" y="87"/>
                      </a:lnTo>
                      <a:lnTo>
                        <a:pt x="203" y="94"/>
                      </a:lnTo>
                      <a:lnTo>
                        <a:pt x="203" y="79"/>
                      </a:lnTo>
                      <a:lnTo>
                        <a:pt x="201" y="61"/>
                      </a:lnTo>
                      <a:lnTo>
                        <a:pt x="195" y="44"/>
                      </a:lnTo>
                      <a:lnTo>
                        <a:pt x="188" y="26"/>
                      </a:lnTo>
                      <a:lnTo>
                        <a:pt x="177" y="20"/>
                      </a:lnTo>
                      <a:lnTo>
                        <a:pt x="162" y="11"/>
                      </a:lnTo>
                      <a:lnTo>
                        <a:pt x="144" y="4"/>
                      </a:lnTo>
                      <a:lnTo>
                        <a:pt x="127" y="0"/>
                      </a:lnTo>
                      <a:close/>
                    </a:path>
                  </a:pathLst>
                </a:custGeom>
                <a:solidFill>
                  <a:srgbClr val="efd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446240" y="2013840"/>
                  <a:ext cx="527760" cy="346320"/>
                </a:xfrm>
                <a:custGeom>
                  <a:avLst/>
                  <a:gdLst/>
                  <a:ahLst/>
                  <a:rect l="l" t="t" r="r" b="b"/>
                  <a:pathLst>
                    <a:path w="1353" h="888">
                      <a:moveTo>
                        <a:pt x="1338" y="5"/>
                      </a:moveTo>
                      <a:lnTo>
                        <a:pt x="1325" y="2"/>
                      </a:lnTo>
                      <a:lnTo>
                        <a:pt x="1312" y="0"/>
                      </a:lnTo>
                      <a:lnTo>
                        <a:pt x="1296" y="0"/>
                      </a:lnTo>
                      <a:lnTo>
                        <a:pt x="1283" y="0"/>
                      </a:lnTo>
                      <a:lnTo>
                        <a:pt x="1268" y="0"/>
                      </a:lnTo>
                      <a:lnTo>
                        <a:pt x="1255" y="0"/>
                      </a:lnTo>
                      <a:lnTo>
                        <a:pt x="1239" y="2"/>
                      </a:lnTo>
                      <a:lnTo>
                        <a:pt x="1226" y="5"/>
                      </a:lnTo>
                      <a:lnTo>
                        <a:pt x="1185" y="16"/>
                      </a:lnTo>
                      <a:lnTo>
                        <a:pt x="1147" y="33"/>
                      </a:lnTo>
                      <a:lnTo>
                        <a:pt x="1115" y="51"/>
                      </a:lnTo>
                      <a:lnTo>
                        <a:pt x="1088" y="72"/>
                      </a:lnTo>
                      <a:lnTo>
                        <a:pt x="1064" y="96"/>
                      </a:lnTo>
                      <a:lnTo>
                        <a:pt x="1047" y="118"/>
                      </a:lnTo>
                      <a:lnTo>
                        <a:pt x="1033" y="140"/>
                      </a:lnTo>
                      <a:lnTo>
                        <a:pt x="1025" y="160"/>
                      </a:lnTo>
                      <a:lnTo>
                        <a:pt x="1020" y="177"/>
                      </a:lnTo>
                      <a:lnTo>
                        <a:pt x="1016" y="197"/>
                      </a:lnTo>
                      <a:lnTo>
                        <a:pt x="1014" y="219"/>
                      </a:lnTo>
                      <a:lnTo>
                        <a:pt x="1012" y="243"/>
                      </a:lnTo>
                      <a:lnTo>
                        <a:pt x="1012" y="256"/>
                      </a:lnTo>
                      <a:lnTo>
                        <a:pt x="1009" y="271"/>
                      </a:lnTo>
                      <a:lnTo>
                        <a:pt x="1009" y="289"/>
                      </a:lnTo>
                      <a:lnTo>
                        <a:pt x="1007" y="304"/>
                      </a:lnTo>
                      <a:lnTo>
                        <a:pt x="996" y="304"/>
                      </a:lnTo>
                      <a:lnTo>
                        <a:pt x="985" y="302"/>
                      </a:lnTo>
                      <a:lnTo>
                        <a:pt x="972" y="302"/>
                      </a:lnTo>
                      <a:lnTo>
                        <a:pt x="961" y="302"/>
                      </a:lnTo>
                      <a:lnTo>
                        <a:pt x="950" y="302"/>
                      </a:lnTo>
                      <a:lnTo>
                        <a:pt x="939" y="302"/>
                      </a:lnTo>
                      <a:lnTo>
                        <a:pt x="928" y="302"/>
                      </a:lnTo>
                      <a:lnTo>
                        <a:pt x="917" y="302"/>
                      </a:lnTo>
                      <a:lnTo>
                        <a:pt x="906" y="302"/>
                      </a:lnTo>
                      <a:lnTo>
                        <a:pt x="898" y="302"/>
                      </a:lnTo>
                      <a:lnTo>
                        <a:pt x="887" y="302"/>
                      </a:lnTo>
                      <a:lnTo>
                        <a:pt x="876" y="302"/>
                      </a:lnTo>
                      <a:lnTo>
                        <a:pt x="863" y="302"/>
                      </a:lnTo>
                      <a:lnTo>
                        <a:pt x="852" y="304"/>
                      </a:lnTo>
                      <a:lnTo>
                        <a:pt x="841" y="304"/>
                      </a:lnTo>
                      <a:lnTo>
                        <a:pt x="828" y="306"/>
                      </a:lnTo>
                      <a:lnTo>
                        <a:pt x="817" y="309"/>
                      </a:lnTo>
                      <a:lnTo>
                        <a:pt x="806" y="311"/>
                      </a:lnTo>
                      <a:lnTo>
                        <a:pt x="797" y="311"/>
                      </a:lnTo>
                      <a:lnTo>
                        <a:pt x="786" y="313"/>
                      </a:lnTo>
                      <a:lnTo>
                        <a:pt x="775" y="315"/>
                      </a:lnTo>
                      <a:lnTo>
                        <a:pt x="766" y="317"/>
                      </a:lnTo>
                      <a:lnTo>
                        <a:pt x="755" y="320"/>
                      </a:lnTo>
                      <a:lnTo>
                        <a:pt x="747" y="322"/>
                      </a:lnTo>
                      <a:lnTo>
                        <a:pt x="738" y="326"/>
                      </a:lnTo>
                      <a:lnTo>
                        <a:pt x="731" y="328"/>
                      </a:lnTo>
                      <a:lnTo>
                        <a:pt x="723" y="330"/>
                      </a:lnTo>
                      <a:lnTo>
                        <a:pt x="714" y="333"/>
                      </a:lnTo>
                      <a:lnTo>
                        <a:pt x="698" y="339"/>
                      </a:lnTo>
                      <a:lnTo>
                        <a:pt x="685" y="346"/>
                      </a:lnTo>
                      <a:lnTo>
                        <a:pt x="674" y="352"/>
                      </a:lnTo>
                      <a:lnTo>
                        <a:pt x="663" y="359"/>
                      </a:lnTo>
                      <a:lnTo>
                        <a:pt x="644" y="376"/>
                      </a:lnTo>
                      <a:lnTo>
                        <a:pt x="624" y="403"/>
                      </a:lnTo>
                      <a:lnTo>
                        <a:pt x="606" y="433"/>
                      </a:lnTo>
                      <a:lnTo>
                        <a:pt x="591" y="466"/>
                      </a:lnTo>
                      <a:lnTo>
                        <a:pt x="578" y="497"/>
                      </a:lnTo>
                      <a:lnTo>
                        <a:pt x="567" y="523"/>
                      </a:lnTo>
                      <a:lnTo>
                        <a:pt x="560" y="543"/>
                      </a:lnTo>
                      <a:lnTo>
                        <a:pt x="556" y="554"/>
                      </a:lnTo>
                      <a:lnTo>
                        <a:pt x="554" y="560"/>
                      </a:lnTo>
                      <a:lnTo>
                        <a:pt x="550" y="569"/>
                      </a:lnTo>
                      <a:lnTo>
                        <a:pt x="543" y="578"/>
                      </a:lnTo>
                      <a:lnTo>
                        <a:pt x="534" y="584"/>
                      </a:lnTo>
                      <a:lnTo>
                        <a:pt x="525" y="582"/>
                      </a:lnTo>
                      <a:lnTo>
                        <a:pt x="517" y="580"/>
                      </a:lnTo>
                      <a:lnTo>
                        <a:pt x="506" y="578"/>
                      </a:lnTo>
                      <a:lnTo>
                        <a:pt x="497" y="575"/>
                      </a:lnTo>
                      <a:lnTo>
                        <a:pt x="488" y="573"/>
                      </a:lnTo>
                      <a:lnTo>
                        <a:pt x="482" y="573"/>
                      </a:lnTo>
                      <a:lnTo>
                        <a:pt x="475" y="573"/>
                      </a:lnTo>
                      <a:lnTo>
                        <a:pt x="466" y="573"/>
                      </a:lnTo>
                      <a:lnTo>
                        <a:pt x="449" y="573"/>
                      </a:lnTo>
                      <a:lnTo>
                        <a:pt x="431" y="575"/>
                      </a:lnTo>
                      <a:lnTo>
                        <a:pt x="416" y="575"/>
                      </a:lnTo>
                      <a:lnTo>
                        <a:pt x="401" y="578"/>
                      </a:lnTo>
                      <a:lnTo>
                        <a:pt x="385" y="580"/>
                      </a:lnTo>
                      <a:lnTo>
                        <a:pt x="372" y="582"/>
                      </a:lnTo>
                      <a:lnTo>
                        <a:pt x="361" y="584"/>
                      </a:lnTo>
                      <a:lnTo>
                        <a:pt x="352" y="586"/>
                      </a:lnTo>
                      <a:lnTo>
                        <a:pt x="339" y="589"/>
                      </a:lnTo>
                      <a:lnTo>
                        <a:pt x="324" y="591"/>
                      </a:lnTo>
                      <a:lnTo>
                        <a:pt x="306" y="591"/>
                      </a:lnTo>
                      <a:lnTo>
                        <a:pt x="291" y="591"/>
                      </a:lnTo>
                      <a:lnTo>
                        <a:pt x="274" y="591"/>
                      </a:lnTo>
                      <a:lnTo>
                        <a:pt x="258" y="591"/>
                      </a:lnTo>
                      <a:lnTo>
                        <a:pt x="245" y="591"/>
                      </a:lnTo>
                      <a:lnTo>
                        <a:pt x="234" y="589"/>
                      </a:lnTo>
                      <a:lnTo>
                        <a:pt x="219" y="593"/>
                      </a:lnTo>
                      <a:lnTo>
                        <a:pt x="201" y="602"/>
                      </a:lnTo>
                      <a:lnTo>
                        <a:pt x="186" y="608"/>
                      </a:lnTo>
                      <a:lnTo>
                        <a:pt x="171" y="617"/>
                      </a:lnTo>
                      <a:lnTo>
                        <a:pt x="155" y="626"/>
                      </a:lnTo>
                      <a:lnTo>
                        <a:pt x="144" y="634"/>
                      </a:lnTo>
                      <a:lnTo>
                        <a:pt x="133" y="641"/>
                      </a:lnTo>
                      <a:lnTo>
                        <a:pt x="125" y="645"/>
                      </a:lnTo>
                      <a:lnTo>
                        <a:pt x="98" y="663"/>
                      </a:lnTo>
                      <a:lnTo>
                        <a:pt x="77" y="685"/>
                      </a:lnTo>
                      <a:lnTo>
                        <a:pt x="57" y="707"/>
                      </a:lnTo>
                      <a:lnTo>
                        <a:pt x="42" y="729"/>
                      </a:lnTo>
                      <a:lnTo>
                        <a:pt x="28" y="753"/>
                      </a:lnTo>
                      <a:lnTo>
                        <a:pt x="17" y="774"/>
                      </a:lnTo>
                      <a:lnTo>
                        <a:pt x="6" y="796"/>
                      </a:lnTo>
                      <a:lnTo>
                        <a:pt x="0" y="818"/>
                      </a:lnTo>
                      <a:lnTo>
                        <a:pt x="0" y="842"/>
                      </a:lnTo>
                      <a:lnTo>
                        <a:pt x="9" y="862"/>
                      </a:lnTo>
                      <a:lnTo>
                        <a:pt x="24" y="879"/>
                      </a:lnTo>
                      <a:lnTo>
                        <a:pt x="55" y="888"/>
                      </a:lnTo>
                      <a:lnTo>
                        <a:pt x="83" y="882"/>
                      </a:lnTo>
                      <a:lnTo>
                        <a:pt x="118" y="866"/>
                      </a:lnTo>
                      <a:lnTo>
                        <a:pt x="160" y="849"/>
                      </a:lnTo>
                      <a:lnTo>
                        <a:pt x="208" y="825"/>
                      </a:lnTo>
                      <a:lnTo>
                        <a:pt x="260" y="799"/>
                      </a:lnTo>
                      <a:lnTo>
                        <a:pt x="315" y="768"/>
                      </a:lnTo>
                      <a:lnTo>
                        <a:pt x="372" y="735"/>
                      </a:lnTo>
                      <a:lnTo>
                        <a:pt x="429" y="702"/>
                      </a:lnTo>
                      <a:lnTo>
                        <a:pt x="488" y="667"/>
                      </a:lnTo>
                      <a:lnTo>
                        <a:pt x="545" y="632"/>
                      </a:lnTo>
                      <a:lnTo>
                        <a:pt x="600" y="599"/>
                      </a:lnTo>
                      <a:lnTo>
                        <a:pt x="650" y="567"/>
                      </a:lnTo>
                      <a:lnTo>
                        <a:pt x="698" y="538"/>
                      </a:lnTo>
                      <a:lnTo>
                        <a:pt x="740" y="510"/>
                      </a:lnTo>
                      <a:lnTo>
                        <a:pt x="777" y="488"/>
                      </a:lnTo>
                      <a:lnTo>
                        <a:pt x="806" y="470"/>
                      </a:lnTo>
                      <a:lnTo>
                        <a:pt x="830" y="455"/>
                      </a:lnTo>
                      <a:lnTo>
                        <a:pt x="856" y="438"/>
                      </a:lnTo>
                      <a:lnTo>
                        <a:pt x="887" y="420"/>
                      </a:lnTo>
                      <a:lnTo>
                        <a:pt x="920" y="398"/>
                      </a:lnTo>
                      <a:lnTo>
                        <a:pt x="955" y="376"/>
                      </a:lnTo>
                      <a:lnTo>
                        <a:pt x="990" y="352"/>
                      </a:lnTo>
                      <a:lnTo>
                        <a:pt x="1029" y="328"/>
                      </a:lnTo>
                      <a:lnTo>
                        <a:pt x="1066" y="302"/>
                      </a:lnTo>
                      <a:lnTo>
                        <a:pt x="1104" y="278"/>
                      </a:lnTo>
                      <a:lnTo>
                        <a:pt x="1141" y="254"/>
                      </a:lnTo>
                      <a:lnTo>
                        <a:pt x="1178" y="230"/>
                      </a:lnTo>
                      <a:lnTo>
                        <a:pt x="1213" y="206"/>
                      </a:lnTo>
                      <a:lnTo>
                        <a:pt x="1246" y="184"/>
                      </a:lnTo>
                      <a:lnTo>
                        <a:pt x="1274" y="164"/>
                      </a:lnTo>
                      <a:lnTo>
                        <a:pt x="1303" y="145"/>
                      </a:lnTo>
                      <a:lnTo>
                        <a:pt x="1325" y="129"/>
                      </a:lnTo>
                      <a:lnTo>
                        <a:pt x="1338" y="105"/>
                      </a:lnTo>
                      <a:lnTo>
                        <a:pt x="1351" y="75"/>
                      </a:lnTo>
                      <a:lnTo>
                        <a:pt x="1353" y="40"/>
                      </a:lnTo>
                      <a:lnTo>
                        <a:pt x="133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698600" y="2131920"/>
                  <a:ext cx="89640" cy="82440"/>
                </a:xfrm>
                <a:custGeom>
                  <a:avLst/>
                  <a:gdLst/>
                  <a:ahLst/>
                  <a:rect l="l" t="t" r="r" b="b"/>
                  <a:pathLst>
                    <a:path w="230" h="212">
                      <a:moveTo>
                        <a:pt x="140" y="11"/>
                      </a:moveTo>
                      <a:lnTo>
                        <a:pt x="151" y="9"/>
                      </a:lnTo>
                      <a:lnTo>
                        <a:pt x="160" y="9"/>
                      </a:lnTo>
                      <a:lnTo>
                        <a:pt x="171" y="7"/>
                      </a:lnTo>
                      <a:lnTo>
                        <a:pt x="182" y="4"/>
                      </a:lnTo>
                      <a:lnTo>
                        <a:pt x="195" y="2"/>
                      </a:lnTo>
                      <a:lnTo>
                        <a:pt x="206" y="2"/>
                      </a:lnTo>
                      <a:lnTo>
                        <a:pt x="217" y="0"/>
                      </a:lnTo>
                      <a:lnTo>
                        <a:pt x="230" y="0"/>
                      </a:lnTo>
                      <a:lnTo>
                        <a:pt x="212" y="13"/>
                      </a:lnTo>
                      <a:lnTo>
                        <a:pt x="195" y="26"/>
                      </a:lnTo>
                      <a:lnTo>
                        <a:pt x="182" y="42"/>
                      </a:lnTo>
                      <a:lnTo>
                        <a:pt x="169" y="57"/>
                      </a:lnTo>
                      <a:lnTo>
                        <a:pt x="160" y="74"/>
                      </a:lnTo>
                      <a:lnTo>
                        <a:pt x="151" y="88"/>
                      </a:lnTo>
                      <a:lnTo>
                        <a:pt x="144" y="103"/>
                      </a:lnTo>
                      <a:lnTo>
                        <a:pt x="138" y="116"/>
                      </a:lnTo>
                      <a:lnTo>
                        <a:pt x="133" y="129"/>
                      </a:lnTo>
                      <a:lnTo>
                        <a:pt x="127" y="142"/>
                      </a:lnTo>
                      <a:lnTo>
                        <a:pt x="118" y="158"/>
                      </a:lnTo>
                      <a:lnTo>
                        <a:pt x="109" y="171"/>
                      </a:lnTo>
                      <a:lnTo>
                        <a:pt x="98" y="184"/>
                      </a:lnTo>
                      <a:lnTo>
                        <a:pt x="87" y="195"/>
                      </a:lnTo>
                      <a:lnTo>
                        <a:pt x="74" y="203"/>
                      </a:lnTo>
                      <a:lnTo>
                        <a:pt x="59" y="208"/>
                      </a:lnTo>
                      <a:lnTo>
                        <a:pt x="33" y="212"/>
                      </a:lnTo>
                      <a:lnTo>
                        <a:pt x="15" y="210"/>
                      </a:lnTo>
                      <a:lnTo>
                        <a:pt x="4" y="201"/>
                      </a:lnTo>
                      <a:lnTo>
                        <a:pt x="0" y="188"/>
                      </a:lnTo>
                      <a:lnTo>
                        <a:pt x="0" y="175"/>
                      </a:lnTo>
                      <a:lnTo>
                        <a:pt x="9" y="162"/>
                      </a:lnTo>
                      <a:lnTo>
                        <a:pt x="22" y="153"/>
                      </a:lnTo>
                      <a:lnTo>
                        <a:pt x="39" y="144"/>
                      </a:lnTo>
                      <a:lnTo>
                        <a:pt x="63" y="131"/>
                      </a:lnTo>
                      <a:lnTo>
                        <a:pt x="83" y="112"/>
                      </a:lnTo>
                      <a:lnTo>
                        <a:pt x="96" y="92"/>
                      </a:lnTo>
                      <a:lnTo>
                        <a:pt x="101" y="72"/>
                      </a:lnTo>
                      <a:lnTo>
                        <a:pt x="105" y="55"/>
                      </a:lnTo>
                      <a:lnTo>
                        <a:pt x="114" y="37"/>
                      </a:lnTo>
                      <a:lnTo>
                        <a:pt x="125" y="22"/>
                      </a:lnTo>
                      <a:lnTo>
                        <a:pt x="140" y="11"/>
                      </a:lnTo>
                      <a:close/>
                    </a:path>
                  </a:pathLst>
                </a:custGeom>
                <a:solidFill>
                  <a:srgbClr val="995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692480" y="2143800"/>
                  <a:ext cx="43200" cy="42480"/>
                </a:xfrm>
                <a:custGeom>
                  <a:avLst/>
                  <a:gdLst/>
                  <a:ahLst/>
                  <a:rect l="l" t="t" r="r" b="b"/>
                  <a:pathLst>
                    <a:path w="111" h="109">
                      <a:moveTo>
                        <a:pt x="32" y="26"/>
                      </a:moveTo>
                      <a:lnTo>
                        <a:pt x="43" y="19"/>
                      </a:lnTo>
                      <a:lnTo>
                        <a:pt x="54" y="13"/>
                      </a:lnTo>
                      <a:lnTo>
                        <a:pt x="67" y="6"/>
                      </a:lnTo>
                      <a:lnTo>
                        <a:pt x="83" y="0"/>
                      </a:lnTo>
                      <a:lnTo>
                        <a:pt x="111" y="37"/>
                      </a:lnTo>
                      <a:lnTo>
                        <a:pt x="98" y="37"/>
                      </a:lnTo>
                      <a:lnTo>
                        <a:pt x="83" y="41"/>
                      </a:lnTo>
                      <a:lnTo>
                        <a:pt x="67" y="48"/>
                      </a:lnTo>
                      <a:lnTo>
                        <a:pt x="52" y="57"/>
                      </a:lnTo>
                      <a:lnTo>
                        <a:pt x="37" y="67"/>
                      </a:lnTo>
                      <a:lnTo>
                        <a:pt x="21" y="78"/>
                      </a:lnTo>
                      <a:lnTo>
                        <a:pt x="8" y="94"/>
                      </a:lnTo>
                      <a:lnTo>
                        <a:pt x="0" y="109"/>
                      </a:lnTo>
                      <a:lnTo>
                        <a:pt x="4" y="87"/>
                      </a:lnTo>
                      <a:lnTo>
                        <a:pt x="11" y="65"/>
                      </a:lnTo>
                      <a:lnTo>
                        <a:pt x="17" y="46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995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561800" y="2237400"/>
                  <a:ext cx="78120" cy="61560"/>
                </a:xfrm>
                <a:custGeom>
                  <a:avLst/>
                  <a:gdLst/>
                  <a:ahLst/>
                  <a:rect l="l" t="t" r="r" b="b"/>
                  <a:pathLst>
                    <a:path w="201" h="158">
                      <a:moveTo>
                        <a:pt x="170" y="0"/>
                      </a:moveTo>
                      <a:lnTo>
                        <a:pt x="179" y="0"/>
                      </a:lnTo>
                      <a:lnTo>
                        <a:pt x="186" y="0"/>
                      </a:lnTo>
                      <a:lnTo>
                        <a:pt x="192" y="0"/>
                      </a:lnTo>
                      <a:lnTo>
                        <a:pt x="201" y="2"/>
                      </a:lnTo>
                      <a:lnTo>
                        <a:pt x="190" y="20"/>
                      </a:lnTo>
                      <a:lnTo>
                        <a:pt x="179" y="40"/>
                      </a:lnTo>
                      <a:lnTo>
                        <a:pt x="166" y="57"/>
                      </a:lnTo>
                      <a:lnTo>
                        <a:pt x="153" y="77"/>
                      </a:lnTo>
                      <a:lnTo>
                        <a:pt x="137" y="94"/>
                      </a:lnTo>
                      <a:lnTo>
                        <a:pt x="122" y="110"/>
                      </a:lnTo>
                      <a:lnTo>
                        <a:pt x="105" y="125"/>
                      </a:lnTo>
                      <a:lnTo>
                        <a:pt x="89" y="136"/>
                      </a:lnTo>
                      <a:lnTo>
                        <a:pt x="74" y="145"/>
                      </a:lnTo>
                      <a:lnTo>
                        <a:pt x="61" y="151"/>
                      </a:lnTo>
                      <a:lnTo>
                        <a:pt x="48" y="156"/>
                      </a:lnTo>
                      <a:lnTo>
                        <a:pt x="35" y="158"/>
                      </a:lnTo>
                      <a:lnTo>
                        <a:pt x="24" y="156"/>
                      </a:lnTo>
                      <a:lnTo>
                        <a:pt x="15" y="153"/>
                      </a:lnTo>
                      <a:lnTo>
                        <a:pt x="8" y="149"/>
                      </a:lnTo>
                      <a:lnTo>
                        <a:pt x="2" y="140"/>
                      </a:lnTo>
                      <a:lnTo>
                        <a:pt x="0" y="123"/>
                      </a:lnTo>
                      <a:lnTo>
                        <a:pt x="10" y="103"/>
                      </a:lnTo>
                      <a:lnTo>
                        <a:pt x="28" y="88"/>
                      </a:lnTo>
                      <a:lnTo>
                        <a:pt x="48" y="79"/>
                      </a:lnTo>
                      <a:lnTo>
                        <a:pt x="59" y="77"/>
                      </a:lnTo>
                      <a:lnTo>
                        <a:pt x="74" y="75"/>
                      </a:lnTo>
                      <a:lnTo>
                        <a:pt x="92" y="70"/>
                      </a:lnTo>
                      <a:lnTo>
                        <a:pt x="109" y="64"/>
                      </a:lnTo>
                      <a:lnTo>
                        <a:pt x="129" y="55"/>
                      </a:lnTo>
                      <a:lnTo>
                        <a:pt x="144" y="42"/>
                      </a:lnTo>
                      <a:lnTo>
                        <a:pt x="159" y="24"/>
                      </a:ln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995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803360" y="2016000"/>
                  <a:ext cx="121320" cy="127800"/>
                </a:xfrm>
                <a:custGeom>
                  <a:avLst/>
                  <a:gdLst/>
                  <a:ahLst/>
                  <a:rect l="l" t="t" r="r" b="b"/>
                  <a:pathLst>
                    <a:path w="311" h="328">
                      <a:moveTo>
                        <a:pt x="311" y="0"/>
                      </a:moveTo>
                      <a:lnTo>
                        <a:pt x="270" y="11"/>
                      </a:lnTo>
                      <a:lnTo>
                        <a:pt x="232" y="28"/>
                      </a:lnTo>
                      <a:lnTo>
                        <a:pt x="200" y="46"/>
                      </a:lnTo>
                      <a:lnTo>
                        <a:pt x="173" y="67"/>
                      </a:lnTo>
                      <a:lnTo>
                        <a:pt x="149" y="91"/>
                      </a:lnTo>
                      <a:lnTo>
                        <a:pt x="132" y="113"/>
                      </a:lnTo>
                      <a:lnTo>
                        <a:pt x="118" y="135"/>
                      </a:lnTo>
                      <a:lnTo>
                        <a:pt x="110" y="155"/>
                      </a:lnTo>
                      <a:lnTo>
                        <a:pt x="121" y="175"/>
                      </a:lnTo>
                      <a:lnTo>
                        <a:pt x="123" y="196"/>
                      </a:lnTo>
                      <a:lnTo>
                        <a:pt x="116" y="218"/>
                      </a:lnTo>
                      <a:lnTo>
                        <a:pt x="97" y="238"/>
                      </a:lnTo>
                      <a:lnTo>
                        <a:pt x="97" y="251"/>
                      </a:lnTo>
                      <a:lnTo>
                        <a:pt x="94" y="266"/>
                      </a:lnTo>
                      <a:lnTo>
                        <a:pt x="94" y="284"/>
                      </a:lnTo>
                      <a:lnTo>
                        <a:pt x="92" y="299"/>
                      </a:lnTo>
                      <a:lnTo>
                        <a:pt x="81" y="299"/>
                      </a:lnTo>
                      <a:lnTo>
                        <a:pt x="70" y="297"/>
                      </a:lnTo>
                      <a:lnTo>
                        <a:pt x="57" y="297"/>
                      </a:lnTo>
                      <a:lnTo>
                        <a:pt x="46" y="297"/>
                      </a:lnTo>
                      <a:lnTo>
                        <a:pt x="35" y="297"/>
                      </a:lnTo>
                      <a:lnTo>
                        <a:pt x="24" y="297"/>
                      </a:lnTo>
                      <a:lnTo>
                        <a:pt x="13" y="297"/>
                      </a:lnTo>
                      <a:lnTo>
                        <a:pt x="2" y="297"/>
                      </a:lnTo>
                      <a:lnTo>
                        <a:pt x="0" y="310"/>
                      </a:lnTo>
                      <a:lnTo>
                        <a:pt x="2" y="319"/>
                      </a:lnTo>
                      <a:lnTo>
                        <a:pt x="11" y="325"/>
                      </a:lnTo>
                      <a:lnTo>
                        <a:pt x="22" y="328"/>
                      </a:lnTo>
                      <a:lnTo>
                        <a:pt x="35" y="328"/>
                      </a:lnTo>
                      <a:lnTo>
                        <a:pt x="51" y="323"/>
                      </a:lnTo>
                      <a:lnTo>
                        <a:pt x="66" y="317"/>
                      </a:lnTo>
                      <a:lnTo>
                        <a:pt x="79" y="308"/>
                      </a:lnTo>
                      <a:lnTo>
                        <a:pt x="90" y="299"/>
                      </a:lnTo>
                      <a:lnTo>
                        <a:pt x="101" y="288"/>
                      </a:lnTo>
                      <a:lnTo>
                        <a:pt x="110" y="280"/>
                      </a:lnTo>
                      <a:lnTo>
                        <a:pt x="118" y="269"/>
                      </a:lnTo>
                      <a:lnTo>
                        <a:pt x="125" y="258"/>
                      </a:lnTo>
                      <a:lnTo>
                        <a:pt x="134" y="247"/>
                      </a:lnTo>
                      <a:lnTo>
                        <a:pt x="140" y="234"/>
                      </a:lnTo>
                      <a:lnTo>
                        <a:pt x="147" y="221"/>
                      </a:lnTo>
                      <a:lnTo>
                        <a:pt x="156" y="201"/>
                      </a:lnTo>
                      <a:lnTo>
                        <a:pt x="167" y="175"/>
                      </a:lnTo>
                      <a:lnTo>
                        <a:pt x="182" y="146"/>
                      </a:lnTo>
                      <a:lnTo>
                        <a:pt x="202" y="113"/>
                      </a:lnTo>
                      <a:lnTo>
                        <a:pt x="224" y="81"/>
                      </a:lnTo>
                      <a:lnTo>
                        <a:pt x="250" y="50"/>
                      </a:lnTo>
                      <a:lnTo>
                        <a:pt x="278" y="21"/>
                      </a:lnTo>
                      <a:lnTo>
                        <a:pt x="311" y="0"/>
                      </a:lnTo>
                      <a:close/>
                    </a:path>
                  </a:pathLst>
                </a:custGeom>
                <a:solidFill>
                  <a:srgbClr val="995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904520" y="2021760"/>
                  <a:ext cx="58680" cy="46800"/>
                </a:xfrm>
                <a:custGeom>
                  <a:avLst/>
                  <a:gdLst/>
                  <a:ahLst/>
                  <a:rect l="l" t="t" r="r" b="b"/>
                  <a:pathLst>
                    <a:path w="151" h="120">
                      <a:moveTo>
                        <a:pt x="151" y="0"/>
                      </a:moveTo>
                      <a:lnTo>
                        <a:pt x="151" y="13"/>
                      </a:lnTo>
                      <a:lnTo>
                        <a:pt x="146" y="31"/>
                      </a:lnTo>
                      <a:lnTo>
                        <a:pt x="138" y="48"/>
                      </a:lnTo>
                      <a:lnTo>
                        <a:pt x="127" y="66"/>
                      </a:lnTo>
                      <a:lnTo>
                        <a:pt x="111" y="83"/>
                      </a:lnTo>
                      <a:lnTo>
                        <a:pt x="94" y="98"/>
                      </a:lnTo>
                      <a:lnTo>
                        <a:pt x="78" y="109"/>
                      </a:lnTo>
                      <a:lnTo>
                        <a:pt x="61" y="116"/>
                      </a:lnTo>
                      <a:lnTo>
                        <a:pt x="48" y="118"/>
                      </a:lnTo>
                      <a:lnTo>
                        <a:pt x="37" y="120"/>
                      </a:lnTo>
                      <a:lnTo>
                        <a:pt x="26" y="120"/>
                      </a:lnTo>
                      <a:lnTo>
                        <a:pt x="15" y="118"/>
                      </a:lnTo>
                      <a:lnTo>
                        <a:pt x="8" y="116"/>
                      </a:lnTo>
                      <a:lnTo>
                        <a:pt x="2" y="109"/>
                      </a:lnTo>
                      <a:lnTo>
                        <a:pt x="0" y="103"/>
                      </a:lnTo>
                      <a:lnTo>
                        <a:pt x="0" y="92"/>
                      </a:lnTo>
                      <a:lnTo>
                        <a:pt x="6" y="74"/>
                      </a:lnTo>
                      <a:lnTo>
                        <a:pt x="19" y="59"/>
                      </a:lnTo>
                      <a:lnTo>
                        <a:pt x="37" y="52"/>
                      </a:lnTo>
                      <a:lnTo>
                        <a:pt x="57" y="48"/>
                      </a:lnTo>
                      <a:lnTo>
                        <a:pt x="65" y="46"/>
                      </a:lnTo>
                      <a:lnTo>
                        <a:pt x="78" y="44"/>
                      </a:lnTo>
                      <a:lnTo>
                        <a:pt x="94" y="41"/>
                      </a:lnTo>
                      <a:lnTo>
                        <a:pt x="109" y="37"/>
                      </a:lnTo>
                      <a:lnTo>
                        <a:pt x="122" y="31"/>
                      </a:lnTo>
                      <a:lnTo>
                        <a:pt x="135" y="22"/>
                      </a:lnTo>
                      <a:lnTo>
                        <a:pt x="146" y="11"/>
                      </a:lnTo>
                      <a:lnTo>
                        <a:pt x="151" y="0"/>
                      </a:lnTo>
                      <a:close/>
                    </a:path>
                  </a:pathLst>
                </a:custGeom>
                <a:solidFill>
                  <a:srgbClr val="995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458480" y="2242800"/>
                  <a:ext cx="125280" cy="106920"/>
                </a:xfrm>
                <a:custGeom>
                  <a:avLst/>
                  <a:gdLst/>
                  <a:ahLst/>
                  <a:rect l="l" t="t" r="r" b="b"/>
                  <a:pathLst>
                    <a:path w="321" h="274">
                      <a:moveTo>
                        <a:pt x="321" y="0"/>
                      </a:moveTo>
                      <a:lnTo>
                        <a:pt x="297" y="18"/>
                      </a:lnTo>
                      <a:lnTo>
                        <a:pt x="273" y="42"/>
                      </a:lnTo>
                      <a:lnTo>
                        <a:pt x="247" y="68"/>
                      </a:lnTo>
                      <a:lnTo>
                        <a:pt x="223" y="97"/>
                      </a:lnTo>
                      <a:lnTo>
                        <a:pt x="199" y="125"/>
                      </a:lnTo>
                      <a:lnTo>
                        <a:pt x="179" y="151"/>
                      </a:lnTo>
                      <a:lnTo>
                        <a:pt x="162" y="175"/>
                      </a:lnTo>
                      <a:lnTo>
                        <a:pt x="151" y="193"/>
                      </a:lnTo>
                      <a:lnTo>
                        <a:pt x="142" y="206"/>
                      </a:lnTo>
                      <a:lnTo>
                        <a:pt x="131" y="221"/>
                      </a:lnTo>
                      <a:lnTo>
                        <a:pt x="118" y="232"/>
                      </a:lnTo>
                      <a:lnTo>
                        <a:pt x="107" y="245"/>
                      </a:lnTo>
                      <a:lnTo>
                        <a:pt x="92" y="254"/>
                      </a:lnTo>
                      <a:lnTo>
                        <a:pt x="78" y="263"/>
                      </a:lnTo>
                      <a:lnTo>
                        <a:pt x="67" y="269"/>
                      </a:lnTo>
                      <a:lnTo>
                        <a:pt x="54" y="274"/>
                      </a:lnTo>
                      <a:lnTo>
                        <a:pt x="32" y="274"/>
                      </a:lnTo>
                      <a:lnTo>
                        <a:pt x="15" y="269"/>
                      </a:lnTo>
                      <a:lnTo>
                        <a:pt x="4" y="258"/>
                      </a:lnTo>
                      <a:lnTo>
                        <a:pt x="0" y="243"/>
                      </a:lnTo>
                      <a:lnTo>
                        <a:pt x="4" y="226"/>
                      </a:lnTo>
                      <a:lnTo>
                        <a:pt x="15" y="213"/>
                      </a:lnTo>
                      <a:lnTo>
                        <a:pt x="30" y="204"/>
                      </a:lnTo>
                      <a:lnTo>
                        <a:pt x="48" y="199"/>
                      </a:lnTo>
                      <a:lnTo>
                        <a:pt x="59" y="199"/>
                      </a:lnTo>
                      <a:lnTo>
                        <a:pt x="70" y="197"/>
                      </a:lnTo>
                      <a:lnTo>
                        <a:pt x="83" y="195"/>
                      </a:lnTo>
                      <a:lnTo>
                        <a:pt x="94" y="193"/>
                      </a:lnTo>
                      <a:lnTo>
                        <a:pt x="105" y="188"/>
                      </a:lnTo>
                      <a:lnTo>
                        <a:pt x="113" y="184"/>
                      </a:lnTo>
                      <a:lnTo>
                        <a:pt x="120" y="180"/>
                      </a:lnTo>
                      <a:lnTo>
                        <a:pt x="122" y="173"/>
                      </a:lnTo>
                      <a:lnTo>
                        <a:pt x="122" y="160"/>
                      </a:lnTo>
                      <a:lnTo>
                        <a:pt x="120" y="147"/>
                      </a:lnTo>
                      <a:lnTo>
                        <a:pt x="111" y="136"/>
                      </a:lnTo>
                      <a:lnTo>
                        <a:pt x="98" y="127"/>
                      </a:lnTo>
                      <a:lnTo>
                        <a:pt x="113" y="103"/>
                      </a:lnTo>
                      <a:lnTo>
                        <a:pt x="133" y="81"/>
                      </a:lnTo>
                      <a:lnTo>
                        <a:pt x="157" y="62"/>
                      </a:lnTo>
                      <a:lnTo>
                        <a:pt x="184" y="44"/>
                      </a:lnTo>
                      <a:lnTo>
                        <a:pt x="212" y="29"/>
                      </a:lnTo>
                      <a:lnTo>
                        <a:pt x="245" y="16"/>
                      </a:lnTo>
                      <a:lnTo>
                        <a:pt x="282" y="7"/>
                      </a:lnTo>
                      <a:lnTo>
                        <a:pt x="321" y="0"/>
                      </a:lnTo>
                      <a:close/>
                    </a:path>
                  </a:pathLst>
                </a:custGeom>
                <a:solidFill>
                  <a:srgbClr val="995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760160" y="2062080"/>
                  <a:ext cx="356760" cy="254160"/>
                </a:xfrm>
                <a:custGeom>
                  <a:avLst/>
                  <a:gdLst/>
                  <a:ahLst/>
                  <a:rect l="l" t="t" r="r" b="b"/>
                  <a:pathLst>
                    <a:path w="915" h="651">
                      <a:moveTo>
                        <a:pt x="30" y="326"/>
                      </a:moveTo>
                      <a:lnTo>
                        <a:pt x="46" y="299"/>
                      </a:lnTo>
                      <a:lnTo>
                        <a:pt x="63" y="280"/>
                      </a:lnTo>
                      <a:lnTo>
                        <a:pt x="83" y="264"/>
                      </a:lnTo>
                      <a:lnTo>
                        <a:pt x="107" y="253"/>
                      </a:lnTo>
                      <a:lnTo>
                        <a:pt x="129" y="245"/>
                      </a:lnTo>
                      <a:lnTo>
                        <a:pt x="151" y="240"/>
                      </a:lnTo>
                      <a:lnTo>
                        <a:pt x="173" y="236"/>
                      </a:lnTo>
                      <a:lnTo>
                        <a:pt x="190" y="236"/>
                      </a:lnTo>
                      <a:lnTo>
                        <a:pt x="205" y="238"/>
                      </a:lnTo>
                      <a:lnTo>
                        <a:pt x="221" y="240"/>
                      </a:lnTo>
                      <a:lnTo>
                        <a:pt x="236" y="242"/>
                      </a:lnTo>
                      <a:lnTo>
                        <a:pt x="251" y="249"/>
                      </a:lnTo>
                      <a:lnTo>
                        <a:pt x="269" y="258"/>
                      </a:lnTo>
                      <a:lnTo>
                        <a:pt x="286" y="267"/>
                      </a:lnTo>
                      <a:lnTo>
                        <a:pt x="304" y="282"/>
                      </a:lnTo>
                      <a:lnTo>
                        <a:pt x="326" y="297"/>
                      </a:lnTo>
                      <a:lnTo>
                        <a:pt x="337" y="293"/>
                      </a:lnTo>
                      <a:lnTo>
                        <a:pt x="350" y="284"/>
                      </a:lnTo>
                      <a:lnTo>
                        <a:pt x="365" y="275"/>
                      </a:lnTo>
                      <a:lnTo>
                        <a:pt x="381" y="273"/>
                      </a:lnTo>
                      <a:lnTo>
                        <a:pt x="394" y="277"/>
                      </a:lnTo>
                      <a:lnTo>
                        <a:pt x="402" y="284"/>
                      </a:lnTo>
                      <a:lnTo>
                        <a:pt x="407" y="293"/>
                      </a:lnTo>
                      <a:lnTo>
                        <a:pt x="409" y="304"/>
                      </a:lnTo>
                      <a:lnTo>
                        <a:pt x="424" y="306"/>
                      </a:lnTo>
                      <a:lnTo>
                        <a:pt x="444" y="304"/>
                      </a:lnTo>
                      <a:lnTo>
                        <a:pt x="464" y="304"/>
                      </a:lnTo>
                      <a:lnTo>
                        <a:pt x="484" y="299"/>
                      </a:lnTo>
                      <a:lnTo>
                        <a:pt x="505" y="295"/>
                      </a:lnTo>
                      <a:lnTo>
                        <a:pt x="527" y="288"/>
                      </a:lnTo>
                      <a:lnTo>
                        <a:pt x="547" y="280"/>
                      </a:lnTo>
                      <a:lnTo>
                        <a:pt x="567" y="269"/>
                      </a:lnTo>
                      <a:lnTo>
                        <a:pt x="554" y="264"/>
                      </a:lnTo>
                      <a:lnTo>
                        <a:pt x="549" y="256"/>
                      </a:lnTo>
                      <a:lnTo>
                        <a:pt x="551" y="245"/>
                      </a:lnTo>
                      <a:lnTo>
                        <a:pt x="558" y="236"/>
                      </a:lnTo>
                      <a:lnTo>
                        <a:pt x="569" y="229"/>
                      </a:lnTo>
                      <a:lnTo>
                        <a:pt x="580" y="225"/>
                      </a:lnTo>
                      <a:lnTo>
                        <a:pt x="593" y="225"/>
                      </a:lnTo>
                      <a:lnTo>
                        <a:pt x="611" y="232"/>
                      </a:lnTo>
                      <a:lnTo>
                        <a:pt x="626" y="216"/>
                      </a:lnTo>
                      <a:lnTo>
                        <a:pt x="615" y="199"/>
                      </a:lnTo>
                      <a:lnTo>
                        <a:pt x="615" y="179"/>
                      </a:lnTo>
                      <a:lnTo>
                        <a:pt x="626" y="164"/>
                      </a:lnTo>
                      <a:lnTo>
                        <a:pt x="646" y="157"/>
                      </a:lnTo>
                      <a:lnTo>
                        <a:pt x="650" y="144"/>
                      </a:lnTo>
                      <a:lnTo>
                        <a:pt x="656" y="131"/>
                      </a:lnTo>
                      <a:lnTo>
                        <a:pt x="667" y="120"/>
                      </a:lnTo>
                      <a:lnTo>
                        <a:pt x="681" y="111"/>
                      </a:lnTo>
                      <a:lnTo>
                        <a:pt x="698" y="105"/>
                      </a:lnTo>
                      <a:lnTo>
                        <a:pt x="718" y="100"/>
                      </a:lnTo>
                      <a:lnTo>
                        <a:pt x="744" y="100"/>
                      </a:lnTo>
                      <a:lnTo>
                        <a:pt x="775" y="103"/>
                      </a:lnTo>
                      <a:lnTo>
                        <a:pt x="775" y="63"/>
                      </a:lnTo>
                      <a:lnTo>
                        <a:pt x="784" y="33"/>
                      </a:lnTo>
                      <a:lnTo>
                        <a:pt x="799" y="13"/>
                      </a:lnTo>
                      <a:lnTo>
                        <a:pt x="816" y="0"/>
                      </a:lnTo>
                      <a:lnTo>
                        <a:pt x="865" y="19"/>
                      </a:lnTo>
                      <a:lnTo>
                        <a:pt x="843" y="28"/>
                      </a:lnTo>
                      <a:lnTo>
                        <a:pt x="825" y="46"/>
                      </a:lnTo>
                      <a:lnTo>
                        <a:pt x="814" y="74"/>
                      </a:lnTo>
                      <a:lnTo>
                        <a:pt x="814" y="107"/>
                      </a:lnTo>
                      <a:lnTo>
                        <a:pt x="832" y="116"/>
                      </a:lnTo>
                      <a:lnTo>
                        <a:pt x="849" y="127"/>
                      </a:lnTo>
                      <a:lnTo>
                        <a:pt x="867" y="140"/>
                      </a:lnTo>
                      <a:lnTo>
                        <a:pt x="882" y="155"/>
                      </a:lnTo>
                      <a:lnTo>
                        <a:pt x="893" y="177"/>
                      </a:lnTo>
                      <a:lnTo>
                        <a:pt x="900" y="203"/>
                      </a:lnTo>
                      <a:lnTo>
                        <a:pt x="900" y="236"/>
                      </a:lnTo>
                      <a:lnTo>
                        <a:pt x="891" y="275"/>
                      </a:lnTo>
                      <a:lnTo>
                        <a:pt x="908" y="297"/>
                      </a:lnTo>
                      <a:lnTo>
                        <a:pt x="915" y="321"/>
                      </a:lnTo>
                      <a:lnTo>
                        <a:pt x="904" y="337"/>
                      </a:lnTo>
                      <a:lnTo>
                        <a:pt x="878" y="339"/>
                      </a:lnTo>
                      <a:lnTo>
                        <a:pt x="869" y="365"/>
                      </a:lnTo>
                      <a:lnTo>
                        <a:pt x="854" y="396"/>
                      </a:lnTo>
                      <a:lnTo>
                        <a:pt x="834" y="424"/>
                      </a:lnTo>
                      <a:lnTo>
                        <a:pt x="812" y="455"/>
                      </a:lnTo>
                      <a:lnTo>
                        <a:pt x="788" y="483"/>
                      </a:lnTo>
                      <a:lnTo>
                        <a:pt x="764" y="511"/>
                      </a:lnTo>
                      <a:lnTo>
                        <a:pt x="740" y="536"/>
                      </a:lnTo>
                      <a:lnTo>
                        <a:pt x="716" y="557"/>
                      </a:lnTo>
                      <a:lnTo>
                        <a:pt x="713" y="575"/>
                      </a:lnTo>
                      <a:lnTo>
                        <a:pt x="702" y="590"/>
                      </a:lnTo>
                      <a:lnTo>
                        <a:pt x="685" y="599"/>
                      </a:lnTo>
                      <a:lnTo>
                        <a:pt x="663" y="595"/>
                      </a:lnTo>
                      <a:lnTo>
                        <a:pt x="659" y="608"/>
                      </a:lnTo>
                      <a:lnTo>
                        <a:pt x="650" y="616"/>
                      </a:lnTo>
                      <a:lnTo>
                        <a:pt x="637" y="616"/>
                      </a:lnTo>
                      <a:lnTo>
                        <a:pt x="621" y="606"/>
                      </a:lnTo>
                      <a:lnTo>
                        <a:pt x="615" y="608"/>
                      </a:lnTo>
                      <a:lnTo>
                        <a:pt x="606" y="610"/>
                      </a:lnTo>
                      <a:lnTo>
                        <a:pt x="597" y="614"/>
                      </a:lnTo>
                      <a:lnTo>
                        <a:pt x="584" y="616"/>
                      </a:lnTo>
                      <a:lnTo>
                        <a:pt x="573" y="621"/>
                      </a:lnTo>
                      <a:lnTo>
                        <a:pt x="560" y="623"/>
                      </a:lnTo>
                      <a:lnTo>
                        <a:pt x="547" y="625"/>
                      </a:lnTo>
                      <a:lnTo>
                        <a:pt x="534" y="625"/>
                      </a:lnTo>
                      <a:lnTo>
                        <a:pt x="525" y="643"/>
                      </a:lnTo>
                      <a:lnTo>
                        <a:pt x="510" y="651"/>
                      </a:lnTo>
                      <a:lnTo>
                        <a:pt x="492" y="651"/>
                      </a:lnTo>
                      <a:lnTo>
                        <a:pt x="475" y="641"/>
                      </a:lnTo>
                      <a:lnTo>
                        <a:pt x="455" y="641"/>
                      </a:lnTo>
                      <a:lnTo>
                        <a:pt x="435" y="643"/>
                      </a:lnTo>
                      <a:lnTo>
                        <a:pt x="413" y="643"/>
                      </a:lnTo>
                      <a:lnTo>
                        <a:pt x="389" y="643"/>
                      </a:lnTo>
                      <a:lnTo>
                        <a:pt x="367" y="643"/>
                      </a:lnTo>
                      <a:lnTo>
                        <a:pt x="348" y="641"/>
                      </a:lnTo>
                      <a:lnTo>
                        <a:pt x="330" y="634"/>
                      </a:lnTo>
                      <a:lnTo>
                        <a:pt x="315" y="627"/>
                      </a:lnTo>
                      <a:lnTo>
                        <a:pt x="306" y="634"/>
                      </a:lnTo>
                      <a:lnTo>
                        <a:pt x="295" y="638"/>
                      </a:lnTo>
                      <a:lnTo>
                        <a:pt x="280" y="638"/>
                      </a:lnTo>
                      <a:lnTo>
                        <a:pt x="267" y="634"/>
                      </a:lnTo>
                      <a:lnTo>
                        <a:pt x="251" y="630"/>
                      </a:lnTo>
                      <a:lnTo>
                        <a:pt x="238" y="623"/>
                      </a:lnTo>
                      <a:lnTo>
                        <a:pt x="227" y="616"/>
                      </a:lnTo>
                      <a:lnTo>
                        <a:pt x="219" y="608"/>
                      </a:lnTo>
                      <a:lnTo>
                        <a:pt x="212" y="614"/>
                      </a:lnTo>
                      <a:lnTo>
                        <a:pt x="203" y="616"/>
                      </a:lnTo>
                      <a:lnTo>
                        <a:pt x="194" y="619"/>
                      </a:lnTo>
                      <a:lnTo>
                        <a:pt x="186" y="616"/>
                      </a:lnTo>
                      <a:lnTo>
                        <a:pt x="175" y="614"/>
                      </a:lnTo>
                      <a:lnTo>
                        <a:pt x="168" y="610"/>
                      </a:lnTo>
                      <a:lnTo>
                        <a:pt x="159" y="601"/>
                      </a:lnTo>
                      <a:lnTo>
                        <a:pt x="153" y="592"/>
                      </a:lnTo>
                      <a:lnTo>
                        <a:pt x="138" y="588"/>
                      </a:lnTo>
                      <a:lnTo>
                        <a:pt x="122" y="584"/>
                      </a:lnTo>
                      <a:lnTo>
                        <a:pt x="105" y="577"/>
                      </a:lnTo>
                      <a:lnTo>
                        <a:pt x="89" y="571"/>
                      </a:lnTo>
                      <a:lnTo>
                        <a:pt x="74" y="562"/>
                      </a:lnTo>
                      <a:lnTo>
                        <a:pt x="65" y="551"/>
                      </a:lnTo>
                      <a:lnTo>
                        <a:pt x="61" y="536"/>
                      </a:lnTo>
                      <a:lnTo>
                        <a:pt x="65" y="518"/>
                      </a:lnTo>
                      <a:lnTo>
                        <a:pt x="50" y="492"/>
                      </a:lnTo>
                      <a:lnTo>
                        <a:pt x="30" y="452"/>
                      </a:lnTo>
                      <a:lnTo>
                        <a:pt x="21" y="413"/>
                      </a:lnTo>
                      <a:lnTo>
                        <a:pt x="28" y="385"/>
                      </a:lnTo>
                      <a:lnTo>
                        <a:pt x="6" y="369"/>
                      </a:lnTo>
                      <a:lnTo>
                        <a:pt x="0" y="350"/>
                      </a:lnTo>
                      <a:lnTo>
                        <a:pt x="8" y="332"/>
                      </a:lnTo>
                      <a:lnTo>
                        <a:pt x="30" y="3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826400" y="2104560"/>
                  <a:ext cx="271080" cy="144360"/>
                </a:xfrm>
                <a:custGeom>
                  <a:avLst/>
                  <a:gdLst/>
                  <a:ahLst/>
                  <a:rect l="l" t="t" r="r" b="b"/>
                  <a:pathLst>
                    <a:path w="695" h="370">
                      <a:moveTo>
                        <a:pt x="156" y="188"/>
                      </a:moveTo>
                      <a:lnTo>
                        <a:pt x="134" y="173"/>
                      </a:lnTo>
                      <a:lnTo>
                        <a:pt x="116" y="158"/>
                      </a:lnTo>
                      <a:lnTo>
                        <a:pt x="99" y="149"/>
                      </a:lnTo>
                      <a:lnTo>
                        <a:pt x="81" y="140"/>
                      </a:lnTo>
                      <a:lnTo>
                        <a:pt x="66" y="133"/>
                      </a:lnTo>
                      <a:lnTo>
                        <a:pt x="51" y="131"/>
                      </a:lnTo>
                      <a:lnTo>
                        <a:pt x="35" y="129"/>
                      </a:lnTo>
                      <a:lnTo>
                        <a:pt x="20" y="127"/>
                      </a:lnTo>
                      <a:lnTo>
                        <a:pt x="24" y="144"/>
                      </a:lnTo>
                      <a:lnTo>
                        <a:pt x="22" y="158"/>
                      </a:lnTo>
                      <a:lnTo>
                        <a:pt x="16" y="166"/>
                      </a:lnTo>
                      <a:lnTo>
                        <a:pt x="7" y="175"/>
                      </a:lnTo>
                      <a:lnTo>
                        <a:pt x="0" y="186"/>
                      </a:lnTo>
                      <a:lnTo>
                        <a:pt x="0" y="197"/>
                      </a:lnTo>
                      <a:lnTo>
                        <a:pt x="5" y="210"/>
                      </a:lnTo>
                      <a:lnTo>
                        <a:pt x="20" y="230"/>
                      </a:lnTo>
                      <a:lnTo>
                        <a:pt x="33" y="219"/>
                      </a:lnTo>
                      <a:lnTo>
                        <a:pt x="44" y="210"/>
                      </a:lnTo>
                      <a:lnTo>
                        <a:pt x="57" y="203"/>
                      </a:lnTo>
                      <a:lnTo>
                        <a:pt x="70" y="201"/>
                      </a:lnTo>
                      <a:lnTo>
                        <a:pt x="81" y="201"/>
                      </a:lnTo>
                      <a:lnTo>
                        <a:pt x="95" y="203"/>
                      </a:lnTo>
                      <a:lnTo>
                        <a:pt x="105" y="210"/>
                      </a:lnTo>
                      <a:lnTo>
                        <a:pt x="116" y="221"/>
                      </a:lnTo>
                      <a:lnTo>
                        <a:pt x="88" y="234"/>
                      </a:lnTo>
                      <a:lnTo>
                        <a:pt x="66" y="249"/>
                      </a:lnTo>
                      <a:lnTo>
                        <a:pt x="55" y="267"/>
                      </a:lnTo>
                      <a:lnTo>
                        <a:pt x="49" y="287"/>
                      </a:lnTo>
                      <a:lnTo>
                        <a:pt x="49" y="304"/>
                      </a:lnTo>
                      <a:lnTo>
                        <a:pt x="55" y="319"/>
                      </a:lnTo>
                      <a:lnTo>
                        <a:pt x="66" y="330"/>
                      </a:lnTo>
                      <a:lnTo>
                        <a:pt x="79" y="335"/>
                      </a:lnTo>
                      <a:lnTo>
                        <a:pt x="79" y="313"/>
                      </a:lnTo>
                      <a:lnTo>
                        <a:pt x="84" y="291"/>
                      </a:lnTo>
                      <a:lnTo>
                        <a:pt x="92" y="273"/>
                      </a:lnTo>
                      <a:lnTo>
                        <a:pt x="105" y="263"/>
                      </a:lnTo>
                      <a:lnTo>
                        <a:pt x="114" y="265"/>
                      </a:lnTo>
                      <a:lnTo>
                        <a:pt x="123" y="267"/>
                      </a:lnTo>
                      <a:lnTo>
                        <a:pt x="134" y="271"/>
                      </a:lnTo>
                      <a:lnTo>
                        <a:pt x="145" y="276"/>
                      </a:lnTo>
                      <a:lnTo>
                        <a:pt x="156" y="282"/>
                      </a:lnTo>
                      <a:lnTo>
                        <a:pt x="165" y="287"/>
                      </a:lnTo>
                      <a:lnTo>
                        <a:pt x="173" y="293"/>
                      </a:lnTo>
                      <a:lnTo>
                        <a:pt x="178" y="298"/>
                      </a:lnTo>
                      <a:lnTo>
                        <a:pt x="162" y="315"/>
                      </a:lnTo>
                      <a:lnTo>
                        <a:pt x="167" y="337"/>
                      </a:lnTo>
                      <a:lnTo>
                        <a:pt x="182" y="354"/>
                      </a:lnTo>
                      <a:lnTo>
                        <a:pt x="202" y="365"/>
                      </a:lnTo>
                      <a:lnTo>
                        <a:pt x="200" y="354"/>
                      </a:lnTo>
                      <a:lnTo>
                        <a:pt x="200" y="341"/>
                      </a:lnTo>
                      <a:lnTo>
                        <a:pt x="204" y="328"/>
                      </a:lnTo>
                      <a:lnTo>
                        <a:pt x="213" y="315"/>
                      </a:lnTo>
                      <a:lnTo>
                        <a:pt x="226" y="304"/>
                      </a:lnTo>
                      <a:lnTo>
                        <a:pt x="248" y="298"/>
                      </a:lnTo>
                      <a:lnTo>
                        <a:pt x="278" y="293"/>
                      </a:lnTo>
                      <a:lnTo>
                        <a:pt x="320" y="293"/>
                      </a:lnTo>
                      <a:lnTo>
                        <a:pt x="320" y="276"/>
                      </a:lnTo>
                      <a:lnTo>
                        <a:pt x="324" y="258"/>
                      </a:lnTo>
                      <a:lnTo>
                        <a:pt x="333" y="247"/>
                      </a:lnTo>
                      <a:lnTo>
                        <a:pt x="346" y="245"/>
                      </a:lnTo>
                      <a:lnTo>
                        <a:pt x="364" y="256"/>
                      </a:lnTo>
                      <a:lnTo>
                        <a:pt x="368" y="278"/>
                      </a:lnTo>
                      <a:lnTo>
                        <a:pt x="370" y="300"/>
                      </a:lnTo>
                      <a:lnTo>
                        <a:pt x="388" y="308"/>
                      </a:lnTo>
                      <a:lnTo>
                        <a:pt x="399" y="304"/>
                      </a:lnTo>
                      <a:lnTo>
                        <a:pt x="399" y="291"/>
                      </a:lnTo>
                      <a:lnTo>
                        <a:pt x="395" y="280"/>
                      </a:lnTo>
                      <a:lnTo>
                        <a:pt x="397" y="273"/>
                      </a:lnTo>
                      <a:lnTo>
                        <a:pt x="403" y="273"/>
                      </a:lnTo>
                      <a:lnTo>
                        <a:pt x="416" y="271"/>
                      </a:lnTo>
                      <a:lnTo>
                        <a:pt x="436" y="269"/>
                      </a:lnTo>
                      <a:lnTo>
                        <a:pt x="458" y="265"/>
                      </a:lnTo>
                      <a:lnTo>
                        <a:pt x="484" y="256"/>
                      </a:lnTo>
                      <a:lnTo>
                        <a:pt x="508" y="245"/>
                      </a:lnTo>
                      <a:lnTo>
                        <a:pt x="535" y="230"/>
                      </a:lnTo>
                      <a:lnTo>
                        <a:pt x="557" y="210"/>
                      </a:lnTo>
                      <a:lnTo>
                        <a:pt x="537" y="230"/>
                      </a:lnTo>
                      <a:lnTo>
                        <a:pt x="517" y="245"/>
                      </a:lnTo>
                      <a:lnTo>
                        <a:pt x="502" y="258"/>
                      </a:lnTo>
                      <a:lnTo>
                        <a:pt x="486" y="271"/>
                      </a:lnTo>
                      <a:lnTo>
                        <a:pt x="473" y="280"/>
                      </a:lnTo>
                      <a:lnTo>
                        <a:pt x="462" y="289"/>
                      </a:lnTo>
                      <a:lnTo>
                        <a:pt x="451" y="295"/>
                      </a:lnTo>
                      <a:lnTo>
                        <a:pt x="441" y="302"/>
                      </a:lnTo>
                      <a:lnTo>
                        <a:pt x="443" y="319"/>
                      </a:lnTo>
                      <a:lnTo>
                        <a:pt x="449" y="337"/>
                      </a:lnTo>
                      <a:lnTo>
                        <a:pt x="465" y="354"/>
                      </a:lnTo>
                      <a:lnTo>
                        <a:pt x="486" y="370"/>
                      </a:lnTo>
                      <a:lnTo>
                        <a:pt x="480" y="357"/>
                      </a:lnTo>
                      <a:lnTo>
                        <a:pt x="476" y="341"/>
                      </a:lnTo>
                      <a:lnTo>
                        <a:pt x="471" y="324"/>
                      </a:lnTo>
                      <a:lnTo>
                        <a:pt x="471" y="308"/>
                      </a:lnTo>
                      <a:lnTo>
                        <a:pt x="480" y="304"/>
                      </a:lnTo>
                      <a:lnTo>
                        <a:pt x="491" y="298"/>
                      </a:lnTo>
                      <a:lnTo>
                        <a:pt x="504" y="289"/>
                      </a:lnTo>
                      <a:lnTo>
                        <a:pt x="519" y="280"/>
                      </a:lnTo>
                      <a:lnTo>
                        <a:pt x="532" y="273"/>
                      </a:lnTo>
                      <a:lnTo>
                        <a:pt x="543" y="265"/>
                      </a:lnTo>
                      <a:lnTo>
                        <a:pt x="554" y="258"/>
                      </a:lnTo>
                      <a:lnTo>
                        <a:pt x="561" y="254"/>
                      </a:lnTo>
                      <a:lnTo>
                        <a:pt x="572" y="265"/>
                      </a:lnTo>
                      <a:lnTo>
                        <a:pt x="585" y="273"/>
                      </a:lnTo>
                      <a:lnTo>
                        <a:pt x="596" y="280"/>
                      </a:lnTo>
                      <a:lnTo>
                        <a:pt x="609" y="276"/>
                      </a:lnTo>
                      <a:lnTo>
                        <a:pt x="614" y="267"/>
                      </a:lnTo>
                      <a:lnTo>
                        <a:pt x="609" y="256"/>
                      </a:lnTo>
                      <a:lnTo>
                        <a:pt x="598" y="245"/>
                      </a:lnTo>
                      <a:lnTo>
                        <a:pt x="589" y="236"/>
                      </a:lnTo>
                      <a:lnTo>
                        <a:pt x="600" y="225"/>
                      </a:lnTo>
                      <a:lnTo>
                        <a:pt x="614" y="214"/>
                      </a:lnTo>
                      <a:lnTo>
                        <a:pt x="627" y="201"/>
                      </a:lnTo>
                      <a:lnTo>
                        <a:pt x="640" y="188"/>
                      </a:lnTo>
                      <a:lnTo>
                        <a:pt x="651" y="175"/>
                      </a:lnTo>
                      <a:lnTo>
                        <a:pt x="659" y="162"/>
                      </a:lnTo>
                      <a:lnTo>
                        <a:pt x="666" y="151"/>
                      </a:lnTo>
                      <a:lnTo>
                        <a:pt x="670" y="140"/>
                      </a:lnTo>
                      <a:lnTo>
                        <a:pt x="686" y="136"/>
                      </a:lnTo>
                      <a:lnTo>
                        <a:pt x="695" y="120"/>
                      </a:lnTo>
                      <a:lnTo>
                        <a:pt x="690" y="103"/>
                      </a:lnTo>
                      <a:lnTo>
                        <a:pt x="675" y="96"/>
                      </a:lnTo>
                      <a:lnTo>
                        <a:pt x="670" y="79"/>
                      </a:lnTo>
                      <a:lnTo>
                        <a:pt x="664" y="63"/>
                      </a:lnTo>
                      <a:lnTo>
                        <a:pt x="646" y="48"/>
                      </a:lnTo>
                      <a:lnTo>
                        <a:pt x="614" y="37"/>
                      </a:lnTo>
                      <a:lnTo>
                        <a:pt x="611" y="26"/>
                      </a:lnTo>
                      <a:lnTo>
                        <a:pt x="611" y="13"/>
                      </a:lnTo>
                      <a:lnTo>
                        <a:pt x="607" y="2"/>
                      </a:lnTo>
                      <a:lnTo>
                        <a:pt x="598" y="0"/>
                      </a:lnTo>
                      <a:lnTo>
                        <a:pt x="583" y="4"/>
                      </a:lnTo>
                      <a:lnTo>
                        <a:pt x="565" y="15"/>
                      </a:lnTo>
                      <a:lnTo>
                        <a:pt x="550" y="26"/>
                      </a:lnTo>
                      <a:lnTo>
                        <a:pt x="539" y="37"/>
                      </a:lnTo>
                      <a:lnTo>
                        <a:pt x="530" y="37"/>
                      </a:lnTo>
                      <a:lnTo>
                        <a:pt x="522" y="39"/>
                      </a:lnTo>
                      <a:lnTo>
                        <a:pt x="513" y="42"/>
                      </a:lnTo>
                      <a:lnTo>
                        <a:pt x="506" y="46"/>
                      </a:lnTo>
                      <a:lnTo>
                        <a:pt x="515" y="53"/>
                      </a:lnTo>
                      <a:lnTo>
                        <a:pt x="519" y="59"/>
                      </a:lnTo>
                      <a:lnTo>
                        <a:pt x="524" y="68"/>
                      </a:lnTo>
                      <a:lnTo>
                        <a:pt x="526" y="74"/>
                      </a:lnTo>
                      <a:lnTo>
                        <a:pt x="519" y="68"/>
                      </a:lnTo>
                      <a:lnTo>
                        <a:pt x="508" y="63"/>
                      </a:lnTo>
                      <a:lnTo>
                        <a:pt x="500" y="61"/>
                      </a:lnTo>
                      <a:lnTo>
                        <a:pt x="491" y="66"/>
                      </a:lnTo>
                      <a:lnTo>
                        <a:pt x="484" y="74"/>
                      </a:lnTo>
                      <a:lnTo>
                        <a:pt x="482" y="83"/>
                      </a:lnTo>
                      <a:lnTo>
                        <a:pt x="482" y="90"/>
                      </a:lnTo>
                      <a:lnTo>
                        <a:pt x="486" y="94"/>
                      </a:lnTo>
                      <a:lnTo>
                        <a:pt x="493" y="98"/>
                      </a:lnTo>
                      <a:lnTo>
                        <a:pt x="497" y="103"/>
                      </a:lnTo>
                      <a:lnTo>
                        <a:pt x="500" y="107"/>
                      </a:lnTo>
                      <a:lnTo>
                        <a:pt x="493" y="114"/>
                      </a:lnTo>
                      <a:lnTo>
                        <a:pt x="486" y="118"/>
                      </a:lnTo>
                      <a:lnTo>
                        <a:pt x="476" y="129"/>
                      </a:lnTo>
                      <a:lnTo>
                        <a:pt x="465" y="140"/>
                      </a:lnTo>
                      <a:lnTo>
                        <a:pt x="449" y="153"/>
                      </a:lnTo>
                      <a:lnTo>
                        <a:pt x="436" y="164"/>
                      </a:lnTo>
                      <a:lnTo>
                        <a:pt x="421" y="177"/>
                      </a:lnTo>
                      <a:lnTo>
                        <a:pt x="405" y="186"/>
                      </a:lnTo>
                      <a:lnTo>
                        <a:pt x="392" y="193"/>
                      </a:lnTo>
                      <a:lnTo>
                        <a:pt x="379" y="197"/>
                      </a:lnTo>
                      <a:lnTo>
                        <a:pt x="366" y="203"/>
                      </a:lnTo>
                      <a:lnTo>
                        <a:pt x="353" y="208"/>
                      </a:lnTo>
                      <a:lnTo>
                        <a:pt x="340" y="214"/>
                      </a:lnTo>
                      <a:lnTo>
                        <a:pt x="329" y="219"/>
                      </a:lnTo>
                      <a:lnTo>
                        <a:pt x="316" y="223"/>
                      </a:lnTo>
                      <a:lnTo>
                        <a:pt x="305" y="225"/>
                      </a:lnTo>
                      <a:lnTo>
                        <a:pt x="294" y="228"/>
                      </a:lnTo>
                      <a:lnTo>
                        <a:pt x="276" y="230"/>
                      </a:lnTo>
                      <a:lnTo>
                        <a:pt x="261" y="230"/>
                      </a:lnTo>
                      <a:lnTo>
                        <a:pt x="246" y="228"/>
                      </a:lnTo>
                      <a:lnTo>
                        <a:pt x="235" y="225"/>
                      </a:lnTo>
                      <a:lnTo>
                        <a:pt x="228" y="212"/>
                      </a:lnTo>
                      <a:lnTo>
                        <a:pt x="217" y="201"/>
                      </a:lnTo>
                      <a:lnTo>
                        <a:pt x="206" y="197"/>
                      </a:lnTo>
                      <a:lnTo>
                        <a:pt x="193" y="203"/>
                      </a:lnTo>
                      <a:lnTo>
                        <a:pt x="200" y="217"/>
                      </a:lnTo>
                      <a:lnTo>
                        <a:pt x="186" y="214"/>
                      </a:lnTo>
                      <a:lnTo>
                        <a:pt x="176" y="208"/>
                      </a:lnTo>
                      <a:lnTo>
                        <a:pt x="162" y="199"/>
                      </a:lnTo>
                      <a:lnTo>
                        <a:pt x="156" y="188"/>
                      </a:lnTo>
                      <a:close/>
                    </a:path>
                  </a:pathLst>
                </a:custGeom>
                <a:solidFill>
                  <a:srgbClr val="289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960680" y="2242080"/>
                  <a:ext cx="27000" cy="342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7" y="0"/>
                      </a:moveTo>
                      <a:lnTo>
                        <a:pt x="13" y="18"/>
                      </a:lnTo>
                      <a:lnTo>
                        <a:pt x="24" y="35"/>
                      </a:lnTo>
                      <a:lnTo>
                        <a:pt x="37" y="50"/>
                      </a:lnTo>
                      <a:lnTo>
                        <a:pt x="51" y="59"/>
                      </a:lnTo>
                      <a:lnTo>
                        <a:pt x="64" y="66"/>
                      </a:lnTo>
                      <a:lnTo>
                        <a:pt x="70" y="77"/>
                      </a:lnTo>
                      <a:lnTo>
                        <a:pt x="70" y="85"/>
                      </a:lnTo>
                      <a:lnTo>
                        <a:pt x="57" y="88"/>
                      </a:lnTo>
                      <a:lnTo>
                        <a:pt x="46" y="85"/>
                      </a:lnTo>
                      <a:lnTo>
                        <a:pt x="35" y="81"/>
                      </a:lnTo>
                      <a:lnTo>
                        <a:pt x="24" y="72"/>
                      </a:lnTo>
                      <a:lnTo>
                        <a:pt x="13" y="64"/>
                      </a:lnTo>
                      <a:lnTo>
                        <a:pt x="5" y="50"/>
                      </a:ln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289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810560" y="22050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57" h="68">
                      <a:moveTo>
                        <a:pt x="57" y="0"/>
                      </a:moveTo>
                      <a:lnTo>
                        <a:pt x="41" y="11"/>
                      </a:lnTo>
                      <a:lnTo>
                        <a:pt x="33" y="26"/>
                      </a:lnTo>
                      <a:lnTo>
                        <a:pt x="28" y="44"/>
                      </a:lnTo>
                      <a:lnTo>
                        <a:pt x="28" y="57"/>
                      </a:lnTo>
                      <a:lnTo>
                        <a:pt x="26" y="66"/>
                      </a:lnTo>
                      <a:lnTo>
                        <a:pt x="17" y="68"/>
                      </a:lnTo>
                      <a:lnTo>
                        <a:pt x="6" y="64"/>
                      </a:lnTo>
                      <a:lnTo>
                        <a:pt x="0" y="55"/>
                      </a:lnTo>
                      <a:lnTo>
                        <a:pt x="0" y="40"/>
                      </a:lnTo>
                      <a:lnTo>
                        <a:pt x="9" y="18"/>
                      </a:lnTo>
                      <a:lnTo>
                        <a:pt x="26" y="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289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0" name=""/>
              <p:cNvSpPr/>
              <p:nvPr/>
            </p:nvSpPr>
            <p:spPr>
              <a:xfrm>
                <a:off x="7354800" y="1625040"/>
                <a:ext cx="850320" cy="1040040"/>
              </a:xfrm>
              <a:prstGeom prst="line">
                <a:avLst/>
              </a:prstGeom>
              <a:ln w="101520">
                <a:solidFill>
                  <a:srgbClr val="e817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6705720" y="3124080"/>
            <a:ext cx="1981080" cy="1671840"/>
            <a:chOff x="6705720" y="3124080"/>
            <a:chExt cx="1981080" cy="1671840"/>
          </a:xfrm>
        </p:grpSpPr>
        <p:pic>
          <p:nvPicPr>
            <p:cNvPr id="872" name="" descr=""/>
            <p:cNvPicPr/>
            <p:nvPr/>
          </p:nvPicPr>
          <p:blipFill>
            <a:blip r:embed="rId1"/>
            <a:stretch/>
          </p:blipFill>
          <p:spPr>
            <a:xfrm>
              <a:off x="6705720" y="3186000"/>
              <a:ext cx="19810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 flipH="1">
              <a:off x="6952680" y="3247560"/>
              <a:ext cx="1176120" cy="1362240"/>
            </a:xfrm>
            <a:prstGeom prst="line">
              <a:avLst/>
            </a:prstGeom>
            <a:ln w="50760">
              <a:solidFill>
                <a:srgbClr val="e817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05720" y="3124080"/>
              <a:ext cx="1733040" cy="16718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380520" y="469800"/>
            <a:ext cx="8534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1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void Inha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dioactive Mate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54040" y="1882800"/>
            <a:ext cx="81057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sure you have proper ventilation for your experim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using volatile materials such as Iodine-125 and some Sulfur-35 compounds, be sure to use a fume hood that has been inspected and certified for proper airflo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241200" y="469440"/>
            <a:ext cx="8902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amination Contr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1479600"/>
            <a:ext cx="86104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ntaminated items must be labeled with “radioactive” tape (this includes all equipment that is used with rad materi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out where you put your “hot” hands during an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yourself and your work area frequently for radioactivity (gloves, hands, feet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ost sensitive scale on meter (X0.1 or X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meter out and han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o wash your hands frequently and after finishing an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bring radioactive material to lunch or to your ho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your work area before and after an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s: 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dioactivit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ontaneous disintegration or decay of an unstable atom, resulting in the release of energy (radi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di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nergy in the form of particles or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dioactive material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material that is composed of (or contains) radioactive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mina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active material in an undesirable location --  where we don’t wan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number of disintegrations (decays) occurring per uni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lf Lif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time it takes for an amount of radioactive material to lose half (50%) of its activity because of dec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3886200" cy="243684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2"/>
          <a:stretch/>
        </p:blipFill>
        <p:spPr>
          <a:xfrm>
            <a:off x="5867280" y="3809880"/>
            <a:ext cx="3124440" cy="271944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533520" y="990720"/>
            <a:ext cx="8076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Survey Met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portable instruments that can be used to detect most spots of contamination - except for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2590920"/>
            <a:ext cx="8153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Wipe Test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us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 done for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 and lower activities (100 µCi or less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and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47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cting 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4267080" y="3581280"/>
            <a:ext cx="990720" cy="990720"/>
          </a:xfrm>
          <a:custGeom>
            <a:avLst/>
            <a:gdLst>
              <a:gd name="textAreaLeft" fmla="*/ 360 w 990720"/>
              <a:gd name="textAreaRight" fmla="*/ 991440 w 990720"/>
              <a:gd name="textAreaTop" fmla="*/ 360 h 990720"/>
              <a:gd name="textAreaBottom" fmla="*/ 991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553080" y="1980360"/>
            <a:ext cx="2210040" cy="1752840"/>
          </a:xfrm>
          <a:custGeom>
            <a:avLst/>
            <a:gdLst>
              <a:gd name="textAreaLeft" fmla="*/ 638640 w 2210040"/>
              <a:gd name="textAreaRight" fmla="*/ 1892160 w 2210040"/>
              <a:gd name="textAreaTop" fmla="*/ 1241280 h 1752840"/>
              <a:gd name="textAreaBottom" fmla="*/ 15004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8407"/>
                </a:moveTo>
                <a:lnTo>
                  <a:pt x="15300" y="18407"/>
                </a:lnTo>
                <a:lnTo>
                  <a:pt x="15300" y="6241"/>
                </a:lnTo>
                <a:lnTo>
                  <a:pt x="12193" y="6241"/>
                </a:lnTo>
                <a:lnTo>
                  <a:pt x="16897" y="0"/>
                </a:lnTo>
                <a:lnTo>
                  <a:pt x="21600" y="6241"/>
                </a:lnTo>
                <a:lnTo>
                  <a:pt x="18493" y="6241"/>
                </a:lnTo>
                <a:lnTo>
                  <a:pt x="1849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" descr=""/>
          <p:cNvPicPr/>
          <p:nvPr/>
        </p:nvPicPr>
        <p:blipFill>
          <a:blip r:embed="rId1"/>
          <a:srcRect l="0" t="0" r="0" b="13820"/>
          <a:stretch/>
        </p:blipFill>
        <p:spPr>
          <a:xfrm>
            <a:off x="380880" y="8380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tecting Common Isot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 flipV="1">
            <a:off x="3200400" y="2743200"/>
            <a:ext cx="76320" cy="53352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66880" y="34290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dium Iodide (NaI) Pr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 flipV="1">
            <a:off x="2209680" y="2057040"/>
            <a:ext cx="76320" cy="121932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990720" y="2438280"/>
            <a:ext cx="0" cy="91440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00200" y="3429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y 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04920" y="342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iger- Mueller (GM) Pr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038480" y="1600200"/>
          <a:ext cx="4953240" cy="3429000"/>
        </p:xfrm>
        <a:graphic>
          <a:graphicData uri="http://schemas.openxmlformats.org/drawingml/2006/table">
            <a:tbl>
              <a:tblPr/>
              <a:tblGrid>
                <a:gridCol w="846360"/>
                <a:gridCol w="410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 Scintillation Coun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M Probe wi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vey Me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M or NaI Probe w/ Survey Me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I Probe w/ Survey Me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4800600" y="22096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7315200" y="2438280"/>
            <a:ext cx="1523880" cy="114156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28600" y="4495680"/>
            <a:ext cx="2819520" cy="17686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3048120" y="5334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 Scintillation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" descr=""/>
          <p:cNvPicPr/>
          <p:nvPr/>
        </p:nvPicPr>
        <p:blipFill>
          <a:blip r:embed="rId1"/>
          <a:srcRect l="3921" t="0" r="0" b="0"/>
          <a:stretch/>
        </p:blipFill>
        <p:spPr>
          <a:xfrm>
            <a:off x="5410080" y="2209680"/>
            <a:ext cx="3733920" cy="29149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533520" y="1905120"/>
            <a:ext cx="5181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ck calibration date (not older than 12 month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tteries must be fresh / g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ground count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ctor/instrument must be respon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scellaneous conditions…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vey Meter 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4920" y="11430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USER must verify that the survey instrument is in good working ord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efore each 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533520" y="25909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detector will have its own background lev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3520" y="32004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eck the background level - use it as a baselin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serv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ckgrou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er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0880" y="51814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y reading higher than the background level means the item is radioactiv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33520" y="13716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member that background is radiation coming from the environment, and it cannot be prevented or eliminated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47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vey Meter “Background”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362320" y="3581280"/>
            <a:ext cx="6324480" cy="1371600"/>
            <a:chOff x="2362320" y="3581280"/>
            <a:chExt cx="6324480" cy="1371600"/>
          </a:xfrm>
        </p:grpSpPr>
        <p:sp>
          <p:nvSpPr>
            <p:cNvPr id="909" name=""/>
            <p:cNvSpPr/>
            <p:nvPr/>
          </p:nvSpPr>
          <p:spPr>
            <a:xfrm flipV="1">
              <a:off x="6095880" y="3809520"/>
              <a:ext cx="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62320" y="4952880"/>
              <a:ext cx="6324480" cy="0"/>
            </a:xfrm>
            <a:prstGeom prst="line">
              <a:avLst/>
            </a:prstGeom>
            <a:ln w="255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43200" y="3809880"/>
              <a:ext cx="5943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7238880" y="3581280"/>
              <a:ext cx="151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3185"/>
                  <a:gd name="adj2" fmla="val -1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Symbol"/>
                </a:rPr>
                <a:t>!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ymbol"/>
                <a:ea typeface="Symbo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71800" y="4495680"/>
              <a:ext cx="57146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4267080" y="3809520"/>
              <a:ext cx="0" cy="1143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3124080" y="4038480"/>
              <a:ext cx="990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"gross"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6248160" y="4038480"/>
              <a:ext cx="838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Arial Black"/>
                </a:rPr>
                <a:t>"net"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09520" indent="-20952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Clarkson Radiation Protection Program specif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152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"/>
              </a:rPr>
              <a:t>Monitor all work areas at least once a we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152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"/>
              </a:rPr>
              <a:t>Instrument surveys and/or wipe surveys should be done after each experiment or more often if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152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"/>
              </a:rPr>
              <a:t>Isotope storage area must be surveyed at least once per month if no work is in prog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152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 Gothic"/>
              </a:rPr>
              <a:t>Must keep records of all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News Gothic"/>
              </a:rPr>
              <a:t>required</a:t>
            </a:r>
            <a:r>
              <a:rPr b="1" lang="en-US" sz="2200" spc="-1" strike="noStrike">
                <a:solidFill>
                  <a:srgbClr val="000000"/>
                </a:solidFill>
                <a:latin typeface="News Gothic"/>
              </a:rPr>
              <a:t> surveys for inspection by RSO and state insp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Using a form with map of your lab on it is strongly recommended to make documenting surveys easi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A good rule of thumb for determining if contamination is present is to look for 2X backgrou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41200" y="228600"/>
            <a:ext cx="8902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urveys and Monitor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04920" y="1219320"/>
            <a:ext cx="64767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the meter with you at all t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frequent breaks to monitor how well you are doing.  You should frequently che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r hands and gloves - do not touch the meter until you know they are clea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your face and clothes - lab coat, wrists, sho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tly check your work areas - bench, items on bench, equip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ways check the FLOOR and other items you may have touched throughout the d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yboards, pens, telephones, backs of chair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2120" y="3200400"/>
            <a:ext cx="4114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1"/>
          <a:srcRect l="0" t="0" r="28578" b="0"/>
          <a:stretch/>
        </p:blipFill>
        <p:spPr>
          <a:xfrm>
            <a:off x="6934320" y="1143000"/>
            <a:ext cx="1741320" cy="182736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WORK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6400800" y="49719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6781680" y="31240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4"/>
          <a:stretch/>
        </p:blipFill>
        <p:spPr>
          <a:xfrm>
            <a:off x="685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5"/>
          <a:stretch/>
        </p:blipFill>
        <p:spPr>
          <a:xfrm>
            <a:off x="3505320" y="49165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09480" y="1371600"/>
            <a:ext cx="60962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re often you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HECK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rself and work areas, the quicker you will find any contam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6934320" y="609480"/>
            <a:ext cx="1523520" cy="3809520"/>
            <a:chOff x="6934320" y="609480"/>
            <a:chExt cx="1523520" cy="3809520"/>
          </a:xfrm>
        </p:grpSpPr>
        <p:sp>
          <p:nvSpPr>
            <p:cNvPr id="929" name=""/>
            <p:cNvSpPr/>
            <p:nvPr/>
          </p:nvSpPr>
          <p:spPr>
            <a:xfrm>
              <a:off x="7173000" y="609480"/>
              <a:ext cx="1284840" cy="2874240"/>
            </a:xfrm>
            <a:custGeom>
              <a:avLst/>
              <a:gdLst/>
              <a:ahLst/>
              <a:rect l="l" t="t" r="r" b="b"/>
              <a:pathLst>
                <a:path w="678" h="1091">
                  <a:moveTo>
                    <a:pt x="607" y="312"/>
                  </a:moveTo>
                  <a:lnTo>
                    <a:pt x="406" y="621"/>
                  </a:lnTo>
                  <a:lnTo>
                    <a:pt x="384" y="735"/>
                  </a:lnTo>
                  <a:lnTo>
                    <a:pt x="215" y="1091"/>
                  </a:lnTo>
                  <a:lnTo>
                    <a:pt x="0" y="994"/>
                  </a:lnTo>
                  <a:lnTo>
                    <a:pt x="147" y="542"/>
                  </a:lnTo>
                  <a:lnTo>
                    <a:pt x="165" y="391"/>
                  </a:lnTo>
                  <a:lnTo>
                    <a:pt x="283" y="0"/>
                  </a:lnTo>
                  <a:lnTo>
                    <a:pt x="678" y="147"/>
                  </a:lnTo>
                  <a:lnTo>
                    <a:pt x="607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4320" y="3586320"/>
              <a:ext cx="592920" cy="832680"/>
            </a:xfrm>
            <a:custGeom>
              <a:avLst/>
              <a:gdLst/>
              <a:ahLst/>
              <a:rect l="l" t="t" r="r" b="b"/>
              <a:pathLst>
                <a:path w="313" h="316">
                  <a:moveTo>
                    <a:pt x="291" y="72"/>
                  </a:moveTo>
                  <a:lnTo>
                    <a:pt x="305" y="108"/>
                  </a:lnTo>
                  <a:lnTo>
                    <a:pt x="313" y="143"/>
                  </a:lnTo>
                  <a:lnTo>
                    <a:pt x="313" y="187"/>
                  </a:lnTo>
                  <a:lnTo>
                    <a:pt x="302" y="226"/>
                  </a:lnTo>
                  <a:lnTo>
                    <a:pt x="284" y="255"/>
                  </a:lnTo>
                  <a:lnTo>
                    <a:pt x="266" y="280"/>
                  </a:lnTo>
                  <a:lnTo>
                    <a:pt x="244" y="298"/>
                  </a:lnTo>
                  <a:lnTo>
                    <a:pt x="219" y="308"/>
                  </a:lnTo>
                  <a:lnTo>
                    <a:pt x="194" y="316"/>
                  </a:lnTo>
                  <a:lnTo>
                    <a:pt x="165" y="316"/>
                  </a:lnTo>
                  <a:lnTo>
                    <a:pt x="137" y="312"/>
                  </a:lnTo>
                  <a:lnTo>
                    <a:pt x="104" y="301"/>
                  </a:lnTo>
                  <a:lnTo>
                    <a:pt x="76" y="283"/>
                  </a:lnTo>
                  <a:lnTo>
                    <a:pt x="50" y="265"/>
                  </a:lnTo>
                  <a:lnTo>
                    <a:pt x="32" y="240"/>
                  </a:lnTo>
                  <a:lnTo>
                    <a:pt x="18" y="212"/>
                  </a:lnTo>
                  <a:lnTo>
                    <a:pt x="7" y="183"/>
                  </a:lnTo>
                  <a:lnTo>
                    <a:pt x="0" y="154"/>
                  </a:lnTo>
                  <a:lnTo>
                    <a:pt x="0" y="126"/>
                  </a:lnTo>
                  <a:lnTo>
                    <a:pt x="4" y="97"/>
                  </a:lnTo>
                  <a:lnTo>
                    <a:pt x="18" y="65"/>
                  </a:lnTo>
                  <a:lnTo>
                    <a:pt x="43" y="47"/>
                  </a:lnTo>
                  <a:lnTo>
                    <a:pt x="72" y="32"/>
                  </a:lnTo>
                  <a:lnTo>
                    <a:pt x="108" y="21"/>
                  </a:lnTo>
                  <a:lnTo>
                    <a:pt x="122" y="14"/>
                  </a:lnTo>
                  <a:lnTo>
                    <a:pt x="137" y="11"/>
                  </a:lnTo>
                  <a:lnTo>
                    <a:pt x="151" y="7"/>
                  </a:lnTo>
                  <a:lnTo>
                    <a:pt x="169" y="4"/>
                  </a:lnTo>
                  <a:lnTo>
                    <a:pt x="183" y="0"/>
                  </a:lnTo>
                  <a:lnTo>
                    <a:pt x="198" y="0"/>
                  </a:lnTo>
                  <a:lnTo>
                    <a:pt x="212" y="4"/>
                  </a:lnTo>
                  <a:lnTo>
                    <a:pt x="226" y="7"/>
                  </a:lnTo>
                  <a:lnTo>
                    <a:pt x="244" y="18"/>
                  </a:lnTo>
                  <a:lnTo>
                    <a:pt x="262" y="32"/>
                  </a:lnTo>
                  <a:lnTo>
                    <a:pt x="277" y="50"/>
                  </a:lnTo>
                  <a:lnTo>
                    <a:pt x="29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75240" y="986400"/>
              <a:ext cx="1047960" cy="2402640"/>
            </a:xfrm>
            <a:custGeom>
              <a:avLst/>
              <a:gdLst/>
              <a:ahLst/>
              <a:rect l="l" t="t" r="r" b="b"/>
              <a:pathLst>
                <a:path w="553" h="912">
                  <a:moveTo>
                    <a:pt x="495" y="147"/>
                  </a:moveTo>
                  <a:lnTo>
                    <a:pt x="441" y="191"/>
                  </a:lnTo>
                  <a:lnTo>
                    <a:pt x="348" y="341"/>
                  </a:lnTo>
                  <a:lnTo>
                    <a:pt x="258" y="603"/>
                  </a:lnTo>
                  <a:lnTo>
                    <a:pt x="158" y="912"/>
                  </a:lnTo>
                  <a:lnTo>
                    <a:pt x="0" y="808"/>
                  </a:lnTo>
                  <a:lnTo>
                    <a:pt x="107" y="492"/>
                  </a:lnTo>
                  <a:lnTo>
                    <a:pt x="208" y="348"/>
                  </a:lnTo>
                  <a:lnTo>
                    <a:pt x="190" y="252"/>
                  </a:lnTo>
                  <a:lnTo>
                    <a:pt x="240" y="0"/>
                  </a:lnTo>
                  <a:lnTo>
                    <a:pt x="553" y="43"/>
                  </a:lnTo>
                  <a:lnTo>
                    <a:pt x="495" y="14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10280" y="3700080"/>
              <a:ext cx="462240" cy="613440"/>
            </a:xfrm>
            <a:custGeom>
              <a:avLst/>
              <a:gdLst/>
              <a:ahLst/>
              <a:rect l="l" t="t" r="r" b="b"/>
              <a:pathLst>
                <a:path w="244" h="233">
                  <a:moveTo>
                    <a:pt x="233" y="154"/>
                  </a:moveTo>
                  <a:lnTo>
                    <a:pt x="222" y="176"/>
                  </a:lnTo>
                  <a:lnTo>
                    <a:pt x="208" y="187"/>
                  </a:lnTo>
                  <a:lnTo>
                    <a:pt x="190" y="197"/>
                  </a:lnTo>
                  <a:lnTo>
                    <a:pt x="172" y="205"/>
                  </a:lnTo>
                  <a:lnTo>
                    <a:pt x="154" y="215"/>
                  </a:lnTo>
                  <a:lnTo>
                    <a:pt x="132" y="226"/>
                  </a:lnTo>
                  <a:lnTo>
                    <a:pt x="111" y="233"/>
                  </a:lnTo>
                  <a:lnTo>
                    <a:pt x="86" y="230"/>
                  </a:lnTo>
                  <a:lnTo>
                    <a:pt x="39" y="201"/>
                  </a:lnTo>
                  <a:lnTo>
                    <a:pt x="10" y="161"/>
                  </a:lnTo>
                  <a:lnTo>
                    <a:pt x="0" y="122"/>
                  </a:lnTo>
                  <a:lnTo>
                    <a:pt x="0" y="75"/>
                  </a:lnTo>
                  <a:lnTo>
                    <a:pt x="10" y="50"/>
                  </a:lnTo>
                  <a:lnTo>
                    <a:pt x="32" y="32"/>
                  </a:lnTo>
                  <a:lnTo>
                    <a:pt x="54" y="22"/>
                  </a:lnTo>
                  <a:lnTo>
                    <a:pt x="79" y="14"/>
                  </a:lnTo>
                  <a:lnTo>
                    <a:pt x="104" y="7"/>
                  </a:lnTo>
                  <a:lnTo>
                    <a:pt x="125" y="0"/>
                  </a:lnTo>
                  <a:lnTo>
                    <a:pt x="147" y="0"/>
                  </a:lnTo>
                  <a:lnTo>
                    <a:pt x="172" y="7"/>
                  </a:lnTo>
                  <a:lnTo>
                    <a:pt x="208" y="32"/>
                  </a:lnTo>
                  <a:lnTo>
                    <a:pt x="237" y="65"/>
                  </a:lnTo>
                  <a:lnTo>
                    <a:pt x="244" y="104"/>
                  </a:lnTo>
                  <a:lnTo>
                    <a:pt x="233" y="15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85800" y="5335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8080"/>
                </a:solidFill>
                <a:uFillTx/>
                <a:latin typeface="Verdana"/>
              </a:rPr>
              <a:t>REMEMBER 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3809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is time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90720" y="4343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sure min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990720" y="4800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ing extent (area contamin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990720" y="5272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: dry vs. wet, porosity /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533520" y="13716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you generate waste, meter things before you throw them in the regular tr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59092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part of your </a:t>
            </a: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personal surve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check the regular lab trash containers to ensure proper waste dispo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657600" cy="350676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OID “HOT TRASH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415800" y="1479240"/>
            <a:ext cx="83822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9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News Gothic"/>
              </a:rPr>
              <a:t>Contamination surveys must be documen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News Gothic"/>
              </a:rPr>
              <a:t>Record the follow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2212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ews Gothic"/>
              </a:rPr>
              <a:t>Date perform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2212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ews Gothic"/>
              </a:rPr>
              <a:t>Areas surveyed (map is be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2212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ews Gothic"/>
              </a:rPr>
              <a:t>Result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News Gothic"/>
              </a:rPr>
              <a:t>in dpm/100 cm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News Gothic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News Gothic"/>
              </a:rPr>
              <a:t> or mR/hour as applic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2212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ews Gothic"/>
              </a:rPr>
              <a:t>Initials or name of survey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2212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ews Gothic"/>
              </a:rPr>
              <a:t>Instrument used and date of calib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2212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ews Gothic"/>
              </a:rPr>
              <a:t>Action taken if contamination is fou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2212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ews Gothic"/>
              </a:rPr>
              <a:t>Be sure to document all post-spill clean up surveys very well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08080" y="469800"/>
            <a:ext cx="8902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cumenting Surv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ay-In-Storage of Wa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7200" indent="-3672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for isotopes with half-lives less than 100 da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7200" indent="-3672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all isotopes separat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7200" indent="-3672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ust keep an inventory with amount of a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7200" indent="-3672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move or obliterate all radioactive labels prior to dispos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7200" indent="-3672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re in labeled receptacle with clear plastic lin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7200" indent="-3672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ld for 10 half-liv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7200" indent="-3672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rvey with appropriate detector and confirm indistinguishable from backgrou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7200" indent="-3672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spose of without regard to radioa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6248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PHA PARTICLE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high energy particle emitted from the nucleus during the decay of an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vel a few centimeters in 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ped by a sheet of paper or layer of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n external hazard; ingestion or inhalation con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TA PARTICLE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high energy particle emitted from the nucleus during the decay of a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vel 10 to 20 feet in 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ped by a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elding high energy betas with lead can generate more radiation due to Bremsstrahlung x-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MMA RADIATION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: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tromagnetic radiation emitted from the nucleus during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mass, no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vel many feet in 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9080" y="1082880"/>
            <a:ext cx="2088000" cy="1719000"/>
            <a:chOff x="6859080" y="1082880"/>
            <a:chExt cx="2088000" cy="1719000"/>
          </a:xfrm>
        </p:grpSpPr>
        <p:grpSp>
          <p:nvGrpSpPr>
            <p:cNvPr id="58" name=""/>
            <p:cNvGrpSpPr/>
            <p:nvPr/>
          </p:nvGrpSpPr>
          <p:grpSpPr>
            <a:xfrm>
              <a:off x="6859080" y="1082880"/>
              <a:ext cx="1698120" cy="1719000"/>
              <a:chOff x="6859080" y="1082880"/>
              <a:chExt cx="1698120" cy="1719000"/>
            </a:xfrm>
          </p:grpSpPr>
          <p:sp>
            <p:nvSpPr>
              <p:cNvPr id="59" name=""/>
              <p:cNvSpPr/>
              <p:nvPr/>
            </p:nvSpPr>
            <p:spPr>
              <a:xfrm rot="1751400">
                <a:off x="7318440" y="1512720"/>
                <a:ext cx="873360" cy="879120"/>
              </a:xfrm>
              <a:custGeom>
                <a:avLst/>
                <a:gdLst/>
                <a:ahLst/>
                <a:rect l="l" t="t" r="r" b="b"/>
                <a:pathLst>
                  <a:path w="4028" h="3782">
                    <a:moveTo>
                      <a:pt x="243" y="130"/>
                    </a:moveTo>
                    <a:lnTo>
                      <a:pt x="353" y="65"/>
                    </a:lnTo>
                    <a:lnTo>
                      <a:pt x="493" y="23"/>
                    </a:lnTo>
                    <a:lnTo>
                      <a:pt x="645" y="0"/>
                    </a:lnTo>
                    <a:lnTo>
                      <a:pt x="828" y="3"/>
                    </a:lnTo>
                    <a:lnTo>
                      <a:pt x="990" y="23"/>
                    </a:lnTo>
                    <a:lnTo>
                      <a:pt x="1173" y="65"/>
                    </a:lnTo>
                    <a:lnTo>
                      <a:pt x="1370" y="120"/>
                    </a:lnTo>
                    <a:lnTo>
                      <a:pt x="1608" y="215"/>
                    </a:lnTo>
                    <a:lnTo>
                      <a:pt x="1910" y="378"/>
                    </a:lnTo>
                    <a:lnTo>
                      <a:pt x="2173" y="543"/>
                    </a:lnTo>
                    <a:lnTo>
                      <a:pt x="2478" y="755"/>
                    </a:lnTo>
                    <a:lnTo>
                      <a:pt x="2728" y="963"/>
                    </a:lnTo>
                    <a:lnTo>
                      <a:pt x="3055" y="1265"/>
                    </a:lnTo>
                    <a:lnTo>
                      <a:pt x="3268" y="1505"/>
                    </a:lnTo>
                    <a:lnTo>
                      <a:pt x="3475" y="1785"/>
                    </a:lnTo>
                    <a:lnTo>
                      <a:pt x="3703" y="2127"/>
                    </a:lnTo>
                    <a:lnTo>
                      <a:pt x="3875" y="2462"/>
                    </a:lnTo>
                    <a:lnTo>
                      <a:pt x="3953" y="2667"/>
                    </a:lnTo>
                    <a:lnTo>
                      <a:pt x="4005" y="2897"/>
                    </a:lnTo>
                    <a:lnTo>
                      <a:pt x="4028" y="3055"/>
                    </a:lnTo>
                    <a:lnTo>
                      <a:pt x="4020" y="3187"/>
                    </a:lnTo>
                    <a:lnTo>
                      <a:pt x="3988" y="3335"/>
                    </a:lnTo>
                    <a:lnTo>
                      <a:pt x="3938" y="3462"/>
                    </a:lnTo>
                    <a:lnTo>
                      <a:pt x="3863" y="3562"/>
                    </a:lnTo>
                    <a:lnTo>
                      <a:pt x="3770" y="3647"/>
                    </a:lnTo>
                    <a:lnTo>
                      <a:pt x="3650" y="3722"/>
                    </a:lnTo>
                    <a:lnTo>
                      <a:pt x="3518" y="3760"/>
                    </a:lnTo>
                    <a:lnTo>
                      <a:pt x="3370" y="3782"/>
                    </a:lnTo>
                    <a:lnTo>
                      <a:pt x="3193" y="3782"/>
                    </a:lnTo>
                    <a:lnTo>
                      <a:pt x="3013" y="3755"/>
                    </a:lnTo>
                    <a:lnTo>
                      <a:pt x="2815" y="3705"/>
                    </a:lnTo>
                    <a:lnTo>
                      <a:pt x="2630" y="3647"/>
                    </a:lnTo>
                    <a:lnTo>
                      <a:pt x="2403" y="3555"/>
                    </a:lnTo>
                    <a:lnTo>
                      <a:pt x="2128" y="3412"/>
                    </a:lnTo>
                    <a:lnTo>
                      <a:pt x="1855" y="3235"/>
                    </a:lnTo>
                    <a:lnTo>
                      <a:pt x="1500" y="2990"/>
                    </a:lnTo>
                    <a:lnTo>
                      <a:pt x="1235" y="2762"/>
                    </a:lnTo>
                    <a:lnTo>
                      <a:pt x="953" y="2502"/>
                    </a:lnTo>
                    <a:lnTo>
                      <a:pt x="703" y="2205"/>
                    </a:lnTo>
                    <a:lnTo>
                      <a:pt x="488" y="1920"/>
                    </a:lnTo>
                    <a:lnTo>
                      <a:pt x="310" y="1650"/>
                    </a:lnTo>
                    <a:lnTo>
                      <a:pt x="213" y="1455"/>
                    </a:lnTo>
                    <a:lnTo>
                      <a:pt x="125" y="1283"/>
                    </a:lnTo>
                    <a:lnTo>
                      <a:pt x="63" y="1085"/>
                    </a:lnTo>
                    <a:lnTo>
                      <a:pt x="23" y="940"/>
                    </a:lnTo>
                    <a:lnTo>
                      <a:pt x="0" y="788"/>
                    </a:lnTo>
                    <a:lnTo>
                      <a:pt x="0" y="663"/>
                    </a:lnTo>
                    <a:lnTo>
                      <a:pt x="8" y="535"/>
                    </a:lnTo>
                    <a:lnTo>
                      <a:pt x="33" y="400"/>
                    </a:lnTo>
                    <a:lnTo>
                      <a:pt x="83" y="305"/>
                    </a:lnTo>
                    <a:lnTo>
                      <a:pt x="158" y="210"/>
                    </a:lnTo>
                    <a:lnTo>
                      <a:pt x="243" y="130"/>
                    </a:lnTo>
                  </a:path>
                </a:pathLst>
              </a:custGeom>
              <a:noFill/>
              <a:ln w="1260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751400">
                <a:off x="6996600" y="1438200"/>
                <a:ext cx="1423080" cy="934200"/>
              </a:xfrm>
              <a:custGeom>
                <a:avLst/>
                <a:gdLst/>
                <a:ahLst/>
                <a:rect l="l" t="t" r="r" b="b"/>
                <a:pathLst>
                  <a:path w="6563" h="4019">
                    <a:moveTo>
                      <a:pt x="0" y="3207"/>
                    </a:moveTo>
                    <a:lnTo>
                      <a:pt x="0" y="3097"/>
                    </a:lnTo>
                    <a:lnTo>
                      <a:pt x="13" y="2962"/>
                    </a:lnTo>
                    <a:lnTo>
                      <a:pt x="38" y="2844"/>
                    </a:lnTo>
                    <a:lnTo>
                      <a:pt x="80" y="2722"/>
                    </a:lnTo>
                    <a:lnTo>
                      <a:pt x="145" y="2582"/>
                    </a:lnTo>
                    <a:lnTo>
                      <a:pt x="283" y="2337"/>
                    </a:lnTo>
                    <a:lnTo>
                      <a:pt x="480" y="2082"/>
                    </a:lnTo>
                    <a:lnTo>
                      <a:pt x="730" y="1827"/>
                    </a:lnTo>
                    <a:lnTo>
                      <a:pt x="978" y="1607"/>
                    </a:lnTo>
                    <a:lnTo>
                      <a:pt x="1298" y="1357"/>
                    </a:lnTo>
                    <a:lnTo>
                      <a:pt x="1578" y="1162"/>
                    </a:lnTo>
                    <a:lnTo>
                      <a:pt x="2065" y="875"/>
                    </a:lnTo>
                    <a:lnTo>
                      <a:pt x="2508" y="647"/>
                    </a:lnTo>
                    <a:lnTo>
                      <a:pt x="3028" y="427"/>
                    </a:lnTo>
                    <a:lnTo>
                      <a:pt x="3403" y="297"/>
                    </a:lnTo>
                    <a:lnTo>
                      <a:pt x="3920" y="147"/>
                    </a:lnTo>
                    <a:lnTo>
                      <a:pt x="4558" y="27"/>
                    </a:lnTo>
                    <a:lnTo>
                      <a:pt x="4825" y="5"/>
                    </a:lnTo>
                    <a:lnTo>
                      <a:pt x="5100" y="0"/>
                    </a:lnTo>
                    <a:lnTo>
                      <a:pt x="5343" y="2"/>
                    </a:lnTo>
                    <a:lnTo>
                      <a:pt x="5565" y="27"/>
                    </a:lnTo>
                    <a:lnTo>
                      <a:pt x="5780" y="72"/>
                    </a:lnTo>
                    <a:lnTo>
                      <a:pt x="6000" y="142"/>
                    </a:lnTo>
                    <a:lnTo>
                      <a:pt x="6208" y="255"/>
                    </a:lnTo>
                    <a:lnTo>
                      <a:pt x="6370" y="385"/>
                    </a:lnTo>
                    <a:lnTo>
                      <a:pt x="6450" y="480"/>
                    </a:lnTo>
                    <a:lnTo>
                      <a:pt x="6503" y="582"/>
                    </a:lnTo>
                    <a:lnTo>
                      <a:pt x="6535" y="687"/>
                    </a:lnTo>
                    <a:lnTo>
                      <a:pt x="6558" y="807"/>
                    </a:lnTo>
                    <a:lnTo>
                      <a:pt x="6563" y="902"/>
                    </a:lnTo>
                    <a:lnTo>
                      <a:pt x="6563" y="1002"/>
                    </a:lnTo>
                    <a:lnTo>
                      <a:pt x="6533" y="1162"/>
                    </a:lnTo>
                    <a:lnTo>
                      <a:pt x="6470" y="1337"/>
                    </a:lnTo>
                    <a:lnTo>
                      <a:pt x="6388" y="1510"/>
                    </a:lnTo>
                    <a:lnTo>
                      <a:pt x="6285" y="1677"/>
                    </a:lnTo>
                    <a:lnTo>
                      <a:pt x="6178" y="1815"/>
                    </a:lnTo>
                    <a:lnTo>
                      <a:pt x="6060" y="1962"/>
                    </a:lnTo>
                    <a:lnTo>
                      <a:pt x="5898" y="2147"/>
                    </a:lnTo>
                    <a:lnTo>
                      <a:pt x="5615" y="2397"/>
                    </a:lnTo>
                    <a:lnTo>
                      <a:pt x="5345" y="2609"/>
                    </a:lnTo>
                    <a:lnTo>
                      <a:pt x="5085" y="2794"/>
                    </a:lnTo>
                    <a:lnTo>
                      <a:pt x="4735" y="3012"/>
                    </a:lnTo>
                    <a:lnTo>
                      <a:pt x="4398" y="3199"/>
                    </a:lnTo>
                    <a:lnTo>
                      <a:pt x="4043" y="3369"/>
                    </a:lnTo>
                    <a:lnTo>
                      <a:pt x="3688" y="3524"/>
                    </a:lnTo>
                    <a:lnTo>
                      <a:pt x="3353" y="3649"/>
                    </a:lnTo>
                    <a:lnTo>
                      <a:pt x="2878" y="3802"/>
                    </a:lnTo>
                    <a:lnTo>
                      <a:pt x="2453" y="3902"/>
                    </a:lnTo>
                    <a:lnTo>
                      <a:pt x="2133" y="3962"/>
                    </a:lnTo>
                    <a:lnTo>
                      <a:pt x="1770" y="3999"/>
                    </a:lnTo>
                    <a:lnTo>
                      <a:pt x="1515" y="4019"/>
                    </a:lnTo>
                    <a:lnTo>
                      <a:pt x="1298" y="4019"/>
                    </a:lnTo>
                    <a:lnTo>
                      <a:pt x="1105" y="3994"/>
                    </a:lnTo>
                    <a:lnTo>
                      <a:pt x="940" y="3974"/>
                    </a:lnTo>
                    <a:lnTo>
                      <a:pt x="790" y="3942"/>
                    </a:lnTo>
                    <a:lnTo>
                      <a:pt x="618" y="3887"/>
                    </a:lnTo>
                    <a:lnTo>
                      <a:pt x="480" y="3834"/>
                    </a:lnTo>
                    <a:lnTo>
                      <a:pt x="358" y="3759"/>
                    </a:lnTo>
                    <a:lnTo>
                      <a:pt x="250" y="3672"/>
                    </a:lnTo>
                    <a:lnTo>
                      <a:pt x="155" y="3577"/>
                    </a:lnTo>
                    <a:lnTo>
                      <a:pt x="65" y="3447"/>
                    </a:lnTo>
                    <a:lnTo>
                      <a:pt x="28" y="3327"/>
                    </a:lnTo>
                    <a:lnTo>
                      <a:pt x="0" y="3207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751400">
                <a:off x="7319160" y="1174680"/>
                <a:ext cx="777240" cy="1534680"/>
              </a:xfrm>
              <a:custGeom>
                <a:avLst/>
                <a:gdLst/>
                <a:ahLst/>
                <a:rect l="l" t="t" r="r" b="b"/>
                <a:pathLst>
                  <a:path w="3585" h="6602">
                    <a:moveTo>
                      <a:pt x="475" y="23"/>
                    </a:moveTo>
                    <a:lnTo>
                      <a:pt x="617" y="0"/>
                    </a:lnTo>
                    <a:lnTo>
                      <a:pt x="767" y="13"/>
                    </a:lnTo>
                    <a:lnTo>
                      <a:pt x="907" y="53"/>
                    </a:lnTo>
                    <a:lnTo>
                      <a:pt x="1032" y="105"/>
                    </a:lnTo>
                    <a:lnTo>
                      <a:pt x="1190" y="205"/>
                    </a:lnTo>
                    <a:lnTo>
                      <a:pt x="1405" y="368"/>
                    </a:lnTo>
                    <a:lnTo>
                      <a:pt x="1590" y="543"/>
                    </a:lnTo>
                    <a:lnTo>
                      <a:pt x="1735" y="695"/>
                    </a:lnTo>
                    <a:lnTo>
                      <a:pt x="1880" y="863"/>
                    </a:lnTo>
                    <a:lnTo>
                      <a:pt x="2047" y="1073"/>
                    </a:lnTo>
                    <a:lnTo>
                      <a:pt x="2212" y="1325"/>
                    </a:lnTo>
                    <a:lnTo>
                      <a:pt x="2362" y="1563"/>
                    </a:lnTo>
                    <a:lnTo>
                      <a:pt x="2520" y="1833"/>
                    </a:lnTo>
                    <a:lnTo>
                      <a:pt x="2702" y="2178"/>
                    </a:lnTo>
                    <a:lnTo>
                      <a:pt x="2830" y="2470"/>
                    </a:lnTo>
                    <a:lnTo>
                      <a:pt x="2947" y="2740"/>
                    </a:lnTo>
                    <a:lnTo>
                      <a:pt x="3027" y="2928"/>
                    </a:lnTo>
                    <a:lnTo>
                      <a:pt x="3110" y="3145"/>
                    </a:lnTo>
                    <a:lnTo>
                      <a:pt x="3207" y="3415"/>
                    </a:lnTo>
                    <a:lnTo>
                      <a:pt x="3282" y="3657"/>
                    </a:lnTo>
                    <a:lnTo>
                      <a:pt x="3367" y="3957"/>
                    </a:lnTo>
                    <a:lnTo>
                      <a:pt x="3447" y="4277"/>
                    </a:lnTo>
                    <a:lnTo>
                      <a:pt x="3502" y="4540"/>
                    </a:lnTo>
                    <a:lnTo>
                      <a:pt x="3552" y="4815"/>
                    </a:lnTo>
                    <a:lnTo>
                      <a:pt x="3575" y="5070"/>
                    </a:lnTo>
                    <a:lnTo>
                      <a:pt x="3585" y="5362"/>
                    </a:lnTo>
                    <a:lnTo>
                      <a:pt x="3565" y="5695"/>
                    </a:lnTo>
                    <a:lnTo>
                      <a:pt x="3527" y="5935"/>
                    </a:lnTo>
                    <a:lnTo>
                      <a:pt x="3480" y="6115"/>
                    </a:lnTo>
                    <a:lnTo>
                      <a:pt x="3425" y="6270"/>
                    </a:lnTo>
                    <a:lnTo>
                      <a:pt x="3360" y="6387"/>
                    </a:lnTo>
                    <a:lnTo>
                      <a:pt x="3292" y="6465"/>
                    </a:lnTo>
                    <a:lnTo>
                      <a:pt x="3200" y="6537"/>
                    </a:lnTo>
                    <a:lnTo>
                      <a:pt x="3065" y="6580"/>
                    </a:lnTo>
                    <a:lnTo>
                      <a:pt x="2937" y="6602"/>
                    </a:lnTo>
                    <a:lnTo>
                      <a:pt x="2790" y="6580"/>
                    </a:lnTo>
                    <a:lnTo>
                      <a:pt x="2657" y="6540"/>
                    </a:lnTo>
                    <a:lnTo>
                      <a:pt x="2495" y="6470"/>
                    </a:lnTo>
                    <a:lnTo>
                      <a:pt x="2342" y="6375"/>
                    </a:lnTo>
                    <a:lnTo>
                      <a:pt x="2155" y="6227"/>
                    </a:lnTo>
                    <a:lnTo>
                      <a:pt x="2000" y="6082"/>
                    </a:lnTo>
                    <a:lnTo>
                      <a:pt x="1860" y="5935"/>
                    </a:lnTo>
                    <a:lnTo>
                      <a:pt x="1702" y="5745"/>
                    </a:lnTo>
                    <a:lnTo>
                      <a:pt x="1565" y="5570"/>
                    </a:lnTo>
                    <a:lnTo>
                      <a:pt x="1442" y="5395"/>
                    </a:lnTo>
                    <a:lnTo>
                      <a:pt x="1300" y="5185"/>
                    </a:lnTo>
                    <a:lnTo>
                      <a:pt x="1190" y="4997"/>
                    </a:lnTo>
                    <a:lnTo>
                      <a:pt x="1080" y="4802"/>
                    </a:lnTo>
                    <a:lnTo>
                      <a:pt x="942" y="4542"/>
                    </a:lnTo>
                    <a:lnTo>
                      <a:pt x="805" y="4282"/>
                    </a:lnTo>
                    <a:lnTo>
                      <a:pt x="692" y="4017"/>
                    </a:lnTo>
                    <a:lnTo>
                      <a:pt x="555" y="3700"/>
                    </a:lnTo>
                    <a:lnTo>
                      <a:pt x="442" y="3387"/>
                    </a:lnTo>
                    <a:lnTo>
                      <a:pt x="335" y="3073"/>
                    </a:lnTo>
                    <a:lnTo>
                      <a:pt x="190" y="2553"/>
                    </a:lnTo>
                    <a:lnTo>
                      <a:pt x="117" y="2248"/>
                    </a:lnTo>
                    <a:lnTo>
                      <a:pt x="67" y="1940"/>
                    </a:lnTo>
                    <a:lnTo>
                      <a:pt x="32" y="1648"/>
                    </a:lnTo>
                    <a:lnTo>
                      <a:pt x="2" y="1340"/>
                    </a:lnTo>
                    <a:lnTo>
                      <a:pt x="0" y="1118"/>
                    </a:lnTo>
                    <a:lnTo>
                      <a:pt x="20" y="888"/>
                    </a:lnTo>
                    <a:lnTo>
                      <a:pt x="42" y="690"/>
                    </a:lnTo>
                    <a:lnTo>
                      <a:pt x="77" y="543"/>
                    </a:lnTo>
                    <a:lnTo>
                      <a:pt x="130" y="408"/>
                    </a:lnTo>
                    <a:lnTo>
                      <a:pt x="192" y="290"/>
                    </a:lnTo>
                    <a:lnTo>
                      <a:pt x="262" y="195"/>
                    </a:lnTo>
                    <a:lnTo>
                      <a:pt x="360" y="95"/>
                    </a:lnTo>
                    <a:lnTo>
                      <a:pt x="475" y="23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751400">
                <a:off x="6989760" y="1568160"/>
                <a:ext cx="1430280" cy="709920"/>
              </a:xfrm>
              <a:custGeom>
                <a:avLst/>
                <a:gdLst/>
                <a:ahLst/>
                <a:rect l="l" t="t" r="r" b="b"/>
                <a:pathLst>
                  <a:path w="6595" h="3054">
                    <a:moveTo>
                      <a:pt x="2505" y="2559"/>
                    </a:moveTo>
                    <a:lnTo>
                      <a:pt x="2140" y="2417"/>
                    </a:lnTo>
                    <a:lnTo>
                      <a:pt x="1822" y="2277"/>
                    </a:lnTo>
                    <a:lnTo>
                      <a:pt x="1462" y="2104"/>
                    </a:lnTo>
                    <a:lnTo>
                      <a:pt x="1137" y="1919"/>
                    </a:lnTo>
                    <a:lnTo>
                      <a:pt x="855" y="1739"/>
                    </a:lnTo>
                    <a:lnTo>
                      <a:pt x="575" y="1527"/>
                    </a:lnTo>
                    <a:lnTo>
                      <a:pt x="392" y="1372"/>
                    </a:lnTo>
                    <a:lnTo>
                      <a:pt x="260" y="1222"/>
                    </a:lnTo>
                    <a:lnTo>
                      <a:pt x="145" y="1070"/>
                    </a:lnTo>
                    <a:lnTo>
                      <a:pt x="70" y="930"/>
                    </a:lnTo>
                    <a:lnTo>
                      <a:pt x="25" y="810"/>
                    </a:lnTo>
                    <a:lnTo>
                      <a:pt x="0" y="680"/>
                    </a:lnTo>
                    <a:lnTo>
                      <a:pt x="17" y="585"/>
                    </a:lnTo>
                    <a:lnTo>
                      <a:pt x="60" y="487"/>
                    </a:lnTo>
                    <a:lnTo>
                      <a:pt x="112" y="392"/>
                    </a:lnTo>
                    <a:lnTo>
                      <a:pt x="210" y="295"/>
                    </a:lnTo>
                    <a:lnTo>
                      <a:pt x="335" y="217"/>
                    </a:lnTo>
                    <a:lnTo>
                      <a:pt x="500" y="145"/>
                    </a:lnTo>
                    <a:lnTo>
                      <a:pt x="665" y="90"/>
                    </a:lnTo>
                    <a:lnTo>
                      <a:pt x="882" y="42"/>
                    </a:lnTo>
                    <a:lnTo>
                      <a:pt x="1095" y="12"/>
                    </a:lnTo>
                    <a:lnTo>
                      <a:pt x="1335" y="0"/>
                    </a:lnTo>
                    <a:lnTo>
                      <a:pt x="1582" y="0"/>
                    </a:lnTo>
                    <a:lnTo>
                      <a:pt x="2065" y="27"/>
                    </a:lnTo>
                    <a:lnTo>
                      <a:pt x="2480" y="85"/>
                    </a:lnTo>
                    <a:lnTo>
                      <a:pt x="2832" y="145"/>
                    </a:lnTo>
                    <a:lnTo>
                      <a:pt x="3200" y="227"/>
                    </a:lnTo>
                    <a:lnTo>
                      <a:pt x="3647" y="347"/>
                    </a:lnTo>
                    <a:lnTo>
                      <a:pt x="4080" y="490"/>
                    </a:lnTo>
                    <a:lnTo>
                      <a:pt x="4565" y="675"/>
                    </a:lnTo>
                    <a:lnTo>
                      <a:pt x="4910" y="835"/>
                    </a:lnTo>
                    <a:lnTo>
                      <a:pt x="5265" y="1020"/>
                    </a:lnTo>
                    <a:lnTo>
                      <a:pt x="5537" y="1170"/>
                    </a:lnTo>
                    <a:lnTo>
                      <a:pt x="5807" y="1352"/>
                    </a:lnTo>
                    <a:lnTo>
                      <a:pt x="6110" y="1590"/>
                    </a:lnTo>
                    <a:lnTo>
                      <a:pt x="6310" y="1782"/>
                    </a:lnTo>
                    <a:lnTo>
                      <a:pt x="6430" y="1934"/>
                    </a:lnTo>
                    <a:lnTo>
                      <a:pt x="6517" y="2072"/>
                    </a:lnTo>
                    <a:lnTo>
                      <a:pt x="6582" y="2232"/>
                    </a:lnTo>
                    <a:lnTo>
                      <a:pt x="6595" y="2364"/>
                    </a:lnTo>
                    <a:lnTo>
                      <a:pt x="6582" y="2492"/>
                    </a:lnTo>
                    <a:lnTo>
                      <a:pt x="6535" y="2612"/>
                    </a:lnTo>
                    <a:lnTo>
                      <a:pt x="6465" y="2707"/>
                    </a:lnTo>
                    <a:lnTo>
                      <a:pt x="6385" y="2772"/>
                    </a:lnTo>
                    <a:lnTo>
                      <a:pt x="6277" y="2842"/>
                    </a:lnTo>
                    <a:lnTo>
                      <a:pt x="6175" y="2894"/>
                    </a:lnTo>
                    <a:lnTo>
                      <a:pt x="6000" y="2957"/>
                    </a:lnTo>
                    <a:lnTo>
                      <a:pt x="5812" y="3007"/>
                    </a:lnTo>
                    <a:lnTo>
                      <a:pt x="5595" y="3034"/>
                    </a:lnTo>
                    <a:lnTo>
                      <a:pt x="5307" y="3054"/>
                    </a:lnTo>
                    <a:lnTo>
                      <a:pt x="4942" y="3054"/>
                    </a:lnTo>
                    <a:lnTo>
                      <a:pt x="4537" y="3022"/>
                    </a:lnTo>
                    <a:lnTo>
                      <a:pt x="4130" y="2972"/>
                    </a:lnTo>
                    <a:lnTo>
                      <a:pt x="3720" y="2902"/>
                    </a:lnTo>
                    <a:lnTo>
                      <a:pt x="3242" y="2784"/>
                    </a:lnTo>
                    <a:lnTo>
                      <a:pt x="2855" y="2677"/>
                    </a:lnTo>
                    <a:lnTo>
                      <a:pt x="2505" y="2559"/>
                    </a:lnTo>
                  </a:path>
                </a:pathLst>
              </a:custGeom>
              <a:noFill/>
              <a:ln w="1260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751400">
                <a:off x="7051320" y="1449360"/>
                <a:ext cx="920880" cy="602640"/>
              </a:xfrm>
              <a:custGeom>
                <a:avLst/>
                <a:gdLst/>
                <a:ahLst/>
                <a:rect l="l" t="t" r="r" b="b"/>
                <a:pathLst>
                  <a:path w="4247" h="2592">
                    <a:moveTo>
                      <a:pt x="2547" y="2592"/>
                    </a:moveTo>
                    <a:lnTo>
                      <a:pt x="2217" y="2464"/>
                    </a:lnTo>
                    <a:lnTo>
                      <a:pt x="1890" y="2322"/>
                    </a:lnTo>
                    <a:lnTo>
                      <a:pt x="1492" y="2137"/>
                    </a:lnTo>
                    <a:lnTo>
                      <a:pt x="1165" y="1954"/>
                    </a:lnTo>
                    <a:lnTo>
                      <a:pt x="842" y="1749"/>
                    </a:lnTo>
                    <a:lnTo>
                      <a:pt x="487" y="1480"/>
                    </a:lnTo>
                    <a:lnTo>
                      <a:pt x="375" y="1372"/>
                    </a:lnTo>
                    <a:lnTo>
                      <a:pt x="250" y="1242"/>
                    </a:lnTo>
                    <a:lnTo>
                      <a:pt x="162" y="1122"/>
                    </a:lnTo>
                    <a:lnTo>
                      <a:pt x="82" y="992"/>
                    </a:lnTo>
                    <a:lnTo>
                      <a:pt x="30" y="875"/>
                    </a:lnTo>
                    <a:lnTo>
                      <a:pt x="10" y="770"/>
                    </a:lnTo>
                    <a:lnTo>
                      <a:pt x="0" y="667"/>
                    </a:lnTo>
                    <a:lnTo>
                      <a:pt x="20" y="575"/>
                    </a:lnTo>
                    <a:lnTo>
                      <a:pt x="52" y="490"/>
                    </a:lnTo>
                    <a:lnTo>
                      <a:pt x="110" y="402"/>
                    </a:lnTo>
                    <a:lnTo>
                      <a:pt x="185" y="325"/>
                    </a:lnTo>
                    <a:lnTo>
                      <a:pt x="270" y="257"/>
                    </a:lnTo>
                    <a:lnTo>
                      <a:pt x="402" y="187"/>
                    </a:lnTo>
                    <a:lnTo>
                      <a:pt x="565" y="122"/>
                    </a:lnTo>
                    <a:lnTo>
                      <a:pt x="757" y="70"/>
                    </a:lnTo>
                    <a:lnTo>
                      <a:pt x="950" y="40"/>
                    </a:lnTo>
                    <a:lnTo>
                      <a:pt x="1275" y="10"/>
                    </a:lnTo>
                    <a:lnTo>
                      <a:pt x="1555" y="0"/>
                    </a:lnTo>
                    <a:lnTo>
                      <a:pt x="1880" y="10"/>
                    </a:lnTo>
                    <a:lnTo>
                      <a:pt x="2260" y="52"/>
                    </a:lnTo>
                    <a:lnTo>
                      <a:pt x="2605" y="117"/>
                    </a:lnTo>
                    <a:lnTo>
                      <a:pt x="3015" y="195"/>
                    </a:lnTo>
                    <a:lnTo>
                      <a:pt x="3340" y="270"/>
                    </a:lnTo>
                    <a:lnTo>
                      <a:pt x="3642" y="365"/>
                    </a:lnTo>
                    <a:lnTo>
                      <a:pt x="3925" y="455"/>
                    </a:lnTo>
                    <a:lnTo>
                      <a:pt x="4247" y="560"/>
                    </a:lnTo>
                    <a:lnTo>
                      <a:pt x="4172" y="530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51400">
                <a:off x="7405560" y="1461600"/>
                <a:ext cx="588600" cy="598680"/>
              </a:xfrm>
              <a:custGeom>
                <a:avLst/>
                <a:gdLst/>
                <a:ahLst/>
                <a:rect l="l" t="t" r="r" b="b"/>
                <a:pathLst>
                  <a:path w="2715" h="2575">
                    <a:moveTo>
                      <a:pt x="1030" y="2575"/>
                    </a:moveTo>
                    <a:lnTo>
                      <a:pt x="850" y="2377"/>
                    </a:lnTo>
                    <a:lnTo>
                      <a:pt x="662" y="2147"/>
                    </a:lnTo>
                    <a:lnTo>
                      <a:pt x="437" y="1848"/>
                    </a:lnTo>
                    <a:lnTo>
                      <a:pt x="325" y="1670"/>
                    </a:lnTo>
                    <a:lnTo>
                      <a:pt x="227" y="1490"/>
                    </a:lnTo>
                    <a:lnTo>
                      <a:pt x="120" y="1268"/>
                    </a:lnTo>
                    <a:lnTo>
                      <a:pt x="60" y="1095"/>
                    </a:lnTo>
                    <a:lnTo>
                      <a:pt x="10" y="898"/>
                    </a:lnTo>
                    <a:lnTo>
                      <a:pt x="0" y="715"/>
                    </a:lnTo>
                    <a:lnTo>
                      <a:pt x="0" y="598"/>
                    </a:lnTo>
                    <a:lnTo>
                      <a:pt x="15" y="470"/>
                    </a:lnTo>
                    <a:lnTo>
                      <a:pt x="52" y="360"/>
                    </a:lnTo>
                    <a:lnTo>
                      <a:pt x="142" y="230"/>
                    </a:lnTo>
                    <a:lnTo>
                      <a:pt x="250" y="133"/>
                    </a:lnTo>
                    <a:lnTo>
                      <a:pt x="362" y="68"/>
                    </a:lnTo>
                    <a:lnTo>
                      <a:pt x="487" y="23"/>
                    </a:lnTo>
                    <a:lnTo>
                      <a:pt x="632" y="0"/>
                    </a:lnTo>
                    <a:lnTo>
                      <a:pt x="752" y="0"/>
                    </a:lnTo>
                    <a:lnTo>
                      <a:pt x="912" y="13"/>
                    </a:lnTo>
                    <a:lnTo>
                      <a:pt x="1075" y="45"/>
                    </a:lnTo>
                    <a:lnTo>
                      <a:pt x="1312" y="98"/>
                    </a:lnTo>
                    <a:lnTo>
                      <a:pt x="1507" y="173"/>
                    </a:lnTo>
                    <a:lnTo>
                      <a:pt x="1730" y="283"/>
                    </a:lnTo>
                    <a:lnTo>
                      <a:pt x="1897" y="368"/>
                    </a:lnTo>
                    <a:lnTo>
                      <a:pt x="2140" y="518"/>
                    </a:lnTo>
                    <a:lnTo>
                      <a:pt x="2357" y="670"/>
                    </a:lnTo>
                    <a:lnTo>
                      <a:pt x="2565" y="823"/>
                    </a:lnTo>
                    <a:lnTo>
                      <a:pt x="2702" y="953"/>
                    </a:lnTo>
                    <a:lnTo>
                      <a:pt x="2715" y="963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751400">
                <a:off x="7097760" y="1619280"/>
                <a:ext cx="1187280" cy="599040"/>
              </a:xfrm>
              <a:custGeom>
                <a:avLst/>
                <a:gdLst/>
                <a:ahLst/>
                <a:rect l="l" t="t" r="r" b="b"/>
                <a:pathLst>
                  <a:path w="5475" h="2577">
                    <a:moveTo>
                      <a:pt x="0" y="1750"/>
                    </a:moveTo>
                    <a:lnTo>
                      <a:pt x="15" y="1640"/>
                    </a:lnTo>
                    <a:lnTo>
                      <a:pt x="52" y="1520"/>
                    </a:lnTo>
                    <a:lnTo>
                      <a:pt x="115" y="1405"/>
                    </a:lnTo>
                    <a:lnTo>
                      <a:pt x="190" y="1293"/>
                    </a:lnTo>
                    <a:lnTo>
                      <a:pt x="325" y="1135"/>
                    </a:lnTo>
                    <a:lnTo>
                      <a:pt x="567" y="928"/>
                    </a:lnTo>
                    <a:lnTo>
                      <a:pt x="815" y="765"/>
                    </a:lnTo>
                    <a:lnTo>
                      <a:pt x="1130" y="603"/>
                    </a:lnTo>
                    <a:lnTo>
                      <a:pt x="1507" y="433"/>
                    </a:lnTo>
                    <a:lnTo>
                      <a:pt x="1840" y="313"/>
                    </a:lnTo>
                    <a:lnTo>
                      <a:pt x="2327" y="173"/>
                    </a:lnTo>
                    <a:lnTo>
                      <a:pt x="2727" y="88"/>
                    </a:lnTo>
                    <a:lnTo>
                      <a:pt x="3050" y="43"/>
                    </a:lnTo>
                    <a:lnTo>
                      <a:pt x="3397" y="10"/>
                    </a:lnTo>
                    <a:lnTo>
                      <a:pt x="3722" y="0"/>
                    </a:lnTo>
                    <a:lnTo>
                      <a:pt x="3950" y="0"/>
                    </a:lnTo>
                    <a:lnTo>
                      <a:pt x="4190" y="20"/>
                    </a:lnTo>
                    <a:lnTo>
                      <a:pt x="4452" y="50"/>
                    </a:lnTo>
                    <a:lnTo>
                      <a:pt x="4720" y="120"/>
                    </a:lnTo>
                    <a:lnTo>
                      <a:pt x="4922" y="183"/>
                    </a:lnTo>
                    <a:lnTo>
                      <a:pt x="5077" y="265"/>
                    </a:lnTo>
                    <a:lnTo>
                      <a:pt x="5212" y="355"/>
                    </a:lnTo>
                    <a:lnTo>
                      <a:pt x="5305" y="433"/>
                    </a:lnTo>
                    <a:lnTo>
                      <a:pt x="5382" y="530"/>
                    </a:lnTo>
                    <a:lnTo>
                      <a:pt x="5442" y="635"/>
                    </a:lnTo>
                    <a:lnTo>
                      <a:pt x="5465" y="735"/>
                    </a:lnTo>
                    <a:lnTo>
                      <a:pt x="5475" y="843"/>
                    </a:lnTo>
                    <a:lnTo>
                      <a:pt x="5455" y="938"/>
                    </a:lnTo>
                    <a:lnTo>
                      <a:pt x="5432" y="1038"/>
                    </a:lnTo>
                    <a:lnTo>
                      <a:pt x="5390" y="1133"/>
                    </a:lnTo>
                    <a:lnTo>
                      <a:pt x="5305" y="1270"/>
                    </a:lnTo>
                    <a:lnTo>
                      <a:pt x="5205" y="1380"/>
                    </a:lnTo>
                    <a:lnTo>
                      <a:pt x="4992" y="1577"/>
                    </a:lnTo>
                    <a:lnTo>
                      <a:pt x="4720" y="1775"/>
                    </a:lnTo>
                    <a:lnTo>
                      <a:pt x="4492" y="1905"/>
                    </a:lnTo>
                    <a:lnTo>
                      <a:pt x="4200" y="2042"/>
                    </a:lnTo>
                    <a:lnTo>
                      <a:pt x="3937" y="2152"/>
                    </a:lnTo>
                    <a:lnTo>
                      <a:pt x="3502" y="2302"/>
                    </a:lnTo>
                    <a:lnTo>
                      <a:pt x="3137" y="2402"/>
                    </a:lnTo>
                    <a:lnTo>
                      <a:pt x="2727" y="2490"/>
                    </a:lnTo>
                    <a:lnTo>
                      <a:pt x="2570" y="2520"/>
                    </a:lnTo>
                    <a:lnTo>
                      <a:pt x="2372" y="2547"/>
                    </a:lnTo>
                    <a:lnTo>
                      <a:pt x="2165" y="2567"/>
                    </a:lnTo>
                    <a:lnTo>
                      <a:pt x="2007" y="2567"/>
                    </a:lnTo>
                    <a:lnTo>
                      <a:pt x="1737" y="2577"/>
                    </a:lnTo>
                    <a:lnTo>
                      <a:pt x="1477" y="2577"/>
                    </a:lnTo>
                    <a:lnTo>
                      <a:pt x="1237" y="2542"/>
                    </a:lnTo>
                    <a:lnTo>
                      <a:pt x="982" y="2505"/>
                    </a:lnTo>
                    <a:lnTo>
                      <a:pt x="722" y="2445"/>
                    </a:lnTo>
                    <a:lnTo>
                      <a:pt x="580" y="2400"/>
                    </a:lnTo>
                    <a:lnTo>
                      <a:pt x="435" y="2340"/>
                    </a:lnTo>
                    <a:lnTo>
                      <a:pt x="307" y="2260"/>
                    </a:lnTo>
                    <a:lnTo>
                      <a:pt x="210" y="2177"/>
                    </a:lnTo>
                    <a:lnTo>
                      <a:pt x="127" y="2087"/>
                    </a:lnTo>
                    <a:lnTo>
                      <a:pt x="52" y="1985"/>
                    </a:lnTo>
                    <a:lnTo>
                      <a:pt x="10" y="1875"/>
                    </a:lnTo>
                    <a:lnTo>
                      <a:pt x="0" y="1750"/>
                    </a:lnTo>
                  </a:path>
                </a:pathLst>
              </a:custGeom>
              <a:noFill/>
              <a:ln w="1260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751400">
                <a:off x="7594920" y="1750320"/>
                <a:ext cx="659880" cy="576720"/>
              </a:xfrm>
              <a:custGeom>
                <a:avLst/>
                <a:gdLst/>
                <a:ahLst/>
                <a:rect l="l" t="t" r="r" b="b"/>
                <a:pathLst>
                  <a:path w="3043" h="2482">
                    <a:moveTo>
                      <a:pt x="0" y="137"/>
                    </a:moveTo>
                    <a:lnTo>
                      <a:pt x="423" y="62"/>
                    </a:lnTo>
                    <a:lnTo>
                      <a:pt x="843" y="20"/>
                    </a:lnTo>
                    <a:lnTo>
                      <a:pt x="1253" y="0"/>
                    </a:lnTo>
                    <a:lnTo>
                      <a:pt x="1665" y="10"/>
                    </a:lnTo>
                    <a:lnTo>
                      <a:pt x="2055" y="52"/>
                    </a:lnTo>
                    <a:lnTo>
                      <a:pt x="2293" y="107"/>
                    </a:lnTo>
                    <a:lnTo>
                      <a:pt x="2485" y="170"/>
                    </a:lnTo>
                    <a:lnTo>
                      <a:pt x="2670" y="270"/>
                    </a:lnTo>
                    <a:lnTo>
                      <a:pt x="2788" y="345"/>
                    </a:lnTo>
                    <a:lnTo>
                      <a:pt x="2900" y="440"/>
                    </a:lnTo>
                    <a:lnTo>
                      <a:pt x="2980" y="550"/>
                    </a:lnTo>
                    <a:lnTo>
                      <a:pt x="3028" y="670"/>
                    </a:lnTo>
                    <a:lnTo>
                      <a:pt x="3043" y="825"/>
                    </a:lnTo>
                    <a:lnTo>
                      <a:pt x="3015" y="1002"/>
                    </a:lnTo>
                    <a:lnTo>
                      <a:pt x="2953" y="1155"/>
                    </a:lnTo>
                    <a:lnTo>
                      <a:pt x="2845" y="1305"/>
                    </a:lnTo>
                    <a:lnTo>
                      <a:pt x="2703" y="1447"/>
                    </a:lnTo>
                    <a:lnTo>
                      <a:pt x="2530" y="1602"/>
                    </a:lnTo>
                    <a:lnTo>
                      <a:pt x="2293" y="1759"/>
                    </a:lnTo>
                    <a:lnTo>
                      <a:pt x="2125" y="1862"/>
                    </a:lnTo>
                    <a:lnTo>
                      <a:pt x="1908" y="1979"/>
                    </a:lnTo>
                    <a:lnTo>
                      <a:pt x="1660" y="2087"/>
                    </a:lnTo>
                    <a:lnTo>
                      <a:pt x="1375" y="2197"/>
                    </a:lnTo>
                    <a:lnTo>
                      <a:pt x="1050" y="2294"/>
                    </a:lnTo>
                    <a:lnTo>
                      <a:pt x="675" y="2394"/>
                    </a:lnTo>
                    <a:lnTo>
                      <a:pt x="290" y="2482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112520" y="1091160"/>
              <a:ext cx="1834560" cy="1443240"/>
              <a:chOff x="7112520" y="1091160"/>
              <a:chExt cx="1834560" cy="14432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7771680" y="1353600"/>
                <a:ext cx="1175400" cy="503280"/>
                <a:chOff x="7771680" y="1353600"/>
                <a:chExt cx="1175400" cy="503280"/>
              </a:xfrm>
            </p:grpSpPr>
            <p:sp>
              <p:nvSpPr>
                <p:cNvPr id="69" name=""/>
                <p:cNvSpPr/>
                <p:nvPr/>
              </p:nvSpPr>
              <p:spPr>
                <a:xfrm flipV="1">
                  <a:off x="7771680" y="1460880"/>
                  <a:ext cx="1007280" cy="396000"/>
                </a:xfrm>
                <a:prstGeom prst="line">
                  <a:avLst/>
                </a:prstGeom>
                <a:ln w="12600">
                  <a:solidFill>
                    <a:srgbClr val="ff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8760960" y="1353600"/>
                  <a:ext cx="186120" cy="188280"/>
                  <a:chOff x="8760960" y="1353600"/>
                  <a:chExt cx="186120" cy="18828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8760960" y="1399320"/>
                    <a:ext cx="118080" cy="120240"/>
                    <a:chOff x="8760960" y="1399320"/>
                    <a:chExt cx="118080" cy="12024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rot="1751400">
                      <a:off x="8777160" y="141408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rot="1751400">
                      <a:off x="8780760" y="141660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 rot="1751400">
                      <a:off x="8783280" y="141552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 rot="1751400">
                      <a:off x="8789040" y="141840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rot="1751400">
                      <a:off x="8794800" y="142164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rot="1751400">
                      <a:off x="8803800" y="142884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8829000" y="1377360"/>
                    <a:ext cx="118080" cy="120240"/>
                    <a:chOff x="8829000" y="1377360"/>
                    <a:chExt cx="118080" cy="12024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 rot="1751400">
                      <a:off x="8845200" y="139212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 rot="1751400">
                      <a:off x="8848800" y="139464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 rot="1751400">
                      <a:off x="8850960" y="139392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 rot="1751400">
                      <a:off x="8856720" y="139644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rot="1751400">
                      <a:off x="8862480" y="139968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rot="1751400">
                      <a:off x="8871840" y="140688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8786880" y="1353600"/>
                    <a:ext cx="117360" cy="119160"/>
                    <a:chOff x="8786880" y="1353600"/>
                    <a:chExt cx="117360" cy="11916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 rot="1751400">
                      <a:off x="8803080" y="136836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rot="1751400">
                      <a:off x="8806320" y="137016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 rot="1751400">
                      <a:off x="8808840" y="137052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 rot="1751400">
                      <a:off x="8814240" y="137268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rot="1751400">
                      <a:off x="8820360" y="137592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 rot="1751400">
                      <a:off x="8829720" y="138168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8803800" y="1422720"/>
                    <a:ext cx="117360" cy="119160"/>
                    <a:chOff x="8803800" y="1422720"/>
                    <a:chExt cx="117360" cy="11916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 rot="1751400">
                      <a:off x="8820000" y="143748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rot="1751400">
                      <a:off x="8823600" y="143928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 rot="1751400">
                      <a:off x="8825760" y="143964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rot="1751400">
                      <a:off x="8831520" y="144216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 rot="1751400">
                      <a:off x="8837280" y="144504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 rot="1751400">
                      <a:off x="8846640" y="145080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99" name=""/>
              <p:cNvGrpSpPr/>
              <p:nvPr/>
            </p:nvGrpSpPr>
            <p:grpSpPr>
              <a:xfrm>
                <a:off x="7112520" y="1091160"/>
                <a:ext cx="1434600" cy="1443240"/>
                <a:chOff x="7112520" y="1091160"/>
                <a:chExt cx="1434600" cy="144324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7112520" y="1091160"/>
                  <a:ext cx="1434600" cy="1443240"/>
                  <a:chOff x="7112520" y="1091160"/>
                  <a:chExt cx="1434600" cy="144324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7138080" y="1292400"/>
                    <a:ext cx="149400" cy="152280"/>
                    <a:chOff x="7138080" y="1292400"/>
                    <a:chExt cx="149400" cy="15228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 rot="1751400">
                      <a:off x="7158960" y="1311120"/>
                      <a:ext cx="107280" cy="11448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rot="1751400">
                      <a:off x="7162920" y="1314000"/>
                      <a:ext cx="94680" cy="101160"/>
                    </a:xfrm>
                    <a:prstGeom prst="ellipse">
                      <a:avLst/>
                    </a:pr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 rot="1751400">
                      <a:off x="7166520" y="1313640"/>
                      <a:ext cx="83520" cy="9144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751400">
                      <a:off x="7173000" y="1317240"/>
                      <a:ext cx="69120" cy="7092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751400">
                      <a:off x="7180200" y="1320840"/>
                      <a:ext cx="48600" cy="52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rot="1751400">
                      <a:off x="7191720" y="1328760"/>
                      <a:ext cx="23760" cy="255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7793640" y="1091160"/>
                    <a:ext cx="130320" cy="132840"/>
                    <a:chOff x="7793640" y="1091160"/>
                    <a:chExt cx="130320" cy="132840"/>
                  </a:xfrm>
                </p:grpSpPr>
                <p:sp>
                  <p:nvSpPr>
                    <p:cNvPr id="109" name=""/>
                    <p:cNvSpPr/>
                    <p:nvPr/>
                  </p:nvSpPr>
                  <p:spPr>
                    <a:xfrm rot="1751400">
                      <a:off x="7811640" y="1107360"/>
                      <a:ext cx="93600" cy="9972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 rot="1751400">
                      <a:off x="7814880" y="1110240"/>
                      <a:ext cx="82800" cy="88200"/>
                    </a:xfrm>
                    <a:prstGeom prst="ellipse">
                      <a:avLst/>
                    </a:pr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rot="1751400">
                      <a:off x="7818120" y="1109880"/>
                      <a:ext cx="72720" cy="7956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 rot="1751400">
                      <a:off x="7823880" y="1112400"/>
                      <a:ext cx="60120" cy="6156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rot="1751400">
                      <a:off x="7830360" y="1116000"/>
                      <a:ext cx="42480" cy="46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rot="1751400">
                      <a:off x="7840440" y="1122840"/>
                      <a:ext cx="20520" cy="219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8329680" y="1929600"/>
                    <a:ext cx="217440" cy="221400"/>
                    <a:chOff x="8329680" y="1929600"/>
                    <a:chExt cx="217440" cy="22140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 rot="1751400">
                      <a:off x="8360280" y="1956960"/>
                      <a:ext cx="155880" cy="16668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rot="1751400">
                      <a:off x="8365680" y="1960560"/>
                      <a:ext cx="137520" cy="147240"/>
                    </a:xfrm>
                    <a:prstGeom prst="ellipse">
                      <a:avLst/>
                    </a:pr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rot="1751400">
                      <a:off x="8371080" y="1960200"/>
                      <a:ext cx="121320" cy="13284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 rot="1751400">
                      <a:off x="8380800" y="1965240"/>
                      <a:ext cx="100080" cy="10296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rot="1751400">
                      <a:off x="8391240" y="1970640"/>
                      <a:ext cx="70920" cy="77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751400">
                      <a:off x="8407440" y="1982160"/>
                      <a:ext cx="34560" cy="3708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7112520" y="1878120"/>
                    <a:ext cx="105840" cy="108000"/>
                    <a:chOff x="7112520" y="1878120"/>
                    <a:chExt cx="105840" cy="10800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 rot="1751400">
                      <a:off x="7127280" y="1891440"/>
                      <a:ext cx="75960" cy="8136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 rot="1751400">
                      <a:off x="7129800" y="1893240"/>
                      <a:ext cx="67320" cy="72000"/>
                    </a:xfrm>
                    <a:prstGeom prst="ellipse">
                      <a:avLst/>
                    </a:pr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 rot="1751400">
                      <a:off x="7132680" y="1892880"/>
                      <a:ext cx="59040" cy="6480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rot="1751400">
                      <a:off x="7137360" y="1895400"/>
                      <a:ext cx="48960" cy="5040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rot="1751400">
                      <a:off x="7142400" y="1898280"/>
                      <a:ext cx="34560" cy="37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rot="1751400">
                      <a:off x="7150320" y="1904040"/>
                      <a:ext cx="16920" cy="180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7465320" y="1970640"/>
                    <a:ext cx="77400" cy="79200"/>
                    <a:chOff x="7465320" y="1970640"/>
                    <a:chExt cx="77400" cy="792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 rot="1751400">
                      <a:off x="7475760" y="1980360"/>
                      <a:ext cx="55800" cy="594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 rot="1751400">
                      <a:off x="7477560" y="1981800"/>
                      <a:ext cx="49320" cy="52560"/>
                    </a:xfrm>
                    <a:prstGeom prst="ellipse">
                      <a:avLst/>
                    </a:pr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rot="1751400">
                      <a:off x="7479720" y="1981440"/>
                      <a:ext cx="43560" cy="4752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rot="1751400">
                      <a:off x="7482960" y="1983240"/>
                      <a:ext cx="36000" cy="3672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 rot="1751400">
                      <a:off x="7486920" y="1985040"/>
                      <a:ext cx="25200" cy="27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rot="1751400">
                      <a:off x="7492320" y="1989000"/>
                      <a:ext cx="12240" cy="1332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8164440" y="1864800"/>
                    <a:ext cx="86760" cy="88560"/>
                    <a:chOff x="8164440" y="1864800"/>
                    <a:chExt cx="86760" cy="8856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rot="1751400">
                      <a:off x="8176320" y="1875600"/>
                      <a:ext cx="62280" cy="666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rot="1751400">
                      <a:off x="8178480" y="1876680"/>
                      <a:ext cx="55080" cy="59040"/>
                    </a:xfrm>
                    <a:prstGeom prst="ellipse">
                      <a:avLst/>
                    </a:pr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rot="1751400">
                      <a:off x="8180640" y="1876680"/>
                      <a:ext cx="48600" cy="5328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rot="1751400">
                      <a:off x="8184600" y="1878480"/>
                      <a:ext cx="39960" cy="4140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rot="1751400">
                      <a:off x="8188920" y="1881000"/>
                      <a:ext cx="28440" cy="306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rot="1751400">
                      <a:off x="8195400" y="1885680"/>
                      <a:ext cx="13680" cy="147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7350840" y="2382120"/>
                    <a:ext cx="149400" cy="152280"/>
                    <a:chOff x="7350840" y="2382120"/>
                    <a:chExt cx="149400" cy="15228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 rot="1751400">
                      <a:off x="7371720" y="2400840"/>
                      <a:ext cx="107280" cy="11448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 rot="1751400">
                      <a:off x="7375680" y="2403360"/>
                      <a:ext cx="94680" cy="101160"/>
                    </a:xfrm>
                    <a:prstGeom prst="ellipse">
                      <a:avLst/>
                    </a:pr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751400">
                      <a:off x="7379280" y="2403360"/>
                      <a:ext cx="83520" cy="9144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rot="1751400">
                      <a:off x="7385760" y="2406960"/>
                      <a:ext cx="69120" cy="7092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 rot="1751400">
                      <a:off x="7392960" y="2410200"/>
                      <a:ext cx="48600" cy="52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1751400">
                      <a:off x="7404480" y="2418480"/>
                      <a:ext cx="23760" cy="255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558560" y="1724400"/>
                  <a:ext cx="312120" cy="348480"/>
                  <a:chOff x="7558560" y="1724400"/>
                  <a:chExt cx="312120" cy="34848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644960" y="1742040"/>
                    <a:ext cx="118440" cy="120240"/>
                    <a:chOff x="7644960" y="1742040"/>
                    <a:chExt cx="118440" cy="1202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rot="1751400">
                      <a:off x="7661160" y="1756800"/>
                      <a:ext cx="85320" cy="9000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rot="1751400">
                      <a:off x="7664760" y="1758960"/>
                      <a:ext cx="74520" cy="7956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rot="1751400">
                      <a:off x="7667280" y="1758600"/>
                      <a:ext cx="66960" cy="7092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751400">
                      <a:off x="7673400" y="1761480"/>
                      <a:ext cx="54000" cy="5580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 rot="1751400">
                      <a:off x="7678440" y="1764720"/>
                      <a:ext cx="38880" cy="4068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rot="1751400">
                      <a:off x="7687440" y="1771200"/>
                      <a:ext cx="1836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7705440" y="1788480"/>
                    <a:ext cx="118080" cy="119880"/>
                    <a:chOff x="7705440" y="1788480"/>
                    <a:chExt cx="118080" cy="11988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 rot="1751400">
                      <a:off x="7721640" y="1803240"/>
                      <a:ext cx="85320" cy="8964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rot="1751400">
                      <a:off x="7726320" y="180612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1751400">
                      <a:off x="7728840" y="1805040"/>
                      <a:ext cx="6588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rot="1751400">
                      <a:off x="7733520" y="1807920"/>
                      <a:ext cx="54000" cy="5580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rot="1751400">
                      <a:off x="7740000" y="1810800"/>
                      <a:ext cx="3780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1751400">
                      <a:off x="7748280" y="1818000"/>
                      <a:ext cx="1836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733880" y="1845000"/>
                    <a:ext cx="117720" cy="119520"/>
                    <a:chOff x="7733880" y="1845000"/>
                    <a:chExt cx="117720" cy="11952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1751400">
                      <a:off x="7750080" y="1859760"/>
                      <a:ext cx="84960" cy="8928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1751400">
                      <a:off x="7753680" y="1861560"/>
                      <a:ext cx="74160" cy="7956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rot="1751400">
                      <a:off x="7756920" y="1860480"/>
                      <a:ext cx="65880" cy="7164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rot="1751400">
                      <a:off x="7761600" y="1863720"/>
                      <a:ext cx="54000" cy="5580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rot="1751400">
                      <a:off x="7767720" y="1866960"/>
                      <a:ext cx="38160" cy="4104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rot="1751400">
                      <a:off x="7777080" y="1873080"/>
                      <a:ext cx="1800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7558560" y="1847160"/>
                    <a:ext cx="118080" cy="119520"/>
                    <a:chOff x="7558560" y="1847160"/>
                    <a:chExt cx="118080" cy="11952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 rot="1751400">
                      <a:off x="7574400" y="1862280"/>
                      <a:ext cx="85680" cy="8892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rot="1751400">
                      <a:off x="7578000" y="1863360"/>
                      <a:ext cx="74160" cy="7992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rot="1751400">
                      <a:off x="7580520" y="1863720"/>
                      <a:ext cx="67320" cy="7056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rot="1751400">
                      <a:off x="7586280" y="1866960"/>
                      <a:ext cx="53640" cy="5472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rot="1751400">
                      <a:off x="7591320" y="1868760"/>
                      <a:ext cx="38880" cy="4176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 rot="1751400">
                      <a:off x="7600680" y="1875600"/>
                      <a:ext cx="18360" cy="1944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7609680" y="1852560"/>
                    <a:ext cx="117720" cy="119520"/>
                    <a:chOff x="7609680" y="1852560"/>
                    <a:chExt cx="117720" cy="1195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 rot="1751400">
                      <a:off x="7625880" y="1867320"/>
                      <a:ext cx="84960" cy="8964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 rot="1751400">
                      <a:off x="7629480" y="1869480"/>
                      <a:ext cx="74160" cy="7920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rot="1751400">
                      <a:off x="7631640" y="1869120"/>
                      <a:ext cx="66960" cy="7056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rot="1751400">
                      <a:off x="7637760" y="1872000"/>
                      <a:ext cx="53640" cy="5616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rot="1751400">
                      <a:off x="7642800" y="1875240"/>
                      <a:ext cx="38880" cy="4032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rot="1751400">
                      <a:off x="7652520" y="1881360"/>
                      <a:ext cx="17640" cy="1872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7639560" y="1797480"/>
                    <a:ext cx="117360" cy="119160"/>
                    <a:chOff x="7639560" y="1797480"/>
                    <a:chExt cx="117360" cy="11916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1751400">
                      <a:off x="7655760" y="181224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1751400">
                      <a:off x="7659000" y="181404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rot="1751400">
                      <a:off x="7661520" y="181440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751400">
                      <a:off x="7666920" y="181692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1751400">
                      <a:off x="7672680" y="181980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1751400">
                      <a:off x="7682400" y="182556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7686000" y="1859040"/>
                    <a:ext cx="117720" cy="119160"/>
                    <a:chOff x="7686000" y="1859040"/>
                    <a:chExt cx="117720" cy="1191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1751400">
                      <a:off x="7701840" y="1874160"/>
                      <a:ext cx="85320" cy="8892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1751400">
                      <a:off x="7705800" y="1875960"/>
                      <a:ext cx="74160" cy="7920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rot="1751400">
                      <a:off x="7708680" y="1874880"/>
                      <a:ext cx="66240" cy="7128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751400">
                      <a:off x="7713360" y="1878480"/>
                      <a:ext cx="5472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751400">
                      <a:off x="7719480" y="1881360"/>
                      <a:ext cx="37800" cy="4104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rot="1751400">
                      <a:off x="7728480" y="1887840"/>
                      <a:ext cx="18360" cy="1908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7579080" y="1786680"/>
                    <a:ext cx="118080" cy="120240"/>
                    <a:chOff x="7579080" y="1786680"/>
                    <a:chExt cx="118080" cy="12024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rot="1751400">
                      <a:off x="7595280" y="180144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rot="1751400">
                      <a:off x="7598880" y="180432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1751400">
                      <a:off x="7601400" y="180324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1751400">
                      <a:off x="7607160" y="180576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 rot="1751400">
                      <a:off x="7612920" y="180900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1751400">
                      <a:off x="7621920" y="181620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668720" y="1919160"/>
                    <a:ext cx="117720" cy="119160"/>
                    <a:chOff x="7668720" y="1919160"/>
                    <a:chExt cx="117720" cy="11916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751400">
                      <a:off x="7684560" y="1934280"/>
                      <a:ext cx="85320" cy="8892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751400">
                      <a:off x="7688880" y="1935720"/>
                      <a:ext cx="7380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rot="1751400">
                      <a:off x="7691760" y="1935720"/>
                      <a:ext cx="65880" cy="7056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 rot="1751400">
                      <a:off x="7696440" y="1938600"/>
                      <a:ext cx="54000" cy="5544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rot="1751400">
                      <a:off x="7702560" y="1941120"/>
                      <a:ext cx="38160" cy="4104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rot="1751400">
                      <a:off x="7711920" y="1947960"/>
                      <a:ext cx="18360" cy="1872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7607520" y="1889640"/>
                    <a:ext cx="117720" cy="119520"/>
                    <a:chOff x="7607520" y="1889640"/>
                    <a:chExt cx="117720" cy="11952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rot="1751400">
                      <a:off x="7623720" y="1904400"/>
                      <a:ext cx="84960" cy="8928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751400">
                      <a:off x="7626960" y="1906200"/>
                      <a:ext cx="74160" cy="7992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751400">
                      <a:off x="7629120" y="1906200"/>
                      <a:ext cx="6732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1751400">
                      <a:off x="7635960" y="1909080"/>
                      <a:ext cx="53640" cy="5508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rot="1751400">
                      <a:off x="7641000" y="1911960"/>
                      <a:ext cx="38520" cy="4068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751400">
                      <a:off x="7650360" y="1918080"/>
                      <a:ext cx="17640" cy="1944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7668000" y="1912680"/>
                    <a:ext cx="117360" cy="119160"/>
                    <a:chOff x="7668000" y="1912680"/>
                    <a:chExt cx="117360" cy="1191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rot="1751400">
                      <a:off x="7684200" y="192744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rot="1751400">
                      <a:off x="7687440" y="192924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rot="1751400">
                      <a:off x="7689960" y="192960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rot="1751400">
                      <a:off x="7695360" y="193212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rot="1751400">
                      <a:off x="7701120" y="193500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rot="1751400">
                      <a:off x="7710840" y="194076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7684560" y="1931760"/>
                    <a:ext cx="117360" cy="119160"/>
                    <a:chOff x="7684560" y="1931760"/>
                    <a:chExt cx="117360" cy="1191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rot="1751400">
                      <a:off x="7700760" y="194652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rot="1751400">
                      <a:off x="7704000" y="194832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rot="1751400">
                      <a:off x="7706160" y="194868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1751400">
                      <a:off x="7711920" y="195120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rot="1751400">
                      <a:off x="7717680" y="195408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rot="1751400">
                      <a:off x="7727040" y="195984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7616520" y="1953720"/>
                    <a:ext cx="117360" cy="119160"/>
                    <a:chOff x="7616520" y="1953720"/>
                    <a:chExt cx="117360" cy="11916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 rot="1751400">
                      <a:off x="7632720" y="196848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rot="1751400">
                      <a:off x="7635960" y="197028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751400">
                      <a:off x="7638480" y="197064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rot="1751400">
                      <a:off x="7644240" y="197316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rot="1751400">
                      <a:off x="7650000" y="197604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1751400">
                      <a:off x="7659360" y="198180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607520" y="1901880"/>
                    <a:ext cx="118080" cy="120240"/>
                    <a:chOff x="7607520" y="1901880"/>
                    <a:chExt cx="118080" cy="1202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1751400">
                      <a:off x="7623720" y="191664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1751400">
                      <a:off x="7627320" y="191952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1751400">
                      <a:off x="7629840" y="191844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rot="1751400">
                      <a:off x="7635600" y="192096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1751400">
                      <a:off x="7641360" y="192420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751400">
                      <a:off x="7650360" y="193140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7573680" y="1929960"/>
                    <a:ext cx="118080" cy="120240"/>
                    <a:chOff x="7573680" y="1929960"/>
                    <a:chExt cx="118080" cy="12024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 rot="1751400">
                      <a:off x="7589880" y="194472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rot="1751400">
                      <a:off x="7593480" y="194760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rot="1751400">
                      <a:off x="7596000" y="194652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51400">
                      <a:off x="7601760" y="194904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rot="1751400">
                      <a:off x="7607520" y="195264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rot="1751400">
                      <a:off x="7616520" y="195948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7709400" y="1886400"/>
                    <a:ext cx="118080" cy="120240"/>
                    <a:chOff x="7709400" y="1886400"/>
                    <a:chExt cx="118080" cy="12024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 rot="1751400">
                      <a:off x="7725600" y="190116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rot="1751400">
                      <a:off x="7729200" y="190368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751400">
                      <a:off x="7731720" y="190296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751400">
                      <a:off x="7737480" y="190548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rot="1751400">
                      <a:off x="7743240" y="190872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rot="1751400">
                      <a:off x="7752240" y="191592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7650000" y="1793520"/>
                    <a:ext cx="118080" cy="120240"/>
                    <a:chOff x="7650000" y="1793520"/>
                    <a:chExt cx="118080" cy="12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rot="1751400">
                      <a:off x="7666200" y="180828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rot="1751400">
                      <a:off x="7669800" y="181080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rot="1751400">
                      <a:off x="7672320" y="180972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rot="1751400">
                      <a:off x="7678080" y="181260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rot="1751400">
                      <a:off x="7683840" y="181584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rot="1751400">
                      <a:off x="7692840" y="182304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7751880" y="1910160"/>
                    <a:ext cx="118080" cy="120240"/>
                    <a:chOff x="7751880" y="1910160"/>
                    <a:chExt cx="118080" cy="1202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rot="1751400">
                      <a:off x="7768080" y="192492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rot="1751400">
                      <a:off x="7771680" y="192744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1751400">
                      <a:off x="7774200" y="192672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1751400">
                      <a:off x="7779960" y="192924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1751400">
                      <a:off x="7785720" y="193248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751400">
                      <a:off x="7794720" y="193968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7692840" y="1816920"/>
                    <a:ext cx="117360" cy="119160"/>
                    <a:chOff x="7692840" y="1816920"/>
                    <a:chExt cx="117360" cy="11916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751400">
                      <a:off x="7709040" y="183168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751400">
                      <a:off x="7712640" y="183348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1751400">
                      <a:off x="7714800" y="183384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1751400">
                      <a:off x="7720560" y="183636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1751400">
                      <a:off x="7726320" y="183924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1751400">
                      <a:off x="7735680" y="184500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7721280" y="1932480"/>
                    <a:ext cx="117360" cy="119160"/>
                    <a:chOff x="7721280" y="1932480"/>
                    <a:chExt cx="117360" cy="11916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1751400">
                      <a:off x="7737480" y="194724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1751400">
                      <a:off x="7740720" y="194904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rot="1751400">
                      <a:off x="7742880" y="194940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1751400">
                      <a:off x="7748640" y="195192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751400">
                      <a:off x="7754400" y="195480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751400">
                      <a:off x="7763760" y="196056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7633080" y="1724400"/>
                    <a:ext cx="117360" cy="119160"/>
                    <a:chOff x="7633080" y="1724400"/>
                    <a:chExt cx="117360" cy="11916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1751400">
                      <a:off x="7649280" y="173916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1751400">
                      <a:off x="7652520" y="174060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51400">
                      <a:off x="7655040" y="174096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rot="1751400">
                      <a:off x="7660440" y="174348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1751400">
                      <a:off x="7666200" y="174636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751400">
                      <a:off x="7675920" y="175248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7753320" y="1808280"/>
                    <a:ext cx="117360" cy="119160"/>
                    <a:chOff x="7753320" y="1808280"/>
                    <a:chExt cx="117360" cy="1191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751400">
                      <a:off x="7769520" y="1823040"/>
                      <a:ext cx="84600" cy="89280"/>
                    </a:xfrm>
                    <a:prstGeom prst="ellipse">
                      <a:avLst/>
                    </a:pr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751400">
                      <a:off x="7773120" y="1824840"/>
                      <a:ext cx="74520" cy="8064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rot="1751400">
                      <a:off x="7775280" y="1825200"/>
                      <a:ext cx="66600" cy="70920"/>
                    </a:xfrm>
                    <a:prstGeom prst="ellipse">
                      <a:avLst/>
                    </a:prstGeom>
                    <a:solidFill>
                      <a:srgbClr val="0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rot="1751400">
                      <a:off x="7781040" y="1827720"/>
                      <a:ext cx="54360" cy="55080"/>
                    </a:xfrm>
                    <a:prstGeom prst="ellipse">
                      <a:avLst/>
                    </a:prstGeom>
                    <a:solidFill>
                      <a:srgbClr val="0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1751400">
                      <a:off x="7786800" y="1830600"/>
                      <a:ext cx="38520" cy="40680"/>
                    </a:xfrm>
                    <a:prstGeom prst="ellipse">
                      <a:avLst/>
                    </a:prstGeom>
                    <a:solidFill>
                      <a:srgbClr val="0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 rot="1751400">
                      <a:off x="7796160" y="1836360"/>
                      <a:ext cx="17640" cy="20160"/>
                    </a:xfrm>
                    <a:prstGeom prst="ellipse">
                      <a:avLst/>
                    </a:pr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7728480" y="1777680"/>
                    <a:ext cx="118080" cy="120240"/>
                    <a:chOff x="7728480" y="1777680"/>
                    <a:chExt cx="118080" cy="12024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 rot="1751400">
                      <a:off x="7744680" y="179244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rot="1751400">
                      <a:off x="7748280" y="179532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1751400">
                      <a:off x="7750440" y="179424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1751400">
                      <a:off x="7756200" y="179676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rot="1751400">
                      <a:off x="7762320" y="180000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1751400">
                      <a:off x="7771320" y="180720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686360" y="1853640"/>
                    <a:ext cx="118080" cy="120240"/>
                    <a:chOff x="7686360" y="1853640"/>
                    <a:chExt cx="118080" cy="1202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1751400">
                      <a:off x="7702560" y="186840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1751400">
                      <a:off x="7706160" y="187092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1751400">
                      <a:off x="7708320" y="187020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1751400">
                      <a:off x="7714080" y="187272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1751400">
                      <a:off x="7719840" y="187596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751400">
                      <a:off x="7728840" y="188316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7635240" y="1844640"/>
                    <a:ext cx="118080" cy="120240"/>
                    <a:chOff x="7635240" y="1844640"/>
                    <a:chExt cx="118080" cy="1202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1751400">
                      <a:off x="7651440" y="1859400"/>
                      <a:ext cx="84960" cy="9036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1751400">
                      <a:off x="7654680" y="1862280"/>
                      <a:ext cx="74160" cy="79200"/>
                    </a:xfrm>
                    <a:prstGeom prst="ellipse">
                      <a:avLst/>
                    </a:pr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1751400">
                      <a:off x="7657200" y="1861200"/>
                      <a:ext cx="66960" cy="71280"/>
                    </a:xfrm>
                    <a:prstGeom prst="ellipse">
                      <a:avLst/>
                    </a:pr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1751400">
                      <a:off x="7662960" y="1863720"/>
                      <a:ext cx="54360" cy="56160"/>
                    </a:xfrm>
                    <a:prstGeom prst="ellips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1751400">
                      <a:off x="7668720" y="1866960"/>
                      <a:ext cx="38520" cy="41760"/>
                    </a:xfrm>
                    <a:prstGeom prst="ellipse">
                      <a:avLst/>
                    </a:pr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1751400">
                      <a:off x="7677720" y="1874160"/>
                      <a:ext cx="17640" cy="19080"/>
                    </a:xfrm>
                    <a:prstGeom prst="ellips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26" name=""/>
          <p:cNvSpPr/>
          <p:nvPr/>
        </p:nvSpPr>
        <p:spPr>
          <a:xfrm>
            <a:off x="8610480" y="91440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086600" y="2590920"/>
            <a:ext cx="1599840" cy="1751760"/>
            <a:chOff x="7086600" y="2590920"/>
            <a:chExt cx="1599840" cy="1751760"/>
          </a:xfrm>
        </p:grpSpPr>
        <p:grpSp>
          <p:nvGrpSpPr>
            <p:cNvPr id="328" name=""/>
            <p:cNvGrpSpPr/>
            <p:nvPr/>
          </p:nvGrpSpPr>
          <p:grpSpPr>
            <a:xfrm>
              <a:off x="7086600" y="2795760"/>
              <a:ext cx="1361520" cy="1546920"/>
              <a:chOff x="7086600" y="2795760"/>
              <a:chExt cx="1361520" cy="15469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7118640" y="3006000"/>
                <a:ext cx="1274760" cy="1336680"/>
                <a:chOff x="7118640" y="3006000"/>
                <a:chExt cx="1274760" cy="1336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420680" y="3279240"/>
                  <a:ext cx="777240" cy="765720"/>
                </a:xfrm>
                <a:custGeom>
                  <a:avLst/>
                  <a:gdLst/>
                  <a:ahLst/>
                  <a:rect l="l" t="t" r="r" b="b"/>
                  <a:pathLst>
                    <a:path w="4028" h="3782">
                      <a:moveTo>
                        <a:pt x="243" y="130"/>
                      </a:moveTo>
                      <a:lnTo>
                        <a:pt x="353" y="65"/>
                      </a:lnTo>
                      <a:lnTo>
                        <a:pt x="493" y="23"/>
                      </a:lnTo>
                      <a:lnTo>
                        <a:pt x="645" y="0"/>
                      </a:lnTo>
                      <a:lnTo>
                        <a:pt x="828" y="3"/>
                      </a:lnTo>
                      <a:lnTo>
                        <a:pt x="990" y="23"/>
                      </a:lnTo>
                      <a:lnTo>
                        <a:pt x="1173" y="65"/>
                      </a:lnTo>
                      <a:lnTo>
                        <a:pt x="1370" y="120"/>
                      </a:lnTo>
                      <a:lnTo>
                        <a:pt x="1608" y="215"/>
                      </a:lnTo>
                      <a:lnTo>
                        <a:pt x="1910" y="378"/>
                      </a:lnTo>
                      <a:lnTo>
                        <a:pt x="2173" y="543"/>
                      </a:lnTo>
                      <a:lnTo>
                        <a:pt x="2478" y="755"/>
                      </a:lnTo>
                      <a:lnTo>
                        <a:pt x="2728" y="963"/>
                      </a:lnTo>
                      <a:lnTo>
                        <a:pt x="3055" y="1265"/>
                      </a:lnTo>
                      <a:lnTo>
                        <a:pt x="3268" y="1505"/>
                      </a:lnTo>
                      <a:lnTo>
                        <a:pt x="3475" y="1785"/>
                      </a:lnTo>
                      <a:lnTo>
                        <a:pt x="3703" y="2127"/>
                      </a:lnTo>
                      <a:lnTo>
                        <a:pt x="3875" y="2462"/>
                      </a:lnTo>
                      <a:lnTo>
                        <a:pt x="3953" y="2667"/>
                      </a:lnTo>
                      <a:lnTo>
                        <a:pt x="4005" y="2897"/>
                      </a:lnTo>
                      <a:lnTo>
                        <a:pt x="4028" y="3055"/>
                      </a:lnTo>
                      <a:lnTo>
                        <a:pt x="4020" y="3187"/>
                      </a:lnTo>
                      <a:lnTo>
                        <a:pt x="3988" y="3335"/>
                      </a:lnTo>
                      <a:lnTo>
                        <a:pt x="3938" y="3462"/>
                      </a:lnTo>
                      <a:lnTo>
                        <a:pt x="3863" y="3562"/>
                      </a:lnTo>
                      <a:lnTo>
                        <a:pt x="3770" y="3647"/>
                      </a:lnTo>
                      <a:lnTo>
                        <a:pt x="3650" y="3722"/>
                      </a:lnTo>
                      <a:lnTo>
                        <a:pt x="3518" y="3760"/>
                      </a:lnTo>
                      <a:lnTo>
                        <a:pt x="3370" y="3782"/>
                      </a:lnTo>
                      <a:lnTo>
                        <a:pt x="3193" y="3782"/>
                      </a:lnTo>
                      <a:lnTo>
                        <a:pt x="3013" y="3755"/>
                      </a:lnTo>
                      <a:lnTo>
                        <a:pt x="2815" y="3705"/>
                      </a:lnTo>
                      <a:lnTo>
                        <a:pt x="2630" y="3647"/>
                      </a:lnTo>
                      <a:lnTo>
                        <a:pt x="2403" y="3555"/>
                      </a:lnTo>
                      <a:lnTo>
                        <a:pt x="2128" y="3412"/>
                      </a:lnTo>
                      <a:lnTo>
                        <a:pt x="1855" y="3235"/>
                      </a:lnTo>
                      <a:lnTo>
                        <a:pt x="1500" y="2990"/>
                      </a:lnTo>
                      <a:lnTo>
                        <a:pt x="1235" y="2762"/>
                      </a:lnTo>
                      <a:lnTo>
                        <a:pt x="953" y="2502"/>
                      </a:lnTo>
                      <a:lnTo>
                        <a:pt x="703" y="2205"/>
                      </a:lnTo>
                      <a:lnTo>
                        <a:pt x="488" y="1920"/>
                      </a:lnTo>
                      <a:lnTo>
                        <a:pt x="310" y="1650"/>
                      </a:lnTo>
                      <a:lnTo>
                        <a:pt x="213" y="1455"/>
                      </a:lnTo>
                      <a:lnTo>
                        <a:pt x="125" y="1283"/>
                      </a:lnTo>
                      <a:lnTo>
                        <a:pt x="63" y="1085"/>
                      </a:lnTo>
                      <a:lnTo>
                        <a:pt x="23" y="940"/>
                      </a:lnTo>
                      <a:lnTo>
                        <a:pt x="0" y="788"/>
                      </a:lnTo>
                      <a:lnTo>
                        <a:pt x="0" y="663"/>
                      </a:lnTo>
                      <a:lnTo>
                        <a:pt x="8" y="535"/>
                      </a:lnTo>
                      <a:lnTo>
                        <a:pt x="33" y="400"/>
                      </a:lnTo>
                      <a:lnTo>
                        <a:pt x="83" y="305"/>
                      </a:lnTo>
                      <a:lnTo>
                        <a:pt x="158" y="210"/>
                      </a:lnTo>
                      <a:lnTo>
                        <a:pt x="243" y="130"/>
                      </a:lnTo>
                    </a:path>
                  </a:pathLst>
                </a:custGeom>
                <a:noFill/>
                <a:ln w="12600">
                  <a:solidFill>
                    <a:srgbClr val="404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118640" y="3239280"/>
                  <a:ext cx="1266480" cy="813600"/>
                </a:xfrm>
                <a:custGeom>
                  <a:avLst/>
                  <a:gdLst/>
                  <a:ahLst/>
                  <a:rect l="l" t="t" r="r" b="b"/>
                  <a:pathLst>
                    <a:path w="6563" h="4019">
                      <a:moveTo>
                        <a:pt x="0" y="3207"/>
                      </a:moveTo>
                      <a:lnTo>
                        <a:pt x="0" y="3097"/>
                      </a:lnTo>
                      <a:lnTo>
                        <a:pt x="13" y="2962"/>
                      </a:lnTo>
                      <a:lnTo>
                        <a:pt x="38" y="2844"/>
                      </a:lnTo>
                      <a:lnTo>
                        <a:pt x="80" y="2722"/>
                      </a:lnTo>
                      <a:lnTo>
                        <a:pt x="145" y="2582"/>
                      </a:lnTo>
                      <a:lnTo>
                        <a:pt x="283" y="2337"/>
                      </a:lnTo>
                      <a:lnTo>
                        <a:pt x="480" y="2082"/>
                      </a:lnTo>
                      <a:lnTo>
                        <a:pt x="730" y="1827"/>
                      </a:lnTo>
                      <a:lnTo>
                        <a:pt x="978" y="1607"/>
                      </a:lnTo>
                      <a:lnTo>
                        <a:pt x="1298" y="1357"/>
                      </a:lnTo>
                      <a:lnTo>
                        <a:pt x="1578" y="1162"/>
                      </a:lnTo>
                      <a:lnTo>
                        <a:pt x="2065" y="875"/>
                      </a:lnTo>
                      <a:lnTo>
                        <a:pt x="2508" y="647"/>
                      </a:lnTo>
                      <a:lnTo>
                        <a:pt x="3028" y="427"/>
                      </a:lnTo>
                      <a:lnTo>
                        <a:pt x="3403" y="297"/>
                      </a:lnTo>
                      <a:lnTo>
                        <a:pt x="3920" y="147"/>
                      </a:lnTo>
                      <a:lnTo>
                        <a:pt x="4558" y="27"/>
                      </a:lnTo>
                      <a:lnTo>
                        <a:pt x="4825" y="5"/>
                      </a:lnTo>
                      <a:lnTo>
                        <a:pt x="5100" y="0"/>
                      </a:lnTo>
                      <a:lnTo>
                        <a:pt x="5343" y="2"/>
                      </a:lnTo>
                      <a:lnTo>
                        <a:pt x="5565" y="27"/>
                      </a:lnTo>
                      <a:lnTo>
                        <a:pt x="5780" y="72"/>
                      </a:lnTo>
                      <a:lnTo>
                        <a:pt x="6000" y="142"/>
                      </a:lnTo>
                      <a:lnTo>
                        <a:pt x="6208" y="255"/>
                      </a:lnTo>
                      <a:lnTo>
                        <a:pt x="6370" y="385"/>
                      </a:lnTo>
                      <a:lnTo>
                        <a:pt x="6450" y="480"/>
                      </a:lnTo>
                      <a:lnTo>
                        <a:pt x="6503" y="582"/>
                      </a:lnTo>
                      <a:lnTo>
                        <a:pt x="6535" y="687"/>
                      </a:lnTo>
                      <a:lnTo>
                        <a:pt x="6558" y="807"/>
                      </a:lnTo>
                      <a:lnTo>
                        <a:pt x="6563" y="902"/>
                      </a:lnTo>
                      <a:lnTo>
                        <a:pt x="6563" y="1002"/>
                      </a:lnTo>
                      <a:lnTo>
                        <a:pt x="6533" y="1162"/>
                      </a:lnTo>
                      <a:lnTo>
                        <a:pt x="6470" y="1337"/>
                      </a:lnTo>
                      <a:lnTo>
                        <a:pt x="6388" y="1510"/>
                      </a:lnTo>
                      <a:lnTo>
                        <a:pt x="6285" y="1677"/>
                      </a:lnTo>
                      <a:lnTo>
                        <a:pt x="6178" y="1815"/>
                      </a:lnTo>
                      <a:lnTo>
                        <a:pt x="6060" y="1962"/>
                      </a:lnTo>
                      <a:lnTo>
                        <a:pt x="5898" y="2147"/>
                      </a:lnTo>
                      <a:lnTo>
                        <a:pt x="5615" y="2397"/>
                      </a:lnTo>
                      <a:lnTo>
                        <a:pt x="5345" y="2609"/>
                      </a:lnTo>
                      <a:lnTo>
                        <a:pt x="5085" y="2794"/>
                      </a:lnTo>
                      <a:lnTo>
                        <a:pt x="4735" y="3012"/>
                      </a:lnTo>
                      <a:lnTo>
                        <a:pt x="4398" y="3199"/>
                      </a:lnTo>
                      <a:lnTo>
                        <a:pt x="4043" y="3369"/>
                      </a:lnTo>
                      <a:lnTo>
                        <a:pt x="3688" y="3524"/>
                      </a:lnTo>
                      <a:lnTo>
                        <a:pt x="3353" y="3649"/>
                      </a:lnTo>
                      <a:lnTo>
                        <a:pt x="2878" y="3802"/>
                      </a:lnTo>
                      <a:lnTo>
                        <a:pt x="2453" y="3902"/>
                      </a:lnTo>
                      <a:lnTo>
                        <a:pt x="2133" y="3962"/>
                      </a:lnTo>
                      <a:lnTo>
                        <a:pt x="1770" y="3999"/>
                      </a:lnTo>
                      <a:lnTo>
                        <a:pt x="1515" y="4019"/>
                      </a:lnTo>
                      <a:lnTo>
                        <a:pt x="1298" y="4019"/>
                      </a:lnTo>
                      <a:lnTo>
                        <a:pt x="1105" y="3994"/>
                      </a:lnTo>
                      <a:lnTo>
                        <a:pt x="940" y="3974"/>
                      </a:lnTo>
                      <a:lnTo>
                        <a:pt x="790" y="3942"/>
                      </a:lnTo>
                      <a:lnTo>
                        <a:pt x="618" y="3887"/>
                      </a:lnTo>
                      <a:lnTo>
                        <a:pt x="480" y="3834"/>
                      </a:lnTo>
                      <a:lnTo>
                        <a:pt x="358" y="3759"/>
                      </a:lnTo>
                      <a:lnTo>
                        <a:pt x="250" y="3672"/>
                      </a:lnTo>
                      <a:lnTo>
                        <a:pt x="155" y="3577"/>
                      </a:lnTo>
                      <a:lnTo>
                        <a:pt x="65" y="3447"/>
                      </a:lnTo>
                      <a:lnTo>
                        <a:pt x="28" y="3327"/>
                      </a:lnTo>
                      <a:lnTo>
                        <a:pt x="0" y="3207"/>
                      </a:lnTo>
                    </a:path>
                  </a:pathLst>
                </a:custGeom>
                <a:noFill/>
                <a:ln w="25560">
                  <a:solidFill>
                    <a:srgbClr val="404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422120" y="3006000"/>
                  <a:ext cx="691920" cy="1336680"/>
                </a:xfrm>
                <a:custGeom>
                  <a:avLst/>
                  <a:gdLst/>
                  <a:ahLst/>
                  <a:rect l="l" t="t" r="r" b="b"/>
                  <a:pathLst>
                    <a:path w="3585" h="6602">
                      <a:moveTo>
                        <a:pt x="475" y="23"/>
                      </a:moveTo>
                      <a:lnTo>
                        <a:pt x="617" y="0"/>
                      </a:lnTo>
                      <a:lnTo>
                        <a:pt x="767" y="13"/>
                      </a:lnTo>
                      <a:lnTo>
                        <a:pt x="907" y="53"/>
                      </a:lnTo>
                      <a:lnTo>
                        <a:pt x="1032" y="105"/>
                      </a:lnTo>
                      <a:lnTo>
                        <a:pt x="1190" y="205"/>
                      </a:lnTo>
                      <a:lnTo>
                        <a:pt x="1405" y="368"/>
                      </a:lnTo>
                      <a:lnTo>
                        <a:pt x="1590" y="543"/>
                      </a:lnTo>
                      <a:lnTo>
                        <a:pt x="1735" y="695"/>
                      </a:lnTo>
                      <a:lnTo>
                        <a:pt x="1880" y="863"/>
                      </a:lnTo>
                      <a:lnTo>
                        <a:pt x="2047" y="1073"/>
                      </a:lnTo>
                      <a:lnTo>
                        <a:pt x="2212" y="1325"/>
                      </a:lnTo>
                      <a:lnTo>
                        <a:pt x="2362" y="1563"/>
                      </a:lnTo>
                      <a:lnTo>
                        <a:pt x="2520" y="1833"/>
                      </a:lnTo>
                      <a:lnTo>
                        <a:pt x="2702" y="2178"/>
                      </a:lnTo>
                      <a:lnTo>
                        <a:pt x="2830" y="2470"/>
                      </a:lnTo>
                      <a:lnTo>
                        <a:pt x="2947" y="2740"/>
                      </a:lnTo>
                      <a:lnTo>
                        <a:pt x="3027" y="2928"/>
                      </a:lnTo>
                      <a:lnTo>
                        <a:pt x="3110" y="3145"/>
                      </a:lnTo>
                      <a:lnTo>
                        <a:pt x="3207" y="3415"/>
                      </a:lnTo>
                      <a:lnTo>
                        <a:pt x="3282" y="3657"/>
                      </a:lnTo>
                      <a:lnTo>
                        <a:pt x="3367" y="3957"/>
                      </a:lnTo>
                      <a:lnTo>
                        <a:pt x="3447" y="4277"/>
                      </a:lnTo>
                      <a:lnTo>
                        <a:pt x="3502" y="4540"/>
                      </a:lnTo>
                      <a:lnTo>
                        <a:pt x="3552" y="4815"/>
                      </a:lnTo>
                      <a:lnTo>
                        <a:pt x="3575" y="5070"/>
                      </a:lnTo>
                      <a:lnTo>
                        <a:pt x="3585" y="5362"/>
                      </a:lnTo>
                      <a:lnTo>
                        <a:pt x="3565" y="5695"/>
                      </a:lnTo>
                      <a:lnTo>
                        <a:pt x="3527" y="5935"/>
                      </a:lnTo>
                      <a:lnTo>
                        <a:pt x="3480" y="6115"/>
                      </a:lnTo>
                      <a:lnTo>
                        <a:pt x="3425" y="6270"/>
                      </a:lnTo>
                      <a:lnTo>
                        <a:pt x="3360" y="6387"/>
                      </a:lnTo>
                      <a:lnTo>
                        <a:pt x="3292" y="6465"/>
                      </a:lnTo>
                      <a:lnTo>
                        <a:pt x="3200" y="6537"/>
                      </a:lnTo>
                      <a:lnTo>
                        <a:pt x="3065" y="6580"/>
                      </a:lnTo>
                      <a:lnTo>
                        <a:pt x="2937" y="6602"/>
                      </a:lnTo>
                      <a:lnTo>
                        <a:pt x="2790" y="6580"/>
                      </a:lnTo>
                      <a:lnTo>
                        <a:pt x="2657" y="6540"/>
                      </a:lnTo>
                      <a:lnTo>
                        <a:pt x="2495" y="6470"/>
                      </a:lnTo>
                      <a:lnTo>
                        <a:pt x="2342" y="6375"/>
                      </a:lnTo>
                      <a:lnTo>
                        <a:pt x="2155" y="6227"/>
                      </a:lnTo>
                      <a:lnTo>
                        <a:pt x="2000" y="6082"/>
                      </a:lnTo>
                      <a:lnTo>
                        <a:pt x="1860" y="5935"/>
                      </a:lnTo>
                      <a:lnTo>
                        <a:pt x="1702" y="5745"/>
                      </a:lnTo>
                      <a:lnTo>
                        <a:pt x="1565" y="5570"/>
                      </a:lnTo>
                      <a:lnTo>
                        <a:pt x="1442" y="5395"/>
                      </a:lnTo>
                      <a:lnTo>
                        <a:pt x="1300" y="5185"/>
                      </a:lnTo>
                      <a:lnTo>
                        <a:pt x="1190" y="4997"/>
                      </a:lnTo>
                      <a:lnTo>
                        <a:pt x="1080" y="4802"/>
                      </a:lnTo>
                      <a:lnTo>
                        <a:pt x="942" y="4542"/>
                      </a:lnTo>
                      <a:lnTo>
                        <a:pt x="805" y="4282"/>
                      </a:lnTo>
                      <a:lnTo>
                        <a:pt x="692" y="4017"/>
                      </a:lnTo>
                      <a:lnTo>
                        <a:pt x="555" y="3700"/>
                      </a:lnTo>
                      <a:lnTo>
                        <a:pt x="442" y="3387"/>
                      </a:lnTo>
                      <a:lnTo>
                        <a:pt x="335" y="3073"/>
                      </a:lnTo>
                      <a:lnTo>
                        <a:pt x="190" y="2553"/>
                      </a:lnTo>
                      <a:lnTo>
                        <a:pt x="117" y="2248"/>
                      </a:lnTo>
                      <a:lnTo>
                        <a:pt x="67" y="1940"/>
                      </a:lnTo>
                      <a:lnTo>
                        <a:pt x="32" y="1648"/>
                      </a:lnTo>
                      <a:lnTo>
                        <a:pt x="2" y="1340"/>
                      </a:lnTo>
                      <a:lnTo>
                        <a:pt x="0" y="1118"/>
                      </a:lnTo>
                      <a:lnTo>
                        <a:pt x="20" y="888"/>
                      </a:lnTo>
                      <a:lnTo>
                        <a:pt x="42" y="690"/>
                      </a:lnTo>
                      <a:lnTo>
                        <a:pt x="77" y="543"/>
                      </a:lnTo>
                      <a:lnTo>
                        <a:pt x="130" y="408"/>
                      </a:lnTo>
                      <a:lnTo>
                        <a:pt x="192" y="290"/>
                      </a:lnTo>
                      <a:lnTo>
                        <a:pt x="262" y="195"/>
                      </a:lnTo>
                      <a:lnTo>
                        <a:pt x="360" y="95"/>
                      </a:lnTo>
                      <a:lnTo>
                        <a:pt x="475" y="23"/>
                      </a:lnTo>
                    </a:path>
                  </a:pathLst>
                </a:custGeom>
                <a:noFill/>
                <a:ln w="25560">
                  <a:solidFill>
                    <a:srgbClr val="404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120800" y="3351600"/>
                  <a:ext cx="1272600" cy="618120"/>
                </a:xfrm>
                <a:custGeom>
                  <a:avLst/>
                  <a:gdLst/>
                  <a:ahLst/>
                  <a:rect l="l" t="t" r="r" b="b"/>
                  <a:pathLst>
                    <a:path w="6595" h="3054">
                      <a:moveTo>
                        <a:pt x="2505" y="2559"/>
                      </a:moveTo>
                      <a:lnTo>
                        <a:pt x="2140" y="2417"/>
                      </a:lnTo>
                      <a:lnTo>
                        <a:pt x="1822" y="2277"/>
                      </a:lnTo>
                      <a:lnTo>
                        <a:pt x="1462" y="2104"/>
                      </a:lnTo>
                      <a:lnTo>
                        <a:pt x="1137" y="1919"/>
                      </a:lnTo>
                      <a:lnTo>
                        <a:pt x="855" y="1739"/>
                      </a:lnTo>
                      <a:lnTo>
                        <a:pt x="575" y="1527"/>
                      </a:lnTo>
                      <a:lnTo>
                        <a:pt x="392" y="1372"/>
                      </a:lnTo>
                      <a:lnTo>
                        <a:pt x="260" y="1222"/>
                      </a:lnTo>
                      <a:lnTo>
                        <a:pt x="145" y="1070"/>
                      </a:lnTo>
                      <a:lnTo>
                        <a:pt x="70" y="930"/>
                      </a:lnTo>
                      <a:lnTo>
                        <a:pt x="25" y="810"/>
                      </a:lnTo>
                      <a:lnTo>
                        <a:pt x="0" y="680"/>
                      </a:lnTo>
                      <a:lnTo>
                        <a:pt x="17" y="585"/>
                      </a:lnTo>
                      <a:lnTo>
                        <a:pt x="60" y="487"/>
                      </a:lnTo>
                      <a:lnTo>
                        <a:pt x="112" y="392"/>
                      </a:lnTo>
                      <a:lnTo>
                        <a:pt x="210" y="295"/>
                      </a:lnTo>
                      <a:lnTo>
                        <a:pt x="335" y="217"/>
                      </a:lnTo>
                      <a:lnTo>
                        <a:pt x="500" y="145"/>
                      </a:lnTo>
                      <a:lnTo>
                        <a:pt x="665" y="90"/>
                      </a:lnTo>
                      <a:lnTo>
                        <a:pt x="882" y="42"/>
                      </a:lnTo>
                      <a:lnTo>
                        <a:pt x="1095" y="12"/>
                      </a:lnTo>
                      <a:lnTo>
                        <a:pt x="1335" y="0"/>
                      </a:lnTo>
                      <a:lnTo>
                        <a:pt x="1582" y="0"/>
                      </a:lnTo>
                      <a:lnTo>
                        <a:pt x="2065" y="27"/>
                      </a:lnTo>
                      <a:lnTo>
                        <a:pt x="2480" y="85"/>
                      </a:lnTo>
                      <a:lnTo>
                        <a:pt x="2832" y="145"/>
                      </a:lnTo>
                      <a:lnTo>
                        <a:pt x="3200" y="227"/>
                      </a:lnTo>
                      <a:lnTo>
                        <a:pt x="3647" y="347"/>
                      </a:lnTo>
                      <a:lnTo>
                        <a:pt x="4080" y="490"/>
                      </a:lnTo>
                      <a:lnTo>
                        <a:pt x="4565" y="675"/>
                      </a:lnTo>
                      <a:lnTo>
                        <a:pt x="4910" y="835"/>
                      </a:lnTo>
                      <a:lnTo>
                        <a:pt x="5265" y="1020"/>
                      </a:lnTo>
                      <a:lnTo>
                        <a:pt x="5537" y="1170"/>
                      </a:lnTo>
                      <a:lnTo>
                        <a:pt x="5807" y="1352"/>
                      </a:lnTo>
                      <a:lnTo>
                        <a:pt x="6110" y="1590"/>
                      </a:lnTo>
                      <a:lnTo>
                        <a:pt x="6310" y="1782"/>
                      </a:lnTo>
                      <a:lnTo>
                        <a:pt x="6430" y="1934"/>
                      </a:lnTo>
                      <a:lnTo>
                        <a:pt x="6517" y="2072"/>
                      </a:lnTo>
                      <a:lnTo>
                        <a:pt x="6582" y="2232"/>
                      </a:lnTo>
                      <a:lnTo>
                        <a:pt x="6595" y="2364"/>
                      </a:lnTo>
                      <a:lnTo>
                        <a:pt x="6582" y="2492"/>
                      </a:lnTo>
                      <a:lnTo>
                        <a:pt x="6535" y="2612"/>
                      </a:lnTo>
                      <a:lnTo>
                        <a:pt x="6465" y="2707"/>
                      </a:lnTo>
                      <a:lnTo>
                        <a:pt x="6385" y="2772"/>
                      </a:lnTo>
                      <a:lnTo>
                        <a:pt x="6277" y="2842"/>
                      </a:lnTo>
                      <a:lnTo>
                        <a:pt x="6175" y="2894"/>
                      </a:lnTo>
                      <a:lnTo>
                        <a:pt x="6000" y="2957"/>
                      </a:lnTo>
                      <a:lnTo>
                        <a:pt x="5812" y="3007"/>
                      </a:lnTo>
                      <a:lnTo>
                        <a:pt x="5595" y="3034"/>
                      </a:lnTo>
                      <a:lnTo>
                        <a:pt x="5307" y="3054"/>
                      </a:lnTo>
                      <a:lnTo>
                        <a:pt x="4942" y="3054"/>
                      </a:lnTo>
                      <a:lnTo>
                        <a:pt x="4537" y="3022"/>
                      </a:lnTo>
                      <a:lnTo>
                        <a:pt x="4130" y="2972"/>
                      </a:lnTo>
                      <a:lnTo>
                        <a:pt x="3720" y="2902"/>
                      </a:lnTo>
                      <a:lnTo>
                        <a:pt x="3242" y="2784"/>
                      </a:lnTo>
                      <a:lnTo>
                        <a:pt x="2855" y="2677"/>
                      </a:lnTo>
                      <a:lnTo>
                        <a:pt x="2505" y="2559"/>
                      </a:lnTo>
                    </a:path>
                  </a:pathLst>
                </a:custGeom>
                <a:noFill/>
                <a:ln w="12600">
                  <a:solidFill>
                    <a:srgbClr val="404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122960" y="3349800"/>
                  <a:ext cx="819720" cy="524880"/>
                </a:xfrm>
                <a:custGeom>
                  <a:avLst/>
                  <a:gdLst/>
                  <a:ahLst/>
                  <a:rect l="l" t="t" r="r" b="b"/>
                  <a:pathLst>
                    <a:path w="4247" h="2592">
                      <a:moveTo>
                        <a:pt x="2547" y="2592"/>
                      </a:moveTo>
                      <a:lnTo>
                        <a:pt x="2217" y="2464"/>
                      </a:lnTo>
                      <a:lnTo>
                        <a:pt x="1890" y="2322"/>
                      </a:lnTo>
                      <a:lnTo>
                        <a:pt x="1492" y="2137"/>
                      </a:lnTo>
                      <a:lnTo>
                        <a:pt x="1165" y="1954"/>
                      </a:lnTo>
                      <a:lnTo>
                        <a:pt x="842" y="1749"/>
                      </a:lnTo>
                      <a:lnTo>
                        <a:pt x="487" y="1480"/>
                      </a:lnTo>
                      <a:lnTo>
                        <a:pt x="375" y="1372"/>
                      </a:lnTo>
                      <a:lnTo>
                        <a:pt x="250" y="1242"/>
                      </a:lnTo>
                      <a:lnTo>
                        <a:pt x="162" y="1122"/>
                      </a:lnTo>
                      <a:lnTo>
                        <a:pt x="82" y="992"/>
                      </a:lnTo>
                      <a:lnTo>
                        <a:pt x="30" y="875"/>
                      </a:lnTo>
                      <a:lnTo>
                        <a:pt x="10" y="770"/>
                      </a:lnTo>
                      <a:lnTo>
                        <a:pt x="0" y="667"/>
                      </a:lnTo>
                      <a:lnTo>
                        <a:pt x="20" y="575"/>
                      </a:lnTo>
                      <a:lnTo>
                        <a:pt x="52" y="490"/>
                      </a:lnTo>
                      <a:lnTo>
                        <a:pt x="110" y="402"/>
                      </a:lnTo>
                      <a:lnTo>
                        <a:pt x="185" y="325"/>
                      </a:lnTo>
                      <a:lnTo>
                        <a:pt x="270" y="257"/>
                      </a:lnTo>
                      <a:lnTo>
                        <a:pt x="402" y="187"/>
                      </a:lnTo>
                      <a:lnTo>
                        <a:pt x="565" y="122"/>
                      </a:lnTo>
                      <a:lnTo>
                        <a:pt x="757" y="70"/>
                      </a:lnTo>
                      <a:lnTo>
                        <a:pt x="950" y="40"/>
                      </a:lnTo>
                      <a:lnTo>
                        <a:pt x="1275" y="10"/>
                      </a:lnTo>
                      <a:lnTo>
                        <a:pt x="1555" y="0"/>
                      </a:lnTo>
                      <a:lnTo>
                        <a:pt x="1880" y="10"/>
                      </a:lnTo>
                      <a:lnTo>
                        <a:pt x="2260" y="52"/>
                      </a:lnTo>
                      <a:lnTo>
                        <a:pt x="2605" y="117"/>
                      </a:lnTo>
                      <a:lnTo>
                        <a:pt x="3015" y="195"/>
                      </a:lnTo>
                      <a:lnTo>
                        <a:pt x="3340" y="270"/>
                      </a:lnTo>
                      <a:lnTo>
                        <a:pt x="3642" y="365"/>
                      </a:lnTo>
                      <a:lnTo>
                        <a:pt x="3925" y="455"/>
                      </a:lnTo>
                      <a:lnTo>
                        <a:pt x="4247" y="560"/>
                      </a:lnTo>
                      <a:lnTo>
                        <a:pt x="4172" y="530"/>
                      </a:lnTo>
                    </a:path>
                  </a:pathLst>
                </a:custGeom>
                <a:noFill/>
                <a:ln w="25560">
                  <a:solidFill>
                    <a:srgbClr val="404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421040" y="3279240"/>
                  <a:ext cx="523800" cy="521280"/>
                </a:xfrm>
                <a:custGeom>
                  <a:avLst/>
                  <a:gdLst/>
                  <a:ahLst/>
                  <a:rect l="l" t="t" r="r" b="b"/>
                  <a:pathLst>
                    <a:path w="2715" h="2575">
                      <a:moveTo>
                        <a:pt x="1030" y="2575"/>
                      </a:moveTo>
                      <a:lnTo>
                        <a:pt x="850" y="2377"/>
                      </a:lnTo>
                      <a:lnTo>
                        <a:pt x="662" y="2147"/>
                      </a:lnTo>
                      <a:lnTo>
                        <a:pt x="437" y="1848"/>
                      </a:lnTo>
                      <a:lnTo>
                        <a:pt x="325" y="1670"/>
                      </a:lnTo>
                      <a:lnTo>
                        <a:pt x="227" y="1490"/>
                      </a:lnTo>
                      <a:lnTo>
                        <a:pt x="120" y="1268"/>
                      </a:lnTo>
                      <a:lnTo>
                        <a:pt x="60" y="1095"/>
                      </a:lnTo>
                      <a:lnTo>
                        <a:pt x="10" y="898"/>
                      </a:lnTo>
                      <a:lnTo>
                        <a:pt x="0" y="715"/>
                      </a:lnTo>
                      <a:lnTo>
                        <a:pt x="0" y="598"/>
                      </a:lnTo>
                      <a:lnTo>
                        <a:pt x="15" y="470"/>
                      </a:lnTo>
                      <a:lnTo>
                        <a:pt x="52" y="360"/>
                      </a:lnTo>
                      <a:lnTo>
                        <a:pt x="142" y="230"/>
                      </a:lnTo>
                      <a:lnTo>
                        <a:pt x="250" y="133"/>
                      </a:lnTo>
                      <a:lnTo>
                        <a:pt x="362" y="68"/>
                      </a:lnTo>
                      <a:lnTo>
                        <a:pt x="487" y="23"/>
                      </a:lnTo>
                      <a:lnTo>
                        <a:pt x="632" y="0"/>
                      </a:lnTo>
                      <a:lnTo>
                        <a:pt x="752" y="0"/>
                      </a:lnTo>
                      <a:lnTo>
                        <a:pt x="912" y="13"/>
                      </a:lnTo>
                      <a:lnTo>
                        <a:pt x="1075" y="45"/>
                      </a:lnTo>
                      <a:lnTo>
                        <a:pt x="1312" y="98"/>
                      </a:lnTo>
                      <a:lnTo>
                        <a:pt x="1507" y="173"/>
                      </a:lnTo>
                      <a:lnTo>
                        <a:pt x="1730" y="283"/>
                      </a:lnTo>
                      <a:lnTo>
                        <a:pt x="1897" y="368"/>
                      </a:lnTo>
                      <a:lnTo>
                        <a:pt x="2140" y="518"/>
                      </a:lnTo>
                      <a:lnTo>
                        <a:pt x="2357" y="670"/>
                      </a:lnTo>
                      <a:lnTo>
                        <a:pt x="2565" y="823"/>
                      </a:lnTo>
                      <a:lnTo>
                        <a:pt x="2702" y="953"/>
                      </a:lnTo>
                      <a:lnTo>
                        <a:pt x="2715" y="963"/>
                      </a:lnTo>
                    </a:path>
                  </a:pathLst>
                </a:custGeom>
                <a:noFill/>
                <a:ln w="25560">
                  <a:solidFill>
                    <a:srgbClr val="404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216560" y="3402720"/>
                  <a:ext cx="1056600" cy="521640"/>
                </a:xfrm>
                <a:custGeom>
                  <a:avLst/>
                  <a:gdLst/>
                  <a:ahLst/>
                  <a:rect l="l" t="t" r="r" b="b"/>
                  <a:pathLst>
                    <a:path w="5475" h="2577">
                      <a:moveTo>
                        <a:pt x="0" y="1750"/>
                      </a:moveTo>
                      <a:lnTo>
                        <a:pt x="15" y="1640"/>
                      </a:lnTo>
                      <a:lnTo>
                        <a:pt x="52" y="1520"/>
                      </a:lnTo>
                      <a:lnTo>
                        <a:pt x="115" y="1405"/>
                      </a:lnTo>
                      <a:lnTo>
                        <a:pt x="190" y="1293"/>
                      </a:lnTo>
                      <a:lnTo>
                        <a:pt x="325" y="1135"/>
                      </a:lnTo>
                      <a:lnTo>
                        <a:pt x="567" y="928"/>
                      </a:lnTo>
                      <a:lnTo>
                        <a:pt x="815" y="765"/>
                      </a:lnTo>
                      <a:lnTo>
                        <a:pt x="1130" y="603"/>
                      </a:lnTo>
                      <a:lnTo>
                        <a:pt x="1507" y="433"/>
                      </a:lnTo>
                      <a:lnTo>
                        <a:pt x="1840" y="313"/>
                      </a:lnTo>
                      <a:lnTo>
                        <a:pt x="2327" y="173"/>
                      </a:lnTo>
                      <a:lnTo>
                        <a:pt x="2727" y="88"/>
                      </a:lnTo>
                      <a:lnTo>
                        <a:pt x="3050" y="43"/>
                      </a:lnTo>
                      <a:lnTo>
                        <a:pt x="3397" y="10"/>
                      </a:lnTo>
                      <a:lnTo>
                        <a:pt x="3722" y="0"/>
                      </a:lnTo>
                      <a:lnTo>
                        <a:pt x="3950" y="0"/>
                      </a:lnTo>
                      <a:lnTo>
                        <a:pt x="4190" y="20"/>
                      </a:lnTo>
                      <a:lnTo>
                        <a:pt x="4452" y="50"/>
                      </a:lnTo>
                      <a:lnTo>
                        <a:pt x="4720" y="120"/>
                      </a:lnTo>
                      <a:lnTo>
                        <a:pt x="4922" y="183"/>
                      </a:lnTo>
                      <a:lnTo>
                        <a:pt x="5077" y="265"/>
                      </a:lnTo>
                      <a:lnTo>
                        <a:pt x="5212" y="355"/>
                      </a:lnTo>
                      <a:lnTo>
                        <a:pt x="5305" y="433"/>
                      </a:lnTo>
                      <a:lnTo>
                        <a:pt x="5382" y="530"/>
                      </a:lnTo>
                      <a:lnTo>
                        <a:pt x="5442" y="635"/>
                      </a:lnTo>
                      <a:lnTo>
                        <a:pt x="5465" y="735"/>
                      </a:lnTo>
                      <a:lnTo>
                        <a:pt x="5475" y="843"/>
                      </a:lnTo>
                      <a:lnTo>
                        <a:pt x="5455" y="938"/>
                      </a:lnTo>
                      <a:lnTo>
                        <a:pt x="5432" y="1038"/>
                      </a:lnTo>
                      <a:lnTo>
                        <a:pt x="5390" y="1133"/>
                      </a:lnTo>
                      <a:lnTo>
                        <a:pt x="5305" y="1270"/>
                      </a:lnTo>
                      <a:lnTo>
                        <a:pt x="5205" y="1380"/>
                      </a:lnTo>
                      <a:lnTo>
                        <a:pt x="4992" y="1577"/>
                      </a:lnTo>
                      <a:lnTo>
                        <a:pt x="4720" y="1775"/>
                      </a:lnTo>
                      <a:lnTo>
                        <a:pt x="4492" y="1905"/>
                      </a:lnTo>
                      <a:lnTo>
                        <a:pt x="4200" y="2042"/>
                      </a:lnTo>
                      <a:lnTo>
                        <a:pt x="3937" y="2152"/>
                      </a:lnTo>
                      <a:lnTo>
                        <a:pt x="3502" y="2302"/>
                      </a:lnTo>
                      <a:lnTo>
                        <a:pt x="3137" y="2402"/>
                      </a:lnTo>
                      <a:lnTo>
                        <a:pt x="2727" y="2490"/>
                      </a:lnTo>
                      <a:lnTo>
                        <a:pt x="2570" y="2520"/>
                      </a:lnTo>
                      <a:lnTo>
                        <a:pt x="2372" y="2547"/>
                      </a:lnTo>
                      <a:lnTo>
                        <a:pt x="2165" y="2567"/>
                      </a:lnTo>
                      <a:lnTo>
                        <a:pt x="2007" y="2567"/>
                      </a:lnTo>
                      <a:lnTo>
                        <a:pt x="1737" y="2577"/>
                      </a:lnTo>
                      <a:lnTo>
                        <a:pt x="1477" y="2577"/>
                      </a:lnTo>
                      <a:lnTo>
                        <a:pt x="1237" y="2542"/>
                      </a:lnTo>
                      <a:lnTo>
                        <a:pt x="982" y="2505"/>
                      </a:lnTo>
                      <a:lnTo>
                        <a:pt x="722" y="2445"/>
                      </a:lnTo>
                      <a:lnTo>
                        <a:pt x="580" y="2400"/>
                      </a:lnTo>
                      <a:lnTo>
                        <a:pt x="435" y="2340"/>
                      </a:lnTo>
                      <a:lnTo>
                        <a:pt x="307" y="2260"/>
                      </a:lnTo>
                      <a:lnTo>
                        <a:pt x="210" y="2177"/>
                      </a:lnTo>
                      <a:lnTo>
                        <a:pt x="127" y="2087"/>
                      </a:lnTo>
                      <a:lnTo>
                        <a:pt x="52" y="1985"/>
                      </a:lnTo>
                      <a:lnTo>
                        <a:pt x="10" y="1875"/>
                      </a:lnTo>
                      <a:lnTo>
                        <a:pt x="0" y="1750"/>
                      </a:lnTo>
                    </a:path>
                  </a:pathLst>
                </a:custGeom>
                <a:noFill/>
                <a:ln w="12600">
                  <a:solidFill>
                    <a:srgbClr val="404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684920" y="3404520"/>
                  <a:ext cx="587160" cy="502560"/>
                </a:xfrm>
                <a:custGeom>
                  <a:avLst/>
                  <a:gdLst/>
                  <a:ahLst/>
                  <a:rect l="l" t="t" r="r" b="b"/>
                  <a:pathLst>
                    <a:path w="3043" h="2482">
                      <a:moveTo>
                        <a:pt x="0" y="137"/>
                      </a:moveTo>
                      <a:lnTo>
                        <a:pt x="423" y="62"/>
                      </a:lnTo>
                      <a:lnTo>
                        <a:pt x="843" y="20"/>
                      </a:lnTo>
                      <a:lnTo>
                        <a:pt x="1253" y="0"/>
                      </a:lnTo>
                      <a:lnTo>
                        <a:pt x="1665" y="10"/>
                      </a:lnTo>
                      <a:lnTo>
                        <a:pt x="2055" y="52"/>
                      </a:lnTo>
                      <a:lnTo>
                        <a:pt x="2293" y="107"/>
                      </a:lnTo>
                      <a:lnTo>
                        <a:pt x="2485" y="170"/>
                      </a:lnTo>
                      <a:lnTo>
                        <a:pt x="2670" y="270"/>
                      </a:lnTo>
                      <a:lnTo>
                        <a:pt x="2788" y="345"/>
                      </a:lnTo>
                      <a:lnTo>
                        <a:pt x="2900" y="440"/>
                      </a:lnTo>
                      <a:lnTo>
                        <a:pt x="2980" y="550"/>
                      </a:lnTo>
                      <a:lnTo>
                        <a:pt x="3028" y="670"/>
                      </a:lnTo>
                      <a:lnTo>
                        <a:pt x="3043" y="825"/>
                      </a:lnTo>
                      <a:lnTo>
                        <a:pt x="3015" y="1002"/>
                      </a:lnTo>
                      <a:lnTo>
                        <a:pt x="2953" y="1155"/>
                      </a:lnTo>
                      <a:lnTo>
                        <a:pt x="2845" y="1305"/>
                      </a:lnTo>
                      <a:lnTo>
                        <a:pt x="2703" y="1447"/>
                      </a:lnTo>
                      <a:lnTo>
                        <a:pt x="2530" y="1602"/>
                      </a:lnTo>
                      <a:lnTo>
                        <a:pt x="2293" y="1759"/>
                      </a:lnTo>
                      <a:lnTo>
                        <a:pt x="2125" y="1862"/>
                      </a:lnTo>
                      <a:lnTo>
                        <a:pt x="1908" y="1979"/>
                      </a:lnTo>
                      <a:lnTo>
                        <a:pt x="1660" y="2087"/>
                      </a:lnTo>
                      <a:lnTo>
                        <a:pt x="1375" y="2197"/>
                      </a:lnTo>
                      <a:lnTo>
                        <a:pt x="1050" y="2294"/>
                      </a:lnTo>
                      <a:lnTo>
                        <a:pt x="675" y="2394"/>
                      </a:lnTo>
                      <a:lnTo>
                        <a:pt x="290" y="2482"/>
                      </a:lnTo>
                    </a:path>
                  </a:pathLst>
                </a:custGeom>
                <a:noFill/>
                <a:ln w="25560">
                  <a:solidFill>
                    <a:srgbClr val="404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086600" y="2795760"/>
                <a:ext cx="1361520" cy="1440720"/>
                <a:chOff x="7086600" y="2795760"/>
                <a:chExt cx="1361520" cy="14407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7086600" y="2970360"/>
                  <a:ext cx="1361520" cy="1266120"/>
                  <a:chOff x="7086600" y="2970360"/>
                  <a:chExt cx="1361520" cy="1266120"/>
                </a:xfrm>
              </p:grpSpPr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7634880" y="3530520"/>
                    <a:ext cx="221040" cy="206280"/>
                    <a:chOff x="7634880" y="3530520"/>
                    <a:chExt cx="221040" cy="206280"/>
                  </a:xfrm>
                </p:grpSpPr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7666560" y="3530520"/>
                      <a:ext cx="76320" cy="78480"/>
                      <a:chOff x="7666560" y="3530520"/>
                      <a:chExt cx="76320" cy="7848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7666560" y="3530520"/>
                        <a:ext cx="76320" cy="78480"/>
                      </a:xfrm>
                      <a:prstGeom prst="ellipse">
                        <a:avLst/>
                      </a:pr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7668360" y="3533400"/>
                        <a:ext cx="66600" cy="69480"/>
                      </a:xfrm>
                      <a:prstGeom prst="ellipse">
                        <a:avLst/>
                      </a:pr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7668720" y="3534480"/>
                        <a:ext cx="60120" cy="61920"/>
                      </a:xfrm>
                      <a:prstGeom prst="ellipse">
                        <a:avLst/>
                      </a:pr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7672320" y="3537360"/>
                        <a:ext cx="48240" cy="48600"/>
                      </a:xfrm>
                      <a:prstGeom prst="ellipse">
                        <a:avLst/>
                      </a:pr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7675200" y="3541680"/>
                        <a:ext cx="34920" cy="35280"/>
                      </a:xfrm>
                      <a:prstGeom prst="ellipse">
                        <a:avLst/>
                      </a:prstGeom>
                      <a:solidFill>
                        <a:srgbClr val="ff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>
                        <a:off x="7681320" y="3548160"/>
                        <a:ext cx="16200" cy="16560"/>
                      </a:xfrm>
                      <a:prstGeom prst="ellips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8" name=""/>
                    <p:cNvGrpSpPr/>
                    <p:nvPr/>
                  </p:nvGrpSpPr>
                  <p:grpSpPr>
                    <a:xfrm>
                      <a:off x="7733520" y="3540240"/>
                      <a:ext cx="76320" cy="78120"/>
                      <a:chOff x="7733520" y="3540240"/>
                      <a:chExt cx="76320" cy="78120"/>
                    </a:xfrm>
                  </p:grpSpPr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7733520" y="3540240"/>
                        <a:ext cx="76320" cy="78120"/>
                      </a:xfrm>
                      <a:prstGeom prst="ellipse">
                        <a:avLst/>
                      </a:pr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7736400" y="3543120"/>
                        <a:ext cx="66240" cy="69120"/>
                      </a:xfrm>
                      <a:prstGeom prst="ellipse">
                        <a:avLst/>
                      </a:pr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7736760" y="3543480"/>
                        <a:ext cx="59040" cy="62280"/>
                      </a:xfrm>
                      <a:prstGeom prst="ellipse">
                        <a:avLst/>
                      </a:pr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" name=""/>
                      <p:cNvSpPr/>
                      <p:nvPr/>
                    </p:nvSpPr>
                    <p:spPr>
                      <a:xfrm>
                        <a:off x="7739280" y="3547080"/>
                        <a:ext cx="48240" cy="48600"/>
                      </a:xfrm>
                      <a:prstGeom prst="ellipse">
                        <a:avLst/>
                      </a:pr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7742880" y="3550680"/>
                        <a:ext cx="33840" cy="36360"/>
                      </a:xfrm>
                      <a:prstGeom prst="ellipse">
                        <a:avLst/>
                      </a:prstGeom>
                      <a:solidFill>
                        <a:srgbClr val="ff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7749000" y="3557880"/>
                        <a:ext cx="16200" cy="16560"/>
                      </a:xfrm>
                      <a:prstGeom prst="ellips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7779960" y="3570840"/>
                      <a:ext cx="75960" cy="77760"/>
                      <a:chOff x="7779960" y="3570840"/>
                      <a:chExt cx="75960" cy="7776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7779960" y="3570840"/>
                        <a:ext cx="75960" cy="77760"/>
                      </a:xfrm>
                      <a:prstGeom prst="ellipse">
                        <a:avLst/>
                      </a:pr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7781760" y="3573360"/>
                        <a:ext cx="66240" cy="69120"/>
                      </a:xfrm>
                      <a:prstGeom prst="ellipse">
                        <a:avLst/>
                      </a:pr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7782840" y="3573720"/>
                        <a:ext cx="59040" cy="62280"/>
                      </a:xfrm>
                      <a:prstGeom prst="ellipse">
                        <a:avLst/>
                      </a:pr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7785360" y="3577320"/>
                        <a:ext cx="48240" cy="48600"/>
                      </a:xfrm>
                      <a:prstGeom prst="ellipse">
                        <a:avLst/>
                      </a:pr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7788960" y="3581280"/>
                        <a:ext cx="34200" cy="35640"/>
                      </a:xfrm>
                      <a:prstGeom prst="ellipse">
                        <a:avLst/>
                      </a:prstGeom>
                      <a:solidFill>
                        <a:srgbClr val="ff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7795440" y="3587760"/>
                        <a:ext cx="15840" cy="16560"/>
                      </a:xfrm>
                      <a:prstGeom prst="ellips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7644240" y="3647520"/>
                      <a:ext cx="76320" cy="77400"/>
                      <a:chOff x="7644240" y="3647520"/>
                      <a:chExt cx="76320" cy="77400"/>
                    </a:xfrm>
                  </p:grpSpPr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7644240" y="3647520"/>
                        <a:ext cx="76320" cy="77400"/>
                      </a:xfrm>
                      <a:prstGeom prst="ellipse">
                        <a:avLst/>
                      </a:prstGeom>
                      <a:solidFill>
                        <a:srgbClr val="0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7646040" y="3649680"/>
                        <a:ext cx="66240" cy="69480"/>
                      </a:xfrm>
                      <a:prstGeom prst="ellipse">
                        <a:avLst/>
                      </a:prstGeom>
                      <a:solidFill>
                        <a:srgbClr val="0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7646400" y="3650760"/>
                        <a:ext cx="60120" cy="61560"/>
                      </a:xfrm>
                      <a:prstGeom prst="ellipse">
                        <a:avLst/>
                      </a:prstGeom>
                      <a:solidFill>
                        <a:srgbClr val="0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7650000" y="3654720"/>
                        <a:ext cx="47880" cy="47880"/>
                      </a:xfrm>
                      <a:prstGeom prst="ellipse">
                        <a:avLst/>
                      </a:prstGeom>
                      <a:solidFill>
                        <a:srgbClr val="0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7652880" y="3657960"/>
                        <a:ext cx="34920" cy="36360"/>
                      </a:xfrm>
                      <a:prstGeom prst="ellipse">
                        <a:avLst/>
                      </a:prstGeom>
                      <a:solidFill>
                        <a:srgbClr val="0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7659000" y="3664440"/>
                        <a:ext cx="16200" cy="16920"/>
                      </a:xfrm>
                      <a:prstGeom prst="ellipse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7686720" y="3629520"/>
                      <a:ext cx="75600" cy="78120"/>
                      <a:chOff x="7686720" y="3629520"/>
                      <a:chExt cx="75600" cy="781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7686720" y="3629520"/>
                        <a:ext cx="75600" cy="78120"/>
                      </a:xfrm>
                      <a:prstGeom prst="ellipse">
                        <a:avLst/>
                      </a:prstGeom>
                      <a:solidFill>
                        <a:srgbClr val="0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7688520" y="3632400"/>
                        <a:ext cx="65880" cy="69120"/>
                      </a:xfrm>
                      <a:prstGeom prst="ellipse">
                        <a:avLst/>
                      </a:prstGeom>
                      <a:solidFill>
                        <a:srgbClr val="0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7688880" y="3633480"/>
                        <a:ext cx="59400" cy="61560"/>
                      </a:xfrm>
                      <a:prstGeom prst="ellipse">
                        <a:avLst/>
                      </a:prstGeom>
                      <a:solidFill>
                        <a:srgbClr val="0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7692480" y="363636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0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7695360" y="3640680"/>
                        <a:ext cx="34560" cy="35280"/>
                      </a:xfrm>
                      <a:prstGeom prst="ellipse">
                        <a:avLst/>
                      </a:prstGeom>
                      <a:solidFill>
                        <a:srgbClr val="0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7702200" y="3647160"/>
                        <a:ext cx="15840" cy="16560"/>
                      </a:xfrm>
                      <a:prstGeom prst="ellipse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6" name=""/>
                    <p:cNvGrpSpPr/>
                    <p:nvPr/>
                  </p:nvGrpSpPr>
                  <p:grpSpPr>
                    <a:xfrm>
                      <a:off x="7686360" y="3574800"/>
                      <a:ext cx="75240" cy="77760"/>
                      <a:chOff x="7686360" y="3574800"/>
                      <a:chExt cx="75240" cy="77760"/>
                    </a:xfrm>
                  </p:grpSpPr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7686360" y="3574800"/>
                        <a:ext cx="75240" cy="77760"/>
                      </a:xfrm>
                      <a:prstGeom prst="ellipse">
                        <a:avLst/>
                      </a:prstGeom>
                      <a:solidFill>
                        <a:srgbClr val="0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7688160" y="3577320"/>
                        <a:ext cx="66240" cy="70200"/>
                      </a:xfrm>
                      <a:prstGeom prst="ellipse">
                        <a:avLst/>
                      </a:prstGeom>
                      <a:solidFill>
                        <a:srgbClr val="0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7688880" y="3578760"/>
                        <a:ext cx="59400" cy="61560"/>
                      </a:xfrm>
                      <a:prstGeom prst="ellipse">
                        <a:avLst/>
                      </a:prstGeom>
                      <a:solidFill>
                        <a:srgbClr val="0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7691040" y="3581640"/>
                        <a:ext cx="48240" cy="47880"/>
                      </a:xfrm>
                      <a:prstGeom prst="ellipse">
                        <a:avLst/>
                      </a:prstGeom>
                      <a:solidFill>
                        <a:srgbClr val="0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7695000" y="3585960"/>
                        <a:ext cx="34200" cy="35280"/>
                      </a:xfrm>
                      <a:prstGeom prst="ellipse">
                        <a:avLst/>
                      </a:prstGeom>
                      <a:solidFill>
                        <a:srgbClr val="0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7701120" y="3591720"/>
                        <a:ext cx="15840" cy="17640"/>
                      </a:xfrm>
                      <a:prstGeom prst="ellipse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7748640" y="3602160"/>
                      <a:ext cx="76320" cy="77760"/>
                      <a:chOff x="7748640" y="3602160"/>
                      <a:chExt cx="76320" cy="7776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7748640" y="3602160"/>
                        <a:ext cx="76320" cy="77760"/>
                      </a:xfrm>
                      <a:prstGeom prst="ellipse">
                        <a:avLst/>
                      </a:prstGeom>
                      <a:solidFill>
                        <a:srgbClr val="0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7750800" y="3604680"/>
                        <a:ext cx="66240" cy="69120"/>
                      </a:xfrm>
                      <a:prstGeom prst="ellipse">
                        <a:avLst/>
                      </a:prstGeom>
                      <a:solidFill>
                        <a:srgbClr val="0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7751520" y="3605040"/>
                        <a:ext cx="59400" cy="62280"/>
                      </a:xfrm>
                      <a:prstGeom prst="ellipse">
                        <a:avLst/>
                      </a:prstGeom>
                      <a:solidFill>
                        <a:srgbClr val="0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7753680" y="3609000"/>
                        <a:ext cx="48960" cy="48240"/>
                      </a:xfrm>
                      <a:prstGeom prst="ellipse">
                        <a:avLst/>
                      </a:prstGeom>
                      <a:solidFill>
                        <a:srgbClr val="0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7757640" y="3612600"/>
                        <a:ext cx="33840" cy="35640"/>
                      </a:xfrm>
                      <a:prstGeom prst="ellipse">
                        <a:avLst/>
                      </a:prstGeom>
                      <a:solidFill>
                        <a:srgbClr val="0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7764120" y="3619080"/>
                        <a:ext cx="16200" cy="16560"/>
                      </a:xfrm>
                      <a:prstGeom prst="ellipse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0" name=""/>
                    <p:cNvGrpSpPr/>
                    <p:nvPr/>
                  </p:nvGrpSpPr>
                  <p:grpSpPr>
                    <a:xfrm>
                      <a:off x="7634880" y="3592080"/>
                      <a:ext cx="75600" cy="78840"/>
                      <a:chOff x="7634880" y="3592080"/>
                      <a:chExt cx="75600" cy="78840"/>
                    </a:xfrm>
                  </p:grpSpPr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7634880" y="3592080"/>
                        <a:ext cx="75600" cy="78840"/>
                      </a:xfrm>
                      <a:prstGeom prst="ellipse">
                        <a:avLst/>
                      </a:pr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7636680" y="3595680"/>
                        <a:ext cx="66240" cy="69120"/>
                      </a:xfrm>
                      <a:prstGeom prst="ellipse">
                        <a:avLst/>
                      </a:pr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7637040" y="3596040"/>
                        <a:ext cx="59400" cy="62280"/>
                      </a:xfrm>
                      <a:prstGeom prst="ellipse">
                        <a:avLst/>
                      </a:pr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7639920" y="3598920"/>
                        <a:ext cx="48240" cy="48960"/>
                      </a:xfrm>
                      <a:prstGeom prst="ellipse">
                        <a:avLst/>
                      </a:pr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7643880" y="3603240"/>
                        <a:ext cx="34200" cy="36360"/>
                      </a:xfrm>
                      <a:prstGeom prst="ellipse">
                        <a:avLst/>
                      </a:prstGeom>
                      <a:solidFill>
                        <a:srgbClr val="ff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7650360" y="3610080"/>
                        <a:ext cx="15840" cy="16560"/>
                      </a:xfrm>
                      <a:prstGeom prst="ellips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7" name=""/>
                    <p:cNvGrpSpPr/>
                    <p:nvPr/>
                  </p:nvGrpSpPr>
                  <p:grpSpPr>
                    <a:xfrm>
                      <a:off x="7761600" y="3655440"/>
                      <a:ext cx="76320" cy="77400"/>
                      <a:chOff x="7761600" y="3655440"/>
                      <a:chExt cx="76320" cy="77400"/>
                    </a:xfrm>
                  </p:grpSpPr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7761600" y="3655440"/>
                        <a:ext cx="76320" cy="77400"/>
                      </a:xfrm>
                      <a:prstGeom prst="ellipse">
                        <a:avLst/>
                      </a:pr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9" name=""/>
                      <p:cNvSpPr/>
                      <p:nvPr/>
                    </p:nvSpPr>
                    <p:spPr>
                      <a:xfrm>
                        <a:off x="7763760" y="3657600"/>
                        <a:ext cx="66240" cy="69120"/>
                      </a:xfrm>
                      <a:prstGeom prst="ellipse">
                        <a:avLst/>
                      </a:pr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7764840" y="3658680"/>
                        <a:ext cx="59040" cy="61560"/>
                      </a:xfrm>
                      <a:prstGeom prst="ellipse">
                        <a:avLst/>
                      </a:pr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7767360" y="3662280"/>
                        <a:ext cx="48240" cy="48240"/>
                      </a:xfrm>
                      <a:prstGeom prst="ellipse">
                        <a:avLst/>
                      </a:pr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7770600" y="3665880"/>
                        <a:ext cx="34200" cy="35640"/>
                      </a:xfrm>
                      <a:prstGeom prst="ellipse">
                        <a:avLst/>
                      </a:prstGeom>
                      <a:solidFill>
                        <a:srgbClr val="ff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7777080" y="3672360"/>
                        <a:ext cx="16200" cy="16560"/>
                      </a:xfrm>
                      <a:prstGeom prst="ellips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7701480" y="3659040"/>
                      <a:ext cx="75600" cy="77760"/>
                      <a:chOff x="7701480" y="3659040"/>
                      <a:chExt cx="75600" cy="77760"/>
                    </a:xfrm>
                  </p:grpSpPr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7701480" y="3659040"/>
                        <a:ext cx="75600" cy="77760"/>
                      </a:xfrm>
                      <a:prstGeom prst="ellipse">
                        <a:avLst/>
                      </a:pr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7703280" y="3661560"/>
                        <a:ext cx="65880" cy="69480"/>
                      </a:xfrm>
                      <a:prstGeom prst="ellipse">
                        <a:avLst/>
                      </a:pr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7703640" y="3662640"/>
                        <a:ext cx="59760" cy="61920"/>
                      </a:xfrm>
                      <a:prstGeom prst="ellipse">
                        <a:avLst/>
                      </a:pr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7707240" y="3665880"/>
                        <a:ext cx="47520" cy="47880"/>
                      </a:xfrm>
                      <a:prstGeom prst="ellipse">
                        <a:avLst/>
                      </a:pr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7710480" y="3670200"/>
                        <a:ext cx="34200" cy="35280"/>
                      </a:xfrm>
                      <a:prstGeom prst="ellipse">
                        <a:avLst/>
                      </a:prstGeom>
                      <a:solidFill>
                        <a:srgbClr val="ff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7716960" y="3675960"/>
                        <a:ext cx="15840" cy="16920"/>
                      </a:xfrm>
                      <a:prstGeom prst="ellips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7086600" y="2970360"/>
                    <a:ext cx="1361520" cy="1266120"/>
                    <a:chOff x="7086600" y="2970360"/>
                    <a:chExt cx="1361520" cy="1266120"/>
                  </a:xfrm>
                </p:grpSpPr>
                <p:grpSp>
                  <p:nvGrpSpPr>
                    <p:cNvPr id="412" name=""/>
                    <p:cNvGrpSpPr/>
                    <p:nvPr/>
                  </p:nvGrpSpPr>
                  <p:grpSpPr>
                    <a:xfrm>
                      <a:off x="7086600" y="3398760"/>
                      <a:ext cx="95400" cy="99720"/>
                      <a:chOff x="7086600" y="3398760"/>
                      <a:chExt cx="95400" cy="99720"/>
                    </a:xfrm>
                  </p:grpSpPr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7086600" y="3398760"/>
                        <a:ext cx="95400" cy="9972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7088400" y="3402720"/>
                        <a:ext cx="84240" cy="88200"/>
                      </a:xfrm>
                      <a:prstGeom prst="ellipse">
                        <a:avLst/>
                      </a:prstGeom>
                      <a:solidFill>
                        <a:srgbClr val="a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7089840" y="3403800"/>
                        <a:ext cx="74160" cy="79560"/>
                      </a:xfrm>
                      <a:prstGeom prst="ellips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7092720" y="3407760"/>
                        <a:ext cx="61200" cy="61560"/>
                      </a:xfrm>
                      <a:prstGeom prst="ellipse">
                        <a:avLst/>
                      </a:prstGeom>
                      <a:solidFill>
                        <a:srgbClr val="e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7097040" y="3412800"/>
                        <a:ext cx="43200" cy="460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7104960" y="3420720"/>
                        <a:ext cx="21240" cy="2196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7502760" y="2970360"/>
                      <a:ext cx="83160" cy="86760"/>
                      <a:chOff x="7502760" y="2970360"/>
                      <a:chExt cx="83160" cy="86760"/>
                    </a:xfrm>
                  </p:grpSpPr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7502760" y="2970360"/>
                        <a:ext cx="83160" cy="867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7504200" y="2973600"/>
                        <a:ext cx="73440" cy="76680"/>
                      </a:xfrm>
                      <a:prstGeom prst="ellipse">
                        <a:avLst/>
                      </a:prstGeom>
                      <a:solidFill>
                        <a:srgbClr val="a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7505280" y="2974680"/>
                        <a:ext cx="64800" cy="69120"/>
                      </a:xfrm>
                      <a:prstGeom prst="ellips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7507800" y="2978280"/>
                        <a:ext cx="53640" cy="53640"/>
                      </a:xfrm>
                      <a:prstGeom prst="ellipse">
                        <a:avLst/>
                      </a:prstGeom>
                      <a:solidFill>
                        <a:srgbClr val="e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7511760" y="2982600"/>
                        <a:ext cx="37800" cy="399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7518600" y="2989440"/>
                        <a:ext cx="18360" cy="1908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6" name=""/>
                    <p:cNvGrpSpPr/>
                    <p:nvPr/>
                  </p:nvGrpSpPr>
                  <p:grpSpPr>
                    <a:xfrm>
                      <a:off x="8309160" y="3366000"/>
                      <a:ext cx="138960" cy="145080"/>
                      <a:chOff x="8309160" y="3366000"/>
                      <a:chExt cx="138960" cy="145080"/>
                    </a:xfrm>
                  </p:grpSpPr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8309160" y="3366000"/>
                        <a:ext cx="138960" cy="14508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8311680" y="3371760"/>
                        <a:ext cx="122760" cy="128160"/>
                      </a:xfrm>
                      <a:prstGeom prst="ellipse">
                        <a:avLst/>
                      </a:prstGeom>
                      <a:solidFill>
                        <a:srgbClr val="a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8313840" y="3373200"/>
                        <a:ext cx="108000" cy="115560"/>
                      </a:xfrm>
                      <a:prstGeom prst="ellips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920" bIns="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8317800" y="3378960"/>
                        <a:ext cx="89280" cy="89640"/>
                      </a:xfrm>
                      <a:prstGeom prst="ellipse">
                        <a:avLst/>
                      </a:prstGeom>
                      <a:solidFill>
                        <a:srgbClr val="e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8324640" y="3386520"/>
                        <a:ext cx="63000" cy="669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8335800" y="3398400"/>
                        <a:ext cx="30600" cy="324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3" name=""/>
                    <p:cNvGrpSpPr/>
                    <p:nvPr/>
                  </p:nvGrpSpPr>
                  <p:grpSpPr>
                    <a:xfrm>
                      <a:off x="7308360" y="3861720"/>
                      <a:ext cx="67680" cy="70560"/>
                      <a:chOff x="7308360" y="3861720"/>
                      <a:chExt cx="67680" cy="70560"/>
                    </a:xfrm>
                  </p:grpSpPr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7308360" y="3861720"/>
                        <a:ext cx="67680" cy="705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7309440" y="3864240"/>
                        <a:ext cx="59760" cy="62280"/>
                      </a:xfrm>
                      <a:prstGeom prst="ellipse">
                        <a:avLst/>
                      </a:prstGeom>
                      <a:solidFill>
                        <a:srgbClr val="a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7310520" y="3864960"/>
                        <a:ext cx="52560" cy="56160"/>
                      </a:xfrm>
                      <a:prstGeom prst="ellips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7312680" y="3867840"/>
                        <a:ext cx="43560" cy="43560"/>
                      </a:xfrm>
                      <a:prstGeom prst="ellipse">
                        <a:avLst/>
                      </a:prstGeom>
                      <a:solidFill>
                        <a:srgbClr val="e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7315920" y="3871440"/>
                        <a:ext cx="30600" cy="327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7321320" y="3877200"/>
                        <a:ext cx="14760" cy="1548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0" name=""/>
                    <p:cNvGrpSpPr/>
                    <p:nvPr/>
                  </p:nvGrpSpPr>
                  <p:grpSpPr>
                    <a:xfrm>
                      <a:off x="7614000" y="3786840"/>
                      <a:ext cx="49680" cy="51840"/>
                      <a:chOff x="7614000" y="3786840"/>
                      <a:chExt cx="49680" cy="51840"/>
                    </a:xfrm>
                  </p:grpSpPr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7614000" y="3786840"/>
                        <a:ext cx="49680" cy="518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14720" y="3788640"/>
                        <a:ext cx="43920" cy="45720"/>
                      </a:xfrm>
                      <a:prstGeom prst="ellipse">
                        <a:avLst/>
                      </a:prstGeom>
                      <a:solidFill>
                        <a:srgbClr val="a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7615440" y="3789360"/>
                        <a:ext cx="38880" cy="41400"/>
                      </a:xfrm>
                      <a:prstGeom prst="ellips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616880" y="3791520"/>
                        <a:ext cx="32040" cy="32040"/>
                      </a:xfrm>
                      <a:prstGeom prst="ellipse">
                        <a:avLst/>
                      </a:prstGeom>
                      <a:solidFill>
                        <a:srgbClr val="e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619400" y="3794040"/>
                        <a:ext cx="22680" cy="241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623360" y="3798360"/>
                        <a:ext cx="10800" cy="1152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7" name=""/>
                    <p:cNvGrpSpPr/>
                    <p:nvPr/>
                  </p:nvGrpSpPr>
                  <p:grpSpPr>
                    <a:xfrm>
                      <a:off x="8114760" y="3407760"/>
                      <a:ext cx="55440" cy="57960"/>
                      <a:chOff x="8114760" y="3407760"/>
                      <a:chExt cx="55440" cy="57960"/>
                    </a:xfrm>
                  </p:grpSpPr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8114760" y="3407760"/>
                        <a:ext cx="55440" cy="579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8115840" y="3409920"/>
                        <a:ext cx="48960" cy="51120"/>
                      </a:xfrm>
                      <a:prstGeom prst="ellipse">
                        <a:avLst/>
                      </a:prstGeom>
                      <a:solidFill>
                        <a:srgbClr val="a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8116560" y="3410640"/>
                        <a:ext cx="43200" cy="46440"/>
                      </a:xfrm>
                      <a:prstGeom prst="ellips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8118360" y="3412800"/>
                        <a:ext cx="35640" cy="36000"/>
                      </a:xfrm>
                      <a:prstGeom prst="ellipse">
                        <a:avLst/>
                      </a:prstGeom>
                      <a:solidFill>
                        <a:srgbClr val="e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8120880" y="3416040"/>
                        <a:ext cx="25200" cy="26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8125200" y="3420720"/>
                        <a:ext cx="12240" cy="1296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7725240" y="4136760"/>
                      <a:ext cx="95400" cy="99720"/>
                      <a:chOff x="7725240" y="4136760"/>
                      <a:chExt cx="95400" cy="99720"/>
                    </a:xfrm>
                  </p:grpSpPr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7725240" y="4136760"/>
                        <a:ext cx="95400" cy="9972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7727040" y="4140720"/>
                        <a:ext cx="84240" cy="88200"/>
                      </a:xfrm>
                      <a:prstGeom prst="ellipse">
                        <a:avLst/>
                      </a:prstGeom>
                      <a:solidFill>
                        <a:srgbClr val="a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7728480" y="4141800"/>
                        <a:ext cx="74160" cy="79560"/>
                      </a:xfrm>
                      <a:prstGeom prst="ellips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7731360" y="4145760"/>
                        <a:ext cx="61200" cy="61560"/>
                      </a:xfrm>
                      <a:prstGeom prst="ellipse">
                        <a:avLst/>
                      </a:prstGeom>
                      <a:solidFill>
                        <a:srgbClr val="e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7735680" y="4150800"/>
                        <a:ext cx="43200" cy="460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7743600" y="4158720"/>
                        <a:ext cx="21240" cy="2196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81040" y="2795760"/>
                  <a:ext cx="660960" cy="786960"/>
                  <a:chOff x="7781040" y="2795760"/>
                  <a:chExt cx="660960" cy="78696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8392680" y="2795760"/>
                    <a:ext cx="49320" cy="52200"/>
                    <a:chOff x="8392680" y="2795760"/>
                    <a:chExt cx="49320" cy="5220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8392680" y="2795760"/>
                      <a:ext cx="49320" cy="522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8393400" y="2797560"/>
                      <a:ext cx="43560" cy="46080"/>
                    </a:xfrm>
                    <a:prstGeom prst="ellipse">
                      <a:avLst/>
                    </a:pr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8394120" y="2798280"/>
                      <a:ext cx="38520" cy="4176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8395560" y="2800440"/>
                      <a:ext cx="31680" cy="3240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8398080" y="2802960"/>
                      <a:ext cx="22320" cy="24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8402040" y="2807280"/>
                      <a:ext cx="10800" cy="1152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9" name=""/>
                  <p:cNvSpPr/>
                  <p:nvPr/>
                </p:nvSpPr>
                <p:spPr>
                  <a:xfrm flipV="1">
                    <a:off x="7781040" y="2853720"/>
                    <a:ext cx="611640" cy="7290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70" name=""/>
            <p:cNvSpPr/>
            <p:nvPr/>
          </p:nvSpPr>
          <p:spPr>
            <a:xfrm>
              <a:off x="8473680" y="2590920"/>
              <a:ext cx="21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442920" y="4641480"/>
            <a:ext cx="1971720" cy="1713600"/>
            <a:chOff x="6442920" y="4641480"/>
            <a:chExt cx="1971720" cy="1713600"/>
          </a:xfrm>
        </p:grpSpPr>
        <p:grpSp>
          <p:nvGrpSpPr>
            <p:cNvPr id="472" name=""/>
            <p:cNvGrpSpPr/>
            <p:nvPr/>
          </p:nvGrpSpPr>
          <p:grpSpPr>
            <a:xfrm>
              <a:off x="6442920" y="4641480"/>
              <a:ext cx="1689480" cy="1650960"/>
              <a:chOff x="6442920" y="4641480"/>
              <a:chExt cx="1689480" cy="1650960"/>
            </a:xfrm>
          </p:grpSpPr>
          <p:sp>
            <p:nvSpPr>
              <p:cNvPr id="473" name=""/>
              <p:cNvSpPr/>
              <p:nvPr/>
            </p:nvSpPr>
            <p:spPr>
              <a:xfrm flipH="1" rot="13611000">
                <a:off x="6905880" y="5034960"/>
                <a:ext cx="806400" cy="935640"/>
              </a:xfrm>
              <a:custGeom>
                <a:avLst/>
                <a:gdLst/>
                <a:ahLst/>
                <a:rect l="l" t="t" r="r" b="b"/>
                <a:pathLst>
                  <a:path w="4028" h="3782">
                    <a:moveTo>
                      <a:pt x="243" y="130"/>
                    </a:moveTo>
                    <a:lnTo>
                      <a:pt x="353" y="65"/>
                    </a:lnTo>
                    <a:lnTo>
                      <a:pt x="493" y="23"/>
                    </a:lnTo>
                    <a:lnTo>
                      <a:pt x="645" y="0"/>
                    </a:lnTo>
                    <a:lnTo>
                      <a:pt x="828" y="3"/>
                    </a:lnTo>
                    <a:lnTo>
                      <a:pt x="990" y="23"/>
                    </a:lnTo>
                    <a:lnTo>
                      <a:pt x="1173" y="65"/>
                    </a:lnTo>
                    <a:lnTo>
                      <a:pt x="1370" y="120"/>
                    </a:lnTo>
                    <a:lnTo>
                      <a:pt x="1608" y="215"/>
                    </a:lnTo>
                    <a:lnTo>
                      <a:pt x="1910" y="378"/>
                    </a:lnTo>
                    <a:lnTo>
                      <a:pt x="2173" y="543"/>
                    </a:lnTo>
                    <a:lnTo>
                      <a:pt x="2478" y="755"/>
                    </a:lnTo>
                    <a:lnTo>
                      <a:pt x="2728" y="963"/>
                    </a:lnTo>
                    <a:lnTo>
                      <a:pt x="3055" y="1265"/>
                    </a:lnTo>
                    <a:lnTo>
                      <a:pt x="3268" y="1505"/>
                    </a:lnTo>
                    <a:lnTo>
                      <a:pt x="3475" y="1785"/>
                    </a:lnTo>
                    <a:lnTo>
                      <a:pt x="3703" y="2127"/>
                    </a:lnTo>
                    <a:lnTo>
                      <a:pt x="3875" y="2462"/>
                    </a:lnTo>
                    <a:lnTo>
                      <a:pt x="3953" y="2667"/>
                    </a:lnTo>
                    <a:lnTo>
                      <a:pt x="4005" y="2897"/>
                    </a:lnTo>
                    <a:lnTo>
                      <a:pt x="4028" y="3055"/>
                    </a:lnTo>
                    <a:lnTo>
                      <a:pt x="4020" y="3187"/>
                    </a:lnTo>
                    <a:lnTo>
                      <a:pt x="3988" y="3335"/>
                    </a:lnTo>
                    <a:lnTo>
                      <a:pt x="3938" y="3462"/>
                    </a:lnTo>
                    <a:lnTo>
                      <a:pt x="3863" y="3562"/>
                    </a:lnTo>
                    <a:lnTo>
                      <a:pt x="3770" y="3647"/>
                    </a:lnTo>
                    <a:lnTo>
                      <a:pt x="3650" y="3722"/>
                    </a:lnTo>
                    <a:lnTo>
                      <a:pt x="3518" y="3760"/>
                    </a:lnTo>
                    <a:lnTo>
                      <a:pt x="3370" y="3782"/>
                    </a:lnTo>
                    <a:lnTo>
                      <a:pt x="3193" y="3782"/>
                    </a:lnTo>
                    <a:lnTo>
                      <a:pt x="3013" y="3755"/>
                    </a:lnTo>
                    <a:lnTo>
                      <a:pt x="2815" y="3705"/>
                    </a:lnTo>
                    <a:lnTo>
                      <a:pt x="2630" y="3647"/>
                    </a:lnTo>
                    <a:lnTo>
                      <a:pt x="2403" y="3555"/>
                    </a:lnTo>
                    <a:lnTo>
                      <a:pt x="2128" y="3412"/>
                    </a:lnTo>
                    <a:lnTo>
                      <a:pt x="1855" y="3235"/>
                    </a:lnTo>
                    <a:lnTo>
                      <a:pt x="1500" y="2990"/>
                    </a:lnTo>
                    <a:lnTo>
                      <a:pt x="1235" y="2762"/>
                    </a:lnTo>
                    <a:lnTo>
                      <a:pt x="953" y="2502"/>
                    </a:lnTo>
                    <a:lnTo>
                      <a:pt x="703" y="2205"/>
                    </a:lnTo>
                    <a:lnTo>
                      <a:pt x="488" y="1920"/>
                    </a:lnTo>
                    <a:lnTo>
                      <a:pt x="310" y="1650"/>
                    </a:lnTo>
                    <a:lnTo>
                      <a:pt x="213" y="1455"/>
                    </a:lnTo>
                    <a:lnTo>
                      <a:pt x="125" y="1283"/>
                    </a:lnTo>
                    <a:lnTo>
                      <a:pt x="63" y="1085"/>
                    </a:lnTo>
                    <a:lnTo>
                      <a:pt x="23" y="940"/>
                    </a:lnTo>
                    <a:lnTo>
                      <a:pt x="0" y="788"/>
                    </a:lnTo>
                    <a:lnTo>
                      <a:pt x="0" y="663"/>
                    </a:lnTo>
                    <a:lnTo>
                      <a:pt x="8" y="535"/>
                    </a:lnTo>
                    <a:lnTo>
                      <a:pt x="33" y="400"/>
                    </a:lnTo>
                    <a:lnTo>
                      <a:pt x="83" y="305"/>
                    </a:lnTo>
                    <a:lnTo>
                      <a:pt x="158" y="210"/>
                    </a:lnTo>
                    <a:lnTo>
                      <a:pt x="243" y="130"/>
                    </a:lnTo>
                  </a:path>
                </a:pathLst>
              </a:custGeom>
              <a:noFill/>
              <a:ln w="1260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rot="13611000">
                <a:off x="6597360" y="4975920"/>
                <a:ext cx="1314000" cy="993960"/>
              </a:xfrm>
              <a:custGeom>
                <a:avLst/>
                <a:gdLst/>
                <a:ahLst/>
                <a:rect l="l" t="t" r="r" b="b"/>
                <a:pathLst>
                  <a:path w="6563" h="4019">
                    <a:moveTo>
                      <a:pt x="0" y="3207"/>
                    </a:moveTo>
                    <a:lnTo>
                      <a:pt x="0" y="3097"/>
                    </a:lnTo>
                    <a:lnTo>
                      <a:pt x="13" y="2962"/>
                    </a:lnTo>
                    <a:lnTo>
                      <a:pt x="38" y="2844"/>
                    </a:lnTo>
                    <a:lnTo>
                      <a:pt x="80" y="2722"/>
                    </a:lnTo>
                    <a:lnTo>
                      <a:pt x="145" y="2582"/>
                    </a:lnTo>
                    <a:lnTo>
                      <a:pt x="283" y="2337"/>
                    </a:lnTo>
                    <a:lnTo>
                      <a:pt x="480" y="2082"/>
                    </a:lnTo>
                    <a:lnTo>
                      <a:pt x="730" y="1827"/>
                    </a:lnTo>
                    <a:lnTo>
                      <a:pt x="978" y="1607"/>
                    </a:lnTo>
                    <a:lnTo>
                      <a:pt x="1298" y="1357"/>
                    </a:lnTo>
                    <a:lnTo>
                      <a:pt x="1578" y="1162"/>
                    </a:lnTo>
                    <a:lnTo>
                      <a:pt x="2065" y="875"/>
                    </a:lnTo>
                    <a:lnTo>
                      <a:pt x="2508" y="647"/>
                    </a:lnTo>
                    <a:lnTo>
                      <a:pt x="3028" y="427"/>
                    </a:lnTo>
                    <a:lnTo>
                      <a:pt x="3403" y="297"/>
                    </a:lnTo>
                    <a:lnTo>
                      <a:pt x="3920" y="147"/>
                    </a:lnTo>
                    <a:lnTo>
                      <a:pt x="4558" y="27"/>
                    </a:lnTo>
                    <a:lnTo>
                      <a:pt x="4825" y="5"/>
                    </a:lnTo>
                    <a:lnTo>
                      <a:pt x="5100" y="0"/>
                    </a:lnTo>
                    <a:lnTo>
                      <a:pt x="5343" y="2"/>
                    </a:lnTo>
                    <a:lnTo>
                      <a:pt x="5565" y="27"/>
                    </a:lnTo>
                    <a:lnTo>
                      <a:pt x="5780" y="72"/>
                    </a:lnTo>
                    <a:lnTo>
                      <a:pt x="6000" y="142"/>
                    </a:lnTo>
                    <a:lnTo>
                      <a:pt x="6208" y="255"/>
                    </a:lnTo>
                    <a:lnTo>
                      <a:pt x="6370" y="385"/>
                    </a:lnTo>
                    <a:lnTo>
                      <a:pt x="6450" y="480"/>
                    </a:lnTo>
                    <a:lnTo>
                      <a:pt x="6503" y="582"/>
                    </a:lnTo>
                    <a:lnTo>
                      <a:pt x="6535" y="687"/>
                    </a:lnTo>
                    <a:lnTo>
                      <a:pt x="6558" y="807"/>
                    </a:lnTo>
                    <a:lnTo>
                      <a:pt x="6563" y="902"/>
                    </a:lnTo>
                    <a:lnTo>
                      <a:pt x="6563" y="1002"/>
                    </a:lnTo>
                    <a:lnTo>
                      <a:pt x="6533" y="1162"/>
                    </a:lnTo>
                    <a:lnTo>
                      <a:pt x="6470" y="1337"/>
                    </a:lnTo>
                    <a:lnTo>
                      <a:pt x="6388" y="1510"/>
                    </a:lnTo>
                    <a:lnTo>
                      <a:pt x="6285" y="1677"/>
                    </a:lnTo>
                    <a:lnTo>
                      <a:pt x="6178" y="1815"/>
                    </a:lnTo>
                    <a:lnTo>
                      <a:pt x="6060" y="1962"/>
                    </a:lnTo>
                    <a:lnTo>
                      <a:pt x="5898" y="2147"/>
                    </a:lnTo>
                    <a:lnTo>
                      <a:pt x="5615" y="2397"/>
                    </a:lnTo>
                    <a:lnTo>
                      <a:pt x="5345" y="2609"/>
                    </a:lnTo>
                    <a:lnTo>
                      <a:pt x="5085" y="2794"/>
                    </a:lnTo>
                    <a:lnTo>
                      <a:pt x="4735" y="3012"/>
                    </a:lnTo>
                    <a:lnTo>
                      <a:pt x="4398" y="3199"/>
                    </a:lnTo>
                    <a:lnTo>
                      <a:pt x="4043" y="3369"/>
                    </a:lnTo>
                    <a:lnTo>
                      <a:pt x="3688" y="3524"/>
                    </a:lnTo>
                    <a:lnTo>
                      <a:pt x="3353" y="3649"/>
                    </a:lnTo>
                    <a:lnTo>
                      <a:pt x="2878" y="3802"/>
                    </a:lnTo>
                    <a:lnTo>
                      <a:pt x="2453" y="3902"/>
                    </a:lnTo>
                    <a:lnTo>
                      <a:pt x="2133" y="3962"/>
                    </a:lnTo>
                    <a:lnTo>
                      <a:pt x="1770" y="3999"/>
                    </a:lnTo>
                    <a:lnTo>
                      <a:pt x="1515" y="4019"/>
                    </a:lnTo>
                    <a:lnTo>
                      <a:pt x="1298" y="4019"/>
                    </a:lnTo>
                    <a:lnTo>
                      <a:pt x="1105" y="3994"/>
                    </a:lnTo>
                    <a:lnTo>
                      <a:pt x="940" y="3974"/>
                    </a:lnTo>
                    <a:lnTo>
                      <a:pt x="790" y="3942"/>
                    </a:lnTo>
                    <a:lnTo>
                      <a:pt x="618" y="3887"/>
                    </a:lnTo>
                    <a:lnTo>
                      <a:pt x="480" y="3834"/>
                    </a:lnTo>
                    <a:lnTo>
                      <a:pt x="358" y="3759"/>
                    </a:lnTo>
                    <a:lnTo>
                      <a:pt x="250" y="3672"/>
                    </a:lnTo>
                    <a:lnTo>
                      <a:pt x="155" y="3577"/>
                    </a:lnTo>
                    <a:lnTo>
                      <a:pt x="65" y="3447"/>
                    </a:lnTo>
                    <a:lnTo>
                      <a:pt x="28" y="3327"/>
                    </a:lnTo>
                    <a:lnTo>
                      <a:pt x="0" y="3207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611000">
                <a:off x="6931800" y="4645080"/>
                <a:ext cx="717840" cy="1632960"/>
              </a:xfrm>
              <a:custGeom>
                <a:avLst/>
                <a:gdLst/>
                <a:ahLst/>
                <a:rect l="l" t="t" r="r" b="b"/>
                <a:pathLst>
                  <a:path w="3585" h="6602">
                    <a:moveTo>
                      <a:pt x="475" y="23"/>
                    </a:moveTo>
                    <a:lnTo>
                      <a:pt x="617" y="0"/>
                    </a:lnTo>
                    <a:lnTo>
                      <a:pt x="767" y="13"/>
                    </a:lnTo>
                    <a:lnTo>
                      <a:pt x="907" y="53"/>
                    </a:lnTo>
                    <a:lnTo>
                      <a:pt x="1032" y="105"/>
                    </a:lnTo>
                    <a:lnTo>
                      <a:pt x="1190" y="205"/>
                    </a:lnTo>
                    <a:lnTo>
                      <a:pt x="1405" y="368"/>
                    </a:lnTo>
                    <a:lnTo>
                      <a:pt x="1590" y="543"/>
                    </a:lnTo>
                    <a:lnTo>
                      <a:pt x="1735" y="695"/>
                    </a:lnTo>
                    <a:lnTo>
                      <a:pt x="1880" y="863"/>
                    </a:lnTo>
                    <a:lnTo>
                      <a:pt x="2047" y="1073"/>
                    </a:lnTo>
                    <a:lnTo>
                      <a:pt x="2212" y="1325"/>
                    </a:lnTo>
                    <a:lnTo>
                      <a:pt x="2362" y="1563"/>
                    </a:lnTo>
                    <a:lnTo>
                      <a:pt x="2520" y="1833"/>
                    </a:lnTo>
                    <a:lnTo>
                      <a:pt x="2702" y="2178"/>
                    </a:lnTo>
                    <a:lnTo>
                      <a:pt x="2830" y="2470"/>
                    </a:lnTo>
                    <a:lnTo>
                      <a:pt x="2947" y="2740"/>
                    </a:lnTo>
                    <a:lnTo>
                      <a:pt x="3027" y="2928"/>
                    </a:lnTo>
                    <a:lnTo>
                      <a:pt x="3110" y="3145"/>
                    </a:lnTo>
                    <a:lnTo>
                      <a:pt x="3207" y="3415"/>
                    </a:lnTo>
                    <a:lnTo>
                      <a:pt x="3282" y="3657"/>
                    </a:lnTo>
                    <a:lnTo>
                      <a:pt x="3367" y="3957"/>
                    </a:lnTo>
                    <a:lnTo>
                      <a:pt x="3447" y="4277"/>
                    </a:lnTo>
                    <a:lnTo>
                      <a:pt x="3502" y="4540"/>
                    </a:lnTo>
                    <a:lnTo>
                      <a:pt x="3552" y="4815"/>
                    </a:lnTo>
                    <a:lnTo>
                      <a:pt x="3575" y="5070"/>
                    </a:lnTo>
                    <a:lnTo>
                      <a:pt x="3585" y="5362"/>
                    </a:lnTo>
                    <a:lnTo>
                      <a:pt x="3565" y="5695"/>
                    </a:lnTo>
                    <a:lnTo>
                      <a:pt x="3527" y="5935"/>
                    </a:lnTo>
                    <a:lnTo>
                      <a:pt x="3480" y="6115"/>
                    </a:lnTo>
                    <a:lnTo>
                      <a:pt x="3425" y="6270"/>
                    </a:lnTo>
                    <a:lnTo>
                      <a:pt x="3360" y="6387"/>
                    </a:lnTo>
                    <a:lnTo>
                      <a:pt x="3292" y="6465"/>
                    </a:lnTo>
                    <a:lnTo>
                      <a:pt x="3200" y="6537"/>
                    </a:lnTo>
                    <a:lnTo>
                      <a:pt x="3065" y="6580"/>
                    </a:lnTo>
                    <a:lnTo>
                      <a:pt x="2937" y="6602"/>
                    </a:lnTo>
                    <a:lnTo>
                      <a:pt x="2790" y="6580"/>
                    </a:lnTo>
                    <a:lnTo>
                      <a:pt x="2657" y="6540"/>
                    </a:lnTo>
                    <a:lnTo>
                      <a:pt x="2495" y="6470"/>
                    </a:lnTo>
                    <a:lnTo>
                      <a:pt x="2342" y="6375"/>
                    </a:lnTo>
                    <a:lnTo>
                      <a:pt x="2155" y="6227"/>
                    </a:lnTo>
                    <a:lnTo>
                      <a:pt x="2000" y="6082"/>
                    </a:lnTo>
                    <a:lnTo>
                      <a:pt x="1860" y="5935"/>
                    </a:lnTo>
                    <a:lnTo>
                      <a:pt x="1702" y="5745"/>
                    </a:lnTo>
                    <a:lnTo>
                      <a:pt x="1565" y="5570"/>
                    </a:lnTo>
                    <a:lnTo>
                      <a:pt x="1442" y="5395"/>
                    </a:lnTo>
                    <a:lnTo>
                      <a:pt x="1300" y="5185"/>
                    </a:lnTo>
                    <a:lnTo>
                      <a:pt x="1190" y="4997"/>
                    </a:lnTo>
                    <a:lnTo>
                      <a:pt x="1080" y="4802"/>
                    </a:lnTo>
                    <a:lnTo>
                      <a:pt x="942" y="4542"/>
                    </a:lnTo>
                    <a:lnTo>
                      <a:pt x="805" y="4282"/>
                    </a:lnTo>
                    <a:lnTo>
                      <a:pt x="692" y="4017"/>
                    </a:lnTo>
                    <a:lnTo>
                      <a:pt x="555" y="3700"/>
                    </a:lnTo>
                    <a:lnTo>
                      <a:pt x="442" y="3387"/>
                    </a:lnTo>
                    <a:lnTo>
                      <a:pt x="335" y="3073"/>
                    </a:lnTo>
                    <a:lnTo>
                      <a:pt x="190" y="2553"/>
                    </a:lnTo>
                    <a:lnTo>
                      <a:pt x="117" y="2248"/>
                    </a:lnTo>
                    <a:lnTo>
                      <a:pt x="67" y="1940"/>
                    </a:lnTo>
                    <a:lnTo>
                      <a:pt x="32" y="1648"/>
                    </a:lnTo>
                    <a:lnTo>
                      <a:pt x="2" y="1340"/>
                    </a:lnTo>
                    <a:lnTo>
                      <a:pt x="0" y="1118"/>
                    </a:lnTo>
                    <a:lnTo>
                      <a:pt x="20" y="888"/>
                    </a:lnTo>
                    <a:lnTo>
                      <a:pt x="42" y="690"/>
                    </a:lnTo>
                    <a:lnTo>
                      <a:pt x="77" y="543"/>
                    </a:lnTo>
                    <a:lnTo>
                      <a:pt x="130" y="408"/>
                    </a:lnTo>
                    <a:lnTo>
                      <a:pt x="192" y="290"/>
                    </a:lnTo>
                    <a:lnTo>
                      <a:pt x="262" y="195"/>
                    </a:lnTo>
                    <a:lnTo>
                      <a:pt x="360" y="95"/>
                    </a:lnTo>
                    <a:lnTo>
                      <a:pt x="475" y="23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rot="13611000">
                <a:off x="6611040" y="5087520"/>
                <a:ext cx="1320480" cy="755280"/>
              </a:xfrm>
              <a:custGeom>
                <a:avLst/>
                <a:gdLst/>
                <a:ahLst/>
                <a:rect l="l" t="t" r="r" b="b"/>
                <a:pathLst>
                  <a:path w="6595" h="3054">
                    <a:moveTo>
                      <a:pt x="2505" y="2559"/>
                    </a:moveTo>
                    <a:lnTo>
                      <a:pt x="2140" y="2417"/>
                    </a:lnTo>
                    <a:lnTo>
                      <a:pt x="1822" y="2277"/>
                    </a:lnTo>
                    <a:lnTo>
                      <a:pt x="1462" y="2104"/>
                    </a:lnTo>
                    <a:lnTo>
                      <a:pt x="1137" y="1919"/>
                    </a:lnTo>
                    <a:lnTo>
                      <a:pt x="855" y="1739"/>
                    </a:lnTo>
                    <a:lnTo>
                      <a:pt x="575" y="1527"/>
                    </a:lnTo>
                    <a:lnTo>
                      <a:pt x="392" y="1372"/>
                    </a:lnTo>
                    <a:lnTo>
                      <a:pt x="260" y="1222"/>
                    </a:lnTo>
                    <a:lnTo>
                      <a:pt x="145" y="1070"/>
                    </a:lnTo>
                    <a:lnTo>
                      <a:pt x="70" y="930"/>
                    </a:lnTo>
                    <a:lnTo>
                      <a:pt x="25" y="810"/>
                    </a:lnTo>
                    <a:lnTo>
                      <a:pt x="0" y="680"/>
                    </a:lnTo>
                    <a:lnTo>
                      <a:pt x="17" y="585"/>
                    </a:lnTo>
                    <a:lnTo>
                      <a:pt x="60" y="487"/>
                    </a:lnTo>
                    <a:lnTo>
                      <a:pt x="112" y="392"/>
                    </a:lnTo>
                    <a:lnTo>
                      <a:pt x="210" y="295"/>
                    </a:lnTo>
                    <a:lnTo>
                      <a:pt x="335" y="217"/>
                    </a:lnTo>
                    <a:lnTo>
                      <a:pt x="500" y="145"/>
                    </a:lnTo>
                    <a:lnTo>
                      <a:pt x="665" y="90"/>
                    </a:lnTo>
                    <a:lnTo>
                      <a:pt x="882" y="42"/>
                    </a:lnTo>
                    <a:lnTo>
                      <a:pt x="1095" y="12"/>
                    </a:lnTo>
                    <a:lnTo>
                      <a:pt x="1335" y="0"/>
                    </a:lnTo>
                    <a:lnTo>
                      <a:pt x="1582" y="0"/>
                    </a:lnTo>
                    <a:lnTo>
                      <a:pt x="2065" y="27"/>
                    </a:lnTo>
                    <a:lnTo>
                      <a:pt x="2480" y="85"/>
                    </a:lnTo>
                    <a:lnTo>
                      <a:pt x="2832" y="145"/>
                    </a:lnTo>
                    <a:lnTo>
                      <a:pt x="3200" y="227"/>
                    </a:lnTo>
                    <a:lnTo>
                      <a:pt x="3647" y="347"/>
                    </a:lnTo>
                    <a:lnTo>
                      <a:pt x="4080" y="490"/>
                    </a:lnTo>
                    <a:lnTo>
                      <a:pt x="4565" y="675"/>
                    </a:lnTo>
                    <a:lnTo>
                      <a:pt x="4910" y="835"/>
                    </a:lnTo>
                    <a:lnTo>
                      <a:pt x="5265" y="1020"/>
                    </a:lnTo>
                    <a:lnTo>
                      <a:pt x="5537" y="1170"/>
                    </a:lnTo>
                    <a:lnTo>
                      <a:pt x="5807" y="1352"/>
                    </a:lnTo>
                    <a:lnTo>
                      <a:pt x="6110" y="1590"/>
                    </a:lnTo>
                    <a:lnTo>
                      <a:pt x="6310" y="1782"/>
                    </a:lnTo>
                    <a:lnTo>
                      <a:pt x="6430" y="1934"/>
                    </a:lnTo>
                    <a:lnTo>
                      <a:pt x="6517" y="2072"/>
                    </a:lnTo>
                    <a:lnTo>
                      <a:pt x="6582" y="2232"/>
                    </a:lnTo>
                    <a:lnTo>
                      <a:pt x="6595" y="2364"/>
                    </a:lnTo>
                    <a:lnTo>
                      <a:pt x="6582" y="2492"/>
                    </a:lnTo>
                    <a:lnTo>
                      <a:pt x="6535" y="2612"/>
                    </a:lnTo>
                    <a:lnTo>
                      <a:pt x="6465" y="2707"/>
                    </a:lnTo>
                    <a:lnTo>
                      <a:pt x="6385" y="2772"/>
                    </a:lnTo>
                    <a:lnTo>
                      <a:pt x="6277" y="2842"/>
                    </a:lnTo>
                    <a:lnTo>
                      <a:pt x="6175" y="2894"/>
                    </a:lnTo>
                    <a:lnTo>
                      <a:pt x="6000" y="2957"/>
                    </a:lnTo>
                    <a:lnTo>
                      <a:pt x="5812" y="3007"/>
                    </a:lnTo>
                    <a:lnTo>
                      <a:pt x="5595" y="3034"/>
                    </a:lnTo>
                    <a:lnTo>
                      <a:pt x="5307" y="3054"/>
                    </a:lnTo>
                    <a:lnTo>
                      <a:pt x="4942" y="3054"/>
                    </a:lnTo>
                    <a:lnTo>
                      <a:pt x="4537" y="3022"/>
                    </a:lnTo>
                    <a:lnTo>
                      <a:pt x="4130" y="2972"/>
                    </a:lnTo>
                    <a:lnTo>
                      <a:pt x="3720" y="2902"/>
                    </a:lnTo>
                    <a:lnTo>
                      <a:pt x="3242" y="2784"/>
                    </a:lnTo>
                    <a:lnTo>
                      <a:pt x="2855" y="2677"/>
                    </a:lnTo>
                    <a:lnTo>
                      <a:pt x="2505" y="2559"/>
                    </a:lnTo>
                  </a:path>
                </a:pathLst>
              </a:custGeom>
              <a:noFill/>
              <a:ln w="1260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rot="13611000">
                <a:off x="6643080" y="5015160"/>
                <a:ext cx="850320" cy="641160"/>
              </a:xfrm>
              <a:custGeom>
                <a:avLst/>
                <a:gdLst/>
                <a:ahLst/>
                <a:rect l="l" t="t" r="r" b="b"/>
                <a:pathLst>
                  <a:path w="4247" h="2592">
                    <a:moveTo>
                      <a:pt x="2547" y="2592"/>
                    </a:moveTo>
                    <a:lnTo>
                      <a:pt x="2217" y="2464"/>
                    </a:lnTo>
                    <a:lnTo>
                      <a:pt x="1890" y="2322"/>
                    </a:lnTo>
                    <a:lnTo>
                      <a:pt x="1492" y="2137"/>
                    </a:lnTo>
                    <a:lnTo>
                      <a:pt x="1165" y="1954"/>
                    </a:lnTo>
                    <a:lnTo>
                      <a:pt x="842" y="1749"/>
                    </a:lnTo>
                    <a:lnTo>
                      <a:pt x="487" y="1480"/>
                    </a:lnTo>
                    <a:lnTo>
                      <a:pt x="375" y="1372"/>
                    </a:lnTo>
                    <a:lnTo>
                      <a:pt x="250" y="1242"/>
                    </a:lnTo>
                    <a:lnTo>
                      <a:pt x="162" y="1122"/>
                    </a:lnTo>
                    <a:lnTo>
                      <a:pt x="82" y="992"/>
                    </a:lnTo>
                    <a:lnTo>
                      <a:pt x="30" y="875"/>
                    </a:lnTo>
                    <a:lnTo>
                      <a:pt x="10" y="770"/>
                    </a:lnTo>
                    <a:lnTo>
                      <a:pt x="0" y="667"/>
                    </a:lnTo>
                    <a:lnTo>
                      <a:pt x="20" y="575"/>
                    </a:lnTo>
                    <a:lnTo>
                      <a:pt x="52" y="490"/>
                    </a:lnTo>
                    <a:lnTo>
                      <a:pt x="110" y="402"/>
                    </a:lnTo>
                    <a:lnTo>
                      <a:pt x="185" y="325"/>
                    </a:lnTo>
                    <a:lnTo>
                      <a:pt x="270" y="257"/>
                    </a:lnTo>
                    <a:lnTo>
                      <a:pt x="402" y="187"/>
                    </a:lnTo>
                    <a:lnTo>
                      <a:pt x="565" y="122"/>
                    </a:lnTo>
                    <a:lnTo>
                      <a:pt x="757" y="70"/>
                    </a:lnTo>
                    <a:lnTo>
                      <a:pt x="950" y="40"/>
                    </a:lnTo>
                    <a:lnTo>
                      <a:pt x="1275" y="10"/>
                    </a:lnTo>
                    <a:lnTo>
                      <a:pt x="1555" y="0"/>
                    </a:lnTo>
                    <a:lnTo>
                      <a:pt x="1880" y="10"/>
                    </a:lnTo>
                    <a:lnTo>
                      <a:pt x="2260" y="52"/>
                    </a:lnTo>
                    <a:lnTo>
                      <a:pt x="2605" y="117"/>
                    </a:lnTo>
                    <a:lnTo>
                      <a:pt x="3015" y="195"/>
                    </a:lnTo>
                    <a:lnTo>
                      <a:pt x="3340" y="270"/>
                    </a:lnTo>
                    <a:lnTo>
                      <a:pt x="3642" y="365"/>
                    </a:lnTo>
                    <a:lnTo>
                      <a:pt x="3925" y="455"/>
                    </a:lnTo>
                    <a:lnTo>
                      <a:pt x="4247" y="560"/>
                    </a:lnTo>
                    <a:lnTo>
                      <a:pt x="4172" y="530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rot="13611000">
                <a:off x="6839640" y="5191560"/>
                <a:ext cx="543600" cy="636840"/>
              </a:xfrm>
              <a:custGeom>
                <a:avLst/>
                <a:gdLst/>
                <a:ahLst/>
                <a:rect l="l" t="t" r="r" b="b"/>
                <a:pathLst>
                  <a:path w="2715" h="2575">
                    <a:moveTo>
                      <a:pt x="1030" y="2575"/>
                    </a:moveTo>
                    <a:lnTo>
                      <a:pt x="850" y="2377"/>
                    </a:lnTo>
                    <a:lnTo>
                      <a:pt x="662" y="2147"/>
                    </a:lnTo>
                    <a:lnTo>
                      <a:pt x="437" y="1848"/>
                    </a:lnTo>
                    <a:lnTo>
                      <a:pt x="325" y="1670"/>
                    </a:lnTo>
                    <a:lnTo>
                      <a:pt x="227" y="1490"/>
                    </a:lnTo>
                    <a:lnTo>
                      <a:pt x="120" y="1268"/>
                    </a:lnTo>
                    <a:lnTo>
                      <a:pt x="60" y="1095"/>
                    </a:lnTo>
                    <a:lnTo>
                      <a:pt x="10" y="898"/>
                    </a:lnTo>
                    <a:lnTo>
                      <a:pt x="0" y="715"/>
                    </a:lnTo>
                    <a:lnTo>
                      <a:pt x="0" y="598"/>
                    </a:lnTo>
                    <a:lnTo>
                      <a:pt x="15" y="470"/>
                    </a:lnTo>
                    <a:lnTo>
                      <a:pt x="52" y="360"/>
                    </a:lnTo>
                    <a:lnTo>
                      <a:pt x="142" y="230"/>
                    </a:lnTo>
                    <a:lnTo>
                      <a:pt x="250" y="133"/>
                    </a:lnTo>
                    <a:lnTo>
                      <a:pt x="362" y="68"/>
                    </a:lnTo>
                    <a:lnTo>
                      <a:pt x="487" y="23"/>
                    </a:lnTo>
                    <a:lnTo>
                      <a:pt x="632" y="0"/>
                    </a:lnTo>
                    <a:lnTo>
                      <a:pt x="752" y="0"/>
                    </a:lnTo>
                    <a:lnTo>
                      <a:pt x="912" y="13"/>
                    </a:lnTo>
                    <a:lnTo>
                      <a:pt x="1075" y="45"/>
                    </a:lnTo>
                    <a:lnTo>
                      <a:pt x="1312" y="98"/>
                    </a:lnTo>
                    <a:lnTo>
                      <a:pt x="1507" y="173"/>
                    </a:lnTo>
                    <a:lnTo>
                      <a:pt x="1730" y="283"/>
                    </a:lnTo>
                    <a:lnTo>
                      <a:pt x="1897" y="368"/>
                    </a:lnTo>
                    <a:lnTo>
                      <a:pt x="2140" y="518"/>
                    </a:lnTo>
                    <a:lnTo>
                      <a:pt x="2357" y="670"/>
                    </a:lnTo>
                    <a:lnTo>
                      <a:pt x="2565" y="823"/>
                    </a:lnTo>
                    <a:lnTo>
                      <a:pt x="2702" y="953"/>
                    </a:lnTo>
                    <a:lnTo>
                      <a:pt x="2715" y="963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3611000">
                <a:off x="6716520" y="5134680"/>
                <a:ext cx="1096560" cy="637200"/>
              </a:xfrm>
              <a:custGeom>
                <a:avLst/>
                <a:gdLst/>
                <a:ahLst/>
                <a:rect l="l" t="t" r="r" b="b"/>
                <a:pathLst>
                  <a:path w="5475" h="2577">
                    <a:moveTo>
                      <a:pt x="0" y="1750"/>
                    </a:moveTo>
                    <a:lnTo>
                      <a:pt x="15" y="1640"/>
                    </a:lnTo>
                    <a:lnTo>
                      <a:pt x="52" y="1520"/>
                    </a:lnTo>
                    <a:lnTo>
                      <a:pt x="115" y="1405"/>
                    </a:lnTo>
                    <a:lnTo>
                      <a:pt x="190" y="1293"/>
                    </a:lnTo>
                    <a:lnTo>
                      <a:pt x="325" y="1135"/>
                    </a:lnTo>
                    <a:lnTo>
                      <a:pt x="567" y="928"/>
                    </a:lnTo>
                    <a:lnTo>
                      <a:pt x="815" y="765"/>
                    </a:lnTo>
                    <a:lnTo>
                      <a:pt x="1130" y="603"/>
                    </a:lnTo>
                    <a:lnTo>
                      <a:pt x="1507" y="433"/>
                    </a:lnTo>
                    <a:lnTo>
                      <a:pt x="1840" y="313"/>
                    </a:lnTo>
                    <a:lnTo>
                      <a:pt x="2327" y="173"/>
                    </a:lnTo>
                    <a:lnTo>
                      <a:pt x="2727" y="88"/>
                    </a:lnTo>
                    <a:lnTo>
                      <a:pt x="3050" y="43"/>
                    </a:lnTo>
                    <a:lnTo>
                      <a:pt x="3397" y="10"/>
                    </a:lnTo>
                    <a:lnTo>
                      <a:pt x="3722" y="0"/>
                    </a:lnTo>
                    <a:lnTo>
                      <a:pt x="3950" y="0"/>
                    </a:lnTo>
                    <a:lnTo>
                      <a:pt x="4190" y="20"/>
                    </a:lnTo>
                    <a:lnTo>
                      <a:pt x="4452" y="50"/>
                    </a:lnTo>
                    <a:lnTo>
                      <a:pt x="4720" y="120"/>
                    </a:lnTo>
                    <a:lnTo>
                      <a:pt x="4922" y="183"/>
                    </a:lnTo>
                    <a:lnTo>
                      <a:pt x="5077" y="265"/>
                    </a:lnTo>
                    <a:lnTo>
                      <a:pt x="5212" y="355"/>
                    </a:lnTo>
                    <a:lnTo>
                      <a:pt x="5305" y="433"/>
                    </a:lnTo>
                    <a:lnTo>
                      <a:pt x="5382" y="530"/>
                    </a:lnTo>
                    <a:lnTo>
                      <a:pt x="5442" y="635"/>
                    </a:lnTo>
                    <a:lnTo>
                      <a:pt x="5465" y="735"/>
                    </a:lnTo>
                    <a:lnTo>
                      <a:pt x="5475" y="843"/>
                    </a:lnTo>
                    <a:lnTo>
                      <a:pt x="5455" y="938"/>
                    </a:lnTo>
                    <a:lnTo>
                      <a:pt x="5432" y="1038"/>
                    </a:lnTo>
                    <a:lnTo>
                      <a:pt x="5390" y="1133"/>
                    </a:lnTo>
                    <a:lnTo>
                      <a:pt x="5305" y="1270"/>
                    </a:lnTo>
                    <a:lnTo>
                      <a:pt x="5205" y="1380"/>
                    </a:lnTo>
                    <a:lnTo>
                      <a:pt x="4992" y="1577"/>
                    </a:lnTo>
                    <a:lnTo>
                      <a:pt x="4720" y="1775"/>
                    </a:lnTo>
                    <a:lnTo>
                      <a:pt x="4492" y="1905"/>
                    </a:lnTo>
                    <a:lnTo>
                      <a:pt x="4200" y="2042"/>
                    </a:lnTo>
                    <a:lnTo>
                      <a:pt x="3937" y="2152"/>
                    </a:lnTo>
                    <a:lnTo>
                      <a:pt x="3502" y="2302"/>
                    </a:lnTo>
                    <a:lnTo>
                      <a:pt x="3137" y="2402"/>
                    </a:lnTo>
                    <a:lnTo>
                      <a:pt x="2727" y="2490"/>
                    </a:lnTo>
                    <a:lnTo>
                      <a:pt x="2570" y="2520"/>
                    </a:lnTo>
                    <a:lnTo>
                      <a:pt x="2372" y="2547"/>
                    </a:lnTo>
                    <a:lnTo>
                      <a:pt x="2165" y="2567"/>
                    </a:lnTo>
                    <a:lnTo>
                      <a:pt x="2007" y="2567"/>
                    </a:lnTo>
                    <a:lnTo>
                      <a:pt x="1737" y="2577"/>
                    </a:lnTo>
                    <a:lnTo>
                      <a:pt x="1477" y="2577"/>
                    </a:lnTo>
                    <a:lnTo>
                      <a:pt x="1237" y="2542"/>
                    </a:lnTo>
                    <a:lnTo>
                      <a:pt x="982" y="2505"/>
                    </a:lnTo>
                    <a:lnTo>
                      <a:pt x="722" y="2445"/>
                    </a:lnTo>
                    <a:lnTo>
                      <a:pt x="580" y="2400"/>
                    </a:lnTo>
                    <a:lnTo>
                      <a:pt x="435" y="2340"/>
                    </a:lnTo>
                    <a:lnTo>
                      <a:pt x="307" y="2260"/>
                    </a:lnTo>
                    <a:lnTo>
                      <a:pt x="210" y="2177"/>
                    </a:lnTo>
                    <a:lnTo>
                      <a:pt x="127" y="2087"/>
                    </a:lnTo>
                    <a:lnTo>
                      <a:pt x="52" y="1985"/>
                    </a:lnTo>
                    <a:lnTo>
                      <a:pt x="10" y="1875"/>
                    </a:lnTo>
                    <a:lnTo>
                      <a:pt x="0" y="1750"/>
                    </a:lnTo>
                  </a:path>
                </a:pathLst>
              </a:custGeom>
              <a:noFill/>
              <a:ln w="1260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rot="13611000">
                <a:off x="7119000" y="5329800"/>
                <a:ext cx="609120" cy="613800"/>
              </a:xfrm>
              <a:custGeom>
                <a:avLst/>
                <a:gdLst/>
                <a:ahLst/>
                <a:rect l="l" t="t" r="r" b="b"/>
                <a:pathLst>
                  <a:path w="3043" h="2482">
                    <a:moveTo>
                      <a:pt x="0" y="137"/>
                    </a:moveTo>
                    <a:lnTo>
                      <a:pt x="423" y="62"/>
                    </a:lnTo>
                    <a:lnTo>
                      <a:pt x="843" y="20"/>
                    </a:lnTo>
                    <a:lnTo>
                      <a:pt x="1253" y="0"/>
                    </a:lnTo>
                    <a:lnTo>
                      <a:pt x="1665" y="10"/>
                    </a:lnTo>
                    <a:lnTo>
                      <a:pt x="2055" y="52"/>
                    </a:lnTo>
                    <a:lnTo>
                      <a:pt x="2293" y="107"/>
                    </a:lnTo>
                    <a:lnTo>
                      <a:pt x="2485" y="170"/>
                    </a:lnTo>
                    <a:lnTo>
                      <a:pt x="2670" y="270"/>
                    </a:lnTo>
                    <a:lnTo>
                      <a:pt x="2788" y="345"/>
                    </a:lnTo>
                    <a:lnTo>
                      <a:pt x="2900" y="440"/>
                    </a:lnTo>
                    <a:lnTo>
                      <a:pt x="2980" y="550"/>
                    </a:lnTo>
                    <a:lnTo>
                      <a:pt x="3028" y="670"/>
                    </a:lnTo>
                    <a:lnTo>
                      <a:pt x="3043" y="825"/>
                    </a:lnTo>
                    <a:lnTo>
                      <a:pt x="3015" y="1002"/>
                    </a:lnTo>
                    <a:lnTo>
                      <a:pt x="2953" y="1155"/>
                    </a:lnTo>
                    <a:lnTo>
                      <a:pt x="2845" y="1305"/>
                    </a:lnTo>
                    <a:lnTo>
                      <a:pt x="2703" y="1447"/>
                    </a:lnTo>
                    <a:lnTo>
                      <a:pt x="2530" y="1602"/>
                    </a:lnTo>
                    <a:lnTo>
                      <a:pt x="2293" y="1759"/>
                    </a:lnTo>
                    <a:lnTo>
                      <a:pt x="2125" y="1862"/>
                    </a:lnTo>
                    <a:lnTo>
                      <a:pt x="1908" y="1979"/>
                    </a:lnTo>
                    <a:lnTo>
                      <a:pt x="1660" y="2087"/>
                    </a:lnTo>
                    <a:lnTo>
                      <a:pt x="1375" y="2197"/>
                    </a:lnTo>
                    <a:lnTo>
                      <a:pt x="1050" y="2294"/>
                    </a:lnTo>
                    <a:lnTo>
                      <a:pt x="675" y="2394"/>
                    </a:lnTo>
                    <a:lnTo>
                      <a:pt x="290" y="2482"/>
                    </a:lnTo>
                  </a:path>
                </a:pathLst>
              </a:custGeom>
              <a:noFill/>
              <a:ln w="25560">
                <a:solidFill>
                  <a:srgbClr val="404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475680" y="4898520"/>
              <a:ext cx="1354320" cy="1335240"/>
              <a:chOff x="6475680" y="4898520"/>
              <a:chExt cx="1354320" cy="133524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6475680" y="4898520"/>
                <a:ext cx="1354320" cy="1335240"/>
                <a:chOff x="6475680" y="4898520"/>
                <a:chExt cx="1354320" cy="133524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6562440" y="5093280"/>
                  <a:ext cx="156960" cy="155520"/>
                  <a:chOff x="6562440" y="5093280"/>
                  <a:chExt cx="156960" cy="1555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H="1" rot="13611000">
                    <a:off x="6591240" y="5109840"/>
                    <a:ext cx="99000" cy="12204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13611000">
                    <a:off x="6592320" y="5115600"/>
                    <a:ext cx="87480" cy="10764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3611000">
                    <a:off x="6591600" y="5120640"/>
                    <a:ext cx="77040" cy="9720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13611000">
                    <a:off x="6590880" y="5133240"/>
                    <a:ext cx="63720" cy="75240"/>
                  </a:xfrm>
                  <a:prstGeom prst="ellipse">
                    <a:avLst/>
                  </a:pr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rot="13611000">
                    <a:off x="6594840" y="5141520"/>
                    <a:ext cx="45000" cy="5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 rot="13611000">
                    <a:off x="6600600" y="5157000"/>
                    <a:ext cx="22320" cy="2700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6475680" y="5776560"/>
                  <a:ext cx="136440" cy="135720"/>
                  <a:chOff x="6475680" y="5776560"/>
                  <a:chExt cx="136440" cy="1357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13611000">
                    <a:off x="6500160" y="5791320"/>
                    <a:ext cx="86400" cy="1062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13611000">
                    <a:off x="6501960" y="5796360"/>
                    <a:ext cx="76320" cy="9396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13611000">
                    <a:off x="6501240" y="5801040"/>
                    <a:ext cx="67320" cy="8424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13611000">
                    <a:off x="6500880" y="5811480"/>
                    <a:ext cx="55440" cy="65880"/>
                  </a:xfrm>
                  <a:prstGeom prst="ellipse">
                    <a:avLst/>
                  </a:pr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13611000">
                    <a:off x="6504120" y="5818680"/>
                    <a:ext cx="3960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rot="13611000">
                    <a:off x="6509880" y="5832360"/>
                    <a:ext cx="19080" cy="2376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400160" y="6007680"/>
                  <a:ext cx="227880" cy="226080"/>
                  <a:chOff x="7400160" y="6007680"/>
                  <a:chExt cx="227880" cy="22608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flipH="1" rot="13611000">
                    <a:off x="7441560" y="6031800"/>
                    <a:ext cx="144000" cy="17712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flipH="1" rot="13611000">
                    <a:off x="7444080" y="6040800"/>
                    <a:ext cx="127080" cy="15624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 rot="13611000">
                    <a:off x="7443360" y="6048000"/>
                    <a:ext cx="111960" cy="1411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13611000">
                    <a:off x="7442640" y="6066000"/>
                    <a:ext cx="92520" cy="109440"/>
                  </a:xfrm>
                  <a:prstGeom prst="ellipse">
                    <a:avLst/>
                  </a:pr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H="1" rot="13611000">
                    <a:off x="7448760" y="6078240"/>
                    <a:ext cx="65520" cy="81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 rot="13611000">
                    <a:off x="7456680" y="6100200"/>
                    <a:ext cx="32040" cy="3924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7131960" y="4898520"/>
                  <a:ext cx="110880" cy="110160"/>
                  <a:chOff x="7131960" y="4898520"/>
                  <a:chExt cx="110880" cy="11016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H="1" rot="13611000">
                    <a:off x="7152120" y="4910400"/>
                    <a:ext cx="70200" cy="864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H="1" rot="13611000">
                    <a:off x="7152840" y="4914000"/>
                    <a:ext cx="61920" cy="7632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3611000">
                    <a:off x="7152840" y="4917960"/>
                    <a:ext cx="54720" cy="691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 rot="13611000">
                    <a:off x="7152840" y="4926960"/>
                    <a:ext cx="45000" cy="53640"/>
                  </a:xfrm>
                  <a:prstGeom prst="ellipse">
                    <a:avLst/>
                  </a:pr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rot="13611000">
                    <a:off x="7155360" y="4932360"/>
                    <a:ext cx="32040" cy="39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3611000">
                    <a:off x="7159680" y="4943520"/>
                    <a:ext cx="15120" cy="1908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282080" y="5208480"/>
                  <a:ext cx="81000" cy="80640"/>
                  <a:chOff x="7282080" y="5208480"/>
                  <a:chExt cx="81000" cy="8064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3611000">
                    <a:off x="7296120" y="5217120"/>
                    <a:ext cx="51480" cy="630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3611000">
                    <a:off x="7297560" y="5220000"/>
                    <a:ext cx="45720" cy="5616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rot="13611000">
                    <a:off x="7297200" y="5222160"/>
                    <a:ext cx="39960" cy="5076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rot="13611000">
                    <a:off x="7297560" y="5229360"/>
                    <a:ext cx="33120" cy="38880"/>
                  </a:xfrm>
                  <a:prstGeom prst="ellipse">
                    <a:avLst/>
                  </a:pr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3611000">
                    <a:off x="7299360" y="5233320"/>
                    <a:ext cx="23040" cy="29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rot="13611000">
                    <a:off x="7302240" y="5240880"/>
                    <a:ext cx="11160" cy="1440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7299360" y="5898600"/>
                  <a:ext cx="91080" cy="90360"/>
                  <a:chOff x="7299360" y="5898600"/>
                  <a:chExt cx="91080" cy="903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 rot="13611000">
                    <a:off x="7315560" y="5907960"/>
                    <a:ext cx="57600" cy="7092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13611000">
                    <a:off x="7316640" y="5911200"/>
                    <a:ext cx="51120" cy="6264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 rot="13611000">
                    <a:off x="7316280" y="5914440"/>
                    <a:ext cx="45000" cy="565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3611000">
                    <a:off x="7315920" y="5921640"/>
                    <a:ext cx="37080" cy="43920"/>
                  </a:xfrm>
                  <a:prstGeom prst="ellipse">
                    <a:avLst/>
                  </a:pr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 rot="13611000">
                    <a:off x="7318440" y="5925960"/>
                    <a:ext cx="26280" cy="32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rot="13611000">
                    <a:off x="7321680" y="5934600"/>
                    <a:ext cx="12600" cy="1620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7673040" y="4960080"/>
                  <a:ext cx="156960" cy="155520"/>
                  <a:chOff x="7673040" y="4960080"/>
                  <a:chExt cx="156960" cy="1555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flipH="1" rot="13611000">
                    <a:off x="7701840" y="4976640"/>
                    <a:ext cx="99000" cy="12204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 rot="13611000">
                    <a:off x="7702920" y="4982400"/>
                    <a:ext cx="87480" cy="10764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13611000">
                    <a:off x="7702560" y="4987440"/>
                    <a:ext cx="77040" cy="9720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rot="13611000">
                    <a:off x="7701480" y="5000040"/>
                    <a:ext cx="63720" cy="75240"/>
                  </a:xfrm>
                  <a:prstGeom prst="ellipse">
                    <a:avLst/>
                  </a:pr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rot="13611000">
                    <a:off x="7705440" y="5008320"/>
                    <a:ext cx="45000" cy="5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13611000">
                    <a:off x="7711200" y="5023800"/>
                    <a:ext cx="22320" cy="2700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7071120" y="5314320"/>
                <a:ext cx="346320" cy="329400"/>
                <a:chOff x="7071120" y="5314320"/>
                <a:chExt cx="346320" cy="32940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7090560" y="5439600"/>
                  <a:ext cx="123840" cy="123120"/>
                  <a:chOff x="7090560" y="5439600"/>
                  <a:chExt cx="123840" cy="1231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flipH="1" rot="13611000">
                    <a:off x="7112880" y="5452920"/>
                    <a:ext cx="78840" cy="9576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 rot="13611000">
                    <a:off x="7113600" y="5457960"/>
                    <a:ext cx="68760" cy="8424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3611000">
                    <a:off x="7112520" y="5463000"/>
                    <a:ext cx="61920" cy="7488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13611000">
                    <a:off x="7114320" y="5472000"/>
                    <a:ext cx="50040" cy="5904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13611000">
                    <a:off x="7116480" y="5479200"/>
                    <a:ext cx="36000" cy="4320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3611000">
                    <a:off x="7121160" y="5490360"/>
                    <a:ext cx="1692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147440" y="5482800"/>
                  <a:ext cx="123480" cy="122760"/>
                  <a:chOff x="7147440" y="5482800"/>
                  <a:chExt cx="123480" cy="12276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13611000">
                    <a:off x="7169040" y="5496120"/>
                    <a:ext cx="78840" cy="9540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13611000">
                    <a:off x="7171200" y="5501520"/>
                    <a:ext cx="68400" cy="8424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 rot="13611000">
                    <a:off x="7170480" y="5505480"/>
                    <a:ext cx="6084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rot="13611000">
                    <a:off x="7170480" y="5514840"/>
                    <a:ext cx="50040" cy="5904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rot="13611000">
                    <a:off x="7173720" y="5521680"/>
                    <a:ext cx="34920" cy="4428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 rot="13611000">
                    <a:off x="7178400" y="5533560"/>
                    <a:ext cx="16920" cy="2052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207560" y="5492160"/>
                  <a:ext cx="123120" cy="122400"/>
                  <a:chOff x="7207560" y="5492160"/>
                  <a:chExt cx="123120" cy="12240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H="1" rot="13611000">
                    <a:off x="7229520" y="5505480"/>
                    <a:ext cx="78480" cy="9540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rot="13611000">
                    <a:off x="7230240" y="5510160"/>
                    <a:ext cx="68760" cy="8424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rot="13611000">
                    <a:off x="7229880" y="5514840"/>
                    <a:ext cx="6084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rot="13611000">
                    <a:off x="7230240" y="5523840"/>
                    <a:ext cx="50040" cy="5904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rot="13611000">
                    <a:off x="7233120" y="5531400"/>
                    <a:ext cx="35280" cy="4320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rot="13611000">
                    <a:off x="7237800" y="5543280"/>
                    <a:ext cx="16560" cy="2052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179480" y="5325840"/>
                  <a:ext cx="123120" cy="122400"/>
                  <a:chOff x="7179480" y="5325840"/>
                  <a:chExt cx="123120" cy="1224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 rot="13611000">
                    <a:off x="7201080" y="5339520"/>
                    <a:ext cx="79200" cy="9468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rot="13611000">
                    <a:off x="7202160" y="5342760"/>
                    <a:ext cx="68760" cy="8532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13611000">
                    <a:off x="7201080" y="5348520"/>
                    <a:ext cx="62280" cy="7524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rot="13611000">
                    <a:off x="7202880" y="5357160"/>
                    <a:ext cx="4968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13611000">
                    <a:off x="7204680" y="5364360"/>
                    <a:ext cx="36000" cy="4428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3611000">
                    <a:off x="7210080" y="5376240"/>
                    <a:ext cx="16920" cy="2052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193520" y="5372280"/>
                  <a:ext cx="123120" cy="122400"/>
                  <a:chOff x="7193520" y="5372280"/>
                  <a:chExt cx="123120" cy="1224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3611000">
                    <a:off x="7215480" y="5385600"/>
                    <a:ext cx="78480" cy="9540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3611000">
                    <a:off x="7216560" y="5390280"/>
                    <a:ext cx="68400" cy="8424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rot="13611000">
                    <a:off x="7215120" y="5395320"/>
                    <a:ext cx="61920" cy="7488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3611000">
                    <a:off x="7216920" y="5403600"/>
                    <a:ext cx="49320" cy="5976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13611000">
                    <a:off x="7219440" y="5411520"/>
                    <a:ext cx="36000" cy="4320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 rot="13611000">
                    <a:off x="7224840" y="5423040"/>
                    <a:ext cx="16200" cy="2016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7144560" y="5418000"/>
                  <a:ext cx="122760" cy="121680"/>
                  <a:chOff x="7144560" y="5418000"/>
                  <a:chExt cx="122760" cy="1216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H="1" rot="13611000">
                    <a:off x="7166520" y="5430960"/>
                    <a:ext cx="77760" cy="9504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rot="13611000">
                    <a:off x="7167600" y="5434560"/>
                    <a:ext cx="68760" cy="8532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3611000">
                    <a:off x="7167240" y="5440320"/>
                    <a:ext cx="61560" cy="7524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13611000">
                    <a:off x="7167600" y="5448960"/>
                    <a:ext cx="5004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rot="13611000">
                    <a:off x="7169760" y="5456520"/>
                    <a:ext cx="35640" cy="4320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3611000">
                    <a:off x="7175520" y="5467320"/>
                    <a:ext cx="16200" cy="21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7213320" y="5442480"/>
                  <a:ext cx="123120" cy="122400"/>
                  <a:chOff x="7213320" y="5442480"/>
                  <a:chExt cx="123120" cy="1224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3611000">
                    <a:off x="7235280" y="5456160"/>
                    <a:ext cx="78840" cy="9468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3611000">
                    <a:off x="7236360" y="5461200"/>
                    <a:ext cx="68760" cy="8388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13611000">
                    <a:off x="7235640" y="5465160"/>
                    <a:ext cx="61200" cy="7596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 rot="13611000">
                    <a:off x="7236000" y="5474160"/>
                    <a:ext cx="5040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13611000">
                    <a:off x="7238880" y="5480640"/>
                    <a:ext cx="34920" cy="4392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rot="13611000">
                    <a:off x="7243560" y="5493240"/>
                    <a:ext cx="16920" cy="2016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7123320" y="5363640"/>
                  <a:ext cx="123840" cy="123120"/>
                  <a:chOff x="7123320" y="5363640"/>
                  <a:chExt cx="123840" cy="12312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flipH="1" rot="13611000">
                    <a:off x="7146000" y="5376960"/>
                    <a:ext cx="78480" cy="9612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 rot="13611000">
                    <a:off x="7147080" y="5382360"/>
                    <a:ext cx="68760" cy="8388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rot="13611000">
                    <a:off x="7145640" y="5386320"/>
                    <a:ext cx="6192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 rot="13611000">
                    <a:off x="7147080" y="5395320"/>
                    <a:ext cx="50040" cy="5976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 rot="13611000">
                    <a:off x="7149600" y="5403240"/>
                    <a:ext cx="35640" cy="4392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rot="13611000">
                    <a:off x="7155000" y="5415120"/>
                    <a:ext cx="1620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7269840" y="5407920"/>
                  <a:ext cx="123120" cy="122400"/>
                  <a:chOff x="7269840" y="5407920"/>
                  <a:chExt cx="123120" cy="1224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 flipH="1" rot="13611000">
                    <a:off x="7291800" y="5421600"/>
                    <a:ext cx="78840" cy="9468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 rot="13611000">
                    <a:off x="7293600" y="5425920"/>
                    <a:ext cx="68400" cy="8460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rot="13611000">
                    <a:off x="7292520" y="5430960"/>
                    <a:ext cx="60840" cy="7524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rot="13611000">
                    <a:off x="7293240" y="5439240"/>
                    <a:ext cx="50040" cy="5904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rot="13611000">
                    <a:off x="7295040" y="5447160"/>
                    <a:ext cx="35280" cy="4320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rot="13611000">
                    <a:off x="7300080" y="5458680"/>
                    <a:ext cx="1692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7229880" y="5358960"/>
                  <a:ext cx="123120" cy="122400"/>
                  <a:chOff x="7229880" y="5358960"/>
                  <a:chExt cx="123120" cy="1224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flipH="1" rot="13611000">
                    <a:off x="7251840" y="5372280"/>
                    <a:ext cx="78480" cy="9540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 rot="13611000">
                    <a:off x="7253280" y="5376600"/>
                    <a:ext cx="68400" cy="8496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 rot="13611000">
                    <a:off x="7252200" y="5381280"/>
                    <a:ext cx="6228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 rot="13611000">
                    <a:off x="7253280" y="5391000"/>
                    <a:ext cx="49320" cy="5832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rot="13611000">
                    <a:off x="7255080" y="5398200"/>
                    <a:ext cx="35640" cy="4320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 rot="13611000">
                    <a:off x="7260120" y="5409720"/>
                    <a:ext cx="16200" cy="2088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263360" y="5409360"/>
                  <a:ext cx="122760" cy="121680"/>
                  <a:chOff x="7263360" y="5409360"/>
                  <a:chExt cx="122760" cy="1216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flipH="1" rot="13611000">
                    <a:off x="7285320" y="5422320"/>
                    <a:ext cx="77760" cy="9504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rot="13611000">
                    <a:off x="7286400" y="5425920"/>
                    <a:ext cx="68760" cy="8532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 rot="13611000">
                    <a:off x="7286040" y="5431680"/>
                    <a:ext cx="61560" cy="7524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 rot="13611000">
                    <a:off x="7286040" y="5440320"/>
                    <a:ext cx="5004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3611000">
                    <a:off x="7288560" y="5447880"/>
                    <a:ext cx="35640" cy="4320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 rot="13611000">
                    <a:off x="7294320" y="5458680"/>
                    <a:ext cx="16200" cy="21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7284600" y="5419080"/>
                  <a:ext cx="122760" cy="121680"/>
                  <a:chOff x="7284600" y="5419080"/>
                  <a:chExt cx="122760" cy="12168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flipH="1" rot="13611000">
                    <a:off x="7306560" y="5432040"/>
                    <a:ext cx="77760" cy="9504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 rot="13611000">
                    <a:off x="7307640" y="5435640"/>
                    <a:ext cx="68760" cy="8532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 rot="13611000">
                    <a:off x="7307280" y="5441400"/>
                    <a:ext cx="61560" cy="7524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rot="13611000">
                    <a:off x="7307640" y="5450040"/>
                    <a:ext cx="5004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 rot="13611000">
                    <a:off x="7309800" y="5457600"/>
                    <a:ext cx="35640" cy="4320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 rot="13611000">
                    <a:off x="7315560" y="5468040"/>
                    <a:ext cx="16200" cy="21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294680" y="5347800"/>
                  <a:ext cx="122760" cy="121680"/>
                  <a:chOff x="7294680" y="5347800"/>
                  <a:chExt cx="122760" cy="12168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13611000">
                    <a:off x="7316640" y="5360760"/>
                    <a:ext cx="77760" cy="9504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13611000">
                    <a:off x="7317720" y="5364720"/>
                    <a:ext cx="68760" cy="8532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13611000">
                    <a:off x="7317360" y="5370480"/>
                    <a:ext cx="61560" cy="7524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 rot="13611000">
                    <a:off x="7317360" y="5378760"/>
                    <a:ext cx="5004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13611000">
                    <a:off x="7319880" y="5386320"/>
                    <a:ext cx="35640" cy="4320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rot="13611000">
                    <a:off x="7325280" y="5397120"/>
                    <a:ext cx="16200" cy="21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7242120" y="5354640"/>
                  <a:ext cx="123840" cy="123120"/>
                  <a:chOff x="7242120" y="5354640"/>
                  <a:chExt cx="123840" cy="12312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flipH="1" rot="13611000">
                    <a:off x="7264800" y="5367960"/>
                    <a:ext cx="78480" cy="9612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 rot="13611000">
                    <a:off x="7265880" y="5373000"/>
                    <a:ext cx="68760" cy="8388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3611000">
                    <a:off x="7264440" y="5376960"/>
                    <a:ext cx="6192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rot="13611000">
                    <a:off x="7265880" y="5385960"/>
                    <a:ext cx="50040" cy="5976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13611000">
                    <a:off x="7268400" y="5394240"/>
                    <a:ext cx="35640" cy="4392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13611000">
                    <a:off x="7273800" y="5405760"/>
                    <a:ext cx="1620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7264080" y="5314320"/>
                  <a:ext cx="123840" cy="123120"/>
                  <a:chOff x="7264080" y="5314320"/>
                  <a:chExt cx="123840" cy="1231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13611000">
                    <a:off x="7286760" y="5327640"/>
                    <a:ext cx="78480" cy="9612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13611000">
                    <a:off x="7287840" y="5332680"/>
                    <a:ext cx="68760" cy="8388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 rot="13611000">
                    <a:off x="7286400" y="5336640"/>
                    <a:ext cx="6192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13611000">
                    <a:off x="7287840" y="5345640"/>
                    <a:ext cx="50040" cy="5976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 rot="13611000">
                    <a:off x="7290360" y="5353920"/>
                    <a:ext cx="35640" cy="4392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 rot="13611000">
                    <a:off x="7295760" y="5365440"/>
                    <a:ext cx="1620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7244280" y="5455800"/>
                  <a:ext cx="123840" cy="123120"/>
                  <a:chOff x="7244280" y="5455800"/>
                  <a:chExt cx="123840" cy="12312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flipH="1" rot="13611000">
                    <a:off x="7266960" y="5469120"/>
                    <a:ext cx="78480" cy="9612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 rot="13611000">
                    <a:off x="7268040" y="5474160"/>
                    <a:ext cx="68760" cy="8388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13611000">
                    <a:off x="7266240" y="5478120"/>
                    <a:ext cx="6192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 rot="13611000">
                    <a:off x="7268040" y="5487120"/>
                    <a:ext cx="50040" cy="5976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rot="13611000">
                    <a:off x="7270560" y="5495400"/>
                    <a:ext cx="35640" cy="4392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rot="13611000">
                    <a:off x="7275600" y="5506920"/>
                    <a:ext cx="1620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7142400" y="5428440"/>
                  <a:ext cx="123840" cy="123120"/>
                  <a:chOff x="7142400" y="5428440"/>
                  <a:chExt cx="123840" cy="12312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H="1" rot="13611000">
                    <a:off x="7165080" y="5441760"/>
                    <a:ext cx="78480" cy="9612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 rot="13611000">
                    <a:off x="7166160" y="5446800"/>
                    <a:ext cx="68760" cy="8388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3611000">
                    <a:off x="7164720" y="5450760"/>
                    <a:ext cx="6192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13611000">
                    <a:off x="7166160" y="5459760"/>
                    <a:ext cx="50040" cy="5976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rot="13611000">
                    <a:off x="7168680" y="5467680"/>
                    <a:ext cx="35640" cy="4392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3611000">
                    <a:off x="7174080" y="5479560"/>
                    <a:ext cx="1620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7274880" y="5488560"/>
                  <a:ext cx="123840" cy="123120"/>
                  <a:chOff x="7274880" y="5488560"/>
                  <a:chExt cx="123840" cy="1231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3611000">
                    <a:off x="7297560" y="5501880"/>
                    <a:ext cx="78480" cy="9612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3611000">
                    <a:off x="7298640" y="5507280"/>
                    <a:ext cx="68760" cy="8388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 rot="13611000">
                    <a:off x="7297200" y="5511240"/>
                    <a:ext cx="6192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 rot="13611000">
                    <a:off x="7298640" y="5520240"/>
                    <a:ext cx="50040" cy="5976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611000">
                    <a:off x="7301160" y="5528160"/>
                    <a:ext cx="35640" cy="4392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 rot="13611000">
                    <a:off x="7306560" y="5540040"/>
                    <a:ext cx="1620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7173000" y="5461920"/>
                  <a:ext cx="122760" cy="121680"/>
                  <a:chOff x="7173000" y="5461920"/>
                  <a:chExt cx="122760" cy="12168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 rot="13611000">
                    <a:off x="7194960" y="5474880"/>
                    <a:ext cx="77760" cy="9504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13611000">
                    <a:off x="7196040" y="5478840"/>
                    <a:ext cx="68760" cy="8532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 rot="13611000">
                    <a:off x="7195680" y="5484240"/>
                    <a:ext cx="61560" cy="7524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H="1" rot="13611000">
                    <a:off x="7195680" y="5492880"/>
                    <a:ext cx="5004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13611000">
                    <a:off x="7198200" y="5500440"/>
                    <a:ext cx="35640" cy="4320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flipH="1" rot="13611000">
                    <a:off x="7203960" y="5511240"/>
                    <a:ext cx="16200" cy="21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7291800" y="5453280"/>
                  <a:ext cx="122760" cy="121680"/>
                  <a:chOff x="7291800" y="5453280"/>
                  <a:chExt cx="122760" cy="12168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 flipH="1" rot="13611000">
                    <a:off x="7313760" y="5466240"/>
                    <a:ext cx="77760" cy="9504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 rot="13611000">
                    <a:off x="7314840" y="5470200"/>
                    <a:ext cx="68760" cy="8532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 rot="13611000">
                    <a:off x="7314480" y="5475600"/>
                    <a:ext cx="61560" cy="7524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 rot="13611000">
                    <a:off x="7314480" y="5484240"/>
                    <a:ext cx="5004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 rot="13611000">
                    <a:off x="7317000" y="5491800"/>
                    <a:ext cx="35640" cy="4320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rot="13611000">
                    <a:off x="7322400" y="5502600"/>
                    <a:ext cx="16200" cy="21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7071120" y="5434560"/>
                  <a:ext cx="122760" cy="121680"/>
                  <a:chOff x="7071120" y="5434560"/>
                  <a:chExt cx="122760" cy="12168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 flipH="1" rot="13611000">
                    <a:off x="7093080" y="5447520"/>
                    <a:ext cx="77760" cy="9504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rot="13611000">
                    <a:off x="7094160" y="5451120"/>
                    <a:ext cx="68760" cy="8532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 rot="13611000">
                    <a:off x="7094160" y="5456880"/>
                    <a:ext cx="61560" cy="7524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rot="13611000">
                    <a:off x="7094160" y="5465520"/>
                    <a:ext cx="5004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 rot="13611000">
                    <a:off x="7096320" y="5473080"/>
                    <a:ext cx="35640" cy="4320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 rot="13611000">
                    <a:off x="7102080" y="5483520"/>
                    <a:ext cx="16200" cy="21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174440" y="5522040"/>
                  <a:ext cx="122760" cy="121680"/>
                  <a:chOff x="7174440" y="5522040"/>
                  <a:chExt cx="122760" cy="1216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flipH="1" rot="13611000">
                    <a:off x="7196400" y="5535000"/>
                    <a:ext cx="77760" cy="95040"/>
                  </a:xfrm>
                  <a:prstGeom prst="ellipse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 rot="13611000">
                    <a:off x="7197480" y="5538960"/>
                    <a:ext cx="68760" cy="8532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rot="13611000">
                    <a:off x="7197480" y="5544360"/>
                    <a:ext cx="61560" cy="75240"/>
                  </a:xfrm>
                  <a:prstGeom prst="ellipse">
                    <a:avLst/>
                  </a:prstGeom>
                  <a:solidFill>
                    <a:srgbClr val="0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rot="13611000">
                    <a:off x="7197480" y="5553000"/>
                    <a:ext cx="50040" cy="58680"/>
                  </a:xfrm>
                  <a:prstGeom prst="ellipse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H="1" rot="13611000">
                    <a:off x="7200000" y="5560560"/>
                    <a:ext cx="35640" cy="43200"/>
                  </a:xfrm>
                  <a:prstGeom prst="ellipse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rot="13611000">
                    <a:off x="7205400" y="5571360"/>
                    <a:ext cx="16200" cy="216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7140240" y="5507280"/>
                  <a:ext cx="123840" cy="123120"/>
                  <a:chOff x="7140240" y="5507280"/>
                  <a:chExt cx="123840" cy="12312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 rot="13611000">
                    <a:off x="7162920" y="5520600"/>
                    <a:ext cx="78480" cy="9612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 rot="13611000">
                    <a:off x="7164360" y="5525640"/>
                    <a:ext cx="68760" cy="8388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rot="13611000">
                    <a:off x="7162560" y="5529600"/>
                    <a:ext cx="6192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H="1" rot="13611000">
                    <a:off x="7164000" y="5538600"/>
                    <a:ext cx="50040" cy="5976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rot="13611000">
                    <a:off x="7166520" y="5546520"/>
                    <a:ext cx="35640" cy="4392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rot="13611000">
                    <a:off x="7171920" y="5558400"/>
                    <a:ext cx="1620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7207920" y="5443920"/>
                  <a:ext cx="123840" cy="123120"/>
                  <a:chOff x="7207920" y="5443920"/>
                  <a:chExt cx="123840" cy="12312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 flipH="1" rot="13611000">
                    <a:off x="7230600" y="5457240"/>
                    <a:ext cx="78480" cy="9612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rot="13611000">
                    <a:off x="7231680" y="5462280"/>
                    <a:ext cx="68760" cy="8388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rot="13611000">
                    <a:off x="7230240" y="5466240"/>
                    <a:ext cx="6192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rot="13611000">
                    <a:off x="7231680" y="5475240"/>
                    <a:ext cx="50040" cy="5976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rot="13611000">
                    <a:off x="7234200" y="5483520"/>
                    <a:ext cx="35640" cy="4392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 rot="13611000">
                    <a:off x="7239600" y="5495040"/>
                    <a:ext cx="1620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7190640" y="5398560"/>
                  <a:ext cx="123840" cy="123120"/>
                  <a:chOff x="7190640" y="5398560"/>
                  <a:chExt cx="123840" cy="12312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flipH="1" rot="13611000">
                    <a:off x="7213320" y="5411880"/>
                    <a:ext cx="78480" cy="96120"/>
                  </a:xfrm>
                  <a:prstGeom prst="ellipse">
                    <a:avLst/>
                  </a:pr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H="1" rot="13611000">
                    <a:off x="7214400" y="5416920"/>
                    <a:ext cx="68760" cy="8388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 rot="13611000">
                    <a:off x="7212600" y="5420880"/>
                    <a:ext cx="61920" cy="75960"/>
                  </a:xfrm>
                  <a:prstGeom prst="ellipse">
                    <a:avLst/>
                  </a:pr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 rot="13611000">
                    <a:off x="7214040" y="5429880"/>
                    <a:ext cx="50040" cy="5976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H="1" rot="13611000">
                    <a:off x="7216560" y="5438160"/>
                    <a:ext cx="35640" cy="43920"/>
                  </a:xfrm>
                  <a:prstGeom prst="ellipse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 rot="13611000">
                    <a:off x="7221960" y="5449680"/>
                    <a:ext cx="16200" cy="20160"/>
                  </a:xfrm>
                  <a:prstGeom prst="ellips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08" name=""/>
            <p:cNvSpPr/>
            <p:nvPr/>
          </p:nvSpPr>
          <p:spPr>
            <a:xfrm flipH="1" rot="14537400">
              <a:off x="7372440" y="5340960"/>
              <a:ext cx="922320" cy="826920"/>
            </a:xfrm>
            <a:custGeom>
              <a:avLst/>
              <a:gdLst/>
              <a:ahLst/>
              <a:rect l="l" t="t" r="r" b="b"/>
              <a:pathLst>
                <a:path w="2976" h="2160">
                  <a:moveTo>
                    <a:pt x="96" y="0"/>
                  </a:moveTo>
                  <a:cubicBezTo>
                    <a:pt x="48" y="120"/>
                    <a:pt x="0" y="240"/>
                    <a:pt x="96" y="288"/>
                  </a:cubicBezTo>
                  <a:cubicBezTo>
                    <a:pt x="192" y="336"/>
                    <a:pt x="552" y="216"/>
                    <a:pt x="672" y="288"/>
                  </a:cubicBezTo>
                  <a:cubicBezTo>
                    <a:pt x="792" y="360"/>
                    <a:pt x="696" y="624"/>
                    <a:pt x="816" y="720"/>
                  </a:cubicBezTo>
                  <a:cubicBezTo>
                    <a:pt x="936" y="816"/>
                    <a:pt x="1272" y="768"/>
                    <a:pt x="1392" y="864"/>
                  </a:cubicBezTo>
                  <a:cubicBezTo>
                    <a:pt x="1512" y="960"/>
                    <a:pt x="1416" y="1224"/>
                    <a:pt x="1536" y="1296"/>
                  </a:cubicBezTo>
                  <a:cubicBezTo>
                    <a:pt x="1656" y="1368"/>
                    <a:pt x="1992" y="1224"/>
                    <a:pt x="2112" y="1296"/>
                  </a:cubicBezTo>
                  <a:cubicBezTo>
                    <a:pt x="2232" y="1368"/>
                    <a:pt x="2136" y="1656"/>
                    <a:pt x="2256" y="1728"/>
                  </a:cubicBezTo>
                  <a:cubicBezTo>
                    <a:pt x="2376" y="1800"/>
                    <a:pt x="2712" y="1656"/>
                    <a:pt x="2832" y="1728"/>
                  </a:cubicBezTo>
                  <a:cubicBezTo>
                    <a:pt x="2952" y="1800"/>
                    <a:pt x="2952" y="2088"/>
                    <a:pt x="2976" y="2160"/>
                  </a:cubicBezTo>
                </a:path>
              </a:pathLst>
            </a:custGeom>
            <a:noFill/>
            <a:ln w="9360">
              <a:solidFill>
                <a:srgbClr val="ffff99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8364600" y="5867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45960" y="67320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quid Scintillation Was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15440" y="1666800"/>
            <a:ext cx="832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e “environmentally friendly” cocktail (water solu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olulene/xylene based media must be used, keep separate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ust keep an inventory with amount of a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LSC separate from other liquid was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re vials in flats, and check with RSO regarding method of dispos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 not mix these with cocktails containing other radioactive materia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92280" y="533160"/>
            <a:ext cx="77594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quid Waste Dis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45960" y="1479600"/>
            <a:ext cx="83822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4760" indent="-37476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ly soluble or readily dispersible biological materi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 wa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go down the drain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ther hazard is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entration does not exceed the allowable monthly average concen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amount of radioactivity does not exceed 5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nk has been approved by the RSO and is appropriately designated and labe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 keep an inventory with amount of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484200" y="1411200"/>
            <a:ext cx="817560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"/>
              </a:rPr>
              <a:t>When cleaning up a spill, place absorbent material around the edges of the spill and clean from the outside edges toward the center to avoi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"/>
              </a:rPr>
              <a:t>Place materials used to clean the spill into appropriate radioactive waste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"/>
              </a:rPr>
              <a:t>Notify others in the lab of the spill to prevent inadvertent spread of cont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"/>
              </a:rPr>
              <a:t>After clean-up, monitor all work areas using survey meter or wipe surveys, as applic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"/>
              </a:rPr>
              <a:t>Survey your hands, feet, clothing and all other materials that may have come in contact with the spilled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1200" y="469800"/>
            <a:ext cx="8902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Spill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/>
          </p:nvPr>
        </p:nvSpPr>
        <p:spPr>
          <a:xfrm>
            <a:off x="484200" y="1295280"/>
            <a:ext cx="81756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A minor spill is one that involves small quantities, low activities, low energy, or low hazard radioactive materials that are confined to a relatively small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Most spills that could occur in the lab would be minor and should be cleaned up by lab personnel ASA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Use the general spill clean-up procedure and common sen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You do not need to notify the RSO in the event of a minor spil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86000" y="469800"/>
            <a:ext cx="4572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Sp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84200" y="1411200"/>
            <a:ext cx="8175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9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An intermediate spill is one that involves larger quantities of radioactive material spread over a larger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Intermediate spills could also involve small amounts of more hazardous radioactive materials such as higher energy emitters or volatile compoun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A spill outside a restricted area may also be considered intermediate since controlling the area may be diffic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Use the general spill clean-up procedure and common sen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41200" y="538200"/>
            <a:ext cx="890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mediate Sp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484200" y="1479600"/>
            <a:ext cx="81756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07360" indent="-20736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Wear gloves, lab coats, dosimetry, and other protective cloth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7360" indent="-20736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Confine the contaminat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7360" indent="-20736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Prevent the spread of contamin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7360" indent="-20736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Use a survey instrument to check yourself for contamination before leaving the are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7360" indent="-20736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Pay special attention to hands and fe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7360" indent="-20736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Restrict access to the spill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7360" indent="-20736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Inform others in the immediate area and post notice if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7360" indent="-207360">
              <a:lnSpc>
                <a:spcPct val="100000"/>
              </a:lnSpc>
              <a:buClr>
                <a:srgbClr val="ff9933"/>
              </a:buClr>
              <a:buFont typeface="News Gothic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News Gothic"/>
              </a:rPr>
              <a:t>Contact the RSO (x2391) to report the situ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65240" y="469800"/>
            <a:ext cx="8902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mediate Spill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241200" y="277920"/>
            <a:ext cx="890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4200" y="1411200"/>
            <a:ext cx="831384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re in radioactive area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149040">
              <a:lnSpc>
                <a:spcPct val="100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tify Fire Department and RSO, clear the area of people. Remove any seriously wounded persons. Keep your dist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ft of radioactive material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149040">
              <a:lnSpc>
                <a:spcPct val="100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tify RSO (info is posted on lab door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149040">
              <a:lnSpc>
                <a:spcPct val="100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ate notification requir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tify RSO if you suspect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149040">
              <a:lnSpc>
                <a:spcPct val="100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halation, ingestion or other intake of radioactive materi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149040">
              <a:lnSpc>
                <a:spcPct val="100000"/>
              </a:lnSpc>
              <a:buClr>
                <a:srgbClr val="00cc99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cidental release of radioactive material into the environmen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00cc99"/>
              </a:buClr>
              <a:buSzPct val="70000"/>
              <a:buFont typeface="Monotype Sorts" charset="2"/>
              <a:buChar char="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00cc99"/>
              </a:buClr>
              <a:buSzPct val="70000"/>
              <a:buFont typeface="Monotype Sorts" charset="2"/>
              <a:buChar char="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77920" y="46944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&amp; Receip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Radioactive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45600" y="1815840"/>
            <a:ext cx="852012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SO is authorized to order radioactive 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Radionuclide Purchase Request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form and fax to RSO at 268-44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sure to state any special ordering instructions (preferred delivery date, fresh batch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are received by RSO, checked for contamination, logged in, and delivered to the lab on the same day as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76644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ing &amp; Labeling Not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5800" y="3630240"/>
            <a:ext cx="817416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09960" indent="-309960">
              <a:lnSpc>
                <a:spcPct val="90000"/>
              </a:lnSpc>
              <a:buClr>
                <a:srgbClr val="ff9933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Labe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600" indent="-25668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containers (unless exempt) must be label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600" indent="-25668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th “Caution – Radioactive Material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600" indent="-25668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hould include radionuclide, quantity, date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600" indent="-25668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itials, radiation levels, etc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039680" y="1411200"/>
            <a:ext cx="706464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409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5800" y="1681200"/>
            <a:ext cx="44341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s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 York Notice to Employees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ution Radioactive Materials or X-R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6248520" y="1697040"/>
          <a:ext cx="158904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697040"/>
                    <a:ext cx="15890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241200" y="402840"/>
            <a:ext cx="8902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ess Rest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54040" y="154620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quired by License and NY Regul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ecurity and Control of Radioactive Materi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96080" y="2732040"/>
            <a:ext cx="8093520" cy="2847600"/>
            <a:chOff x="496080" y="2732040"/>
            <a:chExt cx="8093520" cy="2847600"/>
          </a:xfrm>
        </p:grpSpPr>
        <p:sp>
          <p:nvSpPr>
            <p:cNvPr id="971" name=""/>
            <p:cNvSpPr/>
            <p:nvPr/>
          </p:nvSpPr>
          <p:spPr>
            <a:xfrm>
              <a:off x="3458520" y="3826800"/>
              <a:ext cx="2058120" cy="1207080"/>
            </a:xfrm>
            <a:prstGeom prst="ellipse">
              <a:avLst/>
            </a:prstGeom>
            <a:solidFill>
              <a:srgbClr val="008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721240" y="3261240"/>
              <a:ext cx="3590640" cy="2318400"/>
            </a:xfrm>
            <a:prstGeom prst="roundRect">
              <a:avLst>
                <a:gd name="adj" fmla="val 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93400" y="4234320"/>
              <a:ext cx="12164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3720"/>
                  <a:tab algn="l" pos="847800"/>
                  <a:tab algn="l" pos="1271520"/>
                  <a:tab algn="l" pos="1695600"/>
                  <a:tab algn="l" pos="2119320"/>
                  <a:tab algn="l" pos="2543040"/>
                  <a:tab algn="l" pos="2967120"/>
                  <a:tab algn="l" pos="3390840"/>
                  <a:tab algn="l" pos="3814920"/>
                  <a:tab algn="l" pos="4238640"/>
                  <a:tab algn="l" pos="4662360"/>
                  <a:tab algn="l" pos="5086440"/>
                  <a:tab algn="l" pos="5510160"/>
                  <a:tab algn="l" pos="5934240"/>
                  <a:tab algn="l" pos="6357960"/>
                  <a:tab algn="l" pos="6781680"/>
                  <a:tab algn="l" pos="7205760"/>
                  <a:tab algn="l" pos="7629480"/>
                  <a:tab algn="l" pos="8053560"/>
                  <a:tab algn="l" pos="84772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stricted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08080" y="3450240"/>
              <a:ext cx="21488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3720"/>
                  <a:tab algn="l" pos="847800"/>
                  <a:tab algn="l" pos="1271520"/>
                  <a:tab algn="l" pos="1695600"/>
                  <a:tab algn="l" pos="2119320"/>
                  <a:tab algn="l" pos="2543040"/>
                  <a:tab algn="l" pos="2967120"/>
                  <a:tab algn="l" pos="3390840"/>
                  <a:tab algn="l" pos="3814920"/>
                  <a:tab algn="l" pos="4238640"/>
                  <a:tab algn="l" pos="4662360"/>
                  <a:tab algn="l" pos="5086440"/>
                  <a:tab algn="l" pos="5510160"/>
                  <a:tab algn="l" pos="5934240"/>
                  <a:tab algn="l" pos="6357960"/>
                  <a:tab algn="l" pos="6781680"/>
                  <a:tab algn="l" pos="7205760"/>
                  <a:tab algn="l" pos="7629480"/>
                  <a:tab algn="l" pos="8053560"/>
                  <a:tab algn="l" pos="8477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olled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580800" y="4143240"/>
              <a:ext cx="2008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3720"/>
                  <a:tab algn="l" pos="847800"/>
                  <a:tab algn="l" pos="1271520"/>
                  <a:tab algn="l" pos="1695600"/>
                  <a:tab algn="l" pos="2119320"/>
                  <a:tab algn="l" pos="2543040"/>
                  <a:tab algn="l" pos="2967120"/>
                  <a:tab algn="l" pos="3390840"/>
                  <a:tab algn="l" pos="3814920"/>
                  <a:tab algn="l" pos="4238640"/>
                  <a:tab algn="l" pos="4662360"/>
                  <a:tab algn="l" pos="5086440"/>
                  <a:tab algn="l" pos="5510160"/>
                  <a:tab algn="l" pos="5934240"/>
                  <a:tab algn="l" pos="6357960"/>
                  <a:tab algn="l" pos="6781680"/>
                  <a:tab algn="l" pos="7205760"/>
                  <a:tab algn="l" pos="7629480"/>
                  <a:tab algn="l" pos="8053560"/>
                  <a:tab algn="l" pos="8477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stricted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42840" y="2732040"/>
              <a:ext cx="20408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stricted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96080" y="4143240"/>
              <a:ext cx="20408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stricted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6312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8902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ing Radio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8600" y="1066680"/>
            <a:ext cx="89154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657360" indent="-247680">
              <a:lnSpc>
                <a:spcPct val="100000"/>
              </a:lnSpc>
              <a:buClr>
                <a:srgbClr val="c20041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URIE: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unit of activity defined by the number of radioactive decays from a gram of rad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Curie (Ci) = 2.22 E12 disintegrations/minute (dpm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-multiples of the Cur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llicurie     1 mCi = 2.22 E9 d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crocurie  1 uCi = 2.22 E6 d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nocurie   1 nCi = 2,220 d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cocurie    1 pCi = 2.2 d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ical activities at Clarkson are in 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 to mCi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UNITS OF MEAS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integrations per minute (d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integrations per second (d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 unit for activity is the becquerel (B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Bq = 1 disintegration/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Curie (Ci) = 3.7 E10 Bq or 37 GB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04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millicurie = 37 MB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04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microcurie = 37 kB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2563560" y="538200"/>
            <a:ext cx="380988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84200" y="1411200"/>
            <a:ext cx="824400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censed RAM must be secured against unauthorized removal at all ti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ust maintain constant surveillance for any radioactive material outside a restricted are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ock labs containing radioactive material if last one out - even if it’s “just for a minute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hallenge all unknown individuals with “May I help you?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K to ask for 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port to supervisor if suspiciou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731960" y="452160"/>
            <a:ext cx="5680080" cy="11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loyee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4200" y="1816200"/>
            <a:ext cx="803592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9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ght to report any radiation protection problem to state without repercuss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sponsibility to comply with the Radiation Protection Program and the RSO's instructions pertaining to radiation prot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ght to request insp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9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wri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9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ounds for not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9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g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sponsibility to cooperate with NY State inspectors during inspections and RSO during internal lab audi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165240" y="403200"/>
            <a:ext cx="890244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96840" y="1889280"/>
            <a:ext cx="7309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This training course has been adapted fro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lides provided by Steve Backurz, Radiat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afety Officer of The University of New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Hampshire and by Eric Andersen, Radiation Safety Officer at the Dana-Farber Cancer Institu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5767200" cy="25560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5438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ological Effe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523880"/>
            <a:ext cx="419112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rge Doses Received in a Short Time Perio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id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uclear W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19980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  <a:tab algn="l" pos="9325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ncer Therap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ort Term Effects (Acute Radiation Syndrome 150 to 350 rad Whole Body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tabLst>
                <a:tab algn="l" pos="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norexia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ausea          Erythema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tabLst>
                <a:tab algn="l" pos="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Vomiting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Hemorrha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tabLst>
                <a:tab algn="l" pos="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Epilation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iarrhea        Mortal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tabLst>
                <a:tab algn="l" pos="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tabLst>
                <a:tab algn="l" pos="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512040" y="5041800"/>
            <a:ext cx="1269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34120" y="1523880"/>
            <a:ext cx="33526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0552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of Acute Whole Body Exposure o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4648320" y="2209680"/>
          <a:ext cx="4114800" cy="3444840"/>
        </p:xfrm>
        <a:graphic>
          <a:graphicData uri="http://schemas.openxmlformats.org/drawingml/2006/table">
            <a:tbl>
              <a:tblPr/>
              <a:tblGrid>
                <a:gridCol w="1676160"/>
                <a:gridCol w="2438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orbed Dose (ra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ath in a few h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ath within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ath within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D 50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le Reco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bservable ef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ood changes defin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lood changes obser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ological Effe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ses Received over Long Peri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ground Radiation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cupational Radiation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 rem acute vs 50 rem ch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ute: no time for cell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ronic: time for cell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US will receive 20 - 30 rem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 Term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d Risk of Can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7% per rem lifetim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Risk: 30% (cancer incid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41200" y="228240"/>
            <a:ext cx="8902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ckground Expos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" y="1066680"/>
            <a:ext cx="73915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r exposure to radiation can never be zero because background radiation is always pres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7680">
              <a:lnSpc>
                <a:spcPct val="100000"/>
              </a:lnSpc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Sources (Radon), Cosmic, Terrestrial, Medical Diagnostic, Consumer Products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rcRect l="22228" t="0" r="22228" b="0"/>
          <a:stretch/>
        </p:blipFill>
        <p:spPr>
          <a:xfrm>
            <a:off x="8229600" y="228600"/>
            <a:ext cx="762120" cy="13716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rcRect l="17894" t="44139" r="42789" b="0"/>
          <a:stretch/>
        </p:blipFill>
        <p:spPr>
          <a:xfrm>
            <a:off x="7772400" y="1828800"/>
            <a:ext cx="1216080" cy="12952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457200" y="5486400"/>
            <a:ext cx="8153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US average dose equivalent = 360 mrem/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90000" y="3276720"/>
            <a:ext cx="162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5000" y="3352680"/>
            <a:ext cx="20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-made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452880" y="3657600"/>
            <a:ext cx="3536640" cy="1645920"/>
            <a:chOff x="452880" y="3657600"/>
            <a:chExt cx="3536640" cy="1645920"/>
          </a:xfrm>
        </p:grpSpPr>
        <p:grpSp>
          <p:nvGrpSpPr>
            <p:cNvPr id="732" name=""/>
            <p:cNvGrpSpPr/>
            <p:nvPr/>
          </p:nvGrpSpPr>
          <p:grpSpPr>
            <a:xfrm>
              <a:off x="452880" y="3657600"/>
              <a:ext cx="3536640" cy="1645920"/>
              <a:chOff x="452880" y="3657600"/>
              <a:chExt cx="3536640" cy="1645920"/>
            </a:xfrm>
          </p:grpSpPr>
          <p:sp>
            <p:nvSpPr>
              <p:cNvPr id="733" name=""/>
              <p:cNvSpPr/>
              <p:nvPr/>
            </p:nvSpPr>
            <p:spPr>
              <a:xfrm>
                <a:off x="1172160" y="3657600"/>
                <a:ext cx="1408320" cy="907920"/>
              </a:xfrm>
              <a:custGeom>
                <a:avLst/>
                <a:gdLst/>
                <a:ahLst/>
                <a:rect l="l" t="t" r="r" b="b"/>
                <a:pathLst>
                  <a:path w="2406" h="1578">
                    <a:moveTo>
                      <a:pt x="1203" y="1206"/>
                    </a:moveTo>
                    <a:lnTo>
                      <a:pt x="60" y="1578"/>
                    </a:lnTo>
                    <a:lnTo>
                      <a:pt x="0" y="1206"/>
                    </a:lnTo>
                    <a:lnTo>
                      <a:pt x="26" y="925"/>
                    </a:lnTo>
                    <a:lnTo>
                      <a:pt x="102" y="680"/>
                    </a:lnTo>
                    <a:lnTo>
                      <a:pt x="220" y="472"/>
                    </a:lnTo>
                    <a:lnTo>
                      <a:pt x="375" y="302"/>
                    </a:lnTo>
                    <a:lnTo>
                      <a:pt x="557" y="170"/>
                    </a:lnTo>
                    <a:lnTo>
                      <a:pt x="760" y="76"/>
                    </a:lnTo>
                    <a:lnTo>
                      <a:pt x="1203" y="0"/>
                    </a:lnTo>
                    <a:lnTo>
                      <a:pt x="1315" y="1"/>
                    </a:lnTo>
                    <a:lnTo>
                      <a:pt x="1426" y="16"/>
                    </a:lnTo>
                    <a:lnTo>
                      <a:pt x="1645" y="73"/>
                    </a:lnTo>
                    <a:lnTo>
                      <a:pt x="1847" y="165"/>
                    </a:lnTo>
                    <a:lnTo>
                      <a:pt x="2029" y="300"/>
                    </a:lnTo>
                    <a:lnTo>
                      <a:pt x="2183" y="467"/>
                    </a:lnTo>
                    <a:lnTo>
                      <a:pt x="2301" y="677"/>
                    </a:lnTo>
                    <a:lnTo>
                      <a:pt x="2377" y="920"/>
                    </a:lnTo>
                    <a:lnTo>
                      <a:pt x="2406" y="1206"/>
                    </a:lnTo>
                    <a:lnTo>
                      <a:pt x="1203" y="1206"/>
                    </a:lnTo>
                    <a:close/>
                  </a:path>
                </a:pathLst>
              </a:custGeom>
              <a:solidFill>
                <a:srgbClr val="00008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207800" y="4351680"/>
                <a:ext cx="668520" cy="585720"/>
              </a:xfrm>
              <a:custGeom>
                <a:avLst/>
                <a:gdLst/>
                <a:ahLst/>
                <a:rect l="l" t="t" r="r" b="b"/>
                <a:pathLst>
                  <a:path w="1143" h="1019">
                    <a:moveTo>
                      <a:pt x="1143" y="0"/>
                    </a:moveTo>
                    <a:lnTo>
                      <a:pt x="500" y="1019"/>
                    </a:lnTo>
                    <a:lnTo>
                      <a:pt x="337" y="894"/>
                    </a:lnTo>
                    <a:lnTo>
                      <a:pt x="196" y="740"/>
                    </a:lnTo>
                    <a:lnTo>
                      <a:pt x="0" y="372"/>
                    </a:lnTo>
                    <a:lnTo>
                      <a:pt x="1143" y="0"/>
                    </a:lnTo>
                    <a:close/>
                  </a:path>
                </a:pathLst>
              </a:custGeom>
              <a:solidFill>
                <a:srgbClr val="ffff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499400" y="4351680"/>
                <a:ext cx="376560" cy="692640"/>
              </a:xfrm>
              <a:custGeom>
                <a:avLst/>
                <a:gdLst/>
                <a:ahLst/>
                <a:rect l="l" t="t" r="r" b="b"/>
                <a:pathLst>
                  <a:path w="643" h="1204">
                    <a:moveTo>
                      <a:pt x="643" y="0"/>
                    </a:moveTo>
                    <a:lnTo>
                      <a:pt x="569" y="1204"/>
                    </a:lnTo>
                    <a:lnTo>
                      <a:pt x="275" y="1151"/>
                    </a:lnTo>
                    <a:lnTo>
                      <a:pt x="0" y="1019"/>
                    </a:lnTo>
                    <a:lnTo>
                      <a:pt x="643" y="0"/>
                    </a:lnTo>
                    <a:close/>
                  </a:path>
                </a:pathLst>
              </a:custGeom>
              <a:solidFill>
                <a:srgbClr val="008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832400" y="4351680"/>
                <a:ext cx="343800" cy="692640"/>
              </a:xfrm>
              <a:custGeom>
                <a:avLst/>
                <a:gdLst/>
                <a:ahLst/>
                <a:rect l="l" t="t" r="r" b="b"/>
                <a:pathLst>
                  <a:path w="585" h="1206">
                    <a:moveTo>
                      <a:pt x="74" y="0"/>
                    </a:moveTo>
                    <a:lnTo>
                      <a:pt x="585" y="1092"/>
                    </a:lnTo>
                    <a:lnTo>
                      <a:pt x="301" y="1185"/>
                    </a:lnTo>
                    <a:lnTo>
                      <a:pt x="152" y="1204"/>
                    </a:lnTo>
                    <a:lnTo>
                      <a:pt x="77" y="1206"/>
                    </a:lnTo>
                    <a:lnTo>
                      <a:pt x="0" y="120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025720" y="4443480"/>
                <a:ext cx="703800" cy="630000"/>
              </a:xfrm>
              <a:custGeom>
                <a:avLst/>
                <a:gdLst/>
                <a:ahLst/>
                <a:rect l="l" t="t" r="r" b="b"/>
                <a:pathLst>
                  <a:path w="1203" h="1092">
                    <a:moveTo>
                      <a:pt x="0" y="0"/>
                    </a:moveTo>
                    <a:lnTo>
                      <a:pt x="1203" y="0"/>
                    </a:lnTo>
                    <a:lnTo>
                      <a:pt x="1201" y="82"/>
                    </a:lnTo>
                    <a:lnTo>
                      <a:pt x="1191" y="170"/>
                    </a:lnTo>
                    <a:lnTo>
                      <a:pt x="1154" y="337"/>
                    </a:lnTo>
                    <a:lnTo>
                      <a:pt x="1015" y="646"/>
                    </a:lnTo>
                    <a:lnTo>
                      <a:pt x="799" y="901"/>
                    </a:lnTo>
                    <a:lnTo>
                      <a:pt x="511" y="10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53680" y="3933000"/>
                <a:ext cx="552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ad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52880" y="4672440"/>
                <a:ext cx="1052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ternal 11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964800" y="5088600"/>
                <a:ext cx="951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smic 8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915920" y="5090040"/>
                <a:ext cx="1183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rrestrial 6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13320" y="4780440"/>
                <a:ext cx="1276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-Made 18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1931760" y="393120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5.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644720" y="3657600"/>
            <a:ext cx="2654640" cy="1802880"/>
            <a:chOff x="4644720" y="3657600"/>
            <a:chExt cx="2654640" cy="1802880"/>
          </a:xfrm>
        </p:grpSpPr>
        <p:sp>
          <p:nvSpPr>
            <p:cNvPr id="745" name=""/>
            <p:cNvSpPr/>
            <p:nvPr/>
          </p:nvSpPr>
          <p:spPr>
            <a:xfrm>
              <a:off x="5002920" y="3657600"/>
              <a:ext cx="1441800" cy="1046880"/>
            </a:xfrm>
            <a:custGeom>
              <a:avLst/>
              <a:gdLst/>
              <a:ahLst/>
              <a:rect l="l" t="t" r="r" b="b"/>
              <a:pathLst>
                <a:path w="2738" h="2020">
                  <a:moveTo>
                    <a:pt x="1369" y="1369"/>
                  </a:moveTo>
                  <a:lnTo>
                    <a:pt x="166" y="2020"/>
                  </a:lnTo>
                  <a:lnTo>
                    <a:pt x="43" y="1707"/>
                  </a:lnTo>
                  <a:lnTo>
                    <a:pt x="0" y="1369"/>
                  </a:lnTo>
                  <a:lnTo>
                    <a:pt x="30" y="1051"/>
                  </a:lnTo>
                  <a:lnTo>
                    <a:pt x="116" y="772"/>
                  </a:lnTo>
                  <a:lnTo>
                    <a:pt x="250" y="538"/>
                  </a:lnTo>
                  <a:lnTo>
                    <a:pt x="427" y="343"/>
                  </a:lnTo>
                  <a:lnTo>
                    <a:pt x="632" y="194"/>
                  </a:lnTo>
                  <a:lnTo>
                    <a:pt x="864" y="87"/>
                  </a:lnTo>
                  <a:lnTo>
                    <a:pt x="1110" y="22"/>
                  </a:lnTo>
                  <a:lnTo>
                    <a:pt x="1369" y="0"/>
                  </a:lnTo>
                  <a:lnTo>
                    <a:pt x="1496" y="4"/>
                  </a:lnTo>
                  <a:lnTo>
                    <a:pt x="1624" y="19"/>
                  </a:lnTo>
                  <a:lnTo>
                    <a:pt x="1869" y="84"/>
                  </a:lnTo>
                  <a:lnTo>
                    <a:pt x="2101" y="190"/>
                  </a:lnTo>
                  <a:lnTo>
                    <a:pt x="2308" y="340"/>
                  </a:lnTo>
                  <a:lnTo>
                    <a:pt x="2482" y="530"/>
                  </a:lnTo>
                  <a:lnTo>
                    <a:pt x="2619" y="768"/>
                  </a:lnTo>
                  <a:lnTo>
                    <a:pt x="2706" y="1046"/>
                  </a:lnTo>
                  <a:lnTo>
                    <a:pt x="2738" y="1369"/>
                  </a:lnTo>
                  <a:lnTo>
                    <a:pt x="1369" y="1369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90400" y="4367880"/>
              <a:ext cx="809640" cy="707760"/>
            </a:xfrm>
            <a:custGeom>
              <a:avLst/>
              <a:gdLst/>
              <a:ahLst/>
              <a:rect l="l" t="t" r="r" b="b"/>
              <a:pathLst>
                <a:path w="1539" h="1369">
                  <a:moveTo>
                    <a:pt x="1203" y="0"/>
                  </a:moveTo>
                  <a:lnTo>
                    <a:pt x="1539" y="1328"/>
                  </a:lnTo>
                  <a:lnTo>
                    <a:pt x="1312" y="1365"/>
                  </a:lnTo>
                  <a:lnTo>
                    <a:pt x="1200" y="1369"/>
                  </a:lnTo>
                  <a:lnTo>
                    <a:pt x="1143" y="1369"/>
                  </a:lnTo>
                  <a:lnTo>
                    <a:pt x="1085" y="1366"/>
                  </a:lnTo>
                  <a:lnTo>
                    <a:pt x="655" y="1254"/>
                  </a:lnTo>
                  <a:lnTo>
                    <a:pt x="461" y="1151"/>
                  </a:lnTo>
                  <a:lnTo>
                    <a:pt x="283" y="1013"/>
                  </a:lnTo>
                  <a:lnTo>
                    <a:pt x="128" y="846"/>
                  </a:lnTo>
                  <a:lnTo>
                    <a:pt x="0" y="651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724000" y="4367880"/>
              <a:ext cx="682560" cy="687960"/>
            </a:xfrm>
            <a:custGeom>
              <a:avLst/>
              <a:gdLst/>
              <a:ahLst/>
              <a:rect l="l" t="t" r="r" b="b"/>
              <a:pathLst>
                <a:path w="1294" h="1328">
                  <a:moveTo>
                    <a:pt x="0" y="0"/>
                  </a:moveTo>
                  <a:lnTo>
                    <a:pt x="1294" y="444"/>
                  </a:lnTo>
                  <a:lnTo>
                    <a:pt x="1145" y="749"/>
                  </a:lnTo>
                  <a:lnTo>
                    <a:pt x="927" y="1007"/>
                  </a:lnTo>
                  <a:lnTo>
                    <a:pt x="655" y="1201"/>
                  </a:lnTo>
                  <a:lnTo>
                    <a:pt x="336" y="13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24000" y="4367880"/>
              <a:ext cx="720720" cy="228240"/>
            </a:xfrm>
            <a:custGeom>
              <a:avLst/>
              <a:gdLst/>
              <a:ahLst/>
              <a:rect l="l" t="t" r="r" b="b"/>
              <a:pathLst>
                <a:path w="1369" h="444">
                  <a:moveTo>
                    <a:pt x="0" y="0"/>
                  </a:moveTo>
                  <a:lnTo>
                    <a:pt x="1369" y="0"/>
                  </a:lnTo>
                  <a:lnTo>
                    <a:pt x="1369" y="53"/>
                  </a:lnTo>
                  <a:lnTo>
                    <a:pt x="1365" y="111"/>
                  </a:lnTo>
                  <a:lnTo>
                    <a:pt x="1351" y="224"/>
                  </a:lnTo>
                  <a:lnTo>
                    <a:pt x="129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69320" y="3932280"/>
              <a:ext cx="135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dical X-Ray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4720" y="5033880"/>
              <a:ext cx="1070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cle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ine 4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05960" y="4871160"/>
              <a:ext cx="1079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s 3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15280" y="4401000"/>
              <a:ext cx="78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ther 1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5978160" y="42004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743200" y="4190760"/>
            <a:ext cx="205740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281952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nual Dose from Background Radi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04920" y="27432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768996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94400" indent="-194400">
              <a:buClr>
                <a:srgbClr val="ff9933"/>
              </a:buClr>
              <a:buFont typeface="Times New Roman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Limits (Researc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440" indent="-199800"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rem per year (total effective dose equivalent: TE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440" indent="-199800"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rem per year (any single org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440" indent="-199800"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rem per year lens of the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440" indent="-199800"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rem per year skin 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4400" indent="-194400">
              <a:buClr>
                <a:srgbClr val="ff9933"/>
              </a:buClr>
              <a:buFont typeface="Times New Roman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 of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440" indent="-199800"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rem per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440" indent="-199800"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than 2 mrem in any one hour in unrestricted areas from external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4400" indent="-194400">
              <a:buClr>
                <a:srgbClr val="ff9933"/>
              </a:buClr>
              <a:buFont typeface="Times New Roman"/>
              <a:buChar char="•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d Pregnant Females (Occupa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440" indent="-199800"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mrem/term (evenly distribu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440" indent="-199800">
              <a:buClr>
                <a:srgbClr val="ff9933"/>
              </a:buClr>
              <a:buSzPct val="65000"/>
              <a:buFont typeface="Wingdings" charset="2"/>
              <a:buChar char=""/>
              <a:tabLst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on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lun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must be submitted to RSO in writing (see form on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1200" y="228600"/>
            <a:ext cx="89028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s for Rad Pro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19:04:19Z</dcterms:created>
  <dc:creator>Clarkson University</dc:creator>
  <dc:description/>
  <dc:language>en-US</dc:language>
  <cp:lastModifiedBy>Administrator</cp:lastModifiedBy>
  <dcterms:modified xsi:type="dcterms:W3CDTF">2007-08-31T14:29:52Z</dcterms:modified>
  <cp:revision>15</cp:revision>
  <dc:subject/>
  <dc:title>PowerPoint Presentation</dc:title>
</cp:coreProperties>
</file>