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9AE-096D-4983-ACF7-C96AC74C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BD8-3C8A-4306-9121-B12EAAB6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6F6-3C1F-43D1-B758-B928CEA6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610-F39B-4D97-B215-D2030C47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658E-01E3-4D8A-B715-E5123108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F26B-15E5-4DCD-8851-6EB3E0CD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6870-045A-4483-A8A9-BBF238DD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DBE9-0C8F-41A9-8ACE-BB4B96A9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257C-22F3-4684-9797-1F9E333D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BF53-BE87-49AC-B19F-AFF7703A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1DC4-D798-470F-9159-B90A0B0F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372-3EEE-451D-9A92-C7B55A1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9E1D-838F-4CFF-A568-83900C0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EA42-EDF4-4E09-B5F2-028A74F6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D3EE-E531-456C-B2D9-926A40B1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5B97-A132-455D-A8CD-0AB08CC8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CB43-2BAD-467D-9063-DBFA52EF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150-E475-4CF4-9FA5-4036425A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83C-F6AB-4160-9EA8-4FA530AE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CBB-FE18-4130-A95A-800479AC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8C1-FFF9-4323-AE3C-19172FB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7FD-F2D2-4F8B-AFAD-A1D83B8A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1AA-530D-4260-99D3-4C7DB8D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125-0B39-4C2C-8002-CB66DA5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3F11-DD05-4129-B39E-FD6E26CBB6E5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5A30-D28C-4927-A50D-90B064E2B9D9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6203" t="8237" r="5518" b="20670"/>
          <a:stretch/>
        </p:blipFill>
        <p:spPr>
          <a:xfrm>
            <a:off x="-73080" y="-243000"/>
            <a:ext cx="9217080" cy="7344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noFill/>
          <a:ln w="130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738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0000"/>
                </a:solidFill>
                <a:latin typeface="Tahoma"/>
              </a:rPr>
              <a:t>IGLESIAS DEL TITICACA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 advTm="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0828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281696"/>
                </a:solidFill>
                <a:latin typeface="Arial"/>
              </a:rPr>
              <a:t>San Juan</a:t>
            </a:r>
            <a:r>
              <a:rPr b="1" lang="es-MX" sz="4800" spc="-1" strike="noStrike">
                <a:solidFill>
                  <a:srgbClr val="281696"/>
                </a:solidFill>
                <a:latin typeface="Arial"/>
              </a:rPr>
              <a:t> de ACORA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noFill/>
          <a:ln w="130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30640" y="618012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ahoma"/>
              </a:rPr>
              <a:t>Portada de los p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272200" cy="702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13720" y="618012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ahoma"/>
              </a:rPr>
              <a:t>Portada lateral evangel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21:57:46Z</dcterms:created>
  <dc:creator> Arte y Arquitectura</dc:creator>
  <dc:description/>
  <dc:language>en-US</dc:language>
  <cp:lastModifiedBy>Martín</cp:lastModifiedBy>
  <dcterms:modified xsi:type="dcterms:W3CDTF">2010-11-03T05:06:34Z</dcterms:modified>
  <cp:revision>15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