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0B3A-96BF-46FC-95CB-68D7F11C0AF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40E4-F5EB-4D37-8A94-850415C2AA5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4952-7C32-454F-BD90-FEE6A5CB483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177B-4AA7-4743-9D1C-DABC6496957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8D5C-4912-46BE-9D22-4E7D2133BF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33F1-8DDA-4FF0-8321-F41A8FE862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168C-1146-4015-86CC-1D61E6CEBD7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F42B-4508-4D97-943B-463B9AC75E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B122-39D5-4CD5-912E-773AC207427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47B0-F47E-4F1A-A3CD-C663F03058A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C97D-B925-47E6-85BA-3948550631B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1508-8342-412E-BACD-04428BB92B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4941-E773-4F3D-9FC9-8A27A487CC2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8D13-DBFD-4B16-8DCF-FD0ED0EB069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3A08-4A68-4DE2-87C9-5964C5D83BE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27A1-5170-4E0D-AB99-85DBA45BEE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1BFA-C45F-41B0-969B-E83DB5065F5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C3DE-2285-4FDB-A059-2B7CA52B38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E029-DCFA-4FED-9A51-62A711E5652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81F2-F522-4151-8051-5098E7241B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D38-2E3B-4924-A09B-E6B40632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C75-BCB7-4142-9257-93FF2278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C4F-CFF2-4028-AEEF-66429D7E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24B-B5B0-4C98-9017-2EBFD524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AC7-2F00-48A9-961F-38645FA1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13D-5834-4590-AE47-2047F663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346-5577-4868-A383-47B1213D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938-CC0A-4F07-8D4E-BDE608D4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C88-EDAE-43DF-90B3-F1F15DA2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314-A45B-4A5C-AD12-F3DC0689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E21-3A4F-4D80-B5E5-64B2C8F4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17A-1469-4AEF-B6B4-F4F643E7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38ED-5DB0-4D0B-B70E-24D6FD63EA5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534348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Description of Tamazret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(Berber, Tunisi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89800" y="475560"/>
            <a:ext cx="25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Jenia Gutova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719040" y="475560"/>
            <a:ext cx="20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25-04-2012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Verbal morphology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844640"/>
            <a:ext cx="77774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flectional affixes: PNG-marking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rivation: passives, middles, causative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f. Tuareg, cf. Figuig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rivation coexists with verb lability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AM~MAN (Mood, Aspect, Negation)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Verbal clitics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litic pronouns: DO and IO serie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ictic clitics: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=d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hither’ and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=n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thither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rder of clitic complex: IO + DO + deixi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Unmarked sentence: clitics follow the verb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me contexts: clitic fronting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Clitic fronting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fter some preverbal elements, 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u(l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NEG’,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a(d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NON-REALIZED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fter some subordinating particles,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mi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when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 REL clauses and similar constructions,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.g. clefts and content questions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Clitic fronting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184464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ost Northern Berber: full clitic fronting (Figuig)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u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i="1" lang="es-ES_tradnl" sz="2800" spc="-1" strike="noStrike">
                <a:solidFill>
                  <a:srgbClr val="0000cc"/>
                </a:solidFill>
                <a:latin typeface="Arial Unicode MS"/>
              </a:rPr>
              <a:t>das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=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0" i="1" lang="es-ES_tradnl" sz="2800" spc="-1" strike="noStrike">
                <a:solidFill>
                  <a:srgbClr val="0000cc"/>
                </a:solidFill>
                <a:latin typeface="Arial Unicode MS"/>
              </a:rPr>
              <a:t>dd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=      y-iwiy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 aman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NEG  3SG.DAT=VENT=3M.SG-bring.PN water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e has not brought the water.’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mi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i="1" lang="en-GB" sz="2800" spc="-1" strike="noStrike">
                <a:solidFill>
                  <a:srgbClr val="0000cc"/>
                </a:solidFill>
                <a:latin typeface="Arial Unicode MS"/>
              </a:rPr>
              <a:t>dd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=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     y-iweḍ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en VENT=   3M.SG-arrive.P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en he arrived’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Clitic fronting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B: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artial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clitic fronting: some clitics are left i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lace, while some are fronted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w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i="1" lang="en-GB" sz="2800" spc="-1" strike="noStrike">
                <a:solidFill>
                  <a:srgbClr val="0000cc"/>
                </a:solidFill>
                <a:latin typeface="Arial Unicode MS"/>
              </a:rPr>
              <a:t>ak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=   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uši-x=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i="1" lang="en-GB" sz="2800" spc="-1" strike="noStrike">
                <a:solidFill>
                  <a:srgbClr val="0000cc"/>
                </a:solidFill>
                <a:latin typeface="Arial Unicode MS"/>
              </a:rPr>
              <a:t>ṯ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š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G   2SG.IO=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ive.P-1SG=3SG.DO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G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 did not give it to you’ (Collins 1982: 122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litic fronting: Questions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184464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at are motivations behind clitic fronting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ich clitics are fronted; does person or number of clitic pronouns matter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oes the number of clitics matter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Under which conditions we find fronting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(Different conditions &gt; different behaviour?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litic fronting: Questions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at discourse conditions motivate clitic fronting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odality (negation, irrealis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formation structure (relativization, focus, cleft, content questions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s fronting obligatory? Is there variation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etc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075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Unicode MS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7657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Why Tamazret?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844640"/>
            <a:ext cx="777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B is of interest for different disciplines (Africa/ Orient) and branches of linguistic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honology: status of the schwa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orphology + syntax (and semantics):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litic fronting; verb derivation and lability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ntact linguistics (influence of Arabic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etc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114800" cy="617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2574" t="13888" r="23391" b="51186"/>
          <a:stretch/>
        </p:blipFill>
        <p:spPr>
          <a:xfrm>
            <a:off x="2987640" y="2205000"/>
            <a:ext cx="4608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9102" t="27914" r="9487" b="54136"/>
          <a:stretch/>
        </p:blipFill>
        <p:spPr>
          <a:xfrm>
            <a:off x="2987640" y="1773360"/>
            <a:ext cx="6156360" cy="1150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Unicode MS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24000" y="1630440"/>
            <a:ext cx="309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宋体"/>
              </a:rPr>
              <a:t>BERBER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24000" y="3213000"/>
            <a:ext cx="280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宋体"/>
              </a:rPr>
              <a:t>TYPOLOG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324000" y="4724280"/>
            <a:ext cx="21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宋体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39924" t="25182" r="0" b="56972"/>
          <a:stretch/>
        </p:blipFill>
        <p:spPr>
          <a:xfrm>
            <a:off x="2987640" y="4869000"/>
            <a:ext cx="615636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6302" t="44123" r="26372" b="39490"/>
          <a:stretch/>
        </p:blipFill>
        <p:spPr>
          <a:xfrm>
            <a:off x="2987640" y="3357720"/>
            <a:ext cx="615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8776" b="75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551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Berbe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7057800" cy="4930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4287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Discontinuous dialect continuu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7057800" cy="493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4287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Discontinuous dialect continuu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2421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Sociolinguistic situation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1844640"/>
            <a:ext cx="777744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fluence from Phoenician, Latin, Arabic, Turkish and French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tandard Arabic is the official language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ialectical Arabic is the most widespread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rabic: religion, education, mass media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Berber-Arabic bilingualism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eavy influence of Arabic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29032" r="8776" b="54110"/>
          <a:stretch/>
        </p:blipFill>
        <p:spPr>
          <a:xfrm>
            <a:off x="0" y="577692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Sociolinguistic situation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8446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unisian Berber is endangered; decline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conomic poverty in Berber reg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(emigration &gt; assimilation)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1% of population speaks Berber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B is confined to 13 villages in S. Tunisia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amazret: </a:t>
            </a:r>
            <a:r>
              <a:rPr b="0" lang="en" sz="2800" spc="-1" strike="noStrike">
                <a:solidFill>
                  <a:srgbClr val="000000"/>
                </a:solidFill>
                <a:latin typeface="Arial Unicode MS"/>
              </a:rPr>
              <a:t>3,726 speakers in 1975 (Sahli).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29032" r="8776" b="54110"/>
          <a:stretch/>
        </p:blipFill>
        <p:spPr>
          <a:xfrm>
            <a:off x="0" y="577692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Unicode MS"/>
              </a:rPr>
              <a:t>Linguistic Typ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Profile of Berber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1844640"/>
            <a:ext cx="777744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V-initial (VO), head-initial (N + ADJ)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</a:rPr>
              <a:t>Noun: state, number, gender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nsonantal roots (but not always)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Vowels: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u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+ schwa (?)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 algn="ctr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Jenia</cp:lastModifiedBy>
  <dcterms:modified xsi:type="dcterms:W3CDTF">2012-04-26T16:48:42Z</dcterms:modified>
  <cp:revision>141</cp:revision>
  <dc:subject/>
  <dc:title>PowerPoint Presentation</dc:title>
</cp:coreProperties>
</file>