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6B18-3883-441C-A778-0AD00A3AA7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43A7-69D0-4848-BD8B-C575C79773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E568-D670-4AE8-824E-94D82C47B1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5D31-87C1-416A-8894-BE60611324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2B66-C243-4980-9706-8957993171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5A1C-B39B-4F00-B619-BE33D8B18A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1CE4-FFA1-4EC6-8933-0C043CCE4A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CB66-B43D-4371-9481-0B6D986C6B6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2D2D-8EFD-4169-B093-089601AF6F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7D1-7C6B-4549-94FD-40F4FA6FDF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6F7F-537E-49DC-B746-C48F9F14EA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BFE1-6EF5-4B37-9691-710940BB79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670F-65FA-4D0B-B61F-FF3366B8F9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AF15-6905-47C2-9532-4506E350CC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BA32-241E-472A-8578-8ED4DE72F0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013A-664D-403D-A953-9E79B338ED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F978-3686-4584-8894-5DA3ACE90E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63CD-6E81-4A97-9B10-C6B4FCD793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EECA-3CFD-4C00-9B4A-86FA7A8450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ACDB-B6CE-4EC8-968B-14B0092059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447-C5B2-4FA6-A3EA-2A245916812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7CBA-99A7-4C3E-A8FF-18623B8A75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1BF1-891A-47A2-8CB9-D65F81148E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FFBF-8597-4AAE-9ADB-CB0E7A1E62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2449-658E-4F9F-AC5E-61E120B8443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4598-435A-4699-A719-097340104D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31B2-F201-41D5-B081-32B90B4A12A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DAA5-71E7-4F88-93A2-C89F76E751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2AB9-C5AB-483A-98CB-E6DA6A32DA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6A99-CB49-4643-8443-BA74107FD5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30F2-93CD-4D3A-83CF-73744C70A2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7F27-1F79-4969-8B82-1246BD69D64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3812-D689-4881-B08D-F3164DF7BC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6FC6-2E6B-4D78-B93A-0097FD89DF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72DD-8E71-492F-9F5F-4CF4A3A967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428E-FCA6-4358-B305-F77D54DF03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4D35-85A8-400C-9A0F-3E405AB9FE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31E-9C90-45AE-93EC-A8660CB449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73D5-22E7-413A-BE0A-23D843CF8DA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2501-FBBB-4D3F-8276-6B11FD3F09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430F-33BF-45C9-86D0-259B1359EC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429-9164-480A-BAA4-3E831C3D704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9E6C-5EE9-4BF5-9040-B1B78BA8CE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C53D-0740-45CC-A78F-41D4C9DB6F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D9D8-075B-41B7-A91B-CCF77D93FF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F1A2-8EC9-40D6-9379-9F20FA077D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9A65-B777-47FD-8BF9-E777234A38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0B26-7A6A-430F-BE31-DCA9279F6A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9D3-BC18-45F7-BF41-581D338DDB9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AFA0-10A2-4768-8DBB-C15D3D8AB1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89A1-DBE6-462E-9C41-B0985055BF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4F11-A5EE-4A68-96D2-13854DDADA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AC50-F1DF-42C4-BA62-F486A9FF5E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ECAB-200E-4868-9B89-14E398F2E2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52F-9176-4E11-A61E-DCA1FA11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731-32CD-4D78-B2DB-A3E41A2B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8FD-EEEF-48E7-8948-D03A3483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E19-C0FC-468B-A5FF-FEF62295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C70-86A8-4DC3-83AA-076772F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39D-19F7-4DF2-90A7-C4A87D93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627-D8CF-4FA3-BF25-6265B715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A7C-9B48-4271-8197-7C67EDB3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B9A-7BC0-4067-92C6-D3FC2187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435-07F8-473D-9976-E2C7494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E20-16B2-4A05-8626-D20BBAC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57E-B8EB-4424-BDE0-F7755FF8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F130-ED77-405F-BFCC-FD5EE6985B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tmazret.nexgate.ch/" TargetMode="External"/><Relationship Id="rId2" Type="http://schemas.openxmlformats.org/officeDocument/2006/relationships/hyperlink" Target="http://atmazret.nexgate.ch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534348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Description of Tamazret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(Berber, Tunisi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91240" y="475560"/>
            <a:ext cx="25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Jenia Gutova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722280" y="47556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25-04-2012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8776" b="75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551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Tunisian Ber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03440"/>
            <a:ext cx="802800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Literature overview (Tamazret)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Unicode MS"/>
              </a:rPr>
              <a:t>-  Stumme (1900): tale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llins (1981/82): verbal system and satellite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" sz="2800" spc="-1" strike="noStrike" u="sng">
                <a:solidFill>
                  <a:srgbClr val="000000"/>
                </a:solidFill>
                <a:uFillTx/>
                <a:latin typeface="Arial Unicode MS"/>
                <a:hlinkClick r:id="rId1"/>
              </a:rPr>
              <a:t>A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Unicode MS"/>
                <a:hlinkClick r:id="rId2"/>
              </a:rPr>
              <a:t>tmazre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website (Ben Mamou):</a:t>
            </a:r>
            <a:r>
              <a:rPr b="0" lang="en" sz="2800" spc="-1" strike="noStrike">
                <a:solidFill>
                  <a:srgbClr val="000000"/>
                </a:solidFill>
                <a:latin typeface="Arial Unicode MS"/>
              </a:rPr>
              <a:t> notes 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" sz="2800" spc="-1" strike="noStrike">
                <a:solidFill>
                  <a:srgbClr val="000000"/>
                </a:solidFill>
                <a:latin typeface="Arial Unicode MS"/>
              </a:rPr>
              <a:t>lexicon and grammar.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unisian Berber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rcRect l="0" t="29032" r="8776" b="54110"/>
          <a:stretch/>
        </p:blipFill>
        <p:spPr>
          <a:xfrm>
            <a:off x="0" y="577692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Why is TB less known?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18446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 Chance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 Political situation (unfavourable for research)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 Small size (TB is not widespread)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 Isolation, insular communities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29032" r="8776" b="54110"/>
          <a:stretch/>
        </p:blipFill>
        <p:spPr>
          <a:xfrm>
            <a:off x="0" y="577692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Sociolinguistic situation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844640"/>
            <a:ext cx="777744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fluence from Phoenician, Latin, Arabic, Turkish and French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tandard Arabic is the official language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ialectical Arabic is the most widespread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rabic: religion, education, mass media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Berber-Arabic bilingualism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eavy influence of Arabic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29032" r="8776" b="54110"/>
          <a:stretch/>
        </p:blipFill>
        <p:spPr>
          <a:xfrm>
            <a:off x="0" y="577692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Sociolinguistic situation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8446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unisian Berber is endangered; decline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conomic poverty in Berber reg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(emigration &gt; assimilation)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1% of population speaks Berber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B is confined to 13 villages in S. Tunisia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amazret: </a:t>
            </a:r>
            <a:r>
              <a:rPr b="0" lang="en" sz="2800" spc="-1" strike="noStrike">
                <a:solidFill>
                  <a:srgbClr val="000000"/>
                </a:solidFill>
                <a:latin typeface="Arial Unicode MS"/>
              </a:rPr>
              <a:t>3,726 speakers in 1975 (Sahli).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29032" r="8776" b="54110"/>
          <a:stretch/>
        </p:blipFill>
        <p:spPr>
          <a:xfrm>
            <a:off x="0" y="577692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Communities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amagourt and Sened in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Unicode MS"/>
              </a:rPr>
              <a:t>East of Gafs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uellala, Sadouikech, Adjim, Elmay, Mahboubine and Sedghiane i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Unicode MS"/>
              </a:rPr>
              <a:t>Djerb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Zraoua, Taoujjout and Tamazret i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Unicode MS"/>
              </a:rPr>
              <a:t>Matmat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hnini and Douiret i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Unicode MS"/>
              </a:rPr>
              <a:t>Foum Tataouine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29032" r="8776" b="54110"/>
          <a:stretch/>
        </p:blipFill>
        <p:spPr>
          <a:xfrm>
            <a:off x="0" y="5776920"/>
            <a:ext cx="9144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Lexical differences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29032" r="8776" b="54110"/>
          <a:stretch/>
        </p:blipFill>
        <p:spPr>
          <a:xfrm>
            <a:off x="0" y="5776920"/>
            <a:ext cx="914400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340000" y="1557360"/>
          <a:ext cx="5543280" cy="4162320"/>
        </p:xfrm>
        <a:graphic>
          <a:graphicData uri="http://schemas.openxmlformats.org/drawingml/2006/table">
            <a:tbl>
              <a:tblPr/>
              <a:tblGrid>
                <a:gridCol w="1593720"/>
                <a:gridCol w="1594080"/>
                <a:gridCol w="2355480"/>
              </a:tblGrid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99"/>
                          </a:solidFill>
                          <a:latin typeface="Arial Unicode MS"/>
                          <a:ea typeface="Arial Unicode MS"/>
                        </a:rPr>
                        <a:t>Transl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99"/>
                          </a:solidFill>
                          <a:latin typeface="Arial Unicode MS"/>
                          <a:ea typeface="Arial Unicode MS"/>
                        </a:rPr>
                        <a:t>Sene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99"/>
                          </a:solidFill>
                          <a:latin typeface="Arial Unicode MS"/>
                          <a:ea typeface="Arial Unicode MS"/>
                        </a:rPr>
                        <a:t>Tamazre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sh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ɣ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rman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o di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mmet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zzef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emmi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frux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aughte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lli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afruxt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o sell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zenz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zinz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foot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âr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dâr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hand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fus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fus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an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rgaz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ryaz 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Unicode MS"/>
              </a:rPr>
              <a:t>Linguistic Typ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Profile of Berber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844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ajor lexical categories: nouns and verb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djectives: missing or marginal; instead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lative (participle) form or a nominal form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V-initial (VO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ead-initial: noun + adj. or modifying noun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 algn="ctr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Profile of Berber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18446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</a:rPr>
              <a:t>Noun: state (État Libre/État d’Annexion), number (SG/PL), gender (M/F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ften: abstract consonantal roots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Vowels often used for word formation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but not always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 algn="ctr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102" t="27914" r="9487" b="54136"/>
          <a:stretch/>
        </p:blipFill>
        <p:spPr>
          <a:xfrm>
            <a:off x="2987640" y="2997360"/>
            <a:ext cx="6156360" cy="1150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Unicode MS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lang01"/>
          <p:cNvPicPr/>
          <p:nvPr/>
        </p:nvPicPr>
        <p:blipFill>
          <a:blip r:embed="rId2"/>
          <a:srcRect l="35139" t="18885" r="16182" b="60669"/>
          <a:stretch/>
        </p:blipFill>
        <p:spPr>
          <a:xfrm>
            <a:off x="2987640" y="1628640"/>
            <a:ext cx="6156360" cy="1155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250920" y="148428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宋体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50920" y="2851200"/>
            <a:ext cx="27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宋体"/>
              </a:rPr>
              <a:t>TUNISIAN BERBER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250920" y="4221000"/>
            <a:ext cx="28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宋体"/>
              </a:rPr>
              <a:t>TYPOLOG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250920" y="5589720"/>
            <a:ext cx="21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宋体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39924" t="25182" r="0" b="56972"/>
          <a:stretch/>
        </p:blipFill>
        <p:spPr>
          <a:xfrm>
            <a:off x="2987640" y="5734080"/>
            <a:ext cx="6156360" cy="1123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6302" t="44123" r="26372" b="39490"/>
          <a:stretch/>
        </p:blipFill>
        <p:spPr>
          <a:xfrm>
            <a:off x="2987640" y="4365720"/>
            <a:ext cx="615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Phonology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8446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Vowels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undamental triang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u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+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chwa: questionable status; interesting since TA has /e/ and /ə/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nsonants: contrast by voice, length, pharyngealization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mpha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abiovelarization; spirantization?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Nominal morphology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844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oun is marked for gender, number, state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der is expressed by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[M]: prefix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- (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-,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-), e.g.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a-rgaz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 ‘man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</a:rPr>
              <a:t>[F]: circumfix </a:t>
            </a:r>
            <a:r>
              <a:rPr b="0" i="1" lang="fr-FR" sz="28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</a:rPr>
              <a:t>-...-</a:t>
            </a:r>
            <a:r>
              <a:rPr b="0" i="1" lang="fr-FR" sz="28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</a:rPr>
              <a:t>, e.g. </a:t>
            </a:r>
            <a:r>
              <a:rPr b="0" i="1" lang="fr-FR" sz="2800" spc="-1" strike="noStrike">
                <a:solidFill>
                  <a:srgbClr val="000000"/>
                </a:solidFill>
                <a:latin typeface="Arial Unicode MS"/>
              </a:rPr>
              <a:t>t-iddar-t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</a:rPr>
              <a:t> ‘house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Nominal morphology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844640"/>
            <a:ext cx="777744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lural can be formed by (M nouns)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itial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&gt;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+ suffix -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-rgaz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-rgaz-en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man (men)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itial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&gt;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+ alternation,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-ɣyul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-ɣyal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donkey(s)’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itial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&gt;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+ alternation + suffix -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-fu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-fass-en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hand(s)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Nominal morphology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844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lural can be formed by (F nouns)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leting of final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-t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+ suffix -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n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t-i-ddar-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t-i-ddar-in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house(s)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ithout suffix -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n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t-a-fesnaɣ-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t-i-fesnaɣ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carrot(s)’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Noun state (EL/EA)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L is used (in Northern Berber)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isolation (citation form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topic-position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s a lexical DO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ter a small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umber of preposition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non-verbal sentences.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Noun state (EL/EA)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844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A is used (in Northern Berber)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s a lexical subject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ter most preposition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ter numerals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Evolution in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844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L vs. EA is neutralized in several cases,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when the noun functions as a subject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xḏem u-rgaz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(EA) &gt;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ixdem a-rgaz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(EL)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man works.’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Evolution in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8446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L vs. EA distinction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ifferent varieties of TB differ in this regard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ened: ‘it is full of meat’: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čur s u-ksu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(EA) ~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čur s a-ksu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(EL)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ow far has Tamazret evolved?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Verb formation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1844640"/>
            <a:ext cx="777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AM~MAN (Mood, Aspect, Negation); Aspects: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orist: imperative, consecutive (sequential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(d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+ Aorist: non-realized, 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krz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to plow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erfect/Preterit: dynamic event in the past, or stative (past/present), 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krz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mperfect/Intensive: progressive, habitual, iterative, durative, 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kerrez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Verb derivation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assive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ttw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, 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wet &gt; ttwa-w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o hit’ &gt; ‘to be hit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iddle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, 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laqqa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m-laqq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o meet’ &gt; ‘to meet each other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ausative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, 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kker &gt; sse-kker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o get up’ &gt; ‘to make somebody get up’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  <a:ea typeface="宋体"/>
              </a:rPr>
              <a:t>My language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3430" b="-1631"/>
          <a:stretch/>
        </p:blipFill>
        <p:spPr>
          <a:xfrm>
            <a:off x="395280" y="1773360"/>
            <a:ext cx="8352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Verb derivation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1844640"/>
            <a:ext cx="777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mpare TB with: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uareg: rich derivation, combined prefixes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iguig: several distinct passive formations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existence of verb derivation and verb lability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ow does lability link to verb derivation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Features of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844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orist = Perfect for many verb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inal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-d/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&gt; Ø/_C-, 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dat &gt; d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sad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&gt;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sa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gation is expressed by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ul…š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ul=...= š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&gt;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u=...=š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ul=ušix=š &gt; w=ušix=š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I did not give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l. clause begins with the morpheme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lli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lative (‘participle’) form is lost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Verb satellites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litic pronouns: DO and IO serie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ictic clitics: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=d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hither’ and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=n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thither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rder of clitic complex: IO + DO + diexi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Unmarked sentence: clitics follow the verb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contexts: clitic fronting (‘attraction’)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Clitic fronting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ter some preverbal elements: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gation ptcl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u(l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 projective ptcl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(d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ter some subordinating ptcls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mi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‘where’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rel. clauses and similar constructions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.g. clefts and content questions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Variation in Berber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844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ost Northern Berber: full clitic fronting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B: partial clitic fronting: some (eg. DO) clitics left in place while some (IO) fronted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w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     ak=   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uši-x=ṯ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š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G 2SG.IO=give.P-1SG=3SG.DO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G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 algn="ctr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 did not give it to you’ (Collins 1982: 122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Variation in Berber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1438200"/>
                <a:tab algn="l" pos="152388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some varieties (Tuareg): clitic doubling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as       in=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t-os=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en  thither=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3FSG-arrive.P=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hither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en she had arrived there...’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1438200"/>
                <a:tab algn="l" pos="152388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‘Eastern-most’ Berber (Siwa, Awjila): clitics are never fronted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1438200"/>
                <a:tab algn="l" pos="152388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litic fronting in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8446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ttraction’ is governed by syntactic rules particular to each dialect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dialects: attraction of one single clitic (others follow the verb)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dialects: “the unique satellite attracted” is that of the SG form.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litic fronting: Questions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1844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at are motivations behind clitic fronting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ich clitics are fronted; does person or number of clitic pronouns matter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oes the number of clitics matter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Under which conditions we find fronting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(Different conditions &gt; different behaviour?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71640" y="7639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litic fronting: Questions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at discourse conditions motivate clitic fronting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odality (negation, irrealis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formation structure (relativization, focus, cleft, content questions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s fronting obligatory? Is there variation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Unicode MS"/>
              </a:rPr>
              <a:t>etc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44123" r="0" b="39490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075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Unicode MS"/>
              </a:rPr>
              <a:t>Summary and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  <a:ea typeface="宋体"/>
              </a:rPr>
              <a:t>My language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3430" b="-1631"/>
          <a:stretch/>
        </p:blipFill>
        <p:spPr>
          <a:xfrm>
            <a:off x="395280" y="1773360"/>
            <a:ext cx="8352000" cy="4362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00720" y="2708280"/>
            <a:ext cx="863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71640" y="430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op 10 reasons to study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1844640"/>
            <a:ext cx="77774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ap in our knowledge, insufficient data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 algn="ctr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anguage description; a grammar sketch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 algn="ctr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levance for linguistic theory (typology)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AutoNum type="arabicPeriod" startAt="2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honetics/phonology: status of the schwa (questionable, potentially interesting, different from other Berber varieties)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71640" y="430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op 10 reasons to study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AutoNum type="arabicPeriod" startAt="3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orphology and syntax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verb satellites, partial clitic fronting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expression of TAM (interaction with clitics)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verb derivation and verb lability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bipartite negation (and clitics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relative clauses (incl. neg. rel. clauses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71640" y="430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op 10 reasons to study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1844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AutoNum type="arabicPeriod" startAt="3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orphology and syntax: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expression of ‘adjectival’ modification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coordination (influence from Arabic?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directional clitics =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d(d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and =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n(n)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(itive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prepositions, use of DAT; OBJ marking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71640" y="430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op 10 reasons to study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8446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AutoNum type="arabicPeriod" startAt="4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gnitive linguistics, e.g. spatial relations, body parts nomenclature, expression of emotions, colour terms, kinship terminology (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bava xali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‘maternal grandfather’, lit. ‘father of (maternal) uncle’) &gt; lexical semantics.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71640" y="430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op 10 reasons to study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AutoNum type="arabicPeriod" startAt="5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nthropological linguistics, anthropology, e.g. culture-specific vocabulary, livestock, types of grass and herbs; building and architecture, tent terminology, arts &amp; crafts, weaving &amp; spinning, musical instruments. Photo &amp; video documentation (community)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71640" y="430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op 10 reasons to study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AutoNum type="arabicPeriod" startAt="6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hilology, literary studies, </a:t>
            </a:r>
            <a:r>
              <a:rPr b="0" lang="en" sz="2800" spc="-1" strike="noStrike">
                <a:solidFill>
                  <a:srgbClr val="000000"/>
                </a:solidFill>
                <a:latin typeface="Arial Unicode MS"/>
              </a:rPr>
              <a:t>folklore studie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, oral literature, oral history: collection of ethnographic texts, birth and death rituals, marriage, holiday celebration, rain prayers, folklore (stories, legends, (fairy-)tales, proverbs, riddles, jokes, tong-twisters).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71640" y="430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op 10 reasons to study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AutoNum type="arabicPeriod" startAt="7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istorical/ comparative linguistics (historical study of Berber and its place in Afro-Asiatic macro-family); (Berber) dialectology; language change and variation; language evolution; language reconstruction (proto-Berber), etymology; genetic classification.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71640" y="430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op 10 reasons to study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AutoNum type="arabicPeriod" startAt="8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ntact linguistics, Arabic influence,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exical and grammatical borrowings.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oans: integration in Berber morphology; nouns: formation of plural, state distinction; grammatical borrowing: coordination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de-switching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71640" y="430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op 10 reasons to study TB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1844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AutoNum type="arabicPeriod" startAt="9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anguage documentation, conservation, revitalisation/revival; reversing language shift/death &gt; relevance for the community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AutoNum type="arabicPeriod" startAt="9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ciolinguistics: language use, soc. context; when is the language used and by whom? women vs. men, house- vs. outside-domain; language attitude.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71640" y="7657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This list is not exhaustive!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1844640"/>
            <a:ext cx="77774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sycholinguistics, language and gender, language politics and language planning, language and (cultural) identity, standardization (Haugen’s phases), neologisms, linguistic purisms;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anguage and ethnicity..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  <a:ea typeface="宋体"/>
              </a:rPr>
              <a:t>My language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3430" b="-1631"/>
          <a:stretch/>
        </p:blipFill>
        <p:spPr>
          <a:xfrm>
            <a:off x="395280" y="1773360"/>
            <a:ext cx="8352000" cy="4362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35280" y="2984400"/>
            <a:ext cx="720720" cy="660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1640" y="7657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Too ambitious?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ocus on some issues: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Morphology + syntax (and semantics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Verb derivation (causatives) and lability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Clitics and their syntactic behaviour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(interaction with TAM, negation, rel. claus.)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- Other typologically unusual features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7657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Conclusions: why TB?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1844640"/>
            <a:ext cx="777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B is of interest for different disciplines (African and Oriental Studies) and branches of linguistics: field/descriptive linguistics, typology, cognitive and anthropological linguistics, historical linguistics, dialectology, contact linguistics, sociolinguistics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t is of interest for other sciences: history, literary and folklore studies, sociology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10753" t="25182" r="0" b="5697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71640" y="7657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Last but not least…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184464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unisia is a relatively safe place for fieldwork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his project strikes a good balance between being challenging, yet achievable;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buClr>
                <a:srgbClr val="000000"/>
              </a:buClr>
              <a:buFont typeface="Arial Unicode MS"/>
              <a:buChar char="-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t is interesting for me and for the wider scientific community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rcRect l="2574" t="13888" r="23391" b="51186"/>
          <a:stretch/>
        </p:blipFill>
        <p:spPr>
          <a:xfrm>
            <a:off x="2987640" y="2205000"/>
            <a:ext cx="4608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  <a:ea typeface="宋体"/>
              </a:rPr>
              <a:t>My language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34589" t="23486" r="43129" b="50577"/>
          <a:stretch/>
        </p:blipFill>
        <p:spPr>
          <a:xfrm>
            <a:off x="1116000" y="1989000"/>
            <a:ext cx="720108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3068640"/>
            <a:ext cx="431640" cy="3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3500280"/>
            <a:ext cx="431640" cy="3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3213000"/>
            <a:ext cx="432000" cy="3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  <a:ea typeface="宋体"/>
              </a:rPr>
              <a:t>My language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4589" t="23486" r="43129" b="50577"/>
          <a:stretch/>
        </p:blipFill>
        <p:spPr>
          <a:xfrm>
            <a:off x="1116000" y="1989000"/>
            <a:ext cx="7201080" cy="4160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51280" y="3084480"/>
            <a:ext cx="353880" cy="731880"/>
          </a:xfrm>
          <a:custGeom>
            <a:avLst/>
            <a:gdLst/>
            <a:ahLst/>
            <a:rect l="l" t="t" r="r" b="b"/>
            <a:pathLst>
              <a:path w="206" h="461">
                <a:moveTo>
                  <a:pt x="112" y="455"/>
                </a:moveTo>
                <a:cubicBezTo>
                  <a:pt x="102" y="452"/>
                  <a:pt x="103" y="444"/>
                  <a:pt x="102" y="433"/>
                </a:cubicBezTo>
                <a:cubicBezTo>
                  <a:pt x="100" y="408"/>
                  <a:pt x="98" y="388"/>
                  <a:pt x="90" y="365"/>
                </a:cubicBezTo>
                <a:cubicBezTo>
                  <a:pt x="88" y="352"/>
                  <a:pt x="89" y="342"/>
                  <a:pt x="78" y="335"/>
                </a:cubicBezTo>
                <a:cubicBezTo>
                  <a:pt x="74" y="324"/>
                  <a:pt x="78" y="330"/>
                  <a:pt x="64" y="321"/>
                </a:cubicBezTo>
                <a:cubicBezTo>
                  <a:pt x="60" y="319"/>
                  <a:pt x="52" y="317"/>
                  <a:pt x="52" y="317"/>
                </a:cubicBezTo>
                <a:cubicBezTo>
                  <a:pt x="48" y="305"/>
                  <a:pt x="50" y="284"/>
                  <a:pt x="36" y="279"/>
                </a:cubicBezTo>
                <a:cubicBezTo>
                  <a:pt x="33" y="271"/>
                  <a:pt x="29" y="272"/>
                  <a:pt x="22" y="267"/>
                </a:cubicBezTo>
                <a:cubicBezTo>
                  <a:pt x="13" y="253"/>
                  <a:pt x="4" y="239"/>
                  <a:pt x="0" y="223"/>
                </a:cubicBezTo>
                <a:cubicBezTo>
                  <a:pt x="2" y="208"/>
                  <a:pt x="5" y="201"/>
                  <a:pt x="18" y="193"/>
                </a:cubicBezTo>
                <a:cubicBezTo>
                  <a:pt x="24" y="184"/>
                  <a:pt x="33" y="173"/>
                  <a:pt x="42" y="167"/>
                </a:cubicBezTo>
                <a:cubicBezTo>
                  <a:pt x="52" y="151"/>
                  <a:pt x="49" y="156"/>
                  <a:pt x="46" y="139"/>
                </a:cubicBezTo>
                <a:cubicBezTo>
                  <a:pt x="48" y="115"/>
                  <a:pt x="58" y="81"/>
                  <a:pt x="44" y="61"/>
                </a:cubicBezTo>
                <a:cubicBezTo>
                  <a:pt x="45" y="48"/>
                  <a:pt x="41" y="35"/>
                  <a:pt x="54" y="31"/>
                </a:cubicBezTo>
                <a:cubicBezTo>
                  <a:pt x="57" y="21"/>
                  <a:pt x="67" y="23"/>
                  <a:pt x="76" y="21"/>
                </a:cubicBezTo>
                <a:cubicBezTo>
                  <a:pt x="80" y="15"/>
                  <a:pt x="85" y="8"/>
                  <a:pt x="92" y="5"/>
                </a:cubicBezTo>
                <a:cubicBezTo>
                  <a:pt x="96" y="3"/>
                  <a:pt x="104" y="1"/>
                  <a:pt x="104" y="1"/>
                </a:cubicBezTo>
                <a:cubicBezTo>
                  <a:pt x="130" y="3"/>
                  <a:pt x="132" y="0"/>
                  <a:pt x="142" y="19"/>
                </a:cubicBezTo>
                <a:cubicBezTo>
                  <a:pt x="145" y="25"/>
                  <a:pt x="158" y="29"/>
                  <a:pt x="158" y="29"/>
                </a:cubicBezTo>
                <a:cubicBezTo>
                  <a:pt x="161" y="24"/>
                  <a:pt x="174" y="19"/>
                  <a:pt x="174" y="19"/>
                </a:cubicBezTo>
                <a:cubicBezTo>
                  <a:pt x="179" y="21"/>
                  <a:pt x="187" y="26"/>
                  <a:pt x="180" y="33"/>
                </a:cubicBezTo>
                <a:cubicBezTo>
                  <a:pt x="177" y="36"/>
                  <a:pt x="168" y="41"/>
                  <a:pt x="168" y="41"/>
                </a:cubicBezTo>
                <a:cubicBezTo>
                  <a:pt x="158" y="55"/>
                  <a:pt x="159" y="46"/>
                  <a:pt x="156" y="69"/>
                </a:cubicBezTo>
                <a:cubicBezTo>
                  <a:pt x="157" y="72"/>
                  <a:pt x="160" y="89"/>
                  <a:pt x="162" y="91"/>
                </a:cubicBezTo>
                <a:cubicBezTo>
                  <a:pt x="166" y="94"/>
                  <a:pt x="174" y="99"/>
                  <a:pt x="174" y="99"/>
                </a:cubicBezTo>
                <a:cubicBezTo>
                  <a:pt x="179" y="114"/>
                  <a:pt x="182" y="139"/>
                  <a:pt x="164" y="145"/>
                </a:cubicBezTo>
                <a:cubicBezTo>
                  <a:pt x="158" y="154"/>
                  <a:pt x="159" y="161"/>
                  <a:pt x="150" y="167"/>
                </a:cubicBezTo>
                <a:cubicBezTo>
                  <a:pt x="147" y="175"/>
                  <a:pt x="141" y="183"/>
                  <a:pt x="138" y="191"/>
                </a:cubicBezTo>
                <a:cubicBezTo>
                  <a:pt x="136" y="197"/>
                  <a:pt x="132" y="209"/>
                  <a:pt x="132" y="209"/>
                </a:cubicBezTo>
                <a:cubicBezTo>
                  <a:pt x="133" y="218"/>
                  <a:pt x="142" y="233"/>
                  <a:pt x="142" y="233"/>
                </a:cubicBezTo>
                <a:cubicBezTo>
                  <a:pt x="145" y="246"/>
                  <a:pt x="162" y="251"/>
                  <a:pt x="174" y="255"/>
                </a:cubicBezTo>
                <a:cubicBezTo>
                  <a:pt x="180" y="264"/>
                  <a:pt x="183" y="271"/>
                  <a:pt x="192" y="277"/>
                </a:cubicBezTo>
                <a:cubicBezTo>
                  <a:pt x="195" y="286"/>
                  <a:pt x="199" y="292"/>
                  <a:pt x="202" y="301"/>
                </a:cubicBezTo>
                <a:cubicBezTo>
                  <a:pt x="203" y="305"/>
                  <a:pt x="206" y="313"/>
                  <a:pt x="206" y="313"/>
                </a:cubicBezTo>
                <a:cubicBezTo>
                  <a:pt x="203" y="331"/>
                  <a:pt x="194" y="329"/>
                  <a:pt x="180" y="339"/>
                </a:cubicBezTo>
                <a:cubicBezTo>
                  <a:pt x="176" y="342"/>
                  <a:pt x="168" y="347"/>
                  <a:pt x="168" y="347"/>
                </a:cubicBezTo>
                <a:cubicBezTo>
                  <a:pt x="161" y="358"/>
                  <a:pt x="140" y="369"/>
                  <a:pt x="128" y="377"/>
                </a:cubicBezTo>
                <a:cubicBezTo>
                  <a:pt x="123" y="393"/>
                  <a:pt x="131" y="374"/>
                  <a:pt x="120" y="385"/>
                </a:cubicBezTo>
                <a:cubicBezTo>
                  <a:pt x="117" y="388"/>
                  <a:pt x="116" y="393"/>
                  <a:pt x="114" y="397"/>
                </a:cubicBezTo>
                <a:cubicBezTo>
                  <a:pt x="117" y="406"/>
                  <a:pt x="127" y="410"/>
                  <a:pt x="134" y="417"/>
                </a:cubicBezTo>
                <a:cubicBezTo>
                  <a:pt x="136" y="423"/>
                  <a:pt x="140" y="435"/>
                  <a:pt x="140" y="435"/>
                </a:cubicBezTo>
                <a:cubicBezTo>
                  <a:pt x="136" y="440"/>
                  <a:pt x="118" y="461"/>
                  <a:pt x="112" y="455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7057800" cy="4930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4287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Discontinuous dialect continuu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7057800" cy="4930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4287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Discontinuous dialect continuu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42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ia</cp:lastModifiedBy>
  <dcterms:modified xsi:type="dcterms:W3CDTF">2012-04-26T17:09:59Z</dcterms:modified>
  <cp:revision>107</cp:revision>
  <dc:subject/>
  <dc:title>PowerPoint Presentation</dc:title>
</cp:coreProperties>
</file>