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9E9-AC0E-48E3-AA9A-BE841A56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3AC-2509-4E2C-88E6-F349681D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01C-1A36-4310-B954-3C947B6B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1D6-9FC3-4FEF-888A-8509430F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264-63AE-4788-A7F0-3E36C24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EF4-2BA2-491D-BEB1-294E408C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FD6-05BC-4847-AA33-3D264EE9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C67-92C5-4EFB-8E94-BD40BDF1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E9F-0786-4518-A69B-B91EA12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149-8099-46DE-B7D7-85EC0CA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03B-D095-4901-99BF-5B64DD0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DFA-A3B1-4985-BB40-B67689F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E3178-E4E9-4AF1-B897-B635D144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mage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image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age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age5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image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image7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3:20:55Z</dcterms:created>
  <dc:creator>(null) (null)</dc:creator>
  <dc:description/>
  <dc:language>en-US</dc:language>
  <cp:lastModifiedBy>Generalitat de Catalunya</cp:lastModifiedBy>
  <dcterms:modified xsi:type="dcterms:W3CDTF">2013-01-29T09:00:32Z</dcterms:modified>
  <cp:revision>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4237970</vt:r8>
  </property>
</Properties>
</file>