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1.wmf" ContentType="image/x-wmf"/>
  <Override PartName="/ppt/media/image50.wmf" ContentType="image/x-wmf"/>
  <Override PartName="/ppt/media/image28.png" ContentType="image/png"/>
  <Override PartName="/ppt/media/image49.png" ContentType="image/png"/>
  <Override PartName="/ppt/media/image7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53.jpeg" ContentType="image/jpeg"/>
  <Override PartName="/ppt/media/image43.wmf" ContentType="image/x-wmf"/>
  <Override PartName="/ppt/media/image42.jpeg" ContentType="image/jpeg"/>
  <Override PartName="/ppt/media/image6.png" ContentType="image/png"/>
  <Override PartName="/ppt/media/image39.png" ContentType="image/png"/>
  <Override PartName="/ppt/media/image61.wmf" ContentType="image/x-wmf"/>
  <Override PartName="/ppt/media/image37.wmf" ContentType="image/x-wmf"/>
  <Override PartName="/ppt/media/image12.jpeg" ContentType="image/jpeg"/>
  <Override PartName="/ppt/media/image4.jpeg" ContentType="image/jpeg"/>
  <Override PartName="/ppt/media/image40.png" ContentType="image/png"/>
  <Override PartName="/ppt/media/image18.wmf" ContentType="image/x-wmf"/>
  <Override PartName="/ppt/media/image2.jpeg" ContentType="image/jpeg"/>
  <Override PartName="/ppt/media/image25.jpeg" ContentType="image/jpeg"/>
  <Override PartName="/ppt/media/image62.wmf" ContentType="image/x-wmf"/>
  <Override PartName="/ppt/media/image11.jpeg" ContentType="image/jpeg"/>
  <Override PartName="/ppt/media/image64.wmf" ContentType="image/x-wmf"/>
  <Override PartName="/ppt/media/image24.png" ContentType="image/png"/>
  <Override PartName="/ppt/media/image58.wmf" ContentType="image/x-wmf"/>
  <Override PartName="/ppt/media/image21.wmf" ContentType="image/x-wmf"/>
  <Override PartName="/ppt/media/image19.wmf" ContentType="image/x-wmf"/>
  <Override PartName="/ppt/media/image59.wmf" ContentType="image/x-wmf"/>
  <Override PartName="/ppt/media/image52.png" ContentType="image/png"/>
  <Override PartName="/ppt/media/image22.wmf" ContentType="image/x-wmf"/>
  <Override PartName="/ppt/media/image65.png" ContentType="image/png"/>
  <Override PartName="/ppt/media/image13.wmf" ContentType="image/x-wmf"/>
  <Override PartName="/ppt/media/image56.png" ContentType="image/png"/>
  <Override PartName="/ppt/media/image76.wmf" ContentType="image/x-wmf"/>
  <Override PartName="/ppt/media/image75.wmf" ContentType="image/x-wmf"/>
  <Override PartName="/ppt/media/image63.wmf" ContentType="image/x-wmf"/>
  <Override PartName="/ppt/media/image73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image67.wmf" ContentType="image/x-wmf"/>
  <Override PartName="/ppt/media/image30.wmf" ContentType="image/x-wmf"/>
  <Override PartName="/ppt/media/image29.wmf" ContentType="image/x-wmf"/>
  <Override PartName="/ppt/media/image1.png" ContentType="image/png"/>
  <Override PartName="/ppt/media/image66.wmf" ContentType="image/x-wmf"/>
  <Override PartName="/ppt/media/image72.wmf" ContentType="image/x-wmf"/>
  <Override PartName="/ppt/media/image26.jpeg" ContentType="image/jpeg"/>
  <Override PartName="/ppt/media/image20.wmf" ContentType="image/x-wmf"/>
  <Override PartName="/ppt/media/image5.jpeg" ContentType="image/jpeg"/>
  <Override PartName="/ppt/media/image48.wmf" ContentType="image/x-wmf"/>
  <Override PartName="/ppt/media/image9.wmf" ContentType="image/x-wmf"/>
  <Override PartName="/ppt/media/image3.jpeg" ContentType="image/jpeg"/>
  <Override PartName="/ppt/media/image41.png" ContentType="image/png"/>
  <Override PartName="/ppt/media/image57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55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23.wmf" ContentType="image/x-wmf"/>
  <Override PartName="/ppt/media/image31.wmf" ContentType="image/x-wmf"/>
  <Override PartName="/ppt/media/image74.png" ContentType="image/png"/>
  <Override PartName="/ppt/media/image35.wmf" ContentType="image/x-wmf"/>
  <Override PartName="/ppt/media/image27.jpeg" ContentType="image/jpeg"/>
  <Override PartName="/ppt/media/image17.wmf" ContentType="image/x-wmf"/>
  <Override PartName="/ppt/media/image10.jpeg" ContentType="image/jpeg"/>
  <Override PartName="/ppt/media/image54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D0C-BEB5-4DFB-8EDF-62E2B667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2A2-EE74-43C2-A63D-6283087E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465-D73E-4A9F-97A1-AF523ACD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6FC-E70C-419C-935B-74E99F3C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08F-BCC3-4060-B839-37E7B97D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7AE-E9F4-4816-8BF0-99A632E6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E55-8A41-4E69-9EB1-81EC8B24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B65-B6E6-4209-B9C9-ED33799C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876-4BCF-4527-9B4D-0CEB2588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8EC-E1AB-469E-9C40-E56F96FA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2DC-557B-4D66-B9CE-A16E42B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227-7888-4666-A7E9-1DCC23EC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50A1-150A-441A-82F1-222DCBC80D0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.png"/><Relationship Id="rId6" Type="http://schemas.openxmlformats.org/officeDocument/2006/relationships/image" Target="../media/image16.wmf"/><Relationship Id="rId7" Type="http://schemas.openxmlformats.org/officeDocument/2006/relationships/hyperlink" Target="http://www.ncbi.nlm.nih.gov/pubmed?term=%22Einhorn%20N%22%5BAuthor%5D" TargetMode="External"/><Relationship Id="rId8" Type="http://schemas.openxmlformats.org/officeDocument/2006/relationships/hyperlink" Target="http://www.ncbi.nlm.nih.gov/pubmed?term=%22Einhorn%20N%22%5BAuthor%5D" TargetMode="External"/><Relationship Id="rId9" Type="http://schemas.openxmlformats.org/officeDocument/2006/relationships/hyperlink" Target="http://www.ncbi.nlm.nih.gov/pubmed?term=%22Sj&#246;vall%20K%22%5BAuthor%5D" TargetMode="External"/><Relationship Id="rId10" Type="http://schemas.openxmlformats.org/officeDocument/2006/relationships/hyperlink" Target="http://www.ncbi.nlm.nih.gov/pubmed?term=%22Sj&#246;vall%20K%22%5BAuthor%5D" TargetMode="External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ncbi.nlm.nih.gov/pubmed?term=%22Jacobs%20I%22%5BAuthor%5D" TargetMode="External"/><Relationship Id="rId4" Type="http://schemas.openxmlformats.org/officeDocument/2006/relationships/hyperlink" Target="http://www.ncbi.nlm.nih.gov/pubmed?term=%22Jacobs%20I%22%5BAuthor%5D" TargetMode="External"/><Relationship Id="rId5" Type="http://schemas.openxmlformats.org/officeDocument/2006/relationships/hyperlink" Target="http://www.ncbi.nlm.nih.gov/pubmed?term=%22Oram%20D%22%5BAuthor%5D" TargetMode="External"/><Relationship Id="rId6" Type="http://schemas.openxmlformats.org/officeDocument/2006/relationships/hyperlink" Target="http://www.ncbi.nlm.nih.gov/pubmed?term=%22Oram%20D%22%5BAuthor%5D" TargetMode="External"/><Relationship Id="rId7" Type="http://schemas.openxmlformats.org/officeDocument/2006/relationships/hyperlink" Target="http://www.ncbi.nlm.nih.gov/pubmed?term=%22Fairbanks%20J%22%5BAuthor%5D" TargetMode="External"/><Relationship Id="rId8" Type="http://schemas.openxmlformats.org/officeDocument/2006/relationships/hyperlink" Target="http://www.ncbi.nlm.nih.gov/pubmed?term=%22Turner%20J%22%5BAuthor%5D" TargetMode="External"/><Relationship Id="rId9" Type="http://schemas.openxmlformats.org/officeDocument/2006/relationships/hyperlink" Target="http://www.ncbi.nlm.nih.gov/pubmed?term=%22Frost%20C%22%5BAuthor%5D" TargetMode="External"/><Relationship Id="rId10" Type="http://schemas.openxmlformats.org/officeDocument/2006/relationships/hyperlink" Target="http://www.ncbi.nlm.nih.gov/pubmed?term=%22Grudzinskas%20JG%22%5BAuthor%5D" TargetMode="External"/><Relationship Id="rId11" Type="http://schemas.openxmlformats.org/officeDocument/2006/relationships/hyperlink" Target="http://www.ncbi.nlm.nih.gov/pubmed?term=%22Grudzinskas%20JG%22%5BAuthor%5D" TargetMode="External"/><Relationship Id="rId1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pn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7.png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4.png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36720" y="2168640"/>
            <a:ext cx="3635640" cy="219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5040" y="117360"/>
            <a:ext cx="733608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9900"/>
                </a:solidFill>
                <a:uFillTx/>
                <a:latin typeface="Monotype Corsiva"/>
              </a:rPr>
              <a:t>SEMINARIO DI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BIOMARCATORI e CARCINOMA OVA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Aula Morgagni Policlinico Universitario Pa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4 April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87840" y="4508640"/>
            <a:ext cx="924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onotype Corsiva"/>
              </a:rPr>
              <a:t>HE4 E CA1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onotype Corsiva"/>
              </a:rPr>
              <a:t>NELLA DIAGNOSTICA DELLE MASSE PELV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43640" y="5661000"/>
            <a:ext cx="909720" cy="115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31840" y="5734080"/>
            <a:ext cx="10274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lutazione di pazienti con massa pelv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azienti con </a:t>
            </a:r>
            <a:r>
              <a:rPr b="1" i="1" lang="it-IT" sz="2300" spc="-1" strike="noStrike">
                <a:solidFill>
                  <a:srgbClr val="000000"/>
                </a:solidFill>
                <a:latin typeface="Arial"/>
              </a:rPr>
              <a:t>massa palpabile e CA 125&gt;35 U/mL sono altamente indicativi di carcinoma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(75% dei cas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Età post-menopausale (prevalenza cr. ovarico pari a 63%):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PPV 98%, NPV 72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Età pre-menopausale (prevalenza malattia 15%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PPV 49%, NPV 93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8640" y="1852560"/>
            <a:ext cx="814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Valutazione pazienti con tumori epitelial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a determinazione del CA 125 è raccomandata in tutti i protocolli di </a:t>
            </a:r>
            <a:r>
              <a:rPr b="1" i="1" lang="it-IT" sz="2300" spc="-1" strike="noStrike">
                <a:solidFill>
                  <a:srgbClr val="000000"/>
                </a:solidFill>
                <a:latin typeface="Arial"/>
              </a:rPr>
              <a:t>monitoragg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Esiste correlazione fra andamento clinico e variazioni della concentrazione del marcat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a caduta dei livelli nel siero è indice di </a:t>
            </a:r>
            <a:r>
              <a:rPr b="1" i="1" lang="it-IT" sz="2300" spc="-1" strike="noStrike">
                <a:solidFill>
                  <a:srgbClr val="000000"/>
                </a:solidFill>
                <a:latin typeface="Arial"/>
              </a:rPr>
              <a:t>risposta alla terap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’emivita del CA 125 è variabile prognostica indipendente. Pazienti con </a:t>
            </a:r>
            <a:r>
              <a:rPr b="1" i="1" lang="it-IT" sz="2300" spc="-1" strike="noStrike">
                <a:solidFill>
                  <a:srgbClr val="000000"/>
                </a:solidFill>
                <a:latin typeface="Arial"/>
              </a:rPr>
              <a:t>emivita &gt;20 giorni hanno velocità di progressione 3.2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volte superiore e ridotto intervallo libero da malatt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8640" y="1852560"/>
            <a:ext cx="814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6680" y="1125360"/>
            <a:ext cx="80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Monotype Corsiva"/>
              </a:rPr>
              <a:t>INCREMENTO DEL CA 125 PER CONDIZIONI BEN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2060640"/>
            <a:ext cx="43912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Mestruazione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Gravidanza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Iperstimolaz. Ova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ndometri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Flogosi pelv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060640"/>
            <a:ext cx="4392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Miomi uterini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Malattie pleuriche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patopatia (asc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Chirurgia sull’add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35520" y="338040"/>
            <a:ext cx="12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CA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476360" y="5229360"/>
            <a:ext cx="1276200" cy="118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300720" y="5229360"/>
            <a:ext cx="1292400" cy="1176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738600" y="5229360"/>
            <a:ext cx="16254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08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0" y="890640"/>
            <a:ext cx="57182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i livelli di CA 125 aumentano nel tempo nella maggior part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donne con K ovaio precli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donne non affette da K ovaio dimostrano nel tempo val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stabili di CA 125, anche se il valore iniziale è ele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796000" y="549360"/>
            <a:ext cx="2663640" cy="2665440"/>
            <a:chOff x="5796000" y="549360"/>
            <a:chExt cx="2663640" cy="26654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796000" y="549360"/>
              <a:ext cx="266364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423920" y="1059120"/>
              <a:ext cx="105840" cy="12744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5040" y="1995120"/>
              <a:ext cx="105840" cy="12744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22360" y="846360"/>
              <a:ext cx="105840" cy="12744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481640" y="5805360"/>
            <a:ext cx="4627440" cy="718920"/>
            <a:chOff x="4481640" y="5805360"/>
            <a:chExt cx="4627440" cy="71892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4481640" y="5805360"/>
              <a:ext cx="46274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4540680" y="6286680"/>
              <a:ext cx="373032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2340000" y="2494080"/>
            <a:ext cx="0" cy="57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3159000"/>
            <a:ext cx="5473800" cy="947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Risk of Ovarian Cancer Algorithm (R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796000" y="3225960"/>
            <a:ext cx="2592360" cy="2435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892680"/>
            <a:ext cx="48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ischio espresso in percentuale, determinato dal confronto fra la curva del soggetto in esame ed una curva di riferimento costruita su soggetti con K ovaio n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0" y="5805360"/>
            <a:ext cx="446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bstet Gynecol. 1992 Jul;80(1):14-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ospective evaluation of serum CA 125 levels for early detection of ovarian canc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inhorn</a:t>
            </a: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N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jövall</a:t>
            </a: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Knapp RC, Hall P, Scully RE, Bast RC Jr, Zurawski VR J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35520" y="338040"/>
            <a:ext cx="12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CA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1459080"/>
            <a:ext cx="4176720" cy="1177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11280" y="2925720"/>
            <a:ext cx="2855880" cy="3382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859280" y="1341360"/>
            <a:ext cx="3745080" cy="1408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932360" y="2852640"/>
            <a:ext cx="2865600" cy="3619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86520" y="3213000"/>
            <a:ext cx="122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otype Corsiva"/>
              </a:rPr>
              <a:t>LR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+  6.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-  0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otype Corsiva"/>
              </a:rPr>
              <a:t>LR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+  6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-  0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otype Corsiva"/>
              </a:rPr>
              <a:t>Su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+  1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-  0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54936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…</a:t>
            </a: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ma il ginecologo  ha maggior familiarità con l’ecograf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1080" y="5722920"/>
            <a:ext cx="590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r J Obstet Gynaecol. 1990 Oct;97(10):922-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 risk of malignancy index incorporating CA 125, ultrasound and menopausal status for the accurate preoperative diagnosis of ovarian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cobs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am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D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airbanks J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urner J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ost C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rudzinskas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JG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2760" y="33336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Metodi combi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152360"/>
            <a:ext cx="4535280" cy="9471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Risk of Malignancy Index (R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817200" y="1998720"/>
            <a:ext cx="10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onotype Corsiva"/>
              </a:rPr>
              <a:t>CA 125 (U/ml)  X  Ecografia (score 0, 1 o 3)  X  menopausa (1: no, 3: 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0320" y="30733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MI cut-off 5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65720" y="306864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ENS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 7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8120" y="422100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RMI &gt; 2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&lt; 2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33200" y="4230720"/>
            <a:ext cx="88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ischio  42 volte maggiore rispetto alla popolazione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1920" y="495144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ischio 0.15  volte rispetto alla popolazione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60760" y="307332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MI cut-off  2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42440" y="306864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ENS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 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79280" y="1123920"/>
            <a:ext cx="4753080" cy="1368360"/>
            <a:chOff x="179280" y="1123920"/>
            <a:chExt cx="4753080" cy="136836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179280" y="1123920"/>
              <a:ext cx="475308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260640" y="2229120"/>
              <a:ext cx="4087800" cy="2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2912760" y="33336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Metodi combi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0920" y="2781360"/>
            <a:ext cx="8642160" cy="1876320"/>
            <a:chOff x="250920" y="2781360"/>
            <a:chExt cx="8642160" cy="187632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250920" y="2781360"/>
              <a:ext cx="86421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861080" y="3578040"/>
              <a:ext cx="504720" cy="36000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93080" y="3578040"/>
              <a:ext cx="504720" cy="36000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50920" y="5057640"/>
            <a:ext cx="777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Test di screening efficace e “cost-effective”                 VPP &gt;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530064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581040" y="5587920"/>
            <a:ext cx="6518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Richiesta Specificità &gt; 99.6% per raggiungere VPP &gt;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5130720"/>
            <a:ext cx="216000" cy="935280"/>
          </a:xfrm>
          <a:custGeom>
            <a:avLst/>
            <a:gdLst>
              <a:gd name="textAreaLeft" fmla="*/ 0 w 216000"/>
              <a:gd name="textAreaRight" fmla="*/ 7812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227640" y="5084640"/>
            <a:ext cx="2521080" cy="1013040"/>
            <a:chOff x="6227640" y="5084640"/>
            <a:chExt cx="2521080" cy="1013040"/>
          </a:xfrm>
        </p:grpSpPr>
        <p:pic>
          <p:nvPicPr>
            <p:cNvPr id="195" name="" descr=""/>
            <p:cNvPicPr/>
            <p:nvPr/>
          </p:nvPicPr>
          <p:blipFill>
            <a:blip r:embed="rId6"/>
            <a:stretch/>
          </p:blipFill>
          <p:spPr>
            <a:xfrm>
              <a:off x="6227640" y="5084640"/>
              <a:ext cx="252108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572600" y="5514840"/>
              <a:ext cx="147240" cy="19440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23480" y="5514840"/>
              <a:ext cx="147240" cy="19440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2"/>
          <p:cNvGraphicFramePr/>
          <p:nvPr/>
        </p:nvGraphicFramePr>
        <p:xfrm>
          <a:off x="304920" y="2362320"/>
          <a:ext cx="8610480" cy="41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8610480" cy="4186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135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00" name="AutoShape 4"/>
          <p:cNvSpPr/>
          <p:nvPr/>
        </p:nvSpPr>
        <p:spPr>
          <a:xfrm>
            <a:off x="2057400" y="6172200"/>
            <a:ext cx="838080" cy="533520"/>
          </a:xfrm>
          <a:prstGeom prst="irregularSeal1">
            <a:avLst/>
          </a:pr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096640" y="380880"/>
            <a:ext cx="24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WFDC2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(gene)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rh20"/>
          <p:cNvPicPr/>
          <p:nvPr/>
        </p:nvPicPr>
        <p:blipFill>
          <a:blip r:embed="rId3"/>
          <a:stretch/>
        </p:blipFill>
        <p:spPr>
          <a:xfrm>
            <a:off x="5308560" y="380880"/>
            <a:ext cx="360684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03" name="Rectangle 7"/>
          <p:cNvSpPr/>
          <p:nvPr/>
        </p:nvSpPr>
        <p:spPr>
          <a:xfrm>
            <a:off x="7848720" y="2438280"/>
            <a:ext cx="990360" cy="304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580400" y="1690560"/>
            <a:ext cx="32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WAP5/HE4 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(prot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971800" y="9907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venter-il-padre-del-primo-cromosoma-artificiale"/>
          <p:cNvPicPr/>
          <p:nvPr/>
        </p:nvPicPr>
        <p:blipFill>
          <a:blip r:embed="rId4"/>
          <a:stretch/>
        </p:blipFill>
        <p:spPr>
          <a:xfrm>
            <a:off x="7620120" y="533520"/>
            <a:ext cx="995400" cy="709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07" name="Picture 11" descr="Image"/>
          <p:cNvPicPr/>
          <p:nvPr/>
        </p:nvPicPr>
        <p:blipFill>
          <a:blip r:embed="rId5"/>
          <a:stretch/>
        </p:blipFill>
        <p:spPr>
          <a:xfrm>
            <a:off x="3733920" y="4876920"/>
            <a:ext cx="3047760" cy="18334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208" name="Picture 150" descr="logo univ trasp"/>
          <p:cNvPicPr/>
          <p:nvPr/>
        </p:nvPicPr>
        <p:blipFill>
          <a:blip r:embed="rId6"/>
          <a:stretch/>
        </p:blipFill>
        <p:spPr>
          <a:xfrm>
            <a:off x="304920" y="76320"/>
            <a:ext cx="68580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068720" y="1427040"/>
            <a:ext cx="4967280" cy="1281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-157320" y="717480"/>
            <a:ext cx="345132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Monotype Corsiva"/>
              </a:rPr>
              <a:t>2000: l’era del H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631800" y="1700280"/>
            <a:ext cx="52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Monotype Corsiva"/>
              </a:rPr>
              <a:t>1991: si scopre l’Human Epididymis protei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79280" y="3170160"/>
            <a:ext cx="4744800" cy="1223640"/>
            <a:chOff x="179280" y="3170160"/>
            <a:chExt cx="4744800" cy="1223640"/>
          </a:xfrm>
        </p:grpSpPr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179280" y="3170160"/>
              <a:ext cx="47448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594160" y="3574080"/>
              <a:ext cx="21870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160" y="3777480"/>
              <a:ext cx="9810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059280" y="476280"/>
            <a:ext cx="1035000" cy="1079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1122480" y="2098800"/>
            <a:ext cx="215424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435640" y="3809880"/>
            <a:ext cx="30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HE4 è migliore rispetto al CA 125 nel distinguere pazienti con carcinoma ovarico da quelle con patologie annessiali benigne 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79280" y="4437000"/>
            <a:ext cx="4753080" cy="2071800"/>
            <a:chOff x="179280" y="4437000"/>
            <a:chExt cx="4753080" cy="2071800"/>
          </a:xfrm>
        </p:grpSpPr>
        <p:pic>
          <p:nvPicPr>
            <p:cNvPr id="224" name="" descr=""/>
            <p:cNvPicPr/>
            <p:nvPr/>
          </p:nvPicPr>
          <p:blipFill>
            <a:blip r:embed="rId7"/>
            <a:stretch/>
          </p:blipFill>
          <p:spPr>
            <a:xfrm>
              <a:off x="179280" y="4437000"/>
              <a:ext cx="47530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556000" y="5170320"/>
              <a:ext cx="503280" cy="86364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0360" y="5170320"/>
              <a:ext cx="502920" cy="86364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179280" y="765000"/>
            <a:ext cx="4679640" cy="1800000"/>
            <a:chOff x="179280" y="765000"/>
            <a:chExt cx="4679640" cy="1800000"/>
          </a:xfrm>
        </p:grpSpPr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179280" y="765000"/>
              <a:ext cx="46796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639720" y="2135880"/>
              <a:ext cx="3873240" cy="42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5724360" y="549360"/>
            <a:ext cx="2951280" cy="2628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5653080" y="3284640"/>
            <a:ext cx="3095640" cy="100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24000" y="2897280"/>
            <a:ext cx="43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Nelle cellule del carcinoma ovarico, ma non nei tessuti normali, il prodotto del gene HE4 è N-glicosilato e secreto a livello extracellulare. …di conseguenza viene secreto e quindi può essere rilevabile a livello ematico in pazienti con carcinoma ovarico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4560" y="4941720"/>
            <a:ext cx="7993080" cy="15570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il rilascio di HE4 sembra essere più precoce rispetto al CA125, ed i valori di HE4 sono significativamente più elevati negli stadi precoci di EOC (stadio I e II) in confronto ai control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146960" y="981000"/>
            <a:ext cx="113954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5-10% delle donne va incontro a chirurgia per formazioni annessiali nell’arco della 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solo ad una piccola percentuale di queste si farà diagnosi di carcinoma ovar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90% dei carcinomi ovarici è rappresentato da CARCINOMI OVARICI EPITELIALI (E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70-85% dei EOCs viene diagnosticato in stadi avanzati (III-IV sta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sopravvivenza decresce drammaticamente all’aumentare dello sta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it-IT" sz="2000" spc="-1" strike="noStrike">
                <a:solidFill>
                  <a:srgbClr val="000000"/>
                </a:solidFill>
                <a:latin typeface="Monotype Corsiva"/>
              </a:rPr>
              <a:t>(sopravvivenza a 5 aa:  70-90% stadi I-II; 20-40% stadi III-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85880" y="4711680"/>
            <a:ext cx="5772240" cy="3335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Estremamente difficile la diagnosi prec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Non esistono tests di screenig effic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52960" y="3826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3546" r="2963" b="0"/>
          <a:stretch/>
        </p:blipFill>
        <p:spPr>
          <a:xfrm>
            <a:off x="7315200" y="2895480"/>
            <a:ext cx="15559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3"/>
          <p:cNvGraphicFramePr/>
          <p:nvPr/>
        </p:nvGraphicFramePr>
        <p:xfrm>
          <a:off x="228600" y="1905120"/>
          <a:ext cx="868680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868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9"/>
          <p:cNvSpPr/>
          <p:nvPr/>
        </p:nvSpPr>
        <p:spPr>
          <a:xfrm>
            <a:off x="1371600" y="750960"/>
            <a:ext cx="7162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50" descr="logo univ trasp"/>
          <p:cNvPicPr/>
          <p:nvPr/>
        </p:nvPicPr>
        <p:blipFill>
          <a:blip r:embed="rId3"/>
          <a:stretch/>
        </p:blipFill>
        <p:spPr>
          <a:xfrm>
            <a:off x="304920" y="76320"/>
            <a:ext cx="685800" cy="59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13"/>
          <p:cNvGraphicFramePr/>
          <p:nvPr/>
        </p:nvGraphicFramePr>
        <p:xfrm>
          <a:off x="3429000" y="228600"/>
          <a:ext cx="5486400" cy="113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29000" y="228600"/>
                    <a:ext cx="5486400" cy="11397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grpSp>
        <p:nvGrpSpPr>
          <p:cNvPr id="244" name="Group 23"/>
          <p:cNvGrpSpPr/>
          <p:nvPr/>
        </p:nvGrpSpPr>
        <p:grpSpPr>
          <a:xfrm>
            <a:off x="304920" y="2057400"/>
            <a:ext cx="8610480" cy="4495680"/>
            <a:chOff x="304920" y="2057400"/>
            <a:chExt cx="8610480" cy="4495680"/>
          </a:xfrm>
        </p:grpSpPr>
        <p:graphicFrame>
          <p:nvGraphicFramePr>
            <p:cNvPr id="245" name="Object 5"/>
            <p:cNvGraphicFramePr/>
            <p:nvPr/>
          </p:nvGraphicFramePr>
          <p:xfrm>
            <a:off x="304920" y="3921120"/>
            <a:ext cx="5410080" cy="2631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6" name="Object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3921120"/>
                      <a:ext cx="5410080" cy="2631960"/>
                    </a:xfrm>
                    <a:prstGeom prst="rect">
                      <a:avLst/>
                    </a:prstGeom>
                    <a:ln w="9360">
                      <a:solidFill>
                        <a:srgbClr val="cc66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Object 6"/>
            <p:cNvGraphicFramePr/>
            <p:nvPr/>
          </p:nvGraphicFramePr>
          <p:xfrm>
            <a:off x="6019920" y="3925800"/>
            <a:ext cx="2895480" cy="2513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48" name="Object 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9920" y="3925800"/>
                      <a:ext cx="2895480" cy="2513160"/>
                    </a:xfrm>
                    <a:prstGeom prst="rect">
                      <a:avLst/>
                    </a:prstGeom>
                    <a:ln w="9360">
                      <a:solidFill>
                        <a:srgbClr val="cc66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9" name="Rectangle 7"/>
            <p:cNvSpPr/>
            <p:nvPr/>
          </p:nvSpPr>
          <p:spPr>
            <a:xfrm>
              <a:off x="4648320" y="2057400"/>
              <a:ext cx="1066680" cy="762120"/>
            </a:xfrm>
            <a:prstGeom prst="rect">
              <a:avLst/>
            </a:prstGeom>
            <a:noFill/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AutoShape 8"/>
            <p:cNvCxnSpPr>
              <a:stCxn id="249" idx="2"/>
            </p:cNvCxnSpPr>
            <p:nvPr/>
          </p:nvCxnSpPr>
          <p:spPr>
            <a:xfrm rot="5400000">
              <a:off x="3554280" y="2293920"/>
              <a:ext cx="1083240" cy="2171880"/>
            </a:xfrm>
            <a:prstGeom prst="bentConnector3">
              <a:avLst>
                <a:gd name="adj1" fmla="val 49102"/>
              </a:avLst>
            </a:prstGeom>
            <a:ln w="38160">
              <a:solidFill>
                <a:srgbClr val="cc66ff"/>
              </a:solidFill>
              <a:miter/>
              <a:tailEnd len="med" type="triangle" w="med"/>
            </a:ln>
          </p:spPr>
        </p:cxnSp>
        <p:cxnSp>
          <p:nvCxnSpPr>
            <p:cNvPr id="251" name="AutoShape 11"/>
            <p:cNvCxnSpPr>
              <a:stCxn id="249" idx="2"/>
            </p:cNvCxnSpPr>
            <p:nvPr/>
          </p:nvCxnSpPr>
          <p:spPr>
            <a:xfrm flipH="1" rot="16200000">
              <a:off x="5780880" y="2238840"/>
              <a:ext cx="1087920" cy="2286720"/>
            </a:xfrm>
            <a:prstGeom prst="bentConnector3">
              <a:avLst>
                <a:gd name="adj1" fmla="val 49023"/>
              </a:avLst>
            </a:prstGeom>
            <a:ln w="38160">
              <a:solidFill>
                <a:srgbClr val="cc66ff"/>
              </a:solidFill>
              <a:miter/>
              <a:tailEnd len="med" type="triangle" w="med"/>
            </a:ln>
          </p:spPr>
        </p:cxnSp>
        <p:sp>
          <p:nvSpPr>
            <p:cNvPr id="252" name="Text Box 12"/>
            <p:cNvSpPr/>
            <p:nvPr/>
          </p:nvSpPr>
          <p:spPr>
            <a:xfrm>
              <a:off x="8137440" y="4662360"/>
              <a:ext cx="70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ＭＳ Ｐゴシック"/>
                </a:rPr>
                <a:t>0.9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ＭＳ Ｐゴシック"/>
                </a:rPr>
                <a:t>v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ＭＳ Ｐゴシック"/>
                </a:rPr>
                <a:t>0.9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4"/>
            <p:cNvSpPr/>
            <p:nvPr/>
          </p:nvSpPr>
          <p:spPr>
            <a:xfrm>
              <a:off x="1600200" y="4876920"/>
              <a:ext cx="609480" cy="533160"/>
            </a:xfrm>
            <a:prstGeom prst="ellipse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5"/>
            <p:cNvSpPr/>
            <p:nvPr/>
          </p:nvSpPr>
          <p:spPr>
            <a:xfrm>
              <a:off x="4343400" y="4419720"/>
              <a:ext cx="609480" cy="1218960"/>
            </a:xfrm>
            <a:prstGeom prst="ellipse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 flipV="1">
              <a:off x="1536840" y="5918040"/>
              <a:ext cx="457200" cy="457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V="1">
              <a:off x="4317840" y="5892840"/>
              <a:ext cx="457200" cy="457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18" descr="http://www.micro-scope.de/scope4.jpg"/>
          <p:cNvPicPr/>
          <p:nvPr/>
        </p:nvPicPr>
        <p:blipFill>
          <a:blip r:embed="rId10"/>
          <a:stretch/>
        </p:blipFill>
        <p:spPr>
          <a:xfrm>
            <a:off x="8153280" y="1417680"/>
            <a:ext cx="7621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1835280" y="333360"/>
            <a:ext cx="5473440" cy="1088640"/>
            <a:chOff x="1835280" y="333360"/>
            <a:chExt cx="5473440" cy="1088640"/>
          </a:xfrm>
        </p:grpSpPr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1835280" y="529920"/>
              <a:ext cx="547344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3482280" y="333360"/>
              <a:ext cx="2504160" cy="25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"/>
          <p:cNvGrpSpPr/>
          <p:nvPr/>
        </p:nvGrpSpPr>
        <p:grpSpPr>
          <a:xfrm>
            <a:off x="179280" y="1484280"/>
            <a:ext cx="4680000" cy="3878280"/>
            <a:chOff x="179280" y="1484280"/>
            <a:chExt cx="4680000" cy="3878280"/>
          </a:xfrm>
        </p:grpSpPr>
        <p:pic>
          <p:nvPicPr>
            <p:cNvPr id="266" name="" descr=""/>
            <p:cNvPicPr/>
            <p:nvPr/>
          </p:nvPicPr>
          <p:blipFill>
            <a:blip r:embed="rId5"/>
            <a:stretch/>
          </p:blipFill>
          <p:spPr>
            <a:xfrm>
              <a:off x="179280" y="1484280"/>
              <a:ext cx="4680000" cy="38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427640" y="2393640"/>
              <a:ext cx="21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27640" y="2465280"/>
              <a:ext cx="21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9280" y="3112920"/>
              <a:ext cx="4537080" cy="73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7640" y="4336920"/>
              <a:ext cx="288720" cy="93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32360" y="1773360"/>
            <a:ext cx="3578400" cy="2230200"/>
            <a:chOff x="4932360" y="1773360"/>
            <a:chExt cx="3578400" cy="2230200"/>
          </a:xfrm>
        </p:grpSpPr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4932360" y="1773360"/>
              <a:ext cx="357840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580000" y="2924280"/>
              <a:ext cx="1224000" cy="1079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932360" y="4076640"/>
            <a:ext cx="3857760" cy="1224000"/>
            <a:chOff x="4932360" y="4076640"/>
            <a:chExt cx="3857760" cy="1224000"/>
          </a:xfrm>
        </p:grpSpPr>
        <p:pic>
          <p:nvPicPr>
            <p:cNvPr id="275" name="" descr=""/>
            <p:cNvPicPr/>
            <p:nvPr/>
          </p:nvPicPr>
          <p:blipFill>
            <a:blip r:embed="rId7"/>
            <a:stretch/>
          </p:blipFill>
          <p:spPr>
            <a:xfrm>
              <a:off x="4932360" y="4076640"/>
              <a:ext cx="38577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8172360" y="4653000"/>
              <a:ext cx="5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03640" y="4868640"/>
              <a:ext cx="3745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03640" y="5084640"/>
              <a:ext cx="3745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03640" y="5300640"/>
              <a:ext cx="1440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79280" y="544500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la combinazione dei due biomarkers sierici CA 125 e HE 4 aumenta la sensibilità quando confrontata con ciascuno dei due markers singolar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La combinazione di 3 o più markers tumorali contribuisce minimamente allla sensibilità della combinazione Ca125/He4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1403280" y="763560"/>
            <a:ext cx="6259320" cy="1512720"/>
            <a:chOff x="1403280" y="763560"/>
            <a:chExt cx="6259320" cy="1512720"/>
          </a:xfrm>
        </p:grpSpPr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1403280" y="763560"/>
              <a:ext cx="625932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>
              <a:off x="3079800" y="1829520"/>
              <a:ext cx="2636280" cy="44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/>
          <p:cNvSpPr/>
          <p:nvPr/>
        </p:nvSpPr>
        <p:spPr>
          <a:xfrm>
            <a:off x="4932360" y="2882880"/>
            <a:ext cx="381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la nostra analisi riafferma la superiorità della combinazione CA125/HE4 riportata da Moore et al. per la diagnosi di carcinoma ovarico poiché questa combinazione è stata in grado di discriminare pazienti con carcinoma dai casi benigni con sensibilità dal 74.2% per gli stadi precoci, al 91.7% per gli stadi avanzati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324000" y="2424240"/>
            <a:ext cx="40320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14360" y="1808280"/>
            <a:ext cx="83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ore and colleagues have reported that the serum biomarker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algorithm</a:t>
            </a:r>
            <a:r>
              <a:rPr b="1" lang="en-US" sz="20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ROM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(Risk of Ovarian Malignancy Algorithm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which utilizes the dual marker combination of HE4 and CA125 along with the menopausal status, shows a better performance than RMI for risk prediction of ovarian maligna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314360" y="3200400"/>
            <a:ext cx="66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00b2"/>
                </a:solidFill>
                <a:latin typeface="Comic Sans MS"/>
                <a:ea typeface="ＭＳ Ｐゴシック"/>
              </a:rPr>
              <a:t>CA125 + HE4 + menopaus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228600" y="5427720"/>
            <a:ext cx="5486400" cy="13539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  <p:graphicFrame>
        <p:nvGraphicFramePr>
          <p:cNvPr id="293" name="Object 6"/>
          <p:cNvGraphicFramePr/>
          <p:nvPr/>
        </p:nvGraphicFramePr>
        <p:xfrm>
          <a:off x="2971800" y="4437000"/>
          <a:ext cx="5943600" cy="11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437000"/>
                    <a:ext cx="5943600" cy="1168560"/>
                  </a:xfrm>
                  <a:prstGeom prst="rect">
                    <a:avLst/>
                  </a:prstGeom>
                  <a:ln w="38160">
                    <a:solidFill>
                      <a:srgbClr val="00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95" name="WordArt 7"/>
          <p:cNvSpPr txBox="1"/>
          <p:nvPr/>
        </p:nvSpPr>
        <p:spPr>
          <a:xfrm>
            <a:off x="7238880" y="36576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R.O.M.A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4495680" y="38098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50" descr="logo univ trasp"/>
          <p:cNvPicPr/>
          <p:nvPr/>
        </p:nvPicPr>
        <p:blipFill>
          <a:blip r:embed="rId4"/>
          <a:stretch/>
        </p:blipFill>
        <p:spPr>
          <a:xfrm>
            <a:off x="304920" y="76320"/>
            <a:ext cx="68580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09480" y="2013120"/>
            <a:ext cx="7858080" cy="43934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edictive Probability Calcu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Premenopausal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Predictive index (PI) = -12.0 + 2.38*LN[HE4] + 0.0626*LN[CA12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Postmenopausal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PI = -8.09 + 1.04*LN[HE4] + 0.732*LN[CA12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Predicted probability (</a:t>
            </a:r>
            <a:r>
              <a:rPr b="0" lang="en-GB" sz="1800" spc="-1" strike="noStrike" u="sng">
                <a:solidFill>
                  <a:srgbClr val="cc00ff"/>
                </a:solidFill>
                <a:uFillTx/>
                <a:latin typeface="Comic Sans MS"/>
                <a:ea typeface="ＭＳ Ｐゴシック"/>
              </a:rPr>
              <a:t>ROMA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)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xp(PI)/[1 + exp(PI)]*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 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ROMA </a:t>
            </a:r>
            <a:r>
              <a:rPr b="0" lang="en-GB" sz="1800" spc="-1" strike="noStrike">
                <a:solidFill>
                  <a:srgbClr val="cc00ff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12.5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and </a:t>
            </a:r>
            <a:r>
              <a:rPr b="0" lang="en-GB" sz="1800" spc="-1" strike="noStrike">
                <a:solidFill>
                  <a:srgbClr val="cc00ff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14.4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(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ＭＳ Ｐゴシック"/>
              </a:rPr>
              <a:t>CanAg CA125 EI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 </a:t>
            </a:r>
            <a:r>
              <a:rPr b="0" lang="en-GB" sz="1800" spc="-1" strike="noStrike">
                <a:solidFill>
                  <a:srgbClr val="cc00ff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13.1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and </a:t>
            </a:r>
            <a:r>
              <a:rPr b="0" lang="en-GB" sz="1800" spc="-1" strike="noStrike">
                <a:solidFill>
                  <a:srgbClr val="cc00ff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27.7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(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ＭＳ Ｐゴシック"/>
              </a:rPr>
              <a:t>ARCHITECT CA125 II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the pre-menopausal and post-menopausal subjects identifies subjects at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ＭＳ Ｐゴシック"/>
              </a:rPr>
              <a:t>high risk of E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http://vigilidelfuoco.usb.it/uploads/pics/matematica.jpg"/>
          <p:cNvPicPr/>
          <p:nvPr/>
        </p:nvPicPr>
        <p:blipFill>
          <a:blip r:embed="rId1"/>
          <a:stretch/>
        </p:blipFill>
        <p:spPr>
          <a:xfrm>
            <a:off x="6248520" y="168120"/>
            <a:ext cx="2297160" cy="1621080"/>
          </a:xfrm>
          <a:prstGeom prst="rect">
            <a:avLst/>
          </a:prstGeom>
          <a:ln w="0">
            <a:noFill/>
          </a:ln>
        </p:spPr>
      </p:pic>
      <p:sp>
        <p:nvSpPr>
          <p:cNvPr id="300" name="WordArt 10"/>
          <p:cNvSpPr txBox="1"/>
          <p:nvPr/>
        </p:nvSpPr>
        <p:spPr>
          <a:xfrm>
            <a:off x="6705720" y="1217520"/>
            <a:ext cx="1904760" cy="11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R.O.M.A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6320520" y="36082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HITECT CA 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Ag CA125 E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7315200" y="3465360"/>
            <a:ext cx="4572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0" descr="logo univ trasp"/>
          <p:cNvPicPr/>
          <p:nvPr/>
        </p:nvPicPr>
        <p:blipFill>
          <a:blip r:embed="rId2"/>
          <a:stretch/>
        </p:blipFill>
        <p:spPr>
          <a:xfrm>
            <a:off x="304920" y="76320"/>
            <a:ext cx="68580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58360" y="2205000"/>
            <a:ext cx="73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Premenopausa: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PREDICTIVE INDEX (PI) = -12 + 2.38 x LN(HE4) + 0.0626 x LN(CA1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3320" y="2830680"/>
            <a:ext cx="73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Postmenopausa: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PREDICTIVE INDEX (PI) = -8.09 + 1.04 x LN(HE4) + 0.732 x LN(CA1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3080" y="3429000"/>
            <a:ext cx="59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PREDICTIVE PROBABILITY (PP) = exp(PI)/[1+exp(P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270000" y="3870360"/>
            <a:ext cx="45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Alto rischio per carcinoma ovar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-900360" y="1589040"/>
            <a:ext cx="8457480" cy="5205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Risk of Ovarian Malignancy Algorithm (ROM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92360" y="404640"/>
            <a:ext cx="5832360" cy="1153800"/>
            <a:chOff x="1692360" y="404640"/>
            <a:chExt cx="5832360" cy="115380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1692360" y="404640"/>
              <a:ext cx="5832360" cy="91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3259800" y="1265040"/>
              <a:ext cx="2696400" cy="29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619280" y="4684680"/>
            <a:ext cx="5932440" cy="1835280"/>
            <a:chOff x="1619280" y="4684680"/>
            <a:chExt cx="5932440" cy="183528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1619280" y="4684680"/>
              <a:ext cx="593244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292720" y="5300640"/>
              <a:ext cx="1152360" cy="936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372840" y="3860640"/>
            <a:ext cx="2817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&gt; 13.1% premenop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&gt; 27.7% postmenop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13000" y="3860640"/>
            <a:ext cx="2817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&gt; 12.5% premenop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&gt; 14.4% postmenop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27640" y="3933720"/>
            <a:ext cx="73080" cy="647640"/>
          </a:xfrm>
          <a:custGeom>
            <a:avLst/>
            <a:gdLst>
              <a:gd name="textAreaLeft" fmla="*/ 21240 w 73080"/>
              <a:gd name="textAreaRight" fmla="*/ 73440 w 73080"/>
              <a:gd name="textAreaTop" fmla="*/ 27000 h 647640"/>
              <a:gd name="textAreaBottom" fmla="*/ 6210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17080" y="3933720"/>
            <a:ext cx="71280" cy="647640"/>
          </a:xfrm>
          <a:custGeom>
            <a:avLst/>
            <a:gdLst>
              <a:gd name="textAreaLeft" fmla="*/ 0 w 71280"/>
              <a:gd name="textAreaRight" fmla="*/ 50040 w 71280"/>
              <a:gd name="textAreaTop" fmla="*/ 27000 h 647640"/>
              <a:gd name="textAreaBottom" fmla="*/ 621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144360" y="836640"/>
            <a:ext cx="4572000" cy="1584000"/>
            <a:chOff x="144360" y="836640"/>
            <a:chExt cx="4572000" cy="1584000"/>
          </a:xfrm>
        </p:grpSpPr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144360" y="836640"/>
              <a:ext cx="457200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163440" y="2174760"/>
              <a:ext cx="2120760" cy="24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572000" y="836640"/>
            <a:ext cx="4392360" cy="2592000"/>
            <a:chOff x="4572000" y="836640"/>
            <a:chExt cx="4392360" cy="2592000"/>
          </a:xfrm>
        </p:grpSpPr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4572000" y="836640"/>
              <a:ext cx="439236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646880" y="1969920"/>
              <a:ext cx="2347200" cy="242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9280" y="3716280"/>
            <a:ext cx="5076360" cy="2449080"/>
            <a:chOff x="3959280" y="3716280"/>
            <a:chExt cx="5076360" cy="2449080"/>
          </a:xfrm>
        </p:grpSpPr>
        <p:pic>
          <p:nvPicPr>
            <p:cNvPr id="334" name="" descr=""/>
            <p:cNvPicPr/>
            <p:nvPr/>
          </p:nvPicPr>
          <p:blipFill>
            <a:blip r:embed="rId6"/>
            <a:stretch/>
          </p:blipFill>
          <p:spPr>
            <a:xfrm>
              <a:off x="3959280" y="3716280"/>
              <a:ext cx="5076360" cy="24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038120" y="4787280"/>
              <a:ext cx="4877280" cy="153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179280" y="2997360"/>
            <a:ext cx="3529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39640" y="54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…</a:t>
            </a: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ma non tutti sono d’accor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52360" y="1452600"/>
            <a:ext cx="4535280" cy="1616040"/>
            <a:chOff x="252360" y="1452600"/>
            <a:chExt cx="4535280" cy="161604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252360" y="1452600"/>
              <a:ext cx="453528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325440" y="2100240"/>
              <a:ext cx="290484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325440" y="2820960"/>
              <a:ext cx="256860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"/>
          <p:cNvGrpSpPr/>
          <p:nvPr/>
        </p:nvGrpSpPr>
        <p:grpSpPr>
          <a:xfrm>
            <a:off x="395280" y="3645000"/>
            <a:ext cx="3312720" cy="2592000"/>
            <a:chOff x="395280" y="3645000"/>
            <a:chExt cx="3312720" cy="2592000"/>
          </a:xfrm>
        </p:grpSpPr>
        <p:pic>
          <p:nvPicPr>
            <p:cNvPr id="347" name="" descr=""/>
            <p:cNvPicPr/>
            <p:nvPr/>
          </p:nvPicPr>
          <p:blipFill>
            <a:blip r:embed="rId6"/>
            <a:stretch/>
          </p:blipFill>
          <p:spPr>
            <a:xfrm>
              <a:off x="395280" y="3645000"/>
              <a:ext cx="331272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705760" y="5015520"/>
              <a:ext cx="925560" cy="364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05760" y="5654880"/>
              <a:ext cx="925560" cy="364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005440" y="1628640"/>
            <a:ext cx="3887640" cy="1831320"/>
            <a:chOff x="5005440" y="1628640"/>
            <a:chExt cx="3887640" cy="1831320"/>
          </a:xfrm>
        </p:grpSpPr>
        <p:sp>
          <p:nvSpPr>
            <p:cNvPr id="351" name=""/>
            <p:cNvSpPr/>
            <p:nvPr/>
          </p:nvSpPr>
          <p:spPr>
            <a:xfrm>
              <a:off x="5005440" y="1987560"/>
              <a:ext cx="388764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nsibilità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70.09%    76.4%     74.5%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pecificità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77.6%      93.9%     81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31080" y="1628640"/>
              <a:ext cx="27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onotype Corsiva"/>
                </a:rPr>
                <a:t>CA125       HE4      RO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932360" y="1484280"/>
            <a:ext cx="3887640" cy="15130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3280" y="35002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a performance diagnostica di ROMA non risulta essere migliore rispetto ad HE4 da s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88000" y="414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3280" y="46864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otrebbe essere inutile l’inclusione della misurazione di CA125 per il calcolo di ROMA, in quanto non aggiunge informazioni signif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179280" y="1197000"/>
            <a:ext cx="6121440" cy="1217160"/>
            <a:chOff x="179280" y="1197000"/>
            <a:chExt cx="6121440" cy="1217160"/>
          </a:xfrm>
        </p:grpSpPr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179280" y="1197000"/>
              <a:ext cx="5973840" cy="70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179280" y="1773000"/>
              <a:ext cx="612144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250920" y="2205000"/>
              <a:ext cx="3136680" cy="20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"/>
          <p:cNvSpPr/>
          <p:nvPr/>
        </p:nvSpPr>
        <p:spPr>
          <a:xfrm>
            <a:off x="539640" y="54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…</a:t>
            </a: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ma non tutti sono d’accor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79280" y="2637000"/>
            <a:ext cx="5040360" cy="3024000"/>
            <a:chOff x="179280" y="2637000"/>
            <a:chExt cx="5040360" cy="3024000"/>
          </a:xfrm>
        </p:grpSpPr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179280" y="2637000"/>
              <a:ext cx="504036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53120" y="3941280"/>
              <a:ext cx="95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3120" y="4337640"/>
              <a:ext cx="95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3120" y="4801320"/>
              <a:ext cx="95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76440" y="3677400"/>
              <a:ext cx="382680" cy="1123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619280" y="5734080"/>
            <a:ext cx="5867280" cy="100872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With these ROC–AUCs, the chances that HE4 or ROMA will be successful as a screening marker are low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35640" y="2781360"/>
            <a:ext cx="345744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Combinando HE4 e CA125 in ROMA, aumentano le performance di HE4 ma non di CA125, indipendentemente dallo stato menopausale. Ciò significa 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NE HE4, NE ROMA AUMENTANO LA DIAGNOSI DI CARCINOMA OVA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39640" y="54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…</a:t>
            </a: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ma non tutti sono d’accor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9280" y="1052640"/>
            <a:ext cx="7334280" cy="1078920"/>
            <a:chOff x="179280" y="1052640"/>
            <a:chExt cx="7334280" cy="1078920"/>
          </a:xfrm>
        </p:grpSpPr>
        <p:pic>
          <p:nvPicPr>
            <p:cNvPr id="380" name="" descr=""/>
            <p:cNvPicPr/>
            <p:nvPr/>
          </p:nvPicPr>
          <p:blipFill>
            <a:blip r:embed="rId3"/>
            <a:stretch/>
          </p:blipFill>
          <p:spPr>
            <a:xfrm>
              <a:off x="179280" y="1052640"/>
              <a:ext cx="7334280" cy="8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4"/>
            <a:stretch/>
          </p:blipFill>
          <p:spPr>
            <a:xfrm>
              <a:off x="179280" y="1869840"/>
              <a:ext cx="3767760" cy="26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250920" y="2133720"/>
            <a:ext cx="8367480" cy="34066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258920" y="5013360"/>
            <a:ext cx="7273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4000" y="5661000"/>
            <a:ext cx="7613640" cy="774720"/>
            <a:chOff x="324000" y="5661000"/>
            <a:chExt cx="7613640" cy="774720"/>
          </a:xfrm>
        </p:grpSpPr>
        <p:pic>
          <p:nvPicPr>
            <p:cNvPr id="385" name="" descr=""/>
            <p:cNvPicPr/>
            <p:nvPr/>
          </p:nvPicPr>
          <p:blipFill>
            <a:blip r:embed="rId6"/>
            <a:stretch/>
          </p:blipFill>
          <p:spPr>
            <a:xfrm>
              <a:off x="324000" y="5661000"/>
              <a:ext cx="761364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042920" y="6148440"/>
              <a:ext cx="4824360" cy="287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765000"/>
            <a:ext cx="825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Sopravvivenza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da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K ovaio è aumentata lievemente ma costant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nell’ultimo decennio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7160" y="1454040"/>
            <a:ext cx="42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iglior management chirur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igliori farmaci chemioterap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9760" y="2306520"/>
            <a:ext cx="86533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onne che vengono trattate chirurgicamente da ginecologi oncologi in cen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con esperienza nel trattamento del cancro ovarico dimostr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39720" y="4540320"/>
            <a:ext cx="6062760" cy="367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Importanza della diagnosi prec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Importanza di tests di screenig effic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Importanza del corretto triage delle pazi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0520" y="3249720"/>
            <a:ext cx="46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minor rischio di reinter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aumentato intervallo “disease fr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aumentata sopravvivenza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2960" y="3826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206280" y="2038320"/>
            <a:ext cx="8308440" cy="2103840"/>
            <a:chOff x="206280" y="2038320"/>
            <a:chExt cx="8308440" cy="2103840"/>
          </a:xfrm>
        </p:grpSpPr>
        <p:sp>
          <p:nvSpPr>
            <p:cNvPr id="392" name=""/>
            <p:cNvSpPr/>
            <p:nvPr/>
          </p:nvSpPr>
          <p:spPr>
            <a:xfrm>
              <a:off x="2567160" y="2073240"/>
              <a:ext cx="376380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Dolore pelvico o addomi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Gonfiore addomi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Aumento del volume addomi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Difficoltà ad alimentarsi o sensazione d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sazietà precoce più di 12 volte al me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6280" y="2038320"/>
              <a:ext cx="2341800" cy="398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Monotype Corsiva"/>
                </a:rPr>
                <a:t>SYMPTOM IND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38800" y="2060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73160" y="2528640"/>
              <a:ext cx="204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urata &lt; 1an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14200" y="692280"/>
            <a:ext cx="6158160" cy="1008000"/>
            <a:chOff x="214200" y="692280"/>
            <a:chExt cx="6158160" cy="1008000"/>
          </a:xfrm>
        </p:grpSpPr>
        <p:pic>
          <p:nvPicPr>
            <p:cNvPr id="397" name="" descr=""/>
            <p:cNvPicPr/>
            <p:nvPr/>
          </p:nvPicPr>
          <p:blipFill>
            <a:blip r:embed="rId3"/>
            <a:stretch/>
          </p:blipFill>
          <p:spPr>
            <a:xfrm>
              <a:off x="214200" y="692280"/>
              <a:ext cx="615816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214200" y="1479600"/>
              <a:ext cx="2729160" cy="2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6084720" y="387972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Specificità di SI + almeno un altro test positivo: 98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451640" y="465120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517536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tilizzo come screening di primo livello di pazienti da inviare all’ecograf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08000" y="3500280"/>
            <a:ext cx="5968800" cy="2953080"/>
            <a:chOff x="108000" y="3500280"/>
            <a:chExt cx="5968800" cy="2953080"/>
          </a:xfrm>
        </p:grpSpPr>
        <p:pic>
          <p:nvPicPr>
            <p:cNvPr id="403" name="" descr=""/>
            <p:cNvPicPr/>
            <p:nvPr/>
          </p:nvPicPr>
          <p:blipFill>
            <a:blip r:embed="rId5"/>
            <a:stretch/>
          </p:blipFill>
          <p:spPr>
            <a:xfrm>
              <a:off x="108000" y="3500280"/>
              <a:ext cx="5968800" cy="29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403280" y="5516640"/>
              <a:ext cx="4464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39640" y="606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Conclusio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255600" y="1268280"/>
            <a:ext cx="424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CA125: &gt; 35 U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HE4: &gt; 70 pM/L premenopa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         </a:t>
            </a: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&gt; 140 pM/L postmenopa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230480"/>
            <a:ext cx="38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Valido ausilio nel management delle pazienti con sospetto di carcinoma ovarico, nell’ambito di un approccio integrato tra clinica, markers ed “imag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54016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HE4 promettente marcatore per discriminare la patologia annessiale maligna da quella benigna, soprattutto nelle donne in premenopausa, soprattutto negli stadi precoci di malat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35280" y="1197000"/>
            <a:ext cx="216000" cy="1440000"/>
          </a:xfrm>
          <a:custGeom>
            <a:avLst/>
            <a:gdLst>
              <a:gd name="textAreaLeft" fmla="*/ 0 w 216000"/>
              <a:gd name="textAreaRight" fmla="*/ 7812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84720" y="1341360"/>
            <a:ext cx="287280" cy="14472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84720" y="263700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980280" y="4292640"/>
            <a:ext cx="104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Necessari ulteriori studi randomizzati per definire l’effettiva utilità di HE4 e dei tests combin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5229360"/>
            <a:ext cx="8424720" cy="11912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Monotype Corsiva"/>
              </a:rPr>
              <a:t>Ad oggi, né Ca125 né HE4, singolarmente o accoppiati, ne i tests combinati, si sono rivelati utilizzabili come test di screening di primo liv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6360" y="6597720"/>
            <a:ext cx="81356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10108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096920"/>
            <a:ext cx="84978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Test di screening efficace e “cost-effective”                 VPP&gt;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9080" y="148428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177480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574920" y="2440080"/>
            <a:ext cx="57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Grande sfida per K ova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481320" y="3038400"/>
            <a:ext cx="57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Bassa preval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1:2500 popolazione post-menopau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102320" y="4437000"/>
            <a:ext cx="10009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Richiesta Specificità &gt; 99.6% per raggiungere VPP &gt;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Early-stage e lesioni precliniche: sensibilità &gt;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2960" y="3826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291280" y="1989000"/>
            <a:ext cx="30970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2040" y="127152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SENSIBILITA’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117648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roporzione di pazienti affetti dalla patologia o condizione in esame che hanno un risultato positivo 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66320" y="1125360"/>
            <a:ext cx="1021320" cy="774000"/>
            <a:chOff x="1966320" y="1125360"/>
            <a:chExt cx="1021320" cy="774000"/>
          </a:xfrm>
        </p:grpSpPr>
        <p:sp>
          <p:nvSpPr>
            <p:cNvPr id="83" name=""/>
            <p:cNvSpPr/>
            <p:nvPr/>
          </p:nvSpPr>
          <p:spPr>
            <a:xfrm>
              <a:off x="2118600" y="11253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V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6320" y="1562040"/>
              <a:ext cx="90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onotype Corsiva"/>
                </a:rPr>
                <a:t>VP + F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0920" y="14680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19520" y="21384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SPECIFICITA’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204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roporzione di pazienti NON affetti dalla patologia o condizione in esame che hanno un risultato negativo 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66320" y="1992240"/>
            <a:ext cx="1021320" cy="774000"/>
            <a:chOff x="1966320" y="1992240"/>
            <a:chExt cx="1021320" cy="774000"/>
          </a:xfrm>
        </p:grpSpPr>
        <p:sp>
          <p:nvSpPr>
            <p:cNvPr id="89" name=""/>
            <p:cNvSpPr/>
            <p:nvPr/>
          </p:nvSpPr>
          <p:spPr>
            <a:xfrm>
              <a:off x="2119320" y="1992240"/>
              <a:ext cx="55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V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66320" y="2428920"/>
              <a:ext cx="90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onotype Corsiva"/>
                </a:rPr>
                <a:t>VN + F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0920" y="23349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39640" y="2906640"/>
            <a:ext cx="8064720" cy="91692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er i test di screening, la performance dovrebbe essere prossima alla perfezione (100%) per evitare di diagnosticare  erroneamente soggetti non affetti dalla patologia in es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005360"/>
            <a:ext cx="4248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e curve operative caratteristiche (</a:t>
            </a:r>
            <a:r>
              <a:rPr b="1" i="1" lang="it-IT" sz="2000" spc="-1" strike="noStrike">
                <a:solidFill>
                  <a:srgbClr val="009900"/>
                </a:solidFill>
                <a:latin typeface="Monotype Corsiva"/>
              </a:rPr>
              <a:t>Receiver Operating Characteristic</a:t>
            </a:r>
            <a:r>
              <a:rPr b="0" i="1" lang="it-IT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it-IT" sz="2000" spc="-1" strike="noStrike">
                <a:solidFill>
                  <a:srgbClr val="009900"/>
                </a:solidFill>
                <a:latin typeface="Monotype Corsiva"/>
              </a:rPr>
              <a:t>Curves</a:t>
            </a: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, ROC</a:t>
            </a: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) sono rappresentazioni grafiche di confronti di un test diagnostico quando i risultati del test possono assumere diversi valori in un intervallo o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4522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e curve ROC permettono anche di paragonare l’accuratezza di due test usati per la diagnosi di una determinata malatt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2367000" cy="2284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71640" y="47628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digressio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596880" y="879480"/>
            <a:ext cx="6697440" cy="581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onotype Corsiva"/>
              </a:rPr>
              <a:t>1981: viene identificato il CA 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469160" y="4657680"/>
            <a:ext cx="1202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otype Corsiva"/>
              </a:rPr>
              <a:t>Ad oggi il più diffuso ed utilizzato marker per il management delle donne con K ova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4920" y="1989000"/>
            <a:ext cx="5984640" cy="1873440"/>
            <a:chOff x="34920" y="1989000"/>
            <a:chExt cx="5984640" cy="1873440"/>
          </a:xfrm>
        </p:grpSpPr>
        <p:grpSp>
          <p:nvGrpSpPr>
            <p:cNvPr id="104" name=""/>
            <p:cNvGrpSpPr/>
            <p:nvPr/>
          </p:nvGrpSpPr>
          <p:grpSpPr>
            <a:xfrm>
              <a:off x="34920" y="1989000"/>
              <a:ext cx="5668560" cy="1866960"/>
              <a:chOff x="34920" y="1989000"/>
              <a:chExt cx="5668560" cy="18669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0" y="1989000"/>
                <a:ext cx="5668560" cy="140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8920" y="3422160"/>
                <a:ext cx="4710600" cy="43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166680" y="1989000"/>
              <a:ext cx="5852880" cy="1873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194520" y="1052640"/>
            <a:ext cx="2860560" cy="3314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5960" y="52387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Cut-off &gt; 35 U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90080" y="5265720"/>
            <a:ext cx="69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bassa specificità, spt in premenopa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elevato in solo 50-60% degli “early-stage EOC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elevato nel 80-90% E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Scoperto da Bast nel 1981 attraverso le sviluppo dell’anticorpo monoclonale OC 125 da linee cellulari OVCA 43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Glicoproteina simile a mucina con Mr 200-2000 K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egata alla via di traduzione del segnale tirosin-kinasico del recettore del fattore di crescita epitelia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Aumenta nel siero per effetto di invasione vascolare, distruzione tissutale ed infiammazio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Presente, oltre che nel siero, nel latte, ascite, liquido cistico, secrezioni cervicali, uterine e liquido amniotic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63800" y="581040"/>
            <a:ext cx="32623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07932" dir="2700000" blurRad="0" rotWithShape="0">
                    <a:srgbClr val="000000"/>
                  </a:outerShdw>
                </a:effectLst>
                <a:latin typeface="Impact"/>
              </a:rPr>
              <a:t>CA 125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07932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998640" y="1852560"/>
            <a:ext cx="814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47800" y="1981080"/>
            <a:ext cx="801504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Cut-off: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35 U/mL è il cut-off più utilizza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Valori: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minuiscono nella menopausa, si modificano nel corso del ciclo mestruale; con aumenti nella fase                       follic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umenti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atologie benigne quali endometriosi, cisti ovariche, malattie infiammatorie della pelvi, peritonite, cirro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atologie maligne non-ovariche quali cancro della cervice, endometrio, pancreas, polmone, mammella e co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0800" y="1868400"/>
            <a:ext cx="83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63800" y="581040"/>
            <a:ext cx="32623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07932" dir="2700000" blurRad="0" rotWithShape="0">
                    <a:srgbClr val="000000"/>
                  </a:outerShdw>
                </a:effectLst>
                <a:latin typeface="Impact"/>
              </a:rPr>
              <a:t>CA 125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07932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USO NELLO SREENING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non provata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utilità clinica. Identifica il 60%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si, ed il 50% di quell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anni di vita salv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dello teorico: costo $10-30.000 per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no di vita sal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8640" y="1852560"/>
            <a:ext cx="814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5:23:10Z</dcterms:created>
  <dc:creator>Donato D'Antona</dc:creator>
  <dc:description/>
  <dc:language>en-US</dc:language>
  <cp:lastModifiedBy>MARIO_PLEBANI</cp:lastModifiedBy>
  <dcterms:modified xsi:type="dcterms:W3CDTF">2011-05-30T05:54:34Z</dcterms:modified>
  <cp:revision>79</cp:revision>
  <dc:subject/>
  <dc:title>Diapositiva 1</dc:title>
</cp:coreProperties>
</file>