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1.wmf" ContentType="image/x-wmf"/>
  <Override PartName="/ppt/media/image50.wmf" ContentType="image/x-wmf"/>
  <Override PartName="/ppt/media/image28.png" ContentType="image/png"/>
  <Override PartName="/ppt/media/image49.png" ContentType="image/png"/>
  <Override PartName="/ppt/media/image71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53.jpeg" ContentType="image/jpeg"/>
  <Override PartName="/ppt/media/image43.wmf" ContentType="image/x-wmf"/>
  <Override PartName="/ppt/media/image42.jpeg" ContentType="image/jpeg"/>
  <Override PartName="/ppt/media/image6.png" ContentType="image/png"/>
  <Override PartName="/ppt/media/image39.png" ContentType="image/png"/>
  <Override PartName="/ppt/media/image61.wmf" ContentType="image/x-wmf"/>
  <Override PartName="/ppt/media/image37.wmf" ContentType="image/x-wmf"/>
  <Override PartName="/ppt/media/image12.jpeg" ContentType="image/jpeg"/>
  <Override PartName="/ppt/media/image4.jpeg" ContentType="image/jpeg"/>
  <Override PartName="/ppt/media/image40.png" ContentType="image/png"/>
  <Override PartName="/ppt/media/image18.wmf" ContentType="image/x-wmf"/>
  <Override PartName="/ppt/media/image2.jpeg" ContentType="image/jpeg"/>
  <Override PartName="/ppt/media/image25.jpeg" ContentType="image/jpeg"/>
  <Override PartName="/ppt/media/image62.wmf" ContentType="image/x-wmf"/>
  <Override PartName="/ppt/media/image11.jpeg" ContentType="image/jpeg"/>
  <Override PartName="/ppt/media/image64.wmf" ContentType="image/x-wmf"/>
  <Override PartName="/ppt/media/image24.png" ContentType="image/png"/>
  <Override PartName="/ppt/media/image58.wmf" ContentType="image/x-wmf"/>
  <Override PartName="/ppt/media/image21.wmf" ContentType="image/x-wmf"/>
  <Override PartName="/ppt/media/image19.wmf" ContentType="image/x-wmf"/>
  <Override PartName="/ppt/media/image59.wmf" ContentType="image/x-wmf"/>
  <Override PartName="/ppt/media/image52.png" ContentType="image/png"/>
  <Override PartName="/ppt/media/image22.wmf" ContentType="image/x-wmf"/>
  <Override PartName="/ppt/media/image65.png" ContentType="image/png"/>
  <Override PartName="/ppt/media/image13.wmf" ContentType="image/x-wmf"/>
  <Override PartName="/ppt/media/image56.png" ContentType="image/png"/>
  <Override PartName="/ppt/media/image76.wmf" ContentType="image/x-wmf"/>
  <Override PartName="/ppt/media/image75.wmf" ContentType="image/x-wmf"/>
  <Override PartName="/ppt/media/image63.wmf" ContentType="image/x-wmf"/>
  <Override PartName="/ppt/media/image73.wmf" ContentType="image/x-wmf"/>
  <Override PartName="/ppt/media/image69.wmf" ContentType="image/x-wmf"/>
  <Override PartName="/ppt/media/image32.wmf" ContentType="image/x-wmf"/>
  <Override PartName="/ppt/media/image70.wmf" ContentType="image/x-wmf"/>
  <Override PartName="/ppt/media/image68.wmf" ContentType="image/x-wmf"/>
  <Override PartName="/ppt/media/image67.wmf" ContentType="image/x-wmf"/>
  <Override PartName="/ppt/media/image30.wmf" ContentType="image/x-wmf"/>
  <Override PartName="/ppt/media/image29.wmf" ContentType="image/x-wmf"/>
  <Override PartName="/ppt/media/image1.png" ContentType="image/png"/>
  <Override PartName="/ppt/media/image66.wmf" ContentType="image/x-wmf"/>
  <Override PartName="/ppt/media/image72.wmf" ContentType="image/x-wmf"/>
  <Override PartName="/ppt/media/image26.jpeg" ContentType="image/jpeg"/>
  <Override PartName="/ppt/media/image20.wmf" ContentType="image/x-wmf"/>
  <Override PartName="/ppt/media/image5.jpeg" ContentType="image/jpeg"/>
  <Override PartName="/ppt/media/image48.wmf" ContentType="image/x-wmf"/>
  <Override PartName="/ppt/media/image9.wmf" ContentType="image/x-wmf"/>
  <Override PartName="/ppt/media/image3.jpeg" ContentType="image/jpeg"/>
  <Override PartName="/ppt/media/image41.png" ContentType="image/png"/>
  <Override PartName="/ppt/media/image57.png" ContentType="image/png"/>
  <Override PartName="/ppt/media/image14.wmf" ContentType="image/x-wmf"/>
  <Override PartName="/ppt/media/image15.wmf" ContentType="image/x-wmf"/>
  <Override PartName="/ppt/media/image7.png" ContentType="image/png"/>
  <Override PartName="/ppt/media/image16.wmf" ContentType="image/x-wmf"/>
  <Override PartName="/ppt/media/image55.png" ContentType="image/png"/>
  <Override PartName="/ppt/media/image8.png" ContentType="image/png"/>
  <Override PartName="/ppt/media/image60.wmf" ContentType="image/x-wmf"/>
  <Override PartName="/ppt/media/image38.png" ContentType="image/png"/>
  <Override PartName="/ppt/media/image23.wmf" ContentType="image/x-wmf"/>
  <Override PartName="/ppt/media/image31.wmf" ContentType="image/x-wmf"/>
  <Override PartName="/ppt/media/image74.png" ContentType="image/png"/>
  <Override PartName="/ppt/media/image35.wmf" ContentType="image/x-wmf"/>
  <Override PartName="/ppt/media/image27.jpeg" ContentType="image/jpeg"/>
  <Override PartName="/ppt/media/image17.wmf" ContentType="image/x-wmf"/>
  <Override PartName="/ppt/media/image10.jpeg" ContentType="image/jpeg"/>
  <Override PartName="/ppt/media/image54.wmf" ContentType="image/x-wmf"/>
  <Override PartName="/ppt/media/image33.wmf" ContentType="image/x-wmf"/>
  <Override PartName="/ppt/media/image34.wmf" ContentType="image/x-wmf"/>
  <Override PartName="/ppt/media/image3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6B88-6418-4827-9296-8D62A7F76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A012-F643-42C5-A3D1-813CAC74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58BF-C2C0-4401-A70D-A1FB0EA92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088E-4D6C-4D57-B311-92295D8C3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A5E5-852B-4145-9C89-6CC7B1ED9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30C0-312B-4DE3-9F75-CEBE2A96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9692-F804-4D0D-820F-583D7322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8671-86B5-4338-B7CB-9AD8588F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E5D0-BADE-4DE3-8641-E5FE9EC0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AD0F-587A-41A9-AEA9-FE9FF178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6536-C71B-4BB2-9CE3-48F8B94C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ED75-E643-4721-BB15-A654C1D6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DDB4-4EDB-4D13-A077-F3F722EE32BC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.png"/><Relationship Id="rId6" Type="http://schemas.openxmlformats.org/officeDocument/2006/relationships/image" Target="../media/image16.wmf"/><Relationship Id="rId7" Type="http://schemas.openxmlformats.org/officeDocument/2006/relationships/hyperlink" Target="http://www.ncbi.nlm.nih.gov/pubmed?term=%22Einhorn%20N%22%5BAuthor%5D" TargetMode="External"/><Relationship Id="rId8" Type="http://schemas.openxmlformats.org/officeDocument/2006/relationships/hyperlink" Target="http://www.ncbi.nlm.nih.gov/pubmed?term=%22Einhorn%20N%22%5BAuthor%5D" TargetMode="External"/><Relationship Id="rId9" Type="http://schemas.openxmlformats.org/officeDocument/2006/relationships/hyperlink" Target="http://www.ncbi.nlm.nih.gov/pubmed?term=%22Sj&#246;vall%20K%22%5BAuthor%5D" TargetMode="External"/><Relationship Id="rId10" Type="http://schemas.openxmlformats.org/officeDocument/2006/relationships/hyperlink" Target="http://www.ncbi.nlm.nih.gov/pubmed?term=%22Sj&#246;vall%20K%22%5BAuthor%5D" TargetMode="External"/><Relationship Id="rId1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ncbi.nlm.nih.gov/pubmed?term=%22Jacobs%20I%22%5BAuthor%5D" TargetMode="External"/><Relationship Id="rId4" Type="http://schemas.openxmlformats.org/officeDocument/2006/relationships/hyperlink" Target="http://www.ncbi.nlm.nih.gov/pubmed?term=%22Jacobs%20I%22%5BAuthor%5D" TargetMode="External"/><Relationship Id="rId5" Type="http://schemas.openxmlformats.org/officeDocument/2006/relationships/hyperlink" Target="http://www.ncbi.nlm.nih.gov/pubmed?term=%22Oram%20D%22%5BAuthor%5D" TargetMode="External"/><Relationship Id="rId6" Type="http://schemas.openxmlformats.org/officeDocument/2006/relationships/hyperlink" Target="http://www.ncbi.nlm.nih.gov/pubmed?term=%22Oram%20D%22%5BAuthor%5D" TargetMode="External"/><Relationship Id="rId7" Type="http://schemas.openxmlformats.org/officeDocument/2006/relationships/hyperlink" Target="http://www.ncbi.nlm.nih.gov/pubmed?term=%22Fairbanks%20J%22%5BAuthor%5D" TargetMode="External"/><Relationship Id="rId8" Type="http://schemas.openxmlformats.org/officeDocument/2006/relationships/hyperlink" Target="http://www.ncbi.nlm.nih.gov/pubmed?term=%22Turner%20J%22%5BAuthor%5D" TargetMode="External"/><Relationship Id="rId9" Type="http://schemas.openxmlformats.org/officeDocument/2006/relationships/hyperlink" Target="http://www.ncbi.nlm.nih.gov/pubmed?term=%22Frost%20C%22%5BAuthor%5D" TargetMode="External"/><Relationship Id="rId10" Type="http://schemas.openxmlformats.org/officeDocument/2006/relationships/hyperlink" Target="http://www.ncbi.nlm.nih.gov/pubmed?term=%22Grudzinskas%20JG%22%5BAuthor%5D" TargetMode="External"/><Relationship Id="rId11" Type="http://schemas.openxmlformats.org/officeDocument/2006/relationships/hyperlink" Target="http://www.ncbi.nlm.nih.gov/pubmed?term=%22Grudzinskas%20JG%22%5BAuthor%5D" TargetMode="External"/><Relationship Id="rId1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image" Target="../media/image2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1.png"/><Relationship Id="rId10" Type="http://schemas.openxmlformats.org/officeDocument/2006/relationships/image" Target="../media/image42.jpe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image" Target="../media/image46.wmf"/><Relationship Id="rId7" Type="http://schemas.openxmlformats.org/officeDocument/2006/relationships/image" Target="../media/image47.wmf"/><Relationship Id="rId8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8.wmf"/><Relationship Id="rId4" Type="http://schemas.openxmlformats.org/officeDocument/2006/relationships/image" Target="../media/image49.png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2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4.wmf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7.png"/><Relationship Id="rId4" Type="http://schemas.openxmlformats.org/officeDocument/2006/relationships/image" Target="../media/image58.wmf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image" Target="../media/image61.wmf"/><Relationship Id="rId8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2.wmf"/><Relationship Id="rId4" Type="http://schemas.openxmlformats.org/officeDocument/2006/relationships/image" Target="../media/image63.wmf"/><Relationship Id="rId5" Type="http://schemas.openxmlformats.org/officeDocument/2006/relationships/image" Target="../media/image64.wmf"/><Relationship Id="rId6" Type="http://schemas.openxmlformats.org/officeDocument/2006/relationships/image" Target="../media/image65.png"/><Relationship Id="rId7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6.wmf"/><Relationship Id="rId4" Type="http://schemas.openxmlformats.org/officeDocument/2006/relationships/image" Target="../media/image67.wmf"/><Relationship Id="rId5" Type="http://schemas.openxmlformats.org/officeDocument/2006/relationships/image" Target="../media/image68.wmf"/><Relationship Id="rId6" Type="http://schemas.openxmlformats.org/officeDocument/2006/relationships/image" Target="../media/image69.wmf"/><Relationship Id="rId7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0.wmf"/><Relationship Id="rId4" Type="http://schemas.openxmlformats.org/officeDocument/2006/relationships/image" Target="../media/image71.wmf"/><Relationship Id="rId5" Type="http://schemas.openxmlformats.org/officeDocument/2006/relationships/image" Target="../media/image72.wmf"/><Relationship Id="rId6" Type="http://schemas.openxmlformats.org/officeDocument/2006/relationships/image" Target="../media/image73.wmf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4.png"/><Relationship Id="rId4" Type="http://schemas.openxmlformats.org/officeDocument/2006/relationships/image" Target="../media/image75.wmf"/><Relationship Id="rId5" Type="http://schemas.openxmlformats.org/officeDocument/2006/relationships/image" Target="../media/image76.wmf"/><Relationship Id="rId6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736720" y="2168640"/>
            <a:ext cx="3635640" cy="2197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05040" y="117360"/>
            <a:ext cx="7336080" cy="19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9900"/>
                </a:solidFill>
                <a:uFillTx/>
                <a:latin typeface="Monotype Corsiva"/>
              </a:rPr>
              <a:t>SEMINARIO DI ST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Monotype Corsiva"/>
              </a:rPr>
              <a:t>BIOMARCATORI e CARCINOMA OVA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Monotype Corsiva"/>
              </a:rPr>
              <a:t>Aula Morgagni Policlinico Universitario Pad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Monotype Corsiva"/>
              </a:rPr>
              <a:t>4 Aprile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87840" y="4508640"/>
            <a:ext cx="924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Monotype Corsiva"/>
              </a:rPr>
              <a:t>HE4 E CA12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Monotype Corsiva"/>
              </a:rPr>
              <a:t>NELLA DIAGNOSTICA DELLE MASSE PELVI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43640" y="5661000"/>
            <a:ext cx="909720" cy="1152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031840" y="5734080"/>
            <a:ext cx="102744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Valutazione di pazienti con massa pelvi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Pazienti con </a:t>
            </a:r>
            <a:r>
              <a:rPr b="1" i="1" lang="it-IT" sz="2300" spc="-1" strike="noStrike">
                <a:solidFill>
                  <a:srgbClr val="000000"/>
                </a:solidFill>
                <a:latin typeface="Arial"/>
              </a:rPr>
              <a:t>massa palpabile e CA 125&gt;35 U/mL sono altamente indicativi di carcinoma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(75% dei casi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Età post-menopausale (prevalenza cr. ovarico pari a 63%): </a:t>
            </a:r>
            <a:r>
              <a:rPr b="1" lang="it-IT" sz="2300" spc="-1" strike="noStrike">
                <a:solidFill>
                  <a:srgbClr val="000000"/>
                </a:solidFill>
                <a:latin typeface="Arial"/>
              </a:rPr>
              <a:t>PPV 98%, NPV 72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Età pre-menopausale (prevalenza malattia 15%)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300" spc="-1" strike="noStrike">
                <a:solidFill>
                  <a:srgbClr val="000000"/>
                </a:solidFill>
                <a:latin typeface="Arial"/>
              </a:rPr>
              <a:t>PPV 49%, NPV 93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8640" y="1852560"/>
            <a:ext cx="81453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900" spc="-1" strike="noStrike">
                <a:solidFill>
                  <a:srgbClr val="000000"/>
                </a:solidFill>
                <a:latin typeface="Arial"/>
              </a:rPr>
              <a:t>Valutazione pazienti con tumori epiteliali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La determinazione del CA 125 è raccomandata in tutti i protocolli di </a:t>
            </a:r>
            <a:r>
              <a:rPr b="1" i="1" lang="it-IT" sz="2300" spc="-1" strike="noStrike">
                <a:solidFill>
                  <a:srgbClr val="000000"/>
                </a:solidFill>
                <a:latin typeface="Arial"/>
              </a:rPr>
              <a:t>monitoraggi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Esiste correlazione fra andamento clinico e variazioni della concentrazione del marcato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La caduta dei livelli nel siero è indice di </a:t>
            </a:r>
            <a:r>
              <a:rPr b="1" i="1" lang="it-IT" sz="2300" spc="-1" strike="noStrike">
                <a:solidFill>
                  <a:srgbClr val="000000"/>
                </a:solidFill>
                <a:latin typeface="Arial"/>
              </a:rPr>
              <a:t>risposta alla terap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L’emivita del CA 125 è variabile prognostica indipendente. Pazienti con </a:t>
            </a:r>
            <a:r>
              <a:rPr b="1" i="1" lang="it-IT" sz="2300" spc="-1" strike="noStrike">
                <a:solidFill>
                  <a:srgbClr val="000000"/>
                </a:solidFill>
                <a:latin typeface="Arial"/>
              </a:rPr>
              <a:t>emivita &gt;20 giorni hanno velocità di progressione 3.2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volte superiore e ridotto intervallo libero da malatt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8640" y="1852560"/>
            <a:ext cx="81453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790560" cy="477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900000" y="26028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8000" y="659772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245440" y="6308640"/>
            <a:ext cx="790560" cy="478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26680" y="1125360"/>
            <a:ext cx="80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00"/>
                </a:solidFill>
                <a:uFillTx/>
                <a:latin typeface="Monotype Corsiva"/>
              </a:rPr>
              <a:t>INCREMENTO DEL CA 125 PER CONDIZIONI BENIG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6400" y="2060640"/>
            <a:ext cx="4391280" cy="24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Mestruazione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Gravidanza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Iperstimolaz. Ova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Endometrio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Flogosi pelv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2060640"/>
            <a:ext cx="439272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Miomi uterini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Malattie pleuriche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Epatopatia (asc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Chirurgia sull’add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35520" y="338040"/>
            <a:ext cx="121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onotype Corsiva"/>
              </a:rPr>
              <a:t>CA1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476360" y="5229360"/>
            <a:ext cx="1276200" cy="1189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6300720" y="5229360"/>
            <a:ext cx="1292400" cy="1176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3738600" y="5229360"/>
            <a:ext cx="162540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790560" cy="4777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08000" y="26028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8000" y="659772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920" y="890640"/>
            <a:ext cx="571824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Monotype Corsiva"/>
              </a:rPr>
              <a:t>i livelli di CA 125 aumentano nel tempo nella maggior parte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Monotype Corsiva"/>
              </a:rPr>
              <a:t>donne con K ovaio precli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Monotype Corsiva"/>
              </a:rPr>
              <a:t>donne non affette da K ovaio dimostrano nel tempo val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Monotype Corsiva"/>
              </a:rPr>
              <a:t>stabili di CA 125, anche se il valore iniziale è ele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796000" y="549360"/>
            <a:ext cx="2663640" cy="2665440"/>
            <a:chOff x="5796000" y="549360"/>
            <a:chExt cx="2663640" cy="2665440"/>
          </a:xfrm>
        </p:grpSpPr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5796000" y="549360"/>
              <a:ext cx="2663640" cy="26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7423920" y="1059120"/>
              <a:ext cx="105840" cy="127440"/>
            </a:xfrm>
            <a:prstGeom prst="ellipse">
              <a:avLst/>
            </a:pr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5040" y="1995120"/>
              <a:ext cx="105840" cy="127440"/>
            </a:xfrm>
            <a:prstGeom prst="ellipse">
              <a:avLst/>
            </a:pr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22360" y="846360"/>
              <a:ext cx="105840" cy="127440"/>
            </a:xfrm>
            <a:prstGeom prst="ellipse">
              <a:avLst/>
            </a:pr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481640" y="5805360"/>
            <a:ext cx="4627440" cy="718920"/>
            <a:chOff x="4481640" y="5805360"/>
            <a:chExt cx="4627440" cy="718920"/>
          </a:xfrm>
        </p:grpSpPr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4481640" y="5805360"/>
              <a:ext cx="4627440" cy="50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4"/>
            <a:stretch/>
          </p:blipFill>
          <p:spPr>
            <a:xfrm>
              <a:off x="4540680" y="6286680"/>
              <a:ext cx="3730320" cy="23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"/>
          <p:cNvSpPr/>
          <p:nvPr/>
        </p:nvSpPr>
        <p:spPr>
          <a:xfrm>
            <a:off x="2340000" y="2494080"/>
            <a:ext cx="0" cy="57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8000" y="3159000"/>
            <a:ext cx="5473800" cy="9471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9900"/>
                </a:solidFill>
                <a:latin typeface="Monotype Corsiva"/>
              </a:rPr>
              <a:t>Risk of Ovarian Cancer Algorithm (RO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8245440" y="6308640"/>
            <a:ext cx="790560" cy="4780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5796000" y="3225960"/>
            <a:ext cx="2592360" cy="24350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79280" y="3892680"/>
            <a:ext cx="4845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Rischio espresso in percentuale, determinato dal confronto fra la curva del soggetto in esame ed una curva di riferimento costruita su soggetti con K ovaio n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920" y="5805360"/>
            <a:ext cx="446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Obstet Gynecol. 1992 Jul;80(1):14-8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Prospective evaluation of serum CA 125 levels for early detection of ovarian canc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Einhorn</a:t>
            </a:r>
            <a:r>
              <a:rPr b="0" lang="it-IT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 N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it-IT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Sjövall</a:t>
            </a:r>
            <a:r>
              <a:rPr b="0" lang="it-IT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 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Knapp RC, Hall P, Scully RE, Bast RC Jr, Zurawski VR J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35520" y="338040"/>
            <a:ext cx="121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onotype Corsiva"/>
              </a:rPr>
              <a:t>CA1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790560" cy="477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900000" y="26028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8000" y="659772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8245440" y="6308640"/>
            <a:ext cx="790560" cy="4780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0" y="1459080"/>
            <a:ext cx="4176720" cy="1177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611280" y="2925720"/>
            <a:ext cx="2855880" cy="3382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4859280" y="1341360"/>
            <a:ext cx="3745080" cy="14083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4932360" y="2852640"/>
            <a:ext cx="2865600" cy="36194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886520" y="3213000"/>
            <a:ext cx="12261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Monotype Corsiva"/>
              </a:rPr>
              <a:t>LR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Monotype Corsiva"/>
              </a:rPr>
              <a:t>LR+  6.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Monotype Corsiva"/>
              </a:rPr>
              <a:t>LR-  0.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Monotype Corsiva"/>
              </a:rPr>
              <a:t>LR2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Monotype Corsiva"/>
              </a:rPr>
              <a:t>LR+  6.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Monotype Corsiva"/>
              </a:rPr>
              <a:t>LR-  0.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Monotype Corsiva"/>
              </a:rPr>
              <a:t>Subj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Monotype Corsiva"/>
              </a:rPr>
              <a:t>LR+  1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Monotype Corsiva"/>
              </a:rPr>
              <a:t>LR-  0.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549360"/>
            <a:ext cx="806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Monotype Corsiva"/>
              </a:rPr>
              <a:t>…</a:t>
            </a:r>
            <a:r>
              <a:rPr b="1" lang="it-IT" sz="2800" spc="-1" strike="noStrike">
                <a:solidFill>
                  <a:srgbClr val="0000ff"/>
                </a:solidFill>
                <a:latin typeface="Monotype Corsiva"/>
              </a:rPr>
              <a:t>ma il ginecologo  ha maggior familiarità con l’ecografi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790560" cy="477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900000" y="26028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8000" y="659772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8245440" y="6308640"/>
            <a:ext cx="790560" cy="4780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81080" y="5722920"/>
            <a:ext cx="5903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r J Obstet Gynaecol. 1990 Oct;97(10):922-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 risk of malignancy index incorporating CA 125, ultrasound and menopausal status for the accurate preoperative diagnosis of ovarian canc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acobs</a:t>
            </a:r>
            <a:r>
              <a:rPr b="0" lang="it-IT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I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it-IT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Oram</a:t>
            </a:r>
            <a:r>
              <a:rPr b="0" lang="it-IT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D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it-IT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Fairbanks J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it-IT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Turner J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it-IT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Frost C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it-IT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Grudzinskas</a:t>
            </a:r>
            <a:r>
              <a:rPr b="0" lang="it-IT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JG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12760" y="333360"/>
            <a:ext cx="33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onotype Corsiva"/>
              </a:rPr>
              <a:t>Metodi combin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1152360"/>
            <a:ext cx="4535280" cy="94716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9900"/>
                </a:solidFill>
                <a:latin typeface="Monotype Corsiva"/>
              </a:rPr>
              <a:t>Risk of Malignancy Index (RM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-817200" y="1998720"/>
            <a:ext cx="10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Monotype Corsiva"/>
              </a:rPr>
              <a:t>CA 125 (U/ml)  X  Ecografia (score 0, 1 o 3)  X  menopausa (1: no, 3: 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0320" y="307332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RMI cut-off 5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65720" y="3068640"/>
            <a:ext cx="159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SENS 9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SPEC 7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8120" y="4221000"/>
            <a:ext cx="175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RMI &gt; 20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&lt; 20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33200" y="4230720"/>
            <a:ext cx="88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rischio  42 volte maggiore rispetto alla popolazione gene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31920" y="4951440"/>
            <a:ext cx="763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rischio 0.15  volte rispetto alla popolazione gene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60760" y="3073320"/>
            <a:ext cx="252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RMI cut-off  20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42440" y="3068640"/>
            <a:ext cx="159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SENS 8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SPEC 9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790560" cy="4777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00000" y="26028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8000" y="659772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8245440" y="6308640"/>
            <a:ext cx="790560" cy="47808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179280" y="1123920"/>
            <a:ext cx="4753080" cy="1368360"/>
            <a:chOff x="179280" y="1123920"/>
            <a:chExt cx="4753080" cy="1368360"/>
          </a:xfrm>
        </p:grpSpPr>
        <p:pic>
          <p:nvPicPr>
            <p:cNvPr id="183" name="" descr=""/>
            <p:cNvPicPr/>
            <p:nvPr/>
          </p:nvPicPr>
          <p:blipFill>
            <a:blip r:embed="rId3"/>
            <a:stretch/>
          </p:blipFill>
          <p:spPr>
            <a:xfrm>
              <a:off x="179280" y="1123920"/>
              <a:ext cx="4753080" cy="102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4"/>
            <a:stretch/>
          </p:blipFill>
          <p:spPr>
            <a:xfrm>
              <a:off x="260640" y="2229120"/>
              <a:ext cx="4087800" cy="26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5" name=""/>
          <p:cNvSpPr/>
          <p:nvPr/>
        </p:nvSpPr>
        <p:spPr>
          <a:xfrm>
            <a:off x="2912760" y="333360"/>
            <a:ext cx="33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onotype Corsiva"/>
              </a:rPr>
              <a:t>Metodi combin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50920" y="2781360"/>
            <a:ext cx="8642160" cy="1876320"/>
            <a:chOff x="250920" y="2781360"/>
            <a:chExt cx="8642160" cy="1876320"/>
          </a:xfrm>
        </p:grpSpPr>
        <p:pic>
          <p:nvPicPr>
            <p:cNvPr id="187" name="" descr=""/>
            <p:cNvPicPr/>
            <p:nvPr/>
          </p:nvPicPr>
          <p:blipFill>
            <a:blip r:embed="rId5"/>
            <a:stretch/>
          </p:blipFill>
          <p:spPr>
            <a:xfrm>
              <a:off x="250920" y="2781360"/>
              <a:ext cx="8642160" cy="18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4861080" y="3578040"/>
              <a:ext cx="504720" cy="360000"/>
            </a:xfrm>
            <a:prstGeom prst="ellipse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93080" y="3578040"/>
              <a:ext cx="504720" cy="360000"/>
            </a:xfrm>
            <a:prstGeom prst="ellipse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250920" y="5057640"/>
            <a:ext cx="777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otype Corsiva"/>
              </a:rPr>
              <a:t>Test di screening efficace e “cost-effective”                 VPP &gt; 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24360" y="5300640"/>
            <a:ext cx="57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-581040" y="5587920"/>
            <a:ext cx="6518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Richiesta Specificità &gt; 99.6% per raggiungere VPP &gt; 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24360" y="5130720"/>
            <a:ext cx="216000" cy="935280"/>
          </a:xfrm>
          <a:custGeom>
            <a:avLst/>
            <a:gdLst>
              <a:gd name="textAreaLeft" fmla="*/ 0 w 216000"/>
              <a:gd name="textAreaRight" fmla="*/ 78120 w 21600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227640" y="5084640"/>
            <a:ext cx="2521080" cy="1013040"/>
            <a:chOff x="6227640" y="5084640"/>
            <a:chExt cx="2521080" cy="1013040"/>
          </a:xfrm>
        </p:grpSpPr>
        <p:pic>
          <p:nvPicPr>
            <p:cNvPr id="195" name="" descr=""/>
            <p:cNvPicPr/>
            <p:nvPr/>
          </p:nvPicPr>
          <p:blipFill>
            <a:blip r:embed="rId6"/>
            <a:stretch/>
          </p:blipFill>
          <p:spPr>
            <a:xfrm>
              <a:off x="6227640" y="5084640"/>
              <a:ext cx="252108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7572600" y="5514840"/>
              <a:ext cx="147240" cy="194400"/>
            </a:xfrm>
            <a:prstGeom prst="ellipse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223480" y="5514840"/>
              <a:ext cx="147240" cy="194400"/>
            </a:xfrm>
            <a:prstGeom prst="ellipse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Object 2"/>
          <p:cNvGraphicFramePr/>
          <p:nvPr/>
        </p:nvGraphicFramePr>
        <p:xfrm>
          <a:off x="304920" y="2362320"/>
          <a:ext cx="8610480" cy="41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362320"/>
                    <a:ext cx="8610480" cy="4186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13500000" blurRad="0" rotWithShape="0">
                      <a:srgbClr val="808080">
                        <a:alpha val="75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200" name="AutoShape 4"/>
          <p:cNvSpPr/>
          <p:nvPr/>
        </p:nvSpPr>
        <p:spPr>
          <a:xfrm>
            <a:off x="2057400" y="6172200"/>
            <a:ext cx="838080" cy="533520"/>
          </a:xfrm>
          <a:prstGeom prst="irregularSeal1">
            <a:avLst/>
          </a:prstGeom>
          <a:noFill/>
          <a:ln w="381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2096640" y="380880"/>
            <a:ext cx="247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  <a:ea typeface="ＭＳ Ｐゴシック"/>
              </a:rPr>
              <a:t>WFDC2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  <a:ea typeface="ＭＳ Ｐゴシック"/>
              </a:rPr>
              <a:t>(gene)</a:t>
            </a:r>
            <a:r>
              <a:rPr b="0" lang="en-US" sz="2800" spc="-1" strike="noStrike">
                <a:solidFill>
                  <a:srgbClr val="009900"/>
                </a:solidFill>
                <a:latin typeface="Comic Sans MS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crh20"/>
          <p:cNvPicPr/>
          <p:nvPr/>
        </p:nvPicPr>
        <p:blipFill>
          <a:blip r:embed="rId3"/>
          <a:stretch/>
        </p:blipFill>
        <p:spPr>
          <a:xfrm>
            <a:off x="5308560" y="380880"/>
            <a:ext cx="3606840" cy="3886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203" name="Rectangle 7"/>
          <p:cNvSpPr/>
          <p:nvPr/>
        </p:nvSpPr>
        <p:spPr>
          <a:xfrm>
            <a:off x="7848720" y="2438280"/>
            <a:ext cx="990360" cy="3049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1580400" y="1690560"/>
            <a:ext cx="327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9900"/>
                </a:solidFill>
                <a:latin typeface="Comic Sans MS"/>
                <a:ea typeface="ＭＳ Ｐゴシック"/>
              </a:rPr>
              <a:t>WAP5/HE4 </a:t>
            </a:r>
            <a:r>
              <a:rPr b="0" lang="it-IT" sz="2400" spc="-1" strike="noStrike">
                <a:solidFill>
                  <a:srgbClr val="009900"/>
                </a:solidFill>
                <a:latin typeface="Comic Sans MS"/>
                <a:ea typeface="ＭＳ Ｐゴシック"/>
              </a:rPr>
              <a:t>(prote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2971800" y="990720"/>
            <a:ext cx="533520" cy="609480"/>
          </a:xfrm>
          <a:prstGeom prst="downArrow">
            <a:avLst>
              <a:gd name="adj1" fmla="val 50000"/>
              <a:gd name="adj2" fmla="val 28559"/>
            </a:avLst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0" descr="venter-il-padre-del-primo-cromosoma-artificiale"/>
          <p:cNvPicPr/>
          <p:nvPr/>
        </p:nvPicPr>
        <p:blipFill>
          <a:blip r:embed="rId4"/>
          <a:stretch/>
        </p:blipFill>
        <p:spPr>
          <a:xfrm>
            <a:off x="7620120" y="533520"/>
            <a:ext cx="995400" cy="7095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207" name="Picture 11" descr="Image"/>
          <p:cNvPicPr/>
          <p:nvPr/>
        </p:nvPicPr>
        <p:blipFill>
          <a:blip r:embed="rId5"/>
          <a:stretch/>
        </p:blipFill>
        <p:spPr>
          <a:xfrm>
            <a:off x="3733920" y="4876920"/>
            <a:ext cx="3047760" cy="1833480"/>
          </a:xfrm>
          <a:prstGeom prst="rect">
            <a:avLst/>
          </a:prstGeom>
          <a:ln w="9360">
            <a:solidFill>
              <a:srgbClr val="9933ff"/>
            </a:solidFill>
            <a:miter/>
          </a:ln>
        </p:spPr>
      </p:pic>
      <p:pic>
        <p:nvPicPr>
          <p:cNvPr id="208" name="Picture 150" descr="logo univ trasp"/>
          <p:cNvPicPr/>
          <p:nvPr/>
        </p:nvPicPr>
        <p:blipFill>
          <a:blip r:embed="rId6"/>
          <a:stretch/>
        </p:blipFill>
        <p:spPr>
          <a:xfrm>
            <a:off x="304920" y="76320"/>
            <a:ext cx="685800" cy="59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790560" cy="4777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900000" y="26028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8000" y="659772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8245440" y="6308640"/>
            <a:ext cx="790560" cy="4780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4068720" y="1427040"/>
            <a:ext cx="4967280" cy="12812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-157320" y="717480"/>
            <a:ext cx="3451320" cy="52056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Monotype Corsiva"/>
              </a:rPr>
              <a:t>2000: l’era del HE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-631800" y="1700280"/>
            <a:ext cx="524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00"/>
                </a:solidFill>
                <a:latin typeface="Monotype Corsiva"/>
              </a:rPr>
              <a:t>1991: si scopre l’Human Epididymis protein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79280" y="3170160"/>
            <a:ext cx="4744800" cy="1223640"/>
            <a:chOff x="179280" y="3170160"/>
            <a:chExt cx="4744800" cy="1223640"/>
          </a:xfrm>
        </p:grpSpPr>
        <p:pic>
          <p:nvPicPr>
            <p:cNvPr id="217" name="" descr=""/>
            <p:cNvPicPr/>
            <p:nvPr/>
          </p:nvPicPr>
          <p:blipFill>
            <a:blip r:embed="rId4"/>
            <a:stretch/>
          </p:blipFill>
          <p:spPr>
            <a:xfrm>
              <a:off x="179280" y="3170160"/>
              <a:ext cx="474480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2594160" y="3574080"/>
              <a:ext cx="218700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4160" y="3777480"/>
              <a:ext cx="98100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3059280" y="476280"/>
            <a:ext cx="1035000" cy="10796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6"/>
          <a:stretch/>
        </p:blipFill>
        <p:spPr>
          <a:xfrm>
            <a:off x="1122480" y="2098800"/>
            <a:ext cx="2154240" cy="10429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5435640" y="3809880"/>
            <a:ext cx="309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Monotype Corsiva"/>
              </a:rPr>
              <a:t>“…</a:t>
            </a:r>
            <a:r>
              <a:rPr b="0" lang="it-IT" sz="2400" spc="-1" strike="noStrike">
                <a:solidFill>
                  <a:srgbClr val="000000"/>
                </a:solidFill>
                <a:latin typeface="Monotype Corsiva"/>
              </a:rPr>
              <a:t>HE4 è migliore rispetto al CA 125 nel distinguere pazienti con carcinoma ovarico da quelle con patologie annessiali benigne 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79280" y="4437000"/>
            <a:ext cx="4753080" cy="2071800"/>
            <a:chOff x="179280" y="4437000"/>
            <a:chExt cx="4753080" cy="2071800"/>
          </a:xfrm>
        </p:grpSpPr>
        <p:pic>
          <p:nvPicPr>
            <p:cNvPr id="224" name="" descr=""/>
            <p:cNvPicPr/>
            <p:nvPr/>
          </p:nvPicPr>
          <p:blipFill>
            <a:blip r:embed="rId7"/>
            <a:stretch/>
          </p:blipFill>
          <p:spPr>
            <a:xfrm>
              <a:off x="179280" y="4437000"/>
              <a:ext cx="475308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2556000" y="5170320"/>
              <a:ext cx="503280" cy="863640"/>
            </a:xfrm>
            <a:prstGeom prst="rect">
              <a:avLst/>
            </a:pr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40360" y="5170320"/>
              <a:ext cx="502920" cy="863640"/>
            </a:xfrm>
            <a:prstGeom prst="rect">
              <a:avLst/>
            </a:pr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790560" cy="477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900000" y="26028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8000" y="659772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8245440" y="6308640"/>
            <a:ext cx="790560" cy="478080"/>
          </a:xfrm>
          <a:prstGeom prst="rect">
            <a:avLst/>
          </a:prstGeom>
          <a:ln w="0">
            <a:noFill/>
          </a:ln>
        </p:spPr>
      </p:pic>
      <p:grpSp>
        <p:nvGrpSpPr>
          <p:cNvPr id="231" name=""/>
          <p:cNvGrpSpPr/>
          <p:nvPr/>
        </p:nvGrpSpPr>
        <p:grpSpPr>
          <a:xfrm>
            <a:off x="179280" y="765000"/>
            <a:ext cx="4679640" cy="1800000"/>
            <a:chOff x="179280" y="765000"/>
            <a:chExt cx="4679640" cy="1800000"/>
          </a:xfrm>
        </p:grpSpPr>
        <p:pic>
          <p:nvPicPr>
            <p:cNvPr id="232" name="" descr=""/>
            <p:cNvPicPr/>
            <p:nvPr/>
          </p:nvPicPr>
          <p:blipFill>
            <a:blip r:embed="rId3"/>
            <a:stretch/>
          </p:blipFill>
          <p:spPr>
            <a:xfrm>
              <a:off x="179280" y="765000"/>
              <a:ext cx="4679640" cy="136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4"/>
            <a:stretch/>
          </p:blipFill>
          <p:spPr>
            <a:xfrm>
              <a:off x="639720" y="2135880"/>
              <a:ext cx="3873240" cy="429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5724360" y="549360"/>
            <a:ext cx="2951280" cy="26287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6"/>
          <a:stretch/>
        </p:blipFill>
        <p:spPr>
          <a:xfrm>
            <a:off x="5653080" y="3284640"/>
            <a:ext cx="3095640" cy="1008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24000" y="2897280"/>
            <a:ext cx="431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lang="it-IT" sz="1800" spc="-1" strike="noStrike">
                <a:solidFill>
                  <a:srgbClr val="000000"/>
                </a:solidFill>
                <a:latin typeface="Monotype Corsiva"/>
              </a:rPr>
              <a:t>Nelle cellule del carcinoma ovarico, ma non nei tessuti normali, il prodotto del gene HE4 è N-glicosilato e secreto a livello extracellulare. …di conseguenza viene secreto e quindi può essere rilevabile a livello ematico in pazienti con carcinoma ovarico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74560" y="4941720"/>
            <a:ext cx="7993080" cy="155700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il rilascio di HE4 sembra essere più precoce rispetto al CA125, ed i valori di HE4 sono significativamente più elevati negli stadi precoci di EOC (stadio I e II) in confronto ai controll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790560" cy="477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00000" y="26028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8000" y="659772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245440" y="6308640"/>
            <a:ext cx="790560" cy="478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-1146960" y="981000"/>
            <a:ext cx="1139544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Monotype Corsiva"/>
              </a:rPr>
              <a:t>5-10% delle donne va incontro a chirurgia per formazioni annessiali nell’arco della 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Monotype Corsiva"/>
              </a:rPr>
              <a:t>solo ad una piccola percentuale di queste si farà diagnosi di carcinoma ovaric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Monotype Corsiva"/>
              </a:rPr>
              <a:t>90% dei carcinomi ovarici è rappresentato da CARCINOMI OVARICI EPITELIALI (EO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Monotype Corsiva"/>
              </a:rPr>
              <a:t>70-85% dei EOCs viene diagnosticato in stadi avanzati (III-IV stad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Monotype Corsiva"/>
              </a:rPr>
              <a:t>sopravvivenza decresce drammaticamente all’aumentare dello stad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i="1" lang="it-IT" sz="2000" spc="-1" strike="noStrike">
                <a:solidFill>
                  <a:srgbClr val="000000"/>
                </a:solidFill>
                <a:latin typeface="Monotype Corsiva"/>
              </a:rPr>
              <a:t>(sopravvivenza a 5 aa:  70-90% stadi I-II; 20-40% stadi III-I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85880" y="4711680"/>
            <a:ext cx="5772240" cy="33354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9900"/>
                </a:solidFill>
                <a:latin typeface="Monotype Corsiva"/>
              </a:rPr>
              <a:t>Estremamente difficile la diagnosi preco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9900"/>
                </a:solidFill>
                <a:latin typeface="Monotype Corsiva"/>
              </a:rPr>
              <a:t>Non esistono tests di screenig effica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52960" y="382680"/>
            <a:ext cx="25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Monotype Corsiva"/>
              </a:rPr>
              <a:t>INTRODU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0" t="3546" r="2963" b="0"/>
          <a:stretch/>
        </p:blipFill>
        <p:spPr>
          <a:xfrm>
            <a:off x="7315200" y="2895480"/>
            <a:ext cx="155592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Object 3"/>
          <p:cNvGraphicFramePr/>
          <p:nvPr/>
        </p:nvGraphicFramePr>
        <p:xfrm>
          <a:off x="228600" y="1905120"/>
          <a:ext cx="8686800" cy="130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05120"/>
                    <a:ext cx="8686800" cy="13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Rectangle 9"/>
          <p:cNvSpPr/>
          <p:nvPr/>
        </p:nvSpPr>
        <p:spPr>
          <a:xfrm>
            <a:off x="1371600" y="750960"/>
            <a:ext cx="71629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9900"/>
                </a:solidFill>
                <a:latin typeface="Comic Sans MS"/>
                <a:ea typeface="ＭＳ Ｐゴシック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50" descr="logo univ trasp"/>
          <p:cNvPicPr/>
          <p:nvPr/>
        </p:nvPicPr>
        <p:blipFill>
          <a:blip r:embed="rId3"/>
          <a:stretch/>
        </p:blipFill>
        <p:spPr>
          <a:xfrm>
            <a:off x="304920" y="76320"/>
            <a:ext cx="685800" cy="59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2" name="Object 13"/>
          <p:cNvGraphicFramePr/>
          <p:nvPr/>
        </p:nvGraphicFramePr>
        <p:xfrm>
          <a:off x="3429000" y="228600"/>
          <a:ext cx="5486400" cy="1139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3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29000" y="228600"/>
                    <a:ext cx="5486400" cy="113976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75000"/>
                      </a:srgbClr>
                    </a:outerShdw>
                  </a:effectLst>
                </p:spPr>
              </p:pic>
            </p:oleObj>
          </a:graphicData>
        </a:graphic>
      </p:graphicFrame>
      <p:grpSp>
        <p:nvGrpSpPr>
          <p:cNvPr id="244" name="Group 23"/>
          <p:cNvGrpSpPr/>
          <p:nvPr/>
        </p:nvGrpSpPr>
        <p:grpSpPr>
          <a:xfrm>
            <a:off x="304920" y="2057400"/>
            <a:ext cx="8610480" cy="4495680"/>
            <a:chOff x="304920" y="2057400"/>
            <a:chExt cx="8610480" cy="4495680"/>
          </a:xfrm>
        </p:grpSpPr>
        <p:graphicFrame>
          <p:nvGraphicFramePr>
            <p:cNvPr id="245" name="Object 5"/>
            <p:cNvGraphicFramePr/>
            <p:nvPr/>
          </p:nvGraphicFramePr>
          <p:xfrm>
            <a:off x="304920" y="3921120"/>
            <a:ext cx="5410080" cy="26319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46" name="Object 5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04920" y="3921120"/>
                      <a:ext cx="5410080" cy="2631960"/>
                    </a:xfrm>
                    <a:prstGeom prst="rect">
                      <a:avLst/>
                    </a:prstGeom>
                    <a:ln w="9360">
                      <a:solidFill>
                        <a:srgbClr val="cc66ff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47" name="Object 6"/>
            <p:cNvGraphicFramePr/>
            <p:nvPr/>
          </p:nvGraphicFramePr>
          <p:xfrm>
            <a:off x="6019920" y="3925800"/>
            <a:ext cx="2895480" cy="25131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48" name="Object 6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019920" y="3925800"/>
                      <a:ext cx="2895480" cy="2513160"/>
                    </a:xfrm>
                    <a:prstGeom prst="rect">
                      <a:avLst/>
                    </a:prstGeom>
                    <a:ln w="9360">
                      <a:solidFill>
                        <a:srgbClr val="cc66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49" name="Rectangle 7"/>
            <p:cNvSpPr/>
            <p:nvPr/>
          </p:nvSpPr>
          <p:spPr>
            <a:xfrm>
              <a:off x="4648320" y="2057400"/>
              <a:ext cx="1066680" cy="762120"/>
            </a:xfrm>
            <a:prstGeom prst="rect">
              <a:avLst/>
            </a:prstGeom>
            <a:noFill/>
            <a:ln w="381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0" name="AutoShape 8"/>
            <p:cNvCxnSpPr>
              <a:stCxn id="249" idx="2"/>
            </p:cNvCxnSpPr>
            <p:nvPr/>
          </p:nvCxnSpPr>
          <p:spPr>
            <a:xfrm rot="5400000">
              <a:off x="3554280" y="2293920"/>
              <a:ext cx="1083240" cy="2171880"/>
            </a:xfrm>
            <a:prstGeom prst="bentConnector3">
              <a:avLst>
                <a:gd name="adj1" fmla="val 49102"/>
              </a:avLst>
            </a:prstGeom>
            <a:ln w="38160">
              <a:solidFill>
                <a:srgbClr val="cc66ff"/>
              </a:solidFill>
              <a:miter/>
              <a:tailEnd len="med" type="triangle" w="med"/>
            </a:ln>
          </p:spPr>
        </p:cxnSp>
        <p:cxnSp>
          <p:nvCxnSpPr>
            <p:cNvPr id="251" name="AutoShape 11"/>
            <p:cNvCxnSpPr>
              <a:stCxn id="249" idx="2"/>
            </p:cNvCxnSpPr>
            <p:nvPr/>
          </p:nvCxnSpPr>
          <p:spPr>
            <a:xfrm flipH="1" rot="16200000">
              <a:off x="5780880" y="2238840"/>
              <a:ext cx="1087920" cy="2286720"/>
            </a:xfrm>
            <a:prstGeom prst="bentConnector3">
              <a:avLst>
                <a:gd name="adj1" fmla="val 49023"/>
              </a:avLst>
            </a:prstGeom>
            <a:ln w="38160">
              <a:solidFill>
                <a:srgbClr val="cc66ff"/>
              </a:solidFill>
              <a:miter/>
              <a:tailEnd len="med" type="triangle" w="med"/>
            </a:ln>
          </p:spPr>
        </p:cxnSp>
        <p:sp>
          <p:nvSpPr>
            <p:cNvPr id="252" name="Text Box 12"/>
            <p:cNvSpPr/>
            <p:nvPr/>
          </p:nvSpPr>
          <p:spPr>
            <a:xfrm>
              <a:off x="8137440" y="4662360"/>
              <a:ext cx="701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  <a:ea typeface="ＭＳ Ｐゴシック"/>
                </a:rPr>
                <a:t>0.9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  <a:ea typeface="ＭＳ Ｐゴシック"/>
                </a:rPr>
                <a:t>v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  <a:ea typeface="ＭＳ Ｐゴシック"/>
                </a:rPr>
                <a:t>0.9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4"/>
            <p:cNvSpPr/>
            <p:nvPr/>
          </p:nvSpPr>
          <p:spPr>
            <a:xfrm>
              <a:off x="1600200" y="4876920"/>
              <a:ext cx="609480" cy="533160"/>
            </a:xfrm>
            <a:prstGeom prst="ellipse">
              <a:avLst/>
            </a:prstGeom>
            <a:noFill/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5"/>
            <p:cNvSpPr/>
            <p:nvPr/>
          </p:nvSpPr>
          <p:spPr>
            <a:xfrm>
              <a:off x="4343400" y="4419720"/>
              <a:ext cx="609480" cy="1218960"/>
            </a:xfrm>
            <a:prstGeom prst="ellipse">
              <a:avLst/>
            </a:prstGeom>
            <a:noFill/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6"/>
            <p:cNvSpPr/>
            <p:nvPr/>
          </p:nvSpPr>
          <p:spPr>
            <a:xfrm flipV="1">
              <a:off x="1536840" y="5918040"/>
              <a:ext cx="457200" cy="4572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7"/>
            <p:cNvSpPr/>
            <p:nvPr/>
          </p:nvSpPr>
          <p:spPr>
            <a:xfrm flipV="1">
              <a:off x="4317840" y="5892840"/>
              <a:ext cx="457200" cy="4572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7" name="Picture 18" descr="http://www.micro-scope.de/scope4.jpg"/>
          <p:cNvPicPr/>
          <p:nvPr/>
        </p:nvPicPr>
        <p:blipFill>
          <a:blip r:embed="rId10"/>
          <a:stretch/>
        </p:blipFill>
        <p:spPr>
          <a:xfrm>
            <a:off x="8153280" y="1417680"/>
            <a:ext cx="76212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790560" cy="4777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00000" y="26028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8000" y="659772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8245440" y="6308640"/>
            <a:ext cx="790560" cy="4780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1835280" y="333360"/>
            <a:ext cx="5473440" cy="1088640"/>
            <a:chOff x="1835280" y="333360"/>
            <a:chExt cx="5473440" cy="1088640"/>
          </a:xfrm>
        </p:grpSpPr>
        <p:pic>
          <p:nvPicPr>
            <p:cNvPr id="263" name="" descr=""/>
            <p:cNvPicPr/>
            <p:nvPr/>
          </p:nvPicPr>
          <p:blipFill>
            <a:blip r:embed="rId3"/>
            <a:stretch/>
          </p:blipFill>
          <p:spPr>
            <a:xfrm>
              <a:off x="1835280" y="529920"/>
              <a:ext cx="5473440" cy="8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" descr=""/>
            <p:cNvPicPr/>
            <p:nvPr/>
          </p:nvPicPr>
          <p:blipFill>
            <a:blip r:embed="rId4"/>
            <a:stretch/>
          </p:blipFill>
          <p:spPr>
            <a:xfrm>
              <a:off x="3482280" y="333360"/>
              <a:ext cx="2504160" cy="25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5" name=""/>
          <p:cNvGrpSpPr/>
          <p:nvPr/>
        </p:nvGrpSpPr>
        <p:grpSpPr>
          <a:xfrm>
            <a:off x="179280" y="1484280"/>
            <a:ext cx="4680000" cy="3878280"/>
            <a:chOff x="179280" y="1484280"/>
            <a:chExt cx="4680000" cy="3878280"/>
          </a:xfrm>
        </p:grpSpPr>
        <p:pic>
          <p:nvPicPr>
            <p:cNvPr id="266" name="" descr=""/>
            <p:cNvPicPr/>
            <p:nvPr/>
          </p:nvPicPr>
          <p:blipFill>
            <a:blip r:embed="rId5"/>
            <a:stretch/>
          </p:blipFill>
          <p:spPr>
            <a:xfrm>
              <a:off x="179280" y="1484280"/>
              <a:ext cx="4680000" cy="387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4427640" y="2393640"/>
              <a:ext cx="215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427640" y="2465280"/>
              <a:ext cx="215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9280" y="3112920"/>
              <a:ext cx="4537080" cy="73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27640" y="4336920"/>
              <a:ext cx="288720" cy="936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932360" y="1773360"/>
            <a:ext cx="3578400" cy="2230200"/>
            <a:chOff x="4932360" y="1773360"/>
            <a:chExt cx="3578400" cy="2230200"/>
          </a:xfrm>
        </p:grpSpPr>
        <p:pic>
          <p:nvPicPr>
            <p:cNvPr id="272" name="" descr=""/>
            <p:cNvPicPr/>
            <p:nvPr/>
          </p:nvPicPr>
          <p:blipFill>
            <a:blip r:embed="rId6"/>
            <a:stretch/>
          </p:blipFill>
          <p:spPr>
            <a:xfrm>
              <a:off x="4932360" y="1773360"/>
              <a:ext cx="3578400" cy="22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5580000" y="2924280"/>
              <a:ext cx="1224000" cy="10792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4932360" y="4076640"/>
            <a:ext cx="3857760" cy="1224000"/>
            <a:chOff x="4932360" y="4076640"/>
            <a:chExt cx="3857760" cy="1224000"/>
          </a:xfrm>
        </p:grpSpPr>
        <p:pic>
          <p:nvPicPr>
            <p:cNvPr id="275" name="" descr=""/>
            <p:cNvPicPr/>
            <p:nvPr/>
          </p:nvPicPr>
          <p:blipFill>
            <a:blip r:embed="rId7"/>
            <a:stretch/>
          </p:blipFill>
          <p:spPr>
            <a:xfrm>
              <a:off x="4932360" y="4076640"/>
              <a:ext cx="38577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8172360" y="4653000"/>
              <a:ext cx="576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003640" y="4868640"/>
              <a:ext cx="3745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003640" y="5084640"/>
              <a:ext cx="3745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003640" y="5300640"/>
              <a:ext cx="1440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79280" y="5445000"/>
            <a:ext cx="79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onotype Corsiva"/>
              </a:rPr>
              <a:t>“…</a:t>
            </a:r>
            <a:r>
              <a:rPr b="0" lang="it-IT" sz="1800" spc="-1" strike="noStrike">
                <a:solidFill>
                  <a:srgbClr val="000000"/>
                </a:solidFill>
                <a:latin typeface="Monotype Corsiva"/>
              </a:rPr>
              <a:t>la combinazione dei due biomarkers sierici CA 125 e HE 4 aumenta la sensibilità quando confrontata con ciascuno dei due markers singolarm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onotype Corsiva"/>
              </a:rPr>
              <a:t>La combinazione di 3 o più markers tumorali contribuisce minimamente allla sensibilità della combinazione Ca125/He4…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790560" cy="4777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900000" y="26028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08000" y="659772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8245440" y="6308640"/>
            <a:ext cx="790560" cy="478080"/>
          </a:xfrm>
          <a:prstGeom prst="rect">
            <a:avLst/>
          </a:prstGeom>
          <a:ln w="0">
            <a:noFill/>
          </a:ln>
        </p:spPr>
      </p:pic>
      <p:grpSp>
        <p:nvGrpSpPr>
          <p:cNvPr id="285" name=""/>
          <p:cNvGrpSpPr/>
          <p:nvPr/>
        </p:nvGrpSpPr>
        <p:grpSpPr>
          <a:xfrm>
            <a:off x="1403280" y="763560"/>
            <a:ext cx="6259320" cy="1512720"/>
            <a:chOff x="1403280" y="763560"/>
            <a:chExt cx="6259320" cy="1512720"/>
          </a:xfrm>
        </p:grpSpPr>
        <p:pic>
          <p:nvPicPr>
            <p:cNvPr id="286" name="" descr=""/>
            <p:cNvPicPr/>
            <p:nvPr/>
          </p:nvPicPr>
          <p:blipFill>
            <a:blip r:embed="rId3"/>
            <a:stretch/>
          </p:blipFill>
          <p:spPr>
            <a:xfrm>
              <a:off x="1403280" y="763560"/>
              <a:ext cx="6259320" cy="114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4"/>
            <a:stretch/>
          </p:blipFill>
          <p:spPr>
            <a:xfrm>
              <a:off x="3079800" y="1829520"/>
              <a:ext cx="2636280" cy="44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8" name=""/>
          <p:cNvSpPr/>
          <p:nvPr/>
        </p:nvSpPr>
        <p:spPr>
          <a:xfrm>
            <a:off x="4932360" y="2882880"/>
            <a:ext cx="3816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Monotype Corsiva"/>
              </a:rPr>
              <a:t>“…</a:t>
            </a:r>
            <a:r>
              <a:rPr b="0" lang="it-IT" sz="2000" spc="-1" strike="noStrike">
                <a:solidFill>
                  <a:srgbClr val="000000"/>
                </a:solidFill>
                <a:latin typeface="Monotype Corsiva"/>
              </a:rPr>
              <a:t>la nostra analisi riafferma la superiorità della combinazione CA125/HE4 riportata da Moore et al. per la diagnosi di carcinoma ovarico poiché questa combinazione è stata in grado di discriminare pazienti con carcinoma dai casi benigni con sensibilità dal 74.2% per gli stadi precoci, al 91.7% per gli stadi avanzati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5"/>
          <a:stretch/>
        </p:blipFill>
        <p:spPr>
          <a:xfrm>
            <a:off x="324000" y="2424240"/>
            <a:ext cx="403200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414360" y="1808280"/>
            <a:ext cx="8381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oore and colleagues have reported that the serum biomarker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  <a:ea typeface="ＭＳ Ｐゴシック"/>
              </a:rPr>
              <a:t>algorithm</a:t>
            </a:r>
            <a:r>
              <a:rPr b="1" lang="en-US" sz="2000" spc="-1" strike="noStrike">
                <a:solidFill>
                  <a:srgbClr val="009900"/>
                </a:solidFill>
                <a:latin typeface="Comic Sans M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  <a:ea typeface="ＭＳ Ｐゴシック"/>
              </a:rPr>
              <a:t>ROM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  <a:ea typeface="ＭＳ Ｐゴシック"/>
              </a:rPr>
              <a:t>(Risk of Ovarian Malignancy Algorithm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, which utilizes the dual marker combination of HE4 and CA125 along with the menopausal status, shows a better performance than RMI for risk prediction of ovarian malignanc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1314360" y="3200400"/>
            <a:ext cx="66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b200b2"/>
                </a:solidFill>
                <a:latin typeface="Comic Sans MS"/>
                <a:ea typeface="ＭＳ Ｐゴシック"/>
              </a:rPr>
              <a:t>CA125 + HE4 + menopausal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"/>
          <p:cNvPicPr/>
          <p:nvPr/>
        </p:nvPicPr>
        <p:blipFill>
          <a:blip r:embed="rId1"/>
          <a:stretch/>
        </p:blipFill>
        <p:spPr>
          <a:xfrm>
            <a:off x="228600" y="5427720"/>
            <a:ext cx="5486400" cy="135396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75000"/>
              </a:srgbClr>
            </a:outerShdw>
          </a:effectLst>
        </p:spPr>
      </p:pic>
      <p:graphicFrame>
        <p:nvGraphicFramePr>
          <p:cNvPr id="293" name="Object 6"/>
          <p:cNvGraphicFramePr/>
          <p:nvPr/>
        </p:nvGraphicFramePr>
        <p:xfrm>
          <a:off x="2971800" y="4437000"/>
          <a:ext cx="5943600" cy="116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4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4437000"/>
                    <a:ext cx="5943600" cy="1168560"/>
                  </a:xfrm>
                  <a:prstGeom prst="rect">
                    <a:avLst/>
                  </a:prstGeom>
                  <a:ln w="38160">
                    <a:solidFill>
                      <a:srgbClr val="00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75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295" name="WordArt 7"/>
          <p:cNvSpPr txBox="1"/>
          <p:nvPr/>
        </p:nvSpPr>
        <p:spPr>
          <a:xfrm>
            <a:off x="7238880" y="3657600"/>
            <a:ext cx="1600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Impact"/>
              </a:rPr>
              <a:t>R.O.M.A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6" name="AutoShape 8"/>
          <p:cNvSpPr/>
          <p:nvPr/>
        </p:nvSpPr>
        <p:spPr>
          <a:xfrm>
            <a:off x="4495680" y="3809880"/>
            <a:ext cx="5335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50" descr="logo univ trasp"/>
          <p:cNvPicPr/>
          <p:nvPr/>
        </p:nvPicPr>
        <p:blipFill>
          <a:blip r:embed="rId4"/>
          <a:stretch/>
        </p:blipFill>
        <p:spPr>
          <a:xfrm>
            <a:off x="304920" y="76320"/>
            <a:ext cx="685800" cy="59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609480" y="2013120"/>
            <a:ext cx="7858080" cy="439344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redictive Probability Calcu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Comic Sans MS"/>
                <a:ea typeface="ＭＳ Ｐゴシック"/>
              </a:rPr>
              <a:t>Premenopausal: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Predictive index (PI) = -12.0 + 2.38*LN[HE4] + 0.0626*LN[CA125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Comic Sans MS"/>
                <a:ea typeface="ＭＳ Ｐゴシック"/>
              </a:rPr>
              <a:t>Postmenopausal: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PI = -8.09 + 1.04*LN[HE4] + 0.732*LN[CA125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ff"/>
                </a:solidFill>
                <a:latin typeface="Comic Sans MS"/>
                <a:ea typeface="ＭＳ Ｐゴシック"/>
              </a:rPr>
              <a:t>Predicted probability (</a:t>
            </a:r>
            <a:r>
              <a:rPr b="0" lang="en-GB" sz="1800" spc="-1" strike="noStrike" u="sng">
                <a:solidFill>
                  <a:srgbClr val="cc00ff"/>
                </a:solidFill>
                <a:uFillTx/>
                <a:latin typeface="Comic Sans MS"/>
                <a:ea typeface="ＭＳ Ｐゴシック"/>
              </a:rPr>
              <a:t>ROMA</a:t>
            </a:r>
            <a:r>
              <a:rPr b="0" lang="en-GB" sz="1800" spc="-1" strike="noStrike">
                <a:solidFill>
                  <a:srgbClr val="cc00ff"/>
                </a:solidFill>
                <a:latin typeface="Comic Sans MS"/>
                <a:ea typeface="ＭＳ Ｐゴシック"/>
              </a:rPr>
              <a:t>):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exp(PI)/[1 + exp(PI)]*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 </a:t>
            </a:r>
            <a:r>
              <a:rPr b="0" lang="en-GB" sz="1800" spc="-1" strike="noStrike">
                <a:solidFill>
                  <a:srgbClr val="cc00ff"/>
                </a:solidFill>
                <a:latin typeface="Comic Sans MS"/>
                <a:ea typeface="ＭＳ Ｐゴシック"/>
              </a:rPr>
              <a:t>ROMA </a:t>
            </a:r>
            <a:r>
              <a:rPr b="0" lang="en-GB" sz="1800" spc="-1" strike="noStrike">
                <a:solidFill>
                  <a:srgbClr val="cc00ff"/>
                </a:solidFill>
                <a:latin typeface="Symbol"/>
                <a:ea typeface="Symbol"/>
              </a:rPr>
              <a:t></a:t>
            </a:r>
            <a:r>
              <a:rPr b="0" lang="en-GB" sz="1800" spc="-1" strike="noStrike">
                <a:solidFill>
                  <a:srgbClr val="cc00ff"/>
                </a:solidFill>
                <a:latin typeface="Comic Sans MS"/>
                <a:ea typeface="ＭＳ Ｐゴシック"/>
              </a:rPr>
              <a:t>12.5%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and </a:t>
            </a:r>
            <a:r>
              <a:rPr b="0" lang="en-GB" sz="1800" spc="-1" strike="noStrike">
                <a:solidFill>
                  <a:srgbClr val="cc00ff"/>
                </a:solidFill>
                <a:latin typeface="Symbol"/>
                <a:ea typeface="Symbol"/>
              </a:rPr>
              <a:t></a:t>
            </a:r>
            <a:r>
              <a:rPr b="0" lang="en-GB" sz="1800" spc="-1" strike="noStrike">
                <a:solidFill>
                  <a:srgbClr val="cc00ff"/>
                </a:solidFill>
                <a:latin typeface="Comic Sans MS"/>
                <a:ea typeface="ＭＳ Ｐゴシック"/>
              </a:rPr>
              <a:t>14.4%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(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  <a:ea typeface="ＭＳ Ｐゴシック"/>
              </a:rPr>
              <a:t>CanAg CA125 EIA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r </a:t>
            </a:r>
            <a:r>
              <a:rPr b="0" lang="en-GB" sz="1800" spc="-1" strike="noStrike">
                <a:solidFill>
                  <a:srgbClr val="cc00ff"/>
                </a:solidFill>
                <a:latin typeface="Symbol"/>
                <a:ea typeface="Symbol"/>
              </a:rPr>
              <a:t></a:t>
            </a:r>
            <a:r>
              <a:rPr b="0" lang="en-GB" sz="1800" spc="-1" strike="noStrike">
                <a:solidFill>
                  <a:srgbClr val="cc00ff"/>
                </a:solidFill>
                <a:latin typeface="Comic Sans MS"/>
                <a:ea typeface="ＭＳ Ｐゴシック"/>
              </a:rPr>
              <a:t>13.1%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and </a:t>
            </a:r>
            <a:r>
              <a:rPr b="0" lang="en-GB" sz="1800" spc="-1" strike="noStrike">
                <a:solidFill>
                  <a:srgbClr val="cc00ff"/>
                </a:solidFill>
                <a:latin typeface="Symbol"/>
                <a:ea typeface="Symbol"/>
              </a:rPr>
              <a:t></a:t>
            </a:r>
            <a:r>
              <a:rPr b="0" lang="en-GB" sz="1800" spc="-1" strike="noStrike">
                <a:solidFill>
                  <a:srgbClr val="cc00ff"/>
                </a:solidFill>
                <a:latin typeface="Comic Sans MS"/>
                <a:ea typeface="ＭＳ Ｐゴシック"/>
              </a:rPr>
              <a:t>27.7%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(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  <a:ea typeface="ＭＳ Ｐゴシック"/>
              </a:rPr>
              <a:t>ARCHITECT CA125 II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 the pre-menopausal and post-menopausal subjects identifies subjects at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  <a:ea typeface="ＭＳ Ｐゴシック"/>
              </a:rPr>
              <a:t>high risk of E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9" descr="http://vigilidelfuoco.usb.it/uploads/pics/matematica.jpg"/>
          <p:cNvPicPr/>
          <p:nvPr/>
        </p:nvPicPr>
        <p:blipFill>
          <a:blip r:embed="rId1"/>
          <a:stretch/>
        </p:blipFill>
        <p:spPr>
          <a:xfrm>
            <a:off x="6248520" y="168120"/>
            <a:ext cx="2297160" cy="1621080"/>
          </a:xfrm>
          <a:prstGeom prst="rect">
            <a:avLst/>
          </a:prstGeom>
          <a:ln w="0">
            <a:noFill/>
          </a:ln>
        </p:spPr>
      </p:pic>
      <p:sp>
        <p:nvSpPr>
          <p:cNvPr id="300" name="WordArt 10"/>
          <p:cNvSpPr txBox="1"/>
          <p:nvPr/>
        </p:nvSpPr>
        <p:spPr>
          <a:xfrm>
            <a:off x="6705720" y="1217520"/>
            <a:ext cx="1904760" cy="114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Impact"/>
              </a:rPr>
              <a:t>R.O.M.A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6320520" y="3608280"/>
            <a:ext cx="196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RCHITECT CA 1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anAg CA125 E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2"/>
          <p:cNvSpPr/>
          <p:nvPr/>
        </p:nvSpPr>
        <p:spPr>
          <a:xfrm>
            <a:off x="7315200" y="3465360"/>
            <a:ext cx="457200" cy="152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50" descr="logo univ trasp"/>
          <p:cNvPicPr/>
          <p:nvPr/>
        </p:nvPicPr>
        <p:blipFill>
          <a:blip r:embed="rId2"/>
          <a:stretch/>
        </p:blipFill>
        <p:spPr>
          <a:xfrm>
            <a:off x="304920" y="76320"/>
            <a:ext cx="685800" cy="59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790560" cy="4777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900000" y="26028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8245440" y="6308640"/>
            <a:ext cx="790560" cy="4780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58360" y="2205000"/>
            <a:ext cx="730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otype Corsiva"/>
              </a:rPr>
              <a:t>Premenopausa:</a:t>
            </a:r>
            <a:r>
              <a:rPr b="0" lang="it-IT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onotype Corsiva"/>
              </a:rPr>
              <a:t>PREDICTIVE INDEX (PI) = -12 + 2.38 x LN(HE4) + 0.0626 x LN(CA1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53320" y="2830680"/>
            <a:ext cx="736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otype Corsiva"/>
              </a:rPr>
              <a:t>Postmenopausa:</a:t>
            </a:r>
            <a:r>
              <a:rPr b="0" lang="it-IT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onotype Corsiva"/>
              </a:rPr>
              <a:t>PREDICTIVE INDEX (PI) = -8.09 + 1.04 x LN(HE4) + 0.732 x LN(CA1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23080" y="3429000"/>
            <a:ext cx="594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otype Corsiva"/>
              </a:rPr>
              <a:t>PREDICTIVE PROBABILITY (PP) = exp(PI)/[1+exp(PI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-270000" y="3870360"/>
            <a:ext cx="459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Alto rischio per carcinoma ovaric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-900360" y="1589040"/>
            <a:ext cx="8457480" cy="52056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9900"/>
                </a:solidFill>
                <a:latin typeface="Monotype Corsiva"/>
              </a:rPr>
              <a:t>Risk of Ovarian Malignancy Algorithm (ROMA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692360" y="404640"/>
            <a:ext cx="5832360" cy="1153800"/>
            <a:chOff x="1692360" y="404640"/>
            <a:chExt cx="5832360" cy="1153800"/>
          </a:xfrm>
        </p:grpSpPr>
        <p:pic>
          <p:nvPicPr>
            <p:cNvPr id="313" name="" descr=""/>
            <p:cNvPicPr/>
            <p:nvPr/>
          </p:nvPicPr>
          <p:blipFill>
            <a:blip r:embed="rId3"/>
            <a:stretch/>
          </p:blipFill>
          <p:spPr>
            <a:xfrm>
              <a:off x="1692360" y="404640"/>
              <a:ext cx="5832360" cy="91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" descr=""/>
            <p:cNvPicPr/>
            <p:nvPr/>
          </p:nvPicPr>
          <p:blipFill>
            <a:blip r:embed="rId4"/>
            <a:stretch/>
          </p:blipFill>
          <p:spPr>
            <a:xfrm>
              <a:off x="3259800" y="1265040"/>
              <a:ext cx="2696400" cy="29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"/>
          <p:cNvSpPr/>
          <p:nvPr/>
        </p:nvSpPr>
        <p:spPr>
          <a:xfrm>
            <a:off x="108000" y="659772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619280" y="4684680"/>
            <a:ext cx="5932440" cy="1835280"/>
            <a:chOff x="1619280" y="4684680"/>
            <a:chExt cx="5932440" cy="1835280"/>
          </a:xfrm>
        </p:grpSpPr>
        <p:pic>
          <p:nvPicPr>
            <p:cNvPr id="317" name="" descr=""/>
            <p:cNvPicPr/>
            <p:nvPr/>
          </p:nvPicPr>
          <p:blipFill>
            <a:blip r:embed="rId5"/>
            <a:stretch/>
          </p:blipFill>
          <p:spPr>
            <a:xfrm>
              <a:off x="1619280" y="4684680"/>
              <a:ext cx="593244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5292720" y="5300640"/>
              <a:ext cx="1152360" cy="9367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3372840" y="3860640"/>
            <a:ext cx="2817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onotype Corsiva"/>
              </a:rPr>
              <a:t>&gt; 13.1% premenopa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onotype Corsiva"/>
              </a:rPr>
              <a:t>&gt; 27.7% postmenopa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13000" y="3860640"/>
            <a:ext cx="2817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onotype Corsiva"/>
              </a:rPr>
              <a:t>&gt; 12.5% premenopa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onotype Corsiva"/>
              </a:rPr>
              <a:t>&gt; 14.4% postmenopa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227640" y="3933720"/>
            <a:ext cx="73080" cy="647640"/>
          </a:xfrm>
          <a:custGeom>
            <a:avLst/>
            <a:gdLst>
              <a:gd name="textAreaLeft" fmla="*/ 21240 w 73080"/>
              <a:gd name="textAreaRight" fmla="*/ 73440 w 73080"/>
              <a:gd name="textAreaTop" fmla="*/ 27000 h 647640"/>
              <a:gd name="textAreaBottom" fmla="*/ 62100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317080" y="3933720"/>
            <a:ext cx="71280" cy="647640"/>
          </a:xfrm>
          <a:custGeom>
            <a:avLst/>
            <a:gdLst>
              <a:gd name="textAreaLeft" fmla="*/ 0 w 71280"/>
              <a:gd name="textAreaRight" fmla="*/ 50040 w 71280"/>
              <a:gd name="textAreaTop" fmla="*/ 27000 h 647640"/>
              <a:gd name="textAreaBottom" fmla="*/ 621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790560" cy="47772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900000" y="26028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08000" y="659772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8245440" y="6308640"/>
            <a:ext cx="790560" cy="478080"/>
          </a:xfrm>
          <a:prstGeom prst="rect">
            <a:avLst/>
          </a:prstGeom>
          <a:ln w="0">
            <a:noFill/>
          </a:ln>
        </p:spPr>
      </p:pic>
      <p:grpSp>
        <p:nvGrpSpPr>
          <p:cNvPr id="327" name=""/>
          <p:cNvGrpSpPr/>
          <p:nvPr/>
        </p:nvGrpSpPr>
        <p:grpSpPr>
          <a:xfrm>
            <a:off x="144360" y="836640"/>
            <a:ext cx="4572000" cy="1584000"/>
            <a:chOff x="144360" y="836640"/>
            <a:chExt cx="4572000" cy="1584000"/>
          </a:xfrm>
        </p:grpSpPr>
        <p:pic>
          <p:nvPicPr>
            <p:cNvPr id="328" name="" descr=""/>
            <p:cNvPicPr/>
            <p:nvPr/>
          </p:nvPicPr>
          <p:blipFill>
            <a:blip r:embed="rId3"/>
            <a:stretch/>
          </p:blipFill>
          <p:spPr>
            <a:xfrm>
              <a:off x="144360" y="836640"/>
              <a:ext cx="4572000" cy="14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4"/>
            <a:stretch/>
          </p:blipFill>
          <p:spPr>
            <a:xfrm>
              <a:off x="163440" y="2174760"/>
              <a:ext cx="2120760" cy="245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0" name=""/>
          <p:cNvGrpSpPr/>
          <p:nvPr/>
        </p:nvGrpSpPr>
        <p:grpSpPr>
          <a:xfrm>
            <a:off x="4572000" y="836640"/>
            <a:ext cx="4392360" cy="2592000"/>
            <a:chOff x="4572000" y="836640"/>
            <a:chExt cx="4392360" cy="2592000"/>
          </a:xfrm>
        </p:grpSpPr>
        <p:pic>
          <p:nvPicPr>
            <p:cNvPr id="331" name="" descr=""/>
            <p:cNvPicPr/>
            <p:nvPr/>
          </p:nvPicPr>
          <p:blipFill>
            <a:blip r:embed="rId5"/>
            <a:stretch/>
          </p:blipFill>
          <p:spPr>
            <a:xfrm>
              <a:off x="4572000" y="836640"/>
              <a:ext cx="4392360" cy="25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4646880" y="1969920"/>
              <a:ext cx="2347200" cy="2426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959280" y="3716280"/>
            <a:ext cx="5076360" cy="2449080"/>
            <a:chOff x="3959280" y="3716280"/>
            <a:chExt cx="5076360" cy="2449080"/>
          </a:xfrm>
        </p:grpSpPr>
        <p:pic>
          <p:nvPicPr>
            <p:cNvPr id="334" name="" descr=""/>
            <p:cNvPicPr/>
            <p:nvPr/>
          </p:nvPicPr>
          <p:blipFill>
            <a:blip r:embed="rId6"/>
            <a:stretch/>
          </p:blipFill>
          <p:spPr>
            <a:xfrm>
              <a:off x="3959280" y="3716280"/>
              <a:ext cx="5076360" cy="24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4038120" y="4787280"/>
              <a:ext cx="4877280" cy="1537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7"/>
          <a:stretch/>
        </p:blipFill>
        <p:spPr>
          <a:xfrm>
            <a:off x="179280" y="2997360"/>
            <a:ext cx="35290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790560" cy="47772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900000" y="26028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08000" y="659772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8245440" y="6308640"/>
            <a:ext cx="790560" cy="4780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539640" y="54936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Monotype Corsiva"/>
              </a:rPr>
              <a:t>…</a:t>
            </a:r>
            <a:r>
              <a:rPr b="1" lang="it-IT" sz="2800" spc="-1" strike="noStrike">
                <a:solidFill>
                  <a:srgbClr val="0000ff"/>
                </a:solidFill>
                <a:latin typeface="Monotype Corsiva"/>
              </a:rPr>
              <a:t>ma non tutti sono d’accord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252360" y="1452600"/>
            <a:ext cx="4535280" cy="1616040"/>
            <a:chOff x="252360" y="1452600"/>
            <a:chExt cx="4535280" cy="1616040"/>
          </a:xfrm>
        </p:grpSpPr>
        <p:pic>
          <p:nvPicPr>
            <p:cNvPr id="343" name="" descr=""/>
            <p:cNvPicPr/>
            <p:nvPr/>
          </p:nvPicPr>
          <p:blipFill>
            <a:blip r:embed="rId3"/>
            <a:stretch/>
          </p:blipFill>
          <p:spPr>
            <a:xfrm>
              <a:off x="252360" y="1452600"/>
              <a:ext cx="4535280" cy="65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4"/>
            <a:stretch/>
          </p:blipFill>
          <p:spPr>
            <a:xfrm>
              <a:off x="325440" y="2100240"/>
              <a:ext cx="2904840" cy="64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5"/>
            <a:stretch/>
          </p:blipFill>
          <p:spPr>
            <a:xfrm>
              <a:off x="325440" y="2820960"/>
              <a:ext cx="2568600" cy="24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6" name=""/>
          <p:cNvGrpSpPr/>
          <p:nvPr/>
        </p:nvGrpSpPr>
        <p:grpSpPr>
          <a:xfrm>
            <a:off x="395280" y="3645000"/>
            <a:ext cx="3312720" cy="2592000"/>
            <a:chOff x="395280" y="3645000"/>
            <a:chExt cx="3312720" cy="2592000"/>
          </a:xfrm>
        </p:grpSpPr>
        <p:pic>
          <p:nvPicPr>
            <p:cNvPr id="347" name="" descr=""/>
            <p:cNvPicPr/>
            <p:nvPr/>
          </p:nvPicPr>
          <p:blipFill>
            <a:blip r:embed="rId6"/>
            <a:stretch/>
          </p:blipFill>
          <p:spPr>
            <a:xfrm>
              <a:off x="395280" y="3645000"/>
              <a:ext cx="3312720" cy="25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2705760" y="5015520"/>
              <a:ext cx="925560" cy="364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05760" y="5654880"/>
              <a:ext cx="925560" cy="364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5005440" y="1628640"/>
            <a:ext cx="3887640" cy="1831320"/>
            <a:chOff x="5005440" y="1628640"/>
            <a:chExt cx="3887640" cy="1831320"/>
          </a:xfrm>
        </p:grpSpPr>
        <p:sp>
          <p:nvSpPr>
            <p:cNvPr id="351" name=""/>
            <p:cNvSpPr/>
            <p:nvPr/>
          </p:nvSpPr>
          <p:spPr>
            <a:xfrm>
              <a:off x="5005440" y="1987560"/>
              <a:ext cx="3887640" cy="14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Sensibilità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     70.09%    76.4%     74.5%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Specificità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     77.6%      93.9%     81.6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31080" y="1628640"/>
              <a:ext cx="279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Monotype Corsiva"/>
                </a:rPr>
                <a:t>CA125       HE4      RO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4932360" y="1484280"/>
            <a:ext cx="3887640" cy="151308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643280" y="3500280"/>
            <a:ext cx="41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La performance diagnostica di ROMA non risulta essere migliore rispetto ad HE4 da s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588000" y="414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43280" y="468648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Potrebbe essere inutile l’inclusione della misurazione di CA125 per il calcolo di ROMA, in quanto non aggiunge informazioni signific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790560" cy="47772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900000" y="26028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08000" y="659772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8245440" y="6308640"/>
            <a:ext cx="790560" cy="478080"/>
          </a:xfrm>
          <a:prstGeom prst="rect">
            <a:avLst/>
          </a:prstGeom>
          <a:ln w="0">
            <a:noFill/>
          </a:ln>
        </p:spPr>
      </p:pic>
      <p:grpSp>
        <p:nvGrpSpPr>
          <p:cNvPr id="361" name=""/>
          <p:cNvGrpSpPr/>
          <p:nvPr/>
        </p:nvGrpSpPr>
        <p:grpSpPr>
          <a:xfrm>
            <a:off x="179280" y="1197000"/>
            <a:ext cx="6121440" cy="1217160"/>
            <a:chOff x="179280" y="1197000"/>
            <a:chExt cx="6121440" cy="1217160"/>
          </a:xfrm>
        </p:grpSpPr>
        <p:pic>
          <p:nvPicPr>
            <p:cNvPr id="362" name="" descr=""/>
            <p:cNvPicPr/>
            <p:nvPr/>
          </p:nvPicPr>
          <p:blipFill>
            <a:blip r:embed="rId3"/>
            <a:stretch/>
          </p:blipFill>
          <p:spPr>
            <a:xfrm>
              <a:off x="179280" y="1197000"/>
              <a:ext cx="5973840" cy="70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" descr=""/>
            <p:cNvPicPr/>
            <p:nvPr/>
          </p:nvPicPr>
          <p:blipFill>
            <a:blip r:embed="rId4"/>
            <a:stretch/>
          </p:blipFill>
          <p:spPr>
            <a:xfrm>
              <a:off x="179280" y="1773000"/>
              <a:ext cx="6121440" cy="46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" descr=""/>
            <p:cNvPicPr/>
            <p:nvPr/>
          </p:nvPicPr>
          <p:blipFill>
            <a:blip r:embed="rId5"/>
            <a:stretch/>
          </p:blipFill>
          <p:spPr>
            <a:xfrm>
              <a:off x="250920" y="2205000"/>
              <a:ext cx="3136680" cy="20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"/>
          <p:cNvSpPr/>
          <p:nvPr/>
        </p:nvSpPr>
        <p:spPr>
          <a:xfrm>
            <a:off x="539640" y="54936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Monotype Corsiva"/>
              </a:rPr>
              <a:t>…</a:t>
            </a:r>
            <a:r>
              <a:rPr b="1" lang="it-IT" sz="2800" spc="-1" strike="noStrike">
                <a:solidFill>
                  <a:srgbClr val="0000ff"/>
                </a:solidFill>
                <a:latin typeface="Monotype Corsiva"/>
              </a:rPr>
              <a:t>ma non tutti sono d’accord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79280" y="2637000"/>
            <a:ext cx="5040360" cy="3024000"/>
            <a:chOff x="179280" y="2637000"/>
            <a:chExt cx="5040360" cy="3024000"/>
          </a:xfrm>
        </p:grpSpPr>
        <p:pic>
          <p:nvPicPr>
            <p:cNvPr id="367" name="" descr=""/>
            <p:cNvPicPr/>
            <p:nvPr/>
          </p:nvPicPr>
          <p:blipFill>
            <a:blip r:embed="rId6"/>
            <a:stretch/>
          </p:blipFill>
          <p:spPr>
            <a:xfrm>
              <a:off x="179280" y="2637000"/>
              <a:ext cx="5040360" cy="30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753120" y="3941280"/>
              <a:ext cx="956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53120" y="4337640"/>
              <a:ext cx="956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53120" y="4801320"/>
              <a:ext cx="956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476440" y="3677400"/>
              <a:ext cx="382680" cy="11235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1619280" y="5734080"/>
            <a:ext cx="5867280" cy="100872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Monotype Corsiva"/>
              </a:rPr>
              <a:t>“…</a:t>
            </a:r>
            <a:r>
              <a:rPr b="0" lang="it-IT" sz="2000" spc="-1" strike="noStrike">
                <a:solidFill>
                  <a:srgbClr val="000000"/>
                </a:solidFill>
                <a:latin typeface="Monotype Corsiva"/>
              </a:rPr>
              <a:t>With these ROC–AUCs, the chances that HE4 or ROMA will be successful as a screening marker are low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435640" y="2781360"/>
            <a:ext cx="345744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onotype Corsiva"/>
              </a:rPr>
              <a:t>Combinando HE4 e CA125 in ROMA, aumentano le performance di HE4 ma non di CA125, indipendentemente dallo stato menopausale. Ciò significa 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Monotype Corsiva"/>
              </a:rPr>
              <a:t>NE HE4, NE ROMA AUMENTANO LA DIAGNOSI DI CARCINOMA OVA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790560" cy="47772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900000" y="26028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08000" y="659772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8245440" y="6308640"/>
            <a:ext cx="790560" cy="47808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539640" y="54936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Monotype Corsiva"/>
              </a:rPr>
              <a:t>…</a:t>
            </a:r>
            <a:r>
              <a:rPr b="1" lang="it-IT" sz="2800" spc="-1" strike="noStrike">
                <a:solidFill>
                  <a:srgbClr val="0000ff"/>
                </a:solidFill>
                <a:latin typeface="Monotype Corsiva"/>
              </a:rPr>
              <a:t>ma non tutti sono d’accord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179280" y="1052640"/>
            <a:ext cx="7334280" cy="1078920"/>
            <a:chOff x="179280" y="1052640"/>
            <a:chExt cx="7334280" cy="1078920"/>
          </a:xfrm>
        </p:grpSpPr>
        <p:pic>
          <p:nvPicPr>
            <p:cNvPr id="380" name="" descr=""/>
            <p:cNvPicPr/>
            <p:nvPr/>
          </p:nvPicPr>
          <p:blipFill>
            <a:blip r:embed="rId3"/>
            <a:stretch/>
          </p:blipFill>
          <p:spPr>
            <a:xfrm>
              <a:off x="179280" y="1052640"/>
              <a:ext cx="7334280" cy="82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" descr=""/>
            <p:cNvPicPr/>
            <p:nvPr/>
          </p:nvPicPr>
          <p:blipFill>
            <a:blip r:embed="rId4"/>
            <a:stretch/>
          </p:blipFill>
          <p:spPr>
            <a:xfrm>
              <a:off x="179280" y="1869840"/>
              <a:ext cx="3767760" cy="261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2" name="" descr=""/>
          <p:cNvPicPr/>
          <p:nvPr/>
        </p:nvPicPr>
        <p:blipFill>
          <a:blip r:embed="rId5"/>
          <a:stretch/>
        </p:blipFill>
        <p:spPr>
          <a:xfrm>
            <a:off x="250920" y="2133720"/>
            <a:ext cx="8367480" cy="340668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1258920" y="5013360"/>
            <a:ext cx="7273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324000" y="5661000"/>
            <a:ext cx="7613640" cy="774720"/>
            <a:chOff x="324000" y="5661000"/>
            <a:chExt cx="7613640" cy="774720"/>
          </a:xfrm>
        </p:grpSpPr>
        <p:pic>
          <p:nvPicPr>
            <p:cNvPr id="385" name="" descr=""/>
            <p:cNvPicPr/>
            <p:nvPr/>
          </p:nvPicPr>
          <p:blipFill>
            <a:blip r:embed="rId6"/>
            <a:stretch/>
          </p:blipFill>
          <p:spPr>
            <a:xfrm>
              <a:off x="324000" y="5661000"/>
              <a:ext cx="7613640" cy="7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1042920" y="6148440"/>
              <a:ext cx="4824360" cy="287280"/>
            </a:xfrm>
            <a:prstGeom prst="rect">
              <a:avLst/>
            </a:prstGeom>
            <a:noFill/>
            <a:ln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790560" cy="477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00000" y="26028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659772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245440" y="6308640"/>
            <a:ext cx="790560" cy="478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0920" y="765000"/>
            <a:ext cx="8254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Sopravvivenza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da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K ovaio è aumentata lievemente ma costantem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nell’ultimo decennio 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07160" y="1454040"/>
            <a:ext cx="425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miglior management chirur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migliori farmaci chemioterap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9760" y="2306520"/>
            <a:ext cx="86533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Donne che vengono trattate chirurgicamente da ginecologi oncologi in cent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con esperienza nel trattamento del cancro ovarico dimostra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39720" y="4540320"/>
            <a:ext cx="6062760" cy="36774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9900"/>
                </a:solidFill>
                <a:latin typeface="Monotype Corsiva"/>
              </a:rPr>
              <a:t>Importanza della diagnosi preco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9900"/>
                </a:solidFill>
                <a:latin typeface="Monotype Corsiva"/>
              </a:rPr>
              <a:t>Importanza di tests di screenig effica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9900"/>
                </a:solidFill>
                <a:latin typeface="Monotype Corsiva"/>
              </a:rPr>
              <a:t>Importanza del corretto triage delle pazi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80520" y="3249720"/>
            <a:ext cx="464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Monotype Corsiva"/>
              </a:rPr>
              <a:t>minor rischio di reinterv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Monotype Corsiva"/>
              </a:rPr>
              <a:t>aumentato intervallo “disease fre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Monotype Corsiva"/>
              </a:rPr>
              <a:t>aumentata sopravvivenza glob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52960" y="382680"/>
            <a:ext cx="25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Monotype Corsiva"/>
              </a:rPr>
              <a:t>INTRODU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790560" cy="47772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900000" y="26028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08000" y="659772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8245440" y="6308640"/>
            <a:ext cx="790560" cy="478080"/>
          </a:xfrm>
          <a:prstGeom prst="rect">
            <a:avLst/>
          </a:prstGeom>
          <a:ln w="0">
            <a:noFill/>
          </a:ln>
        </p:spPr>
      </p:pic>
      <p:grpSp>
        <p:nvGrpSpPr>
          <p:cNvPr id="391" name=""/>
          <p:cNvGrpSpPr/>
          <p:nvPr/>
        </p:nvGrpSpPr>
        <p:grpSpPr>
          <a:xfrm>
            <a:off x="206280" y="2038320"/>
            <a:ext cx="8308440" cy="2103840"/>
            <a:chOff x="206280" y="2038320"/>
            <a:chExt cx="8308440" cy="2103840"/>
          </a:xfrm>
        </p:grpSpPr>
        <p:sp>
          <p:nvSpPr>
            <p:cNvPr id="392" name=""/>
            <p:cNvSpPr/>
            <p:nvPr/>
          </p:nvSpPr>
          <p:spPr>
            <a:xfrm>
              <a:off x="2567160" y="2073240"/>
              <a:ext cx="3763800" cy="20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</a:rPr>
                <a:t>Dolore pelvico o addomina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</a:rPr>
                <a:t>Gonfiore addomina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</a:rPr>
                <a:t>Aumento del volume addomina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</a:rPr>
                <a:t>Difficoltà ad alimentarsi o sensazione di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</a:rPr>
                <a:t>sazietà precoce più di 12 volte al me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06280" y="2038320"/>
              <a:ext cx="2341800" cy="39888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Monotype Corsiva"/>
                </a:rPr>
                <a:t>SYMPTOM INDE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238800" y="2060280"/>
              <a:ext cx="360360" cy="136836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473160" y="2528640"/>
              <a:ext cx="204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Durata &lt; 1ann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214200" y="692280"/>
            <a:ext cx="6158160" cy="1008000"/>
            <a:chOff x="214200" y="692280"/>
            <a:chExt cx="6158160" cy="1008000"/>
          </a:xfrm>
        </p:grpSpPr>
        <p:pic>
          <p:nvPicPr>
            <p:cNvPr id="397" name="" descr=""/>
            <p:cNvPicPr/>
            <p:nvPr/>
          </p:nvPicPr>
          <p:blipFill>
            <a:blip r:embed="rId3"/>
            <a:stretch/>
          </p:blipFill>
          <p:spPr>
            <a:xfrm>
              <a:off x="214200" y="692280"/>
              <a:ext cx="6158160" cy="7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" descr=""/>
            <p:cNvPicPr/>
            <p:nvPr/>
          </p:nvPicPr>
          <p:blipFill>
            <a:blip r:embed="rId4"/>
            <a:stretch/>
          </p:blipFill>
          <p:spPr>
            <a:xfrm>
              <a:off x="214200" y="1479600"/>
              <a:ext cx="2729160" cy="22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" name=""/>
          <p:cNvSpPr/>
          <p:nvPr/>
        </p:nvSpPr>
        <p:spPr>
          <a:xfrm>
            <a:off x="6084720" y="3879720"/>
            <a:ext cx="28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Specificità di SI + almeno un altro test positivo: 98.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451640" y="4651200"/>
            <a:ext cx="0" cy="433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084720" y="5175360"/>
            <a:ext cx="280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Utilizzo come screening di primo livello di pazienti da inviare all’ecografi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108000" y="3500280"/>
            <a:ext cx="5968800" cy="2953080"/>
            <a:chOff x="108000" y="3500280"/>
            <a:chExt cx="5968800" cy="2953080"/>
          </a:xfrm>
        </p:grpSpPr>
        <p:pic>
          <p:nvPicPr>
            <p:cNvPr id="403" name="" descr=""/>
            <p:cNvPicPr/>
            <p:nvPr/>
          </p:nvPicPr>
          <p:blipFill>
            <a:blip r:embed="rId5"/>
            <a:stretch/>
          </p:blipFill>
          <p:spPr>
            <a:xfrm>
              <a:off x="108000" y="3500280"/>
              <a:ext cx="5968800" cy="295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1403280" y="5516640"/>
              <a:ext cx="44640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790560" cy="4777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900000" y="26028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08000" y="659772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8245440" y="6308640"/>
            <a:ext cx="790560" cy="4780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539640" y="60660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onotype Corsiva"/>
              </a:rPr>
              <a:t>Conclusion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-255600" y="1268280"/>
            <a:ext cx="4245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9900"/>
                </a:solidFill>
                <a:latin typeface="Monotype Corsiva"/>
              </a:rPr>
              <a:t>CA125: &gt; 35 U/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9900"/>
                </a:solidFill>
                <a:latin typeface="Monotype Corsiva"/>
              </a:rPr>
              <a:t>HE4: &gt; 70 pM/L premenopa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9900"/>
                </a:solidFill>
                <a:latin typeface="Monotype Corsiva"/>
              </a:rPr>
              <a:t>         </a:t>
            </a:r>
            <a:r>
              <a:rPr b="1" lang="it-IT" sz="2000" spc="-1" strike="noStrike">
                <a:solidFill>
                  <a:srgbClr val="009900"/>
                </a:solidFill>
                <a:latin typeface="Monotype Corsiva"/>
              </a:rPr>
              <a:t>&gt; 140 pM/L postmenopa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0" y="1230480"/>
            <a:ext cx="388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onotype Corsiva"/>
              </a:rPr>
              <a:t>Valido ausilio nel management delle pazienti con sospetto di carcinoma ovarico, nell’ambito di un approccio integrato tra clinica, markers ed “imag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0" y="2540160"/>
            <a:ext cx="388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onotype Corsiva"/>
              </a:rPr>
              <a:t>HE4 promettente marcatore per discriminare la patologia annessiale maligna da quella benigna, soprattutto nelle donne in premenopausa, soprattutto negli stadi precoci di malatt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635280" y="1197000"/>
            <a:ext cx="216000" cy="1440000"/>
          </a:xfrm>
          <a:custGeom>
            <a:avLst/>
            <a:gdLst>
              <a:gd name="textAreaLeft" fmla="*/ 0 w 216000"/>
              <a:gd name="textAreaRight" fmla="*/ 78120 w 21600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284720" y="1341360"/>
            <a:ext cx="287280" cy="144720"/>
          </a:xfrm>
          <a:prstGeom prst="rightArrow">
            <a:avLst>
              <a:gd name="adj1" fmla="val 50000"/>
              <a:gd name="adj2" fmla="val 49627"/>
            </a:avLst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284720" y="2637000"/>
            <a:ext cx="287280" cy="144360"/>
          </a:xfrm>
          <a:prstGeom prst="rightArrow">
            <a:avLst>
              <a:gd name="adj1" fmla="val 50000"/>
              <a:gd name="adj2" fmla="val 49751"/>
            </a:avLst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-980280" y="4292640"/>
            <a:ext cx="1049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Monotype Corsiva"/>
              </a:rPr>
              <a:t>Necessari ulteriori studi randomizzati per definire l’effettiva utilità di HE4 e dei tests combin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24000" y="5229360"/>
            <a:ext cx="8424720" cy="119124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Monotype Corsiva"/>
              </a:rPr>
              <a:t>Ad oggi, né Ca125 né HE4, singolarmente o accoppiati, ne i tests combinati, si sono rivelati utilizzabili come test di screening di primo liv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790560" cy="477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00000" y="26028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36360" y="6597720"/>
            <a:ext cx="813564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101080" y="6308640"/>
            <a:ext cx="790560" cy="478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50920" y="1096920"/>
            <a:ext cx="84978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Monotype Corsiva"/>
              </a:rPr>
              <a:t>Test di screening efficace e “cost-effective”                 VPP&gt;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869080" y="1484280"/>
            <a:ext cx="93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40000" y="1774800"/>
            <a:ext cx="0" cy="57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574920" y="2440080"/>
            <a:ext cx="575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Grande sfida per K ova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481320" y="3038400"/>
            <a:ext cx="572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Monotype Corsiva"/>
              </a:rPr>
              <a:t>Bassa preval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Monotype Corsiva"/>
              </a:rPr>
              <a:t>1:2500 popolazione post-menopaus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1102320" y="4437000"/>
            <a:ext cx="10009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Monotype Corsiva"/>
              </a:rPr>
              <a:t>Richiesta Specificità &gt; 99.6% per raggiungere VPP &gt; 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Monotype Corsiva"/>
              </a:rPr>
              <a:t>Early-stage e lesioni precliniche: sensibilità &gt; 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52960" y="382680"/>
            <a:ext cx="25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Monotype Corsiva"/>
              </a:rPr>
              <a:t>INTRODU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291280" y="1989000"/>
            <a:ext cx="309708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790560" cy="477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00000" y="26028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8000" y="659772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245440" y="6308640"/>
            <a:ext cx="790560" cy="478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22040" y="1271520"/>
            <a:ext cx="17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Monotype Corsiva"/>
              </a:rPr>
              <a:t>SENSIBILITA’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48000" y="1176480"/>
            <a:ext cx="54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proporzione di pazienti affetti dalla patologia o condizione in esame che hanno un risultato positivo al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966320" y="1125360"/>
            <a:ext cx="1021320" cy="774000"/>
            <a:chOff x="1966320" y="1125360"/>
            <a:chExt cx="1021320" cy="774000"/>
          </a:xfrm>
        </p:grpSpPr>
        <p:sp>
          <p:nvSpPr>
            <p:cNvPr id="83" name=""/>
            <p:cNvSpPr/>
            <p:nvPr/>
          </p:nvSpPr>
          <p:spPr>
            <a:xfrm>
              <a:off x="2118600" y="112536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</a:rPr>
                <a:t>VP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66320" y="1562040"/>
              <a:ext cx="90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onotype Corsiva"/>
                </a:rPr>
                <a:t>VP + F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50920" y="1468080"/>
              <a:ext cx="93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119520" y="213840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Monotype Corsiva"/>
              </a:rPr>
              <a:t>SPECIFICITA’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48000" y="2043000"/>
            <a:ext cx="54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proporzione di pazienti NON affetti dalla patologia o condizione in esame che hanno un risultato negativo al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966320" y="1992240"/>
            <a:ext cx="1021320" cy="774000"/>
            <a:chOff x="1966320" y="1992240"/>
            <a:chExt cx="1021320" cy="774000"/>
          </a:xfrm>
        </p:grpSpPr>
        <p:sp>
          <p:nvSpPr>
            <p:cNvPr id="89" name=""/>
            <p:cNvSpPr/>
            <p:nvPr/>
          </p:nvSpPr>
          <p:spPr>
            <a:xfrm>
              <a:off x="2119320" y="1992240"/>
              <a:ext cx="55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</a:rPr>
                <a:t>V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66320" y="2428920"/>
              <a:ext cx="90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onotype Corsiva"/>
                </a:rPr>
                <a:t>VN + F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50920" y="2334960"/>
              <a:ext cx="93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539640" y="2906640"/>
            <a:ext cx="8064720" cy="91692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Per i test di screening, la performance dovrebbe essere prossima alla perfezione (100%) per evitare di diagnosticare  erroneamente soggetti non affetti dalla patologia in es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4005360"/>
            <a:ext cx="424800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Monotype Corsiva"/>
              </a:rPr>
              <a:t>Le curve operative caratteristiche (</a:t>
            </a:r>
            <a:r>
              <a:rPr b="1" i="1" lang="it-IT" sz="2000" spc="-1" strike="noStrike">
                <a:solidFill>
                  <a:srgbClr val="009900"/>
                </a:solidFill>
                <a:latin typeface="Monotype Corsiva"/>
              </a:rPr>
              <a:t>Receiver Operating Characteristic</a:t>
            </a:r>
            <a:r>
              <a:rPr b="0" i="1" lang="it-IT" sz="1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it-IT" sz="2000" spc="-1" strike="noStrike">
                <a:solidFill>
                  <a:srgbClr val="009900"/>
                </a:solidFill>
                <a:latin typeface="Monotype Corsiva"/>
              </a:rPr>
              <a:t>Curves</a:t>
            </a:r>
            <a:r>
              <a:rPr b="1" lang="it-IT" sz="2000" spc="-1" strike="noStrike">
                <a:solidFill>
                  <a:srgbClr val="009900"/>
                </a:solidFill>
                <a:latin typeface="Monotype Corsiva"/>
              </a:rPr>
              <a:t>, ROC</a:t>
            </a:r>
            <a:r>
              <a:rPr b="0" lang="it-IT" sz="1600" spc="-1" strike="noStrike">
                <a:solidFill>
                  <a:srgbClr val="000000"/>
                </a:solidFill>
                <a:latin typeface="Monotype Corsiva"/>
              </a:rPr>
              <a:t>) sono rappresentazioni grafiche di confronti di un test diagnostico quando i risultati del test possono assumere diversi valori in un intervallo o ran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545220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Le curve ROC permettono anche di paragonare l’accuratezza di due test usati per la diagnosi di una determinata malatt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292720" y="4076640"/>
            <a:ext cx="2367000" cy="2284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71640" y="476280"/>
            <a:ext cx="230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Monotype Corsiva"/>
              </a:rPr>
              <a:t>digression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790560" cy="477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900000" y="26028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6597720"/>
            <a:ext cx="8136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245440" y="6308640"/>
            <a:ext cx="790560" cy="478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-596880" y="879480"/>
            <a:ext cx="6697440" cy="5814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Monotype Corsiva"/>
              </a:rPr>
              <a:t>1981: viene identificato il CA 1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1469160" y="4657680"/>
            <a:ext cx="12028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otype Corsiva"/>
              </a:rPr>
              <a:t>Ad oggi il più diffuso ed utilizzato marker per il management delle donne con K ova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4920" y="1989000"/>
            <a:ext cx="5984640" cy="1873440"/>
            <a:chOff x="34920" y="1989000"/>
            <a:chExt cx="5984640" cy="1873440"/>
          </a:xfrm>
        </p:grpSpPr>
        <p:grpSp>
          <p:nvGrpSpPr>
            <p:cNvPr id="104" name=""/>
            <p:cNvGrpSpPr/>
            <p:nvPr/>
          </p:nvGrpSpPr>
          <p:grpSpPr>
            <a:xfrm>
              <a:off x="34920" y="1989000"/>
              <a:ext cx="5668560" cy="1866960"/>
              <a:chOff x="34920" y="1989000"/>
              <a:chExt cx="5668560" cy="1866960"/>
            </a:xfrm>
          </p:grpSpPr>
          <p:pic>
            <p:nvPicPr>
              <p:cNvPr id="10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4920" y="1989000"/>
                <a:ext cx="5668560" cy="140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78920" y="3422160"/>
                <a:ext cx="4710600" cy="433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7" name=""/>
            <p:cNvSpPr/>
            <p:nvPr/>
          </p:nvSpPr>
          <p:spPr>
            <a:xfrm>
              <a:off x="166680" y="1989000"/>
              <a:ext cx="5852880" cy="187344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6194520" y="1052640"/>
            <a:ext cx="2860560" cy="33145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5960" y="5238720"/>
            <a:ext cx="26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Monotype Corsiva"/>
              </a:rPr>
              <a:t>Cut-off &gt; 35 U/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90080" y="5265720"/>
            <a:ext cx="699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Monotype Corsiva"/>
              </a:rPr>
              <a:t>bassa specificità, spt in premenopa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Monotype Corsiva"/>
              </a:rPr>
              <a:t>elevato in solo 50-60% degli “early-stage EOC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Monotype Corsiva"/>
              </a:rPr>
              <a:t>elevato nel 80-90% E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Scoperto da Bast nel 1981 attraverso le sviluppo dell’anticorpo monoclonale OC 125 da linee cellulari OVCA 433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Glicoproteina simile a mucina con Mr 200-2000 Kd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Legata alla via di traduzione del segnale tirosin-kinasico del recettore del fattore di crescita epitelial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Aumenta nel siero per effetto di invasione vascolare, distruzione tissutale ed infiammazion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Presente, oltre che nel siero, nel latte, ascite, liquido cistico, secrezioni cervicali, uterine e liquido amniotic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863800" y="581040"/>
            <a:ext cx="3262320" cy="10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effectLst>
                  <a:outerShdw dist="107932" dir="2700000" blurRad="0" rotWithShape="0">
                    <a:srgbClr val="000000"/>
                  </a:outerShdw>
                </a:effectLst>
                <a:latin typeface="Impact"/>
              </a:rPr>
              <a:t>CA 125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800000"/>
              </a:solidFill>
              <a:effectLst>
                <a:outerShdw dist="107932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/>
          <p:nvPr/>
        </p:nvSpPr>
        <p:spPr>
          <a:xfrm>
            <a:off x="998640" y="1852560"/>
            <a:ext cx="81453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47800" y="1981080"/>
            <a:ext cx="8015040" cy="41148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 algn="just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Cut-off:</a:t>
            </a: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35 U/mL è il cut-off più utilizzat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Valori:</a:t>
            </a: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iminuiscono nella menopausa, si modificano nel corso del ciclo mestruale; con aumenti nella fase                       follicol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umenti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patologie benigne quali endometriosi, cisti ovariche, malattie infiammatorie della pelvi, peritonite, cirro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Patologie maligne non-ovariche quali cancro della cervice, endometrio, pancreas, polmone, mammella e col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20800" y="1868400"/>
            <a:ext cx="832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863800" y="581040"/>
            <a:ext cx="3262320" cy="10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effectLst>
                  <a:outerShdw dist="107932" dir="2700000" blurRad="0" rotWithShape="0">
                    <a:srgbClr val="000000"/>
                  </a:outerShdw>
                </a:effectLst>
                <a:latin typeface="Impact"/>
              </a:rPr>
              <a:t>CA 125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800000"/>
              </a:solidFill>
              <a:effectLst>
                <a:outerShdw dist="107932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USO NELLO SREENING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: non provata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’utilità clinica. Identifica il 60%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i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asi, ed il 50% di quelli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 anni di vita salv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odello teorico: costo $10-30.000 per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nno di vita sal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98640" y="1852560"/>
            <a:ext cx="81453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8T15:23:10Z</dcterms:created>
  <dc:creator>Donato D'Antona</dc:creator>
  <dc:description/>
  <dc:language>en-US</dc:language>
  <cp:lastModifiedBy>MARIO_PLEBANI</cp:lastModifiedBy>
  <dcterms:modified xsi:type="dcterms:W3CDTF">2011-05-30T05:54:34Z</dcterms:modified>
  <cp:revision>79</cp:revision>
  <dc:subject/>
  <dc:title>Diapositiva 1</dc:title>
</cp:coreProperties>
</file>