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8E2B-AAA7-4D0A-A8FC-0C5A921A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6094-8098-4818-8213-A7F93B0E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5EA9-DF0C-4E68-989F-D0A2FF73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2D0-C33A-47F2-8328-200D90C2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DE9D-3D0B-4FDD-90AC-F0DA105E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5FED-8E4A-4F80-BCD6-A38F23F0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C02F-97C7-4481-8D93-B1D82505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CADD-138A-4073-A31C-B7682D34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C5E3-140F-42D0-B789-A9D5088A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7CAD-94F1-4E27-832D-FD2817B4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C04D-C336-4F06-A63E-1CD9C10C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C51-02D4-4F77-A2EC-A91BD566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E37A-32EF-4D64-A8DC-A639906F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81CD-B2B9-4D4B-87FA-C0662CC3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3947-BBC1-4A85-9730-41FD57EF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2871-A3A3-4C5E-818F-E23B4F3C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23B0-02B4-40AC-8607-085612DF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3FB-C669-43CF-AEC5-B738D028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0CA9-BB4A-4452-A485-7D68CC66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DE4-56AF-4A89-870F-91F0EC2C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DFB-2910-4705-8255-1CECE764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B2D-16E2-4806-95B6-50701B3F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7E0-3CE9-4B48-B6E9-6A5F6B77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70E-4E0C-45F0-9589-18797946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6D4B-3E5F-4C57-9E53-D19C7699E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03A5-42EE-447C-9A20-9D1A7933A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ichard_Wilbur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400800" cy="914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RHYM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Rhyme: a repetition of sounds at the end of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s – example: dreary , we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End Rhyme: rhyming words come at the ends of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Internal Rhyme: rhyming words appear in the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Slant Rhyme: repetition of words that sound or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like but do not rhyme exactly – example: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ve / love ; plain / ag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ff29"/>
                </a:solidFill>
                <a:latin typeface="Comic Sans MS"/>
              </a:rPr>
              <a:t>Rhyme Sch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600" y="10663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hyme Scheme is used for end rhy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figure out the rhyme scheme of a poem, use the letters of the alphabet beginning with the letter “a” and put the same letter for ever line that ends with the same rhyming s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I went to the store one da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bought a bundle of h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took it home to the barn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fed it to my favorite hor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then went to work on my fa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was behind the barn of cour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hyme Scheme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 at the Window by Richard Wilb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43360" indent="-24336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eing the snowman standing all alo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In dusk and cold is more than he can bea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The small boy weeps to hear the wind prep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A night of gnashings and enormous moa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His tearful sight can hardly reach to 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The pale-faced figure with bitumen ey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Returns him such a god-forsaken st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As outcast Adam gave to Paradis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The man of snow is, nonetheless, conten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Having no wish to go inside and di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Still, he is moved to see the youngster cry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Though frozen water is his elemen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He melts enough to drop from one soft ey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A trickle of the purest rain, a tea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For the child at the bright pane surrounded b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Such warmth, such light, such love, and so much fear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Richard Wilbu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ollected Poems 1943-200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Harvest Books, 2006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3" descr="snowman.jpg"/>
          <p:cNvPicPr/>
          <p:nvPr/>
        </p:nvPicPr>
        <p:blipFill>
          <a:blip r:embed="rId2"/>
          <a:stretch/>
        </p:blipFill>
        <p:spPr>
          <a:xfrm>
            <a:off x="0" y="1295280"/>
            <a:ext cx="2971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POETIC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* Personification: giving a nonhuman object human characteristics – example: the wind whispered in the tre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* Metaphor: a direct comparison of two unlike things – example: the car was a lem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extended metaphor: comparison that is carried throughout the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*Simile: a comparison between unlike items using the words “like” or “as” – example: she danced like an ange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                </a:t>
            </a: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*Hyperbole – a strong exaggera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               </a:t>
            </a: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Ex: He could leap tall buildings in a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                       </a:t>
            </a: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single b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ff29"/>
                </a:solidFill>
                <a:latin typeface="Comic Sans MS"/>
              </a:rPr>
              <a:t>SOUND DEVIC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* Alliteration: The repetition of initial consonant sounds – example: flashing fountains or bubbling bro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* Consonance: the repetition of final consonant sounds in stressed syllables with different vowel sounds – example: hat / s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*Assonance: the repetition of vowel sounds followed by different consonan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example: weak and weary or “She strove no more for the rest.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ff29"/>
                </a:solidFill>
                <a:latin typeface="Comic Sans MS"/>
              </a:rPr>
              <a:t>SOUND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* Cacophony – sounds that are harsh and rough and cause dissonance – example: despair, brazen, tale, and cla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* Euphony – sounds that are soft and musical and cause harmony – example: happiness, molten, liquid, and swing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*Onomatopoeia – the use of words that imitate a specific sound – example: creak, pop, boom, slam, and buz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00:33:30Z</dcterms:created>
  <dc:creator>Cindy Crowder</dc:creator>
  <dc:description/>
  <dc:language>en-US</dc:language>
  <cp:lastModifiedBy>cjcrowder</cp:lastModifiedBy>
  <dcterms:modified xsi:type="dcterms:W3CDTF">2012-02-06T21:43:04Z</dcterms:modified>
  <cp:revision>12</cp:revision>
  <dc:subject/>
  <dc:title>RHYME</dc:title>
</cp:coreProperties>
</file>