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1004-7826-4A3F-945C-E3F84698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9DDC-284D-4CEE-96B9-6C350564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4108-8877-4F95-9244-C4C8960E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D1AB-3BC8-45D0-8712-E664DBCD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1381-182A-4BB4-97B7-983D033F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7FB3-307D-4314-AD53-FDFFD51E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3FE4-8B35-4497-ADDB-D047E18C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A25F-438D-44CA-8B52-782C7103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0318-C4EC-4404-8580-CBD1207C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E001-A81D-418F-8E67-AF278A57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7222-7645-439D-99DD-ADE2610C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0DC0-216D-42E3-8BBF-37534A68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84CA-CC2C-45A5-A7C4-3A3C070F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E652-74BB-4795-A0EE-6CED8326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0142-0E89-4385-8C25-3D98E2D1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F102-433C-4184-9A8F-D606EFF2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D5F1-7775-47DE-833D-037A49A6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D440-9879-4640-B167-96F31295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D97E-DE8C-4088-9056-C9999D56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BFC9-4524-47B5-99C8-044C68D0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8478-27C1-4B7E-A6EC-6B257D6B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D308-12C1-46B6-B0E1-D7F3B184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C306-F73B-4999-8B92-6A126252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1477-3DC9-4094-B695-6BB3E09A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D147-C48C-47B2-A09A-374B2896C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401A-E056-4E2A-B82E-CFB1DD246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ichard_Wilbur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400800" cy="914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RHYM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Rhyme: a repetition of sounds at the end of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s – example: dreary , we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End Rhyme: rhyming words come at the ends of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n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Internal Rhyme: rhyming words appear in the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l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Slant Rhyme: repetition of words that sound or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like but do not rhyme exactly – example: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ve / love ; plain / ag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ff29"/>
                </a:solidFill>
                <a:latin typeface="Comic Sans MS"/>
              </a:rPr>
              <a:t>Rhyme Sche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8600" y="10663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hyme Scheme is used for end rhy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figure out the rhyme scheme of a poem, use the letters of the alphabet beginning with the letter “a” and put the same letter for ever line that ends with the same rhyming s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I went to the store one da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bought a bundle of ha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took it home to the barn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fed it to my favorite hor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then went to work on my fa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was behind the barn of cour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hyme Scheme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 algn="r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 at the Window by Richard Wilbu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43360" indent="-24336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eing the snowman standing all alo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In dusk and cold is more than he can bea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The small boy weeps to hear the wind prep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A night of gnashings and enormous moa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His tearful sight can hardly reach to whe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The pale-faced figure with bitumen ey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Returns him such a god-forsaken st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As outcast Adam gave to Paradis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The man of snow is, nonetheless, conten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Having no wish to go inside and di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Still, he is moved to see the youngster cry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Though frozen water is his elemen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He melts enough to drop from one soft ey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A trickle of the purest rain, a tea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For the child at the bright pane surrounded b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Such warmth, such light, such love, and so much fear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Richard Wilbu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ollected Poems 1943-200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Harvest Books, 2006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3" descr="snowman.jpg"/>
          <p:cNvPicPr/>
          <p:nvPr/>
        </p:nvPicPr>
        <p:blipFill>
          <a:blip r:embed="rId2"/>
          <a:stretch/>
        </p:blipFill>
        <p:spPr>
          <a:xfrm>
            <a:off x="0" y="1295280"/>
            <a:ext cx="2971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POETIC DEVI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* Personification: giving a nonhuman object human characteristics – example: the wind whispered in the tre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* Metaphor: a direct comparison of two unlike things – example: the car was a lem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-extended metaphor: comparison that is carried throughout the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*Simile: a comparison between unlike items using the words “like” or “as” – example: she danced like an ange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                </a:t>
            </a: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*Hyperbole – a strong exaggera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               </a:t>
            </a: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Ex: He could leap tall buildings in a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                       </a:t>
            </a: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single bou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ff29"/>
                </a:solidFill>
                <a:latin typeface="Comic Sans MS"/>
              </a:rPr>
              <a:t>SOUND DEVIC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* Alliteration: The repetition of initial consonant sounds – example: flashing fountains or bubbling broo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* Consonance: the repetition of final consonant sounds in stressed syllables with different vowel sounds – example: hat / s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*Assonance: the repetition of vowel sounds followed by different consonan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example: weak and weary or “She strove no more for the rest.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ff29"/>
                </a:solidFill>
                <a:latin typeface="Comic Sans MS"/>
              </a:rPr>
              <a:t>SOUND DEVI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* Cacophony – sounds that are harsh and rough and cause dissonance – example: despair, brazen, tale, and clas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* Euphony – sounds that are soft and musical and cause harmony – example: happiness, molten, liquid, and swing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*Onomatopoeia – the use of words that imitate a specific sound – example: creak, pop, boom, slam, and buz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00:33:30Z</dcterms:created>
  <dc:creator>Cindy Crowder</dc:creator>
  <dc:description/>
  <dc:language>en-US</dc:language>
  <cp:lastModifiedBy>cjcrowder</cp:lastModifiedBy>
  <dcterms:modified xsi:type="dcterms:W3CDTF">2012-02-06T21:43:04Z</dcterms:modified>
  <cp:revision>12</cp:revision>
  <dc:subject/>
  <dc:title>RHYME</dc:title>
</cp:coreProperties>
</file>