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77075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C251-8A18-491A-9763-C4565F0CD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BDDD-F990-4AFF-AE8F-94789F486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69D1-E9E5-4B44-A746-9A751D867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6AC6-52EE-44BA-ABBC-B20E27F21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4A4DD-E844-4D0B-BAE1-E4DE06CB6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9F2D1-3219-4F5B-8CBF-09DE0B768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51417-DC2B-4C9B-A7E5-33B704100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2842F-35EA-45AA-8C28-1A22007BC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421C0-8E7D-4FFF-9EAA-3DFAD3D34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91AF4-9005-44F8-A9AF-537D34859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0C63A-4A03-48C5-95DD-F084DA6B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6F6A-6CEF-4237-BA55-4549BD12B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73FBF-CC52-4E58-962C-B097F8A3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91AD7-ACD9-4981-8DF4-6B29D441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D1F88-1E55-4859-9363-6026723AA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0D113-9AA6-423A-B0A0-4631A06D5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53308-5599-4F44-8AE0-570D5C1F1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2EAF-75B1-4169-8FCF-875AA9FFF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22AB-A0D4-456F-8A93-C2A5BFB98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F552-B165-4B31-9E80-65CEDA3B3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703C-08C3-410D-B0D3-CD5ACA988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A6B5-D8EB-4568-8C22-FD576122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01B9-6AA2-4932-BE3A-AE0C9950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BCF0-25EE-4CF7-96AC-D2E4AAF1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F4221-2823-406C-B13F-01C48A4E683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AFB84-7727-4E0B-8E0D-1A08426C607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hyperlink" Target="http://www.msplinks.com/MDFodHRwOi8vczEzMy5waG90b2J1Y2tldC5jb20vYWxidW1zL3E1NS9iYXN0aWFuMjkyMC9Nb3ZpZXMvP2FjdGlvbj12aWV3JmN1cnJlbnQ9cm9tZW9fYW5kX2p1bGlldF8wMS5qcGc=" TargetMode="External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ILLIAM SHAKESPEAR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             1564-1616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52280" y="1219320"/>
            <a:ext cx="88394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rn in Stratford-on-Av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ved mostly during th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izabethan time period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ried Anne Hatha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d to London 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me an actor, playwright, and part own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 the Lord Chamberlain’s Company, and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lped to build the Globe Theat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Elizabeth I died and King James became king, Shakespeare’s company was changed to the King’s 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5" descr="Shakespeare's Globe"/>
          <p:cNvPicPr/>
          <p:nvPr/>
        </p:nvPicPr>
        <p:blipFill>
          <a:blip r:embed="rId1"/>
          <a:stretch/>
        </p:blipFill>
        <p:spPr>
          <a:xfrm>
            <a:off x="5638680" y="609480"/>
            <a:ext cx="338148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-790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151920"/>
            <a:ext cx="86868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ote over 35 pl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nry IV, Henry V, and Henry V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chard II, and Richard I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nry VIII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cbeth, Hamlet, King Lear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llo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riety of types, universality of theme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orable characters, and beautiful poe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edies – lower class people, mix-ups,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riages, and happy end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gedies – Kings/upper clas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tal flaw, and lots of people d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tories – based on actual hi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de up of 5 ac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7" descr="Movie Poster Image for Hamlet"/>
          <p:cNvPicPr/>
          <p:nvPr/>
        </p:nvPicPr>
        <p:blipFill>
          <a:blip r:embed="rId3"/>
          <a:stretch/>
        </p:blipFill>
        <p:spPr>
          <a:xfrm>
            <a:off x="5452920" y="0"/>
            <a:ext cx="1785960" cy="3048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King-Lear-671%20shee"/>
          <p:cNvPicPr/>
          <p:nvPr/>
        </p:nvPicPr>
        <p:blipFill>
          <a:blip r:embed="rId4"/>
          <a:stretch/>
        </p:blipFill>
        <p:spPr>
          <a:xfrm>
            <a:off x="7272360" y="0"/>
            <a:ext cx="1905120" cy="30481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witches_macbeth_2"/>
          <p:cNvPicPr/>
          <p:nvPr/>
        </p:nvPicPr>
        <p:blipFill>
          <a:blip r:embed="rId5"/>
          <a:stretch/>
        </p:blipFill>
        <p:spPr>
          <a:xfrm>
            <a:off x="6629400" y="4267080"/>
            <a:ext cx="25146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6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6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795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2280" y="-360"/>
            <a:ext cx="883944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MOUS QUOTES FROM SHAKESPEARE’S PL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Temp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 brave new worl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Haml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thing is rotten in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 of Denmar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ailty, thy name is wo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ugh this be madnes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et there is method in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ady doth protest too mu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Othel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will wear my heart upon my slee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5" descr="Hamlet with skull of childhood companion Yorick"/>
          <p:cNvPicPr/>
          <p:nvPr/>
        </p:nvPicPr>
        <p:blipFill>
          <a:blip r:embed="rId5"/>
          <a:stretch/>
        </p:blipFill>
        <p:spPr>
          <a:xfrm>
            <a:off x="5029200" y="914400"/>
            <a:ext cx="2209680" cy="2590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Othello-web2"/>
          <p:cNvPicPr/>
          <p:nvPr/>
        </p:nvPicPr>
        <p:blipFill>
          <a:blip r:embed="rId6"/>
          <a:stretch/>
        </p:blipFill>
        <p:spPr>
          <a:xfrm>
            <a:off x="6019920" y="3505320"/>
            <a:ext cx="3114720" cy="21715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Othello-web1"/>
          <p:cNvPicPr/>
          <p:nvPr/>
        </p:nvPicPr>
        <p:blipFill>
          <a:blip r:embed="rId7"/>
          <a:stretch/>
        </p:blipFill>
        <p:spPr>
          <a:xfrm>
            <a:off x="7238880" y="914400"/>
            <a:ext cx="18957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880" y="-757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600" y="22860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dsummer Night’s D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evil can cite Scripture for his purp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You Like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All the world’s a stage and all the men and women merely play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lius Caesa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for my own part, it was Greek to 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il_fi" descr="http://images.sodahead.com/polls/000163917/polls_caesar_2106_738836_answer_4_xlarge.jpeg"/>
          <p:cNvPicPr/>
          <p:nvPr/>
        </p:nvPicPr>
        <p:blipFill>
          <a:blip r:embed="rId4"/>
          <a:stretch/>
        </p:blipFill>
        <p:spPr>
          <a:xfrm>
            <a:off x="6629400" y="3200400"/>
            <a:ext cx="2247840" cy="3429000"/>
          </a:xfrm>
          <a:prstGeom prst="rect">
            <a:avLst/>
          </a:prstGeom>
          <a:ln w="0">
            <a:noFill/>
          </a:ln>
        </p:spPr>
      </p:pic>
      <p:pic>
        <p:nvPicPr>
          <p:cNvPr id="178" name="il_fi" descr="http://www.elizreview.com/img/et-tu-brute.jpg"/>
          <p:cNvPicPr/>
          <p:nvPr/>
        </p:nvPicPr>
        <p:blipFill>
          <a:blip r:embed="rId5"/>
          <a:stretch/>
        </p:blipFill>
        <p:spPr>
          <a:xfrm>
            <a:off x="3809880" y="3124080"/>
            <a:ext cx="2419560" cy="3543480"/>
          </a:xfrm>
          <a:prstGeom prst="rect">
            <a:avLst/>
          </a:prstGeom>
          <a:ln w="0">
            <a:noFill/>
          </a:ln>
        </p:spPr>
      </p:pic>
      <p:pic>
        <p:nvPicPr>
          <p:cNvPr id="179" name="il_fi" descr="http://www.shakespearetheatre.org/_uploaded/images/gallery/03v_cassius_caesar_brutus.jpg"/>
          <p:cNvPicPr/>
          <p:nvPr/>
        </p:nvPicPr>
        <p:blipFill>
          <a:blip r:embed="rId6"/>
          <a:stretch/>
        </p:blipFill>
        <p:spPr>
          <a:xfrm>
            <a:off x="228600" y="3124080"/>
            <a:ext cx="32958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7398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28600" y="15228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kespeare has been credited with coining over several hundred words inclu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eapfrog, majestic, hint, lonely, excellent, gloomy, bedazzle, fashionable, unearthly, time-honored, vulnerable, well-bred, tranquil, alligator, bloodstained, fortune-teller, gossip, premeditated, gossip, and unre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phrases first used b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kespe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tch a cold, laugh it off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air play, disgraceful conduct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aten out of house and home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omp and circumstance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regone conclusion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en better days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il_fi" descr="http://www.raising-redheads.com/images/ShakespeareCobbePortrait.jpg"/>
          <p:cNvPicPr/>
          <p:nvPr/>
        </p:nvPicPr>
        <p:blipFill>
          <a:blip r:embed="rId3"/>
          <a:stretch/>
        </p:blipFill>
        <p:spPr>
          <a:xfrm>
            <a:off x="6248520" y="2895480"/>
            <a:ext cx="2666880" cy="37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10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1000" fill="hold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1000" fill="hold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omeo                       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                                 and Juli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ting :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ona, Ita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ckground :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mily loyalty 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mily feu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fia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10" descr="venice"/>
          <p:cNvPicPr/>
          <p:nvPr/>
        </p:nvPicPr>
        <p:blipFill>
          <a:blip r:embed="rId1"/>
          <a:stretch/>
        </p:blipFill>
        <p:spPr>
          <a:xfrm>
            <a:off x="152280" y="152280"/>
            <a:ext cx="5324760" cy="39909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2" descr="Verona Italy"/>
          <p:cNvPicPr/>
          <p:nvPr/>
        </p:nvPicPr>
        <p:blipFill>
          <a:blip r:embed="rId2"/>
          <a:stretch/>
        </p:blipFill>
        <p:spPr>
          <a:xfrm>
            <a:off x="762120" y="4267080"/>
            <a:ext cx="567684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2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2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2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2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2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2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2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2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2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ragedy of Romeo and Juli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Montague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en-US" sz="3200" spc="-1" strike="noStrike" u="sng">
                <a:solidFill>
                  <a:srgbClr val="33cc33"/>
                </a:solidFill>
                <a:uFillTx/>
                <a:latin typeface="Arial"/>
              </a:rPr>
              <a:t>Capulet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ord and Lad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Lord and La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meo – s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Juliet - daugh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                          </a:t>
            </a:r>
            <a:r>
              <a:rPr b="0" lang="en-US" sz="3200" spc="-1" strike="noStrike" u="sng">
                <a:solidFill>
                  <a:srgbClr val="9900cc"/>
                </a:solidFill>
                <a:uFillTx/>
                <a:latin typeface="Arial"/>
              </a:rPr>
              <a:t>Prince Escal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172200" y="7162560"/>
            <a:ext cx="4038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7"/>
          <p:cNvSpPr/>
          <p:nvPr/>
        </p:nvSpPr>
        <p:spPr>
          <a:xfrm rot="7236600">
            <a:off x="5489280" y="3408480"/>
            <a:ext cx="458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4648320" y="5181480"/>
            <a:ext cx="1120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12" descr="Claire Danes (left) and Leonardo DiCaprio as the title characters in Baz Luhrmann’s 1996 film …&#10;&#10;&#10;&#10;[Credits : © Archive Photos/fotos international]"/>
          <p:cNvPicPr/>
          <p:nvPr/>
        </p:nvPicPr>
        <p:blipFill>
          <a:blip r:embed="rId1"/>
          <a:stretch/>
        </p:blipFill>
        <p:spPr>
          <a:xfrm>
            <a:off x="380880" y="4572000"/>
            <a:ext cx="3095640" cy="21430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4" descr="rj_19"/>
          <p:cNvPicPr/>
          <p:nvPr/>
        </p:nvPicPr>
        <p:blipFill>
          <a:blip r:embed="rId2"/>
          <a:stretch/>
        </p:blipFill>
        <p:spPr>
          <a:xfrm>
            <a:off x="3200400" y="1752480"/>
            <a:ext cx="2666880" cy="20005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0" descr="Romeo and Julie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943600" y="3505320"/>
            <a:ext cx="30481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2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2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2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2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4" descr="barson_-_romeo_and_juliet"/>
          <p:cNvPicPr/>
          <p:nvPr/>
        </p:nvPicPr>
        <p:blipFill>
          <a:blip r:embed="rId1"/>
          <a:stretch/>
        </p:blipFill>
        <p:spPr>
          <a:xfrm>
            <a:off x="380880" y="228600"/>
            <a:ext cx="82296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02:05:36Z</dcterms:created>
  <dc:creator>Cindy Crowder</dc:creator>
  <dc:description/>
  <dc:language>en-US</dc:language>
  <cp:lastModifiedBy>Cynthia Crowder</cp:lastModifiedBy>
  <dcterms:modified xsi:type="dcterms:W3CDTF">2014-01-24T23:41:10Z</dcterms:modified>
  <cp:revision>26</cp:revision>
  <dc:subject/>
  <dc:title>WILLIAM SHAKESPEARE 1564-1616</dc:title>
</cp:coreProperties>
</file>