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6A3-23BE-4FE7-8D6E-8DFCC706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67E-B631-4C6A-847B-A40754FC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566-5109-4725-A930-8536FFF5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FC0-6A7D-48B3-880F-10039B72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82CD-3B32-4E14-AC57-E0F5D250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78EE-B34B-4DD6-B4BB-AEBBF2E2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45D5-C15C-4EF0-A080-9D817C6E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937D-FA8F-4990-A09B-D49C0FD6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DAEE-7CB9-42CC-ABEB-AF01897E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8E62-D4A7-4152-A0DE-8D25C309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4894-B135-46D1-B3F9-E2D05581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1C6-3805-4EDD-869E-6744C82A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AA32-5400-4E3F-8F6A-673A8B6B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63F6-058E-40D0-80A4-C7C6D97E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1C38-3675-49EE-865C-5825D5EC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19E1-EA03-4018-8609-5A2ADDD1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D8EC-E5B3-4BDB-AA5E-BB03A6A2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CF3-BB17-4E4E-82E8-2F0C7F81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711-0E9B-42E6-858E-52258CA9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B4E-3EFB-4399-9725-A101ED9C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884-F754-4939-B581-9C4CBF99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A3C-54D6-4258-9E36-9AC19603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6C6-2CAF-4925-88F0-AA15434F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82A-DBA2-4953-9CAA-3E3E8E88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A3C5-7D78-4FC5-ABC6-D334D8672A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F4E1-813B-4C27-936A-A531FD0FFA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msplinks.com/MDFodHRwOi8vczEzMy5waG90b2J1Y2tldC5jb20vYWxidW1zL3E1NS9iYXN0aWFuMjkyMC9Nb3ZpZXMvP2FjdGlvbj12aWV3JmN1cnJlbnQ9cm9tZW9fYW5kX2p1bGlldF8wMS5qcGc=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LIAM SHAKESPEA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1564-16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Stratford-on-Av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d mostly during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an time period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ed Anne Hath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d to London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me an actor, playwright, and part ow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 the Lord Chamberlain’s Company, and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to build the Globe Thea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Elizabeth I died and King James became king, Shakespeare’s company was changed to the King’s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Shakespeare's Globe"/>
          <p:cNvPicPr/>
          <p:nvPr/>
        </p:nvPicPr>
        <p:blipFill>
          <a:blip r:embed="rId1"/>
          <a:stretch/>
        </p:blipFill>
        <p:spPr>
          <a:xfrm>
            <a:off x="5638680" y="609480"/>
            <a:ext cx="33814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-790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192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te over 35 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ry IV, Henry V, and Henry 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ard II, and Richard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ry VIII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beth, Hamlet, King Le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ll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ety of types, universality of them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able characters, and beautiful po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dies – lower class people, mix-ups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s, and happy e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gedies – Kings/upper cla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al flaw, and lots of people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es – based on actual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up of 5 a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" descr="Movie Poster Image for Hamlet"/>
          <p:cNvPicPr/>
          <p:nvPr/>
        </p:nvPicPr>
        <p:blipFill>
          <a:blip r:embed="rId3"/>
          <a:stretch/>
        </p:blipFill>
        <p:spPr>
          <a:xfrm>
            <a:off x="5452920" y="0"/>
            <a:ext cx="1785960" cy="304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King-Lear-671%20shee"/>
          <p:cNvPicPr/>
          <p:nvPr/>
        </p:nvPicPr>
        <p:blipFill>
          <a:blip r:embed="rId4"/>
          <a:stretch/>
        </p:blipFill>
        <p:spPr>
          <a:xfrm>
            <a:off x="7272360" y="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witches_macbeth_2"/>
          <p:cNvPicPr/>
          <p:nvPr/>
        </p:nvPicPr>
        <p:blipFill>
          <a:blip r:embed="rId5"/>
          <a:stretch/>
        </p:blipFill>
        <p:spPr>
          <a:xfrm>
            <a:off x="6629400" y="4267080"/>
            <a:ext cx="2514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795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OUS QUOTES FROM SHAKESPEARE’S 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emp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brave new wor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am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hing is rotten i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of Denma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ilty, thy name is wo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this be madn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t there is method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dy doth protest too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Othe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wear my heart upon my sle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Hamlet with skull of childhood companion Yorick"/>
          <p:cNvPicPr/>
          <p:nvPr/>
        </p:nvPicPr>
        <p:blipFill>
          <a:blip r:embed="rId5"/>
          <a:stretch/>
        </p:blipFill>
        <p:spPr>
          <a:xfrm>
            <a:off x="5029200" y="914400"/>
            <a:ext cx="220968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Othello-web2"/>
          <p:cNvPicPr/>
          <p:nvPr/>
        </p:nvPicPr>
        <p:blipFill>
          <a:blip r:embed="rId6"/>
          <a:stretch/>
        </p:blipFill>
        <p:spPr>
          <a:xfrm>
            <a:off x="6019920" y="350532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Othello-web1"/>
          <p:cNvPicPr/>
          <p:nvPr/>
        </p:nvPicPr>
        <p:blipFill>
          <a:blip r:embed="rId7"/>
          <a:stretch/>
        </p:blipFill>
        <p:spPr>
          <a:xfrm>
            <a:off x="7238880" y="914400"/>
            <a:ext cx="1895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-75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summer Night’s D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il can cite Scripture for his 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Lik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ll the world’s a stage and all the men and women merely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ius Caesa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for my own part, it was Greek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il_fi" descr="http://images.sodahead.com/polls/000163917/polls_caesar_2106_738836_answer_4_xlarge.jpeg"/>
          <p:cNvPicPr/>
          <p:nvPr/>
        </p:nvPicPr>
        <p:blipFill>
          <a:blip r:embed="rId4"/>
          <a:stretch/>
        </p:blipFill>
        <p:spPr>
          <a:xfrm>
            <a:off x="6629400" y="3200400"/>
            <a:ext cx="2247840" cy="3429000"/>
          </a:xfrm>
          <a:prstGeom prst="rect">
            <a:avLst/>
          </a:prstGeom>
          <a:ln w="0">
            <a:noFill/>
          </a:ln>
        </p:spPr>
      </p:pic>
      <p:pic>
        <p:nvPicPr>
          <p:cNvPr id="178" name="il_fi" descr="http://www.elizreview.com/img/et-tu-brute.jpg"/>
          <p:cNvPicPr/>
          <p:nvPr/>
        </p:nvPicPr>
        <p:blipFill>
          <a:blip r:embed="rId5"/>
          <a:stretch/>
        </p:blipFill>
        <p:spPr>
          <a:xfrm>
            <a:off x="3809880" y="3124080"/>
            <a:ext cx="2419560" cy="3543480"/>
          </a:xfrm>
          <a:prstGeom prst="rect">
            <a:avLst/>
          </a:prstGeom>
          <a:ln w="0">
            <a:noFill/>
          </a:ln>
        </p:spPr>
      </p:pic>
      <p:pic>
        <p:nvPicPr>
          <p:cNvPr id="179" name="il_fi" descr="http://www.shakespearetheatre.org/_uploaded/images/gallery/03v_cassius_caesar_brutus.jpg"/>
          <p:cNvPicPr/>
          <p:nvPr/>
        </p:nvPicPr>
        <p:blipFill>
          <a:blip r:embed="rId6"/>
          <a:stretch/>
        </p:blipFill>
        <p:spPr>
          <a:xfrm>
            <a:off x="228600" y="3124080"/>
            <a:ext cx="32958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739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espeare has been credited with coining over several hundred words inclu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pfrog, majestic, hint, lonely, excellent, gloomy, bedazzle, fashionable, unearthly, time-honored, vulnerable, well-bred, tranquil, alligator, bloodstained, fortune-teller, gossip, premeditated, gossip, and unre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hrases first us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espe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tch a cold, laugh it off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ir play, disgraceful conduct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ten out of house and home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mp and circumstance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egone conclusion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en better days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il_fi" descr="http://www.raising-redheads.com/images/ShakespeareCobbePortrait.jpg"/>
          <p:cNvPicPr/>
          <p:nvPr/>
        </p:nvPicPr>
        <p:blipFill>
          <a:blip r:embed="rId3"/>
          <a:stretch/>
        </p:blipFill>
        <p:spPr>
          <a:xfrm>
            <a:off x="6248520" y="2895480"/>
            <a:ext cx="2666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meo                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and Juli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ona, 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 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oyalty 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feu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fia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0" descr="venice"/>
          <p:cNvPicPr/>
          <p:nvPr/>
        </p:nvPicPr>
        <p:blipFill>
          <a:blip r:embed="rId1"/>
          <a:stretch/>
        </p:blipFill>
        <p:spPr>
          <a:xfrm>
            <a:off x="152280" y="152280"/>
            <a:ext cx="5324760" cy="3990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Verona Italy"/>
          <p:cNvPicPr/>
          <p:nvPr/>
        </p:nvPicPr>
        <p:blipFill>
          <a:blip r:embed="rId2"/>
          <a:stretch/>
        </p:blipFill>
        <p:spPr>
          <a:xfrm>
            <a:off x="762120" y="4267080"/>
            <a:ext cx="56768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ragedy of Romeo and Juli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ontagu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3200" spc="-1" strike="noStrike" u="sng">
                <a:solidFill>
                  <a:srgbClr val="33cc33"/>
                </a:solidFill>
                <a:uFillTx/>
                <a:latin typeface="Arial"/>
              </a:rPr>
              <a:t>Capulet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rd and Lad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Lord and L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meo – 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Juliet - 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                      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Prince Esca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172200" y="716256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 rot="7236600">
            <a:off x="5489280" y="340848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648320" y="5181480"/>
            <a:ext cx="112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2" descr="Claire Danes (left) and Leonardo DiCaprio as the title characters in Baz Luhrmann’s 1996 film …&#10;&#10;&#10;&#10;[Credits : © Archive Photos/fotos international]"/>
          <p:cNvPicPr/>
          <p:nvPr/>
        </p:nvPicPr>
        <p:blipFill>
          <a:blip r:embed="rId1"/>
          <a:stretch/>
        </p:blipFill>
        <p:spPr>
          <a:xfrm>
            <a:off x="380880" y="4572000"/>
            <a:ext cx="3095640" cy="2143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rj_19"/>
          <p:cNvPicPr/>
          <p:nvPr/>
        </p:nvPicPr>
        <p:blipFill>
          <a:blip r:embed="rId2"/>
          <a:stretch/>
        </p:blipFill>
        <p:spPr>
          <a:xfrm>
            <a:off x="3200400" y="17524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Romeo and Julie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3505320"/>
            <a:ext cx="3048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barson_-_romeo_and_juliet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2:05:36Z</dcterms:created>
  <dc:creator>Cindy Crowder</dc:creator>
  <dc:description/>
  <dc:language>en-US</dc:language>
  <cp:lastModifiedBy>Cynthia Crowder</cp:lastModifiedBy>
  <dcterms:modified xsi:type="dcterms:W3CDTF">2014-01-24T23:41:10Z</dcterms:modified>
  <cp:revision>26</cp:revision>
  <dc:subject/>
  <dc:title>WILLIAM SHAKESPEARE 1564-1616</dc:title>
</cp:coreProperties>
</file>