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2B7-D539-40C3-B8E5-AD9503F9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111-A7CA-40F1-A2BB-BCCAFBC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8C7-9F0A-490F-BF53-4771032E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276-4B75-4981-94BE-B596E59E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147-57CE-407A-824C-6081D83D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498A-9D1E-4736-A115-48AACFF2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7A79-ABE8-4476-891D-AD2814B5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39BD-2C10-4A5B-B4B4-979CF1A6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C02E-4D6B-4653-84FF-555A0035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E76F-5F20-4363-84FA-DB5D338F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7B34-3B5D-4CDD-B4B0-E7445DC9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301-11AE-43F7-A29E-831451B2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257E-2FD0-4E27-ACBC-E66A9EDB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D798-F904-4E70-BCCA-0BEF6FD0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1CC2-E8A6-4EF6-BAB0-1F076125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335C-9BE7-4152-9650-05740A36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7C44-CE54-44F0-A6D5-CBDD6974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116-D70C-4F53-98A8-AFF131B9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535-EBD8-4547-84E4-45452932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9FE-C348-42F2-BE08-76CA60C5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0B1-11E0-4300-9BC6-C3EA79F8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5C4-50F2-44AA-B508-6EFD2B09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D20-969D-4A63-B14B-D6E64382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61D-F4F2-4BEB-B7BD-4EE057F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D15-A892-4B91-B5D7-B9BF804E5F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8950-B182-4FF0-8AB9-710B867F29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6640" y="320400"/>
            <a:ext cx="7759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ry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ue - conversation between charac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Directions - notes in the play that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he action should be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; usually written in ita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gue - an opening spee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the play’s main characters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, and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us - a figure or group of figures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a play’s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ry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- a character revealing his thoughts to another character on stage while all the other characters cannot hear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moron - two words that go against or opposite of each other used to describe one thing or idea; ex. Jumbo shrimp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c Relief - inclusion of a humorous character or scene in an otherwise serious work, often to reliev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shadowing - comments that give an idea of what may happen latter on in the work of fi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ry Te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loquy - a lengthy speech by one character expressing his thoughts while no other character is on the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 - a play on words; using the same word to mean two differen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phant was drinking out of a river one day, when he spotted a turtle asleep on a log. So, he ambled on over and kicked it clear across the river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What did you do that for?" Asked a passing giraff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Because I recognized it as the same turtle that took a nip out of my trunk 53 years ago.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Wow, what a memory" commented the giraff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Yes," said the elephant, "turtle recall"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12:07Z</dcterms:created>
  <dc:creator>Cindy Crowder</dc:creator>
  <dc:description/>
  <dc:language>en-US</dc:language>
  <cp:lastModifiedBy>cjcrowder</cp:lastModifiedBy>
  <dcterms:modified xsi:type="dcterms:W3CDTF">2010-11-22T15:25:59Z</dcterms:modified>
  <cp:revision>3</cp:revision>
  <dc:subject/>
  <dc:title>Literary Terms</dc:title>
</cp:coreProperties>
</file>