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C14-0C92-4960-B29C-F917EF37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849-07EC-4CD0-9AAA-71C0C8EA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72B-EECD-4F08-8027-37715913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D3E-1F9F-445A-9E17-EE1F867F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48E3-97F1-4BAE-9E41-E64F2C1E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8245-764D-4EA8-8E7D-EDCED406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DB77-B275-45D9-B4F8-6498D38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CA2C-9C33-446B-9DD6-34567019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CF96-38DB-4CDF-94A7-630D7DF0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ABF5-80E2-4530-83C5-7AAEA838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6BC8-DAFD-4A87-8D3B-E6CE3561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44F-2C61-47C0-AC55-BC86D46B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6CB4-4141-4933-AD5C-EB7068F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7A71-281F-4565-828B-A6FCD71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A7BB-E8DD-425A-9104-C32A017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F5BE-07F4-45D6-9878-5D9E3C0B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204B-7B6E-4B3C-9A0F-63827184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62F-AA9A-46B4-ADEF-C9FBC1EA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4B3-3A3D-4BB5-9749-247D563C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BFA-7DD0-49DA-87B0-0298E52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8C8-69CE-4144-964C-5B45ECEA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AFF-74DF-4A7F-979F-8AADD95E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0F0-A3D8-4635-B01F-09AAEDF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E67-9B99-421D-BA31-B163DAA8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3A26-980A-42C5-B860-27E9AAC813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6552-DD87-4CAE-AFF0-84ED23A245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6640" y="320400"/>
            <a:ext cx="7759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ry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ue - conversation between charac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Directions - notes in the play that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he action should be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; usually written in ita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gue - an opening spee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the play’s main characters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, and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us - a figure or group of figures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a play’s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ry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- a character revealing his thoughts to another character on stage while all the other characters cannot hear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moron - two words that go against or opposite of each other used to describe one thing or idea; ex. Jumbo shrimp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c Relief - inclusion of a humorous character or scene in an otherwise serious work, often to reliev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shadowing - comments that give an idea of what may happen latter on in the work of fi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ry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loquy - a lengthy speech by one character expressing his thoughts while no other character is on the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 - a play on words; using the same word to mean two differen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phant was drinking out of a river one day, when he spotted a turtle asleep on a log. So, he ambled on over and kicked it clear across the river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What did you do that for?" Asked a passing giraff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Because I recognized it as the same turtle that took a nip out of my trunk 53 years ago.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Wow, what a memory" commented the giraff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Yes," said the elephant, "turtle recall"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12:07Z</dcterms:created>
  <dc:creator>Cindy Crowder</dc:creator>
  <dc:description/>
  <dc:language>en-US</dc:language>
  <cp:lastModifiedBy>cjcrowder</cp:lastModifiedBy>
  <dcterms:modified xsi:type="dcterms:W3CDTF">2010-11-22T15:25:59Z</dcterms:modified>
  <cp:revision>3</cp:revision>
  <dc:subject/>
  <dc:title>Literary Terms</dc:title>
</cp:coreProperties>
</file>