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5F53-346E-4264-8FB0-07E02BEEE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FCC9-266A-4962-98B8-A46C972072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3562-0147-4548-B6C2-4DCA183A3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4ABD-146F-44EC-A19A-9AB279EB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55F0-83C4-4E3E-8146-3A09A228C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A05C-0D40-4BB7-BC0F-AC75F053F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A8B0-F2D4-479F-B8E3-F866AE52B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544E-333C-4E99-A535-096338A7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F99A-BA52-4688-97A6-AC5F75D4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5DEE-0CB9-491A-A803-4ABD5B5C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F930-B76C-495B-8EAC-FB621C43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28E1-3D59-4B13-8C42-600FD051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F673-9AB5-482F-8C9C-4C620303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28DD-32D6-4A07-ACA4-109CDA27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8865-BCF7-4B94-89F6-C5FE3FA2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4654-DDED-4932-B239-E2AC3EF8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49F6-BE0C-47F6-A698-CD7C0951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1090-5D45-497D-A97F-371D59DE6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91A0-A941-49F7-A0C1-5E71528D4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E53A-7D15-469F-B213-0AAB61EF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3811-118E-4981-B9F5-76D16738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47B5-C5C8-46A3-9ADC-07968211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7E5B-128F-4053-8D6B-1618A73E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E58A-ED03-4103-BB45-76A6062C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36B8-5B80-4B0F-BBEA-8FA9387E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75E3-D8E8-4206-9198-992F8FCC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940E-B092-4C05-89A3-EA0DBB33A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6DD1-6019-464E-8FCB-539585F21E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Parts of the Sentence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4920" y="6021000"/>
            <a:ext cx="815472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tting the pieces of the sentence toge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omplements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1483920"/>
            <a:ext cx="9144000" cy="504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dicate Adjective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es after a linking ver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an adjec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ject complement that describes the sub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  The cat is blac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   The cat felt sof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dicate adjectives can never b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a prepositional phr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The snail felt slimy on his bell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dicate adjectives may be compou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The soup tasted salty but goo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3" descr="black cat.jpg"/>
          <p:cNvPicPr/>
          <p:nvPr/>
        </p:nvPicPr>
        <p:blipFill>
          <a:blip r:embed="rId1"/>
          <a:srcRect l="2739" t="0" r="0" b="7559"/>
          <a:stretch/>
        </p:blipFill>
        <p:spPr>
          <a:xfrm>
            <a:off x="6300720" y="3716280"/>
            <a:ext cx="284328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10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         </a:t>
            </a: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omplements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1484280"/>
            <a:ext cx="9144000" cy="489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rect Object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es after an action ver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a noun or pronou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  Rachel ran the extremel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rd ra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  The boy kicked him off of the tall build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rect Objects can never be in a prepositional phr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The teacher read the assignment from the boo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rect Objects may be compou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Stone baked the teacher a cake and cook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3" descr="boy kicked off building.jpg"/>
          <p:cNvPicPr/>
          <p:nvPr/>
        </p:nvPicPr>
        <p:blipFill>
          <a:blip r:embed="rId1"/>
          <a:srcRect l="0" t="7884" r="0" b="8529"/>
          <a:stretch/>
        </p:blipFill>
        <p:spPr>
          <a:xfrm>
            <a:off x="5867280" y="0"/>
            <a:ext cx="3276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omplements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773360"/>
            <a:ext cx="9144000" cy="508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irect Object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ways comes between an action verb and the direct object  = S.  A.V.  I.O.  D.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a noun or pronou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swers the questions “to whom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whom, to what, or for what?”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er the direct ob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  Mrs. Cappalo  gave Sally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Chow Chow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  Sally accepted Mrs. Cappalo’s Chow Chow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3" descr="Chow Chow.jpg"/>
          <p:cNvPicPr/>
          <p:nvPr/>
        </p:nvPicPr>
        <p:blipFill>
          <a:blip r:embed="rId1"/>
          <a:stretch/>
        </p:blipFill>
        <p:spPr>
          <a:xfrm>
            <a:off x="6372360" y="2852640"/>
            <a:ext cx="27716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omplements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252720" y="1773360"/>
            <a:ext cx="9217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irect Objects can never be in a prepositional phr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Jennifer gave Christi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book for Christm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Jennifer gave a book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Christina for Christm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Indirect Objects may be compou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I threw Trent an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axton the footbal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3" descr="christmas tree with presents.jpg"/>
          <p:cNvPicPr/>
          <p:nvPr/>
        </p:nvPicPr>
        <p:blipFill>
          <a:blip r:embed="rId1"/>
          <a:stretch/>
        </p:blipFill>
        <p:spPr>
          <a:xfrm>
            <a:off x="6084720" y="2565360"/>
            <a:ext cx="30592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" y="260280"/>
            <a:ext cx="769608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Sentence Patterns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79280" y="1773360"/>
            <a:ext cx="864072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.    A.V.     D.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ylor ate the cand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.     A.V.    I.O.              D.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yn gave Fischer a Hershey Ki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.    L.V.    P.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aron was a diver who looked for sculptu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.        L.V.   P.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underwater sculpture looked re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4572000" y="22320"/>
            <a:ext cx="4862520" cy="35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Palatino"/>
              </a:rPr>
              <a:t>SENTENCES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1484280"/>
            <a:ext cx="9144000" cy="518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ntence = subject, verb, and complete though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e went to the store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ragment = anything marked as a sentence that is not a complete though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ecause he wanted a candy bar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boy sitting at the desk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orrect Fragments by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. Adding a sentence to the fragmen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cause he wanted a candy bar, John asked his mom for mone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2. Connecting it to another whole sentenc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cause he wanted a candy bar, he went to the stor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3. Adding the missing element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boy sitting at the desk made an A on his pape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3" descr="candybar.jpg"/>
          <p:cNvPicPr/>
          <p:nvPr/>
        </p:nvPicPr>
        <p:blipFill>
          <a:blip r:embed="rId1"/>
          <a:stretch/>
        </p:blipFill>
        <p:spPr>
          <a:xfrm>
            <a:off x="5580000" y="2852640"/>
            <a:ext cx="3564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1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1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10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10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10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10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10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10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63272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Objects of the Preposition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1700280"/>
            <a:ext cx="9144000" cy="49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bject of the prepositio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oun or pronoun that co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 the end of the prepositional phr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 The car in front of the hous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a birthday present for 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s of the preposition can be compou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bs do not come in a prepositional phr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 He wanted to go to the store, the park, 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li’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3" descr="sports car with bow.png"/>
          <p:cNvPicPr/>
          <p:nvPr/>
        </p:nvPicPr>
        <p:blipFill>
          <a:blip r:embed="rId1"/>
          <a:stretch/>
        </p:blipFill>
        <p:spPr>
          <a:xfrm>
            <a:off x="6743880" y="1197000"/>
            <a:ext cx="2400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7280" y="333000"/>
            <a:ext cx="727236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Nouns of Direct Address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1628280"/>
            <a:ext cx="9144000" cy="496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un of direct address – the person the sentence is directed to / the person who is being address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.D.A. is set off by com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an, are you going to the game tomorrow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mes and Tom, put your pens down on your des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m is the leader of the grou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you want to ride with us to the game, Christin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do you want, Taylor, for dinner tonigh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ppositives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50920" y="1699920"/>
            <a:ext cx="8353440" cy="515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ositiv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nou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es behind or to the right of another nou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names the noun before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un =  noun (appositive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Mary Wollstonecraft Shelle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ote the science fic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ok Frankenste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3" descr="frankenstein.jpg"/>
          <p:cNvPicPr/>
          <p:nvPr/>
        </p:nvPicPr>
        <p:blipFill>
          <a:blip r:embed="rId1"/>
          <a:stretch/>
        </p:blipFill>
        <p:spPr>
          <a:xfrm>
            <a:off x="6114960" y="4149720"/>
            <a:ext cx="30290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ppositives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4000" y="1773360"/>
            <a:ext cx="842472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ositives are similar to Predicate Nominatives except for the linking verb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Grace is the captain of the volleyball tea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Grace, the captain of the volleyball team, is an excellent sett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e sang the song “O Hol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ight” for the Christmas pl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o holy night 2.jpg"/>
          <p:cNvPicPr/>
          <p:nvPr/>
        </p:nvPicPr>
        <p:blipFill>
          <a:blip r:embed="rId1"/>
          <a:stretch/>
        </p:blipFill>
        <p:spPr>
          <a:xfrm>
            <a:off x="5796000" y="3860640"/>
            <a:ext cx="33480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Parts of the Sentence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1484280"/>
            <a:ext cx="9144000" cy="518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major difference between the parts of speech and the parts of the sentence is the jobs of the nouns and pronou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ach noun and pronoun in a sentence has its own job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JOBS OF THE NOUNS AND PRONOUNS =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j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rect Obj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irect Obj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dicate Nominat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ct of the Prepos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un of Direct Addr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posit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3" descr="the butcher, the baker, the candlestick maker.jpg"/>
          <p:cNvPicPr/>
          <p:nvPr/>
        </p:nvPicPr>
        <p:blipFill>
          <a:blip r:embed="rId1"/>
          <a:stretch/>
        </p:blipFill>
        <p:spPr>
          <a:xfrm>
            <a:off x="4500720" y="3716280"/>
            <a:ext cx="43923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rah are you coming to the part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hn is coming with 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want you to help me decorate the main room for the party Ma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be John and Sarah will sit together at the par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Types of Sentences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1773360"/>
            <a:ext cx="914400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Declarative – makes a statement a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s with a perio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was on the varsity tea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Interrogative sentence – ask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question and ends with 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stion ma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are you going on vacatio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you going to Paris to see the Eiffel Tow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3" descr="eiffel tower.png"/>
          <p:cNvPicPr/>
          <p:nvPr/>
        </p:nvPicPr>
        <p:blipFill>
          <a:blip r:embed="rId1"/>
          <a:stretch/>
        </p:blipFill>
        <p:spPr>
          <a:xfrm>
            <a:off x="6516720" y="2349360"/>
            <a:ext cx="2627280" cy="33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nodeType="clickEffect" fill="hold">
                      <p:stCondLst>
                        <p:cond delay="indefinite"/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1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1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nodeType="clickEffect" fill="hold">
                      <p:stCondLst>
                        <p:cond delay="indefinite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10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10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nodeType="clickEffect" fill="hold">
                      <p:stCondLst>
                        <p:cond delay="indefinite"/>
                      </p:stCondLst>
                      <p:childTnLst>
                        <p:par>
                          <p:cTn id="1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Types of Sentences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557000"/>
            <a:ext cx="9144000" cy="51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Imperative sentence – gives a command o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s a polite request and ends with 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iod or sometimes an exclamation po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nd me that paper.  Stop hitting him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Exclamatory – expresses stro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otion and ends with a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clamation point; someti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ll start with a question wor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 is not asking a ques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an interesting painting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3" descr="the wedding of st. george and princess sabra.jpg"/>
          <p:cNvPicPr/>
          <p:nvPr/>
        </p:nvPicPr>
        <p:blipFill>
          <a:blip r:embed="rId1"/>
          <a:stretch/>
        </p:blipFill>
        <p:spPr>
          <a:xfrm>
            <a:off x="6084720" y="3068640"/>
            <a:ext cx="305928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1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1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nodeType="clickEffect" fill="hold">
                      <p:stCondLst>
                        <p:cond delay="indefinite"/>
                      </p:stCondLst>
                      <p:childTnLst>
                        <p:par>
                          <p:cTn id="1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10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10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nodeType="clickEffect" fill="hold">
                      <p:stCondLst>
                        <p:cond delay="indefinite"/>
                      </p:stCondLst>
                      <p:childTnLst>
                        <p:par>
                          <p:cTn id="1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10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10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1000" fill="hold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1000" fill="hold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Run-ons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1557360"/>
            <a:ext cx="9144000" cy="496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run-on sentence is two or more sentences that are put together incorrect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X: He went to the store, he bought a gallon of milk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parate them into two sentenc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2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He went to the store . He bought a gallon of milk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Use a comma and a conjunction (and, but, or, nor, for, yet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2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He went to the store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 and he bought a gallon of milk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Use a semicolon between the two sentenc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2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He went to the store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he bought a gallon of milk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3" dur="indefinite" restart="never" nodeType="tmRoot">
          <p:childTnLst>
            <p:seq>
              <p:cTn id="1304" dur="indefinite" nodeType="mainSeq">
                <p:childTnLst>
                  <p:par>
                    <p:cTn id="1305" nodeType="clickEffect" fill="hold">
                      <p:stCondLst>
                        <p:cond delay="indefinite"/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nodeType="clickEffect" fill="hold">
                      <p:stCondLst>
                        <p:cond delay="indefinite"/>
                      </p:stCondLst>
                      <p:childTnLst>
                        <p:par>
                          <p:cTn id="1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nodeType="clickEffect" fill="hold">
                      <p:stCondLst>
                        <p:cond delay="indefinite"/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nodeType="clickEffect" fill="hold">
                      <p:stCondLst>
                        <p:cond delay="indefinite"/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nodeType="clickEffect" fill="hold">
                      <p:stCondLst>
                        <p:cond delay="indefinite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10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10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Parts of the Sentence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teps to marking the parts of the sentenc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Mark the prepositional phrases and the objects of the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posi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Find and mark the verb by looking for an action verb or 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rb on the verb li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Find and mark the subj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 Find and mark the compl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 Mark nouns of direct address and apposi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. Mark all other words as eith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djectives           Conjunction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dverbs              Interjection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8920" y="333000"/>
            <a:ext cx="72738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8edf2"/>
                </a:solidFill>
                <a:latin typeface="Tahoma"/>
              </a:rPr>
              <a:t>Subject</a:t>
            </a: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 = Noun/Pronoun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78920" y="1628280"/>
            <a:ext cx="8713800" cy="504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ject – the part of the sentence about which something is being sa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ubject is never in a prepositional phr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ubject normally comes before the ver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subject by asking who o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before the ver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 The dog in the picture jump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e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or what jumped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3" descr="dog jumping a fence.jpg"/>
          <p:cNvPicPr/>
          <p:nvPr/>
        </p:nvPicPr>
        <p:blipFill>
          <a:blip r:embed="rId1"/>
          <a:stretch/>
        </p:blipFill>
        <p:spPr>
          <a:xfrm>
            <a:off x="6804000" y="3789360"/>
            <a:ext cx="2340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63640" y="333000"/>
            <a:ext cx="71294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8edf2"/>
                </a:solidFill>
                <a:latin typeface="Tahoma"/>
              </a:rPr>
              <a:t>Subject</a:t>
            </a: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 = Noun/Pronoun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4920" y="1844280"/>
            <a:ext cx="7777080" cy="482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Understood </a:t>
            </a: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you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as the subject = imperative sentences  (sentences that give a command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x: Hand me that paper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x: Give me the answer and then you can go to lunch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ubjects can be compound when they are joined by a conjunc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x. In front of the school, the red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ompact car and the dump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ruck collided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3" descr="car and dump truck collision.jpg"/>
          <p:cNvPicPr/>
          <p:nvPr/>
        </p:nvPicPr>
        <p:blipFill>
          <a:blip r:embed="rId1"/>
          <a:srcRect l="32136" t="0" r="0" b="0"/>
          <a:stretch/>
        </p:blipFill>
        <p:spPr>
          <a:xfrm>
            <a:off x="5838840" y="4714920"/>
            <a:ext cx="33051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92360" y="333000"/>
            <a:ext cx="720072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8edf2"/>
                </a:solidFill>
                <a:latin typeface="Tahoma"/>
              </a:rPr>
              <a:t>Subject</a:t>
            </a: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 = Noun/Pronoun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50560" y="1916280"/>
            <a:ext cx="8893080" cy="475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xampl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John and Tim went to the stor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y quickly found  the candy aisl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hile the boys were in the store,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cumbersome display crashed to the ground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manager thought that the boys hit the display and caused it to fall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Get out of my store,” the manager yelled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3" descr="candy aisle.jpg"/>
          <p:cNvPicPr/>
          <p:nvPr/>
        </p:nvPicPr>
        <p:blipFill>
          <a:blip r:embed="rId1"/>
          <a:stretch/>
        </p:blipFill>
        <p:spPr>
          <a:xfrm>
            <a:off x="6300720" y="1628640"/>
            <a:ext cx="2843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8edf2"/>
                </a:solidFill>
                <a:latin typeface="Palatino"/>
              </a:rPr>
              <a:t>Inverted subjects = </a:t>
            </a:r>
            <a:br>
              <a:rPr sz="3800"/>
            </a:br>
            <a:r>
              <a:rPr b="0" lang="en-US" sz="3800" spc="-1" strike="noStrike">
                <a:solidFill>
                  <a:srgbClr val="d8e1ec"/>
                </a:solidFill>
                <a:latin typeface="Palatino"/>
              </a:rPr>
              <a:t>subjects that come after the  verb</a:t>
            </a:r>
            <a:endParaRPr b="0" lang="en-US" sz="38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1557000"/>
            <a:ext cx="8964720" cy="51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and Here are never the subjects (s. after verb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There are the pape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estion words are normally not the subjects (subject is between the verb) exception – w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Why is he running?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rogative sentences usually pu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ubject between the ver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Are you going tonigh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positional phrases at the beginn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use an inverted subject (s. behind the verb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In the doorway stood the bo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3" descr="boy in a door.jpg"/>
          <p:cNvPicPr/>
          <p:nvPr/>
        </p:nvPicPr>
        <p:blipFill>
          <a:blip r:embed="rId1"/>
          <a:stretch/>
        </p:blipFill>
        <p:spPr>
          <a:xfrm>
            <a:off x="6084720" y="3429000"/>
            <a:ext cx="3059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Palatino"/>
              </a:rPr>
              <a:t>Complements – </a:t>
            </a:r>
            <a:br>
              <a:rPr sz="4400"/>
            </a:br>
            <a:r>
              <a:rPr b="0" lang="en-US" sz="4400" spc="-1" strike="noStrike">
                <a:solidFill>
                  <a:srgbClr val="d8e1ec"/>
                </a:solidFill>
                <a:latin typeface="Palatino"/>
              </a:rPr>
              <a:t>Complete the sentence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484280"/>
            <a:ext cx="9144000" cy="518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onnor threw. = incomplete sentenc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onnor threw the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ball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. = complet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ntence with a complemen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omplements answer the question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 “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hom or what?”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after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the verb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ubject Complements – complements that rename or describe the subjec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ubject complements are linked back to the subject by a linking verb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, is, are, was, were, be, being, b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ste, feel, smell, sound, look, appear, become, seem, grow, remain, st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3" descr="boy throwing football.jpg"/>
          <p:cNvPicPr/>
          <p:nvPr/>
        </p:nvPicPr>
        <p:blipFill>
          <a:blip r:embed="rId1"/>
          <a:stretch/>
        </p:blipFill>
        <p:spPr>
          <a:xfrm>
            <a:off x="6300720" y="1557360"/>
            <a:ext cx="28432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omplements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0" y="1483920"/>
            <a:ext cx="8964720" cy="504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dicate Nominative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es after a linking ver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a noun or a pronou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ject complement that renames the sub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  Mr. Castelow is our princip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nt : replace the verb with equ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dicate nominatives can nev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 in a prepositional phr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The gator is the mascot of our schoo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dicate nominatives may be compou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Our class leaders are Joe, Steve, and Eri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3" descr="gator.jpg"/>
          <p:cNvPicPr/>
          <p:nvPr/>
        </p:nvPicPr>
        <p:blipFill>
          <a:blip r:embed="rId1"/>
          <a:stretch/>
        </p:blipFill>
        <p:spPr>
          <a:xfrm>
            <a:off x="5940360" y="3645000"/>
            <a:ext cx="320364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05:36:26Z</dcterms:created>
  <dc:creator>Template Central</dc:creator>
  <dc:description/>
  <dc:language>en-US</dc:language>
  <cp:lastModifiedBy>Cynthia Crowder</cp:lastModifiedBy>
  <dcterms:modified xsi:type="dcterms:W3CDTF">2013-11-19T20:02:13Z</dcterms:modified>
  <cp:revision>283</cp:revision>
  <dc:subject/>
  <dc:title>Glowing puzzle pieces design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191</vt:lpwstr>
  </property>
  <property fmtid="{D5CDD505-2E9C-101B-9397-08002B2CF9AE}" pid="3" name="APEditor">
    <vt:lpwstr>92</vt:lpwstr>
  </property>
  <property fmtid="{D5CDD505-2E9C-101B-9397-08002B2CF9AE}" pid="4" name="APTrustLevel">
    <vt:lpwstr>1.00000000000000</vt:lpwstr>
  </property>
  <property fmtid="{D5CDD505-2E9C-101B-9397-08002B2CF9AE}" pid="5" name="AppVer">
    <vt:lpwstr/>
  </property>
  <property fmtid="{D5CDD505-2E9C-101B-9397-08002B2CF9AE}" pid="6" name="Applications">
    <vt:lpwstr>64;#PowerPoint 2003;#66;#PowerPoint - Design Templt 2003;#65;#Microsoft Office PowerPoint 2007;#67;#PowerPoint - Design Templt 12;#79;#Template 12</vt:lpwstr>
  </property>
  <property fmtid="{D5CDD505-2E9C-101B-9397-08002B2CF9AE}" pid="7" name="AssetId">
    <vt:lpwstr>TS001140799</vt:lpwstr>
  </property>
  <property fmtid="{D5CDD505-2E9C-101B-9397-08002B2CF9AE}" pid="8" name="AssetType">
    <vt:lpwstr>TP</vt:lpwstr>
  </property>
  <property fmtid="{D5CDD505-2E9C-101B-9397-08002B2CF9AE}" pid="9" name="AuthoringAssetId">
    <vt:lpwstr>TP001140799</vt:lpwstr>
  </property>
  <property fmtid="{D5CDD505-2E9C-101B-9397-08002B2CF9AE}" pid="10" name="BugNumber">
    <vt:lpwstr>492138L</vt:lpwstr>
  </property>
  <property fmtid="{D5CDD505-2E9C-101B-9397-08002B2CF9AE}" pid="11" name="Content Type">
    <vt:lpwstr>OOFile</vt:lpwstr>
  </property>
  <property fmtid="{D5CDD505-2E9C-101B-9397-08002B2CF9AE}" pid="12" name="ContentTypeId">
    <vt:lpwstr>0x0101006025706CF4CD034688BEBAE97A2E701D020200C3831ACA17D8814887A164412888521E</vt:lpwstr>
  </property>
  <property fmtid="{D5CDD505-2E9C-101B-9397-08002B2CF9AE}" pid="13" name="IsDeleted">
    <vt:lpwstr>0</vt:lpwstr>
  </property>
  <property fmtid="{D5CDD505-2E9C-101B-9397-08002B2CF9AE}" pid="14" name="IsSearchable">
    <vt:lpwstr>0</vt:lpwstr>
  </property>
  <property fmtid="{D5CDD505-2E9C-101B-9397-08002B2CF9AE}" pid="15" name="Markets">
    <vt:lpwstr/>
  </property>
  <property fmtid="{D5CDD505-2E9C-101B-9397-08002B2CF9AE}" pid="16" name="Milestone">
    <vt:lpwstr>Continuous</vt:lpwstr>
  </property>
  <property fmtid="{D5CDD505-2E9C-101B-9397-08002B2CF9AE}" pid="17" name="NumericAssetId">
    <vt:lpwstr/>
  </property>
  <property fmtid="{D5CDD505-2E9C-101B-9397-08002B2CF9AE}" pid="18" name="NumericId">
    <vt:lpwstr>-1.00000000000000</vt:lpwstr>
  </property>
  <property fmtid="{D5CDD505-2E9C-101B-9397-08002B2CF9AE}" pid="19" name="OpenTemplate">
    <vt:lpwstr>1</vt:lpwstr>
  </property>
  <property fmtid="{D5CDD505-2E9C-101B-9397-08002B2CF9AE}" pid="20" name="PrimaryImageGen">
    <vt:lpwstr>1</vt:lpwstr>
  </property>
  <property fmtid="{D5CDD505-2E9C-101B-9397-08002B2CF9AE}" pid="21" name="Provider">
    <vt:lpwstr>EY001142237</vt:lpwstr>
  </property>
  <property fmtid="{D5CDD505-2E9C-101B-9397-08002B2CF9AE}" pid="22" name="PublishStatusLookup">
    <vt:lpwstr>259473</vt:lpwstr>
  </property>
  <property fmtid="{D5CDD505-2E9C-101B-9397-08002B2CF9AE}" pid="23" name="PublishTargets">
    <vt:lpwstr>OfficeOnline</vt:lpwstr>
  </property>
  <property fmtid="{D5CDD505-2E9C-101B-9397-08002B2CF9AE}" pid="24" name="ShowIn">
    <vt:lpwstr>Show everywhere</vt:lpwstr>
  </property>
  <property fmtid="{D5CDD505-2E9C-101B-9397-08002B2CF9AE}" pid="25" name="SourceTitle">
    <vt:lpwstr>Glowing puzzle pieces design template</vt:lpwstr>
  </property>
  <property fmtid="{D5CDD505-2E9C-101B-9397-08002B2CF9AE}" pid="26" name="TPAppVersion">
    <vt:lpwstr>11</vt:lpwstr>
  </property>
  <property fmtid="{D5CDD505-2E9C-101B-9397-08002B2CF9AE}" pid="27" name="TPApplication">
    <vt:lpwstr>PowerPoint</vt:lpwstr>
  </property>
  <property fmtid="{D5CDD505-2E9C-101B-9397-08002B2CF9AE}" pid="28" name="TPClientViewer">
    <vt:lpwstr>Microsoft Office PowerPoint</vt:lpwstr>
  </property>
  <property fmtid="{D5CDD505-2E9C-101B-9397-08002B2CF9AE}" pid="29" name="TPCommandLine">
    <vt:lpwstr>{PP} {FilePath}</vt:lpwstr>
  </property>
  <property fmtid="{D5CDD505-2E9C-101B-9397-08002B2CF9AE}" pid="30" name="TPComponent">
    <vt:lpwstr>PPTFiles</vt:lpwstr>
  </property>
  <property fmtid="{D5CDD505-2E9C-101B-9397-08002B2CF9AE}" pid="31" name="TPFriendlyName">
    <vt:lpwstr>Glowing puzzle pieces design template</vt:lpwstr>
  </property>
  <property fmtid="{D5CDD505-2E9C-101B-9397-08002B2CF9AE}" pid="32" name="TPInstallLocation">
    <vt:lpwstr>{Document Themes}</vt:lpwstr>
  </property>
  <property fmtid="{D5CDD505-2E9C-101B-9397-08002B2CF9AE}" pid="33" name="TPLaunchHelpLink">
    <vt:lpwstr/>
  </property>
  <property fmtid="{D5CDD505-2E9C-101B-9397-08002B2CF9AE}" pid="34" name="TPLaunchHelpLinkType">
    <vt:lpwstr>Template</vt:lpwstr>
  </property>
  <property fmtid="{D5CDD505-2E9C-101B-9397-08002B2CF9AE}" pid="35" name="TPNamespace">
    <vt:lpwstr>POWERPNT</vt:lpwstr>
  </property>
  <property fmtid="{D5CDD505-2E9C-101B-9397-08002B2CF9AE}" pid="36" name="TemplateStatus">
    <vt:lpwstr>Complete</vt:lpwstr>
  </property>
  <property fmtid="{D5CDD505-2E9C-101B-9397-08002B2CF9AE}" pid="37" name="TrustLevel">
    <vt:lpwstr>Microsoft Managed Content</vt:lpwstr>
  </property>
  <property fmtid="{D5CDD505-2E9C-101B-9397-08002B2CF9AE}" pid="38" name="UACurrentWords">
    <vt:lpwstr>0</vt:lpwstr>
  </property>
  <property fmtid="{D5CDD505-2E9C-101B-9397-08002B2CF9AE}" pid="39" name="UALocRecommendation">
    <vt:lpwstr>Localize</vt:lpwstr>
  </property>
  <property fmtid="{D5CDD505-2E9C-101B-9397-08002B2CF9AE}" pid="40" name="UANotes">
    <vt:lpwstr>Text is visible in high contrast mode, but graphics are not. </vt:lpwstr>
  </property>
  <property fmtid="{D5CDD505-2E9C-101B-9397-08002B2CF9AE}" pid="41" name="display_urn:schemas-microsoft-com:office:office#APAuthor">
    <vt:lpwstr>REDMOND\cynvey</vt:lpwstr>
  </property>
  <property fmtid="{D5CDD505-2E9C-101B-9397-08002B2CF9AE}" pid="42" name="display_urn:schemas-microsoft-com:office:office#APEditor">
    <vt:lpwstr>REDMOND\v-luannv</vt:lpwstr>
  </property>
</Properties>
</file>