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008A-E66D-41BC-AFD7-90C2E6A0D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9DA6-EE64-4EB7-9158-40F671ACF9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89A-C95F-480C-A05A-8EEB4FE9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89F-3DBE-4160-A4B9-AF1047A9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1A4-CA1E-4A9E-9846-2FD7D16B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C9A-AB4A-47A9-A9D0-785624AB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407A-107D-477B-8461-F3B8A824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E6E0-898B-4676-B3FE-9F41ADE9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1F17-2719-4BFB-B222-99A1A9DA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A0B2-5B45-490B-BEB6-26EE734B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3A0F-8E26-4FF7-AA38-71C5F57A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AFEA-F616-414F-9AFB-DE32DF7D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E62F-1CCF-4618-9E65-FEF4003C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4EB-5CA8-4AEA-8EE1-377C3404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5308-971B-42E4-B393-6E04034A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66AC-9BC5-4547-8421-6C6F9650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7EDB-18B1-413C-825A-98655D7A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C482-3DA1-4229-8EC3-89ADB765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AE58-0E8D-46BF-9D6B-745066AE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8FD-D90C-429B-A6A0-87D24787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2D5-F2E9-4B8E-A2CF-6071EBC5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C7C-665A-4245-8B59-9FA818D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108-21C1-446D-A076-5BC6EFF7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F8F-9624-4862-9C1B-88C1A915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B03-12BB-4592-B8AE-796E0AF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8BE-0069-48AE-84E8-5B31501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94C7-476D-4D5F-A818-A3435C107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3230-288F-4B1D-9EB0-A3D525307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arts of the Senten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6021000"/>
            <a:ext cx="815472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ting the pieces of the sentenc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ate Adjective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s after a linking ver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n ad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 complement that describes the 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The cat is blac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 The cat felt sof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ate adjectives can never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 snail felt slimy on his be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ate adjectives may be comp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 soup tasted salty but g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black cat.jpg"/>
          <p:cNvPicPr/>
          <p:nvPr/>
        </p:nvPicPr>
        <p:blipFill>
          <a:blip r:embed="rId1"/>
          <a:srcRect l="2739" t="0" r="0" b="7559"/>
          <a:stretch/>
        </p:blipFill>
        <p:spPr>
          <a:xfrm>
            <a:off x="6300720" y="3716280"/>
            <a:ext cx="28432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84280"/>
            <a:ext cx="9144000" cy="489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 Object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s after an action ver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 noun or pro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Rachel ran the extreme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d r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The boy kicked him off of the tall buil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Objects can never be 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 teacher read the assignment from the boo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Objects may be comp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Stone baked the teacher a cake and cook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boy kicked off building.jpg"/>
          <p:cNvPicPr/>
          <p:nvPr/>
        </p:nvPicPr>
        <p:blipFill>
          <a:blip r:embed="rId1"/>
          <a:srcRect l="0" t="7884" r="0" b="8529"/>
          <a:stretch/>
        </p:blipFill>
        <p:spPr>
          <a:xfrm>
            <a:off x="5867280" y="0"/>
            <a:ext cx="327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rect Object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omes between an action verb and the direct object  = S.  A.V.  I.O.  D.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 noun or pro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s the questions “to whom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whom, to what, or for what?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direct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Mrs. Cappalo  gave Sally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how Ch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Sally accepted Mrs. Cappalo’s Chow Ch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Chow Chow.jpg"/>
          <p:cNvPicPr/>
          <p:nvPr/>
        </p:nvPicPr>
        <p:blipFill>
          <a:blip r:embed="rId1"/>
          <a:stretch/>
        </p:blipFill>
        <p:spPr>
          <a:xfrm>
            <a:off x="6372360" y="2852640"/>
            <a:ext cx="2771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252720" y="1773360"/>
            <a:ext cx="9217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rect Objects can never be 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Jennifer gave Christ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ook for Christ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Jennifer gave a boo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Christina for Christ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ndirect Objects may be comp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I threw Trent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xton the footb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christmas tree with presents.jpg"/>
          <p:cNvPicPr/>
          <p:nvPr/>
        </p:nvPicPr>
        <p:blipFill>
          <a:blip r:embed="rId1"/>
          <a:stretch/>
        </p:blipFill>
        <p:spPr>
          <a:xfrm>
            <a:off x="6084720" y="2565360"/>
            <a:ext cx="3059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" y="26028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entence Pattern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773360"/>
            <a:ext cx="8640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.    A.V.     D.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ylor ate the can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.     A.V.    I.O.              D.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yn gave Fischer a Hershey Ki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.    L.V.    P.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ron was a diver who looked for sculpt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.        L.V.   P.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nderwater sculpture looked r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572000" y="22320"/>
            <a:ext cx="486252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Palatino"/>
              </a:rPr>
              <a:t>SENTENC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ntence = subject, verb, and complete though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ent to the stor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ragment = anything marked as a sentence that is not a complete though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cause he wanted a candy b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boy sitting at the desk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rrect Fragments by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Adding a sentence to the frag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cause he wanted a candy bar, John asked his mom for mon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Connecting it to another whole senten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cause he wanted a candy bar, he went to the sto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Adding the missing eleme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boy sitting at the desk made an A on his pap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andybar.jpg"/>
          <p:cNvPicPr/>
          <p:nvPr/>
        </p:nvPicPr>
        <p:blipFill>
          <a:blip r:embed="rId1"/>
          <a:stretch/>
        </p:blipFill>
        <p:spPr>
          <a:xfrm>
            <a:off x="5580000" y="2852640"/>
            <a:ext cx="3564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6327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Objects of the Prepositio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 of the preposi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un or pronoun that 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end of the prepositional ph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 The car in front of the hou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a birthday present for 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of the preposition can be comp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bs do not come in a prepositional ph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 He wanted to go to the store, the park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i’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sports car with bow.png"/>
          <p:cNvPicPr/>
          <p:nvPr/>
        </p:nvPicPr>
        <p:blipFill>
          <a:blip r:embed="rId1"/>
          <a:stretch/>
        </p:blipFill>
        <p:spPr>
          <a:xfrm>
            <a:off x="6743880" y="11970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27236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ouns of Direct Addres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n of direct address – the person the sentence is directed to / the person who is being addres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D.A. is set off by com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n, are you going to the game tomorr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and Tom, put your pens down on your des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 is the leader of the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you want to ride with us to the game, Christin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want, Taylor, for dinner tonigh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ppositiv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920" y="1699920"/>
            <a:ext cx="835344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sit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o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s behind or to the right of another 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names the noun before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un =  noun (appositive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Mary Wollstonecraft Shelle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ote the science fi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 Frankenste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frankenstein.jpg"/>
          <p:cNvPicPr/>
          <p:nvPr/>
        </p:nvPicPr>
        <p:blipFill>
          <a:blip r:embed="rId1"/>
          <a:stretch/>
        </p:blipFill>
        <p:spPr>
          <a:xfrm>
            <a:off x="6114960" y="4149720"/>
            <a:ext cx="3029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ppositiv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773360"/>
            <a:ext cx="8424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sitives are similar to Predicate Nominatives except for the linking ver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Grace is the captain of the volleyball t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Grace, the captain of the volleyball team, is an excellent set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sang the song “O Ho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ght” for the Christmas pl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o holy night 2.jpg"/>
          <p:cNvPicPr/>
          <p:nvPr/>
        </p:nvPicPr>
        <p:blipFill>
          <a:blip r:embed="rId1"/>
          <a:stretch/>
        </p:blipFill>
        <p:spPr>
          <a:xfrm>
            <a:off x="5796000" y="3860640"/>
            <a:ext cx="3348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arts of the Senten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major difference between the parts of speech and the parts of the sentence is the jobs of the nouns and pronou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ch noun and pronoun in a sentence has its own jo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BS OF THE NOUNS AND PRONOUNS =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rect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ate Nomin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 of the Pre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un of Direct Add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osi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3" descr="the butcher, the baker, the candlestick maker.jpg"/>
          <p:cNvPicPr/>
          <p:nvPr/>
        </p:nvPicPr>
        <p:blipFill>
          <a:blip r:embed="rId1"/>
          <a:stretch/>
        </p:blipFill>
        <p:spPr>
          <a:xfrm>
            <a:off x="4500720" y="3716280"/>
            <a:ext cx="4392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rah are you coming to the part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is coming with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you to help me decorate the main room for the party M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be John and Sarah will sit together at the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ypes of Sentenc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773360"/>
            <a:ext cx="91440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Declarative – makes a statement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s with a peri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on the varsity t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Interrogative sentence – as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question and ends with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 m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are you going on vaca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 going to Paris to see the Eiffel Tow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eiffel tower.png"/>
          <p:cNvPicPr/>
          <p:nvPr/>
        </p:nvPicPr>
        <p:blipFill>
          <a:blip r:embed="rId1"/>
          <a:stretch/>
        </p:blipFill>
        <p:spPr>
          <a:xfrm>
            <a:off x="6516720" y="2349360"/>
            <a:ext cx="262728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ypes of Sentenc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Imperative sentence – gives a command 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s a polite request and ends with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 or sometimes an exclamation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d me that paper.  Stop hitting him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Exclamatory – expresses stro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 and ends with 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amation point; some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start with a question wo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is not asking a qu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n interesting paint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the wedding of st. george and princess sabra.jpg"/>
          <p:cNvPicPr/>
          <p:nvPr/>
        </p:nvPicPr>
        <p:blipFill>
          <a:blip r:embed="rId1"/>
          <a:stretch/>
        </p:blipFill>
        <p:spPr>
          <a:xfrm>
            <a:off x="6084720" y="3068640"/>
            <a:ext cx="30592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Run-on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557360"/>
            <a:ext cx="9144000" cy="49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un-on sentence is two or more sentences that are put together incor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He went to the store, he bought a gallon of milk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parate them into two senten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 went to the store . He bought a gallon of milk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 a comma and a conjunction (and, but, or, nor, for, yet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 went to the store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and he bought a gallon of milk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 a semicolon between the two senten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 went to the store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 bought a gallon of milk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arts of the Senten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eps to marking the parts of the sente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Mark the prepositional phrases and the objects of th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osi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Find and mark the verb by looking for an action verb or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b on the verb l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Find and mark the su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Find and mark the compl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Mark nouns of direct address and apposi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Mark all other words as eith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jectives           Conjunc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verbs              Interjec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7273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ubjec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= Noun/Pronou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8920" y="1628280"/>
            <a:ext cx="8713800" cy="50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– the part of the sentence about which something is being 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bject is never 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bject normally comes before the ver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subject by asking who 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before the ver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 The dog in the picture jump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or what jump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" descr="dog jumping a fence.jpg"/>
          <p:cNvPicPr/>
          <p:nvPr/>
        </p:nvPicPr>
        <p:blipFill>
          <a:blip r:embed="rId1"/>
          <a:stretch/>
        </p:blipFill>
        <p:spPr>
          <a:xfrm>
            <a:off x="6804000" y="3789360"/>
            <a:ext cx="234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7129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ubjec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= Noun/Pronou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1844280"/>
            <a:ext cx="7777080" cy="48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derstood 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as the subject = imperative sentences  (sentences that give a comman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: Hand me that pap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: Give me the answer and then you can go to lunc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bjects can be compound when they are joined by a conjunc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. In front of the school, the red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pact car and the dump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uck collide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car and dump truck collision.jpg"/>
          <p:cNvPicPr/>
          <p:nvPr/>
        </p:nvPicPr>
        <p:blipFill>
          <a:blip r:embed="rId1"/>
          <a:srcRect l="32136" t="0" r="0" b="0"/>
          <a:stretch/>
        </p:blipFill>
        <p:spPr>
          <a:xfrm>
            <a:off x="5838840" y="4714920"/>
            <a:ext cx="3305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72007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ubjec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= Noun/Pronou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916280"/>
            <a:ext cx="8893080" cy="47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 and Tim went to the sto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quickly found  the candy ais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ile the boys were in the store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cumbersome display crashed to the groun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manager thought that the boys hit the display and caused it to fal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t out of my store,” the manager yell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3" descr="candy aisle.jpg"/>
          <p:cNvPicPr/>
          <p:nvPr/>
        </p:nvPicPr>
        <p:blipFill>
          <a:blip r:embed="rId1"/>
          <a:stretch/>
        </p:blipFill>
        <p:spPr>
          <a:xfrm>
            <a:off x="6300720" y="1628640"/>
            <a:ext cx="28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8edf2"/>
                </a:solidFill>
                <a:latin typeface="Palatino"/>
              </a:rPr>
              <a:t>Inverted subjects = </a:t>
            </a:r>
            <a:br>
              <a:rPr sz="3800"/>
            </a:br>
            <a:r>
              <a:rPr b="0" lang="en-US" sz="3800" spc="-1" strike="noStrike">
                <a:solidFill>
                  <a:srgbClr val="d8e1ec"/>
                </a:solidFill>
                <a:latin typeface="Palatino"/>
              </a:rPr>
              <a:t>subjects that come after the  verb</a:t>
            </a:r>
            <a:endParaRPr b="0" lang="en-US" sz="3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557000"/>
            <a:ext cx="89647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nd Here are never the subjects (s. after ver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re are the pa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 words are normally not the subjects (subject is between the verb) exception – w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Why is he running?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rogative sentences usually pu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bject between the ver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Are you going tonigh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ositional phrases at the begi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an inverted subject (s. behind the ver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In the doorway stood the bo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" descr="boy in a door.jpg"/>
          <p:cNvPicPr/>
          <p:nvPr/>
        </p:nvPicPr>
        <p:blipFill>
          <a:blip r:embed="rId1"/>
          <a:stretch/>
        </p:blipFill>
        <p:spPr>
          <a:xfrm>
            <a:off x="6084720" y="3429000"/>
            <a:ext cx="3059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Palatino"/>
              </a:rPr>
              <a:t>Complements – </a:t>
            </a:r>
            <a:br>
              <a:rPr sz="4400"/>
            </a:br>
            <a:r>
              <a:rPr b="0" lang="en-US" sz="4400" spc="-1" strike="noStrike">
                <a:solidFill>
                  <a:srgbClr val="d8e1ec"/>
                </a:solidFill>
                <a:latin typeface="Palatino"/>
              </a:rPr>
              <a:t>Complete the senten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nor threw. = incomplete sente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nor threw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bal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 = complet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ntence with a comple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ments answer the question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om or what?”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afte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the ver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bject Complements – complements that rename or describe the subjec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bject complements are linked back to the subject by a linking ver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, is, are, was, were, be, being, b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te, feel, smell, sound, look, appear, become, seem, grow, remain, st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boy throwing football.jpg"/>
          <p:cNvPicPr/>
          <p:nvPr/>
        </p:nvPicPr>
        <p:blipFill>
          <a:blip r:embed="rId1"/>
          <a:stretch/>
        </p:blipFill>
        <p:spPr>
          <a:xfrm>
            <a:off x="6300720" y="1557360"/>
            <a:ext cx="2843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omplement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483920"/>
            <a:ext cx="8964720" cy="50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ate Nominative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s after a linking ver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 noun or a pro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 complement that renames the 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 Mr. Castelow is our princip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nt : replace the verb with equ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ate nominatives can nev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in a prepositional phr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The gator is the mascot of our scho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ate nominatives may be comp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Our class leaders are Joe, Steve, and Er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gator.jpg"/>
          <p:cNvPicPr/>
          <p:nvPr/>
        </p:nvPicPr>
        <p:blipFill>
          <a:blip r:embed="rId1"/>
          <a:stretch/>
        </p:blipFill>
        <p:spPr>
          <a:xfrm>
            <a:off x="5940360" y="3645000"/>
            <a:ext cx="3203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5:36:26Z</dcterms:created>
  <dc:creator>Template Central</dc:creator>
  <dc:description/>
  <dc:language>en-US</dc:language>
  <cp:lastModifiedBy>Cynthia Crowder</cp:lastModifiedBy>
  <dcterms:modified xsi:type="dcterms:W3CDTF">2013-11-19T20:02:13Z</dcterms:modified>
  <cp:revision>283</cp:revision>
  <dc:subject/>
  <dc:title>Glowing puzzle piece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Ver">
    <vt:lpwstr/>
  </property>
  <property fmtid="{D5CDD505-2E9C-101B-9397-08002B2CF9AE}" pid="6" name="Applications">
    <vt:lpwstr>64;#PowerPoint 2003;#66;#PowerPoint - Design Templt 2003;#65;#Microsoft Office PowerPoint 2007;#67;#PowerPoint - Design Templt 12;#79;#Template 12</vt:lpwstr>
  </property>
  <property fmtid="{D5CDD505-2E9C-101B-9397-08002B2CF9AE}" pid="7" name="AssetId">
    <vt:lpwstr>TS001140799</vt:lpwstr>
  </property>
  <property fmtid="{D5CDD505-2E9C-101B-9397-08002B2CF9AE}" pid="8" name="AssetType">
    <vt:lpwstr>TP</vt:lpwstr>
  </property>
  <property fmtid="{D5CDD505-2E9C-101B-9397-08002B2CF9AE}" pid="9" name="AuthoringAssetId">
    <vt:lpwstr>TP001140799</vt:lpwstr>
  </property>
  <property fmtid="{D5CDD505-2E9C-101B-9397-08002B2CF9AE}" pid="10" name="BugNumber">
    <vt:lpwstr>492138L</vt:lpwstr>
  </property>
  <property fmtid="{D5CDD505-2E9C-101B-9397-08002B2CF9AE}" pid="11" name="Content Type">
    <vt:lpwstr>OOFile</vt:lpwstr>
  </property>
  <property fmtid="{D5CDD505-2E9C-101B-9397-08002B2CF9AE}" pid="12" name="ContentTypeId">
    <vt:lpwstr>0x0101006025706CF4CD034688BEBAE97A2E701D020200C3831ACA17D8814887A164412888521E</vt:lpwstr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Markets">
    <vt:lpwstr/>
  </property>
  <property fmtid="{D5CDD505-2E9C-101B-9397-08002B2CF9AE}" pid="16" name="Milestone">
    <vt:lpwstr>Continuous</vt:lpwstr>
  </property>
  <property fmtid="{D5CDD505-2E9C-101B-9397-08002B2CF9AE}" pid="17" name="NumericAssetId">
    <vt:lpwstr/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PrimaryImageGen">
    <vt:lpwstr>1</vt:lpwstr>
  </property>
  <property fmtid="{D5CDD505-2E9C-101B-9397-08002B2CF9AE}" pid="21" name="Provider">
    <vt:lpwstr>EY001142237</vt:lpwstr>
  </property>
  <property fmtid="{D5CDD505-2E9C-101B-9397-08002B2CF9AE}" pid="22" name="PublishStatusLookup">
    <vt:lpwstr>259473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Glowing puzzle pieces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lientViewer">
    <vt:lpwstr>Microsoft Office PowerPoint</vt:lpwstr>
  </property>
  <property fmtid="{D5CDD505-2E9C-101B-9397-08002B2CF9AE}" pid="29" name="TPCommandLine">
    <vt:lpwstr>{PP} {FilePath}</vt:lpwstr>
  </property>
  <property fmtid="{D5CDD505-2E9C-101B-9397-08002B2CF9AE}" pid="30" name="TPComponent">
    <vt:lpwstr>PPTFiles</vt:lpwstr>
  </property>
  <property fmtid="{D5CDD505-2E9C-101B-9397-08002B2CF9AE}" pid="31" name="TPFriendlyName">
    <vt:lpwstr>Glowing puzzle pieces design template</vt:lpwstr>
  </property>
  <property fmtid="{D5CDD505-2E9C-101B-9397-08002B2CF9AE}" pid="32" name="TPInstallLocation">
    <vt:lpwstr>{Document Themes}</vt:lpwstr>
  </property>
  <property fmtid="{D5CDD505-2E9C-101B-9397-08002B2CF9AE}" pid="33" name="TPLaunchHelpLink">
    <vt:lpwstr/>
  </property>
  <property fmtid="{D5CDD505-2E9C-101B-9397-08002B2CF9AE}" pid="34" name="TPLaunchHelpLinkType">
    <vt:lpwstr>Template</vt:lpwstr>
  </property>
  <property fmtid="{D5CDD505-2E9C-101B-9397-08002B2CF9AE}" pid="35" name="TPNamespace">
    <vt:lpwstr>POWERPNT</vt:lpwstr>
  </property>
  <property fmtid="{D5CDD505-2E9C-101B-9397-08002B2CF9AE}" pid="36" name="TemplateStatus">
    <vt:lpwstr>Complete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Recommendation">
    <vt:lpwstr>Localize</vt:lpwstr>
  </property>
  <property fmtid="{D5CDD505-2E9C-101B-9397-08002B2CF9AE}" pid="40" name="UANotes">
    <vt:lpwstr>Text is visible in high contrast mode, but graphics are not. </vt:lpwstr>
  </property>
  <property fmtid="{D5CDD505-2E9C-101B-9397-08002B2CF9AE}" pid="41" name="display_urn:schemas-microsoft-com:office:office#APAuthor">
    <vt:lpwstr>REDMOND\cynvey</vt:lpwstr>
  </property>
  <property fmtid="{D5CDD505-2E9C-101B-9397-08002B2CF9AE}" pid="42" name="display_urn:schemas-microsoft-com:office:office#APEditor">
    <vt:lpwstr>REDMOND\v-luannv</vt:lpwstr>
  </property>
</Properties>
</file>