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540CD37C-A787-43D9-9338-D76ED3BA2092}" type="slidenum">
              <a:rPr b="0" lang="en-US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1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B64E8BEE-9B66-4C4C-941B-1219DCF1539D}" type="slidenum">
              <a:rPr b="0" lang="en-US" sz="1200" spc="-1" strike="noStrike">
                <a:solidFill>
                  <a:srgbClr val="b4b4b4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692280" y="1143000"/>
            <a:ext cx="5457600" cy="307008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70560" cy="35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endParaRPr b="0" lang="en-US" sz="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646-A8E8-45E8-8952-DC790012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DBC-796C-4C20-813D-B7D729F2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B72-CDD8-43CE-836E-7EC769C7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BA5-1D58-4BC3-BACE-6B1F90DF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B13-5F0C-41C3-95BB-B6CE47DB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3A7-44B4-4FAE-B7C2-B18C4FBA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B9D-6F4C-4457-8B1A-5A7CC459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A2B-2C5D-4EA8-B877-0D44D5A2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3C3-C25F-4984-93AE-3432B1B3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838-17E7-48EB-9931-B597615B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E28-0D19-4528-B205-56B4203E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E17-7840-48A3-A17F-E10D1DF8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73.xml"/><Relationship Id="rId21" Type="http://schemas.openxmlformats.org/officeDocument/2006/relationships/slideLayout" Target="../slideLayouts/slideLayout74.xml"/><Relationship Id="rId22" Type="http://schemas.openxmlformats.org/officeDocument/2006/relationships/slideLayout" Target="../slideLayouts/slideLayout75.xml"/><Relationship Id="rId23" Type="http://schemas.openxmlformats.org/officeDocument/2006/relationships/slideLayout" Target="../slideLayouts/slideLayout76.xml"/><Relationship Id="rId24" Type="http://schemas.openxmlformats.org/officeDocument/2006/relationships/slideLayout" Target="../slideLayouts/slideLayout77.xml"/><Relationship Id="rId25" Type="http://schemas.openxmlformats.org/officeDocument/2006/relationships/slideLayout" Target="../slideLayouts/slideLayout78.xml"/><Relationship Id="rId26" Type="http://schemas.openxmlformats.org/officeDocument/2006/relationships/slideLayout" Target="../slideLayouts/slideLayout79.xml"/><Relationship Id="rId27" Type="http://schemas.openxmlformats.org/officeDocument/2006/relationships/slideLayout" Target="../slideLayouts/slideLayout80.xml"/><Relationship Id="rId28" Type="http://schemas.openxmlformats.org/officeDocument/2006/relationships/slideLayout" Target="../slideLayouts/slideLayout81.xml"/><Relationship Id="rId29" Type="http://schemas.openxmlformats.org/officeDocument/2006/relationships/slideLayout" Target="../slideLayouts/slideLayout82.xml"/><Relationship Id="rId30" Type="http://schemas.openxmlformats.org/officeDocument/2006/relationships/slideLayout" Target="../slideLayouts/slideLayout83.xml"/><Relationship Id="rId3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cacac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cacac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cacac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EC5701E8-AFDD-4137-8D1B-8102479C2322}" type="slidenum">
              <a:rPr b="0" lang="en-US" sz="900" spc="-1" strike="noStrike">
                <a:solidFill>
                  <a:srgbClr val="cacac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6"/>
          <p:cNvGrpSpPr/>
          <p:nvPr/>
        </p:nvGrpSpPr>
        <p:grpSpPr>
          <a:xfrm>
            <a:off x="-266760" y="-88920"/>
            <a:ext cx="1455840" cy="5226120"/>
            <a:chOff x="-266760" y="-88920"/>
            <a:chExt cx="1455840" cy="5226120"/>
          </a:xfrm>
        </p:grpSpPr>
        <p:sp>
          <p:nvSpPr>
            <p:cNvPr id="472" name="Freeform 4106"/>
            <p:cNvSpPr/>
            <p:nvPr/>
          </p:nvSpPr>
          <p:spPr>
            <a:xfrm rot="21271800">
              <a:off x="-182520" y="2908440"/>
              <a:ext cx="428400" cy="67968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473" name="Group 8" descr=""/>
            <p:cNvPicPr/>
            <p:nvPr/>
          </p:nvPicPr>
          <p:blipFill>
            <a:blip r:embed="rId2"/>
            <a:stretch/>
          </p:blipFill>
          <p:spPr>
            <a:xfrm>
              <a:off x="458280" y="4779720"/>
              <a:ext cx="63972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Group 9" descr=""/>
            <p:cNvPicPr/>
            <p:nvPr/>
          </p:nvPicPr>
          <p:blipFill>
            <a:blip r:embed="rId3"/>
            <a:stretch/>
          </p:blipFill>
          <p:spPr>
            <a:xfrm>
              <a:off x="-266760" y="252720"/>
              <a:ext cx="584640" cy="5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Group 10" descr=""/>
            <p:cNvPicPr/>
            <p:nvPr/>
          </p:nvPicPr>
          <p:blipFill>
            <a:blip r:embed="rId4"/>
            <a:stretch/>
          </p:blipFill>
          <p:spPr>
            <a:xfrm>
              <a:off x="476280" y="-88920"/>
              <a:ext cx="71280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Group 11" descr=""/>
            <p:cNvPicPr/>
            <p:nvPr/>
          </p:nvPicPr>
          <p:blipFill>
            <a:blip r:embed="rId5"/>
            <a:stretch/>
          </p:blipFill>
          <p:spPr>
            <a:xfrm>
              <a:off x="129240" y="685800"/>
              <a:ext cx="822240" cy="6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Group 12" descr=""/>
            <p:cNvPicPr/>
            <p:nvPr/>
          </p:nvPicPr>
          <p:blipFill>
            <a:blip r:embed="rId6"/>
            <a:stretch/>
          </p:blipFill>
          <p:spPr>
            <a:xfrm>
              <a:off x="720000" y="2973600"/>
              <a:ext cx="37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Freeform 120"/>
            <p:cNvSpPr/>
            <p:nvPr/>
          </p:nvSpPr>
          <p:spPr>
            <a:xfrm>
              <a:off x="19440" y="1416960"/>
              <a:ext cx="464760" cy="4435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479" name="Group 14" descr=""/>
            <p:cNvPicPr/>
            <p:nvPr/>
          </p:nvPicPr>
          <p:blipFill>
            <a:blip r:embed="rId7"/>
            <a:stretch/>
          </p:blipFill>
          <p:spPr>
            <a:xfrm>
              <a:off x="104760" y="2985840"/>
              <a:ext cx="4262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Freeform 126"/>
            <p:cNvSpPr/>
            <p:nvPr/>
          </p:nvSpPr>
          <p:spPr>
            <a:xfrm>
              <a:off x="-73080" y="2386800"/>
              <a:ext cx="528120" cy="4370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481" name="Freeform 127"/>
            <p:cNvSpPr/>
            <p:nvPr/>
          </p:nvSpPr>
          <p:spPr>
            <a:xfrm>
              <a:off x="-17280" y="4739040"/>
              <a:ext cx="400320" cy="39816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482" name="Group 17" descr=""/>
            <p:cNvPicPr/>
            <p:nvPr/>
          </p:nvPicPr>
          <p:blipFill>
            <a:blip r:embed="rId8"/>
            <a:stretch/>
          </p:blipFill>
          <p:spPr>
            <a:xfrm>
              <a:off x="537480" y="2497680"/>
              <a:ext cx="420120" cy="4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Freeform 146"/>
            <p:cNvSpPr/>
            <p:nvPr/>
          </p:nvSpPr>
          <p:spPr>
            <a:xfrm>
              <a:off x="4320" y="4083840"/>
              <a:ext cx="369360" cy="40464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484" name="Group 19" descr=""/>
            <p:cNvPicPr/>
            <p:nvPr/>
          </p:nvPicPr>
          <p:blipFill>
            <a:blip r:embed="rId9"/>
            <a:stretch/>
          </p:blipFill>
          <p:spPr>
            <a:xfrm>
              <a:off x="446040" y="3772800"/>
              <a:ext cx="621360" cy="9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Freeform 20"/>
            <p:cNvSpPr/>
            <p:nvPr/>
          </p:nvSpPr>
          <p:spPr>
            <a:xfrm>
              <a:off x="344520" y="1671480"/>
              <a:ext cx="592920" cy="67896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486" name="Freeform 21"/>
            <p:cNvSpPr/>
            <p:nvPr/>
          </p:nvSpPr>
          <p:spPr>
            <a:xfrm>
              <a:off x="177840" y="3476880"/>
              <a:ext cx="475560" cy="52416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487" name="Freeform 69"/>
            <p:cNvSpPr/>
            <p:nvPr/>
          </p:nvSpPr>
          <p:spPr>
            <a:xfrm>
              <a:off x="793080" y="1228680"/>
              <a:ext cx="280080" cy="4485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488" name="Group 23" descr=""/>
            <p:cNvPicPr/>
            <p:nvPr/>
          </p:nvPicPr>
          <p:blipFill>
            <a:blip r:embed="rId10"/>
            <a:stretch/>
          </p:blipFill>
          <p:spPr>
            <a:xfrm>
              <a:off x="-59400" y="1960920"/>
              <a:ext cx="389880" cy="44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6"/>
          <p:cNvGrpSpPr/>
          <p:nvPr/>
        </p:nvGrpSpPr>
        <p:grpSpPr>
          <a:xfrm>
            <a:off x="7831080" y="-11160"/>
            <a:ext cx="1455840" cy="5222880"/>
            <a:chOff x="7831080" y="-11160"/>
            <a:chExt cx="1455840" cy="5222880"/>
          </a:xfrm>
        </p:grpSpPr>
        <p:sp>
          <p:nvSpPr>
            <p:cNvPr id="528" name="Freeform 4106"/>
            <p:cNvSpPr/>
            <p:nvPr/>
          </p:nvSpPr>
          <p:spPr>
            <a:xfrm rot="21271800">
              <a:off x="7911360" y="512280"/>
              <a:ext cx="430200" cy="68220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529" name="Group 8" descr=""/>
            <p:cNvPicPr/>
            <p:nvPr/>
          </p:nvPicPr>
          <p:blipFill>
            <a:blip r:embed="rId2"/>
            <a:stretch/>
          </p:blipFill>
          <p:spPr>
            <a:xfrm>
              <a:off x="8552880" y="2388600"/>
              <a:ext cx="642240" cy="2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Group 9" descr=""/>
            <p:cNvPicPr/>
            <p:nvPr/>
          </p:nvPicPr>
          <p:blipFill>
            <a:blip r:embed="rId3"/>
            <a:stretch/>
          </p:blipFill>
          <p:spPr>
            <a:xfrm>
              <a:off x="7831080" y="3044160"/>
              <a:ext cx="581040" cy="5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Group 10" descr=""/>
            <p:cNvPicPr/>
            <p:nvPr/>
          </p:nvPicPr>
          <p:blipFill>
            <a:blip r:embed="rId4"/>
            <a:stretch/>
          </p:blipFill>
          <p:spPr>
            <a:xfrm>
              <a:off x="8577360" y="2701080"/>
              <a:ext cx="70956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Group 11" descr=""/>
            <p:cNvPicPr/>
            <p:nvPr/>
          </p:nvPicPr>
          <p:blipFill>
            <a:blip r:embed="rId5"/>
            <a:stretch/>
          </p:blipFill>
          <p:spPr>
            <a:xfrm>
              <a:off x="8228520" y="3484800"/>
              <a:ext cx="819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Group 12" descr=""/>
            <p:cNvPicPr/>
            <p:nvPr/>
          </p:nvPicPr>
          <p:blipFill>
            <a:blip r:embed="rId6"/>
            <a:stretch/>
          </p:blipFill>
          <p:spPr>
            <a:xfrm>
              <a:off x="8822160" y="576000"/>
              <a:ext cx="372960" cy="65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Freeform 120"/>
            <p:cNvSpPr/>
            <p:nvPr/>
          </p:nvSpPr>
          <p:spPr>
            <a:xfrm>
              <a:off x="8115120" y="4217040"/>
              <a:ext cx="466920" cy="4453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535" name="Group 14" descr=""/>
            <p:cNvPicPr/>
            <p:nvPr/>
          </p:nvPicPr>
          <p:blipFill>
            <a:blip r:embed="rId7"/>
            <a:stretch/>
          </p:blipFill>
          <p:spPr>
            <a:xfrm>
              <a:off x="8197920" y="588240"/>
              <a:ext cx="428040" cy="3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Freeform 126"/>
            <p:cNvSpPr/>
            <p:nvPr/>
          </p:nvSpPr>
          <p:spPr>
            <a:xfrm>
              <a:off x="8022240" y="-11160"/>
              <a:ext cx="530280" cy="4388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537" name="Freeform 127"/>
            <p:cNvSpPr/>
            <p:nvPr/>
          </p:nvSpPr>
          <p:spPr>
            <a:xfrm>
              <a:off x="8078040" y="2349720"/>
              <a:ext cx="402120" cy="39960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538" name="Group 17" descr=""/>
            <p:cNvPicPr/>
            <p:nvPr/>
          </p:nvPicPr>
          <p:blipFill>
            <a:blip r:embed="rId8"/>
            <a:stretch/>
          </p:blipFill>
          <p:spPr>
            <a:xfrm>
              <a:off x="8638560" y="104400"/>
              <a:ext cx="415800" cy="4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Freeform 146"/>
            <p:cNvSpPr/>
            <p:nvPr/>
          </p:nvSpPr>
          <p:spPr>
            <a:xfrm>
              <a:off x="8100000" y="1692000"/>
              <a:ext cx="370800" cy="40608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540" name="Group 19" descr=""/>
            <p:cNvPicPr/>
            <p:nvPr/>
          </p:nvPicPr>
          <p:blipFill>
            <a:blip r:embed="rId9"/>
            <a:stretch/>
          </p:blipFill>
          <p:spPr>
            <a:xfrm>
              <a:off x="8546760" y="1378080"/>
              <a:ext cx="623880" cy="9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Freeform 20"/>
            <p:cNvSpPr/>
            <p:nvPr/>
          </p:nvSpPr>
          <p:spPr>
            <a:xfrm>
              <a:off x="8442000" y="4472640"/>
              <a:ext cx="595440" cy="68148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542" name="Freeform 21"/>
            <p:cNvSpPr/>
            <p:nvPr/>
          </p:nvSpPr>
          <p:spPr>
            <a:xfrm>
              <a:off x="8274240" y="1082880"/>
              <a:ext cx="477720" cy="52632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543" name="Freeform 69"/>
            <p:cNvSpPr/>
            <p:nvPr/>
          </p:nvSpPr>
          <p:spPr>
            <a:xfrm>
              <a:off x="8892360" y="4028040"/>
              <a:ext cx="281520" cy="4503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544" name="Group 23" descr=""/>
            <p:cNvPicPr/>
            <p:nvPr/>
          </p:nvPicPr>
          <p:blipFill>
            <a:blip r:embed="rId10"/>
            <a:stretch/>
          </p:blipFill>
          <p:spPr>
            <a:xfrm>
              <a:off x="8038800" y="4764960"/>
              <a:ext cx="391320" cy="44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6"/>
          <p:cNvGrpSpPr/>
          <p:nvPr/>
        </p:nvGrpSpPr>
        <p:grpSpPr>
          <a:xfrm>
            <a:off x="-266760" y="-88920"/>
            <a:ext cx="1455840" cy="5226120"/>
            <a:chOff x="-266760" y="-88920"/>
            <a:chExt cx="1455840" cy="5226120"/>
          </a:xfrm>
        </p:grpSpPr>
        <p:sp>
          <p:nvSpPr>
            <p:cNvPr id="584" name="Freeform 4106"/>
            <p:cNvSpPr/>
            <p:nvPr/>
          </p:nvSpPr>
          <p:spPr>
            <a:xfrm rot="21271800">
              <a:off x="-182520" y="2908440"/>
              <a:ext cx="428400" cy="67968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585" name="Group 8" descr=""/>
            <p:cNvPicPr/>
            <p:nvPr/>
          </p:nvPicPr>
          <p:blipFill>
            <a:blip r:embed="rId2"/>
            <a:stretch/>
          </p:blipFill>
          <p:spPr>
            <a:xfrm>
              <a:off x="458280" y="4779720"/>
              <a:ext cx="63972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Group 9" descr=""/>
            <p:cNvPicPr/>
            <p:nvPr/>
          </p:nvPicPr>
          <p:blipFill>
            <a:blip r:embed="rId3"/>
            <a:stretch/>
          </p:blipFill>
          <p:spPr>
            <a:xfrm>
              <a:off x="-266760" y="252720"/>
              <a:ext cx="584640" cy="5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Group 10" descr=""/>
            <p:cNvPicPr/>
            <p:nvPr/>
          </p:nvPicPr>
          <p:blipFill>
            <a:blip r:embed="rId4"/>
            <a:stretch/>
          </p:blipFill>
          <p:spPr>
            <a:xfrm>
              <a:off x="476280" y="-88920"/>
              <a:ext cx="71280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Group 11" descr=""/>
            <p:cNvPicPr/>
            <p:nvPr/>
          </p:nvPicPr>
          <p:blipFill>
            <a:blip r:embed="rId5"/>
            <a:stretch/>
          </p:blipFill>
          <p:spPr>
            <a:xfrm>
              <a:off x="129240" y="685800"/>
              <a:ext cx="822240" cy="6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Group 12" descr=""/>
            <p:cNvPicPr/>
            <p:nvPr/>
          </p:nvPicPr>
          <p:blipFill>
            <a:blip r:embed="rId6"/>
            <a:stretch/>
          </p:blipFill>
          <p:spPr>
            <a:xfrm>
              <a:off x="720000" y="2973600"/>
              <a:ext cx="37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Freeform 120"/>
            <p:cNvSpPr/>
            <p:nvPr/>
          </p:nvSpPr>
          <p:spPr>
            <a:xfrm>
              <a:off x="19440" y="1416960"/>
              <a:ext cx="464760" cy="4435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591" name="Group 14" descr=""/>
            <p:cNvPicPr/>
            <p:nvPr/>
          </p:nvPicPr>
          <p:blipFill>
            <a:blip r:embed="rId7"/>
            <a:stretch/>
          </p:blipFill>
          <p:spPr>
            <a:xfrm>
              <a:off x="104760" y="2985840"/>
              <a:ext cx="4262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Freeform 126"/>
            <p:cNvSpPr/>
            <p:nvPr/>
          </p:nvSpPr>
          <p:spPr>
            <a:xfrm>
              <a:off x="-73080" y="2386800"/>
              <a:ext cx="528120" cy="4370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593" name="Freeform 127"/>
            <p:cNvSpPr/>
            <p:nvPr/>
          </p:nvSpPr>
          <p:spPr>
            <a:xfrm>
              <a:off x="-17280" y="4739040"/>
              <a:ext cx="400320" cy="39816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594" name="Group 17" descr=""/>
            <p:cNvPicPr/>
            <p:nvPr/>
          </p:nvPicPr>
          <p:blipFill>
            <a:blip r:embed="rId8"/>
            <a:stretch/>
          </p:blipFill>
          <p:spPr>
            <a:xfrm>
              <a:off x="537480" y="2497680"/>
              <a:ext cx="420120" cy="4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Freeform 146"/>
            <p:cNvSpPr/>
            <p:nvPr/>
          </p:nvSpPr>
          <p:spPr>
            <a:xfrm>
              <a:off x="4320" y="4083840"/>
              <a:ext cx="369360" cy="40464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596" name="Group 19" descr=""/>
            <p:cNvPicPr/>
            <p:nvPr/>
          </p:nvPicPr>
          <p:blipFill>
            <a:blip r:embed="rId9"/>
            <a:stretch/>
          </p:blipFill>
          <p:spPr>
            <a:xfrm>
              <a:off x="446040" y="3772800"/>
              <a:ext cx="621360" cy="9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Freeform 20"/>
            <p:cNvSpPr/>
            <p:nvPr/>
          </p:nvSpPr>
          <p:spPr>
            <a:xfrm>
              <a:off x="344520" y="1671480"/>
              <a:ext cx="592920" cy="67896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598" name="Freeform 21"/>
            <p:cNvSpPr/>
            <p:nvPr/>
          </p:nvSpPr>
          <p:spPr>
            <a:xfrm>
              <a:off x="177840" y="3476880"/>
              <a:ext cx="475560" cy="52416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599" name="Freeform 69"/>
            <p:cNvSpPr/>
            <p:nvPr/>
          </p:nvSpPr>
          <p:spPr>
            <a:xfrm>
              <a:off x="793080" y="1228680"/>
              <a:ext cx="280080" cy="4485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600" name="Group 23" descr=""/>
            <p:cNvPicPr/>
            <p:nvPr/>
          </p:nvPicPr>
          <p:blipFill>
            <a:blip r:embed="rId10"/>
            <a:stretch/>
          </p:blipFill>
          <p:spPr>
            <a:xfrm>
              <a:off x="-59400" y="1960920"/>
              <a:ext cx="389880" cy="44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-266760" y="-88920"/>
            <a:ext cx="1455840" cy="5226120"/>
            <a:chOff x="-266760" y="-88920"/>
            <a:chExt cx="1455840" cy="5226120"/>
          </a:xfrm>
        </p:grpSpPr>
        <p:sp>
          <p:nvSpPr>
            <p:cNvPr id="80" name="Freeform 4106"/>
            <p:cNvSpPr/>
            <p:nvPr/>
          </p:nvSpPr>
          <p:spPr>
            <a:xfrm rot="21271800">
              <a:off x="-182520" y="2908440"/>
              <a:ext cx="428400" cy="67968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81" name="Group 8" descr=""/>
            <p:cNvPicPr/>
            <p:nvPr/>
          </p:nvPicPr>
          <p:blipFill>
            <a:blip r:embed="rId2"/>
            <a:stretch/>
          </p:blipFill>
          <p:spPr>
            <a:xfrm>
              <a:off x="458280" y="4779720"/>
              <a:ext cx="63972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Group 9" descr=""/>
            <p:cNvPicPr/>
            <p:nvPr/>
          </p:nvPicPr>
          <p:blipFill>
            <a:blip r:embed="rId3"/>
            <a:stretch/>
          </p:blipFill>
          <p:spPr>
            <a:xfrm>
              <a:off x="-266760" y="252720"/>
              <a:ext cx="584640" cy="5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Group 10" descr=""/>
            <p:cNvPicPr/>
            <p:nvPr/>
          </p:nvPicPr>
          <p:blipFill>
            <a:blip r:embed="rId4"/>
            <a:stretch/>
          </p:blipFill>
          <p:spPr>
            <a:xfrm>
              <a:off x="476280" y="-88920"/>
              <a:ext cx="71280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Group 11" descr=""/>
            <p:cNvPicPr/>
            <p:nvPr/>
          </p:nvPicPr>
          <p:blipFill>
            <a:blip r:embed="rId5"/>
            <a:stretch/>
          </p:blipFill>
          <p:spPr>
            <a:xfrm>
              <a:off x="129240" y="685800"/>
              <a:ext cx="822240" cy="6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Group 12" descr=""/>
            <p:cNvPicPr/>
            <p:nvPr/>
          </p:nvPicPr>
          <p:blipFill>
            <a:blip r:embed="rId6"/>
            <a:stretch/>
          </p:blipFill>
          <p:spPr>
            <a:xfrm>
              <a:off x="720000" y="2973600"/>
              <a:ext cx="37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Freeform 120"/>
            <p:cNvSpPr/>
            <p:nvPr/>
          </p:nvSpPr>
          <p:spPr>
            <a:xfrm>
              <a:off x="19440" y="1416960"/>
              <a:ext cx="464760" cy="4435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87" name="Group 14" descr=""/>
            <p:cNvPicPr/>
            <p:nvPr/>
          </p:nvPicPr>
          <p:blipFill>
            <a:blip r:embed="rId7"/>
            <a:stretch/>
          </p:blipFill>
          <p:spPr>
            <a:xfrm>
              <a:off x="104760" y="2985840"/>
              <a:ext cx="4262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126"/>
            <p:cNvSpPr/>
            <p:nvPr/>
          </p:nvSpPr>
          <p:spPr>
            <a:xfrm>
              <a:off x="-73080" y="2386800"/>
              <a:ext cx="528120" cy="4370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9" name="Freeform 127"/>
            <p:cNvSpPr/>
            <p:nvPr/>
          </p:nvSpPr>
          <p:spPr>
            <a:xfrm>
              <a:off x="-17280" y="4739040"/>
              <a:ext cx="400320" cy="39816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90" name="Group 17" descr=""/>
            <p:cNvPicPr/>
            <p:nvPr/>
          </p:nvPicPr>
          <p:blipFill>
            <a:blip r:embed="rId8"/>
            <a:stretch/>
          </p:blipFill>
          <p:spPr>
            <a:xfrm>
              <a:off x="537480" y="2497680"/>
              <a:ext cx="420120" cy="4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Freeform 146"/>
            <p:cNvSpPr/>
            <p:nvPr/>
          </p:nvSpPr>
          <p:spPr>
            <a:xfrm>
              <a:off x="4320" y="4083840"/>
              <a:ext cx="369360" cy="40464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92" name="Group 19" descr=""/>
            <p:cNvPicPr/>
            <p:nvPr/>
          </p:nvPicPr>
          <p:blipFill>
            <a:blip r:embed="rId9"/>
            <a:stretch/>
          </p:blipFill>
          <p:spPr>
            <a:xfrm>
              <a:off x="446040" y="3772800"/>
              <a:ext cx="621360" cy="9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20"/>
            <p:cNvSpPr/>
            <p:nvPr/>
          </p:nvSpPr>
          <p:spPr>
            <a:xfrm>
              <a:off x="344520" y="1671480"/>
              <a:ext cx="592920" cy="67896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94" name="Freeform 21"/>
            <p:cNvSpPr/>
            <p:nvPr/>
          </p:nvSpPr>
          <p:spPr>
            <a:xfrm>
              <a:off x="177840" y="3476880"/>
              <a:ext cx="475560" cy="52416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95" name="Freeform 69"/>
            <p:cNvSpPr/>
            <p:nvPr/>
          </p:nvSpPr>
          <p:spPr>
            <a:xfrm>
              <a:off x="793080" y="1228680"/>
              <a:ext cx="280080" cy="4485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96" name="Group 23" descr=""/>
            <p:cNvPicPr/>
            <p:nvPr/>
          </p:nvPicPr>
          <p:blipFill>
            <a:blip r:embed="rId10"/>
            <a:stretch/>
          </p:blipFill>
          <p:spPr>
            <a:xfrm>
              <a:off x="-59400" y="1960920"/>
              <a:ext cx="389880" cy="44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00"/>
          <p:cNvGrpSpPr/>
          <p:nvPr/>
        </p:nvGrpSpPr>
        <p:grpSpPr>
          <a:xfrm>
            <a:off x="7831080" y="-11160"/>
            <a:ext cx="1455840" cy="5222880"/>
            <a:chOff x="7831080" y="-11160"/>
            <a:chExt cx="1455840" cy="5222880"/>
          </a:xfrm>
        </p:grpSpPr>
        <p:sp>
          <p:nvSpPr>
            <p:cNvPr id="98" name="Freeform 4106"/>
            <p:cNvSpPr/>
            <p:nvPr/>
          </p:nvSpPr>
          <p:spPr>
            <a:xfrm rot="21271800">
              <a:off x="7911360" y="512280"/>
              <a:ext cx="430200" cy="68220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99" name="Group 102" descr=""/>
            <p:cNvPicPr/>
            <p:nvPr/>
          </p:nvPicPr>
          <p:blipFill>
            <a:blip r:embed="rId11"/>
            <a:stretch/>
          </p:blipFill>
          <p:spPr>
            <a:xfrm>
              <a:off x="8552880" y="2388600"/>
              <a:ext cx="642240" cy="2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Group 103" descr=""/>
            <p:cNvPicPr/>
            <p:nvPr/>
          </p:nvPicPr>
          <p:blipFill>
            <a:blip r:embed="rId12"/>
            <a:stretch/>
          </p:blipFill>
          <p:spPr>
            <a:xfrm>
              <a:off x="7831080" y="3044160"/>
              <a:ext cx="581040" cy="5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Group 104" descr=""/>
            <p:cNvPicPr/>
            <p:nvPr/>
          </p:nvPicPr>
          <p:blipFill>
            <a:blip r:embed="rId13"/>
            <a:stretch/>
          </p:blipFill>
          <p:spPr>
            <a:xfrm>
              <a:off x="8577360" y="2701080"/>
              <a:ext cx="70956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Group 105" descr=""/>
            <p:cNvPicPr/>
            <p:nvPr/>
          </p:nvPicPr>
          <p:blipFill>
            <a:blip r:embed="rId14"/>
            <a:stretch/>
          </p:blipFill>
          <p:spPr>
            <a:xfrm>
              <a:off x="8228520" y="3484800"/>
              <a:ext cx="819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Group 106" descr=""/>
            <p:cNvPicPr/>
            <p:nvPr/>
          </p:nvPicPr>
          <p:blipFill>
            <a:blip r:embed="rId15"/>
            <a:stretch/>
          </p:blipFill>
          <p:spPr>
            <a:xfrm>
              <a:off x="8822160" y="576000"/>
              <a:ext cx="372960" cy="65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Freeform 120"/>
            <p:cNvSpPr/>
            <p:nvPr/>
          </p:nvSpPr>
          <p:spPr>
            <a:xfrm>
              <a:off x="8115120" y="4217040"/>
              <a:ext cx="466920" cy="4453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105" name="Group 108" descr=""/>
            <p:cNvPicPr/>
            <p:nvPr/>
          </p:nvPicPr>
          <p:blipFill>
            <a:blip r:embed="rId16"/>
            <a:stretch/>
          </p:blipFill>
          <p:spPr>
            <a:xfrm>
              <a:off x="8197920" y="588240"/>
              <a:ext cx="428040" cy="3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Freeform 126"/>
            <p:cNvSpPr/>
            <p:nvPr/>
          </p:nvSpPr>
          <p:spPr>
            <a:xfrm>
              <a:off x="8022240" y="-11160"/>
              <a:ext cx="530280" cy="4388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107" name="Freeform 127"/>
            <p:cNvSpPr/>
            <p:nvPr/>
          </p:nvSpPr>
          <p:spPr>
            <a:xfrm>
              <a:off x="8078040" y="2349720"/>
              <a:ext cx="402120" cy="39960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108" name="Group 111" descr=""/>
            <p:cNvPicPr/>
            <p:nvPr/>
          </p:nvPicPr>
          <p:blipFill>
            <a:blip r:embed="rId17"/>
            <a:stretch/>
          </p:blipFill>
          <p:spPr>
            <a:xfrm>
              <a:off x="8638560" y="104400"/>
              <a:ext cx="415800" cy="4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Freeform 146"/>
            <p:cNvSpPr/>
            <p:nvPr/>
          </p:nvSpPr>
          <p:spPr>
            <a:xfrm>
              <a:off x="8100000" y="1692000"/>
              <a:ext cx="370800" cy="40608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110" name="Group 113" descr=""/>
            <p:cNvPicPr/>
            <p:nvPr/>
          </p:nvPicPr>
          <p:blipFill>
            <a:blip r:embed="rId18"/>
            <a:stretch/>
          </p:blipFill>
          <p:spPr>
            <a:xfrm>
              <a:off x="8546760" y="1378080"/>
              <a:ext cx="623880" cy="9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Freeform 114"/>
            <p:cNvSpPr/>
            <p:nvPr/>
          </p:nvSpPr>
          <p:spPr>
            <a:xfrm>
              <a:off x="8442000" y="4472640"/>
              <a:ext cx="595440" cy="68148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112" name="Freeform 115"/>
            <p:cNvSpPr/>
            <p:nvPr/>
          </p:nvSpPr>
          <p:spPr>
            <a:xfrm>
              <a:off x="8274240" y="1082880"/>
              <a:ext cx="477720" cy="52632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113" name="Freeform 69"/>
            <p:cNvSpPr/>
            <p:nvPr/>
          </p:nvSpPr>
          <p:spPr>
            <a:xfrm>
              <a:off x="8892360" y="4028040"/>
              <a:ext cx="281520" cy="4503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114" name="Group 117" descr=""/>
            <p:cNvPicPr/>
            <p:nvPr/>
          </p:nvPicPr>
          <p:blipFill>
            <a:blip r:embed="rId19"/>
            <a:stretch/>
          </p:blipFill>
          <p:spPr>
            <a:xfrm>
              <a:off x="8038800" y="4764960"/>
              <a:ext cx="391320" cy="44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6"/>
          <p:cNvGrpSpPr/>
          <p:nvPr/>
        </p:nvGrpSpPr>
        <p:grpSpPr>
          <a:xfrm>
            <a:off x="-266760" y="-88920"/>
            <a:ext cx="1455840" cy="5226120"/>
            <a:chOff x="-266760" y="-88920"/>
            <a:chExt cx="1455840" cy="5226120"/>
          </a:xfrm>
        </p:grpSpPr>
        <p:sp>
          <p:nvSpPr>
            <p:cNvPr id="154" name="Freeform 4106"/>
            <p:cNvSpPr/>
            <p:nvPr/>
          </p:nvSpPr>
          <p:spPr>
            <a:xfrm rot="21271800">
              <a:off x="-182520" y="2908440"/>
              <a:ext cx="428400" cy="67968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155" name="Group 8" descr=""/>
            <p:cNvPicPr/>
            <p:nvPr/>
          </p:nvPicPr>
          <p:blipFill>
            <a:blip r:embed="rId2"/>
            <a:stretch/>
          </p:blipFill>
          <p:spPr>
            <a:xfrm>
              <a:off x="458280" y="4779720"/>
              <a:ext cx="63972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Group 9" descr=""/>
            <p:cNvPicPr/>
            <p:nvPr/>
          </p:nvPicPr>
          <p:blipFill>
            <a:blip r:embed="rId3"/>
            <a:stretch/>
          </p:blipFill>
          <p:spPr>
            <a:xfrm>
              <a:off x="-266760" y="252720"/>
              <a:ext cx="584640" cy="5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Group 10" descr=""/>
            <p:cNvPicPr/>
            <p:nvPr/>
          </p:nvPicPr>
          <p:blipFill>
            <a:blip r:embed="rId4"/>
            <a:stretch/>
          </p:blipFill>
          <p:spPr>
            <a:xfrm>
              <a:off x="476280" y="-88920"/>
              <a:ext cx="71280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Group 11" descr=""/>
            <p:cNvPicPr/>
            <p:nvPr/>
          </p:nvPicPr>
          <p:blipFill>
            <a:blip r:embed="rId5"/>
            <a:stretch/>
          </p:blipFill>
          <p:spPr>
            <a:xfrm>
              <a:off x="129240" y="685800"/>
              <a:ext cx="822240" cy="6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Group 12" descr=""/>
            <p:cNvPicPr/>
            <p:nvPr/>
          </p:nvPicPr>
          <p:blipFill>
            <a:blip r:embed="rId6"/>
            <a:stretch/>
          </p:blipFill>
          <p:spPr>
            <a:xfrm>
              <a:off x="720000" y="2973600"/>
              <a:ext cx="37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Freeform 120"/>
            <p:cNvSpPr/>
            <p:nvPr/>
          </p:nvSpPr>
          <p:spPr>
            <a:xfrm>
              <a:off x="19440" y="1416960"/>
              <a:ext cx="464760" cy="4435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161" name="Group 14" descr=""/>
            <p:cNvPicPr/>
            <p:nvPr/>
          </p:nvPicPr>
          <p:blipFill>
            <a:blip r:embed="rId7"/>
            <a:stretch/>
          </p:blipFill>
          <p:spPr>
            <a:xfrm>
              <a:off x="104760" y="2985840"/>
              <a:ext cx="4262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Freeform 126"/>
            <p:cNvSpPr/>
            <p:nvPr/>
          </p:nvSpPr>
          <p:spPr>
            <a:xfrm>
              <a:off x="-73080" y="2386800"/>
              <a:ext cx="528120" cy="4370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163" name="Freeform 127"/>
            <p:cNvSpPr/>
            <p:nvPr/>
          </p:nvSpPr>
          <p:spPr>
            <a:xfrm>
              <a:off x="-17280" y="4739040"/>
              <a:ext cx="400320" cy="39816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164" name="Group 17" descr=""/>
            <p:cNvPicPr/>
            <p:nvPr/>
          </p:nvPicPr>
          <p:blipFill>
            <a:blip r:embed="rId8"/>
            <a:stretch/>
          </p:blipFill>
          <p:spPr>
            <a:xfrm>
              <a:off x="537480" y="2497680"/>
              <a:ext cx="420120" cy="4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Freeform 146"/>
            <p:cNvSpPr/>
            <p:nvPr/>
          </p:nvSpPr>
          <p:spPr>
            <a:xfrm>
              <a:off x="4320" y="4083840"/>
              <a:ext cx="369360" cy="40464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166" name="Group 19" descr=""/>
            <p:cNvPicPr/>
            <p:nvPr/>
          </p:nvPicPr>
          <p:blipFill>
            <a:blip r:embed="rId9"/>
            <a:stretch/>
          </p:blipFill>
          <p:spPr>
            <a:xfrm>
              <a:off x="446040" y="3772800"/>
              <a:ext cx="621360" cy="9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Freeform 20"/>
            <p:cNvSpPr/>
            <p:nvPr/>
          </p:nvSpPr>
          <p:spPr>
            <a:xfrm>
              <a:off x="344520" y="1671480"/>
              <a:ext cx="592920" cy="67896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177840" y="3476880"/>
              <a:ext cx="475560" cy="52416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169" name="Freeform 69"/>
            <p:cNvSpPr/>
            <p:nvPr/>
          </p:nvSpPr>
          <p:spPr>
            <a:xfrm>
              <a:off x="793080" y="1228680"/>
              <a:ext cx="280080" cy="4485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170" name="Group 23" descr=""/>
            <p:cNvPicPr/>
            <p:nvPr/>
          </p:nvPicPr>
          <p:blipFill>
            <a:blip r:embed="rId10"/>
            <a:stretch/>
          </p:blipFill>
          <p:spPr>
            <a:xfrm>
              <a:off x="-59400" y="1960920"/>
              <a:ext cx="389880" cy="44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6"/>
          <p:cNvGrpSpPr/>
          <p:nvPr/>
        </p:nvGrpSpPr>
        <p:grpSpPr>
          <a:xfrm>
            <a:off x="7831080" y="-11160"/>
            <a:ext cx="1455840" cy="5222880"/>
            <a:chOff x="7831080" y="-11160"/>
            <a:chExt cx="1455840" cy="5222880"/>
          </a:xfrm>
        </p:grpSpPr>
        <p:sp>
          <p:nvSpPr>
            <p:cNvPr id="210" name="Freeform 4106"/>
            <p:cNvSpPr/>
            <p:nvPr/>
          </p:nvSpPr>
          <p:spPr>
            <a:xfrm rot="21271800">
              <a:off x="7911360" y="512280"/>
              <a:ext cx="430200" cy="68220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211" name="Group 8" descr=""/>
            <p:cNvPicPr/>
            <p:nvPr/>
          </p:nvPicPr>
          <p:blipFill>
            <a:blip r:embed="rId2"/>
            <a:stretch/>
          </p:blipFill>
          <p:spPr>
            <a:xfrm>
              <a:off x="8552880" y="2388600"/>
              <a:ext cx="642240" cy="2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Group 9" descr=""/>
            <p:cNvPicPr/>
            <p:nvPr/>
          </p:nvPicPr>
          <p:blipFill>
            <a:blip r:embed="rId3"/>
            <a:stretch/>
          </p:blipFill>
          <p:spPr>
            <a:xfrm>
              <a:off x="7831080" y="3044160"/>
              <a:ext cx="581040" cy="5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Group 10" descr=""/>
            <p:cNvPicPr/>
            <p:nvPr/>
          </p:nvPicPr>
          <p:blipFill>
            <a:blip r:embed="rId4"/>
            <a:stretch/>
          </p:blipFill>
          <p:spPr>
            <a:xfrm>
              <a:off x="8577360" y="2701080"/>
              <a:ext cx="70956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Group 11" descr=""/>
            <p:cNvPicPr/>
            <p:nvPr/>
          </p:nvPicPr>
          <p:blipFill>
            <a:blip r:embed="rId5"/>
            <a:stretch/>
          </p:blipFill>
          <p:spPr>
            <a:xfrm>
              <a:off x="8228520" y="3484800"/>
              <a:ext cx="819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Group 12" descr=""/>
            <p:cNvPicPr/>
            <p:nvPr/>
          </p:nvPicPr>
          <p:blipFill>
            <a:blip r:embed="rId6"/>
            <a:stretch/>
          </p:blipFill>
          <p:spPr>
            <a:xfrm>
              <a:off x="8822160" y="576000"/>
              <a:ext cx="372960" cy="65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Freeform 120"/>
            <p:cNvSpPr/>
            <p:nvPr/>
          </p:nvSpPr>
          <p:spPr>
            <a:xfrm>
              <a:off x="8115120" y="4217040"/>
              <a:ext cx="466920" cy="4453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217" name="Group 14" descr=""/>
            <p:cNvPicPr/>
            <p:nvPr/>
          </p:nvPicPr>
          <p:blipFill>
            <a:blip r:embed="rId7"/>
            <a:stretch/>
          </p:blipFill>
          <p:spPr>
            <a:xfrm>
              <a:off x="8197920" y="588240"/>
              <a:ext cx="428040" cy="3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Freeform 126"/>
            <p:cNvSpPr/>
            <p:nvPr/>
          </p:nvSpPr>
          <p:spPr>
            <a:xfrm>
              <a:off x="8022240" y="-11160"/>
              <a:ext cx="530280" cy="4388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219" name="Freeform 127"/>
            <p:cNvSpPr/>
            <p:nvPr/>
          </p:nvSpPr>
          <p:spPr>
            <a:xfrm>
              <a:off x="8078040" y="2349720"/>
              <a:ext cx="402120" cy="39960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220" name="Group 17" descr=""/>
            <p:cNvPicPr/>
            <p:nvPr/>
          </p:nvPicPr>
          <p:blipFill>
            <a:blip r:embed="rId8"/>
            <a:stretch/>
          </p:blipFill>
          <p:spPr>
            <a:xfrm>
              <a:off x="8638560" y="104400"/>
              <a:ext cx="415800" cy="4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46"/>
            <p:cNvSpPr/>
            <p:nvPr/>
          </p:nvSpPr>
          <p:spPr>
            <a:xfrm>
              <a:off x="8100000" y="1692000"/>
              <a:ext cx="370800" cy="40608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222" name="Group 19" descr=""/>
            <p:cNvPicPr/>
            <p:nvPr/>
          </p:nvPicPr>
          <p:blipFill>
            <a:blip r:embed="rId9"/>
            <a:stretch/>
          </p:blipFill>
          <p:spPr>
            <a:xfrm>
              <a:off x="8546760" y="1378080"/>
              <a:ext cx="623880" cy="9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20"/>
            <p:cNvSpPr/>
            <p:nvPr/>
          </p:nvSpPr>
          <p:spPr>
            <a:xfrm>
              <a:off x="8442000" y="4472640"/>
              <a:ext cx="595440" cy="68148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8274240" y="1082880"/>
              <a:ext cx="477720" cy="52632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8892360" y="4028040"/>
              <a:ext cx="281520" cy="4503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226" name="Group 23" descr=""/>
            <p:cNvPicPr/>
            <p:nvPr/>
          </p:nvPicPr>
          <p:blipFill>
            <a:blip r:embed="rId10"/>
            <a:stretch/>
          </p:blipFill>
          <p:spPr>
            <a:xfrm>
              <a:off x="8038800" y="4764960"/>
              <a:ext cx="391320" cy="44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6"/>
          <p:cNvGrpSpPr/>
          <p:nvPr/>
        </p:nvGrpSpPr>
        <p:grpSpPr>
          <a:xfrm>
            <a:off x="-266760" y="-88920"/>
            <a:ext cx="1455840" cy="5226120"/>
            <a:chOff x="-266760" y="-88920"/>
            <a:chExt cx="1455840" cy="5226120"/>
          </a:xfrm>
        </p:grpSpPr>
        <p:sp>
          <p:nvSpPr>
            <p:cNvPr id="304" name="Freeform 4106"/>
            <p:cNvSpPr/>
            <p:nvPr/>
          </p:nvSpPr>
          <p:spPr>
            <a:xfrm rot="21271800">
              <a:off x="-182520" y="2908440"/>
              <a:ext cx="428400" cy="67968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05" name="Group 8" descr=""/>
            <p:cNvPicPr/>
            <p:nvPr/>
          </p:nvPicPr>
          <p:blipFill>
            <a:blip r:embed="rId2"/>
            <a:stretch/>
          </p:blipFill>
          <p:spPr>
            <a:xfrm>
              <a:off x="458280" y="4779720"/>
              <a:ext cx="63972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Group 9" descr=""/>
            <p:cNvPicPr/>
            <p:nvPr/>
          </p:nvPicPr>
          <p:blipFill>
            <a:blip r:embed="rId3"/>
            <a:stretch/>
          </p:blipFill>
          <p:spPr>
            <a:xfrm>
              <a:off x="-266760" y="252720"/>
              <a:ext cx="584640" cy="5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Group 10" descr=""/>
            <p:cNvPicPr/>
            <p:nvPr/>
          </p:nvPicPr>
          <p:blipFill>
            <a:blip r:embed="rId4"/>
            <a:stretch/>
          </p:blipFill>
          <p:spPr>
            <a:xfrm>
              <a:off x="476280" y="-88920"/>
              <a:ext cx="71280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Group 11" descr=""/>
            <p:cNvPicPr/>
            <p:nvPr/>
          </p:nvPicPr>
          <p:blipFill>
            <a:blip r:embed="rId5"/>
            <a:stretch/>
          </p:blipFill>
          <p:spPr>
            <a:xfrm>
              <a:off x="129240" y="685800"/>
              <a:ext cx="822240" cy="6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Group 12" descr=""/>
            <p:cNvPicPr/>
            <p:nvPr/>
          </p:nvPicPr>
          <p:blipFill>
            <a:blip r:embed="rId6"/>
            <a:stretch/>
          </p:blipFill>
          <p:spPr>
            <a:xfrm>
              <a:off x="720000" y="2973600"/>
              <a:ext cx="37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Freeform 120"/>
            <p:cNvSpPr/>
            <p:nvPr/>
          </p:nvSpPr>
          <p:spPr>
            <a:xfrm>
              <a:off x="19440" y="1416960"/>
              <a:ext cx="464760" cy="4435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11" name="Group 14" descr=""/>
            <p:cNvPicPr/>
            <p:nvPr/>
          </p:nvPicPr>
          <p:blipFill>
            <a:blip r:embed="rId7"/>
            <a:stretch/>
          </p:blipFill>
          <p:spPr>
            <a:xfrm>
              <a:off x="104760" y="2985840"/>
              <a:ext cx="4262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Freeform 126"/>
            <p:cNvSpPr/>
            <p:nvPr/>
          </p:nvSpPr>
          <p:spPr>
            <a:xfrm>
              <a:off x="-73080" y="2386800"/>
              <a:ext cx="528120" cy="4370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313" name="Freeform 127"/>
            <p:cNvSpPr/>
            <p:nvPr/>
          </p:nvSpPr>
          <p:spPr>
            <a:xfrm>
              <a:off x="-17280" y="4739040"/>
              <a:ext cx="400320" cy="39816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14" name="Group 17" descr=""/>
            <p:cNvPicPr/>
            <p:nvPr/>
          </p:nvPicPr>
          <p:blipFill>
            <a:blip r:embed="rId8"/>
            <a:stretch/>
          </p:blipFill>
          <p:spPr>
            <a:xfrm>
              <a:off x="537480" y="2497680"/>
              <a:ext cx="420120" cy="4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Freeform 146"/>
            <p:cNvSpPr/>
            <p:nvPr/>
          </p:nvSpPr>
          <p:spPr>
            <a:xfrm>
              <a:off x="4320" y="4083840"/>
              <a:ext cx="369360" cy="40464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16" name="Group 19" descr=""/>
            <p:cNvPicPr/>
            <p:nvPr/>
          </p:nvPicPr>
          <p:blipFill>
            <a:blip r:embed="rId9"/>
            <a:stretch/>
          </p:blipFill>
          <p:spPr>
            <a:xfrm>
              <a:off x="446040" y="3772800"/>
              <a:ext cx="621360" cy="9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Freeform 20"/>
            <p:cNvSpPr/>
            <p:nvPr/>
          </p:nvSpPr>
          <p:spPr>
            <a:xfrm>
              <a:off x="344520" y="1671480"/>
              <a:ext cx="592920" cy="67896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318" name="Freeform 21"/>
            <p:cNvSpPr/>
            <p:nvPr/>
          </p:nvSpPr>
          <p:spPr>
            <a:xfrm>
              <a:off x="177840" y="3476880"/>
              <a:ext cx="475560" cy="52416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319" name="Freeform 69"/>
            <p:cNvSpPr/>
            <p:nvPr/>
          </p:nvSpPr>
          <p:spPr>
            <a:xfrm>
              <a:off x="793080" y="1228680"/>
              <a:ext cx="280080" cy="4485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20" name="Group 23" descr=""/>
            <p:cNvPicPr/>
            <p:nvPr/>
          </p:nvPicPr>
          <p:blipFill>
            <a:blip r:embed="rId10"/>
            <a:stretch/>
          </p:blipFill>
          <p:spPr>
            <a:xfrm>
              <a:off x="-59400" y="1960920"/>
              <a:ext cx="389880" cy="44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Group 100"/>
          <p:cNvGrpSpPr/>
          <p:nvPr/>
        </p:nvGrpSpPr>
        <p:grpSpPr>
          <a:xfrm>
            <a:off x="7831080" y="-11160"/>
            <a:ext cx="1455840" cy="5222880"/>
            <a:chOff x="7831080" y="-11160"/>
            <a:chExt cx="1455840" cy="5222880"/>
          </a:xfrm>
        </p:grpSpPr>
        <p:sp>
          <p:nvSpPr>
            <p:cNvPr id="322" name="Freeform 4106"/>
            <p:cNvSpPr/>
            <p:nvPr/>
          </p:nvSpPr>
          <p:spPr>
            <a:xfrm rot="21271800">
              <a:off x="7911360" y="512280"/>
              <a:ext cx="430200" cy="68220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23" name="Group 102" descr=""/>
            <p:cNvPicPr/>
            <p:nvPr/>
          </p:nvPicPr>
          <p:blipFill>
            <a:blip r:embed="rId11"/>
            <a:stretch/>
          </p:blipFill>
          <p:spPr>
            <a:xfrm>
              <a:off x="8552880" y="2388600"/>
              <a:ext cx="642240" cy="2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Group 103" descr=""/>
            <p:cNvPicPr/>
            <p:nvPr/>
          </p:nvPicPr>
          <p:blipFill>
            <a:blip r:embed="rId12"/>
            <a:stretch/>
          </p:blipFill>
          <p:spPr>
            <a:xfrm>
              <a:off x="7831080" y="3044160"/>
              <a:ext cx="581040" cy="5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Group 104" descr=""/>
            <p:cNvPicPr/>
            <p:nvPr/>
          </p:nvPicPr>
          <p:blipFill>
            <a:blip r:embed="rId13"/>
            <a:stretch/>
          </p:blipFill>
          <p:spPr>
            <a:xfrm>
              <a:off x="8577360" y="2701080"/>
              <a:ext cx="70956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Group 105" descr=""/>
            <p:cNvPicPr/>
            <p:nvPr/>
          </p:nvPicPr>
          <p:blipFill>
            <a:blip r:embed="rId14"/>
            <a:stretch/>
          </p:blipFill>
          <p:spPr>
            <a:xfrm>
              <a:off x="8228520" y="3484800"/>
              <a:ext cx="819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Group 106" descr=""/>
            <p:cNvPicPr/>
            <p:nvPr/>
          </p:nvPicPr>
          <p:blipFill>
            <a:blip r:embed="rId15"/>
            <a:stretch/>
          </p:blipFill>
          <p:spPr>
            <a:xfrm>
              <a:off x="8822160" y="576000"/>
              <a:ext cx="372960" cy="65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Freeform 120"/>
            <p:cNvSpPr/>
            <p:nvPr/>
          </p:nvSpPr>
          <p:spPr>
            <a:xfrm>
              <a:off x="8115120" y="4217040"/>
              <a:ext cx="466920" cy="4453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29" name="Group 108" descr=""/>
            <p:cNvPicPr/>
            <p:nvPr/>
          </p:nvPicPr>
          <p:blipFill>
            <a:blip r:embed="rId16"/>
            <a:stretch/>
          </p:blipFill>
          <p:spPr>
            <a:xfrm>
              <a:off x="8197920" y="588240"/>
              <a:ext cx="428040" cy="3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Freeform 126"/>
            <p:cNvSpPr/>
            <p:nvPr/>
          </p:nvSpPr>
          <p:spPr>
            <a:xfrm>
              <a:off x="8022240" y="-11160"/>
              <a:ext cx="530280" cy="4388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331" name="Freeform 127"/>
            <p:cNvSpPr/>
            <p:nvPr/>
          </p:nvSpPr>
          <p:spPr>
            <a:xfrm>
              <a:off x="8078040" y="2349720"/>
              <a:ext cx="402120" cy="39960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32" name="Group 111" descr=""/>
            <p:cNvPicPr/>
            <p:nvPr/>
          </p:nvPicPr>
          <p:blipFill>
            <a:blip r:embed="rId17"/>
            <a:stretch/>
          </p:blipFill>
          <p:spPr>
            <a:xfrm>
              <a:off x="8638560" y="104400"/>
              <a:ext cx="415800" cy="4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Freeform 146"/>
            <p:cNvSpPr/>
            <p:nvPr/>
          </p:nvSpPr>
          <p:spPr>
            <a:xfrm>
              <a:off x="8100000" y="1692000"/>
              <a:ext cx="370800" cy="40608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34" name="Group 113" descr=""/>
            <p:cNvPicPr/>
            <p:nvPr/>
          </p:nvPicPr>
          <p:blipFill>
            <a:blip r:embed="rId18"/>
            <a:stretch/>
          </p:blipFill>
          <p:spPr>
            <a:xfrm>
              <a:off x="8546760" y="1378080"/>
              <a:ext cx="623880" cy="9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Freeform 114"/>
            <p:cNvSpPr/>
            <p:nvPr/>
          </p:nvSpPr>
          <p:spPr>
            <a:xfrm>
              <a:off x="8442000" y="4472640"/>
              <a:ext cx="595440" cy="68148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336" name="Freeform 115"/>
            <p:cNvSpPr/>
            <p:nvPr/>
          </p:nvSpPr>
          <p:spPr>
            <a:xfrm>
              <a:off x="8274240" y="1082880"/>
              <a:ext cx="477720" cy="52632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337" name="Freeform 69"/>
            <p:cNvSpPr/>
            <p:nvPr/>
          </p:nvSpPr>
          <p:spPr>
            <a:xfrm>
              <a:off x="8892360" y="4028040"/>
              <a:ext cx="281520" cy="4503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38" name="Group 117" descr=""/>
            <p:cNvPicPr/>
            <p:nvPr/>
          </p:nvPicPr>
          <p:blipFill>
            <a:blip r:embed="rId19"/>
            <a:stretch/>
          </p:blipFill>
          <p:spPr>
            <a:xfrm>
              <a:off x="8038800" y="4764960"/>
              <a:ext cx="391320" cy="44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0"/>
    <p:sldLayoutId id="2147483728" r:id="rId21"/>
    <p:sldLayoutId id="2147483729" r:id="rId22"/>
    <p:sldLayoutId id="2147483730" r:id="rId23"/>
    <p:sldLayoutId id="2147483731" r:id="rId24"/>
    <p:sldLayoutId id="2147483732" r:id="rId25"/>
    <p:sldLayoutId id="2147483733" r:id="rId26"/>
    <p:sldLayoutId id="2147483734" r:id="rId27"/>
    <p:sldLayoutId id="2147483735" r:id="rId28"/>
    <p:sldLayoutId id="2147483736" r:id="rId29"/>
    <p:sldLayoutId id="2147483737" r:id="rId30"/>
    <p:sldLayoutId id="2147483738" r:id="rId3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6"/>
          <p:cNvGrpSpPr/>
          <p:nvPr/>
        </p:nvGrpSpPr>
        <p:grpSpPr>
          <a:xfrm>
            <a:off x="7831080" y="-11160"/>
            <a:ext cx="1455840" cy="5222880"/>
            <a:chOff x="7831080" y="-11160"/>
            <a:chExt cx="1455840" cy="5222880"/>
          </a:xfrm>
        </p:grpSpPr>
        <p:sp>
          <p:nvSpPr>
            <p:cNvPr id="378" name="Freeform 4106"/>
            <p:cNvSpPr/>
            <p:nvPr/>
          </p:nvSpPr>
          <p:spPr>
            <a:xfrm rot="21271800">
              <a:off x="7911360" y="512280"/>
              <a:ext cx="430200" cy="682200"/>
            </a:xfrm>
            <a:custGeom>
              <a:avLst/>
              <a:gdLst/>
              <a:ahLst/>
              <a:rect l="l" t="t" r="r" b="b"/>
              <a:pathLst>
                <a:path w="1126" h="1780">
                  <a:moveTo>
                    <a:pt x="257" y="870"/>
                  </a:moveTo>
                  <a:lnTo>
                    <a:pt x="257" y="870"/>
                  </a:lnTo>
                  <a:lnTo>
                    <a:pt x="258" y="870"/>
                  </a:lnTo>
                  <a:lnTo>
                    <a:pt x="258" y="870"/>
                  </a:lnTo>
                  <a:cubicBezTo>
                    <a:pt x="260" y="870"/>
                    <a:pt x="263" y="872"/>
                    <a:pt x="262" y="869"/>
                  </a:cubicBezTo>
                  <a:lnTo>
                    <a:pt x="262" y="869"/>
                  </a:lnTo>
                  <a:cubicBezTo>
                    <a:pt x="262" y="868"/>
                    <a:pt x="258" y="869"/>
                    <a:pt x="257" y="870"/>
                  </a:cubicBezTo>
                  <a:close/>
                  <a:moveTo>
                    <a:pt x="268" y="870"/>
                  </a:moveTo>
                  <a:lnTo>
                    <a:pt x="268" y="870"/>
                  </a:lnTo>
                  <a:cubicBezTo>
                    <a:pt x="278" y="877"/>
                    <a:pt x="290" y="876"/>
                    <a:pt x="303" y="875"/>
                  </a:cubicBezTo>
                  <a:lnTo>
                    <a:pt x="303" y="875"/>
                  </a:lnTo>
                  <a:cubicBezTo>
                    <a:pt x="291" y="874"/>
                    <a:pt x="280" y="872"/>
                    <a:pt x="268" y="870"/>
                  </a:cubicBezTo>
                  <a:close/>
                  <a:moveTo>
                    <a:pt x="624" y="1691"/>
                  </a:moveTo>
                  <a:lnTo>
                    <a:pt x="624" y="1691"/>
                  </a:lnTo>
                  <a:cubicBezTo>
                    <a:pt x="634" y="1696"/>
                    <a:pt x="640" y="1691"/>
                    <a:pt x="646" y="1683"/>
                  </a:cubicBezTo>
                  <a:lnTo>
                    <a:pt x="646" y="1683"/>
                  </a:lnTo>
                  <a:cubicBezTo>
                    <a:pt x="639" y="1685"/>
                    <a:pt x="631" y="1689"/>
                    <a:pt x="624" y="1691"/>
                  </a:cubicBezTo>
                  <a:close/>
                  <a:moveTo>
                    <a:pt x="323" y="1765"/>
                  </a:moveTo>
                  <a:lnTo>
                    <a:pt x="323" y="1765"/>
                  </a:lnTo>
                  <a:cubicBezTo>
                    <a:pt x="325" y="1766"/>
                    <a:pt x="329" y="1765"/>
                    <a:pt x="329" y="1761"/>
                  </a:cubicBezTo>
                  <a:lnTo>
                    <a:pt x="329" y="1761"/>
                  </a:lnTo>
                  <a:cubicBezTo>
                    <a:pt x="329" y="1752"/>
                    <a:pt x="323" y="1755"/>
                    <a:pt x="319" y="1756"/>
                  </a:cubicBezTo>
                  <a:lnTo>
                    <a:pt x="319" y="1756"/>
                  </a:lnTo>
                  <a:cubicBezTo>
                    <a:pt x="316" y="1756"/>
                    <a:pt x="310" y="1752"/>
                    <a:pt x="310" y="1760"/>
                  </a:cubicBezTo>
                  <a:lnTo>
                    <a:pt x="310" y="1760"/>
                  </a:lnTo>
                  <a:cubicBezTo>
                    <a:pt x="310" y="1766"/>
                    <a:pt x="316" y="1765"/>
                    <a:pt x="323" y="1765"/>
                  </a:cubicBezTo>
                  <a:close/>
                  <a:moveTo>
                    <a:pt x="23" y="1682"/>
                  </a:moveTo>
                  <a:lnTo>
                    <a:pt x="23" y="1682"/>
                  </a:lnTo>
                  <a:cubicBezTo>
                    <a:pt x="26" y="1689"/>
                    <a:pt x="16" y="1699"/>
                    <a:pt x="29" y="1702"/>
                  </a:cubicBezTo>
                  <a:lnTo>
                    <a:pt x="29" y="1702"/>
                  </a:lnTo>
                  <a:cubicBezTo>
                    <a:pt x="38" y="1703"/>
                    <a:pt x="38" y="1698"/>
                    <a:pt x="38" y="1693"/>
                  </a:cubicBezTo>
                  <a:lnTo>
                    <a:pt x="38" y="1693"/>
                  </a:lnTo>
                  <a:cubicBezTo>
                    <a:pt x="40" y="1681"/>
                    <a:pt x="28" y="1687"/>
                    <a:pt x="23" y="1682"/>
                  </a:cubicBezTo>
                  <a:close/>
                  <a:moveTo>
                    <a:pt x="342" y="281"/>
                  </a:moveTo>
                  <a:lnTo>
                    <a:pt x="342" y="281"/>
                  </a:lnTo>
                  <a:cubicBezTo>
                    <a:pt x="344" y="291"/>
                    <a:pt x="339" y="304"/>
                    <a:pt x="354" y="310"/>
                  </a:cubicBezTo>
                  <a:lnTo>
                    <a:pt x="354" y="310"/>
                  </a:lnTo>
                  <a:cubicBezTo>
                    <a:pt x="356" y="310"/>
                    <a:pt x="357" y="312"/>
                    <a:pt x="359" y="311"/>
                  </a:cubicBezTo>
                  <a:lnTo>
                    <a:pt x="359" y="311"/>
                  </a:lnTo>
                  <a:cubicBezTo>
                    <a:pt x="362" y="309"/>
                    <a:pt x="363" y="308"/>
                    <a:pt x="362" y="305"/>
                  </a:cubicBezTo>
                  <a:lnTo>
                    <a:pt x="362" y="305"/>
                  </a:lnTo>
                  <a:cubicBezTo>
                    <a:pt x="356" y="297"/>
                    <a:pt x="356" y="285"/>
                    <a:pt x="342" y="281"/>
                  </a:cubicBezTo>
                  <a:close/>
                  <a:moveTo>
                    <a:pt x="200" y="421"/>
                  </a:moveTo>
                  <a:lnTo>
                    <a:pt x="200" y="421"/>
                  </a:lnTo>
                  <a:cubicBezTo>
                    <a:pt x="197" y="431"/>
                    <a:pt x="204" y="430"/>
                    <a:pt x="211" y="430"/>
                  </a:cubicBezTo>
                  <a:lnTo>
                    <a:pt x="211" y="430"/>
                  </a:lnTo>
                  <a:cubicBezTo>
                    <a:pt x="217" y="431"/>
                    <a:pt x="224" y="430"/>
                    <a:pt x="224" y="423"/>
                  </a:cubicBezTo>
                  <a:lnTo>
                    <a:pt x="224" y="423"/>
                  </a:lnTo>
                  <a:cubicBezTo>
                    <a:pt x="225" y="416"/>
                    <a:pt x="218" y="409"/>
                    <a:pt x="215" y="410"/>
                  </a:cubicBezTo>
                  <a:lnTo>
                    <a:pt x="215" y="410"/>
                  </a:lnTo>
                  <a:cubicBezTo>
                    <a:pt x="209" y="411"/>
                    <a:pt x="201" y="412"/>
                    <a:pt x="200" y="421"/>
                  </a:cubicBezTo>
                  <a:close/>
                  <a:moveTo>
                    <a:pt x="29" y="559"/>
                  </a:moveTo>
                  <a:lnTo>
                    <a:pt x="29" y="559"/>
                  </a:lnTo>
                  <a:cubicBezTo>
                    <a:pt x="15" y="568"/>
                    <a:pt x="14" y="579"/>
                    <a:pt x="20" y="592"/>
                  </a:cubicBezTo>
                  <a:lnTo>
                    <a:pt x="20" y="592"/>
                  </a:lnTo>
                  <a:cubicBezTo>
                    <a:pt x="26" y="604"/>
                    <a:pt x="31" y="613"/>
                    <a:pt x="49" y="614"/>
                  </a:cubicBezTo>
                  <a:lnTo>
                    <a:pt x="49" y="614"/>
                  </a:lnTo>
                  <a:cubicBezTo>
                    <a:pt x="35" y="596"/>
                    <a:pt x="33" y="578"/>
                    <a:pt x="29" y="559"/>
                  </a:cubicBezTo>
                  <a:close/>
                  <a:moveTo>
                    <a:pt x="346" y="1711"/>
                  </a:moveTo>
                  <a:lnTo>
                    <a:pt x="346" y="1711"/>
                  </a:lnTo>
                  <a:cubicBezTo>
                    <a:pt x="326" y="1716"/>
                    <a:pt x="309" y="1715"/>
                    <a:pt x="290" y="1709"/>
                  </a:cubicBezTo>
                  <a:lnTo>
                    <a:pt x="290" y="1720"/>
                  </a:lnTo>
                  <a:lnTo>
                    <a:pt x="290" y="1720"/>
                  </a:lnTo>
                  <a:cubicBezTo>
                    <a:pt x="290" y="1739"/>
                    <a:pt x="290" y="1739"/>
                    <a:pt x="308" y="1739"/>
                  </a:cubicBezTo>
                  <a:lnTo>
                    <a:pt x="308" y="1739"/>
                  </a:lnTo>
                  <a:cubicBezTo>
                    <a:pt x="312" y="1739"/>
                    <a:pt x="318" y="1739"/>
                    <a:pt x="323" y="1739"/>
                  </a:cubicBezTo>
                  <a:lnTo>
                    <a:pt x="323" y="1739"/>
                  </a:lnTo>
                  <a:cubicBezTo>
                    <a:pt x="348" y="1736"/>
                    <a:pt x="348" y="1736"/>
                    <a:pt x="346" y="1711"/>
                  </a:cubicBezTo>
                  <a:close/>
                  <a:moveTo>
                    <a:pt x="393" y="854"/>
                  </a:moveTo>
                  <a:lnTo>
                    <a:pt x="393" y="854"/>
                  </a:lnTo>
                  <a:cubicBezTo>
                    <a:pt x="379" y="845"/>
                    <a:pt x="364" y="845"/>
                    <a:pt x="350" y="843"/>
                  </a:cubicBezTo>
                  <a:lnTo>
                    <a:pt x="350" y="843"/>
                  </a:lnTo>
                  <a:cubicBezTo>
                    <a:pt x="346" y="843"/>
                    <a:pt x="345" y="846"/>
                    <a:pt x="343" y="848"/>
                  </a:cubicBezTo>
                  <a:lnTo>
                    <a:pt x="343" y="848"/>
                  </a:lnTo>
                  <a:cubicBezTo>
                    <a:pt x="334" y="860"/>
                    <a:pt x="297" y="866"/>
                    <a:pt x="288" y="855"/>
                  </a:cubicBezTo>
                  <a:lnTo>
                    <a:pt x="288" y="855"/>
                  </a:lnTo>
                  <a:cubicBezTo>
                    <a:pt x="275" y="840"/>
                    <a:pt x="262" y="848"/>
                    <a:pt x="248" y="850"/>
                  </a:cubicBezTo>
                  <a:lnTo>
                    <a:pt x="248" y="850"/>
                  </a:lnTo>
                  <a:cubicBezTo>
                    <a:pt x="245" y="850"/>
                    <a:pt x="243" y="852"/>
                    <a:pt x="243" y="854"/>
                  </a:cubicBezTo>
                  <a:lnTo>
                    <a:pt x="243" y="854"/>
                  </a:lnTo>
                  <a:cubicBezTo>
                    <a:pt x="243" y="857"/>
                    <a:pt x="245" y="856"/>
                    <a:pt x="248" y="857"/>
                  </a:cubicBezTo>
                  <a:lnTo>
                    <a:pt x="248" y="857"/>
                  </a:lnTo>
                  <a:cubicBezTo>
                    <a:pt x="276" y="863"/>
                    <a:pt x="305" y="863"/>
                    <a:pt x="333" y="862"/>
                  </a:cubicBezTo>
                  <a:lnTo>
                    <a:pt x="333" y="862"/>
                  </a:lnTo>
                  <a:cubicBezTo>
                    <a:pt x="352" y="861"/>
                    <a:pt x="372" y="858"/>
                    <a:pt x="393" y="854"/>
                  </a:cubicBezTo>
                  <a:close/>
                  <a:moveTo>
                    <a:pt x="25" y="1630"/>
                  </a:moveTo>
                  <a:lnTo>
                    <a:pt x="25" y="1630"/>
                  </a:lnTo>
                  <a:cubicBezTo>
                    <a:pt x="23" y="1638"/>
                    <a:pt x="21" y="1645"/>
                    <a:pt x="19" y="1653"/>
                  </a:cubicBezTo>
                  <a:lnTo>
                    <a:pt x="19" y="1653"/>
                  </a:lnTo>
                  <a:cubicBezTo>
                    <a:pt x="18" y="1658"/>
                    <a:pt x="18" y="1661"/>
                    <a:pt x="22" y="1663"/>
                  </a:cubicBezTo>
                  <a:lnTo>
                    <a:pt x="22" y="1663"/>
                  </a:lnTo>
                  <a:cubicBezTo>
                    <a:pt x="34" y="1670"/>
                    <a:pt x="46" y="1675"/>
                    <a:pt x="60" y="1674"/>
                  </a:cubicBezTo>
                  <a:lnTo>
                    <a:pt x="60" y="1674"/>
                  </a:lnTo>
                  <a:cubicBezTo>
                    <a:pt x="69" y="1674"/>
                    <a:pt x="80" y="1658"/>
                    <a:pt x="76" y="1649"/>
                  </a:cubicBezTo>
                  <a:lnTo>
                    <a:pt x="76" y="1649"/>
                  </a:lnTo>
                  <a:cubicBezTo>
                    <a:pt x="75" y="1645"/>
                    <a:pt x="73" y="1647"/>
                    <a:pt x="71" y="1647"/>
                  </a:cubicBezTo>
                  <a:lnTo>
                    <a:pt x="71" y="1647"/>
                  </a:lnTo>
                  <a:cubicBezTo>
                    <a:pt x="54" y="1645"/>
                    <a:pt x="39" y="1639"/>
                    <a:pt x="25" y="1630"/>
                  </a:cubicBezTo>
                  <a:close/>
                  <a:moveTo>
                    <a:pt x="102" y="535"/>
                  </a:moveTo>
                  <a:lnTo>
                    <a:pt x="102" y="535"/>
                  </a:lnTo>
                  <a:cubicBezTo>
                    <a:pt x="102" y="550"/>
                    <a:pt x="109" y="562"/>
                    <a:pt x="117" y="562"/>
                  </a:cubicBezTo>
                  <a:lnTo>
                    <a:pt x="117" y="562"/>
                  </a:lnTo>
                  <a:cubicBezTo>
                    <a:pt x="128" y="563"/>
                    <a:pt x="136" y="558"/>
                    <a:pt x="143" y="551"/>
                  </a:cubicBezTo>
                  <a:lnTo>
                    <a:pt x="143" y="551"/>
                  </a:lnTo>
                  <a:cubicBezTo>
                    <a:pt x="149" y="545"/>
                    <a:pt x="143" y="535"/>
                    <a:pt x="150" y="528"/>
                  </a:cubicBezTo>
                  <a:lnTo>
                    <a:pt x="150" y="528"/>
                  </a:lnTo>
                  <a:cubicBezTo>
                    <a:pt x="150" y="528"/>
                    <a:pt x="149" y="527"/>
                    <a:pt x="149" y="526"/>
                  </a:cubicBezTo>
                  <a:lnTo>
                    <a:pt x="149" y="526"/>
                  </a:lnTo>
                  <a:cubicBezTo>
                    <a:pt x="141" y="518"/>
                    <a:pt x="131" y="515"/>
                    <a:pt x="119" y="518"/>
                  </a:cubicBezTo>
                  <a:lnTo>
                    <a:pt x="119" y="518"/>
                  </a:lnTo>
                  <a:cubicBezTo>
                    <a:pt x="107" y="520"/>
                    <a:pt x="100" y="525"/>
                    <a:pt x="102" y="535"/>
                  </a:cubicBezTo>
                  <a:close/>
                  <a:moveTo>
                    <a:pt x="236" y="383"/>
                  </a:moveTo>
                  <a:lnTo>
                    <a:pt x="236" y="383"/>
                  </a:lnTo>
                  <a:cubicBezTo>
                    <a:pt x="231" y="379"/>
                    <a:pt x="228" y="374"/>
                    <a:pt x="224" y="372"/>
                  </a:cubicBezTo>
                  <a:lnTo>
                    <a:pt x="224" y="372"/>
                  </a:lnTo>
                  <a:cubicBezTo>
                    <a:pt x="217" y="368"/>
                    <a:pt x="221" y="353"/>
                    <a:pt x="211" y="355"/>
                  </a:cubicBezTo>
                  <a:lnTo>
                    <a:pt x="211" y="355"/>
                  </a:lnTo>
                  <a:cubicBezTo>
                    <a:pt x="203" y="355"/>
                    <a:pt x="196" y="362"/>
                    <a:pt x="189" y="366"/>
                  </a:cubicBezTo>
                  <a:lnTo>
                    <a:pt x="189" y="366"/>
                  </a:lnTo>
                  <a:cubicBezTo>
                    <a:pt x="183" y="370"/>
                    <a:pt x="179" y="373"/>
                    <a:pt x="172" y="377"/>
                  </a:cubicBezTo>
                  <a:lnTo>
                    <a:pt x="172" y="377"/>
                  </a:lnTo>
                  <a:cubicBezTo>
                    <a:pt x="168" y="381"/>
                    <a:pt x="164" y="385"/>
                    <a:pt x="162" y="390"/>
                  </a:cubicBezTo>
                  <a:lnTo>
                    <a:pt x="162" y="390"/>
                  </a:lnTo>
                  <a:cubicBezTo>
                    <a:pt x="160" y="397"/>
                    <a:pt x="163" y="401"/>
                    <a:pt x="169" y="405"/>
                  </a:cubicBezTo>
                  <a:lnTo>
                    <a:pt x="169" y="405"/>
                  </a:lnTo>
                  <a:cubicBezTo>
                    <a:pt x="174" y="410"/>
                    <a:pt x="180" y="413"/>
                    <a:pt x="185" y="410"/>
                  </a:cubicBezTo>
                  <a:lnTo>
                    <a:pt x="185" y="410"/>
                  </a:lnTo>
                  <a:cubicBezTo>
                    <a:pt x="201" y="399"/>
                    <a:pt x="220" y="393"/>
                    <a:pt x="236" y="383"/>
                  </a:cubicBezTo>
                  <a:close/>
                  <a:moveTo>
                    <a:pt x="40" y="1574"/>
                  </a:moveTo>
                  <a:lnTo>
                    <a:pt x="40" y="1574"/>
                  </a:lnTo>
                  <a:cubicBezTo>
                    <a:pt x="35" y="1584"/>
                    <a:pt x="31" y="1594"/>
                    <a:pt x="28" y="1603"/>
                  </a:cubicBezTo>
                  <a:lnTo>
                    <a:pt x="28" y="1603"/>
                  </a:lnTo>
                  <a:cubicBezTo>
                    <a:pt x="25" y="1610"/>
                    <a:pt x="28" y="1616"/>
                    <a:pt x="33" y="1620"/>
                  </a:cubicBezTo>
                  <a:lnTo>
                    <a:pt x="33" y="1620"/>
                  </a:lnTo>
                  <a:cubicBezTo>
                    <a:pt x="43" y="1627"/>
                    <a:pt x="55" y="1630"/>
                    <a:pt x="68" y="1633"/>
                  </a:cubicBezTo>
                  <a:lnTo>
                    <a:pt x="68" y="1633"/>
                  </a:lnTo>
                  <a:cubicBezTo>
                    <a:pt x="80" y="1635"/>
                    <a:pt x="86" y="1628"/>
                    <a:pt x="90" y="1620"/>
                  </a:cubicBezTo>
                  <a:lnTo>
                    <a:pt x="90" y="1620"/>
                  </a:lnTo>
                  <a:cubicBezTo>
                    <a:pt x="95" y="1613"/>
                    <a:pt x="96" y="1604"/>
                    <a:pt x="101" y="1598"/>
                  </a:cubicBezTo>
                  <a:lnTo>
                    <a:pt x="101" y="1598"/>
                  </a:lnTo>
                  <a:cubicBezTo>
                    <a:pt x="102" y="1594"/>
                    <a:pt x="101" y="1590"/>
                    <a:pt x="99" y="1588"/>
                  </a:cubicBezTo>
                  <a:lnTo>
                    <a:pt x="99" y="1588"/>
                  </a:lnTo>
                  <a:cubicBezTo>
                    <a:pt x="96" y="1586"/>
                    <a:pt x="92" y="1587"/>
                    <a:pt x="89" y="1588"/>
                  </a:cubicBezTo>
                  <a:lnTo>
                    <a:pt x="89" y="1588"/>
                  </a:lnTo>
                  <a:cubicBezTo>
                    <a:pt x="83" y="1593"/>
                    <a:pt x="76" y="1592"/>
                    <a:pt x="70" y="1590"/>
                  </a:cubicBezTo>
                  <a:lnTo>
                    <a:pt x="70" y="1590"/>
                  </a:lnTo>
                  <a:cubicBezTo>
                    <a:pt x="58" y="1589"/>
                    <a:pt x="48" y="1583"/>
                    <a:pt x="40" y="1574"/>
                  </a:cubicBezTo>
                  <a:close/>
                  <a:moveTo>
                    <a:pt x="633" y="1575"/>
                  </a:moveTo>
                  <a:lnTo>
                    <a:pt x="633" y="1575"/>
                  </a:lnTo>
                  <a:cubicBezTo>
                    <a:pt x="610" y="1589"/>
                    <a:pt x="613" y="1588"/>
                    <a:pt x="584" y="1589"/>
                  </a:cubicBezTo>
                  <a:lnTo>
                    <a:pt x="584" y="1589"/>
                  </a:lnTo>
                  <a:cubicBezTo>
                    <a:pt x="574" y="1590"/>
                    <a:pt x="571" y="1593"/>
                    <a:pt x="573" y="1602"/>
                  </a:cubicBezTo>
                  <a:lnTo>
                    <a:pt x="573" y="1602"/>
                  </a:lnTo>
                  <a:cubicBezTo>
                    <a:pt x="584" y="1639"/>
                    <a:pt x="584" y="1639"/>
                    <a:pt x="624" y="1634"/>
                  </a:cubicBezTo>
                  <a:lnTo>
                    <a:pt x="624" y="1634"/>
                  </a:lnTo>
                  <a:cubicBezTo>
                    <a:pt x="625" y="1634"/>
                    <a:pt x="627" y="1635"/>
                    <a:pt x="628" y="1634"/>
                  </a:cubicBezTo>
                  <a:lnTo>
                    <a:pt x="628" y="1634"/>
                  </a:lnTo>
                  <a:cubicBezTo>
                    <a:pt x="634" y="1630"/>
                    <a:pt x="645" y="1629"/>
                    <a:pt x="644" y="1620"/>
                  </a:cubicBezTo>
                  <a:lnTo>
                    <a:pt x="644" y="1620"/>
                  </a:lnTo>
                  <a:cubicBezTo>
                    <a:pt x="640" y="1605"/>
                    <a:pt x="639" y="1589"/>
                    <a:pt x="633" y="1575"/>
                  </a:cubicBezTo>
                  <a:lnTo>
                    <a:pt x="292" y="1634"/>
                  </a:lnTo>
                  <a:lnTo>
                    <a:pt x="292" y="1634"/>
                  </a:lnTo>
                  <a:cubicBezTo>
                    <a:pt x="291" y="1651"/>
                    <a:pt x="290" y="1668"/>
                    <a:pt x="289" y="1685"/>
                  </a:cubicBezTo>
                  <a:lnTo>
                    <a:pt x="289" y="1685"/>
                  </a:lnTo>
                  <a:cubicBezTo>
                    <a:pt x="289" y="1691"/>
                    <a:pt x="292" y="1695"/>
                    <a:pt x="297" y="1696"/>
                  </a:cubicBezTo>
                  <a:lnTo>
                    <a:pt x="297" y="1696"/>
                  </a:lnTo>
                  <a:cubicBezTo>
                    <a:pt x="311" y="1700"/>
                    <a:pt x="325" y="1701"/>
                    <a:pt x="339" y="1698"/>
                  </a:cubicBezTo>
                  <a:lnTo>
                    <a:pt x="339" y="1698"/>
                  </a:lnTo>
                  <a:cubicBezTo>
                    <a:pt x="344" y="1695"/>
                    <a:pt x="346" y="1694"/>
                    <a:pt x="346" y="1689"/>
                  </a:cubicBezTo>
                  <a:lnTo>
                    <a:pt x="346" y="1689"/>
                  </a:lnTo>
                  <a:cubicBezTo>
                    <a:pt x="346" y="1673"/>
                    <a:pt x="346" y="1656"/>
                    <a:pt x="346" y="1640"/>
                  </a:cubicBezTo>
                  <a:lnTo>
                    <a:pt x="346" y="1640"/>
                  </a:lnTo>
                  <a:cubicBezTo>
                    <a:pt x="328" y="1644"/>
                    <a:pt x="310" y="1643"/>
                    <a:pt x="292" y="1634"/>
                  </a:cubicBezTo>
                  <a:lnTo>
                    <a:pt x="633" y="1575"/>
                  </a:lnTo>
                  <a:close/>
                  <a:moveTo>
                    <a:pt x="151" y="390"/>
                  </a:moveTo>
                  <a:lnTo>
                    <a:pt x="151" y="390"/>
                  </a:lnTo>
                  <a:cubicBezTo>
                    <a:pt x="122" y="403"/>
                    <a:pt x="97" y="422"/>
                    <a:pt x="69" y="432"/>
                  </a:cubicBezTo>
                  <a:lnTo>
                    <a:pt x="69" y="432"/>
                  </a:lnTo>
                  <a:cubicBezTo>
                    <a:pt x="66" y="433"/>
                    <a:pt x="63" y="436"/>
                    <a:pt x="62" y="438"/>
                  </a:cubicBezTo>
                  <a:lnTo>
                    <a:pt x="62" y="438"/>
                  </a:lnTo>
                  <a:cubicBezTo>
                    <a:pt x="59" y="443"/>
                    <a:pt x="56" y="449"/>
                    <a:pt x="59" y="454"/>
                  </a:cubicBezTo>
                  <a:lnTo>
                    <a:pt x="59" y="454"/>
                  </a:lnTo>
                  <a:cubicBezTo>
                    <a:pt x="60" y="459"/>
                    <a:pt x="63" y="464"/>
                    <a:pt x="69" y="463"/>
                  </a:cubicBezTo>
                  <a:lnTo>
                    <a:pt x="69" y="463"/>
                  </a:lnTo>
                  <a:cubicBezTo>
                    <a:pt x="76" y="463"/>
                    <a:pt x="84" y="463"/>
                    <a:pt x="91" y="459"/>
                  </a:cubicBezTo>
                  <a:lnTo>
                    <a:pt x="91" y="459"/>
                  </a:lnTo>
                  <a:cubicBezTo>
                    <a:pt x="116" y="445"/>
                    <a:pt x="141" y="433"/>
                    <a:pt x="167" y="422"/>
                  </a:cubicBezTo>
                  <a:lnTo>
                    <a:pt x="167" y="422"/>
                  </a:lnTo>
                  <a:cubicBezTo>
                    <a:pt x="159" y="412"/>
                    <a:pt x="148" y="405"/>
                    <a:pt x="151" y="390"/>
                  </a:cubicBezTo>
                  <a:lnTo>
                    <a:pt x="328" y="289"/>
                  </a:lnTo>
                  <a:lnTo>
                    <a:pt x="328" y="289"/>
                  </a:lnTo>
                  <a:cubicBezTo>
                    <a:pt x="322" y="289"/>
                    <a:pt x="318" y="292"/>
                    <a:pt x="313" y="295"/>
                  </a:cubicBezTo>
                  <a:lnTo>
                    <a:pt x="313" y="295"/>
                  </a:lnTo>
                  <a:cubicBezTo>
                    <a:pt x="290" y="308"/>
                    <a:pt x="268" y="322"/>
                    <a:pt x="244" y="335"/>
                  </a:cubicBezTo>
                  <a:lnTo>
                    <a:pt x="244" y="335"/>
                  </a:lnTo>
                  <a:cubicBezTo>
                    <a:pt x="233" y="342"/>
                    <a:pt x="230" y="351"/>
                    <a:pt x="237" y="361"/>
                  </a:cubicBezTo>
                  <a:lnTo>
                    <a:pt x="237" y="361"/>
                  </a:lnTo>
                  <a:cubicBezTo>
                    <a:pt x="243" y="365"/>
                    <a:pt x="250" y="374"/>
                    <a:pt x="260" y="370"/>
                  </a:cubicBezTo>
                  <a:lnTo>
                    <a:pt x="260" y="370"/>
                  </a:lnTo>
                  <a:cubicBezTo>
                    <a:pt x="287" y="357"/>
                    <a:pt x="311" y="342"/>
                    <a:pt x="337" y="328"/>
                  </a:cubicBezTo>
                  <a:lnTo>
                    <a:pt x="337" y="328"/>
                  </a:lnTo>
                  <a:cubicBezTo>
                    <a:pt x="339" y="326"/>
                    <a:pt x="343" y="326"/>
                    <a:pt x="339" y="323"/>
                  </a:cubicBezTo>
                  <a:lnTo>
                    <a:pt x="339" y="323"/>
                  </a:lnTo>
                  <a:cubicBezTo>
                    <a:pt x="330" y="313"/>
                    <a:pt x="329" y="301"/>
                    <a:pt x="328" y="289"/>
                  </a:cubicBezTo>
                  <a:lnTo>
                    <a:pt x="151" y="390"/>
                  </a:lnTo>
                  <a:close/>
                  <a:moveTo>
                    <a:pt x="530" y="1230"/>
                  </a:moveTo>
                  <a:lnTo>
                    <a:pt x="530" y="1230"/>
                  </a:lnTo>
                  <a:cubicBezTo>
                    <a:pt x="514" y="1240"/>
                    <a:pt x="499" y="1252"/>
                    <a:pt x="478" y="1247"/>
                  </a:cubicBezTo>
                  <a:lnTo>
                    <a:pt x="478" y="1247"/>
                  </a:lnTo>
                  <a:cubicBezTo>
                    <a:pt x="477" y="1247"/>
                    <a:pt x="474" y="1247"/>
                    <a:pt x="474" y="1250"/>
                  </a:cubicBezTo>
                  <a:lnTo>
                    <a:pt x="474" y="1250"/>
                  </a:lnTo>
                  <a:cubicBezTo>
                    <a:pt x="475" y="1258"/>
                    <a:pt x="469" y="1265"/>
                    <a:pt x="473" y="1273"/>
                  </a:cubicBezTo>
                  <a:lnTo>
                    <a:pt x="473" y="1273"/>
                  </a:lnTo>
                  <a:cubicBezTo>
                    <a:pt x="479" y="1284"/>
                    <a:pt x="482" y="1296"/>
                    <a:pt x="485" y="1306"/>
                  </a:cubicBezTo>
                  <a:lnTo>
                    <a:pt x="485" y="1306"/>
                  </a:lnTo>
                  <a:cubicBezTo>
                    <a:pt x="493" y="1330"/>
                    <a:pt x="499" y="1333"/>
                    <a:pt x="526" y="1330"/>
                  </a:cubicBezTo>
                  <a:lnTo>
                    <a:pt x="526" y="1330"/>
                  </a:lnTo>
                  <a:cubicBezTo>
                    <a:pt x="556" y="1325"/>
                    <a:pt x="564" y="1312"/>
                    <a:pt x="554" y="1284"/>
                  </a:cubicBezTo>
                  <a:lnTo>
                    <a:pt x="554" y="1284"/>
                  </a:lnTo>
                  <a:cubicBezTo>
                    <a:pt x="547" y="1265"/>
                    <a:pt x="543" y="1246"/>
                    <a:pt x="530" y="1230"/>
                  </a:cubicBezTo>
                  <a:close/>
                  <a:moveTo>
                    <a:pt x="357" y="1289"/>
                  </a:moveTo>
                  <a:lnTo>
                    <a:pt x="357" y="1269"/>
                  </a:lnTo>
                  <a:lnTo>
                    <a:pt x="357" y="1269"/>
                  </a:lnTo>
                  <a:cubicBezTo>
                    <a:pt x="357" y="1267"/>
                    <a:pt x="357" y="1266"/>
                    <a:pt x="357" y="1266"/>
                  </a:cubicBezTo>
                  <a:lnTo>
                    <a:pt x="357" y="1266"/>
                  </a:lnTo>
                  <a:cubicBezTo>
                    <a:pt x="356" y="1256"/>
                    <a:pt x="349" y="1251"/>
                    <a:pt x="338" y="1252"/>
                  </a:cubicBezTo>
                  <a:lnTo>
                    <a:pt x="338" y="1252"/>
                  </a:lnTo>
                  <a:cubicBezTo>
                    <a:pt x="324" y="1255"/>
                    <a:pt x="311" y="1257"/>
                    <a:pt x="297" y="1253"/>
                  </a:cubicBezTo>
                  <a:lnTo>
                    <a:pt x="297" y="1253"/>
                  </a:lnTo>
                  <a:cubicBezTo>
                    <a:pt x="287" y="1251"/>
                    <a:pt x="278" y="1258"/>
                    <a:pt x="280" y="1269"/>
                  </a:cubicBezTo>
                  <a:lnTo>
                    <a:pt x="280" y="1269"/>
                  </a:lnTo>
                  <a:cubicBezTo>
                    <a:pt x="281" y="1282"/>
                    <a:pt x="281" y="1297"/>
                    <a:pt x="282" y="1311"/>
                  </a:cubicBezTo>
                  <a:lnTo>
                    <a:pt x="282" y="1311"/>
                  </a:lnTo>
                  <a:cubicBezTo>
                    <a:pt x="285" y="1338"/>
                    <a:pt x="296" y="1346"/>
                    <a:pt x="325" y="1343"/>
                  </a:cubicBezTo>
                  <a:lnTo>
                    <a:pt x="325" y="1343"/>
                  </a:lnTo>
                  <a:cubicBezTo>
                    <a:pt x="329" y="1342"/>
                    <a:pt x="332" y="1342"/>
                    <a:pt x="337" y="1342"/>
                  </a:cubicBezTo>
                  <a:lnTo>
                    <a:pt x="337" y="1342"/>
                  </a:lnTo>
                  <a:cubicBezTo>
                    <a:pt x="351" y="1341"/>
                    <a:pt x="362" y="1330"/>
                    <a:pt x="359" y="1317"/>
                  </a:cubicBezTo>
                  <a:lnTo>
                    <a:pt x="359" y="1317"/>
                  </a:lnTo>
                  <a:cubicBezTo>
                    <a:pt x="357" y="1307"/>
                    <a:pt x="358" y="1298"/>
                    <a:pt x="357" y="1289"/>
                  </a:cubicBezTo>
                  <a:close/>
                  <a:moveTo>
                    <a:pt x="102" y="1291"/>
                  </a:moveTo>
                  <a:lnTo>
                    <a:pt x="102" y="1291"/>
                  </a:lnTo>
                  <a:cubicBezTo>
                    <a:pt x="102" y="1301"/>
                    <a:pt x="115" y="1318"/>
                    <a:pt x="127" y="1322"/>
                  </a:cubicBezTo>
                  <a:lnTo>
                    <a:pt x="127" y="1322"/>
                  </a:lnTo>
                  <a:cubicBezTo>
                    <a:pt x="137" y="1326"/>
                    <a:pt x="148" y="1326"/>
                    <a:pt x="160" y="1328"/>
                  </a:cubicBezTo>
                  <a:lnTo>
                    <a:pt x="160" y="1328"/>
                  </a:lnTo>
                  <a:cubicBezTo>
                    <a:pt x="176" y="1331"/>
                    <a:pt x="183" y="1327"/>
                    <a:pt x="188" y="1312"/>
                  </a:cubicBezTo>
                  <a:lnTo>
                    <a:pt x="188" y="1312"/>
                  </a:lnTo>
                  <a:cubicBezTo>
                    <a:pt x="191" y="1299"/>
                    <a:pt x="193" y="1286"/>
                    <a:pt x="197" y="1273"/>
                  </a:cubicBezTo>
                  <a:lnTo>
                    <a:pt x="197" y="1273"/>
                  </a:lnTo>
                  <a:cubicBezTo>
                    <a:pt x="203" y="1249"/>
                    <a:pt x="203" y="1250"/>
                    <a:pt x="177" y="1247"/>
                  </a:cubicBezTo>
                  <a:lnTo>
                    <a:pt x="177" y="1247"/>
                  </a:lnTo>
                  <a:cubicBezTo>
                    <a:pt x="161" y="1246"/>
                    <a:pt x="143" y="1247"/>
                    <a:pt x="134" y="1230"/>
                  </a:cubicBezTo>
                  <a:lnTo>
                    <a:pt x="134" y="1230"/>
                  </a:lnTo>
                  <a:cubicBezTo>
                    <a:pt x="131" y="1226"/>
                    <a:pt x="128" y="1226"/>
                    <a:pt x="123" y="1227"/>
                  </a:cubicBezTo>
                  <a:lnTo>
                    <a:pt x="123" y="1227"/>
                  </a:lnTo>
                  <a:cubicBezTo>
                    <a:pt x="120" y="1229"/>
                    <a:pt x="117" y="1231"/>
                    <a:pt x="117" y="1235"/>
                  </a:cubicBezTo>
                  <a:lnTo>
                    <a:pt x="117" y="1235"/>
                  </a:lnTo>
                  <a:cubicBezTo>
                    <a:pt x="119" y="1240"/>
                    <a:pt x="115" y="1245"/>
                    <a:pt x="112" y="1250"/>
                  </a:cubicBezTo>
                  <a:lnTo>
                    <a:pt x="112" y="1250"/>
                  </a:lnTo>
                  <a:cubicBezTo>
                    <a:pt x="107" y="1262"/>
                    <a:pt x="104" y="1276"/>
                    <a:pt x="102" y="1291"/>
                  </a:cubicBezTo>
                  <a:close/>
                  <a:moveTo>
                    <a:pt x="293" y="527"/>
                  </a:moveTo>
                  <a:lnTo>
                    <a:pt x="293" y="527"/>
                  </a:lnTo>
                  <a:cubicBezTo>
                    <a:pt x="297" y="527"/>
                    <a:pt x="301" y="525"/>
                    <a:pt x="304" y="524"/>
                  </a:cubicBezTo>
                  <a:lnTo>
                    <a:pt x="304" y="524"/>
                  </a:lnTo>
                  <a:cubicBezTo>
                    <a:pt x="322" y="520"/>
                    <a:pt x="336" y="512"/>
                    <a:pt x="350" y="503"/>
                  </a:cubicBezTo>
                  <a:lnTo>
                    <a:pt x="350" y="503"/>
                  </a:lnTo>
                  <a:cubicBezTo>
                    <a:pt x="353" y="502"/>
                    <a:pt x="359" y="503"/>
                    <a:pt x="361" y="497"/>
                  </a:cubicBezTo>
                  <a:lnTo>
                    <a:pt x="361" y="497"/>
                  </a:lnTo>
                  <a:cubicBezTo>
                    <a:pt x="361" y="492"/>
                    <a:pt x="356" y="491"/>
                    <a:pt x="353" y="487"/>
                  </a:cubicBezTo>
                  <a:lnTo>
                    <a:pt x="353" y="487"/>
                  </a:lnTo>
                  <a:cubicBezTo>
                    <a:pt x="348" y="483"/>
                    <a:pt x="341" y="479"/>
                    <a:pt x="336" y="472"/>
                  </a:cubicBezTo>
                  <a:lnTo>
                    <a:pt x="336" y="472"/>
                  </a:lnTo>
                  <a:cubicBezTo>
                    <a:pt x="319" y="451"/>
                    <a:pt x="316" y="427"/>
                    <a:pt x="314" y="403"/>
                  </a:cubicBezTo>
                  <a:lnTo>
                    <a:pt x="314" y="403"/>
                  </a:lnTo>
                  <a:cubicBezTo>
                    <a:pt x="314" y="394"/>
                    <a:pt x="312" y="394"/>
                    <a:pt x="305" y="398"/>
                  </a:cubicBezTo>
                  <a:lnTo>
                    <a:pt x="305" y="398"/>
                  </a:lnTo>
                  <a:cubicBezTo>
                    <a:pt x="285" y="409"/>
                    <a:pt x="265" y="421"/>
                    <a:pt x="245" y="431"/>
                  </a:cubicBezTo>
                  <a:lnTo>
                    <a:pt x="245" y="431"/>
                  </a:lnTo>
                  <a:cubicBezTo>
                    <a:pt x="242" y="433"/>
                    <a:pt x="238" y="437"/>
                    <a:pt x="241" y="441"/>
                  </a:cubicBezTo>
                  <a:lnTo>
                    <a:pt x="241" y="441"/>
                  </a:lnTo>
                  <a:cubicBezTo>
                    <a:pt x="247" y="450"/>
                    <a:pt x="242" y="461"/>
                    <a:pt x="245" y="470"/>
                  </a:cubicBezTo>
                  <a:lnTo>
                    <a:pt x="245" y="470"/>
                  </a:lnTo>
                  <a:cubicBezTo>
                    <a:pt x="249" y="479"/>
                    <a:pt x="251" y="490"/>
                    <a:pt x="256" y="499"/>
                  </a:cubicBezTo>
                  <a:lnTo>
                    <a:pt x="256" y="499"/>
                  </a:lnTo>
                  <a:cubicBezTo>
                    <a:pt x="264" y="513"/>
                    <a:pt x="275" y="525"/>
                    <a:pt x="293" y="527"/>
                  </a:cubicBezTo>
                  <a:lnTo>
                    <a:pt x="338" y="546"/>
                  </a:lnTo>
                  <a:lnTo>
                    <a:pt x="338" y="546"/>
                  </a:lnTo>
                  <a:cubicBezTo>
                    <a:pt x="341" y="533"/>
                    <a:pt x="336" y="532"/>
                    <a:pt x="328" y="537"/>
                  </a:cubicBezTo>
                  <a:lnTo>
                    <a:pt x="328" y="537"/>
                  </a:lnTo>
                  <a:cubicBezTo>
                    <a:pt x="322" y="539"/>
                    <a:pt x="314" y="542"/>
                    <a:pt x="308" y="543"/>
                  </a:cubicBezTo>
                  <a:lnTo>
                    <a:pt x="308" y="543"/>
                  </a:lnTo>
                  <a:cubicBezTo>
                    <a:pt x="298" y="544"/>
                    <a:pt x="297" y="548"/>
                    <a:pt x="297" y="557"/>
                  </a:cubicBezTo>
                  <a:lnTo>
                    <a:pt x="297" y="557"/>
                  </a:lnTo>
                  <a:cubicBezTo>
                    <a:pt x="297" y="620"/>
                    <a:pt x="297" y="682"/>
                    <a:pt x="297" y="745"/>
                  </a:cubicBezTo>
                  <a:lnTo>
                    <a:pt x="297" y="745"/>
                  </a:lnTo>
                  <a:cubicBezTo>
                    <a:pt x="297" y="769"/>
                    <a:pt x="297" y="794"/>
                    <a:pt x="295" y="817"/>
                  </a:cubicBezTo>
                  <a:lnTo>
                    <a:pt x="295" y="817"/>
                  </a:lnTo>
                  <a:cubicBezTo>
                    <a:pt x="295" y="821"/>
                    <a:pt x="291" y="827"/>
                    <a:pt x="298" y="828"/>
                  </a:cubicBezTo>
                  <a:lnTo>
                    <a:pt x="298" y="828"/>
                  </a:lnTo>
                  <a:cubicBezTo>
                    <a:pt x="309" y="828"/>
                    <a:pt x="319" y="827"/>
                    <a:pt x="330" y="826"/>
                  </a:cubicBezTo>
                  <a:lnTo>
                    <a:pt x="330" y="826"/>
                  </a:lnTo>
                  <a:cubicBezTo>
                    <a:pt x="330" y="826"/>
                    <a:pt x="330" y="823"/>
                    <a:pt x="330" y="821"/>
                  </a:cubicBezTo>
                  <a:lnTo>
                    <a:pt x="330" y="821"/>
                  </a:lnTo>
                  <a:cubicBezTo>
                    <a:pt x="332" y="729"/>
                    <a:pt x="336" y="636"/>
                    <a:pt x="338" y="546"/>
                  </a:cubicBezTo>
                  <a:lnTo>
                    <a:pt x="293" y="527"/>
                  </a:lnTo>
                  <a:close/>
                  <a:moveTo>
                    <a:pt x="1101" y="138"/>
                  </a:moveTo>
                  <a:lnTo>
                    <a:pt x="1101" y="138"/>
                  </a:lnTo>
                  <a:cubicBezTo>
                    <a:pt x="1098" y="88"/>
                    <a:pt x="1078" y="49"/>
                    <a:pt x="1029" y="28"/>
                  </a:cubicBezTo>
                  <a:lnTo>
                    <a:pt x="1029" y="28"/>
                  </a:lnTo>
                  <a:cubicBezTo>
                    <a:pt x="1017" y="23"/>
                    <a:pt x="1005" y="22"/>
                    <a:pt x="994" y="26"/>
                  </a:cubicBezTo>
                  <a:lnTo>
                    <a:pt x="994" y="26"/>
                  </a:lnTo>
                  <a:cubicBezTo>
                    <a:pt x="983" y="29"/>
                    <a:pt x="975" y="35"/>
                    <a:pt x="976" y="48"/>
                  </a:cubicBezTo>
                  <a:lnTo>
                    <a:pt x="976" y="48"/>
                  </a:lnTo>
                  <a:cubicBezTo>
                    <a:pt x="977" y="56"/>
                    <a:pt x="980" y="63"/>
                    <a:pt x="982" y="71"/>
                  </a:cubicBezTo>
                  <a:lnTo>
                    <a:pt x="982" y="71"/>
                  </a:lnTo>
                  <a:cubicBezTo>
                    <a:pt x="988" y="118"/>
                    <a:pt x="1020" y="145"/>
                    <a:pt x="1058" y="169"/>
                  </a:cubicBezTo>
                  <a:lnTo>
                    <a:pt x="1058" y="169"/>
                  </a:lnTo>
                  <a:cubicBezTo>
                    <a:pt x="1081" y="183"/>
                    <a:pt x="1103" y="170"/>
                    <a:pt x="1101" y="143"/>
                  </a:cubicBezTo>
                  <a:lnTo>
                    <a:pt x="1101" y="143"/>
                  </a:lnTo>
                  <a:cubicBezTo>
                    <a:pt x="1101" y="141"/>
                    <a:pt x="1101" y="139"/>
                    <a:pt x="1101" y="138"/>
                  </a:cubicBezTo>
                  <a:close/>
                  <a:moveTo>
                    <a:pt x="103" y="506"/>
                  </a:moveTo>
                  <a:lnTo>
                    <a:pt x="103" y="506"/>
                  </a:lnTo>
                  <a:cubicBezTo>
                    <a:pt x="126" y="504"/>
                    <a:pt x="149" y="497"/>
                    <a:pt x="162" y="522"/>
                  </a:cubicBezTo>
                  <a:lnTo>
                    <a:pt x="162" y="522"/>
                  </a:lnTo>
                  <a:cubicBezTo>
                    <a:pt x="171" y="539"/>
                    <a:pt x="164" y="560"/>
                    <a:pt x="149" y="573"/>
                  </a:cubicBezTo>
                  <a:lnTo>
                    <a:pt x="149" y="573"/>
                  </a:lnTo>
                  <a:cubicBezTo>
                    <a:pt x="137" y="581"/>
                    <a:pt x="109" y="581"/>
                    <a:pt x="96" y="573"/>
                  </a:cubicBezTo>
                  <a:lnTo>
                    <a:pt x="96" y="573"/>
                  </a:lnTo>
                  <a:cubicBezTo>
                    <a:pt x="82" y="564"/>
                    <a:pt x="80" y="544"/>
                    <a:pt x="91" y="514"/>
                  </a:cubicBezTo>
                  <a:lnTo>
                    <a:pt x="91" y="514"/>
                  </a:lnTo>
                  <a:cubicBezTo>
                    <a:pt x="81" y="515"/>
                    <a:pt x="73" y="519"/>
                    <a:pt x="66" y="524"/>
                  </a:cubicBezTo>
                  <a:lnTo>
                    <a:pt x="66" y="524"/>
                  </a:lnTo>
                  <a:cubicBezTo>
                    <a:pt x="51" y="533"/>
                    <a:pt x="44" y="546"/>
                    <a:pt x="46" y="563"/>
                  </a:cubicBezTo>
                  <a:lnTo>
                    <a:pt x="46" y="563"/>
                  </a:lnTo>
                  <a:cubicBezTo>
                    <a:pt x="46" y="576"/>
                    <a:pt x="55" y="588"/>
                    <a:pt x="60" y="603"/>
                  </a:cubicBezTo>
                  <a:lnTo>
                    <a:pt x="60" y="603"/>
                  </a:lnTo>
                  <a:cubicBezTo>
                    <a:pt x="61" y="606"/>
                    <a:pt x="63" y="607"/>
                    <a:pt x="67" y="608"/>
                  </a:cubicBezTo>
                  <a:lnTo>
                    <a:pt x="67" y="608"/>
                  </a:lnTo>
                  <a:cubicBezTo>
                    <a:pt x="84" y="613"/>
                    <a:pt x="100" y="611"/>
                    <a:pt x="112" y="599"/>
                  </a:cubicBezTo>
                  <a:lnTo>
                    <a:pt x="112" y="599"/>
                  </a:lnTo>
                  <a:cubicBezTo>
                    <a:pt x="116" y="595"/>
                    <a:pt x="120" y="593"/>
                    <a:pt x="124" y="592"/>
                  </a:cubicBezTo>
                  <a:lnTo>
                    <a:pt x="124" y="592"/>
                  </a:lnTo>
                  <a:cubicBezTo>
                    <a:pt x="170" y="580"/>
                    <a:pt x="209" y="552"/>
                    <a:pt x="252" y="537"/>
                  </a:cubicBezTo>
                  <a:lnTo>
                    <a:pt x="252" y="537"/>
                  </a:lnTo>
                  <a:cubicBezTo>
                    <a:pt x="260" y="534"/>
                    <a:pt x="260" y="532"/>
                    <a:pt x="256" y="527"/>
                  </a:cubicBezTo>
                  <a:lnTo>
                    <a:pt x="256" y="527"/>
                  </a:lnTo>
                  <a:cubicBezTo>
                    <a:pt x="244" y="511"/>
                    <a:pt x="236" y="494"/>
                    <a:pt x="230" y="475"/>
                  </a:cubicBezTo>
                  <a:lnTo>
                    <a:pt x="230" y="475"/>
                  </a:lnTo>
                  <a:cubicBezTo>
                    <a:pt x="228" y="465"/>
                    <a:pt x="227" y="456"/>
                    <a:pt x="224" y="444"/>
                  </a:cubicBezTo>
                  <a:lnTo>
                    <a:pt x="224" y="444"/>
                  </a:lnTo>
                  <a:cubicBezTo>
                    <a:pt x="181" y="462"/>
                    <a:pt x="143" y="486"/>
                    <a:pt x="103" y="506"/>
                  </a:cubicBezTo>
                  <a:close/>
                  <a:moveTo>
                    <a:pt x="104" y="1326"/>
                  </a:moveTo>
                  <a:lnTo>
                    <a:pt x="104" y="1326"/>
                  </a:lnTo>
                  <a:cubicBezTo>
                    <a:pt x="86" y="1399"/>
                    <a:pt x="67" y="1471"/>
                    <a:pt x="47" y="1542"/>
                  </a:cubicBezTo>
                  <a:lnTo>
                    <a:pt x="47" y="1542"/>
                  </a:lnTo>
                  <a:cubicBezTo>
                    <a:pt x="43" y="1554"/>
                    <a:pt x="48" y="1561"/>
                    <a:pt x="55" y="1568"/>
                  </a:cubicBezTo>
                  <a:lnTo>
                    <a:pt x="55" y="1568"/>
                  </a:lnTo>
                  <a:cubicBezTo>
                    <a:pt x="64" y="1578"/>
                    <a:pt x="75" y="1578"/>
                    <a:pt x="88" y="1577"/>
                  </a:cubicBezTo>
                  <a:lnTo>
                    <a:pt x="88" y="1577"/>
                  </a:lnTo>
                  <a:cubicBezTo>
                    <a:pt x="100" y="1575"/>
                    <a:pt x="100" y="1568"/>
                    <a:pt x="102" y="1560"/>
                  </a:cubicBezTo>
                  <a:lnTo>
                    <a:pt x="102" y="1560"/>
                  </a:lnTo>
                  <a:cubicBezTo>
                    <a:pt x="122" y="1491"/>
                    <a:pt x="142" y="1420"/>
                    <a:pt x="161" y="1351"/>
                  </a:cubicBezTo>
                  <a:lnTo>
                    <a:pt x="161" y="1351"/>
                  </a:lnTo>
                  <a:cubicBezTo>
                    <a:pt x="163" y="1345"/>
                    <a:pt x="163" y="1342"/>
                    <a:pt x="155" y="1341"/>
                  </a:cubicBezTo>
                  <a:lnTo>
                    <a:pt x="155" y="1341"/>
                  </a:lnTo>
                  <a:cubicBezTo>
                    <a:pt x="137" y="1340"/>
                    <a:pt x="121" y="1338"/>
                    <a:pt x="104" y="1326"/>
                  </a:cubicBezTo>
                  <a:close/>
                  <a:moveTo>
                    <a:pt x="292" y="1488"/>
                  </a:moveTo>
                  <a:lnTo>
                    <a:pt x="291" y="1488"/>
                  </a:lnTo>
                  <a:lnTo>
                    <a:pt x="291" y="1488"/>
                  </a:lnTo>
                  <a:cubicBezTo>
                    <a:pt x="291" y="1529"/>
                    <a:pt x="292" y="1569"/>
                    <a:pt x="291" y="1609"/>
                  </a:cubicBezTo>
                  <a:lnTo>
                    <a:pt x="291" y="1609"/>
                  </a:lnTo>
                  <a:cubicBezTo>
                    <a:pt x="291" y="1619"/>
                    <a:pt x="295" y="1622"/>
                    <a:pt x="303" y="1624"/>
                  </a:cubicBezTo>
                  <a:lnTo>
                    <a:pt x="303" y="1624"/>
                  </a:lnTo>
                  <a:cubicBezTo>
                    <a:pt x="312" y="1628"/>
                    <a:pt x="322" y="1630"/>
                    <a:pt x="331" y="1629"/>
                  </a:cubicBezTo>
                  <a:lnTo>
                    <a:pt x="331" y="1629"/>
                  </a:lnTo>
                  <a:cubicBezTo>
                    <a:pt x="341" y="1629"/>
                    <a:pt x="346" y="1624"/>
                    <a:pt x="346" y="1614"/>
                  </a:cubicBezTo>
                  <a:lnTo>
                    <a:pt x="346" y="1614"/>
                  </a:lnTo>
                  <a:cubicBezTo>
                    <a:pt x="348" y="1532"/>
                    <a:pt x="348" y="1448"/>
                    <a:pt x="349" y="1366"/>
                  </a:cubicBezTo>
                  <a:lnTo>
                    <a:pt x="349" y="1366"/>
                  </a:lnTo>
                  <a:cubicBezTo>
                    <a:pt x="349" y="1359"/>
                    <a:pt x="346" y="1357"/>
                    <a:pt x="339" y="1357"/>
                  </a:cubicBezTo>
                  <a:lnTo>
                    <a:pt x="339" y="1357"/>
                  </a:lnTo>
                  <a:cubicBezTo>
                    <a:pt x="328" y="1358"/>
                    <a:pt x="316" y="1359"/>
                    <a:pt x="304" y="1358"/>
                  </a:cubicBezTo>
                  <a:lnTo>
                    <a:pt x="304" y="1358"/>
                  </a:lnTo>
                  <a:cubicBezTo>
                    <a:pt x="296" y="1356"/>
                    <a:pt x="291" y="1357"/>
                    <a:pt x="291" y="1367"/>
                  </a:cubicBezTo>
                  <a:lnTo>
                    <a:pt x="291" y="1367"/>
                  </a:lnTo>
                  <a:cubicBezTo>
                    <a:pt x="292" y="1407"/>
                    <a:pt x="292" y="1448"/>
                    <a:pt x="292" y="1488"/>
                  </a:cubicBezTo>
                  <a:close/>
                  <a:moveTo>
                    <a:pt x="580" y="1578"/>
                  </a:moveTo>
                  <a:lnTo>
                    <a:pt x="580" y="1578"/>
                  </a:lnTo>
                  <a:cubicBezTo>
                    <a:pt x="588" y="1579"/>
                    <a:pt x="595" y="1577"/>
                    <a:pt x="603" y="1575"/>
                  </a:cubicBezTo>
                  <a:lnTo>
                    <a:pt x="603" y="1575"/>
                  </a:lnTo>
                  <a:cubicBezTo>
                    <a:pt x="621" y="1572"/>
                    <a:pt x="631" y="1558"/>
                    <a:pt x="625" y="1540"/>
                  </a:cubicBezTo>
                  <a:lnTo>
                    <a:pt x="625" y="1540"/>
                  </a:lnTo>
                  <a:cubicBezTo>
                    <a:pt x="620" y="1527"/>
                    <a:pt x="613" y="1513"/>
                    <a:pt x="610" y="1500"/>
                  </a:cubicBezTo>
                  <a:lnTo>
                    <a:pt x="610" y="1500"/>
                  </a:lnTo>
                  <a:cubicBezTo>
                    <a:pt x="596" y="1445"/>
                    <a:pt x="576" y="1392"/>
                    <a:pt x="561" y="1339"/>
                  </a:cubicBezTo>
                  <a:lnTo>
                    <a:pt x="561" y="1339"/>
                  </a:lnTo>
                  <a:cubicBezTo>
                    <a:pt x="560" y="1335"/>
                    <a:pt x="558" y="1332"/>
                    <a:pt x="554" y="1335"/>
                  </a:cubicBezTo>
                  <a:lnTo>
                    <a:pt x="554" y="1335"/>
                  </a:lnTo>
                  <a:cubicBezTo>
                    <a:pt x="540" y="1342"/>
                    <a:pt x="525" y="1343"/>
                    <a:pt x="509" y="1343"/>
                  </a:cubicBezTo>
                  <a:lnTo>
                    <a:pt x="509" y="1343"/>
                  </a:lnTo>
                  <a:cubicBezTo>
                    <a:pt x="500" y="1343"/>
                    <a:pt x="499" y="1347"/>
                    <a:pt x="501" y="1355"/>
                  </a:cubicBezTo>
                  <a:lnTo>
                    <a:pt x="501" y="1355"/>
                  </a:lnTo>
                  <a:cubicBezTo>
                    <a:pt x="506" y="1375"/>
                    <a:pt x="512" y="1396"/>
                    <a:pt x="518" y="1416"/>
                  </a:cubicBezTo>
                  <a:lnTo>
                    <a:pt x="518" y="1416"/>
                  </a:lnTo>
                  <a:cubicBezTo>
                    <a:pt x="531" y="1466"/>
                    <a:pt x="553" y="1513"/>
                    <a:pt x="561" y="1564"/>
                  </a:cubicBezTo>
                  <a:lnTo>
                    <a:pt x="561" y="1564"/>
                  </a:lnTo>
                  <a:cubicBezTo>
                    <a:pt x="564" y="1575"/>
                    <a:pt x="569" y="1580"/>
                    <a:pt x="580" y="1578"/>
                  </a:cubicBezTo>
                  <a:close/>
                  <a:moveTo>
                    <a:pt x="291" y="1112"/>
                  </a:moveTo>
                  <a:lnTo>
                    <a:pt x="291" y="1112"/>
                  </a:lnTo>
                  <a:cubicBezTo>
                    <a:pt x="291" y="1151"/>
                    <a:pt x="292" y="1191"/>
                    <a:pt x="291" y="1231"/>
                  </a:cubicBezTo>
                  <a:lnTo>
                    <a:pt x="291" y="1231"/>
                  </a:lnTo>
                  <a:cubicBezTo>
                    <a:pt x="291" y="1238"/>
                    <a:pt x="292" y="1241"/>
                    <a:pt x="302" y="1240"/>
                  </a:cubicBezTo>
                  <a:lnTo>
                    <a:pt x="302" y="1240"/>
                  </a:lnTo>
                  <a:cubicBezTo>
                    <a:pt x="313" y="1239"/>
                    <a:pt x="326" y="1241"/>
                    <a:pt x="338" y="1238"/>
                  </a:cubicBezTo>
                  <a:lnTo>
                    <a:pt x="338" y="1238"/>
                  </a:lnTo>
                  <a:cubicBezTo>
                    <a:pt x="346" y="1236"/>
                    <a:pt x="350" y="1234"/>
                    <a:pt x="350" y="1225"/>
                  </a:cubicBezTo>
                  <a:lnTo>
                    <a:pt x="350" y="1225"/>
                  </a:lnTo>
                  <a:cubicBezTo>
                    <a:pt x="349" y="1168"/>
                    <a:pt x="350" y="1109"/>
                    <a:pt x="349" y="1051"/>
                  </a:cubicBezTo>
                  <a:lnTo>
                    <a:pt x="349" y="1051"/>
                  </a:lnTo>
                  <a:cubicBezTo>
                    <a:pt x="349" y="1004"/>
                    <a:pt x="350" y="958"/>
                    <a:pt x="352" y="913"/>
                  </a:cubicBezTo>
                  <a:lnTo>
                    <a:pt x="352" y="913"/>
                  </a:lnTo>
                  <a:cubicBezTo>
                    <a:pt x="352" y="904"/>
                    <a:pt x="351" y="901"/>
                    <a:pt x="342" y="902"/>
                  </a:cubicBezTo>
                  <a:lnTo>
                    <a:pt x="342" y="902"/>
                  </a:lnTo>
                  <a:cubicBezTo>
                    <a:pt x="332" y="902"/>
                    <a:pt x="323" y="901"/>
                    <a:pt x="312" y="903"/>
                  </a:cubicBezTo>
                  <a:lnTo>
                    <a:pt x="312" y="903"/>
                  </a:lnTo>
                  <a:cubicBezTo>
                    <a:pt x="309" y="904"/>
                    <a:pt x="301" y="896"/>
                    <a:pt x="298" y="902"/>
                  </a:cubicBezTo>
                  <a:lnTo>
                    <a:pt x="298" y="902"/>
                  </a:lnTo>
                  <a:cubicBezTo>
                    <a:pt x="297" y="907"/>
                    <a:pt x="295" y="912"/>
                    <a:pt x="295" y="917"/>
                  </a:cubicBezTo>
                  <a:lnTo>
                    <a:pt x="295" y="917"/>
                  </a:lnTo>
                  <a:cubicBezTo>
                    <a:pt x="292" y="983"/>
                    <a:pt x="291" y="1048"/>
                    <a:pt x="291" y="1112"/>
                  </a:cubicBezTo>
                  <a:close/>
                  <a:moveTo>
                    <a:pt x="480" y="1238"/>
                  </a:moveTo>
                  <a:lnTo>
                    <a:pt x="480" y="1238"/>
                  </a:lnTo>
                  <a:cubicBezTo>
                    <a:pt x="489" y="1238"/>
                    <a:pt x="497" y="1235"/>
                    <a:pt x="513" y="1225"/>
                  </a:cubicBezTo>
                  <a:lnTo>
                    <a:pt x="513" y="1225"/>
                  </a:lnTo>
                  <a:cubicBezTo>
                    <a:pt x="523" y="1219"/>
                    <a:pt x="526" y="1214"/>
                    <a:pt x="521" y="1202"/>
                  </a:cubicBezTo>
                  <a:lnTo>
                    <a:pt x="521" y="1202"/>
                  </a:lnTo>
                  <a:cubicBezTo>
                    <a:pt x="501" y="1146"/>
                    <a:pt x="489" y="1088"/>
                    <a:pt x="472" y="1030"/>
                  </a:cubicBezTo>
                  <a:lnTo>
                    <a:pt x="472" y="1030"/>
                  </a:lnTo>
                  <a:cubicBezTo>
                    <a:pt x="458" y="981"/>
                    <a:pt x="447" y="932"/>
                    <a:pt x="430" y="884"/>
                  </a:cubicBezTo>
                  <a:lnTo>
                    <a:pt x="430" y="884"/>
                  </a:lnTo>
                  <a:cubicBezTo>
                    <a:pt x="428" y="876"/>
                    <a:pt x="423" y="875"/>
                    <a:pt x="414" y="876"/>
                  </a:cubicBezTo>
                  <a:lnTo>
                    <a:pt x="414" y="876"/>
                  </a:lnTo>
                  <a:cubicBezTo>
                    <a:pt x="402" y="880"/>
                    <a:pt x="390" y="888"/>
                    <a:pt x="374" y="889"/>
                  </a:cubicBezTo>
                  <a:lnTo>
                    <a:pt x="374" y="889"/>
                  </a:lnTo>
                  <a:cubicBezTo>
                    <a:pt x="371" y="889"/>
                    <a:pt x="369" y="892"/>
                    <a:pt x="372" y="896"/>
                  </a:cubicBezTo>
                  <a:lnTo>
                    <a:pt x="372" y="896"/>
                  </a:lnTo>
                  <a:cubicBezTo>
                    <a:pt x="373" y="898"/>
                    <a:pt x="374" y="902"/>
                    <a:pt x="376" y="906"/>
                  </a:cubicBezTo>
                  <a:lnTo>
                    <a:pt x="376" y="906"/>
                  </a:lnTo>
                  <a:cubicBezTo>
                    <a:pt x="392" y="956"/>
                    <a:pt x="406" y="1008"/>
                    <a:pt x="419" y="1058"/>
                  </a:cubicBezTo>
                  <a:lnTo>
                    <a:pt x="419" y="1058"/>
                  </a:lnTo>
                  <a:cubicBezTo>
                    <a:pt x="434" y="1114"/>
                    <a:pt x="449" y="1169"/>
                    <a:pt x="466" y="1224"/>
                  </a:cubicBezTo>
                  <a:lnTo>
                    <a:pt x="466" y="1224"/>
                  </a:lnTo>
                  <a:cubicBezTo>
                    <a:pt x="469" y="1231"/>
                    <a:pt x="472" y="1238"/>
                    <a:pt x="480" y="1238"/>
                  </a:cubicBezTo>
                  <a:close/>
                  <a:moveTo>
                    <a:pt x="230" y="886"/>
                  </a:moveTo>
                  <a:lnTo>
                    <a:pt x="230" y="886"/>
                  </a:lnTo>
                  <a:cubicBezTo>
                    <a:pt x="221" y="882"/>
                    <a:pt x="222" y="895"/>
                    <a:pt x="220" y="902"/>
                  </a:cubicBezTo>
                  <a:lnTo>
                    <a:pt x="220" y="902"/>
                  </a:lnTo>
                  <a:cubicBezTo>
                    <a:pt x="207" y="946"/>
                    <a:pt x="195" y="989"/>
                    <a:pt x="183" y="1034"/>
                  </a:cubicBezTo>
                  <a:lnTo>
                    <a:pt x="183" y="1034"/>
                  </a:lnTo>
                  <a:cubicBezTo>
                    <a:pt x="168" y="1091"/>
                    <a:pt x="151" y="1149"/>
                    <a:pt x="136" y="1206"/>
                  </a:cubicBezTo>
                  <a:lnTo>
                    <a:pt x="136" y="1206"/>
                  </a:lnTo>
                  <a:cubicBezTo>
                    <a:pt x="134" y="1215"/>
                    <a:pt x="136" y="1218"/>
                    <a:pt x="142" y="1222"/>
                  </a:cubicBezTo>
                  <a:lnTo>
                    <a:pt x="142" y="1222"/>
                  </a:lnTo>
                  <a:cubicBezTo>
                    <a:pt x="152" y="1231"/>
                    <a:pt x="167" y="1232"/>
                    <a:pt x="180" y="1235"/>
                  </a:cubicBezTo>
                  <a:lnTo>
                    <a:pt x="180" y="1235"/>
                  </a:lnTo>
                  <a:cubicBezTo>
                    <a:pt x="189" y="1236"/>
                    <a:pt x="193" y="1234"/>
                    <a:pt x="196" y="1222"/>
                  </a:cubicBezTo>
                  <a:lnTo>
                    <a:pt x="196" y="1222"/>
                  </a:lnTo>
                  <a:cubicBezTo>
                    <a:pt x="222" y="1124"/>
                    <a:pt x="248" y="1025"/>
                    <a:pt x="277" y="928"/>
                  </a:cubicBezTo>
                  <a:lnTo>
                    <a:pt x="277" y="928"/>
                  </a:lnTo>
                  <a:cubicBezTo>
                    <a:pt x="280" y="919"/>
                    <a:pt x="285" y="913"/>
                    <a:pt x="273" y="902"/>
                  </a:cubicBezTo>
                  <a:lnTo>
                    <a:pt x="273" y="902"/>
                  </a:lnTo>
                  <a:cubicBezTo>
                    <a:pt x="261" y="890"/>
                    <a:pt x="250" y="888"/>
                    <a:pt x="230" y="886"/>
                  </a:cubicBezTo>
                  <a:close/>
                  <a:moveTo>
                    <a:pt x="809" y="273"/>
                  </a:moveTo>
                  <a:lnTo>
                    <a:pt x="809" y="273"/>
                  </a:lnTo>
                  <a:cubicBezTo>
                    <a:pt x="791" y="239"/>
                    <a:pt x="767" y="204"/>
                    <a:pt x="767" y="162"/>
                  </a:cubicBezTo>
                  <a:lnTo>
                    <a:pt x="767" y="162"/>
                  </a:lnTo>
                  <a:cubicBezTo>
                    <a:pt x="740" y="176"/>
                    <a:pt x="715" y="189"/>
                    <a:pt x="691" y="203"/>
                  </a:cubicBezTo>
                  <a:lnTo>
                    <a:pt x="691" y="203"/>
                  </a:lnTo>
                  <a:cubicBezTo>
                    <a:pt x="656" y="222"/>
                    <a:pt x="624" y="242"/>
                    <a:pt x="590" y="260"/>
                  </a:cubicBezTo>
                  <a:lnTo>
                    <a:pt x="590" y="260"/>
                  </a:lnTo>
                  <a:cubicBezTo>
                    <a:pt x="579" y="265"/>
                    <a:pt x="576" y="271"/>
                    <a:pt x="579" y="282"/>
                  </a:cubicBezTo>
                  <a:lnTo>
                    <a:pt x="579" y="282"/>
                  </a:lnTo>
                  <a:cubicBezTo>
                    <a:pt x="581" y="292"/>
                    <a:pt x="583" y="302"/>
                    <a:pt x="587" y="312"/>
                  </a:cubicBezTo>
                  <a:lnTo>
                    <a:pt x="587" y="312"/>
                  </a:lnTo>
                  <a:cubicBezTo>
                    <a:pt x="594" y="326"/>
                    <a:pt x="606" y="338"/>
                    <a:pt x="614" y="351"/>
                  </a:cubicBezTo>
                  <a:lnTo>
                    <a:pt x="614" y="351"/>
                  </a:lnTo>
                  <a:cubicBezTo>
                    <a:pt x="617" y="357"/>
                    <a:pt x="624" y="356"/>
                    <a:pt x="630" y="353"/>
                  </a:cubicBezTo>
                  <a:lnTo>
                    <a:pt x="630" y="353"/>
                  </a:lnTo>
                  <a:cubicBezTo>
                    <a:pt x="652" y="343"/>
                    <a:pt x="674" y="332"/>
                    <a:pt x="696" y="323"/>
                  </a:cubicBezTo>
                  <a:lnTo>
                    <a:pt x="696" y="323"/>
                  </a:lnTo>
                  <a:cubicBezTo>
                    <a:pt x="735" y="308"/>
                    <a:pt x="773" y="291"/>
                    <a:pt x="809" y="273"/>
                  </a:cubicBezTo>
                  <a:close/>
                  <a:moveTo>
                    <a:pt x="950" y="41"/>
                  </a:moveTo>
                  <a:lnTo>
                    <a:pt x="950" y="41"/>
                  </a:lnTo>
                  <a:cubicBezTo>
                    <a:pt x="949" y="41"/>
                    <a:pt x="948" y="41"/>
                    <a:pt x="947" y="41"/>
                  </a:cubicBezTo>
                  <a:lnTo>
                    <a:pt x="947" y="41"/>
                  </a:lnTo>
                  <a:cubicBezTo>
                    <a:pt x="893" y="67"/>
                    <a:pt x="842" y="99"/>
                    <a:pt x="789" y="125"/>
                  </a:cubicBezTo>
                  <a:lnTo>
                    <a:pt x="789" y="125"/>
                  </a:lnTo>
                  <a:cubicBezTo>
                    <a:pt x="787" y="127"/>
                    <a:pt x="783" y="128"/>
                    <a:pt x="785" y="131"/>
                  </a:cubicBezTo>
                  <a:lnTo>
                    <a:pt x="785" y="131"/>
                  </a:lnTo>
                  <a:cubicBezTo>
                    <a:pt x="785" y="143"/>
                    <a:pt x="781" y="155"/>
                    <a:pt x="782" y="167"/>
                  </a:cubicBezTo>
                  <a:lnTo>
                    <a:pt x="782" y="167"/>
                  </a:lnTo>
                  <a:cubicBezTo>
                    <a:pt x="783" y="191"/>
                    <a:pt x="797" y="211"/>
                    <a:pt x="807" y="232"/>
                  </a:cubicBezTo>
                  <a:lnTo>
                    <a:pt x="807" y="232"/>
                  </a:lnTo>
                  <a:cubicBezTo>
                    <a:pt x="812" y="244"/>
                    <a:pt x="819" y="251"/>
                    <a:pt x="831" y="259"/>
                  </a:cubicBezTo>
                  <a:lnTo>
                    <a:pt x="831" y="259"/>
                  </a:lnTo>
                  <a:cubicBezTo>
                    <a:pt x="836" y="263"/>
                    <a:pt x="843" y="266"/>
                    <a:pt x="848" y="272"/>
                  </a:cubicBezTo>
                  <a:lnTo>
                    <a:pt x="848" y="272"/>
                  </a:lnTo>
                  <a:cubicBezTo>
                    <a:pt x="853" y="277"/>
                    <a:pt x="855" y="276"/>
                    <a:pt x="859" y="273"/>
                  </a:cubicBezTo>
                  <a:lnTo>
                    <a:pt x="859" y="273"/>
                  </a:lnTo>
                  <a:cubicBezTo>
                    <a:pt x="877" y="264"/>
                    <a:pt x="895" y="255"/>
                    <a:pt x="914" y="246"/>
                  </a:cubicBezTo>
                  <a:lnTo>
                    <a:pt x="914" y="246"/>
                  </a:lnTo>
                  <a:cubicBezTo>
                    <a:pt x="958" y="228"/>
                    <a:pt x="1003" y="208"/>
                    <a:pt x="1049" y="188"/>
                  </a:cubicBezTo>
                  <a:lnTo>
                    <a:pt x="1049" y="188"/>
                  </a:lnTo>
                  <a:cubicBezTo>
                    <a:pt x="990" y="154"/>
                    <a:pt x="950" y="110"/>
                    <a:pt x="950" y="41"/>
                  </a:cubicBezTo>
                  <a:lnTo>
                    <a:pt x="553" y="257"/>
                  </a:lnTo>
                  <a:lnTo>
                    <a:pt x="553" y="257"/>
                  </a:lnTo>
                  <a:cubicBezTo>
                    <a:pt x="549" y="260"/>
                    <a:pt x="544" y="262"/>
                    <a:pt x="539" y="264"/>
                  </a:cubicBezTo>
                  <a:lnTo>
                    <a:pt x="539" y="264"/>
                  </a:lnTo>
                  <a:cubicBezTo>
                    <a:pt x="474" y="301"/>
                    <a:pt x="410" y="337"/>
                    <a:pt x="345" y="373"/>
                  </a:cubicBezTo>
                  <a:lnTo>
                    <a:pt x="345" y="373"/>
                  </a:lnTo>
                  <a:cubicBezTo>
                    <a:pt x="337" y="378"/>
                    <a:pt x="336" y="384"/>
                    <a:pt x="334" y="391"/>
                  </a:cubicBezTo>
                  <a:lnTo>
                    <a:pt x="334" y="391"/>
                  </a:lnTo>
                  <a:cubicBezTo>
                    <a:pt x="332" y="414"/>
                    <a:pt x="342" y="434"/>
                    <a:pt x="353" y="453"/>
                  </a:cubicBezTo>
                  <a:lnTo>
                    <a:pt x="353" y="453"/>
                  </a:lnTo>
                  <a:cubicBezTo>
                    <a:pt x="361" y="463"/>
                    <a:pt x="371" y="469"/>
                    <a:pt x="383" y="473"/>
                  </a:cubicBezTo>
                  <a:lnTo>
                    <a:pt x="383" y="473"/>
                  </a:lnTo>
                  <a:cubicBezTo>
                    <a:pt x="389" y="475"/>
                    <a:pt x="393" y="467"/>
                    <a:pt x="400" y="465"/>
                  </a:cubicBezTo>
                  <a:lnTo>
                    <a:pt x="400" y="465"/>
                  </a:lnTo>
                  <a:cubicBezTo>
                    <a:pt x="408" y="463"/>
                    <a:pt x="414" y="461"/>
                    <a:pt x="422" y="458"/>
                  </a:cubicBezTo>
                  <a:lnTo>
                    <a:pt x="422" y="458"/>
                  </a:lnTo>
                  <a:cubicBezTo>
                    <a:pt x="449" y="453"/>
                    <a:pt x="472" y="442"/>
                    <a:pt x="497" y="432"/>
                  </a:cubicBezTo>
                  <a:lnTo>
                    <a:pt x="497" y="432"/>
                  </a:lnTo>
                  <a:cubicBezTo>
                    <a:pt x="518" y="424"/>
                    <a:pt x="536" y="411"/>
                    <a:pt x="558" y="403"/>
                  </a:cubicBezTo>
                  <a:lnTo>
                    <a:pt x="558" y="403"/>
                  </a:lnTo>
                  <a:cubicBezTo>
                    <a:pt x="574" y="396"/>
                    <a:pt x="591" y="389"/>
                    <a:pt x="608" y="382"/>
                  </a:cubicBezTo>
                  <a:lnTo>
                    <a:pt x="608" y="382"/>
                  </a:lnTo>
                  <a:cubicBezTo>
                    <a:pt x="615" y="378"/>
                    <a:pt x="619" y="374"/>
                    <a:pt x="610" y="368"/>
                  </a:cubicBezTo>
                  <a:lnTo>
                    <a:pt x="610" y="368"/>
                  </a:lnTo>
                  <a:cubicBezTo>
                    <a:pt x="600" y="362"/>
                    <a:pt x="591" y="355"/>
                    <a:pt x="584" y="345"/>
                  </a:cubicBezTo>
                  <a:lnTo>
                    <a:pt x="584" y="345"/>
                  </a:lnTo>
                  <a:cubicBezTo>
                    <a:pt x="564" y="321"/>
                    <a:pt x="553" y="292"/>
                    <a:pt x="555" y="260"/>
                  </a:cubicBezTo>
                  <a:lnTo>
                    <a:pt x="555" y="260"/>
                  </a:lnTo>
                  <a:cubicBezTo>
                    <a:pt x="555" y="259"/>
                    <a:pt x="556" y="259"/>
                    <a:pt x="556" y="257"/>
                  </a:cubicBezTo>
                  <a:lnTo>
                    <a:pt x="556" y="257"/>
                  </a:lnTo>
                  <a:cubicBezTo>
                    <a:pt x="555" y="257"/>
                    <a:pt x="554" y="257"/>
                    <a:pt x="553" y="257"/>
                  </a:cubicBezTo>
                  <a:lnTo>
                    <a:pt x="950" y="41"/>
                  </a:lnTo>
                  <a:close/>
                  <a:moveTo>
                    <a:pt x="647" y="1640"/>
                  </a:moveTo>
                  <a:lnTo>
                    <a:pt x="647" y="1640"/>
                  </a:lnTo>
                  <a:cubicBezTo>
                    <a:pt x="630" y="1653"/>
                    <a:pt x="608" y="1650"/>
                    <a:pt x="588" y="1653"/>
                  </a:cubicBezTo>
                  <a:lnTo>
                    <a:pt x="588" y="1653"/>
                  </a:lnTo>
                  <a:cubicBezTo>
                    <a:pt x="591" y="1680"/>
                    <a:pt x="595" y="1678"/>
                    <a:pt x="621" y="1676"/>
                  </a:cubicBezTo>
                  <a:lnTo>
                    <a:pt x="621" y="1676"/>
                  </a:lnTo>
                  <a:cubicBezTo>
                    <a:pt x="637" y="1675"/>
                    <a:pt x="647" y="1663"/>
                    <a:pt x="650" y="1642"/>
                  </a:cubicBezTo>
                  <a:lnTo>
                    <a:pt x="650" y="1642"/>
                  </a:lnTo>
                  <a:cubicBezTo>
                    <a:pt x="651" y="1642"/>
                    <a:pt x="652" y="1641"/>
                    <a:pt x="651" y="1640"/>
                  </a:cubicBezTo>
                  <a:lnTo>
                    <a:pt x="651" y="1640"/>
                  </a:lnTo>
                  <a:cubicBezTo>
                    <a:pt x="650" y="1639"/>
                    <a:pt x="648" y="1640"/>
                    <a:pt x="647" y="1640"/>
                  </a:cubicBezTo>
                  <a:close/>
                  <a:moveTo>
                    <a:pt x="275" y="985"/>
                  </a:moveTo>
                  <a:lnTo>
                    <a:pt x="275" y="985"/>
                  </a:lnTo>
                  <a:cubicBezTo>
                    <a:pt x="253" y="1065"/>
                    <a:pt x="228" y="1143"/>
                    <a:pt x="208" y="1222"/>
                  </a:cubicBezTo>
                  <a:lnTo>
                    <a:pt x="208" y="1222"/>
                  </a:lnTo>
                  <a:cubicBezTo>
                    <a:pt x="205" y="1229"/>
                    <a:pt x="205" y="1232"/>
                    <a:pt x="212" y="1235"/>
                  </a:cubicBezTo>
                  <a:lnTo>
                    <a:pt x="212" y="1235"/>
                  </a:lnTo>
                  <a:cubicBezTo>
                    <a:pt x="217" y="1237"/>
                    <a:pt x="220" y="1241"/>
                    <a:pt x="218" y="1246"/>
                  </a:cubicBezTo>
                  <a:lnTo>
                    <a:pt x="218" y="1246"/>
                  </a:lnTo>
                  <a:cubicBezTo>
                    <a:pt x="212" y="1273"/>
                    <a:pt x="207" y="1299"/>
                    <a:pt x="197" y="1325"/>
                  </a:cubicBezTo>
                  <a:lnTo>
                    <a:pt x="197" y="1325"/>
                  </a:lnTo>
                  <a:cubicBezTo>
                    <a:pt x="195" y="1332"/>
                    <a:pt x="191" y="1340"/>
                    <a:pt x="181" y="1341"/>
                  </a:cubicBezTo>
                  <a:lnTo>
                    <a:pt x="181" y="1341"/>
                  </a:lnTo>
                  <a:cubicBezTo>
                    <a:pt x="176" y="1342"/>
                    <a:pt x="176" y="1347"/>
                    <a:pt x="175" y="1351"/>
                  </a:cubicBezTo>
                  <a:lnTo>
                    <a:pt x="175" y="1351"/>
                  </a:lnTo>
                  <a:cubicBezTo>
                    <a:pt x="155" y="1423"/>
                    <a:pt x="134" y="1496"/>
                    <a:pt x="116" y="1569"/>
                  </a:cubicBezTo>
                  <a:lnTo>
                    <a:pt x="116" y="1569"/>
                  </a:lnTo>
                  <a:cubicBezTo>
                    <a:pt x="112" y="1583"/>
                    <a:pt x="112" y="1600"/>
                    <a:pt x="110" y="1615"/>
                  </a:cubicBezTo>
                  <a:lnTo>
                    <a:pt x="110" y="1615"/>
                  </a:lnTo>
                  <a:cubicBezTo>
                    <a:pt x="109" y="1624"/>
                    <a:pt x="106" y="1634"/>
                    <a:pt x="99" y="1640"/>
                  </a:cubicBezTo>
                  <a:lnTo>
                    <a:pt x="99" y="1640"/>
                  </a:lnTo>
                  <a:cubicBezTo>
                    <a:pt x="89" y="1649"/>
                    <a:pt x="88" y="1661"/>
                    <a:pt x="87" y="1671"/>
                  </a:cubicBezTo>
                  <a:lnTo>
                    <a:pt x="87" y="1671"/>
                  </a:lnTo>
                  <a:cubicBezTo>
                    <a:pt x="86" y="1682"/>
                    <a:pt x="80" y="1687"/>
                    <a:pt x="70" y="1687"/>
                  </a:cubicBezTo>
                  <a:lnTo>
                    <a:pt x="70" y="1687"/>
                  </a:lnTo>
                  <a:cubicBezTo>
                    <a:pt x="63" y="1688"/>
                    <a:pt x="60" y="1688"/>
                    <a:pt x="61" y="1698"/>
                  </a:cubicBezTo>
                  <a:lnTo>
                    <a:pt x="61" y="1698"/>
                  </a:lnTo>
                  <a:cubicBezTo>
                    <a:pt x="62" y="1711"/>
                    <a:pt x="48" y="1721"/>
                    <a:pt x="34" y="1716"/>
                  </a:cubicBezTo>
                  <a:lnTo>
                    <a:pt x="34" y="1716"/>
                  </a:lnTo>
                  <a:cubicBezTo>
                    <a:pt x="30" y="1715"/>
                    <a:pt x="27" y="1715"/>
                    <a:pt x="25" y="1714"/>
                  </a:cubicBezTo>
                  <a:lnTo>
                    <a:pt x="25" y="1714"/>
                  </a:lnTo>
                  <a:cubicBezTo>
                    <a:pt x="10" y="1710"/>
                    <a:pt x="6" y="1699"/>
                    <a:pt x="13" y="1683"/>
                  </a:cubicBezTo>
                  <a:lnTo>
                    <a:pt x="13" y="1683"/>
                  </a:lnTo>
                  <a:cubicBezTo>
                    <a:pt x="15" y="1679"/>
                    <a:pt x="16" y="1676"/>
                    <a:pt x="11" y="1671"/>
                  </a:cubicBezTo>
                  <a:lnTo>
                    <a:pt x="11" y="1671"/>
                  </a:lnTo>
                  <a:cubicBezTo>
                    <a:pt x="3" y="1663"/>
                    <a:pt x="0" y="1655"/>
                    <a:pt x="7" y="1643"/>
                  </a:cubicBezTo>
                  <a:lnTo>
                    <a:pt x="7" y="1643"/>
                  </a:lnTo>
                  <a:cubicBezTo>
                    <a:pt x="15" y="1629"/>
                    <a:pt x="9" y="1613"/>
                    <a:pt x="10" y="1598"/>
                  </a:cubicBezTo>
                  <a:lnTo>
                    <a:pt x="10" y="1598"/>
                  </a:lnTo>
                  <a:cubicBezTo>
                    <a:pt x="13" y="1581"/>
                    <a:pt x="16" y="1567"/>
                    <a:pt x="28" y="1554"/>
                  </a:cubicBezTo>
                  <a:lnTo>
                    <a:pt x="28" y="1554"/>
                  </a:lnTo>
                  <a:cubicBezTo>
                    <a:pt x="35" y="1546"/>
                    <a:pt x="35" y="1534"/>
                    <a:pt x="38" y="1523"/>
                  </a:cubicBezTo>
                  <a:lnTo>
                    <a:pt x="38" y="1523"/>
                  </a:lnTo>
                  <a:cubicBezTo>
                    <a:pt x="55" y="1459"/>
                    <a:pt x="71" y="1396"/>
                    <a:pt x="89" y="1331"/>
                  </a:cubicBezTo>
                  <a:lnTo>
                    <a:pt x="89" y="1331"/>
                  </a:lnTo>
                  <a:cubicBezTo>
                    <a:pt x="91" y="1322"/>
                    <a:pt x="95" y="1316"/>
                    <a:pt x="88" y="1308"/>
                  </a:cubicBezTo>
                  <a:lnTo>
                    <a:pt x="88" y="1308"/>
                  </a:lnTo>
                  <a:cubicBezTo>
                    <a:pt x="83" y="1304"/>
                    <a:pt x="86" y="1298"/>
                    <a:pt x="87" y="1293"/>
                  </a:cubicBezTo>
                  <a:lnTo>
                    <a:pt x="87" y="1293"/>
                  </a:lnTo>
                  <a:cubicBezTo>
                    <a:pt x="92" y="1267"/>
                    <a:pt x="101" y="1242"/>
                    <a:pt x="107" y="1217"/>
                  </a:cubicBezTo>
                  <a:lnTo>
                    <a:pt x="107" y="1217"/>
                  </a:lnTo>
                  <a:cubicBezTo>
                    <a:pt x="108" y="1212"/>
                    <a:pt x="110" y="1207"/>
                    <a:pt x="114" y="1207"/>
                  </a:cubicBezTo>
                  <a:lnTo>
                    <a:pt x="114" y="1207"/>
                  </a:lnTo>
                  <a:cubicBezTo>
                    <a:pt x="123" y="1206"/>
                    <a:pt x="123" y="1199"/>
                    <a:pt x="126" y="1194"/>
                  </a:cubicBezTo>
                  <a:lnTo>
                    <a:pt x="126" y="1194"/>
                  </a:lnTo>
                  <a:cubicBezTo>
                    <a:pt x="152" y="1092"/>
                    <a:pt x="181" y="993"/>
                    <a:pt x="208" y="892"/>
                  </a:cubicBezTo>
                  <a:lnTo>
                    <a:pt x="208" y="892"/>
                  </a:lnTo>
                  <a:cubicBezTo>
                    <a:pt x="210" y="883"/>
                    <a:pt x="210" y="875"/>
                    <a:pt x="220" y="872"/>
                  </a:cubicBezTo>
                  <a:lnTo>
                    <a:pt x="220" y="872"/>
                  </a:lnTo>
                  <a:cubicBezTo>
                    <a:pt x="224" y="869"/>
                    <a:pt x="222" y="865"/>
                    <a:pt x="223" y="861"/>
                  </a:cubicBezTo>
                  <a:lnTo>
                    <a:pt x="223" y="861"/>
                  </a:lnTo>
                  <a:cubicBezTo>
                    <a:pt x="229" y="842"/>
                    <a:pt x="237" y="835"/>
                    <a:pt x="257" y="834"/>
                  </a:cubicBezTo>
                  <a:lnTo>
                    <a:pt x="257" y="834"/>
                  </a:lnTo>
                  <a:cubicBezTo>
                    <a:pt x="261" y="834"/>
                    <a:pt x="264" y="834"/>
                    <a:pt x="267" y="834"/>
                  </a:cubicBezTo>
                  <a:lnTo>
                    <a:pt x="267" y="834"/>
                  </a:lnTo>
                  <a:cubicBezTo>
                    <a:pt x="276" y="833"/>
                    <a:pt x="281" y="829"/>
                    <a:pt x="281" y="818"/>
                  </a:cubicBezTo>
                  <a:lnTo>
                    <a:pt x="281" y="818"/>
                  </a:lnTo>
                  <a:cubicBezTo>
                    <a:pt x="281" y="789"/>
                    <a:pt x="282" y="759"/>
                    <a:pt x="282" y="729"/>
                  </a:cubicBezTo>
                  <a:lnTo>
                    <a:pt x="282" y="729"/>
                  </a:lnTo>
                  <a:cubicBezTo>
                    <a:pt x="282" y="691"/>
                    <a:pt x="283" y="652"/>
                    <a:pt x="283" y="614"/>
                  </a:cubicBezTo>
                  <a:lnTo>
                    <a:pt x="283" y="614"/>
                  </a:lnTo>
                  <a:cubicBezTo>
                    <a:pt x="283" y="593"/>
                    <a:pt x="280" y="573"/>
                    <a:pt x="282" y="553"/>
                  </a:cubicBezTo>
                  <a:lnTo>
                    <a:pt x="282" y="553"/>
                  </a:lnTo>
                  <a:cubicBezTo>
                    <a:pt x="282" y="545"/>
                    <a:pt x="275" y="543"/>
                    <a:pt x="268" y="546"/>
                  </a:cubicBezTo>
                  <a:lnTo>
                    <a:pt x="268" y="546"/>
                  </a:lnTo>
                  <a:cubicBezTo>
                    <a:pt x="253" y="554"/>
                    <a:pt x="240" y="563"/>
                    <a:pt x="224" y="570"/>
                  </a:cubicBezTo>
                  <a:lnTo>
                    <a:pt x="224" y="570"/>
                  </a:lnTo>
                  <a:cubicBezTo>
                    <a:pt x="203" y="580"/>
                    <a:pt x="181" y="592"/>
                    <a:pt x="159" y="599"/>
                  </a:cubicBezTo>
                  <a:lnTo>
                    <a:pt x="159" y="599"/>
                  </a:lnTo>
                  <a:cubicBezTo>
                    <a:pt x="143" y="604"/>
                    <a:pt x="126" y="605"/>
                    <a:pt x="115" y="618"/>
                  </a:cubicBezTo>
                  <a:lnTo>
                    <a:pt x="115" y="618"/>
                  </a:lnTo>
                  <a:cubicBezTo>
                    <a:pt x="102" y="632"/>
                    <a:pt x="90" y="626"/>
                    <a:pt x="76" y="624"/>
                  </a:cubicBezTo>
                  <a:lnTo>
                    <a:pt x="76" y="624"/>
                  </a:lnTo>
                  <a:cubicBezTo>
                    <a:pt x="71" y="623"/>
                    <a:pt x="67" y="623"/>
                    <a:pt x="62" y="624"/>
                  </a:cubicBezTo>
                  <a:lnTo>
                    <a:pt x="62" y="624"/>
                  </a:lnTo>
                  <a:cubicBezTo>
                    <a:pt x="30" y="633"/>
                    <a:pt x="6" y="615"/>
                    <a:pt x="2" y="583"/>
                  </a:cubicBezTo>
                  <a:lnTo>
                    <a:pt x="2" y="583"/>
                  </a:lnTo>
                  <a:cubicBezTo>
                    <a:pt x="1" y="566"/>
                    <a:pt x="9" y="554"/>
                    <a:pt x="22" y="547"/>
                  </a:cubicBezTo>
                  <a:lnTo>
                    <a:pt x="22" y="547"/>
                  </a:lnTo>
                  <a:cubicBezTo>
                    <a:pt x="34" y="542"/>
                    <a:pt x="38" y="531"/>
                    <a:pt x="44" y="524"/>
                  </a:cubicBezTo>
                  <a:lnTo>
                    <a:pt x="44" y="524"/>
                  </a:lnTo>
                  <a:cubicBezTo>
                    <a:pt x="50" y="517"/>
                    <a:pt x="56" y="512"/>
                    <a:pt x="63" y="510"/>
                  </a:cubicBezTo>
                  <a:lnTo>
                    <a:pt x="63" y="510"/>
                  </a:lnTo>
                  <a:cubicBezTo>
                    <a:pt x="87" y="500"/>
                    <a:pt x="106" y="487"/>
                    <a:pt x="127" y="475"/>
                  </a:cubicBezTo>
                  <a:lnTo>
                    <a:pt x="127" y="475"/>
                  </a:lnTo>
                  <a:cubicBezTo>
                    <a:pt x="149" y="464"/>
                    <a:pt x="172" y="454"/>
                    <a:pt x="193" y="442"/>
                  </a:cubicBezTo>
                  <a:lnTo>
                    <a:pt x="193" y="442"/>
                  </a:lnTo>
                  <a:cubicBezTo>
                    <a:pt x="185" y="424"/>
                    <a:pt x="174" y="433"/>
                    <a:pt x="161" y="439"/>
                  </a:cubicBezTo>
                  <a:lnTo>
                    <a:pt x="161" y="439"/>
                  </a:lnTo>
                  <a:cubicBezTo>
                    <a:pt x="139" y="449"/>
                    <a:pt x="117" y="461"/>
                    <a:pt x="96" y="471"/>
                  </a:cubicBezTo>
                  <a:lnTo>
                    <a:pt x="96" y="471"/>
                  </a:lnTo>
                  <a:cubicBezTo>
                    <a:pt x="87" y="477"/>
                    <a:pt x="76" y="478"/>
                    <a:pt x="64" y="478"/>
                  </a:cubicBezTo>
                  <a:lnTo>
                    <a:pt x="64" y="478"/>
                  </a:lnTo>
                  <a:cubicBezTo>
                    <a:pt x="56" y="478"/>
                    <a:pt x="43" y="464"/>
                    <a:pt x="40" y="451"/>
                  </a:cubicBezTo>
                  <a:lnTo>
                    <a:pt x="40" y="451"/>
                  </a:lnTo>
                  <a:cubicBezTo>
                    <a:pt x="38" y="441"/>
                    <a:pt x="39" y="431"/>
                    <a:pt x="50" y="427"/>
                  </a:cubicBezTo>
                  <a:lnTo>
                    <a:pt x="50" y="427"/>
                  </a:lnTo>
                  <a:cubicBezTo>
                    <a:pt x="70" y="421"/>
                    <a:pt x="87" y="409"/>
                    <a:pt x="104" y="399"/>
                  </a:cubicBezTo>
                  <a:lnTo>
                    <a:pt x="104" y="399"/>
                  </a:lnTo>
                  <a:cubicBezTo>
                    <a:pt x="139" y="382"/>
                    <a:pt x="171" y="361"/>
                    <a:pt x="204" y="342"/>
                  </a:cubicBezTo>
                  <a:lnTo>
                    <a:pt x="204" y="342"/>
                  </a:lnTo>
                  <a:cubicBezTo>
                    <a:pt x="247" y="318"/>
                    <a:pt x="288" y="292"/>
                    <a:pt x="331" y="269"/>
                  </a:cubicBezTo>
                  <a:lnTo>
                    <a:pt x="331" y="269"/>
                  </a:lnTo>
                  <a:cubicBezTo>
                    <a:pt x="339" y="264"/>
                    <a:pt x="348" y="265"/>
                    <a:pt x="354" y="271"/>
                  </a:cubicBezTo>
                  <a:lnTo>
                    <a:pt x="354" y="271"/>
                  </a:lnTo>
                  <a:cubicBezTo>
                    <a:pt x="383" y="290"/>
                    <a:pt x="382" y="320"/>
                    <a:pt x="352" y="335"/>
                  </a:cubicBezTo>
                  <a:lnTo>
                    <a:pt x="352" y="335"/>
                  </a:lnTo>
                  <a:cubicBezTo>
                    <a:pt x="316" y="355"/>
                    <a:pt x="278" y="376"/>
                    <a:pt x="242" y="396"/>
                  </a:cubicBezTo>
                  <a:lnTo>
                    <a:pt x="242" y="396"/>
                  </a:lnTo>
                  <a:cubicBezTo>
                    <a:pt x="231" y="401"/>
                    <a:pt x="229" y="405"/>
                    <a:pt x="238" y="414"/>
                  </a:cubicBezTo>
                  <a:lnTo>
                    <a:pt x="238" y="414"/>
                  </a:lnTo>
                  <a:cubicBezTo>
                    <a:pt x="255" y="397"/>
                    <a:pt x="278" y="392"/>
                    <a:pt x="298" y="383"/>
                  </a:cubicBezTo>
                  <a:lnTo>
                    <a:pt x="298" y="383"/>
                  </a:lnTo>
                  <a:cubicBezTo>
                    <a:pt x="328" y="368"/>
                    <a:pt x="354" y="351"/>
                    <a:pt x="383" y="336"/>
                  </a:cubicBezTo>
                  <a:lnTo>
                    <a:pt x="383" y="336"/>
                  </a:lnTo>
                  <a:cubicBezTo>
                    <a:pt x="443" y="303"/>
                    <a:pt x="503" y="269"/>
                    <a:pt x="561" y="235"/>
                  </a:cubicBezTo>
                  <a:lnTo>
                    <a:pt x="561" y="235"/>
                  </a:lnTo>
                  <a:cubicBezTo>
                    <a:pt x="569" y="231"/>
                    <a:pt x="572" y="229"/>
                    <a:pt x="578" y="237"/>
                  </a:cubicBezTo>
                  <a:lnTo>
                    <a:pt x="578" y="237"/>
                  </a:lnTo>
                  <a:cubicBezTo>
                    <a:pt x="585" y="245"/>
                    <a:pt x="593" y="245"/>
                    <a:pt x="604" y="239"/>
                  </a:cubicBezTo>
                  <a:lnTo>
                    <a:pt x="604" y="239"/>
                  </a:lnTo>
                  <a:cubicBezTo>
                    <a:pt x="636" y="217"/>
                    <a:pt x="671" y="199"/>
                    <a:pt x="706" y="180"/>
                  </a:cubicBezTo>
                  <a:lnTo>
                    <a:pt x="706" y="180"/>
                  </a:lnTo>
                  <a:cubicBezTo>
                    <a:pt x="725" y="170"/>
                    <a:pt x="742" y="160"/>
                    <a:pt x="762" y="151"/>
                  </a:cubicBezTo>
                  <a:lnTo>
                    <a:pt x="762" y="151"/>
                  </a:lnTo>
                  <a:cubicBezTo>
                    <a:pt x="767" y="150"/>
                    <a:pt x="766" y="147"/>
                    <a:pt x="766" y="144"/>
                  </a:cubicBezTo>
                  <a:lnTo>
                    <a:pt x="766" y="144"/>
                  </a:lnTo>
                  <a:cubicBezTo>
                    <a:pt x="763" y="127"/>
                    <a:pt x="774" y="119"/>
                    <a:pt x="787" y="111"/>
                  </a:cubicBezTo>
                  <a:lnTo>
                    <a:pt x="787" y="111"/>
                  </a:lnTo>
                  <a:cubicBezTo>
                    <a:pt x="839" y="83"/>
                    <a:pt x="890" y="53"/>
                    <a:pt x="944" y="27"/>
                  </a:cubicBezTo>
                  <a:lnTo>
                    <a:pt x="944" y="27"/>
                  </a:lnTo>
                  <a:cubicBezTo>
                    <a:pt x="957" y="20"/>
                    <a:pt x="970" y="14"/>
                    <a:pt x="983" y="8"/>
                  </a:cubicBezTo>
                  <a:lnTo>
                    <a:pt x="983" y="8"/>
                  </a:lnTo>
                  <a:cubicBezTo>
                    <a:pt x="1005" y="0"/>
                    <a:pt x="1028" y="2"/>
                    <a:pt x="1046" y="14"/>
                  </a:cubicBezTo>
                  <a:lnTo>
                    <a:pt x="1046" y="14"/>
                  </a:lnTo>
                  <a:cubicBezTo>
                    <a:pt x="1081" y="35"/>
                    <a:pt x="1109" y="63"/>
                    <a:pt x="1118" y="103"/>
                  </a:cubicBezTo>
                  <a:lnTo>
                    <a:pt x="1118" y="103"/>
                  </a:lnTo>
                  <a:cubicBezTo>
                    <a:pt x="1125" y="130"/>
                    <a:pt x="1121" y="158"/>
                    <a:pt x="1109" y="182"/>
                  </a:cubicBezTo>
                  <a:lnTo>
                    <a:pt x="1109" y="182"/>
                  </a:lnTo>
                  <a:cubicBezTo>
                    <a:pt x="1103" y="194"/>
                    <a:pt x="1089" y="197"/>
                    <a:pt x="1077" y="202"/>
                  </a:cubicBezTo>
                  <a:lnTo>
                    <a:pt x="1077" y="202"/>
                  </a:lnTo>
                  <a:cubicBezTo>
                    <a:pt x="1058" y="209"/>
                    <a:pt x="1038" y="215"/>
                    <a:pt x="1019" y="223"/>
                  </a:cubicBezTo>
                  <a:lnTo>
                    <a:pt x="1019" y="223"/>
                  </a:lnTo>
                  <a:cubicBezTo>
                    <a:pt x="996" y="234"/>
                    <a:pt x="974" y="244"/>
                    <a:pt x="953" y="259"/>
                  </a:cubicBezTo>
                  <a:lnTo>
                    <a:pt x="953" y="259"/>
                  </a:lnTo>
                  <a:cubicBezTo>
                    <a:pt x="934" y="270"/>
                    <a:pt x="912" y="277"/>
                    <a:pt x="890" y="285"/>
                  </a:cubicBezTo>
                  <a:lnTo>
                    <a:pt x="890" y="285"/>
                  </a:lnTo>
                  <a:cubicBezTo>
                    <a:pt x="881" y="289"/>
                    <a:pt x="873" y="292"/>
                    <a:pt x="863" y="296"/>
                  </a:cubicBezTo>
                  <a:lnTo>
                    <a:pt x="863" y="296"/>
                  </a:lnTo>
                  <a:cubicBezTo>
                    <a:pt x="854" y="301"/>
                    <a:pt x="846" y="300"/>
                    <a:pt x="838" y="293"/>
                  </a:cubicBezTo>
                  <a:lnTo>
                    <a:pt x="838" y="293"/>
                  </a:lnTo>
                  <a:cubicBezTo>
                    <a:pt x="826" y="283"/>
                    <a:pt x="815" y="285"/>
                    <a:pt x="801" y="291"/>
                  </a:cubicBezTo>
                  <a:lnTo>
                    <a:pt x="801" y="291"/>
                  </a:lnTo>
                  <a:cubicBezTo>
                    <a:pt x="755" y="316"/>
                    <a:pt x="706" y="335"/>
                    <a:pt x="657" y="353"/>
                  </a:cubicBezTo>
                  <a:lnTo>
                    <a:pt x="657" y="353"/>
                  </a:lnTo>
                  <a:cubicBezTo>
                    <a:pt x="652" y="356"/>
                    <a:pt x="648" y="360"/>
                    <a:pt x="648" y="365"/>
                  </a:cubicBezTo>
                  <a:lnTo>
                    <a:pt x="648" y="365"/>
                  </a:lnTo>
                  <a:cubicBezTo>
                    <a:pt x="648" y="373"/>
                    <a:pt x="644" y="381"/>
                    <a:pt x="635" y="385"/>
                  </a:cubicBezTo>
                  <a:lnTo>
                    <a:pt x="635" y="385"/>
                  </a:lnTo>
                  <a:cubicBezTo>
                    <a:pt x="614" y="393"/>
                    <a:pt x="594" y="404"/>
                    <a:pt x="573" y="413"/>
                  </a:cubicBezTo>
                  <a:lnTo>
                    <a:pt x="573" y="413"/>
                  </a:lnTo>
                  <a:cubicBezTo>
                    <a:pt x="546" y="425"/>
                    <a:pt x="520" y="438"/>
                    <a:pt x="493" y="451"/>
                  </a:cubicBezTo>
                  <a:lnTo>
                    <a:pt x="493" y="451"/>
                  </a:lnTo>
                  <a:cubicBezTo>
                    <a:pt x="478" y="459"/>
                    <a:pt x="462" y="464"/>
                    <a:pt x="445" y="470"/>
                  </a:cubicBezTo>
                  <a:lnTo>
                    <a:pt x="445" y="470"/>
                  </a:lnTo>
                  <a:cubicBezTo>
                    <a:pt x="434" y="472"/>
                    <a:pt x="426" y="477"/>
                    <a:pt x="415" y="479"/>
                  </a:cubicBezTo>
                  <a:lnTo>
                    <a:pt x="415" y="479"/>
                  </a:lnTo>
                  <a:cubicBezTo>
                    <a:pt x="408" y="483"/>
                    <a:pt x="400" y="485"/>
                    <a:pt x="399" y="494"/>
                  </a:cubicBezTo>
                  <a:lnTo>
                    <a:pt x="399" y="494"/>
                  </a:lnTo>
                  <a:cubicBezTo>
                    <a:pt x="399" y="503"/>
                    <a:pt x="391" y="509"/>
                    <a:pt x="384" y="509"/>
                  </a:cubicBezTo>
                  <a:lnTo>
                    <a:pt x="384" y="509"/>
                  </a:lnTo>
                  <a:cubicBezTo>
                    <a:pt x="372" y="510"/>
                    <a:pt x="366" y="517"/>
                    <a:pt x="357" y="520"/>
                  </a:cubicBezTo>
                  <a:lnTo>
                    <a:pt x="357" y="520"/>
                  </a:lnTo>
                  <a:cubicBezTo>
                    <a:pt x="352" y="523"/>
                    <a:pt x="352" y="527"/>
                    <a:pt x="352" y="532"/>
                  </a:cubicBezTo>
                  <a:lnTo>
                    <a:pt x="352" y="532"/>
                  </a:lnTo>
                  <a:cubicBezTo>
                    <a:pt x="351" y="590"/>
                    <a:pt x="351" y="647"/>
                    <a:pt x="349" y="705"/>
                  </a:cubicBezTo>
                  <a:lnTo>
                    <a:pt x="349" y="705"/>
                  </a:lnTo>
                  <a:cubicBezTo>
                    <a:pt x="346" y="742"/>
                    <a:pt x="349" y="781"/>
                    <a:pt x="344" y="818"/>
                  </a:cubicBezTo>
                  <a:lnTo>
                    <a:pt x="344" y="818"/>
                  </a:lnTo>
                  <a:cubicBezTo>
                    <a:pt x="343" y="826"/>
                    <a:pt x="344" y="829"/>
                    <a:pt x="353" y="830"/>
                  </a:cubicBezTo>
                  <a:lnTo>
                    <a:pt x="353" y="830"/>
                  </a:lnTo>
                  <a:cubicBezTo>
                    <a:pt x="370" y="832"/>
                    <a:pt x="386" y="834"/>
                    <a:pt x="403" y="841"/>
                  </a:cubicBezTo>
                  <a:lnTo>
                    <a:pt x="403" y="841"/>
                  </a:lnTo>
                  <a:cubicBezTo>
                    <a:pt x="409" y="845"/>
                    <a:pt x="415" y="847"/>
                    <a:pt x="418" y="854"/>
                  </a:cubicBezTo>
                  <a:lnTo>
                    <a:pt x="418" y="854"/>
                  </a:lnTo>
                  <a:cubicBezTo>
                    <a:pt x="422" y="860"/>
                    <a:pt x="425" y="865"/>
                    <a:pt x="433" y="865"/>
                  </a:cubicBezTo>
                  <a:lnTo>
                    <a:pt x="433" y="865"/>
                  </a:lnTo>
                  <a:cubicBezTo>
                    <a:pt x="438" y="865"/>
                    <a:pt x="440" y="869"/>
                    <a:pt x="443" y="873"/>
                  </a:cubicBezTo>
                  <a:lnTo>
                    <a:pt x="443" y="873"/>
                  </a:lnTo>
                  <a:cubicBezTo>
                    <a:pt x="462" y="933"/>
                    <a:pt x="477" y="993"/>
                    <a:pt x="493" y="1053"/>
                  </a:cubicBezTo>
                  <a:lnTo>
                    <a:pt x="493" y="1053"/>
                  </a:lnTo>
                  <a:cubicBezTo>
                    <a:pt x="505" y="1095"/>
                    <a:pt x="515" y="1138"/>
                    <a:pt x="529" y="1180"/>
                  </a:cubicBezTo>
                  <a:lnTo>
                    <a:pt x="529" y="1180"/>
                  </a:lnTo>
                  <a:cubicBezTo>
                    <a:pt x="532" y="1189"/>
                    <a:pt x="532" y="1200"/>
                    <a:pt x="545" y="1202"/>
                  </a:cubicBezTo>
                  <a:lnTo>
                    <a:pt x="545" y="1202"/>
                  </a:lnTo>
                  <a:cubicBezTo>
                    <a:pt x="552" y="1204"/>
                    <a:pt x="553" y="1214"/>
                    <a:pt x="554" y="1218"/>
                  </a:cubicBezTo>
                  <a:lnTo>
                    <a:pt x="554" y="1218"/>
                  </a:lnTo>
                  <a:cubicBezTo>
                    <a:pt x="555" y="1242"/>
                    <a:pt x="567" y="1264"/>
                    <a:pt x="572" y="1287"/>
                  </a:cubicBezTo>
                  <a:lnTo>
                    <a:pt x="572" y="1287"/>
                  </a:lnTo>
                  <a:cubicBezTo>
                    <a:pt x="573" y="1296"/>
                    <a:pt x="574" y="1304"/>
                    <a:pt x="573" y="1311"/>
                  </a:cubicBezTo>
                  <a:lnTo>
                    <a:pt x="573" y="1311"/>
                  </a:lnTo>
                  <a:cubicBezTo>
                    <a:pt x="570" y="1321"/>
                    <a:pt x="573" y="1330"/>
                    <a:pt x="575" y="1339"/>
                  </a:cubicBezTo>
                  <a:lnTo>
                    <a:pt x="575" y="1339"/>
                  </a:lnTo>
                  <a:cubicBezTo>
                    <a:pt x="594" y="1397"/>
                    <a:pt x="612" y="1453"/>
                    <a:pt x="628" y="1509"/>
                  </a:cubicBezTo>
                  <a:lnTo>
                    <a:pt x="628" y="1509"/>
                  </a:lnTo>
                  <a:cubicBezTo>
                    <a:pt x="634" y="1527"/>
                    <a:pt x="639" y="1546"/>
                    <a:pt x="650" y="1562"/>
                  </a:cubicBezTo>
                  <a:lnTo>
                    <a:pt x="650" y="1562"/>
                  </a:lnTo>
                  <a:cubicBezTo>
                    <a:pt x="655" y="1573"/>
                    <a:pt x="654" y="1588"/>
                    <a:pt x="656" y="1601"/>
                  </a:cubicBezTo>
                  <a:lnTo>
                    <a:pt x="656" y="1601"/>
                  </a:lnTo>
                  <a:cubicBezTo>
                    <a:pt x="657" y="1611"/>
                    <a:pt x="660" y="1623"/>
                    <a:pt x="665" y="1634"/>
                  </a:cubicBezTo>
                  <a:lnTo>
                    <a:pt x="665" y="1634"/>
                  </a:lnTo>
                  <a:cubicBezTo>
                    <a:pt x="668" y="1643"/>
                    <a:pt x="668" y="1655"/>
                    <a:pt x="660" y="1664"/>
                  </a:cubicBezTo>
                  <a:lnTo>
                    <a:pt x="660" y="1664"/>
                  </a:lnTo>
                  <a:cubicBezTo>
                    <a:pt x="657" y="1667"/>
                    <a:pt x="659" y="1670"/>
                    <a:pt x="660" y="1673"/>
                  </a:cubicBezTo>
                  <a:lnTo>
                    <a:pt x="660" y="1673"/>
                  </a:lnTo>
                  <a:cubicBezTo>
                    <a:pt x="665" y="1684"/>
                    <a:pt x="659" y="1694"/>
                    <a:pt x="650" y="1701"/>
                  </a:cubicBezTo>
                  <a:lnTo>
                    <a:pt x="650" y="1701"/>
                  </a:lnTo>
                  <a:cubicBezTo>
                    <a:pt x="639" y="1708"/>
                    <a:pt x="628" y="1711"/>
                    <a:pt x="617" y="1703"/>
                  </a:cubicBezTo>
                  <a:lnTo>
                    <a:pt x="617" y="1703"/>
                  </a:lnTo>
                  <a:cubicBezTo>
                    <a:pt x="610" y="1699"/>
                    <a:pt x="603" y="1695"/>
                    <a:pt x="593" y="1693"/>
                  </a:cubicBezTo>
                  <a:lnTo>
                    <a:pt x="593" y="1693"/>
                  </a:lnTo>
                  <a:cubicBezTo>
                    <a:pt x="585" y="1690"/>
                    <a:pt x="579" y="1685"/>
                    <a:pt x="576" y="1676"/>
                  </a:cubicBezTo>
                  <a:lnTo>
                    <a:pt x="576" y="1676"/>
                  </a:lnTo>
                  <a:cubicBezTo>
                    <a:pt x="567" y="1640"/>
                    <a:pt x="556" y="1603"/>
                    <a:pt x="547" y="1566"/>
                  </a:cubicBezTo>
                  <a:lnTo>
                    <a:pt x="547" y="1566"/>
                  </a:lnTo>
                  <a:cubicBezTo>
                    <a:pt x="530" y="1493"/>
                    <a:pt x="500" y="1423"/>
                    <a:pt x="485" y="1351"/>
                  </a:cubicBezTo>
                  <a:lnTo>
                    <a:pt x="485" y="1351"/>
                  </a:lnTo>
                  <a:cubicBezTo>
                    <a:pt x="483" y="1340"/>
                    <a:pt x="473" y="1335"/>
                    <a:pt x="471" y="1325"/>
                  </a:cubicBezTo>
                  <a:lnTo>
                    <a:pt x="471" y="1325"/>
                  </a:lnTo>
                  <a:cubicBezTo>
                    <a:pt x="466" y="1302"/>
                    <a:pt x="454" y="1281"/>
                    <a:pt x="454" y="1259"/>
                  </a:cubicBezTo>
                  <a:lnTo>
                    <a:pt x="454" y="1259"/>
                  </a:lnTo>
                  <a:cubicBezTo>
                    <a:pt x="454" y="1219"/>
                    <a:pt x="437" y="1185"/>
                    <a:pt x="428" y="1149"/>
                  </a:cubicBezTo>
                  <a:lnTo>
                    <a:pt x="428" y="1149"/>
                  </a:lnTo>
                  <a:cubicBezTo>
                    <a:pt x="418" y="1111"/>
                    <a:pt x="408" y="1075"/>
                    <a:pt x="398" y="1037"/>
                  </a:cubicBezTo>
                  <a:lnTo>
                    <a:pt x="398" y="1037"/>
                  </a:lnTo>
                  <a:cubicBezTo>
                    <a:pt x="390" y="1003"/>
                    <a:pt x="379" y="969"/>
                    <a:pt x="370" y="935"/>
                  </a:cubicBezTo>
                  <a:lnTo>
                    <a:pt x="370" y="935"/>
                  </a:lnTo>
                  <a:cubicBezTo>
                    <a:pt x="370" y="934"/>
                    <a:pt x="368" y="933"/>
                    <a:pt x="364" y="932"/>
                  </a:cubicBezTo>
                  <a:lnTo>
                    <a:pt x="364" y="932"/>
                  </a:lnTo>
                  <a:cubicBezTo>
                    <a:pt x="364" y="954"/>
                    <a:pt x="365" y="976"/>
                    <a:pt x="364" y="997"/>
                  </a:cubicBezTo>
                  <a:lnTo>
                    <a:pt x="364" y="997"/>
                  </a:lnTo>
                  <a:cubicBezTo>
                    <a:pt x="364" y="1073"/>
                    <a:pt x="364" y="1146"/>
                    <a:pt x="365" y="1220"/>
                  </a:cubicBezTo>
                  <a:lnTo>
                    <a:pt x="365" y="1220"/>
                  </a:lnTo>
                  <a:cubicBezTo>
                    <a:pt x="365" y="1230"/>
                    <a:pt x="368" y="1240"/>
                    <a:pt x="372" y="1251"/>
                  </a:cubicBezTo>
                  <a:lnTo>
                    <a:pt x="372" y="1251"/>
                  </a:lnTo>
                  <a:cubicBezTo>
                    <a:pt x="377" y="1264"/>
                    <a:pt x="377" y="1279"/>
                    <a:pt x="378" y="1295"/>
                  </a:cubicBezTo>
                  <a:lnTo>
                    <a:pt x="378" y="1295"/>
                  </a:lnTo>
                  <a:cubicBezTo>
                    <a:pt x="379" y="1305"/>
                    <a:pt x="377" y="1317"/>
                    <a:pt x="379" y="1327"/>
                  </a:cubicBezTo>
                  <a:lnTo>
                    <a:pt x="379" y="1327"/>
                  </a:lnTo>
                  <a:cubicBezTo>
                    <a:pt x="381" y="1335"/>
                    <a:pt x="379" y="1342"/>
                    <a:pt x="372" y="1346"/>
                  </a:cubicBezTo>
                  <a:lnTo>
                    <a:pt x="372" y="1346"/>
                  </a:lnTo>
                  <a:cubicBezTo>
                    <a:pt x="364" y="1350"/>
                    <a:pt x="364" y="1356"/>
                    <a:pt x="363" y="1362"/>
                  </a:cubicBezTo>
                  <a:lnTo>
                    <a:pt x="363" y="1362"/>
                  </a:lnTo>
                  <a:cubicBezTo>
                    <a:pt x="362" y="1445"/>
                    <a:pt x="362" y="1527"/>
                    <a:pt x="362" y="1609"/>
                  </a:cubicBezTo>
                  <a:lnTo>
                    <a:pt x="362" y="1609"/>
                  </a:lnTo>
                  <a:cubicBezTo>
                    <a:pt x="362" y="1625"/>
                    <a:pt x="364" y="1642"/>
                    <a:pt x="365" y="1658"/>
                  </a:cubicBezTo>
                  <a:lnTo>
                    <a:pt x="365" y="1658"/>
                  </a:lnTo>
                  <a:cubicBezTo>
                    <a:pt x="366" y="1681"/>
                    <a:pt x="361" y="1703"/>
                    <a:pt x="362" y="1727"/>
                  </a:cubicBezTo>
                  <a:lnTo>
                    <a:pt x="362" y="1727"/>
                  </a:lnTo>
                  <a:cubicBezTo>
                    <a:pt x="362" y="1730"/>
                    <a:pt x="361" y="1734"/>
                    <a:pt x="366" y="1736"/>
                  </a:cubicBezTo>
                  <a:lnTo>
                    <a:pt x="366" y="1736"/>
                  </a:lnTo>
                  <a:cubicBezTo>
                    <a:pt x="374" y="1741"/>
                    <a:pt x="372" y="1746"/>
                    <a:pt x="365" y="1750"/>
                  </a:cubicBezTo>
                  <a:lnTo>
                    <a:pt x="365" y="1750"/>
                  </a:lnTo>
                  <a:cubicBezTo>
                    <a:pt x="362" y="1751"/>
                    <a:pt x="358" y="1752"/>
                    <a:pt x="353" y="1752"/>
                  </a:cubicBezTo>
                  <a:lnTo>
                    <a:pt x="353" y="1752"/>
                  </a:lnTo>
                  <a:cubicBezTo>
                    <a:pt x="346" y="1752"/>
                    <a:pt x="344" y="1754"/>
                    <a:pt x="344" y="1762"/>
                  </a:cubicBezTo>
                  <a:lnTo>
                    <a:pt x="344" y="1762"/>
                  </a:lnTo>
                  <a:cubicBezTo>
                    <a:pt x="344" y="1774"/>
                    <a:pt x="334" y="1779"/>
                    <a:pt x="318" y="1779"/>
                  </a:cubicBezTo>
                  <a:lnTo>
                    <a:pt x="318" y="1779"/>
                  </a:lnTo>
                  <a:cubicBezTo>
                    <a:pt x="305" y="1779"/>
                    <a:pt x="295" y="1771"/>
                    <a:pt x="295" y="1761"/>
                  </a:cubicBezTo>
                  <a:lnTo>
                    <a:pt x="295" y="1761"/>
                  </a:lnTo>
                  <a:cubicBezTo>
                    <a:pt x="295" y="1755"/>
                    <a:pt x="292" y="1754"/>
                    <a:pt x="288" y="1751"/>
                  </a:cubicBezTo>
                  <a:lnTo>
                    <a:pt x="288" y="1751"/>
                  </a:lnTo>
                  <a:cubicBezTo>
                    <a:pt x="277" y="1749"/>
                    <a:pt x="272" y="1743"/>
                    <a:pt x="273" y="1731"/>
                  </a:cubicBezTo>
                  <a:lnTo>
                    <a:pt x="273" y="1731"/>
                  </a:lnTo>
                  <a:cubicBezTo>
                    <a:pt x="278" y="1704"/>
                    <a:pt x="268" y="1678"/>
                    <a:pt x="271" y="1650"/>
                  </a:cubicBezTo>
                  <a:lnTo>
                    <a:pt x="271" y="1650"/>
                  </a:lnTo>
                  <a:cubicBezTo>
                    <a:pt x="283" y="1557"/>
                    <a:pt x="273" y="1463"/>
                    <a:pt x="277" y="1371"/>
                  </a:cubicBezTo>
                  <a:lnTo>
                    <a:pt x="277" y="1371"/>
                  </a:lnTo>
                  <a:cubicBezTo>
                    <a:pt x="277" y="1360"/>
                    <a:pt x="278" y="1348"/>
                    <a:pt x="269" y="1339"/>
                  </a:cubicBezTo>
                  <a:lnTo>
                    <a:pt x="269" y="1339"/>
                  </a:lnTo>
                  <a:cubicBezTo>
                    <a:pt x="267" y="1336"/>
                    <a:pt x="267" y="1330"/>
                    <a:pt x="267" y="1323"/>
                  </a:cubicBezTo>
                  <a:lnTo>
                    <a:pt x="267" y="1323"/>
                  </a:lnTo>
                  <a:cubicBezTo>
                    <a:pt x="265" y="1300"/>
                    <a:pt x="263" y="1276"/>
                    <a:pt x="269" y="1253"/>
                  </a:cubicBezTo>
                  <a:lnTo>
                    <a:pt x="269" y="1253"/>
                  </a:lnTo>
                  <a:cubicBezTo>
                    <a:pt x="284" y="1196"/>
                    <a:pt x="273" y="1138"/>
                    <a:pt x="276" y="1080"/>
                  </a:cubicBezTo>
                  <a:lnTo>
                    <a:pt x="276" y="1080"/>
                  </a:lnTo>
                  <a:cubicBezTo>
                    <a:pt x="278" y="1050"/>
                    <a:pt x="277" y="1019"/>
                    <a:pt x="277" y="989"/>
                  </a:cubicBezTo>
                  <a:lnTo>
                    <a:pt x="277" y="989"/>
                  </a:lnTo>
                  <a:cubicBezTo>
                    <a:pt x="280" y="985"/>
                    <a:pt x="280" y="982"/>
                    <a:pt x="278" y="977"/>
                  </a:cubicBezTo>
                  <a:lnTo>
                    <a:pt x="278" y="977"/>
                  </a:lnTo>
                  <a:cubicBezTo>
                    <a:pt x="277" y="981"/>
                    <a:pt x="276" y="983"/>
                    <a:pt x="275" y="985"/>
                  </a:cubicBezTo>
                  <a:close/>
                </a:path>
              </a:pathLst>
            </a:custGeom>
            <a:solidFill>
              <a:srgbClr val="403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79" name="Group 8" descr=""/>
            <p:cNvPicPr/>
            <p:nvPr/>
          </p:nvPicPr>
          <p:blipFill>
            <a:blip r:embed="rId2"/>
            <a:stretch/>
          </p:blipFill>
          <p:spPr>
            <a:xfrm>
              <a:off x="8552880" y="2388600"/>
              <a:ext cx="642240" cy="2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Group 9" descr=""/>
            <p:cNvPicPr/>
            <p:nvPr/>
          </p:nvPicPr>
          <p:blipFill>
            <a:blip r:embed="rId3"/>
            <a:stretch/>
          </p:blipFill>
          <p:spPr>
            <a:xfrm>
              <a:off x="7831080" y="3044160"/>
              <a:ext cx="581040" cy="5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Group 10" descr=""/>
            <p:cNvPicPr/>
            <p:nvPr/>
          </p:nvPicPr>
          <p:blipFill>
            <a:blip r:embed="rId4"/>
            <a:stretch/>
          </p:blipFill>
          <p:spPr>
            <a:xfrm>
              <a:off x="8577360" y="2701080"/>
              <a:ext cx="70956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Group 11" descr=""/>
            <p:cNvPicPr/>
            <p:nvPr/>
          </p:nvPicPr>
          <p:blipFill>
            <a:blip r:embed="rId5"/>
            <a:stretch/>
          </p:blipFill>
          <p:spPr>
            <a:xfrm>
              <a:off x="8228520" y="3484800"/>
              <a:ext cx="819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Group 12" descr=""/>
            <p:cNvPicPr/>
            <p:nvPr/>
          </p:nvPicPr>
          <p:blipFill>
            <a:blip r:embed="rId6"/>
            <a:stretch/>
          </p:blipFill>
          <p:spPr>
            <a:xfrm>
              <a:off x="8822160" y="576000"/>
              <a:ext cx="372960" cy="65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Freeform 120"/>
            <p:cNvSpPr/>
            <p:nvPr/>
          </p:nvSpPr>
          <p:spPr>
            <a:xfrm>
              <a:off x="8115120" y="4217040"/>
              <a:ext cx="466920" cy="445320"/>
            </a:xfrm>
            <a:custGeom>
              <a:avLst/>
              <a:gdLst/>
              <a:ahLst/>
              <a:rect l="l" t="t" r="r" b="b"/>
              <a:pathLst>
                <a:path w="1588" h="1512">
                  <a:moveTo>
                    <a:pt x="1402" y="684"/>
                  </a:moveTo>
                  <a:lnTo>
                    <a:pt x="278" y="395"/>
                  </a:lnTo>
                  <a:lnTo>
                    <a:pt x="278" y="395"/>
                  </a:lnTo>
                  <a:cubicBezTo>
                    <a:pt x="270" y="393"/>
                    <a:pt x="264" y="383"/>
                    <a:pt x="267" y="375"/>
                  </a:cubicBezTo>
                  <a:lnTo>
                    <a:pt x="267" y="375"/>
                  </a:lnTo>
                  <a:cubicBezTo>
                    <a:pt x="269" y="367"/>
                    <a:pt x="278" y="362"/>
                    <a:pt x="287" y="363"/>
                  </a:cubicBezTo>
                  <a:lnTo>
                    <a:pt x="1410" y="653"/>
                  </a:lnTo>
                  <a:lnTo>
                    <a:pt x="1410" y="653"/>
                  </a:lnTo>
                  <a:cubicBezTo>
                    <a:pt x="1419" y="656"/>
                    <a:pt x="1425" y="664"/>
                    <a:pt x="1422" y="672"/>
                  </a:cubicBezTo>
                  <a:lnTo>
                    <a:pt x="1422" y="672"/>
                  </a:lnTo>
                  <a:cubicBezTo>
                    <a:pt x="1420" y="680"/>
                    <a:pt x="1411" y="686"/>
                    <a:pt x="1402" y="684"/>
                  </a:cubicBezTo>
                  <a:close/>
                  <a:moveTo>
                    <a:pt x="1360" y="849"/>
                  </a:moveTo>
                  <a:lnTo>
                    <a:pt x="236" y="560"/>
                  </a:lnTo>
                  <a:lnTo>
                    <a:pt x="236" y="560"/>
                  </a:lnTo>
                  <a:cubicBezTo>
                    <a:pt x="228" y="558"/>
                    <a:pt x="222" y="550"/>
                    <a:pt x="224" y="540"/>
                  </a:cubicBezTo>
                  <a:lnTo>
                    <a:pt x="224" y="540"/>
                  </a:lnTo>
                  <a:cubicBezTo>
                    <a:pt x="227" y="532"/>
                    <a:pt x="235" y="527"/>
                    <a:pt x="244" y="530"/>
                  </a:cubicBezTo>
                  <a:lnTo>
                    <a:pt x="1368" y="819"/>
                  </a:lnTo>
                  <a:lnTo>
                    <a:pt x="1368" y="819"/>
                  </a:lnTo>
                  <a:cubicBezTo>
                    <a:pt x="1376" y="821"/>
                    <a:pt x="1381" y="829"/>
                    <a:pt x="1380" y="838"/>
                  </a:cubicBezTo>
                  <a:lnTo>
                    <a:pt x="1380" y="838"/>
                  </a:lnTo>
                  <a:cubicBezTo>
                    <a:pt x="1378" y="847"/>
                    <a:pt x="1368" y="852"/>
                    <a:pt x="1360" y="849"/>
                  </a:cubicBezTo>
                  <a:close/>
                  <a:moveTo>
                    <a:pt x="1318" y="1015"/>
                  </a:moveTo>
                  <a:lnTo>
                    <a:pt x="192" y="726"/>
                  </a:lnTo>
                  <a:lnTo>
                    <a:pt x="192" y="726"/>
                  </a:lnTo>
                  <a:cubicBezTo>
                    <a:pt x="184" y="724"/>
                    <a:pt x="179" y="716"/>
                    <a:pt x="182" y="706"/>
                  </a:cubicBezTo>
                  <a:lnTo>
                    <a:pt x="182" y="706"/>
                  </a:lnTo>
                  <a:cubicBezTo>
                    <a:pt x="184" y="698"/>
                    <a:pt x="192" y="693"/>
                    <a:pt x="201" y="696"/>
                  </a:cubicBezTo>
                  <a:lnTo>
                    <a:pt x="1325" y="985"/>
                  </a:lnTo>
                  <a:lnTo>
                    <a:pt x="1325" y="985"/>
                  </a:lnTo>
                  <a:cubicBezTo>
                    <a:pt x="1334" y="987"/>
                    <a:pt x="1339" y="995"/>
                    <a:pt x="1337" y="1004"/>
                  </a:cubicBezTo>
                  <a:lnTo>
                    <a:pt x="1337" y="1004"/>
                  </a:lnTo>
                  <a:cubicBezTo>
                    <a:pt x="1334" y="1012"/>
                    <a:pt x="1326" y="1017"/>
                    <a:pt x="1318" y="1015"/>
                  </a:cubicBezTo>
                  <a:close/>
                  <a:moveTo>
                    <a:pt x="1274" y="1181"/>
                  </a:moveTo>
                  <a:lnTo>
                    <a:pt x="150" y="892"/>
                  </a:lnTo>
                  <a:lnTo>
                    <a:pt x="150" y="892"/>
                  </a:lnTo>
                  <a:cubicBezTo>
                    <a:pt x="142" y="889"/>
                    <a:pt x="137" y="881"/>
                    <a:pt x="138" y="873"/>
                  </a:cubicBezTo>
                  <a:lnTo>
                    <a:pt x="138" y="873"/>
                  </a:lnTo>
                  <a:cubicBezTo>
                    <a:pt x="141" y="863"/>
                    <a:pt x="150" y="859"/>
                    <a:pt x="158" y="861"/>
                  </a:cubicBezTo>
                  <a:lnTo>
                    <a:pt x="1283" y="1150"/>
                  </a:lnTo>
                  <a:lnTo>
                    <a:pt x="1283" y="1150"/>
                  </a:lnTo>
                  <a:cubicBezTo>
                    <a:pt x="1290" y="1152"/>
                    <a:pt x="1297" y="1161"/>
                    <a:pt x="1294" y="1170"/>
                  </a:cubicBezTo>
                  <a:lnTo>
                    <a:pt x="1294" y="1170"/>
                  </a:lnTo>
                  <a:cubicBezTo>
                    <a:pt x="1292" y="1178"/>
                    <a:pt x="1284" y="1183"/>
                    <a:pt x="1274" y="1181"/>
                  </a:cubicBezTo>
                  <a:close/>
                  <a:moveTo>
                    <a:pt x="1500" y="312"/>
                  </a:moveTo>
                  <a:lnTo>
                    <a:pt x="1500" y="312"/>
                  </a:lnTo>
                  <a:cubicBezTo>
                    <a:pt x="1509" y="327"/>
                    <a:pt x="1512" y="345"/>
                    <a:pt x="1508" y="364"/>
                  </a:cubicBezTo>
                  <a:lnTo>
                    <a:pt x="1508" y="364"/>
                  </a:lnTo>
                  <a:cubicBezTo>
                    <a:pt x="1497" y="401"/>
                    <a:pt x="1460" y="423"/>
                    <a:pt x="1424" y="414"/>
                  </a:cubicBezTo>
                  <a:lnTo>
                    <a:pt x="1424" y="414"/>
                  </a:lnTo>
                  <a:cubicBezTo>
                    <a:pt x="1386" y="404"/>
                    <a:pt x="1364" y="367"/>
                    <a:pt x="1373" y="329"/>
                  </a:cubicBezTo>
                  <a:lnTo>
                    <a:pt x="1373" y="329"/>
                  </a:lnTo>
                  <a:cubicBezTo>
                    <a:pt x="1378" y="312"/>
                    <a:pt x="1389" y="296"/>
                    <a:pt x="1405" y="287"/>
                  </a:cubicBezTo>
                  <a:lnTo>
                    <a:pt x="1295" y="260"/>
                  </a:lnTo>
                  <a:lnTo>
                    <a:pt x="1295" y="260"/>
                  </a:lnTo>
                  <a:cubicBezTo>
                    <a:pt x="1305" y="274"/>
                    <a:pt x="1308" y="293"/>
                    <a:pt x="1304" y="312"/>
                  </a:cubicBezTo>
                  <a:lnTo>
                    <a:pt x="1304" y="312"/>
                  </a:lnTo>
                  <a:cubicBezTo>
                    <a:pt x="1294" y="349"/>
                    <a:pt x="1256" y="370"/>
                    <a:pt x="1219" y="361"/>
                  </a:cubicBezTo>
                  <a:lnTo>
                    <a:pt x="1219" y="361"/>
                  </a:lnTo>
                  <a:cubicBezTo>
                    <a:pt x="1182" y="352"/>
                    <a:pt x="1160" y="314"/>
                    <a:pt x="1169" y="277"/>
                  </a:cubicBezTo>
                  <a:lnTo>
                    <a:pt x="1169" y="277"/>
                  </a:lnTo>
                  <a:cubicBezTo>
                    <a:pt x="1174" y="258"/>
                    <a:pt x="1186" y="243"/>
                    <a:pt x="1202" y="235"/>
                  </a:cubicBezTo>
                  <a:lnTo>
                    <a:pt x="1090" y="207"/>
                  </a:lnTo>
                  <a:lnTo>
                    <a:pt x="1090" y="207"/>
                  </a:lnTo>
                  <a:cubicBezTo>
                    <a:pt x="1099" y="221"/>
                    <a:pt x="1103" y="240"/>
                    <a:pt x="1098" y="258"/>
                  </a:cubicBezTo>
                  <a:lnTo>
                    <a:pt x="1098" y="258"/>
                  </a:lnTo>
                  <a:cubicBezTo>
                    <a:pt x="1088" y="295"/>
                    <a:pt x="1050" y="317"/>
                    <a:pt x="1014" y="308"/>
                  </a:cubicBezTo>
                  <a:lnTo>
                    <a:pt x="1014" y="308"/>
                  </a:lnTo>
                  <a:cubicBezTo>
                    <a:pt x="976" y="298"/>
                    <a:pt x="955" y="261"/>
                    <a:pt x="964" y="224"/>
                  </a:cubicBezTo>
                  <a:lnTo>
                    <a:pt x="964" y="224"/>
                  </a:lnTo>
                  <a:cubicBezTo>
                    <a:pt x="969" y="206"/>
                    <a:pt x="981" y="191"/>
                    <a:pt x="996" y="182"/>
                  </a:cubicBezTo>
                  <a:lnTo>
                    <a:pt x="886" y="154"/>
                  </a:lnTo>
                  <a:lnTo>
                    <a:pt x="886" y="154"/>
                  </a:lnTo>
                  <a:cubicBezTo>
                    <a:pt x="895" y="170"/>
                    <a:pt x="898" y="188"/>
                    <a:pt x="894" y="206"/>
                  </a:cubicBezTo>
                  <a:lnTo>
                    <a:pt x="894" y="206"/>
                  </a:lnTo>
                  <a:cubicBezTo>
                    <a:pt x="884" y="243"/>
                    <a:pt x="847" y="266"/>
                    <a:pt x="809" y="256"/>
                  </a:cubicBezTo>
                  <a:lnTo>
                    <a:pt x="809" y="256"/>
                  </a:lnTo>
                  <a:cubicBezTo>
                    <a:pt x="773" y="246"/>
                    <a:pt x="751" y="208"/>
                    <a:pt x="760" y="172"/>
                  </a:cubicBezTo>
                  <a:lnTo>
                    <a:pt x="760" y="172"/>
                  </a:lnTo>
                  <a:cubicBezTo>
                    <a:pt x="764" y="153"/>
                    <a:pt x="776" y="138"/>
                    <a:pt x="792" y="130"/>
                  </a:cubicBezTo>
                  <a:lnTo>
                    <a:pt x="682" y="101"/>
                  </a:lnTo>
                  <a:lnTo>
                    <a:pt x="682" y="101"/>
                  </a:lnTo>
                  <a:cubicBezTo>
                    <a:pt x="691" y="116"/>
                    <a:pt x="694" y="135"/>
                    <a:pt x="689" y="154"/>
                  </a:cubicBezTo>
                  <a:lnTo>
                    <a:pt x="689" y="154"/>
                  </a:lnTo>
                  <a:cubicBezTo>
                    <a:pt x="680" y="191"/>
                    <a:pt x="642" y="213"/>
                    <a:pt x="605" y="203"/>
                  </a:cubicBezTo>
                  <a:lnTo>
                    <a:pt x="605" y="203"/>
                  </a:lnTo>
                  <a:cubicBezTo>
                    <a:pt x="568" y="194"/>
                    <a:pt x="546" y="156"/>
                    <a:pt x="555" y="119"/>
                  </a:cubicBezTo>
                  <a:lnTo>
                    <a:pt x="555" y="119"/>
                  </a:lnTo>
                  <a:cubicBezTo>
                    <a:pt x="560" y="100"/>
                    <a:pt x="572" y="86"/>
                    <a:pt x="587" y="76"/>
                  </a:cubicBezTo>
                  <a:lnTo>
                    <a:pt x="478" y="49"/>
                  </a:lnTo>
                  <a:lnTo>
                    <a:pt x="478" y="49"/>
                  </a:lnTo>
                  <a:cubicBezTo>
                    <a:pt x="486" y="64"/>
                    <a:pt x="490" y="82"/>
                    <a:pt x="485" y="101"/>
                  </a:cubicBezTo>
                  <a:lnTo>
                    <a:pt x="485" y="101"/>
                  </a:lnTo>
                  <a:cubicBezTo>
                    <a:pt x="475" y="137"/>
                    <a:pt x="438" y="160"/>
                    <a:pt x="400" y="151"/>
                  </a:cubicBezTo>
                  <a:lnTo>
                    <a:pt x="400" y="151"/>
                  </a:lnTo>
                  <a:cubicBezTo>
                    <a:pt x="364" y="141"/>
                    <a:pt x="342" y="103"/>
                    <a:pt x="351" y="66"/>
                  </a:cubicBezTo>
                  <a:lnTo>
                    <a:pt x="351" y="66"/>
                  </a:lnTo>
                  <a:cubicBezTo>
                    <a:pt x="356" y="49"/>
                    <a:pt x="368" y="33"/>
                    <a:pt x="383" y="24"/>
                  </a:cubicBezTo>
                  <a:lnTo>
                    <a:pt x="289" y="0"/>
                  </a:lnTo>
                  <a:lnTo>
                    <a:pt x="24" y="1029"/>
                  </a:lnTo>
                  <a:lnTo>
                    <a:pt x="24" y="1029"/>
                  </a:lnTo>
                  <a:cubicBezTo>
                    <a:pt x="0" y="1121"/>
                    <a:pt x="55" y="1215"/>
                    <a:pt x="147" y="1238"/>
                  </a:cubicBezTo>
                  <a:lnTo>
                    <a:pt x="1113" y="1487"/>
                  </a:lnTo>
                  <a:lnTo>
                    <a:pt x="1113" y="1487"/>
                  </a:lnTo>
                  <a:cubicBezTo>
                    <a:pt x="1205" y="1511"/>
                    <a:pt x="1299" y="1455"/>
                    <a:pt x="1323" y="1364"/>
                  </a:cubicBezTo>
                  <a:lnTo>
                    <a:pt x="1587" y="334"/>
                  </a:lnTo>
                  <a:lnTo>
                    <a:pt x="1500" y="312"/>
                  </a:ln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85" name="Group 14" descr=""/>
            <p:cNvPicPr/>
            <p:nvPr/>
          </p:nvPicPr>
          <p:blipFill>
            <a:blip r:embed="rId7"/>
            <a:stretch/>
          </p:blipFill>
          <p:spPr>
            <a:xfrm>
              <a:off x="8197920" y="588240"/>
              <a:ext cx="428040" cy="3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Freeform 126"/>
            <p:cNvSpPr/>
            <p:nvPr/>
          </p:nvSpPr>
          <p:spPr>
            <a:xfrm>
              <a:off x="8022240" y="-11160"/>
              <a:ext cx="530280" cy="438840"/>
            </a:xfrm>
            <a:custGeom>
              <a:avLst/>
              <a:gdLst/>
              <a:ahLst/>
              <a:rect l="l" t="t" r="r" b="b"/>
              <a:pathLst>
                <a:path w="1804" h="1492">
                  <a:moveTo>
                    <a:pt x="1350" y="1314"/>
                  </a:moveTo>
                  <a:lnTo>
                    <a:pt x="1106" y="1314"/>
                  </a:lnTo>
                  <a:lnTo>
                    <a:pt x="1106" y="1314"/>
                  </a:lnTo>
                  <a:cubicBezTo>
                    <a:pt x="1090" y="1314"/>
                    <a:pt x="1079" y="1301"/>
                    <a:pt x="1079" y="1287"/>
                  </a:cubicBezTo>
                  <a:lnTo>
                    <a:pt x="1079" y="1287"/>
                  </a:lnTo>
                  <a:cubicBezTo>
                    <a:pt x="1079" y="1272"/>
                    <a:pt x="1090" y="1260"/>
                    <a:pt x="1106" y="1260"/>
                  </a:cubicBezTo>
                  <a:lnTo>
                    <a:pt x="1350" y="1260"/>
                  </a:lnTo>
                  <a:lnTo>
                    <a:pt x="1350" y="1260"/>
                  </a:lnTo>
                  <a:cubicBezTo>
                    <a:pt x="1365" y="1260"/>
                    <a:pt x="1377" y="1272"/>
                    <a:pt x="1377" y="1287"/>
                  </a:cubicBezTo>
                  <a:lnTo>
                    <a:pt x="1377" y="1287"/>
                  </a:lnTo>
                  <a:cubicBezTo>
                    <a:pt x="1377" y="1301"/>
                    <a:pt x="1365" y="1314"/>
                    <a:pt x="1350" y="1314"/>
                  </a:cubicBezTo>
                  <a:close/>
                  <a:moveTo>
                    <a:pt x="226" y="949"/>
                  </a:moveTo>
                  <a:lnTo>
                    <a:pt x="226" y="949"/>
                  </a:lnTo>
                  <a:cubicBezTo>
                    <a:pt x="161" y="949"/>
                    <a:pt x="109" y="896"/>
                    <a:pt x="109" y="831"/>
                  </a:cubicBezTo>
                  <a:lnTo>
                    <a:pt x="109" y="215"/>
                  </a:lnTo>
                  <a:lnTo>
                    <a:pt x="109" y="215"/>
                  </a:lnTo>
                  <a:cubicBezTo>
                    <a:pt x="109" y="149"/>
                    <a:pt x="161" y="97"/>
                    <a:pt x="226" y="97"/>
                  </a:cubicBezTo>
                  <a:lnTo>
                    <a:pt x="1578" y="97"/>
                  </a:lnTo>
                  <a:lnTo>
                    <a:pt x="1578" y="97"/>
                  </a:lnTo>
                  <a:cubicBezTo>
                    <a:pt x="1644" y="97"/>
                    <a:pt x="1695" y="149"/>
                    <a:pt x="1695" y="215"/>
                  </a:cubicBezTo>
                  <a:lnTo>
                    <a:pt x="1695" y="831"/>
                  </a:lnTo>
                  <a:lnTo>
                    <a:pt x="1695" y="831"/>
                  </a:lnTo>
                  <a:cubicBezTo>
                    <a:pt x="1695" y="896"/>
                    <a:pt x="1644" y="949"/>
                    <a:pt x="1578" y="949"/>
                  </a:cubicBezTo>
                  <a:lnTo>
                    <a:pt x="226" y="949"/>
                  </a:lnTo>
                  <a:close/>
                  <a:moveTo>
                    <a:pt x="1347" y="1184"/>
                  </a:moveTo>
                  <a:lnTo>
                    <a:pt x="1076" y="1184"/>
                  </a:lnTo>
                  <a:lnTo>
                    <a:pt x="1076" y="1046"/>
                  </a:lnTo>
                  <a:lnTo>
                    <a:pt x="1660" y="1046"/>
                  </a:lnTo>
                  <a:lnTo>
                    <a:pt x="1660" y="1046"/>
                  </a:lnTo>
                  <a:cubicBezTo>
                    <a:pt x="1739" y="1046"/>
                    <a:pt x="1803" y="981"/>
                    <a:pt x="1803" y="901"/>
                  </a:cubicBezTo>
                  <a:lnTo>
                    <a:pt x="1803" y="144"/>
                  </a:lnTo>
                  <a:lnTo>
                    <a:pt x="1803" y="144"/>
                  </a:lnTo>
                  <a:cubicBezTo>
                    <a:pt x="1803" y="64"/>
                    <a:pt x="1739" y="0"/>
                    <a:pt x="1660" y="0"/>
                  </a:cubicBezTo>
                  <a:lnTo>
                    <a:pt x="145" y="0"/>
                  </a:lnTo>
                  <a:lnTo>
                    <a:pt x="145" y="0"/>
                  </a:lnTo>
                  <a:cubicBezTo>
                    <a:pt x="65" y="0"/>
                    <a:pt x="0" y="64"/>
                    <a:pt x="0" y="144"/>
                  </a:cubicBezTo>
                  <a:lnTo>
                    <a:pt x="0" y="901"/>
                  </a:lnTo>
                  <a:lnTo>
                    <a:pt x="0" y="901"/>
                  </a:lnTo>
                  <a:cubicBezTo>
                    <a:pt x="0" y="981"/>
                    <a:pt x="65" y="1046"/>
                    <a:pt x="145" y="1046"/>
                  </a:cubicBezTo>
                  <a:lnTo>
                    <a:pt x="722" y="1046"/>
                  </a:lnTo>
                  <a:lnTo>
                    <a:pt x="722" y="1184"/>
                  </a:lnTo>
                  <a:lnTo>
                    <a:pt x="463" y="1184"/>
                  </a:lnTo>
                  <a:lnTo>
                    <a:pt x="463" y="1184"/>
                  </a:lnTo>
                  <a:cubicBezTo>
                    <a:pt x="384" y="1184"/>
                    <a:pt x="320" y="1249"/>
                    <a:pt x="320" y="1329"/>
                  </a:cubicBezTo>
                  <a:lnTo>
                    <a:pt x="320" y="1347"/>
                  </a:lnTo>
                  <a:lnTo>
                    <a:pt x="320" y="1347"/>
                  </a:lnTo>
                  <a:cubicBezTo>
                    <a:pt x="320" y="1426"/>
                    <a:pt x="384" y="1491"/>
                    <a:pt x="463" y="1491"/>
                  </a:cubicBezTo>
                  <a:lnTo>
                    <a:pt x="1347" y="1491"/>
                  </a:lnTo>
                  <a:lnTo>
                    <a:pt x="1347" y="1491"/>
                  </a:lnTo>
                  <a:cubicBezTo>
                    <a:pt x="1426" y="1491"/>
                    <a:pt x="1491" y="1426"/>
                    <a:pt x="1491" y="1347"/>
                  </a:cubicBezTo>
                  <a:lnTo>
                    <a:pt x="1491" y="1329"/>
                  </a:lnTo>
                  <a:lnTo>
                    <a:pt x="1491" y="1329"/>
                  </a:lnTo>
                  <a:cubicBezTo>
                    <a:pt x="1491" y="1249"/>
                    <a:pt x="1426" y="1184"/>
                    <a:pt x="1347" y="1184"/>
                  </a:cubicBezTo>
                  <a:close/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387" name="Freeform 127"/>
            <p:cNvSpPr/>
            <p:nvPr/>
          </p:nvSpPr>
          <p:spPr>
            <a:xfrm>
              <a:off x="8078040" y="2349720"/>
              <a:ext cx="402120" cy="399600"/>
            </a:xfrm>
            <a:custGeom>
              <a:avLst/>
              <a:gdLst/>
              <a:ahLst/>
              <a:rect l="l" t="t" r="r" b="b"/>
              <a:pathLst>
                <a:path w="1366" h="1358">
                  <a:moveTo>
                    <a:pt x="757" y="668"/>
                  </a:moveTo>
                  <a:lnTo>
                    <a:pt x="757" y="668"/>
                  </a:lnTo>
                  <a:cubicBezTo>
                    <a:pt x="757" y="723"/>
                    <a:pt x="712" y="767"/>
                    <a:pt x="657" y="767"/>
                  </a:cubicBezTo>
                  <a:lnTo>
                    <a:pt x="657" y="767"/>
                  </a:lnTo>
                  <a:cubicBezTo>
                    <a:pt x="603" y="767"/>
                    <a:pt x="558" y="723"/>
                    <a:pt x="558" y="668"/>
                  </a:cubicBezTo>
                  <a:lnTo>
                    <a:pt x="558" y="668"/>
                  </a:lnTo>
                  <a:cubicBezTo>
                    <a:pt x="558" y="613"/>
                    <a:pt x="603" y="570"/>
                    <a:pt x="657" y="570"/>
                  </a:cubicBezTo>
                  <a:lnTo>
                    <a:pt x="657" y="570"/>
                  </a:lnTo>
                  <a:cubicBezTo>
                    <a:pt x="712" y="570"/>
                    <a:pt x="757" y="613"/>
                    <a:pt x="757" y="668"/>
                  </a:cubicBezTo>
                  <a:close/>
                  <a:moveTo>
                    <a:pt x="1168" y="894"/>
                  </a:moveTo>
                  <a:lnTo>
                    <a:pt x="1168" y="894"/>
                  </a:lnTo>
                  <a:cubicBezTo>
                    <a:pt x="1161" y="837"/>
                    <a:pt x="1147" y="780"/>
                    <a:pt x="1127" y="721"/>
                  </a:cubicBezTo>
                  <a:lnTo>
                    <a:pt x="1127" y="721"/>
                  </a:lnTo>
                  <a:cubicBezTo>
                    <a:pt x="1162" y="645"/>
                    <a:pt x="1188" y="570"/>
                    <a:pt x="1203" y="499"/>
                  </a:cubicBezTo>
                  <a:lnTo>
                    <a:pt x="1203" y="499"/>
                  </a:lnTo>
                  <a:cubicBezTo>
                    <a:pt x="1274" y="551"/>
                    <a:pt x="1315" y="615"/>
                    <a:pt x="1315" y="683"/>
                  </a:cubicBezTo>
                  <a:lnTo>
                    <a:pt x="1315" y="683"/>
                  </a:lnTo>
                  <a:cubicBezTo>
                    <a:pt x="1315" y="763"/>
                    <a:pt x="1259" y="837"/>
                    <a:pt x="1168" y="894"/>
                  </a:cubicBezTo>
                  <a:close/>
                  <a:moveTo>
                    <a:pt x="1101" y="652"/>
                  </a:moveTo>
                  <a:lnTo>
                    <a:pt x="1101" y="652"/>
                  </a:lnTo>
                  <a:cubicBezTo>
                    <a:pt x="1074" y="589"/>
                    <a:pt x="1040" y="524"/>
                    <a:pt x="1000" y="461"/>
                  </a:cubicBezTo>
                  <a:lnTo>
                    <a:pt x="1000" y="461"/>
                  </a:lnTo>
                  <a:cubicBezTo>
                    <a:pt x="982" y="435"/>
                    <a:pt x="984" y="435"/>
                    <a:pt x="966" y="411"/>
                  </a:cubicBezTo>
                  <a:lnTo>
                    <a:pt x="966" y="411"/>
                  </a:lnTo>
                  <a:cubicBezTo>
                    <a:pt x="940" y="405"/>
                    <a:pt x="915" y="400"/>
                    <a:pt x="888" y="395"/>
                  </a:cubicBezTo>
                  <a:lnTo>
                    <a:pt x="888" y="395"/>
                  </a:lnTo>
                  <a:cubicBezTo>
                    <a:pt x="919" y="432"/>
                    <a:pt x="930" y="448"/>
                    <a:pt x="957" y="490"/>
                  </a:cubicBezTo>
                  <a:lnTo>
                    <a:pt x="957" y="490"/>
                  </a:lnTo>
                  <a:cubicBezTo>
                    <a:pt x="1006" y="564"/>
                    <a:pt x="1045" y="640"/>
                    <a:pt x="1072" y="716"/>
                  </a:cubicBezTo>
                  <a:lnTo>
                    <a:pt x="1072" y="716"/>
                  </a:lnTo>
                  <a:cubicBezTo>
                    <a:pt x="1051" y="762"/>
                    <a:pt x="1025" y="809"/>
                    <a:pt x="996" y="855"/>
                  </a:cubicBezTo>
                  <a:lnTo>
                    <a:pt x="996" y="855"/>
                  </a:lnTo>
                  <a:cubicBezTo>
                    <a:pt x="965" y="904"/>
                    <a:pt x="932" y="950"/>
                    <a:pt x="896" y="993"/>
                  </a:cubicBezTo>
                  <a:lnTo>
                    <a:pt x="896" y="993"/>
                  </a:lnTo>
                  <a:cubicBezTo>
                    <a:pt x="830" y="1004"/>
                    <a:pt x="758" y="1011"/>
                    <a:pt x="683" y="1011"/>
                  </a:cubicBezTo>
                  <a:lnTo>
                    <a:pt x="683" y="1011"/>
                  </a:lnTo>
                  <a:cubicBezTo>
                    <a:pt x="630" y="1011"/>
                    <a:pt x="577" y="1007"/>
                    <a:pt x="528" y="1002"/>
                  </a:cubicBezTo>
                  <a:lnTo>
                    <a:pt x="528" y="1002"/>
                  </a:lnTo>
                  <a:cubicBezTo>
                    <a:pt x="501" y="998"/>
                    <a:pt x="450" y="989"/>
                    <a:pt x="450" y="989"/>
                  </a:cubicBezTo>
                  <a:lnTo>
                    <a:pt x="450" y="989"/>
                  </a:lnTo>
                  <a:cubicBezTo>
                    <a:pt x="383" y="975"/>
                    <a:pt x="322" y="955"/>
                    <a:pt x="269" y="931"/>
                  </a:cubicBezTo>
                  <a:lnTo>
                    <a:pt x="269" y="931"/>
                  </a:lnTo>
                  <a:cubicBezTo>
                    <a:pt x="277" y="883"/>
                    <a:pt x="288" y="832"/>
                    <a:pt x="306" y="777"/>
                  </a:cubicBezTo>
                  <a:lnTo>
                    <a:pt x="306" y="777"/>
                  </a:lnTo>
                  <a:cubicBezTo>
                    <a:pt x="323" y="809"/>
                    <a:pt x="343" y="842"/>
                    <a:pt x="366" y="875"/>
                  </a:cubicBezTo>
                  <a:lnTo>
                    <a:pt x="366" y="875"/>
                  </a:lnTo>
                  <a:cubicBezTo>
                    <a:pt x="400" y="923"/>
                    <a:pt x="404" y="930"/>
                    <a:pt x="434" y="965"/>
                  </a:cubicBezTo>
                  <a:lnTo>
                    <a:pt x="434" y="965"/>
                  </a:lnTo>
                  <a:cubicBezTo>
                    <a:pt x="460" y="971"/>
                    <a:pt x="485" y="976"/>
                    <a:pt x="512" y="979"/>
                  </a:cubicBezTo>
                  <a:lnTo>
                    <a:pt x="512" y="979"/>
                  </a:lnTo>
                  <a:cubicBezTo>
                    <a:pt x="470" y="933"/>
                    <a:pt x="450" y="914"/>
                    <a:pt x="408" y="847"/>
                  </a:cubicBezTo>
                  <a:lnTo>
                    <a:pt x="408" y="847"/>
                  </a:lnTo>
                  <a:cubicBezTo>
                    <a:pt x="379" y="798"/>
                    <a:pt x="353" y="753"/>
                    <a:pt x="331" y="708"/>
                  </a:cubicBezTo>
                  <a:lnTo>
                    <a:pt x="331" y="708"/>
                  </a:lnTo>
                  <a:cubicBezTo>
                    <a:pt x="360" y="641"/>
                    <a:pt x="394" y="571"/>
                    <a:pt x="437" y="502"/>
                  </a:cubicBezTo>
                  <a:lnTo>
                    <a:pt x="437" y="502"/>
                  </a:lnTo>
                  <a:cubicBezTo>
                    <a:pt x="468" y="454"/>
                    <a:pt x="501" y="410"/>
                    <a:pt x="533" y="369"/>
                  </a:cubicBezTo>
                  <a:lnTo>
                    <a:pt x="533" y="369"/>
                  </a:lnTo>
                  <a:cubicBezTo>
                    <a:pt x="535" y="368"/>
                    <a:pt x="536" y="366"/>
                    <a:pt x="536" y="365"/>
                  </a:cubicBezTo>
                  <a:lnTo>
                    <a:pt x="536" y="365"/>
                  </a:lnTo>
                  <a:cubicBezTo>
                    <a:pt x="584" y="359"/>
                    <a:pt x="632" y="355"/>
                    <a:pt x="683" y="355"/>
                  </a:cubicBezTo>
                  <a:lnTo>
                    <a:pt x="683" y="355"/>
                  </a:lnTo>
                  <a:cubicBezTo>
                    <a:pt x="747" y="355"/>
                    <a:pt x="811" y="362"/>
                    <a:pt x="870" y="371"/>
                  </a:cubicBezTo>
                  <a:lnTo>
                    <a:pt x="870" y="371"/>
                  </a:lnTo>
                  <a:cubicBezTo>
                    <a:pt x="895" y="374"/>
                    <a:pt x="921" y="380"/>
                    <a:pt x="946" y="386"/>
                  </a:cubicBezTo>
                  <a:lnTo>
                    <a:pt x="946" y="386"/>
                  </a:lnTo>
                  <a:cubicBezTo>
                    <a:pt x="1027" y="405"/>
                    <a:pt x="1100" y="433"/>
                    <a:pt x="1157" y="468"/>
                  </a:cubicBezTo>
                  <a:lnTo>
                    <a:pt x="1157" y="468"/>
                  </a:lnTo>
                  <a:cubicBezTo>
                    <a:pt x="1146" y="526"/>
                    <a:pt x="1127" y="589"/>
                    <a:pt x="1101" y="652"/>
                  </a:cubicBezTo>
                  <a:close/>
                  <a:moveTo>
                    <a:pt x="975" y="974"/>
                  </a:moveTo>
                  <a:lnTo>
                    <a:pt x="975" y="974"/>
                  </a:lnTo>
                  <a:cubicBezTo>
                    <a:pt x="997" y="945"/>
                    <a:pt x="1019" y="914"/>
                    <a:pt x="1038" y="882"/>
                  </a:cubicBezTo>
                  <a:lnTo>
                    <a:pt x="1038" y="882"/>
                  </a:lnTo>
                  <a:cubicBezTo>
                    <a:pt x="1060" y="850"/>
                    <a:pt x="1077" y="818"/>
                    <a:pt x="1094" y="786"/>
                  </a:cubicBezTo>
                  <a:lnTo>
                    <a:pt x="1094" y="786"/>
                  </a:lnTo>
                  <a:cubicBezTo>
                    <a:pt x="1107" y="832"/>
                    <a:pt x="1116" y="877"/>
                    <a:pt x="1120" y="921"/>
                  </a:cubicBezTo>
                  <a:lnTo>
                    <a:pt x="1120" y="921"/>
                  </a:lnTo>
                  <a:cubicBezTo>
                    <a:pt x="1077" y="942"/>
                    <a:pt x="1028" y="959"/>
                    <a:pt x="975" y="974"/>
                  </a:cubicBezTo>
                  <a:close/>
                  <a:moveTo>
                    <a:pt x="821" y="1076"/>
                  </a:moveTo>
                  <a:lnTo>
                    <a:pt x="821" y="1076"/>
                  </a:lnTo>
                  <a:cubicBezTo>
                    <a:pt x="783" y="1115"/>
                    <a:pt x="743" y="1147"/>
                    <a:pt x="704" y="1176"/>
                  </a:cubicBezTo>
                  <a:lnTo>
                    <a:pt x="704" y="1176"/>
                  </a:lnTo>
                  <a:cubicBezTo>
                    <a:pt x="664" y="1151"/>
                    <a:pt x="624" y="1119"/>
                    <a:pt x="585" y="1084"/>
                  </a:cubicBezTo>
                  <a:lnTo>
                    <a:pt x="585" y="1084"/>
                  </a:lnTo>
                  <a:cubicBezTo>
                    <a:pt x="557" y="1082"/>
                    <a:pt x="530" y="1078"/>
                    <a:pt x="504" y="1075"/>
                  </a:cubicBezTo>
                  <a:lnTo>
                    <a:pt x="504" y="1075"/>
                  </a:lnTo>
                  <a:cubicBezTo>
                    <a:pt x="553" y="1126"/>
                    <a:pt x="606" y="1171"/>
                    <a:pt x="659" y="1206"/>
                  </a:cubicBezTo>
                  <a:lnTo>
                    <a:pt x="659" y="1206"/>
                  </a:lnTo>
                  <a:cubicBezTo>
                    <a:pt x="544" y="1277"/>
                    <a:pt x="434" y="1297"/>
                    <a:pt x="358" y="1248"/>
                  </a:cubicBezTo>
                  <a:lnTo>
                    <a:pt x="358" y="1248"/>
                  </a:lnTo>
                  <a:cubicBezTo>
                    <a:pt x="289" y="1205"/>
                    <a:pt x="259" y="1116"/>
                    <a:pt x="262" y="1003"/>
                  </a:cubicBezTo>
                  <a:lnTo>
                    <a:pt x="263" y="984"/>
                  </a:lnTo>
                  <a:lnTo>
                    <a:pt x="263" y="984"/>
                  </a:lnTo>
                  <a:cubicBezTo>
                    <a:pt x="334" y="1015"/>
                    <a:pt x="415" y="1037"/>
                    <a:pt x="504" y="1050"/>
                  </a:cubicBezTo>
                  <a:lnTo>
                    <a:pt x="504" y="1050"/>
                  </a:lnTo>
                  <a:cubicBezTo>
                    <a:pt x="530" y="1054"/>
                    <a:pt x="557" y="1056"/>
                    <a:pt x="585" y="1058"/>
                  </a:cubicBezTo>
                  <a:lnTo>
                    <a:pt x="585" y="1058"/>
                  </a:lnTo>
                  <a:cubicBezTo>
                    <a:pt x="617" y="1060"/>
                    <a:pt x="650" y="1062"/>
                    <a:pt x="683" y="1062"/>
                  </a:cubicBezTo>
                  <a:lnTo>
                    <a:pt x="683" y="1062"/>
                  </a:lnTo>
                  <a:cubicBezTo>
                    <a:pt x="739" y="1062"/>
                    <a:pt x="793" y="1058"/>
                    <a:pt x="845" y="1051"/>
                  </a:cubicBezTo>
                  <a:lnTo>
                    <a:pt x="845" y="1051"/>
                  </a:lnTo>
                  <a:cubicBezTo>
                    <a:pt x="836" y="1059"/>
                    <a:pt x="828" y="1067"/>
                    <a:pt x="821" y="1076"/>
                  </a:cubicBezTo>
                  <a:close/>
                  <a:moveTo>
                    <a:pt x="51" y="683"/>
                  </a:moveTo>
                  <a:lnTo>
                    <a:pt x="51" y="683"/>
                  </a:lnTo>
                  <a:cubicBezTo>
                    <a:pt x="51" y="602"/>
                    <a:pt x="107" y="529"/>
                    <a:pt x="201" y="472"/>
                  </a:cubicBezTo>
                  <a:lnTo>
                    <a:pt x="201" y="472"/>
                  </a:lnTo>
                  <a:cubicBezTo>
                    <a:pt x="217" y="463"/>
                    <a:pt x="233" y="453"/>
                    <a:pt x="249" y="445"/>
                  </a:cubicBezTo>
                  <a:lnTo>
                    <a:pt x="249" y="445"/>
                  </a:lnTo>
                  <a:cubicBezTo>
                    <a:pt x="310" y="415"/>
                    <a:pt x="382" y="392"/>
                    <a:pt x="462" y="377"/>
                  </a:cubicBezTo>
                  <a:lnTo>
                    <a:pt x="462" y="377"/>
                  </a:lnTo>
                  <a:cubicBezTo>
                    <a:pt x="460" y="382"/>
                    <a:pt x="456" y="385"/>
                    <a:pt x="454" y="389"/>
                  </a:cubicBezTo>
                  <a:lnTo>
                    <a:pt x="454" y="389"/>
                  </a:lnTo>
                  <a:cubicBezTo>
                    <a:pt x="432" y="417"/>
                    <a:pt x="414" y="445"/>
                    <a:pt x="394" y="475"/>
                  </a:cubicBezTo>
                  <a:lnTo>
                    <a:pt x="394" y="475"/>
                  </a:lnTo>
                  <a:cubicBezTo>
                    <a:pt x="359" y="531"/>
                    <a:pt x="329" y="587"/>
                    <a:pt x="303" y="642"/>
                  </a:cubicBezTo>
                  <a:lnTo>
                    <a:pt x="303" y="642"/>
                  </a:lnTo>
                  <a:cubicBezTo>
                    <a:pt x="282" y="586"/>
                    <a:pt x="267" y="530"/>
                    <a:pt x="260" y="471"/>
                  </a:cubicBezTo>
                  <a:lnTo>
                    <a:pt x="260" y="471"/>
                  </a:lnTo>
                  <a:cubicBezTo>
                    <a:pt x="242" y="479"/>
                    <a:pt x="227" y="487"/>
                    <a:pt x="212" y="496"/>
                  </a:cubicBezTo>
                  <a:lnTo>
                    <a:pt x="212" y="496"/>
                  </a:lnTo>
                  <a:cubicBezTo>
                    <a:pt x="223" y="572"/>
                    <a:pt x="243" y="642"/>
                    <a:pt x="274" y="713"/>
                  </a:cubicBezTo>
                  <a:lnTo>
                    <a:pt x="274" y="713"/>
                  </a:lnTo>
                  <a:cubicBezTo>
                    <a:pt x="249" y="780"/>
                    <a:pt x="230" y="845"/>
                    <a:pt x="221" y="906"/>
                  </a:cubicBezTo>
                  <a:lnTo>
                    <a:pt x="221" y="906"/>
                  </a:lnTo>
                  <a:cubicBezTo>
                    <a:pt x="116" y="849"/>
                    <a:pt x="51" y="771"/>
                    <a:pt x="51" y="683"/>
                  </a:cubicBezTo>
                  <a:close/>
                  <a:moveTo>
                    <a:pt x="590" y="305"/>
                  </a:moveTo>
                  <a:lnTo>
                    <a:pt x="590" y="305"/>
                  </a:lnTo>
                  <a:cubicBezTo>
                    <a:pt x="630" y="262"/>
                    <a:pt x="672" y="224"/>
                    <a:pt x="714" y="192"/>
                  </a:cubicBezTo>
                  <a:lnTo>
                    <a:pt x="714" y="192"/>
                  </a:lnTo>
                  <a:cubicBezTo>
                    <a:pt x="749" y="221"/>
                    <a:pt x="783" y="253"/>
                    <a:pt x="815" y="288"/>
                  </a:cubicBezTo>
                  <a:lnTo>
                    <a:pt x="815" y="288"/>
                  </a:lnTo>
                  <a:cubicBezTo>
                    <a:pt x="843" y="290"/>
                    <a:pt x="870" y="293"/>
                    <a:pt x="895" y="298"/>
                  </a:cubicBezTo>
                  <a:lnTo>
                    <a:pt x="895" y="298"/>
                  </a:lnTo>
                  <a:cubicBezTo>
                    <a:pt x="851" y="249"/>
                    <a:pt x="805" y="202"/>
                    <a:pt x="758" y="162"/>
                  </a:cubicBezTo>
                  <a:lnTo>
                    <a:pt x="758" y="162"/>
                  </a:lnTo>
                  <a:cubicBezTo>
                    <a:pt x="879" y="82"/>
                    <a:pt x="995" y="59"/>
                    <a:pt x="1076" y="109"/>
                  </a:cubicBezTo>
                  <a:lnTo>
                    <a:pt x="1076" y="109"/>
                  </a:lnTo>
                  <a:cubicBezTo>
                    <a:pt x="1144" y="152"/>
                    <a:pt x="1176" y="244"/>
                    <a:pt x="1172" y="359"/>
                  </a:cubicBezTo>
                  <a:lnTo>
                    <a:pt x="1172" y="359"/>
                  </a:lnTo>
                  <a:cubicBezTo>
                    <a:pt x="1170" y="377"/>
                    <a:pt x="1169" y="395"/>
                    <a:pt x="1167" y="414"/>
                  </a:cubicBezTo>
                  <a:lnTo>
                    <a:pt x="1167" y="414"/>
                  </a:lnTo>
                  <a:cubicBezTo>
                    <a:pt x="1092" y="373"/>
                    <a:pt x="999" y="342"/>
                    <a:pt x="895" y="324"/>
                  </a:cubicBezTo>
                  <a:lnTo>
                    <a:pt x="895" y="324"/>
                  </a:lnTo>
                  <a:cubicBezTo>
                    <a:pt x="870" y="319"/>
                    <a:pt x="843" y="315"/>
                    <a:pt x="817" y="312"/>
                  </a:cubicBezTo>
                  <a:lnTo>
                    <a:pt x="817" y="312"/>
                  </a:lnTo>
                  <a:cubicBezTo>
                    <a:pt x="773" y="308"/>
                    <a:pt x="729" y="305"/>
                    <a:pt x="683" y="305"/>
                  </a:cubicBezTo>
                  <a:lnTo>
                    <a:pt x="683" y="305"/>
                  </a:lnTo>
                  <a:cubicBezTo>
                    <a:pt x="650" y="305"/>
                    <a:pt x="617" y="307"/>
                    <a:pt x="585" y="310"/>
                  </a:cubicBezTo>
                  <a:lnTo>
                    <a:pt x="585" y="310"/>
                  </a:lnTo>
                  <a:cubicBezTo>
                    <a:pt x="588" y="307"/>
                    <a:pt x="590" y="305"/>
                    <a:pt x="590" y="305"/>
                  </a:cubicBezTo>
                  <a:close/>
                  <a:moveTo>
                    <a:pt x="1214" y="444"/>
                  </a:moveTo>
                  <a:lnTo>
                    <a:pt x="1214" y="444"/>
                  </a:lnTo>
                  <a:cubicBezTo>
                    <a:pt x="1214" y="443"/>
                    <a:pt x="1215" y="441"/>
                    <a:pt x="1215" y="440"/>
                  </a:cubicBezTo>
                  <a:lnTo>
                    <a:pt x="1215" y="440"/>
                  </a:lnTo>
                  <a:cubicBezTo>
                    <a:pt x="1217" y="420"/>
                    <a:pt x="1219" y="401"/>
                    <a:pt x="1222" y="383"/>
                  </a:cubicBezTo>
                  <a:lnTo>
                    <a:pt x="1222" y="383"/>
                  </a:lnTo>
                  <a:cubicBezTo>
                    <a:pt x="1233" y="237"/>
                    <a:pt x="1194" y="120"/>
                    <a:pt x="1105" y="63"/>
                  </a:cubicBezTo>
                  <a:lnTo>
                    <a:pt x="1105" y="63"/>
                  </a:lnTo>
                  <a:cubicBezTo>
                    <a:pt x="1004" y="0"/>
                    <a:pt x="860" y="29"/>
                    <a:pt x="715" y="128"/>
                  </a:cubicBezTo>
                  <a:lnTo>
                    <a:pt x="715" y="128"/>
                  </a:lnTo>
                  <a:cubicBezTo>
                    <a:pt x="622" y="55"/>
                    <a:pt x="527" y="8"/>
                    <a:pt x="442" y="8"/>
                  </a:cubicBezTo>
                  <a:lnTo>
                    <a:pt x="442" y="8"/>
                  </a:lnTo>
                  <a:cubicBezTo>
                    <a:pt x="393" y="8"/>
                    <a:pt x="348" y="21"/>
                    <a:pt x="310" y="46"/>
                  </a:cubicBezTo>
                  <a:lnTo>
                    <a:pt x="310" y="46"/>
                  </a:lnTo>
                  <a:cubicBezTo>
                    <a:pt x="223" y="102"/>
                    <a:pt x="182" y="241"/>
                    <a:pt x="196" y="391"/>
                  </a:cubicBezTo>
                  <a:lnTo>
                    <a:pt x="196" y="391"/>
                  </a:lnTo>
                  <a:lnTo>
                    <a:pt x="196" y="391"/>
                  </a:lnTo>
                  <a:cubicBezTo>
                    <a:pt x="210" y="383"/>
                    <a:pt x="227" y="374"/>
                    <a:pt x="245" y="366"/>
                  </a:cubicBezTo>
                  <a:lnTo>
                    <a:pt x="245" y="366"/>
                  </a:lnTo>
                  <a:cubicBezTo>
                    <a:pt x="239" y="247"/>
                    <a:pt x="270" y="131"/>
                    <a:pt x="338" y="88"/>
                  </a:cubicBezTo>
                  <a:lnTo>
                    <a:pt x="338" y="88"/>
                  </a:lnTo>
                  <a:cubicBezTo>
                    <a:pt x="367" y="68"/>
                    <a:pt x="402" y="59"/>
                    <a:pt x="442" y="59"/>
                  </a:cubicBezTo>
                  <a:lnTo>
                    <a:pt x="442" y="59"/>
                  </a:lnTo>
                  <a:cubicBezTo>
                    <a:pt x="512" y="59"/>
                    <a:pt x="592" y="98"/>
                    <a:pt x="673" y="160"/>
                  </a:cubicBezTo>
                  <a:lnTo>
                    <a:pt x="673" y="160"/>
                  </a:lnTo>
                  <a:cubicBezTo>
                    <a:pt x="617" y="202"/>
                    <a:pt x="563" y="256"/>
                    <a:pt x="510" y="317"/>
                  </a:cubicBezTo>
                  <a:lnTo>
                    <a:pt x="510" y="317"/>
                  </a:lnTo>
                  <a:cubicBezTo>
                    <a:pt x="410" y="331"/>
                    <a:pt x="320" y="357"/>
                    <a:pt x="245" y="392"/>
                  </a:cubicBezTo>
                  <a:lnTo>
                    <a:pt x="245" y="392"/>
                  </a:lnTo>
                  <a:cubicBezTo>
                    <a:pt x="227" y="399"/>
                    <a:pt x="210" y="408"/>
                    <a:pt x="196" y="417"/>
                  </a:cubicBezTo>
                  <a:lnTo>
                    <a:pt x="196" y="417"/>
                  </a:lnTo>
                  <a:cubicBezTo>
                    <a:pt x="73" y="485"/>
                    <a:pt x="0" y="579"/>
                    <a:pt x="0" y="683"/>
                  </a:cubicBezTo>
                  <a:lnTo>
                    <a:pt x="0" y="683"/>
                  </a:lnTo>
                  <a:cubicBezTo>
                    <a:pt x="0" y="794"/>
                    <a:pt x="81" y="893"/>
                    <a:pt x="214" y="961"/>
                  </a:cubicBezTo>
                  <a:lnTo>
                    <a:pt x="214" y="961"/>
                  </a:lnTo>
                  <a:cubicBezTo>
                    <a:pt x="213" y="966"/>
                    <a:pt x="212" y="971"/>
                    <a:pt x="212" y="976"/>
                  </a:cubicBezTo>
                  <a:lnTo>
                    <a:pt x="212" y="976"/>
                  </a:lnTo>
                  <a:cubicBezTo>
                    <a:pt x="201" y="1122"/>
                    <a:pt x="240" y="1238"/>
                    <a:pt x="329" y="1294"/>
                  </a:cubicBezTo>
                  <a:lnTo>
                    <a:pt x="329" y="1294"/>
                  </a:lnTo>
                  <a:cubicBezTo>
                    <a:pt x="428" y="1357"/>
                    <a:pt x="566" y="1329"/>
                    <a:pt x="707" y="1237"/>
                  </a:cubicBezTo>
                  <a:lnTo>
                    <a:pt x="707" y="1237"/>
                  </a:lnTo>
                  <a:cubicBezTo>
                    <a:pt x="783" y="1279"/>
                    <a:pt x="856" y="1302"/>
                    <a:pt x="924" y="1302"/>
                  </a:cubicBezTo>
                  <a:lnTo>
                    <a:pt x="924" y="1302"/>
                  </a:lnTo>
                  <a:cubicBezTo>
                    <a:pt x="973" y="1302"/>
                    <a:pt x="1017" y="1291"/>
                    <a:pt x="1055" y="1266"/>
                  </a:cubicBezTo>
                  <a:lnTo>
                    <a:pt x="1055" y="1266"/>
                  </a:lnTo>
                  <a:cubicBezTo>
                    <a:pt x="1136" y="1213"/>
                    <a:pt x="1177" y="1110"/>
                    <a:pt x="1173" y="975"/>
                  </a:cubicBezTo>
                  <a:lnTo>
                    <a:pt x="1173" y="975"/>
                  </a:lnTo>
                  <a:cubicBezTo>
                    <a:pt x="1156" y="984"/>
                    <a:pt x="1139" y="993"/>
                    <a:pt x="1122" y="1001"/>
                  </a:cubicBezTo>
                  <a:lnTo>
                    <a:pt x="1122" y="1001"/>
                  </a:lnTo>
                  <a:cubicBezTo>
                    <a:pt x="1121" y="1105"/>
                    <a:pt x="1089" y="1184"/>
                    <a:pt x="1028" y="1224"/>
                  </a:cubicBezTo>
                  <a:lnTo>
                    <a:pt x="1028" y="1224"/>
                  </a:lnTo>
                  <a:cubicBezTo>
                    <a:pt x="999" y="1243"/>
                    <a:pt x="964" y="1252"/>
                    <a:pt x="924" y="1252"/>
                  </a:cubicBezTo>
                  <a:lnTo>
                    <a:pt x="924" y="1252"/>
                  </a:lnTo>
                  <a:cubicBezTo>
                    <a:pt x="871" y="1252"/>
                    <a:pt x="812" y="1236"/>
                    <a:pt x="753" y="1204"/>
                  </a:cubicBezTo>
                  <a:lnTo>
                    <a:pt x="753" y="1204"/>
                  </a:lnTo>
                  <a:cubicBezTo>
                    <a:pt x="804" y="1165"/>
                    <a:pt x="854" y="1118"/>
                    <a:pt x="904" y="1063"/>
                  </a:cubicBezTo>
                  <a:lnTo>
                    <a:pt x="904" y="1063"/>
                  </a:lnTo>
                  <a:cubicBezTo>
                    <a:pt x="911" y="1056"/>
                    <a:pt x="918" y="1046"/>
                    <a:pt x="925" y="1038"/>
                  </a:cubicBezTo>
                  <a:lnTo>
                    <a:pt x="925" y="1038"/>
                  </a:lnTo>
                  <a:cubicBezTo>
                    <a:pt x="997" y="1024"/>
                    <a:pt x="1065" y="1002"/>
                    <a:pt x="1122" y="976"/>
                  </a:cubicBezTo>
                  <a:lnTo>
                    <a:pt x="1122" y="976"/>
                  </a:lnTo>
                  <a:cubicBezTo>
                    <a:pt x="1139" y="968"/>
                    <a:pt x="1156" y="959"/>
                    <a:pt x="1173" y="950"/>
                  </a:cubicBezTo>
                  <a:lnTo>
                    <a:pt x="1173" y="950"/>
                  </a:lnTo>
                  <a:cubicBezTo>
                    <a:pt x="1293" y="882"/>
                    <a:pt x="1365" y="789"/>
                    <a:pt x="1365" y="683"/>
                  </a:cubicBezTo>
                  <a:lnTo>
                    <a:pt x="1365" y="683"/>
                  </a:lnTo>
                  <a:cubicBezTo>
                    <a:pt x="1365" y="592"/>
                    <a:pt x="1309" y="509"/>
                    <a:pt x="1214" y="444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88" name="Group 17" descr=""/>
            <p:cNvPicPr/>
            <p:nvPr/>
          </p:nvPicPr>
          <p:blipFill>
            <a:blip r:embed="rId8"/>
            <a:stretch/>
          </p:blipFill>
          <p:spPr>
            <a:xfrm>
              <a:off x="8638560" y="104400"/>
              <a:ext cx="415800" cy="4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146"/>
            <p:cNvSpPr/>
            <p:nvPr/>
          </p:nvSpPr>
          <p:spPr>
            <a:xfrm>
              <a:off x="8100000" y="1692000"/>
              <a:ext cx="370800" cy="406080"/>
            </a:xfrm>
            <a:custGeom>
              <a:avLst/>
              <a:gdLst/>
              <a:ahLst/>
              <a:rect l="l" t="t" r="r" b="b"/>
              <a:pathLst>
                <a:path w="1261" h="1381">
                  <a:moveTo>
                    <a:pt x="1126" y="927"/>
                  </a:moveTo>
                  <a:lnTo>
                    <a:pt x="1126" y="927"/>
                  </a:lnTo>
                  <a:cubicBezTo>
                    <a:pt x="1093" y="927"/>
                    <a:pt x="1061" y="941"/>
                    <a:pt x="1038" y="962"/>
                  </a:cubicBezTo>
                  <a:lnTo>
                    <a:pt x="964" y="881"/>
                  </a:lnTo>
                  <a:lnTo>
                    <a:pt x="964" y="881"/>
                  </a:lnTo>
                  <a:cubicBezTo>
                    <a:pt x="1013" y="820"/>
                    <a:pt x="1041" y="743"/>
                    <a:pt x="1041" y="660"/>
                  </a:cubicBezTo>
                  <a:lnTo>
                    <a:pt x="1041" y="660"/>
                  </a:lnTo>
                  <a:cubicBezTo>
                    <a:pt x="1041" y="526"/>
                    <a:pt x="971" y="412"/>
                    <a:pt x="865" y="348"/>
                  </a:cubicBezTo>
                  <a:lnTo>
                    <a:pt x="952" y="193"/>
                  </a:lnTo>
                  <a:lnTo>
                    <a:pt x="952" y="193"/>
                  </a:lnTo>
                  <a:cubicBezTo>
                    <a:pt x="962" y="197"/>
                    <a:pt x="973" y="199"/>
                    <a:pt x="984" y="199"/>
                  </a:cubicBezTo>
                  <a:lnTo>
                    <a:pt x="984" y="199"/>
                  </a:lnTo>
                  <a:cubicBezTo>
                    <a:pt x="1040" y="199"/>
                    <a:pt x="1083" y="154"/>
                    <a:pt x="1083" y="99"/>
                  </a:cubicBezTo>
                  <a:lnTo>
                    <a:pt x="1083" y="99"/>
                  </a:lnTo>
                  <a:cubicBezTo>
                    <a:pt x="1083" y="45"/>
                    <a:pt x="1040" y="0"/>
                    <a:pt x="984" y="0"/>
                  </a:cubicBezTo>
                  <a:lnTo>
                    <a:pt x="984" y="0"/>
                  </a:lnTo>
                  <a:cubicBezTo>
                    <a:pt x="931" y="0"/>
                    <a:pt x="886" y="45"/>
                    <a:pt x="886" y="99"/>
                  </a:cubicBezTo>
                  <a:lnTo>
                    <a:pt x="886" y="99"/>
                  </a:lnTo>
                  <a:cubicBezTo>
                    <a:pt x="886" y="130"/>
                    <a:pt x="899" y="157"/>
                    <a:pt x="920" y="174"/>
                  </a:cubicBezTo>
                  <a:lnTo>
                    <a:pt x="832" y="332"/>
                  </a:lnTo>
                  <a:lnTo>
                    <a:pt x="832" y="332"/>
                  </a:lnTo>
                  <a:cubicBezTo>
                    <a:pt x="786" y="310"/>
                    <a:pt x="735" y="298"/>
                    <a:pt x="679" y="298"/>
                  </a:cubicBezTo>
                  <a:lnTo>
                    <a:pt x="679" y="298"/>
                  </a:lnTo>
                  <a:cubicBezTo>
                    <a:pt x="596" y="298"/>
                    <a:pt x="519" y="326"/>
                    <a:pt x="458" y="373"/>
                  </a:cubicBezTo>
                  <a:lnTo>
                    <a:pt x="376" y="270"/>
                  </a:lnTo>
                  <a:lnTo>
                    <a:pt x="376" y="270"/>
                  </a:lnTo>
                  <a:cubicBezTo>
                    <a:pt x="396" y="246"/>
                    <a:pt x="408" y="215"/>
                    <a:pt x="408" y="181"/>
                  </a:cubicBezTo>
                  <a:lnTo>
                    <a:pt x="408" y="181"/>
                  </a:lnTo>
                  <a:cubicBezTo>
                    <a:pt x="408" y="104"/>
                    <a:pt x="345" y="40"/>
                    <a:pt x="267" y="40"/>
                  </a:cubicBezTo>
                  <a:lnTo>
                    <a:pt x="267" y="40"/>
                  </a:lnTo>
                  <a:cubicBezTo>
                    <a:pt x="188" y="40"/>
                    <a:pt x="125" y="104"/>
                    <a:pt x="125" y="181"/>
                  </a:cubicBezTo>
                  <a:lnTo>
                    <a:pt x="125" y="181"/>
                  </a:lnTo>
                  <a:cubicBezTo>
                    <a:pt x="125" y="260"/>
                    <a:pt x="188" y="323"/>
                    <a:pt x="267" y="323"/>
                  </a:cubicBezTo>
                  <a:lnTo>
                    <a:pt x="267" y="323"/>
                  </a:lnTo>
                  <a:cubicBezTo>
                    <a:pt x="297" y="323"/>
                    <a:pt x="327" y="313"/>
                    <a:pt x="350" y="295"/>
                  </a:cubicBezTo>
                  <a:lnTo>
                    <a:pt x="430" y="398"/>
                  </a:lnTo>
                  <a:lnTo>
                    <a:pt x="430" y="398"/>
                  </a:lnTo>
                  <a:cubicBezTo>
                    <a:pt x="361" y="463"/>
                    <a:pt x="317" y="556"/>
                    <a:pt x="317" y="660"/>
                  </a:cubicBezTo>
                  <a:lnTo>
                    <a:pt x="317" y="660"/>
                  </a:lnTo>
                  <a:cubicBezTo>
                    <a:pt x="317" y="662"/>
                    <a:pt x="317" y="663"/>
                    <a:pt x="317" y="665"/>
                  </a:cubicBezTo>
                  <a:lnTo>
                    <a:pt x="228" y="665"/>
                  </a:lnTo>
                  <a:lnTo>
                    <a:pt x="228" y="665"/>
                  </a:lnTo>
                  <a:cubicBezTo>
                    <a:pt x="214" y="616"/>
                    <a:pt x="169" y="581"/>
                    <a:pt x="116" y="581"/>
                  </a:cubicBezTo>
                  <a:lnTo>
                    <a:pt x="116" y="581"/>
                  </a:lnTo>
                  <a:cubicBezTo>
                    <a:pt x="52" y="581"/>
                    <a:pt x="0" y="632"/>
                    <a:pt x="0" y="696"/>
                  </a:cubicBezTo>
                  <a:lnTo>
                    <a:pt x="0" y="696"/>
                  </a:lnTo>
                  <a:cubicBezTo>
                    <a:pt x="0" y="761"/>
                    <a:pt x="52" y="811"/>
                    <a:pt x="116" y="811"/>
                  </a:cubicBezTo>
                  <a:lnTo>
                    <a:pt x="116" y="811"/>
                  </a:lnTo>
                  <a:cubicBezTo>
                    <a:pt x="180" y="811"/>
                    <a:pt x="230" y="762"/>
                    <a:pt x="232" y="700"/>
                  </a:cubicBezTo>
                  <a:lnTo>
                    <a:pt x="320" y="700"/>
                  </a:lnTo>
                  <a:lnTo>
                    <a:pt x="320" y="700"/>
                  </a:lnTo>
                  <a:cubicBezTo>
                    <a:pt x="334" y="835"/>
                    <a:pt x="426" y="947"/>
                    <a:pt x="548" y="996"/>
                  </a:cubicBezTo>
                  <a:lnTo>
                    <a:pt x="517" y="1058"/>
                  </a:lnTo>
                  <a:lnTo>
                    <a:pt x="517" y="1058"/>
                  </a:lnTo>
                  <a:cubicBezTo>
                    <a:pt x="498" y="1051"/>
                    <a:pt x="478" y="1046"/>
                    <a:pt x="456" y="1046"/>
                  </a:cubicBezTo>
                  <a:lnTo>
                    <a:pt x="456" y="1046"/>
                  </a:lnTo>
                  <a:cubicBezTo>
                    <a:pt x="363" y="1046"/>
                    <a:pt x="289" y="1122"/>
                    <a:pt x="289" y="1213"/>
                  </a:cubicBezTo>
                  <a:lnTo>
                    <a:pt x="289" y="1213"/>
                  </a:lnTo>
                  <a:cubicBezTo>
                    <a:pt x="289" y="1306"/>
                    <a:pt x="363" y="1380"/>
                    <a:pt x="456" y="1380"/>
                  </a:cubicBezTo>
                  <a:lnTo>
                    <a:pt x="456" y="1380"/>
                  </a:lnTo>
                  <a:cubicBezTo>
                    <a:pt x="549" y="1380"/>
                    <a:pt x="623" y="1306"/>
                    <a:pt x="623" y="1213"/>
                  </a:cubicBezTo>
                  <a:lnTo>
                    <a:pt x="623" y="1213"/>
                  </a:lnTo>
                  <a:cubicBezTo>
                    <a:pt x="623" y="1155"/>
                    <a:pt x="594" y="1104"/>
                    <a:pt x="548" y="1074"/>
                  </a:cubicBezTo>
                  <a:lnTo>
                    <a:pt x="580" y="1007"/>
                  </a:lnTo>
                  <a:lnTo>
                    <a:pt x="580" y="1007"/>
                  </a:lnTo>
                  <a:cubicBezTo>
                    <a:pt x="612" y="1016"/>
                    <a:pt x="645" y="1021"/>
                    <a:pt x="679" y="1021"/>
                  </a:cubicBezTo>
                  <a:lnTo>
                    <a:pt x="679" y="1021"/>
                  </a:lnTo>
                  <a:cubicBezTo>
                    <a:pt x="782" y="1021"/>
                    <a:pt x="877" y="977"/>
                    <a:pt x="942" y="907"/>
                  </a:cubicBezTo>
                  <a:lnTo>
                    <a:pt x="1015" y="987"/>
                  </a:lnTo>
                  <a:lnTo>
                    <a:pt x="1015" y="987"/>
                  </a:lnTo>
                  <a:cubicBezTo>
                    <a:pt x="1001" y="1008"/>
                    <a:pt x="993" y="1033"/>
                    <a:pt x="993" y="1060"/>
                  </a:cubicBezTo>
                  <a:lnTo>
                    <a:pt x="993" y="1060"/>
                  </a:lnTo>
                  <a:cubicBezTo>
                    <a:pt x="993" y="1134"/>
                    <a:pt x="1053" y="1193"/>
                    <a:pt x="1126" y="1193"/>
                  </a:cubicBezTo>
                  <a:lnTo>
                    <a:pt x="1126" y="1193"/>
                  </a:lnTo>
                  <a:cubicBezTo>
                    <a:pt x="1200" y="1193"/>
                    <a:pt x="1260" y="1134"/>
                    <a:pt x="1260" y="1060"/>
                  </a:cubicBezTo>
                  <a:lnTo>
                    <a:pt x="1260" y="1060"/>
                  </a:lnTo>
                  <a:cubicBezTo>
                    <a:pt x="1260" y="987"/>
                    <a:pt x="1200" y="927"/>
                    <a:pt x="1126" y="927"/>
                  </a:cubicBezTo>
                </a:path>
              </a:pathLst>
            </a:custGeom>
            <a:solidFill>
              <a:srgbClr val="d2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90" name="Group 19" descr=""/>
            <p:cNvPicPr/>
            <p:nvPr/>
          </p:nvPicPr>
          <p:blipFill>
            <a:blip r:embed="rId9"/>
            <a:stretch/>
          </p:blipFill>
          <p:spPr>
            <a:xfrm>
              <a:off x="8546760" y="1378080"/>
              <a:ext cx="623880" cy="9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Freeform 20"/>
            <p:cNvSpPr/>
            <p:nvPr/>
          </p:nvSpPr>
          <p:spPr>
            <a:xfrm>
              <a:off x="8442000" y="4472640"/>
              <a:ext cx="595440" cy="681480"/>
            </a:xfrm>
            <a:custGeom>
              <a:avLst/>
              <a:gdLst/>
              <a:ahLst/>
              <a:rect l="l" t="t" r="r" b="b"/>
              <a:pathLst>
                <a:path w="2023" h="2314">
                  <a:moveTo>
                    <a:pt x="1228" y="195"/>
                  </a:moveTo>
                  <a:lnTo>
                    <a:pt x="1228" y="195"/>
                  </a:lnTo>
                  <a:cubicBezTo>
                    <a:pt x="1208" y="203"/>
                    <a:pt x="1191" y="221"/>
                    <a:pt x="1181" y="242"/>
                  </a:cubicBezTo>
                  <a:lnTo>
                    <a:pt x="849" y="869"/>
                  </a:lnTo>
                  <a:lnTo>
                    <a:pt x="721" y="807"/>
                  </a:lnTo>
                  <a:lnTo>
                    <a:pt x="721" y="807"/>
                  </a:lnTo>
                  <a:cubicBezTo>
                    <a:pt x="724" y="798"/>
                    <a:pt x="725" y="788"/>
                    <a:pt x="730" y="779"/>
                  </a:cubicBezTo>
                  <a:lnTo>
                    <a:pt x="1047" y="192"/>
                  </a:lnTo>
                  <a:lnTo>
                    <a:pt x="1047" y="192"/>
                  </a:lnTo>
                  <a:cubicBezTo>
                    <a:pt x="1055" y="173"/>
                    <a:pt x="1072" y="158"/>
                    <a:pt x="1089" y="152"/>
                  </a:cubicBezTo>
                  <a:lnTo>
                    <a:pt x="1089" y="152"/>
                  </a:lnTo>
                  <a:cubicBezTo>
                    <a:pt x="1108" y="145"/>
                    <a:pt x="1128" y="146"/>
                    <a:pt x="1145" y="154"/>
                  </a:cubicBezTo>
                  <a:lnTo>
                    <a:pt x="1229" y="194"/>
                  </a:lnTo>
                  <a:lnTo>
                    <a:pt x="1229" y="194"/>
                  </a:lnTo>
                  <a:cubicBezTo>
                    <a:pt x="1228" y="195"/>
                    <a:pt x="1228" y="194"/>
                    <a:pt x="1228" y="195"/>
                  </a:cubicBezTo>
                  <a:close/>
                  <a:moveTo>
                    <a:pt x="1733" y="2168"/>
                  </a:moveTo>
                  <a:lnTo>
                    <a:pt x="1633" y="2168"/>
                  </a:lnTo>
                  <a:lnTo>
                    <a:pt x="1633" y="2168"/>
                  </a:lnTo>
                  <a:cubicBezTo>
                    <a:pt x="1867" y="2014"/>
                    <a:pt x="2022" y="1748"/>
                    <a:pt x="2022" y="1446"/>
                  </a:cubicBezTo>
                  <a:lnTo>
                    <a:pt x="2022" y="1446"/>
                  </a:lnTo>
                  <a:cubicBezTo>
                    <a:pt x="2022" y="1041"/>
                    <a:pt x="1743" y="703"/>
                    <a:pt x="1367" y="607"/>
                  </a:cubicBezTo>
                  <a:lnTo>
                    <a:pt x="1531" y="298"/>
                  </a:lnTo>
                  <a:lnTo>
                    <a:pt x="1531" y="298"/>
                  </a:lnTo>
                  <a:cubicBezTo>
                    <a:pt x="1548" y="261"/>
                    <a:pt x="1534" y="215"/>
                    <a:pt x="1499" y="198"/>
                  </a:cubicBezTo>
                  <a:lnTo>
                    <a:pt x="1109" y="10"/>
                  </a:lnTo>
                  <a:lnTo>
                    <a:pt x="1109" y="10"/>
                  </a:lnTo>
                  <a:cubicBezTo>
                    <a:pt x="1092" y="1"/>
                    <a:pt x="1072" y="0"/>
                    <a:pt x="1053" y="7"/>
                  </a:cubicBezTo>
                  <a:lnTo>
                    <a:pt x="1053" y="7"/>
                  </a:lnTo>
                  <a:cubicBezTo>
                    <a:pt x="1035" y="14"/>
                    <a:pt x="1020" y="29"/>
                    <a:pt x="1011" y="47"/>
                  </a:cubicBezTo>
                  <a:lnTo>
                    <a:pt x="549" y="922"/>
                  </a:lnTo>
                  <a:lnTo>
                    <a:pt x="549" y="922"/>
                  </a:lnTo>
                  <a:cubicBezTo>
                    <a:pt x="512" y="997"/>
                    <a:pt x="541" y="1088"/>
                    <a:pt x="612" y="1123"/>
                  </a:cubicBezTo>
                  <a:lnTo>
                    <a:pt x="549" y="1252"/>
                  </a:lnTo>
                  <a:lnTo>
                    <a:pt x="810" y="1378"/>
                  </a:lnTo>
                  <a:lnTo>
                    <a:pt x="872" y="1249"/>
                  </a:lnTo>
                  <a:lnTo>
                    <a:pt x="872" y="1249"/>
                  </a:lnTo>
                  <a:cubicBezTo>
                    <a:pt x="943" y="1283"/>
                    <a:pt x="1032" y="1250"/>
                    <a:pt x="1069" y="1173"/>
                  </a:cubicBezTo>
                  <a:lnTo>
                    <a:pt x="1225" y="876"/>
                  </a:lnTo>
                  <a:lnTo>
                    <a:pt x="1225" y="876"/>
                  </a:lnTo>
                  <a:cubicBezTo>
                    <a:pt x="1511" y="911"/>
                    <a:pt x="1733" y="1152"/>
                    <a:pt x="1733" y="1446"/>
                  </a:cubicBezTo>
                  <a:lnTo>
                    <a:pt x="1733" y="1446"/>
                  </a:lnTo>
                  <a:cubicBezTo>
                    <a:pt x="1733" y="1764"/>
                    <a:pt x="1473" y="2024"/>
                    <a:pt x="1155" y="2024"/>
                  </a:cubicBezTo>
                  <a:lnTo>
                    <a:pt x="1155" y="2024"/>
                  </a:lnTo>
                  <a:cubicBezTo>
                    <a:pt x="1009" y="2024"/>
                    <a:pt x="822" y="1969"/>
                    <a:pt x="721" y="1879"/>
                  </a:cubicBezTo>
                  <a:lnTo>
                    <a:pt x="721" y="1808"/>
                  </a:lnTo>
                  <a:lnTo>
                    <a:pt x="721" y="1808"/>
                  </a:lnTo>
                  <a:cubicBezTo>
                    <a:pt x="721" y="1768"/>
                    <a:pt x="754" y="1735"/>
                    <a:pt x="794" y="1735"/>
                  </a:cubicBezTo>
                  <a:lnTo>
                    <a:pt x="1155" y="1735"/>
                  </a:lnTo>
                  <a:lnTo>
                    <a:pt x="1155" y="1591"/>
                  </a:lnTo>
                  <a:lnTo>
                    <a:pt x="598" y="1591"/>
                  </a:lnTo>
                  <a:lnTo>
                    <a:pt x="302" y="1591"/>
                  </a:lnTo>
                  <a:lnTo>
                    <a:pt x="0" y="1591"/>
                  </a:lnTo>
                  <a:lnTo>
                    <a:pt x="0" y="1735"/>
                  </a:lnTo>
                  <a:lnTo>
                    <a:pt x="340" y="1735"/>
                  </a:lnTo>
                  <a:lnTo>
                    <a:pt x="361" y="1735"/>
                  </a:lnTo>
                  <a:lnTo>
                    <a:pt x="361" y="1735"/>
                  </a:lnTo>
                  <a:cubicBezTo>
                    <a:pt x="401" y="1735"/>
                    <a:pt x="432" y="1768"/>
                    <a:pt x="432" y="1808"/>
                  </a:cubicBezTo>
                  <a:lnTo>
                    <a:pt x="432" y="1879"/>
                  </a:lnTo>
                  <a:lnTo>
                    <a:pt x="432" y="2168"/>
                  </a:lnTo>
                  <a:lnTo>
                    <a:pt x="432" y="2168"/>
                  </a:lnTo>
                  <a:cubicBezTo>
                    <a:pt x="274" y="2168"/>
                    <a:pt x="145" y="2153"/>
                    <a:pt x="145" y="2313"/>
                  </a:cubicBezTo>
                  <a:lnTo>
                    <a:pt x="2022" y="2313"/>
                  </a:lnTo>
                  <a:lnTo>
                    <a:pt x="2022" y="2313"/>
                  </a:lnTo>
                  <a:cubicBezTo>
                    <a:pt x="2022" y="2153"/>
                    <a:pt x="1891" y="2168"/>
                    <a:pt x="1733" y="2168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8274240" y="1082880"/>
              <a:ext cx="477720" cy="526320"/>
            </a:xfrm>
            <a:custGeom>
              <a:avLst/>
              <a:gdLst/>
              <a:ahLst/>
              <a:rect l="l" t="t" r="r" b="b"/>
              <a:pathLst>
                <a:path w="2193" h="2455">
                  <a:moveTo>
                    <a:pt x="1386" y="1385"/>
                  </a:moveTo>
                  <a:lnTo>
                    <a:pt x="1386" y="1385"/>
                  </a:lnTo>
                  <a:cubicBezTo>
                    <a:pt x="1378" y="1398"/>
                    <a:pt x="1325" y="1491"/>
                    <a:pt x="1298" y="1538"/>
                  </a:cubicBezTo>
                  <a:lnTo>
                    <a:pt x="1298" y="1538"/>
                  </a:lnTo>
                  <a:cubicBezTo>
                    <a:pt x="1282" y="1566"/>
                    <a:pt x="1266" y="1561"/>
                    <a:pt x="1247" y="1561"/>
                  </a:cubicBezTo>
                  <a:lnTo>
                    <a:pt x="1247" y="1561"/>
                  </a:lnTo>
                  <a:cubicBezTo>
                    <a:pt x="1195" y="1561"/>
                    <a:pt x="1149" y="1592"/>
                    <a:pt x="1126" y="1637"/>
                  </a:cubicBezTo>
                  <a:lnTo>
                    <a:pt x="1126" y="1637"/>
                  </a:lnTo>
                  <a:cubicBezTo>
                    <a:pt x="1123" y="1645"/>
                    <a:pt x="1116" y="1663"/>
                    <a:pt x="1094" y="1663"/>
                  </a:cubicBezTo>
                  <a:lnTo>
                    <a:pt x="899" y="1663"/>
                  </a:lnTo>
                  <a:lnTo>
                    <a:pt x="899" y="1663"/>
                  </a:lnTo>
                  <a:cubicBezTo>
                    <a:pt x="878" y="1663"/>
                    <a:pt x="872" y="1650"/>
                    <a:pt x="867" y="1638"/>
                  </a:cubicBezTo>
                  <a:lnTo>
                    <a:pt x="867" y="1638"/>
                  </a:lnTo>
                  <a:cubicBezTo>
                    <a:pt x="844" y="1592"/>
                    <a:pt x="799" y="1561"/>
                    <a:pt x="746" y="1561"/>
                  </a:cubicBezTo>
                  <a:lnTo>
                    <a:pt x="746" y="1561"/>
                  </a:lnTo>
                  <a:cubicBezTo>
                    <a:pt x="733" y="1561"/>
                    <a:pt x="707" y="1567"/>
                    <a:pt x="691" y="1538"/>
                  </a:cubicBezTo>
                  <a:lnTo>
                    <a:pt x="691" y="1538"/>
                  </a:lnTo>
                  <a:cubicBezTo>
                    <a:pt x="675" y="1509"/>
                    <a:pt x="607" y="1392"/>
                    <a:pt x="607" y="1392"/>
                  </a:cubicBezTo>
                  <a:lnTo>
                    <a:pt x="607" y="1392"/>
                  </a:lnTo>
                  <a:cubicBezTo>
                    <a:pt x="593" y="1374"/>
                    <a:pt x="598" y="1360"/>
                    <a:pt x="611" y="1340"/>
                  </a:cubicBezTo>
                  <a:lnTo>
                    <a:pt x="611" y="1340"/>
                  </a:lnTo>
                  <a:cubicBezTo>
                    <a:pt x="625" y="1319"/>
                    <a:pt x="633" y="1294"/>
                    <a:pt x="633" y="1267"/>
                  </a:cubicBezTo>
                  <a:lnTo>
                    <a:pt x="633" y="1267"/>
                  </a:lnTo>
                  <a:cubicBezTo>
                    <a:pt x="633" y="1237"/>
                    <a:pt x="624" y="1210"/>
                    <a:pt x="609" y="1188"/>
                  </a:cubicBezTo>
                  <a:lnTo>
                    <a:pt x="609" y="1188"/>
                  </a:lnTo>
                  <a:cubicBezTo>
                    <a:pt x="596" y="1171"/>
                    <a:pt x="593" y="1158"/>
                    <a:pt x="604" y="1140"/>
                  </a:cubicBezTo>
                  <a:lnTo>
                    <a:pt x="604" y="1140"/>
                  </a:lnTo>
                  <a:cubicBezTo>
                    <a:pt x="630" y="1095"/>
                    <a:pt x="678" y="1009"/>
                    <a:pt x="691" y="990"/>
                  </a:cubicBezTo>
                  <a:lnTo>
                    <a:pt x="691" y="990"/>
                  </a:lnTo>
                  <a:cubicBezTo>
                    <a:pt x="708" y="965"/>
                    <a:pt x="733" y="966"/>
                    <a:pt x="746" y="966"/>
                  </a:cubicBezTo>
                  <a:lnTo>
                    <a:pt x="746" y="966"/>
                  </a:lnTo>
                  <a:cubicBezTo>
                    <a:pt x="798" y="966"/>
                    <a:pt x="843" y="936"/>
                    <a:pt x="866" y="893"/>
                  </a:cubicBezTo>
                  <a:lnTo>
                    <a:pt x="866" y="893"/>
                  </a:lnTo>
                  <a:cubicBezTo>
                    <a:pt x="869" y="884"/>
                    <a:pt x="878" y="864"/>
                    <a:pt x="912" y="864"/>
                  </a:cubicBezTo>
                  <a:lnTo>
                    <a:pt x="1089" y="864"/>
                  </a:lnTo>
                  <a:lnTo>
                    <a:pt x="1089" y="864"/>
                  </a:lnTo>
                  <a:cubicBezTo>
                    <a:pt x="1106" y="864"/>
                    <a:pt x="1123" y="883"/>
                    <a:pt x="1126" y="891"/>
                  </a:cubicBezTo>
                  <a:lnTo>
                    <a:pt x="1126" y="891"/>
                  </a:lnTo>
                  <a:cubicBezTo>
                    <a:pt x="1147" y="935"/>
                    <a:pt x="1194" y="966"/>
                    <a:pt x="1247" y="966"/>
                  </a:cubicBezTo>
                  <a:lnTo>
                    <a:pt x="1247" y="966"/>
                  </a:lnTo>
                  <a:cubicBezTo>
                    <a:pt x="1259" y="966"/>
                    <a:pt x="1284" y="965"/>
                    <a:pt x="1297" y="987"/>
                  </a:cubicBezTo>
                  <a:lnTo>
                    <a:pt x="1297" y="987"/>
                  </a:lnTo>
                  <a:cubicBezTo>
                    <a:pt x="1305" y="1002"/>
                    <a:pt x="1362" y="1098"/>
                    <a:pt x="1387" y="1145"/>
                  </a:cubicBezTo>
                  <a:lnTo>
                    <a:pt x="1387" y="1145"/>
                  </a:lnTo>
                  <a:cubicBezTo>
                    <a:pt x="1396" y="1158"/>
                    <a:pt x="1389" y="1180"/>
                    <a:pt x="1385" y="1186"/>
                  </a:cubicBezTo>
                  <a:lnTo>
                    <a:pt x="1385" y="1186"/>
                  </a:lnTo>
                  <a:cubicBezTo>
                    <a:pt x="1368" y="1208"/>
                    <a:pt x="1358" y="1236"/>
                    <a:pt x="1358" y="1267"/>
                  </a:cubicBezTo>
                  <a:lnTo>
                    <a:pt x="1358" y="1267"/>
                  </a:lnTo>
                  <a:cubicBezTo>
                    <a:pt x="1358" y="1294"/>
                    <a:pt x="1366" y="1318"/>
                    <a:pt x="1379" y="1338"/>
                  </a:cubicBezTo>
                  <a:lnTo>
                    <a:pt x="1379" y="1338"/>
                  </a:lnTo>
                  <a:cubicBezTo>
                    <a:pt x="1385" y="1348"/>
                    <a:pt x="1397" y="1369"/>
                    <a:pt x="1386" y="1385"/>
                  </a:cubicBezTo>
                  <a:close/>
                  <a:moveTo>
                    <a:pt x="2058" y="1507"/>
                  </a:moveTo>
                  <a:lnTo>
                    <a:pt x="2058" y="1507"/>
                  </a:lnTo>
                  <a:cubicBezTo>
                    <a:pt x="2038" y="1507"/>
                    <a:pt x="2034" y="1506"/>
                    <a:pt x="2025" y="1490"/>
                  </a:cubicBezTo>
                  <a:lnTo>
                    <a:pt x="2025" y="1490"/>
                  </a:lnTo>
                  <a:cubicBezTo>
                    <a:pt x="2009" y="1460"/>
                    <a:pt x="1980" y="1409"/>
                    <a:pt x="1968" y="1387"/>
                  </a:cubicBezTo>
                  <a:lnTo>
                    <a:pt x="1968" y="1387"/>
                  </a:lnTo>
                  <a:cubicBezTo>
                    <a:pt x="1951" y="1356"/>
                    <a:pt x="1965" y="1345"/>
                    <a:pt x="1971" y="1337"/>
                  </a:cubicBezTo>
                  <a:lnTo>
                    <a:pt x="1971" y="1337"/>
                  </a:lnTo>
                  <a:cubicBezTo>
                    <a:pt x="1983" y="1316"/>
                    <a:pt x="1991" y="1292"/>
                    <a:pt x="1991" y="1267"/>
                  </a:cubicBezTo>
                  <a:lnTo>
                    <a:pt x="1991" y="1267"/>
                  </a:lnTo>
                  <a:cubicBezTo>
                    <a:pt x="1991" y="1241"/>
                    <a:pt x="1984" y="1217"/>
                    <a:pt x="1971" y="1197"/>
                  </a:cubicBezTo>
                  <a:lnTo>
                    <a:pt x="1971" y="1197"/>
                  </a:lnTo>
                  <a:cubicBezTo>
                    <a:pt x="1967" y="1189"/>
                    <a:pt x="1952" y="1175"/>
                    <a:pt x="1965" y="1150"/>
                  </a:cubicBezTo>
                  <a:lnTo>
                    <a:pt x="1965" y="1150"/>
                  </a:lnTo>
                  <a:cubicBezTo>
                    <a:pt x="1976" y="1133"/>
                    <a:pt x="2010" y="1072"/>
                    <a:pt x="2026" y="1041"/>
                  </a:cubicBezTo>
                  <a:lnTo>
                    <a:pt x="2026" y="1041"/>
                  </a:lnTo>
                  <a:cubicBezTo>
                    <a:pt x="2037" y="1021"/>
                    <a:pt x="2039" y="1026"/>
                    <a:pt x="2058" y="1026"/>
                  </a:cubicBezTo>
                  <a:lnTo>
                    <a:pt x="2058" y="1026"/>
                  </a:lnTo>
                  <a:cubicBezTo>
                    <a:pt x="2132" y="1026"/>
                    <a:pt x="2192" y="965"/>
                    <a:pt x="2192" y="891"/>
                  </a:cubicBezTo>
                  <a:lnTo>
                    <a:pt x="2192" y="891"/>
                  </a:lnTo>
                  <a:cubicBezTo>
                    <a:pt x="2192" y="817"/>
                    <a:pt x="2132" y="757"/>
                    <a:pt x="2058" y="757"/>
                  </a:cubicBezTo>
                  <a:lnTo>
                    <a:pt x="2058" y="757"/>
                  </a:lnTo>
                  <a:cubicBezTo>
                    <a:pt x="1984" y="757"/>
                    <a:pt x="1924" y="817"/>
                    <a:pt x="1924" y="891"/>
                  </a:cubicBezTo>
                  <a:lnTo>
                    <a:pt x="1924" y="891"/>
                  </a:lnTo>
                  <a:cubicBezTo>
                    <a:pt x="1924" y="926"/>
                    <a:pt x="1937" y="958"/>
                    <a:pt x="1959" y="981"/>
                  </a:cubicBezTo>
                  <a:lnTo>
                    <a:pt x="1959" y="981"/>
                  </a:lnTo>
                  <a:cubicBezTo>
                    <a:pt x="1969" y="992"/>
                    <a:pt x="1978" y="999"/>
                    <a:pt x="1968" y="1016"/>
                  </a:cubicBezTo>
                  <a:lnTo>
                    <a:pt x="1968" y="1016"/>
                  </a:lnTo>
                  <a:cubicBezTo>
                    <a:pt x="1953" y="1044"/>
                    <a:pt x="1927" y="1092"/>
                    <a:pt x="1916" y="1110"/>
                  </a:cubicBezTo>
                  <a:lnTo>
                    <a:pt x="1916" y="1110"/>
                  </a:lnTo>
                  <a:cubicBezTo>
                    <a:pt x="1899" y="1137"/>
                    <a:pt x="1871" y="1133"/>
                    <a:pt x="1856" y="1133"/>
                  </a:cubicBezTo>
                  <a:lnTo>
                    <a:pt x="1856" y="1133"/>
                  </a:lnTo>
                  <a:cubicBezTo>
                    <a:pt x="1803" y="1133"/>
                    <a:pt x="1756" y="1165"/>
                    <a:pt x="1735" y="1209"/>
                  </a:cubicBezTo>
                  <a:lnTo>
                    <a:pt x="1735" y="1209"/>
                  </a:lnTo>
                  <a:cubicBezTo>
                    <a:pt x="1731" y="1216"/>
                    <a:pt x="1723" y="1233"/>
                    <a:pt x="1705" y="1233"/>
                  </a:cubicBezTo>
                  <a:lnTo>
                    <a:pt x="1650" y="1233"/>
                  </a:lnTo>
                  <a:lnTo>
                    <a:pt x="1650" y="1233"/>
                  </a:lnTo>
                  <a:cubicBezTo>
                    <a:pt x="1628" y="1233"/>
                    <a:pt x="1620" y="1221"/>
                    <a:pt x="1609" y="1201"/>
                  </a:cubicBezTo>
                  <a:lnTo>
                    <a:pt x="1609" y="1201"/>
                  </a:lnTo>
                  <a:cubicBezTo>
                    <a:pt x="1586" y="1160"/>
                    <a:pt x="1543" y="1133"/>
                    <a:pt x="1492" y="1133"/>
                  </a:cubicBezTo>
                  <a:lnTo>
                    <a:pt x="1492" y="1133"/>
                  </a:lnTo>
                  <a:cubicBezTo>
                    <a:pt x="1460" y="1133"/>
                    <a:pt x="1454" y="1135"/>
                    <a:pt x="1443" y="1114"/>
                  </a:cubicBezTo>
                  <a:lnTo>
                    <a:pt x="1443" y="1114"/>
                  </a:lnTo>
                  <a:cubicBezTo>
                    <a:pt x="1417" y="1068"/>
                    <a:pt x="1358" y="968"/>
                    <a:pt x="1352" y="956"/>
                  </a:cubicBezTo>
                  <a:lnTo>
                    <a:pt x="1352" y="956"/>
                  </a:lnTo>
                  <a:cubicBezTo>
                    <a:pt x="1344" y="941"/>
                    <a:pt x="1349" y="919"/>
                    <a:pt x="1356" y="911"/>
                  </a:cubicBezTo>
                  <a:lnTo>
                    <a:pt x="1356" y="911"/>
                  </a:lnTo>
                  <a:cubicBezTo>
                    <a:pt x="1372" y="889"/>
                    <a:pt x="1382" y="862"/>
                    <a:pt x="1382" y="832"/>
                  </a:cubicBezTo>
                  <a:lnTo>
                    <a:pt x="1382" y="832"/>
                  </a:lnTo>
                  <a:cubicBezTo>
                    <a:pt x="1382" y="808"/>
                    <a:pt x="1376" y="787"/>
                    <a:pt x="1365" y="768"/>
                  </a:cubicBezTo>
                  <a:lnTo>
                    <a:pt x="1365" y="768"/>
                  </a:lnTo>
                  <a:cubicBezTo>
                    <a:pt x="1352" y="745"/>
                    <a:pt x="1345" y="741"/>
                    <a:pt x="1357" y="719"/>
                  </a:cubicBezTo>
                  <a:lnTo>
                    <a:pt x="1357" y="719"/>
                  </a:lnTo>
                  <a:cubicBezTo>
                    <a:pt x="1365" y="706"/>
                    <a:pt x="1376" y="688"/>
                    <a:pt x="1383" y="677"/>
                  </a:cubicBezTo>
                  <a:lnTo>
                    <a:pt x="1383" y="677"/>
                  </a:lnTo>
                  <a:cubicBezTo>
                    <a:pt x="1396" y="655"/>
                    <a:pt x="1418" y="658"/>
                    <a:pt x="1428" y="660"/>
                  </a:cubicBezTo>
                  <a:lnTo>
                    <a:pt x="1428" y="660"/>
                  </a:lnTo>
                  <a:cubicBezTo>
                    <a:pt x="1454" y="661"/>
                    <a:pt x="1481" y="656"/>
                    <a:pt x="1506" y="642"/>
                  </a:cubicBezTo>
                  <a:lnTo>
                    <a:pt x="1506" y="642"/>
                  </a:lnTo>
                  <a:cubicBezTo>
                    <a:pt x="1570" y="604"/>
                    <a:pt x="1591" y="522"/>
                    <a:pt x="1555" y="459"/>
                  </a:cubicBezTo>
                  <a:lnTo>
                    <a:pt x="1555" y="459"/>
                  </a:lnTo>
                  <a:cubicBezTo>
                    <a:pt x="1518" y="394"/>
                    <a:pt x="1437" y="371"/>
                    <a:pt x="1372" y="409"/>
                  </a:cubicBezTo>
                  <a:lnTo>
                    <a:pt x="1372" y="409"/>
                  </a:lnTo>
                  <a:cubicBezTo>
                    <a:pt x="1307" y="446"/>
                    <a:pt x="1286" y="527"/>
                    <a:pt x="1323" y="592"/>
                  </a:cubicBezTo>
                  <a:lnTo>
                    <a:pt x="1323" y="592"/>
                  </a:lnTo>
                  <a:cubicBezTo>
                    <a:pt x="1336" y="613"/>
                    <a:pt x="1344" y="620"/>
                    <a:pt x="1328" y="644"/>
                  </a:cubicBezTo>
                  <a:lnTo>
                    <a:pt x="1328" y="644"/>
                  </a:lnTo>
                  <a:cubicBezTo>
                    <a:pt x="1322" y="658"/>
                    <a:pt x="1312" y="673"/>
                    <a:pt x="1305" y="684"/>
                  </a:cubicBezTo>
                  <a:lnTo>
                    <a:pt x="1305" y="684"/>
                  </a:lnTo>
                  <a:cubicBezTo>
                    <a:pt x="1291" y="705"/>
                    <a:pt x="1263" y="698"/>
                    <a:pt x="1247" y="698"/>
                  </a:cubicBezTo>
                  <a:lnTo>
                    <a:pt x="1247" y="698"/>
                  </a:lnTo>
                  <a:cubicBezTo>
                    <a:pt x="1194" y="698"/>
                    <a:pt x="1146" y="730"/>
                    <a:pt x="1125" y="776"/>
                  </a:cubicBezTo>
                  <a:lnTo>
                    <a:pt x="1125" y="776"/>
                  </a:lnTo>
                  <a:cubicBezTo>
                    <a:pt x="1122" y="784"/>
                    <a:pt x="1105" y="800"/>
                    <a:pt x="1086" y="800"/>
                  </a:cubicBezTo>
                  <a:lnTo>
                    <a:pt x="907" y="800"/>
                  </a:lnTo>
                  <a:lnTo>
                    <a:pt x="907" y="800"/>
                  </a:lnTo>
                  <a:cubicBezTo>
                    <a:pt x="879" y="800"/>
                    <a:pt x="871" y="783"/>
                    <a:pt x="866" y="774"/>
                  </a:cubicBezTo>
                  <a:lnTo>
                    <a:pt x="866" y="774"/>
                  </a:lnTo>
                  <a:cubicBezTo>
                    <a:pt x="844" y="728"/>
                    <a:pt x="799" y="698"/>
                    <a:pt x="746" y="698"/>
                  </a:cubicBezTo>
                  <a:lnTo>
                    <a:pt x="746" y="698"/>
                  </a:lnTo>
                  <a:cubicBezTo>
                    <a:pt x="737" y="698"/>
                    <a:pt x="712" y="691"/>
                    <a:pt x="705" y="678"/>
                  </a:cubicBezTo>
                  <a:lnTo>
                    <a:pt x="705" y="678"/>
                  </a:lnTo>
                  <a:cubicBezTo>
                    <a:pt x="698" y="665"/>
                    <a:pt x="690" y="650"/>
                    <a:pt x="682" y="638"/>
                  </a:cubicBezTo>
                  <a:lnTo>
                    <a:pt x="682" y="638"/>
                  </a:lnTo>
                  <a:cubicBezTo>
                    <a:pt x="669" y="612"/>
                    <a:pt x="682" y="593"/>
                    <a:pt x="688" y="584"/>
                  </a:cubicBezTo>
                  <a:lnTo>
                    <a:pt x="688" y="584"/>
                  </a:lnTo>
                  <a:cubicBezTo>
                    <a:pt x="702" y="563"/>
                    <a:pt x="712" y="537"/>
                    <a:pt x="712" y="510"/>
                  </a:cubicBezTo>
                  <a:lnTo>
                    <a:pt x="712" y="510"/>
                  </a:lnTo>
                  <a:cubicBezTo>
                    <a:pt x="712" y="479"/>
                    <a:pt x="700" y="449"/>
                    <a:pt x="681" y="425"/>
                  </a:cubicBezTo>
                  <a:lnTo>
                    <a:pt x="681" y="425"/>
                  </a:lnTo>
                  <a:cubicBezTo>
                    <a:pt x="675" y="419"/>
                    <a:pt x="666" y="395"/>
                    <a:pt x="674" y="381"/>
                  </a:cubicBezTo>
                  <a:lnTo>
                    <a:pt x="674" y="381"/>
                  </a:lnTo>
                  <a:cubicBezTo>
                    <a:pt x="690" y="355"/>
                    <a:pt x="714" y="314"/>
                    <a:pt x="722" y="301"/>
                  </a:cubicBezTo>
                  <a:lnTo>
                    <a:pt x="722" y="301"/>
                  </a:lnTo>
                  <a:cubicBezTo>
                    <a:pt x="737" y="282"/>
                    <a:pt x="754" y="283"/>
                    <a:pt x="762" y="284"/>
                  </a:cubicBezTo>
                  <a:lnTo>
                    <a:pt x="762" y="284"/>
                  </a:lnTo>
                  <a:cubicBezTo>
                    <a:pt x="794" y="292"/>
                    <a:pt x="827" y="287"/>
                    <a:pt x="858" y="270"/>
                  </a:cubicBezTo>
                  <a:lnTo>
                    <a:pt x="858" y="270"/>
                  </a:lnTo>
                  <a:cubicBezTo>
                    <a:pt x="921" y="233"/>
                    <a:pt x="943" y="151"/>
                    <a:pt x="905" y="87"/>
                  </a:cubicBezTo>
                  <a:lnTo>
                    <a:pt x="905" y="87"/>
                  </a:lnTo>
                  <a:cubicBezTo>
                    <a:pt x="869" y="22"/>
                    <a:pt x="787" y="0"/>
                    <a:pt x="723" y="38"/>
                  </a:cubicBezTo>
                  <a:lnTo>
                    <a:pt x="723" y="38"/>
                  </a:lnTo>
                  <a:cubicBezTo>
                    <a:pt x="659" y="74"/>
                    <a:pt x="637" y="157"/>
                    <a:pt x="674" y="221"/>
                  </a:cubicBezTo>
                  <a:lnTo>
                    <a:pt x="674" y="221"/>
                  </a:lnTo>
                  <a:cubicBezTo>
                    <a:pt x="678" y="227"/>
                    <a:pt x="681" y="241"/>
                    <a:pt x="671" y="267"/>
                  </a:cubicBezTo>
                  <a:lnTo>
                    <a:pt x="671" y="267"/>
                  </a:lnTo>
                  <a:cubicBezTo>
                    <a:pt x="662" y="282"/>
                    <a:pt x="637" y="325"/>
                    <a:pt x="619" y="354"/>
                  </a:cubicBezTo>
                  <a:lnTo>
                    <a:pt x="619" y="354"/>
                  </a:lnTo>
                  <a:cubicBezTo>
                    <a:pt x="599" y="373"/>
                    <a:pt x="593" y="375"/>
                    <a:pt x="577" y="375"/>
                  </a:cubicBezTo>
                  <a:lnTo>
                    <a:pt x="577" y="375"/>
                  </a:lnTo>
                  <a:cubicBezTo>
                    <a:pt x="528" y="375"/>
                    <a:pt x="483" y="403"/>
                    <a:pt x="460" y="444"/>
                  </a:cubicBezTo>
                  <a:lnTo>
                    <a:pt x="460" y="444"/>
                  </a:lnTo>
                  <a:cubicBezTo>
                    <a:pt x="450" y="463"/>
                    <a:pt x="448" y="472"/>
                    <a:pt x="419" y="472"/>
                  </a:cubicBezTo>
                  <a:lnTo>
                    <a:pt x="357" y="472"/>
                  </a:lnTo>
                  <a:lnTo>
                    <a:pt x="357" y="472"/>
                  </a:lnTo>
                  <a:cubicBezTo>
                    <a:pt x="328" y="472"/>
                    <a:pt x="318" y="451"/>
                    <a:pt x="315" y="442"/>
                  </a:cubicBezTo>
                  <a:lnTo>
                    <a:pt x="315" y="442"/>
                  </a:lnTo>
                  <a:cubicBezTo>
                    <a:pt x="292" y="398"/>
                    <a:pt x="247" y="365"/>
                    <a:pt x="194" y="365"/>
                  </a:cubicBezTo>
                  <a:lnTo>
                    <a:pt x="194" y="365"/>
                  </a:lnTo>
                  <a:cubicBezTo>
                    <a:pt x="120" y="365"/>
                    <a:pt x="59" y="425"/>
                    <a:pt x="59" y="500"/>
                  </a:cubicBezTo>
                  <a:lnTo>
                    <a:pt x="59" y="500"/>
                  </a:lnTo>
                  <a:cubicBezTo>
                    <a:pt x="59" y="573"/>
                    <a:pt x="120" y="633"/>
                    <a:pt x="194" y="633"/>
                  </a:cubicBezTo>
                  <a:lnTo>
                    <a:pt x="194" y="633"/>
                  </a:lnTo>
                  <a:cubicBezTo>
                    <a:pt x="243" y="633"/>
                    <a:pt x="287" y="606"/>
                    <a:pt x="309" y="566"/>
                  </a:cubicBezTo>
                  <a:lnTo>
                    <a:pt x="309" y="566"/>
                  </a:lnTo>
                  <a:cubicBezTo>
                    <a:pt x="322" y="544"/>
                    <a:pt x="327" y="535"/>
                    <a:pt x="349" y="535"/>
                  </a:cubicBezTo>
                  <a:lnTo>
                    <a:pt x="416" y="535"/>
                  </a:lnTo>
                  <a:lnTo>
                    <a:pt x="416" y="535"/>
                  </a:lnTo>
                  <a:cubicBezTo>
                    <a:pt x="445" y="535"/>
                    <a:pt x="449" y="550"/>
                    <a:pt x="452" y="557"/>
                  </a:cubicBezTo>
                  <a:lnTo>
                    <a:pt x="452" y="557"/>
                  </a:lnTo>
                  <a:cubicBezTo>
                    <a:pt x="471" y="607"/>
                    <a:pt x="520" y="644"/>
                    <a:pt x="577" y="644"/>
                  </a:cubicBezTo>
                  <a:lnTo>
                    <a:pt x="577" y="644"/>
                  </a:lnTo>
                  <a:cubicBezTo>
                    <a:pt x="589" y="644"/>
                    <a:pt x="609" y="641"/>
                    <a:pt x="625" y="664"/>
                  </a:cubicBezTo>
                  <a:lnTo>
                    <a:pt x="625" y="664"/>
                  </a:lnTo>
                  <a:cubicBezTo>
                    <a:pt x="632" y="675"/>
                    <a:pt x="640" y="688"/>
                    <a:pt x="646" y="699"/>
                  </a:cubicBezTo>
                  <a:lnTo>
                    <a:pt x="646" y="699"/>
                  </a:lnTo>
                  <a:cubicBezTo>
                    <a:pt x="654" y="716"/>
                    <a:pt x="646" y="742"/>
                    <a:pt x="640" y="750"/>
                  </a:cubicBezTo>
                  <a:lnTo>
                    <a:pt x="640" y="750"/>
                  </a:lnTo>
                  <a:cubicBezTo>
                    <a:pt x="622" y="772"/>
                    <a:pt x="611" y="802"/>
                    <a:pt x="611" y="832"/>
                  </a:cubicBezTo>
                  <a:lnTo>
                    <a:pt x="611" y="832"/>
                  </a:lnTo>
                  <a:cubicBezTo>
                    <a:pt x="611" y="859"/>
                    <a:pt x="619" y="883"/>
                    <a:pt x="632" y="904"/>
                  </a:cubicBezTo>
                  <a:lnTo>
                    <a:pt x="632" y="904"/>
                  </a:lnTo>
                  <a:cubicBezTo>
                    <a:pt x="638" y="913"/>
                    <a:pt x="651" y="932"/>
                    <a:pt x="635" y="960"/>
                  </a:cubicBezTo>
                  <a:lnTo>
                    <a:pt x="635" y="960"/>
                  </a:lnTo>
                  <a:cubicBezTo>
                    <a:pt x="625" y="980"/>
                    <a:pt x="576" y="1064"/>
                    <a:pt x="550" y="1108"/>
                  </a:cubicBezTo>
                  <a:lnTo>
                    <a:pt x="550" y="1108"/>
                  </a:lnTo>
                  <a:cubicBezTo>
                    <a:pt x="531" y="1131"/>
                    <a:pt x="511" y="1133"/>
                    <a:pt x="499" y="1133"/>
                  </a:cubicBezTo>
                  <a:lnTo>
                    <a:pt x="499" y="1133"/>
                  </a:lnTo>
                  <a:cubicBezTo>
                    <a:pt x="449" y="1133"/>
                    <a:pt x="404" y="1161"/>
                    <a:pt x="382" y="1202"/>
                  </a:cubicBezTo>
                  <a:lnTo>
                    <a:pt x="382" y="1202"/>
                  </a:lnTo>
                  <a:cubicBezTo>
                    <a:pt x="375" y="1215"/>
                    <a:pt x="369" y="1233"/>
                    <a:pt x="337" y="1233"/>
                  </a:cubicBezTo>
                  <a:lnTo>
                    <a:pt x="290" y="1233"/>
                  </a:lnTo>
                  <a:lnTo>
                    <a:pt x="290" y="1233"/>
                  </a:lnTo>
                  <a:cubicBezTo>
                    <a:pt x="262" y="1233"/>
                    <a:pt x="255" y="1207"/>
                    <a:pt x="248" y="1196"/>
                  </a:cubicBezTo>
                  <a:lnTo>
                    <a:pt x="248" y="1196"/>
                  </a:lnTo>
                  <a:cubicBezTo>
                    <a:pt x="225" y="1157"/>
                    <a:pt x="182" y="1133"/>
                    <a:pt x="134" y="1133"/>
                  </a:cubicBezTo>
                  <a:lnTo>
                    <a:pt x="134" y="1133"/>
                  </a:lnTo>
                  <a:cubicBezTo>
                    <a:pt x="60" y="1133"/>
                    <a:pt x="0" y="1193"/>
                    <a:pt x="0" y="1267"/>
                  </a:cubicBezTo>
                  <a:lnTo>
                    <a:pt x="0" y="1267"/>
                  </a:lnTo>
                  <a:cubicBezTo>
                    <a:pt x="0" y="1340"/>
                    <a:pt x="60" y="1400"/>
                    <a:pt x="134" y="1400"/>
                  </a:cubicBezTo>
                  <a:lnTo>
                    <a:pt x="134" y="1400"/>
                  </a:lnTo>
                  <a:cubicBezTo>
                    <a:pt x="187" y="1400"/>
                    <a:pt x="231" y="1371"/>
                    <a:pt x="254" y="1328"/>
                  </a:cubicBezTo>
                  <a:lnTo>
                    <a:pt x="254" y="1328"/>
                  </a:lnTo>
                  <a:cubicBezTo>
                    <a:pt x="262" y="1311"/>
                    <a:pt x="267" y="1295"/>
                    <a:pt x="290" y="1295"/>
                  </a:cubicBezTo>
                  <a:lnTo>
                    <a:pt x="330" y="1295"/>
                  </a:lnTo>
                  <a:lnTo>
                    <a:pt x="330" y="1295"/>
                  </a:lnTo>
                  <a:cubicBezTo>
                    <a:pt x="359" y="1295"/>
                    <a:pt x="375" y="1318"/>
                    <a:pt x="380" y="1329"/>
                  </a:cubicBezTo>
                  <a:lnTo>
                    <a:pt x="380" y="1329"/>
                  </a:lnTo>
                  <a:cubicBezTo>
                    <a:pt x="403" y="1371"/>
                    <a:pt x="448" y="1400"/>
                    <a:pt x="499" y="1400"/>
                  </a:cubicBezTo>
                  <a:lnTo>
                    <a:pt x="499" y="1400"/>
                  </a:lnTo>
                  <a:cubicBezTo>
                    <a:pt x="512" y="1400"/>
                    <a:pt x="536" y="1398"/>
                    <a:pt x="552" y="1424"/>
                  </a:cubicBezTo>
                  <a:lnTo>
                    <a:pt x="552" y="1424"/>
                  </a:lnTo>
                  <a:cubicBezTo>
                    <a:pt x="565" y="1443"/>
                    <a:pt x="610" y="1522"/>
                    <a:pt x="635" y="1567"/>
                  </a:cubicBezTo>
                  <a:lnTo>
                    <a:pt x="635" y="1567"/>
                  </a:lnTo>
                  <a:cubicBezTo>
                    <a:pt x="653" y="1598"/>
                    <a:pt x="646" y="1601"/>
                    <a:pt x="632" y="1623"/>
                  </a:cubicBezTo>
                  <a:lnTo>
                    <a:pt x="632" y="1623"/>
                  </a:lnTo>
                  <a:cubicBezTo>
                    <a:pt x="619" y="1645"/>
                    <a:pt x="611" y="1670"/>
                    <a:pt x="611" y="1695"/>
                  </a:cubicBezTo>
                  <a:lnTo>
                    <a:pt x="611" y="1695"/>
                  </a:lnTo>
                  <a:cubicBezTo>
                    <a:pt x="611" y="1717"/>
                    <a:pt x="617" y="1737"/>
                    <a:pt x="625" y="1755"/>
                  </a:cubicBezTo>
                  <a:lnTo>
                    <a:pt x="625" y="1755"/>
                  </a:lnTo>
                  <a:cubicBezTo>
                    <a:pt x="631" y="1766"/>
                    <a:pt x="646" y="1781"/>
                    <a:pt x="631" y="1810"/>
                  </a:cubicBezTo>
                  <a:lnTo>
                    <a:pt x="631" y="1810"/>
                  </a:lnTo>
                  <a:cubicBezTo>
                    <a:pt x="622" y="1825"/>
                    <a:pt x="614" y="1841"/>
                    <a:pt x="606" y="1853"/>
                  </a:cubicBezTo>
                  <a:lnTo>
                    <a:pt x="606" y="1853"/>
                  </a:lnTo>
                  <a:cubicBezTo>
                    <a:pt x="592" y="1875"/>
                    <a:pt x="579" y="1867"/>
                    <a:pt x="564" y="1865"/>
                  </a:cubicBezTo>
                  <a:lnTo>
                    <a:pt x="564" y="1865"/>
                  </a:lnTo>
                  <a:cubicBezTo>
                    <a:pt x="537" y="1862"/>
                    <a:pt x="509" y="1868"/>
                    <a:pt x="483" y="1882"/>
                  </a:cubicBezTo>
                  <a:lnTo>
                    <a:pt x="483" y="1882"/>
                  </a:lnTo>
                  <a:cubicBezTo>
                    <a:pt x="458" y="1898"/>
                    <a:pt x="440" y="1919"/>
                    <a:pt x="429" y="1942"/>
                  </a:cubicBezTo>
                  <a:lnTo>
                    <a:pt x="429" y="1942"/>
                  </a:lnTo>
                  <a:cubicBezTo>
                    <a:pt x="424" y="1951"/>
                    <a:pt x="412" y="1970"/>
                    <a:pt x="387" y="1970"/>
                  </a:cubicBezTo>
                  <a:lnTo>
                    <a:pt x="357" y="1970"/>
                  </a:lnTo>
                  <a:lnTo>
                    <a:pt x="357" y="1970"/>
                  </a:lnTo>
                  <a:cubicBezTo>
                    <a:pt x="336" y="1970"/>
                    <a:pt x="321" y="1953"/>
                    <a:pt x="312" y="1936"/>
                  </a:cubicBezTo>
                  <a:lnTo>
                    <a:pt x="312" y="1936"/>
                  </a:lnTo>
                  <a:cubicBezTo>
                    <a:pt x="290" y="1894"/>
                    <a:pt x="245" y="1864"/>
                    <a:pt x="194" y="1864"/>
                  </a:cubicBezTo>
                  <a:lnTo>
                    <a:pt x="194" y="1864"/>
                  </a:lnTo>
                  <a:cubicBezTo>
                    <a:pt x="120" y="1864"/>
                    <a:pt x="59" y="1924"/>
                    <a:pt x="59" y="1999"/>
                  </a:cubicBezTo>
                  <a:lnTo>
                    <a:pt x="59" y="1999"/>
                  </a:lnTo>
                  <a:cubicBezTo>
                    <a:pt x="59" y="2072"/>
                    <a:pt x="120" y="2132"/>
                    <a:pt x="194" y="2132"/>
                  </a:cubicBezTo>
                  <a:lnTo>
                    <a:pt x="194" y="2132"/>
                  </a:lnTo>
                  <a:cubicBezTo>
                    <a:pt x="243" y="2132"/>
                    <a:pt x="287" y="2105"/>
                    <a:pt x="309" y="2065"/>
                  </a:cubicBezTo>
                  <a:lnTo>
                    <a:pt x="309" y="2065"/>
                  </a:lnTo>
                  <a:cubicBezTo>
                    <a:pt x="321" y="2045"/>
                    <a:pt x="336" y="2034"/>
                    <a:pt x="353" y="2034"/>
                  </a:cubicBezTo>
                  <a:lnTo>
                    <a:pt x="388" y="2034"/>
                  </a:lnTo>
                  <a:lnTo>
                    <a:pt x="388" y="2034"/>
                  </a:lnTo>
                  <a:cubicBezTo>
                    <a:pt x="415" y="2034"/>
                    <a:pt x="429" y="2056"/>
                    <a:pt x="435" y="2065"/>
                  </a:cubicBezTo>
                  <a:lnTo>
                    <a:pt x="435" y="2065"/>
                  </a:lnTo>
                  <a:cubicBezTo>
                    <a:pt x="458" y="2107"/>
                    <a:pt x="500" y="2131"/>
                    <a:pt x="545" y="2132"/>
                  </a:cubicBezTo>
                  <a:lnTo>
                    <a:pt x="545" y="2132"/>
                  </a:lnTo>
                  <a:cubicBezTo>
                    <a:pt x="572" y="2133"/>
                    <a:pt x="576" y="2132"/>
                    <a:pt x="590" y="2155"/>
                  </a:cubicBezTo>
                  <a:lnTo>
                    <a:pt x="601" y="2176"/>
                  </a:lnTo>
                  <a:lnTo>
                    <a:pt x="601" y="2176"/>
                  </a:lnTo>
                  <a:cubicBezTo>
                    <a:pt x="612" y="2195"/>
                    <a:pt x="601" y="2205"/>
                    <a:pt x="585" y="2233"/>
                  </a:cubicBezTo>
                  <a:lnTo>
                    <a:pt x="585" y="2233"/>
                  </a:lnTo>
                  <a:cubicBezTo>
                    <a:pt x="549" y="2298"/>
                    <a:pt x="570" y="2380"/>
                    <a:pt x="634" y="2417"/>
                  </a:cubicBezTo>
                  <a:lnTo>
                    <a:pt x="634" y="2417"/>
                  </a:lnTo>
                  <a:cubicBezTo>
                    <a:pt x="699" y="2454"/>
                    <a:pt x="780" y="2432"/>
                    <a:pt x="818" y="2367"/>
                  </a:cubicBezTo>
                  <a:lnTo>
                    <a:pt x="818" y="2367"/>
                  </a:lnTo>
                  <a:cubicBezTo>
                    <a:pt x="854" y="2304"/>
                    <a:pt x="833" y="2222"/>
                    <a:pt x="768" y="2184"/>
                  </a:cubicBezTo>
                  <a:lnTo>
                    <a:pt x="768" y="2184"/>
                  </a:lnTo>
                  <a:cubicBezTo>
                    <a:pt x="748" y="2173"/>
                    <a:pt x="727" y="2167"/>
                    <a:pt x="706" y="2166"/>
                  </a:cubicBezTo>
                  <a:lnTo>
                    <a:pt x="706" y="2166"/>
                  </a:lnTo>
                  <a:cubicBezTo>
                    <a:pt x="680" y="2166"/>
                    <a:pt x="667" y="2166"/>
                    <a:pt x="659" y="2150"/>
                  </a:cubicBezTo>
                  <a:lnTo>
                    <a:pt x="647" y="2127"/>
                  </a:lnTo>
                  <a:lnTo>
                    <a:pt x="647" y="2127"/>
                  </a:lnTo>
                  <a:cubicBezTo>
                    <a:pt x="637" y="2111"/>
                    <a:pt x="637" y="2106"/>
                    <a:pt x="655" y="2081"/>
                  </a:cubicBezTo>
                  <a:lnTo>
                    <a:pt x="655" y="2081"/>
                  </a:lnTo>
                  <a:cubicBezTo>
                    <a:pt x="688" y="2040"/>
                    <a:pt x="694" y="1981"/>
                    <a:pt x="666" y="1931"/>
                  </a:cubicBezTo>
                  <a:lnTo>
                    <a:pt x="666" y="1931"/>
                  </a:lnTo>
                  <a:cubicBezTo>
                    <a:pt x="661" y="1922"/>
                    <a:pt x="649" y="1905"/>
                    <a:pt x="660" y="1883"/>
                  </a:cubicBezTo>
                  <a:lnTo>
                    <a:pt x="660" y="1883"/>
                  </a:lnTo>
                  <a:cubicBezTo>
                    <a:pt x="667" y="1872"/>
                    <a:pt x="678" y="1854"/>
                    <a:pt x="686" y="1841"/>
                  </a:cubicBezTo>
                  <a:lnTo>
                    <a:pt x="686" y="1841"/>
                  </a:lnTo>
                  <a:cubicBezTo>
                    <a:pt x="697" y="1823"/>
                    <a:pt x="708" y="1829"/>
                    <a:pt x="746" y="1829"/>
                  </a:cubicBezTo>
                  <a:lnTo>
                    <a:pt x="746" y="1829"/>
                  </a:lnTo>
                  <a:cubicBezTo>
                    <a:pt x="800" y="1829"/>
                    <a:pt x="846" y="1798"/>
                    <a:pt x="867" y="1752"/>
                  </a:cubicBezTo>
                  <a:lnTo>
                    <a:pt x="867" y="1752"/>
                  </a:lnTo>
                  <a:cubicBezTo>
                    <a:pt x="871" y="1743"/>
                    <a:pt x="874" y="1727"/>
                    <a:pt x="899" y="1727"/>
                  </a:cubicBezTo>
                  <a:lnTo>
                    <a:pt x="1094" y="1727"/>
                  </a:lnTo>
                  <a:lnTo>
                    <a:pt x="1094" y="1727"/>
                  </a:lnTo>
                  <a:cubicBezTo>
                    <a:pt x="1107" y="1727"/>
                    <a:pt x="1122" y="1743"/>
                    <a:pt x="1125" y="1752"/>
                  </a:cubicBezTo>
                  <a:lnTo>
                    <a:pt x="1125" y="1752"/>
                  </a:lnTo>
                  <a:cubicBezTo>
                    <a:pt x="1147" y="1798"/>
                    <a:pt x="1194" y="1829"/>
                    <a:pt x="1247" y="1829"/>
                  </a:cubicBezTo>
                  <a:lnTo>
                    <a:pt x="1247" y="1829"/>
                  </a:lnTo>
                  <a:cubicBezTo>
                    <a:pt x="1256" y="1829"/>
                    <a:pt x="1272" y="1825"/>
                    <a:pt x="1283" y="1845"/>
                  </a:cubicBezTo>
                  <a:lnTo>
                    <a:pt x="1283" y="1845"/>
                  </a:lnTo>
                  <a:cubicBezTo>
                    <a:pt x="1287" y="1856"/>
                    <a:pt x="1298" y="1874"/>
                    <a:pt x="1306" y="1889"/>
                  </a:cubicBezTo>
                  <a:lnTo>
                    <a:pt x="1306" y="1889"/>
                  </a:lnTo>
                  <a:cubicBezTo>
                    <a:pt x="1317" y="1909"/>
                    <a:pt x="1311" y="1926"/>
                    <a:pt x="1303" y="1940"/>
                  </a:cubicBezTo>
                  <a:lnTo>
                    <a:pt x="1303" y="1940"/>
                  </a:lnTo>
                  <a:cubicBezTo>
                    <a:pt x="1287" y="1962"/>
                    <a:pt x="1278" y="1988"/>
                    <a:pt x="1278" y="2016"/>
                  </a:cubicBezTo>
                  <a:lnTo>
                    <a:pt x="1278" y="2016"/>
                  </a:lnTo>
                  <a:cubicBezTo>
                    <a:pt x="1278" y="2090"/>
                    <a:pt x="1338" y="2150"/>
                    <a:pt x="1412" y="2150"/>
                  </a:cubicBezTo>
                  <a:lnTo>
                    <a:pt x="1412" y="2150"/>
                  </a:lnTo>
                  <a:cubicBezTo>
                    <a:pt x="1470" y="2151"/>
                    <a:pt x="1520" y="2114"/>
                    <a:pt x="1539" y="2061"/>
                  </a:cubicBezTo>
                  <a:lnTo>
                    <a:pt x="1539" y="2061"/>
                  </a:lnTo>
                  <a:cubicBezTo>
                    <a:pt x="1541" y="2052"/>
                    <a:pt x="1548" y="2035"/>
                    <a:pt x="1569" y="2035"/>
                  </a:cubicBezTo>
                  <a:lnTo>
                    <a:pt x="1622" y="2035"/>
                  </a:lnTo>
                  <a:lnTo>
                    <a:pt x="1622" y="2035"/>
                  </a:lnTo>
                  <a:cubicBezTo>
                    <a:pt x="1636" y="2035"/>
                    <a:pt x="1649" y="2051"/>
                    <a:pt x="1652" y="2059"/>
                  </a:cubicBezTo>
                  <a:lnTo>
                    <a:pt x="1652" y="2059"/>
                  </a:lnTo>
                  <a:cubicBezTo>
                    <a:pt x="1670" y="2112"/>
                    <a:pt x="1720" y="2150"/>
                    <a:pt x="1780" y="2150"/>
                  </a:cubicBezTo>
                  <a:lnTo>
                    <a:pt x="1780" y="2150"/>
                  </a:lnTo>
                  <a:cubicBezTo>
                    <a:pt x="1853" y="2150"/>
                    <a:pt x="1913" y="2090"/>
                    <a:pt x="1913" y="2016"/>
                  </a:cubicBezTo>
                  <a:lnTo>
                    <a:pt x="1913" y="2016"/>
                  </a:lnTo>
                  <a:cubicBezTo>
                    <a:pt x="1913" y="1942"/>
                    <a:pt x="1853" y="1882"/>
                    <a:pt x="1780" y="1882"/>
                  </a:cubicBezTo>
                  <a:lnTo>
                    <a:pt x="1780" y="1882"/>
                  </a:lnTo>
                  <a:cubicBezTo>
                    <a:pt x="1729" y="1882"/>
                    <a:pt x="1685" y="1910"/>
                    <a:pt x="1662" y="1951"/>
                  </a:cubicBezTo>
                  <a:lnTo>
                    <a:pt x="1662" y="1951"/>
                  </a:lnTo>
                  <a:cubicBezTo>
                    <a:pt x="1652" y="1969"/>
                    <a:pt x="1647" y="1973"/>
                    <a:pt x="1627" y="1973"/>
                  </a:cubicBezTo>
                  <a:lnTo>
                    <a:pt x="1567" y="1973"/>
                  </a:lnTo>
                  <a:lnTo>
                    <a:pt x="1567" y="1973"/>
                  </a:lnTo>
                  <a:cubicBezTo>
                    <a:pt x="1535" y="1973"/>
                    <a:pt x="1531" y="1956"/>
                    <a:pt x="1528" y="1949"/>
                  </a:cubicBezTo>
                  <a:lnTo>
                    <a:pt x="1528" y="1949"/>
                  </a:lnTo>
                  <a:cubicBezTo>
                    <a:pt x="1505" y="1909"/>
                    <a:pt x="1461" y="1882"/>
                    <a:pt x="1412" y="1882"/>
                  </a:cubicBezTo>
                  <a:lnTo>
                    <a:pt x="1412" y="1882"/>
                  </a:lnTo>
                  <a:cubicBezTo>
                    <a:pt x="1383" y="1882"/>
                    <a:pt x="1378" y="1887"/>
                    <a:pt x="1365" y="1864"/>
                  </a:cubicBezTo>
                  <a:lnTo>
                    <a:pt x="1365" y="1864"/>
                  </a:lnTo>
                  <a:cubicBezTo>
                    <a:pt x="1358" y="1852"/>
                    <a:pt x="1349" y="1835"/>
                    <a:pt x="1343" y="1824"/>
                  </a:cubicBezTo>
                  <a:lnTo>
                    <a:pt x="1343" y="1824"/>
                  </a:lnTo>
                  <a:cubicBezTo>
                    <a:pt x="1331" y="1803"/>
                    <a:pt x="1344" y="1788"/>
                    <a:pt x="1349" y="1781"/>
                  </a:cubicBezTo>
                  <a:lnTo>
                    <a:pt x="1349" y="1781"/>
                  </a:lnTo>
                  <a:cubicBezTo>
                    <a:pt x="1369" y="1758"/>
                    <a:pt x="1382" y="1728"/>
                    <a:pt x="1382" y="1695"/>
                  </a:cubicBezTo>
                  <a:lnTo>
                    <a:pt x="1382" y="1695"/>
                  </a:lnTo>
                  <a:cubicBezTo>
                    <a:pt x="1382" y="1666"/>
                    <a:pt x="1372" y="1638"/>
                    <a:pt x="1354" y="1616"/>
                  </a:cubicBezTo>
                  <a:lnTo>
                    <a:pt x="1354" y="1616"/>
                  </a:lnTo>
                  <a:cubicBezTo>
                    <a:pt x="1349" y="1608"/>
                    <a:pt x="1336" y="1598"/>
                    <a:pt x="1351" y="1573"/>
                  </a:cubicBezTo>
                  <a:lnTo>
                    <a:pt x="1351" y="1573"/>
                  </a:lnTo>
                  <a:cubicBezTo>
                    <a:pt x="1363" y="1554"/>
                    <a:pt x="1418" y="1459"/>
                    <a:pt x="1441" y="1416"/>
                  </a:cubicBezTo>
                  <a:lnTo>
                    <a:pt x="1441" y="1416"/>
                  </a:lnTo>
                  <a:cubicBezTo>
                    <a:pt x="1450" y="1400"/>
                    <a:pt x="1468" y="1400"/>
                    <a:pt x="1492" y="1400"/>
                  </a:cubicBezTo>
                  <a:lnTo>
                    <a:pt x="1492" y="1400"/>
                  </a:lnTo>
                  <a:cubicBezTo>
                    <a:pt x="1546" y="1400"/>
                    <a:pt x="1593" y="1368"/>
                    <a:pt x="1614" y="1322"/>
                  </a:cubicBezTo>
                  <a:lnTo>
                    <a:pt x="1614" y="1322"/>
                  </a:lnTo>
                  <a:cubicBezTo>
                    <a:pt x="1617" y="1314"/>
                    <a:pt x="1625" y="1295"/>
                    <a:pt x="1647" y="1295"/>
                  </a:cubicBezTo>
                  <a:lnTo>
                    <a:pt x="1697" y="1295"/>
                  </a:lnTo>
                  <a:lnTo>
                    <a:pt x="1697" y="1295"/>
                  </a:lnTo>
                  <a:cubicBezTo>
                    <a:pt x="1718" y="1295"/>
                    <a:pt x="1728" y="1308"/>
                    <a:pt x="1735" y="1324"/>
                  </a:cubicBezTo>
                  <a:lnTo>
                    <a:pt x="1735" y="1324"/>
                  </a:lnTo>
                  <a:cubicBezTo>
                    <a:pt x="1757" y="1369"/>
                    <a:pt x="1803" y="1400"/>
                    <a:pt x="1856" y="1400"/>
                  </a:cubicBezTo>
                  <a:lnTo>
                    <a:pt x="1856" y="1400"/>
                  </a:lnTo>
                  <a:cubicBezTo>
                    <a:pt x="1871" y="1400"/>
                    <a:pt x="1898" y="1391"/>
                    <a:pt x="1913" y="1419"/>
                  </a:cubicBezTo>
                  <a:lnTo>
                    <a:pt x="1913" y="1419"/>
                  </a:lnTo>
                  <a:cubicBezTo>
                    <a:pt x="1924" y="1438"/>
                    <a:pt x="1950" y="1483"/>
                    <a:pt x="1965" y="1511"/>
                  </a:cubicBezTo>
                  <a:lnTo>
                    <a:pt x="1965" y="1511"/>
                  </a:lnTo>
                  <a:cubicBezTo>
                    <a:pt x="1976" y="1531"/>
                    <a:pt x="1972" y="1537"/>
                    <a:pt x="1957" y="1553"/>
                  </a:cubicBezTo>
                  <a:lnTo>
                    <a:pt x="1957" y="1553"/>
                  </a:lnTo>
                  <a:cubicBezTo>
                    <a:pt x="1937" y="1577"/>
                    <a:pt x="1924" y="1607"/>
                    <a:pt x="1924" y="1641"/>
                  </a:cubicBezTo>
                  <a:lnTo>
                    <a:pt x="1924" y="1641"/>
                  </a:lnTo>
                  <a:cubicBezTo>
                    <a:pt x="1924" y="1715"/>
                    <a:pt x="1984" y="1775"/>
                    <a:pt x="2058" y="1775"/>
                  </a:cubicBezTo>
                  <a:lnTo>
                    <a:pt x="2058" y="1775"/>
                  </a:lnTo>
                  <a:cubicBezTo>
                    <a:pt x="2132" y="1775"/>
                    <a:pt x="2192" y="1715"/>
                    <a:pt x="2192" y="1641"/>
                  </a:cubicBezTo>
                  <a:lnTo>
                    <a:pt x="2192" y="1641"/>
                  </a:lnTo>
                  <a:cubicBezTo>
                    <a:pt x="2192" y="1567"/>
                    <a:pt x="2132" y="1507"/>
                    <a:pt x="2058" y="1507"/>
                  </a:cubicBezTo>
                  <a:close/>
                </a:path>
              </a:pathLst>
            </a:custGeom>
            <a:solidFill>
              <a:srgbClr val="9c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393" name="Freeform 69"/>
            <p:cNvSpPr/>
            <p:nvPr/>
          </p:nvSpPr>
          <p:spPr>
            <a:xfrm>
              <a:off x="8892360" y="4028040"/>
              <a:ext cx="281520" cy="450360"/>
            </a:xfrm>
            <a:custGeom>
              <a:avLst/>
              <a:gdLst/>
              <a:ahLst/>
              <a:rect l="l" t="t" r="r" b="b"/>
              <a:pathLst>
                <a:path w="956" h="1530">
                  <a:moveTo>
                    <a:pt x="478" y="764"/>
                  </a:moveTo>
                  <a:lnTo>
                    <a:pt x="478" y="764"/>
                  </a:lnTo>
                  <a:cubicBezTo>
                    <a:pt x="319" y="764"/>
                    <a:pt x="190" y="635"/>
                    <a:pt x="190" y="477"/>
                  </a:cubicBezTo>
                  <a:lnTo>
                    <a:pt x="190" y="477"/>
                  </a:lnTo>
                  <a:cubicBezTo>
                    <a:pt x="190" y="319"/>
                    <a:pt x="319" y="191"/>
                    <a:pt x="478" y="191"/>
                  </a:cubicBezTo>
                  <a:lnTo>
                    <a:pt x="478" y="191"/>
                  </a:lnTo>
                  <a:cubicBezTo>
                    <a:pt x="635" y="191"/>
                    <a:pt x="764" y="319"/>
                    <a:pt x="764" y="477"/>
                  </a:cubicBezTo>
                  <a:lnTo>
                    <a:pt x="764" y="477"/>
                  </a:lnTo>
                  <a:cubicBezTo>
                    <a:pt x="764" y="635"/>
                    <a:pt x="635" y="764"/>
                    <a:pt x="478" y="764"/>
                  </a:cubicBezTo>
                  <a:close/>
                  <a:moveTo>
                    <a:pt x="955" y="477"/>
                  </a:moveTo>
                  <a:lnTo>
                    <a:pt x="955" y="477"/>
                  </a:lnTo>
                  <a:cubicBezTo>
                    <a:pt x="955" y="213"/>
                    <a:pt x="741" y="0"/>
                    <a:pt x="478" y="0"/>
                  </a:cubicBezTo>
                  <a:lnTo>
                    <a:pt x="478" y="0"/>
                  </a:lnTo>
                  <a:cubicBezTo>
                    <a:pt x="213" y="0"/>
                    <a:pt x="0" y="213"/>
                    <a:pt x="0" y="477"/>
                  </a:cubicBezTo>
                  <a:lnTo>
                    <a:pt x="0" y="477"/>
                  </a:lnTo>
                  <a:cubicBezTo>
                    <a:pt x="0" y="709"/>
                    <a:pt x="164" y="902"/>
                    <a:pt x="381" y="945"/>
                  </a:cubicBezTo>
                  <a:lnTo>
                    <a:pt x="381" y="1146"/>
                  </a:lnTo>
                  <a:lnTo>
                    <a:pt x="190" y="1146"/>
                  </a:lnTo>
                  <a:lnTo>
                    <a:pt x="190" y="1338"/>
                  </a:lnTo>
                  <a:lnTo>
                    <a:pt x="381" y="1338"/>
                  </a:lnTo>
                  <a:lnTo>
                    <a:pt x="381" y="1529"/>
                  </a:lnTo>
                  <a:lnTo>
                    <a:pt x="573" y="1529"/>
                  </a:lnTo>
                  <a:lnTo>
                    <a:pt x="573" y="1338"/>
                  </a:lnTo>
                  <a:lnTo>
                    <a:pt x="764" y="1338"/>
                  </a:lnTo>
                  <a:lnTo>
                    <a:pt x="764" y="1146"/>
                  </a:lnTo>
                  <a:lnTo>
                    <a:pt x="573" y="1146"/>
                  </a:lnTo>
                  <a:lnTo>
                    <a:pt x="573" y="945"/>
                  </a:lnTo>
                  <a:lnTo>
                    <a:pt x="573" y="945"/>
                  </a:lnTo>
                  <a:cubicBezTo>
                    <a:pt x="790" y="902"/>
                    <a:pt x="955" y="709"/>
                    <a:pt x="955" y="477"/>
                  </a:cubicBezTo>
                  <a:close/>
                </a:path>
              </a:pathLst>
            </a:custGeom>
            <a:solidFill>
              <a:srgbClr val="82d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pic>
          <p:nvPicPr>
            <p:cNvPr id="394" name="Group 23" descr=""/>
            <p:cNvPicPr/>
            <p:nvPr/>
          </p:nvPicPr>
          <p:blipFill>
            <a:blip r:embed="rId10"/>
            <a:stretch/>
          </p:blipFill>
          <p:spPr>
            <a:xfrm>
              <a:off x="8038800" y="4764960"/>
              <a:ext cx="391320" cy="44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b4b4b4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b4b4b4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b4b4b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b4b4b4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lidesmash.com/" TargetMode="External"/><Relationship Id="rId2" Type="http://schemas.openxmlformats.org/officeDocument/2006/relationships/hyperlink" Target="https://www.pexels.com/" TargetMode="External"/><Relationship Id="rId3" Type="http://schemas.openxmlformats.org/officeDocument/2006/relationships/hyperlink" Target="https://www.pexels.com/" TargetMode="External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1879"/>
          <p:cNvSpPr/>
          <p:nvPr/>
        </p:nvSpPr>
        <p:spPr>
          <a:xfrm>
            <a:off x="3516480" y="3195720"/>
            <a:ext cx="2111040" cy="299880"/>
          </a:xfrm>
          <a:prstGeom prst="rect">
            <a:avLst/>
          </a:prstGeom>
          <a:solidFill>
            <a:srgbClr val="f32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85" name="Rectangle 1880"/>
          <p:cNvSpPr/>
          <p:nvPr/>
        </p:nvSpPr>
        <p:spPr>
          <a:xfrm>
            <a:off x="3516480" y="3205080"/>
            <a:ext cx="2111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86" name="TextBox 1168"/>
          <p:cNvSpPr/>
          <p:nvPr/>
        </p:nvSpPr>
        <p:spPr>
          <a:xfrm>
            <a:off x="3682080" y="3205080"/>
            <a:ext cx="17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Roboto"/>
              </a:rPr>
              <a:t>Presentation template</a:t>
            </a:r>
            <a:endParaRPr b="0" lang="en-US" sz="12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87" name="TextBox 1169"/>
          <p:cNvSpPr/>
          <p:nvPr/>
        </p:nvSpPr>
        <p:spPr>
          <a:xfrm>
            <a:off x="3035160" y="2257560"/>
            <a:ext cx="30733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5500" spc="-1" strike="noStrike">
                <a:solidFill>
                  <a:srgbClr val="494949"/>
                </a:solidFill>
                <a:latin typeface="Nunito Black"/>
                <a:ea typeface="Nunito Black"/>
              </a:rPr>
              <a:t>SCIENCE</a:t>
            </a:r>
            <a:endParaRPr b="0" lang="en-US" sz="55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88" name="Freeform 127"/>
          <p:cNvSpPr/>
          <p:nvPr/>
        </p:nvSpPr>
        <p:spPr>
          <a:xfrm>
            <a:off x="4145040" y="1335240"/>
            <a:ext cx="853920" cy="849240"/>
          </a:xfrm>
          <a:custGeom>
            <a:avLst/>
            <a:gdLst/>
            <a:ahLst/>
            <a:rect l="l" t="t" r="r" b="b"/>
            <a:pathLst>
              <a:path w="1366" h="1358">
                <a:moveTo>
                  <a:pt x="757" y="668"/>
                </a:moveTo>
                <a:lnTo>
                  <a:pt x="757" y="668"/>
                </a:lnTo>
                <a:cubicBezTo>
                  <a:pt x="757" y="723"/>
                  <a:pt x="712" y="767"/>
                  <a:pt x="657" y="767"/>
                </a:cubicBezTo>
                <a:lnTo>
                  <a:pt x="657" y="767"/>
                </a:lnTo>
                <a:cubicBezTo>
                  <a:pt x="603" y="767"/>
                  <a:pt x="558" y="723"/>
                  <a:pt x="558" y="668"/>
                </a:cubicBezTo>
                <a:lnTo>
                  <a:pt x="558" y="668"/>
                </a:lnTo>
                <a:cubicBezTo>
                  <a:pt x="558" y="613"/>
                  <a:pt x="603" y="570"/>
                  <a:pt x="657" y="570"/>
                </a:cubicBezTo>
                <a:lnTo>
                  <a:pt x="657" y="570"/>
                </a:lnTo>
                <a:cubicBezTo>
                  <a:pt x="712" y="570"/>
                  <a:pt x="757" y="613"/>
                  <a:pt x="757" y="668"/>
                </a:cubicBezTo>
                <a:close/>
                <a:moveTo>
                  <a:pt x="1168" y="894"/>
                </a:moveTo>
                <a:lnTo>
                  <a:pt x="1168" y="894"/>
                </a:lnTo>
                <a:cubicBezTo>
                  <a:pt x="1161" y="837"/>
                  <a:pt x="1147" y="780"/>
                  <a:pt x="1127" y="721"/>
                </a:cubicBezTo>
                <a:lnTo>
                  <a:pt x="1127" y="721"/>
                </a:lnTo>
                <a:cubicBezTo>
                  <a:pt x="1162" y="645"/>
                  <a:pt x="1188" y="570"/>
                  <a:pt x="1203" y="499"/>
                </a:cubicBezTo>
                <a:lnTo>
                  <a:pt x="1203" y="499"/>
                </a:lnTo>
                <a:cubicBezTo>
                  <a:pt x="1274" y="551"/>
                  <a:pt x="1315" y="615"/>
                  <a:pt x="1315" y="683"/>
                </a:cubicBezTo>
                <a:lnTo>
                  <a:pt x="1315" y="683"/>
                </a:lnTo>
                <a:cubicBezTo>
                  <a:pt x="1315" y="763"/>
                  <a:pt x="1259" y="837"/>
                  <a:pt x="1168" y="894"/>
                </a:cubicBezTo>
                <a:close/>
                <a:moveTo>
                  <a:pt x="1101" y="652"/>
                </a:moveTo>
                <a:lnTo>
                  <a:pt x="1101" y="652"/>
                </a:lnTo>
                <a:cubicBezTo>
                  <a:pt x="1074" y="589"/>
                  <a:pt x="1040" y="524"/>
                  <a:pt x="1000" y="461"/>
                </a:cubicBezTo>
                <a:lnTo>
                  <a:pt x="1000" y="461"/>
                </a:lnTo>
                <a:cubicBezTo>
                  <a:pt x="982" y="435"/>
                  <a:pt x="984" y="435"/>
                  <a:pt x="966" y="411"/>
                </a:cubicBezTo>
                <a:lnTo>
                  <a:pt x="966" y="411"/>
                </a:lnTo>
                <a:cubicBezTo>
                  <a:pt x="940" y="405"/>
                  <a:pt x="915" y="400"/>
                  <a:pt x="888" y="395"/>
                </a:cubicBezTo>
                <a:lnTo>
                  <a:pt x="888" y="395"/>
                </a:lnTo>
                <a:cubicBezTo>
                  <a:pt x="919" y="432"/>
                  <a:pt x="930" y="448"/>
                  <a:pt x="957" y="490"/>
                </a:cubicBezTo>
                <a:lnTo>
                  <a:pt x="957" y="490"/>
                </a:lnTo>
                <a:cubicBezTo>
                  <a:pt x="1006" y="564"/>
                  <a:pt x="1045" y="640"/>
                  <a:pt x="1072" y="716"/>
                </a:cubicBezTo>
                <a:lnTo>
                  <a:pt x="1072" y="716"/>
                </a:lnTo>
                <a:cubicBezTo>
                  <a:pt x="1051" y="762"/>
                  <a:pt x="1025" y="809"/>
                  <a:pt x="996" y="855"/>
                </a:cubicBezTo>
                <a:lnTo>
                  <a:pt x="996" y="855"/>
                </a:lnTo>
                <a:cubicBezTo>
                  <a:pt x="965" y="904"/>
                  <a:pt x="932" y="950"/>
                  <a:pt x="896" y="993"/>
                </a:cubicBezTo>
                <a:lnTo>
                  <a:pt x="896" y="993"/>
                </a:lnTo>
                <a:cubicBezTo>
                  <a:pt x="830" y="1004"/>
                  <a:pt x="758" y="1011"/>
                  <a:pt x="683" y="1011"/>
                </a:cubicBezTo>
                <a:lnTo>
                  <a:pt x="683" y="1011"/>
                </a:lnTo>
                <a:cubicBezTo>
                  <a:pt x="630" y="1011"/>
                  <a:pt x="577" y="1007"/>
                  <a:pt x="528" y="1002"/>
                </a:cubicBezTo>
                <a:lnTo>
                  <a:pt x="528" y="1002"/>
                </a:lnTo>
                <a:cubicBezTo>
                  <a:pt x="501" y="998"/>
                  <a:pt x="450" y="989"/>
                  <a:pt x="450" y="989"/>
                </a:cubicBezTo>
                <a:lnTo>
                  <a:pt x="450" y="989"/>
                </a:lnTo>
                <a:cubicBezTo>
                  <a:pt x="383" y="975"/>
                  <a:pt x="322" y="955"/>
                  <a:pt x="269" y="931"/>
                </a:cubicBezTo>
                <a:lnTo>
                  <a:pt x="269" y="931"/>
                </a:lnTo>
                <a:cubicBezTo>
                  <a:pt x="277" y="883"/>
                  <a:pt x="288" y="832"/>
                  <a:pt x="306" y="777"/>
                </a:cubicBezTo>
                <a:lnTo>
                  <a:pt x="306" y="777"/>
                </a:lnTo>
                <a:cubicBezTo>
                  <a:pt x="323" y="809"/>
                  <a:pt x="343" y="842"/>
                  <a:pt x="366" y="875"/>
                </a:cubicBezTo>
                <a:lnTo>
                  <a:pt x="366" y="875"/>
                </a:lnTo>
                <a:cubicBezTo>
                  <a:pt x="400" y="923"/>
                  <a:pt x="404" y="930"/>
                  <a:pt x="434" y="965"/>
                </a:cubicBezTo>
                <a:lnTo>
                  <a:pt x="434" y="965"/>
                </a:lnTo>
                <a:cubicBezTo>
                  <a:pt x="460" y="971"/>
                  <a:pt x="485" y="976"/>
                  <a:pt x="512" y="979"/>
                </a:cubicBezTo>
                <a:lnTo>
                  <a:pt x="512" y="979"/>
                </a:lnTo>
                <a:cubicBezTo>
                  <a:pt x="470" y="933"/>
                  <a:pt x="450" y="914"/>
                  <a:pt x="408" y="847"/>
                </a:cubicBezTo>
                <a:lnTo>
                  <a:pt x="408" y="847"/>
                </a:lnTo>
                <a:cubicBezTo>
                  <a:pt x="379" y="798"/>
                  <a:pt x="353" y="753"/>
                  <a:pt x="331" y="708"/>
                </a:cubicBezTo>
                <a:lnTo>
                  <a:pt x="331" y="708"/>
                </a:lnTo>
                <a:cubicBezTo>
                  <a:pt x="360" y="641"/>
                  <a:pt x="394" y="571"/>
                  <a:pt x="437" y="502"/>
                </a:cubicBezTo>
                <a:lnTo>
                  <a:pt x="437" y="502"/>
                </a:lnTo>
                <a:cubicBezTo>
                  <a:pt x="468" y="454"/>
                  <a:pt x="501" y="410"/>
                  <a:pt x="533" y="369"/>
                </a:cubicBezTo>
                <a:lnTo>
                  <a:pt x="533" y="369"/>
                </a:lnTo>
                <a:cubicBezTo>
                  <a:pt x="535" y="368"/>
                  <a:pt x="536" y="366"/>
                  <a:pt x="536" y="365"/>
                </a:cubicBezTo>
                <a:lnTo>
                  <a:pt x="536" y="365"/>
                </a:lnTo>
                <a:cubicBezTo>
                  <a:pt x="584" y="359"/>
                  <a:pt x="632" y="355"/>
                  <a:pt x="683" y="355"/>
                </a:cubicBezTo>
                <a:lnTo>
                  <a:pt x="683" y="355"/>
                </a:lnTo>
                <a:cubicBezTo>
                  <a:pt x="747" y="355"/>
                  <a:pt x="811" y="362"/>
                  <a:pt x="870" y="371"/>
                </a:cubicBezTo>
                <a:lnTo>
                  <a:pt x="870" y="371"/>
                </a:lnTo>
                <a:cubicBezTo>
                  <a:pt x="895" y="374"/>
                  <a:pt x="921" y="380"/>
                  <a:pt x="946" y="386"/>
                </a:cubicBezTo>
                <a:lnTo>
                  <a:pt x="946" y="386"/>
                </a:lnTo>
                <a:cubicBezTo>
                  <a:pt x="1027" y="405"/>
                  <a:pt x="1100" y="433"/>
                  <a:pt x="1157" y="468"/>
                </a:cubicBezTo>
                <a:lnTo>
                  <a:pt x="1157" y="468"/>
                </a:lnTo>
                <a:cubicBezTo>
                  <a:pt x="1146" y="526"/>
                  <a:pt x="1127" y="589"/>
                  <a:pt x="1101" y="652"/>
                </a:cubicBezTo>
                <a:close/>
                <a:moveTo>
                  <a:pt x="975" y="974"/>
                </a:moveTo>
                <a:lnTo>
                  <a:pt x="975" y="974"/>
                </a:lnTo>
                <a:cubicBezTo>
                  <a:pt x="997" y="945"/>
                  <a:pt x="1019" y="914"/>
                  <a:pt x="1038" y="882"/>
                </a:cubicBezTo>
                <a:lnTo>
                  <a:pt x="1038" y="882"/>
                </a:lnTo>
                <a:cubicBezTo>
                  <a:pt x="1060" y="850"/>
                  <a:pt x="1077" y="818"/>
                  <a:pt x="1094" y="786"/>
                </a:cubicBezTo>
                <a:lnTo>
                  <a:pt x="1094" y="786"/>
                </a:lnTo>
                <a:cubicBezTo>
                  <a:pt x="1107" y="832"/>
                  <a:pt x="1116" y="877"/>
                  <a:pt x="1120" y="921"/>
                </a:cubicBezTo>
                <a:lnTo>
                  <a:pt x="1120" y="921"/>
                </a:lnTo>
                <a:cubicBezTo>
                  <a:pt x="1077" y="942"/>
                  <a:pt x="1028" y="959"/>
                  <a:pt x="975" y="974"/>
                </a:cubicBezTo>
                <a:close/>
                <a:moveTo>
                  <a:pt x="821" y="1076"/>
                </a:moveTo>
                <a:lnTo>
                  <a:pt x="821" y="1076"/>
                </a:lnTo>
                <a:cubicBezTo>
                  <a:pt x="783" y="1115"/>
                  <a:pt x="743" y="1147"/>
                  <a:pt x="704" y="1176"/>
                </a:cubicBezTo>
                <a:lnTo>
                  <a:pt x="704" y="1176"/>
                </a:lnTo>
                <a:cubicBezTo>
                  <a:pt x="664" y="1151"/>
                  <a:pt x="624" y="1119"/>
                  <a:pt x="585" y="1084"/>
                </a:cubicBezTo>
                <a:lnTo>
                  <a:pt x="585" y="1084"/>
                </a:lnTo>
                <a:cubicBezTo>
                  <a:pt x="557" y="1082"/>
                  <a:pt x="530" y="1078"/>
                  <a:pt x="504" y="1075"/>
                </a:cubicBezTo>
                <a:lnTo>
                  <a:pt x="504" y="1075"/>
                </a:lnTo>
                <a:cubicBezTo>
                  <a:pt x="553" y="1126"/>
                  <a:pt x="606" y="1171"/>
                  <a:pt x="659" y="1206"/>
                </a:cubicBezTo>
                <a:lnTo>
                  <a:pt x="659" y="1206"/>
                </a:lnTo>
                <a:cubicBezTo>
                  <a:pt x="544" y="1277"/>
                  <a:pt x="434" y="1297"/>
                  <a:pt x="358" y="1248"/>
                </a:cubicBezTo>
                <a:lnTo>
                  <a:pt x="358" y="1248"/>
                </a:lnTo>
                <a:cubicBezTo>
                  <a:pt x="289" y="1205"/>
                  <a:pt x="259" y="1116"/>
                  <a:pt x="262" y="1003"/>
                </a:cubicBezTo>
                <a:lnTo>
                  <a:pt x="263" y="984"/>
                </a:lnTo>
                <a:lnTo>
                  <a:pt x="263" y="984"/>
                </a:lnTo>
                <a:cubicBezTo>
                  <a:pt x="334" y="1015"/>
                  <a:pt x="415" y="1037"/>
                  <a:pt x="504" y="1050"/>
                </a:cubicBezTo>
                <a:lnTo>
                  <a:pt x="504" y="1050"/>
                </a:lnTo>
                <a:cubicBezTo>
                  <a:pt x="530" y="1054"/>
                  <a:pt x="557" y="1056"/>
                  <a:pt x="585" y="1058"/>
                </a:cubicBezTo>
                <a:lnTo>
                  <a:pt x="585" y="1058"/>
                </a:lnTo>
                <a:cubicBezTo>
                  <a:pt x="617" y="1060"/>
                  <a:pt x="650" y="1062"/>
                  <a:pt x="683" y="1062"/>
                </a:cubicBezTo>
                <a:lnTo>
                  <a:pt x="683" y="1062"/>
                </a:lnTo>
                <a:cubicBezTo>
                  <a:pt x="739" y="1062"/>
                  <a:pt x="793" y="1058"/>
                  <a:pt x="845" y="1051"/>
                </a:cubicBezTo>
                <a:lnTo>
                  <a:pt x="845" y="1051"/>
                </a:lnTo>
                <a:cubicBezTo>
                  <a:pt x="836" y="1059"/>
                  <a:pt x="828" y="1067"/>
                  <a:pt x="821" y="1076"/>
                </a:cubicBezTo>
                <a:close/>
                <a:moveTo>
                  <a:pt x="51" y="683"/>
                </a:moveTo>
                <a:lnTo>
                  <a:pt x="51" y="683"/>
                </a:lnTo>
                <a:cubicBezTo>
                  <a:pt x="51" y="602"/>
                  <a:pt x="107" y="529"/>
                  <a:pt x="201" y="472"/>
                </a:cubicBezTo>
                <a:lnTo>
                  <a:pt x="201" y="472"/>
                </a:lnTo>
                <a:cubicBezTo>
                  <a:pt x="217" y="463"/>
                  <a:pt x="233" y="453"/>
                  <a:pt x="249" y="445"/>
                </a:cubicBezTo>
                <a:lnTo>
                  <a:pt x="249" y="445"/>
                </a:lnTo>
                <a:cubicBezTo>
                  <a:pt x="310" y="415"/>
                  <a:pt x="382" y="392"/>
                  <a:pt x="462" y="377"/>
                </a:cubicBezTo>
                <a:lnTo>
                  <a:pt x="462" y="377"/>
                </a:lnTo>
                <a:cubicBezTo>
                  <a:pt x="460" y="382"/>
                  <a:pt x="456" y="385"/>
                  <a:pt x="454" y="389"/>
                </a:cubicBezTo>
                <a:lnTo>
                  <a:pt x="454" y="389"/>
                </a:lnTo>
                <a:cubicBezTo>
                  <a:pt x="432" y="417"/>
                  <a:pt x="414" y="445"/>
                  <a:pt x="394" y="475"/>
                </a:cubicBezTo>
                <a:lnTo>
                  <a:pt x="394" y="475"/>
                </a:lnTo>
                <a:cubicBezTo>
                  <a:pt x="359" y="531"/>
                  <a:pt x="329" y="587"/>
                  <a:pt x="303" y="642"/>
                </a:cubicBezTo>
                <a:lnTo>
                  <a:pt x="303" y="642"/>
                </a:lnTo>
                <a:cubicBezTo>
                  <a:pt x="282" y="586"/>
                  <a:pt x="267" y="530"/>
                  <a:pt x="260" y="471"/>
                </a:cubicBezTo>
                <a:lnTo>
                  <a:pt x="260" y="471"/>
                </a:lnTo>
                <a:cubicBezTo>
                  <a:pt x="242" y="479"/>
                  <a:pt x="227" y="487"/>
                  <a:pt x="212" y="496"/>
                </a:cubicBezTo>
                <a:lnTo>
                  <a:pt x="212" y="496"/>
                </a:lnTo>
                <a:cubicBezTo>
                  <a:pt x="223" y="572"/>
                  <a:pt x="243" y="642"/>
                  <a:pt x="274" y="713"/>
                </a:cubicBezTo>
                <a:lnTo>
                  <a:pt x="274" y="713"/>
                </a:lnTo>
                <a:cubicBezTo>
                  <a:pt x="249" y="780"/>
                  <a:pt x="230" y="845"/>
                  <a:pt x="221" y="906"/>
                </a:cubicBezTo>
                <a:lnTo>
                  <a:pt x="221" y="906"/>
                </a:lnTo>
                <a:cubicBezTo>
                  <a:pt x="116" y="849"/>
                  <a:pt x="51" y="771"/>
                  <a:pt x="51" y="683"/>
                </a:cubicBezTo>
                <a:close/>
                <a:moveTo>
                  <a:pt x="590" y="305"/>
                </a:moveTo>
                <a:lnTo>
                  <a:pt x="590" y="305"/>
                </a:lnTo>
                <a:cubicBezTo>
                  <a:pt x="630" y="262"/>
                  <a:pt x="672" y="224"/>
                  <a:pt x="714" y="192"/>
                </a:cubicBezTo>
                <a:lnTo>
                  <a:pt x="714" y="192"/>
                </a:lnTo>
                <a:cubicBezTo>
                  <a:pt x="749" y="221"/>
                  <a:pt x="783" y="253"/>
                  <a:pt x="815" y="288"/>
                </a:cubicBezTo>
                <a:lnTo>
                  <a:pt x="815" y="288"/>
                </a:lnTo>
                <a:cubicBezTo>
                  <a:pt x="843" y="290"/>
                  <a:pt x="870" y="293"/>
                  <a:pt x="895" y="298"/>
                </a:cubicBezTo>
                <a:lnTo>
                  <a:pt x="895" y="298"/>
                </a:lnTo>
                <a:cubicBezTo>
                  <a:pt x="851" y="249"/>
                  <a:pt x="805" y="202"/>
                  <a:pt x="758" y="162"/>
                </a:cubicBezTo>
                <a:lnTo>
                  <a:pt x="758" y="162"/>
                </a:lnTo>
                <a:cubicBezTo>
                  <a:pt x="879" y="82"/>
                  <a:pt x="995" y="59"/>
                  <a:pt x="1076" y="109"/>
                </a:cubicBezTo>
                <a:lnTo>
                  <a:pt x="1076" y="109"/>
                </a:lnTo>
                <a:cubicBezTo>
                  <a:pt x="1144" y="152"/>
                  <a:pt x="1176" y="244"/>
                  <a:pt x="1172" y="359"/>
                </a:cubicBezTo>
                <a:lnTo>
                  <a:pt x="1172" y="359"/>
                </a:lnTo>
                <a:cubicBezTo>
                  <a:pt x="1170" y="377"/>
                  <a:pt x="1169" y="395"/>
                  <a:pt x="1167" y="414"/>
                </a:cubicBezTo>
                <a:lnTo>
                  <a:pt x="1167" y="414"/>
                </a:lnTo>
                <a:cubicBezTo>
                  <a:pt x="1092" y="373"/>
                  <a:pt x="999" y="342"/>
                  <a:pt x="895" y="324"/>
                </a:cubicBezTo>
                <a:lnTo>
                  <a:pt x="895" y="324"/>
                </a:lnTo>
                <a:cubicBezTo>
                  <a:pt x="870" y="319"/>
                  <a:pt x="843" y="315"/>
                  <a:pt x="817" y="312"/>
                </a:cubicBezTo>
                <a:lnTo>
                  <a:pt x="817" y="312"/>
                </a:lnTo>
                <a:cubicBezTo>
                  <a:pt x="773" y="308"/>
                  <a:pt x="729" y="305"/>
                  <a:pt x="683" y="305"/>
                </a:cubicBezTo>
                <a:lnTo>
                  <a:pt x="683" y="305"/>
                </a:lnTo>
                <a:cubicBezTo>
                  <a:pt x="650" y="305"/>
                  <a:pt x="617" y="307"/>
                  <a:pt x="585" y="310"/>
                </a:cubicBezTo>
                <a:lnTo>
                  <a:pt x="585" y="310"/>
                </a:lnTo>
                <a:cubicBezTo>
                  <a:pt x="588" y="307"/>
                  <a:pt x="590" y="305"/>
                  <a:pt x="590" y="305"/>
                </a:cubicBezTo>
                <a:close/>
                <a:moveTo>
                  <a:pt x="1214" y="444"/>
                </a:moveTo>
                <a:lnTo>
                  <a:pt x="1214" y="444"/>
                </a:lnTo>
                <a:cubicBezTo>
                  <a:pt x="1214" y="443"/>
                  <a:pt x="1215" y="441"/>
                  <a:pt x="1215" y="440"/>
                </a:cubicBezTo>
                <a:lnTo>
                  <a:pt x="1215" y="440"/>
                </a:lnTo>
                <a:cubicBezTo>
                  <a:pt x="1217" y="420"/>
                  <a:pt x="1219" y="401"/>
                  <a:pt x="1222" y="383"/>
                </a:cubicBezTo>
                <a:lnTo>
                  <a:pt x="1222" y="383"/>
                </a:lnTo>
                <a:cubicBezTo>
                  <a:pt x="1233" y="237"/>
                  <a:pt x="1194" y="120"/>
                  <a:pt x="1105" y="63"/>
                </a:cubicBezTo>
                <a:lnTo>
                  <a:pt x="1105" y="63"/>
                </a:lnTo>
                <a:cubicBezTo>
                  <a:pt x="1004" y="0"/>
                  <a:pt x="860" y="29"/>
                  <a:pt x="715" y="128"/>
                </a:cubicBezTo>
                <a:lnTo>
                  <a:pt x="715" y="128"/>
                </a:lnTo>
                <a:cubicBezTo>
                  <a:pt x="622" y="55"/>
                  <a:pt x="527" y="8"/>
                  <a:pt x="442" y="8"/>
                </a:cubicBezTo>
                <a:lnTo>
                  <a:pt x="442" y="8"/>
                </a:lnTo>
                <a:cubicBezTo>
                  <a:pt x="393" y="8"/>
                  <a:pt x="348" y="21"/>
                  <a:pt x="310" y="46"/>
                </a:cubicBezTo>
                <a:lnTo>
                  <a:pt x="310" y="46"/>
                </a:lnTo>
                <a:cubicBezTo>
                  <a:pt x="223" y="102"/>
                  <a:pt x="182" y="241"/>
                  <a:pt x="196" y="391"/>
                </a:cubicBezTo>
                <a:lnTo>
                  <a:pt x="196" y="391"/>
                </a:lnTo>
                <a:lnTo>
                  <a:pt x="196" y="391"/>
                </a:lnTo>
                <a:cubicBezTo>
                  <a:pt x="210" y="383"/>
                  <a:pt x="227" y="374"/>
                  <a:pt x="245" y="366"/>
                </a:cubicBezTo>
                <a:lnTo>
                  <a:pt x="245" y="366"/>
                </a:lnTo>
                <a:cubicBezTo>
                  <a:pt x="239" y="247"/>
                  <a:pt x="270" y="131"/>
                  <a:pt x="338" y="88"/>
                </a:cubicBezTo>
                <a:lnTo>
                  <a:pt x="338" y="88"/>
                </a:lnTo>
                <a:cubicBezTo>
                  <a:pt x="367" y="68"/>
                  <a:pt x="402" y="59"/>
                  <a:pt x="442" y="59"/>
                </a:cubicBezTo>
                <a:lnTo>
                  <a:pt x="442" y="59"/>
                </a:lnTo>
                <a:cubicBezTo>
                  <a:pt x="512" y="59"/>
                  <a:pt x="592" y="98"/>
                  <a:pt x="673" y="160"/>
                </a:cubicBezTo>
                <a:lnTo>
                  <a:pt x="673" y="160"/>
                </a:lnTo>
                <a:cubicBezTo>
                  <a:pt x="617" y="202"/>
                  <a:pt x="563" y="256"/>
                  <a:pt x="510" y="317"/>
                </a:cubicBezTo>
                <a:lnTo>
                  <a:pt x="510" y="317"/>
                </a:lnTo>
                <a:cubicBezTo>
                  <a:pt x="410" y="331"/>
                  <a:pt x="320" y="357"/>
                  <a:pt x="245" y="392"/>
                </a:cubicBezTo>
                <a:lnTo>
                  <a:pt x="245" y="392"/>
                </a:lnTo>
                <a:cubicBezTo>
                  <a:pt x="227" y="399"/>
                  <a:pt x="210" y="408"/>
                  <a:pt x="196" y="417"/>
                </a:cubicBezTo>
                <a:lnTo>
                  <a:pt x="196" y="417"/>
                </a:lnTo>
                <a:cubicBezTo>
                  <a:pt x="73" y="485"/>
                  <a:pt x="0" y="579"/>
                  <a:pt x="0" y="683"/>
                </a:cubicBezTo>
                <a:lnTo>
                  <a:pt x="0" y="683"/>
                </a:lnTo>
                <a:cubicBezTo>
                  <a:pt x="0" y="794"/>
                  <a:pt x="81" y="893"/>
                  <a:pt x="214" y="961"/>
                </a:cubicBezTo>
                <a:lnTo>
                  <a:pt x="214" y="961"/>
                </a:lnTo>
                <a:cubicBezTo>
                  <a:pt x="213" y="966"/>
                  <a:pt x="212" y="971"/>
                  <a:pt x="212" y="976"/>
                </a:cubicBezTo>
                <a:lnTo>
                  <a:pt x="212" y="976"/>
                </a:lnTo>
                <a:cubicBezTo>
                  <a:pt x="201" y="1122"/>
                  <a:pt x="240" y="1238"/>
                  <a:pt x="329" y="1294"/>
                </a:cubicBezTo>
                <a:lnTo>
                  <a:pt x="329" y="1294"/>
                </a:lnTo>
                <a:cubicBezTo>
                  <a:pt x="428" y="1357"/>
                  <a:pt x="566" y="1329"/>
                  <a:pt x="707" y="1237"/>
                </a:cubicBezTo>
                <a:lnTo>
                  <a:pt x="707" y="1237"/>
                </a:lnTo>
                <a:cubicBezTo>
                  <a:pt x="783" y="1279"/>
                  <a:pt x="856" y="1302"/>
                  <a:pt x="924" y="1302"/>
                </a:cubicBezTo>
                <a:lnTo>
                  <a:pt x="924" y="1302"/>
                </a:lnTo>
                <a:cubicBezTo>
                  <a:pt x="973" y="1302"/>
                  <a:pt x="1017" y="1291"/>
                  <a:pt x="1055" y="1266"/>
                </a:cubicBezTo>
                <a:lnTo>
                  <a:pt x="1055" y="1266"/>
                </a:lnTo>
                <a:cubicBezTo>
                  <a:pt x="1136" y="1213"/>
                  <a:pt x="1177" y="1110"/>
                  <a:pt x="1173" y="975"/>
                </a:cubicBezTo>
                <a:lnTo>
                  <a:pt x="1173" y="975"/>
                </a:lnTo>
                <a:cubicBezTo>
                  <a:pt x="1156" y="984"/>
                  <a:pt x="1139" y="993"/>
                  <a:pt x="1122" y="1001"/>
                </a:cubicBezTo>
                <a:lnTo>
                  <a:pt x="1122" y="1001"/>
                </a:lnTo>
                <a:cubicBezTo>
                  <a:pt x="1121" y="1105"/>
                  <a:pt x="1089" y="1184"/>
                  <a:pt x="1028" y="1224"/>
                </a:cubicBezTo>
                <a:lnTo>
                  <a:pt x="1028" y="1224"/>
                </a:lnTo>
                <a:cubicBezTo>
                  <a:pt x="999" y="1243"/>
                  <a:pt x="964" y="1252"/>
                  <a:pt x="924" y="1252"/>
                </a:cubicBezTo>
                <a:lnTo>
                  <a:pt x="924" y="1252"/>
                </a:lnTo>
                <a:cubicBezTo>
                  <a:pt x="871" y="1252"/>
                  <a:pt x="812" y="1236"/>
                  <a:pt x="753" y="1204"/>
                </a:cubicBezTo>
                <a:lnTo>
                  <a:pt x="753" y="1204"/>
                </a:lnTo>
                <a:cubicBezTo>
                  <a:pt x="804" y="1165"/>
                  <a:pt x="854" y="1118"/>
                  <a:pt x="904" y="1063"/>
                </a:cubicBezTo>
                <a:lnTo>
                  <a:pt x="904" y="1063"/>
                </a:lnTo>
                <a:cubicBezTo>
                  <a:pt x="911" y="1056"/>
                  <a:pt x="918" y="1046"/>
                  <a:pt x="925" y="1038"/>
                </a:cubicBezTo>
                <a:lnTo>
                  <a:pt x="925" y="1038"/>
                </a:lnTo>
                <a:cubicBezTo>
                  <a:pt x="997" y="1024"/>
                  <a:pt x="1065" y="1002"/>
                  <a:pt x="1122" y="976"/>
                </a:cubicBezTo>
                <a:lnTo>
                  <a:pt x="1122" y="976"/>
                </a:lnTo>
                <a:cubicBezTo>
                  <a:pt x="1139" y="968"/>
                  <a:pt x="1156" y="959"/>
                  <a:pt x="1173" y="950"/>
                </a:cubicBezTo>
                <a:lnTo>
                  <a:pt x="1173" y="950"/>
                </a:lnTo>
                <a:cubicBezTo>
                  <a:pt x="1293" y="882"/>
                  <a:pt x="1365" y="789"/>
                  <a:pt x="1365" y="683"/>
                </a:cubicBezTo>
                <a:lnTo>
                  <a:pt x="1365" y="683"/>
                </a:lnTo>
                <a:cubicBezTo>
                  <a:pt x="1365" y="592"/>
                  <a:pt x="1309" y="509"/>
                  <a:pt x="1214" y="444"/>
                </a:cubicBezTo>
                <a:close/>
              </a:path>
            </a:pathLst>
          </a:custGeom>
          <a:solidFill>
            <a:srgbClr val="82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89" name="Freeform 1828"/>
          <p:cNvSpPr/>
          <p:nvPr/>
        </p:nvSpPr>
        <p:spPr>
          <a:xfrm rot="14478000">
            <a:off x="6227280" y="5834880"/>
            <a:ext cx="6559560" cy="2104920"/>
          </a:xfrm>
          <a:custGeom>
            <a:avLst/>
            <a:gdLst/>
            <a:ahLst/>
            <a:rect l="l" t="t" r="r" b="b"/>
            <a:pathLst>
              <a:path w="6179723" h="1983934">
                <a:moveTo>
                  <a:pt x="5850573" y="729177"/>
                </a:moveTo>
                <a:cubicBezTo>
                  <a:pt x="5862533" y="701779"/>
                  <a:pt x="5894671" y="689351"/>
                  <a:pt x="5921854" y="701218"/>
                </a:cubicBezTo>
                <a:cubicBezTo>
                  <a:pt x="5949469" y="713273"/>
                  <a:pt x="5961989" y="745194"/>
                  <a:pt x="5950029" y="772593"/>
                </a:cubicBezTo>
                <a:lnTo>
                  <a:pt x="5947433" y="775099"/>
                </a:lnTo>
                <a:lnTo>
                  <a:pt x="6035726" y="845120"/>
                </a:lnTo>
                <a:lnTo>
                  <a:pt x="6038513" y="841119"/>
                </a:lnTo>
                <a:cubicBezTo>
                  <a:pt x="6058154" y="822314"/>
                  <a:pt x="6087682" y="815988"/>
                  <a:pt x="6113904" y="827436"/>
                </a:cubicBezTo>
                <a:cubicBezTo>
                  <a:pt x="6149083" y="842791"/>
                  <a:pt x="6165087" y="883938"/>
                  <a:pt x="6149641" y="919320"/>
                </a:cubicBezTo>
                <a:cubicBezTo>
                  <a:pt x="6134291" y="954485"/>
                  <a:pt x="6093237" y="970725"/>
                  <a:pt x="6058058" y="955369"/>
                </a:cubicBezTo>
                <a:cubicBezTo>
                  <a:pt x="6049317" y="951553"/>
                  <a:pt x="6041775" y="946125"/>
                  <a:pt x="6035618" y="939581"/>
                </a:cubicBezTo>
                <a:lnTo>
                  <a:pt x="6026498" y="925065"/>
                </a:lnTo>
                <a:lnTo>
                  <a:pt x="5933297" y="944607"/>
                </a:lnTo>
                <a:lnTo>
                  <a:pt x="5933469" y="958331"/>
                </a:lnTo>
                <a:cubicBezTo>
                  <a:pt x="5926960" y="975594"/>
                  <a:pt x="5907967" y="983799"/>
                  <a:pt x="5891287" y="977292"/>
                </a:cubicBezTo>
                <a:cubicBezTo>
                  <a:pt x="5874176" y="970595"/>
                  <a:pt x="5866040" y="951578"/>
                  <a:pt x="5872575" y="934842"/>
                </a:cubicBezTo>
                <a:cubicBezTo>
                  <a:pt x="5879083" y="917579"/>
                  <a:pt x="5898076" y="909374"/>
                  <a:pt x="5914877" y="916192"/>
                </a:cubicBezTo>
                <a:lnTo>
                  <a:pt x="5930770" y="931196"/>
                </a:lnTo>
                <a:lnTo>
                  <a:pt x="6021602" y="911951"/>
                </a:lnTo>
                <a:lnTo>
                  <a:pt x="6022656" y="863887"/>
                </a:lnTo>
                <a:lnTo>
                  <a:pt x="6023959" y="862017"/>
                </a:lnTo>
                <a:lnTo>
                  <a:pt x="5932493" y="789518"/>
                </a:lnTo>
                <a:lnTo>
                  <a:pt x="5920069" y="801510"/>
                </a:lnTo>
                <a:cubicBezTo>
                  <a:pt x="5907130" y="806585"/>
                  <a:pt x="5892246" y="806702"/>
                  <a:pt x="5878438" y="800675"/>
                </a:cubicBezTo>
                <a:cubicBezTo>
                  <a:pt x="5851255" y="788808"/>
                  <a:pt x="5838518" y="756792"/>
                  <a:pt x="5850573" y="729177"/>
                </a:cubicBezTo>
                <a:close/>
                <a:moveTo>
                  <a:pt x="5696918" y="1144106"/>
                </a:moveTo>
                <a:cubicBezTo>
                  <a:pt x="5696775" y="1134724"/>
                  <a:pt x="5700228" y="1125299"/>
                  <a:pt x="5707311" y="1118021"/>
                </a:cubicBezTo>
                <a:cubicBezTo>
                  <a:pt x="5721476" y="1103465"/>
                  <a:pt x="5744622" y="1103188"/>
                  <a:pt x="5759224" y="1117397"/>
                </a:cubicBezTo>
                <a:cubicBezTo>
                  <a:pt x="5766526" y="1124502"/>
                  <a:pt x="5770222" y="1133800"/>
                  <a:pt x="5770323" y="1143142"/>
                </a:cubicBezTo>
                <a:lnTo>
                  <a:pt x="5764862" y="1156695"/>
                </a:lnTo>
                <a:lnTo>
                  <a:pt x="5860696" y="1229393"/>
                </a:lnTo>
                <a:lnTo>
                  <a:pt x="5863800" y="1221565"/>
                </a:lnTo>
                <a:cubicBezTo>
                  <a:pt x="5877103" y="1207895"/>
                  <a:pt x="5894751" y="1200983"/>
                  <a:pt x="5912510" y="1200835"/>
                </a:cubicBezTo>
                <a:lnTo>
                  <a:pt x="5918269" y="1201901"/>
                </a:lnTo>
                <a:lnTo>
                  <a:pt x="5932646" y="1108988"/>
                </a:lnTo>
                <a:lnTo>
                  <a:pt x="5919740" y="1104312"/>
                </a:lnTo>
                <a:cubicBezTo>
                  <a:pt x="5912809" y="1098224"/>
                  <a:pt x="5909098" y="1090014"/>
                  <a:pt x="5908615" y="1081661"/>
                </a:cubicBezTo>
                <a:cubicBezTo>
                  <a:pt x="5908133" y="1073308"/>
                  <a:pt x="5910879" y="1064813"/>
                  <a:pt x="5916863" y="1058154"/>
                </a:cubicBezTo>
                <a:cubicBezTo>
                  <a:pt x="5929161" y="1044502"/>
                  <a:pt x="5949825" y="1043590"/>
                  <a:pt x="5963184" y="1055604"/>
                </a:cubicBezTo>
                <a:cubicBezTo>
                  <a:pt x="5977046" y="1067780"/>
                  <a:pt x="5978030" y="1088446"/>
                  <a:pt x="5965728" y="1101765"/>
                </a:cubicBezTo>
                <a:lnTo>
                  <a:pt x="5946085" y="1111349"/>
                </a:lnTo>
                <a:lnTo>
                  <a:pt x="5931885" y="1204422"/>
                </a:lnTo>
                <a:lnTo>
                  <a:pt x="5938703" y="1205684"/>
                </a:lnTo>
                <a:cubicBezTo>
                  <a:pt x="5947109" y="1208991"/>
                  <a:pt x="5955014" y="1213989"/>
                  <a:pt x="5961889" y="1220680"/>
                </a:cubicBezTo>
                <a:lnTo>
                  <a:pt x="5967689" y="1229117"/>
                </a:lnTo>
                <a:lnTo>
                  <a:pt x="6078065" y="1162898"/>
                </a:lnTo>
                <a:lnTo>
                  <a:pt x="6071222" y="1147045"/>
                </a:lnTo>
                <a:cubicBezTo>
                  <a:pt x="6071032" y="1133146"/>
                  <a:pt x="6076169" y="1119177"/>
                  <a:pt x="6086676" y="1108380"/>
                </a:cubicBezTo>
                <a:cubicBezTo>
                  <a:pt x="6107362" y="1087123"/>
                  <a:pt x="6141813" y="1086488"/>
                  <a:pt x="6163407" y="1107503"/>
                </a:cubicBezTo>
                <a:cubicBezTo>
                  <a:pt x="6184832" y="1128352"/>
                  <a:pt x="6185134" y="1162807"/>
                  <a:pt x="6164448" y="1184064"/>
                </a:cubicBezTo>
                <a:cubicBezTo>
                  <a:pt x="6143434" y="1205658"/>
                  <a:pt x="6109148" y="1206124"/>
                  <a:pt x="6087723" y="1185275"/>
                </a:cubicBezTo>
                <a:lnTo>
                  <a:pt x="6086293" y="1181962"/>
                </a:lnTo>
                <a:lnTo>
                  <a:pt x="5978290" y="1246718"/>
                </a:lnTo>
                <a:lnTo>
                  <a:pt x="5983217" y="1269644"/>
                </a:lnTo>
                <a:cubicBezTo>
                  <a:pt x="5983572" y="1287420"/>
                  <a:pt x="5977143" y="1305249"/>
                  <a:pt x="5963840" y="1318920"/>
                </a:cubicBezTo>
                <a:cubicBezTo>
                  <a:pt x="5937070" y="1346428"/>
                  <a:pt x="5892924" y="1346902"/>
                  <a:pt x="5865256" y="1319978"/>
                </a:cubicBezTo>
                <a:cubicBezTo>
                  <a:pt x="5851507" y="1306598"/>
                  <a:pt x="5844450" y="1288872"/>
                  <a:pt x="5844177" y="1271053"/>
                </a:cubicBezTo>
                <a:lnTo>
                  <a:pt x="5855033" y="1243674"/>
                </a:lnTo>
                <a:lnTo>
                  <a:pt x="5757945" y="1169972"/>
                </a:lnTo>
                <a:lnTo>
                  <a:pt x="5734137" y="1180326"/>
                </a:lnTo>
                <a:cubicBezTo>
                  <a:pt x="5724796" y="1180480"/>
                  <a:pt x="5715401" y="1177037"/>
                  <a:pt x="5708100" y="1169933"/>
                </a:cubicBezTo>
                <a:cubicBezTo>
                  <a:pt x="5700799" y="1162827"/>
                  <a:pt x="5697060" y="1153489"/>
                  <a:pt x="5696918" y="1144106"/>
                </a:cubicBezTo>
                <a:close/>
                <a:moveTo>
                  <a:pt x="5626425" y="1373247"/>
                </a:moveTo>
                <a:cubicBezTo>
                  <a:pt x="5638385" y="1345848"/>
                  <a:pt x="5670522" y="1333421"/>
                  <a:pt x="5697706" y="1345287"/>
                </a:cubicBezTo>
                <a:cubicBezTo>
                  <a:pt x="5725320" y="1357342"/>
                  <a:pt x="5737841" y="1389264"/>
                  <a:pt x="5725881" y="1416662"/>
                </a:cubicBezTo>
                <a:lnTo>
                  <a:pt x="5723285" y="1419169"/>
                </a:lnTo>
                <a:lnTo>
                  <a:pt x="5811578" y="1489190"/>
                </a:lnTo>
                <a:lnTo>
                  <a:pt x="5814365" y="1485188"/>
                </a:lnTo>
                <a:cubicBezTo>
                  <a:pt x="5834006" y="1466384"/>
                  <a:pt x="5863534" y="1460058"/>
                  <a:pt x="5889756" y="1471505"/>
                </a:cubicBezTo>
                <a:cubicBezTo>
                  <a:pt x="5924935" y="1486861"/>
                  <a:pt x="5940938" y="1528008"/>
                  <a:pt x="5925493" y="1563389"/>
                </a:cubicBezTo>
                <a:cubicBezTo>
                  <a:pt x="5910142" y="1598555"/>
                  <a:pt x="5869088" y="1614795"/>
                  <a:pt x="5833910" y="1599438"/>
                </a:cubicBezTo>
                <a:cubicBezTo>
                  <a:pt x="5825169" y="1595622"/>
                  <a:pt x="5817627" y="1590195"/>
                  <a:pt x="5811469" y="1583650"/>
                </a:cubicBezTo>
                <a:lnTo>
                  <a:pt x="5802350" y="1569134"/>
                </a:lnTo>
                <a:lnTo>
                  <a:pt x="5709149" y="1588675"/>
                </a:lnTo>
                <a:lnTo>
                  <a:pt x="5709321" y="1602401"/>
                </a:lnTo>
                <a:cubicBezTo>
                  <a:pt x="5702812" y="1619664"/>
                  <a:pt x="5683819" y="1627869"/>
                  <a:pt x="5667139" y="1621361"/>
                </a:cubicBezTo>
                <a:cubicBezTo>
                  <a:pt x="5650028" y="1614665"/>
                  <a:pt x="5641892" y="1595648"/>
                  <a:pt x="5648427" y="1578911"/>
                </a:cubicBezTo>
                <a:cubicBezTo>
                  <a:pt x="5654935" y="1561648"/>
                  <a:pt x="5673928" y="1553443"/>
                  <a:pt x="5690729" y="1560261"/>
                </a:cubicBezTo>
                <a:lnTo>
                  <a:pt x="5706621" y="1575266"/>
                </a:lnTo>
                <a:lnTo>
                  <a:pt x="5797454" y="1556021"/>
                </a:lnTo>
                <a:lnTo>
                  <a:pt x="5798508" y="1507956"/>
                </a:lnTo>
                <a:lnTo>
                  <a:pt x="5799811" y="1506086"/>
                </a:lnTo>
                <a:lnTo>
                  <a:pt x="5708345" y="1433588"/>
                </a:lnTo>
                <a:lnTo>
                  <a:pt x="5695921" y="1445579"/>
                </a:lnTo>
                <a:cubicBezTo>
                  <a:pt x="5682982" y="1450655"/>
                  <a:pt x="5668098" y="1450771"/>
                  <a:pt x="5654290" y="1444744"/>
                </a:cubicBezTo>
                <a:cubicBezTo>
                  <a:pt x="5627107" y="1432877"/>
                  <a:pt x="5614370" y="1400862"/>
                  <a:pt x="5626425" y="1373247"/>
                </a:cubicBezTo>
                <a:close/>
                <a:moveTo>
                  <a:pt x="5472769" y="1788175"/>
                </a:moveTo>
                <a:cubicBezTo>
                  <a:pt x="5472627" y="1778793"/>
                  <a:pt x="5476080" y="1769368"/>
                  <a:pt x="5483163" y="1762091"/>
                </a:cubicBezTo>
                <a:cubicBezTo>
                  <a:pt x="5497328" y="1747535"/>
                  <a:pt x="5520474" y="1747257"/>
                  <a:pt x="5535076" y="1761467"/>
                </a:cubicBezTo>
                <a:cubicBezTo>
                  <a:pt x="5542377" y="1768572"/>
                  <a:pt x="5546074" y="1777870"/>
                  <a:pt x="5546174" y="1787212"/>
                </a:cubicBezTo>
                <a:lnTo>
                  <a:pt x="5540714" y="1800764"/>
                </a:lnTo>
                <a:lnTo>
                  <a:pt x="5636548" y="1873462"/>
                </a:lnTo>
                <a:lnTo>
                  <a:pt x="5639652" y="1865635"/>
                </a:lnTo>
                <a:cubicBezTo>
                  <a:pt x="5652955" y="1851965"/>
                  <a:pt x="5670603" y="1845053"/>
                  <a:pt x="5688362" y="1844904"/>
                </a:cubicBezTo>
                <a:lnTo>
                  <a:pt x="5694121" y="1845970"/>
                </a:lnTo>
                <a:lnTo>
                  <a:pt x="5708498" y="1753058"/>
                </a:lnTo>
                <a:lnTo>
                  <a:pt x="5695592" y="1748381"/>
                </a:lnTo>
                <a:cubicBezTo>
                  <a:pt x="5688661" y="1742294"/>
                  <a:pt x="5684950" y="1734083"/>
                  <a:pt x="5684467" y="1725730"/>
                </a:cubicBezTo>
                <a:cubicBezTo>
                  <a:pt x="5683984" y="1717378"/>
                  <a:pt x="5686731" y="1708882"/>
                  <a:pt x="5692715" y="1702224"/>
                </a:cubicBezTo>
                <a:cubicBezTo>
                  <a:pt x="5705013" y="1688571"/>
                  <a:pt x="5725677" y="1687659"/>
                  <a:pt x="5739036" y="1699674"/>
                </a:cubicBezTo>
                <a:cubicBezTo>
                  <a:pt x="5752898" y="1711850"/>
                  <a:pt x="5753882" y="1732516"/>
                  <a:pt x="5741580" y="1745835"/>
                </a:cubicBezTo>
                <a:lnTo>
                  <a:pt x="5721937" y="1755418"/>
                </a:lnTo>
                <a:lnTo>
                  <a:pt x="5707737" y="1848491"/>
                </a:lnTo>
                <a:lnTo>
                  <a:pt x="5714555" y="1849753"/>
                </a:lnTo>
                <a:cubicBezTo>
                  <a:pt x="5722961" y="1853060"/>
                  <a:pt x="5730866" y="1858058"/>
                  <a:pt x="5737741" y="1864749"/>
                </a:cubicBezTo>
                <a:lnTo>
                  <a:pt x="5743541" y="1873186"/>
                </a:lnTo>
                <a:lnTo>
                  <a:pt x="5853916" y="1806968"/>
                </a:lnTo>
                <a:lnTo>
                  <a:pt x="5847073" y="1791114"/>
                </a:lnTo>
                <a:cubicBezTo>
                  <a:pt x="5846884" y="1777216"/>
                  <a:pt x="5852021" y="1763246"/>
                  <a:pt x="5862528" y="1752449"/>
                </a:cubicBezTo>
                <a:cubicBezTo>
                  <a:pt x="5883214" y="1731193"/>
                  <a:pt x="5917664" y="1730558"/>
                  <a:pt x="5939258" y="1751572"/>
                </a:cubicBezTo>
                <a:cubicBezTo>
                  <a:pt x="5960684" y="1772422"/>
                  <a:pt x="5960986" y="1806876"/>
                  <a:pt x="5940300" y="1828133"/>
                </a:cubicBezTo>
                <a:cubicBezTo>
                  <a:pt x="5919286" y="1849727"/>
                  <a:pt x="5885000" y="1850194"/>
                  <a:pt x="5863575" y="1829344"/>
                </a:cubicBezTo>
                <a:lnTo>
                  <a:pt x="5862144" y="1826031"/>
                </a:lnTo>
                <a:lnTo>
                  <a:pt x="5754141" y="1890787"/>
                </a:lnTo>
                <a:lnTo>
                  <a:pt x="5759069" y="1913713"/>
                </a:lnTo>
                <a:cubicBezTo>
                  <a:pt x="5759424" y="1931489"/>
                  <a:pt x="5752996" y="1949319"/>
                  <a:pt x="5739692" y="1962989"/>
                </a:cubicBezTo>
                <a:cubicBezTo>
                  <a:pt x="5712922" y="1990497"/>
                  <a:pt x="5668775" y="1990972"/>
                  <a:pt x="5641108" y="1964047"/>
                </a:cubicBezTo>
                <a:cubicBezTo>
                  <a:pt x="5627359" y="1950667"/>
                  <a:pt x="5620302" y="1932941"/>
                  <a:pt x="5620029" y="1915122"/>
                </a:cubicBezTo>
                <a:lnTo>
                  <a:pt x="5630885" y="1887743"/>
                </a:lnTo>
                <a:lnTo>
                  <a:pt x="5533797" y="1814041"/>
                </a:lnTo>
                <a:lnTo>
                  <a:pt x="5509989" y="1824395"/>
                </a:lnTo>
                <a:cubicBezTo>
                  <a:pt x="5500648" y="1824549"/>
                  <a:pt x="5491253" y="1821107"/>
                  <a:pt x="5483952" y="1814002"/>
                </a:cubicBezTo>
                <a:cubicBezTo>
                  <a:pt x="5476651" y="1806896"/>
                  <a:pt x="5472912" y="1797558"/>
                  <a:pt x="5472769" y="1788175"/>
                </a:cubicBezTo>
                <a:close/>
                <a:moveTo>
                  <a:pt x="5460341" y="917280"/>
                </a:moveTo>
                <a:cubicBezTo>
                  <a:pt x="5460341" y="896970"/>
                  <a:pt x="5476735" y="880629"/>
                  <a:pt x="5497110" y="880628"/>
                </a:cubicBezTo>
                <a:cubicBezTo>
                  <a:pt x="5507298" y="880628"/>
                  <a:pt x="5516432" y="884714"/>
                  <a:pt x="5523019" y="891338"/>
                </a:cubicBezTo>
                <a:lnTo>
                  <a:pt x="5528558" y="904861"/>
                </a:lnTo>
                <a:lnTo>
                  <a:pt x="5646324" y="890323"/>
                </a:lnTo>
                <a:lnTo>
                  <a:pt x="5644705" y="882350"/>
                </a:lnTo>
                <a:cubicBezTo>
                  <a:pt x="5644705" y="863275"/>
                  <a:pt x="5652532" y="846013"/>
                  <a:pt x="5665155" y="833521"/>
                </a:cubicBezTo>
                <a:lnTo>
                  <a:pt x="5670026" y="830269"/>
                </a:lnTo>
                <a:lnTo>
                  <a:pt x="5615531" y="753655"/>
                </a:lnTo>
                <a:lnTo>
                  <a:pt x="5603020" y="759304"/>
                </a:lnTo>
                <a:cubicBezTo>
                  <a:pt x="5584595" y="760246"/>
                  <a:pt x="5569476" y="746122"/>
                  <a:pt x="5568767" y="728231"/>
                </a:cubicBezTo>
                <a:cubicBezTo>
                  <a:pt x="5568059" y="709870"/>
                  <a:pt x="5582232" y="694805"/>
                  <a:pt x="5600186" y="694099"/>
                </a:cubicBezTo>
                <a:cubicBezTo>
                  <a:pt x="5618611" y="693157"/>
                  <a:pt x="5633729" y="707281"/>
                  <a:pt x="5634202" y="725407"/>
                </a:cubicBezTo>
                <a:lnTo>
                  <a:pt x="5626809" y="745974"/>
                </a:lnTo>
                <a:lnTo>
                  <a:pt x="5681542" y="822578"/>
                </a:lnTo>
                <a:lnTo>
                  <a:pt x="5687309" y="818728"/>
                </a:lnTo>
                <a:cubicBezTo>
                  <a:pt x="5695640" y="815236"/>
                  <a:pt x="5704791" y="813305"/>
                  <a:pt x="5714383" y="813305"/>
                </a:cubicBezTo>
                <a:lnTo>
                  <a:pt x="5724425" y="815307"/>
                </a:lnTo>
                <a:lnTo>
                  <a:pt x="5757346" y="690872"/>
                </a:lnTo>
                <a:lnTo>
                  <a:pt x="5741383" y="684282"/>
                </a:lnTo>
                <a:cubicBezTo>
                  <a:pt x="5731556" y="674454"/>
                  <a:pt x="5725494" y="660859"/>
                  <a:pt x="5725494" y="645794"/>
                </a:cubicBezTo>
                <a:cubicBezTo>
                  <a:pt x="5725494" y="616134"/>
                  <a:pt x="5749740" y="591652"/>
                  <a:pt x="5779871" y="591653"/>
                </a:cubicBezTo>
                <a:cubicBezTo>
                  <a:pt x="5809767" y="591653"/>
                  <a:pt x="5834013" y="616134"/>
                  <a:pt x="5834013" y="645794"/>
                </a:cubicBezTo>
                <a:cubicBezTo>
                  <a:pt x="5834014" y="675926"/>
                  <a:pt x="5809767" y="700172"/>
                  <a:pt x="5779871" y="700172"/>
                </a:cubicBezTo>
                <a:lnTo>
                  <a:pt x="5776537" y="698796"/>
                </a:lnTo>
                <a:lnTo>
                  <a:pt x="5744297" y="820528"/>
                </a:lnTo>
                <a:lnTo>
                  <a:pt x="5763817" y="833521"/>
                </a:lnTo>
                <a:cubicBezTo>
                  <a:pt x="5776469" y="846013"/>
                  <a:pt x="5784296" y="863275"/>
                  <a:pt x="5784297" y="882350"/>
                </a:cubicBezTo>
                <a:cubicBezTo>
                  <a:pt x="5784297" y="901541"/>
                  <a:pt x="5776470" y="918920"/>
                  <a:pt x="5763817" y="931500"/>
                </a:cubicBezTo>
                <a:lnTo>
                  <a:pt x="5749421" y="941150"/>
                </a:lnTo>
                <a:lnTo>
                  <a:pt x="5802365" y="1053198"/>
                </a:lnTo>
                <a:lnTo>
                  <a:pt x="5812764" y="1050552"/>
                </a:lnTo>
                <a:cubicBezTo>
                  <a:pt x="5828573" y="1052921"/>
                  <a:pt x="5839190" y="1067369"/>
                  <a:pt x="5837067" y="1082765"/>
                </a:cubicBezTo>
                <a:cubicBezTo>
                  <a:pt x="5834707" y="1098397"/>
                  <a:pt x="5820315" y="1109292"/>
                  <a:pt x="5804979" y="1106924"/>
                </a:cubicBezTo>
                <a:cubicBezTo>
                  <a:pt x="5789170" y="1104792"/>
                  <a:pt x="5778317" y="1090344"/>
                  <a:pt x="5780440" y="1074712"/>
                </a:cubicBezTo>
                <a:lnTo>
                  <a:pt x="5789820" y="1058776"/>
                </a:lnTo>
                <a:lnTo>
                  <a:pt x="5737222" y="947276"/>
                </a:lnTo>
                <a:lnTo>
                  <a:pt x="5714383" y="951862"/>
                </a:lnTo>
                <a:cubicBezTo>
                  <a:pt x="5685606" y="951862"/>
                  <a:pt x="5660801" y="934352"/>
                  <a:pt x="5650196" y="909404"/>
                </a:cubicBezTo>
                <a:lnTo>
                  <a:pt x="5649276" y="904870"/>
                </a:lnTo>
                <a:lnTo>
                  <a:pt x="5532860" y="919198"/>
                </a:lnTo>
                <a:lnTo>
                  <a:pt x="5523019" y="943223"/>
                </a:lnTo>
                <a:cubicBezTo>
                  <a:pt x="5516432" y="949847"/>
                  <a:pt x="5507298" y="953933"/>
                  <a:pt x="5497111" y="953933"/>
                </a:cubicBezTo>
                <a:cubicBezTo>
                  <a:pt x="5476735" y="953934"/>
                  <a:pt x="5460341" y="937592"/>
                  <a:pt x="5460341" y="917280"/>
                </a:cubicBezTo>
                <a:close/>
                <a:moveTo>
                  <a:pt x="5236193" y="1561350"/>
                </a:moveTo>
                <a:cubicBezTo>
                  <a:pt x="5236193" y="1541040"/>
                  <a:pt x="5252587" y="1524698"/>
                  <a:pt x="5272962" y="1524698"/>
                </a:cubicBezTo>
                <a:cubicBezTo>
                  <a:pt x="5283150" y="1524698"/>
                  <a:pt x="5292284" y="1528783"/>
                  <a:pt x="5298871" y="1535407"/>
                </a:cubicBezTo>
                <a:lnTo>
                  <a:pt x="5304410" y="1548929"/>
                </a:lnTo>
                <a:lnTo>
                  <a:pt x="5422175" y="1534392"/>
                </a:lnTo>
                <a:lnTo>
                  <a:pt x="5420557" y="1526419"/>
                </a:lnTo>
                <a:cubicBezTo>
                  <a:pt x="5420557" y="1507344"/>
                  <a:pt x="5428384" y="1490083"/>
                  <a:pt x="5441007" y="1477590"/>
                </a:cubicBezTo>
                <a:lnTo>
                  <a:pt x="5445878" y="1474338"/>
                </a:lnTo>
                <a:lnTo>
                  <a:pt x="5391382" y="1397724"/>
                </a:lnTo>
                <a:lnTo>
                  <a:pt x="5378872" y="1403373"/>
                </a:lnTo>
                <a:cubicBezTo>
                  <a:pt x="5360446" y="1404315"/>
                  <a:pt x="5345328" y="1390191"/>
                  <a:pt x="5344619" y="1372301"/>
                </a:cubicBezTo>
                <a:cubicBezTo>
                  <a:pt x="5343911" y="1353940"/>
                  <a:pt x="5358084" y="1338874"/>
                  <a:pt x="5376037" y="1338168"/>
                </a:cubicBezTo>
                <a:cubicBezTo>
                  <a:pt x="5394462" y="1337227"/>
                  <a:pt x="5409581" y="1351350"/>
                  <a:pt x="5410053" y="1369476"/>
                </a:cubicBezTo>
                <a:lnTo>
                  <a:pt x="5402661" y="1390043"/>
                </a:lnTo>
                <a:lnTo>
                  <a:pt x="5457394" y="1466648"/>
                </a:lnTo>
                <a:lnTo>
                  <a:pt x="5463160" y="1462798"/>
                </a:lnTo>
                <a:cubicBezTo>
                  <a:pt x="5471492" y="1459305"/>
                  <a:pt x="5480643" y="1457374"/>
                  <a:pt x="5490235" y="1457375"/>
                </a:cubicBezTo>
                <a:lnTo>
                  <a:pt x="5500277" y="1459376"/>
                </a:lnTo>
                <a:lnTo>
                  <a:pt x="5532265" y="1338467"/>
                </a:lnTo>
                <a:lnTo>
                  <a:pt x="5517236" y="1328352"/>
                </a:lnTo>
                <a:cubicBezTo>
                  <a:pt x="5507408" y="1318523"/>
                  <a:pt x="5501346" y="1304929"/>
                  <a:pt x="5501346" y="1289863"/>
                </a:cubicBezTo>
                <a:cubicBezTo>
                  <a:pt x="5501346" y="1260203"/>
                  <a:pt x="5525592" y="1235722"/>
                  <a:pt x="5555723" y="1235722"/>
                </a:cubicBezTo>
                <a:cubicBezTo>
                  <a:pt x="5585619" y="1235722"/>
                  <a:pt x="5609865" y="1260203"/>
                  <a:pt x="5609865" y="1289864"/>
                </a:cubicBezTo>
                <a:cubicBezTo>
                  <a:pt x="5609865" y="1319995"/>
                  <a:pt x="5585619" y="1344241"/>
                  <a:pt x="5555723" y="1344241"/>
                </a:cubicBezTo>
                <a:lnTo>
                  <a:pt x="5552211" y="1343536"/>
                </a:lnTo>
                <a:lnTo>
                  <a:pt x="5520149" y="1464597"/>
                </a:lnTo>
                <a:lnTo>
                  <a:pt x="5539669" y="1477590"/>
                </a:lnTo>
                <a:cubicBezTo>
                  <a:pt x="5552321" y="1490083"/>
                  <a:pt x="5560148" y="1507344"/>
                  <a:pt x="5560148" y="1526419"/>
                </a:cubicBezTo>
                <a:cubicBezTo>
                  <a:pt x="5560149" y="1545611"/>
                  <a:pt x="5552321" y="1562989"/>
                  <a:pt x="5539668" y="1575569"/>
                </a:cubicBezTo>
                <a:lnTo>
                  <a:pt x="5525273" y="1585220"/>
                </a:lnTo>
                <a:lnTo>
                  <a:pt x="5578218" y="1697267"/>
                </a:lnTo>
                <a:lnTo>
                  <a:pt x="5588616" y="1694621"/>
                </a:lnTo>
                <a:cubicBezTo>
                  <a:pt x="5604425" y="1696990"/>
                  <a:pt x="5615042" y="1711438"/>
                  <a:pt x="5612918" y="1726834"/>
                </a:cubicBezTo>
                <a:cubicBezTo>
                  <a:pt x="5610559" y="1742467"/>
                  <a:pt x="5596167" y="1753362"/>
                  <a:pt x="5580830" y="1750993"/>
                </a:cubicBezTo>
                <a:cubicBezTo>
                  <a:pt x="5565022" y="1748862"/>
                  <a:pt x="5554169" y="1734413"/>
                  <a:pt x="5556292" y="1718781"/>
                </a:cubicBezTo>
                <a:lnTo>
                  <a:pt x="5565671" y="1702846"/>
                </a:lnTo>
                <a:lnTo>
                  <a:pt x="5513074" y="1591345"/>
                </a:lnTo>
                <a:lnTo>
                  <a:pt x="5490235" y="1595931"/>
                </a:lnTo>
                <a:cubicBezTo>
                  <a:pt x="5461457" y="1595931"/>
                  <a:pt x="5436652" y="1578422"/>
                  <a:pt x="5426048" y="1553473"/>
                </a:cubicBezTo>
                <a:lnTo>
                  <a:pt x="5425128" y="1548939"/>
                </a:lnTo>
                <a:lnTo>
                  <a:pt x="5308712" y="1563269"/>
                </a:lnTo>
                <a:lnTo>
                  <a:pt x="5298871" y="1587293"/>
                </a:lnTo>
                <a:cubicBezTo>
                  <a:pt x="5292284" y="1593917"/>
                  <a:pt x="5283150" y="1598002"/>
                  <a:pt x="5272962" y="1598003"/>
                </a:cubicBezTo>
                <a:cubicBezTo>
                  <a:pt x="5252587" y="1598002"/>
                  <a:pt x="5236193" y="1581661"/>
                  <a:pt x="5236193" y="1561350"/>
                </a:cubicBezTo>
                <a:close/>
                <a:moveTo>
                  <a:pt x="5220529" y="988697"/>
                </a:moveTo>
                <a:cubicBezTo>
                  <a:pt x="5220529" y="968322"/>
                  <a:pt x="5236871" y="952162"/>
                  <a:pt x="5257181" y="952162"/>
                </a:cubicBezTo>
                <a:cubicBezTo>
                  <a:pt x="5277492" y="952163"/>
                  <a:pt x="5293833" y="968322"/>
                  <a:pt x="5293834" y="988698"/>
                </a:cubicBezTo>
                <a:lnTo>
                  <a:pt x="5290007" y="997997"/>
                </a:lnTo>
                <a:lnTo>
                  <a:pt x="5432444" y="1076402"/>
                </a:lnTo>
                <a:lnTo>
                  <a:pt x="5433888" y="1072908"/>
                </a:lnTo>
                <a:cubicBezTo>
                  <a:pt x="5440513" y="1066321"/>
                  <a:pt x="5449676" y="1062280"/>
                  <a:pt x="5459831" y="1062281"/>
                </a:cubicBezTo>
                <a:cubicBezTo>
                  <a:pt x="5480142" y="1062281"/>
                  <a:pt x="5496483" y="1078441"/>
                  <a:pt x="5496484" y="1098816"/>
                </a:cubicBezTo>
                <a:cubicBezTo>
                  <a:pt x="5496483" y="1119192"/>
                  <a:pt x="5480141" y="1135586"/>
                  <a:pt x="5459831" y="1135586"/>
                </a:cubicBezTo>
                <a:lnTo>
                  <a:pt x="5451164" y="1131995"/>
                </a:lnTo>
                <a:lnTo>
                  <a:pt x="5314691" y="1206427"/>
                </a:lnTo>
                <a:lnTo>
                  <a:pt x="5317236" y="1212584"/>
                </a:lnTo>
                <a:cubicBezTo>
                  <a:pt x="5317236" y="1232959"/>
                  <a:pt x="5300894" y="1249353"/>
                  <a:pt x="5280584" y="1249353"/>
                </a:cubicBezTo>
                <a:cubicBezTo>
                  <a:pt x="5260273" y="1249353"/>
                  <a:pt x="5243931" y="1232959"/>
                  <a:pt x="5243931" y="1212583"/>
                </a:cubicBezTo>
                <a:cubicBezTo>
                  <a:pt x="5243931" y="1192208"/>
                  <a:pt x="5260273" y="1176048"/>
                  <a:pt x="5280583" y="1176048"/>
                </a:cubicBezTo>
                <a:cubicBezTo>
                  <a:pt x="5290739" y="1176048"/>
                  <a:pt x="5299902" y="1180088"/>
                  <a:pt x="5306526" y="1186675"/>
                </a:cubicBezTo>
                <a:lnTo>
                  <a:pt x="5307519" y="1189078"/>
                </a:lnTo>
                <a:lnTo>
                  <a:pt x="5432333" y="1121061"/>
                </a:lnTo>
                <a:lnTo>
                  <a:pt x="5423179" y="1098816"/>
                </a:lnTo>
                <a:lnTo>
                  <a:pt x="5425288" y="1093712"/>
                </a:lnTo>
                <a:lnTo>
                  <a:pt x="5282298" y="1015066"/>
                </a:lnTo>
                <a:lnTo>
                  <a:pt x="5270110" y="1020113"/>
                </a:lnTo>
                <a:lnTo>
                  <a:pt x="5287992" y="1165392"/>
                </a:lnTo>
                <a:cubicBezTo>
                  <a:pt x="5288466" y="1169143"/>
                  <a:pt x="5285623" y="1172895"/>
                  <a:pt x="5281595" y="1173599"/>
                </a:cubicBezTo>
                <a:cubicBezTo>
                  <a:pt x="5277329" y="1173833"/>
                  <a:pt x="5273539" y="1171020"/>
                  <a:pt x="5273302" y="1166798"/>
                </a:cubicBezTo>
                <a:lnTo>
                  <a:pt x="5255784" y="1024888"/>
                </a:lnTo>
                <a:lnTo>
                  <a:pt x="5231239" y="1014723"/>
                </a:lnTo>
                <a:cubicBezTo>
                  <a:pt x="5224614" y="1008078"/>
                  <a:pt x="5220529" y="998885"/>
                  <a:pt x="5220529" y="988697"/>
                </a:cubicBezTo>
                <a:close/>
                <a:moveTo>
                  <a:pt x="5130667" y="650602"/>
                </a:moveTo>
                <a:cubicBezTo>
                  <a:pt x="5131455" y="641562"/>
                  <a:pt x="5134022" y="632521"/>
                  <a:pt x="5138522" y="623982"/>
                </a:cubicBezTo>
                <a:cubicBezTo>
                  <a:pt x="5156414" y="590039"/>
                  <a:pt x="5198550" y="576858"/>
                  <a:pt x="5232506" y="594757"/>
                </a:cubicBezTo>
                <a:cubicBezTo>
                  <a:pt x="5240943" y="599204"/>
                  <a:pt x="5248066" y="605172"/>
                  <a:pt x="5253726" y="612150"/>
                </a:cubicBezTo>
                <a:lnTo>
                  <a:pt x="5261756" y="627297"/>
                </a:lnTo>
                <a:lnTo>
                  <a:pt x="5356141" y="614653"/>
                </a:lnTo>
                <a:lnTo>
                  <a:pt x="5356978" y="600952"/>
                </a:lnTo>
                <a:cubicBezTo>
                  <a:pt x="5364737" y="584213"/>
                  <a:pt x="5384280" y="577425"/>
                  <a:pt x="5400437" y="585140"/>
                </a:cubicBezTo>
                <a:cubicBezTo>
                  <a:pt x="5417010" y="593076"/>
                  <a:pt x="5423729" y="612639"/>
                  <a:pt x="5415982" y="628849"/>
                </a:cubicBezTo>
                <a:cubicBezTo>
                  <a:pt x="5408223" y="645588"/>
                  <a:pt x="5388679" y="652376"/>
                  <a:pt x="5372424" y="644343"/>
                </a:cubicBezTo>
                <a:lnTo>
                  <a:pt x="5357677" y="628212"/>
                </a:lnTo>
                <a:lnTo>
                  <a:pt x="5266683" y="640597"/>
                </a:lnTo>
                <a:lnTo>
                  <a:pt x="5268921" y="662111"/>
                </a:lnTo>
                <a:cubicBezTo>
                  <a:pt x="5268126" y="671110"/>
                  <a:pt x="5265567" y="680106"/>
                  <a:pt x="5261094" y="688591"/>
                </a:cubicBezTo>
                <a:lnTo>
                  <a:pt x="5259657" y="690361"/>
                </a:lnTo>
                <a:lnTo>
                  <a:pt x="5345553" y="769382"/>
                </a:lnTo>
                <a:lnTo>
                  <a:pt x="5358825" y="758335"/>
                </a:lnTo>
                <a:cubicBezTo>
                  <a:pt x="5372102" y="754224"/>
                  <a:pt x="5386955" y="755200"/>
                  <a:pt x="5400282" y="762225"/>
                </a:cubicBezTo>
                <a:cubicBezTo>
                  <a:pt x="5426520" y="776056"/>
                  <a:pt x="5436872" y="808920"/>
                  <a:pt x="5422821" y="835576"/>
                </a:cubicBezTo>
                <a:cubicBezTo>
                  <a:pt x="5408881" y="862022"/>
                  <a:pt x="5375918" y="872055"/>
                  <a:pt x="5349679" y="858224"/>
                </a:cubicBezTo>
                <a:cubicBezTo>
                  <a:pt x="5329688" y="847687"/>
                  <a:pt x="5318985" y="826628"/>
                  <a:pt x="5320764" y="805600"/>
                </a:cubicBezTo>
                <a:cubicBezTo>
                  <a:pt x="5321357" y="798591"/>
                  <a:pt x="5323337" y="791584"/>
                  <a:pt x="5326822" y="784972"/>
                </a:cubicBezTo>
                <a:lnTo>
                  <a:pt x="5329595" y="782664"/>
                </a:lnTo>
                <a:lnTo>
                  <a:pt x="5246682" y="706347"/>
                </a:lnTo>
                <a:lnTo>
                  <a:pt x="5243608" y="710134"/>
                </a:lnTo>
                <a:cubicBezTo>
                  <a:pt x="5222639" y="727446"/>
                  <a:pt x="5192727" y="731585"/>
                  <a:pt x="5167415" y="718243"/>
                </a:cubicBezTo>
                <a:cubicBezTo>
                  <a:pt x="5141949" y="704820"/>
                  <a:pt x="5128304" y="677720"/>
                  <a:pt x="5130667" y="650602"/>
                </a:cubicBezTo>
                <a:close/>
                <a:moveTo>
                  <a:pt x="4996381" y="1632767"/>
                </a:moveTo>
                <a:cubicBezTo>
                  <a:pt x="4996381" y="1612391"/>
                  <a:pt x="5012723" y="1596232"/>
                  <a:pt x="5033033" y="1596232"/>
                </a:cubicBezTo>
                <a:cubicBezTo>
                  <a:pt x="5053343" y="1596231"/>
                  <a:pt x="5069685" y="1612392"/>
                  <a:pt x="5069685" y="1632767"/>
                </a:cubicBezTo>
                <a:lnTo>
                  <a:pt x="5065858" y="1642067"/>
                </a:lnTo>
                <a:lnTo>
                  <a:pt x="5208296" y="1720472"/>
                </a:lnTo>
                <a:lnTo>
                  <a:pt x="5209740" y="1716977"/>
                </a:lnTo>
                <a:cubicBezTo>
                  <a:pt x="5216365" y="1710390"/>
                  <a:pt x="5225528" y="1706350"/>
                  <a:pt x="5235683" y="1706350"/>
                </a:cubicBezTo>
                <a:cubicBezTo>
                  <a:pt x="5255993" y="1706350"/>
                  <a:pt x="5272335" y="1722510"/>
                  <a:pt x="5272335" y="1742885"/>
                </a:cubicBezTo>
                <a:cubicBezTo>
                  <a:pt x="5272335" y="1763261"/>
                  <a:pt x="5255993" y="1779655"/>
                  <a:pt x="5235683" y="1779655"/>
                </a:cubicBezTo>
                <a:lnTo>
                  <a:pt x="5227014" y="1776065"/>
                </a:lnTo>
                <a:lnTo>
                  <a:pt x="5090542" y="1850495"/>
                </a:lnTo>
                <a:lnTo>
                  <a:pt x="5093088" y="1856653"/>
                </a:lnTo>
                <a:cubicBezTo>
                  <a:pt x="5093088" y="1877028"/>
                  <a:pt x="5076746" y="1893422"/>
                  <a:pt x="5056435" y="1893423"/>
                </a:cubicBezTo>
                <a:cubicBezTo>
                  <a:pt x="5036125" y="1893423"/>
                  <a:pt x="5019783" y="1877028"/>
                  <a:pt x="5019783" y="1856653"/>
                </a:cubicBezTo>
                <a:cubicBezTo>
                  <a:pt x="5019783" y="1836278"/>
                  <a:pt x="5036125" y="1820118"/>
                  <a:pt x="5056435" y="1820118"/>
                </a:cubicBezTo>
                <a:cubicBezTo>
                  <a:pt x="5066591" y="1820117"/>
                  <a:pt x="5075753" y="1824158"/>
                  <a:pt x="5082378" y="1830744"/>
                </a:cubicBezTo>
                <a:lnTo>
                  <a:pt x="5083371" y="1833148"/>
                </a:lnTo>
                <a:lnTo>
                  <a:pt x="5208185" y="1765131"/>
                </a:lnTo>
                <a:lnTo>
                  <a:pt x="5199031" y="1742885"/>
                </a:lnTo>
                <a:lnTo>
                  <a:pt x="5201140" y="1737783"/>
                </a:lnTo>
                <a:lnTo>
                  <a:pt x="5058148" y="1659135"/>
                </a:lnTo>
                <a:lnTo>
                  <a:pt x="5045962" y="1664182"/>
                </a:lnTo>
                <a:lnTo>
                  <a:pt x="5063844" y="1809461"/>
                </a:lnTo>
                <a:cubicBezTo>
                  <a:pt x="5064317" y="1813213"/>
                  <a:pt x="5061474" y="1816965"/>
                  <a:pt x="5057447" y="1817668"/>
                </a:cubicBezTo>
                <a:cubicBezTo>
                  <a:pt x="5053181" y="1817902"/>
                  <a:pt x="5049390" y="1815089"/>
                  <a:pt x="5049153" y="1810868"/>
                </a:cubicBezTo>
                <a:lnTo>
                  <a:pt x="5031636" y="1668958"/>
                </a:lnTo>
                <a:lnTo>
                  <a:pt x="5007090" y="1658792"/>
                </a:lnTo>
                <a:cubicBezTo>
                  <a:pt x="5000466" y="1652147"/>
                  <a:pt x="4996381" y="1642954"/>
                  <a:pt x="4996381" y="1632767"/>
                </a:cubicBezTo>
                <a:close/>
                <a:moveTo>
                  <a:pt x="4914374" y="1268052"/>
                </a:moveTo>
                <a:cubicBezTo>
                  <a:pt x="4932266" y="1234109"/>
                  <a:pt x="4974402" y="1220928"/>
                  <a:pt x="5008358" y="1238826"/>
                </a:cubicBezTo>
                <a:cubicBezTo>
                  <a:pt x="5016795" y="1243274"/>
                  <a:pt x="5023918" y="1249241"/>
                  <a:pt x="5029578" y="1256219"/>
                </a:cubicBezTo>
                <a:lnTo>
                  <a:pt x="5037607" y="1271367"/>
                </a:lnTo>
                <a:lnTo>
                  <a:pt x="5131993" y="1258722"/>
                </a:lnTo>
                <a:lnTo>
                  <a:pt x="5132829" y="1245021"/>
                </a:lnTo>
                <a:cubicBezTo>
                  <a:pt x="5140588" y="1228283"/>
                  <a:pt x="5160132" y="1221494"/>
                  <a:pt x="5176289" y="1229209"/>
                </a:cubicBezTo>
                <a:cubicBezTo>
                  <a:pt x="5192862" y="1237145"/>
                  <a:pt x="5199581" y="1256708"/>
                  <a:pt x="5191834" y="1272919"/>
                </a:cubicBezTo>
                <a:cubicBezTo>
                  <a:pt x="5184075" y="1289657"/>
                  <a:pt x="5164531" y="1296446"/>
                  <a:pt x="5148276" y="1288412"/>
                </a:cubicBezTo>
                <a:lnTo>
                  <a:pt x="5133528" y="1272281"/>
                </a:lnTo>
                <a:lnTo>
                  <a:pt x="5041527" y="1284805"/>
                </a:lnTo>
                <a:lnTo>
                  <a:pt x="5036946" y="1332660"/>
                </a:lnTo>
                <a:lnTo>
                  <a:pt x="5035509" y="1334430"/>
                </a:lnTo>
                <a:lnTo>
                  <a:pt x="5121405" y="1413451"/>
                </a:lnTo>
                <a:lnTo>
                  <a:pt x="5134677" y="1402404"/>
                </a:lnTo>
                <a:cubicBezTo>
                  <a:pt x="5147953" y="1398293"/>
                  <a:pt x="5162806" y="1399269"/>
                  <a:pt x="5176133" y="1406294"/>
                </a:cubicBezTo>
                <a:cubicBezTo>
                  <a:pt x="5202372" y="1420125"/>
                  <a:pt x="5212723" y="1452990"/>
                  <a:pt x="5198673" y="1479644"/>
                </a:cubicBezTo>
                <a:cubicBezTo>
                  <a:pt x="5184733" y="1506091"/>
                  <a:pt x="5151770" y="1516124"/>
                  <a:pt x="5125531" y="1502294"/>
                </a:cubicBezTo>
                <a:cubicBezTo>
                  <a:pt x="5098876" y="1488244"/>
                  <a:pt x="5088733" y="1455489"/>
                  <a:pt x="5102674" y="1429042"/>
                </a:cubicBezTo>
                <a:lnTo>
                  <a:pt x="5105447" y="1426734"/>
                </a:lnTo>
                <a:lnTo>
                  <a:pt x="5022533" y="1350417"/>
                </a:lnTo>
                <a:lnTo>
                  <a:pt x="5019460" y="1354203"/>
                </a:lnTo>
                <a:cubicBezTo>
                  <a:pt x="4998491" y="1371515"/>
                  <a:pt x="4968578" y="1375655"/>
                  <a:pt x="4943267" y="1362313"/>
                </a:cubicBezTo>
                <a:cubicBezTo>
                  <a:pt x="4909311" y="1344415"/>
                  <a:pt x="4896373" y="1302204"/>
                  <a:pt x="4914374" y="1268052"/>
                </a:cubicBezTo>
                <a:close/>
                <a:moveTo>
                  <a:pt x="4774748" y="642632"/>
                </a:moveTo>
                <a:cubicBezTo>
                  <a:pt x="4773443" y="622298"/>
                  <a:pt x="4788702" y="604891"/>
                  <a:pt x="4808971" y="603591"/>
                </a:cubicBezTo>
                <a:lnTo>
                  <a:pt x="4817850" y="606617"/>
                </a:lnTo>
                <a:lnTo>
                  <a:pt x="4949276" y="523602"/>
                </a:lnTo>
                <a:lnTo>
                  <a:pt x="4946342" y="517620"/>
                </a:lnTo>
                <a:cubicBezTo>
                  <a:pt x="4945037" y="497286"/>
                  <a:pt x="4960296" y="479879"/>
                  <a:pt x="4980565" y="478579"/>
                </a:cubicBezTo>
                <a:cubicBezTo>
                  <a:pt x="5000833" y="477278"/>
                  <a:pt x="5018191" y="492592"/>
                  <a:pt x="5019496" y="512926"/>
                </a:cubicBezTo>
                <a:cubicBezTo>
                  <a:pt x="5020801" y="533259"/>
                  <a:pt x="5005527" y="550433"/>
                  <a:pt x="4985259" y="551733"/>
                </a:cubicBezTo>
                <a:cubicBezTo>
                  <a:pt x="4975124" y="552383"/>
                  <a:pt x="4965721" y="548938"/>
                  <a:pt x="4958689" y="542789"/>
                </a:cubicBezTo>
                <a:lnTo>
                  <a:pt x="4957543" y="540454"/>
                </a:lnTo>
                <a:lnTo>
                  <a:pt x="4837342" y="616324"/>
                </a:lnTo>
                <a:lnTo>
                  <a:pt x="4847902" y="637938"/>
                </a:lnTo>
                <a:lnTo>
                  <a:pt x="4846124" y="643165"/>
                </a:lnTo>
                <a:lnTo>
                  <a:pt x="4993859" y="712494"/>
                </a:lnTo>
                <a:lnTo>
                  <a:pt x="5005697" y="706678"/>
                </a:lnTo>
                <a:lnTo>
                  <a:pt x="4978548" y="562841"/>
                </a:lnTo>
                <a:cubicBezTo>
                  <a:pt x="4977835" y="559128"/>
                  <a:pt x="4980432" y="555201"/>
                  <a:pt x="4984407" y="554242"/>
                </a:cubicBezTo>
                <a:cubicBezTo>
                  <a:pt x="4988648" y="553735"/>
                  <a:pt x="4992612" y="556300"/>
                  <a:pt x="4993118" y="560496"/>
                </a:cubicBezTo>
                <a:lnTo>
                  <a:pt x="5019687" y="700994"/>
                </a:lnTo>
                <a:lnTo>
                  <a:pt x="5044834" y="709568"/>
                </a:lnTo>
                <a:cubicBezTo>
                  <a:pt x="5051870" y="715775"/>
                  <a:pt x="5056536" y="724687"/>
                  <a:pt x="5057188" y="734854"/>
                </a:cubicBezTo>
                <a:cubicBezTo>
                  <a:pt x="5058493" y="755187"/>
                  <a:pt x="5043219" y="772361"/>
                  <a:pt x="5022951" y="773661"/>
                </a:cubicBezTo>
                <a:cubicBezTo>
                  <a:pt x="5002682" y="774961"/>
                  <a:pt x="4985339" y="759881"/>
                  <a:pt x="4984034" y="739548"/>
                </a:cubicBezTo>
                <a:lnTo>
                  <a:pt x="4987258" y="730022"/>
                </a:lnTo>
                <a:lnTo>
                  <a:pt x="4840092" y="660897"/>
                </a:lnTo>
                <a:lnTo>
                  <a:pt x="4838874" y="664479"/>
                </a:lnTo>
                <a:cubicBezTo>
                  <a:pt x="4832685" y="671477"/>
                  <a:pt x="4823799" y="676095"/>
                  <a:pt x="4813665" y="676745"/>
                </a:cubicBezTo>
                <a:cubicBezTo>
                  <a:pt x="4793396" y="678045"/>
                  <a:pt x="4776053" y="662966"/>
                  <a:pt x="4774748" y="642632"/>
                </a:cubicBezTo>
                <a:close/>
                <a:moveTo>
                  <a:pt x="4686381" y="849036"/>
                </a:moveTo>
                <a:cubicBezTo>
                  <a:pt x="4686381" y="819140"/>
                  <a:pt x="4710862" y="794894"/>
                  <a:pt x="4740523" y="794894"/>
                </a:cubicBezTo>
                <a:cubicBezTo>
                  <a:pt x="4770654" y="794895"/>
                  <a:pt x="4794900" y="819140"/>
                  <a:pt x="4794900" y="849036"/>
                </a:cubicBezTo>
                <a:lnTo>
                  <a:pt x="4793523" y="852371"/>
                </a:lnTo>
                <a:lnTo>
                  <a:pt x="4919777" y="885807"/>
                </a:lnTo>
                <a:lnTo>
                  <a:pt x="4928249" y="865090"/>
                </a:lnTo>
                <a:cubicBezTo>
                  <a:pt x="4940742" y="852438"/>
                  <a:pt x="4958003" y="844612"/>
                  <a:pt x="4977078" y="844612"/>
                </a:cubicBezTo>
                <a:cubicBezTo>
                  <a:pt x="4996270" y="844612"/>
                  <a:pt x="5013648" y="852439"/>
                  <a:pt x="5026228" y="865091"/>
                </a:cubicBezTo>
                <a:lnTo>
                  <a:pt x="5035879" y="879486"/>
                </a:lnTo>
                <a:lnTo>
                  <a:pt x="5147926" y="826542"/>
                </a:lnTo>
                <a:lnTo>
                  <a:pt x="5145280" y="816143"/>
                </a:lnTo>
                <a:cubicBezTo>
                  <a:pt x="5147649" y="800335"/>
                  <a:pt x="5162097" y="789717"/>
                  <a:pt x="5177493" y="791842"/>
                </a:cubicBezTo>
                <a:cubicBezTo>
                  <a:pt x="5193125" y="794201"/>
                  <a:pt x="5204021" y="808593"/>
                  <a:pt x="5201652" y="823930"/>
                </a:cubicBezTo>
                <a:cubicBezTo>
                  <a:pt x="5199520" y="839737"/>
                  <a:pt x="5185072" y="850591"/>
                  <a:pt x="5169440" y="848467"/>
                </a:cubicBezTo>
                <a:lnTo>
                  <a:pt x="5153504" y="839088"/>
                </a:lnTo>
                <a:lnTo>
                  <a:pt x="5042004" y="891686"/>
                </a:lnTo>
                <a:lnTo>
                  <a:pt x="5046590" y="914525"/>
                </a:lnTo>
                <a:cubicBezTo>
                  <a:pt x="5046591" y="943302"/>
                  <a:pt x="5029081" y="968108"/>
                  <a:pt x="5004132" y="978711"/>
                </a:cubicBezTo>
                <a:lnTo>
                  <a:pt x="4999598" y="979632"/>
                </a:lnTo>
                <a:lnTo>
                  <a:pt x="5013927" y="1096047"/>
                </a:lnTo>
                <a:lnTo>
                  <a:pt x="5037952" y="1105888"/>
                </a:lnTo>
                <a:cubicBezTo>
                  <a:pt x="5044577" y="1112475"/>
                  <a:pt x="5048662" y="1121609"/>
                  <a:pt x="5048662" y="1131797"/>
                </a:cubicBezTo>
                <a:cubicBezTo>
                  <a:pt x="5048662" y="1152173"/>
                  <a:pt x="5032320" y="1168567"/>
                  <a:pt x="5012010" y="1168567"/>
                </a:cubicBezTo>
                <a:cubicBezTo>
                  <a:pt x="4991699" y="1168566"/>
                  <a:pt x="4975358" y="1152172"/>
                  <a:pt x="4975357" y="1131797"/>
                </a:cubicBezTo>
                <a:cubicBezTo>
                  <a:pt x="4975358" y="1121609"/>
                  <a:pt x="4979443" y="1112475"/>
                  <a:pt x="4986067" y="1105889"/>
                </a:cubicBezTo>
                <a:lnTo>
                  <a:pt x="4999588" y="1100350"/>
                </a:lnTo>
                <a:lnTo>
                  <a:pt x="4985051" y="982584"/>
                </a:lnTo>
                <a:lnTo>
                  <a:pt x="4977078" y="984203"/>
                </a:lnTo>
                <a:cubicBezTo>
                  <a:pt x="4958003" y="984203"/>
                  <a:pt x="4940742" y="976376"/>
                  <a:pt x="4928249" y="963752"/>
                </a:cubicBezTo>
                <a:lnTo>
                  <a:pt x="4924997" y="958882"/>
                </a:lnTo>
                <a:lnTo>
                  <a:pt x="4848384" y="1013378"/>
                </a:lnTo>
                <a:lnTo>
                  <a:pt x="4854032" y="1025888"/>
                </a:lnTo>
                <a:cubicBezTo>
                  <a:pt x="4854974" y="1044314"/>
                  <a:pt x="4840850" y="1059432"/>
                  <a:pt x="4822960" y="1060140"/>
                </a:cubicBezTo>
                <a:cubicBezTo>
                  <a:pt x="4804599" y="1060849"/>
                  <a:pt x="4789533" y="1046675"/>
                  <a:pt x="4788827" y="1028723"/>
                </a:cubicBezTo>
                <a:cubicBezTo>
                  <a:pt x="4787885" y="1010297"/>
                  <a:pt x="4802009" y="995179"/>
                  <a:pt x="4820135" y="994706"/>
                </a:cubicBezTo>
                <a:lnTo>
                  <a:pt x="4840702" y="1002099"/>
                </a:lnTo>
                <a:lnTo>
                  <a:pt x="4917307" y="947366"/>
                </a:lnTo>
                <a:lnTo>
                  <a:pt x="4913457" y="941599"/>
                </a:lnTo>
                <a:cubicBezTo>
                  <a:pt x="4909964" y="933268"/>
                  <a:pt x="4908034" y="924117"/>
                  <a:pt x="4908033" y="914525"/>
                </a:cubicBezTo>
                <a:lnTo>
                  <a:pt x="4911934" y="904986"/>
                </a:lnTo>
                <a:lnTo>
                  <a:pt x="4785600" y="871563"/>
                </a:lnTo>
                <a:lnTo>
                  <a:pt x="4779011" y="887524"/>
                </a:lnTo>
                <a:cubicBezTo>
                  <a:pt x="4769183" y="897352"/>
                  <a:pt x="4755589" y="903414"/>
                  <a:pt x="4740523" y="903414"/>
                </a:cubicBezTo>
                <a:cubicBezTo>
                  <a:pt x="4710862" y="903413"/>
                  <a:pt x="4686381" y="879167"/>
                  <a:pt x="4686381" y="849036"/>
                </a:cubicBezTo>
                <a:close/>
                <a:moveTo>
                  <a:pt x="4550600" y="1286701"/>
                </a:moveTo>
                <a:cubicBezTo>
                  <a:pt x="4549295" y="1266368"/>
                  <a:pt x="4564554" y="1248960"/>
                  <a:pt x="4584823" y="1247660"/>
                </a:cubicBezTo>
                <a:lnTo>
                  <a:pt x="4593702" y="1250687"/>
                </a:lnTo>
                <a:lnTo>
                  <a:pt x="4725128" y="1167671"/>
                </a:lnTo>
                <a:lnTo>
                  <a:pt x="4722194" y="1161689"/>
                </a:lnTo>
                <a:cubicBezTo>
                  <a:pt x="4720889" y="1141356"/>
                  <a:pt x="4736148" y="1123948"/>
                  <a:pt x="4756416" y="1122648"/>
                </a:cubicBezTo>
                <a:cubicBezTo>
                  <a:pt x="4776685" y="1121348"/>
                  <a:pt x="4794043" y="1136662"/>
                  <a:pt x="4795348" y="1156995"/>
                </a:cubicBezTo>
                <a:cubicBezTo>
                  <a:pt x="4796653" y="1177329"/>
                  <a:pt x="4781379" y="1194502"/>
                  <a:pt x="4761110" y="1195802"/>
                </a:cubicBezTo>
                <a:cubicBezTo>
                  <a:pt x="4750976" y="1196452"/>
                  <a:pt x="4741573" y="1193008"/>
                  <a:pt x="4734541" y="1186859"/>
                </a:cubicBezTo>
                <a:lnTo>
                  <a:pt x="4733395" y="1184523"/>
                </a:lnTo>
                <a:lnTo>
                  <a:pt x="4613194" y="1260393"/>
                </a:lnTo>
                <a:lnTo>
                  <a:pt x="4623754" y="1282007"/>
                </a:lnTo>
                <a:lnTo>
                  <a:pt x="4621976" y="1287234"/>
                </a:lnTo>
                <a:lnTo>
                  <a:pt x="4769711" y="1356564"/>
                </a:lnTo>
                <a:lnTo>
                  <a:pt x="4781549" y="1350747"/>
                </a:lnTo>
                <a:lnTo>
                  <a:pt x="4754400" y="1206910"/>
                </a:lnTo>
                <a:cubicBezTo>
                  <a:pt x="4753687" y="1203198"/>
                  <a:pt x="4756284" y="1199271"/>
                  <a:pt x="4760259" y="1198311"/>
                </a:cubicBezTo>
                <a:cubicBezTo>
                  <a:pt x="4764500" y="1197804"/>
                  <a:pt x="4768463" y="1200370"/>
                  <a:pt x="4768970" y="1204566"/>
                </a:cubicBezTo>
                <a:lnTo>
                  <a:pt x="4795539" y="1345063"/>
                </a:lnTo>
                <a:lnTo>
                  <a:pt x="4820686" y="1353636"/>
                </a:lnTo>
                <a:cubicBezTo>
                  <a:pt x="4827722" y="1359844"/>
                  <a:pt x="4832387" y="1368756"/>
                  <a:pt x="4833040" y="1378923"/>
                </a:cubicBezTo>
                <a:cubicBezTo>
                  <a:pt x="4834345" y="1399256"/>
                  <a:pt x="4819071" y="1416429"/>
                  <a:pt x="4798802" y="1417730"/>
                </a:cubicBezTo>
                <a:cubicBezTo>
                  <a:pt x="4778534" y="1419030"/>
                  <a:pt x="4761191" y="1403951"/>
                  <a:pt x="4759886" y="1383617"/>
                </a:cubicBezTo>
                <a:lnTo>
                  <a:pt x="4763109" y="1374091"/>
                </a:lnTo>
                <a:lnTo>
                  <a:pt x="4615944" y="1304967"/>
                </a:lnTo>
                <a:lnTo>
                  <a:pt x="4614726" y="1308548"/>
                </a:lnTo>
                <a:cubicBezTo>
                  <a:pt x="4608537" y="1315545"/>
                  <a:pt x="4599651" y="1320164"/>
                  <a:pt x="4589517" y="1320814"/>
                </a:cubicBezTo>
                <a:cubicBezTo>
                  <a:pt x="4569248" y="1322115"/>
                  <a:pt x="4551905" y="1307035"/>
                  <a:pt x="4550600" y="1286701"/>
                </a:cubicBezTo>
                <a:close/>
                <a:moveTo>
                  <a:pt x="4462232" y="1493106"/>
                </a:moveTo>
                <a:cubicBezTo>
                  <a:pt x="4462232" y="1463210"/>
                  <a:pt x="4486714" y="1438964"/>
                  <a:pt x="4516375" y="1438964"/>
                </a:cubicBezTo>
                <a:cubicBezTo>
                  <a:pt x="4546506" y="1438964"/>
                  <a:pt x="4570752" y="1463210"/>
                  <a:pt x="4570752" y="1493106"/>
                </a:cubicBezTo>
                <a:lnTo>
                  <a:pt x="4569375" y="1496440"/>
                </a:lnTo>
                <a:lnTo>
                  <a:pt x="4695629" y="1529877"/>
                </a:lnTo>
                <a:lnTo>
                  <a:pt x="4704101" y="1509160"/>
                </a:lnTo>
                <a:cubicBezTo>
                  <a:pt x="4716593" y="1496508"/>
                  <a:pt x="4733855" y="1488681"/>
                  <a:pt x="4752929" y="1488681"/>
                </a:cubicBezTo>
                <a:cubicBezTo>
                  <a:pt x="4772122" y="1488680"/>
                  <a:pt x="4789500" y="1496507"/>
                  <a:pt x="4802080" y="1509161"/>
                </a:cubicBezTo>
                <a:lnTo>
                  <a:pt x="4811731" y="1523556"/>
                </a:lnTo>
                <a:lnTo>
                  <a:pt x="4923778" y="1470611"/>
                </a:lnTo>
                <a:lnTo>
                  <a:pt x="4921132" y="1460213"/>
                </a:lnTo>
                <a:cubicBezTo>
                  <a:pt x="4923501" y="1444404"/>
                  <a:pt x="4937949" y="1433787"/>
                  <a:pt x="4953344" y="1435911"/>
                </a:cubicBezTo>
                <a:cubicBezTo>
                  <a:pt x="4968977" y="1438270"/>
                  <a:pt x="4979873" y="1452662"/>
                  <a:pt x="4977504" y="1467999"/>
                </a:cubicBezTo>
                <a:cubicBezTo>
                  <a:pt x="4975372" y="1483807"/>
                  <a:pt x="4960924" y="1494660"/>
                  <a:pt x="4945292" y="1492537"/>
                </a:cubicBezTo>
                <a:lnTo>
                  <a:pt x="4929356" y="1483158"/>
                </a:lnTo>
                <a:lnTo>
                  <a:pt x="4817856" y="1535755"/>
                </a:lnTo>
                <a:lnTo>
                  <a:pt x="4822442" y="1558594"/>
                </a:lnTo>
                <a:cubicBezTo>
                  <a:pt x="4822442" y="1587372"/>
                  <a:pt x="4804932" y="1612177"/>
                  <a:pt x="4779984" y="1622781"/>
                </a:cubicBezTo>
                <a:lnTo>
                  <a:pt x="4775449" y="1623701"/>
                </a:lnTo>
                <a:lnTo>
                  <a:pt x="4789779" y="1740117"/>
                </a:lnTo>
                <a:lnTo>
                  <a:pt x="4813804" y="1749958"/>
                </a:lnTo>
                <a:cubicBezTo>
                  <a:pt x="4820428" y="1756544"/>
                  <a:pt x="4824514" y="1765678"/>
                  <a:pt x="4824514" y="1775866"/>
                </a:cubicBezTo>
                <a:cubicBezTo>
                  <a:pt x="4824514" y="1796242"/>
                  <a:pt x="4808172" y="1812636"/>
                  <a:pt x="4787862" y="1812636"/>
                </a:cubicBezTo>
                <a:cubicBezTo>
                  <a:pt x="4767551" y="1812636"/>
                  <a:pt x="4751209" y="1796242"/>
                  <a:pt x="4751209" y="1775866"/>
                </a:cubicBezTo>
                <a:cubicBezTo>
                  <a:pt x="4751209" y="1765679"/>
                  <a:pt x="4755295" y="1756545"/>
                  <a:pt x="4761919" y="1749958"/>
                </a:cubicBezTo>
                <a:lnTo>
                  <a:pt x="4775440" y="1744419"/>
                </a:lnTo>
                <a:lnTo>
                  <a:pt x="4760903" y="1626653"/>
                </a:lnTo>
                <a:lnTo>
                  <a:pt x="4752929" y="1628272"/>
                </a:lnTo>
                <a:cubicBezTo>
                  <a:pt x="4733855" y="1628272"/>
                  <a:pt x="4716593" y="1620445"/>
                  <a:pt x="4704101" y="1607822"/>
                </a:cubicBezTo>
                <a:lnTo>
                  <a:pt x="4700849" y="1602951"/>
                </a:lnTo>
                <a:lnTo>
                  <a:pt x="4624235" y="1657447"/>
                </a:lnTo>
                <a:lnTo>
                  <a:pt x="4629884" y="1669957"/>
                </a:lnTo>
                <a:cubicBezTo>
                  <a:pt x="4630826" y="1688383"/>
                  <a:pt x="4616702" y="1703501"/>
                  <a:pt x="4598812" y="1704210"/>
                </a:cubicBezTo>
                <a:cubicBezTo>
                  <a:pt x="4580450" y="1704918"/>
                  <a:pt x="4565385" y="1690745"/>
                  <a:pt x="4564679" y="1672792"/>
                </a:cubicBezTo>
                <a:cubicBezTo>
                  <a:pt x="4563737" y="1654366"/>
                  <a:pt x="4577861" y="1639248"/>
                  <a:pt x="4595987" y="1638775"/>
                </a:cubicBezTo>
                <a:lnTo>
                  <a:pt x="4616554" y="1646168"/>
                </a:lnTo>
                <a:lnTo>
                  <a:pt x="4693159" y="1591435"/>
                </a:lnTo>
                <a:lnTo>
                  <a:pt x="4689309" y="1585669"/>
                </a:lnTo>
                <a:cubicBezTo>
                  <a:pt x="4685816" y="1577337"/>
                  <a:pt x="4683885" y="1568186"/>
                  <a:pt x="4683885" y="1558594"/>
                </a:cubicBezTo>
                <a:lnTo>
                  <a:pt x="4687786" y="1549055"/>
                </a:lnTo>
                <a:lnTo>
                  <a:pt x="4561452" y="1515632"/>
                </a:lnTo>
                <a:lnTo>
                  <a:pt x="4554863" y="1531593"/>
                </a:lnTo>
                <a:cubicBezTo>
                  <a:pt x="4545035" y="1541421"/>
                  <a:pt x="4531440" y="1547483"/>
                  <a:pt x="4516375" y="1547483"/>
                </a:cubicBezTo>
                <a:cubicBezTo>
                  <a:pt x="4486714" y="1547483"/>
                  <a:pt x="4462232" y="1523237"/>
                  <a:pt x="4462232" y="1493106"/>
                </a:cubicBezTo>
                <a:close/>
                <a:moveTo>
                  <a:pt x="4355291" y="581922"/>
                </a:moveTo>
                <a:cubicBezTo>
                  <a:pt x="4367251" y="554524"/>
                  <a:pt x="4399389" y="542096"/>
                  <a:pt x="4426572" y="553963"/>
                </a:cubicBezTo>
                <a:cubicBezTo>
                  <a:pt x="4454187" y="566018"/>
                  <a:pt x="4466708" y="597939"/>
                  <a:pt x="4454747" y="625338"/>
                </a:cubicBezTo>
                <a:lnTo>
                  <a:pt x="4452151" y="627843"/>
                </a:lnTo>
                <a:lnTo>
                  <a:pt x="4540444" y="697865"/>
                </a:lnTo>
                <a:lnTo>
                  <a:pt x="4543231" y="693864"/>
                </a:lnTo>
                <a:cubicBezTo>
                  <a:pt x="4562872" y="675059"/>
                  <a:pt x="4592400" y="668733"/>
                  <a:pt x="4618623" y="680181"/>
                </a:cubicBezTo>
                <a:cubicBezTo>
                  <a:pt x="4653801" y="695536"/>
                  <a:pt x="4669805" y="736683"/>
                  <a:pt x="4654360" y="772065"/>
                </a:cubicBezTo>
                <a:cubicBezTo>
                  <a:pt x="4639009" y="807230"/>
                  <a:pt x="4597955" y="823470"/>
                  <a:pt x="4562776" y="808114"/>
                </a:cubicBezTo>
                <a:cubicBezTo>
                  <a:pt x="4554035" y="804298"/>
                  <a:pt x="4546493" y="798870"/>
                  <a:pt x="4540336" y="792325"/>
                </a:cubicBezTo>
                <a:lnTo>
                  <a:pt x="4531216" y="777809"/>
                </a:lnTo>
                <a:lnTo>
                  <a:pt x="4438015" y="797351"/>
                </a:lnTo>
                <a:lnTo>
                  <a:pt x="4438187" y="811075"/>
                </a:lnTo>
                <a:cubicBezTo>
                  <a:pt x="4431678" y="828339"/>
                  <a:pt x="4412686" y="836544"/>
                  <a:pt x="4396006" y="830037"/>
                </a:cubicBezTo>
                <a:cubicBezTo>
                  <a:pt x="4378895" y="823340"/>
                  <a:pt x="4370758" y="804323"/>
                  <a:pt x="4377293" y="787587"/>
                </a:cubicBezTo>
                <a:cubicBezTo>
                  <a:pt x="4383802" y="770324"/>
                  <a:pt x="4402795" y="762119"/>
                  <a:pt x="4419595" y="768937"/>
                </a:cubicBezTo>
                <a:lnTo>
                  <a:pt x="4435488" y="783942"/>
                </a:lnTo>
                <a:lnTo>
                  <a:pt x="4526320" y="764696"/>
                </a:lnTo>
                <a:lnTo>
                  <a:pt x="4527375" y="716632"/>
                </a:lnTo>
                <a:lnTo>
                  <a:pt x="4528678" y="714762"/>
                </a:lnTo>
                <a:lnTo>
                  <a:pt x="4437211" y="642263"/>
                </a:lnTo>
                <a:lnTo>
                  <a:pt x="4424787" y="654255"/>
                </a:lnTo>
                <a:cubicBezTo>
                  <a:pt x="4411848" y="659330"/>
                  <a:pt x="4396964" y="659447"/>
                  <a:pt x="4383157" y="653419"/>
                </a:cubicBezTo>
                <a:cubicBezTo>
                  <a:pt x="4355973" y="641553"/>
                  <a:pt x="4343236" y="609537"/>
                  <a:pt x="4355291" y="581922"/>
                </a:cubicBezTo>
                <a:close/>
                <a:moveTo>
                  <a:pt x="4201636" y="996851"/>
                </a:moveTo>
                <a:cubicBezTo>
                  <a:pt x="4201494" y="987469"/>
                  <a:pt x="4204947" y="978044"/>
                  <a:pt x="4212029" y="970766"/>
                </a:cubicBezTo>
                <a:cubicBezTo>
                  <a:pt x="4226194" y="956210"/>
                  <a:pt x="4249340" y="955933"/>
                  <a:pt x="4263943" y="970142"/>
                </a:cubicBezTo>
                <a:cubicBezTo>
                  <a:pt x="4271244" y="977247"/>
                  <a:pt x="4274941" y="986545"/>
                  <a:pt x="4275041" y="995887"/>
                </a:cubicBezTo>
                <a:lnTo>
                  <a:pt x="4269581" y="1009440"/>
                </a:lnTo>
                <a:lnTo>
                  <a:pt x="4365415" y="1082138"/>
                </a:lnTo>
                <a:lnTo>
                  <a:pt x="4368518" y="1074310"/>
                </a:lnTo>
                <a:cubicBezTo>
                  <a:pt x="4381822" y="1060640"/>
                  <a:pt x="4399469" y="1053728"/>
                  <a:pt x="4417228" y="1053579"/>
                </a:cubicBezTo>
                <a:lnTo>
                  <a:pt x="4422987" y="1054646"/>
                </a:lnTo>
                <a:lnTo>
                  <a:pt x="4437364" y="961733"/>
                </a:lnTo>
                <a:lnTo>
                  <a:pt x="4424459" y="957057"/>
                </a:lnTo>
                <a:cubicBezTo>
                  <a:pt x="4417528" y="950969"/>
                  <a:pt x="4413816" y="942759"/>
                  <a:pt x="4413334" y="934406"/>
                </a:cubicBezTo>
                <a:cubicBezTo>
                  <a:pt x="4412851" y="926053"/>
                  <a:pt x="4415597" y="917557"/>
                  <a:pt x="4421582" y="910899"/>
                </a:cubicBezTo>
                <a:cubicBezTo>
                  <a:pt x="4433879" y="897247"/>
                  <a:pt x="4454544" y="896335"/>
                  <a:pt x="4467903" y="908349"/>
                </a:cubicBezTo>
                <a:cubicBezTo>
                  <a:pt x="4481764" y="920525"/>
                  <a:pt x="4482749" y="941191"/>
                  <a:pt x="4470446" y="954510"/>
                </a:cubicBezTo>
                <a:lnTo>
                  <a:pt x="4450804" y="964094"/>
                </a:lnTo>
                <a:lnTo>
                  <a:pt x="4436603" y="1057167"/>
                </a:lnTo>
                <a:lnTo>
                  <a:pt x="4443421" y="1058428"/>
                </a:lnTo>
                <a:cubicBezTo>
                  <a:pt x="4451828" y="1061736"/>
                  <a:pt x="4459733" y="1066734"/>
                  <a:pt x="4466607" y="1073424"/>
                </a:cubicBezTo>
                <a:lnTo>
                  <a:pt x="4472407" y="1081862"/>
                </a:lnTo>
                <a:lnTo>
                  <a:pt x="4582783" y="1015643"/>
                </a:lnTo>
                <a:lnTo>
                  <a:pt x="4575940" y="999790"/>
                </a:lnTo>
                <a:cubicBezTo>
                  <a:pt x="4575751" y="985891"/>
                  <a:pt x="4580888" y="971922"/>
                  <a:pt x="4591395" y="961125"/>
                </a:cubicBezTo>
                <a:cubicBezTo>
                  <a:pt x="4612081" y="939868"/>
                  <a:pt x="4646531" y="939233"/>
                  <a:pt x="4668125" y="960247"/>
                </a:cubicBezTo>
                <a:cubicBezTo>
                  <a:pt x="4689550" y="981097"/>
                  <a:pt x="4689853" y="1015552"/>
                  <a:pt x="4669167" y="1036809"/>
                </a:cubicBezTo>
                <a:cubicBezTo>
                  <a:pt x="4648153" y="1058402"/>
                  <a:pt x="4613866" y="1058869"/>
                  <a:pt x="4592441" y="1038019"/>
                </a:cubicBezTo>
                <a:lnTo>
                  <a:pt x="4591011" y="1034707"/>
                </a:lnTo>
                <a:lnTo>
                  <a:pt x="4483008" y="1099463"/>
                </a:lnTo>
                <a:lnTo>
                  <a:pt x="4487936" y="1122389"/>
                </a:lnTo>
                <a:cubicBezTo>
                  <a:pt x="4488291" y="1140165"/>
                  <a:pt x="4481862" y="1157994"/>
                  <a:pt x="4468559" y="1171665"/>
                </a:cubicBezTo>
                <a:cubicBezTo>
                  <a:pt x="4441789" y="1199173"/>
                  <a:pt x="4397642" y="1199647"/>
                  <a:pt x="4369975" y="1172723"/>
                </a:cubicBezTo>
                <a:cubicBezTo>
                  <a:pt x="4356226" y="1159342"/>
                  <a:pt x="4349169" y="1141617"/>
                  <a:pt x="4348896" y="1123798"/>
                </a:cubicBezTo>
                <a:lnTo>
                  <a:pt x="4359752" y="1096419"/>
                </a:lnTo>
                <a:lnTo>
                  <a:pt x="4262664" y="1022717"/>
                </a:lnTo>
                <a:lnTo>
                  <a:pt x="4238855" y="1033070"/>
                </a:lnTo>
                <a:cubicBezTo>
                  <a:pt x="4229515" y="1033225"/>
                  <a:pt x="4220120" y="1029782"/>
                  <a:pt x="4212818" y="1022677"/>
                </a:cubicBezTo>
                <a:cubicBezTo>
                  <a:pt x="4205517" y="1015572"/>
                  <a:pt x="4201779" y="1006234"/>
                  <a:pt x="4201636" y="996851"/>
                </a:cubicBezTo>
                <a:close/>
                <a:moveTo>
                  <a:pt x="4131143" y="1225992"/>
                </a:moveTo>
                <a:cubicBezTo>
                  <a:pt x="4143103" y="1198593"/>
                  <a:pt x="4175241" y="1186166"/>
                  <a:pt x="4202424" y="1198032"/>
                </a:cubicBezTo>
                <a:cubicBezTo>
                  <a:pt x="4230039" y="1210087"/>
                  <a:pt x="4242560" y="1242008"/>
                  <a:pt x="4230599" y="1269407"/>
                </a:cubicBezTo>
                <a:lnTo>
                  <a:pt x="4228003" y="1271913"/>
                </a:lnTo>
                <a:lnTo>
                  <a:pt x="4316296" y="1341935"/>
                </a:lnTo>
                <a:lnTo>
                  <a:pt x="4319083" y="1337933"/>
                </a:lnTo>
                <a:cubicBezTo>
                  <a:pt x="4338724" y="1319128"/>
                  <a:pt x="4368252" y="1312803"/>
                  <a:pt x="4394475" y="1324249"/>
                </a:cubicBezTo>
                <a:cubicBezTo>
                  <a:pt x="4429653" y="1339606"/>
                  <a:pt x="4445656" y="1380753"/>
                  <a:pt x="4430211" y="1416134"/>
                </a:cubicBezTo>
                <a:cubicBezTo>
                  <a:pt x="4414861" y="1451300"/>
                  <a:pt x="4373806" y="1467540"/>
                  <a:pt x="4338628" y="1452183"/>
                </a:cubicBezTo>
                <a:cubicBezTo>
                  <a:pt x="4329887" y="1448367"/>
                  <a:pt x="4322345" y="1442939"/>
                  <a:pt x="4316188" y="1436395"/>
                </a:cubicBezTo>
                <a:lnTo>
                  <a:pt x="4307068" y="1421878"/>
                </a:lnTo>
                <a:lnTo>
                  <a:pt x="4213867" y="1441420"/>
                </a:lnTo>
                <a:lnTo>
                  <a:pt x="4214039" y="1455145"/>
                </a:lnTo>
                <a:cubicBezTo>
                  <a:pt x="4207530" y="1472409"/>
                  <a:pt x="4188538" y="1480614"/>
                  <a:pt x="4171858" y="1474106"/>
                </a:cubicBezTo>
                <a:cubicBezTo>
                  <a:pt x="4154747" y="1467410"/>
                  <a:pt x="4146610" y="1448393"/>
                  <a:pt x="4153145" y="1431656"/>
                </a:cubicBezTo>
                <a:cubicBezTo>
                  <a:pt x="4159654" y="1414393"/>
                  <a:pt x="4178646" y="1406188"/>
                  <a:pt x="4195447" y="1413006"/>
                </a:cubicBezTo>
                <a:lnTo>
                  <a:pt x="4211340" y="1428011"/>
                </a:lnTo>
                <a:lnTo>
                  <a:pt x="4302172" y="1408766"/>
                </a:lnTo>
                <a:lnTo>
                  <a:pt x="4303227" y="1360701"/>
                </a:lnTo>
                <a:lnTo>
                  <a:pt x="4304529" y="1358830"/>
                </a:lnTo>
                <a:lnTo>
                  <a:pt x="4213063" y="1286332"/>
                </a:lnTo>
                <a:lnTo>
                  <a:pt x="4200639" y="1298324"/>
                </a:lnTo>
                <a:cubicBezTo>
                  <a:pt x="4187700" y="1303400"/>
                  <a:pt x="4172816" y="1303516"/>
                  <a:pt x="4159008" y="1297489"/>
                </a:cubicBezTo>
                <a:cubicBezTo>
                  <a:pt x="4131825" y="1285622"/>
                  <a:pt x="4119088" y="1253607"/>
                  <a:pt x="4131143" y="1225992"/>
                </a:cubicBezTo>
                <a:close/>
                <a:moveTo>
                  <a:pt x="3977488" y="1640920"/>
                </a:moveTo>
                <a:cubicBezTo>
                  <a:pt x="3977345" y="1631538"/>
                  <a:pt x="3980799" y="1622113"/>
                  <a:pt x="3987881" y="1614836"/>
                </a:cubicBezTo>
                <a:cubicBezTo>
                  <a:pt x="4002046" y="1600280"/>
                  <a:pt x="4025192" y="1600002"/>
                  <a:pt x="4039795" y="1614212"/>
                </a:cubicBezTo>
                <a:cubicBezTo>
                  <a:pt x="4047096" y="1621317"/>
                  <a:pt x="4050792" y="1630615"/>
                  <a:pt x="4050893" y="1639956"/>
                </a:cubicBezTo>
                <a:lnTo>
                  <a:pt x="4045432" y="1653509"/>
                </a:lnTo>
                <a:lnTo>
                  <a:pt x="4141267" y="1726207"/>
                </a:lnTo>
                <a:lnTo>
                  <a:pt x="4144370" y="1718380"/>
                </a:lnTo>
                <a:cubicBezTo>
                  <a:pt x="4157673" y="1704710"/>
                  <a:pt x="4175321" y="1697798"/>
                  <a:pt x="4193080" y="1697649"/>
                </a:cubicBezTo>
                <a:lnTo>
                  <a:pt x="4198839" y="1698715"/>
                </a:lnTo>
                <a:lnTo>
                  <a:pt x="4213216" y="1605803"/>
                </a:lnTo>
                <a:lnTo>
                  <a:pt x="4200310" y="1601126"/>
                </a:lnTo>
                <a:cubicBezTo>
                  <a:pt x="4193380" y="1595038"/>
                  <a:pt x="4189668" y="1586828"/>
                  <a:pt x="4189185" y="1578475"/>
                </a:cubicBezTo>
                <a:cubicBezTo>
                  <a:pt x="4188703" y="1570122"/>
                  <a:pt x="4191449" y="1561627"/>
                  <a:pt x="4197434" y="1554969"/>
                </a:cubicBezTo>
                <a:cubicBezTo>
                  <a:pt x="4209731" y="1541316"/>
                  <a:pt x="4230396" y="1540404"/>
                  <a:pt x="4243755" y="1552419"/>
                </a:cubicBezTo>
                <a:cubicBezTo>
                  <a:pt x="4257616" y="1564595"/>
                  <a:pt x="4258600" y="1585260"/>
                  <a:pt x="4246298" y="1598580"/>
                </a:cubicBezTo>
                <a:lnTo>
                  <a:pt x="4226655" y="1608164"/>
                </a:lnTo>
                <a:lnTo>
                  <a:pt x="4212455" y="1701236"/>
                </a:lnTo>
                <a:lnTo>
                  <a:pt x="4219273" y="1702498"/>
                </a:lnTo>
                <a:cubicBezTo>
                  <a:pt x="4227679" y="1705805"/>
                  <a:pt x="4235585" y="1710803"/>
                  <a:pt x="4242459" y="1717493"/>
                </a:cubicBezTo>
                <a:lnTo>
                  <a:pt x="4248259" y="1725931"/>
                </a:lnTo>
                <a:lnTo>
                  <a:pt x="4358635" y="1659713"/>
                </a:lnTo>
                <a:lnTo>
                  <a:pt x="4351792" y="1643859"/>
                </a:lnTo>
                <a:cubicBezTo>
                  <a:pt x="4351603" y="1629961"/>
                  <a:pt x="4356739" y="1615991"/>
                  <a:pt x="4367247" y="1605194"/>
                </a:cubicBezTo>
                <a:cubicBezTo>
                  <a:pt x="4387932" y="1583938"/>
                  <a:pt x="4422383" y="1583303"/>
                  <a:pt x="4443977" y="1604316"/>
                </a:cubicBezTo>
                <a:cubicBezTo>
                  <a:pt x="4465402" y="1625167"/>
                  <a:pt x="4465704" y="1659621"/>
                  <a:pt x="4445018" y="1680878"/>
                </a:cubicBezTo>
                <a:cubicBezTo>
                  <a:pt x="4424004" y="1702472"/>
                  <a:pt x="4389718" y="1702939"/>
                  <a:pt x="4368293" y="1682089"/>
                </a:cubicBezTo>
                <a:lnTo>
                  <a:pt x="4366863" y="1678775"/>
                </a:lnTo>
                <a:lnTo>
                  <a:pt x="4258860" y="1743532"/>
                </a:lnTo>
                <a:lnTo>
                  <a:pt x="4263787" y="1766458"/>
                </a:lnTo>
                <a:cubicBezTo>
                  <a:pt x="4264143" y="1784234"/>
                  <a:pt x="4257714" y="1802064"/>
                  <a:pt x="4244410" y="1815734"/>
                </a:cubicBezTo>
                <a:cubicBezTo>
                  <a:pt x="4217641" y="1843242"/>
                  <a:pt x="4173493" y="1843716"/>
                  <a:pt x="4145827" y="1816792"/>
                </a:cubicBezTo>
                <a:cubicBezTo>
                  <a:pt x="4132077" y="1803412"/>
                  <a:pt x="4125021" y="1785686"/>
                  <a:pt x="4124748" y="1767867"/>
                </a:cubicBezTo>
                <a:lnTo>
                  <a:pt x="4135604" y="1740488"/>
                </a:lnTo>
                <a:lnTo>
                  <a:pt x="4038516" y="1666786"/>
                </a:lnTo>
                <a:lnTo>
                  <a:pt x="4014707" y="1677140"/>
                </a:lnTo>
                <a:cubicBezTo>
                  <a:pt x="4005367" y="1677294"/>
                  <a:pt x="3995971" y="1673852"/>
                  <a:pt x="3988670" y="1666746"/>
                </a:cubicBezTo>
                <a:cubicBezTo>
                  <a:pt x="3981369" y="1659641"/>
                  <a:pt x="3977631" y="1650302"/>
                  <a:pt x="3977488" y="1640920"/>
                </a:cubicBezTo>
                <a:close/>
                <a:moveTo>
                  <a:pt x="3965059" y="770025"/>
                </a:moveTo>
                <a:cubicBezTo>
                  <a:pt x="3965059" y="749715"/>
                  <a:pt x="3981453" y="733374"/>
                  <a:pt x="4001829" y="733373"/>
                </a:cubicBezTo>
                <a:cubicBezTo>
                  <a:pt x="4012016" y="733374"/>
                  <a:pt x="4021150" y="737459"/>
                  <a:pt x="4027737" y="744082"/>
                </a:cubicBezTo>
                <a:lnTo>
                  <a:pt x="4033276" y="757605"/>
                </a:lnTo>
                <a:lnTo>
                  <a:pt x="4151042" y="743068"/>
                </a:lnTo>
                <a:lnTo>
                  <a:pt x="4149423" y="735094"/>
                </a:lnTo>
                <a:cubicBezTo>
                  <a:pt x="4149423" y="716020"/>
                  <a:pt x="4157250" y="698758"/>
                  <a:pt x="4169874" y="686266"/>
                </a:cubicBezTo>
                <a:lnTo>
                  <a:pt x="4174744" y="683014"/>
                </a:lnTo>
                <a:lnTo>
                  <a:pt x="4120249" y="606400"/>
                </a:lnTo>
                <a:lnTo>
                  <a:pt x="4107739" y="612049"/>
                </a:lnTo>
                <a:cubicBezTo>
                  <a:pt x="4089313" y="612991"/>
                  <a:pt x="4074195" y="598867"/>
                  <a:pt x="4073486" y="580976"/>
                </a:cubicBezTo>
                <a:cubicBezTo>
                  <a:pt x="4072777" y="562615"/>
                  <a:pt x="4086951" y="547549"/>
                  <a:pt x="4104904" y="546843"/>
                </a:cubicBezTo>
                <a:cubicBezTo>
                  <a:pt x="4123329" y="545902"/>
                  <a:pt x="4138448" y="560025"/>
                  <a:pt x="4138920" y="578151"/>
                </a:cubicBezTo>
                <a:lnTo>
                  <a:pt x="4131527" y="598719"/>
                </a:lnTo>
                <a:lnTo>
                  <a:pt x="4186261" y="675323"/>
                </a:lnTo>
                <a:lnTo>
                  <a:pt x="4192027" y="671473"/>
                </a:lnTo>
                <a:cubicBezTo>
                  <a:pt x="4200358" y="667981"/>
                  <a:pt x="4209509" y="666050"/>
                  <a:pt x="4219101" y="666050"/>
                </a:cubicBezTo>
                <a:lnTo>
                  <a:pt x="4229143" y="668052"/>
                </a:lnTo>
                <a:lnTo>
                  <a:pt x="4261131" y="547142"/>
                </a:lnTo>
                <a:lnTo>
                  <a:pt x="4246102" y="537027"/>
                </a:lnTo>
                <a:cubicBezTo>
                  <a:pt x="4236274" y="527199"/>
                  <a:pt x="4230212" y="513604"/>
                  <a:pt x="4230212" y="498539"/>
                </a:cubicBezTo>
                <a:cubicBezTo>
                  <a:pt x="4230212" y="468879"/>
                  <a:pt x="4254459" y="444397"/>
                  <a:pt x="4284590" y="444397"/>
                </a:cubicBezTo>
                <a:cubicBezTo>
                  <a:pt x="4314486" y="444398"/>
                  <a:pt x="4338732" y="468879"/>
                  <a:pt x="4338732" y="498539"/>
                </a:cubicBezTo>
                <a:cubicBezTo>
                  <a:pt x="4338732" y="528671"/>
                  <a:pt x="4314486" y="552917"/>
                  <a:pt x="4284590" y="552917"/>
                </a:cubicBezTo>
                <a:lnTo>
                  <a:pt x="4281078" y="552211"/>
                </a:lnTo>
                <a:lnTo>
                  <a:pt x="4249016" y="673273"/>
                </a:lnTo>
                <a:lnTo>
                  <a:pt x="4268535" y="686266"/>
                </a:lnTo>
                <a:cubicBezTo>
                  <a:pt x="4281188" y="698758"/>
                  <a:pt x="4289015" y="716020"/>
                  <a:pt x="4289015" y="735094"/>
                </a:cubicBezTo>
                <a:cubicBezTo>
                  <a:pt x="4289015" y="754286"/>
                  <a:pt x="4281188" y="771664"/>
                  <a:pt x="4268535" y="784245"/>
                </a:cubicBezTo>
                <a:lnTo>
                  <a:pt x="4254140" y="793896"/>
                </a:lnTo>
                <a:lnTo>
                  <a:pt x="4307084" y="905942"/>
                </a:lnTo>
                <a:lnTo>
                  <a:pt x="4317483" y="903296"/>
                </a:lnTo>
                <a:cubicBezTo>
                  <a:pt x="4333291" y="905666"/>
                  <a:pt x="4343908" y="920114"/>
                  <a:pt x="4341785" y="935510"/>
                </a:cubicBezTo>
                <a:cubicBezTo>
                  <a:pt x="4339426" y="951142"/>
                  <a:pt x="4325033" y="962037"/>
                  <a:pt x="4309697" y="959669"/>
                </a:cubicBezTo>
                <a:cubicBezTo>
                  <a:pt x="4293889" y="957537"/>
                  <a:pt x="4283035" y="943089"/>
                  <a:pt x="4285159" y="927456"/>
                </a:cubicBezTo>
                <a:lnTo>
                  <a:pt x="4294538" y="911521"/>
                </a:lnTo>
                <a:lnTo>
                  <a:pt x="4241940" y="800021"/>
                </a:lnTo>
                <a:lnTo>
                  <a:pt x="4219101" y="804607"/>
                </a:lnTo>
                <a:cubicBezTo>
                  <a:pt x="4190324" y="804607"/>
                  <a:pt x="4165519" y="787097"/>
                  <a:pt x="4154915" y="762149"/>
                </a:cubicBezTo>
                <a:lnTo>
                  <a:pt x="4153994" y="757615"/>
                </a:lnTo>
                <a:lnTo>
                  <a:pt x="4037579" y="771943"/>
                </a:lnTo>
                <a:lnTo>
                  <a:pt x="4027737" y="795968"/>
                </a:lnTo>
                <a:cubicBezTo>
                  <a:pt x="4021150" y="802592"/>
                  <a:pt x="4012017" y="806677"/>
                  <a:pt x="4001829" y="806678"/>
                </a:cubicBezTo>
                <a:cubicBezTo>
                  <a:pt x="3981453" y="806678"/>
                  <a:pt x="3965059" y="790337"/>
                  <a:pt x="3965059" y="770025"/>
                </a:cubicBezTo>
                <a:close/>
                <a:moveTo>
                  <a:pt x="3740911" y="1414095"/>
                </a:moveTo>
                <a:cubicBezTo>
                  <a:pt x="3740911" y="1393785"/>
                  <a:pt x="3757305" y="1377443"/>
                  <a:pt x="3777681" y="1377443"/>
                </a:cubicBezTo>
                <a:cubicBezTo>
                  <a:pt x="3787868" y="1377443"/>
                  <a:pt x="3797002" y="1381528"/>
                  <a:pt x="3803589" y="1388152"/>
                </a:cubicBezTo>
                <a:lnTo>
                  <a:pt x="3809128" y="1401674"/>
                </a:lnTo>
                <a:lnTo>
                  <a:pt x="3926894" y="1387137"/>
                </a:lnTo>
                <a:lnTo>
                  <a:pt x="3925275" y="1379164"/>
                </a:lnTo>
                <a:cubicBezTo>
                  <a:pt x="3925275" y="1360088"/>
                  <a:pt x="3933102" y="1342827"/>
                  <a:pt x="3945725" y="1330335"/>
                </a:cubicBezTo>
                <a:lnTo>
                  <a:pt x="3950596" y="1327083"/>
                </a:lnTo>
                <a:lnTo>
                  <a:pt x="3896100" y="1250469"/>
                </a:lnTo>
                <a:lnTo>
                  <a:pt x="3883590" y="1256118"/>
                </a:lnTo>
                <a:cubicBezTo>
                  <a:pt x="3865165" y="1257060"/>
                  <a:pt x="3850046" y="1242936"/>
                  <a:pt x="3849338" y="1225046"/>
                </a:cubicBezTo>
                <a:cubicBezTo>
                  <a:pt x="3848629" y="1206685"/>
                  <a:pt x="3862803" y="1191619"/>
                  <a:pt x="3880756" y="1190913"/>
                </a:cubicBezTo>
                <a:cubicBezTo>
                  <a:pt x="3899181" y="1189972"/>
                  <a:pt x="3914300" y="1204095"/>
                  <a:pt x="3914772" y="1222221"/>
                </a:cubicBezTo>
                <a:lnTo>
                  <a:pt x="3907379" y="1242788"/>
                </a:lnTo>
                <a:lnTo>
                  <a:pt x="3962112" y="1319393"/>
                </a:lnTo>
                <a:lnTo>
                  <a:pt x="3967879" y="1315543"/>
                </a:lnTo>
                <a:cubicBezTo>
                  <a:pt x="3976210" y="1312050"/>
                  <a:pt x="3985361" y="1310119"/>
                  <a:pt x="3994953" y="1310119"/>
                </a:cubicBezTo>
                <a:lnTo>
                  <a:pt x="4004995" y="1312121"/>
                </a:lnTo>
                <a:lnTo>
                  <a:pt x="4036983" y="1191212"/>
                </a:lnTo>
                <a:lnTo>
                  <a:pt x="4021954" y="1181096"/>
                </a:lnTo>
                <a:cubicBezTo>
                  <a:pt x="4012126" y="1171268"/>
                  <a:pt x="4006064" y="1157674"/>
                  <a:pt x="4006064" y="1142608"/>
                </a:cubicBezTo>
                <a:cubicBezTo>
                  <a:pt x="4006064" y="1112948"/>
                  <a:pt x="4030310" y="1088467"/>
                  <a:pt x="4060442" y="1088467"/>
                </a:cubicBezTo>
                <a:cubicBezTo>
                  <a:pt x="4090338" y="1088467"/>
                  <a:pt x="4114584" y="1112948"/>
                  <a:pt x="4114584" y="1142609"/>
                </a:cubicBezTo>
                <a:cubicBezTo>
                  <a:pt x="4114584" y="1172740"/>
                  <a:pt x="4090337" y="1196986"/>
                  <a:pt x="4060442" y="1196986"/>
                </a:cubicBezTo>
                <a:lnTo>
                  <a:pt x="4056929" y="1196281"/>
                </a:lnTo>
                <a:lnTo>
                  <a:pt x="4024868" y="1317342"/>
                </a:lnTo>
                <a:lnTo>
                  <a:pt x="4044387" y="1330335"/>
                </a:lnTo>
                <a:cubicBezTo>
                  <a:pt x="4057040" y="1342828"/>
                  <a:pt x="4064867" y="1360088"/>
                  <a:pt x="4064867" y="1379164"/>
                </a:cubicBezTo>
                <a:cubicBezTo>
                  <a:pt x="4064867" y="1398356"/>
                  <a:pt x="4057040" y="1415734"/>
                  <a:pt x="4044387" y="1428314"/>
                </a:cubicBezTo>
                <a:lnTo>
                  <a:pt x="4029991" y="1437965"/>
                </a:lnTo>
                <a:lnTo>
                  <a:pt x="4082936" y="1550012"/>
                </a:lnTo>
                <a:lnTo>
                  <a:pt x="4093335" y="1547366"/>
                </a:lnTo>
                <a:cubicBezTo>
                  <a:pt x="4109143" y="1549735"/>
                  <a:pt x="4119760" y="1564183"/>
                  <a:pt x="4117637" y="1579579"/>
                </a:cubicBezTo>
                <a:cubicBezTo>
                  <a:pt x="4115277" y="1595211"/>
                  <a:pt x="4100885" y="1606107"/>
                  <a:pt x="4085548" y="1603738"/>
                </a:cubicBezTo>
                <a:cubicBezTo>
                  <a:pt x="4069740" y="1601606"/>
                  <a:pt x="4058887" y="1587158"/>
                  <a:pt x="4061011" y="1571526"/>
                </a:cubicBezTo>
                <a:lnTo>
                  <a:pt x="4070389" y="1555590"/>
                </a:lnTo>
                <a:lnTo>
                  <a:pt x="4017793" y="1444090"/>
                </a:lnTo>
                <a:lnTo>
                  <a:pt x="3994953" y="1448676"/>
                </a:lnTo>
                <a:cubicBezTo>
                  <a:pt x="3966176" y="1448676"/>
                  <a:pt x="3941370" y="1431167"/>
                  <a:pt x="3930766" y="1406218"/>
                </a:cubicBezTo>
                <a:lnTo>
                  <a:pt x="3929846" y="1401684"/>
                </a:lnTo>
                <a:lnTo>
                  <a:pt x="3813430" y="1416014"/>
                </a:lnTo>
                <a:lnTo>
                  <a:pt x="3803589" y="1440038"/>
                </a:lnTo>
                <a:cubicBezTo>
                  <a:pt x="3797002" y="1446662"/>
                  <a:pt x="3787868" y="1450747"/>
                  <a:pt x="3777681" y="1450747"/>
                </a:cubicBezTo>
                <a:cubicBezTo>
                  <a:pt x="3757305" y="1450747"/>
                  <a:pt x="3740911" y="1434405"/>
                  <a:pt x="3740911" y="1414095"/>
                </a:cubicBezTo>
                <a:close/>
                <a:moveTo>
                  <a:pt x="3725247" y="841442"/>
                </a:moveTo>
                <a:cubicBezTo>
                  <a:pt x="3725247" y="821066"/>
                  <a:pt x="3741589" y="804907"/>
                  <a:pt x="3761900" y="804907"/>
                </a:cubicBezTo>
                <a:cubicBezTo>
                  <a:pt x="3782210" y="804907"/>
                  <a:pt x="3798552" y="821067"/>
                  <a:pt x="3798552" y="841443"/>
                </a:cubicBezTo>
                <a:lnTo>
                  <a:pt x="3794725" y="850742"/>
                </a:lnTo>
                <a:lnTo>
                  <a:pt x="3937162" y="929147"/>
                </a:lnTo>
                <a:lnTo>
                  <a:pt x="3938607" y="925652"/>
                </a:lnTo>
                <a:cubicBezTo>
                  <a:pt x="3945231" y="919066"/>
                  <a:pt x="3954394" y="915025"/>
                  <a:pt x="3964550" y="915026"/>
                </a:cubicBezTo>
                <a:cubicBezTo>
                  <a:pt x="3984860" y="915026"/>
                  <a:pt x="4001202" y="931185"/>
                  <a:pt x="4001202" y="951561"/>
                </a:cubicBezTo>
                <a:cubicBezTo>
                  <a:pt x="4001202" y="971937"/>
                  <a:pt x="3984860" y="988331"/>
                  <a:pt x="3964549" y="988330"/>
                </a:cubicBezTo>
                <a:lnTo>
                  <a:pt x="3955882" y="984740"/>
                </a:lnTo>
                <a:lnTo>
                  <a:pt x="3819409" y="1059172"/>
                </a:lnTo>
                <a:lnTo>
                  <a:pt x="3821954" y="1065329"/>
                </a:lnTo>
                <a:cubicBezTo>
                  <a:pt x="3821954" y="1085704"/>
                  <a:pt x="3805612" y="1102098"/>
                  <a:pt x="3785302" y="1102098"/>
                </a:cubicBezTo>
                <a:cubicBezTo>
                  <a:pt x="3764991" y="1102098"/>
                  <a:pt x="3748650" y="1085704"/>
                  <a:pt x="3748650" y="1065328"/>
                </a:cubicBezTo>
                <a:cubicBezTo>
                  <a:pt x="3748650" y="1044953"/>
                  <a:pt x="3764991" y="1028793"/>
                  <a:pt x="3785302" y="1028793"/>
                </a:cubicBezTo>
                <a:cubicBezTo>
                  <a:pt x="3795457" y="1028793"/>
                  <a:pt x="3804620" y="1032833"/>
                  <a:pt x="3811244" y="1039420"/>
                </a:cubicBezTo>
                <a:lnTo>
                  <a:pt x="3812238" y="1041823"/>
                </a:lnTo>
                <a:lnTo>
                  <a:pt x="3937051" y="973807"/>
                </a:lnTo>
                <a:lnTo>
                  <a:pt x="3927897" y="951560"/>
                </a:lnTo>
                <a:lnTo>
                  <a:pt x="3930007" y="946457"/>
                </a:lnTo>
                <a:lnTo>
                  <a:pt x="3787016" y="867811"/>
                </a:lnTo>
                <a:lnTo>
                  <a:pt x="3774828" y="872857"/>
                </a:lnTo>
                <a:lnTo>
                  <a:pt x="3792710" y="1018137"/>
                </a:lnTo>
                <a:cubicBezTo>
                  <a:pt x="3793184" y="1021888"/>
                  <a:pt x="3790341" y="1025640"/>
                  <a:pt x="3786313" y="1026343"/>
                </a:cubicBezTo>
                <a:cubicBezTo>
                  <a:pt x="3782048" y="1026578"/>
                  <a:pt x="3778257" y="1023764"/>
                  <a:pt x="3778020" y="1019543"/>
                </a:cubicBezTo>
                <a:lnTo>
                  <a:pt x="3760503" y="877633"/>
                </a:lnTo>
                <a:lnTo>
                  <a:pt x="3735957" y="867468"/>
                </a:lnTo>
                <a:cubicBezTo>
                  <a:pt x="3729333" y="860823"/>
                  <a:pt x="3725247" y="851630"/>
                  <a:pt x="3725247" y="841442"/>
                </a:cubicBezTo>
                <a:close/>
                <a:moveTo>
                  <a:pt x="3643241" y="476727"/>
                </a:moveTo>
                <a:cubicBezTo>
                  <a:pt x="3661133" y="442784"/>
                  <a:pt x="3703269" y="429603"/>
                  <a:pt x="3737224" y="447502"/>
                </a:cubicBezTo>
                <a:cubicBezTo>
                  <a:pt x="3745662" y="451949"/>
                  <a:pt x="3752785" y="457916"/>
                  <a:pt x="3758445" y="464895"/>
                </a:cubicBezTo>
                <a:lnTo>
                  <a:pt x="3766474" y="480042"/>
                </a:lnTo>
                <a:lnTo>
                  <a:pt x="3860860" y="467398"/>
                </a:lnTo>
                <a:lnTo>
                  <a:pt x="3861696" y="453697"/>
                </a:lnTo>
                <a:cubicBezTo>
                  <a:pt x="3869455" y="436958"/>
                  <a:pt x="3888999" y="430170"/>
                  <a:pt x="3905155" y="437885"/>
                </a:cubicBezTo>
                <a:cubicBezTo>
                  <a:pt x="3921729" y="445820"/>
                  <a:pt x="3928447" y="465383"/>
                  <a:pt x="3920700" y="481594"/>
                </a:cubicBezTo>
                <a:cubicBezTo>
                  <a:pt x="3912942" y="498333"/>
                  <a:pt x="3893398" y="505121"/>
                  <a:pt x="3877143" y="497088"/>
                </a:cubicBezTo>
                <a:lnTo>
                  <a:pt x="3862395" y="480957"/>
                </a:lnTo>
                <a:lnTo>
                  <a:pt x="3770393" y="493480"/>
                </a:lnTo>
                <a:lnTo>
                  <a:pt x="3765813" y="541336"/>
                </a:lnTo>
                <a:lnTo>
                  <a:pt x="3764376" y="543106"/>
                </a:lnTo>
                <a:lnTo>
                  <a:pt x="3850271" y="622127"/>
                </a:lnTo>
                <a:lnTo>
                  <a:pt x="3863543" y="611080"/>
                </a:lnTo>
                <a:cubicBezTo>
                  <a:pt x="3876820" y="606969"/>
                  <a:pt x="3891673" y="607945"/>
                  <a:pt x="3905000" y="614969"/>
                </a:cubicBezTo>
                <a:cubicBezTo>
                  <a:pt x="3931238" y="628800"/>
                  <a:pt x="3941590" y="661665"/>
                  <a:pt x="3927540" y="688320"/>
                </a:cubicBezTo>
                <a:cubicBezTo>
                  <a:pt x="3913599" y="714767"/>
                  <a:pt x="3880636" y="724800"/>
                  <a:pt x="3854398" y="710969"/>
                </a:cubicBezTo>
                <a:cubicBezTo>
                  <a:pt x="3827743" y="696919"/>
                  <a:pt x="3817600" y="664165"/>
                  <a:pt x="3831540" y="637717"/>
                </a:cubicBezTo>
                <a:lnTo>
                  <a:pt x="3834313" y="635409"/>
                </a:lnTo>
                <a:lnTo>
                  <a:pt x="3751400" y="559092"/>
                </a:lnTo>
                <a:lnTo>
                  <a:pt x="3748327" y="562878"/>
                </a:lnTo>
                <a:cubicBezTo>
                  <a:pt x="3727358" y="580191"/>
                  <a:pt x="3697445" y="584330"/>
                  <a:pt x="3672133" y="570988"/>
                </a:cubicBezTo>
                <a:cubicBezTo>
                  <a:pt x="3638178" y="553090"/>
                  <a:pt x="3625239" y="510879"/>
                  <a:pt x="3643241" y="476727"/>
                </a:cubicBezTo>
                <a:close/>
                <a:moveTo>
                  <a:pt x="3501099" y="1485512"/>
                </a:moveTo>
                <a:cubicBezTo>
                  <a:pt x="3501099" y="1465136"/>
                  <a:pt x="3517441" y="1448976"/>
                  <a:pt x="3537751" y="1448977"/>
                </a:cubicBezTo>
                <a:cubicBezTo>
                  <a:pt x="3558062" y="1448976"/>
                  <a:pt x="3574404" y="1465136"/>
                  <a:pt x="3574404" y="1485512"/>
                </a:cubicBezTo>
                <a:lnTo>
                  <a:pt x="3570577" y="1494812"/>
                </a:lnTo>
                <a:lnTo>
                  <a:pt x="3713014" y="1573217"/>
                </a:lnTo>
                <a:lnTo>
                  <a:pt x="3714459" y="1569722"/>
                </a:lnTo>
                <a:cubicBezTo>
                  <a:pt x="3721083" y="1563135"/>
                  <a:pt x="3730246" y="1559095"/>
                  <a:pt x="3740401" y="1559095"/>
                </a:cubicBezTo>
                <a:cubicBezTo>
                  <a:pt x="3760712" y="1559095"/>
                  <a:pt x="3777054" y="1575255"/>
                  <a:pt x="3777054" y="1595630"/>
                </a:cubicBezTo>
                <a:cubicBezTo>
                  <a:pt x="3777054" y="1616005"/>
                  <a:pt x="3760712" y="1632399"/>
                  <a:pt x="3740401" y="1632400"/>
                </a:cubicBezTo>
                <a:lnTo>
                  <a:pt x="3731733" y="1628810"/>
                </a:lnTo>
                <a:lnTo>
                  <a:pt x="3595261" y="1703240"/>
                </a:lnTo>
                <a:lnTo>
                  <a:pt x="3597806" y="1709398"/>
                </a:lnTo>
                <a:cubicBezTo>
                  <a:pt x="3597806" y="1729773"/>
                  <a:pt x="3581464" y="1746167"/>
                  <a:pt x="3561154" y="1746168"/>
                </a:cubicBezTo>
                <a:cubicBezTo>
                  <a:pt x="3540843" y="1746167"/>
                  <a:pt x="3524501" y="1729773"/>
                  <a:pt x="3524501" y="1709398"/>
                </a:cubicBezTo>
                <a:cubicBezTo>
                  <a:pt x="3524501" y="1689022"/>
                  <a:pt x="3540843" y="1672863"/>
                  <a:pt x="3561154" y="1672863"/>
                </a:cubicBezTo>
                <a:cubicBezTo>
                  <a:pt x="3571309" y="1672862"/>
                  <a:pt x="3580472" y="1676903"/>
                  <a:pt x="3587096" y="1683489"/>
                </a:cubicBezTo>
                <a:lnTo>
                  <a:pt x="3588090" y="1685893"/>
                </a:lnTo>
                <a:lnTo>
                  <a:pt x="3712903" y="1617876"/>
                </a:lnTo>
                <a:lnTo>
                  <a:pt x="3703749" y="1595630"/>
                </a:lnTo>
                <a:lnTo>
                  <a:pt x="3705858" y="1590528"/>
                </a:lnTo>
                <a:lnTo>
                  <a:pt x="3562867" y="1511880"/>
                </a:lnTo>
                <a:lnTo>
                  <a:pt x="3550680" y="1516927"/>
                </a:lnTo>
                <a:lnTo>
                  <a:pt x="3568562" y="1662206"/>
                </a:lnTo>
                <a:cubicBezTo>
                  <a:pt x="3569036" y="1665958"/>
                  <a:pt x="3566193" y="1669710"/>
                  <a:pt x="3562165" y="1670413"/>
                </a:cubicBezTo>
                <a:cubicBezTo>
                  <a:pt x="3557900" y="1670647"/>
                  <a:pt x="3554109" y="1667833"/>
                  <a:pt x="3553872" y="1663613"/>
                </a:cubicBezTo>
                <a:lnTo>
                  <a:pt x="3536354" y="1521703"/>
                </a:lnTo>
                <a:lnTo>
                  <a:pt x="3511809" y="1511537"/>
                </a:lnTo>
                <a:cubicBezTo>
                  <a:pt x="3505185" y="1504892"/>
                  <a:pt x="3501099" y="1495699"/>
                  <a:pt x="3501099" y="1485512"/>
                </a:cubicBezTo>
                <a:close/>
                <a:moveTo>
                  <a:pt x="3419093" y="1120797"/>
                </a:moveTo>
                <a:cubicBezTo>
                  <a:pt x="3436985" y="1086853"/>
                  <a:pt x="3479121" y="1073673"/>
                  <a:pt x="3513076" y="1091571"/>
                </a:cubicBezTo>
                <a:cubicBezTo>
                  <a:pt x="3521513" y="1096019"/>
                  <a:pt x="3528637" y="1101986"/>
                  <a:pt x="3534297" y="1108964"/>
                </a:cubicBezTo>
                <a:lnTo>
                  <a:pt x="3542326" y="1124112"/>
                </a:lnTo>
                <a:lnTo>
                  <a:pt x="3636711" y="1111467"/>
                </a:lnTo>
                <a:lnTo>
                  <a:pt x="3637548" y="1097766"/>
                </a:lnTo>
                <a:cubicBezTo>
                  <a:pt x="3645306" y="1081027"/>
                  <a:pt x="3664851" y="1074239"/>
                  <a:pt x="3681007" y="1081954"/>
                </a:cubicBezTo>
                <a:cubicBezTo>
                  <a:pt x="3697580" y="1089890"/>
                  <a:pt x="3704299" y="1109453"/>
                  <a:pt x="3696552" y="1125664"/>
                </a:cubicBezTo>
                <a:cubicBezTo>
                  <a:pt x="3688793" y="1142402"/>
                  <a:pt x="3669249" y="1149191"/>
                  <a:pt x="3652994" y="1141157"/>
                </a:cubicBezTo>
                <a:lnTo>
                  <a:pt x="3638247" y="1125026"/>
                </a:lnTo>
                <a:lnTo>
                  <a:pt x="3546245" y="1137549"/>
                </a:lnTo>
                <a:lnTo>
                  <a:pt x="3541664" y="1185405"/>
                </a:lnTo>
                <a:lnTo>
                  <a:pt x="3540228" y="1187175"/>
                </a:lnTo>
                <a:lnTo>
                  <a:pt x="3626123" y="1266196"/>
                </a:lnTo>
                <a:lnTo>
                  <a:pt x="3639395" y="1255149"/>
                </a:lnTo>
                <a:cubicBezTo>
                  <a:pt x="3652672" y="1251038"/>
                  <a:pt x="3667524" y="1252014"/>
                  <a:pt x="3680852" y="1259039"/>
                </a:cubicBezTo>
                <a:cubicBezTo>
                  <a:pt x="3707090" y="1272870"/>
                  <a:pt x="3717442" y="1305735"/>
                  <a:pt x="3703391" y="1332389"/>
                </a:cubicBezTo>
                <a:cubicBezTo>
                  <a:pt x="3689451" y="1358836"/>
                  <a:pt x="3656488" y="1368869"/>
                  <a:pt x="3630250" y="1355039"/>
                </a:cubicBezTo>
                <a:cubicBezTo>
                  <a:pt x="3603595" y="1340989"/>
                  <a:pt x="3593452" y="1308234"/>
                  <a:pt x="3607392" y="1281787"/>
                </a:cubicBezTo>
                <a:lnTo>
                  <a:pt x="3610165" y="1279479"/>
                </a:lnTo>
                <a:lnTo>
                  <a:pt x="3527251" y="1203162"/>
                </a:lnTo>
                <a:lnTo>
                  <a:pt x="3524178" y="1206948"/>
                </a:lnTo>
                <a:cubicBezTo>
                  <a:pt x="3503210" y="1224259"/>
                  <a:pt x="3473296" y="1228400"/>
                  <a:pt x="3447985" y="1215058"/>
                </a:cubicBezTo>
                <a:cubicBezTo>
                  <a:pt x="3414029" y="1197160"/>
                  <a:pt x="3401091" y="1154949"/>
                  <a:pt x="3419093" y="1120797"/>
                </a:cubicBezTo>
                <a:close/>
                <a:moveTo>
                  <a:pt x="3279467" y="495377"/>
                </a:moveTo>
                <a:cubicBezTo>
                  <a:pt x="3278162" y="475043"/>
                  <a:pt x="3293420" y="457636"/>
                  <a:pt x="3313689" y="456335"/>
                </a:cubicBezTo>
                <a:lnTo>
                  <a:pt x="3322569" y="459362"/>
                </a:lnTo>
                <a:lnTo>
                  <a:pt x="3453994" y="376346"/>
                </a:lnTo>
                <a:lnTo>
                  <a:pt x="3451060" y="370365"/>
                </a:lnTo>
                <a:cubicBezTo>
                  <a:pt x="3449756" y="350031"/>
                  <a:pt x="3465014" y="332624"/>
                  <a:pt x="3485283" y="331323"/>
                </a:cubicBezTo>
                <a:cubicBezTo>
                  <a:pt x="3505552" y="330023"/>
                  <a:pt x="3522910" y="345337"/>
                  <a:pt x="3524215" y="365671"/>
                </a:cubicBezTo>
                <a:cubicBezTo>
                  <a:pt x="3525519" y="386004"/>
                  <a:pt x="3510246" y="403178"/>
                  <a:pt x="3489977" y="404478"/>
                </a:cubicBezTo>
                <a:cubicBezTo>
                  <a:pt x="3479843" y="405128"/>
                  <a:pt x="3470440" y="401683"/>
                  <a:pt x="3463407" y="395534"/>
                </a:cubicBezTo>
                <a:lnTo>
                  <a:pt x="3462262" y="393199"/>
                </a:lnTo>
                <a:lnTo>
                  <a:pt x="3342060" y="469069"/>
                </a:lnTo>
                <a:lnTo>
                  <a:pt x="3352621" y="490683"/>
                </a:lnTo>
                <a:lnTo>
                  <a:pt x="3350843" y="495910"/>
                </a:lnTo>
                <a:lnTo>
                  <a:pt x="3498577" y="565240"/>
                </a:lnTo>
                <a:lnTo>
                  <a:pt x="3510415" y="559423"/>
                </a:lnTo>
                <a:lnTo>
                  <a:pt x="3483266" y="415586"/>
                </a:lnTo>
                <a:cubicBezTo>
                  <a:pt x="3482553" y="411873"/>
                  <a:pt x="3485151" y="407946"/>
                  <a:pt x="3489125" y="406986"/>
                </a:cubicBezTo>
                <a:cubicBezTo>
                  <a:pt x="3493366" y="406479"/>
                  <a:pt x="3497330" y="409045"/>
                  <a:pt x="3497837" y="413241"/>
                </a:cubicBezTo>
                <a:lnTo>
                  <a:pt x="3524405" y="553739"/>
                </a:lnTo>
                <a:lnTo>
                  <a:pt x="3549552" y="562312"/>
                </a:lnTo>
                <a:cubicBezTo>
                  <a:pt x="3556588" y="568520"/>
                  <a:pt x="3561254" y="577432"/>
                  <a:pt x="3561907" y="587599"/>
                </a:cubicBezTo>
                <a:cubicBezTo>
                  <a:pt x="3563211" y="607932"/>
                  <a:pt x="3547938" y="625105"/>
                  <a:pt x="3527669" y="626406"/>
                </a:cubicBezTo>
                <a:cubicBezTo>
                  <a:pt x="3507400" y="627706"/>
                  <a:pt x="3490057" y="612626"/>
                  <a:pt x="3488752" y="592293"/>
                </a:cubicBezTo>
                <a:lnTo>
                  <a:pt x="3491976" y="582766"/>
                </a:lnTo>
                <a:lnTo>
                  <a:pt x="3344811" y="513642"/>
                </a:lnTo>
                <a:lnTo>
                  <a:pt x="3343592" y="517224"/>
                </a:lnTo>
                <a:cubicBezTo>
                  <a:pt x="3337403" y="524221"/>
                  <a:pt x="3328518" y="528840"/>
                  <a:pt x="3318383" y="529490"/>
                </a:cubicBezTo>
                <a:cubicBezTo>
                  <a:pt x="3298115" y="530790"/>
                  <a:pt x="3280771" y="515710"/>
                  <a:pt x="3279467" y="495377"/>
                </a:cubicBezTo>
                <a:close/>
                <a:moveTo>
                  <a:pt x="3191102" y="701781"/>
                </a:moveTo>
                <a:cubicBezTo>
                  <a:pt x="3191102" y="671885"/>
                  <a:pt x="3215581" y="647639"/>
                  <a:pt x="3245241" y="647639"/>
                </a:cubicBezTo>
                <a:cubicBezTo>
                  <a:pt x="3275372" y="647639"/>
                  <a:pt x="3299619" y="671885"/>
                  <a:pt x="3299619" y="701781"/>
                </a:cubicBezTo>
                <a:lnTo>
                  <a:pt x="3298242" y="705116"/>
                </a:lnTo>
                <a:lnTo>
                  <a:pt x="3424496" y="738552"/>
                </a:lnTo>
                <a:lnTo>
                  <a:pt x="3432968" y="717835"/>
                </a:lnTo>
                <a:cubicBezTo>
                  <a:pt x="3445460" y="705183"/>
                  <a:pt x="3462721" y="697356"/>
                  <a:pt x="3481796" y="697356"/>
                </a:cubicBezTo>
                <a:cubicBezTo>
                  <a:pt x="3500988" y="697356"/>
                  <a:pt x="3518366" y="705183"/>
                  <a:pt x="3530946" y="717836"/>
                </a:cubicBezTo>
                <a:lnTo>
                  <a:pt x="3540597" y="732231"/>
                </a:lnTo>
                <a:lnTo>
                  <a:pt x="3652645" y="679287"/>
                </a:lnTo>
                <a:lnTo>
                  <a:pt x="3649999" y="668888"/>
                </a:lnTo>
                <a:cubicBezTo>
                  <a:pt x="3652367" y="653080"/>
                  <a:pt x="3666816" y="642462"/>
                  <a:pt x="3682211" y="644587"/>
                </a:cubicBezTo>
                <a:cubicBezTo>
                  <a:pt x="3697844" y="646946"/>
                  <a:pt x="3708739" y="661338"/>
                  <a:pt x="3706371" y="676675"/>
                </a:cubicBezTo>
                <a:cubicBezTo>
                  <a:pt x="3704239" y="692482"/>
                  <a:pt x="3689791" y="703335"/>
                  <a:pt x="3674158" y="701212"/>
                </a:cubicBezTo>
                <a:lnTo>
                  <a:pt x="3658223" y="691833"/>
                </a:lnTo>
                <a:lnTo>
                  <a:pt x="3546723" y="744430"/>
                </a:lnTo>
                <a:lnTo>
                  <a:pt x="3551309" y="767270"/>
                </a:lnTo>
                <a:cubicBezTo>
                  <a:pt x="3551309" y="796047"/>
                  <a:pt x="3533799" y="820853"/>
                  <a:pt x="3508850" y="831456"/>
                </a:cubicBezTo>
                <a:lnTo>
                  <a:pt x="3504316" y="832377"/>
                </a:lnTo>
                <a:lnTo>
                  <a:pt x="3518645" y="948792"/>
                </a:lnTo>
                <a:lnTo>
                  <a:pt x="3542671" y="958633"/>
                </a:lnTo>
                <a:cubicBezTo>
                  <a:pt x="3549295" y="965220"/>
                  <a:pt x="3553380" y="974354"/>
                  <a:pt x="3553380" y="984542"/>
                </a:cubicBezTo>
                <a:cubicBezTo>
                  <a:pt x="3553380" y="1004918"/>
                  <a:pt x="3537039" y="1021312"/>
                  <a:pt x="3516728" y="1021311"/>
                </a:cubicBezTo>
                <a:cubicBezTo>
                  <a:pt x="3496418" y="1021311"/>
                  <a:pt x="3480076" y="1004917"/>
                  <a:pt x="3480076" y="984541"/>
                </a:cubicBezTo>
                <a:cubicBezTo>
                  <a:pt x="3480076" y="974354"/>
                  <a:pt x="3484161" y="965219"/>
                  <a:pt x="3490785" y="958633"/>
                </a:cubicBezTo>
                <a:lnTo>
                  <a:pt x="3504306" y="953095"/>
                </a:lnTo>
                <a:lnTo>
                  <a:pt x="3489769" y="835329"/>
                </a:lnTo>
                <a:lnTo>
                  <a:pt x="3481796" y="836947"/>
                </a:lnTo>
                <a:cubicBezTo>
                  <a:pt x="3462721" y="836948"/>
                  <a:pt x="3445460" y="829120"/>
                  <a:pt x="3432968" y="816497"/>
                </a:cubicBezTo>
                <a:lnTo>
                  <a:pt x="3429715" y="811627"/>
                </a:lnTo>
                <a:lnTo>
                  <a:pt x="3353102" y="866123"/>
                </a:lnTo>
                <a:lnTo>
                  <a:pt x="3358751" y="878632"/>
                </a:lnTo>
                <a:cubicBezTo>
                  <a:pt x="3359692" y="897059"/>
                  <a:pt x="3345568" y="912176"/>
                  <a:pt x="3327678" y="912885"/>
                </a:cubicBezTo>
                <a:cubicBezTo>
                  <a:pt x="3309317" y="913594"/>
                  <a:pt x="3294251" y="899420"/>
                  <a:pt x="3293545" y="881467"/>
                </a:cubicBezTo>
                <a:cubicBezTo>
                  <a:pt x="3292604" y="863041"/>
                  <a:pt x="3306728" y="847924"/>
                  <a:pt x="3324853" y="847451"/>
                </a:cubicBezTo>
                <a:lnTo>
                  <a:pt x="3345421" y="854844"/>
                </a:lnTo>
                <a:lnTo>
                  <a:pt x="3422025" y="800110"/>
                </a:lnTo>
                <a:lnTo>
                  <a:pt x="3418175" y="794344"/>
                </a:lnTo>
                <a:cubicBezTo>
                  <a:pt x="3414683" y="786013"/>
                  <a:pt x="3412752" y="776862"/>
                  <a:pt x="3412752" y="767270"/>
                </a:cubicBezTo>
                <a:lnTo>
                  <a:pt x="3416653" y="757731"/>
                </a:lnTo>
                <a:lnTo>
                  <a:pt x="3290319" y="724308"/>
                </a:lnTo>
                <a:lnTo>
                  <a:pt x="3283729" y="740269"/>
                </a:lnTo>
                <a:cubicBezTo>
                  <a:pt x="3273901" y="750097"/>
                  <a:pt x="3260307" y="756159"/>
                  <a:pt x="3245241" y="756158"/>
                </a:cubicBezTo>
                <a:cubicBezTo>
                  <a:pt x="3215581" y="756158"/>
                  <a:pt x="3191102" y="731913"/>
                  <a:pt x="3191102" y="701781"/>
                </a:cubicBezTo>
                <a:close/>
                <a:moveTo>
                  <a:pt x="3055318" y="1139446"/>
                </a:moveTo>
                <a:cubicBezTo>
                  <a:pt x="3054015" y="1119112"/>
                  <a:pt x="3069272" y="1101706"/>
                  <a:pt x="3089541" y="1100405"/>
                </a:cubicBezTo>
                <a:lnTo>
                  <a:pt x="3098421" y="1103432"/>
                </a:lnTo>
                <a:lnTo>
                  <a:pt x="3229847" y="1020416"/>
                </a:lnTo>
                <a:lnTo>
                  <a:pt x="3226912" y="1014434"/>
                </a:lnTo>
                <a:cubicBezTo>
                  <a:pt x="3225607" y="994100"/>
                  <a:pt x="3240866" y="976693"/>
                  <a:pt x="3261135" y="975393"/>
                </a:cubicBezTo>
                <a:cubicBezTo>
                  <a:pt x="3281403" y="974092"/>
                  <a:pt x="3298761" y="989407"/>
                  <a:pt x="3300066" y="1009740"/>
                </a:cubicBezTo>
                <a:cubicBezTo>
                  <a:pt x="3301371" y="1030074"/>
                  <a:pt x="3286098" y="1047247"/>
                  <a:pt x="3265829" y="1048547"/>
                </a:cubicBezTo>
                <a:cubicBezTo>
                  <a:pt x="3255694" y="1049197"/>
                  <a:pt x="3246291" y="1045752"/>
                  <a:pt x="3239259" y="1039604"/>
                </a:cubicBezTo>
                <a:lnTo>
                  <a:pt x="3238113" y="1037268"/>
                </a:lnTo>
                <a:lnTo>
                  <a:pt x="3117912" y="1113138"/>
                </a:lnTo>
                <a:lnTo>
                  <a:pt x="3128473" y="1134752"/>
                </a:lnTo>
                <a:lnTo>
                  <a:pt x="3126695" y="1139979"/>
                </a:lnTo>
                <a:lnTo>
                  <a:pt x="3274429" y="1209308"/>
                </a:lnTo>
                <a:lnTo>
                  <a:pt x="3286267" y="1203492"/>
                </a:lnTo>
                <a:lnTo>
                  <a:pt x="3259118" y="1059655"/>
                </a:lnTo>
                <a:cubicBezTo>
                  <a:pt x="3258405" y="1055942"/>
                  <a:pt x="3261002" y="1052015"/>
                  <a:pt x="3264977" y="1051056"/>
                </a:cubicBezTo>
                <a:cubicBezTo>
                  <a:pt x="3269218" y="1050549"/>
                  <a:pt x="3273182" y="1053114"/>
                  <a:pt x="3273689" y="1057311"/>
                </a:cubicBezTo>
                <a:lnTo>
                  <a:pt x="3300257" y="1197808"/>
                </a:lnTo>
                <a:lnTo>
                  <a:pt x="3325404" y="1206381"/>
                </a:lnTo>
                <a:cubicBezTo>
                  <a:pt x="3332440" y="1212589"/>
                  <a:pt x="3337106" y="1221501"/>
                  <a:pt x="3337758" y="1231667"/>
                </a:cubicBezTo>
                <a:cubicBezTo>
                  <a:pt x="3339063" y="1252001"/>
                  <a:pt x="3323790" y="1269174"/>
                  <a:pt x="3303521" y="1270475"/>
                </a:cubicBezTo>
                <a:cubicBezTo>
                  <a:pt x="3283252" y="1271775"/>
                  <a:pt x="3265909" y="1256696"/>
                  <a:pt x="3264604" y="1236362"/>
                </a:cubicBezTo>
                <a:lnTo>
                  <a:pt x="3267828" y="1226836"/>
                </a:lnTo>
                <a:lnTo>
                  <a:pt x="3120662" y="1157712"/>
                </a:lnTo>
                <a:lnTo>
                  <a:pt x="3119444" y="1161293"/>
                </a:lnTo>
                <a:cubicBezTo>
                  <a:pt x="3113255" y="1168290"/>
                  <a:pt x="3104370" y="1172909"/>
                  <a:pt x="3094235" y="1173559"/>
                </a:cubicBezTo>
                <a:cubicBezTo>
                  <a:pt x="3073967" y="1174860"/>
                  <a:pt x="3056625" y="1159780"/>
                  <a:pt x="3055318" y="1139446"/>
                </a:cubicBezTo>
                <a:close/>
                <a:moveTo>
                  <a:pt x="2966952" y="1345851"/>
                </a:moveTo>
                <a:cubicBezTo>
                  <a:pt x="2966953" y="1315955"/>
                  <a:pt x="2991434" y="1291709"/>
                  <a:pt x="3021094" y="1291709"/>
                </a:cubicBezTo>
                <a:cubicBezTo>
                  <a:pt x="3051226" y="1291709"/>
                  <a:pt x="3075470" y="1315955"/>
                  <a:pt x="3075470" y="1345851"/>
                </a:cubicBezTo>
                <a:lnTo>
                  <a:pt x="3074094" y="1349185"/>
                </a:lnTo>
                <a:lnTo>
                  <a:pt x="3200347" y="1382622"/>
                </a:lnTo>
                <a:lnTo>
                  <a:pt x="3208819" y="1361905"/>
                </a:lnTo>
                <a:cubicBezTo>
                  <a:pt x="3221312" y="1349253"/>
                  <a:pt x="3238573" y="1341425"/>
                  <a:pt x="3257648" y="1341425"/>
                </a:cubicBezTo>
                <a:cubicBezTo>
                  <a:pt x="3276840" y="1341425"/>
                  <a:pt x="3294218" y="1349252"/>
                  <a:pt x="3306798" y="1361905"/>
                </a:cubicBezTo>
                <a:lnTo>
                  <a:pt x="3316449" y="1376301"/>
                </a:lnTo>
                <a:lnTo>
                  <a:pt x="3428496" y="1323357"/>
                </a:lnTo>
                <a:lnTo>
                  <a:pt x="3425850" y="1312958"/>
                </a:lnTo>
                <a:cubicBezTo>
                  <a:pt x="3428219" y="1297149"/>
                  <a:pt x="3442667" y="1286532"/>
                  <a:pt x="3458063" y="1288655"/>
                </a:cubicBezTo>
                <a:cubicBezTo>
                  <a:pt x="3473696" y="1291015"/>
                  <a:pt x="3484591" y="1305407"/>
                  <a:pt x="3482222" y="1320743"/>
                </a:cubicBezTo>
                <a:cubicBezTo>
                  <a:pt x="3480091" y="1336552"/>
                  <a:pt x="3465642" y="1347405"/>
                  <a:pt x="3450010" y="1345282"/>
                </a:cubicBezTo>
                <a:lnTo>
                  <a:pt x="3434074" y="1335903"/>
                </a:lnTo>
                <a:lnTo>
                  <a:pt x="3322574" y="1388500"/>
                </a:lnTo>
                <a:lnTo>
                  <a:pt x="3327160" y="1411339"/>
                </a:lnTo>
                <a:cubicBezTo>
                  <a:pt x="3327160" y="1440117"/>
                  <a:pt x="3309651" y="1464921"/>
                  <a:pt x="3284702" y="1475526"/>
                </a:cubicBezTo>
                <a:lnTo>
                  <a:pt x="3280168" y="1476446"/>
                </a:lnTo>
                <a:lnTo>
                  <a:pt x="3294497" y="1592862"/>
                </a:lnTo>
                <a:lnTo>
                  <a:pt x="3318522" y="1602703"/>
                </a:lnTo>
                <a:cubicBezTo>
                  <a:pt x="3325147" y="1609289"/>
                  <a:pt x="3329232" y="1618423"/>
                  <a:pt x="3329232" y="1628611"/>
                </a:cubicBezTo>
                <a:cubicBezTo>
                  <a:pt x="3329232" y="1648987"/>
                  <a:pt x="3312890" y="1665381"/>
                  <a:pt x="3292580" y="1665381"/>
                </a:cubicBezTo>
                <a:cubicBezTo>
                  <a:pt x="3272269" y="1665381"/>
                  <a:pt x="3255927" y="1648986"/>
                  <a:pt x="3255928" y="1628611"/>
                </a:cubicBezTo>
                <a:cubicBezTo>
                  <a:pt x="3255928" y="1618424"/>
                  <a:pt x="3260013" y="1609290"/>
                  <a:pt x="3266637" y="1602703"/>
                </a:cubicBezTo>
                <a:lnTo>
                  <a:pt x="3280158" y="1597164"/>
                </a:lnTo>
                <a:lnTo>
                  <a:pt x="3265621" y="1479398"/>
                </a:lnTo>
                <a:lnTo>
                  <a:pt x="3257648" y="1481017"/>
                </a:lnTo>
                <a:cubicBezTo>
                  <a:pt x="3238573" y="1481017"/>
                  <a:pt x="3221312" y="1473190"/>
                  <a:pt x="3208819" y="1460567"/>
                </a:cubicBezTo>
                <a:lnTo>
                  <a:pt x="3205567" y="1455696"/>
                </a:lnTo>
                <a:lnTo>
                  <a:pt x="3128954" y="1510192"/>
                </a:lnTo>
                <a:lnTo>
                  <a:pt x="3134603" y="1522702"/>
                </a:lnTo>
                <a:cubicBezTo>
                  <a:pt x="3135544" y="1541127"/>
                  <a:pt x="3121420" y="1556246"/>
                  <a:pt x="3103530" y="1556955"/>
                </a:cubicBezTo>
                <a:cubicBezTo>
                  <a:pt x="3085169" y="1557663"/>
                  <a:pt x="3070103" y="1543490"/>
                  <a:pt x="3069397" y="1525536"/>
                </a:cubicBezTo>
                <a:cubicBezTo>
                  <a:pt x="3068455" y="1507111"/>
                  <a:pt x="3082579" y="1491993"/>
                  <a:pt x="3100705" y="1491520"/>
                </a:cubicBezTo>
                <a:lnTo>
                  <a:pt x="3121273" y="1498913"/>
                </a:lnTo>
                <a:lnTo>
                  <a:pt x="3197877" y="1444180"/>
                </a:lnTo>
                <a:lnTo>
                  <a:pt x="3194027" y="1438413"/>
                </a:lnTo>
                <a:cubicBezTo>
                  <a:pt x="3190534" y="1430082"/>
                  <a:pt x="3188604" y="1420931"/>
                  <a:pt x="3188604" y="1411339"/>
                </a:cubicBezTo>
                <a:lnTo>
                  <a:pt x="3192504" y="1401800"/>
                </a:lnTo>
                <a:lnTo>
                  <a:pt x="3066171" y="1368377"/>
                </a:lnTo>
                <a:lnTo>
                  <a:pt x="3059581" y="1384338"/>
                </a:lnTo>
                <a:cubicBezTo>
                  <a:pt x="3049755" y="1394166"/>
                  <a:pt x="3036159" y="1400228"/>
                  <a:pt x="3021095" y="1400228"/>
                </a:cubicBezTo>
                <a:cubicBezTo>
                  <a:pt x="2991433" y="1400228"/>
                  <a:pt x="2966952" y="1375982"/>
                  <a:pt x="2966952" y="1345851"/>
                </a:cubicBezTo>
                <a:close/>
                <a:moveTo>
                  <a:pt x="2888657" y="415518"/>
                </a:moveTo>
                <a:cubicBezTo>
                  <a:pt x="2900618" y="388119"/>
                  <a:pt x="2932754" y="375692"/>
                  <a:pt x="2959938" y="387559"/>
                </a:cubicBezTo>
                <a:cubicBezTo>
                  <a:pt x="2987550" y="399613"/>
                  <a:pt x="3000073" y="431535"/>
                  <a:pt x="2988110" y="458933"/>
                </a:cubicBezTo>
                <a:lnTo>
                  <a:pt x="2985514" y="461439"/>
                </a:lnTo>
                <a:lnTo>
                  <a:pt x="3073811" y="531461"/>
                </a:lnTo>
                <a:lnTo>
                  <a:pt x="3076596" y="527459"/>
                </a:lnTo>
                <a:cubicBezTo>
                  <a:pt x="3096237" y="508654"/>
                  <a:pt x="3125767" y="502329"/>
                  <a:pt x="3151989" y="513776"/>
                </a:cubicBezTo>
                <a:cubicBezTo>
                  <a:pt x="3187161" y="529131"/>
                  <a:pt x="3203165" y="570278"/>
                  <a:pt x="3187719" y="605660"/>
                </a:cubicBezTo>
                <a:cubicBezTo>
                  <a:pt x="3172369" y="640825"/>
                  <a:pt x="3131321" y="657066"/>
                  <a:pt x="3096142" y="641710"/>
                </a:cubicBezTo>
                <a:cubicBezTo>
                  <a:pt x="3087401" y="637894"/>
                  <a:pt x="3079859" y="632466"/>
                  <a:pt x="3073702" y="625921"/>
                </a:cubicBezTo>
                <a:lnTo>
                  <a:pt x="3064583" y="611405"/>
                </a:lnTo>
                <a:lnTo>
                  <a:pt x="2971379" y="630947"/>
                </a:lnTo>
                <a:lnTo>
                  <a:pt x="2971551" y="644671"/>
                </a:lnTo>
                <a:cubicBezTo>
                  <a:pt x="2965041" y="661934"/>
                  <a:pt x="2946050" y="670140"/>
                  <a:pt x="2929373" y="663633"/>
                </a:cubicBezTo>
                <a:cubicBezTo>
                  <a:pt x="2912261" y="656936"/>
                  <a:pt x="2904123" y="637918"/>
                  <a:pt x="2910655" y="621182"/>
                </a:cubicBezTo>
                <a:cubicBezTo>
                  <a:pt x="2917166" y="603919"/>
                  <a:pt x="2936160" y="595714"/>
                  <a:pt x="2952961" y="602533"/>
                </a:cubicBezTo>
                <a:lnTo>
                  <a:pt x="2968853" y="617538"/>
                </a:lnTo>
                <a:lnTo>
                  <a:pt x="3059688" y="598292"/>
                </a:lnTo>
                <a:lnTo>
                  <a:pt x="3060746" y="550228"/>
                </a:lnTo>
                <a:lnTo>
                  <a:pt x="3062047" y="548358"/>
                </a:lnTo>
                <a:lnTo>
                  <a:pt x="2970577" y="475859"/>
                </a:lnTo>
                <a:lnTo>
                  <a:pt x="2958153" y="487850"/>
                </a:lnTo>
                <a:cubicBezTo>
                  <a:pt x="2945214" y="492926"/>
                  <a:pt x="2930329" y="493042"/>
                  <a:pt x="2916521" y="487015"/>
                </a:cubicBezTo>
                <a:cubicBezTo>
                  <a:pt x="2889339" y="475149"/>
                  <a:pt x="2876603" y="443133"/>
                  <a:pt x="2888657" y="415518"/>
                </a:cubicBezTo>
                <a:close/>
                <a:moveTo>
                  <a:pt x="2735015" y="830448"/>
                </a:moveTo>
                <a:cubicBezTo>
                  <a:pt x="2734872" y="821066"/>
                  <a:pt x="2738325" y="811641"/>
                  <a:pt x="2745408" y="804363"/>
                </a:cubicBezTo>
                <a:cubicBezTo>
                  <a:pt x="2759572" y="789807"/>
                  <a:pt x="2782709" y="789529"/>
                  <a:pt x="2797310" y="803738"/>
                </a:cubicBezTo>
                <a:cubicBezTo>
                  <a:pt x="2804612" y="810843"/>
                  <a:pt x="2808307" y="820141"/>
                  <a:pt x="2808408" y="829482"/>
                </a:cubicBezTo>
                <a:lnTo>
                  <a:pt x="2802948" y="843036"/>
                </a:lnTo>
                <a:lnTo>
                  <a:pt x="2898780" y="915734"/>
                </a:lnTo>
                <a:lnTo>
                  <a:pt x="2901884" y="907906"/>
                </a:lnTo>
                <a:cubicBezTo>
                  <a:pt x="2915185" y="894235"/>
                  <a:pt x="2932834" y="887324"/>
                  <a:pt x="2950594" y="887175"/>
                </a:cubicBezTo>
                <a:lnTo>
                  <a:pt x="2956356" y="888242"/>
                </a:lnTo>
                <a:lnTo>
                  <a:pt x="2970732" y="795329"/>
                </a:lnTo>
                <a:lnTo>
                  <a:pt x="2957824" y="790653"/>
                </a:lnTo>
                <a:cubicBezTo>
                  <a:pt x="2950891" y="784565"/>
                  <a:pt x="2947179" y="776354"/>
                  <a:pt x="2946698" y="768001"/>
                </a:cubicBezTo>
                <a:cubicBezTo>
                  <a:pt x="2946213" y="759648"/>
                  <a:pt x="2948960" y="751153"/>
                  <a:pt x="2954944" y="744495"/>
                </a:cubicBezTo>
                <a:cubicBezTo>
                  <a:pt x="2967245" y="730843"/>
                  <a:pt x="2987913" y="729931"/>
                  <a:pt x="3001273" y="741946"/>
                </a:cubicBezTo>
                <a:cubicBezTo>
                  <a:pt x="3015133" y="754121"/>
                  <a:pt x="3016115" y="774786"/>
                  <a:pt x="3003813" y="788106"/>
                </a:cubicBezTo>
                <a:lnTo>
                  <a:pt x="2984175" y="797690"/>
                </a:lnTo>
                <a:lnTo>
                  <a:pt x="2969971" y="890763"/>
                </a:lnTo>
                <a:lnTo>
                  <a:pt x="2976791" y="892025"/>
                </a:lnTo>
                <a:cubicBezTo>
                  <a:pt x="2985196" y="895332"/>
                  <a:pt x="2993101" y="900330"/>
                  <a:pt x="2999976" y="907021"/>
                </a:cubicBezTo>
                <a:lnTo>
                  <a:pt x="3005773" y="915457"/>
                </a:lnTo>
                <a:lnTo>
                  <a:pt x="3116148" y="849239"/>
                </a:lnTo>
                <a:lnTo>
                  <a:pt x="3109306" y="833385"/>
                </a:lnTo>
                <a:cubicBezTo>
                  <a:pt x="3109118" y="819487"/>
                  <a:pt x="3114252" y="805518"/>
                  <a:pt x="3124756" y="794720"/>
                </a:cubicBezTo>
                <a:cubicBezTo>
                  <a:pt x="3145439" y="773463"/>
                  <a:pt x="3179891" y="772828"/>
                  <a:pt x="3201481" y="793842"/>
                </a:cubicBezTo>
                <a:cubicBezTo>
                  <a:pt x="3222906" y="814692"/>
                  <a:pt x="3223209" y="849147"/>
                  <a:pt x="3202523" y="870404"/>
                </a:cubicBezTo>
                <a:cubicBezTo>
                  <a:pt x="3181513" y="891998"/>
                  <a:pt x="3147225" y="892464"/>
                  <a:pt x="3125801" y="871615"/>
                </a:cubicBezTo>
                <a:lnTo>
                  <a:pt x="3124371" y="868302"/>
                </a:lnTo>
                <a:lnTo>
                  <a:pt x="3016375" y="933059"/>
                </a:lnTo>
                <a:lnTo>
                  <a:pt x="3021303" y="955985"/>
                </a:lnTo>
                <a:cubicBezTo>
                  <a:pt x="3021657" y="973761"/>
                  <a:pt x="3015229" y="991590"/>
                  <a:pt x="3001925" y="1005261"/>
                </a:cubicBezTo>
                <a:cubicBezTo>
                  <a:pt x="2975157" y="1032769"/>
                  <a:pt x="2931007" y="1033242"/>
                  <a:pt x="2903340" y="1006319"/>
                </a:cubicBezTo>
                <a:cubicBezTo>
                  <a:pt x="2889591" y="992938"/>
                  <a:pt x="2882537" y="975213"/>
                  <a:pt x="2882263" y="957394"/>
                </a:cubicBezTo>
                <a:lnTo>
                  <a:pt x="2893118" y="930015"/>
                </a:lnTo>
                <a:lnTo>
                  <a:pt x="2796032" y="856313"/>
                </a:lnTo>
                <a:lnTo>
                  <a:pt x="2772222" y="866666"/>
                </a:lnTo>
                <a:cubicBezTo>
                  <a:pt x="2762893" y="866822"/>
                  <a:pt x="2753499" y="863379"/>
                  <a:pt x="2746197" y="856275"/>
                </a:cubicBezTo>
                <a:cubicBezTo>
                  <a:pt x="2738896" y="849170"/>
                  <a:pt x="2735158" y="839831"/>
                  <a:pt x="2735015" y="830448"/>
                </a:cubicBezTo>
                <a:close/>
                <a:moveTo>
                  <a:pt x="2664505" y="1059587"/>
                </a:moveTo>
                <a:cubicBezTo>
                  <a:pt x="2676465" y="1032188"/>
                  <a:pt x="2708602" y="1019761"/>
                  <a:pt x="2735786" y="1031628"/>
                </a:cubicBezTo>
                <a:cubicBezTo>
                  <a:pt x="2763398" y="1043682"/>
                  <a:pt x="2775920" y="1075603"/>
                  <a:pt x="2763958" y="1103002"/>
                </a:cubicBezTo>
                <a:lnTo>
                  <a:pt x="2761362" y="1105508"/>
                </a:lnTo>
                <a:lnTo>
                  <a:pt x="2849655" y="1175530"/>
                </a:lnTo>
                <a:lnTo>
                  <a:pt x="2852442" y="1171528"/>
                </a:lnTo>
                <a:cubicBezTo>
                  <a:pt x="2872083" y="1152723"/>
                  <a:pt x="2901609" y="1146397"/>
                  <a:pt x="2927835" y="1157845"/>
                </a:cubicBezTo>
                <a:cubicBezTo>
                  <a:pt x="2963014" y="1173201"/>
                  <a:pt x="2979015" y="1214348"/>
                  <a:pt x="2963571" y="1249729"/>
                </a:cubicBezTo>
                <a:cubicBezTo>
                  <a:pt x="2948220" y="1284895"/>
                  <a:pt x="2907167" y="1301135"/>
                  <a:pt x="2871987" y="1285778"/>
                </a:cubicBezTo>
                <a:cubicBezTo>
                  <a:pt x="2863246" y="1281962"/>
                  <a:pt x="2855703" y="1276534"/>
                  <a:pt x="2849546" y="1269990"/>
                </a:cubicBezTo>
                <a:lnTo>
                  <a:pt x="2840427" y="1255474"/>
                </a:lnTo>
                <a:lnTo>
                  <a:pt x="2747226" y="1275015"/>
                </a:lnTo>
                <a:lnTo>
                  <a:pt x="2747398" y="1288740"/>
                </a:lnTo>
                <a:cubicBezTo>
                  <a:pt x="2740889" y="1306004"/>
                  <a:pt x="2721897" y="1314209"/>
                  <a:pt x="2705220" y="1307701"/>
                </a:cubicBezTo>
                <a:cubicBezTo>
                  <a:pt x="2688109" y="1301005"/>
                  <a:pt x="2679972" y="1281988"/>
                  <a:pt x="2686507" y="1265252"/>
                </a:cubicBezTo>
                <a:cubicBezTo>
                  <a:pt x="2693016" y="1247988"/>
                  <a:pt x="2712009" y="1239783"/>
                  <a:pt x="2728807" y="1246601"/>
                </a:cubicBezTo>
                <a:lnTo>
                  <a:pt x="2744699" y="1261606"/>
                </a:lnTo>
                <a:lnTo>
                  <a:pt x="2835531" y="1242361"/>
                </a:lnTo>
                <a:lnTo>
                  <a:pt x="2836585" y="1194296"/>
                </a:lnTo>
                <a:lnTo>
                  <a:pt x="2837887" y="1192425"/>
                </a:lnTo>
                <a:lnTo>
                  <a:pt x="2746423" y="1119927"/>
                </a:lnTo>
                <a:lnTo>
                  <a:pt x="2734001" y="1131919"/>
                </a:lnTo>
                <a:cubicBezTo>
                  <a:pt x="2721062" y="1136995"/>
                  <a:pt x="2706178" y="1137112"/>
                  <a:pt x="2692370" y="1131084"/>
                </a:cubicBezTo>
                <a:cubicBezTo>
                  <a:pt x="2665187" y="1119217"/>
                  <a:pt x="2652450" y="1087202"/>
                  <a:pt x="2664505" y="1059587"/>
                </a:cubicBezTo>
                <a:close/>
                <a:moveTo>
                  <a:pt x="2510849" y="1474515"/>
                </a:moveTo>
                <a:cubicBezTo>
                  <a:pt x="2510707" y="1465134"/>
                  <a:pt x="2514160" y="1455709"/>
                  <a:pt x="2521242" y="1448431"/>
                </a:cubicBezTo>
                <a:cubicBezTo>
                  <a:pt x="2535407" y="1433875"/>
                  <a:pt x="2558554" y="1433597"/>
                  <a:pt x="2573156" y="1447807"/>
                </a:cubicBezTo>
                <a:cubicBezTo>
                  <a:pt x="2580457" y="1454912"/>
                  <a:pt x="2584153" y="1464210"/>
                  <a:pt x="2584255" y="1473552"/>
                </a:cubicBezTo>
                <a:lnTo>
                  <a:pt x="2578794" y="1487105"/>
                </a:lnTo>
                <a:lnTo>
                  <a:pt x="2674628" y="1559803"/>
                </a:lnTo>
                <a:lnTo>
                  <a:pt x="2677732" y="1551976"/>
                </a:lnTo>
                <a:cubicBezTo>
                  <a:pt x="2691035" y="1538305"/>
                  <a:pt x="2708680" y="1531393"/>
                  <a:pt x="2726439" y="1531244"/>
                </a:cubicBezTo>
                <a:lnTo>
                  <a:pt x="2732197" y="1532310"/>
                </a:lnTo>
                <a:lnTo>
                  <a:pt x="2746574" y="1439398"/>
                </a:lnTo>
                <a:lnTo>
                  <a:pt x="2733670" y="1434721"/>
                </a:lnTo>
                <a:cubicBezTo>
                  <a:pt x="2726738" y="1428633"/>
                  <a:pt x="2723027" y="1420423"/>
                  <a:pt x="2722544" y="1412070"/>
                </a:cubicBezTo>
                <a:cubicBezTo>
                  <a:pt x="2722061" y="1403717"/>
                  <a:pt x="2724807" y="1395222"/>
                  <a:pt x="2730793" y="1388564"/>
                </a:cubicBezTo>
                <a:cubicBezTo>
                  <a:pt x="2743090" y="1374911"/>
                  <a:pt x="2763754" y="1373999"/>
                  <a:pt x="2777114" y="1386014"/>
                </a:cubicBezTo>
                <a:cubicBezTo>
                  <a:pt x="2790974" y="1398189"/>
                  <a:pt x="2791959" y="1418855"/>
                  <a:pt x="2779656" y="1432175"/>
                </a:cubicBezTo>
                <a:lnTo>
                  <a:pt x="2760014" y="1441759"/>
                </a:lnTo>
                <a:lnTo>
                  <a:pt x="2745813" y="1534830"/>
                </a:lnTo>
                <a:lnTo>
                  <a:pt x="2752632" y="1536093"/>
                </a:lnTo>
                <a:cubicBezTo>
                  <a:pt x="2761038" y="1539400"/>
                  <a:pt x="2768943" y="1544398"/>
                  <a:pt x="2775818" y="1551088"/>
                </a:cubicBezTo>
                <a:lnTo>
                  <a:pt x="2781617" y="1559525"/>
                </a:lnTo>
                <a:lnTo>
                  <a:pt x="2891993" y="1493307"/>
                </a:lnTo>
                <a:lnTo>
                  <a:pt x="2885150" y="1477454"/>
                </a:lnTo>
                <a:cubicBezTo>
                  <a:pt x="2884962" y="1463556"/>
                  <a:pt x="2890099" y="1449586"/>
                  <a:pt x="2900607" y="1438789"/>
                </a:cubicBezTo>
                <a:cubicBezTo>
                  <a:pt x="2921293" y="1417533"/>
                  <a:pt x="2955742" y="1416898"/>
                  <a:pt x="2977335" y="1437911"/>
                </a:cubicBezTo>
                <a:cubicBezTo>
                  <a:pt x="2998762" y="1458762"/>
                  <a:pt x="2999062" y="1493216"/>
                  <a:pt x="2978376" y="1514473"/>
                </a:cubicBezTo>
                <a:cubicBezTo>
                  <a:pt x="2957363" y="1536067"/>
                  <a:pt x="2923077" y="1536534"/>
                  <a:pt x="2901652" y="1515684"/>
                </a:cubicBezTo>
                <a:lnTo>
                  <a:pt x="2900221" y="1512370"/>
                </a:lnTo>
                <a:lnTo>
                  <a:pt x="2792219" y="1577127"/>
                </a:lnTo>
                <a:lnTo>
                  <a:pt x="2797146" y="1600053"/>
                </a:lnTo>
                <a:cubicBezTo>
                  <a:pt x="2797501" y="1617829"/>
                  <a:pt x="2791072" y="1635658"/>
                  <a:pt x="2777770" y="1649329"/>
                </a:cubicBezTo>
                <a:cubicBezTo>
                  <a:pt x="2750999" y="1676837"/>
                  <a:pt x="2706852" y="1677311"/>
                  <a:pt x="2679188" y="1650387"/>
                </a:cubicBezTo>
                <a:cubicBezTo>
                  <a:pt x="2665439" y="1637007"/>
                  <a:pt x="2658383" y="1619281"/>
                  <a:pt x="2658109" y="1601462"/>
                </a:cubicBezTo>
                <a:lnTo>
                  <a:pt x="2668966" y="1574084"/>
                </a:lnTo>
                <a:lnTo>
                  <a:pt x="2571877" y="1500381"/>
                </a:lnTo>
                <a:lnTo>
                  <a:pt x="2548068" y="1510736"/>
                </a:lnTo>
                <a:cubicBezTo>
                  <a:pt x="2538728" y="1510889"/>
                  <a:pt x="2529333" y="1507447"/>
                  <a:pt x="2522032" y="1500342"/>
                </a:cubicBezTo>
                <a:cubicBezTo>
                  <a:pt x="2514731" y="1493237"/>
                  <a:pt x="2510992" y="1483898"/>
                  <a:pt x="2510849" y="1474515"/>
                </a:cubicBezTo>
                <a:close/>
                <a:moveTo>
                  <a:pt x="2498441" y="603623"/>
                </a:moveTo>
                <a:cubicBezTo>
                  <a:pt x="2498441" y="583313"/>
                  <a:pt x="2514835" y="566971"/>
                  <a:pt x="2535210" y="566971"/>
                </a:cubicBezTo>
                <a:cubicBezTo>
                  <a:pt x="2545398" y="566970"/>
                  <a:pt x="2554531" y="571056"/>
                  <a:pt x="2561117" y="577680"/>
                </a:cubicBezTo>
                <a:lnTo>
                  <a:pt x="2566655" y="591203"/>
                </a:lnTo>
                <a:lnTo>
                  <a:pt x="2684425" y="576666"/>
                </a:lnTo>
                <a:lnTo>
                  <a:pt x="2682807" y="568692"/>
                </a:lnTo>
                <a:cubicBezTo>
                  <a:pt x="2682806" y="549617"/>
                  <a:pt x="2690634" y="532356"/>
                  <a:pt x="2703256" y="519864"/>
                </a:cubicBezTo>
                <a:lnTo>
                  <a:pt x="2708127" y="516612"/>
                </a:lnTo>
                <a:lnTo>
                  <a:pt x="2653632" y="439998"/>
                </a:lnTo>
                <a:lnTo>
                  <a:pt x="2641122" y="445647"/>
                </a:lnTo>
                <a:cubicBezTo>
                  <a:pt x="2622695" y="446589"/>
                  <a:pt x="2607577" y="432464"/>
                  <a:pt x="2606868" y="414574"/>
                </a:cubicBezTo>
                <a:cubicBezTo>
                  <a:pt x="2606159" y="396213"/>
                  <a:pt x="2620334" y="381147"/>
                  <a:pt x="2638287" y="380441"/>
                </a:cubicBezTo>
                <a:cubicBezTo>
                  <a:pt x="2656713" y="379500"/>
                  <a:pt x="2671832" y="393623"/>
                  <a:pt x="2672303" y="411749"/>
                </a:cubicBezTo>
                <a:lnTo>
                  <a:pt x="2664909" y="432318"/>
                </a:lnTo>
                <a:lnTo>
                  <a:pt x="2719643" y="508922"/>
                </a:lnTo>
                <a:lnTo>
                  <a:pt x="2725410" y="505071"/>
                </a:lnTo>
                <a:cubicBezTo>
                  <a:pt x="2733740" y="501579"/>
                  <a:pt x="2742892" y="499648"/>
                  <a:pt x="2752485" y="499648"/>
                </a:cubicBezTo>
                <a:lnTo>
                  <a:pt x="2762528" y="501650"/>
                </a:lnTo>
                <a:lnTo>
                  <a:pt x="2794514" y="380740"/>
                </a:lnTo>
                <a:lnTo>
                  <a:pt x="2779486" y="370625"/>
                </a:lnTo>
                <a:cubicBezTo>
                  <a:pt x="2769656" y="360797"/>
                  <a:pt x="2763595" y="347203"/>
                  <a:pt x="2763595" y="332137"/>
                </a:cubicBezTo>
                <a:cubicBezTo>
                  <a:pt x="2763595" y="302476"/>
                  <a:pt x="2787844" y="277995"/>
                  <a:pt x="2817971" y="277995"/>
                </a:cubicBezTo>
                <a:cubicBezTo>
                  <a:pt x="2847854" y="277994"/>
                  <a:pt x="2872101" y="302475"/>
                  <a:pt x="2872101" y="332136"/>
                </a:cubicBezTo>
                <a:cubicBezTo>
                  <a:pt x="2872100" y="362267"/>
                  <a:pt x="2847854" y="386513"/>
                  <a:pt x="2817971" y="386514"/>
                </a:cubicBezTo>
                <a:lnTo>
                  <a:pt x="2814458" y="385809"/>
                </a:lnTo>
                <a:lnTo>
                  <a:pt x="2782397" y="506871"/>
                </a:lnTo>
                <a:lnTo>
                  <a:pt x="2801917" y="519863"/>
                </a:lnTo>
                <a:cubicBezTo>
                  <a:pt x="2814557" y="532354"/>
                  <a:pt x="2822382" y="549616"/>
                  <a:pt x="2822383" y="568691"/>
                </a:cubicBezTo>
                <a:cubicBezTo>
                  <a:pt x="2822383" y="587882"/>
                  <a:pt x="2814554" y="605260"/>
                  <a:pt x="2801903" y="617841"/>
                </a:cubicBezTo>
                <a:lnTo>
                  <a:pt x="2787521" y="627494"/>
                </a:lnTo>
                <a:lnTo>
                  <a:pt x="2840451" y="739538"/>
                </a:lnTo>
                <a:lnTo>
                  <a:pt x="2850850" y="736892"/>
                </a:lnTo>
                <a:cubicBezTo>
                  <a:pt x="2866656" y="739262"/>
                  <a:pt x="2877274" y="753710"/>
                  <a:pt x="2875151" y="769106"/>
                </a:cubicBezTo>
                <a:cubicBezTo>
                  <a:pt x="2872793" y="784738"/>
                  <a:pt x="2858399" y="795633"/>
                  <a:pt x="2843063" y="793265"/>
                </a:cubicBezTo>
                <a:cubicBezTo>
                  <a:pt x="2827257" y="791133"/>
                  <a:pt x="2816404" y="776685"/>
                  <a:pt x="2818528" y="761053"/>
                </a:cubicBezTo>
                <a:lnTo>
                  <a:pt x="2827905" y="745117"/>
                </a:lnTo>
                <a:lnTo>
                  <a:pt x="2775321" y="633618"/>
                </a:lnTo>
                <a:lnTo>
                  <a:pt x="2752485" y="638205"/>
                </a:lnTo>
                <a:cubicBezTo>
                  <a:pt x="2723707" y="638204"/>
                  <a:pt x="2698901" y="620695"/>
                  <a:pt x="2688297" y="595747"/>
                </a:cubicBezTo>
                <a:lnTo>
                  <a:pt x="2687378" y="591213"/>
                </a:lnTo>
                <a:lnTo>
                  <a:pt x="2570961" y="605541"/>
                </a:lnTo>
                <a:lnTo>
                  <a:pt x="2561116" y="629565"/>
                </a:lnTo>
                <a:cubicBezTo>
                  <a:pt x="2554531" y="636190"/>
                  <a:pt x="2545397" y="640275"/>
                  <a:pt x="2535211" y="640276"/>
                </a:cubicBezTo>
                <a:cubicBezTo>
                  <a:pt x="2514834" y="640276"/>
                  <a:pt x="2498442" y="623934"/>
                  <a:pt x="2498441" y="603623"/>
                </a:cubicBezTo>
                <a:close/>
                <a:moveTo>
                  <a:pt x="2274277" y="1247691"/>
                </a:moveTo>
                <a:cubicBezTo>
                  <a:pt x="2274277" y="1227380"/>
                  <a:pt x="2290671" y="1211039"/>
                  <a:pt x="2311048" y="1211039"/>
                </a:cubicBezTo>
                <a:cubicBezTo>
                  <a:pt x="2321235" y="1211038"/>
                  <a:pt x="2330368" y="1215124"/>
                  <a:pt x="2336954" y="1221748"/>
                </a:cubicBezTo>
                <a:lnTo>
                  <a:pt x="2342493" y="1235270"/>
                </a:lnTo>
                <a:lnTo>
                  <a:pt x="2460258" y="1220733"/>
                </a:lnTo>
                <a:lnTo>
                  <a:pt x="2458641" y="1212760"/>
                </a:lnTo>
                <a:cubicBezTo>
                  <a:pt x="2458641" y="1193684"/>
                  <a:pt x="2466467" y="1176423"/>
                  <a:pt x="2479091" y="1163931"/>
                </a:cubicBezTo>
                <a:lnTo>
                  <a:pt x="2483961" y="1160679"/>
                </a:lnTo>
                <a:lnTo>
                  <a:pt x="2429465" y="1084065"/>
                </a:lnTo>
                <a:lnTo>
                  <a:pt x="2416955" y="1089714"/>
                </a:lnTo>
                <a:cubicBezTo>
                  <a:pt x="2398527" y="1090655"/>
                  <a:pt x="2383410" y="1076532"/>
                  <a:pt x="2382702" y="1058642"/>
                </a:cubicBezTo>
                <a:cubicBezTo>
                  <a:pt x="2381992" y="1040280"/>
                  <a:pt x="2396167" y="1025215"/>
                  <a:pt x="2414119" y="1024508"/>
                </a:cubicBezTo>
                <a:cubicBezTo>
                  <a:pt x="2432545" y="1023567"/>
                  <a:pt x="2447664" y="1037691"/>
                  <a:pt x="2448136" y="1055816"/>
                </a:cubicBezTo>
                <a:lnTo>
                  <a:pt x="2440743" y="1076384"/>
                </a:lnTo>
                <a:lnTo>
                  <a:pt x="2495477" y="1152989"/>
                </a:lnTo>
                <a:lnTo>
                  <a:pt x="2501243" y="1149138"/>
                </a:lnTo>
                <a:cubicBezTo>
                  <a:pt x="2509575" y="1145646"/>
                  <a:pt x="2518726" y="1143715"/>
                  <a:pt x="2528318" y="1143715"/>
                </a:cubicBezTo>
                <a:lnTo>
                  <a:pt x="2538360" y="1145716"/>
                </a:lnTo>
                <a:lnTo>
                  <a:pt x="2570348" y="1024807"/>
                </a:lnTo>
                <a:lnTo>
                  <a:pt x="2555319" y="1014692"/>
                </a:lnTo>
                <a:cubicBezTo>
                  <a:pt x="2545491" y="1004864"/>
                  <a:pt x="2539430" y="991269"/>
                  <a:pt x="2539430" y="976204"/>
                </a:cubicBezTo>
                <a:cubicBezTo>
                  <a:pt x="2539430" y="946544"/>
                  <a:pt x="2563675" y="922062"/>
                  <a:pt x="2593807" y="922063"/>
                </a:cubicBezTo>
                <a:cubicBezTo>
                  <a:pt x="2623703" y="922063"/>
                  <a:pt x="2647949" y="946544"/>
                  <a:pt x="2647950" y="976205"/>
                </a:cubicBezTo>
                <a:cubicBezTo>
                  <a:pt x="2647949" y="1006336"/>
                  <a:pt x="2623703" y="1030582"/>
                  <a:pt x="2593807" y="1030582"/>
                </a:cubicBezTo>
                <a:lnTo>
                  <a:pt x="2590295" y="1029876"/>
                </a:lnTo>
                <a:lnTo>
                  <a:pt x="2558233" y="1150938"/>
                </a:lnTo>
                <a:lnTo>
                  <a:pt x="2577753" y="1163931"/>
                </a:lnTo>
                <a:cubicBezTo>
                  <a:pt x="2590405" y="1176423"/>
                  <a:pt x="2598232" y="1193684"/>
                  <a:pt x="2598232" y="1212760"/>
                </a:cubicBezTo>
                <a:cubicBezTo>
                  <a:pt x="2598232" y="1231951"/>
                  <a:pt x="2590405" y="1249330"/>
                  <a:pt x="2577752" y="1261909"/>
                </a:cubicBezTo>
                <a:lnTo>
                  <a:pt x="2563357" y="1271561"/>
                </a:lnTo>
                <a:lnTo>
                  <a:pt x="2616301" y="1383608"/>
                </a:lnTo>
                <a:lnTo>
                  <a:pt x="2626701" y="1380962"/>
                </a:lnTo>
                <a:cubicBezTo>
                  <a:pt x="2642508" y="1383331"/>
                  <a:pt x="2653126" y="1397779"/>
                  <a:pt x="2651002" y="1413174"/>
                </a:cubicBezTo>
                <a:cubicBezTo>
                  <a:pt x="2648642" y="1428807"/>
                  <a:pt x="2634249" y="1439702"/>
                  <a:pt x="2618914" y="1437334"/>
                </a:cubicBezTo>
                <a:cubicBezTo>
                  <a:pt x="2603106" y="1435202"/>
                  <a:pt x="2592253" y="1420754"/>
                  <a:pt x="2594376" y="1405122"/>
                </a:cubicBezTo>
                <a:lnTo>
                  <a:pt x="2603754" y="1389187"/>
                </a:lnTo>
                <a:lnTo>
                  <a:pt x="2551158" y="1277686"/>
                </a:lnTo>
                <a:lnTo>
                  <a:pt x="2528319" y="1282272"/>
                </a:lnTo>
                <a:cubicBezTo>
                  <a:pt x="2499541" y="1282272"/>
                  <a:pt x="2474735" y="1264762"/>
                  <a:pt x="2464131" y="1239814"/>
                </a:cubicBezTo>
                <a:lnTo>
                  <a:pt x="2463211" y="1235279"/>
                </a:lnTo>
                <a:lnTo>
                  <a:pt x="2346795" y="1249609"/>
                </a:lnTo>
                <a:lnTo>
                  <a:pt x="2336954" y="1273633"/>
                </a:lnTo>
                <a:cubicBezTo>
                  <a:pt x="2330368" y="1280257"/>
                  <a:pt x="2321235" y="1284343"/>
                  <a:pt x="2311048" y="1284343"/>
                </a:cubicBezTo>
                <a:cubicBezTo>
                  <a:pt x="2290671" y="1284343"/>
                  <a:pt x="2274278" y="1268001"/>
                  <a:pt x="2274277" y="1247691"/>
                </a:cubicBezTo>
                <a:close/>
                <a:moveTo>
                  <a:pt x="2258630" y="675040"/>
                </a:moveTo>
                <a:cubicBezTo>
                  <a:pt x="2258630" y="654664"/>
                  <a:pt x="2274971" y="638505"/>
                  <a:pt x="2295281" y="638505"/>
                </a:cubicBezTo>
                <a:cubicBezTo>
                  <a:pt x="2315590" y="638505"/>
                  <a:pt x="2331932" y="654664"/>
                  <a:pt x="2331932" y="675040"/>
                </a:cubicBezTo>
                <a:lnTo>
                  <a:pt x="2328105" y="684339"/>
                </a:lnTo>
                <a:lnTo>
                  <a:pt x="2470542" y="762745"/>
                </a:lnTo>
                <a:lnTo>
                  <a:pt x="2471987" y="759250"/>
                </a:lnTo>
                <a:cubicBezTo>
                  <a:pt x="2478611" y="752663"/>
                  <a:pt x="2487775" y="748622"/>
                  <a:pt x="2497930" y="748623"/>
                </a:cubicBezTo>
                <a:cubicBezTo>
                  <a:pt x="2518240" y="748623"/>
                  <a:pt x="2534582" y="764783"/>
                  <a:pt x="2534581" y="785158"/>
                </a:cubicBezTo>
                <a:cubicBezTo>
                  <a:pt x="2534581" y="805534"/>
                  <a:pt x="2518240" y="821928"/>
                  <a:pt x="2497930" y="821928"/>
                </a:cubicBezTo>
                <a:lnTo>
                  <a:pt x="2489262" y="818338"/>
                </a:lnTo>
                <a:lnTo>
                  <a:pt x="2352789" y="892769"/>
                </a:lnTo>
                <a:lnTo>
                  <a:pt x="2355335" y="898926"/>
                </a:lnTo>
                <a:cubicBezTo>
                  <a:pt x="2355335" y="919302"/>
                  <a:pt x="2338994" y="935696"/>
                  <a:pt x="2318681" y="935695"/>
                </a:cubicBezTo>
                <a:cubicBezTo>
                  <a:pt x="2298372" y="935695"/>
                  <a:pt x="2282030" y="919301"/>
                  <a:pt x="2282030" y="898926"/>
                </a:cubicBezTo>
                <a:cubicBezTo>
                  <a:pt x="2282030" y="878550"/>
                  <a:pt x="2298371" y="862391"/>
                  <a:pt x="2318682" y="862391"/>
                </a:cubicBezTo>
                <a:cubicBezTo>
                  <a:pt x="2328837" y="862390"/>
                  <a:pt x="2338000" y="866431"/>
                  <a:pt x="2344625" y="873017"/>
                </a:cubicBezTo>
                <a:lnTo>
                  <a:pt x="2345619" y="875421"/>
                </a:lnTo>
                <a:lnTo>
                  <a:pt x="2470432" y="807403"/>
                </a:lnTo>
                <a:lnTo>
                  <a:pt x="2461277" y="785158"/>
                </a:lnTo>
                <a:lnTo>
                  <a:pt x="2463385" y="780055"/>
                </a:lnTo>
                <a:lnTo>
                  <a:pt x="2320397" y="701408"/>
                </a:lnTo>
                <a:lnTo>
                  <a:pt x="2308208" y="706455"/>
                </a:lnTo>
                <a:lnTo>
                  <a:pt x="2326090" y="851734"/>
                </a:lnTo>
                <a:cubicBezTo>
                  <a:pt x="2326564" y="855486"/>
                  <a:pt x="2323721" y="859237"/>
                  <a:pt x="2319693" y="859941"/>
                </a:cubicBezTo>
                <a:cubicBezTo>
                  <a:pt x="2315428" y="860175"/>
                  <a:pt x="2311637" y="857362"/>
                  <a:pt x="2311400" y="853141"/>
                </a:cubicBezTo>
                <a:lnTo>
                  <a:pt x="2293884" y="711231"/>
                </a:lnTo>
                <a:lnTo>
                  <a:pt x="2269339" y="701065"/>
                </a:lnTo>
                <a:cubicBezTo>
                  <a:pt x="2262714" y="694420"/>
                  <a:pt x="2258630" y="685228"/>
                  <a:pt x="2258630" y="675040"/>
                </a:cubicBezTo>
                <a:close/>
                <a:moveTo>
                  <a:pt x="2176625" y="310325"/>
                </a:moveTo>
                <a:cubicBezTo>
                  <a:pt x="2194517" y="276382"/>
                  <a:pt x="2236654" y="263201"/>
                  <a:pt x="2270608" y="281100"/>
                </a:cubicBezTo>
                <a:cubicBezTo>
                  <a:pt x="2279045" y="285547"/>
                  <a:pt x="2286169" y="291514"/>
                  <a:pt x="2291827" y="298492"/>
                </a:cubicBezTo>
                <a:lnTo>
                  <a:pt x="2299856" y="313640"/>
                </a:lnTo>
                <a:lnTo>
                  <a:pt x="2394240" y="300995"/>
                </a:lnTo>
                <a:lnTo>
                  <a:pt x="2395076" y="287294"/>
                </a:lnTo>
                <a:cubicBezTo>
                  <a:pt x="2402834" y="270555"/>
                  <a:pt x="2422380" y="263767"/>
                  <a:pt x="2438536" y="271482"/>
                </a:cubicBezTo>
                <a:cubicBezTo>
                  <a:pt x="2455109" y="279418"/>
                  <a:pt x="2461826" y="298981"/>
                  <a:pt x="2454080" y="315191"/>
                </a:cubicBezTo>
                <a:cubicBezTo>
                  <a:pt x="2446322" y="331930"/>
                  <a:pt x="2426779" y="338719"/>
                  <a:pt x="2410524" y="330685"/>
                </a:cubicBezTo>
                <a:lnTo>
                  <a:pt x="2395775" y="314554"/>
                </a:lnTo>
                <a:lnTo>
                  <a:pt x="2303775" y="327078"/>
                </a:lnTo>
                <a:lnTo>
                  <a:pt x="2299195" y="374934"/>
                </a:lnTo>
                <a:lnTo>
                  <a:pt x="2297757" y="376704"/>
                </a:lnTo>
                <a:lnTo>
                  <a:pt x="2383651" y="455724"/>
                </a:lnTo>
                <a:lnTo>
                  <a:pt x="2396925" y="444678"/>
                </a:lnTo>
                <a:cubicBezTo>
                  <a:pt x="2410203" y="440565"/>
                  <a:pt x="2425053" y="441542"/>
                  <a:pt x="2438380" y="448567"/>
                </a:cubicBezTo>
                <a:cubicBezTo>
                  <a:pt x="2464617" y="462398"/>
                  <a:pt x="2474968" y="495263"/>
                  <a:pt x="2460916" y="521918"/>
                </a:cubicBezTo>
                <a:cubicBezTo>
                  <a:pt x="2446977" y="548364"/>
                  <a:pt x="2414016" y="558398"/>
                  <a:pt x="2387779" y="544567"/>
                </a:cubicBezTo>
                <a:cubicBezTo>
                  <a:pt x="2361124" y="530516"/>
                  <a:pt x="2350980" y="497762"/>
                  <a:pt x="2364920" y="471315"/>
                </a:cubicBezTo>
                <a:lnTo>
                  <a:pt x="2367694" y="469007"/>
                </a:lnTo>
                <a:lnTo>
                  <a:pt x="2284782" y="392690"/>
                </a:lnTo>
                <a:lnTo>
                  <a:pt x="2281709" y="396476"/>
                </a:lnTo>
                <a:cubicBezTo>
                  <a:pt x="2260740" y="413788"/>
                  <a:pt x="2230831" y="417928"/>
                  <a:pt x="2205519" y="404586"/>
                </a:cubicBezTo>
                <a:cubicBezTo>
                  <a:pt x="2171561" y="386688"/>
                  <a:pt x="2158623" y="344477"/>
                  <a:pt x="2176625" y="310325"/>
                </a:cubicBezTo>
                <a:close/>
                <a:moveTo>
                  <a:pt x="2034464" y="1319108"/>
                </a:moveTo>
                <a:cubicBezTo>
                  <a:pt x="2034463" y="1298732"/>
                  <a:pt x="2050806" y="1282572"/>
                  <a:pt x="2071116" y="1282572"/>
                </a:cubicBezTo>
                <a:cubicBezTo>
                  <a:pt x="2091426" y="1282572"/>
                  <a:pt x="2107768" y="1298732"/>
                  <a:pt x="2107768" y="1319107"/>
                </a:cubicBezTo>
                <a:lnTo>
                  <a:pt x="2103941" y="1328407"/>
                </a:lnTo>
                <a:lnTo>
                  <a:pt x="2246379" y="1406813"/>
                </a:lnTo>
                <a:lnTo>
                  <a:pt x="2247824" y="1403318"/>
                </a:lnTo>
                <a:cubicBezTo>
                  <a:pt x="2254448" y="1396731"/>
                  <a:pt x="2263611" y="1392691"/>
                  <a:pt x="2273766" y="1392691"/>
                </a:cubicBezTo>
                <a:cubicBezTo>
                  <a:pt x="2294076" y="1392690"/>
                  <a:pt x="2310418" y="1408850"/>
                  <a:pt x="2310418" y="1429225"/>
                </a:cubicBezTo>
                <a:cubicBezTo>
                  <a:pt x="2310417" y="1449601"/>
                  <a:pt x="2294077" y="1465995"/>
                  <a:pt x="2273767" y="1465996"/>
                </a:cubicBezTo>
                <a:lnTo>
                  <a:pt x="2265098" y="1462405"/>
                </a:lnTo>
                <a:lnTo>
                  <a:pt x="2128624" y="1536836"/>
                </a:lnTo>
                <a:lnTo>
                  <a:pt x="2131170" y="1542993"/>
                </a:lnTo>
                <a:cubicBezTo>
                  <a:pt x="2131170" y="1563369"/>
                  <a:pt x="2114827" y="1579763"/>
                  <a:pt x="2094517" y="1579763"/>
                </a:cubicBezTo>
                <a:cubicBezTo>
                  <a:pt x="2074207" y="1579763"/>
                  <a:pt x="2057867" y="1563369"/>
                  <a:pt x="2057866" y="1542994"/>
                </a:cubicBezTo>
                <a:cubicBezTo>
                  <a:pt x="2057866" y="1522618"/>
                  <a:pt x="2074208" y="1506458"/>
                  <a:pt x="2094517" y="1506458"/>
                </a:cubicBezTo>
                <a:cubicBezTo>
                  <a:pt x="2104672" y="1506458"/>
                  <a:pt x="2113835" y="1510498"/>
                  <a:pt x="2120460" y="1517085"/>
                </a:cubicBezTo>
                <a:lnTo>
                  <a:pt x="2121453" y="1519488"/>
                </a:lnTo>
                <a:lnTo>
                  <a:pt x="2246268" y="1451472"/>
                </a:lnTo>
                <a:lnTo>
                  <a:pt x="2237114" y="1429226"/>
                </a:lnTo>
                <a:lnTo>
                  <a:pt x="2239223" y="1424123"/>
                </a:lnTo>
                <a:lnTo>
                  <a:pt x="2096231" y="1345475"/>
                </a:lnTo>
                <a:lnTo>
                  <a:pt x="2084045" y="1350522"/>
                </a:lnTo>
                <a:lnTo>
                  <a:pt x="2101925" y="1495802"/>
                </a:lnTo>
                <a:cubicBezTo>
                  <a:pt x="2102401" y="1499553"/>
                  <a:pt x="2099557" y="1503305"/>
                  <a:pt x="2095528" y="1504008"/>
                </a:cubicBezTo>
                <a:cubicBezTo>
                  <a:pt x="2091264" y="1504243"/>
                  <a:pt x="2087473" y="1501429"/>
                  <a:pt x="2087236" y="1497209"/>
                </a:cubicBezTo>
                <a:lnTo>
                  <a:pt x="2069719" y="1355298"/>
                </a:lnTo>
                <a:lnTo>
                  <a:pt x="2045173" y="1345133"/>
                </a:lnTo>
                <a:cubicBezTo>
                  <a:pt x="2038548" y="1338487"/>
                  <a:pt x="2034463" y="1329295"/>
                  <a:pt x="2034464" y="1319108"/>
                </a:cubicBezTo>
                <a:close/>
                <a:moveTo>
                  <a:pt x="1952457" y="954392"/>
                </a:moveTo>
                <a:cubicBezTo>
                  <a:pt x="1970349" y="920449"/>
                  <a:pt x="2012485" y="907268"/>
                  <a:pt x="2046441" y="925167"/>
                </a:cubicBezTo>
                <a:cubicBezTo>
                  <a:pt x="2054878" y="929614"/>
                  <a:pt x="2062001" y="935581"/>
                  <a:pt x="2067662" y="942560"/>
                </a:cubicBezTo>
                <a:lnTo>
                  <a:pt x="2075690" y="957707"/>
                </a:lnTo>
                <a:lnTo>
                  <a:pt x="2170077" y="945063"/>
                </a:lnTo>
                <a:lnTo>
                  <a:pt x="2170911" y="931362"/>
                </a:lnTo>
                <a:cubicBezTo>
                  <a:pt x="2178671" y="914623"/>
                  <a:pt x="2198216" y="907835"/>
                  <a:pt x="2214371" y="915550"/>
                </a:cubicBezTo>
                <a:cubicBezTo>
                  <a:pt x="2230945" y="923486"/>
                  <a:pt x="2237664" y="943049"/>
                  <a:pt x="2229917" y="959259"/>
                </a:cubicBezTo>
                <a:cubicBezTo>
                  <a:pt x="2222158" y="975998"/>
                  <a:pt x="2202614" y="982786"/>
                  <a:pt x="2186359" y="974753"/>
                </a:cubicBezTo>
                <a:lnTo>
                  <a:pt x="2171611" y="958622"/>
                </a:lnTo>
                <a:lnTo>
                  <a:pt x="2079611" y="971145"/>
                </a:lnTo>
                <a:lnTo>
                  <a:pt x="2075029" y="1019001"/>
                </a:lnTo>
                <a:lnTo>
                  <a:pt x="2073592" y="1020771"/>
                </a:lnTo>
                <a:lnTo>
                  <a:pt x="2159488" y="1099791"/>
                </a:lnTo>
                <a:lnTo>
                  <a:pt x="2172759" y="1088744"/>
                </a:lnTo>
                <a:cubicBezTo>
                  <a:pt x="2186036" y="1084633"/>
                  <a:pt x="2200889" y="1085610"/>
                  <a:pt x="2214216" y="1092635"/>
                </a:cubicBezTo>
                <a:cubicBezTo>
                  <a:pt x="2240456" y="1106466"/>
                  <a:pt x="2250807" y="1139330"/>
                  <a:pt x="2236757" y="1165985"/>
                </a:cubicBezTo>
                <a:cubicBezTo>
                  <a:pt x="2222816" y="1192432"/>
                  <a:pt x="2189853" y="1202465"/>
                  <a:pt x="2163615" y="1188634"/>
                </a:cubicBezTo>
                <a:cubicBezTo>
                  <a:pt x="2136959" y="1174584"/>
                  <a:pt x="2126816" y="1141830"/>
                  <a:pt x="2140756" y="1115383"/>
                </a:cubicBezTo>
                <a:lnTo>
                  <a:pt x="2143529" y="1113074"/>
                </a:lnTo>
                <a:lnTo>
                  <a:pt x="2060616" y="1036757"/>
                </a:lnTo>
                <a:lnTo>
                  <a:pt x="2057543" y="1040543"/>
                </a:lnTo>
                <a:cubicBezTo>
                  <a:pt x="2036574" y="1057855"/>
                  <a:pt x="2006661" y="1061996"/>
                  <a:pt x="1981349" y="1048654"/>
                </a:cubicBezTo>
                <a:cubicBezTo>
                  <a:pt x="1947394" y="1030755"/>
                  <a:pt x="1934455" y="988544"/>
                  <a:pt x="1952457" y="954392"/>
                </a:cubicBezTo>
                <a:close/>
                <a:moveTo>
                  <a:pt x="1812847" y="328974"/>
                </a:moveTo>
                <a:cubicBezTo>
                  <a:pt x="1811543" y="308641"/>
                  <a:pt x="1826801" y="291233"/>
                  <a:pt x="1847069" y="289933"/>
                </a:cubicBezTo>
                <a:lnTo>
                  <a:pt x="1855949" y="292960"/>
                </a:lnTo>
                <a:lnTo>
                  <a:pt x="1987375" y="209943"/>
                </a:lnTo>
                <a:lnTo>
                  <a:pt x="1984441" y="203962"/>
                </a:lnTo>
                <a:cubicBezTo>
                  <a:pt x="1983136" y="183629"/>
                  <a:pt x="1998395" y="166221"/>
                  <a:pt x="2018664" y="164921"/>
                </a:cubicBezTo>
                <a:cubicBezTo>
                  <a:pt x="2038932" y="163621"/>
                  <a:pt x="2056289" y="178935"/>
                  <a:pt x="2057594" y="199268"/>
                </a:cubicBezTo>
                <a:cubicBezTo>
                  <a:pt x="2058899" y="219602"/>
                  <a:pt x="2043625" y="236775"/>
                  <a:pt x="2023358" y="238075"/>
                </a:cubicBezTo>
                <a:cubicBezTo>
                  <a:pt x="2013223" y="238725"/>
                  <a:pt x="2003820" y="235281"/>
                  <a:pt x="1996788" y="229132"/>
                </a:cubicBezTo>
                <a:lnTo>
                  <a:pt x="1995642" y="226796"/>
                </a:lnTo>
                <a:lnTo>
                  <a:pt x="1875440" y="302666"/>
                </a:lnTo>
                <a:lnTo>
                  <a:pt x="1886000" y="324280"/>
                </a:lnTo>
                <a:lnTo>
                  <a:pt x="1884223" y="329507"/>
                </a:lnTo>
                <a:lnTo>
                  <a:pt x="2031957" y="398837"/>
                </a:lnTo>
                <a:lnTo>
                  <a:pt x="2043796" y="393020"/>
                </a:lnTo>
                <a:lnTo>
                  <a:pt x="2016648" y="249183"/>
                </a:lnTo>
                <a:cubicBezTo>
                  <a:pt x="2015934" y="245470"/>
                  <a:pt x="2018532" y="241544"/>
                  <a:pt x="2022506" y="240584"/>
                </a:cubicBezTo>
                <a:cubicBezTo>
                  <a:pt x="2026746" y="240077"/>
                  <a:pt x="2030710" y="242642"/>
                  <a:pt x="2031216" y="246839"/>
                </a:cubicBezTo>
                <a:lnTo>
                  <a:pt x="2057787" y="387337"/>
                </a:lnTo>
                <a:lnTo>
                  <a:pt x="2082933" y="395910"/>
                </a:lnTo>
                <a:cubicBezTo>
                  <a:pt x="2089970" y="402118"/>
                  <a:pt x="2094635" y="411029"/>
                  <a:pt x="2095286" y="421196"/>
                </a:cubicBezTo>
                <a:cubicBezTo>
                  <a:pt x="2096593" y="441530"/>
                  <a:pt x="2081319" y="458703"/>
                  <a:pt x="2061050" y="460003"/>
                </a:cubicBezTo>
                <a:cubicBezTo>
                  <a:pt x="2040781" y="461303"/>
                  <a:pt x="2023437" y="446224"/>
                  <a:pt x="2022131" y="425890"/>
                </a:cubicBezTo>
                <a:lnTo>
                  <a:pt x="2025356" y="416364"/>
                </a:lnTo>
                <a:lnTo>
                  <a:pt x="1878191" y="347240"/>
                </a:lnTo>
                <a:lnTo>
                  <a:pt x="1876973" y="350821"/>
                </a:lnTo>
                <a:cubicBezTo>
                  <a:pt x="1870783" y="357819"/>
                  <a:pt x="1861898" y="362437"/>
                  <a:pt x="1851764" y="363087"/>
                </a:cubicBezTo>
                <a:cubicBezTo>
                  <a:pt x="1831495" y="364388"/>
                  <a:pt x="1814152" y="349308"/>
                  <a:pt x="1812847" y="328974"/>
                </a:cubicBezTo>
                <a:close/>
                <a:moveTo>
                  <a:pt x="1724475" y="535378"/>
                </a:moveTo>
                <a:cubicBezTo>
                  <a:pt x="1724476" y="505482"/>
                  <a:pt x="1748958" y="481236"/>
                  <a:pt x="1778624" y="481237"/>
                </a:cubicBezTo>
                <a:cubicBezTo>
                  <a:pt x="1808755" y="481237"/>
                  <a:pt x="1833000" y="505483"/>
                  <a:pt x="1833000" y="535379"/>
                </a:cubicBezTo>
                <a:lnTo>
                  <a:pt x="1831624" y="538714"/>
                </a:lnTo>
                <a:lnTo>
                  <a:pt x="1957877" y="572150"/>
                </a:lnTo>
                <a:lnTo>
                  <a:pt x="1966349" y="551433"/>
                </a:lnTo>
                <a:cubicBezTo>
                  <a:pt x="1978841" y="538780"/>
                  <a:pt x="1996102" y="530953"/>
                  <a:pt x="2015177" y="530954"/>
                </a:cubicBezTo>
                <a:cubicBezTo>
                  <a:pt x="2034369" y="530953"/>
                  <a:pt x="2051748" y="538781"/>
                  <a:pt x="2064328" y="551433"/>
                </a:cubicBezTo>
                <a:lnTo>
                  <a:pt x="2073980" y="565829"/>
                </a:lnTo>
                <a:lnTo>
                  <a:pt x="2186029" y="512885"/>
                </a:lnTo>
                <a:lnTo>
                  <a:pt x="2183383" y="502486"/>
                </a:lnTo>
                <a:cubicBezTo>
                  <a:pt x="2185752" y="486678"/>
                  <a:pt x="2200200" y="476060"/>
                  <a:pt x="2215595" y="478184"/>
                </a:cubicBezTo>
                <a:cubicBezTo>
                  <a:pt x="2231227" y="480543"/>
                  <a:pt x="2242122" y="494936"/>
                  <a:pt x="2239753" y="510272"/>
                </a:cubicBezTo>
                <a:cubicBezTo>
                  <a:pt x="2237622" y="526080"/>
                  <a:pt x="2223175" y="536933"/>
                  <a:pt x="2207542" y="534810"/>
                </a:cubicBezTo>
                <a:lnTo>
                  <a:pt x="2191608" y="525431"/>
                </a:lnTo>
                <a:lnTo>
                  <a:pt x="2080104" y="578028"/>
                </a:lnTo>
                <a:lnTo>
                  <a:pt x="2084690" y="600867"/>
                </a:lnTo>
                <a:cubicBezTo>
                  <a:pt x="2084690" y="629645"/>
                  <a:pt x="2067181" y="654450"/>
                  <a:pt x="2042233" y="665054"/>
                </a:cubicBezTo>
                <a:lnTo>
                  <a:pt x="2037697" y="665974"/>
                </a:lnTo>
                <a:lnTo>
                  <a:pt x="2052027" y="782389"/>
                </a:lnTo>
                <a:lnTo>
                  <a:pt x="2076052" y="792231"/>
                </a:lnTo>
                <a:cubicBezTo>
                  <a:pt x="2082678" y="798818"/>
                  <a:pt x="2086762" y="807952"/>
                  <a:pt x="2086763" y="818140"/>
                </a:cubicBezTo>
                <a:cubicBezTo>
                  <a:pt x="2086762" y="838515"/>
                  <a:pt x="2070420" y="854909"/>
                  <a:pt x="2050110" y="854909"/>
                </a:cubicBezTo>
                <a:cubicBezTo>
                  <a:pt x="2029800" y="854909"/>
                  <a:pt x="2013457" y="838515"/>
                  <a:pt x="2013458" y="818139"/>
                </a:cubicBezTo>
                <a:cubicBezTo>
                  <a:pt x="2013457" y="807951"/>
                  <a:pt x="2017543" y="798817"/>
                  <a:pt x="2024167" y="792231"/>
                </a:cubicBezTo>
                <a:lnTo>
                  <a:pt x="2037688" y="786692"/>
                </a:lnTo>
                <a:lnTo>
                  <a:pt x="2023150" y="668927"/>
                </a:lnTo>
                <a:lnTo>
                  <a:pt x="2015177" y="670545"/>
                </a:lnTo>
                <a:cubicBezTo>
                  <a:pt x="1996101" y="670545"/>
                  <a:pt x="1978841" y="662718"/>
                  <a:pt x="1966349" y="650094"/>
                </a:cubicBezTo>
                <a:lnTo>
                  <a:pt x="1963098" y="645224"/>
                </a:lnTo>
                <a:lnTo>
                  <a:pt x="1886484" y="699720"/>
                </a:lnTo>
                <a:lnTo>
                  <a:pt x="1892133" y="712230"/>
                </a:lnTo>
                <a:cubicBezTo>
                  <a:pt x="1893074" y="730656"/>
                  <a:pt x="1878950" y="745774"/>
                  <a:pt x="1861059" y="746482"/>
                </a:cubicBezTo>
                <a:cubicBezTo>
                  <a:pt x="1842698" y="747191"/>
                  <a:pt x="1827633" y="733018"/>
                  <a:pt x="1826925" y="715065"/>
                </a:cubicBezTo>
                <a:cubicBezTo>
                  <a:pt x="1825985" y="696639"/>
                  <a:pt x="1840108" y="681521"/>
                  <a:pt x="1858234" y="681048"/>
                </a:cubicBezTo>
                <a:lnTo>
                  <a:pt x="1878803" y="688442"/>
                </a:lnTo>
                <a:lnTo>
                  <a:pt x="1955407" y="633708"/>
                </a:lnTo>
                <a:lnTo>
                  <a:pt x="1951557" y="627941"/>
                </a:lnTo>
                <a:cubicBezTo>
                  <a:pt x="1948064" y="619611"/>
                  <a:pt x="1946133" y="610459"/>
                  <a:pt x="1946133" y="600867"/>
                </a:cubicBezTo>
                <a:lnTo>
                  <a:pt x="1950034" y="591328"/>
                </a:lnTo>
                <a:lnTo>
                  <a:pt x="1823701" y="557906"/>
                </a:lnTo>
                <a:lnTo>
                  <a:pt x="1817111" y="573867"/>
                </a:lnTo>
                <a:cubicBezTo>
                  <a:pt x="1807283" y="583694"/>
                  <a:pt x="1793689" y="589756"/>
                  <a:pt x="1778623" y="589756"/>
                </a:cubicBezTo>
                <a:cubicBezTo>
                  <a:pt x="1748961" y="589756"/>
                  <a:pt x="1724475" y="565509"/>
                  <a:pt x="1724475" y="535378"/>
                </a:cubicBezTo>
                <a:close/>
                <a:moveTo>
                  <a:pt x="1588680" y="973041"/>
                </a:moveTo>
                <a:cubicBezTo>
                  <a:pt x="1587375" y="952707"/>
                  <a:pt x="1602634" y="935301"/>
                  <a:pt x="1622902" y="934000"/>
                </a:cubicBezTo>
                <a:lnTo>
                  <a:pt x="1631782" y="937028"/>
                </a:lnTo>
                <a:lnTo>
                  <a:pt x="1763209" y="854011"/>
                </a:lnTo>
                <a:lnTo>
                  <a:pt x="1760275" y="848030"/>
                </a:lnTo>
                <a:cubicBezTo>
                  <a:pt x="1758971" y="827696"/>
                  <a:pt x="1774228" y="810288"/>
                  <a:pt x="1794498" y="808988"/>
                </a:cubicBezTo>
                <a:cubicBezTo>
                  <a:pt x="1814766" y="807688"/>
                  <a:pt x="1832124" y="823002"/>
                  <a:pt x="1833429" y="843336"/>
                </a:cubicBezTo>
                <a:cubicBezTo>
                  <a:pt x="1834733" y="863669"/>
                  <a:pt x="1819460" y="880842"/>
                  <a:pt x="1799192" y="882143"/>
                </a:cubicBezTo>
                <a:cubicBezTo>
                  <a:pt x="1789057" y="882793"/>
                  <a:pt x="1779654" y="879348"/>
                  <a:pt x="1772622" y="873199"/>
                </a:cubicBezTo>
                <a:lnTo>
                  <a:pt x="1771476" y="870863"/>
                </a:lnTo>
                <a:lnTo>
                  <a:pt x="1651274" y="946733"/>
                </a:lnTo>
                <a:lnTo>
                  <a:pt x="1661834" y="968347"/>
                </a:lnTo>
                <a:lnTo>
                  <a:pt x="1660056" y="973574"/>
                </a:lnTo>
                <a:lnTo>
                  <a:pt x="1807792" y="1042904"/>
                </a:lnTo>
                <a:lnTo>
                  <a:pt x="1819630" y="1037088"/>
                </a:lnTo>
                <a:lnTo>
                  <a:pt x="1792481" y="893251"/>
                </a:lnTo>
                <a:cubicBezTo>
                  <a:pt x="1791768" y="889538"/>
                  <a:pt x="1794365" y="885611"/>
                  <a:pt x="1798340" y="884651"/>
                </a:cubicBezTo>
                <a:cubicBezTo>
                  <a:pt x="1802581" y="884144"/>
                  <a:pt x="1806545" y="886710"/>
                  <a:pt x="1807052" y="890906"/>
                </a:cubicBezTo>
                <a:lnTo>
                  <a:pt x="1833620" y="1031403"/>
                </a:lnTo>
                <a:lnTo>
                  <a:pt x="1858767" y="1039977"/>
                </a:lnTo>
                <a:cubicBezTo>
                  <a:pt x="1865803" y="1046184"/>
                  <a:pt x="1870468" y="1055096"/>
                  <a:pt x="1871121" y="1065263"/>
                </a:cubicBezTo>
                <a:cubicBezTo>
                  <a:pt x="1872426" y="1085597"/>
                  <a:pt x="1857152" y="1102770"/>
                  <a:pt x="1836884" y="1104071"/>
                </a:cubicBezTo>
                <a:cubicBezTo>
                  <a:pt x="1816615" y="1105371"/>
                  <a:pt x="1799272" y="1090291"/>
                  <a:pt x="1797967" y="1069957"/>
                </a:cubicBezTo>
                <a:lnTo>
                  <a:pt x="1801190" y="1060431"/>
                </a:lnTo>
                <a:lnTo>
                  <a:pt x="1654023" y="991307"/>
                </a:lnTo>
                <a:lnTo>
                  <a:pt x="1652805" y="994888"/>
                </a:lnTo>
                <a:cubicBezTo>
                  <a:pt x="1646616" y="1001886"/>
                  <a:pt x="1637731" y="1006504"/>
                  <a:pt x="1627596" y="1007155"/>
                </a:cubicBezTo>
                <a:cubicBezTo>
                  <a:pt x="1607328" y="1008455"/>
                  <a:pt x="1589985" y="993375"/>
                  <a:pt x="1588680" y="973041"/>
                </a:cubicBezTo>
                <a:close/>
                <a:moveTo>
                  <a:pt x="1500313" y="1179446"/>
                </a:moveTo>
                <a:cubicBezTo>
                  <a:pt x="1500313" y="1149550"/>
                  <a:pt x="1524795" y="1125304"/>
                  <a:pt x="1554455" y="1125304"/>
                </a:cubicBezTo>
                <a:cubicBezTo>
                  <a:pt x="1584586" y="1125304"/>
                  <a:pt x="1608833" y="1149550"/>
                  <a:pt x="1608833" y="1179446"/>
                </a:cubicBezTo>
                <a:lnTo>
                  <a:pt x="1607456" y="1182781"/>
                </a:lnTo>
                <a:lnTo>
                  <a:pt x="1733711" y="1216218"/>
                </a:lnTo>
                <a:lnTo>
                  <a:pt x="1742183" y="1195501"/>
                </a:lnTo>
                <a:cubicBezTo>
                  <a:pt x="1754676" y="1182848"/>
                  <a:pt x="1771937" y="1175021"/>
                  <a:pt x="1791011" y="1175021"/>
                </a:cubicBezTo>
                <a:cubicBezTo>
                  <a:pt x="1810203" y="1175021"/>
                  <a:pt x="1827582" y="1182848"/>
                  <a:pt x="1840162" y="1195501"/>
                </a:cubicBezTo>
                <a:lnTo>
                  <a:pt x="1849813" y="1209896"/>
                </a:lnTo>
                <a:lnTo>
                  <a:pt x="1961859" y="1156952"/>
                </a:lnTo>
                <a:lnTo>
                  <a:pt x="1959214" y="1146553"/>
                </a:lnTo>
                <a:cubicBezTo>
                  <a:pt x="1961582" y="1130745"/>
                  <a:pt x="1976031" y="1120128"/>
                  <a:pt x="1991427" y="1122251"/>
                </a:cubicBezTo>
                <a:cubicBezTo>
                  <a:pt x="2007059" y="1124611"/>
                  <a:pt x="2017955" y="1139003"/>
                  <a:pt x="2015586" y="1154339"/>
                </a:cubicBezTo>
                <a:cubicBezTo>
                  <a:pt x="2013454" y="1170147"/>
                  <a:pt x="1999006" y="1181001"/>
                  <a:pt x="1983373" y="1178877"/>
                </a:cubicBezTo>
                <a:lnTo>
                  <a:pt x="1967437" y="1169498"/>
                </a:lnTo>
                <a:lnTo>
                  <a:pt x="1855938" y="1222095"/>
                </a:lnTo>
                <a:lnTo>
                  <a:pt x="1860524" y="1244935"/>
                </a:lnTo>
                <a:cubicBezTo>
                  <a:pt x="1860524" y="1273712"/>
                  <a:pt x="1843014" y="1298517"/>
                  <a:pt x="1818066" y="1309121"/>
                </a:cubicBezTo>
                <a:lnTo>
                  <a:pt x="1813531" y="1310042"/>
                </a:lnTo>
                <a:lnTo>
                  <a:pt x="1827860" y="1426456"/>
                </a:lnTo>
                <a:lnTo>
                  <a:pt x="1851886" y="1436298"/>
                </a:lnTo>
                <a:cubicBezTo>
                  <a:pt x="1858510" y="1442885"/>
                  <a:pt x="1862595" y="1452019"/>
                  <a:pt x="1862595" y="1462206"/>
                </a:cubicBezTo>
                <a:cubicBezTo>
                  <a:pt x="1862595" y="1482582"/>
                  <a:pt x="1846254" y="1498976"/>
                  <a:pt x="1825943" y="1498976"/>
                </a:cubicBezTo>
                <a:cubicBezTo>
                  <a:pt x="1805633" y="1498976"/>
                  <a:pt x="1789291" y="1482582"/>
                  <a:pt x="1789291" y="1462207"/>
                </a:cubicBezTo>
                <a:cubicBezTo>
                  <a:pt x="1789291" y="1452019"/>
                  <a:pt x="1793376" y="1442885"/>
                  <a:pt x="1800001" y="1436298"/>
                </a:cubicBezTo>
                <a:lnTo>
                  <a:pt x="1813521" y="1430760"/>
                </a:lnTo>
                <a:lnTo>
                  <a:pt x="1798984" y="1312994"/>
                </a:lnTo>
                <a:lnTo>
                  <a:pt x="1791012" y="1314612"/>
                </a:lnTo>
                <a:cubicBezTo>
                  <a:pt x="1771937" y="1314612"/>
                  <a:pt x="1754675" y="1306785"/>
                  <a:pt x="1742183" y="1294162"/>
                </a:cubicBezTo>
                <a:lnTo>
                  <a:pt x="1738931" y="1289292"/>
                </a:lnTo>
                <a:lnTo>
                  <a:pt x="1662317" y="1343787"/>
                </a:lnTo>
                <a:lnTo>
                  <a:pt x="1667966" y="1356297"/>
                </a:lnTo>
                <a:cubicBezTo>
                  <a:pt x="1668908" y="1374723"/>
                  <a:pt x="1654783" y="1389841"/>
                  <a:pt x="1636892" y="1390550"/>
                </a:cubicBezTo>
                <a:cubicBezTo>
                  <a:pt x="1618531" y="1391258"/>
                  <a:pt x="1603465" y="1377085"/>
                  <a:pt x="1602759" y="1359132"/>
                </a:cubicBezTo>
                <a:cubicBezTo>
                  <a:pt x="1601818" y="1340707"/>
                  <a:pt x="1615941" y="1325588"/>
                  <a:pt x="1634067" y="1325116"/>
                </a:cubicBezTo>
                <a:lnTo>
                  <a:pt x="1654635" y="1332509"/>
                </a:lnTo>
                <a:lnTo>
                  <a:pt x="1731241" y="1277775"/>
                </a:lnTo>
                <a:lnTo>
                  <a:pt x="1727390" y="1272009"/>
                </a:lnTo>
                <a:cubicBezTo>
                  <a:pt x="1723898" y="1263678"/>
                  <a:pt x="1721967" y="1254527"/>
                  <a:pt x="1721967" y="1244934"/>
                </a:cubicBezTo>
                <a:lnTo>
                  <a:pt x="1725868" y="1235395"/>
                </a:lnTo>
                <a:lnTo>
                  <a:pt x="1599533" y="1201972"/>
                </a:lnTo>
                <a:lnTo>
                  <a:pt x="1592943" y="1217934"/>
                </a:lnTo>
                <a:cubicBezTo>
                  <a:pt x="1583115" y="1227762"/>
                  <a:pt x="1569521" y="1233823"/>
                  <a:pt x="1554455" y="1233824"/>
                </a:cubicBezTo>
                <a:cubicBezTo>
                  <a:pt x="1524795" y="1233824"/>
                  <a:pt x="1500313" y="1209577"/>
                  <a:pt x="1500313" y="1179446"/>
                </a:cubicBezTo>
                <a:close/>
                <a:moveTo>
                  <a:pt x="1388351" y="250675"/>
                </a:moveTo>
                <a:cubicBezTo>
                  <a:pt x="1400312" y="223277"/>
                  <a:pt x="1432449" y="210849"/>
                  <a:pt x="1459632" y="222716"/>
                </a:cubicBezTo>
                <a:cubicBezTo>
                  <a:pt x="1487247" y="234770"/>
                  <a:pt x="1499768" y="266692"/>
                  <a:pt x="1487808" y="294091"/>
                </a:cubicBezTo>
                <a:lnTo>
                  <a:pt x="1485211" y="296596"/>
                </a:lnTo>
                <a:lnTo>
                  <a:pt x="1573504" y="366618"/>
                </a:lnTo>
                <a:lnTo>
                  <a:pt x="1576291" y="362617"/>
                </a:lnTo>
                <a:cubicBezTo>
                  <a:pt x="1595932" y="343812"/>
                  <a:pt x="1625460" y="337486"/>
                  <a:pt x="1651683" y="348934"/>
                </a:cubicBezTo>
                <a:cubicBezTo>
                  <a:pt x="1686862" y="364289"/>
                  <a:pt x="1702865" y="405436"/>
                  <a:pt x="1687420" y="440818"/>
                </a:cubicBezTo>
                <a:cubicBezTo>
                  <a:pt x="1672069" y="475983"/>
                  <a:pt x="1631014" y="492223"/>
                  <a:pt x="1595836" y="476867"/>
                </a:cubicBezTo>
                <a:cubicBezTo>
                  <a:pt x="1587095" y="473051"/>
                  <a:pt x="1579552" y="467623"/>
                  <a:pt x="1573395" y="461078"/>
                </a:cubicBezTo>
                <a:lnTo>
                  <a:pt x="1564276" y="446562"/>
                </a:lnTo>
                <a:lnTo>
                  <a:pt x="1471075" y="466104"/>
                </a:lnTo>
                <a:lnTo>
                  <a:pt x="1471247" y="479828"/>
                </a:lnTo>
                <a:cubicBezTo>
                  <a:pt x="1464738" y="497092"/>
                  <a:pt x="1445746" y="505297"/>
                  <a:pt x="1429066" y="498790"/>
                </a:cubicBezTo>
                <a:cubicBezTo>
                  <a:pt x="1411955" y="492093"/>
                  <a:pt x="1403818" y="473076"/>
                  <a:pt x="1410353" y="456340"/>
                </a:cubicBezTo>
                <a:cubicBezTo>
                  <a:pt x="1416862" y="439077"/>
                  <a:pt x="1435854" y="430871"/>
                  <a:pt x="1452655" y="437690"/>
                </a:cubicBezTo>
                <a:lnTo>
                  <a:pt x="1468548" y="452695"/>
                </a:lnTo>
                <a:lnTo>
                  <a:pt x="1559380" y="433449"/>
                </a:lnTo>
                <a:lnTo>
                  <a:pt x="1560434" y="385385"/>
                </a:lnTo>
                <a:lnTo>
                  <a:pt x="1561737" y="383514"/>
                </a:lnTo>
                <a:lnTo>
                  <a:pt x="1470272" y="311016"/>
                </a:lnTo>
                <a:lnTo>
                  <a:pt x="1457847" y="323008"/>
                </a:lnTo>
                <a:cubicBezTo>
                  <a:pt x="1444908" y="328083"/>
                  <a:pt x="1430024" y="328200"/>
                  <a:pt x="1416217" y="322172"/>
                </a:cubicBezTo>
                <a:cubicBezTo>
                  <a:pt x="1389033" y="310306"/>
                  <a:pt x="1376297" y="278290"/>
                  <a:pt x="1388351" y="250675"/>
                </a:cubicBezTo>
                <a:close/>
                <a:moveTo>
                  <a:pt x="1234696" y="665604"/>
                </a:moveTo>
                <a:cubicBezTo>
                  <a:pt x="1234554" y="656222"/>
                  <a:pt x="1238007" y="646797"/>
                  <a:pt x="1245089" y="639519"/>
                </a:cubicBezTo>
                <a:cubicBezTo>
                  <a:pt x="1259254" y="624963"/>
                  <a:pt x="1282400" y="624686"/>
                  <a:pt x="1297003" y="638895"/>
                </a:cubicBezTo>
                <a:cubicBezTo>
                  <a:pt x="1304304" y="646000"/>
                  <a:pt x="1308000" y="655298"/>
                  <a:pt x="1308101" y="664639"/>
                </a:cubicBezTo>
                <a:lnTo>
                  <a:pt x="1302640" y="678193"/>
                </a:lnTo>
                <a:lnTo>
                  <a:pt x="1398474" y="750891"/>
                </a:lnTo>
                <a:lnTo>
                  <a:pt x="1401578" y="743063"/>
                </a:lnTo>
                <a:cubicBezTo>
                  <a:pt x="1414882" y="729392"/>
                  <a:pt x="1432529" y="722481"/>
                  <a:pt x="1450288" y="722332"/>
                </a:cubicBezTo>
                <a:lnTo>
                  <a:pt x="1456046" y="723399"/>
                </a:lnTo>
                <a:lnTo>
                  <a:pt x="1470423" y="630486"/>
                </a:lnTo>
                <a:lnTo>
                  <a:pt x="1457518" y="625810"/>
                </a:lnTo>
                <a:cubicBezTo>
                  <a:pt x="1450587" y="619722"/>
                  <a:pt x="1446876" y="611512"/>
                  <a:pt x="1446393" y="603159"/>
                </a:cubicBezTo>
                <a:cubicBezTo>
                  <a:pt x="1445910" y="594806"/>
                  <a:pt x="1448657" y="586310"/>
                  <a:pt x="1454641" y="579652"/>
                </a:cubicBezTo>
                <a:cubicBezTo>
                  <a:pt x="1466939" y="566000"/>
                  <a:pt x="1487603" y="565088"/>
                  <a:pt x="1500962" y="577102"/>
                </a:cubicBezTo>
                <a:cubicBezTo>
                  <a:pt x="1514823" y="589278"/>
                  <a:pt x="1515808" y="609943"/>
                  <a:pt x="1503505" y="623263"/>
                </a:cubicBezTo>
                <a:lnTo>
                  <a:pt x="1483863" y="632848"/>
                </a:lnTo>
                <a:lnTo>
                  <a:pt x="1469663" y="725920"/>
                </a:lnTo>
                <a:lnTo>
                  <a:pt x="1476481" y="727181"/>
                </a:lnTo>
                <a:cubicBezTo>
                  <a:pt x="1484887" y="730488"/>
                  <a:pt x="1492792" y="735487"/>
                  <a:pt x="1499667" y="742177"/>
                </a:cubicBezTo>
                <a:lnTo>
                  <a:pt x="1505467" y="750615"/>
                </a:lnTo>
                <a:lnTo>
                  <a:pt x="1615842" y="684396"/>
                </a:lnTo>
                <a:lnTo>
                  <a:pt x="1608999" y="668542"/>
                </a:lnTo>
                <a:cubicBezTo>
                  <a:pt x="1608810" y="654644"/>
                  <a:pt x="1613947" y="640675"/>
                  <a:pt x="1624454" y="629878"/>
                </a:cubicBezTo>
                <a:cubicBezTo>
                  <a:pt x="1645139" y="608621"/>
                  <a:pt x="1679591" y="607986"/>
                  <a:pt x="1701184" y="629000"/>
                </a:cubicBezTo>
                <a:cubicBezTo>
                  <a:pt x="1722609" y="649850"/>
                  <a:pt x="1722912" y="684305"/>
                  <a:pt x="1702226" y="705562"/>
                </a:cubicBezTo>
                <a:cubicBezTo>
                  <a:pt x="1681212" y="727155"/>
                  <a:pt x="1646926" y="727622"/>
                  <a:pt x="1625500" y="706772"/>
                </a:cubicBezTo>
                <a:lnTo>
                  <a:pt x="1624071" y="703459"/>
                </a:lnTo>
                <a:lnTo>
                  <a:pt x="1516067" y="768216"/>
                </a:lnTo>
                <a:lnTo>
                  <a:pt x="1520995" y="791142"/>
                </a:lnTo>
                <a:cubicBezTo>
                  <a:pt x="1521350" y="808918"/>
                  <a:pt x="1514921" y="826747"/>
                  <a:pt x="1501618" y="840418"/>
                </a:cubicBezTo>
                <a:cubicBezTo>
                  <a:pt x="1474848" y="867926"/>
                  <a:pt x="1430701" y="868399"/>
                  <a:pt x="1403034" y="841476"/>
                </a:cubicBezTo>
                <a:cubicBezTo>
                  <a:pt x="1389285" y="828095"/>
                  <a:pt x="1382229" y="810370"/>
                  <a:pt x="1381956" y="792551"/>
                </a:cubicBezTo>
                <a:lnTo>
                  <a:pt x="1392812" y="765172"/>
                </a:lnTo>
                <a:lnTo>
                  <a:pt x="1295724" y="691470"/>
                </a:lnTo>
                <a:lnTo>
                  <a:pt x="1271915" y="701823"/>
                </a:lnTo>
                <a:cubicBezTo>
                  <a:pt x="1262575" y="701978"/>
                  <a:pt x="1253180" y="698535"/>
                  <a:pt x="1245879" y="691431"/>
                </a:cubicBezTo>
                <a:cubicBezTo>
                  <a:pt x="1238578" y="684325"/>
                  <a:pt x="1234839" y="674987"/>
                  <a:pt x="1234696" y="665604"/>
                </a:cubicBezTo>
                <a:close/>
                <a:moveTo>
                  <a:pt x="1164189" y="894743"/>
                </a:moveTo>
                <a:cubicBezTo>
                  <a:pt x="1176149" y="867344"/>
                  <a:pt x="1208286" y="854917"/>
                  <a:pt x="1235470" y="866784"/>
                </a:cubicBezTo>
                <a:cubicBezTo>
                  <a:pt x="1263084" y="878838"/>
                  <a:pt x="1275605" y="910760"/>
                  <a:pt x="1263645" y="938159"/>
                </a:cubicBezTo>
                <a:lnTo>
                  <a:pt x="1261048" y="940665"/>
                </a:lnTo>
                <a:lnTo>
                  <a:pt x="1349341" y="1010686"/>
                </a:lnTo>
                <a:lnTo>
                  <a:pt x="1352128" y="1006684"/>
                </a:lnTo>
                <a:cubicBezTo>
                  <a:pt x="1371769" y="987880"/>
                  <a:pt x="1401297" y="981554"/>
                  <a:pt x="1427520" y="993001"/>
                </a:cubicBezTo>
                <a:cubicBezTo>
                  <a:pt x="1462698" y="1008357"/>
                  <a:pt x="1478702" y="1049504"/>
                  <a:pt x="1463257" y="1084886"/>
                </a:cubicBezTo>
                <a:cubicBezTo>
                  <a:pt x="1447906" y="1120051"/>
                  <a:pt x="1406852" y="1136291"/>
                  <a:pt x="1371673" y="1120934"/>
                </a:cubicBezTo>
                <a:cubicBezTo>
                  <a:pt x="1362932" y="1117119"/>
                  <a:pt x="1355390" y="1111691"/>
                  <a:pt x="1349233" y="1105147"/>
                </a:cubicBezTo>
                <a:lnTo>
                  <a:pt x="1340113" y="1090630"/>
                </a:lnTo>
                <a:lnTo>
                  <a:pt x="1246912" y="1110172"/>
                </a:lnTo>
                <a:lnTo>
                  <a:pt x="1247084" y="1123897"/>
                </a:lnTo>
                <a:cubicBezTo>
                  <a:pt x="1240576" y="1141160"/>
                  <a:pt x="1221583" y="1149365"/>
                  <a:pt x="1204903" y="1142857"/>
                </a:cubicBezTo>
                <a:cubicBezTo>
                  <a:pt x="1187792" y="1136161"/>
                  <a:pt x="1179655" y="1117144"/>
                  <a:pt x="1186191" y="1100408"/>
                </a:cubicBezTo>
                <a:cubicBezTo>
                  <a:pt x="1192699" y="1083144"/>
                  <a:pt x="1211692" y="1074939"/>
                  <a:pt x="1228493" y="1081758"/>
                </a:cubicBezTo>
                <a:lnTo>
                  <a:pt x="1244385" y="1096762"/>
                </a:lnTo>
                <a:lnTo>
                  <a:pt x="1335217" y="1077517"/>
                </a:lnTo>
                <a:lnTo>
                  <a:pt x="1336272" y="1029453"/>
                </a:lnTo>
                <a:lnTo>
                  <a:pt x="1337574" y="1027582"/>
                </a:lnTo>
                <a:lnTo>
                  <a:pt x="1246109" y="955084"/>
                </a:lnTo>
                <a:lnTo>
                  <a:pt x="1233685" y="967075"/>
                </a:lnTo>
                <a:cubicBezTo>
                  <a:pt x="1220745" y="972151"/>
                  <a:pt x="1205861" y="972267"/>
                  <a:pt x="1192054" y="966240"/>
                </a:cubicBezTo>
                <a:cubicBezTo>
                  <a:pt x="1164871" y="954373"/>
                  <a:pt x="1152134" y="922358"/>
                  <a:pt x="1164189" y="894743"/>
                </a:cubicBezTo>
                <a:close/>
                <a:moveTo>
                  <a:pt x="1010533" y="1309671"/>
                </a:moveTo>
                <a:cubicBezTo>
                  <a:pt x="1010391" y="1300290"/>
                  <a:pt x="1013844" y="1290865"/>
                  <a:pt x="1020926" y="1283587"/>
                </a:cubicBezTo>
                <a:cubicBezTo>
                  <a:pt x="1035091" y="1269031"/>
                  <a:pt x="1058237" y="1268753"/>
                  <a:pt x="1072840" y="1282963"/>
                </a:cubicBezTo>
                <a:cubicBezTo>
                  <a:pt x="1080141" y="1290068"/>
                  <a:pt x="1083837" y="1299366"/>
                  <a:pt x="1083938" y="1308708"/>
                </a:cubicBezTo>
                <a:lnTo>
                  <a:pt x="1078478" y="1322260"/>
                </a:lnTo>
                <a:lnTo>
                  <a:pt x="1174312" y="1394959"/>
                </a:lnTo>
                <a:lnTo>
                  <a:pt x="1177416" y="1387131"/>
                </a:lnTo>
                <a:cubicBezTo>
                  <a:pt x="1190719" y="1373461"/>
                  <a:pt x="1208366" y="1366549"/>
                  <a:pt x="1226125" y="1366400"/>
                </a:cubicBezTo>
                <a:lnTo>
                  <a:pt x="1231884" y="1367466"/>
                </a:lnTo>
                <a:lnTo>
                  <a:pt x="1246261" y="1274554"/>
                </a:lnTo>
                <a:lnTo>
                  <a:pt x="1233355" y="1269877"/>
                </a:lnTo>
                <a:cubicBezTo>
                  <a:pt x="1226425" y="1263790"/>
                  <a:pt x="1222713" y="1255579"/>
                  <a:pt x="1222230" y="1247226"/>
                </a:cubicBezTo>
                <a:cubicBezTo>
                  <a:pt x="1221748" y="1238874"/>
                  <a:pt x="1224494" y="1230378"/>
                  <a:pt x="1230479" y="1223720"/>
                </a:cubicBezTo>
                <a:cubicBezTo>
                  <a:pt x="1242776" y="1210067"/>
                  <a:pt x="1263441" y="1209155"/>
                  <a:pt x="1276799" y="1221170"/>
                </a:cubicBezTo>
                <a:cubicBezTo>
                  <a:pt x="1290661" y="1233346"/>
                  <a:pt x="1291645" y="1254012"/>
                  <a:pt x="1279343" y="1267331"/>
                </a:cubicBezTo>
                <a:lnTo>
                  <a:pt x="1259700" y="1276915"/>
                </a:lnTo>
                <a:lnTo>
                  <a:pt x="1245500" y="1369987"/>
                </a:lnTo>
                <a:lnTo>
                  <a:pt x="1252318" y="1371249"/>
                </a:lnTo>
                <a:cubicBezTo>
                  <a:pt x="1260725" y="1374556"/>
                  <a:pt x="1268630" y="1379554"/>
                  <a:pt x="1275504" y="1386245"/>
                </a:cubicBezTo>
                <a:lnTo>
                  <a:pt x="1281304" y="1394681"/>
                </a:lnTo>
                <a:lnTo>
                  <a:pt x="1391679" y="1328464"/>
                </a:lnTo>
                <a:lnTo>
                  <a:pt x="1384837" y="1312610"/>
                </a:lnTo>
                <a:cubicBezTo>
                  <a:pt x="1384648" y="1298712"/>
                  <a:pt x="1389784" y="1284742"/>
                  <a:pt x="1400292" y="1273945"/>
                </a:cubicBezTo>
                <a:cubicBezTo>
                  <a:pt x="1420977" y="1252689"/>
                  <a:pt x="1455428" y="1252054"/>
                  <a:pt x="1477022" y="1273068"/>
                </a:cubicBezTo>
                <a:cubicBezTo>
                  <a:pt x="1498447" y="1293918"/>
                  <a:pt x="1498749" y="1328373"/>
                  <a:pt x="1478063" y="1349629"/>
                </a:cubicBezTo>
                <a:cubicBezTo>
                  <a:pt x="1457049" y="1371223"/>
                  <a:pt x="1422763" y="1371690"/>
                  <a:pt x="1401338" y="1350840"/>
                </a:cubicBezTo>
                <a:lnTo>
                  <a:pt x="1399907" y="1347526"/>
                </a:lnTo>
                <a:lnTo>
                  <a:pt x="1291905" y="1412283"/>
                </a:lnTo>
                <a:lnTo>
                  <a:pt x="1296832" y="1435209"/>
                </a:lnTo>
                <a:cubicBezTo>
                  <a:pt x="1297188" y="1452986"/>
                  <a:pt x="1290759" y="1470815"/>
                  <a:pt x="1277455" y="1484485"/>
                </a:cubicBezTo>
                <a:cubicBezTo>
                  <a:pt x="1250686" y="1511994"/>
                  <a:pt x="1206539" y="1512468"/>
                  <a:pt x="1178872" y="1485543"/>
                </a:cubicBezTo>
                <a:cubicBezTo>
                  <a:pt x="1165123" y="1472163"/>
                  <a:pt x="1158066" y="1454437"/>
                  <a:pt x="1157793" y="1436618"/>
                </a:cubicBezTo>
                <a:lnTo>
                  <a:pt x="1168649" y="1409240"/>
                </a:lnTo>
                <a:lnTo>
                  <a:pt x="1071561" y="1335537"/>
                </a:lnTo>
                <a:lnTo>
                  <a:pt x="1047752" y="1345892"/>
                </a:lnTo>
                <a:cubicBezTo>
                  <a:pt x="1038412" y="1346045"/>
                  <a:pt x="1029017" y="1342603"/>
                  <a:pt x="1021716" y="1335498"/>
                </a:cubicBezTo>
                <a:cubicBezTo>
                  <a:pt x="1014415" y="1328392"/>
                  <a:pt x="1010676" y="1319054"/>
                  <a:pt x="1010533" y="1309671"/>
                </a:cubicBezTo>
                <a:close/>
                <a:moveTo>
                  <a:pt x="998124" y="438779"/>
                </a:moveTo>
                <a:cubicBezTo>
                  <a:pt x="998124" y="418469"/>
                  <a:pt x="1014518" y="402127"/>
                  <a:pt x="1034893" y="402127"/>
                </a:cubicBezTo>
                <a:cubicBezTo>
                  <a:pt x="1045081" y="402126"/>
                  <a:pt x="1054215" y="406212"/>
                  <a:pt x="1060802" y="412836"/>
                </a:cubicBezTo>
                <a:lnTo>
                  <a:pt x="1066340" y="426359"/>
                </a:lnTo>
                <a:lnTo>
                  <a:pt x="1184106" y="411821"/>
                </a:lnTo>
                <a:lnTo>
                  <a:pt x="1182487" y="403848"/>
                </a:lnTo>
                <a:cubicBezTo>
                  <a:pt x="1182487" y="384773"/>
                  <a:pt x="1190314" y="367512"/>
                  <a:pt x="1202938" y="355019"/>
                </a:cubicBezTo>
                <a:lnTo>
                  <a:pt x="1207808" y="351768"/>
                </a:lnTo>
                <a:lnTo>
                  <a:pt x="1153313" y="275153"/>
                </a:lnTo>
                <a:lnTo>
                  <a:pt x="1140803" y="280802"/>
                </a:lnTo>
                <a:cubicBezTo>
                  <a:pt x="1122377" y="281744"/>
                  <a:pt x="1107259" y="267620"/>
                  <a:pt x="1106550" y="249730"/>
                </a:cubicBezTo>
                <a:cubicBezTo>
                  <a:pt x="1105841" y="231369"/>
                  <a:pt x="1120015" y="216303"/>
                  <a:pt x="1137968" y="215597"/>
                </a:cubicBezTo>
                <a:cubicBezTo>
                  <a:pt x="1156393" y="214656"/>
                  <a:pt x="1171512" y="228779"/>
                  <a:pt x="1171984" y="246905"/>
                </a:cubicBezTo>
                <a:lnTo>
                  <a:pt x="1164591" y="267473"/>
                </a:lnTo>
                <a:lnTo>
                  <a:pt x="1219324" y="344078"/>
                </a:lnTo>
                <a:lnTo>
                  <a:pt x="1225091" y="340226"/>
                </a:lnTo>
                <a:cubicBezTo>
                  <a:pt x="1233421" y="336734"/>
                  <a:pt x="1242572" y="334804"/>
                  <a:pt x="1252165" y="334803"/>
                </a:cubicBezTo>
                <a:lnTo>
                  <a:pt x="1262207" y="336805"/>
                </a:lnTo>
                <a:lnTo>
                  <a:pt x="1294194" y="215896"/>
                </a:lnTo>
                <a:lnTo>
                  <a:pt x="1279165" y="205780"/>
                </a:lnTo>
                <a:cubicBezTo>
                  <a:pt x="1269337" y="195953"/>
                  <a:pt x="1263276" y="182359"/>
                  <a:pt x="1263276" y="167292"/>
                </a:cubicBezTo>
                <a:cubicBezTo>
                  <a:pt x="1263276" y="137632"/>
                  <a:pt x="1287522" y="113151"/>
                  <a:pt x="1317653" y="113151"/>
                </a:cubicBezTo>
                <a:cubicBezTo>
                  <a:pt x="1347549" y="113151"/>
                  <a:pt x="1371795" y="137632"/>
                  <a:pt x="1371795" y="167293"/>
                </a:cubicBezTo>
                <a:cubicBezTo>
                  <a:pt x="1371795" y="197424"/>
                  <a:pt x="1347549" y="221670"/>
                  <a:pt x="1317653" y="221670"/>
                </a:cubicBezTo>
                <a:lnTo>
                  <a:pt x="1314141" y="220965"/>
                </a:lnTo>
                <a:lnTo>
                  <a:pt x="1282079" y="342027"/>
                </a:lnTo>
                <a:lnTo>
                  <a:pt x="1301599" y="355019"/>
                </a:lnTo>
                <a:cubicBezTo>
                  <a:pt x="1314251" y="367512"/>
                  <a:pt x="1322078" y="384773"/>
                  <a:pt x="1322078" y="403848"/>
                </a:cubicBezTo>
                <a:cubicBezTo>
                  <a:pt x="1322078" y="423040"/>
                  <a:pt x="1314251" y="440418"/>
                  <a:pt x="1301599" y="452998"/>
                </a:cubicBezTo>
                <a:lnTo>
                  <a:pt x="1287203" y="462649"/>
                </a:lnTo>
                <a:lnTo>
                  <a:pt x="1340146" y="574697"/>
                </a:lnTo>
                <a:lnTo>
                  <a:pt x="1350546" y="572050"/>
                </a:lnTo>
                <a:cubicBezTo>
                  <a:pt x="1366354" y="574419"/>
                  <a:pt x="1376971" y="588867"/>
                  <a:pt x="1374848" y="604263"/>
                </a:cubicBezTo>
                <a:cubicBezTo>
                  <a:pt x="1372488" y="619895"/>
                  <a:pt x="1358095" y="630790"/>
                  <a:pt x="1342760" y="628422"/>
                </a:cubicBezTo>
                <a:cubicBezTo>
                  <a:pt x="1326952" y="626290"/>
                  <a:pt x="1316098" y="611842"/>
                  <a:pt x="1318222" y="596210"/>
                </a:cubicBezTo>
                <a:lnTo>
                  <a:pt x="1327600" y="580275"/>
                </a:lnTo>
                <a:lnTo>
                  <a:pt x="1275004" y="468774"/>
                </a:lnTo>
                <a:lnTo>
                  <a:pt x="1252165" y="473360"/>
                </a:lnTo>
                <a:cubicBezTo>
                  <a:pt x="1223388" y="473360"/>
                  <a:pt x="1198583" y="455851"/>
                  <a:pt x="1187979" y="430902"/>
                </a:cubicBezTo>
                <a:lnTo>
                  <a:pt x="1187058" y="426368"/>
                </a:lnTo>
                <a:lnTo>
                  <a:pt x="1070643" y="440697"/>
                </a:lnTo>
                <a:lnTo>
                  <a:pt x="1060802" y="464721"/>
                </a:lnTo>
                <a:cubicBezTo>
                  <a:pt x="1054215" y="471346"/>
                  <a:pt x="1045081" y="475431"/>
                  <a:pt x="1034893" y="475432"/>
                </a:cubicBezTo>
                <a:cubicBezTo>
                  <a:pt x="1014518" y="475432"/>
                  <a:pt x="998124" y="459090"/>
                  <a:pt x="998124" y="438779"/>
                </a:cubicBezTo>
                <a:close/>
                <a:moveTo>
                  <a:pt x="773960" y="1082847"/>
                </a:moveTo>
                <a:cubicBezTo>
                  <a:pt x="773960" y="1062536"/>
                  <a:pt x="790354" y="1046195"/>
                  <a:pt x="810730" y="1046194"/>
                </a:cubicBezTo>
                <a:cubicBezTo>
                  <a:pt x="820917" y="1046194"/>
                  <a:pt x="830051" y="1050280"/>
                  <a:pt x="836638" y="1056904"/>
                </a:cubicBezTo>
                <a:lnTo>
                  <a:pt x="842177" y="1070426"/>
                </a:lnTo>
                <a:lnTo>
                  <a:pt x="959943" y="1055889"/>
                </a:lnTo>
                <a:lnTo>
                  <a:pt x="958324" y="1047916"/>
                </a:lnTo>
                <a:cubicBezTo>
                  <a:pt x="958324" y="1028840"/>
                  <a:pt x="966151" y="1011579"/>
                  <a:pt x="978774" y="999087"/>
                </a:cubicBezTo>
                <a:lnTo>
                  <a:pt x="983645" y="995835"/>
                </a:lnTo>
                <a:lnTo>
                  <a:pt x="929149" y="919221"/>
                </a:lnTo>
                <a:lnTo>
                  <a:pt x="916639" y="924870"/>
                </a:lnTo>
                <a:cubicBezTo>
                  <a:pt x="898214" y="925812"/>
                  <a:pt x="883095" y="911688"/>
                  <a:pt x="882387" y="893798"/>
                </a:cubicBezTo>
                <a:cubicBezTo>
                  <a:pt x="881678" y="875436"/>
                  <a:pt x="895852" y="860371"/>
                  <a:pt x="913805" y="859664"/>
                </a:cubicBezTo>
                <a:cubicBezTo>
                  <a:pt x="932230" y="858723"/>
                  <a:pt x="947348" y="872847"/>
                  <a:pt x="947821" y="890973"/>
                </a:cubicBezTo>
                <a:lnTo>
                  <a:pt x="940428" y="911540"/>
                </a:lnTo>
                <a:lnTo>
                  <a:pt x="995161" y="988145"/>
                </a:lnTo>
                <a:lnTo>
                  <a:pt x="1000928" y="984294"/>
                </a:lnTo>
                <a:cubicBezTo>
                  <a:pt x="1009259" y="980802"/>
                  <a:pt x="1018410" y="978871"/>
                  <a:pt x="1028002" y="978871"/>
                </a:cubicBezTo>
                <a:lnTo>
                  <a:pt x="1038044" y="980872"/>
                </a:lnTo>
                <a:lnTo>
                  <a:pt x="1070031" y="859963"/>
                </a:lnTo>
                <a:lnTo>
                  <a:pt x="1055003" y="849848"/>
                </a:lnTo>
                <a:cubicBezTo>
                  <a:pt x="1045175" y="840020"/>
                  <a:pt x="1039113" y="826425"/>
                  <a:pt x="1039113" y="811360"/>
                </a:cubicBezTo>
                <a:cubicBezTo>
                  <a:pt x="1039113" y="781700"/>
                  <a:pt x="1063359" y="757218"/>
                  <a:pt x="1093490" y="757218"/>
                </a:cubicBezTo>
                <a:cubicBezTo>
                  <a:pt x="1123386" y="757219"/>
                  <a:pt x="1147632" y="781700"/>
                  <a:pt x="1147632" y="811360"/>
                </a:cubicBezTo>
                <a:cubicBezTo>
                  <a:pt x="1147632" y="841492"/>
                  <a:pt x="1123386" y="865738"/>
                  <a:pt x="1093490" y="865738"/>
                </a:cubicBezTo>
                <a:lnTo>
                  <a:pt x="1089978" y="865032"/>
                </a:lnTo>
                <a:lnTo>
                  <a:pt x="1057916" y="986094"/>
                </a:lnTo>
                <a:lnTo>
                  <a:pt x="1077436" y="999087"/>
                </a:lnTo>
                <a:cubicBezTo>
                  <a:pt x="1090089" y="1011579"/>
                  <a:pt x="1097916" y="1028840"/>
                  <a:pt x="1097916" y="1047916"/>
                </a:cubicBezTo>
                <a:cubicBezTo>
                  <a:pt x="1097916" y="1067107"/>
                  <a:pt x="1090089" y="1084485"/>
                  <a:pt x="1077436" y="1097065"/>
                </a:cubicBezTo>
                <a:lnTo>
                  <a:pt x="1063040" y="1106717"/>
                </a:lnTo>
                <a:lnTo>
                  <a:pt x="1115984" y="1218764"/>
                </a:lnTo>
                <a:lnTo>
                  <a:pt x="1126383" y="1216118"/>
                </a:lnTo>
                <a:cubicBezTo>
                  <a:pt x="1142191" y="1218486"/>
                  <a:pt x="1152808" y="1232935"/>
                  <a:pt x="1150685" y="1248330"/>
                </a:cubicBezTo>
                <a:cubicBezTo>
                  <a:pt x="1148326" y="1263963"/>
                  <a:pt x="1133933" y="1274858"/>
                  <a:pt x="1118597" y="1272490"/>
                </a:cubicBezTo>
                <a:cubicBezTo>
                  <a:pt x="1102789" y="1270358"/>
                  <a:pt x="1091936" y="1255910"/>
                  <a:pt x="1094059" y="1240277"/>
                </a:cubicBezTo>
                <a:lnTo>
                  <a:pt x="1103438" y="1224342"/>
                </a:lnTo>
                <a:lnTo>
                  <a:pt x="1050841" y="1112842"/>
                </a:lnTo>
                <a:lnTo>
                  <a:pt x="1028002" y="1117428"/>
                </a:lnTo>
                <a:cubicBezTo>
                  <a:pt x="999225" y="1117428"/>
                  <a:pt x="974420" y="1099918"/>
                  <a:pt x="963816" y="1074970"/>
                </a:cubicBezTo>
                <a:lnTo>
                  <a:pt x="962895" y="1070435"/>
                </a:lnTo>
                <a:lnTo>
                  <a:pt x="846479" y="1084765"/>
                </a:lnTo>
                <a:lnTo>
                  <a:pt x="836638" y="1108789"/>
                </a:lnTo>
                <a:cubicBezTo>
                  <a:pt x="830051" y="1115413"/>
                  <a:pt x="820917" y="1119499"/>
                  <a:pt x="810730" y="1119499"/>
                </a:cubicBezTo>
                <a:cubicBezTo>
                  <a:pt x="790354" y="1119499"/>
                  <a:pt x="773960" y="1103157"/>
                  <a:pt x="773960" y="1082847"/>
                </a:cubicBezTo>
                <a:close/>
                <a:moveTo>
                  <a:pt x="758312" y="510196"/>
                </a:moveTo>
                <a:cubicBezTo>
                  <a:pt x="758312" y="489820"/>
                  <a:pt x="774654" y="473661"/>
                  <a:pt x="794964" y="473661"/>
                </a:cubicBezTo>
                <a:cubicBezTo>
                  <a:pt x="815275" y="473661"/>
                  <a:pt x="831616" y="489821"/>
                  <a:pt x="831616" y="510196"/>
                </a:cubicBezTo>
                <a:lnTo>
                  <a:pt x="827790" y="519495"/>
                </a:lnTo>
                <a:lnTo>
                  <a:pt x="970226" y="597901"/>
                </a:lnTo>
                <a:lnTo>
                  <a:pt x="971670" y="594406"/>
                </a:lnTo>
                <a:cubicBezTo>
                  <a:pt x="978295" y="587819"/>
                  <a:pt x="987458" y="583778"/>
                  <a:pt x="997613" y="583779"/>
                </a:cubicBezTo>
                <a:cubicBezTo>
                  <a:pt x="1017923" y="583779"/>
                  <a:pt x="1034265" y="599939"/>
                  <a:pt x="1034265" y="620314"/>
                </a:cubicBezTo>
                <a:cubicBezTo>
                  <a:pt x="1034265" y="640690"/>
                  <a:pt x="1017923" y="657084"/>
                  <a:pt x="997613" y="657084"/>
                </a:cubicBezTo>
                <a:lnTo>
                  <a:pt x="988945" y="653494"/>
                </a:lnTo>
                <a:lnTo>
                  <a:pt x="852473" y="727925"/>
                </a:lnTo>
                <a:lnTo>
                  <a:pt x="855018" y="734082"/>
                </a:lnTo>
                <a:cubicBezTo>
                  <a:pt x="855018" y="754458"/>
                  <a:pt x="838677" y="770852"/>
                  <a:pt x="818366" y="770852"/>
                </a:cubicBezTo>
                <a:cubicBezTo>
                  <a:pt x="798056" y="770851"/>
                  <a:pt x="781714" y="754457"/>
                  <a:pt x="781714" y="734082"/>
                </a:cubicBezTo>
                <a:cubicBezTo>
                  <a:pt x="781714" y="713706"/>
                  <a:pt x="798056" y="697547"/>
                  <a:pt x="818366" y="697547"/>
                </a:cubicBezTo>
                <a:cubicBezTo>
                  <a:pt x="828522" y="697546"/>
                  <a:pt x="837685" y="701587"/>
                  <a:pt x="844309" y="708173"/>
                </a:cubicBezTo>
                <a:lnTo>
                  <a:pt x="845302" y="710577"/>
                </a:lnTo>
                <a:lnTo>
                  <a:pt x="970115" y="642559"/>
                </a:lnTo>
                <a:lnTo>
                  <a:pt x="960961" y="620314"/>
                </a:lnTo>
                <a:lnTo>
                  <a:pt x="963070" y="615211"/>
                </a:lnTo>
                <a:lnTo>
                  <a:pt x="820081" y="536564"/>
                </a:lnTo>
                <a:lnTo>
                  <a:pt x="807893" y="541611"/>
                </a:lnTo>
                <a:lnTo>
                  <a:pt x="825775" y="686890"/>
                </a:lnTo>
                <a:cubicBezTo>
                  <a:pt x="826249" y="690642"/>
                  <a:pt x="823405" y="694393"/>
                  <a:pt x="819377" y="695097"/>
                </a:cubicBezTo>
                <a:cubicBezTo>
                  <a:pt x="815113" y="695331"/>
                  <a:pt x="811322" y="692518"/>
                  <a:pt x="811084" y="688297"/>
                </a:cubicBezTo>
                <a:lnTo>
                  <a:pt x="793568" y="546387"/>
                </a:lnTo>
                <a:lnTo>
                  <a:pt x="769022" y="536221"/>
                </a:lnTo>
                <a:cubicBezTo>
                  <a:pt x="762398" y="529576"/>
                  <a:pt x="758312" y="520383"/>
                  <a:pt x="758312" y="510196"/>
                </a:cubicBezTo>
                <a:close/>
                <a:moveTo>
                  <a:pt x="676307" y="145481"/>
                </a:moveTo>
                <a:cubicBezTo>
                  <a:pt x="694198" y="111538"/>
                  <a:pt x="736334" y="98357"/>
                  <a:pt x="770289" y="116256"/>
                </a:cubicBezTo>
                <a:cubicBezTo>
                  <a:pt x="778727" y="120703"/>
                  <a:pt x="785850" y="126670"/>
                  <a:pt x="791510" y="133648"/>
                </a:cubicBezTo>
                <a:lnTo>
                  <a:pt x="799539" y="148796"/>
                </a:lnTo>
                <a:lnTo>
                  <a:pt x="893925" y="136151"/>
                </a:lnTo>
                <a:lnTo>
                  <a:pt x="894761" y="122450"/>
                </a:lnTo>
                <a:cubicBezTo>
                  <a:pt x="902520" y="105712"/>
                  <a:pt x="922064" y="98923"/>
                  <a:pt x="938220" y="106638"/>
                </a:cubicBezTo>
                <a:cubicBezTo>
                  <a:pt x="954793" y="114574"/>
                  <a:pt x="961512" y="134137"/>
                  <a:pt x="953765" y="150348"/>
                </a:cubicBezTo>
                <a:cubicBezTo>
                  <a:pt x="946006" y="167086"/>
                  <a:pt x="926462" y="173875"/>
                  <a:pt x="910208" y="165841"/>
                </a:cubicBezTo>
                <a:lnTo>
                  <a:pt x="895460" y="149710"/>
                </a:lnTo>
                <a:lnTo>
                  <a:pt x="803459" y="162234"/>
                </a:lnTo>
                <a:lnTo>
                  <a:pt x="798878" y="210090"/>
                </a:lnTo>
                <a:lnTo>
                  <a:pt x="797441" y="211860"/>
                </a:lnTo>
                <a:lnTo>
                  <a:pt x="883336" y="290880"/>
                </a:lnTo>
                <a:lnTo>
                  <a:pt x="896608" y="279833"/>
                </a:lnTo>
                <a:cubicBezTo>
                  <a:pt x="909885" y="275721"/>
                  <a:pt x="924737" y="276698"/>
                  <a:pt x="938065" y="283723"/>
                </a:cubicBezTo>
                <a:cubicBezTo>
                  <a:pt x="964303" y="297554"/>
                  <a:pt x="974654" y="330419"/>
                  <a:pt x="960604" y="357074"/>
                </a:cubicBezTo>
                <a:cubicBezTo>
                  <a:pt x="946664" y="383520"/>
                  <a:pt x="913701" y="393554"/>
                  <a:pt x="887463" y="379723"/>
                </a:cubicBezTo>
                <a:cubicBezTo>
                  <a:pt x="860808" y="365672"/>
                  <a:pt x="850665" y="332918"/>
                  <a:pt x="864605" y="306471"/>
                </a:cubicBezTo>
                <a:lnTo>
                  <a:pt x="867378" y="304163"/>
                </a:lnTo>
                <a:lnTo>
                  <a:pt x="784465" y="227846"/>
                </a:lnTo>
                <a:lnTo>
                  <a:pt x="781392" y="231632"/>
                </a:lnTo>
                <a:cubicBezTo>
                  <a:pt x="760423" y="248944"/>
                  <a:pt x="730510" y="253084"/>
                  <a:pt x="705199" y="239742"/>
                </a:cubicBezTo>
                <a:cubicBezTo>
                  <a:pt x="671244" y="221844"/>
                  <a:pt x="658305" y="179633"/>
                  <a:pt x="676307" y="145481"/>
                </a:cubicBezTo>
                <a:close/>
                <a:moveTo>
                  <a:pt x="534148" y="1154264"/>
                </a:moveTo>
                <a:cubicBezTo>
                  <a:pt x="534148" y="1133888"/>
                  <a:pt x="550490" y="1117728"/>
                  <a:pt x="570800" y="1117728"/>
                </a:cubicBezTo>
                <a:cubicBezTo>
                  <a:pt x="591111" y="1117728"/>
                  <a:pt x="607452" y="1133888"/>
                  <a:pt x="607452" y="1154263"/>
                </a:cubicBezTo>
                <a:lnTo>
                  <a:pt x="603625" y="1163563"/>
                </a:lnTo>
                <a:lnTo>
                  <a:pt x="746062" y="1241969"/>
                </a:lnTo>
                <a:lnTo>
                  <a:pt x="747507" y="1238473"/>
                </a:lnTo>
                <a:cubicBezTo>
                  <a:pt x="754131" y="1231886"/>
                  <a:pt x="763294" y="1227846"/>
                  <a:pt x="773449" y="1227847"/>
                </a:cubicBezTo>
                <a:cubicBezTo>
                  <a:pt x="793760" y="1227846"/>
                  <a:pt x="810102" y="1244006"/>
                  <a:pt x="810102" y="1264381"/>
                </a:cubicBezTo>
                <a:cubicBezTo>
                  <a:pt x="810102" y="1284757"/>
                  <a:pt x="793760" y="1301151"/>
                  <a:pt x="773449" y="1301151"/>
                </a:cubicBezTo>
                <a:lnTo>
                  <a:pt x="764781" y="1297561"/>
                </a:lnTo>
                <a:lnTo>
                  <a:pt x="628309" y="1371992"/>
                </a:lnTo>
                <a:lnTo>
                  <a:pt x="630854" y="1378149"/>
                </a:lnTo>
                <a:cubicBezTo>
                  <a:pt x="630854" y="1398525"/>
                  <a:pt x="614513" y="1414919"/>
                  <a:pt x="594202" y="1414919"/>
                </a:cubicBezTo>
                <a:cubicBezTo>
                  <a:pt x="573892" y="1414919"/>
                  <a:pt x="557550" y="1398525"/>
                  <a:pt x="557550" y="1378150"/>
                </a:cubicBezTo>
                <a:cubicBezTo>
                  <a:pt x="557550" y="1357774"/>
                  <a:pt x="573892" y="1341614"/>
                  <a:pt x="594202" y="1341614"/>
                </a:cubicBezTo>
                <a:cubicBezTo>
                  <a:pt x="604357" y="1341614"/>
                  <a:pt x="613520" y="1345654"/>
                  <a:pt x="620145" y="1352241"/>
                </a:cubicBezTo>
                <a:lnTo>
                  <a:pt x="621138" y="1354644"/>
                </a:lnTo>
                <a:lnTo>
                  <a:pt x="745951" y="1286628"/>
                </a:lnTo>
                <a:lnTo>
                  <a:pt x="736797" y="1264382"/>
                </a:lnTo>
                <a:lnTo>
                  <a:pt x="738906" y="1259279"/>
                </a:lnTo>
                <a:lnTo>
                  <a:pt x="595915" y="1180631"/>
                </a:lnTo>
                <a:lnTo>
                  <a:pt x="583729" y="1185678"/>
                </a:lnTo>
                <a:lnTo>
                  <a:pt x="601611" y="1330958"/>
                </a:lnTo>
                <a:cubicBezTo>
                  <a:pt x="602085" y="1334709"/>
                  <a:pt x="599241" y="1338461"/>
                  <a:pt x="595213" y="1339165"/>
                </a:cubicBezTo>
                <a:cubicBezTo>
                  <a:pt x="590948" y="1339399"/>
                  <a:pt x="587157" y="1336585"/>
                  <a:pt x="586920" y="1332365"/>
                </a:cubicBezTo>
                <a:lnTo>
                  <a:pt x="569403" y="1190454"/>
                </a:lnTo>
                <a:lnTo>
                  <a:pt x="544858" y="1180289"/>
                </a:lnTo>
                <a:cubicBezTo>
                  <a:pt x="538233" y="1173644"/>
                  <a:pt x="534148" y="1164451"/>
                  <a:pt x="534148" y="1154264"/>
                </a:cubicBezTo>
                <a:close/>
                <a:moveTo>
                  <a:pt x="452142" y="789548"/>
                </a:moveTo>
                <a:cubicBezTo>
                  <a:pt x="470034" y="755605"/>
                  <a:pt x="512170" y="742424"/>
                  <a:pt x="546125" y="760323"/>
                </a:cubicBezTo>
                <a:cubicBezTo>
                  <a:pt x="554562" y="764770"/>
                  <a:pt x="561686" y="770738"/>
                  <a:pt x="567346" y="777716"/>
                </a:cubicBezTo>
                <a:lnTo>
                  <a:pt x="575375" y="792863"/>
                </a:lnTo>
                <a:lnTo>
                  <a:pt x="669760" y="780219"/>
                </a:lnTo>
                <a:lnTo>
                  <a:pt x="670597" y="766518"/>
                </a:lnTo>
                <a:cubicBezTo>
                  <a:pt x="678356" y="749779"/>
                  <a:pt x="697900" y="742991"/>
                  <a:pt x="714056" y="750706"/>
                </a:cubicBezTo>
                <a:cubicBezTo>
                  <a:pt x="730629" y="758642"/>
                  <a:pt x="737348" y="778205"/>
                  <a:pt x="729601" y="794415"/>
                </a:cubicBezTo>
                <a:cubicBezTo>
                  <a:pt x="721842" y="811154"/>
                  <a:pt x="702298" y="817942"/>
                  <a:pt x="686043" y="809909"/>
                </a:cubicBezTo>
                <a:lnTo>
                  <a:pt x="671296" y="793778"/>
                </a:lnTo>
                <a:lnTo>
                  <a:pt x="579294" y="806301"/>
                </a:lnTo>
                <a:lnTo>
                  <a:pt x="574713" y="854157"/>
                </a:lnTo>
                <a:lnTo>
                  <a:pt x="573276" y="855927"/>
                </a:lnTo>
                <a:lnTo>
                  <a:pt x="659172" y="934947"/>
                </a:lnTo>
                <a:lnTo>
                  <a:pt x="672444" y="923900"/>
                </a:lnTo>
                <a:cubicBezTo>
                  <a:pt x="685721" y="919789"/>
                  <a:pt x="700573" y="920766"/>
                  <a:pt x="713901" y="927791"/>
                </a:cubicBezTo>
                <a:cubicBezTo>
                  <a:pt x="740139" y="941621"/>
                  <a:pt x="750490" y="974486"/>
                  <a:pt x="736440" y="1001141"/>
                </a:cubicBezTo>
                <a:cubicBezTo>
                  <a:pt x="722500" y="1027588"/>
                  <a:pt x="689537" y="1037621"/>
                  <a:pt x="663299" y="1023790"/>
                </a:cubicBezTo>
                <a:cubicBezTo>
                  <a:pt x="636644" y="1009741"/>
                  <a:pt x="626501" y="976986"/>
                  <a:pt x="640441" y="950539"/>
                </a:cubicBezTo>
                <a:lnTo>
                  <a:pt x="643214" y="948230"/>
                </a:lnTo>
                <a:lnTo>
                  <a:pt x="560300" y="871913"/>
                </a:lnTo>
                <a:lnTo>
                  <a:pt x="557227" y="875700"/>
                </a:lnTo>
                <a:cubicBezTo>
                  <a:pt x="536258" y="893011"/>
                  <a:pt x="506346" y="897152"/>
                  <a:pt x="481034" y="883810"/>
                </a:cubicBezTo>
                <a:cubicBezTo>
                  <a:pt x="447079" y="865911"/>
                  <a:pt x="434140" y="823700"/>
                  <a:pt x="452142" y="789548"/>
                </a:cubicBezTo>
                <a:close/>
                <a:moveTo>
                  <a:pt x="312532" y="164130"/>
                </a:moveTo>
                <a:cubicBezTo>
                  <a:pt x="311228" y="143797"/>
                  <a:pt x="326486" y="126389"/>
                  <a:pt x="346755" y="125089"/>
                </a:cubicBezTo>
                <a:lnTo>
                  <a:pt x="355634" y="128116"/>
                </a:lnTo>
                <a:lnTo>
                  <a:pt x="487060" y="45100"/>
                </a:lnTo>
                <a:lnTo>
                  <a:pt x="484125" y="39118"/>
                </a:lnTo>
                <a:cubicBezTo>
                  <a:pt x="482821" y="18785"/>
                  <a:pt x="498079" y="1377"/>
                  <a:pt x="518348" y="77"/>
                </a:cubicBezTo>
                <a:cubicBezTo>
                  <a:pt x="538617" y="-1223"/>
                  <a:pt x="555975" y="14091"/>
                  <a:pt x="557279" y="34424"/>
                </a:cubicBezTo>
                <a:cubicBezTo>
                  <a:pt x="558584" y="54758"/>
                  <a:pt x="543311" y="71931"/>
                  <a:pt x="523042" y="73231"/>
                </a:cubicBezTo>
                <a:cubicBezTo>
                  <a:pt x="512908" y="73881"/>
                  <a:pt x="503505" y="70437"/>
                  <a:pt x="496472" y="64288"/>
                </a:cubicBezTo>
                <a:lnTo>
                  <a:pt x="495327" y="61952"/>
                </a:lnTo>
                <a:lnTo>
                  <a:pt x="375126" y="137822"/>
                </a:lnTo>
                <a:lnTo>
                  <a:pt x="385686" y="159436"/>
                </a:lnTo>
                <a:lnTo>
                  <a:pt x="383908" y="164663"/>
                </a:lnTo>
                <a:lnTo>
                  <a:pt x="531641" y="233994"/>
                </a:lnTo>
                <a:lnTo>
                  <a:pt x="543480" y="228176"/>
                </a:lnTo>
                <a:lnTo>
                  <a:pt x="516332" y="84339"/>
                </a:lnTo>
                <a:cubicBezTo>
                  <a:pt x="515618" y="80627"/>
                  <a:pt x="518216" y="76700"/>
                  <a:pt x="522190" y="75740"/>
                </a:cubicBezTo>
                <a:cubicBezTo>
                  <a:pt x="526431" y="75233"/>
                  <a:pt x="530395" y="77799"/>
                  <a:pt x="530902" y="81995"/>
                </a:cubicBezTo>
                <a:lnTo>
                  <a:pt x="557470" y="222493"/>
                </a:lnTo>
                <a:lnTo>
                  <a:pt x="582617" y="231066"/>
                </a:lnTo>
                <a:cubicBezTo>
                  <a:pt x="589653" y="237274"/>
                  <a:pt x="594319" y="246185"/>
                  <a:pt x="594971" y="256352"/>
                </a:cubicBezTo>
                <a:cubicBezTo>
                  <a:pt x="596276" y="276686"/>
                  <a:pt x="581002" y="293859"/>
                  <a:pt x="560734" y="295159"/>
                </a:cubicBezTo>
                <a:cubicBezTo>
                  <a:pt x="540465" y="296459"/>
                  <a:pt x="523122" y="281380"/>
                  <a:pt x="521817" y="261046"/>
                </a:cubicBezTo>
                <a:lnTo>
                  <a:pt x="525041" y="251520"/>
                </a:lnTo>
                <a:lnTo>
                  <a:pt x="377876" y="182396"/>
                </a:lnTo>
                <a:lnTo>
                  <a:pt x="376658" y="185977"/>
                </a:lnTo>
                <a:cubicBezTo>
                  <a:pt x="370469" y="192975"/>
                  <a:pt x="361583" y="197593"/>
                  <a:pt x="351449" y="198244"/>
                </a:cubicBezTo>
                <a:cubicBezTo>
                  <a:pt x="331180" y="199544"/>
                  <a:pt x="313837" y="184464"/>
                  <a:pt x="312532" y="164130"/>
                </a:cubicBezTo>
                <a:close/>
                <a:moveTo>
                  <a:pt x="224166" y="370535"/>
                </a:moveTo>
                <a:cubicBezTo>
                  <a:pt x="224166" y="340639"/>
                  <a:pt x="248648" y="316393"/>
                  <a:pt x="278308" y="316393"/>
                </a:cubicBezTo>
                <a:cubicBezTo>
                  <a:pt x="308439" y="316393"/>
                  <a:pt x="332685" y="340639"/>
                  <a:pt x="332685" y="370535"/>
                </a:cubicBezTo>
                <a:lnTo>
                  <a:pt x="331309" y="373870"/>
                </a:lnTo>
                <a:lnTo>
                  <a:pt x="457562" y="407306"/>
                </a:lnTo>
                <a:lnTo>
                  <a:pt x="466034" y="386589"/>
                </a:lnTo>
                <a:cubicBezTo>
                  <a:pt x="478526" y="373936"/>
                  <a:pt x="495787" y="366109"/>
                  <a:pt x="514862" y="366110"/>
                </a:cubicBezTo>
                <a:cubicBezTo>
                  <a:pt x="534054" y="366110"/>
                  <a:pt x="551432" y="373937"/>
                  <a:pt x="564012" y="386589"/>
                </a:cubicBezTo>
                <a:lnTo>
                  <a:pt x="573663" y="400984"/>
                </a:lnTo>
                <a:lnTo>
                  <a:pt x="685709" y="348041"/>
                </a:lnTo>
                <a:lnTo>
                  <a:pt x="683063" y="337642"/>
                </a:lnTo>
                <a:cubicBezTo>
                  <a:pt x="685432" y="321833"/>
                  <a:pt x="699880" y="311216"/>
                  <a:pt x="715276" y="313340"/>
                </a:cubicBezTo>
                <a:cubicBezTo>
                  <a:pt x="730908" y="315699"/>
                  <a:pt x="741803" y="330092"/>
                  <a:pt x="739435" y="345428"/>
                </a:cubicBezTo>
                <a:cubicBezTo>
                  <a:pt x="737303" y="361236"/>
                  <a:pt x="722855" y="372089"/>
                  <a:pt x="707223" y="369965"/>
                </a:cubicBezTo>
                <a:lnTo>
                  <a:pt x="691288" y="360587"/>
                </a:lnTo>
                <a:lnTo>
                  <a:pt x="579788" y="413184"/>
                </a:lnTo>
                <a:lnTo>
                  <a:pt x="584374" y="436023"/>
                </a:lnTo>
                <a:cubicBezTo>
                  <a:pt x="584374" y="464801"/>
                  <a:pt x="566864" y="489606"/>
                  <a:pt x="541916" y="500209"/>
                </a:cubicBezTo>
                <a:lnTo>
                  <a:pt x="537381" y="501130"/>
                </a:lnTo>
                <a:lnTo>
                  <a:pt x="551710" y="617545"/>
                </a:lnTo>
                <a:lnTo>
                  <a:pt x="575736" y="627387"/>
                </a:lnTo>
                <a:cubicBezTo>
                  <a:pt x="582360" y="633974"/>
                  <a:pt x="586445" y="643108"/>
                  <a:pt x="586445" y="653296"/>
                </a:cubicBezTo>
                <a:cubicBezTo>
                  <a:pt x="586445" y="673671"/>
                  <a:pt x="570104" y="690065"/>
                  <a:pt x="549793" y="690065"/>
                </a:cubicBezTo>
                <a:cubicBezTo>
                  <a:pt x="529483" y="690065"/>
                  <a:pt x="513141" y="673671"/>
                  <a:pt x="513141" y="653295"/>
                </a:cubicBezTo>
                <a:cubicBezTo>
                  <a:pt x="513141" y="643107"/>
                  <a:pt x="517227" y="633973"/>
                  <a:pt x="523851" y="627387"/>
                </a:cubicBezTo>
                <a:lnTo>
                  <a:pt x="537371" y="621848"/>
                </a:lnTo>
                <a:lnTo>
                  <a:pt x="522835" y="504083"/>
                </a:lnTo>
                <a:lnTo>
                  <a:pt x="514862" y="505701"/>
                </a:lnTo>
                <a:cubicBezTo>
                  <a:pt x="495787" y="505701"/>
                  <a:pt x="478526" y="497874"/>
                  <a:pt x="466034" y="485250"/>
                </a:cubicBezTo>
                <a:lnTo>
                  <a:pt x="462781" y="480380"/>
                </a:lnTo>
                <a:lnTo>
                  <a:pt x="386168" y="534876"/>
                </a:lnTo>
                <a:lnTo>
                  <a:pt x="391817" y="547386"/>
                </a:lnTo>
                <a:cubicBezTo>
                  <a:pt x="392758" y="565812"/>
                  <a:pt x="378635" y="580930"/>
                  <a:pt x="360744" y="581638"/>
                </a:cubicBezTo>
                <a:cubicBezTo>
                  <a:pt x="342383" y="582347"/>
                  <a:pt x="327318" y="568174"/>
                  <a:pt x="326612" y="550221"/>
                </a:cubicBezTo>
                <a:cubicBezTo>
                  <a:pt x="325670" y="531795"/>
                  <a:pt x="339794" y="516677"/>
                  <a:pt x="357920" y="516205"/>
                </a:cubicBezTo>
                <a:lnTo>
                  <a:pt x="378487" y="523598"/>
                </a:lnTo>
                <a:lnTo>
                  <a:pt x="455091" y="468864"/>
                </a:lnTo>
                <a:lnTo>
                  <a:pt x="451241" y="463097"/>
                </a:lnTo>
                <a:cubicBezTo>
                  <a:pt x="447749" y="454767"/>
                  <a:pt x="445818" y="445615"/>
                  <a:pt x="445818" y="436023"/>
                </a:cubicBezTo>
                <a:lnTo>
                  <a:pt x="449719" y="426484"/>
                </a:lnTo>
                <a:lnTo>
                  <a:pt x="323385" y="393062"/>
                </a:lnTo>
                <a:lnTo>
                  <a:pt x="316796" y="409023"/>
                </a:lnTo>
                <a:cubicBezTo>
                  <a:pt x="306968" y="418851"/>
                  <a:pt x="293374" y="424912"/>
                  <a:pt x="278308" y="424912"/>
                </a:cubicBezTo>
                <a:cubicBezTo>
                  <a:pt x="248648" y="424912"/>
                  <a:pt x="224166" y="400666"/>
                  <a:pt x="224166" y="370535"/>
                </a:cubicBezTo>
                <a:close/>
                <a:moveTo>
                  <a:pt x="88366" y="808198"/>
                </a:moveTo>
                <a:cubicBezTo>
                  <a:pt x="87062" y="787864"/>
                  <a:pt x="102320" y="770457"/>
                  <a:pt x="122589" y="769156"/>
                </a:cubicBezTo>
                <a:lnTo>
                  <a:pt x="131469" y="772184"/>
                </a:lnTo>
                <a:lnTo>
                  <a:pt x="262894" y="689167"/>
                </a:lnTo>
                <a:lnTo>
                  <a:pt x="259960" y="683186"/>
                </a:lnTo>
                <a:cubicBezTo>
                  <a:pt x="258655" y="662852"/>
                  <a:pt x="273914" y="645445"/>
                  <a:pt x="294183" y="644144"/>
                </a:cubicBezTo>
                <a:cubicBezTo>
                  <a:pt x="314451" y="642844"/>
                  <a:pt x="331809" y="658158"/>
                  <a:pt x="333114" y="678492"/>
                </a:cubicBezTo>
                <a:cubicBezTo>
                  <a:pt x="334419" y="698825"/>
                  <a:pt x="319145" y="715998"/>
                  <a:pt x="298877" y="717299"/>
                </a:cubicBezTo>
                <a:cubicBezTo>
                  <a:pt x="288742" y="717949"/>
                  <a:pt x="279339" y="714504"/>
                  <a:pt x="272307" y="708355"/>
                </a:cubicBezTo>
                <a:lnTo>
                  <a:pt x="271161" y="706020"/>
                </a:lnTo>
                <a:lnTo>
                  <a:pt x="150960" y="781889"/>
                </a:lnTo>
                <a:lnTo>
                  <a:pt x="161520" y="803503"/>
                </a:lnTo>
                <a:lnTo>
                  <a:pt x="159742" y="808730"/>
                </a:lnTo>
                <a:lnTo>
                  <a:pt x="307477" y="878060"/>
                </a:lnTo>
                <a:lnTo>
                  <a:pt x="319315" y="872244"/>
                </a:lnTo>
                <a:lnTo>
                  <a:pt x="292166" y="728407"/>
                </a:lnTo>
                <a:cubicBezTo>
                  <a:pt x="291453" y="724694"/>
                  <a:pt x="294050" y="720767"/>
                  <a:pt x="298025" y="719807"/>
                </a:cubicBezTo>
                <a:cubicBezTo>
                  <a:pt x="302266" y="719300"/>
                  <a:pt x="306230" y="721866"/>
                  <a:pt x="306736" y="726062"/>
                </a:cubicBezTo>
                <a:lnTo>
                  <a:pt x="333305" y="866560"/>
                </a:lnTo>
                <a:lnTo>
                  <a:pt x="358452" y="875133"/>
                </a:lnTo>
                <a:cubicBezTo>
                  <a:pt x="365488" y="881340"/>
                  <a:pt x="370154" y="890252"/>
                  <a:pt x="370806" y="900419"/>
                </a:cubicBezTo>
                <a:cubicBezTo>
                  <a:pt x="372111" y="920753"/>
                  <a:pt x="356837" y="937926"/>
                  <a:pt x="336569" y="939227"/>
                </a:cubicBezTo>
                <a:cubicBezTo>
                  <a:pt x="316300" y="940527"/>
                  <a:pt x="298957" y="925447"/>
                  <a:pt x="297652" y="905113"/>
                </a:cubicBezTo>
                <a:lnTo>
                  <a:pt x="300876" y="895587"/>
                </a:lnTo>
                <a:lnTo>
                  <a:pt x="153710" y="826464"/>
                </a:lnTo>
                <a:lnTo>
                  <a:pt x="152492" y="830045"/>
                </a:lnTo>
                <a:cubicBezTo>
                  <a:pt x="146303" y="837042"/>
                  <a:pt x="137417" y="841660"/>
                  <a:pt x="127283" y="842311"/>
                </a:cubicBezTo>
                <a:cubicBezTo>
                  <a:pt x="107014" y="843611"/>
                  <a:pt x="89671" y="828531"/>
                  <a:pt x="88366" y="808198"/>
                </a:cubicBezTo>
                <a:close/>
                <a:moveTo>
                  <a:pt x="0" y="1014602"/>
                </a:moveTo>
                <a:cubicBezTo>
                  <a:pt x="0" y="984707"/>
                  <a:pt x="24482" y="960460"/>
                  <a:pt x="54142" y="960460"/>
                </a:cubicBezTo>
                <a:cubicBezTo>
                  <a:pt x="84273" y="960460"/>
                  <a:pt x="108520" y="984706"/>
                  <a:pt x="108519" y="1014602"/>
                </a:cubicBezTo>
                <a:lnTo>
                  <a:pt x="107143" y="1017937"/>
                </a:lnTo>
                <a:lnTo>
                  <a:pt x="233396" y="1051374"/>
                </a:lnTo>
                <a:lnTo>
                  <a:pt x="241868" y="1030657"/>
                </a:lnTo>
                <a:cubicBezTo>
                  <a:pt x="254361" y="1018004"/>
                  <a:pt x="271622" y="1010177"/>
                  <a:pt x="290697" y="1010177"/>
                </a:cubicBezTo>
                <a:cubicBezTo>
                  <a:pt x="309889" y="1010177"/>
                  <a:pt x="327267" y="1018004"/>
                  <a:pt x="339847" y="1030657"/>
                </a:cubicBezTo>
                <a:lnTo>
                  <a:pt x="349497" y="1045052"/>
                </a:lnTo>
                <a:lnTo>
                  <a:pt x="461545" y="992108"/>
                </a:lnTo>
                <a:lnTo>
                  <a:pt x="458899" y="981709"/>
                </a:lnTo>
                <a:cubicBezTo>
                  <a:pt x="461267" y="965901"/>
                  <a:pt x="475715" y="955284"/>
                  <a:pt x="491111" y="957407"/>
                </a:cubicBezTo>
                <a:cubicBezTo>
                  <a:pt x="506744" y="959767"/>
                  <a:pt x="517639" y="974159"/>
                  <a:pt x="515270" y="989495"/>
                </a:cubicBezTo>
                <a:cubicBezTo>
                  <a:pt x="513139" y="1005303"/>
                  <a:pt x="498691" y="1016157"/>
                  <a:pt x="483058" y="1014033"/>
                </a:cubicBezTo>
                <a:lnTo>
                  <a:pt x="467122" y="1004654"/>
                </a:lnTo>
                <a:lnTo>
                  <a:pt x="355623" y="1057251"/>
                </a:lnTo>
                <a:lnTo>
                  <a:pt x="360209" y="1080091"/>
                </a:lnTo>
                <a:cubicBezTo>
                  <a:pt x="360209" y="1108868"/>
                  <a:pt x="342699" y="1133673"/>
                  <a:pt x="317751" y="1144277"/>
                </a:cubicBezTo>
                <a:lnTo>
                  <a:pt x="313216" y="1145198"/>
                </a:lnTo>
                <a:lnTo>
                  <a:pt x="327545" y="1261613"/>
                </a:lnTo>
                <a:lnTo>
                  <a:pt x="351571" y="1271454"/>
                </a:lnTo>
                <a:cubicBezTo>
                  <a:pt x="358195" y="1278041"/>
                  <a:pt x="362280" y="1287175"/>
                  <a:pt x="362280" y="1297363"/>
                </a:cubicBezTo>
                <a:cubicBezTo>
                  <a:pt x="362280" y="1317738"/>
                  <a:pt x="345939" y="1334132"/>
                  <a:pt x="325628" y="1334132"/>
                </a:cubicBezTo>
                <a:cubicBezTo>
                  <a:pt x="305318" y="1334132"/>
                  <a:pt x="288976" y="1317738"/>
                  <a:pt x="288976" y="1297363"/>
                </a:cubicBezTo>
                <a:cubicBezTo>
                  <a:pt x="288976" y="1287175"/>
                  <a:pt x="293061" y="1278041"/>
                  <a:pt x="299686" y="1271454"/>
                </a:cubicBezTo>
                <a:lnTo>
                  <a:pt x="313206" y="1265916"/>
                </a:lnTo>
                <a:lnTo>
                  <a:pt x="298669" y="1148150"/>
                </a:lnTo>
                <a:lnTo>
                  <a:pt x="290697" y="1149768"/>
                </a:lnTo>
                <a:cubicBezTo>
                  <a:pt x="271622" y="1149769"/>
                  <a:pt x="254361" y="1141941"/>
                  <a:pt x="241868" y="1129318"/>
                </a:cubicBezTo>
                <a:lnTo>
                  <a:pt x="238616" y="1124447"/>
                </a:lnTo>
                <a:lnTo>
                  <a:pt x="162002" y="1178943"/>
                </a:lnTo>
                <a:lnTo>
                  <a:pt x="167651" y="1191454"/>
                </a:lnTo>
                <a:cubicBezTo>
                  <a:pt x="168593" y="1209879"/>
                  <a:pt x="154469" y="1224997"/>
                  <a:pt x="136579" y="1225706"/>
                </a:cubicBezTo>
                <a:cubicBezTo>
                  <a:pt x="118218" y="1226415"/>
                  <a:pt x="103152" y="1212241"/>
                  <a:pt x="102446" y="1194288"/>
                </a:cubicBezTo>
                <a:cubicBezTo>
                  <a:pt x="101504" y="1175863"/>
                  <a:pt x="115628" y="1160745"/>
                  <a:pt x="133754" y="1160272"/>
                </a:cubicBezTo>
                <a:lnTo>
                  <a:pt x="154321" y="1167665"/>
                </a:lnTo>
                <a:lnTo>
                  <a:pt x="230926" y="1112931"/>
                </a:lnTo>
                <a:lnTo>
                  <a:pt x="227076" y="1107165"/>
                </a:lnTo>
                <a:cubicBezTo>
                  <a:pt x="223583" y="1098834"/>
                  <a:pt x="221652" y="1089683"/>
                  <a:pt x="221652" y="1080090"/>
                </a:cubicBezTo>
                <a:lnTo>
                  <a:pt x="225553" y="1070552"/>
                </a:lnTo>
                <a:lnTo>
                  <a:pt x="99220" y="1037129"/>
                </a:lnTo>
                <a:lnTo>
                  <a:pt x="92630" y="1053090"/>
                </a:lnTo>
                <a:cubicBezTo>
                  <a:pt x="82802" y="1062918"/>
                  <a:pt x="69208" y="1068980"/>
                  <a:pt x="54142" y="1068980"/>
                </a:cubicBezTo>
                <a:cubicBezTo>
                  <a:pt x="24482" y="1068980"/>
                  <a:pt x="0" y="1044733"/>
                  <a:pt x="0" y="1014602"/>
                </a:cubicBezTo>
                <a:close/>
              </a:path>
            </a:pathLst>
          </a:custGeom>
          <a:solidFill>
            <a:srgbClr val="82ddd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90" name="Freeform 1829"/>
          <p:cNvSpPr/>
          <p:nvPr/>
        </p:nvSpPr>
        <p:spPr>
          <a:xfrm rot="521400">
            <a:off x="-5250960" y="-1236600"/>
            <a:ext cx="6559560" cy="2106720"/>
          </a:xfrm>
          <a:custGeom>
            <a:avLst/>
            <a:gdLst/>
            <a:ahLst/>
            <a:rect l="l" t="t" r="r" b="b"/>
            <a:pathLst>
              <a:path w="6179723" h="1983934">
                <a:moveTo>
                  <a:pt x="5850573" y="729177"/>
                </a:moveTo>
                <a:cubicBezTo>
                  <a:pt x="5862533" y="701779"/>
                  <a:pt x="5894671" y="689351"/>
                  <a:pt x="5921854" y="701218"/>
                </a:cubicBezTo>
                <a:cubicBezTo>
                  <a:pt x="5949469" y="713273"/>
                  <a:pt x="5961989" y="745194"/>
                  <a:pt x="5950029" y="772593"/>
                </a:cubicBezTo>
                <a:lnTo>
                  <a:pt x="5947433" y="775099"/>
                </a:lnTo>
                <a:lnTo>
                  <a:pt x="6035726" y="845120"/>
                </a:lnTo>
                <a:lnTo>
                  <a:pt x="6038513" y="841119"/>
                </a:lnTo>
                <a:cubicBezTo>
                  <a:pt x="6058154" y="822314"/>
                  <a:pt x="6087682" y="815988"/>
                  <a:pt x="6113904" y="827436"/>
                </a:cubicBezTo>
                <a:cubicBezTo>
                  <a:pt x="6149083" y="842791"/>
                  <a:pt x="6165087" y="883938"/>
                  <a:pt x="6149641" y="919320"/>
                </a:cubicBezTo>
                <a:cubicBezTo>
                  <a:pt x="6134291" y="954485"/>
                  <a:pt x="6093237" y="970725"/>
                  <a:pt x="6058058" y="955369"/>
                </a:cubicBezTo>
                <a:cubicBezTo>
                  <a:pt x="6049317" y="951553"/>
                  <a:pt x="6041775" y="946125"/>
                  <a:pt x="6035618" y="939581"/>
                </a:cubicBezTo>
                <a:lnTo>
                  <a:pt x="6026498" y="925065"/>
                </a:lnTo>
                <a:lnTo>
                  <a:pt x="5933297" y="944607"/>
                </a:lnTo>
                <a:lnTo>
                  <a:pt x="5933469" y="958331"/>
                </a:lnTo>
                <a:cubicBezTo>
                  <a:pt x="5926960" y="975594"/>
                  <a:pt x="5907967" y="983799"/>
                  <a:pt x="5891287" y="977292"/>
                </a:cubicBezTo>
                <a:cubicBezTo>
                  <a:pt x="5874176" y="970595"/>
                  <a:pt x="5866040" y="951578"/>
                  <a:pt x="5872575" y="934842"/>
                </a:cubicBezTo>
                <a:cubicBezTo>
                  <a:pt x="5879083" y="917579"/>
                  <a:pt x="5898076" y="909374"/>
                  <a:pt x="5914877" y="916192"/>
                </a:cubicBezTo>
                <a:lnTo>
                  <a:pt x="5930770" y="931196"/>
                </a:lnTo>
                <a:lnTo>
                  <a:pt x="6021602" y="911951"/>
                </a:lnTo>
                <a:lnTo>
                  <a:pt x="6022656" y="863887"/>
                </a:lnTo>
                <a:lnTo>
                  <a:pt x="6023959" y="862017"/>
                </a:lnTo>
                <a:lnTo>
                  <a:pt x="5932493" y="789518"/>
                </a:lnTo>
                <a:lnTo>
                  <a:pt x="5920069" y="801510"/>
                </a:lnTo>
                <a:cubicBezTo>
                  <a:pt x="5907130" y="806585"/>
                  <a:pt x="5892246" y="806702"/>
                  <a:pt x="5878438" y="800675"/>
                </a:cubicBezTo>
                <a:cubicBezTo>
                  <a:pt x="5851255" y="788808"/>
                  <a:pt x="5838518" y="756792"/>
                  <a:pt x="5850573" y="729177"/>
                </a:cubicBezTo>
                <a:close/>
                <a:moveTo>
                  <a:pt x="5696918" y="1144106"/>
                </a:moveTo>
                <a:cubicBezTo>
                  <a:pt x="5696775" y="1134724"/>
                  <a:pt x="5700228" y="1125299"/>
                  <a:pt x="5707311" y="1118021"/>
                </a:cubicBezTo>
                <a:cubicBezTo>
                  <a:pt x="5721476" y="1103465"/>
                  <a:pt x="5744622" y="1103188"/>
                  <a:pt x="5759224" y="1117397"/>
                </a:cubicBezTo>
                <a:cubicBezTo>
                  <a:pt x="5766526" y="1124502"/>
                  <a:pt x="5770222" y="1133800"/>
                  <a:pt x="5770323" y="1143142"/>
                </a:cubicBezTo>
                <a:lnTo>
                  <a:pt x="5764862" y="1156695"/>
                </a:lnTo>
                <a:lnTo>
                  <a:pt x="5860696" y="1229393"/>
                </a:lnTo>
                <a:lnTo>
                  <a:pt x="5863800" y="1221565"/>
                </a:lnTo>
                <a:cubicBezTo>
                  <a:pt x="5877103" y="1207895"/>
                  <a:pt x="5894751" y="1200983"/>
                  <a:pt x="5912510" y="1200835"/>
                </a:cubicBezTo>
                <a:lnTo>
                  <a:pt x="5918269" y="1201901"/>
                </a:lnTo>
                <a:lnTo>
                  <a:pt x="5932646" y="1108988"/>
                </a:lnTo>
                <a:lnTo>
                  <a:pt x="5919740" y="1104312"/>
                </a:lnTo>
                <a:cubicBezTo>
                  <a:pt x="5912809" y="1098224"/>
                  <a:pt x="5909098" y="1090014"/>
                  <a:pt x="5908615" y="1081661"/>
                </a:cubicBezTo>
                <a:cubicBezTo>
                  <a:pt x="5908133" y="1073308"/>
                  <a:pt x="5910879" y="1064813"/>
                  <a:pt x="5916863" y="1058154"/>
                </a:cubicBezTo>
                <a:cubicBezTo>
                  <a:pt x="5929161" y="1044502"/>
                  <a:pt x="5949825" y="1043590"/>
                  <a:pt x="5963184" y="1055604"/>
                </a:cubicBezTo>
                <a:cubicBezTo>
                  <a:pt x="5977046" y="1067780"/>
                  <a:pt x="5978030" y="1088446"/>
                  <a:pt x="5965728" y="1101765"/>
                </a:cubicBezTo>
                <a:lnTo>
                  <a:pt x="5946085" y="1111349"/>
                </a:lnTo>
                <a:lnTo>
                  <a:pt x="5931885" y="1204422"/>
                </a:lnTo>
                <a:lnTo>
                  <a:pt x="5938703" y="1205684"/>
                </a:lnTo>
                <a:cubicBezTo>
                  <a:pt x="5947109" y="1208991"/>
                  <a:pt x="5955014" y="1213989"/>
                  <a:pt x="5961889" y="1220680"/>
                </a:cubicBezTo>
                <a:lnTo>
                  <a:pt x="5967689" y="1229117"/>
                </a:lnTo>
                <a:lnTo>
                  <a:pt x="6078065" y="1162898"/>
                </a:lnTo>
                <a:lnTo>
                  <a:pt x="6071222" y="1147045"/>
                </a:lnTo>
                <a:cubicBezTo>
                  <a:pt x="6071032" y="1133146"/>
                  <a:pt x="6076169" y="1119177"/>
                  <a:pt x="6086676" y="1108380"/>
                </a:cubicBezTo>
                <a:cubicBezTo>
                  <a:pt x="6107362" y="1087123"/>
                  <a:pt x="6141813" y="1086488"/>
                  <a:pt x="6163407" y="1107503"/>
                </a:cubicBezTo>
                <a:cubicBezTo>
                  <a:pt x="6184832" y="1128352"/>
                  <a:pt x="6185134" y="1162807"/>
                  <a:pt x="6164448" y="1184064"/>
                </a:cubicBezTo>
                <a:cubicBezTo>
                  <a:pt x="6143434" y="1205658"/>
                  <a:pt x="6109148" y="1206124"/>
                  <a:pt x="6087723" y="1185275"/>
                </a:cubicBezTo>
                <a:lnTo>
                  <a:pt x="6086293" y="1181962"/>
                </a:lnTo>
                <a:lnTo>
                  <a:pt x="5978290" y="1246718"/>
                </a:lnTo>
                <a:lnTo>
                  <a:pt x="5983217" y="1269644"/>
                </a:lnTo>
                <a:cubicBezTo>
                  <a:pt x="5983572" y="1287420"/>
                  <a:pt x="5977143" y="1305249"/>
                  <a:pt x="5963840" y="1318920"/>
                </a:cubicBezTo>
                <a:cubicBezTo>
                  <a:pt x="5937070" y="1346428"/>
                  <a:pt x="5892924" y="1346902"/>
                  <a:pt x="5865256" y="1319978"/>
                </a:cubicBezTo>
                <a:cubicBezTo>
                  <a:pt x="5851507" y="1306598"/>
                  <a:pt x="5844450" y="1288872"/>
                  <a:pt x="5844177" y="1271053"/>
                </a:cubicBezTo>
                <a:lnTo>
                  <a:pt x="5855033" y="1243674"/>
                </a:lnTo>
                <a:lnTo>
                  <a:pt x="5757945" y="1169972"/>
                </a:lnTo>
                <a:lnTo>
                  <a:pt x="5734137" y="1180326"/>
                </a:lnTo>
                <a:cubicBezTo>
                  <a:pt x="5724796" y="1180480"/>
                  <a:pt x="5715401" y="1177037"/>
                  <a:pt x="5708100" y="1169933"/>
                </a:cubicBezTo>
                <a:cubicBezTo>
                  <a:pt x="5700799" y="1162827"/>
                  <a:pt x="5697060" y="1153489"/>
                  <a:pt x="5696918" y="1144106"/>
                </a:cubicBezTo>
                <a:close/>
                <a:moveTo>
                  <a:pt x="5626425" y="1373247"/>
                </a:moveTo>
                <a:cubicBezTo>
                  <a:pt x="5638385" y="1345848"/>
                  <a:pt x="5670522" y="1333421"/>
                  <a:pt x="5697706" y="1345287"/>
                </a:cubicBezTo>
                <a:cubicBezTo>
                  <a:pt x="5725320" y="1357342"/>
                  <a:pt x="5737841" y="1389264"/>
                  <a:pt x="5725881" y="1416662"/>
                </a:cubicBezTo>
                <a:lnTo>
                  <a:pt x="5723285" y="1419169"/>
                </a:lnTo>
                <a:lnTo>
                  <a:pt x="5811578" y="1489190"/>
                </a:lnTo>
                <a:lnTo>
                  <a:pt x="5814365" y="1485188"/>
                </a:lnTo>
                <a:cubicBezTo>
                  <a:pt x="5834006" y="1466384"/>
                  <a:pt x="5863534" y="1460058"/>
                  <a:pt x="5889756" y="1471505"/>
                </a:cubicBezTo>
                <a:cubicBezTo>
                  <a:pt x="5924935" y="1486861"/>
                  <a:pt x="5940938" y="1528008"/>
                  <a:pt x="5925493" y="1563389"/>
                </a:cubicBezTo>
                <a:cubicBezTo>
                  <a:pt x="5910142" y="1598555"/>
                  <a:pt x="5869088" y="1614795"/>
                  <a:pt x="5833910" y="1599438"/>
                </a:cubicBezTo>
                <a:cubicBezTo>
                  <a:pt x="5825169" y="1595622"/>
                  <a:pt x="5817627" y="1590195"/>
                  <a:pt x="5811469" y="1583650"/>
                </a:cubicBezTo>
                <a:lnTo>
                  <a:pt x="5802350" y="1569134"/>
                </a:lnTo>
                <a:lnTo>
                  <a:pt x="5709149" y="1588675"/>
                </a:lnTo>
                <a:lnTo>
                  <a:pt x="5709321" y="1602401"/>
                </a:lnTo>
                <a:cubicBezTo>
                  <a:pt x="5702812" y="1619664"/>
                  <a:pt x="5683819" y="1627869"/>
                  <a:pt x="5667139" y="1621361"/>
                </a:cubicBezTo>
                <a:cubicBezTo>
                  <a:pt x="5650028" y="1614665"/>
                  <a:pt x="5641892" y="1595648"/>
                  <a:pt x="5648427" y="1578911"/>
                </a:cubicBezTo>
                <a:cubicBezTo>
                  <a:pt x="5654935" y="1561648"/>
                  <a:pt x="5673928" y="1553443"/>
                  <a:pt x="5690729" y="1560261"/>
                </a:cubicBezTo>
                <a:lnTo>
                  <a:pt x="5706621" y="1575266"/>
                </a:lnTo>
                <a:lnTo>
                  <a:pt x="5797454" y="1556021"/>
                </a:lnTo>
                <a:lnTo>
                  <a:pt x="5798508" y="1507956"/>
                </a:lnTo>
                <a:lnTo>
                  <a:pt x="5799811" y="1506086"/>
                </a:lnTo>
                <a:lnTo>
                  <a:pt x="5708345" y="1433588"/>
                </a:lnTo>
                <a:lnTo>
                  <a:pt x="5695921" y="1445579"/>
                </a:lnTo>
                <a:cubicBezTo>
                  <a:pt x="5682982" y="1450655"/>
                  <a:pt x="5668098" y="1450771"/>
                  <a:pt x="5654290" y="1444744"/>
                </a:cubicBezTo>
                <a:cubicBezTo>
                  <a:pt x="5627107" y="1432877"/>
                  <a:pt x="5614370" y="1400862"/>
                  <a:pt x="5626425" y="1373247"/>
                </a:cubicBezTo>
                <a:close/>
                <a:moveTo>
                  <a:pt x="5472769" y="1788175"/>
                </a:moveTo>
                <a:cubicBezTo>
                  <a:pt x="5472627" y="1778793"/>
                  <a:pt x="5476080" y="1769368"/>
                  <a:pt x="5483163" y="1762091"/>
                </a:cubicBezTo>
                <a:cubicBezTo>
                  <a:pt x="5497328" y="1747535"/>
                  <a:pt x="5520474" y="1747257"/>
                  <a:pt x="5535076" y="1761467"/>
                </a:cubicBezTo>
                <a:cubicBezTo>
                  <a:pt x="5542377" y="1768572"/>
                  <a:pt x="5546074" y="1777870"/>
                  <a:pt x="5546174" y="1787212"/>
                </a:cubicBezTo>
                <a:lnTo>
                  <a:pt x="5540714" y="1800764"/>
                </a:lnTo>
                <a:lnTo>
                  <a:pt x="5636548" y="1873462"/>
                </a:lnTo>
                <a:lnTo>
                  <a:pt x="5639652" y="1865635"/>
                </a:lnTo>
                <a:cubicBezTo>
                  <a:pt x="5652955" y="1851965"/>
                  <a:pt x="5670603" y="1845053"/>
                  <a:pt x="5688362" y="1844904"/>
                </a:cubicBezTo>
                <a:lnTo>
                  <a:pt x="5694121" y="1845970"/>
                </a:lnTo>
                <a:lnTo>
                  <a:pt x="5708498" y="1753058"/>
                </a:lnTo>
                <a:lnTo>
                  <a:pt x="5695592" y="1748381"/>
                </a:lnTo>
                <a:cubicBezTo>
                  <a:pt x="5688661" y="1742294"/>
                  <a:pt x="5684950" y="1734083"/>
                  <a:pt x="5684467" y="1725730"/>
                </a:cubicBezTo>
                <a:cubicBezTo>
                  <a:pt x="5683984" y="1717378"/>
                  <a:pt x="5686731" y="1708882"/>
                  <a:pt x="5692715" y="1702224"/>
                </a:cubicBezTo>
                <a:cubicBezTo>
                  <a:pt x="5705013" y="1688571"/>
                  <a:pt x="5725677" y="1687659"/>
                  <a:pt x="5739036" y="1699674"/>
                </a:cubicBezTo>
                <a:cubicBezTo>
                  <a:pt x="5752898" y="1711850"/>
                  <a:pt x="5753882" y="1732516"/>
                  <a:pt x="5741580" y="1745835"/>
                </a:cubicBezTo>
                <a:lnTo>
                  <a:pt x="5721937" y="1755418"/>
                </a:lnTo>
                <a:lnTo>
                  <a:pt x="5707737" y="1848491"/>
                </a:lnTo>
                <a:lnTo>
                  <a:pt x="5714555" y="1849753"/>
                </a:lnTo>
                <a:cubicBezTo>
                  <a:pt x="5722961" y="1853060"/>
                  <a:pt x="5730866" y="1858058"/>
                  <a:pt x="5737741" y="1864749"/>
                </a:cubicBezTo>
                <a:lnTo>
                  <a:pt x="5743541" y="1873186"/>
                </a:lnTo>
                <a:lnTo>
                  <a:pt x="5853916" y="1806968"/>
                </a:lnTo>
                <a:lnTo>
                  <a:pt x="5847073" y="1791114"/>
                </a:lnTo>
                <a:cubicBezTo>
                  <a:pt x="5846884" y="1777216"/>
                  <a:pt x="5852021" y="1763246"/>
                  <a:pt x="5862528" y="1752449"/>
                </a:cubicBezTo>
                <a:cubicBezTo>
                  <a:pt x="5883214" y="1731193"/>
                  <a:pt x="5917664" y="1730558"/>
                  <a:pt x="5939258" y="1751572"/>
                </a:cubicBezTo>
                <a:cubicBezTo>
                  <a:pt x="5960684" y="1772422"/>
                  <a:pt x="5960986" y="1806876"/>
                  <a:pt x="5940300" y="1828133"/>
                </a:cubicBezTo>
                <a:cubicBezTo>
                  <a:pt x="5919286" y="1849727"/>
                  <a:pt x="5885000" y="1850194"/>
                  <a:pt x="5863575" y="1829344"/>
                </a:cubicBezTo>
                <a:lnTo>
                  <a:pt x="5862144" y="1826031"/>
                </a:lnTo>
                <a:lnTo>
                  <a:pt x="5754141" y="1890787"/>
                </a:lnTo>
                <a:lnTo>
                  <a:pt x="5759069" y="1913713"/>
                </a:lnTo>
                <a:cubicBezTo>
                  <a:pt x="5759424" y="1931489"/>
                  <a:pt x="5752996" y="1949319"/>
                  <a:pt x="5739692" y="1962989"/>
                </a:cubicBezTo>
                <a:cubicBezTo>
                  <a:pt x="5712922" y="1990497"/>
                  <a:pt x="5668775" y="1990972"/>
                  <a:pt x="5641108" y="1964047"/>
                </a:cubicBezTo>
                <a:cubicBezTo>
                  <a:pt x="5627359" y="1950667"/>
                  <a:pt x="5620302" y="1932941"/>
                  <a:pt x="5620029" y="1915122"/>
                </a:cubicBezTo>
                <a:lnTo>
                  <a:pt x="5630885" y="1887743"/>
                </a:lnTo>
                <a:lnTo>
                  <a:pt x="5533797" y="1814041"/>
                </a:lnTo>
                <a:lnTo>
                  <a:pt x="5509989" y="1824395"/>
                </a:lnTo>
                <a:cubicBezTo>
                  <a:pt x="5500648" y="1824549"/>
                  <a:pt x="5491253" y="1821107"/>
                  <a:pt x="5483952" y="1814002"/>
                </a:cubicBezTo>
                <a:cubicBezTo>
                  <a:pt x="5476651" y="1806896"/>
                  <a:pt x="5472912" y="1797558"/>
                  <a:pt x="5472769" y="1788175"/>
                </a:cubicBezTo>
                <a:close/>
                <a:moveTo>
                  <a:pt x="5460341" y="917280"/>
                </a:moveTo>
                <a:cubicBezTo>
                  <a:pt x="5460341" y="896970"/>
                  <a:pt x="5476735" y="880629"/>
                  <a:pt x="5497110" y="880628"/>
                </a:cubicBezTo>
                <a:cubicBezTo>
                  <a:pt x="5507298" y="880628"/>
                  <a:pt x="5516432" y="884714"/>
                  <a:pt x="5523019" y="891338"/>
                </a:cubicBezTo>
                <a:lnTo>
                  <a:pt x="5528558" y="904861"/>
                </a:lnTo>
                <a:lnTo>
                  <a:pt x="5646324" y="890323"/>
                </a:lnTo>
                <a:lnTo>
                  <a:pt x="5644705" y="882350"/>
                </a:lnTo>
                <a:cubicBezTo>
                  <a:pt x="5644705" y="863275"/>
                  <a:pt x="5652532" y="846013"/>
                  <a:pt x="5665155" y="833521"/>
                </a:cubicBezTo>
                <a:lnTo>
                  <a:pt x="5670026" y="830269"/>
                </a:lnTo>
                <a:lnTo>
                  <a:pt x="5615531" y="753655"/>
                </a:lnTo>
                <a:lnTo>
                  <a:pt x="5603020" y="759304"/>
                </a:lnTo>
                <a:cubicBezTo>
                  <a:pt x="5584595" y="760246"/>
                  <a:pt x="5569476" y="746122"/>
                  <a:pt x="5568767" y="728231"/>
                </a:cubicBezTo>
                <a:cubicBezTo>
                  <a:pt x="5568059" y="709870"/>
                  <a:pt x="5582232" y="694805"/>
                  <a:pt x="5600186" y="694099"/>
                </a:cubicBezTo>
                <a:cubicBezTo>
                  <a:pt x="5618611" y="693157"/>
                  <a:pt x="5633729" y="707281"/>
                  <a:pt x="5634202" y="725407"/>
                </a:cubicBezTo>
                <a:lnTo>
                  <a:pt x="5626809" y="745974"/>
                </a:lnTo>
                <a:lnTo>
                  <a:pt x="5681542" y="822578"/>
                </a:lnTo>
                <a:lnTo>
                  <a:pt x="5687309" y="818728"/>
                </a:lnTo>
                <a:cubicBezTo>
                  <a:pt x="5695640" y="815236"/>
                  <a:pt x="5704791" y="813305"/>
                  <a:pt x="5714383" y="813305"/>
                </a:cubicBezTo>
                <a:lnTo>
                  <a:pt x="5724425" y="815307"/>
                </a:lnTo>
                <a:lnTo>
                  <a:pt x="5757346" y="690872"/>
                </a:lnTo>
                <a:lnTo>
                  <a:pt x="5741383" y="684282"/>
                </a:lnTo>
                <a:cubicBezTo>
                  <a:pt x="5731556" y="674454"/>
                  <a:pt x="5725494" y="660859"/>
                  <a:pt x="5725494" y="645794"/>
                </a:cubicBezTo>
                <a:cubicBezTo>
                  <a:pt x="5725494" y="616134"/>
                  <a:pt x="5749740" y="591652"/>
                  <a:pt x="5779871" y="591653"/>
                </a:cubicBezTo>
                <a:cubicBezTo>
                  <a:pt x="5809767" y="591653"/>
                  <a:pt x="5834013" y="616134"/>
                  <a:pt x="5834013" y="645794"/>
                </a:cubicBezTo>
                <a:cubicBezTo>
                  <a:pt x="5834014" y="675926"/>
                  <a:pt x="5809767" y="700172"/>
                  <a:pt x="5779871" y="700172"/>
                </a:cubicBezTo>
                <a:lnTo>
                  <a:pt x="5776537" y="698796"/>
                </a:lnTo>
                <a:lnTo>
                  <a:pt x="5744297" y="820528"/>
                </a:lnTo>
                <a:lnTo>
                  <a:pt x="5763817" y="833521"/>
                </a:lnTo>
                <a:cubicBezTo>
                  <a:pt x="5776469" y="846013"/>
                  <a:pt x="5784296" y="863275"/>
                  <a:pt x="5784297" y="882350"/>
                </a:cubicBezTo>
                <a:cubicBezTo>
                  <a:pt x="5784297" y="901541"/>
                  <a:pt x="5776470" y="918920"/>
                  <a:pt x="5763817" y="931500"/>
                </a:cubicBezTo>
                <a:lnTo>
                  <a:pt x="5749421" y="941150"/>
                </a:lnTo>
                <a:lnTo>
                  <a:pt x="5802365" y="1053198"/>
                </a:lnTo>
                <a:lnTo>
                  <a:pt x="5812764" y="1050552"/>
                </a:lnTo>
                <a:cubicBezTo>
                  <a:pt x="5828573" y="1052921"/>
                  <a:pt x="5839190" y="1067369"/>
                  <a:pt x="5837067" y="1082765"/>
                </a:cubicBezTo>
                <a:cubicBezTo>
                  <a:pt x="5834707" y="1098397"/>
                  <a:pt x="5820315" y="1109292"/>
                  <a:pt x="5804979" y="1106924"/>
                </a:cubicBezTo>
                <a:cubicBezTo>
                  <a:pt x="5789170" y="1104792"/>
                  <a:pt x="5778317" y="1090344"/>
                  <a:pt x="5780440" y="1074712"/>
                </a:cubicBezTo>
                <a:lnTo>
                  <a:pt x="5789820" y="1058776"/>
                </a:lnTo>
                <a:lnTo>
                  <a:pt x="5737222" y="947276"/>
                </a:lnTo>
                <a:lnTo>
                  <a:pt x="5714383" y="951862"/>
                </a:lnTo>
                <a:cubicBezTo>
                  <a:pt x="5685606" y="951862"/>
                  <a:pt x="5660801" y="934352"/>
                  <a:pt x="5650196" y="909404"/>
                </a:cubicBezTo>
                <a:lnTo>
                  <a:pt x="5649276" y="904870"/>
                </a:lnTo>
                <a:lnTo>
                  <a:pt x="5532860" y="919198"/>
                </a:lnTo>
                <a:lnTo>
                  <a:pt x="5523019" y="943223"/>
                </a:lnTo>
                <a:cubicBezTo>
                  <a:pt x="5516432" y="949847"/>
                  <a:pt x="5507298" y="953933"/>
                  <a:pt x="5497111" y="953933"/>
                </a:cubicBezTo>
                <a:cubicBezTo>
                  <a:pt x="5476735" y="953934"/>
                  <a:pt x="5460341" y="937592"/>
                  <a:pt x="5460341" y="917280"/>
                </a:cubicBezTo>
                <a:close/>
                <a:moveTo>
                  <a:pt x="5236193" y="1561350"/>
                </a:moveTo>
                <a:cubicBezTo>
                  <a:pt x="5236193" y="1541040"/>
                  <a:pt x="5252587" y="1524698"/>
                  <a:pt x="5272962" y="1524698"/>
                </a:cubicBezTo>
                <a:cubicBezTo>
                  <a:pt x="5283150" y="1524698"/>
                  <a:pt x="5292284" y="1528783"/>
                  <a:pt x="5298871" y="1535407"/>
                </a:cubicBezTo>
                <a:lnTo>
                  <a:pt x="5304410" y="1548929"/>
                </a:lnTo>
                <a:lnTo>
                  <a:pt x="5422175" y="1534392"/>
                </a:lnTo>
                <a:lnTo>
                  <a:pt x="5420557" y="1526419"/>
                </a:lnTo>
                <a:cubicBezTo>
                  <a:pt x="5420557" y="1507344"/>
                  <a:pt x="5428384" y="1490083"/>
                  <a:pt x="5441007" y="1477590"/>
                </a:cubicBezTo>
                <a:lnTo>
                  <a:pt x="5445878" y="1474338"/>
                </a:lnTo>
                <a:lnTo>
                  <a:pt x="5391382" y="1397724"/>
                </a:lnTo>
                <a:lnTo>
                  <a:pt x="5378872" y="1403373"/>
                </a:lnTo>
                <a:cubicBezTo>
                  <a:pt x="5360446" y="1404315"/>
                  <a:pt x="5345328" y="1390191"/>
                  <a:pt x="5344619" y="1372301"/>
                </a:cubicBezTo>
                <a:cubicBezTo>
                  <a:pt x="5343911" y="1353940"/>
                  <a:pt x="5358084" y="1338874"/>
                  <a:pt x="5376037" y="1338168"/>
                </a:cubicBezTo>
                <a:cubicBezTo>
                  <a:pt x="5394462" y="1337227"/>
                  <a:pt x="5409581" y="1351350"/>
                  <a:pt x="5410053" y="1369476"/>
                </a:cubicBezTo>
                <a:lnTo>
                  <a:pt x="5402661" y="1390043"/>
                </a:lnTo>
                <a:lnTo>
                  <a:pt x="5457394" y="1466648"/>
                </a:lnTo>
                <a:lnTo>
                  <a:pt x="5463160" y="1462798"/>
                </a:lnTo>
                <a:cubicBezTo>
                  <a:pt x="5471492" y="1459305"/>
                  <a:pt x="5480643" y="1457374"/>
                  <a:pt x="5490235" y="1457375"/>
                </a:cubicBezTo>
                <a:lnTo>
                  <a:pt x="5500277" y="1459376"/>
                </a:lnTo>
                <a:lnTo>
                  <a:pt x="5532265" y="1338467"/>
                </a:lnTo>
                <a:lnTo>
                  <a:pt x="5517236" y="1328352"/>
                </a:lnTo>
                <a:cubicBezTo>
                  <a:pt x="5507408" y="1318523"/>
                  <a:pt x="5501346" y="1304929"/>
                  <a:pt x="5501346" y="1289863"/>
                </a:cubicBezTo>
                <a:cubicBezTo>
                  <a:pt x="5501346" y="1260203"/>
                  <a:pt x="5525592" y="1235722"/>
                  <a:pt x="5555723" y="1235722"/>
                </a:cubicBezTo>
                <a:cubicBezTo>
                  <a:pt x="5585619" y="1235722"/>
                  <a:pt x="5609865" y="1260203"/>
                  <a:pt x="5609865" y="1289864"/>
                </a:cubicBezTo>
                <a:cubicBezTo>
                  <a:pt x="5609865" y="1319995"/>
                  <a:pt x="5585619" y="1344241"/>
                  <a:pt x="5555723" y="1344241"/>
                </a:cubicBezTo>
                <a:lnTo>
                  <a:pt x="5552211" y="1343536"/>
                </a:lnTo>
                <a:lnTo>
                  <a:pt x="5520149" y="1464597"/>
                </a:lnTo>
                <a:lnTo>
                  <a:pt x="5539669" y="1477590"/>
                </a:lnTo>
                <a:cubicBezTo>
                  <a:pt x="5552321" y="1490083"/>
                  <a:pt x="5560148" y="1507344"/>
                  <a:pt x="5560148" y="1526419"/>
                </a:cubicBezTo>
                <a:cubicBezTo>
                  <a:pt x="5560149" y="1545611"/>
                  <a:pt x="5552321" y="1562989"/>
                  <a:pt x="5539668" y="1575569"/>
                </a:cubicBezTo>
                <a:lnTo>
                  <a:pt x="5525273" y="1585220"/>
                </a:lnTo>
                <a:lnTo>
                  <a:pt x="5578218" y="1697267"/>
                </a:lnTo>
                <a:lnTo>
                  <a:pt x="5588616" y="1694621"/>
                </a:lnTo>
                <a:cubicBezTo>
                  <a:pt x="5604425" y="1696990"/>
                  <a:pt x="5615042" y="1711438"/>
                  <a:pt x="5612918" y="1726834"/>
                </a:cubicBezTo>
                <a:cubicBezTo>
                  <a:pt x="5610559" y="1742467"/>
                  <a:pt x="5596167" y="1753362"/>
                  <a:pt x="5580830" y="1750993"/>
                </a:cubicBezTo>
                <a:cubicBezTo>
                  <a:pt x="5565022" y="1748862"/>
                  <a:pt x="5554169" y="1734413"/>
                  <a:pt x="5556292" y="1718781"/>
                </a:cubicBezTo>
                <a:lnTo>
                  <a:pt x="5565671" y="1702846"/>
                </a:lnTo>
                <a:lnTo>
                  <a:pt x="5513074" y="1591345"/>
                </a:lnTo>
                <a:lnTo>
                  <a:pt x="5490235" y="1595931"/>
                </a:lnTo>
                <a:cubicBezTo>
                  <a:pt x="5461457" y="1595931"/>
                  <a:pt x="5436652" y="1578422"/>
                  <a:pt x="5426048" y="1553473"/>
                </a:cubicBezTo>
                <a:lnTo>
                  <a:pt x="5425128" y="1548939"/>
                </a:lnTo>
                <a:lnTo>
                  <a:pt x="5308712" y="1563269"/>
                </a:lnTo>
                <a:lnTo>
                  <a:pt x="5298871" y="1587293"/>
                </a:lnTo>
                <a:cubicBezTo>
                  <a:pt x="5292284" y="1593917"/>
                  <a:pt x="5283150" y="1598002"/>
                  <a:pt x="5272962" y="1598003"/>
                </a:cubicBezTo>
                <a:cubicBezTo>
                  <a:pt x="5252587" y="1598002"/>
                  <a:pt x="5236193" y="1581661"/>
                  <a:pt x="5236193" y="1561350"/>
                </a:cubicBezTo>
                <a:close/>
                <a:moveTo>
                  <a:pt x="5220529" y="988697"/>
                </a:moveTo>
                <a:cubicBezTo>
                  <a:pt x="5220529" y="968322"/>
                  <a:pt x="5236871" y="952162"/>
                  <a:pt x="5257181" y="952162"/>
                </a:cubicBezTo>
                <a:cubicBezTo>
                  <a:pt x="5277492" y="952163"/>
                  <a:pt x="5293833" y="968322"/>
                  <a:pt x="5293834" y="988698"/>
                </a:cubicBezTo>
                <a:lnTo>
                  <a:pt x="5290007" y="997997"/>
                </a:lnTo>
                <a:lnTo>
                  <a:pt x="5432444" y="1076402"/>
                </a:lnTo>
                <a:lnTo>
                  <a:pt x="5433888" y="1072908"/>
                </a:lnTo>
                <a:cubicBezTo>
                  <a:pt x="5440513" y="1066321"/>
                  <a:pt x="5449676" y="1062280"/>
                  <a:pt x="5459831" y="1062281"/>
                </a:cubicBezTo>
                <a:cubicBezTo>
                  <a:pt x="5480142" y="1062281"/>
                  <a:pt x="5496483" y="1078441"/>
                  <a:pt x="5496484" y="1098816"/>
                </a:cubicBezTo>
                <a:cubicBezTo>
                  <a:pt x="5496483" y="1119192"/>
                  <a:pt x="5480141" y="1135586"/>
                  <a:pt x="5459831" y="1135586"/>
                </a:cubicBezTo>
                <a:lnTo>
                  <a:pt x="5451164" y="1131995"/>
                </a:lnTo>
                <a:lnTo>
                  <a:pt x="5314691" y="1206427"/>
                </a:lnTo>
                <a:lnTo>
                  <a:pt x="5317236" y="1212584"/>
                </a:lnTo>
                <a:cubicBezTo>
                  <a:pt x="5317236" y="1232959"/>
                  <a:pt x="5300894" y="1249353"/>
                  <a:pt x="5280584" y="1249353"/>
                </a:cubicBezTo>
                <a:cubicBezTo>
                  <a:pt x="5260273" y="1249353"/>
                  <a:pt x="5243931" y="1232959"/>
                  <a:pt x="5243931" y="1212583"/>
                </a:cubicBezTo>
                <a:cubicBezTo>
                  <a:pt x="5243931" y="1192208"/>
                  <a:pt x="5260273" y="1176048"/>
                  <a:pt x="5280583" y="1176048"/>
                </a:cubicBezTo>
                <a:cubicBezTo>
                  <a:pt x="5290739" y="1176048"/>
                  <a:pt x="5299902" y="1180088"/>
                  <a:pt x="5306526" y="1186675"/>
                </a:cubicBezTo>
                <a:lnTo>
                  <a:pt x="5307519" y="1189078"/>
                </a:lnTo>
                <a:lnTo>
                  <a:pt x="5432333" y="1121061"/>
                </a:lnTo>
                <a:lnTo>
                  <a:pt x="5423179" y="1098816"/>
                </a:lnTo>
                <a:lnTo>
                  <a:pt x="5425288" y="1093712"/>
                </a:lnTo>
                <a:lnTo>
                  <a:pt x="5282298" y="1015066"/>
                </a:lnTo>
                <a:lnTo>
                  <a:pt x="5270110" y="1020113"/>
                </a:lnTo>
                <a:lnTo>
                  <a:pt x="5287992" y="1165392"/>
                </a:lnTo>
                <a:cubicBezTo>
                  <a:pt x="5288466" y="1169143"/>
                  <a:pt x="5285623" y="1172895"/>
                  <a:pt x="5281595" y="1173599"/>
                </a:cubicBezTo>
                <a:cubicBezTo>
                  <a:pt x="5277329" y="1173833"/>
                  <a:pt x="5273539" y="1171020"/>
                  <a:pt x="5273302" y="1166798"/>
                </a:cubicBezTo>
                <a:lnTo>
                  <a:pt x="5255784" y="1024888"/>
                </a:lnTo>
                <a:lnTo>
                  <a:pt x="5231239" y="1014723"/>
                </a:lnTo>
                <a:cubicBezTo>
                  <a:pt x="5224614" y="1008078"/>
                  <a:pt x="5220529" y="998885"/>
                  <a:pt x="5220529" y="988697"/>
                </a:cubicBezTo>
                <a:close/>
                <a:moveTo>
                  <a:pt x="5130667" y="650602"/>
                </a:moveTo>
                <a:cubicBezTo>
                  <a:pt x="5131455" y="641562"/>
                  <a:pt x="5134022" y="632521"/>
                  <a:pt x="5138522" y="623982"/>
                </a:cubicBezTo>
                <a:cubicBezTo>
                  <a:pt x="5156414" y="590039"/>
                  <a:pt x="5198550" y="576858"/>
                  <a:pt x="5232506" y="594757"/>
                </a:cubicBezTo>
                <a:cubicBezTo>
                  <a:pt x="5240943" y="599204"/>
                  <a:pt x="5248066" y="605172"/>
                  <a:pt x="5253726" y="612150"/>
                </a:cubicBezTo>
                <a:lnTo>
                  <a:pt x="5261756" y="627297"/>
                </a:lnTo>
                <a:lnTo>
                  <a:pt x="5356141" y="614653"/>
                </a:lnTo>
                <a:lnTo>
                  <a:pt x="5356978" y="600952"/>
                </a:lnTo>
                <a:cubicBezTo>
                  <a:pt x="5364737" y="584213"/>
                  <a:pt x="5384280" y="577425"/>
                  <a:pt x="5400437" y="585140"/>
                </a:cubicBezTo>
                <a:cubicBezTo>
                  <a:pt x="5417010" y="593076"/>
                  <a:pt x="5423729" y="612639"/>
                  <a:pt x="5415982" y="628849"/>
                </a:cubicBezTo>
                <a:cubicBezTo>
                  <a:pt x="5408223" y="645588"/>
                  <a:pt x="5388679" y="652376"/>
                  <a:pt x="5372424" y="644343"/>
                </a:cubicBezTo>
                <a:lnTo>
                  <a:pt x="5357677" y="628212"/>
                </a:lnTo>
                <a:lnTo>
                  <a:pt x="5266683" y="640597"/>
                </a:lnTo>
                <a:lnTo>
                  <a:pt x="5268921" y="662111"/>
                </a:lnTo>
                <a:cubicBezTo>
                  <a:pt x="5268126" y="671110"/>
                  <a:pt x="5265567" y="680106"/>
                  <a:pt x="5261094" y="688591"/>
                </a:cubicBezTo>
                <a:lnTo>
                  <a:pt x="5259657" y="690361"/>
                </a:lnTo>
                <a:lnTo>
                  <a:pt x="5345553" y="769382"/>
                </a:lnTo>
                <a:lnTo>
                  <a:pt x="5358825" y="758335"/>
                </a:lnTo>
                <a:cubicBezTo>
                  <a:pt x="5372102" y="754224"/>
                  <a:pt x="5386955" y="755200"/>
                  <a:pt x="5400282" y="762225"/>
                </a:cubicBezTo>
                <a:cubicBezTo>
                  <a:pt x="5426520" y="776056"/>
                  <a:pt x="5436872" y="808920"/>
                  <a:pt x="5422821" y="835576"/>
                </a:cubicBezTo>
                <a:cubicBezTo>
                  <a:pt x="5408881" y="862022"/>
                  <a:pt x="5375918" y="872055"/>
                  <a:pt x="5349679" y="858224"/>
                </a:cubicBezTo>
                <a:cubicBezTo>
                  <a:pt x="5329688" y="847687"/>
                  <a:pt x="5318985" y="826628"/>
                  <a:pt x="5320764" y="805600"/>
                </a:cubicBezTo>
                <a:cubicBezTo>
                  <a:pt x="5321357" y="798591"/>
                  <a:pt x="5323337" y="791584"/>
                  <a:pt x="5326822" y="784972"/>
                </a:cubicBezTo>
                <a:lnTo>
                  <a:pt x="5329595" y="782664"/>
                </a:lnTo>
                <a:lnTo>
                  <a:pt x="5246682" y="706347"/>
                </a:lnTo>
                <a:lnTo>
                  <a:pt x="5243608" y="710134"/>
                </a:lnTo>
                <a:cubicBezTo>
                  <a:pt x="5222639" y="727446"/>
                  <a:pt x="5192727" y="731585"/>
                  <a:pt x="5167415" y="718243"/>
                </a:cubicBezTo>
                <a:cubicBezTo>
                  <a:pt x="5141949" y="704820"/>
                  <a:pt x="5128304" y="677720"/>
                  <a:pt x="5130667" y="650602"/>
                </a:cubicBezTo>
                <a:close/>
                <a:moveTo>
                  <a:pt x="4996381" y="1632767"/>
                </a:moveTo>
                <a:cubicBezTo>
                  <a:pt x="4996381" y="1612391"/>
                  <a:pt x="5012723" y="1596232"/>
                  <a:pt x="5033033" y="1596232"/>
                </a:cubicBezTo>
                <a:cubicBezTo>
                  <a:pt x="5053343" y="1596231"/>
                  <a:pt x="5069685" y="1612392"/>
                  <a:pt x="5069685" y="1632767"/>
                </a:cubicBezTo>
                <a:lnTo>
                  <a:pt x="5065858" y="1642067"/>
                </a:lnTo>
                <a:lnTo>
                  <a:pt x="5208296" y="1720472"/>
                </a:lnTo>
                <a:lnTo>
                  <a:pt x="5209740" y="1716977"/>
                </a:lnTo>
                <a:cubicBezTo>
                  <a:pt x="5216365" y="1710390"/>
                  <a:pt x="5225528" y="1706350"/>
                  <a:pt x="5235683" y="1706350"/>
                </a:cubicBezTo>
                <a:cubicBezTo>
                  <a:pt x="5255993" y="1706350"/>
                  <a:pt x="5272335" y="1722510"/>
                  <a:pt x="5272335" y="1742885"/>
                </a:cubicBezTo>
                <a:cubicBezTo>
                  <a:pt x="5272335" y="1763261"/>
                  <a:pt x="5255993" y="1779655"/>
                  <a:pt x="5235683" y="1779655"/>
                </a:cubicBezTo>
                <a:lnTo>
                  <a:pt x="5227014" y="1776065"/>
                </a:lnTo>
                <a:lnTo>
                  <a:pt x="5090542" y="1850495"/>
                </a:lnTo>
                <a:lnTo>
                  <a:pt x="5093088" y="1856653"/>
                </a:lnTo>
                <a:cubicBezTo>
                  <a:pt x="5093088" y="1877028"/>
                  <a:pt x="5076746" y="1893422"/>
                  <a:pt x="5056435" y="1893423"/>
                </a:cubicBezTo>
                <a:cubicBezTo>
                  <a:pt x="5036125" y="1893423"/>
                  <a:pt x="5019783" y="1877028"/>
                  <a:pt x="5019783" y="1856653"/>
                </a:cubicBezTo>
                <a:cubicBezTo>
                  <a:pt x="5019783" y="1836278"/>
                  <a:pt x="5036125" y="1820118"/>
                  <a:pt x="5056435" y="1820118"/>
                </a:cubicBezTo>
                <a:cubicBezTo>
                  <a:pt x="5066591" y="1820117"/>
                  <a:pt x="5075753" y="1824158"/>
                  <a:pt x="5082378" y="1830744"/>
                </a:cubicBezTo>
                <a:lnTo>
                  <a:pt x="5083371" y="1833148"/>
                </a:lnTo>
                <a:lnTo>
                  <a:pt x="5208185" y="1765131"/>
                </a:lnTo>
                <a:lnTo>
                  <a:pt x="5199031" y="1742885"/>
                </a:lnTo>
                <a:lnTo>
                  <a:pt x="5201140" y="1737783"/>
                </a:lnTo>
                <a:lnTo>
                  <a:pt x="5058148" y="1659135"/>
                </a:lnTo>
                <a:lnTo>
                  <a:pt x="5045962" y="1664182"/>
                </a:lnTo>
                <a:lnTo>
                  <a:pt x="5063844" y="1809461"/>
                </a:lnTo>
                <a:cubicBezTo>
                  <a:pt x="5064317" y="1813213"/>
                  <a:pt x="5061474" y="1816965"/>
                  <a:pt x="5057447" y="1817668"/>
                </a:cubicBezTo>
                <a:cubicBezTo>
                  <a:pt x="5053181" y="1817902"/>
                  <a:pt x="5049390" y="1815089"/>
                  <a:pt x="5049153" y="1810868"/>
                </a:cubicBezTo>
                <a:lnTo>
                  <a:pt x="5031636" y="1668958"/>
                </a:lnTo>
                <a:lnTo>
                  <a:pt x="5007090" y="1658792"/>
                </a:lnTo>
                <a:cubicBezTo>
                  <a:pt x="5000466" y="1652147"/>
                  <a:pt x="4996381" y="1642954"/>
                  <a:pt x="4996381" y="1632767"/>
                </a:cubicBezTo>
                <a:close/>
                <a:moveTo>
                  <a:pt x="4914374" y="1268052"/>
                </a:moveTo>
                <a:cubicBezTo>
                  <a:pt x="4932266" y="1234109"/>
                  <a:pt x="4974402" y="1220928"/>
                  <a:pt x="5008358" y="1238826"/>
                </a:cubicBezTo>
                <a:cubicBezTo>
                  <a:pt x="5016795" y="1243274"/>
                  <a:pt x="5023918" y="1249241"/>
                  <a:pt x="5029578" y="1256219"/>
                </a:cubicBezTo>
                <a:lnTo>
                  <a:pt x="5037607" y="1271367"/>
                </a:lnTo>
                <a:lnTo>
                  <a:pt x="5131993" y="1258722"/>
                </a:lnTo>
                <a:lnTo>
                  <a:pt x="5132829" y="1245021"/>
                </a:lnTo>
                <a:cubicBezTo>
                  <a:pt x="5140588" y="1228283"/>
                  <a:pt x="5160132" y="1221494"/>
                  <a:pt x="5176289" y="1229209"/>
                </a:cubicBezTo>
                <a:cubicBezTo>
                  <a:pt x="5192862" y="1237145"/>
                  <a:pt x="5199581" y="1256708"/>
                  <a:pt x="5191834" y="1272919"/>
                </a:cubicBezTo>
                <a:cubicBezTo>
                  <a:pt x="5184075" y="1289657"/>
                  <a:pt x="5164531" y="1296446"/>
                  <a:pt x="5148276" y="1288412"/>
                </a:cubicBezTo>
                <a:lnTo>
                  <a:pt x="5133528" y="1272281"/>
                </a:lnTo>
                <a:lnTo>
                  <a:pt x="5041527" y="1284805"/>
                </a:lnTo>
                <a:lnTo>
                  <a:pt x="5036946" y="1332660"/>
                </a:lnTo>
                <a:lnTo>
                  <a:pt x="5035509" y="1334430"/>
                </a:lnTo>
                <a:lnTo>
                  <a:pt x="5121405" y="1413451"/>
                </a:lnTo>
                <a:lnTo>
                  <a:pt x="5134677" y="1402404"/>
                </a:lnTo>
                <a:cubicBezTo>
                  <a:pt x="5147953" y="1398293"/>
                  <a:pt x="5162806" y="1399269"/>
                  <a:pt x="5176133" y="1406294"/>
                </a:cubicBezTo>
                <a:cubicBezTo>
                  <a:pt x="5202372" y="1420125"/>
                  <a:pt x="5212723" y="1452990"/>
                  <a:pt x="5198673" y="1479644"/>
                </a:cubicBezTo>
                <a:cubicBezTo>
                  <a:pt x="5184733" y="1506091"/>
                  <a:pt x="5151770" y="1516124"/>
                  <a:pt x="5125531" y="1502294"/>
                </a:cubicBezTo>
                <a:cubicBezTo>
                  <a:pt x="5098876" y="1488244"/>
                  <a:pt x="5088733" y="1455489"/>
                  <a:pt x="5102674" y="1429042"/>
                </a:cubicBezTo>
                <a:lnTo>
                  <a:pt x="5105447" y="1426734"/>
                </a:lnTo>
                <a:lnTo>
                  <a:pt x="5022533" y="1350417"/>
                </a:lnTo>
                <a:lnTo>
                  <a:pt x="5019460" y="1354203"/>
                </a:lnTo>
                <a:cubicBezTo>
                  <a:pt x="4998491" y="1371515"/>
                  <a:pt x="4968578" y="1375655"/>
                  <a:pt x="4943267" y="1362313"/>
                </a:cubicBezTo>
                <a:cubicBezTo>
                  <a:pt x="4909311" y="1344415"/>
                  <a:pt x="4896373" y="1302204"/>
                  <a:pt x="4914374" y="1268052"/>
                </a:cubicBezTo>
                <a:close/>
                <a:moveTo>
                  <a:pt x="4774748" y="642632"/>
                </a:moveTo>
                <a:cubicBezTo>
                  <a:pt x="4773443" y="622298"/>
                  <a:pt x="4788702" y="604891"/>
                  <a:pt x="4808971" y="603591"/>
                </a:cubicBezTo>
                <a:lnTo>
                  <a:pt x="4817850" y="606617"/>
                </a:lnTo>
                <a:lnTo>
                  <a:pt x="4949276" y="523602"/>
                </a:lnTo>
                <a:lnTo>
                  <a:pt x="4946342" y="517620"/>
                </a:lnTo>
                <a:cubicBezTo>
                  <a:pt x="4945037" y="497286"/>
                  <a:pt x="4960296" y="479879"/>
                  <a:pt x="4980565" y="478579"/>
                </a:cubicBezTo>
                <a:cubicBezTo>
                  <a:pt x="5000833" y="477278"/>
                  <a:pt x="5018191" y="492592"/>
                  <a:pt x="5019496" y="512926"/>
                </a:cubicBezTo>
                <a:cubicBezTo>
                  <a:pt x="5020801" y="533259"/>
                  <a:pt x="5005527" y="550433"/>
                  <a:pt x="4985259" y="551733"/>
                </a:cubicBezTo>
                <a:cubicBezTo>
                  <a:pt x="4975124" y="552383"/>
                  <a:pt x="4965721" y="548938"/>
                  <a:pt x="4958689" y="542789"/>
                </a:cubicBezTo>
                <a:lnTo>
                  <a:pt x="4957543" y="540454"/>
                </a:lnTo>
                <a:lnTo>
                  <a:pt x="4837342" y="616324"/>
                </a:lnTo>
                <a:lnTo>
                  <a:pt x="4847902" y="637938"/>
                </a:lnTo>
                <a:lnTo>
                  <a:pt x="4846124" y="643165"/>
                </a:lnTo>
                <a:lnTo>
                  <a:pt x="4993859" y="712494"/>
                </a:lnTo>
                <a:lnTo>
                  <a:pt x="5005697" y="706678"/>
                </a:lnTo>
                <a:lnTo>
                  <a:pt x="4978548" y="562841"/>
                </a:lnTo>
                <a:cubicBezTo>
                  <a:pt x="4977835" y="559128"/>
                  <a:pt x="4980432" y="555201"/>
                  <a:pt x="4984407" y="554242"/>
                </a:cubicBezTo>
                <a:cubicBezTo>
                  <a:pt x="4988648" y="553735"/>
                  <a:pt x="4992612" y="556300"/>
                  <a:pt x="4993118" y="560496"/>
                </a:cubicBezTo>
                <a:lnTo>
                  <a:pt x="5019687" y="700994"/>
                </a:lnTo>
                <a:lnTo>
                  <a:pt x="5044834" y="709568"/>
                </a:lnTo>
                <a:cubicBezTo>
                  <a:pt x="5051870" y="715775"/>
                  <a:pt x="5056536" y="724687"/>
                  <a:pt x="5057188" y="734854"/>
                </a:cubicBezTo>
                <a:cubicBezTo>
                  <a:pt x="5058493" y="755187"/>
                  <a:pt x="5043219" y="772361"/>
                  <a:pt x="5022951" y="773661"/>
                </a:cubicBezTo>
                <a:cubicBezTo>
                  <a:pt x="5002682" y="774961"/>
                  <a:pt x="4985339" y="759881"/>
                  <a:pt x="4984034" y="739548"/>
                </a:cubicBezTo>
                <a:lnTo>
                  <a:pt x="4987258" y="730022"/>
                </a:lnTo>
                <a:lnTo>
                  <a:pt x="4840092" y="660897"/>
                </a:lnTo>
                <a:lnTo>
                  <a:pt x="4838874" y="664479"/>
                </a:lnTo>
                <a:cubicBezTo>
                  <a:pt x="4832685" y="671477"/>
                  <a:pt x="4823799" y="676095"/>
                  <a:pt x="4813665" y="676745"/>
                </a:cubicBezTo>
                <a:cubicBezTo>
                  <a:pt x="4793396" y="678045"/>
                  <a:pt x="4776053" y="662966"/>
                  <a:pt x="4774748" y="642632"/>
                </a:cubicBezTo>
                <a:close/>
                <a:moveTo>
                  <a:pt x="4686381" y="849036"/>
                </a:moveTo>
                <a:cubicBezTo>
                  <a:pt x="4686381" y="819140"/>
                  <a:pt x="4710862" y="794894"/>
                  <a:pt x="4740523" y="794894"/>
                </a:cubicBezTo>
                <a:cubicBezTo>
                  <a:pt x="4770654" y="794895"/>
                  <a:pt x="4794900" y="819140"/>
                  <a:pt x="4794900" y="849036"/>
                </a:cubicBezTo>
                <a:lnTo>
                  <a:pt x="4793523" y="852371"/>
                </a:lnTo>
                <a:lnTo>
                  <a:pt x="4919777" y="885807"/>
                </a:lnTo>
                <a:lnTo>
                  <a:pt x="4928249" y="865090"/>
                </a:lnTo>
                <a:cubicBezTo>
                  <a:pt x="4940742" y="852438"/>
                  <a:pt x="4958003" y="844612"/>
                  <a:pt x="4977078" y="844612"/>
                </a:cubicBezTo>
                <a:cubicBezTo>
                  <a:pt x="4996270" y="844612"/>
                  <a:pt x="5013648" y="852439"/>
                  <a:pt x="5026228" y="865091"/>
                </a:cubicBezTo>
                <a:lnTo>
                  <a:pt x="5035879" y="879486"/>
                </a:lnTo>
                <a:lnTo>
                  <a:pt x="5147926" y="826542"/>
                </a:lnTo>
                <a:lnTo>
                  <a:pt x="5145280" y="816143"/>
                </a:lnTo>
                <a:cubicBezTo>
                  <a:pt x="5147649" y="800335"/>
                  <a:pt x="5162097" y="789717"/>
                  <a:pt x="5177493" y="791842"/>
                </a:cubicBezTo>
                <a:cubicBezTo>
                  <a:pt x="5193125" y="794201"/>
                  <a:pt x="5204021" y="808593"/>
                  <a:pt x="5201652" y="823930"/>
                </a:cubicBezTo>
                <a:cubicBezTo>
                  <a:pt x="5199520" y="839737"/>
                  <a:pt x="5185072" y="850591"/>
                  <a:pt x="5169440" y="848467"/>
                </a:cubicBezTo>
                <a:lnTo>
                  <a:pt x="5153504" y="839088"/>
                </a:lnTo>
                <a:lnTo>
                  <a:pt x="5042004" y="891686"/>
                </a:lnTo>
                <a:lnTo>
                  <a:pt x="5046590" y="914525"/>
                </a:lnTo>
                <a:cubicBezTo>
                  <a:pt x="5046591" y="943302"/>
                  <a:pt x="5029081" y="968108"/>
                  <a:pt x="5004132" y="978711"/>
                </a:cubicBezTo>
                <a:lnTo>
                  <a:pt x="4999598" y="979632"/>
                </a:lnTo>
                <a:lnTo>
                  <a:pt x="5013927" y="1096047"/>
                </a:lnTo>
                <a:lnTo>
                  <a:pt x="5037952" y="1105888"/>
                </a:lnTo>
                <a:cubicBezTo>
                  <a:pt x="5044577" y="1112475"/>
                  <a:pt x="5048662" y="1121609"/>
                  <a:pt x="5048662" y="1131797"/>
                </a:cubicBezTo>
                <a:cubicBezTo>
                  <a:pt x="5048662" y="1152173"/>
                  <a:pt x="5032320" y="1168567"/>
                  <a:pt x="5012010" y="1168567"/>
                </a:cubicBezTo>
                <a:cubicBezTo>
                  <a:pt x="4991699" y="1168566"/>
                  <a:pt x="4975358" y="1152172"/>
                  <a:pt x="4975357" y="1131797"/>
                </a:cubicBezTo>
                <a:cubicBezTo>
                  <a:pt x="4975358" y="1121609"/>
                  <a:pt x="4979443" y="1112475"/>
                  <a:pt x="4986067" y="1105889"/>
                </a:cubicBezTo>
                <a:lnTo>
                  <a:pt x="4999588" y="1100350"/>
                </a:lnTo>
                <a:lnTo>
                  <a:pt x="4985051" y="982584"/>
                </a:lnTo>
                <a:lnTo>
                  <a:pt x="4977078" y="984203"/>
                </a:lnTo>
                <a:cubicBezTo>
                  <a:pt x="4958003" y="984203"/>
                  <a:pt x="4940742" y="976376"/>
                  <a:pt x="4928249" y="963752"/>
                </a:cubicBezTo>
                <a:lnTo>
                  <a:pt x="4924997" y="958882"/>
                </a:lnTo>
                <a:lnTo>
                  <a:pt x="4848384" y="1013378"/>
                </a:lnTo>
                <a:lnTo>
                  <a:pt x="4854032" y="1025888"/>
                </a:lnTo>
                <a:cubicBezTo>
                  <a:pt x="4854974" y="1044314"/>
                  <a:pt x="4840850" y="1059432"/>
                  <a:pt x="4822960" y="1060140"/>
                </a:cubicBezTo>
                <a:cubicBezTo>
                  <a:pt x="4804599" y="1060849"/>
                  <a:pt x="4789533" y="1046675"/>
                  <a:pt x="4788827" y="1028723"/>
                </a:cubicBezTo>
                <a:cubicBezTo>
                  <a:pt x="4787885" y="1010297"/>
                  <a:pt x="4802009" y="995179"/>
                  <a:pt x="4820135" y="994706"/>
                </a:cubicBezTo>
                <a:lnTo>
                  <a:pt x="4840702" y="1002099"/>
                </a:lnTo>
                <a:lnTo>
                  <a:pt x="4917307" y="947366"/>
                </a:lnTo>
                <a:lnTo>
                  <a:pt x="4913457" y="941599"/>
                </a:lnTo>
                <a:cubicBezTo>
                  <a:pt x="4909964" y="933268"/>
                  <a:pt x="4908034" y="924117"/>
                  <a:pt x="4908033" y="914525"/>
                </a:cubicBezTo>
                <a:lnTo>
                  <a:pt x="4911934" y="904986"/>
                </a:lnTo>
                <a:lnTo>
                  <a:pt x="4785600" y="871563"/>
                </a:lnTo>
                <a:lnTo>
                  <a:pt x="4779011" y="887524"/>
                </a:lnTo>
                <a:cubicBezTo>
                  <a:pt x="4769183" y="897352"/>
                  <a:pt x="4755589" y="903414"/>
                  <a:pt x="4740523" y="903414"/>
                </a:cubicBezTo>
                <a:cubicBezTo>
                  <a:pt x="4710862" y="903413"/>
                  <a:pt x="4686381" y="879167"/>
                  <a:pt x="4686381" y="849036"/>
                </a:cubicBezTo>
                <a:close/>
                <a:moveTo>
                  <a:pt x="4550600" y="1286701"/>
                </a:moveTo>
                <a:cubicBezTo>
                  <a:pt x="4549295" y="1266368"/>
                  <a:pt x="4564554" y="1248960"/>
                  <a:pt x="4584823" y="1247660"/>
                </a:cubicBezTo>
                <a:lnTo>
                  <a:pt x="4593702" y="1250687"/>
                </a:lnTo>
                <a:lnTo>
                  <a:pt x="4725128" y="1167671"/>
                </a:lnTo>
                <a:lnTo>
                  <a:pt x="4722194" y="1161689"/>
                </a:lnTo>
                <a:cubicBezTo>
                  <a:pt x="4720889" y="1141356"/>
                  <a:pt x="4736148" y="1123948"/>
                  <a:pt x="4756416" y="1122648"/>
                </a:cubicBezTo>
                <a:cubicBezTo>
                  <a:pt x="4776685" y="1121348"/>
                  <a:pt x="4794043" y="1136662"/>
                  <a:pt x="4795348" y="1156995"/>
                </a:cubicBezTo>
                <a:cubicBezTo>
                  <a:pt x="4796653" y="1177329"/>
                  <a:pt x="4781379" y="1194502"/>
                  <a:pt x="4761110" y="1195802"/>
                </a:cubicBezTo>
                <a:cubicBezTo>
                  <a:pt x="4750976" y="1196452"/>
                  <a:pt x="4741573" y="1193008"/>
                  <a:pt x="4734541" y="1186859"/>
                </a:cubicBezTo>
                <a:lnTo>
                  <a:pt x="4733395" y="1184523"/>
                </a:lnTo>
                <a:lnTo>
                  <a:pt x="4613194" y="1260393"/>
                </a:lnTo>
                <a:lnTo>
                  <a:pt x="4623754" y="1282007"/>
                </a:lnTo>
                <a:lnTo>
                  <a:pt x="4621976" y="1287234"/>
                </a:lnTo>
                <a:lnTo>
                  <a:pt x="4769711" y="1356564"/>
                </a:lnTo>
                <a:lnTo>
                  <a:pt x="4781549" y="1350747"/>
                </a:lnTo>
                <a:lnTo>
                  <a:pt x="4754400" y="1206910"/>
                </a:lnTo>
                <a:cubicBezTo>
                  <a:pt x="4753687" y="1203198"/>
                  <a:pt x="4756284" y="1199271"/>
                  <a:pt x="4760259" y="1198311"/>
                </a:cubicBezTo>
                <a:cubicBezTo>
                  <a:pt x="4764500" y="1197804"/>
                  <a:pt x="4768463" y="1200370"/>
                  <a:pt x="4768970" y="1204566"/>
                </a:cubicBezTo>
                <a:lnTo>
                  <a:pt x="4795539" y="1345063"/>
                </a:lnTo>
                <a:lnTo>
                  <a:pt x="4820686" y="1353636"/>
                </a:lnTo>
                <a:cubicBezTo>
                  <a:pt x="4827722" y="1359844"/>
                  <a:pt x="4832387" y="1368756"/>
                  <a:pt x="4833040" y="1378923"/>
                </a:cubicBezTo>
                <a:cubicBezTo>
                  <a:pt x="4834345" y="1399256"/>
                  <a:pt x="4819071" y="1416429"/>
                  <a:pt x="4798802" y="1417730"/>
                </a:cubicBezTo>
                <a:cubicBezTo>
                  <a:pt x="4778534" y="1419030"/>
                  <a:pt x="4761191" y="1403951"/>
                  <a:pt x="4759886" y="1383617"/>
                </a:cubicBezTo>
                <a:lnTo>
                  <a:pt x="4763109" y="1374091"/>
                </a:lnTo>
                <a:lnTo>
                  <a:pt x="4615944" y="1304967"/>
                </a:lnTo>
                <a:lnTo>
                  <a:pt x="4614726" y="1308548"/>
                </a:lnTo>
                <a:cubicBezTo>
                  <a:pt x="4608537" y="1315545"/>
                  <a:pt x="4599651" y="1320164"/>
                  <a:pt x="4589517" y="1320814"/>
                </a:cubicBezTo>
                <a:cubicBezTo>
                  <a:pt x="4569248" y="1322115"/>
                  <a:pt x="4551905" y="1307035"/>
                  <a:pt x="4550600" y="1286701"/>
                </a:cubicBezTo>
                <a:close/>
                <a:moveTo>
                  <a:pt x="4462232" y="1493106"/>
                </a:moveTo>
                <a:cubicBezTo>
                  <a:pt x="4462232" y="1463210"/>
                  <a:pt x="4486714" y="1438964"/>
                  <a:pt x="4516375" y="1438964"/>
                </a:cubicBezTo>
                <a:cubicBezTo>
                  <a:pt x="4546506" y="1438964"/>
                  <a:pt x="4570752" y="1463210"/>
                  <a:pt x="4570752" y="1493106"/>
                </a:cubicBezTo>
                <a:lnTo>
                  <a:pt x="4569375" y="1496440"/>
                </a:lnTo>
                <a:lnTo>
                  <a:pt x="4695629" y="1529877"/>
                </a:lnTo>
                <a:lnTo>
                  <a:pt x="4704101" y="1509160"/>
                </a:lnTo>
                <a:cubicBezTo>
                  <a:pt x="4716593" y="1496508"/>
                  <a:pt x="4733855" y="1488681"/>
                  <a:pt x="4752929" y="1488681"/>
                </a:cubicBezTo>
                <a:cubicBezTo>
                  <a:pt x="4772122" y="1488680"/>
                  <a:pt x="4789500" y="1496507"/>
                  <a:pt x="4802080" y="1509161"/>
                </a:cubicBezTo>
                <a:lnTo>
                  <a:pt x="4811731" y="1523556"/>
                </a:lnTo>
                <a:lnTo>
                  <a:pt x="4923778" y="1470611"/>
                </a:lnTo>
                <a:lnTo>
                  <a:pt x="4921132" y="1460213"/>
                </a:lnTo>
                <a:cubicBezTo>
                  <a:pt x="4923501" y="1444404"/>
                  <a:pt x="4937949" y="1433787"/>
                  <a:pt x="4953344" y="1435911"/>
                </a:cubicBezTo>
                <a:cubicBezTo>
                  <a:pt x="4968977" y="1438270"/>
                  <a:pt x="4979873" y="1452662"/>
                  <a:pt x="4977504" y="1467999"/>
                </a:cubicBezTo>
                <a:cubicBezTo>
                  <a:pt x="4975372" y="1483807"/>
                  <a:pt x="4960924" y="1494660"/>
                  <a:pt x="4945292" y="1492537"/>
                </a:cubicBezTo>
                <a:lnTo>
                  <a:pt x="4929356" y="1483158"/>
                </a:lnTo>
                <a:lnTo>
                  <a:pt x="4817856" y="1535755"/>
                </a:lnTo>
                <a:lnTo>
                  <a:pt x="4822442" y="1558594"/>
                </a:lnTo>
                <a:cubicBezTo>
                  <a:pt x="4822442" y="1587372"/>
                  <a:pt x="4804932" y="1612177"/>
                  <a:pt x="4779984" y="1622781"/>
                </a:cubicBezTo>
                <a:lnTo>
                  <a:pt x="4775449" y="1623701"/>
                </a:lnTo>
                <a:lnTo>
                  <a:pt x="4789779" y="1740117"/>
                </a:lnTo>
                <a:lnTo>
                  <a:pt x="4813804" y="1749958"/>
                </a:lnTo>
                <a:cubicBezTo>
                  <a:pt x="4820428" y="1756544"/>
                  <a:pt x="4824514" y="1765678"/>
                  <a:pt x="4824514" y="1775866"/>
                </a:cubicBezTo>
                <a:cubicBezTo>
                  <a:pt x="4824514" y="1796242"/>
                  <a:pt x="4808172" y="1812636"/>
                  <a:pt x="4787862" y="1812636"/>
                </a:cubicBezTo>
                <a:cubicBezTo>
                  <a:pt x="4767551" y="1812636"/>
                  <a:pt x="4751209" y="1796242"/>
                  <a:pt x="4751209" y="1775866"/>
                </a:cubicBezTo>
                <a:cubicBezTo>
                  <a:pt x="4751209" y="1765679"/>
                  <a:pt x="4755295" y="1756545"/>
                  <a:pt x="4761919" y="1749958"/>
                </a:cubicBezTo>
                <a:lnTo>
                  <a:pt x="4775440" y="1744419"/>
                </a:lnTo>
                <a:lnTo>
                  <a:pt x="4760903" y="1626653"/>
                </a:lnTo>
                <a:lnTo>
                  <a:pt x="4752929" y="1628272"/>
                </a:lnTo>
                <a:cubicBezTo>
                  <a:pt x="4733855" y="1628272"/>
                  <a:pt x="4716593" y="1620445"/>
                  <a:pt x="4704101" y="1607822"/>
                </a:cubicBezTo>
                <a:lnTo>
                  <a:pt x="4700849" y="1602951"/>
                </a:lnTo>
                <a:lnTo>
                  <a:pt x="4624235" y="1657447"/>
                </a:lnTo>
                <a:lnTo>
                  <a:pt x="4629884" y="1669957"/>
                </a:lnTo>
                <a:cubicBezTo>
                  <a:pt x="4630826" y="1688383"/>
                  <a:pt x="4616702" y="1703501"/>
                  <a:pt x="4598812" y="1704210"/>
                </a:cubicBezTo>
                <a:cubicBezTo>
                  <a:pt x="4580450" y="1704918"/>
                  <a:pt x="4565385" y="1690745"/>
                  <a:pt x="4564679" y="1672792"/>
                </a:cubicBezTo>
                <a:cubicBezTo>
                  <a:pt x="4563737" y="1654366"/>
                  <a:pt x="4577861" y="1639248"/>
                  <a:pt x="4595987" y="1638775"/>
                </a:cubicBezTo>
                <a:lnTo>
                  <a:pt x="4616554" y="1646168"/>
                </a:lnTo>
                <a:lnTo>
                  <a:pt x="4693159" y="1591435"/>
                </a:lnTo>
                <a:lnTo>
                  <a:pt x="4689309" y="1585669"/>
                </a:lnTo>
                <a:cubicBezTo>
                  <a:pt x="4685816" y="1577337"/>
                  <a:pt x="4683885" y="1568186"/>
                  <a:pt x="4683885" y="1558594"/>
                </a:cubicBezTo>
                <a:lnTo>
                  <a:pt x="4687786" y="1549055"/>
                </a:lnTo>
                <a:lnTo>
                  <a:pt x="4561452" y="1515632"/>
                </a:lnTo>
                <a:lnTo>
                  <a:pt x="4554863" y="1531593"/>
                </a:lnTo>
                <a:cubicBezTo>
                  <a:pt x="4545035" y="1541421"/>
                  <a:pt x="4531440" y="1547483"/>
                  <a:pt x="4516375" y="1547483"/>
                </a:cubicBezTo>
                <a:cubicBezTo>
                  <a:pt x="4486714" y="1547483"/>
                  <a:pt x="4462232" y="1523237"/>
                  <a:pt x="4462232" y="1493106"/>
                </a:cubicBezTo>
                <a:close/>
                <a:moveTo>
                  <a:pt x="4355291" y="581922"/>
                </a:moveTo>
                <a:cubicBezTo>
                  <a:pt x="4367251" y="554524"/>
                  <a:pt x="4399389" y="542096"/>
                  <a:pt x="4426572" y="553963"/>
                </a:cubicBezTo>
                <a:cubicBezTo>
                  <a:pt x="4454187" y="566018"/>
                  <a:pt x="4466708" y="597939"/>
                  <a:pt x="4454747" y="625338"/>
                </a:cubicBezTo>
                <a:lnTo>
                  <a:pt x="4452151" y="627843"/>
                </a:lnTo>
                <a:lnTo>
                  <a:pt x="4540444" y="697865"/>
                </a:lnTo>
                <a:lnTo>
                  <a:pt x="4543231" y="693864"/>
                </a:lnTo>
                <a:cubicBezTo>
                  <a:pt x="4562872" y="675059"/>
                  <a:pt x="4592400" y="668733"/>
                  <a:pt x="4618623" y="680181"/>
                </a:cubicBezTo>
                <a:cubicBezTo>
                  <a:pt x="4653801" y="695536"/>
                  <a:pt x="4669805" y="736683"/>
                  <a:pt x="4654360" y="772065"/>
                </a:cubicBezTo>
                <a:cubicBezTo>
                  <a:pt x="4639009" y="807230"/>
                  <a:pt x="4597955" y="823470"/>
                  <a:pt x="4562776" y="808114"/>
                </a:cubicBezTo>
                <a:cubicBezTo>
                  <a:pt x="4554035" y="804298"/>
                  <a:pt x="4546493" y="798870"/>
                  <a:pt x="4540336" y="792325"/>
                </a:cubicBezTo>
                <a:lnTo>
                  <a:pt x="4531216" y="777809"/>
                </a:lnTo>
                <a:lnTo>
                  <a:pt x="4438015" y="797351"/>
                </a:lnTo>
                <a:lnTo>
                  <a:pt x="4438187" y="811075"/>
                </a:lnTo>
                <a:cubicBezTo>
                  <a:pt x="4431678" y="828339"/>
                  <a:pt x="4412686" y="836544"/>
                  <a:pt x="4396006" y="830037"/>
                </a:cubicBezTo>
                <a:cubicBezTo>
                  <a:pt x="4378895" y="823340"/>
                  <a:pt x="4370758" y="804323"/>
                  <a:pt x="4377293" y="787587"/>
                </a:cubicBezTo>
                <a:cubicBezTo>
                  <a:pt x="4383802" y="770324"/>
                  <a:pt x="4402795" y="762119"/>
                  <a:pt x="4419595" y="768937"/>
                </a:cubicBezTo>
                <a:lnTo>
                  <a:pt x="4435488" y="783942"/>
                </a:lnTo>
                <a:lnTo>
                  <a:pt x="4526320" y="764696"/>
                </a:lnTo>
                <a:lnTo>
                  <a:pt x="4527375" y="716632"/>
                </a:lnTo>
                <a:lnTo>
                  <a:pt x="4528678" y="714762"/>
                </a:lnTo>
                <a:lnTo>
                  <a:pt x="4437211" y="642263"/>
                </a:lnTo>
                <a:lnTo>
                  <a:pt x="4424787" y="654255"/>
                </a:lnTo>
                <a:cubicBezTo>
                  <a:pt x="4411848" y="659330"/>
                  <a:pt x="4396964" y="659447"/>
                  <a:pt x="4383157" y="653419"/>
                </a:cubicBezTo>
                <a:cubicBezTo>
                  <a:pt x="4355973" y="641553"/>
                  <a:pt x="4343236" y="609537"/>
                  <a:pt x="4355291" y="581922"/>
                </a:cubicBezTo>
                <a:close/>
                <a:moveTo>
                  <a:pt x="4201636" y="996851"/>
                </a:moveTo>
                <a:cubicBezTo>
                  <a:pt x="4201494" y="987469"/>
                  <a:pt x="4204947" y="978044"/>
                  <a:pt x="4212029" y="970766"/>
                </a:cubicBezTo>
                <a:cubicBezTo>
                  <a:pt x="4226194" y="956210"/>
                  <a:pt x="4249340" y="955933"/>
                  <a:pt x="4263943" y="970142"/>
                </a:cubicBezTo>
                <a:cubicBezTo>
                  <a:pt x="4271244" y="977247"/>
                  <a:pt x="4274941" y="986545"/>
                  <a:pt x="4275041" y="995887"/>
                </a:cubicBezTo>
                <a:lnTo>
                  <a:pt x="4269581" y="1009440"/>
                </a:lnTo>
                <a:lnTo>
                  <a:pt x="4365415" y="1082138"/>
                </a:lnTo>
                <a:lnTo>
                  <a:pt x="4368518" y="1074310"/>
                </a:lnTo>
                <a:cubicBezTo>
                  <a:pt x="4381822" y="1060640"/>
                  <a:pt x="4399469" y="1053728"/>
                  <a:pt x="4417228" y="1053579"/>
                </a:cubicBezTo>
                <a:lnTo>
                  <a:pt x="4422987" y="1054646"/>
                </a:lnTo>
                <a:lnTo>
                  <a:pt x="4437364" y="961733"/>
                </a:lnTo>
                <a:lnTo>
                  <a:pt x="4424459" y="957057"/>
                </a:lnTo>
                <a:cubicBezTo>
                  <a:pt x="4417528" y="950969"/>
                  <a:pt x="4413816" y="942759"/>
                  <a:pt x="4413334" y="934406"/>
                </a:cubicBezTo>
                <a:cubicBezTo>
                  <a:pt x="4412851" y="926053"/>
                  <a:pt x="4415597" y="917557"/>
                  <a:pt x="4421582" y="910899"/>
                </a:cubicBezTo>
                <a:cubicBezTo>
                  <a:pt x="4433879" y="897247"/>
                  <a:pt x="4454544" y="896335"/>
                  <a:pt x="4467903" y="908349"/>
                </a:cubicBezTo>
                <a:cubicBezTo>
                  <a:pt x="4481764" y="920525"/>
                  <a:pt x="4482749" y="941191"/>
                  <a:pt x="4470446" y="954510"/>
                </a:cubicBezTo>
                <a:lnTo>
                  <a:pt x="4450804" y="964094"/>
                </a:lnTo>
                <a:lnTo>
                  <a:pt x="4436603" y="1057167"/>
                </a:lnTo>
                <a:lnTo>
                  <a:pt x="4443421" y="1058428"/>
                </a:lnTo>
                <a:cubicBezTo>
                  <a:pt x="4451828" y="1061736"/>
                  <a:pt x="4459733" y="1066734"/>
                  <a:pt x="4466607" y="1073424"/>
                </a:cubicBezTo>
                <a:lnTo>
                  <a:pt x="4472407" y="1081862"/>
                </a:lnTo>
                <a:lnTo>
                  <a:pt x="4582783" y="1015643"/>
                </a:lnTo>
                <a:lnTo>
                  <a:pt x="4575940" y="999790"/>
                </a:lnTo>
                <a:cubicBezTo>
                  <a:pt x="4575751" y="985891"/>
                  <a:pt x="4580888" y="971922"/>
                  <a:pt x="4591395" y="961125"/>
                </a:cubicBezTo>
                <a:cubicBezTo>
                  <a:pt x="4612081" y="939868"/>
                  <a:pt x="4646531" y="939233"/>
                  <a:pt x="4668125" y="960247"/>
                </a:cubicBezTo>
                <a:cubicBezTo>
                  <a:pt x="4689550" y="981097"/>
                  <a:pt x="4689853" y="1015552"/>
                  <a:pt x="4669167" y="1036809"/>
                </a:cubicBezTo>
                <a:cubicBezTo>
                  <a:pt x="4648153" y="1058402"/>
                  <a:pt x="4613866" y="1058869"/>
                  <a:pt x="4592441" y="1038019"/>
                </a:cubicBezTo>
                <a:lnTo>
                  <a:pt x="4591011" y="1034707"/>
                </a:lnTo>
                <a:lnTo>
                  <a:pt x="4483008" y="1099463"/>
                </a:lnTo>
                <a:lnTo>
                  <a:pt x="4487936" y="1122389"/>
                </a:lnTo>
                <a:cubicBezTo>
                  <a:pt x="4488291" y="1140165"/>
                  <a:pt x="4481862" y="1157994"/>
                  <a:pt x="4468559" y="1171665"/>
                </a:cubicBezTo>
                <a:cubicBezTo>
                  <a:pt x="4441789" y="1199173"/>
                  <a:pt x="4397642" y="1199647"/>
                  <a:pt x="4369975" y="1172723"/>
                </a:cubicBezTo>
                <a:cubicBezTo>
                  <a:pt x="4356226" y="1159342"/>
                  <a:pt x="4349169" y="1141617"/>
                  <a:pt x="4348896" y="1123798"/>
                </a:cubicBezTo>
                <a:lnTo>
                  <a:pt x="4359752" y="1096419"/>
                </a:lnTo>
                <a:lnTo>
                  <a:pt x="4262664" y="1022717"/>
                </a:lnTo>
                <a:lnTo>
                  <a:pt x="4238855" y="1033070"/>
                </a:lnTo>
                <a:cubicBezTo>
                  <a:pt x="4229515" y="1033225"/>
                  <a:pt x="4220120" y="1029782"/>
                  <a:pt x="4212818" y="1022677"/>
                </a:cubicBezTo>
                <a:cubicBezTo>
                  <a:pt x="4205517" y="1015572"/>
                  <a:pt x="4201779" y="1006234"/>
                  <a:pt x="4201636" y="996851"/>
                </a:cubicBezTo>
                <a:close/>
                <a:moveTo>
                  <a:pt x="4131143" y="1225992"/>
                </a:moveTo>
                <a:cubicBezTo>
                  <a:pt x="4143103" y="1198593"/>
                  <a:pt x="4175241" y="1186166"/>
                  <a:pt x="4202424" y="1198032"/>
                </a:cubicBezTo>
                <a:cubicBezTo>
                  <a:pt x="4230039" y="1210087"/>
                  <a:pt x="4242560" y="1242008"/>
                  <a:pt x="4230599" y="1269407"/>
                </a:cubicBezTo>
                <a:lnTo>
                  <a:pt x="4228003" y="1271913"/>
                </a:lnTo>
                <a:lnTo>
                  <a:pt x="4316296" y="1341935"/>
                </a:lnTo>
                <a:lnTo>
                  <a:pt x="4319083" y="1337933"/>
                </a:lnTo>
                <a:cubicBezTo>
                  <a:pt x="4338724" y="1319128"/>
                  <a:pt x="4368252" y="1312803"/>
                  <a:pt x="4394475" y="1324249"/>
                </a:cubicBezTo>
                <a:cubicBezTo>
                  <a:pt x="4429653" y="1339606"/>
                  <a:pt x="4445656" y="1380753"/>
                  <a:pt x="4430211" y="1416134"/>
                </a:cubicBezTo>
                <a:cubicBezTo>
                  <a:pt x="4414861" y="1451300"/>
                  <a:pt x="4373806" y="1467540"/>
                  <a:pt x="4338628" y="1452183"/>
                </a:cubicBezTo>
                <a:cubicBezTo>
                  <a:pt x="4329887" y="1448367"/>
                  <a:pt x="4322345" y="1442939"/>
                  <a:pt x="4316188" y="1436395"/>
                </a:cubicBezTo>
                <a:lnTo>
                  <a:pt x="4307068" y="1421878"/>
                </a:lnTo>
                <a:lnTo>
                  <a:pt x="4213867" y="1441420"/>
                </a:lnTo>
                <a:lnTo>
                  <a:pt x="4214039" y="1455145"/>
                </a:lnTo>
                <a:cubicBezTo>
                  <a:pt x="4207530" y="1472409"/>
                  <a:pt x="4188538" y="1480614"/>
                  <a:pt x="4171858" y="1474106"/>
                </a:cubicBezTo>
                <a:cubicBezTo>
                  <a:pt x="4154747" y="1467410"/>
                  <a:pt x="4146610" y="1448393"/>
                  <a:pt x="4153145" y="1431656"/>
                </a:cubicBezTo>
                <a:cubicBezTo>
                  <a:pt x="4159654" y="1414393"/>
                  <a:pt x="4178646" y="1406188"/>
                  <a:pt x="4195447" y="1413006"/>
                </a:cubicBezTo>
                <a:lnTo>
                  <a:pt x="4211340" y="1428011"/>
                </a:lnTo>
                <a:lnTo>
                  <a:pt x="4302172" y="1408766"/>
                </a:lnTo>
                <a:lnTo>
                  <a:pt x="4303227" y="1360701"/>
                </a:lnTo>
                <a:lnTo>
                  <a:pt x="4304529" y="1358830"/>
                </a:lnTo>
                <a:lnTo>
                  <a:pt x="4213063" y="1286332"/>
                </a:lnTo>
                <a:lnTo>
                  <a:pt x="4200639" y="1298324"/>
                </a:lnTo>
                <a:cubicBezTo>
                  <a:pt x="4187700" y="1303400"/>
                  <a:pt x="4172816" y="1303516"/>
                  <a:pt x="4159008" y="1297489"/>
                </a:cubicBezTo>
                <a:cubicBezTo>
                  <a:pt x="4131825" y="1285622"/>
                  <a:pt x="4119088" y="1253607"/>
                  <a:pt x="4131143" y="1225992"/>
                </a:cubicBezTo>
                <a:close/>
                <a:moveTo>
                  <a:pt x="3977488" y="1640920"/>
                </a:moveTo>
                <a:cubicBezTo>
                  <a:pt x="3977345" y="1631538"/>
                  <a:pt x="3980799" y="1622113"/>
                  <a:pt x="3987881" y="1614836"/>
                </a:cubicBezTo>
                <a:cubicBezTo>
                  <a:pt x="4002046" y="1600280"/>
                  <a:pt x="4025192" y="1600002"/>
                  <a:pt x="4039795" y="1614212"/>
                </a:cubicBezTo>
                <a:cubicBezTo>
                  <a:pt x="4047096" y="1621317"/>
                  <a:pt x="4050792" y="1630615"/>
                  <a:pt x="4050893" y="1639956"/>
                </a:cubicBezTo>
                <a:lnTo>
                  <a:pt x="4045432" y="1653509"/>
                </a:lnTo>
                <a:lnTo>
                  <a:pt x="4141267" y="1726207"/>
                </a:lnTo>
                <a:lnTo>
                  <a:pt x="4144370" y="1718380"/>
                </a:lnTo>
                <a:cubicBezTo>
                  <a:pt x="4157673" y="1704710"/>
                  <a:pt x="4175321" y="1697798"/>
                  <a:pt x="4193080" y="1697649"/>
                </a:cubicBezTo>
                <a:lnTo>
                  <a:pt x="4198839" y="1698715"/>
                </a:lnTo>
                <a:lnTo>
                  <a:pt x="4213216" y="1605803"/>
                </a:lnTo>
                <a:lnTo>
                  <a:pt x="4200310" y="1601126"/>
                </a:lnTo>
                <a:cubicBezTo>
                  <a:pt x="4193380" y="1595038"/>
                  <a:pt x="4189668" y="1586828"/>
                  <a:pt x="4189185" y="1578475"/>
                </a:cubicBezTo>
                <a:cubicBezTo>
                  <a:pt x="4188703" y="1570122"/>
                  <a:pt x="4191449" y="1561627"/>
                  <a:pt x="4197434" y="1554969"/>
                </a:cubicBezTo>
                <a:cubicBezTo>
                  <a:pt x="4209731" y="1541316"/>
                  <a:pt x="4230396" y="1540404"/>
                  <a:pt x="4243755" y="1552419"/>
                </a:cubicBezTo>
                <a:cubicBezTo>
                  <a:pt x="4257616" y="1564595"/>
                  <a:pt x="4258600" y="1585260"/>
                  <a:pt x="4246298" y="1598580"/>
                </a:cubicBezTo>
                <a:lnTo>
                  <a:pt x="4226655" y="1608164"/>
                </a:lnTo>
                <a:lnTo>
                  <a:pt x="4212455" y="1701236"/>
                </a:lnTo>
                <a:lnTo>
                  <a:pt x="4219273" y="1702498"/>
                </a:lnTo>
                <a:cubicBezTo>
                  <a:pt x="4227679" y="1705805"/>
                  <a:pt x="4235585" y="1710803"/>
                  <a:pt x="4242459" y="1717493"/>
                </a:cubicBezTo>
                <a:lnTo>
                  <a:pt x="4248259" y="1725931"/>
                </a:lnTo>
                <a:lnTo>
                  <a:pt x="4358635" y="1659713"/>
                </a:lnTo>
                <a:lnTo>
                  <a:pt x="4351792" y="1643859"/>
                </a:lnTo>
                <a:cubicBezTo>
                  <a:pt x="4351603" y="1629961"/>
                  <a:pt x="4356739" y="1615991"/>
                  <a:pt x="4367247" y="1605194"/>
                </a:cubicBezTo>
                <a:cubicBezTo>
                  <a:pt x="4387932" y="1583938"/>
                  <a:pt x="4422383" y="1583303"/>
                  <a:pt x="4443977" y="1604316"/>
                </a:cubicBezTo>
                <a:cubicBezTo>
                  <a:pt x="4465402" y="1625167"/>
                  <a:pt x="4465704" y="1659621"/>
                  <a:pt x="4445018" y="1680878"/>
                </a:cubicBezTo>
                <a:cubicBezTo>
                  <a:pt x="4424004" y="1702472"/>
                  <a:pt x="4389718" y="1702939"/>
                  <a:pt x="4368293" y="1682089"/>
                </a:cubicBezTo>
                <a:lnTo>
                  <a:pt x="4366863" y="1678775"/>
                </a:lnTo>
                <a:lnTo>
                  <a:pt x="4258860" y="1743532"/>
                </a:lnTo>
                <a:lnTo>
                  <a:pt x="4263787" y="1766458"/>
                </a:lnTo>
                <a:cubicBezTo>
                  <a:pt x="4264143" y="1784234"/>
                  <a:pt x="4257714" y="1802064"/>
                  <a:pt x="4244410" y="1815734"/>
                </a:cubicBezTo>
                <a:cubicBezTo>
                  <a:pt x="4217641" y="1843242"/>
                  <a:pt x="4173493" y="1843716"/>
                  <a:pt x="4145827" y="1816792"/>
                </a:cubicBezTo>
                <a:cubicBezTo>
                  <a:pt x="4132077" y="1803412"/>
                  <a:pt x="4125021" y="1785686"/>
                  <a:pt x="4124748" y="1767867"/>
                </a:cubicBezTo>
                <a:lnTo>
                  <a:pt x="4135604" y="1740488"/>
                </a:lnTo>
                <a:lnTo>
                  <a:pt x="4038516" y="1666786"/>
                </a:lnTo>
                <a:lnTo>
                  <a:pt x="4014707" y="1677140"/>
                </a:lnTo>
                <a:cubicBezTo>
                  <a:pt x="4005367" y="1677294"/>
                  <a:pt x="3995971" y="1673852"/>
                  <a:pt x="3988670" y="1666746"/>
                </a:cubicBezTo>
                <a:cubicBezTo>
                  <a:pt x="3981369" y="1659641"/>
                  <a:pt x="3977631" y="1650302"/>
                  <a:pt x="3977488" y="1640920"/>
                </a:cubicBezTo>
                <a:close/>
                <a:moveTo>
                  <a:pt x="3965059" y="770025"/>
                </a:moveTo>
                <a:cubicBezTo>
                  <a:pt x="3965059" y="749715"/>
                  <a:pt x="3981453" y="733374"/>
                  <a:pt x="4001829" y="733373"/>
                </a:cubicBezTo>
                <a:cubicBezTo>
                  <a:pt x="4012016" y="733374"/>
                  <a:pt x="4021150" y="737459"/>
                  <a:pt x="4027737" y="744082"/>
                </a:cubicBezTo>
                <a:lnTo>
                  <a:pt x="4033276" y="757605"/>
                </a:lnTo>
                <a:lnTo>
                  <a:pt x="4151042" y="743068"/>
                </a:lnTo>
                <a:lnTo>
                  <a:pt x="4149423" y="735094"/>
                </a:lnTo>
                <a:cubicBezTo>
                  <a:pt x="4149423" y="716020"/>
                  <a:pt x="4157250" y="698758"/>
                  <a:pt x="4169874" y="686266"/>
                </a:cubicBezTo>
                <a:lnTo>
                  <a:pt x="4174744" y="683014"/>
                </a:lnTo>
                <a:lnTo>
                  <a:pt x="4120249" y="606400"/>
                </a:lnTo>
                <a:lnTo>
                  <a:pt x="4107739" y="612049"/>
                </a:lnTo>
                <a:cubicBezTo>
                  <a:pt x="4089313" y="612991"/>
                  <a:pt x="4074195" y="598867"/>
                  <a:pt x="4073486" y="580976"/>
                </a:cubicBezTo>
                <a:cubicBezTo>
                  <a:pt x="4072777" y="562615"/>
                  <a:pt x="4086951" y="547549"/>
                  <a:pt x="4104904" y="546843"/>
                </a:cubicBezTo>
                <a:cubicBezTo>
                  <a:pt x="4123329" y="545902"/>
                  <a:pt x="4138448" y="560025"/>
                  <a:pt x="4138920" y="578151"/>
                </a:cubicBezTo>
                <a:lnTo>
                  <a:pt x="4131527" y="598719"/>
                </a:lnTo>
                <a:lnTo>
                  <a:pt x="4186261" y="675323"/>
                </a:lnTo>
                <a:lnTo>
                  <a:pt x="4192027" y="671473"/>
                </a:lnTo>
                <a:cubicBezTo>
                  <a:pt x="4200358" y="667981"/>
                  <a:pt x="4209509" y="666050"/>
                  <a:pt x="4219101" y="666050"/>
                </a:cubicBezTo>
                <a:lnTo>
                  <a:pt x="4229143" y="668052"/>
                </a:lnTo>
                <a:lnTo>
                  <a:pt x="4261131" y="547142"/>
                </a:lnTo>
                <a:lnTo>
                  <a:pt x="4246102" y="537027"/>
                </a:lnTo>
                <a:cubicBezTo>
                  <a:pt x="4236274" y="527199"/>
                  <a:pt x="4230212" y="513604"/>
                  <a:pt x="4230212" y="498539"/>
                </a:cubicBezTo>
                <a:cubicBezTo>
                  <a:pt x="4230212" y="468879"/>
                  <a:pt x="4254459" y="444397"/>
                  <a:pt x="4284590" y="444397"/>
                </a:cubicBezTo>
                <a:cubicBezTo>
                  <a:pt x="4314486" y="444398"/>
                  <a:pt x="4338732" y="468879"/>
                  <a:pt x="4338732" y="498539"/>
                </a:cubicBezTo>
                <a:cubicBezTo>
                  <a:pt x="4338732" y="528671"/>
                  <a:pt x="4314486" y="552917"/>
                  <a:pt x="4284590" y="552917"/>
                </a:cubicBezTo>
                <a:lnTo>
                  <a:pt x="4281078" y="552211"/>
                </a:lnTo>
                <a:lnTo>
                  <a:pt x="4249016" y="673273"/>
                </a:lnTo>
                <a:lnTo>
                  <a:pt x="4268535" y="686266"/>
                </a:lnTo>
                <a:cubicBezTo>
                  <a:pt x="4281188" y="698758"/>
                  <a:pt x="4289015" y="716020"/>
                  <a:pt x="4289015" y="735094"/>
                </a:cubicBezTo>
                <a:cubicBezTo>
                  <a:pt x="4289015" y="754286"/>
                  <a:pt x="4281188" y="771664"/>
                  <a:pt x="4268535" y="784245"/>
                </a:cubicBezTo>
                <a:lnTo>
                  <a:pt x="4254140" y="793896"/>
                </a:lnTo>
                <a:lnTo>
                  <a:pt x="4307084" y="905942"/>
                </a:lnTo>
                <a:lnTo>
                  <a:pt x="4317483" y="903296"/>
                </a:lnTo>
                <a:cubicBezTo>
                  <a:pt x="4333291" y="905666"/>
                  <a:pt x="4343908" y="920114"/>
                  <a:pt x="4341785" y="935510"/>
                </a:cubicBezTo>
                <a:cubicBezTo>
                  <a:pt x="4339426" y="951142"/>
                  <a:pt x="4325033" y="962037"/>
                  <a:pt x="4309697" y="959669"/>
                </a:cubicBezTo>
                <a:cubicBezTo>
                  <a:pt x="4293889" y="957537"/>
                  <a:pt x="4283035" y="943089"/>
                  <a:pt x="4285159" y="927456"/>
                </a:cubicBezTo>
                <a:lnTo>
                  <a:pt x="4294538" y="911521"/>
                </a:lnTo>
                <a:lnTo>
                  <a:pt x="4241940" y="800021"/>
                </a:lnTo>
                <a:lnTo>
                  <a:pt x="4219101" y="804607"/>
                </a:lnTo>
                <a:cubicBezTo>
                  <a:pt x="4190324" y="804607"/>
                  <a:pt x="4165519" y="787097"/>
                  <a:pt x="4154915" y="762149"/>
                </a:cubicBezTo>
                <a:lnTo>
                  <a:pt x="4153994" y="757615"/>
                </a:lnTo>
                <a:lnTo>
                  <a:pt x="4037579" y="771943"/>
                </a:lnTo>
                <a:lnTo>
                  <a:pt x="4027737" y="795968"/>
                </a:lnTo>
                <a:cubicBezTo>
                  <a:pt x="4021150" y="802592"/>
                  <a:pt x="4012017" y="806677"/>
                  <a:pt x="4001829" y="806678"/>
                </a:cubicBezTo>
                <a:cubicBezTo>
                  <a:pt x="3981453" y="806678"/>
                  <a:pt x="3965059" y="790337"/>
                  <a:pt x="3965059" y="770025"/>
                </a:cubicBezTo>
                <a:close/>
                <a:moveTo>
                  <a:pt x="3740911" y="1414095"/>
                </a:moveTo>
                <a:cubicBezTo>
                  <a:pt x="3740911" y="1393785"/>
                  <a:pt x="3757305" y="1377443"/>
                  <a:pt x="3777681" y="1377443"/>
                </a:cubicBezTo>
                <a:cubicBezTo>
                  <a:pt x="3787868" y="1377443"/>
                  <a:pt x="3797002" y="1381528"/>
                  <a:pt x="3803589" y="1388152"/>
                </a:cubicBezTo>
                <a:lnTo>
                  <a:pt x="3809128" y="1401674"/>
                </a:lnTo>
                <a:lnTo>
                  <a:pt x="3926894" y="1387137"/>
                </a:lnTo>
                <a:lnTo>
                  <a:pt x="3925275" y="1379164"/>
                </a:lnTo>
                <a:cubicBezTo>
                  <a:pt x="3925275" y="1360088"/>
                  <a:pt x="3933102" y="1342827"/>
                  <a:pt x="3945725" y="1330335"/>
                </a:cubicBezTo>
                <a:lnTo>
                  <a:pt x="3950596" y="1327083"/>
                </a:lnTo>
                <a:lnTo>
                  <a:pt x="3896100" y="1250469"/>
                </a:lnTo>
                <a:lnTo>
                  <a:pt x="3883590" y="1256118"/>
                </a:lnTo>
                <a:cubicBezTo>
                  <a:pt x="3865165" y="1257060"/>
                  <a:pt x="3850046" y="1242936"/>
                  <a:pt x="3849338" y="1225046"/>
                </a:cubicBezTo>
                <a:cubicBezTo>
                  <a:pt x="3848629" y="1206685"/>
                  <a:pt x="3862803" y="1191619"/>
                  <a:pt x="3880756" y="1190913"/>
                </a:cubicBezTo>
                <a:cubicBezTo>
                  <a:pt x="3899181" y="1189972"/>
                  <a:pt x="3914300" y="1204095"/>
                  <a:pt x="3914772" y="1222221"/>
                </a:cubicBezTo>
                <a:lnTo>
                  <a:pt x="3907379" y="1242788"/>
                </a:lnTo>
                <a:lnTo>
                  <a:pt x="3962112" y="1319393"/>
                </a:lnTo>
                <a:lnTo>
                  <a:pt x="3967879" y="1315543"/>
                </a:lnTo>
                <a:cubicBezTo>
                  <a:pt x="3976210" y="1312050"/>
                  <a:pt x="3985361" y="1310119"/>
                  <a:pt x="3994953" y="1310119"/>
                </a:cubicBezTo>
                <a:lnTo>
                  <a:pt x="4004995" y="1312121"/>
                </a:lnTo>
                <a:lnTo>
                  <a:pt x="4036983" y="1191212"/>
                </a:lnTo>
                <a:lnTo>
                  <a:pt x="4021954" y="1181096"/>
                </a:lnTo>
                <a:cubicBezTo>
                  <a:pt x="4012126" y="1171268"/>
                  <a:pt x="4006064" y="1157674"/>
                  <a:pt x="4006064" y="1142608"/>
                </a:cubicBezTo>
                <a:cubicBezTo>
                  <a:pt x="4006064" y="1112948"/>
                  <a:pt x="4030310" y="1088467"/>
                  <a:pt x="4060442" y="1088467"/>
                </a:cubicBezTo>
                <a:cubicBezTo>
                  <a:pt x="4090338" y="1088467"/>
                  <a:pt x="4114584" y="1112948"/>
                  <a:pt x="4114584" y="1142609"/>
                </a:cubicBezTo>
                <a:cubicBezTo>
                  <a:pt x="4114584" y="1172740"/>
                  <a:pt x="4090337" y="1196986"/>
                  <a:pt x="4060442" y="1196986"/>
                </a:cubicBezTo>
                <a:lnTo>
                  <a:pt x="4056929" y="1196281"/>
                </a:lnTo>
                <a:lnTo>
                  <a:pt x="4024868" y="1317342"/>
                </a:lnTo>
                <a:lnTo>
                  <a:pt x="4044387" y="1330335"/>
                </a:lnTo>
                <a:cubicBezTo>
                  <a:pt x="4057040" y="1342828"/>
                  <a:pt x="4064867" y="1360088"/>
                  <a:pt x="4064867" y="1379164"/>
                </a:cubicBezTo>
                <a:cubicBezTo>
                  <a:pt x="4064867" y="1398356"/>
                  <a:pt x="4057040" y="1415734"/>
                  <a:pt x="4044387" y="1428314"/>
                </a:cubicBezTo>
                <a:lnTo>
                  <a:pt x="4029991" y="1437965"/>
                </a:lnTo>
                <a:lnTo>
                  <a:pt x="4082936" y="1550012"/>
                </a:lnTo>
                <a:lnTo>
                  <a:pt x="4093335" y="1547366"/>
                </a:lnTo>
                <a:cubicBezTo>
                  <a:pt x="4109143" y="1549735"/>
                  <a:pt x="4119760" y="1564183"/>
                  <a:pt x="4117637" y="1579579"/>
                </a:cubicBezTo>
                <a:cubicBezTo>
                  <a:pt x="4115277" y="1595211"/>
                  <a:pt x="4100885" y="1606107"/>
                  <a:pt x="4085548" y="1603738"/>
                </a:cubicBezTo>
                <a:cubicBezTo>
                  <a:pt x="4069740" y="1601606"/>
                  <a:pt x="4058887" y="1587158"/>
                  <a:pt x="4061011" y="1571526"/>
                </a:cubicBezTo>
                <a:lnTo>
                  <a:pt x="4070389" y="1555590"/>
                </a:lnTo>
                <a:lnTo>
                  <a:pt x="4017793" y="1444090"/>
                </a:lnTo>
                <a:lnTo>
                  <a:pt x="3994953" y="1448676"/>
                </a:lnTo>
                <a:cubicBezTo>
                  <a:pt x="3966176" y="1448676"/>
                  <a:pt x="3941370" y="1431167"/>
                  <a:pt x="3930766" y="1406218"/>
                </a:cubicBezTo>
                <a:lnTo>
                  <a:pt x="3929846" y="1401684"/>
                </a:lnTo>
                <a:lnTo>
                  <a:pt x="3813430" y="1416014"/>
                </a:lnTo>
                <a:lnTo>
                  <a:pt x="3803589" y="1440038"/>
                </a:lnTo>
                <a:cubicBezTo>
                  <a:pt x="3797002" y="1446662"/>
                  <a:pt x="3787868" y="1450747"/>
                  <a:pt x="3777681" y="1450747"/>
                </a:cubicBezTo>
                <a:cubicBezTo>
                  <a:pt x="3757305" y="1450747"/>
                  <a:pt x="3740911" y="1434405"/>
                  <a:pt x="3740911" y="1414095"/>
                </a:cubicBezTo>
                <a:close/>
                <a:moveTo>
                  <a:pt x="3725247" y="841442"/>
                </a:moveTo>
                <a:cubicBezTo>
                  <a:pt x="3725247" y="821066"/>
                  <a:pt x="3741589" y="804907"/>
                  <a:pt x="3761900" y="804907"/>
                </a:cubicBezTo>
                <a:cubicBezTo>
                  <a:pt x="3782210" y="804907"/>
                  <a:pt x="3798552" y="821067"/>
                  <a:pt x="3798552" y="841443"/>
                </a:cubicBezTo>
                <a:lnTo>
                  <a:pt x="3794725" y="850742"/>
                </a:lnTo>
                <a:lnTo>
                  <a:pt x="3937162" y="929147"/>
                </a:lnTo>
                <a:lnTo>
                  <a:pt x="3938607" y="925652"/>
                </a:lnTo>
                <a:cubicBezTo>
                  <a:pt x="3945231" y="919066"/>
                  <a:pt x="3954394" y="915025"/>
                  <a:pt x="3964550" y="915026"/>
                </a:cubicBezTo>
                <a:cubicBezTo>
                  <a:pt x="3984860" y="915026"/>
                  <a:pt x="4001202" y="931185"/>
                  <a:pt x="4001202" y="951561"/>
                </a:cubicBezTo>
                <a:cubicBezTo>
                  <a:pt x="4001202" y="971937"/>
                  <a:pt x="3984860" y="988331"/>
                  <a:pt x="3964549" y="988330"/>
                </a:cubicBezTo>
                <a:lnTo>
                  <a:pt x="3955882" y="984740"/>
                </a:lnTo>
                <a:lnTo>
                  <a:pt x="3819409" y="1059172"/>
                </a:lnTo>
                <a:lnTo>
                  <a:pt x="3821954" y="1065329"/>
                </a:lnTo>
                <a:cubicBezTo>
                  <a:pt x="3821954" y="1085704"/>
                  <a:pt x="3805612" y="1102098"/>
                  <a:pt x="3785302" y="1102098"/>
                </a:cubicBezTo>
                <a:cubicBezTo>
                  <a:pt x="3764991" y="1102098"/>
                  <a:pt x="3748650" y="1085704"/>
                  <a:pt x="3748650" y="1065328"/>
                </a:cubicBezTo>
                <a:cubicBezTo>
                  <a:pt x="3748650" y="1044953"/>
                  <a:pt x="3764991" y="1028793"/>
                  <a:pt x="3785302" y="1028793"/>
                </a:cubicBezTo>
                <a:cubicBezTo>
                  <a:pt x="3795457" y="1028793"/>
                  <a:pt x="3804620" y="1032833"/>
                  <a:pt x="3811244" y="1039420"/>
                </a:cubicBezTo>
                <a:lnTo>
                  <a:pt x="3812238" y="1041823"/>
                </a:lnTo>
                <a:lnTo>
                  <a:pt x="3937051" y="973807"/>
                </a:lnTo>
                <a:lnTo>
                  <a:pt x="3927897" y="951560"/>
                </a:lnTo>
                <a:lnTo>
                  <a:pt x="3930007" y="946457"/>
                </a:lnTo>
                <a:lnTo>
                  <a:pt x="3787016" y="867811"/>
                </a:lnTo>
                <a:lnTo>
                  <a:pt x="3774828" y="872857"/>
                </a:lnTo>
                <a:lnTo>
                  <a:pt x="3792710" y="1018137"/>
                </a:lnTo>
                <a:cubicBezTo>
                  <a:pt x="3793184" y="1021888"/>
                  <a:pt x="3790341" y="1025640"/>
                  <a:pt x="3786313" y="1026343"/>
                </a:cubicBezTo>
                <a:cubicBezTo>
                  <a:pt x="3782048" y="1026578"/>
                  <a:pt x="3778257" y="1023764"/>
                  <a:pt x="3778020" y="1019543"/>
                </a:cubicBezTo>
                <a:lnTo>
                  <a:pt x="3760503" y="877633"/>
                </a:lnTo>
                <a:lnTo>
                  <a:pt x="3735957" y="867468"/>
                </a:lnTo>
                <a:cubicBezTo>
                  <a:pt x="3729333" y="860823"/>
                  <a:pt x="3725247" y="851630"/>
                  <a:pt x="3725247" y="841442"/>
                </a:cubicBezTo>
                <a:close/>
                <a:moveTo>
                  <a:pt x="3643241" y="476727"/>
                </a:moveTo>
                <a:cubicBezTo>
                  <a:pt x="3661133" y="442784"/>
                  <a:pt x="3703269" y="429603"/>
                  <a:pt x="3737224" y="447502"/>
                </a:cubicBezTo>
                <a:cubicBezTo>
                  <a:pt x="3745662" y="451949"/>
                  <a:pt x="3752785" y="457916"/>
                  <a:pt x="3758445" y="464895"/>
                </a:cubicBezTo>
                <a:lnTo>
                  <a:pt x="3766474" y="480042"/>
                </a:lnTo>
                <a:lnTo>
                  <a:pt x="3860860" y="467398"/>
                </a:lnTo>
                <a:lnTo>
                  <a:pt x="3861696" y="453697"/>
                </a:lnTo>
                <a:cubicBezTo>
                  <a:pt x="3869455" y="436958"/>
                  <a:pt x="3888999" y="430170"/>
                  <a:pt x="3905155" y="437885"/>
                </a:cubicBezTo>
                <a:cubicBezTo>
                  <a:pt x="3921729" y="445820"/>
                  <a:pt x="3928447" y="465383"/>
                  <a:pt x="3920700" y="481594"/>
                </a:cubicBezTo>
                <a:cubicBezTo>
                  <a:pt x="3912942" y="498333"/>
                  <a:pt x="3893398" y="505121"/>
                  <a:pt x="3877143" y="497088"/>
                </a:cubicBezTo>
                <a:lnTo>
                  <a:pt x="3862395" y="480957"/>
                </a:lnTo>
                <a:lnTo>
                  <a:pt x="3770393" y="493480"/>
                </a:lnTo>
                <a:lnTo>
                  <a:pt x="3765813" y="541336"/>
                </a:lnTo>
                <a:lnTo>
                  <a:pt x="3764376" y="543106"/>
                </a:lnTo>
                <a:lnTo>
                  <a:pt x="3850271" y="622127"/>
                </a:lnTo>
                <a:lnTo>
                  <a:pt x="3863543" y="611080"/>
                </a:lnTo>
                <a:cubicBezTo>
                  <a:pt x="3876820" y="606969"/>
                  <a:pt x="3891673" y="607945"/>
                  <a:pt x="3905000" y="614969"/>
                </a:cubicBezTo>
                <a:cubicBezTo>
                  <a:pt x="3931238" y="628800"/>
                  <a:pt x="3941590" y="661665"/>
                  <a:pt x="3927540" y="688320"/>
                </a:cubicBezTo>
                <a:cubicBezTo>
                  <a:pt x="3913599" y="714767"/>
                  <a:pt x="3880636" y="724800"/>
                  <a:pt x="3854398" y="710969"/>
                </a:cubicBezTo>
                <a:cubicBezTo>
                  <a:pt x="3827743" y="696919"/>
                  <a:pt x="3817600" y="664165"/>
                  <a:pt x="3831540" y="637717"/>
                </a:cubicBezTo>
                <a:lnTo>
                  <a:pt x="3834313" y="635409"/>
                </a:lnTo>
                <a:lnTo>
                  <a:pt x="3751400" y="559092"/>
                </a:lnTo>
                <a:lnTo>
                  <a:pt x="3748327" y="562878"/>
                </a:lnTo>
                <a:cubicBezTo>
                  <a:pt x="3727358" y="580191"/>
                  <a:pt x="3697445" y="584330"/>
                  <a:pt x="3672133" y="570988"/>
                </a:cubicBezTo>
                <a:cubicBezTo>
                  <a:pt x="3638178" y="553090"/>
                  <a:pt x="3625239" y="510879"/>
                  <a:pt x="3643241" y="476727"/>
                </a:cubicBezTo>
                <a:close/>
                <a:moveTo>
                  <a:pt x="3501099" y="1485512"/>
                </a:moveTo>
                <a:cubicBezTo>
                  <a:pt x="3501099" y="1465136"/>
                  <a:pt x="3517441" y="1448976"/>
                  <a:pt x="3537751" y="1448977"/>
                </a:cubicBezTo>
                <a:cubicBezTo>
                  <a:pt x="3558062" y="1448976"/>
                  <a:pt x="3574404" y="1465136"/>
                  <a:pt x="3574404" y="1485512"/>
                </a:cubicBezTo>
                <a:lnTo>
                  <a:pt x="3570577" y="1494812"/>
                </a:lnTo>
                <a:lnTo>
                  <a:pt x="3713014" y="1573217"/>
                </a:lnTo>
                <a:lnTo>
                  <a:pt x="3714459" y="1569722"/>
                </a:lnTo>
                <a:cubicBezTo>
                  <a:pt x="3721083" y="1563135"/>
                  <a:pt x="3730246" y="1559095"/>
                  <a:pt x="3740401" y="1559095"/>
                </a:cubicBezTo>
                <a:cubicBezTo>
                  <a:pt x="3760712" y="1559095"/>
                  <a:pt x="3777054" y="1575255"/>
                  <a:pt x="3777054" y="1595630"/>
                </a:cubicBezTo>
                <a:cubicBezTo>
                  <a:pt x="3777054" y="1616005"/>
                  <a:pt x="3760712" y="1632399"/>
                  <a:pt x="3740401" y="1632400"/>
                </a:cubicBezTo>
                <a:lnTo>
                  <a:pt x="3731733" y="1628810"/>
                </a:lnTo>
                <a:lnTo>
                  <a:pt x="3595261" y="1703240"/>
                </a:lnTo>
                <a:lnTo>
                  <a:pt x="3597806" y="1709398"/>
                </a:lnTo>
                <a:cubicBezTo>
                  <a:pt x="3597806" y="1729773"/>
                  <a:pt x="3581464" y="1746167"/>
                  <a:pt x="3561154" y="1746168"/>
                </a:cubicBezTo>
                <a:cubicBezTo>
                  <a:pt x="3540843" y="1746167"/>
                  <a:pt x="3524501" y="1729773"/>
                  <a:pt x="3524501" y="1709398"/>
                </a:cubicBezTo>
                <a:cubicBezTo>
                  <a:pt x="3524501" y="1689022"/>
                  <a:pt x="3540843" y="1672863"/>
                  <a:pt x="3561154" y="1672863"/>
                </a:cubicBezTo>
                <a:cubicBezTo>
                  <a:pt x="3571309" y="1672862"/>
                  <a:pt x="3580472" y="1676903"/>
                  <a:pt x="3587096" y="1683489"/>
                </a:cubicBezTo>
                <a:lnTo>
                  <a:pt x="3588090" y="1685893"/>
                </a:lnTo>
                <a:lnTo>
                  <a:pt x="3712903" y="1617876"/>
                </a:lnTo>
                <a:lnTo>
                  <a:pt x="3703749" y="1595630"/>
                </a:lnTo>
                <a:lnTo>
                  <a:pt x="3705858" y="1590528"/>
                </a:lnTo>
                <a:lnTo>
                  <a:pt x="3562867" y="1511880"/>
                </a:lnTo>
                <a:lnTo>
                  <a:pt x="3550680" y="1516927"/>
                </a:lnTo>
                <a:lnTo>
                  <a:pt x="3568562" y="1662206"/>
                </a:lnTo>
                <a:cubicBezTo>
                  <a:pt x="3569036" y="1665958"/>
                  <a:pt x="3566193" y="1669710"/>
                  <a:pt x="3562165" y="1670413"/>
                </a:cubicBezTo>
                <a:cubicBezTo>
                  <a:pt x="3557900" y="1670647"/>
                  <a:pt x="3554109" y="1667833"/>
                  <a:pt x="3553872" y="1663613"/>
                </a:cubicBezTo>
                <a:lnTo>
                  <a:pt x="3536354" y="1521703"/>
                </a:lnTo>
                <a:lnTo>
                  <a:pt x="3511809" y="1511537"/>
                </a:lnTo>
                <a:cubicBezTo>
                  <a:pt x="3505185" y="1504892"/>
                  <a:pt x="3501099" y="1495699"/>
                  <a:pt x="3501099" y="1485512"/>
                </a:cubicBezTo>
                <a:close/>
                <a:moveTo>
                  <a:pt x="3419093" y="1120797"/>
                </a:moveTo>
                <a:cubicBezTo>
                  <a:pt x="3436985" y="1086853"/>
                  <a:pt x="3479121" y="1073673"/>
                  <a:pt x="3513076" y="1091571"/>
                </a:cubicBezTo>
                <a:cubicBezTo>
                  <a:pt x="3521513" y="1096019"/>
                  <a:pt x="3528637" y="1101986"/>
                  <a:pt x="3534297" y="1108964"/>
                </a:cubicBezTo>
                <a:lnTo>
                  <a:pt x="3542326" y="1124112"/>
                </a:lnTo>
                <a:lnTo>
                  <a:pt x="3636711" y="1111467"/>
                </a:lnTo>
                <a:lnTo>
                  <a:pt x="3637548" y="1097766"/>
                </a:lnTo>
                <a:cubicBezTo>
                  <a:pt x="3645306" y="1081027"/>
                  <a:pt x="3664851" y="1074239"/>
                  <a:pt x="3681007" y="1081954"/>
                </a:cubicBezTo>
                <a:cubicBezTo>
                  <a:pt x="3697580" y="1089890"/>
                  <a:pt x="3704299" y="1109453"/>
                  <a:pt x="3696552" y="1125664"/>
                </a:cubicBezTo>
                <a:cubicBezTo>
                  <a:pt x="3688793" y="1142402"/>
                  <a:pt x="3669249" y="1149191"/>
                  <a:pt x="3652994" y="1141157"/>
                </a:cubicBezTo>
                <a:lnTo>
                  <a:pt x="3638247" y="1125026"/>
                </a:lnTo>
                <a:lnTo>
                  <a:pt x="3546245" y="1137549"/>
                </a:lnTo>
                <a:lnTo>
                  <a:pt x="3541664" y="1185405"/>
                </a:lnTo>
                <a:lnTo>
                  <a:pt x="3540228" y="1187175"/>
                </a:lnTo>
                <a:lnTo>
                  <a:pt x="3626123" y="1266196"/>
                </a:lnTo>
                <a:lnTo>
                  <a:pt x="3639395" y="1255149"/>
                </a:lnTo>
                <a:cubicBezTo>
                  <a:pt x="3652672" y="1251038"/>
                  <a:pt x="3667524" y="1252014"/>
                  <a:pt x="3680852" y="1259039"/>
                </a:cubicBezTo>
                <a:cubicBezTo>
                  <a:pt x="3707090" y="1272870"/>
                  <a:pt x="3717442" y="1305735"/>
                  <a:pt x="3703391" y="1332389"/>
                </a:cubicBezTo>
                <a:cubicBezTo>
                  <a:pt x="3689451" y="1358836"/>
                  <a:pt x="3656488" y="1368869"/>
                  <a:pt x="3630250" y="1355039"/>
                </a:cubicBezTo>
                <a:cubicBezTo>
                  <a:pt x="3603595" y="1340989"/>
                  <a:pt x="3593452" y="1308234"/>
                  <a:pt x="3607392" y="1281787"/>
                </a:cubicBezTo>
                <a:lnTo>
                  <a:pt x="3610165" y="1279479"/>
                </a:lnTo>
                <a:lnTo>
                  <a:pt x="3527251" y="1203162"/>
                </a:lnTo>
                <a:lnTo>
                  <a:pt x="3524178" y="1206948"/>
                </a:lnTo>
                <a:cubicBezTo>
                  <a:pt x="3503210" y="1224259"/>
                  <a:pt x="3473296" y="1228400"/>
                  <a:pt x="3447985" y="1215058"/>
                </a:cubicBezTo>
                <a:cubicBezTo>
                  <a:pt x="3414029" y="1197160"/>
                  <a:pt x="3401091" y="1154949"/>
                  <a:pt x="3419093" y="1120797"/>
                </a:cubicBezTo>
                <a:close/>
                <a:moveTo>
                  <a:pt x="3279467" y="495377"/>
                </a:moveTo>
                <a:cubicBezTo>
                  <a:pt x="3278162" y="475043"/>
                  <a:pt x="3293420" y="457636"/>
                  <a:pt x="3313689" y="456335"/>
                </a:cubicBezTo>
                <a:lnTo>
                  <a:pt x="3322569" y="459362"/>
                </a:lnTo>
                <a:lnTo>
                  <a:pt x="3453994" y="376346"/>
                </a:lnTo>
                <a:lnTo>
                  <a:pt x="3451060" y="370365"/>
                </a:lnTo>
                <a:cubicBezTo>
                  <a:pt x="3449756" y="350031"/>
                  <a:pt x="3465014" y="332624"/>
                  <a:pt x="3485283" y="331323"/>
                </a:cubicBezTo>
                <a:cubicBezTo>
                  <a:pt x="3505552" y="330023"/>
                  <a:pt x="3522910" y="345337"/>
                  <a:pt x="3524215" y="365671"/>
                </a:cubicBezTo>
                <a:cubicBezTo>
                  <a:pt x="3525519" y="386004"/>
                  <a:pt x="3510246" y="403178"/>
                  <a:pt x="3489977" y="404478"/>
                </a:cubicBezTo>
                <a:cubicBezTo>
                  <a:pt x="3479843" y="405128"/>
                  <a:pt x="3470440" y="401683"/>
                  <a:pt x="3463407" y="395534"/>
                </a:cubicBezTo>
                <a:lnTo>
                  <a:pt x="3462262" y="393199"/>
                </a:lnTo>
                <a:lnTo>
                  <a:pt x="3342060" y="469069"/>
                </a:lnTo>
                <a:lnTo>
                  <a:pt x="3352621" y="490683"/>
                </a:lnTo>
                <a:lnTo>
                  <a:pt x="3350843" y="495910"/>
                </a:lnTo>
                <a:lnTo>
                  <a:pt x="3498577" y="565240"/>
                </a:lnTo>
                <a:lnTo>
                  <a:pt x="3510415" y="559423"/>
                </a:lnTo>
                <a:lnTo>
                  <a:pt x="3483266" y="415586"/>
                </a:lnTo>
                <a:cubicBezTo>
                  <a:pt x="3482553" y="411873"/>
                  <a:pt x="3485151" y="407946"/>
                  <a:pt x="3489125" y="406986"/>
                </a:cubicBezTo>
                <a:cubicBezTo>
                  <a:pt x="3493366" y="406479"/>
                  <a:pt x="3497330" y="409045"/>
                  <a:pt x="3497837" y="413241"/>
                </a:cubicBezTo>
                <a:lnTo>
                  <a:pt x="3524405" y="553739"/>
                </a:lnTo>
                <a:lnTo>
                  <a:pt x="3549552" y="562312"/>
                </a:lnTo>
                <a:cubicBezTo>
                  <a:pt x="3556588" y="568520"/>
                  <a:pt x="3561254" y="577432"/>
                  <a:pt x="3561907" y="587599"/>
                </a:cubicBezTo>
                <a:cubicBezTo>
                  <a:pt x="3563211" y="607932"/>
                  <a:pt x="3547938" y="625105"/>
                  <a:pt x="3527669" y="626406"/>
                </a:cubicBezTo>
                <a:cubicBezTo>
                  <a:pt x="3507400" y="627706"/>
                  <a:pt x="3490057" y="612626"/>
                  <a:pt x="3488752" y="592293"/>
                </a:cubicBezTo>
                <a:lnTo>
                  <a:pt x="3491976" y="582766"/>
                </a:lnTo>
                <a:lnTo>
                  <a:pt x="3344811" y="513642"/>
                </a:lnTo>
                <a:lnTo>
                  <a:pt x="3343592" y="517224"/>
                </a:lnTo>
                <a:cubicBezTo>
                  <a:pt x="3337403" y="524221"/>
                  <a:pt x="3328518" y="528840"/>
                  <a:pt x="3318383" y="529490"/>
                </a:cubicBezTo>
                <a:cubicBezTo>
                  <a:pt x="3298115" y="530790"/>
                  <a:pt x="3280771" y="515710"/>
                  <a:pt x="3279467" y="495377"/>
                </a:cubicBezTo>
                <a:close/>
                <a:moveTo>
                  <a:pt x="3191102" y="701781"/>
                </a:moveTo>
                <a:cubicBezTo>
                  <a:pt x="3191102" y="671885"/>
                  <a:pt x="3215581" y="647639"/>
                  <a:pt x="3245241" y="647639"/>
                </a:cubicBezTo>
                <a:cubicBezTo>
                  <a:pt x="3275372" y="647639"/>
                  <a:pt x="3299619" y="671885"/>
                  <a:pt x="3299619" y="701781"/>
                </a:cubicBezTo>
                <a:lnTo>
                  <a:pt x="3298242" y="705116"/>
                </a:lnTo>
                <a:lnTo>
                  <a:pt x="3424496" y="738552"/>
                </a:lnTo>
                <a:lnTo>
                  <a:pt x="3432968" y="717835"/>
                </a:lnTo>
                <a:cubicBezTo>
                  <a:pt x="3445460" y="705183"/>
                  <a:pt x="3462721" y="697356"/>
                  <a:pt x="3481796" y="697356"/>
                </a:cubicBezTo>
                <a:cubicBezTo>
                  <a:pt x="3500988" y="697356"/>
                  <a:pt x="3518366" y="705183"/>
                  <a:pt x="3530946" y="717836"/>
                </a:cubicBezTo>
                <a:lnTo>
                  <a:pt x="3540597" y="732231"/>
                </a:lnTo>
                <a:lnTo>
                  <a:pt x="3652645" y="679287"/>
                </a:lnTo>
                <a:lnTo>
                  <a:pt x="3649999" y="668888"/>
                </a:lnTo>
                <a:cubicBezTo>
                  <a:pt x="3652367" y="653080"/>
                  <a:pt x="3666816" y="642462"/>
                  <a:pt x="3682211" y="644587"/>
                </a:cubicBezTo>
                <a:cubicBezTo>
                  <a:pt x="3697844" y="646946"/>
                  <a:pt x="3708739" y="661338"/>
                  <a:pt x="3706371" y="676675"/>
                </a:cubicBezTo>
                <a:cubicBezTo>
                  <a:pt x="3704239" y="692482"/>
                  <a:pt x="3689791" y="703335"/>
                  <a:pt x="3674158" y="701212"/>
                </a:cubicBezTo>
                <a:lnTo>
                  <a:pt x="3658223" y="691833"/>
                </a:lnTo>
                <a:lnTo>
                  <a:pt x="3546723" y="744430"/>
                </a:lnTo>
                <a:lnTo>
                  <a:pt x="3551309" y="767270"/>
                </a:lnTo>
                <a:cubicBezTo>
                  <a:pt x="3551309" y="796047"/>
                  <a:pt x="3533799" y="820853"/>
                  <a:pt x="3508850" y="831456"/>
                </a:cubicBezTo>
                <a:lnTo>
                  <a:pt x="3504316" y="832377"/>
                </a:lnTo>
                <a:lnTo>
                  <a:pt x="3518645" y="948792"/>
                </a:lnTo>
                <a:lnTo>
                  <a:pt x="3542671" y="958633"/>
                </a:lnTo>
                <a:cubicBezTo>
                  <a:pt x="3549295" y="965220"/>
                  <a:pt x="3553380" y="974354"/>
                  <a:pt x="3553380" y="984542"/>
                </a:cubicBezTo>
                <a:cubicBezTo>
                  <a:pt x="3553380" y="1004918"/>
                  <a:pt x="3537039" y="1021312"/>
                  <a:pt x="3516728" y="1021311"/>
                </a:cubicBezTo>
                <a:cubicBezTo>
                  <a:pt x="3496418" y="1021311"/>
                  <a:pt x="3480076" y="1004917"/>
                  <a:pt x="3480076" y="984541"/>
                </a:cubicBezTo>
                <a:cubicBezTo>
                  <a:pt x="3480076" y="974354"/>
                  <a:pt x="3484161" y="965219"/>
                  <a:pt x="3490785" y="958633"/>
                </a:cubicBezTo>
                <a:lnTo>
                  <a:pt x="3504306" y="953095"/>
                </a:lnTo>
                <a:lnTo>
                  <a:pt x="3489769" y="835329"/>
                </a:lnTo>
                <a:lnTo>
                  <a:pt x="3481796" y="836947"/>
                </a:lnTo>
                <a:cubicBezTo>
                  <a:pt x="3462721" y="836948"/>
                  <a:pt x="3445460" y="829120"/>
                  <a:pt x="3432968" y="816497"/>
                </a:cubicBezTo>
                <a:lnTo>
                  <a:pt x="3429715" y="811627"/>
                </a:lnTo>
                <a:lnTo>
                  <a:pt x="3353102" y="866123"/>
                </a:lnTo>
                <a:lnTo>
                  <a:pt x="3358751" y="878632"/>
                </a:lnTo>
                <a:cubicBezTo>
                  <a:pt x="3359692" y="897059"/>
                  <a:pt x="3345568" y="912176"/>
                  <a:pt x="3327678" y="912885"/>
                </a:cubicBezTo>
                <a:cubicBezTo>
                  <a:pt x="3309317" y="913594"/>
                  <a:pt x="3294251" y="899420"/>
                  <a:pt x="3293545" y="881467"/>
                </a:cubicBezTo>
                <a:cubicBezTo>
                  <a:pt x="3292604" y="863041"/>
                  <a:pt x="3306728" y="847924"/>
                  <a:pt x="3324853" y="847451"/>
                </a:cubicBezTo>
                <a:lnTo>
                  <a:pt x="3345421" y="854844"/>
                </a:lnTo>
                <a:lnTo>
                  <a:pt x="3422025" y="800110"/>
                </a:lnTo>
                <a:lnTo>
                  <a:pt x="3418175" y="794344"/>
                </a:lnTo>
                <a:cubicBezTo>
                  <a:pt x="3414683" y="786013"/>
                  <a:pt x="3412752" y="776862"/>
                  <a:pt x="3412752" y="767270"/>
                </a:cubicBezTo>
                <a:lnTo>
                  <a:pt x="3416653" y="757731"/>
                </a:lnTo>
                <a:lnTo>
                  <a:pt x="3290319" y="724308"/>
                </a:lnTo>
                <a:lnTo>
                  <a:pt x="3283729" y="740269"/>
                </a:lnTo>
                <a:cubicBezTo>
                  <a:pt x="3273901" y="750097"/>
                  <a:pt x="3260307" y="756159"/>
                  <a:pt x="3245241" y="756158"/>
                </a:cubicBezTo>
                <a:cubicBezTo>
                  <a:pt x="3215581" y="756158"/>
                  <a:pt x="3191102" y="731913"/>
                  <a:pt x="3191102" y="701781"/>
                </a:cubicBezTo>
                <a:close/>
                <a:moveTo>
                  <a:pt x="3055318" y="1139446"/>
                </a:moveTo>
                <a:cubicBezTo>
                  <a:pt x="3054015" y="1119112"/>
                  <a:pt x="3069272" y="1101706"/>
                  <a:pt x="3089541" y="1100405"/>
                </a:cubicBezTo>
                <a:lnTo>
                  <a:pt x="3098421" y="1103432"/>
                </a:lnTo>
                <a:lnTo>
                  <a:pt x="3229847" y="1020416"/>
                </a:lnTo>
                <a:lnTo>
                  <a:pt x="3226912" y="1014434"/>
                </a:lnTo>
                <a:cubicBezTo>
                  <a:pt x="3225607" y="994100"/>
                  <a:pt x="3240866" y="976693"/>
                  <a:pt x="3261135" y="975393"/>
                </a:cubicBezTo>
                <a:cubicBezTo>
                  <a:pt x="3281403" y="974092"/>
                  <a:pt x="3298761" y="989407"/>
                  <a:pt x="3300066" y="1009740"/>
                </a:cubicBezTo>
                <a:cubicBezTo>
                  <a:pt x="3301371" y="1030074"/>
                  <a:pt x="3286098" y="1047247"/>
                  <a:pt x="3265829" y="1048547"/>
                </a:cubicBezTo>
                <a:cubicBezTo>
                  <a:pt x="3255694" y="1049197"/>
                  <a:pt x="3246291" y="1045752"/>
                  <a:pt x="3239259" y="1039604"/>
                </a:cubicBezTo>
                <a:lnTo>
                  <a:pt x="3238113" y="1037268"/>
                </a:lnTo>
                <a:lnTo>
                  <a:pt x="3117912" y="1113138"/>
                </a:lnTo>
                <a:lnTo>
                  <a:pt x="3128473" y="1134752"/>
                </a:lnTo>
                <a:lnTo>
                  <a:pt x="3126695" y="1139979"/>
                </a:lnTo>
                <a:lnTo>
                  <a:pt x="3274429" y="1209308"/>
                </a:lnTo>
                <a:lnTo>
                  <a:pt x="3286267" y="1203492"/>
                </a:lnTo>
                <a:lnTo>
                  <a:pt x="3259118" y="1059655"/>
                </a:lnTo>
                <a:cubicBezTo>
                  <a:pt x="3258405" y="1055942"/>
                  <a:pt x="3261002" y="1052015"/>
                  <a:pt x="3264977" y="1051056"/>
                </a:cubicBezTo>
                <a:cubicBezTo>
                  <a:pt x="3269218" y="1050549"/>
                  <a:pt x="3273182" y="1053114"/>
                  <a:pt x="3273689" y="1057311"/>
                </a:cubicBezTo>
                <a:lnTo>
                  <a:pt x="3300257" y="1197808"/>
                </a:lnTo>
                <a:lnTo>
                  <a:pt x="3325404" y="1206381"/>
                </a:lnTo>
                <a:cubicBezTo>
                  <a:pt x="3332440" y="1212589"/>
                  <a:pt x="3337106" y="1221501"/>
                  <a:pt x="3337758" y="1231667"/>
                </a:cubicBezTo>
                <a:cubicBezTo>
                  <a:pt x="3339063" y="1252001"/>
                  <a:pt x="3323790" y="1269174"/>
                  <a:pt x="3303521" y="1270475"/>
                </a:cubicBezTo>
                <a:cubicBezTo>
                  <a:pt x="3283252" y="1271775"/>
                  <a:pt x="3265909" y="1256696"/>
                  <a:pt x="3264604" y="1236362"/>
                </a:cubicBezTo>
                <a:lnTo>
                  <a:pt x="3267828" y="1226836"/>
                </a:lnTo>
                <a:lnTo>
                  <a:pt x="3120662" y="1157712"/>
                </a:lnTo>
                <a:lnTo>
                  <a:pt x="3119444" y="1161293"/>
                </a:lnTo>
                <a:cubicBezTo>
                  <a:pt x="3113255" y="1168290"/>
                  <a:pt x="3104370" y="1172909"/>
                  <a:pt x="3094235" y="1173559"/>
                </a:cubicBezTo>
                <a:cubicBezTo>
                  <a:pt x="3073967" y="1174860"/>
                  <a:pt x="3056625" y="1159780"/>
                  <a:pt x="3055318" y="1139446"/>
                </a:cubicBezTo>
                <a:close/>
                <a:moveTo>
                  <a:pt x="2966952" y="1345851"/>
                </a:moveTo>
                <a:cubicBezTo>
                  <a:pt x="2966953" y="1315955"/>
                  <a:pt x="2991434" y="1291709"/>
                  <a:pt x="3021094" y="1291709"/>
                </a:cubicBezTo>
                <a:cubicBezTo>
                  <a:pt x="3051226" y="1291709"/>
                  <a:pt x="3075470" y="1315955"/>
                  <a:pt x="3075470" y="1345851"/>
                </a:cubicBezTo>
                <a:lnTo>
                  <a:pt x="3074094" y="1349185"/>
                </a:lnTo>
                <a:lnTo>
                  <a:pt x="3200347" y="1382622"/>
                </a:lnTo>
                <a:lnTo>
                  <a:pt x="3208819" y="1361905"/>
                </a:lnTo>
                <a:cubicBezTo>
                  <a:pt x="3221312" y="1349253"/>
                  <a:pt x="3238573" y="1341425"/>
                  <a:pt x="3257648" y="1341425"/>
                </a:cubicBezTo>
                <a:cubicBezTo>
                  <a:pt x="3276840" y="1341425"/>
                  <a:pt x="3294218" y="1349252"/>
                  <a:pt x="3306798" y="1361905"/>
                </a:cubicBezTo>
                <a:lnTo>
                  <a:pt x="3316449" y="1376301"/>
                </a:lnTo>
                <a:lnTo>
                  <a:pt x="3428496" y="1323357"/>
                </a:lnTo>
                <a:lnTo>
                  <a:pt x="3425850" y="1312958"/>
                </a:lnTo>
                <a:cubicBezTo>
                  <a:pt x="3428219" y="1297149"/>
                  <a:pt x="3442667" y="1286532"/>
                  <a:pt x="3458063" y="1288655"/>
                </a:cubicBezTo>
                <a:cubicBezTo>
                  <a:pt x="3473696" y="1291015"/>
                  <a:pt x="3484591" y="1305407"/>
                  <a:pt x="3482222" y="1320743"/>
                </a:cubicBezTo>
                <a:cubicBezTo>
                  <a:pt x="3480091" y="1336552"/>
                  <a:pt x="3465642" y="1347405"/>
                  <a:pt x="3450010" y="1345282"/>
                </a:cubicBezTo>
                <a:lnTo>
                  <a:pt x="3434074" y="1335903"/>
                </a:lnTo>
                <a:lnTo>
                  <a:pt x="3322574" y="1388500"/>
                </a:lnTo>
                <a:lnTo>
                  <a:pt x="3327160" y="1411339"/>
                </a:lnTo>
                <a:cubicBezTo>
                  <a:pt x="3327160" y="1440117"/>
                  <a:pt x="3309651" y="1464921"/>
                  <a:pt x="3284702" y="1475526"/>
                </a:cubicBezTo>
                <a:lnTo>
                  <a:pt x="3280168" y="1476446"/>
                </a:lnTo>
                <a:lnTo>
                  <a:pt x="3294497" y="1592862"/>
                </a:lnTo>
                <a:lnTo>
                  <a:pt x="3318522" y="1602703"/>
                </a:lnTo>
                <a:cubicBezTo>
                  <a:pt x="3325147" y="1609289"/>
                  <a:pt x="3329232" y="1618423"/>
                  <a:pt x="3329232" y="1628611"/>
                </a:cubicBezTo>
                <a:cubicBezTo>
                  <a:pt x="3329232" y="1648987"/>
                  <a:pt x="3312890" y="1665381"/>
                  <a:pt x="3292580" y="1665381"/>
                </a:cubicBezTo>
                <a:cubicBezTo>
                  <a:pt x="3272269" y="1665381"/>
                  <a:pt x="3255927" y="1648986"/>
                  <a:pt x="3255928" y="1628611"/>
                </a:cubicBezTo>
                <a:cubicBezTo>
                  <a:pt x="3255928" y="1618424"/>
                  <a:pt x="3260013" y="1609290"/>
                  <a:pt x="3266637" y="1602703"/>
                </a:cubicBezTo>
                <a:lnTo>
                  <a:pt x="3280158" y="1597164"/>
                </a:lnTo>
                <a:lnTo>
                  <a:pt x="3265621" y="1479398"/>
                </a:lnTo>
                <a:lnTo>
                  <a:pt x="3257648" y="1481017"/>
                </a:lnTo>
                <a:cubicBezTo>
                  <a:pt x="3238573" y="1481017"/>
                  <a:pt x="3221312" y="1473190"/>
                  <a:pt x="3208819" y="1460567"/>
                </a:cubicBezTo>
                <a:lnTo>
                  <a:pt x="3205567" y="1455696"/>
                </a:lnTo>
                <a:lnTo>
                  <a:pt x="3128954" y="1510192"/>
                </a:lnTo>
                <a:lnTo>
                  <a:pt x="3134603" y="1522702"/>
                </a:lnTo>
                <a:cubicBezTo>
                  <a:pt x="3135544" y="1541127"/>
                  <a:pt x="3121420" y="1556246"/>
                  <a:pt x="3103530" y="1556955"/>
                </a:cubicBezTo>
                <a:cubicBezTo>
                  <a:pt x="3085169" y="1557663"/>
                  <a:pt x="3070103" y="1543490"/>
                  <a:pt x="3069397" y="1525536"/>
                </a:cubicBezTo>
                <a:cubicBezTo>
                  <a:pt x="3068455" y="1507111"/>
                  <a:pt x="3082579" y="1491993"/>
                  <a:pt x="3100705" y="1491520"/>
                </a:cubicBezTo>
                <a:lnTo>
                  <a:pt x="3121273" y="1498913"/>
                </a:lnTo>
                <a:lnTo>
                  <a:pt x="3197877" y="1444180"/>
                </a:lnTo>
                <a:lnTo>
                  <a:pt x="3194027" y="1438413"/>
                </a:lnTo>
                <a:cubicBezTo>
                  <a:pt x="3190534" y="1430082"/>
                  <a:pt x="3188604" y="1420931"/>
                  <a:pt x="3188604" y="1411339"/>
                </a:cubicBezTo>
                <a:lnTo>
                  <a:pt x="3192504" y="1401800"/>
                </a:lnTo>
                <a:lnTo>
                  <a:pt x="3066171" y="1368377"/>
                </a:lnTo>
                <a:lnTo>
                  <a:pt x="3059581" y="1384338"/>
                </a:lnTo>
                <a:cubicBezTo>
                  <a:pt x="3049755" y="1394166"/>
                  <a:pt x="3036159" y="1400228"/>
                  <a:pt x="3021095" y="1400228"/>
                </a:cubicBezTo>
                <a:cubicBezTo>
                  <a:pt x="2991433" y="1400228"/>
                  <a:pt x="2966952" y="1375982"/>
                  <a:pt x="2966952" y="1345851"/>
                </a:cubicBezTo>
                <a:close/>
                <a:moveTo>
                  <a:pt x="2888657" y="415518"/>
                </a:moveTo>
                <a:cubicBezTo>
                  <a:pt x="2900618" y="388119"/>
                  <a:pt x="2932754" y="375692"/>
                  <a:pt x="2959938" y="387559"/>
                </a:cubicBezTo>
                <a:cubicBezTo>
                  <a:pt x="2987550" y="399613"/>
                  <a:pt x="3000073" y="431535"/>
                  <a:pt x="2988110" y="458933"/>
                </a:cubicBezTo>
                <a:lnTo>
                  <a:pt x="2985514" y="461439"/>
                </a:lnTo>
                <a:lnTo>
                  <a:pt x="3073811" y="531461"/>
                </a:lnTo>
                <a:lnTo>
                  <a:pt x="3076596" y="527459"/>
                </a:lnTo>
                <a:cubicBezTo>
                  <a:pt x="3096237" y="508654"/>
                  <a:pt x="3125767" y="502329"/>
                  <a:pt x="3151989" y="513776"/>
                </a:cubicBezTo>
                <a:cubicBezTo>
                  <a:pt x="3187161" y="529131"/>
                  <a:pt x="3203165" y="570278"/>
                  <a:pt x="3187719" y="605660"/>
                </a:cubicBezTo>
                <a:cubicBezTo>
                  <a:pt x="3172369" y="640825"/>
                  <a:pt x="3131321" y="657066"/>
                  <a:pt x="3096142" y="641710"/>
                </a:cubicBezTo>
                <a:cubicBezTo>
                  <a:pt x="3087401" y="637894"/>
                  <a:pt x="3079859" y="632466"/>
                  <a:pt x="3073702" y="625921"/>
                </a:cubicBezTo>
                <a:lnTo>
                  <a:pt x="3064583" y="611405"/>
                </a:lnTo>
                <a:lnTo>
                  <a:pt x="2971379" y="630947"/>
                </a:lnTo>
                <a:lnTo>
                  <a:pt x="2971551" y="644671"/>
                </a:lnTo>
                <a:cubicBezTo>
                  <a:pt x="2965041" y="661934"/>
                  <a:pt x="2946050" y="670140"/>
                  <a:pt x="2929373" y="663633"/>
                </a:cubicBezTo>
                <a:cubicBezTo>
                  <a:pt x="2912261" y="656936"/>
                  <a:pt x="2904123" y="637918"/>
                  <a:pt x="2910655" y="621182"/>
                </a:cubicBezTo>
                <a:cubicBezTo>
                  <a:pt x="2917166" y="603919"/>
                  <a:pt x="2936160" y="595714"/>
                  <a:pt x="2952961" y="602533"/>
                </a:cubicBezTo>
                <a:lnTo>
                  <a:pt x="2968853" y="617538"/>
                </a:lnTo>
                <a:lnTo>
                  <a:pt x="3059688" y="598292"/>
                </a:lnTo>
                <a:lnTo>
                  <a:pt x="3060746" y="550228"/>
                </a:lnTo>
                <a:lnTo>
                  <a:pt x="3062047" y="548358"/>
                </a:lnTo>
                <a:lnTo>
                  <a:pt x="2970577" y="475859"/>
                </a:lnTo>
                <a:lnTo>
                  <a:pt x="2958153" y="487850"/>
                </a:lnTo>
                <a:cubicBezTo>
                  <a:pt x="2945214" y="492926"/>
                  <a:pt x="2930329" y="493042"/>
                  <a:pt x="2916521" y="487015"/>
                </a:cubicBezTo>
                <a:cubicBezTo>
                  <a:pt x="2889339" y="475149"/>
                  <a:pt x="2876603" y="443133"/>
                  <a:pt x="2888657" y="415518"/>
                </a:cubicBezTo>
                <a:close/>
                <a:moveTo>
                  <a:pt x="2735015" y="830448"/>
                </a:moveTo>
                <a:cubicBezTo>
                  <a:pt x="2734872" y="821066"/>
                  <a:pt x="2738325" y="811641"/>
                  <a:pt x="2745408" y="804363"/>
                </a:cubicBezTo>
                <a:cubicBezTo>
                  <a:pt x="2759572" y="789807"/>
                  <a:pt x="2782709" y="789529"/>
                  <a:pt x="2797310" y="803738"/>
                </a:cubicBezTo>
                <a:cubicBezTo>
                  <a:pt x="2804612" y="810843"/>
                  <a:pt x="2808307" y="820141"/>
                  <a:pt x="2808408" y="829482"/>
                </a:cubicBezTo>
                <a:lnTo>
                  <a:pt x="2802948" y="843036"/>
                </a:lnTo>
                <a:lnTo>
                  <a:pt x="2898780" y="915734"/>
                </a:lnTo>
                <a:lnTo>
                  <a:pt x="2901884" y="907906"/>
                </a:lnTo>
                <a:cubicBezTo>
                  <a:pt x="2915185" y="894235"/>
                  <a:pt x="2932834" y="887324"/>
                  <a:pt x="2950594" y="887175"/>
                </a:cubicBezTo>
                <a:lnTo>
                  <a:pt x="2956356" y="888242"/>
                </a:lnTo>
                <a:lnTo>
                  <a:pt x="2970732" y="795329"/>
                </a:lnTo>
                <a:lnTo>
                  <a:pt x="2957824" y="790653"/>
                </a:lnTo>
                <a:cubicBezTo>
                  <a:pt x="2950891" y="784565"/>
                  <a:pt x="2947179" y="776354"/>
                  <a:pt x="2946698" y="768001"/>
                </a:cubicBezTo>
                <a:cubicBezTo>
                  <a:pt x="2946213" y="759648"/>
                  <a:pt x="2948960" y="751153"/>
                  <a:pt x="2954944" y="744495"/>
                </a:cubicBezTo>
                <a:cubicBezTo>
                  <a:pt x="2967245" y="730843"/>
                  <a:pt x="2987913" y="729931"/>
                  <a:pt x="3001273" y="741946"/>
                </a:cubicBezTo>
                <a:cubicBezTo>
                  <a:pt x="3015133" y="754121"/>
                  <a:pt x="3016115" y="774786"/>
                  <a:pt x="3003813" y="788106"/>
                </a:cubicBezTo>
                <a:lnTo>
                  <a:pt x="2984175" y="797690"/>
                </a:lnTo>
                <a:lnTo>
                  <a:pt x="2969971" y="890763"/>
                </a:lnTo>
                <a:lnTo>
                  <a:pt x="2976791" y="892025"/>
                </a:lnTo>
                <a:cubicBezTo>
                  <a:pt x="2985196" y="895332"/>
                  <a:pt x="2993101" y="900330"/>
                  <a:pt x="2999976" y="907021"/>
                </a:cubicBezTo>
                <a:lnTo>
                  <a:pt x="3005773" y="915457"/>
                </a:lnTo>
                <a:lnTo>
                  <a:pt x="3116148" y="849239"/>
                </a:lnTo>
                <a:lnTo>
                  <a:pt x="3109306" y="833385"/>
                </a:lnTo>
                <a:cubicBezTo>
                  <a:pt x="3109118" y="819487"/>
                  <a:pt x="3114252" y="805518"/>
                  <a:pt x="3124756" y="794720"/>
                </a:cubicBezTo>
                <a:cubicBezTo>
                  <a:pt x="3145439" y="773463"/>
                  <a:pt x="3179891" y="772828"/>
                  <a:pt x="3201481" y="793842"/>
                </a:cubicBezTo>
                <a:cubicBezTo>
                  <a:pt x="3222906" y="814692"/>
                  <a:pt x="3223209" y="849147"/>
                  <a:pt x="3202523" y="870404"/>
                </a:cubicBezTo>
                <a:cubicBezTo>
                  <a:pt x="3181513" y="891998"/>
                  <a:pt x="3147225" y="892464"/>
                  <a:pt x="3125801" y="871615"/>
                </a:cubicBezTo>
                <a:lnTo>
                  <a:pt x="3124371" y="868302"/>
                </a:lnTo>
                <a:lnTo>
                  <a:pt x="3016375" y="933059"/>
                </a:lnTo>
                <a:lnTo>
                  <a:pt x="3021303" y="955985"/>
                </a:lnTo>
                <a:cubicBezTo>
                  <a:pt x="3021657" y="973761"/>
                  <a:pt x="3015229" y="991590"/>
                  <a:pt x="3001925" y="1005261"/>
                </a:cubicBezTo>
                <a:cubicBezTo>
                  <a:pt x="2975157" y="1032769"/>
                  <a:pt x="2931007" y="1033242"/>
                  <a:pt x="2903340" y="1006319"/>
                </a:cubicBezTo>
                <a:cubicBezTo>
                  <a:pt x="2889591" y="992938"/>
                  <a:pt x="2882537" y="975213"/>
                  <a:pt x="2882263" y="957394"/>
                </a:cubicBezTo>
                <a:lnTo>
                  <a:pt x="2893118" y="930015"/>
                </a:lnTo>
                <a:lnTo>
                  <a:pt x="2796032" y="856313"/>
                </a:lnTo>
                <a:lnTo>
                  <a:pt x="2772222" y="866666"/>
                </a:lnTo>
                <a:cubicBezTo>
                  <a:pt x="2762893" y="866822"/>
                  <a:pt x="2753499" y="863379"/>
                  <a:pt x="2746197" y="856275"/>
                </a:cubicBezTo>
                <a:cubicBezTo>
                  <a:pt x="2738896" y="849170"/>
                  <a:pt x="2735158" y="839831"/>
                  <a:pt x="2735015" y="830448"/>
                </a:cubicBezTo>
                <a:close/>
                <a:moveTo>
                  <a:pt x="2664505" y="1059587"/>
                </a:moveTo>
                <a:cubicBezTo>
                  <a:pt x="2676465" y="1032188"/>
                  <a:pt x="2708602" y="1019761"/>
                  <a:pt x="2735786" y="1031628"/>
                </a:cubicBezTo>
                <a:cubicBezTo>
                  <a:pt x="2763398" y="1043682"/>
                  <a:pt x="2775920" y="1075603"/>
                  <a:pt x="2763958" y="1103002"/>
                </a:cubicBezTo>
                <a:lnTo>
                  <a:pt x="2761362" y="1105508"/>
                </a:lnTo>
                <a:lnTo>
                  <a:pt x="2849655" y="1175530"/>
                </a:lnTo>
                <a:lnTo>
                  <a:pt x="2852442" y="1171528"/>
                </a:lnTo>
                <a:cubicBezTo>
                  <a:pt x="2872083" y="1152723"/>
                  <a:pt x="2901609" y="1146397"/>
                  <a:pt x="2927835" y="1157845"/>
                </a:cubicBezTo>
                <a:cubicBezTo>
                  <a:pt x="2963014" y="1173201"/>
                  <a:pt x="2979015" y="1214348"/>
                  <a:pt x="2963571" y="1249729"/>
                </a:cubicBezTo>
                <a:cubicBezTo>
                  <a:pt x="2948220" y="1284895"/>
                  <a:pt x="2907167" y="1301135"/>
                  <a:pt x="2871987" y="1285778"/>
                </a:cubicBezTo>
                <a:cubicBezTo>
                  <a:pt x="2863246" y="1281962"/>
                  <a:pt x="2855703" y="1276534"/>
                  <a:pt x="2849546" y="1269990"/>
                </a:cubicBezTo>
                <a:lnTo>
                  <a:pt x="2840427" y="1255474"/>
                </a:lnTo>
                <a:lnTo>
                  <a:pt x="2747226" y="1275015"/>
                </a:lnTo>
                <a:lnTo>
                  <a:pt x="2747398" y="1288740"/>
                </a:lnTo>
                <a:cubicBezTo>
                  <a:pt x="2740889" y="1306004"/>
                  <a:pt x="2721897" y="1314209"/>
                  <a:pt x="2705220" y="1307701"/>
                </a:cubicBezTo>
                <a:cubicBezTo>
                  <a:pt x="2688109" y="1301005"/>
                  <a:pt x="2679972" y="1281988"/>
                  <a:pt x="2686507" y="1265252"/>
                </a:cubicBezTo>
                <a:cubicBezTo>
                  <a:pt x="2693016" y="1247988"/>
                  <a:pt x="2712009" y="1239783"/>
                  <a:pt x="2728807" y="1246601"/>
                </a:cubicBezTo>
                <a:lnTo>
                  <a:pt x="2744699" y="1261606"/>
                </a:lnTo>
                <a:lnTo>
                  <a:pt x="2835531" y="1242361"/>
                </a:lnTo>
                <a:lnTo>
                  <a:pt x="2836585" y="1194296"/>
                </a:lnTo>
                <a:lnTo>
                  <a:pt x="2837887" y="1192425"/>
                </a:lnTo>
                <a:lnTo>
                  <a:pt x="2746423" y="1119927"/>
                </a:lnTo>
                <a:lnTo>
                  <a:pt x="2734001" y="1131919"/>
                </a:lnTo>
                <a:cubicBezTo>
                  <a:pt x="2721062" y="1136995"/>
                  <a:pt x="2706178" y="1137112"/>
                  <a:pt x="2692370" y="1131084"/>
                </a:cubicBezTo>
                <a:cubicBezTo>
                  <a:pt x="2665187" y="1119217"/>
                  <a:pt x="2652450" y="1087202"/>
                  <a:pt x="2664505" y="1059587"/>
                </a:cubicBezTo>
                <a:close/>
                <a:moveTo>
                  <a:pt x="2510849" y="1474515"/>
                </a:moveTo>
                <a:cubicBezTo>
                  <a:pt x="2510707" y="1465134"/>
                  <a:pt x="2514160" y="1455709"/>
                  <a:pt x="2521242" y="1448431"/>
                </a:cubicBezTo>
                <a:cubicBezTo>
                  <a:pt x="2535407" y="1433875"/>
                  <a:pt x="2558554" y="1433597"/>
                  <a:pt x="2573156" y="1447807"/>
                </a:cubicBezTo>
                <a:cubicBezTo>
                  <a:pt x="2580457" y="1454912"/>
                  <a:pt x="2584153" y="1464210"/>
                  <a:pt x="2584255" y="1473552"/>
                </a:cubicBezTo>
                <a:lnTo>
                  <a:pt x="2578794" y="1487105"/>
                </a:lnTo>
                <a:lnTo>
                  <a:pt x="2674628" y="1559803"/>
                </a:lnTo>
                <a:lnTo>
                  <a:pt x="2677732" y="1551976"/>
                </a:lnTo>
                <a:cubicBezTo>
                  <a:pt x="2691035" y="1538305"/>
                  <a:pt x="2708680" y="1531393"/>
                  <a:pt x="2726439" y="1531244"/>
                </a:cubicBezTo>
                <a:lnTo>
                  <a:pt x="2732197" y="1532310"/>
                </a:lnTo>
                <a:lnTo>
                  <a:pt x="2746574" y="1439398"/>
                </a:lnTo>
                <a:lnTo>
                  <a:pt x="2733670" y="1434721"/>
                </a:lnTo>
                <a:cubicBezTo>
                  <a:pt x="2726738" y="1428633"/>
                  <a:pt x="2723027" y="1420423"/>
                  <a:pt x="2722544" y="1412070"/>
                </a:cubicBezTo>
                <a:cubicBezTo>
                  <a:pt x="2722061" y="1403717"/>
                  <a:pt x="2724807" y="1395222"/>
                  <a:pt x="2730793" y="1388564"/>
                </a:cubicBezTo>
                <a:cubicBezTo>
                  <a:pt x="2743090" y="1374911"/>
                  <a:pt x="2763754" y="1373999"/>
                  <a:pt x="2777114" y="1386014"/>
                </a:cubicBezTo>
                <a:cubicBezTo>
                  <a:pt x="2790974" y="1398189"/>
                  <a:pt x="2791959" y="1418855"/>
                  <a:pt x="2779656" y="1432175"/>
                </a:cubicBezTo>
                <a:lnTo>
                  <a:pt x="2760014" y="1441759"/>
                </a:lnTo>
                <a:lnTo>
                  <a:pt x="2745813" y="1534830"/>
                </a:lnTo>
                <a:lnTo>
                  <a:pt x="2752632" y="1536093"/>
                </a:lnTo>
                <a:cubicBezTo>
                  <a:pt x="2761038" y="1539400"/>
                  <a:pt x="2768943" y="1544398"/>
                  <a:pt x="2775818" y="1551088"/>
                </a:cubicBezTo>
                <a:lnTo>
                  <a:pt x="2781617" y="1559525"/>
                </a:lnTo>
                <a:lnTo>
                  <a:pt x="2891993" y="1493307"/>
                </a:lnTo>
                <a:lnTo>
                  <a:pt x="2885150" y="1477454"/>
                </a:lnTo>
                <a:cubicBezTo>
                  <a:pt x="2884962" y="1463556"/>
                  <a:pt x="2890099" y="1449586"/>
                  <a:pt x="2900607" y="1438789"/>
                </a:cubicBezTo>
                <a:cubicBezTo>
                  <a:pt x="2921293" y="1417533"/>
                  <a:pt x="2955742" y="1416898"/>
                  <a:pt x="2977335" y="1437911"/>
                </a:cubicBezTo>
                <a:cubicBezTo>
                  <a:pt x="2998762" y="1458762"/>
                  <a:pt x="2999062" y="1493216"/>
                  <a:pt x="2978376" y="1514473"/>
                </a:cubicBezTo>
                <a:cubicBezTo>
                  <a:pt x="2957363" y="1536067"/>
                  <a:pt x="2923077" y="1536534"/>
                  <a:pt x="2901652" y="1515684"/>
                </a:cubicBezTo>
                <a:lnTo>
                  <a:pt x="2900221" y="1512370"/>
                </a:lnTo>
                <a:lnTo>
                  <a:pt x="2792219" y="1577127"/>
                </a:lnTo>
                <a:lnTo>
                  <a:pt x="2797146" y="1600053"/>
                </a:lnTo>
                <a:cubicBezTo>
                  <a:pt x="2797501" y="1617829"/>
                  <a:pt x="2791072" y="1635658"/>
                  <a:pt x="2777770" y="1649329"/>
                </a:cubicBezTo>
                <a:cubicBezTo>
                  <a:pt x="2750999" y="1676837"/>
                  <a:pt x="2706852" y="1677311"/>
                  <a:pt x="2679188" y="1650387"/>
                </a:cubicBezTo>
                <a:cubicBezTo>
                  <a:pt x="2665439" y="1637007"/>
                  <a:pt x="2658383" y="1619281"/>
                  <a:pt x="2658109" y="1601462"/>
                </a:cubicBezTo>
                <a:lnTo>
                  <a:pt x="2668966" y="1574084"/>
                </a:lnTo>
                <a:lnTo>
                  <a:pt x="2571877" y="1500381"/>
                </a:lnTo>
                <a:lnTo>
                  <a:pt x="2548068" y="1510736"/>
                </a:lnTo>
                <a:cubicBezTo>
                  <a:pt x="2538728" y="1510889"/>
                  <a:pt x="2529333" y="1507447"/>
                  <a:pt x="2522032" y="1500342"/>
                </a:cubicBezTo>
                <a:cubicBezTo>
                  <a:pt x="2514731" y="1493237"/>
                  <a:pt x="2510992" y="1483898"/>
                  <a:pt x="2510849" y="1474515"/>
                </a:cubicBezTo>
                <a:close/>
                <a:moveTo>
                  <a:pt x="2498441" y="603623"/>
                </a:moveTo>
                <a:cubicBezTo>
                  <a:pt x="2498441" y="583313"/>
                  <a:pt x="2514835" y="566971"/>
                  <a:pt x="2535210" y="566971"/>
                </a:cubicBezTo>
                <a:cubicBezTo>
                  <a:pt x="2545398" y="566970"/>
                  <a:pt x="2554531" y="571056"/>
                  <a:pt x="2561117" y="577680"/>
                </a:cubicBezTo>
                <a:lnTo>
                  <a:pt x="2566655" y="591203"/>
                </a:lnTo>
                <a:lnTo>
                  <a:pt x="2684425" y="576666"/>
                </a:lnTo>
                <a:lnTo>
                  <a:pt x="2682807" y="568692"/>
                </a:lnTo>
                <a:cubicBezTo>
                  <a:pt x="2682806" y="549617"/>
                  <a:pt x="2690634" y="532356"/>
                  <a:pt x="2703256" y="519864"/>
                </a:cubicBezTo>
                <a:lnTo>
                  <a:pt x="2708127" y="516612"/>
                </a:lnTo>
                <a:lnTo>
                  <a:pt x="2653632" y="439998"/>
                </a:lnTo>
                <a:lnTo>
                  <a:pt x="2641122" y="445647"/>
                </a:lnTo>
                <a:cubicBezTo>
                  <a:pt x="2622695" y="446589"/>
                  <a:pt x="2607577" y="432464"/>
                  <a:pt x="2606868" y="414574"/>
                </a:cubicBezTo>
                <a:cubicBezTo>
                  <a:pt x="2606159" y="396213"/>
                  <a:pt x="2620334" y="381147"/>
                  <a:pt x="2638287" y="380441"/>
                </a:cubicBezTo>
                <a:cubicBezTo>
                  <a:pt x="2656713" y="379500"/>
                  <a:pt x="2671832" y="393623"/>
                  <a:pt x="2672303" y="411749"/>
                </a:cubicBezTo>
                <a:lnTo>
                  <a:pt x="2664909" y="432318"/>
                </a:lnTo>
                <a:lnTo>
                  <a:pt x="2719643" y="508922"/>
                </a:lnTo>
                <a:lnTo>
                  <a:pt x="2725410" y="505071"/>
                </a:lnTo>
                <a:cubicBezTo>
                  <a:pt x="2733740" y="501579"/>
                  <a:pt x="2742892" y="499648"/>
                  <a:pt x="2752485" y="499648"/>
                </a:cubicBezTo>
                <a:lnTo>
                  <a:pt x="2762528" y="501650"/>
                </a:lnTo>
                <a:lnTo>
                  <a:pt x="2794514" y="380740"/>
                </a:lnTo>
                <a:lnTo>
                  <a:pt x="2779486" y="370625"/>
                </a:lnTo>
                <a:cubicBezTo>
                  <a:pt x="2769656" y="360797"/>
                  <a:pt x="2763595" y="347203"/>
                  <a:pt x="2763595" y="332137"/>
                </a:cubicBezTo>
                <a:cubicBezTo>
                  <a:pt x="2763595" y="302476"/>
                  <a:pt x="2787844" y="277995"/>
                  <a:pt x="2817971" y="277995"/>
                </a:cubicBezTo>
                <a:cubicBezTo>
                  <a:pt x="2847854" y="277994"/>
                  <a:pt x="2872101" y="302475"/>
                  <a:pt x="2872101" y="332136"/>
                </a:cubicBezTo>
                <a:cubicBezTo>
                  <a:pt x="2872100" y="362267"/>
                  <a:pt x="2847854" y="386513"/>
                  <a:pt x="2817971" y="386514"/>
                </a:cubicBezTo>
                <a:lnTo>
                  <a:pt x="2814458" y="385809"/>
                </a:lnTo>
                <a:lnTo>
                  <a:pt x="2782397" y="506871"/>
                </a:lnTo>
                <a:lnTo>
                  <a:pt x="2801917" y="519863"/>
                </a:lnTo>
                <a:cubicBezTo>
                  <a:pt x="2814557" y="532354"/>
                  <a:pt x="2822382" y="549616"/>
                  <a:pt x="2822383" y="568691"/>
                </a:cubicBezTo>
                <a:cubicBezTo>
                  <a:pt x="2822383" y="587882"/>
                  <a:pt x="2814554" y="605260"/>
                  <a:pt x="2801903" y="617841"/>
                </a:cubicBezTo>
                <a:lnTo>
                  <a:pt x="2787521" y="627494"/>
                </a:lnTo>
                <a:lnTo>
                  <a:pt x="2840451" y="739538"/>
                </a:lnTo>
                <a:lnTo>
                  <a:pt x="2850850" y="736892"/>
                </a:lnTo>
                <a:cubicBezTo>
                  <a:pt x="2866656" y="739262"/>
                  <a:pt x="2877274" y="753710"/>
                  <a:pt x="2875151" y="769106"/>
                </a:cubicBezTo>
                <a:cubicBezTo>
                  <a:pt x="2872793" y="784738"/>
                  <a:pt x="2858399" y="795633"/>
                  <a:pt x="2843063" y="793265"/>
                </a:cubicBezTo>
                <a:cubicBezTo>
                  <a:pt x="2827257" y="791133"/>
                  <a:pt x="2816404" y="776685"/>
                  <a:pt x="2818528" y="761053"/>
                </a:cubicBezTo>
                <a:lnTo>
                  <a:pt x="2827905" y="745117"/>
                </a:lnTo>
                <a:lnTo>
                  <a:pt x="2775321" y="633618"/>
                </a:lnTo>
                <a:lnTo>
                  <a:pt x="2752485" y="638205"/>
                </a:lnTo>
                <a:cubicBezTo>
                  <a:pt x="2723707" y="638204"/>
                  <a:pt x="2698901" y="620695"/>
                  <a:pt x="2688297" y="595747"/>
                </a:cubicBezTo>
                <a:lnTo>
                  <a:pt x="2687378" y="591213"/>
                </a:lnTo>
                <a:lnTo>
                  <a:pt x="2570961" y="605541"/>
                </a:lnTo>
                <a:lnTo>
                  <a:pt x="2561116" y="629565"/>
                </a:lnTo>
                <a:cubicBezTo>
                  <a:pt x="2554531" y="636190"/>
                  <a:pt x="2545397" y="640275"/>
                  <a:pt x="2535211" y="640276"/>
                </a:cubicBezTo>
                <a:cubicBezTo>
                  <a:pt x="2514834" y="640276"/>
                  <a:pt x="2498442" y="623934"/>
                  <a:pt x="2498441" y="603623"/>
                </a:cubicBezTo>
                <a:close/>
                <a:moveTo>
                  <a:pt x="2274277" y="1247691"/>
                </a:moveTo>
                <a:cubicBezTo>
                  <a:pt x="2274277" y="1227380"/>
                  <a:pt x="2290671" y="1211039"/>
                  <a:pt x="2311048" y="1211039"/>
                </a:cubicBezTo>
                <a:cubicBezTo>
                  <a:pt x="2321235" y="1211038"/>
                  <a:pt x="2330368" y="1215124"/>
                  <a:pt x="2336954" y="1221748"/>
                </a:cubicBezTo>
                <a:lnTo>
                  <a:pt x="2342493" y="1235270"/>
                </a:lnTo>
                <a:lnTo>
                  <a:pt x="2460258" y="1220733"/>
                </a:lnTo>
                <a:lnTo>
                  <a:pt x="2458641" y="1212760"/>
                </a:lnTo>
                <a:cubicBezTo>
                  <a:pt x="2458641" y="1193684"/>
                  <a:pt x="2466467" y="1176423"/>
                  <a:pt x="2479091" y="1163931"/>
                </a:cubicBezTo>
                <a:lnTo>
                  <a:pt x="2483961" y="1160679"/>
                </a:lnTo>
                <a:lnTo>
                  <a:pt x="2429465" y="1084065"/>
                </a:lnTo>
                <a:lnTo>
                  <a:pt x="2416955" y="1089714"/>
                </a:lnTo>
                <a:cubicBezTo>
                  <a:pt x="2398527" y="1090655"/>
                  <a:pt x="2383410" y="1076532"/>
                  <a:pt x="2382702" y="1058642"/>
                </a:cubicBezTo>
                <a:cubicBezTo>
                  <a:pt x="2381992" y="1040280"/>
                  <a:pt x="2396167" y="1025215"/>
                  <a:pt x="2414119" y="1024508"/>
                </a:cubicBezTo>
                <a:cubicBezTo>
                  <a:pt x="2432545" y="1023567"/>
                  <a:pt x="2447664" y="1037691"/>
                  <a:pt x="2448136" y="1055816"/>
                </a:cubicBezTo>
                <a:lnTo>
                  <a:pt x="2440743" y="1076384"/>
                </a:lnTo>
                <a:lnTo>
                  <a:pt x="2495477" y="1152989"/>
                </a:lnTo>
                <a:lnTo>
                  <a:pt x="2501243" y="1149138"/>
                </a:lnTo>
                <a:cubicBezTo>
                  <a:pt x="2509575" y="1145646"/>
                  <a:pt x="2518726" y="1143715"/>
                  <a:pt x="2528318" y="1143715"/>
                </a:cubicBezTo>
                <a:lnTo>
                  <a:pt x="2538360" y="1145716"/>
                </a:lnTo>
                <a:lnTo>
                  <a:pt x="2570348" y="1024807"/>
                </a:lnTo>
                <a:lnTo>
                  <a:pt x="2555319" y="1014692"/>
                </a:lnTo>
                <a:cubicBezTo>
                  <a:pt x="2545491" y="1004864"/>
                  <a:pt x="2539430" y="991269"/>
                  <a:pt x="2539430" y="976204"/>
                </a:cubicBezTo>
                <a:cubicBezTo>
                  <a:pt x="2539430" y="946544"/>
                  <a:pt x="2563675" y="922062"/>
                  <a:pt x="2593807" y="922063"/>
                </a:cubicBezTo>
                <a:cubicBezTo>
                  <a:pt x="2623703" y="922063"/>
                  <a:pt x="2647949" y="946544"/>
                  <a:pt x="2647950" y="976205"/>
                </a:cubicBezTo>
                <a:cubicBezTo>
                  <a:pt x="2647949" y="1006336"/>
                  <a:pt x="2623703" y="1030582"/>
                  <a:pt x="2593807" y="1030582"/>
                </a:cubicBezTo>
                <a:lnTo>
                  <a:pt x="2590295" y="1029876"/>
                </a:lnTo>
                <a:lnTo>
                  <a:pt x="2558233" y="1150938"/>
                </a:lnTo>
                <a:lnTo>
                  <a:pt x="2577753" y="1163931"/>
                </a:lnTo>
                <a:cubicBezTo>
                  <a:pt x="2590405" y="1176423"/>
                  <a:pt x="2598232" y="1193684"/>
                  <a:pt x="2598232" y="1212760"/>
                </a:cubicBezTo>
                <a:cubicBezTo>
                  <a:pt x="2598232" y="1231951"/>
                  <a:pt x="2590405" y="1249330"/>
                  <a:pt x="2577752" y="1261909"/>
                </a:cubicBezTo>
                <a:lnTo>
                  <a:pt x="2563357" y="1271561"/>
                </a:lnTo>
                <a:lnTo>
                  <a:pt x="2616301" y="1383608"/>
                </a:lnTo>
                <a:lnTo>
                  <a:pt x="2626701" y="1380962"/>
                </a:lnTo>
                <a:cubicBezTo>
                  <a:pt x="2642508" y="1383331"/>
                  <a:pt x="2653126" y="1397779"/>
                  <a:pt x="2651002" y="1413174"/>
                </a:cubicBezTo>
                <a:cubicBezTo>
                  <a:pt x="2648642" y="1428807"/>
                  <a:pt x="2634249" y="1439702"/>
                  <a:pt x="2618914" y="1437334"/>
                </a:cubicBezTo>
                <a:cubicBezTo>
                  <a:pt x="2603106" y="1435202"/>
                  <a:pt x="2592253" y="1420754"/>
                  <a:pt x="2594376" y="1405122"/>
                </a:cubicBezTo>
                <a:lnTo>
                  <a:pt x="2603754" y="1389187"/>
                </a:lnTo>
                <a:lnTo>
                  <a:pt x="2551158" y="1277686"/>
                </a:lnTo>
                <a:lnTo>
                  <a:pt x="2528319" y="1282272"/>
                </a:lnTo>
                <a:cubicBezTo>
                  <a:pt x="2499541" y="1282272"/>
                  <a:pt x="2474735" y="1264762"/>
                  <a:pt x="2464131" y="1239814"/>
                </a:cubicBezTo>
                <a:lnTo>
                  <a:pt x="2463211" y="1235279"/>
                </a:lnTo>
                <a:lnTo>
                  <a:pt x="2346795" y="1249609"/>
                </a:lnTo>
                <a:lnTo>
                  <a:pt x="2336954" y="1273633"/>
                </a:lnTo>
                <a:cubicBezTo>
                  <a:pt x="2330368" y="1280257"/>
                  <a:pt x="2321235" y="1284343"/>
                  <a:pt x="2311048" y="1284343"/>
                </a:cubicBezTo>
                <a:cubicBezTo>
                  <a:pt x="2290671" y="1284343"/>
                  <a:pt x="2274278" y="1268001"/>
                  <a:pt x="2274277" y="1247691"/>
                </a:cubicBezTo>
                <a:close/>
                <a:moveTo>
                  <a:pt x="2258630" y="675040"/>
                </a:moveTo>
                <a:cubicBezTo>
                  <a:pt x="2258630" y="654664"/>
                  <a:pt x="2274971" y="638505"/>
                  <a:pt x="2295281" y="638505"/>
                </a:cubicBezTo>
                <a:cubicBezTo>
                  <a:pt x="2315590" y="638505"/>
                  <a:pt x="2331932" y="654664"/>
                  <a:pt x="2331932" y="675040"/>
                </a:cubicBezTo>
                <a:lnTo>
                  <a:pt x="2328105" y="684339"/>
                </a:lnTo>
                <a:lnTo>
                  <a:pt x="2470542" y="762745"/>
                </a:lnTo>
                <a:lnTo>
                  <a:pt x="2471987" y="759250"/>
                </a:lnTo>
                <a:cubicBezTo>
                  <a:pt x="2478611" y="752663"/>
                  <a:pt x="2487775" y="748622"/>
                  <a:pt x="2497930" y="748623"/>
                </a:cubicBezTo>
                <a:cubicBezTo>
                  <a:pt x="2518240" y="748623"/>
                  <a:pt x="2534582" y="764783"/>
                  <a:pt x="2534581" y="785158"/>
                </a:cubicBezTo>
                <a:cubicBezTo>
                  <a:pt x="2534581" y="805534"/>
                  <a:pt x="2518240" y="821928"/>
                  <a:pt x="2497930" y="821928"/>
                </a:cubicBezTo>
                <a:lnTo>
                  <a:pt x="2489262" y="818338"/>
                </a:lnTo>
                <a:lnTo>
                  <a:pt x="2352789" y="892769"/>
                </a:lnTo>
                <a:lnTo>
                  <a:pt x="2355335" y="898926"/>
                </a:lnTo>
                <a:cubicBezTo>
                  <a:pt x="2355335" y="919302"/>
                  <a:pt x="2338994" y="935696"/>
                  <a:pt x="2318681" y="935695"/>
                </a:cubicBezTo>
                <a:cubicBezTo>
                  <a:pt x="2298372" y="935695"/>
                  <a:pt x="2282030" y="919301"/>
                  <a:pt x="2282030" y="898926"/>
                </a:cubicBezTo>
                <a:cubicBezTo>
                  <a:pt x="2282030" y="878550"/>
                  <a:pt x="2298371" y="862391"/>
                  <a:pt x="2318682" y="862391"/>
                </a:cubicBezTo>
                <a:cubicBezTo>
                  <a:pt x="2328837" y="862390"/>
                  <a:pt x="2338000" y="866431"/>
                  <a:pt x="2344625" y="873017"/>
                </a:cubicBezTo>
                <a:lnTo>
                  <a:pt x="2345619" y="875421"/>
                </a:lnTo>
                <a:lnTo>
                  <a:pt x="2470432" y="807403"/>
                </a:lnTo>
                <a:lnTo>
                  <a:pt x="2461277" y="785158"/>
                </a:lnTo>
                <a:lnTo>
                  <a:pt x="2463385" y="780055"/>
                </a:lnTo>
                <a:lnTo>
                  <a:pt x="2320397" y="701408"/>
                </a:lnTo>
                <a:lnTo>
                  <a:pt x="2308208" y="706455"/>
                </a:lnTo>
                <a:lnTo>
                  <a:pt x="2326090" y="851734"/>
                </a:lnTo>
                <a:cubicBezTo>
                  <a:pt x="2326564" y="855486"/>
                  <a:pt x="2323721" y="859237"/>
                  <a:pt x="2319693" y="859941"/>
                </a:cubicBezTo>
                <a:cubicBezTo>
                  <a:pt x="2315428" y="860175"/>
                  <a:pt x="2311637" y="857362"/>
                  <a:pt x="2311400" y="853141"/>
                </a:cubicBezTo>
                <a:lnTo>
                  <a:pt x="2293884" y="711231"/>
                </a:lnTo>
                <a:lnTo>
                  <a:pt x="2269339" y="701065"/>
                </a:lnTo>
                <a:cubicBezTo>
                  <a:pt x="2262714" y="694420"/>
                  <a:pt x="2258630" y="685228"/>
                  <a:pt x="2258630" y="675040"/>
                </a:cubicBezTo>
                <a:close/>
                <a:moveTo>
                  <a:pt x="2176625" y="310325"/>
                </a:moveTo>
                <a:cubicBezTo>
                  <a:pt x="2194517" y="276382"/>
                  <a:pt x="2236654" y="263201"/>
                  <a:pt x="2270608" y="281100"/>
                </a:cubicBezTo>
                <a:cubicBezTo>
                  <a:pt x="2279045" y="285547"/>
                  <a:pt x="2286169" y="291514"/>
                  <a:pt x="2291827" y="298492"/>
                </a:cubicBezTo>
                <a:lnTo>
                  <a:pt x="2299856" y="313640"/>
                </a:lnTo>
                <a:lnTo>
                  <a:pt x="2394240" y="300995"/>
                </a:lnTo>
                <a:lnTo>
                  <a:pt x="2395076" y="287294"/>
                </a:lnTo>
                <a:cubicBezTo>
                  <a:pt x="2402834" y="270555"/>
                  <a:pt x="2422380" y="263767"/>
                  <a:pt x="2438536" y="271482"/>
                </a:cubicBezTo>
                <a:cubicBezTo>
                  <a:pt x="2455109" y="279418"/>
                  <a:pt x="2461826" y="298981"/>
                  <a:pt x="2454080" y="315191"/>
                </a:cubicBezTo>
                <a:cubicBezTo>
                  <a:pt x="2446322" y="331930"/>
                  <a:pt x="2426779" y="338719"/>
                  <a:pt x="2410524" y="330685"/>
                </a:cubicBezTo>
                <a:lnTo>
                  <a:pt x="2395775" y="314554"/>
                </a:lnTo>
                <a:lnTo>
                  <a:pt x="2303775" y="327078"/>
                </a:lnTo>
                <a:lnTo>
                  <a:pt x="2299195" y="374934"/>
                </a:lnTo>
                <a:lnTo>
                  <a:pt x="2297757" y="376704"/>
                </a:lnTo>
                <a:lnTo>
                  <a:pt x="2383651" y="455724"/>
                </a:lnTo>
                <a:lnTo>
                  <a:pt x="2396925" y="444678"/>
                </a:lnTo>
                <a:cubicBezTo>
                  <a:pt x="2410203" y="440565"/>
                  <a:pt x="2425053" y="441542"/>
                  <a:pt x="2438380" y="448567"/>
                </a:cubicBezTo>
                <a:cubicBezTo>
                  <a:pt x="2464617" y="462398"/>
                  <a:pt x="2474968" y="495263"/>
                  <a:pt x="2460916" y="521918"/>
                </a:cubicBezTo>
                <a:cubicBezTo>
                  <a:pt x="2446977" y="548364"/>
                  <a:pt x="2414016" y="558398"/>
                  <a:pt x="2387779" y="544567"/>
                </a:cubicBezTo>
                <a:cubicBezTo>
                  <a:pt x="2361124" y="530516"/>
                  <a:pt x="2350980" y="497762"/>
                  <a:pt x="2364920" y="471315"/>
                </a:cubicBezTo>
                <a:lnTo>
                  <a:pt x="2367694" y="469007"/>
                </a:lnTo>
                <a:lnTo>
                  <a:pt x="2284782" y="392690"/>
                </a:lnTo>
                <a:lnTo>
                  <a:pt x="2281709" y="396476"/>
                </a:lnTo>
                <a:cubicBezTo>
                  <a:pt x="2260740" y="413788"/>
                  <a:pt x="2230831" y="417928"/>
                  <a:pt x="2205519" y="404586"/>
                </a:cubicBezTo>
                <a:cubicBezTo>
                  <a:pt x="2171561" y="386688"/>
                  <a:pt x="2158623" y="344477"/>
                  <a:pt x="2176625" y="310325"/>
                </a:cubicBezTo>
                <a:close/>
                <a:moveTo>
                  <a:pt x="2034464" y="1319108"/>
                </a:moveTo>
                <a:cubicBezTo>
                  <a:pt x="2034463" y="1298732"/>
                  <a:pt x="2050806" y="1282572"/>
                  <a:pt x="2071116" y="1282572"/>
                </a:cubicBezTo>
                <a:cubicBezTo>
                  <a:pt x="2091426" y="1282572"/>
                  <a:pt x="2107768" y="1298732"/>
                  <a:pt x="2107768" y="1319107"/>
                </a:cubicBezTo>
                <a:lnTo>
                  <a:pt x="2103941" y="1328407"/>
                </a:lnTo>
                <a:lnTo>
                  <a:pt x="2246379" y="1406813"/>
                </a:lnTo>
                <a:lnTo>
                  <a:pt x="2247824" y="1403318"/>
                </a:lnTo>
                <a:cubicBezTo>
                  <a:pt x="2254448" y="1396731"/>
                  <a:pt x="2263611" y="1392691"/>
                  <a:pt x="2273766" y="1392691"/>
                </a:cubicBezTo>
                <a:cubicBezTo>
                  <a:pt x="2294076" y="1392690"/>
                  <a:pt x="2310418" y="1408850"/>
                  <a:pt x="2310418" y="1429225"/>
                </a:cubicBezTo>
                <a:cubicBezTo>
                  <a:pt x="2310417" y="1449601"/>
                  <a:pt x="2294077" y="1465995"/>
                  <a:pt x="2273767" y="1465996"/>
                </a:cubicBezTo>
                <a:lnTo>
                  <a:pt x="2265098" y="1462405"/>
                </a:lnTo>
                <a:lnTo>
                  <a:pt x="2128624" y="1536836"/>
                </a:lnTo>
                <a:lnTo>
                  <a:pt x="2131170" y="1542993"/>
                </a:lnTo>
                <a:cubicBezTo>
                  <a:pt x="2131170" y="1563369"/>
                  <a:pt x="2114827" y="1579763"/>
                  <a:pt x="2094517" y="1579763"/>
                </a:cubicBezTo>
                <a:cubicBezTo>
                  <a:pt x="2074207" y="1579763"/>
                  <a:pt x="2057867" y="1563369"/>
                  <a:pt x="2057866" y="1542994"/>
                </a:cubicBezTo>
                <a:cubicBezTo>
                  <a:pt x="2057866" y="1522618"/>
                  <a:pt x="2074208" y="1506458"/>
                  <a:pt x="2094517" y="1506458"/>
                </a:cubicBezTo>
                <a:cubicBezTo>
                  <a:pt x="2104672" y="1506458"/>
                  <a:pt x="2113835" y="1510498"/>
                  <a:pt x="2120460" y="1517085"/>
                </a:cubicBezTo>
                <a:lnTo>
                  <a:pt x="2121453" y="1519488"/>
                </a:lnTo>
                <a:lnTo>
                  <a:pt x="2246268" y="1451472"/>
                </a:lnTo>
                <a:lnTo>
                  <a:pt x="2237114" y="1429226"/>
                </a:lnTo>
                <a:lnTo>
                  <a:pt x="2239223" y="1424123"/>
                </a:lnTo>
                <a:lnTo>
                  <a:pt x="2096231" y="1345475"/>
                </a:lnTo>
                <a:lnTo>
                  <a:pt x="2084045" y="1350522"/>
                </a:lnTo>
                <a:lnTo>
                  <a:pt x="2101925" y="1495802"/>
                </a:lnTo>
                <a:cubicBezTo>
                  <a:pt x="2102401" y="1499553"/>
                  <a:pt x="2099557" y="1503305"/>
                  <a:pt x="2095528" y="1504008"/>
                </a:cubicBezTo>
                <a:cubicBezTo>
                  <a:pt x="2091264" y="1504243"/>
                  <a:pt x="2087473" y="1501429"/>
                  <a:pt x="2087236" y="1497209"/>
                </a:cubicBezTo>
                <a:lnTo>
                  <a:pt x="2069719" y="1355298"/>
                </a:lnTo>
                <a:lnTo>
                  <a:pt x="2045173" y="1345133"/>
                </a:lnTo>
                <a:cubicBezTo>
                  <a:pt x="2038548" y="1338487"/>
                  <a:pt x="2034463" y="1329295"/>
                  <a:pt x="2034464" y="1319108"/>
                </a:cubicBezTo>
                <a:close/>
                <a:moveTo>
                  <a:pt x="1952457" y="954392"/>
                </a:moveTo>
                <a:cubicBezTo>
                  <a:pt x="1970349" y="920449"/>
                  <a:pt x="2012485" y="907268"/>
                  <a:pt x="2046441" y="925167"/>
                </a:cubicBezTo>
                <a:cubicBezTo>
                  <a:pt x="2054878" y="929614"/>
                  <a:pt x="2062001" y="935581"/>
                  <a:pt x="2067662" y="942560"/>
                </a:cubicBezTo>
                <a:lnTo>
                  <a:pt x="2075690" y="957707"/>
                </a:lnTo>
                <a:lnTo>
                  <a:pt x="2170077" y="945063"/>
                </a:lnTo>
                <a:lnTo>
                  <a:pt x="2170911" y="931362"/>
                </a:lnTo>
                <a:cubicBezTo>
                  <a:pt x="2178671" y="914623"/>
                  <a:pt x="2198216" y="907835"/>
                  <a:pt x="2214371" y="915550"/>
                </a:cubicBezTo>
                <a:cubicBezTo>
                  <a:pt x="2230945" y="923486"/>
                  <a:pt x="2237664" y="943049"/>
                  <a:pt x="2229917" y="959259"/>
                </a:cubicBezTo>
                <a:cubicBezTo>
                  <a:pt x="2222158" y="975998"/>
                  <a:pt x="2202614" y="982786"/>
                  <a:pt x="2186359" y="974753"/>
                </a:cubicBezTo>
                <a:lnTo>
                  <a:pt x="2171611" y="958622"/>
                </a:lnTo>
                <a:lnTo>
                  <a:pt x="2079611" y="971145"/>
                </a:lnTo>
                <a:lnTo>
                  <a:pt x="2075029" y="1019001"/>
                </a:lnTo>
                <a:lnTo>
                  <a:pt x="2073592" y="1020771"/>
                </a:lnTo>
                <a:lnTo>
                  <a:pt x="2159488" y="1099791"/>
                </a:lnTo>
                <a:lnTo>
                  <a:pt x="2172759" y="1088744"/>
                </a:lnTo>
                <a:cubicBezTo>
                  <a:pt x="2186036" y="1084633"/>
                  <a:pt x="2200889" y="1085610"/>
                  <a:pt x="2214216" y="1092635"/>
                </a:cubicBezTo>
                <a:cubicBezTo>
                  <a:pt x="2240456" y="1106466"/>
                  <a:pt x="2250807" y="1139330"/>
                  <a:pt x="2236757" y="1165985"/>
                </a:cubicBezTo>
                <a:cubicBezTo>
                  <a:pt x="2222816" y="1192432"/>
                  <a:pt x="2189853" y="1202465"/>
                  <a:pt x="2163615" y="1188634"/>
                </a:cubicBezTo>
                <a:cubicBezTo>
                  <a:pt x="2136959" y="1174584"/>
                  <a:pt x="2126816" y="1141830"/>
                  <a:pt x="2140756" y="1115383"/>
                </a:cubicBezTo>
                <a:lnTo>
                  <a:pt x="2143529" y="1113074"/>
                </a:lnTo>
                <a:lnTo>
                  <a:pt x="2060616" y="1036757"/>
                </a:lnTo>
                <a:lnTo>
                  <a:pt x="2057543" y="1040543"/>
                </a:lnTo>
                <a:cubicBezTo>
                  <a:pt x="2036574" y="1057855"/>
                  <a:pt x="2006661" y="1061996"/>
                  <a:pt x="1981349" y="1048654"/>
                </a:cubicBezTo>
                <a:cubicBezTo>
                  <a:pt x="1947394" y="1030755"/>
                  <a:pt x="1934455" y="988544"/>
                  <a:pt x="1952457" y="954392"/>
                </a:cubicBezTo>
                <a:close/>
                <a:moveTo>
                  <a:pt x="1812847" y="328974"/>
                </a:moveTo>
                <a:cubicBezTo>
                  <a:pt x="1811543" y="308641"/>
                  <a:pt x="1826801" y="291233"/>
                  <a:pt x="1847069" y="289933"/>
                </a:cubicBezTo>
                <a:lnTo>
                  <a:pt x="1855949" y="292960"/>
                </a:lnTo>
                <a:lnTo>
                  <a:pt x="1987375" y="209943"/>
                </a:lnTo>
                <a:lnTo>
                  <a:pt x="1984441" y="203962"/>
                </a:lnTo>
                <a:cubicBezTo>
                  <a:pt x="1983136" y="183629"/>
                  <a:pt x="1998395" y="166221"/>
                  <a:pt x="2018664" y="164921"/>
                </a:cubicBezTo>
                <a:cubicBezTo>
                  <a:pt x="2038932" y="163621"/>
                  <a:pt x="2056289" y="178935"/>
                  <a:pt x="2057594" y="199268"/>
                </a:cubicBezTo>
                <a:cubicBezTo>
                  <a:pt x="2058899" y="219602"/>
                  <a:pt x="2043625" y="236775"/>
                  <a:pt x="2023358" y="238075"/>
                </a:cubicBezTo>
                <a:cubicBezTo>
                  <a:pt x="2013223" y="238725"/>
                  <a:pt x="2003820" y="235281"/>
                  <a:pt x="1996788" y="229132"/>
                </a:cubicBezTo>
                <a:lnTo>
                  <a:pt x="1995642" y="226796"/>
                </a:lnTo>
                <a:lnTo>
                  <a:pt x="1875440" y="302666"/>
                </a:lnTo>
                <a:lnTo>
                  <a:pt x="1886000" y="324280"/>
                </a:lnTo>
                <a:lnTo>
                  <a:pt x="1884223" y="329507"/>
                </a:lnTo>
                <a:lnTo>
                  <a:pt x="2031957" y="398837"/>
                </a:lnTo>
                <a:lnTo>
                  <a:pt x="2043796" y="393020"/>
                </a:lnTo>
                <a:lnTo>
                  <a:pt x="2016648" y="249183"/>
                </a:lnTo>
                <a:cubicBezTo>
                  <a:pt x="2015934" y="245470"/>
                  <a:pt x="2018532" y="241544"/>
                  <a:pt x="2022506" y="240584"/>
                </a:cubicBezTo>
                <a:cubicBezTo>
                  <a:pt x="2026746" y="240077"/>
                  <a:pt x="2030710" y="242642"/>
                  <a:pt x="2031216" y="246839"/>
                </a:cubicBezTo>
                <a:lnTo>
                  <a:pt x="2057787" y="387337"/>
                </a:lnTo>
                <a:lnTo>
                  <a:pt x="2082933" y="395910"/>
                </a:lnTo>
                <a:cubicBezTo>
                  <a:pt x="2089970" y="402118"/>
                  <a:pt x="2094635" y="411029"/>
                  <a:pt x="2095286" y="421196"/>
                </a:cubicBezTo>
                <a:cubicBezTo>
                  <a:pt x="2096593" y="441530"/>
                  <a:pt x="2081319" y="458703"/>
                  <a:pt x="2061050" y="460003"/>
                </a:cubicBezTo>
                <a:cubicBezTo>
                  <a:pt x="2040781" y="461303"/>
                  <a:pt x="2023437" y="446224"/>
                  <a:pt x="2022131" y="425890"/>
                </a:cubicBezTo>
                <a:lnTo>
                  <a:pt x="2025356" y="416364"/>
                </a:lnTo>
                <a:lnTo>
                  <a:pt x="1878191" y="347240"/>
                </a:lnTo>
                <a:lnTo>
                  <a:pt x="1876973" y="350821"/>
                </a:lnTo>
                <a:cubicBezTo>
                  <a:pt x="1870783" y="357819"/>
                  <a:pt x="1861898" y="362437"/>
                  <a:pt x="1851764" y="363087"/>
                </a:cubicBezTo>
                <a:cubicBezTo>
                  <a:pt x="1831495" y="364388"/>
                  <a:pt x="1814152" y="349308"/>
                  <a:pt x="1812847" y="328974"/>
                </a:cubicBezTo>
                <a:close/>
                <a:moveTo>
                  <a:pt x="1724475" y="535378"/>
                </a:moveTo>
                <a:cubicBezTo>
                  <a:pt x="1724476" y="505482"/>
                  <a:pt x="1748958" y="481236"/>
                  <a:pt x="1778624" y="481237"/>
                </a:cubicBezTo>
                <a:cubicBezTo>
                  <a:pt x="1808755" y="481237"/>
                  <a:pt x="1833000" y="505483"/>
                  <a:pt x="1833000" y="535379"/>
                </a:cubicBezTo>
                <a:lnTo>
                  <a:pt x="1831624" y="538714"/>
                </a:lnTo>
                <a:lnTo>
                  <a:pt x="1957877" y="572150"/>
                </a:lnTo>
                <a:lnTo>
                  <a:pt x="1966349" y="551433"/>
                </a:lnTo>
                <a:cubicBezTo>
                  <a:pt x="1978841" y="538780"/>
                  <a:pt x="1996102" y="530953"/>
                  <a:pt x="2015177" y="530954"/>
                </a:cubicBezTo>
                <a:cubicBezTo>
                  <a:pt x="2034369" y="530953"/>
                  <a:pt x="2051748" y="538781"/>
                  <a:pt x="2064328" y="551433"/>
                </a:cubicBezTo>
                <a:lnTo>
                  <a:pt x="2073980" y="565829"/>
                </a:lnTo>
                <a:lnTo>
                  <a:pt x="2186029" y="512885"/>
                </a:lnTo>
                <a:lnTo>
                  <a:pt x="2183383" y="502486"/>
                </a:lnTo>
                <a:cubicBezTo>
                  <a:pt x="2185752" y="486678"/>
                  <a:pt x="2200200" y="476060"/>
                  <a:pt x="2215595" y="478184"/>
                </a:cubicBezTo>
                <a:cubicBezTo>
                  <a:pt x="2231227" y="480543"/>
                  <a:pt x="2242122" y="494936"/>
                  <a:pt x="2239753" y="510272"/>
                </a:cubicBezTo>
                <a:cubicBezTo>
                  <a:pt x="2237622" y="526080"/>
                  <a:pt x="2223175" y="536933"/>
                  <a:pt x="2207542" y="534810"/>
                </a:cubicBezTo>
                <a:lnTo>
                  <a:pt x="2191608" y="525431"/>
                </a:lnTo>
                <a:lnTo>
                  <a:pt x="2080104" y="578028"/>
                </a:lnTo>
                <a:lnTo>
                  <a:pt x="2084690" y="600867"/>
                </a:lnTo>
                <a:cubicBezTo>
                  <a:pt x="2084690" y="629645"/>
                  <a:pt x="2067181" y="654450"/>
                  <a:pt x="2042233" y="665054"/>
                </a:cubicBezTo>
                <a:lnTo>
                  <a:pt x="2037697" y="665974"/>
                </a:lnTo>
                <a:lnTo>
                  <a:pt x="2052027" y="782389"/>
                </a:lnTo>
                <a:lnTo>
                  <a:pt x="2076052" y="792231"/>
                </a:lnTo>
                <a:cubicBezTo>
                  <a:pt x="2082678" y="798818"/>
                  <a:pt x="2086762" y="807952"/>
                  <a:pt x="2086763" y="818140"/>
                </a:cubicBezTo>
                <a:cubicBezTo>
                  <a:pt x="2086762" y="838515"/>
                  <a:pt x="2070420" y="854909"/>
                  <a:pt x="2050110" y="854909"/>
                </a:cubicBezTo>
                <a:cubicBezTo>
                  <a:pt x="2029800" y="854909"/>
                  <a:pt x="2013457" y="838515"/>
                  <a:pt x="2013458" y="818139"/>
                </a:cubicBezTo>
                <a:cubicBezTo>
                  <a:pt x="2013457" y="807951"/>
                  <a:pt x="2017543" y="798817"/>
                  <a:pt x="2024167" y="792231"/>
                </a:cubicBezTo>
                <a:lnTo>
                  <a:pt x="2037688" y="786692"/>
                </a:lnTo>
                <a:lnTo>
                  <a:pt x="2023150" y="668927"/>
                </a:lnTo>
                <a:lnTo>
                  <a:pt x="2015177" y="670545"/>
                </a:lnTo>
                <a:cubicBezTo>
                  <a:pt x="1996101" y="670545"/>
                  <a:pt x="1978841" y="662718"/>
                  <a:pt x="1966349" y="650094"/>
                </a:cubicBezTo>
                <a:lnTo>
                  <a:pt x="1963098" y="645224"/>
                </a:lnTo>
                <a:lnTo>
                  <a:pt x="1886484" y="699720"/>
                </a:lnTo>
                <a:lnTo>
                  <a:pt x="1892133" y="712230"/>
                </a:lnTo>
                <a:cubicBezTo>
                  <a:pt x="1893074" y="730656"/>
                  <a:pt x="1878950" y="745774"/>
                  <a:pt x="1861059" y="746482"/>
                </a:cubicBezTo>
                <a:cubicBezTo>
                  <a:pt x="1842698" y="747191"/>
                  <a:pt x="1827633" y="733018"/>
                  <a:pt x="1826925" y="715065"/>
                </a:cubicBezTo>
                <a:cubicBezTo>
                  <a:pt x="1825985" y="696639"/>
                  <a:pt x="1840108" y="681521"/>
                  <a:pt x="1858234" y="681048"/>
                </a:cubicBezTo>
                <a:lnTo>
                  <a:pt x="1878803" y="688442"/>
                </a:lnTo>
                <a:lnTo>
                  <a:pt x="1955407" y="633708"/>
                </a:lnTo>
                <a:lnTo>
                  <a:pt x="1951557" y="627941"/>
                </a:lnTo>
                <a:cubicBezTo>
                  <a:pt x="1948064" y="619611"/>
                  <a:pt x="1946133" y="610459"/>
                  <a:pt x="1946133" y="600867"/>
                </a:cubicBezTo>
                <a:lnTo>
                  <a:pt x="1950034" y="591328"/>
                </a:lnTo>
                <a:lnTo>
                  <a:pt x="1823701" y="557906"/>
                </a:lnTo>
                <a:lnTo>
                  <a:pt x="1817111" y="573867"/>
                </a:lnTo>
                <a:cubicBezTo>
                  <a:pt x="1807283" y="583694"/>
                  <a:pt x="1793689" y="589756"/>
                  <a:pt x="1778623" y="589756"/>
                </a:cubicBezTo>
                <a:cubicBezTo>
                  <a:pt x="1748961" y="589756"/>
                  <a:pt x="1724475" y="565509"/>
                  <a:pt x="1724475" y="535378"/>
                </a:cubicBezTo>
                <a:close/>
                <a:moveTo>
                  <a:pt x="1588680" y="973041"/>
                </a:moveTo>
                <a:cubicBezTo>
                  <a:pt x="1587375" y="952707"/>
                  <a:pt x="1602634" y="935301"/>
                  <a:pt x="1622902" y="934000"/>
                </a:cubicBezTo>
                <a:lnTo>
                  <a:pt x="1631782" y="937028"/>
                </a:lnTo>
                <a:lnTo>
                  <a:pt x="1763209" y="854011"/>
                </a:lnTo>
                <a:lnTo>
                  <a:pt x="1760275" y="848030"/>
                </a:lnTo>
                <a:cubicBezTo>
                  <a:pt x="1758971" y="827696"/>
                  <a:pt x="1774228" y="810288"/>
                  <a:pt x="1794498" y="808988"/>
                </a:cubicBezTo>
                <a:cubicBezTo>
                  <a:pt x="1814766" y="807688"/>
                  <a:pt x="1832124" y="823002"/>
                  <a:pt x="1833429" y="843336"/>
                </a:cubicBezTo>
                <a:cubicBezTo>
                  <a:pt x="1834733" y="863669"/>
                  <a:pt x="1819460" y="880842"/>
                  <a:pt x="1799192" y="882143"/>
                </a:cubicBezTo>
                <a:cubicBezTo>
                  <a:pt x="1789057" y="882793"/>
                  <a:pt x="1779654" y="879348"/>
                  <a:pt x="1772622" y="873199"/>
                </a:cubicBezTo>
                <a:lnTo>
                  <a:pt x="1771476" y="870863"/>
                </a:lnTo>
                <a:lnTo>
                  <a:pt x="1651274" y="946733"/>
                </a:lnTo>
                <a:lnTo>
                  <a:pt x="1661834" y="968347"/>
                </a:lnTo>
                <a:lnTo>
                  <a:pt x="1660056" y="973574"/>
                </a:lnTo>
                <a:lnTo>
                  <a:pt x="1807792" y="1042904"/>
                </a:lnTo>
                <a:lnTo>
                  <a:pt x="1819630" y="1037088"/>
                </a:lnTo>
                <a:lnTo>
                  <a:pt x="1792481" y="893251"/>
                </a:lnTo>
                <a:cubicBezTo>
                  <a:pt x="1791768" y="889538"/>
                  <a:pt x="1794365" y="885611"/>
                  <a:pt x="1798340" y="884651"/>
                </a:cubicBezTo>
                <a:cubicBezTo>
                  <a:pt x="1802581" y="884144"/>
                  <a:pt x="1806545" y="886710"/>
                  <a:pt x="1807052" y="890906"/>
                </a:cubicBezTo>
                <a:lnTo>
                  <a:pt x="1833620" y="1031403"/>
                </a:lnTo>
                <a:lnTo>
                  <a:pt x="1858767" y="1039977"/>
                </a:lnTo>
                <a:cubicBezTo>
                  <a:pt x="1865803" y="1046184"/>
                  <a:pt x="1870468" y="1055096"/>
                  <a:pt x="1871121" y="1065263"/>
                </a:cubicBezTo>
                <a:cubicBezTo>
                  <a:pt x="1872426" y="1085597"/>
                  <a:pt x="1857152" y="1102770"/>
                  <a:pt x="1836884" y="1104071"/>
                </a:cubicBezTo>
                <a:cubicBezTo>
                  <a:pt x="1816615" y="1105371"/>
                  <a:pt x="1799272" y="1090291"/>
                  <a:pt x="1797967" y="1069957"/>
                </a:cubicBezTo>
                <a:lnTo>
                  <a:pt x="1801190" y="1060431"/>
                </a:lnTo>
                <a:lnTo>
                  <a:pt x="1654023" y="991307"/>
                </a:lnTo>
                <a:lnTo>
                  <a:pt x="1652805" y="994888"/>
                </a:lnTo>
                <a:cubicBezTo>
                  <a:pt x="1646616" y="1001886"/>
                  <a:pt x="1637731" y="1006504"/>
                  <a:pt x="1627596" y="1007155"/>
                </a:cubicBezTo>
                <a:cubicBezTo>
                  <a:pt x="1607328" y="1008455"/>
                  <a:pt x="1589985" y="993375"/>
                  <a:pt x="1588680" y="973041"/>
                </a:cubicBezTo>
                <a:close/>
                <a:moveTo>
                  <a:pt x="1500313" y="1179446"/>
                </a:moveTo>
                <a:cubicBezTo>
                  <a:pt x="1500313" y="1149550"/>
                  <a:pt x="1524795" y="1125304"/>
                  <a:pt x="1554455" y="1125304"/>
                </a:cubicBezTo>
                <a:cubicBezTo>
                  <a:pt x="1584586" y="1125304"/>
                  <a:pt x="1608833" y="1149550"/>
                  <a:pt x="1608833" y="1179446"/>
                </a:cubicBezTo>
                <a:lnTo>
                  <a:pt x="1607456" y="1182781"/>
                </a:lnTo>
                <a:lnTo>
                  <a:pt x="1733711" y="1216218"/>
                </a:lnTo>
                <a:lnTo>
                  <a:pt x="1742183" y="1195501"/>
                </a:lnTo>
                <a:cubicBezTo>
                  <a:pt x="1754676" y="1182848"/>
                  <a:pt x="1771937" y="1175021"/>
                  <a:pt x="1791011" y="1175021"/>
                </a:cubicBezTo>
                <a:cubicBezTo>
                  <a:pt x="1810203" y="1175021"/>
                  <a:pt x="1827582" y="1182848"/>
                  <a:pt x="1840162" y="1195501"/>
                </a:cubicBezTo>
                <a:lnTo>
                  <a:pt x="1849813" y="1209896"/>
                </a:lnTo>
                <a:lnTo>
                  <a:pt x="1961859" y="1156952"/>
                </a:lnTo>
                <a:lnTo>
                  <a:pt x="1959214" y="1146553"/>
                </a:lnTo>
                <a:cubicBezTo>
                  <a:pt x="1961582" y="1130745"/>
                  <a:pt x="1976031" y="1120128"/>
                  <a:pt x="1991427" y="1122251"/>
                </a:cubicBezTo>
                <a:cubicBezTo>
                  <a:pt x="2007059" y="1124611"/>
                  <a:pt x="2017955" y="1139003"/>
                  <a:pt x="2015586" y="1154339"/>
                </a:cubicBezTo>
                <a:cubicBezTo>
                  <a:pt x="2013454" y="1170147"/>
                  <a:pt x="1999006" y="1181001"/>
                  <a:pt x="1983373" y="1178877"/>
                </a:cubicBezTo>
                <a:lnTo>
                  <a:pt x="1967437" y="1169498"/>
                </a:lnTo>
                <a:lnTo>
                  <a:pt x="1855938" y="1222095"/>
                </a:lnTo>
                <a:lnTo>
                  <a:pt x="1860524" y="1244935"/>
                </a:lnTo>
                <a:cubicBezTo>
                  <a:pt x="1860524" y="1273712"/>
                  <a:pt x="1843014" y="1298517"/>
                  <a:pt x="1818066" y="1309121"/>
                </a:cubicBezTo>
                <a:lnTo>
                  <a:pt x="1813531" y="1310042"/>
                </a:lnTo>
                <a:lnTo>
                  <a:pt x="1827860" y="1426456"/>
                </a:lnTo>
                <a:lnTo>
                  <a:pt x="1851886" y="1436298"/>
                </a:lnTo>
                <a:cubicBezTo>
                  <a:pt x="1858510" y="1442885"/>
                  <a:pt x="1862595" y="1452019"/>
                  <a:pt x="1862595" y="1462206"/>
                </a:cubicBezTo>
                <a:cubicBezTo>
                  <a:pt x="1862595" y="1482582"/>
                  <a:pt x="1846254" y="1498976"/>
                  <a:pt x="1825943" y="1498976"/>
                </a:cubicBezTo>
                <a:cubicBezTo>
                  <a:pt x="1805633" y="1498976"/>
                  <a:pt x="1789291" y="1482582"/>
                  <a:pt x="1789291" y="1462207"/>
                </a:cubicBezTo>
                <a:cubicBezTo>
                  <a:pt x="1789291" y="1452019"/>
                  <a:pt x="1793376" y="1442885"/>
                  <a:pt x="1800001" y="1436298"/>
                </a:cubicBezTo>
                <a:lnTo>
                  <a:pt x="1813521" y="1430760"/>
                </a:lnTo>
                <a:lnTo>
                  <a:pt x="1798984" y="1312994"/>
                </a:lnTo>
                <a:lnTo>
                  <a:pt x="1791012" y="1314612"/>
                </a:lnTo>
                <a:cubicBezTo>
                  <a:pt x="1771937" y="1314612"/>
                  <a:pt x="1754675" y="1306785"/>
                  <a:pt x="1742183" y="1294162"/>
                </a:cubicBezTo>
                <a:lnTo>
                  <a:pt x="1738931" y="1289292"/>
                </a:lnTo>
                <a:lnTo>
                  <a:pt x="1662317" y="1343787"/>
                </a:lnTo>
                <a:lnTo>
                  <a:pt x="1667966" y="1356297"/>
                </a:lnTo>
                <a:cubicBezTo>
                  <a:pt x="1668908" y="1374723"/>
                  <a:pt x="1654783" y="1389841"/>
                  <a:pt x="1636892" y="1390550"/>
                </a:cubicBezTo>
                <a:cubicBezTo>
                  <a:pt x="1618531" y="1391258"/>
                  <a:pt x="1603465" y="1377085"/>
                  <a:pt x="1602759" y="1359132"/>
                </a:cubicBezTo>
                <a:cubicBezTo>
                  <a:pt x="1601818" y="1340707"/>
                  <a:pt x="1615941" y="1325588"/>
                  <a:pt x="1634067" y="1325116"/>
                </a:cubicBezTo>
                <a:lnTo>
                  <a:pt x="1654635" y="1332509"/>
                </a:lnTo>
                <a:lnTo>
                  <a:pt x="1731241" y="1277775"/>
                </a:lnTo>
                <a:lnTo>
                  <a:pt x="1727390" y="1272009"/>
                </a:lnTo>
                <a:cubicBezTo>
                  <a:pt x="1723898" y="1263678"/>
                  <a:pt x="1721967" y="1254527"/>
                  <a:pt x="1721967" y="1244934"/>
                </a:cubicBezTo>
                <a:lnTo>
                  <a:pt x="1725868" y="1235395"/>
                </a:lnTo>
                <a:lnTo>
                  <a:pt x="1599533" y="1201972"/>
                </a:lnTo>
                <a:lnTo>
                  <a:pt x="1592943" y="1217934"/>
                </a:lnTo>
                <a:cubicBezTo>
                  <a:pt x="1583115" y="1227762"/>
                  <a:pt x="1569521" y="1233823"/>
                  <a:pt x="1554455" y="1233824"/>
                </a:cubicBezTo>
                <a:cubicBezTo>
                  <a:pt x="1524795" y="1233824"/>
                  <a:pt x="1500313" y="1209577"/>
                  <a:pt x="1500313" y="1179446"/>
                </a:cubicBezTo>
                <a:close/>
                <a:moveTo>
                  <a:pt x="1388351" y="250675"/>
                </a:moveTo>
                <a:cubicBezTo>
                  <a:pt x="1400312" y="223277"/>
                  <a:pt x="1432449" y="210849"/>
                  <a:pt x="1459632" y="222716"/>
                </a:cubicBezTo>
                <a:cubicBezTo>
                  <a:pt x="1487247" y="234770"/>
                  <a:pt x="1499768" y="266692"/>
                  <a:pt x="1487808" y="294091"/>
                </a:cubicBezTo>
                <a:lnTo>
                  <a:pt x="1485211" y="296596"/>
                </a:lnTo>
                <a:lnTo>
                  <a:pt x="1573504" y="366618"/>
                </a:lnTo>
                <a:lnTo>
                  <a:pt x="1576291" y="362617"/>
                </a:lnTo>
                <a:cubicBezTo>
                  <a:pt x="1595932" y="343812"/>
                  <a:pt x="1625460" y="337486"/>
                  <a:pt x="1651683" y="348934"/>
                </a:cubicBezTo>
                <a:cubicBezTo>
                  <a:pt x="1686862" y="364289"/>
                  <a:pt x="1702865" y="405436"/>
                  <a:pt x="1687420" y="440818"/>
                </a:cubicBezTo>
                <a:cubicBezTo>
                  <a:pt x="1672069" y="475983"/>
                  <a:pt x="1631014" y="492223"/>
                  <a:pt x="1595836" y="476867"/>
                </a:cubicBezTo>
                <a:cubicBezTo>
                  <a:pt x="1587095" y="473051"/>
                  <a:pt x="1579552" y="467623"/>
                  <a:pt x="1573395" y="461078"/>
                </a:cubicBezTo>
                <a:lnTo>
                  <a:pt x="1564276" y="446562"/>
                </a:lnTo>
                <a:lnTo>
                  <a:pt x="1471075" y="466104"/>
                </a:lnTo>
                <a:lnTo>
                  <a:pt x="1471247" y="479828"/>
                </a:lnTo>
                <a:cubicBezTo>
                  <a:pt x="1464738" y="497092"/>
                  <a:pt x="1445746" y="505297"/>
                  <a:pt x="1429066" y="498790"/>
                </a:cubicBezTo>
                <a:cubicBezTo>
                  <a:pt x="1411955" y="492093"/>
                  <a:pt x="1403818" y="473076"/>
                  <a:pt x="1410353" y="456340"/>
                </a:cubicBezTo>
                <a:cubicBezTo>
                  <a:pt x="1416862" y="439077"/>
                  <a:pt x="1435854" y="430871"/>
                  <a:pt x="1452655" y="437690"/>
                </a:cubicBezTo>
                <a:lnTo>
                  <a:pt x="1468548" y="452695"/>
                </a:lnTo>
                <a:lnTo>
                  <a:pt x="1559380" y="433449"/>
                </a:lnTo>
                <a:lnTo>
                  <a:pt x="1560434" y="385385"/>
                </a:lnTo>
                <a:lnTo>
                  <a:pt x="1561737" y="383514"/>
                </a:lnTo>
                <a:lnTo>
                  <a:pt x="1470272" y="311016"/>
                </a:lnTo>
                <a:lnTo>
                  <a:pt x="1457847" y="323008"/>
                </a:lnTo>
                <a:cubicBezTo>
                  <a:pt x="1444908" y="328083"/>
                  <a:pt x="1430024" y="328200"/>
                  <a:pt x="1416217" y="322172"/>
                </a:cubicBezTo>
                <a:cubicBezTo>
                  <a:pt x="1389033" y="310306"/>
                  <a:pt x="1376297" y="278290"/>
                  <a:pt x="1388351" y="250675"/>
                </a:cubicBezTo>
                <a:close/>
                <a:moveTo>
                  <a:pt x="1234696" y="665604"/>
                </a:moveTo>
                <a:cubicBezTo>
                  <a:pt x="1234554" y="656222"/>
                  <a:pt x="1238007" y="646797"/>
                  <a:pt x="1245089" y="639519"/>
                </a:cubicBezTo>
                <a:cubicBezTo>
                  <a:pt x="1259254" y="624963"/>
                  <a:pt x="1282400" y="624686"/>
                  <a:pt x="1297003" y="638895"/>
                </a:cubicBezTo>
                <a:cubicBezTo>
                  <a:pt x="1304304" y="646000"/>
                  <a:pt x="1308000" y="655298"/>
                  <a:pt x="1308101" y="664639"/>
                </a:cubicBezTo>
                <a:lnTo>
                  <a:pt x="1302640" y="678193"/>
                </a:lnTo>
                <a:lnTo>
                  <a:pt x="1398474" y="750891"/>
                </a:lnTo>
                <a:lnTo>
                  <a:pt x="1401578" y="743063"/>
                </a:lnTo>
                <a:cubicBezTo>
                  <a:pt x="1414882" y="729392"/>
                  <a:pt x="1432529" y="722481"/>
                  <a:pt x="1450288" y="722332"/>
                </a:cubicBezTo>
                <a:lnTo>
                  <a:pt x="1456046" y="723399"/>
                </a:lnTo>
                <a:lnTo>
                  <a:pt x="1470423" y="630486"/>
                </a:lnTo>
                <a:lnTo>
                  <a:pt x="1457518" y="625810"/>
                </a:lnTo>
                <a:cubicBezTo>
                  <a:pt x="1450587" y="619722"/>
                  <a:pt x="1446876" y="611512"/>
                  <a:pt x="1446393" y="603159"/>
                </a:cubicBezTo>
                <a:cubicBezTo>
                  <a:pt x="1445910" y="594806"/>
                  <a:pt x="1448657" y="586310"/>
                  <a:pt x="1454641" y="579652"/>
                </a:cubicBezTo>
                <a:cubicBezTo>
                  <a:pt x="1466939" y="566000"/>
                  <a:pt x="1487603" y="565088"/>
                  <a:pt x="1500962" y="577102"/>
                </a:cubicBezTo>
                <a:cubicBezTo>
                  <a:pt x="1514823" y="589278"/>
                  <a:pt x="1515808" y="609943"/>
                  <a:pt x="1503505" y="623263"/>
                </a:cubicBezTo>
                <a:lnTo>
                  <a:pt x="1483863" y="632848"/>
                </a:lnTo>
                <a:lnTo>
                  <a:pt x="1469663" y="725920"/>
                </a:lnTo>
                <a:lnTo>
                  <a:pt x="1476481" y="727181"/>
                </a:lnTo>
                <a:cubicBezTo>
                  <a:pt x="1484887" y="730488"/>
                  <a:pt x="1492792" y="735487"/>
                  <a:pt x="1499667" y="742177"/>
                </a:cubicBezTo>
                <a:lnTo>
                  <a:pt x="1505467" y="750615"/>
                </a:lnTo>
                <a:lnTo>
                  <a:pt x="1615842" y="684396"/>
                </a:lnTo>
                <a:lnTo>
                  <a:pt x="1608999" y="668542"/>
                </a:lnTo>
                <a:cubicBezTo>
                  <a:pt x="1608810" y="654644"/>
                  <a:pt x="1613947" y="640675"/>
                  <a:pt x="1624454" y="629878"/>
                </a:cubicBezTo>
                <a:cubicBezTo>
                  <a:pt x="1645139" y="608621"/>
                  <a:pt x="1679591" y="607986"/>
                  <a:pt x="1701184" y="629000"/>
                </a:cubicBezTo>
                <a:cubicBezTo>
                  <a:pt x="1722609" y="649850"/>
                  <a:pt x="1722912" y="684305"/>
                  <a:pt x="1702226" y="705562"/>
                </a:cubicBezTo>
                <a:cubicBezTo>
                  <a:pt x="1681212" y="727155"/>
                  <a:pt x="1646926" y="727622"/>
                  <a:pt x="1625500" y="706772"/>
                </a:cubicBezTo>
                <a:lnTo>
                  <a:pt x="1624071" y="703459"/>
                </a:lnTo>
                <a:lnTo>
                  <a:pt x="1516067" y="768216"/>
                </a:lnTo>
                <a:lnTo>
                  <a:pt x="1520995" y="791142"/>
                </a:lnTo>
                <a:cubicBezTo>
                  <a:pt x="1521350" y="808918"/>
                  <a:pt x="1514921" y="826747"/>
                  <a:pt x="1501618" y="840418"/>
                </a:cubicBezTo>
                <a:cubicBezTo>
                  <a:pt x="1474848" y="867926"/>
                  <a:pt x="1430701" y="868399"/>
                  <a:pt x="1403034" y="841476"/>
                </a:cubicBezTo>
                <a:cubicBezTo>
                  <a:pt x="1389285" y="828095"/>
                  <a:pt x="1382229" y="810370"/>
                  <a:pt x="1381956" y="792551"/>
                </a:cubicBezTo>
                <a:lnTo>
                  <a:pt x="1392812" y="765172"/>
                </a:lnTo>
                <a:lnTo>
                  <a:pt x="1295724" y="691470"/>
                </a:lnTo>
                <a:lnTo>
                  <a:pt x="1271915" y="701823"/>
                </a:lnTo>
                <a:cubicBezTo>
                  <a:pt x="1262575" y="701978"/>
                  <a:pt x="1253180" y="698535"/>
                  <a:pt x="1245879" y="691431"/>
                </a:cubicBezTo>
                <a:cubicBezTo>
                  <a:pt x="1238578" y="684325"/>
                  <a:pt x="1234839" y="674987"/>
                  <a:pt x="1234696" y="665604"/>
                </a:cubicBezTo>
                <a:close/>
                <a:moveTo>
                  <a:pt x="1164189" y="894743"/>
                </a:moveTo>
                <a:cubicBezTo>
                  <a:pt x="1176149" y="867344"/>
                  <a:pt x="1208286" y="854917"/>
                  <a:pt x="1235470" y="866784"/>
                </a:cubicBezTo>
                <a:cubicBezTo>
                  <a:pt x="1263084" y="878838"/>
                  <a:pt x="1275605" y="910760"/>
                  <a:pt x="1263645" y="938159"/>
                </a:cubicBezTo>
                <a:lnTo>
                  <a:pt x="1261048" y="940665"/>
                </a:lnTo>
                <a:lnTo>
                  <a:pt x="1349341" y="1010686"/>
                </a:lnTo>
                <a:lnTo>
                  <a:pt x="1352128" y="1006684"/>
                </a:lnTo>
                <a:cubicBezTo>
                  <a:pt x="1371769" y="987880"/>
                  <a:pt x="1401297" y="981554"/>
                  <a:pt x="1427520" y="993001"/>
                </a:cubicBezTo>
                <a:cubicBezTo>
                  <a:pt x="1462698" y="1008357"/>
                  <a:pt x="1478702" y="1049504"/>
                  <a:pt x="1463257" y="1084886"/>
                </a:cubicBezTo>
                <a:cubicBezTo>
                  <a:pt x="1447906" y="1120051"/>
                  <a:pt x="1406852" y="1136291"/>
                  <a:pt x="1371673" y="1120934"/>
                </a:cubicBezTo>
                <a:cubicBezTo>
                  <a:pt x="1362932" y="1117119"/>
                  <a:pt x="1355390" y="1111691"/>
                  <a:pt x="1349233" y="1105147"/>
                </a:cubicBezTo>
                <a:lnTo>
                  <a:pt x="1340113" y="1090630"/>
                </a:lnTo>
                <a:lnTo>
                  <a:pt x="1246912" y="1110172"/>
                </a:lnTo>
                <a:lnTo>
                  <a:pt x="1247084" y="1123897"/>
                </a:lnTo>
                <a:cubicBezTo>
                  <a:pt x="1240576" y="1141160"/>
                  <a:pt x="1221583" y="1149365"/>
                  <a:pt x="1204903" y="1142857"/>
                </a:cubicBezTo>
                <a:cubicBezTo>
                  <a:pt x="1187792" y="1136161"/>
                  <a:pt x="1179655" y="1117144"/>
                  <a:pt x="1186191" y="1100408"/>
                </a:cubicBezTo>
                <a:cubicBezTo>
                  <a:pt x="1192699" y="1083144"/>
                  <a:pt x="1211692" y="1074939"/>
                  <a:pt x="1228493" y="1081758"/>
                </a:cubicBezTo>
                <a:lnTo>
                  <a:pt x="1244385" y="1096762"/>
                </a:lnTo>
                <a:lnTo>
                  <a:pt x="1335217" y="1077517"/>
                </a:lnTo>
                <a:lnTo>
                  <a:pt x="1336272" y="1029453"/>
                </a:lnTo>
                <a:lnTo>
                  <a:pt x="1337574" y="1027582"/>
                </a:lnTo>
                <a:lnTo>
                  <a:pt x="1246109" y="955084"/>
                </a:lnTo>
                <a:lnTo>
                  <a:pt x="1233685" y="967075"/>
                </a:lnTo>
                <a:cubicBezTo>
                  <a:pt x="1220745" y="972151"/>
                  <a:pt x="1205861" y="972267"/>
                  <a:pt x="1192054" y="966240"/>
                </a:cubicBezTo>
                <a:cubicBezTo>
                  <a:pt x="1164871" y="954373"/>
                  <a:pt x="1152134" y="922358"/>
                  <a:pt x="1164189" y="894743"/>
                </a:cubicBezTo>
                <a:close/>
                <a:moveTo>
                  <a:pt x="1010533" y="1309671"/>
                </a:moveTo>
                <a:cubicBezTo>
                  <a:pt x="1010391" y="1300290"/>
                  <a:pt x="1013844" y="1290865"/>
                  <a:pt x="1020926" y="1283587"/>
                </a:cubicBezTo>
                <a:cubicBezTo>
                  <a:pt x="1035091" y="1269031"/>
                  <a:pt x="1058237" y="1268753"/>
                  <a:pt x="1072840" y="1282963"/>
                </a:cubicBezTo>
                <a:cubicBezTo>
                  <a:pt x="1080141" y="1290068"/>
                  <a:pt x="1083837" y="1299366"/>
                  <a:pt x="1083938" y="1308708"/>
                </a:cubicBezTo>
                <a:lnTo>
                  <a:pt x="1078478" y="1322260"/>
                </a:lnTo>
                <a:lnTo>
                  <a:pt x="1174312" y="1394959"/>
                </a:lnTo>
                <a:lnTo>
                  <a:pt x="1177416" y="1387131"/>
                </a:lnTo>
                <a:cubicBezTo>
                  <a:pt x="1190719" y="1373461"/>
                  <a:pt x="1208366" y="1366549"/>
                  <a:pt x="1226125" y="1366400"/>
                </a:cubicBezTo>
                <a:lnTo>
                  <a:pt x="1231884" y="1367466"/>
                </a:lnTo>
                <a:lnTo>
                  <a:pt x="1246261" y="1274554"/>
                </a:lnTo>
                <a:lnTo>
                  <a:pt x="1233355" y="1269877"/>
                </a:lnTo>
                <a:cubicBezTo>
                  <a:pt x="1226425" y="1263790"/>
                  <a:pt x="1222713" y="1255579"/>
                  <a:pt x="1222230" y="1247226"/>
                </a:cubicBezTo>
                <a:cubicBezTo>
                  <a:pt x="1221748" y="1238874"/>
                  <a:pt x="1224494" y="1230378"/>
                  <a:pt x="1230479" y="1223720"/>
                </a:cubicBezTo>
                <a:cubicBezTo>
                  <a:pt x="1242776" y="1210067"/>
                  <a:pt x="1263441" y="1209155"/>
                  <a:pt x="1276799" y="1221170"/>
                </a:cubicBezTo>
                <a:cubicBezTo>
                  <a:pt x="1290661" y="1233346"/>
                  <a:pt x="1291645" y="1254012"/>
                  <a:pt x="1279343" y="1267331"/>
                </a:cubicBezTo>
                <a:lnTo>
                  <a:pt x="1259700" y="1276915"/>
                </a:lnTo>
                <a:lnTo>
                  <a:pt x="1245500" y="1369987"/>
                </a:lnTo>
                <a:lnTo>
                  <a:pt x="1252318" y="1371249"/>
                </a:lnTo>
                <a:cubicBezTo>
                  <a:pt x="1260725" y="1374556"/>
                  <a:pt x="1268630" y="1379554"/>
                  <a:pt x="1275504" y="1386245"/>
                </a:cubicBezTo>
                <a:lnTo>
                  <a:pt x="1281304" y="1394681"/>
                </a:lnTo>
                <a:lnTo>
                  <a:pt x="1391679" y="1328464"/>
                </a:lnTo>
                <a:lnTo>
                  <a:pt x="1384837" y="1312610"/>
                </a:lnTo>
                <a:cubicBezTo>
                  <a:pt x="1384648" y="1298712"/>
                  <a:pt x="1389784" y="1284742"/>
                  <a:pt x="1400292" y="1273945"/>
                </a:cubicBezTo>
                <a:cubicBezTo>
                  <a:pt x="1420977" y="1252689"/>
                  <a:pt x="1455428" y="1252054"/>
                  <a:pt x="1477022" y="1273068"/>
                </a:cubicBezTo>
                <a:cubicBezTo>
                  <a:pt x="1498447" y="1293918"/>
                  <a:pt x="1498749" y="1328373"/>
                  <a:pt x="1478063" y="1349629"/>
                </a:cubicBezTo>
                <a:cubicBezTo>
                  <a:pt x="1457049" y="1371223"/>
                  <a:pt x="1422763" y="1371690"/>
                  <a:pt x="1401338" y="1350840"/>
                </a:cubicBezTo>
                <a:lnTo>
                  <a:pt x="1399907" y="1347526"/>
                </a:lnTo>
                <a:lnTo>
                  <a:pt x="1291905" y="1412283"/>
                </a:lnTo>
                <a:lnTo>
                  <a:pt x="1296832" y="1435209"/>
                </a:lnTo>
                <a:cubicBezTo>
                  <a:pt x="1297188" y="1452986"/>
                  <a:pt x="1290759" y="1470815"/>
                  <a:pt x="1277455" y="1484485"/>
                </a:cubicBezTo>
                <a:cubicBezTo>
                  <a:pt x="1250686" y="1511994"/>
                  <a:pt x="1206539" y="1512468"/>
                  <a:pt x="1178872" y="1485543"/>
                </a:cubicBezTo>
                <a:cubicBezTo>
                  <a:pt x="1165123" y="1472163"/>
                  <a:pt x="1158066" y="1454437"/>
                  <a:pt x="1157793" y="1436618"/>
                </a:cubicBezTo>
                <a:lnTo>
                  <a:pt x="1168649" y="1409240"/>
                </a:lnTo>
                <a:lnTo>
                  <a:pt x="1071561" y="1335537"/>
                </a:lnTo>
                <a:lnTo>
                  <a:pt x="1047752" y="1345892"/>
                </a:lnTo>
                <a:cubicBezTo>
                  <a:pt x="1038412" y="1346045"/>
                  <a:pt x="1029017" y="1342603"/>
                  <a:pt x="1021716" y="1335498"/>
                </a:cubicBezTo>
                <a:cubicBezTo>
                  <a:pt x="1014415" y="1328392"/>
                  <a:pt x="1010676" y="1319054"/>
                  <a:pt x="1010533" y="1309671"/>
                </a:cubicBezTo>
                <a:close/>
                <a:moveTo>
                  <a:pt x="998124" y="438779"/>
                </a:moveTo>
                <a:cubicBezTo>
                  <a:pt x="998124" y="418469"/>
                  <a:pt x="1014518" y="402127"/>
                  <a:pt x="1034893" y="402127"/>
                </a:cubicBezTo>
                <a:cubicBezTo>
                  <a:pt x="1045081" y="402126"/>
                  <a:pt x="1054215" y="406212"/>
                  <a:pt x="1060802" y="412836"/>
                </a:cubicBezTo>
                <a:lnTo>
                  <a:pt x="1066340" y="426359"/>
                </a:lnTo>
                <a:lnTo>
                  <a:pt x="1184106" y="411821"/>
                </a:lnTo>
                <a:lnTo>
                  <a:pt x="1182487" y="403848"/>
                </a:lnTo>
                <a:cubicBezTo>
                  <a:pt x="1182487" y="384773"/>
                  <a:pt x="1190314" y="367512"/>
                  <a:pt x="1202938" y="355019"/>
                </a:cubicBezTo>
                <a:lnTo>
                  <a:pt x="1207808" y="351768"/>
                </a:lnTo>
                <a:lnTo>
                  <a:pt x="1153313" y="275153"/>
                </a:lnTo>
                <a:lnTo>
                  <a:pt x="1140803" y="280802"/>
                </a:lnTo>
                <a:cubicBezTo>
                  <a:pt x="1122377" y="281744"/>
                  <a:pt x="1107259" y="267620"/>
                  <a:pt x="1106550" y="249730"/>
                </a:cubicBezTo>
                <a:cubicBezTo>
                  <a:pt x="1105841" y="231369"/>
                  <a:pt x="1120015" y="216303"/>
                  <a:pt x="1137968" y="215597"/>
                </a:cubicBezTo>
                <a:cubicBezTo>
                  <a:pt x="1156393" y="214656"/>
                  <a:pt x="1171512" y="228779"/>
                  <a:pt x="1171984" y="246905"/>
                </a:cubicBezTo>
                <a:lnTo>
                  <a:pt x="1164591" y="267473"/>
                </a:lnTo>
                <a:lnTo>
                  <a:pt x="1219324" y="344078"/>
                </a:lnTo>
                <a:lnTo>
                  <a:pt x="1225091" y="340226"/>
                </a:lnTo>
                <a:cubicBezTo>
                  <a:pt x="1233421" y="336734"/>
                  <a:pt x="1242572" y="334804"/>
                  <a:pt x="1252165" y="334803"/>
                </a:cubicBezTo>
                <a:lnTo>
                  <a:pt x="1262207" y="336805"/>
                </a:lnTo>
                <a:lnTo>
                  <a:pt x="1294194" y="215896"/>
                </a:lnTo>
                <a:lnTo>
                  <a:pt x="1279165" y="205780"/>
                </a:lnTo>
                <a:cubicBezTo>
                  <a:pt x="1269337" y="195953"/>
                  <a:pt x="1263276" y="182359"/>
                  <a:pt x="1263276" y="167292"/>
                </a:cubicBezTo>
                <a:cubicBezTo>
                  <a:pt x="1263276" y="137632"/>
                  <a:pt x="1287522" y="113151"/>
                  <a:pt x="1317653" y="113151"/>
                </a:cubicBezTo>
                <a:cubicBezTo>
                  <a:pt x="1347549" y="113151"/>
                  <a:pt x="1371795" y="137632"/>
                  <a:pt x="1371795" y="167293"/>
                </a:cubicBezTo>
                <a:cubicBezTo>
                  <a:pt x="1371795" y="197424"/>
                  <a:pt x="1347549" y="221670"/>
                  <a:pt x="1317653" y="221670"/>
                </a:cubicBezTo>
                <a:lnTo>
                  <a:pt x="1314141" y="220965"/>
                </a:lnTo>
                <a:lnTo>
                  <a:pt x="1282079" y="342027"/>
                </a:lnTo>
                <a:lnTo>
                  <a:pt x="1301599" y="355019"/>
                </a:lnTo>
                <a:cubicBezTo>
                  <a:pt x="1314251" y="367512"/>
                  <a:pt x="1322078" y="384773"/>
                  <a:pt x="1322078" y="403848"/>
                </a:cubicBezTo>
                <a:cubicBezTo>
                  <a:pt x="1322078" y="423040"/>
                  <a:pt x="1314251" y="440418"/>
                  <a:pt x="1301599" y="452998"/>
                </a:cubicBezTo>
                <a:lnTo>
                  <a:pt x="1287203" y="462649"/>
                </a:lnTo>
                <a:lnTo>
                  <a:pt x="1340146" y="574697"/>
                </a:lnTo>
                <a:lnTo>
                  <a:pt x="1350546" y="572050"/>
                </a:lnTo>
                <a:cubicBezTo>
                  <a:pt x="1366354" y="574419"/>
                  <a:pt x="1376971" y="588867"/>
                  <a:pt x="1374848" y="604263"/>
                </a:cubicBezTo>
                <a:cubicBezTo>
                  <a:pt x="1372488" y="619895"/>
                  <a:pt x="1358095" y="630790"/>
                  <a:pt x="1342760" y="628422"/>
                </a:cubicBezTo>
                <a:cubicBezTo>
                  <a:pt x="1326952" y="626290"/>
                  <a:pt x="1316098" y="611842"/>
                  <a:pt x="1318222" y="596210"/>
                </a:cubicBezTo>
                <a:lnTo>
                  <a:pt x="1327600" y="580275"/>
                </a:lnTo>
                <a:lnTo>
                  <a:pt x="1275004" y="468774"/>
                </a:lnTo>
                <a:lnTo>
                  <a:pt x="1252165" y="473360"/>
                </a:lnTo>
                <a:cubicBezTo>
                  <a:pt x="1223388" y="473360"/>
                  <a:pt x="1198583" y="455851"/>
                  <a:pt x="1187979" y="430902"/>
                </a:cubicBezTo>
                <a:lnTo>
                  <a:pt x="1187058" y="426368"/>
                </a:lnTo>
                <a:lnTo>
                  <a:pt x="1070643" y="440697"/>
                </a:lnTo>
                <a:lnTo>
                  <a:pt x="1060802" y="464721"/>
                </a:lnTo>
                <a:cubicBezTo>
                  <a:pt x="1054215" y="471346"/>
                  <a:pt x="1045081" y="475431"/>
                  <a:pt x="1034893" y="475432"/>
                </a:cubicBezTo>
                <a:cubicBezTo>
                  <a:pt x="1014518" y="475432"/>
                  <a:pt x="998124" y="459090"/>
                  <a:pt x="998124" y="438779"/>
                </a:cubicBezTo>
                <a:close/>
                <a:moveTo>
                  <a:pt x="773960" y="1082847"/>
                </a:moveTo>
                <a:cubicBezTo>
                  <a:pt x="773960" y="1062536"/>
                  <a:pt x="790354" y="1046195"/>
                  <a:pt x="810730" y="1046194"/>
                </a:cubicBezTo>
                <a:cubicBezTo>
                  <a:pt x="820917" y="1046194"/>
                  <a:pt x="830051" y="1050280"/>
                  <a:pt x="836638" y="1056904"/>
                </a:cubicBezTo>
                <a:lnTo>
                  <a:pt x="842177" y="1070426"/>
                </a:lnTo>
                <a:lnTo>
                  <a:pt x="959943" y="1055889"/>
                </a:lnTo>
                <a:lnTo>
                  <a:pt x="958324" y="1047916"/>
                </a:lnTo>
                <a:cubicBezTo>
                  <a:pt x="958324" y="1028840"/>
                  <a:pt x="966151" y="1011579"/>
                  <a:pt x="978774" y="999087"/>
                </a:cubicBezTo>
                <a:lnTo>
                  <a:pt x="983645" y="995835"/>
                </a:lnTo>
                <a:lnTo>
                  <a:pt x="929149" y="919221"/>
                </a:lnTo>
                <a:lnTo>
                  <a:pt x="916639" y="924870"/>
                </a:lnTo>
                <a:cubicBezTo>
                  <a:pt x="898214" y="925812"/>
                  <a:pt x="883095" y="911688"/>
                  <a:pt x="882387" y="893798"/>
                </a:cubicBezTo>
                <a:cubicBezTo>
                  <a:pt x="881678" y="875436"/>
                  <a:pt x="895852" y="860371"/>
                  <a:pt x="913805" y="859664"/>
                </a:cubicBezTo>
                <a:cubicBezTo>
                  <a:pt x="932230" y="858723"/>
                  <a:pt x="947348" y="872847"/>
                  <a:pt x="947821" y="890973"/>
                </a:cubicBezTo>
                <a:lnTo>
                  <a:pt x="940428" y="911540"/>
                </a:lnTo>
                <a:lnTo>
                  <a:pt x="995161" y="988145"/>
                </a:lnTo>
                <a:lnTo>
                  <a:pt x="1000928" y="984294"/>
                </a:lnTo>
                <a:cubicBezTo>
                  <a:pt x="1009259" y="980802"/>
                  <a:pt x="1018410" y="978871"/>
                  <a:pt x="1028002" y="978871"/>
                </a:cubicBezTo>
                <a:lnTo>
                  <a:pt x="1038044" y="980872"/>
                </a:lnTo>
                <a:lnTo>
                  <a:pt x="1070031" y="859963"/>
                </a:lnTo>
                <a:lnTo>
                  <a:pt x="1055003" y="849848"/>
                </a:lnTo>
                <a:cubicBezTo>
                  <a:pt x="1045175" y="840020"/>
                  <a:pt x="1039113" y="826425"/>
                  <a:pt x="1039113" y="811360"/>
                </a:cubicBezTo>
                <a:cubicBezTo>
                  <a:pt x="1039113" y="781700"/>
                  <a:pt x="1063359" y="757218"/>
                  <a:pt x="1093490" y="757218"/>
                </a:cubicBezTo>
                <a:cubicBezTo>
                  <a:pt x="1123386" y="757219"/>
                  <a:pt x="1147632" y="781700"/>
                  <a:pt x="1147632" y="811360"/>
                </a:cubicBezTo>
                <a:cubicBezTo>
                  <a:pt x="1147632" y="841492"/>
                  <a:pt x="1123386" y="865738"/>
                  <a:pt x="1093490" y="865738"/>
                </a:cubicBezTo>
                <a:lnTo>
                  <a:pt x="1089978" y="865032"/>
                </a:lnTo>
                <a:lnTo>
                  <a:pt x="1057916" y="986094"/>
                </a:lnTo>
                <a:lnTo>
                  <a:pt x="1077436" y="999087"/>
                </a:lnTo>
                <a:cubicBezTo>
                  <a:pt x="1090089" y="1011579"/>
                  <a:pt x="1097916" y="1028840"/>
                  <a:pt x="1097916" y="1047916"/>
                </a:cubicBezTo>
                <a:cubicBezTo>
                  <a:pt x="1097916" y="1067107"/>
                  <a:pt x="1090089" y="1084485"/>
                  <a:pt x="1077436" y="1097065"/>
                </a:cubicBezTo>
                <a:lnTo>
                  <a:pt x="1063040" y="1106717"/>
                </a:lnTo>
                <a:lnTo>
                  <a:pt x="1115984" y="1218764"/>
                </a:lnTo>
                <a:lnTo>
                  <a:pt x="1126383" y="1216118"/>
                </a:lnTo>
                <a:cubicBezTo>
                  <a:pt x="1142191" y="1218486"/>
                  <a:pt x="1152808" y="1232935"/>
                  <a:pt x="1150685" y="1248330"/>
                </a:cubicBezTo>
                <a:cubicBezTo>
                  <a:pt x="1148326" y="1263963"/>
                  <a:pt x="1133933" y="1274858"/>
                  <a:pt x="1118597" y="1272490"/>
                </a:cubicBezTo>
                <a:cubicBezTo>
                  <a:pt x="1102789" y="1270358"/>
                  <a:pt x="1091936" y="1255910"/>
                  <a:pt x="1094059" y="1240277"/>
                </a:cubicBezTo>
                <a:lnTo>
                  <a:pt x="1103438" y="1224342"/>
                </a:lnTo>
                <a:lnTo>
                  <a:pt x="1050841" y="1112842"/>
                </a:lnTo>
                <a:lnTo>
                  <a:pt x="1028002" y="1117428"/>
                </a:lnTo>
                <a:cubicBezTo>
                  <a:pt x="999225" y="1117428"/>
                  <a:pt x="974420" y="1099918"/>
                  <a:pt x="963816" y="1074970"/>
                </a:cubicBezTo>
                <a:lnTo>
                  <a:pt x="962895" y="1070435"/>
                </a:lnTo>
                <a:lnTo>
                  <a:pt x="846479" y="1084765"/>
                </a:lnTo>
                <a:lnTo>
                  <a:pt x="836638" y="1108789"/>
                </a:lnTo>
                <a:cubicBezTo>
                  <a:pt x="830051" y="1115413"/>
                  <a:pt x="820917" y="1119499"/>
                  <a:pt x="810730" y="1119499"/>
                </a:cubicBezTo>
                <a:cubicBezTo>
                  <a:pt x="790354" y="1119499"/>
                  <a:pt x="773960" y="1103157"/>
                  <a:pt x="773960" y="1082847"/>
                </a:cubicBezTo>
                <a:close/>
                <a:moveTo>
                  <a:pt x="758312" y="510196"/>
                </a:moveTo>
                <a:cubicBezTo>
                  <a:pt x="758312" y="489820"/>
                  <a:pt x="774654" y="473661"/>
                  <a:pt x="794964" y="473661"/>
                </a:cubicBezTo>
                <a:cubicBezTo>
                  <a:pt x="815275" y="473661"/>
                  <a:pt x="831616" y="489821"/>
                  <a:pt x="831616" y="510196"/>
                </a:cubicBezTo>
                <a:lnTo>
                  <a:pt x="827790" y="519495"/>
                </a:lnTo>
                <a:lnTo>
                  <a:pt x="970226" y="597901"/>
                </a:lnTo>
                <a:lnTo>
                  <a:pt x="971670" y="594406"/>
                </a:lnTo>
                <a:cubicBezTo>
                  <a:pt x="978295" y="587819"/>
                  <a:pt x="987458" y="583778"/>
                  <a:pt x="997613" y="583779"/>
                </a:cubicBezTo>
                <a:cubicBezTo>
                  <a:pt x="1017923" y="583779"/>
                  <a:pt x="1034265" y="599939"/>
                  <a:pt x="1034265" y="620314"/>
                </a:cubicBezTo>
                <a:cubicBezTo>
                  <a:pt x="1034265" y="640690"/>
                  <a:pt x="1017923" y="657084"/>
                  <a:pt x="997613" y="657084"/>
                </a:cubicBezTo>
                <a:lnTo>
                  <a:pt x="988945" y="653494"/>
                </a:lnTo>
                <a:lnTo>
                  <a:pt x="852473" y="727925"/>
                </a:lnTo>
                <a:lnTo>
                  <a:pt x="855018" y="734082"/>
                </a:lnTo>
                <a:cubicBezTo>
                  <a:pt x="855018" y="754458"/>
                  <a:pt x="838677" y="770852"/>
                  <a:pt x="818366" y="770852"/>
                </a:cubicBezTo>
                <a:cubicBezTo>
                  <a:pt x="798056" y="770851"/>
                  <a:pt x="781714" y="754457"/>
                  <a:pt x="781714" y="734082"/>
                </a:cubicBezTo>
                <a:cubicBezTo>
                  <a:pt x="781714" y="713706"/>
                  <a:pt x="798056" y="697547"/>
                  <a:pt x="818366" y="697547"/>
                </a:cubicBezTo>
                <a:cubicBezTo>
                  <a:pt x="828522" y="697546"/>
                  <a:pt x="837685" y="701587"/>
                  <a:pt x="844309" y="708173"/>
                </a:cubicBezTo>
                <a:lnTo>
                  <a:pt x="845302" y="710577"/>
                </a:lnTo>
                <a:lnTo>
                  <a:pt x="970115" y="642559"/>
                </a:lnTo>
                <a:lnTo>
                  <a:pt x="960961" y="620314"/>
                </a:lnTo>
                <a:lnTo>
                  <a:pt x="963070" y="615211"/>
                </a:lnTo>
                <a:lnTo>
                  <a:pt x="820081" y="536564"/>
                </a:lnTo>
                <a:lnTo>
                  <a:pt x="807893" y="541611"/>
                </a:lnTo>
                <a:lnTo>
                  <a:pt x="825775" y="686890"/>
                </a:lnTo>
                <a:cubicBezTo>
                  <a:pt x="826249" y="690642"/>
                  <a:pt x="823405" y="694393"/>
                  <a:pt x="819377" y="695097"/>
                </a:cubicBezTo>
                <a:cubicBezTo>
                  <a:pt x="815113" y="695331"/>
                  <a:pt x="811322" y="692518"/>
                  <a:pt x="811084" y="688297"/>
                </a:cubicBezTo>
                <a:lnTo>
                  <a:pt x="793568" y="546387"/>
                </a:lnTo>
                <a:lnTo>
                  <a:pt x="769022" y="536221"/>
                </a:lnTo>
                <a:cubicBezTo>
                  <a:pt x="762398" y="529576"/>
                  <a:pt x="758312" y="520383"/>
                  <a:pt x="758312" y="510196"/>
                </a:cubicBezTo>
                <a:close/>
                <a:moveTo>
                  <a:pt x="676307" y="145481"/>
                </a:moveTo>
                <a:cubicBezTo>
                  <a:pt x="694198" y="111538"/>
                  <a:pt x="736334" y="98357"/>
                  <a:pt x="770289" y="116256"/>
                </a:cubicBezTo>
                <a:cubicBezTo>
                  <a:pt x="778727" y="120703"/>
                  <a:pt x="785850" y="126670"/>
                  <a:pt x="791510" y="133648"/>
                </a:cubicBezTo>
                <a:lnTo>
                  <a:pt x="799539" y="148796"/>
                </a:lnTo>
                <a:lnTo>
                  <a:pt x="893925" y="136151"/>
                </a:lnTo>
                <a:lnTo>
                  <a:pt x="894761" y="122450"/>
                </a:lnTo>
                <a:cubicBezTo>
                  <a:pt x="902520" y="105712"/>
                  <a:pt x="922064" y="98923"/>
                  <a:pt x="938220" y="106638"/>
                </a:cubicBezTo>
                <a:cubicBezTo>
                  <a:pt x="954793" y="114574"/>
                  <a:pt x="961512" y="134137"/>
                  <a:pt x="953765" y="150348"/>
                </a:cubicBezTo>
                <a:cubicBezTo>
                  <a:pt x="946006" y="167086"/>
                  <a:pt x="926462" y="173875"/>
                  <a:pt x="910208" y="165841"/>
                </a:cubicBezTo>
                <a:lnTo>
                  <a:pt x="895460" y="149710"/>
                </a:lnTo>
                <a:lnTo>
                  <a:pt x="803459" y="162234"/>
                </a:lnTo>
                <a:lnTo>
                  <a:pt x="798878" y="210090"/>
                </a:lnTo>
                <a:lnTo>
                  <a:pt x="797441" y="211860"/>
                </a:lnTo>
                <a:lnTo>
                  <a:pt x="883336" y="290880"/>
                </a:lnTo>
                <a:lnTo>
                  <a:pt x="896608" y="279833"/>
                </a:lnTo>
                <a:cubicBezTo>
                  <a:pt x="909885" y="275721"/>
                  <a:pt x="924737" y="276698"/>
                  <a:pt x="938065" y="283723"/>
                </a:cubicBezTo>
                <a:cubicBezTo>
                  <a:pt x="964303" y="297554"/>
                  <a:pt x="974654" y="330419"/>
                  <a:pt x="960604" y="357074"/>
                </a:cubicBezTo>
                <a:cubicBezTo>
                  <a:pt x="946664" y="383520"/>
                  <a:pt x="913701" y="393554"/>
                  <a:pt x="887463" y="379723"/>
                </a:cubicBezTo>
                <a:cubicBezTo>
                  <a:pt x="860808" y="365672"/>
                  <a:pt x="850665" y="332918"/>
                  <a:pt x="864605" y="306471"/>
                </a:cubicBezTo>
                <a:lnTo>
                  <a:pt x="867378" y="304163"/>
                </a:lnTo>
                <a:lnTo>
                  <a:pt x="784465" y="227846"/>
                </a:lnTo>
                <a:lnTo>
                  <a:pt x="781392" y="231632"/>
                </a:lnTo>
                <a:cubicBezTo>
                  <a:pt x="760423" y="248944"/>
                  <a:pt x="730510" y="253084"/>
                  <a:pt x="705199" y="239742"/>
                </a:cubicBezTo>
                <a:cubicBezTo>
                  <a:pt x="671244" y="221844"/>
                  <a:pt x="658305" y="179633"/>
                  <a:pt x="676307" y="145481"/>
                </a:cubicBezTo>
                <a:close/>
                <a:moveTo>
                  <a:pt x="534148" y="1154264"/>
                </a:moveTo>
                <a:cubicBezTo>
                  <a:pt x="534148" y="1133888"/>
                  <a:pt x="550490" y="1117728"/>
                  <a:pt x="570800" y="1117728"/>
                </a:cubicBezTo>
                <a:cubicBezTo>
                  <a:pt x="591111" y="1117728"/>
                  <a:pt x="607452" y="1133888"/>
                  <a:pt x="607452" y="1154263"/>
                </a:cubicBezTo>
                <a:lnTo>
                  <a:pt x="603625" y="1163563"/>
                </a:lnTo>
                <a:lnTo>
                  <a:pt x="746062" y="1241969"/>
                </a:lnTo>
                <a:lnTo>
                  <a:pt x="747507" y="1238473"/>
                </a:lnTo>
                <a:cubicBezTo>
                  <a:pt x="754131" y="1231886"/>
                  <a:pt x="763294" y="1227846"/>
                  <a:pt x="773449" y="1227847"/>
                </a:cubicBezTo>
                <a:cubicBezTo>
                  <a:pt x="793760" y="1227846"/>
                  <a:pt x="810102" y="1244006"/>
                  <a:pt x="810102" y="1264381"/>
                </a:cubicBezTo>
                <a:cubicBezTo>
                  <a:pt x="810102" y="1284757"/>
                  <a:pt x="793760" y="1301151"/>
                  <a:pt x="773449" y="1301151"/>
                </a:cubicBezTo>
                <a:lnTo>
                  <a:pt x="764781" y="1297561"/>
                </a:lnTo>
                <a:lnTo>
                  <a:pt x="628309" y="1371992"/>
                </a:lnTo>
                <a:lnTo>
                  <a:pt x="630854" y="1378149"/>
                </a:lnTo>
                <a:cubicBezTo>
                  <a:pt x="630854" y="1398525"/>
                  <a:pt x="614513" y="1414919"/>
                  <a:pt x="594202" y="1414919"/>
                </a:cubicBezTo>
                <a:cubicBezTo>
                  <a:pt x="573892" y="1414919"/>
                  <a:pt x="557550" y="1398525"/>
                  <a:pt x="557550" y="1378150"/>
                </a:cubicBezTo>
                <a:cubicBezTo>
                  <a:pt x="557550" y="1357774"/>
                  <a:pt x="573892" y="1341614"/>
                  <a:pt x="594202" y="1341614"/>
                </a:cubicBezTo>
                <a:cubicBezTo>
                  <a:pt x="604357" y="1341614"/>
                  <a:pt x="613520" y="1345654"/>
                  <a:pt x="620145" y="1352241"/>
                </a:cubicBezTo>
                <a:lnTo>
                  <a:pt x="621138" y="1354644"/>
                </a:lnTo>
                <a:lnTo>
                  <a:pt x="745951" y="1286628"/>
                </a:lnTo>
                <a:lnTo>
                  <a:pt x="736797" y="1264382"/>
                </a:lnTo>
                <a:lnTo>
                  <a:pt x="738906" y="1259279"/>
                </a:lnTo>
                <a:lnTo>
                  <a:pt x="595915" y="1180631"/>
                </a:lnTo>
                <a:lnTo>
                  <a:pt x="583729" y="1185678"/>
                </a:lnTo>
                <a:lnTo>
                  <a:pt x="601611" y="1330958"/>
                </a:lnTo>
                <a:cubicBezTo>
                  <a:pt x="602085" y="1334709"/>
                  <a:pt x="599241" y="1338461"/>
                  <a:pt x="595213" y="1339165"/>
                </a:cubicBezTo>
                <a:cubicBezTo>
                  <a:pt x="590948" y="1339399"/>
                  <a:pt x="587157" y="1336585"/>
                  <a:pt x="586920" y="1332365"/>
                </a:cubicBezTo>
                <a:lnTo>
                  <a:pt x="569403" y="1190454"/>
                </a:lnTo>
                <a:lnTo>
                  <a:pt x="544858" y="1180289"/>
                </a:lnTo>
                <a:cubicBezTo>
                  <a:pt x="538233" y="1173644"/>
                  <a:pt x="534148" y="1164451"/>
                  <a:pt x="534148" y="1154264"/>
                </a:cubicBezTo>
                <a:close/>
                <a:moveTo>
                  <a:pt x="452142" y="789548"/>
                </a:moveTo>
                <a:cubicBezTo>
                  <a:pt x="470034" y="755605"/>
                  <a:pt x="512170" y="742424"/>
                  <a:pt x="546125" y="760323"/>
                </a:cubicBezTo>
                <a:cubicBezTo>
                  <a:pt x="554562" y="764770"/>
                  <a:pt x="561686" y="770738"/>
                  <a:pt x="567346" y="777716"/>
                </a:cubicBezTo>
                <a:lnTo>
                  <a:pt x="575375" y="792863"/>
                </a:lnTo>
                <a:lnTo>
                  <a:pt x="669760" y="780219"/>
                </a:lnTo>
                <a:lnTo>
                  <a:pt x="670597" y="766518"/>
                </a:lnTo>
                <a:cubicBezTo>
                  <a:pt x="678356" y="749779"/>
                  <a:pt x="697900" y="742991"/>
                  <a:pt x="714056" y="750706"/>
                </a:cubicBezTo>
                <a:cubicBezTo>
                  <a:pt x="730629" y="758642"/>
                  <a:pt x="737348" y="778205"/>
                  <a:pt x="729601" y="794415"/>
                </a:cubicBezTo>
                <a:cubicBezTo>
                  <a:pt x="721842" y="811154"/>
                  <a:pt x="702298" y="817942"/>
                  <a:pt x="686043" y="809909"/>
                </a:cubicBezTo>
                <a:lnTo>
                  <a:pt x="671296" y="793778"/>
                </a:lnTo>
                <a:lnTo>
                  <a:pt x="579294" y="806301"/>
                </a:lnTo>
                <a:lnTo>
                  <a:pt x="574713" y="854157"/>
                </a:lnTo>
                <a:lnTo>
                  <a:pt x="573276" y="855927"/>
                </a:lnTo>
                <a:lnTo>
                  <a:pt x="659172" y="934947"/>
                </a:lnTo>
                <a:lnTo>
                  <a:pt x="672444" y="923900"/>
                </a:lnTo>
                <a:cubicBezTo>
                  <a:pt x="685721" y="919789"/>
                  <a:pt x="700573" y="920766"/>
                  <a:pt x="713901" y="927791"/>
                </a:cubicBezTo>
                <a:cubicBezTo>
                  <a:pt x="740139" y="941621"/>
                  <a:pt x="750490" y="974486"/>
                  <a:pt x="736440" y="1001141"/>
                </a:cubicBezTo>
                <a:cubicBezTo>
                  <a:pt x="722500" y="1027588"/>
                  <a:pt x="689537" y="1037621"/>
                  <a:pt x="663299" y="1023790"/>
                </a:cubicBezTo>
                <a:cubicBezTo>
                  <a:pt x="636644" y="1009741"/>
                  <a:pt x="626501" y="976986"/>
                  <a:pt x="640441" y="950539"/>
                </a:cubicBezTo>
                <a:lnTo>
                  <a:pt x="643214" y="948230"/>
                </a:lnTo>
                <a:lnTo>
                  <a:pt x="560300" y="871913"/>
                </a:lnTo>
                <a:lnTo>
                  <a:pt x="557227" y="875700"/>
                </a:lnTo>
                <a:cubicBezTo>
                  <a:pt x="536258" y="893011"/>
                  <a:pt x="506346" y="897152"/>
                  <a:pt x="481034" y="883810"/>
                </a:cubicBezTo>
                <a:cubicBezTo>
                  <a:pt x="447079" y="865911"/>
                  <a:pt x="434140" y="823700"/>
                  <a:pt x="452142" y="789548"/>
                </a:cubicBezTo>
                <a:close/>
                <a:moveTo>
                  <a:pt x="312532" y="164130"/>
                </a:moveTo>
                <a:cubicBezTo>
                  <a:pt x="311228" y="143797"/>
                  <a:pt x="326486" y="126389"/>
                  <a:pt x="346755" y="125089"/>
                </a:cubicBezTo>
                <a:lnTo>
                  <a:pt x="355634" y="128116"/>
                </a:lnTo>
                <a:lnTo>
                  <a:pt x="487060" y="45100"/>
                </a:lnTo>
                <a:lnTo>
                  <a:pt x="484125" y="39118"/>
                </a:lnTo>
                <a:cubicBezTo>
                  <a:pt x="482821" y="18785"/>
                  <a:pt x="498079" y="1377"/>
                  <a:pt x="518348" y="77"/>
                </a:cubicBezTo>
                <a:cubicBezTo>
                  <a:pt x="538617" y="-1223"/>
                  <a:pt x="555975" y="14091"/>
                  <a:pt x="557279" y="34424"/>
                </a:cubicBezTo>
                <a:cubicBezTo>
                  <a:pt x="558584" y="54758"/>
                  <a:pt x="543311" y="71931"/>
                  <a:pt x="523042" y="73231"/>
                </a:cubicBezTo>
                <a:cubicBezTo>
                  <a:pt x="512908" y="73881"/>
                  <a:pt x="503505" y="70437"/>
                  <a:pt x="496472" y="64288"/>
                </a:cubicBezTo>
                <a:lnTo>
                  <a:pt x="495327" y="61952"/>
                </a:lnTo>
                <a:lnTo>
                  <a:pt x="375126" y="137822"/>
                </a:lnTo>
                <a:lnTo>
                  <a:pt x="385686" y="159436"/>
                </a:lnTo>
                <a:lnTo>
                  <a:pt x="383908" y="164663"/>
                </a:lnTo>
                <a:lnTo>
                  <a:pt x="531641" y="233994"/>
                </a:lnTo>
                <a:lnTo>
                  <a:pt x="543480" y="228176"/>
                </a:lnTo>
                <a:lnTo>
                  <a:pt x="516332" y="84339"/>
                </a:lnTo>
                <a:cubicBezTo>
                  <a:pt x="515618" y="80627"/>
                  <a:pt x="518216" y="76700"/>
                  <a:pt x="522190" y="75740"/>
                </a:cubicBezTo>
                <a:cubicBezTo>
                  <a:pt x="526431" y="75233"/>
                  <a:pt x="530395" y="77799"/>
                  <a:pt x="530902" y="81995"/>
                </a:cubicBezTo>
                <a:lnTo>
                  <a:pt x="557470" y="222493"/>
                </a:lnTo>
                <a:lnTo>
                  <a:pt x="582617" y="231066"/>
                </a:lnTo>
                <a:cubicBezTo>
                  <a:pt x="589653" y="237274"/>
                  <a:pt x="594319" y="246185"/>
                  <a:pt x="594971" y="256352"/>
                </a:cubicBezTo>
                <a:cubicBezTo>
                  <a:pt x="596276" y="276686"/>
                  <a:pt x="581002" y="293859"/>
                  <a:pt x="560734" y="295159"/>
                </a:cubicBezTo>
                <a:cubicBezTo>
                  <a:pt x="540465" y="296459"/>
                  <a:pt x="523122" y="281380"/>
                  <a:pt x="521817" y="261046"/>
                </a:cubicBezTo>
                <a:lnTo>
                  <a:pt x="525041" y="251520"/>
                </a:lnTo>
                <a:lnTo>
                  <a:pt x="377876" y="182396"/>
                </a:lnTo>
                <a:lnTo>
                  <a:pt x="376658" y="185977"/>
                </a:lnTo>
                <a:cubicBezTo>
                  <a:pt x="370469" y="192975"/>
                  <a:pt x="361583" y="197593"/>
                  <a:pt x="351449" y="198244"/>
                </a:cubicBezTo>
                <a:cubicBezTo>
                  <a:pt x="331180" y="199544"/>
                  <a:pt x="313837" y="184464"/>
                  <a:pt x="312532" y="164130"/>
                </a:cubicBezTo>
                <a:close/>
                <a:moveTo>
                  <a:pt x="224166" y="370535"/>
                </a:moveTo>
                <a:cubicBezTo>
                  <a:pt x="224166" y="340639"/>
                  <a:pt x="248648" y="316393"/>
                  <a:pt x="278308" y="316393"/>
                </a:cubicBezTo>
                <a:cubicBezTo>
                  <a:pt x="308439" y="316393"/>
                  <a:pt x="332685" y="340639"/>
                  <a:pt x="332685" y="370535"/>
                </a:cubicBezTo>
                <a:lnTo>
                  <a:pt x="331309" y="373870"/>
                </a:lnTo>
                <a:lnTo>
                  <a:pt x="457562" y="407306"/>
                </a:lnTo>
                <a:lnTo>
                  <a:pt x="466034" y="386589"/>
                </a:lnTo>
                <a:cubicBezTo>
                  <a:pt x="478526" y="373936"/>
                  <a:pt x="495787" y="366109"/>
                  <a:pt x="514862" y="366110"/>
                </a:cubicBezTo>
                <a:cubicBezTo>
                  <a:pt x="534054" y="366110"/>
                  <a:pt x="551432" y="373937"/>
                  <a:pt x="564012" y="386589"/>
                </a:cubicBezTo>
                <a:lnTo>
                  <a:pt x="573663" y="400984"/>
                </a:lnTo>
                <a:lnTo>
                  <a:pt x="685709" y="348041"/>
                </a:lnTo>
                <a:lnTo>
                  <a:pt x="683063" y="337642"/>
                </a:lnTo>
                <a:cubicBezTo>
                  <a:pt x="685432" y="321833"/>
                  <a:pt x="699880" y="311216"/>
                  <a:pt x="715276" y="313340"/>
                </a:cubicBezTo>
                <a:cubicBezTo>
                  <a:pt x="730908" y="315699"/>
                  <a:pt x="741803" y="330092"/>
                  <a:pt x="739435" y="345428"/>
                </a:cubicBezTo>
                <a:cubicBezTo>
                  <a:pt x="737303" y="361236"/>
                  <a:pt x="722855" y="372089"/>
                  <a:pt x="707223" y="369965"/>
                </a:cubicBezTo>
                <a:lnTo>
                  <a:pt x="691288" y="360587"/>
                </a:lnTo>
                <a:lnTo>
                  <a:pt x="579788" y="413184"/>
                </a:lnTo>
                <a:lnTo>
                  <a:pt x="584374" y="436023"/>
                </a:lnTo>
                <a:cubicBezTo>
                  <a:pt x="584374" y="464801"/>
                  <a:pt x="566864" y="489606"/>
                  <a:pt x="541916" y="500209"/>
                </a:cubicBezTo>
                <a:lnTo>
                  <a:pt x="537381" y="501130"/>
                </a:lnTo>
                <a:lnTo>
                  <a:pt x="551710" y="617545"/>
                </a:lnTo>
                <a:lnTo>
                  <a:pt x="575736" y="627387"/>
                </a:lnTo>
                <a:cubicBezTo>
                  <a:pt x="582360" y="633974"/>
                  <a:pt x="586445" y="643108"/>
                  <a:pt x="586445" y="653296"/>
                </a:cubicBezTo>
                <a:cubicBezTo>
                  <a:pt x="586445" y="673671"/>
                  <a:pt x="570104" y="690065"/>
                  <a:pt x="549793" y="690065"/>
                </a:cubicBezTo>
                <a:cubicBezTo>
                  <a:pt x="529483" y="690065"/>
                  <a:pt x="513141" y="673671"/>
                  <a:pt x="513141" y="653295"/>
                </a:cubicBezTo>
                <a:cubicBezTo>
                  <a:pt x="513141" y="643107"/>
                  <a:pt x="517227" y="633973"/>
                  <a:pt x="523851" y="627387"/>
                </a:cubicBezTo>
                <a:lnTo>
                  <a:pt x="537371" y="621848"/>
                </a:lnTo>
                <a:lnTo>
                  <a:pt x="522835" y="504083"/>
                </a:lnTo>
                <a:lnTo>
                  <a:pt x="514862" y="505701"/>
                </a:lnTo>
                <a:cubicBezTo>
                  <a:pt x="495787" y="505701"/>
                  <a:pt x="478526" y="497874"/>
                  <a:pt x="466034" y="485250"/>
                </a:cubicBezTo>
                <a:lnTo>
                  <a:pt x="462781" y="480380"/>
                </a:lnTo>
                <a:lnTo>
                  <a:pt x="386168" y="534876"/>
                </a:lnTo>
                <a:lnTo>
                  <a:pt x="391817" y="547386"/>
                </a:lnTo>
                <a:cubicBezTo>
                  <a:pt x="392758" y="565812"/>
                  <a:pt x="378635" y="580930"/>
                  <a:pt x="360744" y="581638"/>
                </a:cubicBezTo>
                <a:cubicBezTo>
                  <a:pt x="342383" y="582347"/>
                  <a:pt x="327318" y="568174"/>
                  <a:pt x="326612" y="550221"/>
                </a:cubicBezTo>
                <a:cubicBezTo>
                  <a:pt x="325670" y="531795"/>
                  <a:pt x="339794" y="516677"/>
                  <a:pt x="357920" y="516205"/>
                </a:cubicBezTo>
                <a:lnTo>
                  <a:pt x="378487" y="523598"/>
                </a:lnTo>
                <a:lnTo>
                  <a:pt x="455091" y="468864"/>
                </a:lnTo>
                <a:lnTo>
                  <a:pt x="451241" y="463097"/>
                </a:lnTo>
                <a:cubicBezTo>
                  <a:pt x="447749" y="454767"/>
                  <a:pt x="445818" y="445615"/>
                  <a:pt x="445818" y="436023"/>
                </a:cubicBezTo>
                <a:lnTo>
                  <a:pt x="449719" y="426484"/>
                </a:lnTo>
                <a:lnTo>
                  <a:pt x="323385" y="393062"/>
                </a:lnTo>
                <a:lnTo>
                  <a:pt x="316796" y="409023"/>
                </a:lnTo>
                <a:cubicBezTo>
                  <a:pt x="306968" y="418851"/>
                  <a:pt x="293374" y="424912"/>
                  <a:pt x="278308" y="424912"/>
                </a:cubicBezTo>
                <a:cubicBezTo>
                  <a:pt x="248648" y="424912"/>
                  <a:pt x="224166" y="400666"/>
                  <a:pt x="224166" y="370535"/>
                </a:cubicBezTo>
                <a:close/>
                <a:moveTo>
                  <a:pt x="88366" y="808198"/>
                </a:moveTo>
                <a:cubicBezTo>
                  <a:pt x="87062" y="787864"/>
                  <a:pt x="102320" y="770457"/>
                  <a:pt x="122589" y="769156"/>
                </a:cubicBezTo>
                <a:lnTo>
                  <a:pt x="131469" y="772184"/>
                </a:lnTo>
                <a:lnTo>
                  <a:pt x="262894" y="689167"/>
                </a:lnTo>
                <a:lnTo>
                  <a:pt x="259960" y="683186"/>
                </a:lnTo>
                <a:cubicBezTo>
                  <a:pt x="258655" y="662852"/>
                  <a:pt x="273914" y="645445"/>
                  <a:pt x="294183" y="644144"/>
                </a:cubicBezTo>
                <a:cubicBezTo>
                  <a:pt x="314451" y="642844"/>
                  <a:pt x="331809" y="658158"/>
                  <a:pt x="333114" y="678492"/>
                </a:cubicBezTo>
                <a:cubicBezTo>
                  <a:pt x="334419" y="698825"/>
                  <a:pt x="319145" y="715998"/>
                  <a:pt x="298877" y="717299"/>
                </a:cubicBezTo>
                <a:cubicBezTo>
                  <a:pt x="288742" y="717949"/>
                  <a:pt x="279339" y="714504"/>
                  <a:pt x="272307" y="708355"/>
                </a:cubicBezTo>
                <a:lnTo>
                  <a:pt x="271161" y="706020"/>
                </a:lnTo>
                <a:lnTo>
                  <a:pt x="150960" y="781889"/>
                </a:lnTo>
                <a:lnTo>
                  <a:pt x="161520" y="803503"/>
                </a:lnTo>
                <a:lnTo>
                  <a:pt x="159742" y="808730"/>
                </a:lnTo>
                <a:lnTo>
                  <a:pt x="307477" y="878060"/>
                </a:lnTo>
                <a:lnTo>
                  <a:pt x="319315" y="872244"/>
                </a:lnTo>
                <a:lnTo>
                  <a:pt x="292166" y="728407"/>
                </a:lnTo>
                <a:cubicBezTo>
                  <a:pt x="291453" y="724694"/>
                  <a:pt x="294050" y="720767"/>
                  <a:pt x="298025" y="719807"/>
                </a:cubicBezTo>
                <a:cubicBezTo>
                  <a:pt x="302266" y="719300"/>
                  <a:pt x="306230" y="721866"/>
                  <a:pt x="306736" y="726062"/>
                </a:cubicBezTo>
                <a:lnTo>
                  <a:pt x="333305" y="866560"/>
                </a:lnTo>
                <a:lnTo>
                  <a:pt x="358452" y="875133"/>
                </a:lnTo>
                <a:cubicBezTo>
                  <a:pt x="365488" y="881340"/>
                  <a:pt x="370154" y="890252"/>
                  <a:pt x="370806" y="900419"/>
                </a:cubicBezTo>
                <a:cubicBezTo>
                  <a:pt x="372111" y="920753"/>
                  <a:pt x="356837" y="937926"/>
                  <a:pt x="336569" y="939227"/>
                </a:cubicBezTo>
                <a:cubicBezTo>
                  <a:pt x="316300" y="940527"/>
                  <a:pt x="298957" y="925447"/>
                  <a:pt x="297652" y="905113"/>
                </a:cubicBezTo>
                <a:lnTo>
                  <a:pt x="300876" y="895587"/>
                </a:lnTo>
                <a:lnTo>
                  <a:pt x="153710" y="826464"/>
                </a:lnTo>
                <a:lnTo>
                  <a:pt x="152492" y="830045"/>
                </a:lnTo>
                <a:cubicBezTo>
                  <a:pt x="146303" y="837042"/>
                  <a:pt x="137417" y="841660"/>
                  <a:pt x="127283" y="842311"/>
                </a:cubicBezTo>
                <a:cubicBezTo>
                  <a:pt x="107014" y="843611"/>
                  <a:pt x="89671" y="828531"/>
                  <a:pt x="88366" y="808198"/>
                </a:cubicBezTo>
                <a:close/>
                <a:moveTo>
                  <a:pt x="0" y="1014602"/>
                </a:moveTo>
                <a:cubicBezTo>
                  <a:pt x="0" y="984707"/>
                  <a:pt x="24482" y="960460"/>
                  <a:pt x="54142" y="960460"/>
                </a:cubicBezTo>
                <a:cubicBezTo>
                  <a:pt x="84273" y="960460"/>
                  <a:pt x="108520" y="984706"/>
                  <a:pt x="108519" y="1014602"/>
                </a:cubicBezTo>
                <a:lnTo>
                  <a:pt x="107143" y="1017937"/>
                </a:lnTo>
                <a:lnTo>
                  <a:pt x="233396" y="1051374"/>
                </a:lnTo>
                <a:lnTo>
                  <a:pt x="241868" y="1030657"/>
                </a:lnTo>
                <a:cubicBezTo>
                  <a:pt x="254361" y="1018004"/>
                  <a:pt x="271622" y="1010177"/>
                  <a:pt x="290697" y="1010177"/>
                </a:cubicBezTo>
                <a:cubicBezTo>
                  <a:pt x="309889" y="1010177"/>
                  <a:pt x="327267" y="1018004"/>
                  <a:pt x="339847" y="1030657"/>
                </a:cubicBezTo>
                <a:lnTo>
                  <a:pt x="349497" y="1045052"/>
                </a:lnTo>
                <a:lnTo>
                  <a:pt x="461545" y="992108"/>
                </a:lnTo>
                <a:lnTo>
                  <a:pt x="458899" y="981709"/>
                </a:lnTo>
                <a:cubicBezTo>
                  <a:pt x="461267" y="965901"/>
                  <a:pt x="475715" y="955284"/>
                  <a:pt x="491111" y="957407"/>
                </a:cubicBezTo>
                <a:cubicBezTo>
                  <a:pt x="506744" y="959767"/>
                  <a:pt x="517639" y="974159"/>
                  <a:pt x="515270" y="989495"/>
                </a:cubicBezTo>
                <a:cubicBezTo>
                  <a:pt x="513139" y="1005303"/>
                  <a:pt x="498691" y="1016157"/>
                  <a:pt x="483058" y="1014033"/>
                </a:cubicBezTo>
                <a:lnTo>
                  <a:pt x="467122" y="1004654"/>
                </a:lnTo>
                <a:lnTo>
                  <a:pt x="355623" y="1057251"/>
                </a:lnTo>
                <a:lnTo>
                  <a:pt x="360209" y="1080091"/>
                </a:lnTo>
                <a:cubicBezTo>
                  <a:pt x="360209" y="1108868"/>
                  <a:pt x="342699" y="1133673"/>
                  <a:pt x="317751" y="1144277"/>
                </a:cubicBezTo>
                <a:lnTo>
                  <a:pt x="313216" y="1145198"/>
                </a:lnTo>
                <a:lnTo>
                  <a:pt x="327545" y="1261613"/>
                </a:lnTo>
                <a:lnTo>
                  <a:pt x="351571" y="1271454"/>
                </a:lnTo>
                <a:cubicBezTo>
                  <a:pt x="358195" y="1278041"/>
                  <a:pt x="362280" y="1287175"/>
                  <a:pt x="362280" y="1297363"/>
                </a:cubicBezTo>
                <a:cubicBezTo>
                  <a:pt x="362280" y="1317738"/>
                  <a:pt x="345939" y="1334132"/>
                  <a:pt x="325628" y="1334132"/>
                </a:cubicBezTo>
                <a:cubicBezTo>
                  <a:pt x="305318" y="1334132"/>
                  <a:pt x="288976" y="1317738"/>
                  <a:pt x="288976" y="1297363"/>
                </a:cubicBezTo>
                <a:cubicBezTo>
                  <a:pt x="288976" y="1287175"/>
                  <a:pt x="293061" y="1278041"/>
                  <a:pt x="299686" y="1271454"/>
                </a:cubicBezTo>
                <a:lnTo>
                  <a:pt x="313206" y="1265916"/>
                </a:lnTo>
                <a:lnTo>
                  <a:pt x="298669" y="1148150"/>
                </a:lnTo>
                <a:lnTo>
                  <a:pt x="290697" y="1149768"/>
                </a:lnTo>
                <a:cubicBezTo>
                  <a:pt x="271622" y="1149769"/>
                  <a:pt x="254361" y="1141941"/>
                  <a:pt x="241868" y="1129318"/>
                </a:cubicBezTo>
                <a:lnTo>
                  <a:pt x="238616" y="1124447"/>
                </a:lnTo>
                <a:lnTo>
                  <a:pt x="162002" y="1178943"/>
                </a:lnTo>
                <a:lnTo>
                  <a:pt x="167651" y="1191454"/>
                </a:lnTo>
                <a:cubicBezTo>
                  <a:pt x="168593" y="1209879"/>
                  <a:pt x="154469" y="1224997"/>
                  <a:pt x="136579" y="1225706"/>
                </a:cubicBezTo>
                <a:cubicBezTo>
                  <a:pt x="118218" y="1226415"/>
                  <a:pt x="103152" y="1212241"/>
                  <a:pt x="102446" y="1194288"/>
                </a:cubicBezTo>
                <a:cubicBezTo>
                  <a:pt x="101504" y="1175863"/>
                  <a:pt x="115628" y="1160745"/>
                  <a:pt x="133754" y="1160272"/>
                </a:cubicBezTo>
                <a:lnTo>
                  <a:pt x="154321" y="1167665"/>
                </a:lnTo>
                <a:lnTo>
                  <a:pt x="230926" y="1112931"/>
                </a:lnTo>
                <a:lnTo>
                  <a:pt x="227076" y="1107165"/>
                </a:lnTo>
                <a:cubicBezTo>
                  <a:pt x="223583" y="1098834"/>
                  <a:pt x="221652" y="1089683"/>
                  <a:pt x="221652" y="1080090"/>
                </a:cubicBezTo>
                <a:lnTo>
                  <a:pt x="225553" y="1070552"/>
                </a:lnTo>
                <a:lnTo>
                  <a:pt x="99220" y="1037129"/>
                </a:lnTo>
                <a:lnTo>
                  <a:pt x="92630" y="1053090"/>
                </a:lnTo>
                <a:cubicBezTo>
                  <a:pt x="82802" y="1062918"/>
                  <a:pt x="69208" y="1068980"/>
                  <a:pt x="54142" y="1068980"/>
                </a:cubicBezTo>
                <a:cubicBezTo>
                  <a:pt x="24482" y="1068980"/>
                  <a:pt x="0" y="1044733"/>
                  <a:pt x="0" y="1014602"/>
                </a:cubicBezTo>
                <a:close/>
              </a:path>
            </a:pathLst>
          </a:custGeom>
          <a:solidFill>
            <a:srgbClr val="f32f8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91" name="Freeform 4106"/>
          <p:cNvSpPr/>
          <p:nvPr/>
        </p:nvSpPr>
        <p:spPr>
          <a:xfrm>
            <a:off x="217440" y="4033800"/>
            <a:ext cx="1022400" cy="1619280"/>
          </a:xfrm>
          <a:custGeom>
            <a:avLst/>
            <a:gdLst/>
            <a:ahLst/>
            <a:rect l="l" t="t" r="r" b="b"/>
            <a:pathLst>
              <a:path w="1126" h="1780">
                <a:moveTo>
                  <a:pt x="257" y="870"/>
                </a:moveTo>
                <a:lnTo>
                  <a:pt x="257" y="870"/>
                </a:lnTo>
                <a:lnTo>
                  <a:pt x="258" y="870"/>
                </a:lnTo>
                <a:lnTo>
                  <a:pt x="258" y="870"/>
                </a:lnTo>
                <a:cubicBezTo>
                  <a:pt x="260" y="870"/>
                  <a:pt x="263" y="872"/>
                  <a:pt x="262" y="869"/>
                </a:cubicBezTo>
                <a:lnTo>
                  <a:pt x="262" y="869"/>
                </a:lnTo>
                <a:cubicBezTo>
                  <a:pt x="262" y="868"/>
                  <a:pt x="258" y="869"/>
                  <a:pt x="257" y="870"/>
                </a:cubicBezTo>
                <a:close/>
                <a:moveTo>
                  <a:pt x="268" y="870"/>
                </a:moveTo>
                <a:lnTo>
                  <a:pt x="268" y="870"/>
                </a:lnTo>
                <a:cubicBezTo>
                  <a:pt x="278" y="877"/>
                  <a:pt x="290" y="876"/>
                  <a:pt x="303" y="875"/>
                </a:cubicBezTo>
                <a:lnTo>
                  <a:pt x="303" y="875"/>
                </a:lnTo>
                <a:cubicBezTo>
                  <a:pt x="291" y="874"/>
                  <a:pt x="280" y="872"/>
                  <a:pt x="268" y="870"/>
                </a:cubicBezTo>
                <a:close/>
                <a:moveTo>
                  <a:pt x="624" y="1691"/>
                </a:moveTo>
                <a:lnTo>
                  <a:pt x="624" y="1691"/>
                </a:lnTo>
                <a:cubicBezTo>
                  <a:pt x="634" y="1696"/>
                  <a:pt x="640" y="1691"/>
                  <a:pt x="646" y="1683"/>
                </a:cubicBezTo>
                <a:lnTo>
                  <a:pt x="646" y="1683"/>
                </a:lnTo>
                <a:cubicBezTo>
                  <a:pt x="639" y="1685"/>
                  <a:pt x="631" y="1689"/>
                  <a:pt x="624" y="1691"/>
                </a:cubicBezTo>
                <a:close/>
                <a:moveTo>
                  <a:pt x="323" y="1765"/>
                </a:moveTo>
                <a:lnTo>
                  <a:pt x="323" y="1765"/>
                </a:lnTo>
                <a:cubicBezTo>
                  <a:pt x="325" y="1766"/>
                  <a:pt x="329" y="1765"/>
                  <a:pt x="329" y="1761"/>
                </a:cubicBezTo>
                <a:lnTo>
                  <a:pt x="329" y="1761"/>
                </a:lnTo>
                <a:cubicBezTo>
                  <a:pt x="329" y="1752"/>
                  <a:pt x="323" y="1755"/>
                  <a:pt x="319" y="1756"/>
                </a:cubicBezTo>
                <a:lnTo>
                  <a:pt x="319" y="1756"/>
                </a:lnTo>
                <a:cubicBezTo>
                  <a:pt x="316" y="1756"/>
                  <a:pt x="310" y="1752"/>
                  <a:pt x="310" y="1760"/>
                </a:cubicBezTo>
                <a:lnTo>
                  <a:pt x="310" y="1760"/>
                </a:lnTo>
                <a:cubicBezTo>
                  <a:pt x="310" y="1766"/>
                  <a:pt x="316" y="1765"/>
                  <a:pt x="323" y="1765"/>
                </a:cubicBezTo>
                <a:close/>
                <a:moveTo>
                  <a:pt x="23" y="1682"/>
                </a:moveTo>
                <a:lnTo>
                  <a:pt x="23" y="1682"/>
                </a:lnTo>
                <a:cubicBezTo>
                  <a:pt x="26" y="1689"/>
                  <a:pt x="16" y="1699"/>
                  <a:pt x="29" y="1702"/>
                </a:cubicBezTo>
                <a:lnTo>
                  <a:pt x="29" y="1702"/>
                </a:lnTo>
                <a:cubicBezTo>
                  <a:pt x="38" y="1703"/>
                  <a:pt x="38" y="1698"/>
                  <a:pt x="38" y="1693"/>
                </a:cubicBezTo>
                <a:lnTo>
                  <a:pt x="38" y="1693"/>
                </a:lnTo>
                <a:cubicBezTo>
                  <a:pt x="40" y="1681"/>
                  <a:pt x="28" y="1687"/>
                  <a:pt x="23" y="1682"/>
                </a:cubicBezTo>
                <a:close/>
                <a:moveTo>
                  <a:pt x="342" y="281"/>
                </a:moveTo>
                <a:lnTo>
                  <a:pt x="342" y="281"/>
                </a:lnTo>
                <a:cubicBezTo>
                  <a:pt x="344" y="291"/>
                  <a:pt x="339" y="304"/>
                  <a:pt x="354" y="310"/>
                </a:cubicBezTo>
                <a:lnTo>
                  <a:pt x="354" y="310"/>
                </a:lnTo>
                <a:cubicBezTo>
                  <a:pt x="356" y="310"/>
                  <a:pt x="357" y="312"/>
                  <a:pt x="359" y="311"/>
                </a:cubicBezTo>
                <a:lnTo>
                  <a:pt x="359" y="311"/>
                </a:lnTo>
                <a:cubicBezTo>
                  <a:pt x="362" y="309"/>
                  <a:pt x="363" y="308"/>
                  <a:pt x="362" y="305"/>
                </a:cubicBezTo>
                <a:lnTo>
                  <a:pt x="362" y="305"/>
                </a:lnTo>
                <a:cubicBezTo>
                  <a:pt x="356" y="297"/>
                  <a:pt x="356" y="285"/>
                  <a:pt x="342" y="281"/>
                </a:cubicBezTo>
                <a:close/>
                <a:moveTo>
                  <a:pt x="200" y="421"/>
                </a:moveTo>
                <a:lnTo>
                  <a:pt x="200" y="421"/>
                </a:lnTo>
                <a:cubicBezTo>
                  <a:pt x="197" y="431"/>
                  <a:pt x="204" y="430"/>
                  <a:pt x="211" y="430"/>
                </a:cubicBezTo>
                <a:lnTo>
                  <a:pt x="211" y="430"/>
                </a:lnTo>
                <a:cubicBezTo>
                  <a:pt x="217" y="431"/>
                  <a:pt x="224" y="430"/>
                  <a:pt x="224" y="423"/>
                </a:cubicBezTo>
                <a:lnTo>
                  <a:pt x="224" y="423"/>
                </a:lnTo>
                <a:cubicBezTo>
                  <a:pt x="225" y="416"/>
                  <a:pt x="218" y="409"/>
                  <a:pt x="215" y="410"/>
                </a:cubicBezTo>
                <a:lnTo>
                  <a:pt x="215" y="410"/>
                </a:lnTo>
                <a:cubicBezTo>
                  <a:pt x="209" y="411"/>
                  <a:pt x="201" y="412"/>
                  <a:pt x="200" y="421"/>
                </a:cubicBezTo>
                <a:close/>
                <a:moveTo>
                  <a:pt x="29" y="559"/>
                </a:moveTo>
                <a:lnTo>
                  <a:pt x="29" y="559"/>
                </a:lnTo>
                <a:cubicBezTo>
                  <a:pt x="15" y="568"/>
                  <a:pt x="14" y="579"/>
                  <a:pt x="20" y="592"/>
                </a:cubicBezTo>
                <a:lnTo>
                  <a:pt x="20" y="592"/>
                </a:lnTo>
                <a:cubicBezTo>
                  <a:pt x="26" y="604"/>
                  <a:pt x="31" y="613"/>
                  <a:pt x="49" y="614"/>
                </a:cubicBezTo>
                <a:lnTo>
                  <a:pt x="49" y="614"/>
                </a:lnTo>
                <a:cubicBezTo>
                  <a:pt x="35" y="596"/>
                  <a:pt x="33" y="578"/>
                  <a:pt x="29" y="559"/>
                </a:cubicBezTo>
                <a:close/>
                <a:moveTo>
                  <a:pt x="346" y="1711"/>
                </a:moveTo>
                <a:lnTo>
                  <a:pt x="346" y="1711"/>
                </a:lnTo>
                <a:cubicBezTo>
                  <a:pt x="326" y="1716"/>
                  <a:pt x="309" y="1715"/>
                  <a:pt x="290" y="1709"/>
                </a:cubicBezTo>
                <a:lnTo>
                  <a:pt x="290" y="1720"/>
                </a:lnTo>
                <a:lnTo>
                  <a:pt x="290" y="1720"/>
                </a:lnTo>
                <a:cubicBezTo>
                  <a:pt x="290" y="1739"/>
                  <a:pt x="290" y="1739"/>
                  <a:pt x="308" y="1739"/>
                </a:cubicBezTo>
                <a:lnTo>
                  <a:pt x="308" y="1739"/>
                </a:lnTo>
                <a:cubicBezTo>
                  <a:pt x="312" y="1739"/>
                  <a:pt x="318" y="1739"/>
                  <a:pt x="323" y="1739"/>
                </a:cubicBezTo>
                <a:lnTo>
                  <a:pt x="323" y="1739"/>
                </a:lnTo>
                <a:cubicBezTo>
                  <a:pt x="348" y="1736"/>
                  <a:pt x="348" y="1736"/>
                  <a:pt x="346" y="1711"/>
                </a:cubicBezTo>
                <a:close/>
                <a:moveTo>
                  <a:pt x="393" y="854"/>
                </a:moveTo>
                <a:lnTo>
                  <a:pt x="393" y="854"/>
                </a:lnTo>
                <a:cubicBezTo>
                  <a:pt x="379" y="845"/>
                  <a:pt x="364" y="845"/>
                  <a:pt x="350" y="843"/>
                </a:cubicBezTo>
                <a:lnTo>
                  <a:pt x="350" y="843"/>
                </a:lnTo>
                <a:cubicBezTo>
                  <a:pt x="346" y="843"/>
                  <a:pt x="345" y="846"/>
                  <a:pt x="343" y="848"/>
                </a:cubicBezTo>
                <a:lnTo>
                  <a:pt x="343" y="848"/>
                </a:lnTo>
                <a:cubicBezTo>
                  <a:pt x="334" y="860"/>
                  <a:pt x="297" y="866"/>
                  <a:pt x="288" y="855"/>
                </a:cubicBezTo>
                <a:lnTo>
                  <a:pt x="288" y="855"/>
                </a:lnTo>
                <a:cubicBezTo>
                  <a:pt x="275" y="840"/>
                  <a:pt x="262" y="848"/>
                  <a:pt x="248" y="850"/>
                </a:cubicBezTo>
                <a:lnTo>
                  <a:pt x="248" y="850"/>
                </a:lnTo>
                <a:cubicBezTo>
                  <a:pt x="245" y="850"/>
                  <a:pt x="243" y="852"/>
                  <a:pt x="243" y="854"/>
                </a:cubicBezTo>
                <a:lnTo>
                  <a:pt x="243" y="854"/>
                </a:lnTo>
                <a:cubicBezTo>
                  <a:pt x="243" y="857"/>
                  <a:pt x="245" y="856"/>
                  <a:pt x="248" y="857"/>
                </a:cubicBezTo>
                <a:lnTo>
                  <a:pt x="248" y="857"/>
                </a:lnTo>
                <a:cubicBezTo>
                  <a:pt x="276" y="863"/>
                  <a:pt x="305" y="863"/>
                  <a:pt x="333" y="862"/>
                </a:cubicBezTo>
                <a:lnTo>
                  <a:pt x="333" y="862"/>
                </a:lnTo>
                <a:cubicBezTo>
                  <a:pt x="352" y="861"/>
                  <a:pt x="372" y="858"/>
                  <a:pt x="393" y="854"/>
                </a:cubicBezTo>
                <a:close/>
                <a:moveTo>
                  <a:pt x="25" y="1630"/>
                </a:moveTo>
                <a:lnTo>
                  <a:pt x="25" y="1630"/>
                </a:lnTo>
                <a:cubicBezTo>
                  <a:pt x="23" y="1638"/>
                  <a:pt x="21" y="1645"/>
                  <a:pt x="19" y="1653"/>
                </a:cubicBezTo>
                <a:lnTo>
                  <a:pt x="19" y="1653"/>
                </a:lnTo>
                <a:cubicBezTo>
                  <a:pt x="18" y="1658"/>
                  <a:pt x="18" y="1661"/>
                  <a:pt x="22" y="1663"/>
                </a:cubicBezTo>
                <a:lnTo>
                  <a:pt x="22" y="1663"/>
                </a:lnTo>
                <a:cubicBezTo>
                  <a:pt x="34" y="1670"/>
                  <a:pt x="46" y="1675"/>
                  <a:pt x="60" y="1674"/>
                </a:cubicBezTo>
                <a:lnTo>
                  <a:pt x="60" y="1674"/>
                </a:lnTo>
                <a:cubicBezTo>
                  <a:pt x="69" y="1674"/>
                  <a:pt x="80" y="1658"/>
                  <a:pt x="76" y="1649"/>
                </a:cubicBezTo>
                <a:lnTo>
                  <a:pt x="76" y="1649"/>
                </a:lnTo>
                <a:cubicBezTo>
                  <a:pt x="75" y="1645"/>
                  <a:pt x="73" y="1647"/>
                  <a:pt x="71" y="1647"/>
                </a:cubicBezTo>
                <a:lnTo>
                  <a:pt x="71" y="1647"/>
                </a:lnTo>
                <a:cubicBezTo>
                  <a:pt x="54" y="1645"/>
                  <a:pt x="39" y="1639"/>
                  <a:pt x="25" y="1630"/>
                </a:cubicBezTo>
                <a:close/>
                <a:moveTo>
                  <a:pt x="102" y="535"/>
                </a:moveTo>
                <a:lnTo>
                  <a:pt x="102" y="535"/>
                </a:lnTo>
                <a:cubicBezTo>
                  <a:pt x="102" y="550"/>
                  <a:pt x="109" y="562"/>
                  <a:pt x="117" y="562"/>
                </a:cubicBezTo>
                <a:lnTo>
                  <a:pt x="117" y="562"/>
                </a:lnTo>
                <a:cubicBezTo>
                  <a:pt x="128" y="563"/>
                  <a:pt x="136" y="558"/>
                  <a:pt x="143" y="551"/>
                </a:cubicBezTo>
                <a:lnTo>
                  <a:pt x="143" y="551"/>
                </a:lnTo>
                <a:cubicBezTo>
                  <a:pt x="149" y="545"/>
                  <a:pt x="143" y="535"/>
                  <a:pt x="150" y="528"/>
                </a:cubicBezTo>
                <a:lnTo>
                  <a:pt x="150" y="528"/>
                </a:lnTo>
                <a:cubicBezTo>
                  <a:pt x="150" y="528"/>
                  <a:pt x="149" y="527"/>
                  <a:pt x="149" y="526"/>
                </a:cubicBezTo>
                <a:lnTo>
                  <a:pt x="149" y="526"/>
                </a:lnTo>
                <a:cubicBezTo>
                  <a:pt x="141" y="518"/>
                  <a:pt x="131" y="515"/>
                  <a:pt x="119" y="518"/>
                </a:cubicBezTo>
                <a:lnTo>
                  <a:pt x="119" y="518"/>
                </a:lnTo>
                <a:cubicBezTo>
                  <a:pt x="107" y="520"/>
                  <a:pt x="100" y="525"/>
                  <a:pt x="102" y="535"/>
                </a:cubicBezTo>
                <a:close/>
                <a:moveTo>
                  <a:pt x="236" y="383"/>
                </a:moveTo>
                <a:lnTo>
                  <a:pt x="236" y="383"/>
                </a:lnTo>
                <a:cubicBezTo>
                  <a:pt x="231" y="379"/>
                  <a:pt x="228" y="374"/>
                  <a:pt x="224" y="372"/>
                </a:cubicBezTo>
                <a:lnTo>
                  <a:pt x="224" y="372"/>
                </a:lnTo>
                <a:cubicBezTo>
                  <a:pt x="217" y="368"/>
                  <a:pt x="221" y="353"/>
                  <a:pt x="211" y="355"/>
                </a:cubicBezTo>
                <a:lnTo>
                  <a:pt x="211" y="355"/>
                </a:lnTo>
                <a:cubicBezTo>
                  <a:pt x="203" y="355"/>
                  <a:pt x="196" y="362"/>
                  <a:pt x="189" y="366"/>
                </a:cubicBezTo>
                <a:lnTo>
                  <a:pt x="189" y="366"/>
                </a:lnTo>
                <a:cubicBezTo>
                  <a:pt x="183" y="370"/>
                  <a:pt x="179" y="373"/>
                  <a:pt x="172" y="377"/>
                </a:cubicBezTo>
                <a:lnTo>
                  <a:pt x="172" y="377"/>
                </a:lnTo>
                <a:cubicBezTo>
                  <a:pt x="168" y="381"/>
                  <a:pt x="164" y="385"/>
                  <a:pt x="162" y="390"/>
                </a:cubicBezTo>
                <a:lnTo>
                  <a:pt x="162" y="390"/>
                </a:lnTo>
                <a:cubicBezTo>
                  <a:pt x="160" y="397"/>
                  <a:pt x="163" y="401"/>
                  <a:pt x="169" y="405"/>
                </a:cubicBezTo>
                <a:lnTo>
                  <a:pt x="169" y="405"/>
                </a:lnTo>
                <a:cubicBezTo>
                  <a:pt x="174" y="410"/>
                  <a:pt x="180" y="413"/>
                  <a:pt x="185" y="410"/>
                </a:cubicBezTo>
                <a:lnTo>
                  <a:pt x="185" y="410"/>
                </a:lnTo>
                <a:cubicBezTo>
                  <a:pt x="201" y="399"/>
                  <a:pt x="220" y="393"/>
                  <a:pt x="236" y="383"/>
                </a:cubicBezTo>
                <a:close/>
                <a:moveTo>
                  <a:pt x="40" y="1574"/>
                </a:moveTo>
                <a:lnTo>
                  <a:pt x="40" y="1574"/>
                </a:lnTo>
                <a:cubicBezTo>
                  <a:pt x="35" y="1584"/>
                  <a:pt x="31" y="1594"/>
                  <a:pt x="28" y="1603"/>
                </a:cubicBezTo>
                <a:lnTo>
                  <a:pt x="28" y="1603"/>
                </a:lnTo>
                <a:cubicBezTo>
                  <a:pt x="25" y="1610"/>
                  <a:pt x="28" y="1616"/>
                  <a:pt x="33" y="1620"/>
                </a:cubicBezTo>
                <a:lnTo>
                  <a:pt x="33" y="1620"/>
                </a:lnTo>
                <a:cubicBezTo>
                  <a:pt x="43" y="1627"/>
                  <a:pt x="55" y="1630"/>
                  <a:pt x="68" y="1633"/>
                </a:cubicBezTo>
                <a:lnTo>
                  <a:pt x="68" y="1633"/>
                </a:lnTo>
                <a:cubicBezTo>
                  <a:pt x="80" y="1635"/>
                  <a:pt x="86" y="1628"/>
                  <a:pt x="90" y="1620"/>
                </a:cubicBezTo>
                <a:lnTo>
                  <a:pt x="90" y="1620"/>
                </a:lnTo>
                <a:cubicBezTo>
                  <a:pt x="95" y="1613"/>
                  <a:pt x="96" y="1604"/>
                  <a:pt x="101" y="1598"/>
                </a:cubicBezTo>
                <a:lnTo>
                  <a:pt x="101" y="1598"/>
                </a:lnTo>
                <a:cubicBezTo>
                  <a:pt x="102" y="1594"/>
                  <a:pt x="101" y="1590"/>
                  <a:pt x="99" y="1588"/>
                </a:cubicBezTo>
                <a:lnTo>
                  <a:pt x="99" y="1588"/>
                </a:lnTo>
                <a:cubicBezTo>
                  <a:pt x="96" y="1586"/>
                  <a:pt x="92" y="1587"/>
                  <a:pt x="89" y="1588"/>
                </a:cubicBezTo>
                <a:lnTo>
                  <a:pt x="89" y="1588"/>
                </a:lnTo>
                <a:cubicBezTo>
                  <a:pt x="83" y="1593"/>
                  <a:pt x="76" y="1592"/>
                  <a:pt x="70" y="1590"/>
                </a:cubicBezTo>
                <a:lnTo>
                  <a:pt x="70" y="1590"/>
                </a:lnTo>
                <a:cubicBezTo>
                  <a:pt x="58" y="1589"/>
                  <a:pt x="48" y="1583"/>
                  <a:pt x="40" y="1574"/>
                </a:cubicBezTo>
                <a:close/>
                <a:moveTo>
                  <a:pt x="633" y="1575"/>
                </a:moveTo>
                <a:lnTo>
                  <a:pt x="633" y="1575"/>
                </a:lnTo>
                <a:cubicBezTo>
                  <a:pt x="610" y="1589"/>
                  <a:pt x="613" y="1588"/>
                  <a:pt x="584" y="1589"/>
                </a:cubicBezTo>
                <a:lnTo>
                  <a:pt x="584" y="1589"/>
                </a:lnTo>
                <a:cubicBezTo>
                  <a:pt x="574" y="1590"/>
                  <a:pt x="571" y="1593"/>
                  <a:pt x="573" y="1602"/>
                </a:cubicBezTo>
                <a:lnTo>
                  <a:pt x="573" y="1602"/>
                </a:lnTo>
                <a:cubicBezTo>
                  <a:pt x="584" y="1639"/>
                  <a:pt x="584" y="1639"/>
                  <a:pt x="624" y="1634"/>
                </a:cubicBezTo>
                <a:lnTo>
                  <a:pt x="624" y="1634"/>
                </a:lnTo>
                <a:cubicBezTo>
                  <a:pt x="625" y="1634"/>
                  <a:pt x="627" y="1635"/>
                  <a:pt x="628" y="1634"/>
                </a:cubicBezTo>
                <a:lnTo>
                  <a:pt x="628" y="1634"/>
                </a:lnTo>
                <a:cubicBezTo>
                  <a:pt x="634" y="1630"/>
                  <a:pt x="645" y="1629"/>
                  <a:pt x="644" y="1620"/>
                </a:cubicBezTo>
                <a:lnTo>
                  <a:pt x="644" y="1620"/>
                </a:lnTo>
                <a:cubicBezTo>
                  <a:pt x="640" y="1605"/>
                  <a:pt x="639" y="1589"/>
                  <a:pt x="633" y="1575"/>
                </a:cubicBezTo>
                <a:lnTo>
                  <a:pt x="292" y="1634"/>
                </a:lnTo>
                <a:lnTo>
                  <a:pt x="292" y="1634"/>
                </a:lnTo>
                <a:cubicBezTo>
                  <a:pt x="291" y="1651"/>
                  <a:pt x="290" y="1668"/>
                  <a:pt x="289" y="1685"/>
                </a:cubicBezTo>
                <a:lnTo>
                  <a:pt x="289" y="1685"/>
                </a:lnTo>
                <a:cubicBezTo>
                  <a:pt x="289" y="1691"/>
                  <a:pt x="292" y="1695"/>
                  <a:pt x="297" y="1696"/>
                </a:cubicBezTo>
                <a:lnTo>
                  <a:pt x="297" y="1696"/>
                </a:lnTo>
                <a:cubicBezTo>
                  <a:pt x="311" y="1700"/>
                  <a:pt x="325" y="1701"/>
                  <a:pt x="339" y="1698"/>
                </a:cubicBezTo>
                <a:lnTo>
                  <a:pt x="339" y="1698"/>
                </a:lnTo>
                <a:cubicBezTo>
                  <a:pt x="344" y="1695"/>
                  <a:pt x="346" y="1694"/>
                  <a:pt x="346" y="1689"/>
                </a:cubicBezTo>
                <a:lnTo>
                  <a:pt x="346" y="1689"/>
                </a:lnTo>
                <a:cubicBezTo>
                  <a:pt x="346" y="1673"/>
                  <a:pt x="346" y="1656"/>
                  <a:pt x="346" y="1640"/>
                </a:cubicBezTo>
                <a:lnTo>
                  <a:pt x="346" y="1640"/>
                </a:lnTo>
                <a:cubicBezTo>
                  <a:pt x="328" y="1644"/>
                  <a:pt x="310" y="1643"/>
                  <a:pt x="292" y="1634"/>
                </a:cubicBezTo>
                <a:lnTo>
                  <a:pt x="633" y="1575"/>
                </a:lnTo>
                <a:close/>
                <a:moveTo>
                  <a:pt x="151" y="390"/>
                </a:moveTo>
                <a:lnTo>
                  <a:pt x="151" y="390"/>
                </a:lnTo>
                <a:cubicBezTo>
                  <a:pt x="122" y="403"/>
                  <a:pt x="97" y="422"/>
                  <a:pt x="69" y="432"/>
                </a:cubicBezTo>
                <a:lnTo>
                  <a:pt x="69" y="432"/>
                </a:lnTo>
                <a:cubicBezTo>
                  <a:pt x="66" y="433"/>
                  <a:pt x="63" y="436"/>
                  <a:pt x="62" y="438"/>
                </a:cubicBezTo>
                <a:lnTo>
                  <a:pt x="62" y="438"/>
                </a:lnTo>
                <a:cubicBezTo>
                  <a:pt x="59" y="443"/>
                  <a:pt x="56" y="449"/>
                  <a:pt x="59" y="454"/>
                </a:cubicBezTo>
                <a:lnTo>
                  <a:pt x="59" y="454"/>
                </a:lnTo>
                <a:cubicBezTo>
                  <a:pt x="60" y="459"/>
                  <a:pt x="63" y="464"/>
                  <a:pt x="69" y="463"/>
                </a:cubicBezTo>
                <a:lnTo>
                  <a:pt x="69" y="463"/>
                </a:lnTo>
                <a:cubicBezTo>
                  <a:pt x="76" y="463"/>
                  <a:pt x="84" y="463"/>
                  <a:pt x="91" y="459"/>
                </a:cubicBezTo>
                <a:lnTo>
                  <a:pt x="91" y="459"/>
                </a:lnTo>
                <a:cubicBezTo>
                  <a:pt x="116" y="445"/>
                  <a:pt x="141" y="433"/>
                  <a:pt x="167" y="422"/>
                </a:cubicBezTo>
                <a:lnTo>
                  <a:pt x="167" y="422"/>
                </a:lnTo>
                <a:cubicBezTo>
                  <a:pt x="159" y="412"/>
                  <a:pt x="148" y="405"/>
                  <a:pt x="151" y="390"/>
                </a:cubicBezTo>
                <a:lnTo>
                  <a:pt x="328" y="289"/>
                </a:lnTo>
                <a:lnTo>
                  <a:pt x="328" y="289"/>
                </a:lnTo>
                <a:cubicBezTo>
                  <a:pt x="322" y="289"/>
                  <a:pt x="318" y="292"/>
                  <a:pt x="313" y="295"/>
                </a:cubicBezTo>
                <a:lnTo>
                  <a:pt x="313" y="295"/>
                </a:lnTo>
                <a:cubicBezTo>
                  <a:pt x="290" y="308"/>
                  <a:pt x="268" y="322"/>
                  <a:pt x="244" y="335"/>
                </a:cubicBezTo>
                <a:lnTo>
                  <a:pt x="244" y="335"/>
                </a:lnTo>
                <a:cubicBezTo>
                  <a:pt x="233" y="342"/>
                  <a:pt x="230" y="351"/>
                  <a:pt x="237" y="361"/>
                </a:cubicBezTo>
                <a:lnTo>
                  <a:pt x="237" y="361"/>
                </a:lnTo>
                <a:cubicBezTo>
                  <a:pt x="243" y="365"/>
                  <a:pt x="250" y="374"/>
                  <a:pt x="260" y="370"/>
                </a:cubicBezTo>
                <a:lnTo>
                  <a:pt x="260" y="370"/>
                </a:lnTo>
                <a:cubicBezTo>
                  <a:pt x="287" y="357"/>
                  <a:pt x="311" y="342"/>
                  <a:pt x="337" y="328"/>
                </a:cubicBezTo>
                <a:lnTo>
                  <a:pt x="337" y="328"/>
                </a:lnTo>
                <a:cubicBezTo>
                  <a:pt x="339" y="326"/>
                  <a:pt x="343" y="326"/>
                  <a:pt x="339" y="323"/>
                </a:cubicBezTo>
                <a:lnTo>
                  <a:pt x="339" y="323"/>
                </a:lnTo>
                <a:cubicBezTo>
                  <a:pt x="330" y="313"/>
                  <a:pt x="329" y="301"/>
                  <a:pt x="328" y="289"/>
                </a:cubicBezTo>
                <a:lnTo>
                  <a:pt x="151" y="390"/>
                </a:lnTo>
                <a:close/>
                <a:moveTo>
                  <a:pt x="530" y="1230"/>
                </a:moveTo>
                <a:lnTo>
                  <a:pt x="530" y="1230"/>
                </a:lnTo>
                <a:cubicBezTo>
                  <a:pt x="514" y="1240"/>
                  <a:pt x="499" y="1252"/>
                  <a:pt x="478" y="1247"/>
                </a:cubicBezTo>
                <a:lnTo>
                  <a:pt x="478" y="1247"/>
                </a:lnTo>
                <a:cubicBezTo>
                  <a:pt x="477" y="1247"/>
                  <a:pt x="474" y="1247"/>
                  <a:pt x="474" y="1250"/>
                </a:cubicBezTo>
                <a:lnTo>
                  <a:pt x="474" y="1250"/>
                </a:lnTo>
                <a:cubicBezTo>
                  <a:pt x="475" y="1258"/>
                  <a:pt x="469" y="1265"/>
                  <a:pt x="473" y="1273"/>
                </a:cubicBezTo>
                <a:lnTo>
                  <a:pt x="473" y="1273"/>
                </a:lnTo>
                <a:cubicBezTo>
                  <a:pt x="479" y="1284"/>
                  <a:pt x="482" y="1296"/>
                  <a:pt x="485" y="1306"/>
                </a:cubicBezTo>
                <a:lnTo>
                  <a:pt x="485" y="1306"/>
                </a:lnTo>
                <a:cubicBezTo>
                  <a:pt x="493" y="1330"/>
                  <a:pt x="499" y="1333"/>
                  <a:pt x="526" y="1330"/>
                </a:cubicBezTo>
                <a:lnTo>
                  <a:pt x="526" y="1330"/>
                </a:lnTo>
                <a:cubicBezTo>
                  <a:pt x="556" y="1325"/>
                  <a:pt x="564" y="1312"/>
                  <a:pt x="554" y="1284"/>
                </a:cubicBezTo>
                <a:lnTo>
                  <a:pt x="554" y="1284"/>
                </a:lnTo>
                <a:cubicBezTo>
                  <a:pt x="547" y="1265"/>
                  <a:pt x="543" y="1246"/>
                  <a:pt x="530" y="1230"/>
                </a:cubicBezTo>
                <a:close/>
                <a:moveTo>
                  <a:pt x="357" y="1289"/>
                </a:moveTo>
                <a:lnTo>
                  <a:pt x="357" y="1269"/>
                </a:lnTo>
                <a:lnTo>
                  <a:pt x="357" y="1269"/>
                </a:lnTo>
                <a:cubicBezTo>
                  <a:pt x="357" y="1267"/>
                  <a:pt x="357" y="1266"/>
                  <a:pt x="357" y="1266"/>
                </a:cubicBezTo>
                <a:lnTo>
                  <a:pt x="357" y="1266"/>
                </a:lnTo>
                <a:cubicBezTo>
                  <a:pt x="356" y="1256"/>
                  <a:pt x="349" y="1251"/>
                  <a:pt x="338" y="1252"/>
                </a:cubicBezTo>
                <a:lnTo>
                  <a:pt x="338" y="1252"/>
                </a:lnTo>
                <a:cubicBezTo>
                  <a:pt x="324" y="1255"/>
                  <a:pt x="311" y="1257"/>
                  <a:pt x="297" y="1253"/>
                </a:cubicBezTo>
                <a:lnTo>
                  <a:pt x="297" y="1253"/>
                </a:lnTo>
                <a:cubicBezTo>
                  <a:pt x="287" y="1251"/>
                  <a:pt x="278" y="1258"/>
                  <a:pt x="280" y="1269"/>
                </a:cubicBezTo>
                <a:lnTo>
                  <a:pt x="280" y="1269"/>
                </a:lnTo>
                <a:cubicBezTo>
                  <a:pt x="281" y="1282"/>
                  <a:pt x="281" y="1297"/>
                  <a:pt x="282" y="1311"/>
                </a:cubicBezTo>
                <a:lnTo>
                  <a:pt x="282" y="1311"/>
                </a:lnTo>
                <a:cubicBezTo>
                  <a:pt x="285" y="1338"/>
                  <a:pt x="296" y="1346"/>
                  <a:pt x="325" y="1343"/>
                </a:cubicBezTo>
                <a:lnTo>
                  <a:pt x="325" y="1343"/>
                </a:lnTo>
                <a:cubicBezTo>
                  <a:pt x="329" y="1342"/>
                  <a:pt x="332" y="1342"/>
                  <a:pt x="337" y="1342"/>
                </a:cubicBezTo>
                <a:lnTo>
                  <a:pt x="337" y="1342"/>
                </a:lnTo>
                <a:cubicBezTo>
                  <a:pt x="351" y="1341"/>
                  <a:pt x="362" y="1330"/>
                  <a:pt x="359" y="1317"/>
                </a:cubicBezTo>
                <a:lnTo>
                  <a:pt x="359" y="1317"/>
                </a:lnTo>
                <a:cubicBezTo>
                  <a:pt x="357" y="1307"/>
                  <a:pt x="358" y="1298"/>
                  <a:pt x="357" y="1289"/>
                </a:cubicBezTo>
                <a:close/>
                <a:moveTo>
                  <a:pt x="102" y="1291"/>
                </a:moveTo>
                <a:lnTo>
                  <a:pt x="102" y="1291"/>
                </a:lnTo>
                <a:cubicBezTo>
                  <a:pt x="102" y="1301"/>
                  <a:pt x="115" y="1318"/>
                  <a:pt x="127" y="1322"/>
                </a:cubicBezTo>
                <a:lnTo>
                  <a:pt x="127" y="1322"/>
                </a:lnTo>
                <a:cubicBezTo>
                  <a:pt x="137" y="1326"/>
                  <a:pt x="148" y="1326"/>
                  <a:pt x="160" y="1328"/>
                </a:cubicBezTo>
                <a:lnTo>
                  <a:pt x="160" y="1328"/>
                </a:lnTo>
                <a:cubicBezTo>
                  <a:pt x="176" y="1331"/>
                  <a:pt x="183" y="1327"/>
                  <a:pt x="188" y="1312"/>
                </a:cubicBezTo>
                <a:lnTo>
                  <a:pt x="188" y="1312"/>
                </a:lnTo>
                <a:cubicBezTo>
                  <a:pt x="191" y="1299"/>
                  <a:pt x="193" y="1286"/>
                  <a:pt x="197" y="1273"/>
                </a:cubicBezTo>
                <a:lnTo>
                  <a:pt x="197" y="1273"/>
                </a:lnTo>
                <a:cubicBezTo>
                  <a:pt x="203" y="1249"/>
                  <a:pt x="203" y="1250"/>
                  <a:pt x="177" y="1247"/>
                </a:cubicBezTo>
                <a:lnTo>
                  <a:pt x="177" y="1247"/>
                </a:lnTo>
                <a:cubicBezTo>
                  <a:pt x="161" y="1246"/>
                  <a:pt x="143" y="1247"/>
                  <a:pt x="134" y="1230"/>
                </a:cubicBezTo>
                <a:lnTo>
                  <a:pt x="134" y="1230"/>
                </a:lnTo>
                <a:cubicBezTo>
                  <a:pt x="131" y="1226"/>
                  <a:pt x="128" y="1226"/>
                  <a:pt x="123" y="1227"/>
                </a:cubicBezTo>
                <a:lnTo>
                  <a:pt x="123" y="1227"/>
                </a:lnTo>
                <a:cubicBezTo>
                  <a:pt x="120" y="1229"/>
                  <a:pt x="117" y="1231"/>
                  <a:pt x="117" y="1235"/>
                </a:cubicBezTo>
                <a:lnTo>
                  <a:pt x="117" y="1235"/>
                </a:lnTo>
                <a:cubicBezTo>
                  <a:pt x="119" y="1240"/>
                  <a:pt x="115" y="1245"/>
                  <a:pt x="112" y="1250"/>
                </a:cubicBezTo>
                <a:lnTo>
                  <a:pt x="112" y="1250"/>
                </a:lnTo>
                <a:cubicBezTo>
                  <a:pt x="107" y="1262"/>
                  <a:pt x="104" y="1276"/>
                  <a:pt x="102" y="1291"/>
                </a:cubicBezTo>
                <a:close/>
                <a:moveTo>
                  <a:pt x="293" y="527"/>
                </a:moveTo>
                <a:lnTo>
                  <a:pt x="293" y="527"/>
                </a:lnTo>
                <a:cubicBezTo>
                  <a:pt x="297" y="527"/>
                  <a:pt x="301" y="525"/>
                  <a:pt x="304" y="524"/>
                </a:cubicBezTo>
                <a:lnTo>
                  <a:pt x="304" y="524"/>
                </a:lnTo>
                <a:cubicBezTo>
                  <a:pt x="322" y="520"/>
                  <a:pt x="336" y="512"/>
                  <a:pt x="350" y="503"/>
                </a:cubicBezTo>
                <a:lnTo>
                  <a:pt x="350" y="503"/>
                </a:lnTo>
                <a:cubicBezTo>
                  <a:pt x="353" y="502"/>
                  <a:pt x="359" y="503"/>
                  <a:pt x="361" y="497"/>
                </a:cubicBezTo>
                <a:lnTo>
                  <a:pt x="361" y="497"/>
                </a:lnTo>
                <a:cubicBezTo>
                  <a:pt x="361" y="492"/>
                  <a:pt x="356" y="491"/>
                  <a:pt x="353" y="487"/>
                </a:cubicBezTo>
                <a:lnTo>
                  <a:pt x="353" y="487"/>
                </a:lnTo>
                <a:cubicBezTo>
                  <a:pt x="348" y="483"/>
                  <a:pt x="341" y="479"/>
                  <a:pt x="336" y="472"/>
                </a:cubicBezTo>
                <a:lnTo>
                  <a:pt x="336" y="472"/>
                </a:lnTo>
                <a:cubicBezTo>
                  <a:pt x="319" y="451"/>
                  <a:pt x="316" y="427"/>
                  <a:pt x="314" y="403"/>
                </a:cubicBezTo>
                <a:lnTo>
                  <a:pt x="314" y="403"/>
                </a:lnTo>
                <a:cubicBezTo>
                  <a:pt x="314" y="394"/>
                  <a:pt x="312" y="394"/>
                  <a:pt x="305" y="398"/>
                </a:cubicBezTo>
                <a:lnTo>
                  <a:pt x="305" y="398"/>
                </a:lnTo>
                <a:cubicBezTo>
                  <a:pt x="285" y="409"/>
                  <a:pt x="265" y="421"/>
                  <a:pt x="245" y="431"/>
                </a:cubicBezTo>
                <a:lnTo>
                  <a:pt x="245" y="431"/>
                </a:lnTo>
                <a:cubicBezTo>
                  <a:pt x="242" y="433"/>
                  <a:pt x="238" y="437"/>
                  <a:pt x="241" y="441"/>
                </a:cubicBezTo>
                <a:lnTo>
                  <a:pt x="241" y="441"/>
                </a:lnTo>
                <a:cubicBezTo>
                  <a:pt x="247" y="450"/>
                  <a:pt x="242" y="461"/>
                  <a:pt x="245" y="470"/>
                </a:cubicBezTo>
                <a:lnTo>
                  <a:pt x="245" y="470"/>
                </a:lnTo>
                <a:cubicBezTo>
                  <a:pt x="249" y="479"/>
                  <a:pt x="251" y="490"/>
                  <a:pt x="256" y="499"/>
                </a:cubicBezTo>
                <a:lnTo>
                  <a:pt x="256" y="499"/>
                </a:lnTo>
                <a:cubicBezTo>
                  <a:pt x="264" y="513"/>
                  <a:pt x="275" y="525"/>
                  <a:pt x="293" y="527"/>
                </a:cubicBezTo>
                <a:lnTo>
                  <a:pt x="338" y="546"/>
                </a:lnTo>
                <a:lnTo>
                  <a:pt x="338" y="546"/>
                </a:lnTo>
                <a:cubicBezTo>
                  <a:pt x="341" y="533"/>
                  <a:pt x="336" y="532"/>
                  <a:pt x="328" y="537"/>
                </a:cubicBezTo>
                <a:lnTo>
                  <a:pt x="328" y="537"/>
                </a:lnTo>
                <a:cubicBezTo>
                  <a:pt x="322" y="539"/>
                  <a:pt x="314" y="542"/>
                  <a:pt x="308" y="543"/>
                </a:cubicBezTo>
                <a:lnTo>
                  <a:pt x="308" y="543"/>
                </a:lnTo>
                <a:cubicBezTo>
                  <a:pt x="298" y="544"/>
                  <a:pt x="297" y="548"/>
                  <a:pt x="297" y="557"/>
                </a:cubicBezTo>
                <a:lnTo>
                  <a:pt x="297" y="557"/>
                </a:lnTo>
                <a:cubicBezTo>
                  <a:pt x="297" y="620"/>
                  <a:pt x="297" y="682"/>
                  <a:pt x="297" y="745"/>
                </a:cubicBezTo>
                <a:lnTo>
                  <a:pt x="297" y="745"/>
                </a:lnTo>
                <a:cubicBezTo>
                  <a:pt x="297" y="769"/>
                  <a:pt x="297" y="794"/>
                  <a:pt x="295" y="817"/>
                </a:cubicBezTo>
                <a:lnTo>
                  <a:pt x="295" y="817"/>
                </a:lnTo>
                <a:cubicBezTo>
                  <a:pt x="295" y="821"/>
                  <a:pt x="291" y="827"/>
                  <a:pt x="298" y="828"/>
                </a:cubicBezTo>
                <a:lnTo>
                  <a:pt x="298" y="828"/>
                </a:lnTo>
                <a:cubicBezTo>
                  <a:pt x="309" y="828"/>
                  <a:pt x="319" y="827"/>
                  <a:pt x="330" y="826"/>
                </a:cubicBezTo>
                <a:lnTo>
                  <a:pt x="330" y="826"/>
                </a:lnTo>
                <a:cubicBezTo>
                  <a:pt x="330" y="826"/>
                  <a:pt x="330" y="823"/>
                  <a:pt x="330" y="821"/>
                </a:cubicBezTo>
                <a:lnTo>
                  <a:pt x="330" y="821"/>
                </a:lnTo>
                <a:cubicBezTo>
                  <a:pt x="332" y="729"/>
                  <a:pt x="336" y="636"/>
                  <a:pt x="338" y="546"/>
                </a:cubicBezTo>
                <a:lnTo>
                  <a:pt x="293" y="527"/>
                </a:lnTo>
                <a:close/>
                <a:moveTo>
                  <a:pt x="1101" y="138"/>
                </a:moveTo>
                <a:lnTo>
                  <a:pt x="1101" y="138"/>
                </a:lnTo>
                <a:cubicBezTo>
                  <a:pt x="1098" y="88"/>
                  <a:pt x="1078" y="49"/>
                  <a:pt x="1029" y="28"/>
                </a:cubicBezTo>
                <a:lnTo>
                  <a:pt x="1029" y="28"/>
                </a:lnTo>
                <a:cubicBezTo>
                  <a:pt x="1017" y="23"/>
                  <a:pt x="1005" y="22"/>
                  <a:pt x="994" y="26"/>
                </a:cubicBezTo>
                <a:lnTo>
                  <a:pt x="994" y="26"/>
                </a:lnTo>
                <a:cubicBezTo>
                  <a:pt x="983" y="29"/>
                  <a:pt x="975" y="35"/>
                  <a:pt x="976" y="48"/>
                </a:cubicBezTo>
                <a:lnTo>
                  <a:pt x="976" y="48"/>
                </a:lnTo>
                <a:cubicBezTo>
                  <a:pt x="977" y="56"/>
                  <a:pt x="980" y="63"/>
                  <a:pt x="982" y="71"/>
                </a:cubicBezTo>
                <a:lnTo>
                  <a:pt x="982" y="71"/>
                </a:lnTo>
                <a:cubicBezTo>
                  <a:pt x="988" y="118"/>
                  <a:pt x="1020" y="145"/>
                  <a:pt x="1058" y="169"/>
                </a:cubicBezTo>
                <a:lnTo>
                  <a:pt x="1058" y="169"/>
                </a:lnTo>
                <a:cubicBezTo>
                  <a:pt x="1081" y="183"/>
                  <a:pt x="1103" y="170"/>
                  <a:pt x="1101" y="143"/>
                </a:cubicBezTo>
                <a:lnTo>
                  <a:pt x="1101" y="143"/>
                </a:lnTo>
                <a:cubicBezTo>
                  <a:pt x="1101" y="141"/>
                  <a:pt x="1101" y="139"/>
                  <a:pt x="1101" y="138"/>
                </a:cubicBezTo>
                <a:close/>
                <a:moveTo>
                  <a:pt x="103" y="506"/>
                </a:moveTo>
                <a:lnTo>
                  <a:pt x="103" y="506"/>
                </a:lnTo>
                <a:cubicBezTo>
                  <a:pt x="126" y="504"/>
                  <a:pt x="149" y="497"/>
                  <a:pt x="162" y="522"/>
                </a:cubicBezTo>
                <a:lnTo>
                  <a:pt x="162" y="522"/>
                </a:lnTo>
                <a:cubicBezTo>
                  <a:pt x="171" y="539"/>
                  <a:pt x="164" y="560"/>
                  <a:pt x="149" y="573"/>
                </a:cubicBezTo>
                <a:lnTo>
                  <a:pt x="149" y="573"/>
                </a:lnTo>
                <a:cubicBezTo>
                  <a:pt x="137" y="581"/>
                  <a:pt x="109" y="581"/>
                  <a:pt x="96" y="573"/>
                </a:cubicBezTo>
                <a:lnTo>
                  <a:pt x="96" y="573"/>
                </a:lnTo>
                <a:cubicBezTo>
                  <a:pt x="82" y="564"/>
                  <a:pt x="80" y="544"/>
                  <a:pt x="91" y="514"/>
                </a:cubicBezTo>
                <a:lnTo>
                  <a:pt x="91" y="514"/>
                </a:lnTo>
                <a:cubicBezTo>
                  <a:pt x="81" y="515"/>
                  <a:pt x="73" y="519"/>
                  <a:pt x="66" y="524"/>
                </a:cubicBezTo>
                <a:lnTo>
                  <a:pt x="66" y="524"/>
                </a:lnTo>
                <a:cubicBezTo>
                  <a:pt x="51" y="533"/>
                  <a:pt x="44" y="546"/>
                  <a:pt x="46" y="563"/>
                </a:cubicBezTo>
                <a:lnTo>
                  <a:pt x="46" y="563"/>
                </a:lnTo>
                <a:cubicBezTo>
                  <a:pt x="46" y="576"/>
                  <a:pt x="55" y="588"/>
                  <a:pt x="60" y="603"/>
                </a:cubicBezTo>
                <a:lnTo>
                  <a:pt x="60" y="603"/>
                </a:lnTo>
                <a:cubicBezTo>
                  <a:pt x="61" y="606"/>
                  <a:pt x="63" y="607"/>
                  <a:pt x="67" y="608"/>
                </a:cubicBezTo>
                <a:lnTo>
                  <a:pt x="67" y="608"/>
                </a:lnTo>
                <a:cubicBezTo>
                  <a:pt x="84" y="613"/>
                  <a:pt x="100" y="611"/>
                  <a:pt x="112" y="599"/>
                </a:cubicBezTo>
                <a:lnTo>
                  <a:pt x="112" y="599"/>
                </a:lnTo>
                <a:cubicBezTo>
                  <a:pt x="116" y="595"/>
                  <a:pt x="120" y="593"/>
                  <a:pt x="124" y="592"/>
                </a:cubicBezTo>
                <a:lnTo>
                  <a:pt x="124" y="592"/>
                </a:lnTo>
                <a:cubicBezTo>
                  <a:pt x="170" y="580"/>
                  <a:pt x="209" y="552"/>
                  <a:pt x="252" y="537"/>
                </a:cubicBezTo>
                <a:lnTo>
                  <a:pt x="252" y="537"/>
                </a:lnTo>
                <a:cubicBezTo>
                  <a:pt x="260" y="534"/>
                  <a:pt x="260" y="532"/>
                  <a:pt x="256" y="527"/>
                </a:cubicBezTo>
                <a:lnTo>
                  <a:pt x="256" y="527"/>
                </a:lnTo>
                <a:cubicBezTo>
                  <a:pt x="244" y="511"/>
                  <a:pt x="236" y="494"/>
                  <a:pt x="230" y="475"/>
                </a:cubicBezTo>
                <a:lnTo>
                  <a:pt x="230" y="475"/>
                </a:lnTo>
                <a:cubicBezTo>
                  <a:pt x="228" y="465"/>
                  <a:pt x="227" y="456"/>
                  <a:pt x="224" y="444"/>
                </a:cubicBezTo>
                <a:lnTo>
                  <a:pt x="224" y="444"/>
                </a:lnTo>
                <a:cubicBezTo>
                  <a:pt x="181" y="462"/>
                  <a:pt x="143" y="486"/>
                  <a:pt x="103" y="506"/>
                </a:cubicBezTo>
                <a:close/>
                <a:moveTo>
                  <a:pt x="104" y="1326"/>
                </a:moveTo>
                <a:lnTo>
                  <a:pt x="104" y="1326"/>
                </a:lnTo>
                <a:cubicBezTo>
                  <a:pt x="86" y="1399"/>
                  <a:pt x="67" y="1471"/>
                  <a:pt x="47" y="1542"/>
                </a:cubicBezTo>
                <a:lnTo>
                  <a:pt x="47" y="1542"/>
                </a:lnTo>
                <a:cubicBezTo>
                  <a:pt x="43" y="1554"/>
                  <a:pt x="48" y="1561"/>
                  <a:pt x="55" y="1568"/>
                </a:cubicBezTo>
                <a:lnTo>
                  <a:pt x="55" y="1568"/>
                </a:lnTo>
                <a:cubicBezTo>
                  <a:pt x="64" y="1578"/>
                  <a:pt x="75" y="1578"/>
                  <a:pt x="88" y="1577"/>
                </a:cubicBezTo>
                <a:lnTo>
                  <a:pt x="88" y="1577"/>
                </a:lnTo>
                <a:cubicBezTo>
                  <a:pt x="100" y="1575"/>
                  <a:pt x="100" y="1568"/>
                  <a:pt x="102" y="1560"/>
                </a:cubicBezTo>
                <a:lnTo>
                  <a:pt x="102" y="1560"/>
                </a:lnTo>
                <a:cubicBezTo>
                  <a:pt x="122" y="1491"/>
                  <a:pt x="142" y="1420"/>
                  <a:pt x="161" y="1351"/>
                </a:cubicBezTo>
                <a:lnTo>
                  <a:pt x="161" y="1351"/>
                </a:lnTo>
                <a:cubicBezTo>
                  <a:pt x="163" y="1345"/>
                  <a:pt x="163" y="1342"/>
                  <a:pt x="155" y="1341"/>
                </a:cubicBezTo>
                <a:lnTo>
                  <a:pt x="155" y="1341"/>
                </a:lnTo>
                <a:cubicBezTo>
                  <a:pt x="137" y="1340"/>
                  <a:pt x="121" y="1338"/>
                  <a:pt x="104" y="1326"/>
                </a:cubicBezTo>
                <a:close/>
                <a:moveTo>
                  <a:pt x="292" y="1488"/>
                </a:moveTo>
                <a:lnTo>
                  <a:pt x="291" y="1488"/>
                </a:lnTo>
                <a:lnTo>
                  <a:pt x="291" y="1488"/>
                </a:lnTo>
                <a:cubicBezTo>
                  <a:pt x="291" y="1529"/>
                  <a:pt x="292" y="1569"/>
                  <a:pt x="291" y="1609"/>
                </a:cubicBezTo>
                <a:lnTo>
                  <a:pt x="291" y="1609"/>
                </a:lnTo>
                <a:cubicBezTo>
                  <a:pt x="291" y="1619"/>
                  <a:pt x="295" y="1622"/>
                  <a:pt x="303" y="1624"/>
                </a:cubicBezTo>
                <a:lnTo>
                  <a:pt x="303" y="1624"/>
                </a:lnTo>
                <a:cubicBezTo>
                  <a:pt x="312" y="1628"/>
                  <a:pt x="322" y="1630"/>
                  <a:pt x="331" y="1629"/>
                </a:cubicBezTo>
                <a:lnTo>
                  <a:pt x="331" y="1629"/>
                </a:lnTo>
                <a:cubicBezTo>
                  <a:pt x="341" y="1629"/>
                  <a:pt x="346" y="1624"/>
                  <a:pt x="346" y="1614"/>
                </a:cubicBezTo>
                <a:lnTo>
                  <a:pt x="346" y="1614"/>
                </a:lnTo>
                <a:cubicBezTo>
                  <a:pt x="348" y="1532"/>
                  <a:pt x="348" y="1448"/>
                  <a:pt x="349" y="1366"/>
                </a:cubicBezTo>
                <a:lnTo>
                  <a:pt x="349" y="1366"/>
                </a:lnTo>
                <a:cubicBezTo>
                  <a:pt x="349" y="1359"/>
                  <a:pt x="346" y="1357"/>
                  <a:pt x="339" y="1357"/>
                </a:cubicBezTo>
                <a:lnTo>
                  <a:pt x="339" y="1357"/>
                </a:lnTo>
                <a:cubicBezTo>
                  <a:pt x="328" y="1358"/>
                  <a:pt x="316" y="1359"/>
                  <a:pt x="304" y="1358"/>
                </a:cubicBezTo>
                <a:lnTo>
                  <a:pt x="304" y="1358"/>
                </a:lnTo>
                <a:cubicBezTo>
                  <a:pt x="296" y="1356"/>
                  <a:pt x="291" y="1357"/>
                  <a:pt x="291" y="1367"/>
                </a:cubicBezTo>
                <a:lnTo>
                  <a:pt x="291" y="1367"/>
                </a:lnTo>
                <a:cubicBezTo>
                  <a:pt x="292" y="1407"/>
                  <a:pt x="292" y="1448"/>
                  <a:pt x="292" y="1488"/>
                </a:cubicBezTo>
                <a:close/>
                <a:moveTo>
                  <a:pt x="580" y="1578"/>
                </a:moveTo>
                <a:lnTo>
                  <a:pt x="580" y="1578"/>
                </a:lnTo>
                <a:cubicBezTo>
                  <a:pt x="588" y="1579"/>
                  <a:pt x="595" y="1577"/>
                  <a:pt x="603" y="1575"/>
                </a:cubicBezTo>
                <a:lnTo>
                  <a:pt x="603" y="1575"/>
                </a:lnTo>
                <a:cubicBezTo>
                  <a:pt x="621" y="1572"/>
                  <a:pt x="631" y="1558"/>
                  <a:pt x="625" y="1540"/>
                </a:cubicBezTo>
                <a:lnTo>
                  <a:pt x="625" y="1540"/>
                </a:lnTo>
                <a:cubicBezTo>
                  <a:pt x="620" y="1527"/>
                  <a:pt x="613" y="1513"/>
                  <a:pt x="610" y="1500"/>
                </a:cubicBezTo>
                <a:lnTo>
                  <a:pt x="610" y="1500"/>
                </a:lnTo>
                <a:cubicBezTo>
                  <a:pt x="596" y="1445"/>
                  <a:pt x="576" y="1392"/>
                  <a:pt x="561" y="1339"/>
                </a:cubicBezTo>
                <a:lnTo>
                  <a:pt x="561" y="1339"/>
                </a:lnTo>
                <a:cubicBezTo>
                  <a:pt x="560" y="1335"/>
                  <a:pt x="558" y="1332"/>
                  <a:pt x="554" y="1335"/>
                </a:cubicBezTo>
                <a:lnTo>
                  <a:pt x="554" y="1335"/>
                </a:lnTo>
                <a:cubicBezTo>
                  <a:pt x="540" y="1342"/>
                  <a:pt x="525" y="1343"/>
                  <a:pt x="509" y="1343"/>
                </a:cubicBezTo>
                <a:lnTo>
                  <a:pt x="509" y="1343"/>
                </a:lnTo>
                <a:cubicBezTo>
                  <a:pt x="500" y="1343"/>
                  <a:pt x="499" y="1347"/>
                  <a:pt x="501" y="1355"/>
                </a:cubicBezTo>
                <a:lnTo>
                  <a:pt x="501" y="1355"/>
                </a:lnTo>
                <a:cubicBezTo>
                  <a:pt x="506" y="1375"/>
                  <a:pt x="512" y="1396"/>
                  <a:pt x="518" y="1416"/>
                </a:cubicBezTo>
                <a:lnTo>
                  <a:pt x="518" y="1416"/>
                </a:lnTo>
                <a:cubicBezTo>
                  <a:pt x="531" y="1466"/>
                  <a:pt x="553" y="1513"/>
                  <a:pt x="561" y="1564"/>
                </a:cubicBezTo>
                <a:lnTo>
                  <a:pt x="561" y="1564"/>
                </a:lnTo>
                <a:cubicBezTo>
                  <a:pt x="564" y="1575"/>
                  <a:pt x="569" y="1580"/>
                  <a:pt x="580" y="1578"/>
                </a:cubicBezTo>
                <a:close/>
                <a:moveTo>
                  <a:pt x="291" y="1112"/>
                </a:moveTo>
                <a:lnTo>
                  <a:pt x="291" y="1112"/>
                </a:lnTo>
                <a:cubicBezTo>
                  <a:pt x="291" y="1151"/>
                  <a:pt x="292" y="1191"/>
                  <a:pt x="291" y="1231"/>
                </a:cubicBezTo>
                <a:lnTo>
                  <a:pt x="291" y="1231"/>
                </a:lnTo>
                <a:cubicBezTo>
                  <a:pt x="291" y="1238"/>
                  <a:pt x="292" y="1241"/>
                  <a:pt x="302" y="1240"/>
                </a:cubicBezTo>
                <a:lnTo>
                  <a:pt x="302" y="1240"/>
                </a:lnTo>
                <a:cubicBezTo>
                  <a:pt x="313" y="1239"/>
                  <a:pt x="326" y="1241"/>
                  <a:pt x="338" y="1238"/>
                </a:cubicBezTo>
                <a:lnTo>
                  <a:pt x="338" y="1238"/>
                </a:lnTo>
                <a:cubicBezTo>
                  <a:pt x="346" y="1236"/>
                  <a:pt x="350" y="1234"/>
                  <a:pt x="350" y="1225"/>
                </a:cubicBezTo>
                <a:lnTo>
                  <a:pt x="350" y="1225"/>
                </a:lnTo>
                <a:cubicBezTo>
                  <a:pt x="349" y="1168"/>
                  <a:pt x="350" y="1109"/>
                  <a:pt x="349" y="1051"/>
                </a:cubicBezTo>
                <a:lnTo>
                  <a:pt x="349" y="1051"/>
                </a:lnTo>
                <a:cubicBezTo>
                  <a:pt x="349" y="1004"/>
                  <a:pt x="350" y="958"/>
                  <a:pt x="352" y="913"/>
                </a:cubicBezTo>
                <a:lnTo>
                  <a:pt x="352" y="913"/>
                </a:lnTo>
                <a:cubicBezTo>
                  <a:pt x="352" y="904"/>
                  <a:pt x="351" y="901"/>
                  <a:pt x="342" y="902"/>
                </a:cubicBezTo>
                <a:lnTo>
                  <a:pt x="342" y="902"/>
                </a:lnTo>
                <a:cubicBezTo>
                  <a:pt x="332" y="902"/>
                  <a:pt x="323" y="901"/>
                  <a:pt x="312" y="903"/>
                </a:cubicBezTo>
                <a:lnTo>
                  <a:pt x="312" y="903"/>
                </a:lnTo>
                <a:cubicBezTo>
                  <a:pt x="309" y="904"/>
                  <a:pt x="301" y="896"/>
                  <a:pt x="298" y="902"/>
                </a:cubicBezTo>
                <a:lnTo>
                  <a:pt x="298" y="902"/>
                </a:lnTo>
                <a:cubicBezTo>
                  <a:pt x="297" y="907"/>
                  <a:pt x="295" y="912"/>
                  <a:pt x="295" y="917"/>
                </a:cubicBezTo>
                <a:lnTo>
                  <a:pt x="295" y="917"/>
                </a:lnTo>
                <a:cubicBezTo>
                  <a:pt x="292" y="983"/>
                  <a:pt x="291" y="1048"/>
                  <a:pt x="291" y="1112"/>
                </a:cubicBezTo>
                <a:close/>
                <a:moveTo>
                  <a:pt x="480" y="1238"/>
                </a:moveTo>
                <a:lnTo>
                  <a:pt x="480" y="1238"/>
                </a:lnTo>
                <a:cubicBezTo>
                  <a:pt x="489" y="1238"/>
                  <a:pt x="497" y="1235"/>
                  <a:pt x="513" y="1225"/>
                </a:cubicBezTo>
                <a:lnTo>
                  <a:pt x="513" y="1225"/>
                </a:lnTo>
                <a:cubicBezTo>
                  <a:pt x="523" y="1219"/>
                  <a:pt x="526" y="1214"/>
                  <a:pt x="521" y="1202"/>
                </a:cubicBezTo>
                <a:lnTo>
                  <a:pt x="521" y="1202"/>
                </a:lnTo>
                <a:cubicBezTo>
                  <a:pt x="501" y="1146"/>
                  <a:pt x="489" y="1088"/>
                  <a:pt x="472" y="1030"/>
                </a:cubicBezTo>
                <a:lnTo>
                  <a:pt x="472" y="1030"/>
                </a:lnTo>
                <a:cubicBezTo>
                  <a:pt x="458" y="981"/>
                  <a:pt x="447" y="932"/>
                  <a:pt x="430" y="884"/>
                </a:cubicBezTo>
                <a:lnTo>
                  <a:pt x="430" y="884"/>
                </a:lnTo>
                <a:cubicBezTo>
                  <a:pt x="428" y="876"/>
                  <a:pt x="423" y="875"/>
                  <a:pt x="414" y="876"/>
                </a:cubicBezTo>
                <a:lnTo>
                  <a:pt x="414" y="876"/>
                </a:lnTo>
                <a:cubicBezTo>
                  <a:pt x="402" y="880"/>
                  <a:pt x="390" y="888"/>
                  <a:pt x="374" y="889"/>
                </a:cubicBezTo>
                <a:lnTo>
                  <a:pt x="374" y="889"/>
                </a:lnTo>
                <a:cubicBezTo>
                  <a:pt x="371" y="889"/>
                  <a:pt x="369" y="892"/>
                  <a:pt x="372" y="896"/>
                </a:cubicBezTo>
                <a:lnTo>
                  <a:pt x="372" y="896"/>
                </a:lnTo>
                <a:cubicBezTo>
                  <a:pt x="373" y="898"/>
                  <a:pt x="374" y="902"/>
                  <a:pt x="376" y="906"/>
                </a:cubicBezTo>
                <a:lnTo>
                  <a:pt x="376" y="906"/>
                </a:lnTo>
                <a:cubicBezTo>
                  <a:pt x="392" y="956"/>
                  <a:pt x="406" y="1008"/>
                  <a:pt x="419" y="1058"/>
                </a:cubicBezTo>
                <a:lnTo>
                  <a:pt x="419" y="1058"/>
                </a:lnTo>
                <a:cubicBezTo>
                  <a:pt x="434" y="1114"/>
                  <a:pt x="449" y="1169"/>
                  <a:pt x="466" y="1224"/>
                </a:cubicBezTo>
                <a:lnTo>
                  <a:pt x="466" y="1224"/>
                </a:lnTo>
                <a:cubicBezTo>
                  <a:pt x="469" y="1231"/>
                  <a:pt x="472" y="1238"/>
                  <a:pt x="480" y="1238"/>
                </a:cubicBezTo>
                <a:close/>
                <a:moveTo>
                  <a:pt x="230" y="886"/>
                </a:moveTo>
                <a:lnTo>
                  <a:pt x="230" y="886"/>
                </a:lnTo>
                <a:cubicBezTo>
                  <a:pt x="221" y="882"/>
                  <a:pt x="222" y="895"/>
                  <a:pt x="220" y="902"/>
                </a:cubicBezTo>
                <a:lnTo>
                  <a:pt x="220" y="902"/>
                </a:lnTo>
                <a:cubicBezTo>
                  <a:pt x="207" y="946"/>
                  <a:pt x="195" y="989"/>
                  <a:pt x="183" y="1034"/>
                </a:cubicBezTo>
                <a:lnTo>
                  <a:pt x="183" y="1034"/>
                </a:lnTo>
                <a:cubicBezTo>
                  <a:pt x="168" y="1091"/>
                  <a:pt x="151" y="1149"/>
                  <a:pt x="136" y="1206"/>
                </a:cubicBezTo>
                <a:lnTo>
                  <a:pt x="136" y="1206"/>
                </a:lnTo>
                <a:cubicBezTo>
                  <a:pt x="134" y="1215"/>
                  <a:pt x="136" y="1218"/>
                  <a:pt x="142" y="1222"/>
                </a:cubicBezTo>
                <a:lnTo>
                  <a:pt x="142" y="1222"/>
                </a:lnTo>
                <a:cubicBezTo>
                  <a:pt x="152" y="1231"/>
                  <a:pt x="167" y="1232"/>
                  <a:pt x="180" y="1235"/>
                </a:cubicBezTo>
                <a:lnTo>
                  <a:pt x="180" y="1235"/>
                </a:lnTo>
                <a:cubicBezTo>
                  <a:pt x="189" y="1236"/>
                  <a:pt x="193" y="1234"/>
                  <a:pt x="196" y="1222"/>
                </a:cubicBezTo>
                <a:lnTo>
                  <a:pt x="196" y="1222"/>
                </a:lnTo>
                <a:cubicBezTo>
                  <a:pt x="222" y="1124"/>
                  <a:pt x="248" y="1025"/>
                  <a:pt x="277" y="928"/>
                </a:cubicBezTo>
                <a:lnTo>
                  <a:pt x="277" y="928"/>
                </a:lnTo>
                <a:cubicBezTo>
                  <a:pt x="280" y="919"/>
                  <a:pt x="285" y="913"/>
                  <a:pt x="273" y="902"/>
                </a:cubicBezTo>
                <a:lnTo>
                  <a:pt x="273" y="902"/>
                </a:lnTo>
                <a:cubicBezTo>
                  <a:pt x="261" y="890"/>
                  <a:pt x="250" y="888"/>
                  <a:pt x="230" y="886"/>
                </a:cubicBezTo>
                <a:close/>
                <a:moveTo>
                  <a:pt x="809" y="273"/>
                </a:moveTo>
                <a:lnTo>
                  <a:pt x="809" y="273"/>
                </a:lnTo>
                <a:cubicBezTo>
                  <a:pt x="791" y="239"/>
                  <a:pt x="767" y="204"/>
                  <a:pt x="767" y="162"/>
                </a:cubicBezTo>
                <a:lnTo>
                  <a:pt x="767" y="162"/>
                </a:lnTo>
                <a:cubicBezTo>
                  <a:pt x="740" y="176"/>
                  <a:pt x="715" y="189"/>
                  <a:pt x="691" y="203"/>
                </a:cubicBezTo>
                <a:lnTo>
                  <a:pt x="691" y="203"/>
                </a:lnTo>
                <a:cubicBezTo>
                  <a:pt x="656" y="222"/>
                  <a:pt x="624" y="242"/>
                  <a:pt x="590" y="260"/>
                </a:cubicBezTo>
                <a:lnTo>
                  <a:pt x="590" y="260"/>
                </a:lnTo>
                <a:cubicBezTo>
                  <a:pt x="579" y="265"/>
                  <a:pt x="576" y="271"/>
                  <a:pt x="579" y="282"/>
                </a:cubicBezTo>
                <a:lnTo>
                  <a:pt x="579" y="282"/>
                </a:lnTo>
                <a:cubicBezTo>
                  <a:pt x="581" y="292"/>
                  <a:pt x="583" y="302"/>
                  <a:pt x="587" y="312"/>
                </a:cubicBezTo>
                <a:lnTo>
                  <a:pt x="587" y="312"/>
                </a:lnTo>
                <a:cubicBezTo>
                  <a:pt x="594" y="326"/>
                  <a:pt x="606" y="338"/>
                  <a:pt x="614" y="351"/>
                </a:cubicBezTo>
                <a:lnTo>
                  <a:pt x="614" y="351"/>
                </a:lnTo>
                <a:cubicBezTo>
                  <a:pt x="617" y="357"/>
                  <a:pt x="624" y="356"/>
                  <a:pt x="630" y="353"/>
                </a:cubicBezTo>
                <a:lnTo>
                  <a:pt x="630" y="353"/>
                </a:lnTo>
                <a:cubicBezTo>
                  <a:pt x="652" y="343"/>
                  <a:pt x="674" y="332"/>
                  <a:pt x="696" y="323"/>
                </a:cubicBezTo>
                <a:lnTo>
                  <a:pt x="696" y="323"/>
                </a:lnTo>
                <a:cubicBezTo>
                  <a:pt x="735" y="308"/>
                  <a:pt x="773" y="291"/>
                  <a:pt x="809" y="273"/>
                </a:cubicBezTo>
                <a:close/>
                <a:moveTo>
                  <a:pt x="950" y="41"/>
                </a:moveTo>
                <a:lnTo>
                  <a:pt x="950" y="41"/>
                </a:lnTo>
                <a:cubicBezTo>
                  <a:pt x="949" y="41"/>
                  <a:pt x="948" y="41"/>
                  <a:pt x="947" y="41"/>
                </a:cubicBezTo>
                <a:lnTo>
                  <a:pt x="947" y="41"/>
                </a:lnTo>
                <a:cubicBezTo>
                  <a:pt x="893" y="67"/>
                  <a:pt x="842" y="99"/>
                  <a:pt x="789" y="125"/>
                </a:cubicBezTo>
                <a:lnTo>
                  <a:pt x="789" y="125"/>
                </a:lnTo>
                <a:cubicBezTo>
                  <a:pt x="787" y="127"/>
                  <a:pt x="783" y="128"/>
                  <a:pt x="785" y="131"/>
                </a:cubicBezTo>
                <a:lnTo>
                  <a:pt x="785" y="131"/>
                </a:lnTo>
                <a:cubicBezTo>
                  <a:pt x="785" y="143"/>
                  <a:pt x="781" y="155"/>
                  <a:pt x="782" y="167"/>
                </a:cubicBezTo>
                <a:lnTo>
                  <a:pt x="782" y="167"/>
                </a:lnTo>
                <a:cubicBezTo>
                  <a:pt x="783" y="191"/>
                  <a:pt x="797" y="211"/>
                  <a:pt x="807" y="232"/>
                </a:cubicBezTo>
                <a:lnTo>
                  <a:pt x="807" y="232"/>
                </a:lnTo>
                <a:cubicBezTo>
                  <a:pt x="812" y="244"/>
                  <a:pt x="819" y="251"/>
                  <a:pt x="831" y="259"/>
                </a:cubicBezTo>
                <a:lnTo>
                  <a:pt x="831" y="259"/>
                </a:lnTo>
                <a:cubicBezTo>
                  <a:pt x="836" y="263"/>
                  <a:pt x="843" y="266"/>
                  <a:pt x="848" y="272"/>
                </a:cubicBezTo>
                <a:lnTo>
                  <a:pt x="848" y="272"/>
                </a:lnTo>
                <a:cubicBezTo>
                  <a:pt x="853" y="277"/>
                  <a:pt x="855" y="276"/>
                  <a:pt x="859" y="273"/>
                </a:cubicBezTo>
                <a:lnTo>
                  <a:pt x="859" y="273"/>
                </a:lnTo>
                <a:cubicBezTo>
                  <a:pt x="877" y="264"/>
                  <a:pt x="895" y="255"/>
                  <a:pt x="914" y="246"/>
                </a:cubicBezTo>
                <a:lnTo>
                  <a:pt x="914" y="246"/>
                </a:lnTo>
                <a:cubicBezTo>
                  <a:pt x="958" y="228"/>
                  <a:pt x="1003" y="208"/>
                  <a:pt x="1049" y="188"/>
                </a:cubicBezTo>
                <a:lnTo>
                  <a:pt x="1049" y="188"/>
                </a:lnTo>
                <a:cubicBezTo>
                  <a:pt x="990" y="154"/>
                  <a:pt x="950" y="110"/>
                  <a:pt x="950" y="41"/>
                </a:cubicBezTo>
                <a:lnTo>
                  <a:pt x="553" y="257"/>
                </a:lnTo>
                <a:lnTo>
                  <a:pt x="553" y="257"/>
                </a:lnTo>
                <a:cubicBezTo>
                  <a:pt x="549" y="260"/>
                  <a:pt x="544" y="262"/>
                  <a:pt x="539" y="264"/>
                </a:cubicBezTo>
                <a:lnTo>
                  <a:pt x="539" y="264"/>
                </a:lnTo>
                <a:cubicBezTo>
                  <a:pt x="474" y="301"/>
                  <a:pt x="410" y="337"/>
                  <a:pt x="345" y="373"/>
                </a:cubicBezTo>
                <a:lnTo>
                  <a:pt x="345" y="373"/>
                </a:lnTo>
                <a:cubicBezTo>
                  <a:pt x="337" y="378"/>
                  <a:pt x="336" y="384"/>
                  <a:pt x="334" y="391"/>
                </a:cubicBezTo>
                <a:lnTo>
                  <a:pt x="334" y="391"/>
                </a:lnTo>
                <a:cubicBezTo>
                  <a:pt x="332" y="414"/>
                  <a:pt x="342" y="434"/>
                  <a:pt x="353" y="453"/>
                </a:cubicBezTo>
                <a:lnTo>
                  <a:pt x="353" y="453"/>
                </a:lnTo>
                <a:cubicBezTo>
                  <a:pt x="361" y="463"/>
                  <a:pt x="371" y="469"/>
                  <a:pt x="383" y="473"/>
                </a:cubicBezTo>
                <a:lnTo>
                  <a:pt x="383" y="473"/>
                </a:lnTo>
                <a:cubicBezTo>
                  <a:pt x="389" y="475"/>
                  <a:pt x="393" y="467"/>
                  <a:pt x="400" y="465"/>
                </a:cubicBezTo>
                <a:lnTo>
                  <a:pt x="400" y="465"/>
                </a:lnTo>
                <a:cubicBezTo>
                  <a:pt x="408" y="463"/>
                  <a:pt x="414" y="461"/>
                  <a:pt x="422" y="458"/>
                </a:cubicBezTo>
                <a:lnTo>
                  <a:pt x="422" y="458"/>
                </a:lnTo>
                <a:cubicBezTo>
                  <a:pt x="449" y="453"/>
                  <a:pt x="472" y="442"/>
                  <a:pt x="497" y="432"/>
                </a:cubicBezTo>
                <a:lnTo>
                  <a:pt x="497" y="432"/>
                </a:lnTo>
                <a:cubicBezTo>
                  <a:pt x="518" y="424"/>
                  <a:pt x="536" y="411"/>
                  <a:pt x="558" y="403"/>
                </a:cubicBezTo>
                <a:lnTo>
                  <a:pt x="558" y="403"/>
                </a:lnTo>
                <a:cubicBezTo>
                  <a:pt x="574" y="396"/>
                  <a:pt x="591" y="389"/>
                  <a:pt x="608" y="382"/>
                </a:cubicBezTo>
                <a:lnTo>
                  <a:pt x="608" y="382"/>
                </a:lnTo>
                <a:cubicBezTo>
                  <a:pt x="615" y="378"/>
                  <a:pt x="619" y="374"/>
                  <a:pt x="610" y="368"/>
                </a:cubicBezTo>
                <a:lnTo>
                  <a:pt x="610" y="368"/>
                </a:lnTo>
                <a:cubicBezTo>
                  <a:pt x="600" y="362"/>
                  <a:pt x="591" y="355"/>
                  <a:pt x="584" y="345"/>
                </a:cubicBezTo>
                <a:lnTo>
                  <a:pt x="584" y="345"/>
                </a:lnTo>
                <a:cubicBezTo>
                  <a:pt x="564" y="321"/>
                  <a:pt x="553" y="292"/>
                  <a:pt x="555" y="260"/>
                </a:cubicBezTo>
                <a:lnTo>
                  <a:pt x="555" y="260"/>
                </a:lnTo>
                <a:cubicBezTo>
                  <a:pt x="555" y="259"/>
                  <a:pt x="556" y="259"/>
                  <a:pt x="556" y="257"/>
                </a:cubicBezTo>
                <a:lnTo>
                  <a:pt x="556" y="257"/>
                </a:lnTo>
                <a:cubicBezTo>
                  <a:pt x="555" y="257"/>
                  <a:pt x="554" y="257"/>
                  <a:pt x="553" y="257"/>
                </a:cubicBezTo>
                <a:lnTo>
                  <a:pt x="950" y="41"/>
                </a:lnTo>
                <a:close/>
                <a:moveTo>
                  <a:pt x="647" y="1640"/>
                </a:moveTo>
                <a:lnTo>
                  <a:pt x="647" y="1640"/>
                </a:lnTo>
                <a:cubicBezTo>
                  <a:pt x="630" y="1653"/>
                  <a:pt x="608" y="1650"/>
                  <a:pt x="588" y="1653"/>
                </a:cubicBezTo>
                <a:lnTo>
                  <a:pt x="588" y="1653"/>
                </a:lnTo>
                <a:cubicBezTo>
                  <a:pt x="591" y="1680"/>
                  <a:pt x="595" y="1678"/>
                  <a:pt x="621" y="1676"/>
                </a:cubicBezTo>
                <a:lnTo>
                  <a:pt x="621" y="1676"/>
                </a:lnTo>
                <a:cubicBezTo>
                  <a:pt x="637" y="1675"/>
                  <a:pt x="647" y="1663"/>
                  <a:pt x="650" y="1642"/>
                </a:cubicBezTo>
                <a:lnTo>
                  <a:pt x="650" y="1642"/>
                </a:lnTo>
                <a:cubicBezTo>
                  <a:pt x="651" y="1642"/>
                  <a:pt x="652" y="1641"/>
                  <a:pt x="651" y="1640"/>
                </a:cubicBezTo>
                <a:lnTo>
                  <a:pt x="651" y="1640"/>
                </a:lnTo>
                <a:cubicBezTo>
                  <a:pt x="650" y="1639"/>
                  <a:pt x="648" y="1640"/>
                  <a:pt x="647" y="1640"/>
                </a:cubicBezTo>
                <a:close/>
                <a:moveTo>
                  <a:pt x="275" y="985"/>
                </a:moveTo>
                <a:lnTo>
                  <a:pt x="275" y="985"/>
                </a:lnTo>
                <a:cubicBezTo>
                  <a:pt x="253" y="1065"/>
                  <a:pt x="228" y="1143"/>
                  <a:pt x="208" y="1222"/>
                </a:cubicBezTo>
                <a:lnTo>
                  <a:pt x="208" y="1222"/>
                </a:lnTo>
                <a:cubicBezTo>
                  <a:pt x="205" y="1229"/>
                  <a:pt x="205" y="1232"/>
                  <a:pt x="212" y="1235"/>
                </a:cubicBezTo>
                <a:lnTo>
                  <a:pt x="212" y="1235"/>
                </a:lnTo>
                <a:cubicBezTo>
                  <a:pt x="217" y="1237"/>
                  <a:pt x="220" y="1241"/>
                  <a:pt x="218" y="1246"/>
                </a:cubicBezTo>
                <a:lnTo>
                  <a:pt x="218" y="1246"/>
                </a:lnTo>
                <a:cubicBezTo>
                  <a:pt x="212" y="1273"/>
                  <a:pt x="207" y="1299"/>
                  <a:pt x="197" y="1325"/>
                </a:cubicBezTo>
                <a:lnTo>
                  <a:pt x="197" y="1325"/>
                </a:lnTo>
                <a:cubicBezTo>
                  <a:pt x="195" y="1332"/>
                  <a:pt x="191" y="1340"/>
                  <a:pt x="181" y="1341"/>
                </a:cubicBezTo>
                <a:lnTo>
                  <a:pt x="181" y="1341"/>
                </a:lnTo>
                <a:cubicBezTo>
                  <a:pt x="176" y="1342"/>
                  <a:pt x="176" y="1347"/>
                  <a:pt x="175" y="1351"/>
                </a:cubicBezTo>
                <a:lnTo>
                  <a:pt x="175" y="1351"/>
                </a:lnTo>
                <a:cubicBezTo>
                  <a:pt x="155" y="1423"/>
                  <a:pt x="134" y="1496"/>
                  <a:pt x="116" y="1569"/>
                </a:cubicBezTo>
                <a:lnTo>
                  <a:pt x="116" y="1569"/>
                </a:lnTo>
                <a:cubicBezTo>
                  <a:pt x="112" y="1583"/>
                  <a:pt x="112" y="1600"/>
                  <a:pt x="110" y="1615"/>
                </a:cubicBezTo>
                <a:lnTo>
                  <a:pt x="110" y="1615"/>
                </a:lnTo>
                <a:cubicBezTo>
                  <a:pt x="109" y="1624"/>
                  <a:pt x="106" y="1634"/>
                  <a:pt x="99" y="1640"/>
                </a:cubicBezTo>
                <a:lnTo>
                  <a:pt x="99" y="1640"/>
                </a:lnTo>
                <a:cubicBezTo>
                  <a:pt x="89" y="1649"/>
                  <a:pt x="88" y="1661"/>
                  <a:pt x="87" y="1671"/>
                </a:cubicBezTo>
                <a:lnTo>
                  <a:pt x="87" y="1671"/>
                </a:lnTo>
                <a:cubicBezTo>
                  <a:pt x="86" y="1682"/>
                  <a:pt x="80" y="1687"/>
                  <a:pt x="70" y="1687"/>
                </a:cubicBezTo>
                <a:lnTo>
                  <a:pt x="70" y="1687"/>
                </a:lnTo>
                <a:cubicBezTo>
                  <a:pt x="63" y="1688"/>
                  <a:pt x="60" y="1688"/>
                  <a:pt x="61" y="1698"/>
                </a:cubicBezTo>
                <a:lnTo>
                  <a:pt x="61" y="1698"/>
                </a:lnTo>
                <a:cubicBezTo>
                  <a:pt x="62" y="1711"/>
                  <a:pt x="48" y="1721"/>
                  <a:pt x="34" y="1716"/>
                </a:cubicBezTo>
                <a:lnTo>
                  <a:pt x="34" y="1716"/>
                </a:lnTo>
                <a:cubicBezTo>
                  <a:pt x="30" y="1715"/>
                  <a:pt x="27" y="1715"/>
                  <a:pt x="25" y="1714"/>
                </a:cubicBezTo>
                <a:lnTo>
                  <a:pt x="25" y="1714"/>
                </a:lnTo>
                <a:cubicBezTo>
                  <a:pt x="10" y="1710"/>
                  <a:pt x="6" y="1699"/>
                  <a:pt x="13" y="1683"/>
                </a:cubicBezTo>
                <a:lnTo>
                  <a:pt x="13" y="1683"/>
                </a:lnTo>
                <a:cubicBezTo>
                  <a:pt x="15" y="1679"/>
                  <a:pt x="16" y="1676"/>
                  <a:pt x="11" y="1671"/>
                </a:cubicBezTo>
                <a:lnTo>
                  <a:pt x="11" y="1671"/>
                </a:lnTo>
                <a:cubicBezTo>
                  <a:pt x="3" y="1663"/>
                  <a:pt x="0" y="1655"/>
                  <a:pt x="7" y="1643"/>
                </a:cubicBezTo>
                <a:lnTo>
                  <a:pt x="7" y="1643"/>
                </a:lnTo>
                <a:cubicBezTo>
                  <a:pt x="15" y="1629"/>
                  <a:pt x="9" y="1613"/>
                  <a:pt x="10" y="1598"/>
                </a:cubicBezTo>
                <a:lnTo>
                  <a:pt x="10" y="1598"/>
                </a:lnTo>
                <a:cubicBezTo>
                  <a:pt x="13" y="1581"/>
                  <a:pt x="16" y="1567"/>
                  <a:pt x="28" y="1554"/>
                </a:cubicBezTo>
                <a:lnTo>
                  <a:pt x="28" y="1554"/>
                </a:lnTo>
                <a:cubicBezTo>
                  <a:pt x="35" y="1546"/>
                  <a:pt x="35" y="1534"/>
                  <a:pt x="38" y="1523"/>
                </a:cubicBezTo>
                <a:lnTo>
                  <a:pt x="38" y="1523"/>
                </a:lnTo>
                <a:cubicBezTo>
                  <a:pt x="55" y="1459"/>
                  <a:pt x="71" y="1396"/>
                  <a:pt x="89" y="1331"/>
                </a:cubicBezTo>
                <a:lnTo>
                  <a:pt x="89" y="1331"/>
                </a:lnTo>
                <a:cubicBezTo>
                  <a:pt x="91" y="1322"/>
                  <a:pt x="95" y="1316"/>
                  <a:pt x="88" y="1308"/>
                </a:cubicBezTo>
                <a:lnTo>
                  <a:pt x="88" y="1308"/>
                </a:lnTo>
                <a:cubicBezTo>
                  <a:pt x="83" y="1304"/>
                  <a:pt x="86" y="1298"/>
                  <a:pt x="87" y="1293"/>
                </a:cubicBezTo>
                <a:lnTo>
                  <a:pt x="87" y="1293"/>
                </a:lnTo>
                <a:cubicBezTo>
                  <a:pt x="92" y="1267"/>
                  <a:pt x="101" y="1242"/>
                  <a:pt x="107" y="1217"/>
                </a:cubicBezTo>
                <a:lnTo>
                  <a:pt x="107" y="1217"/>
                </a:lnTo>
                <a:cubicBezTo>
                  <a:pt x="108" y="1212"/>
                  <a:pt x="110" y="1207"/>
                  <a:pt x="114" y="1207"/>
                </a:cubicBezTo>
                <a:lnTo>
                  <a:pt x="114" y="1207"/>
                </a:lnTo>
                <a:cubicBezTo>
                  <a:pt x="123" y="1206"/>
                  <a:pt x="123" y="1199"/>
                  <a:pt x="126" y="1194"/>
                </a:cubicBezTo>
                <a:lnTo>
                  <a:pt x="126" y="1194"/>
                </a:lnTo>
                <a:cubicBezTo>
                  <a:pt x="152" y="1092"/>
                  <a:pt x="181" y="993"/>
                  <a:pt x="208" y="892"/>
                </a:cubicBezTo>
                <a:lnTo>
                  <a:pt x="208" y="892"/>
                </a:lnTo>
                <a:cubicBezTo>
                  <a:pt x="210" y="883"/>
                  <a:pt x="210" y="875"/>
                  <a:pt x="220" y="872"/>
                </a:cubicBezTo>
                <a:lnTo>
                  <a:pt x="220" y="872"/>
                </a:lnTo>
                <a:cubicBezTo>
                  <a:pt x="224" y="869"/>
                  <a:pt x="222" y="865"/>
                  <a:pt x="223" y="861"/>
                </a:cubicBezTo>
                <a:lnTo>
                  <a:pt x="223" y="861"/>
                </a:lnTo>
                <a:cubicBezTo>
                  <a:pt x="229" y="842"/>
                  <a:pt x="237" y="835"/>
                  <a:pt x="257" y="834"/>
                </a:cubicBezTo>
                <a:lnTo>
                  <a:pt x="257" y="834"/>
                </a:lnTo>
                <a:cubicBezTo>
                  <a:pt x="261" y="834"/>
                  <a:pt x="264" y="834"/>
                  <a:pt x="267" y="834"/>
                </a:cubicBezTo>
                <a:lnTo>
                  <a:pt x="267" y="834"/>
                </a:lnTo>
                <a:cubicBezTo>
                  <a:pt x="276" y="833"/>
                  <a:pt x="281" y="829"/>
                  <a:pt x="281" y="818"/>
                </a:cubicBezTo>
                <a:lnTo>
                  <a:pt x="281" y="818"/>
                </a:lnTo>
                <a:cubicBezTo>
                  <a:pt x="281" y="789"/>
                  <a:pt x="282" y="759"/>
                  <a:pt x="282" y="729"/>
                </a:cubicBezTo>
                <a:lnTo>
                  <a:pt x="282" y="729"/>
                </a:lnTo>
                <a:cubicBezTo>
                  <a:pt x="282" y="691"/>
                  <a:pt x="283" y="652"/>
                  <a:pt x="283" y="614"/>
                </a:cubicBezTo>
                <a:lnTo>
                  <a:pt x="283" y="614"/>
                </a:lnTo>
                <a:cubicBezTo>
                  <a:pt x="283" y="593"/>
                  <a:pt x="280" y="573"/>
                  <a:pt x="282" y="553"/>
                </a:cubicBezTo>
                <a:lnTo>
                  <a:pt x="282" y="553"/>
                </a:lnTo>
                <a:cubicBezTo>
                  <a:pt x="282" y="545"/>
                  <a:pt x="275" y="543"/>
                  <a:pt x="268" y="546"/>
                </a:cubicBezTo>
                <a:lnTo>
                  <a:pt x="268" y="546"/>
                </a:lnTo>
                <a:cubicBezTo>
                  <a:pt x="253" y="554"/>
                  <a:pt x="240" y="563"/>
                  <a:pt x="224" y="570"/>
                </a:cubicBezTo>
                <a:lnTo>
                  <a:pt x="224" y="570"/>
                </a:lnTo>
                <a:cubicBezTo>
                  <a:pt x="203" y="580"/>
                  <a:pt x="181" y="592"/>
                  <a:pt x="159" y="599"/>
                </a:cubicBezTo>
                <a:lnTo>
                  <a:pt x="159" y="599"/>
                </a:lnTo>
                <a:cubicBezTo>
                  <a:pt x="143" y="604"/>
                  <a:pt x="126" y="605"/>
                  <a:pt x="115" y="618"/>
                </a:cubicBezTo>
                <a:lnTo>
                  <a:pt x="115" y="618"/>
                </a:lnTo>
                <a:cubicBezTo>
                  <a:pt x="102" y="632"/>
                  <a:pt x="90" y="626"/>
                  <a:pt x="76" y="624"/>
                </a:cubicBezTo>
                <a:lnTo>
                  <a:pt x="76" y="624"/>
                </a:lnTo>
                <a:cubicBezTo>
                  <a:pt x="71" y="623"/>
                  <a:pt x="67" y="623"/>
                  <a:pt x="62" y="624"/>
                </a:cubicBezTo>
                <a:lnTo>
                  <a:pt x="62" y="624"/>
                </a:lnTo>
                <a:cubicBezTo>
                  <a:pt x="30" y="633"/>
                  <a:pt x="6" y="615"/>
                  <a:pt x="2" y="583"/>
                </a:cubicBezTo>
                <a:lnTo>
                  <a:pt x="2" y="583"/>
                </a:lnTo>
                <a:cubicBezTo>
                  <a:pt x="1" y="566"/>
                  <a:pt x="9" y="554"/>
                  <a:pt x="22" y="547"/>
                </a:cubicBezTo>
                <a:lnTo>
                  <a:pt x="22" y="547"/>
                </a:lnTo>
                <a:cubicBezTo>
                  <a:pt x="34" y="542"/>
                  <a:pt x="38" y="531"/>
                  <a:pt x="44" y="524"/>
                </a:cubicBezTo>
                <a:lnTo>
                  <a:pt x="44" y="524"/>
                </a:lnTo>
                <a:cubicBezTo>
                  <a:pt x="50" y="517"/>
                  <a:pt x="56" y="512"/>
                  <a:pt x="63" y="510"/>
                </a:cubicBezTo>
                <a:lnTo>
                  <a:pt x="63" y="510"/>
                </a:lnTo>
                <a:cubicBezTo>
                  <a:pt x="87" y="500"/>
                  <a:pt x="106" y="487"/>
                  <a:pt x="127" y="475"/>
                </a:cubicBezTo>
                <a:lnTo>
                  <a:pt x="127" y="475"/>
                </a:lnTo>
                <a:cubicBezTo>
                  <a:pt x="149" y="464"/>
                  <a:pt x="172" y="454"/>
                  <a:pt x="193" y="442"/>
                </a:cubicBezTo>
                <a:lnTo>
                  <a:pt x="193" y="442"/>
                </a:lnTo>
                <a:cubicBezTo>
                  <a:pt x="185" y="424"/>
                  <a:pt x="174" y="433"/>
                  <a:pt x="161" y="439"/>
                </a:cubicBezTo>
                <a:lnTo>
                  <a:pt x="161" y="439"/>
                </a:lnTo>
                <a:cubicBezTo>
                  <a:pt x="139" y="449"/>
                  <a:pt x="117" y="461"/>
                  <a:pt x="96" y="471"/>
                </a:cubicBezTo>
                <a:lnTo>
                  <a:pt x="96" y="471"/>
                </a:lnTo>
                <a:cubicBezTo>
                  <a:pt x="87" y="477"/>
                  <a:pt x="76" y="478"/>
                  <a:pt x="64" y="478"/>
                </a:cubicBezTo>
                <a:lnTo>
                  <a:pt x="64" y="478"/>
                </a:lnTo>
                <a:cubicBezTo>
                  <a:pt x="56" y="478"/>
                  <a:pt x="43" y="464"/>
                  <a:pt x="40" y="451"/>
                </a:cubicBezTo>
                <a:lnTo>
                  <a:pt x="40" y="451"/>
                </a:lnTo>
                <a:cubicBezTo>
                  <a:pt x="38" y="441"/>
                  <a:pt x="39" y="431"/>
                  <a:pt x="50" y="427"/>
                </a:cubicBezTo>
                <a:lnTo>
                  <a:pt x="50" y="427"/>
                </a:lnTo>
                <a:cubicBezTo>
                  <a:pt x="70" y="421"/>
                  <a:pt x="87" y="409"/>
                  <a:pt x="104" y="399"/>
                </a:cubicBezTo>
                <a:lnTo>
                  <a:pt x="104" y="399"/>
                </a:lnTo>
                <a:cubicBezTo>
                  <a:pt x="139" y="382"/>
                  <a:pt x="171" y="361"/>
                  <a:pt x="204" y="342"/>
                </a:cubicBezTo>
                <a:lnTo>
                  <a:pt x="204" y="342"/>
                </a:lnTo>
                <a:cubicBezTo>
                  <a:pt x="247" y="318"/>
                  <a:pt x="288" y="292"/>
                  <a:pt x="331" y="269"/>
                </a:cubicBezTo>
                <a:lnTo>
                  <a:pt x="331" y="269"/>
                </a:lnTo>
                <a:cubicBezTo>
                  <a:pt x="339" y="264"/>
                  <a:pt x="348" y="265"/>
                  <a:pt x="354" y="271"/>
                </a:cubicBezTo>
                <a:lnTo>
                  <a:pt x="354" y="271"/>
                </a:lnTo>
                <a:cubicBezTo>
                  <a:pt x="383" y="290"/>
                  <a:pt x="382" y="320"/>
                  <a:pt x="352" y="335"/>
                </a:cubicBezTo>
                <a:lnTo>
                  <a:pt x="352" y="335"/>
                </a:lnTo>
                <a:cubicBezTo>
                  <a:pt x="316" y="355"/>
                  <a:pt x="278" y="376"/>
                  <a:pt x="242" y="396"/>
                </a:cubicBezTo>
                <a:lnTo>
                  <a:pt x="242" y="396"/>
                </a:lnTo>
                <a:cubicBezTo>
                  <a:pt x="231" y="401"/>
                  <a:pt x="229" y="405"/>
                  <a:pt x="238" y="414"/>
                </a:cubicBezTo>
                <a:lnTo>
                  <a:pt x="238" y="414"/>
                </a:lnTo>
                <a:cubicBezTo>
                  <a:pt x="255" y="397"/>
                  <a:pt x="278" y="392"/>
                  <a:pt x="298" y="383"/>
                </a:cubicBezTo>
                <a:lnTo>
                  <a:pt x="298" y="383"/>
                </a:lnTo>
                <a:cubicBezTo>
                  <a:pt x="328" y="368"/>
                  <a:pt x="354" y="351"/>
                  <a:pt x="383" y="336"/>
                </a:cubicBezTo>
                <a:lnTo>
                  <a:pt x="383" y="336"/>
                </a:lnTo>
                <a:cubicBezTo>
                  <a:pt x="443" y="303"/>
                  <a:pt x="503" y="269"/>
                  <a:pt x="561" y="235"/>
                </a:cubicBezTo>
                <a:lnTo>
                  <a:pt x="561" y="235"/>
                </a:lnTo>
                <a:cubicBezTo>
                  <a:pt x="569" y="231"/>
                  <a:pt x="572" y="229"/>
                  <a:pt x="578" y="237"/>
                </a:cubicBezTo>
                <a:lnTo>
                  <a:pt x="578" y="237"/>
                </a:lnTo>
                <a:cubicBezTo>
                  <a:pt x="585" y="245"/>
                  <a:pt x="593" y="245"/>
                  <a:pt x="604" y="239"/>
                </a:cubicBezTo>
                <a:lnTo>
                  <a:pt x="604" y="239"/>
                </a:lnTo>
                <a:cubicBezTo>
                  <a:pt x="636" y="217"/>
                  <a:pt x="671" y="199"/>
                  <a:pt x="706" y="180"/>
                </a:cubicBezTo>
                <a:lnTo>
                  <a:pt x="706" y="180"/>
                </a:lnTo>
                <a:cubicBezTo>
                  <a:pt x="725" y="170"/>
                  <a:pt x="742" y="160"/>
                  <a:pt x="762" y="151"/>
                </a:cubicBezTo>
                <a:lnTo>
                  <a:pt x="762" y="151"/>
                </a:lnTo>
                <a:cubicBezTo>
                  <a:pt x="767" y="150"/>
                  <a:pt x="766" y="147"/>
                  <a:pt x="766" y="144"/>
                </a:cubicBezTo>
                <a:lnTo>
                  <a:pt x="766" y="144"/>
                </a:lnTo>
                <a:cubicBezTo>
                  <a:pt x="763" y="127"/>
                  <a:pt x="774" y="119"/>
                  <a:pt x="787" y="111"/>
                </a:cubicBezTo>
                <a:lnTo>
                  <a:pt x="787" y="111"/>
                </a:lnTo>
                <a:cubicBezTo>
                  <a:pt x="839" y="83"/>
                  <a:pt x="890" y="53"/>
                  <a:pt x="944" y="27"/>
                </a:cubicBezTo>
                <a:lnTo>
                  <a:pt x="944" y="27"/>
                </a:lnTo>
                <a:cubicBezTo>
                  <a:pt x="957" y="20"/>
                  <a:pt x="970" y="14"/>
                  <a:pt x="983" y="8"/>
                </a:cubicBezTo>
                <a:lnTo>
                  <a:pt x="983" y="8"/>
                </a:lnTo>
                <a:cubicBezTo>
                  <a:pt x="1005" y="0"/>
                  <a:pt x="1028" y="2"/>
                  <a:pt x="1046" y="14"/>
                </a:cubicBezTo>
                <a:lnTo>
                  <a:pt x="1046" y="14"/>
                </a:lnTo>
                <a:cubicBezTo>
                  <a:pt x="1081" y="35"/>
                  <a:pt x="1109" y="63"/>
                  <a:pt x="1118" y="103"/>
                </a:cubicBezTo>
                <a:lnTo>
                  <a:pt x="1118" y="103"/>
                </a:lnTo>
                <a:cubicBezTo>
                  <a:pt x="1125" y="130"/>
                  <a:pt x="1121" y="158"/>
                  <a:pt x="1109" y="182"/>
                </a:cubicBezTo>
                <a:lnTo>
                  <a:pt x="1109" y="182"/>
                </a:lnTo>
                <a:cubicBezTo>
                  <a:pt x="1103" y="194"/>
                  <a:pt x="1089" y="197"/>
                  <a:pt x="1077" y="202"/>
                </a:cubicBezTo>
                <a:lnTo>
                  <a:pt x="1077" y="202"/>
                </a:lnTo>
                <a:cubicBezTo>
                  <a:pt x="1058" y="209"/>
                  <a:pt x="1038" y="215"/>
                  <a:pt x="1019" y="223"/>
                </a:cubicBezTo>
                <a:lnTo>
                  <a:pt x="1019" y="223"/>
                </a:lnTo>
                <a:cubicBezTo>
                  <a:pt x="996" y="234"/>
                  <a:pt x="974" y="244"/>
                  <a:pt x="953" y="259"/>
                </a:cubicBezTo>
                <a:lnTo>
                  <a:pt x="953" y="259"/>
                </a:lnTo>
                <a:cubicBezTo>
                  <a:pt x="934" y="270"/>
                  <a:pt x="912" y="277"/>
                  <a:pt x="890" y="285"/>
                </a:cubicBezTo>
                <a:lnTo>
                  <a:pt x="890" y="285"/>
                </a:lnTo>
                <a:cubicBezTo>
                  <a:pt x="881" y="289"/>
                  <a:pt x="873" y="292"/>
                  <a:pt x="863" y="296"/>
                </a:cubicBezTo>
                <a:lnTo>
                  <a:pt x="863" y="296"/>
                </a:lnTo>
                <a:cubicBezTo>
                  <a:pt x="854" y="301"/>
                  <a:pt x="846" y="300"/>
                  <a:pt x="838" y="293"/>
                </a:cubicBezTo>
                <a:lnTo>
                  <a:pt x="838" y="293"/>
                </a:lnTo>
                <a:cubicBezTo>
                  <a:pt x="826" y="283"/>
                  <a:pt x="815" y="285"/>
                  <a:pt x="801" y="291"/>
                </a:cubicBezTo>
                <a:lnTo>
                  <a:pt x="801" y="291"/>
                </a:lnTo>
                <a:cubicBezTo>
                  <a:pt x="755" y="316"/>
                  <a:pt x="706" y="335"/>
                  <a:pt x="657" y="353"/>
                </a:cubicBezTo>
                <a:lnTo>
                  <a:pt x="657" y="353"/>
                </a:lnTo>
                <a:cubicBezTo>
                  <a:pt x="652" y="356"/>
                  <a:pt x="648" y="360"/>
                  <a:pt x="648" y="365"/>
                </a:cubicBezTo>
                <a:lnTo>
                  <a:pt x="648" y="365"/>
                </a:lnTo>
                <a:cubicBezTo>
                  <a:pt x="648" y="373"/>
                  <a:pt x="644" y="381"/>
                  <a:pt x="635" y="385"/>
                </a:cubicBezTo>
                <a:lnTo>
                  <a:pt x="635" y="385"/>
                </a:lnTo>
                <a:cubicBezTo>
                  <a:pt x="614" y="393"/>
                  <a:pt x="594" y="404"/>
                  <a:pt x="573" y="413"/>
                </a:cubicBezTo>
                <a:lnTo>
                  <a:pt x="573" y="413"/>
                </a:lnTo>
                <a:cubicBezTo>
                  <a:pt x="546" y="425"/>
                  <a:pt x="520" y="438"/>
                  <a:pt x="493" y="451"/>
                </a:cubicBezTo>
                <a:lnTo>
                  <a:pt x="493" y="451"/>
                </a:lnTo>
                <a:cubicBezTo>
                  <a:pt x="478" y="459"/>
                  <a:pt x="462" y="464"/>
                  <a:pt x="445" y="470"/>
                </a:cubicBezTo>
                <a:lnTo>
                  <a:pt x="445" y="470"/>
                </a:lnTo>
                <a:cubicBezTo>
                  <a:pt x="434" y="472"/>
                  <a:pt x="426" y="477"/>
                  <a:pt x="415" y="479"/>
                </a:cubicBezTo>
                <a:lnTo>
                  <a:pt x="415" y="479"/>
                </a:lnTo>
                <a:cubicBezTo>
                  <a:pt x="408" y="483"/>
                  <a:pt x="400" y="485"/>
                  <a:pt x="399" y="494"/>
                </a:cubicBezTo>
                <a:lnTo>
                  <a:pt x="399" y="494"/>
                </a:lnTo>
                <a:cubicBezTo>
                  <a:pt x="399" y="503"/>
                  <a:pt x="391" y="509"/>
                  <a:pt x="384" y="509"/>
                </a:cubicBezTo>
                <a:lnTo>
                  <a:pt x="384" y="509"/>
                </a:lnTo>
                <a:cubicBezTo>
                  <a:pt x="372" y="510"/>
                  <a:pt x="366" y="517"/>
                  <a:pt x="357" y="520"/>
                </a:cubicBezTo>
                <a:lnTo>
                  <a:pt x="357" y="520"/>
                </a:lnTo>
                <a:cubicBezTo>
                  <a:pt x="352" y="523"/>
                  <a:pt x="352" y="527"/>
                  <a:pt x="352" y="532"/>
                </a:cubicBezTo>
                <a:lnTo>
                  <a:pt x="352" y="532"/>
                </a:lnTo>
                <a:cubicBezTo>
                  <a:pt x="351" y="590"/>
                  <a:pt x="351" y="647"/>
                  <a:pt x="349" y="705"/>
                </a:cubicBezTo>
                <a:lnTo>
                  <a:pt x="349" y="705"/>
                </a:lnTo>
                <a:cubicBezTo>
                  <a:pt x="346" y="742"/>
                  <a:pt x="349" y="781"/>
                  <a:pt x="344" y="818"/>
                </a:cubicBezTo>
                <a:lnTo>
                  <a:pt x="344" y="818"/>
                </a:lnTo>
                <a:cubicBezTo>
                  <a:pt x="343" y="826"/>
                  <a:pt x="344" y="829"/>
                  <a:pt x="353" y="830"/>
                </a:cubicBezTo>
                <a:lnTo>
                  <a:pt x="353" y="830"/>
                </a:lnTo>
                <a:cubicBezTo>
                  <a:pt x="370" y="832"/>
                  <a:pt x="386" y="834"/>
                  <a:pt x="403" y="841"/>
                </a:cubicBezTo>
                <a:lnTo>
                  <a:pt x="403" y="841"/>
                </a:lnTo>
                <a:cubicBezTo>
                  <a:pt x="409" y="845"/>
                  <a:pt x="415" y="847"/>
                  <a:pt x="418" y="854"/>
                </a:cubicBezTo>
                <a:lnTo>
                  <a:pt x="418" y="854"/>
                </a:lnTo>
                <a:cubicBezTo>
                  <a:pt x="422" y="860"/>
                  <a:pt x="425" y="865"/>
                  <a:pt x="433" y="865"/>
                </a:cubicBezTo>
                <a:lnTo>
                  <a:pt x="433" y="865"/>
                </a:lnTo>
                <a:cubicBezTo>
                  <a:pt x="438" y="865"/>
                  <a:pt x="440" y="869"/>
                  <a:pt x="443" y="873"/>
                </a:cubicBezTo>
                <a:lnTo>
                  <a:pt x="443" y="873"/>
                </a:lnTo>
                <a:cubicBezTo>
                  <a:pt x="462" y="933"/>
                  <a:pt x="477" y="993"/>
                  <a:pt x="493" y="1053"/>
                </a:cubicBezTo>
                <a:lnTo>
                  <a:pt x="493" y="1053"/>
                </a:lnTo>
                <a:cubicBezTo>
                  <a:pt x="505" y="1095"/>
                  <a:pt x="515" y="1138"/>
                  <a:pt x="529" y="1180"/>
                </a:cubicBezTo>
                <a:lnTo>
                  <a:pt x="529" y="1180"/>
                </a:lnTo>
                <a:cubicBezTo>
                  <a:pt x="532" y="1189"/>
                  <a:pt x="532" y="1200"/>
                  <a:pt x="545" y="1202"/>
                </a:cubicBezTo>
                <a:lnTo>
                  <a:pt x="545" y="1202"/>
                </a:lnTo>
                <a:cubicBezTo>
                  <a:pt x="552" y="1204"/>
                  <a:pt x="553" y="1214"/>
                  <a:pt x="554" y="1218"/>
                </a:cubicBezTo>
                <a:lnTo>
                  <a:pt x="554" y="1218"/>
                </a:lnTo>
                <a:cubicBezTo>
                  <a:pt x="555" y="1242"/>
                  <a:pt x="567" y="1264"/>
                  <a:pt x="572" y="1287"/>
                </a:cubicBezTo>
                <a:lnTo>
                  <a:pt x="572" y="1287"/>
                </a:lnTo>
                <a:cubicBezTo>
                  <a:pt x="573" y="1296"/>
                  <a:pt x="574" y="1304"/>
                  <a:pt x="573" y="1311"/>
                </a:cubicBezTo>
                <a:lnTo>
                  <a:pt x="573" y="1311"/>
                </a:lnTo>
                <a:cubicBezTo>
                  <a:pt x="570" y="1321"/>
                  <a:pt x="573" y="1330"/>
                  <a:pt x="575" y="1339"/>
                </a:cubicBezTo>
                <a:lnTo>
                  <a:pt x="575" y="1339"/>
                </a:lnTo>
                <a:cubicBezTo>
                  <a:pt x="594" y="1397"/>
                  <a:pt x="612" y="1453"/>
                  <a:pt x="628" y="1509"/>
                </a:cubicBezTo>
                <a:lnTo>
                  <a:pt x="628" y="1509"/>
                </a:lnTo>
                <a:cubicBezTo>
                  <a:pt x="634" y="1527"/>
                  <a:pt x="639" y="1546"/>
                  <a:pt x="650" y="1562"/>
                </a:cubicBezTo>
                <a:lnTo>
                  <a:pt x="650" y="1562"/>
                </a:lnTo>
                <a:cubicBezTo>
                  <a:pt x="655" y="1573"/>
                  <a:pt x="654" y="1588"/>
                  <a:pt x="656" y="1601"/>
                </a:cubicBezTo>
                <a:lnTo>
                  <a:pt x="656" y="1601"/>
                </a:lnTo>
                <a:cubicBezTo>
                  <a:pt x="657" y="1611"/>
                  <a:pt x="660" y="1623"/>
                  <a:pt x="665" y="1634"/>
                </a:cubicBezTo>
                <a:lnTo>
                  <a:pt x="665" y="1634"/>
                </a:lnTo>
                <a:cubicBezTo>
                  <a:pt x="668" y="1643"/>
                  <a:pt x="668" y="1655"/>
                  <a:pt x="660" y="1664"/>
                </a:cubicBezTo>
                <a:lnTo>
                  <a:pt x="660" y="1664"/>
                </a:lnTo>
                <a:cubicBezTo>
                  <a:pt x="657" y="1667"/>
                  <a:pt x="659" y="1670"/>
                  <a:pt x="660" y="1673"/>
                </a:cubicBezTo>
                <a:lnTo>
                  <a:pt x="660" y="1673"/>
                </a:lnTo>
                <a:cubicBezTo>
                  <a:pt x="665" y="1684"/>
                  <a:pt x="659" y="1694"/>
                  <a:pt x="650" y="1701"/>
                </a:cubicBezTo>
                <a:lnTo>
                  <a:pt x="650" y="1701"/>
                </a:lnTo>
                <a:cubicBezTo>
                  <a:pt x="639" y="1708"/>
                  <a:pt x="628" y="1711"/>
                  <a:pt x="617" y="1703"/>
                </a:cubicBezTo>
                <a:lnTo>
                  <a:pt x="617" y="1703"/>
                </a:lnTo>
                <a:cubicBezTo>
                  <a:pt x="610" y="1699"/>
                  <a:pt x="603" y="1695"/>
                  <a:pt x="593" y="1693"/>
                </a:cubicBezTo>
                <a:lnTo>
                  <a:pt x="593" y="1693"/>
                </a:lnTo>
                <a:cubicBezTo>
                  <a:pt x="585" y="1690"/>
                  <a:pt x="579" y="1685"/>
                  <a:pt x="576" y="1676"/>
                </a:cubicBezTo>
                <a:lnTo>
                  <a:pt x="576" y="1676"/>
                </a:lnTo>
                <a:cubicBezTo>
                  <a:pt x="567" y="1640"/>
                  <a:pt x="556" y="1603"/>
                  <a:pt x="547" y="1566"/>
                </a:cubicBezTo>
                <a:lnTo>
                  <a:pt x="547" y="1566"/>
                </a:lnTo>
                <a:cubicBezTo>
                  <a:pt x="530" y="1493"/>
                  <a:pt x="500" y="1423"/>
                  <a:pt x="485" y="1351"/>
                </a:cubicBezTo>
                <a:lnTo>
                  <a:pt x="485" y="1351"/>
                </a:lnTo>
                <a:cubicBezTo>
                  <a:pt x="483" y="1340"/>
                  <a:pt x="473" y="1335"/>
                  <a:pt x="471" y="1325"/>
                </a:cubicBezTo>
                <a:lnTo>
                  <a:pt x="471" y="1325"/>
                </a:lnTo>
                <a:cubicBezTo>
                  <a:pt x="466" y="1302"/>
                  <a:pt x="454" y="1281"/>
                  <a:pt x="454" y="1259"/>
                </a:cubicBezTo>
                <a:lnTo>
                  <a:pt x="454" y="1259"/>
                </a:lnTo>
                <a:cubicBezTo>
                  <a:pt x="454" y="1219"/>
                  <a:pt x="437" y="1185"/>
                  <a:pt x="428" y="1149"/>
                </a:cubicBezTo>
                <a:lnTo>
                  <a:pt x="428" y="1149"/>
                </a:lnTo>
                <a:cubicBezTo>
                  <a:pt x="418" y="1111"/>
                  <a:pt x="408" y="1075"/>
                  <a:pt x="398" y="1037"/>
                </a:cubicBezTo>
                <a:lnTo>
                  <a:pt x="398" y="1037"/>
                </a:lnTo>
                <a:cubicBezTo>
                  <a:pt x="390" y="1003"/>
                  <a:pt x="379" y="969"/>
                  <a:pt x="370" y="935"/>
                </a:cubicBezTo>
                <a:lnTo>
                  <a:pt x="370" y="935"/>
                </a:lnTo>
                <a:cubicBezTo>
                  <a:pt x="370" y="934"/>
                  <a:pt x="368" y="933"/>
                  <a:pt x="364" y="932"/>
                </a:cubicBezTo>
                <a:lnTo>
                  <a:pt x="364" y="932"/>
                </a:lnTo>
                <a:cubicBezTo>
                  <a:pt x="364" y="954"/>
                  <a:pt x="365" y="976"/>
                  <a:pt x="364" y="997"/>
                </a:cubicBezTo>
                <a:lnTo>
                  <a:pt x="364" y="997"/>
                </a:lnTo>
                <a:cubicBezTo>
                  <a:pt x="364" y="1073"/>
                  <a:pt x="364" y="1146"/>
                  <a:pt x="365" y="1220"/>
                </a:cubicBezTo>
                <a:lnTo>
                  <a:pt x="365" y="1220"/>
                </a:lnTo>
                <a:cubicBezTo>
                  <a:pt x="365" y="1230"/>
                  <a:pt x="368" y="1240"/>
                  <a:pt x="372" y="1251"/>
                </a:cubicBezTo>
                <a:lnTo>
                  <a:pt x="372" y="1251"/>
                </a:lnTo>
                <a:cubicBezTo>
                  <a:pt x="377" y="1264"/>
                  <a:pt x="377" y="1279"/>
                  <a:pt x="378" y="1295"/>
                </a:cubicBezTo>
                <a:lnTo>
                  <a:pt x="378" y="1295"/>
                </a:lnTo>
                <a:cubicBezTo>
                  <a:pt x="379" y="1305"/>
                  <a:pt x="377" y="1317"/>
                  <a:pt x="379" y="1327"/>
                </a:cubicBezTo>
                <a:lnTo>
                  <a:pt x="379" y="1327"/>
                </a:lnTo>
                <a:cubicBezTo>
                  <a:pt x="381" y="1335"/>
                  <a:pt x="379" y="1342"/>
                  <a:pt x="372" y="1346"/>
                </a:cubicBezTo>
                <a:lnTo>
                  <a:pt x="372" y="1346"/>
                </a:lnTo>
                <a:cubicBezTo>
                  <a:pt x="364" y="1350"/>
                  <a:pt x="364" y="1356"/>
                  <a:pt x="363" y="1362"/>
                </a:cubicBezTo>
                <a:lnTo>
                  <a:pt x="363" y="1362"/>
                </a:lnTo>
                <a:cubicBezTo>
                  <a:pt x="362" y="1445"/>
                  <a:pt x="362" y="1527"/>
                  <a:pt x="362" y="1609"/>
                </a:cubicBezTo>
                <a:lnTo>
                  <a:pt x="362" y="1609"/>
                </a:lnTo>
                <a:cubicBezTo>
                  <a:pt x="362" y="1625"/>
                  <a:pt x="364" y="1642"/>
                  <a:pt x="365" y="1658"/>
                </a:cubicBezTo>
                <a:lnTo>
                  <a:pt x="365" y="1658"/>
                </a:lnTo>
                <a:cubicBezTo>
                  <a:pt x="366" y="1681"/>
                  <a:pt x="361" y="1703"/>
                  <a:pt x="362" y="1727"/>
                </a:cubicBezTo>
                <a:lnTo>
                  <a:pt x="362" y="1727"/>
                </a:lnTo>
                <a:cubicBezTo>
                  <a:pt x="362" y="1730"/>
                  <a:pt x="361" y="1734"/>
                  <a:pt x="366" y="1736"/>
                </a:cubicBezTo>
                <a:lnTo>
                  <a:pt x="366" y="1736"/>
                </a:lnTo>
                <a:cubicBezTo>
                  <a:pt x="374" y="1741"/>
                  <a:pt x="372" y="1746"/>
                  <a:pt x="365" y="1750"/>
                </a:cubicBezTo>
                <a:lnTo>
                  <a:pt x="365" y="1750"/>
                </a:lnTo>
                <a:cubicBezTo>
                  <a:pt x="362" y="1751"/>
                  <a:pt x="358" y="1752"/>
                  <a:pt x="353" y="1752"/>
                </a:cubicBezTo>
                <a:lnTo>
                  <a:pt x="353" y="1752"/>
                </a:lnTo>
                <a:cubicBezTo>
                  <a:pt x="346" y="1752"/>
                  <a:pt x="344" y="1754"/>
                  <a:pt x="344" y="1762"/>
                </a:cubicBezTo>
                <a:lnTo>
                  <a:pt x="344" y="1762"/>
                </a:lnTo>
                <a:cubicBezTo>
                  <a:pt x="344" y="1774"/>
                  <a:pt x="334" y="1779"/>
                  <a:pt x="318" y="1779"/>
                </a:cubicBezTo>
                <a:lnTo>
                  <a:pt x="318" y="1779"/>
                </a:lnTo>
                <a:cubicBezTo>
                  <a:pt x="305" y="1779"/>
                  <a:pt x="295" y="1771"/>
                  <a:pt x="295" y="1761"/>
                </a:cubicBezTo>
                <a:lnTo>
                  <a:pt x="295" y="1761"/>
                </a:lnTo>
                <a:cubicBezTo>
                  <a:pt x="295" y="1755"/>
                  <a:pt x="292" y="1754"/>
                  <a:pt x="288" y="1751"/>
                </a:cubicBezTo>
                <a:lnTo>
                  <a:pt x="288" y="1751"/>
                </a:lnTo>
                <a:cubicBezTo>
                  <a:pt x="277" y="1749"/>
                  <a:pt x="272" y="1743"/>
                  <a:pt x="273" y="1731"/>
                </a:cubicBezTo>
                <a:lnTo>
                  <a:pt x="273" y="1731"/>
                </a:lnTo>
                <a:cubicBezTo>
                  <a:pt x="278" y="1704"/>
                  <a:pt x="268" y="1678"/>
                  <a:pt x="271" y="1650"/>
                </a:cubicBezTo>
                <a:lnTo>
                  <a:pt x="271" y="1650"/>
                </a:lnTo>
                <a:cubicBezTo>
                  <a:pt x="283" y="1557"/>
                  <a:pt x="273" y="1463"/>
                  <a:pt x="277" y="1371"/>
                </a:cubicBezTo>
                <a:lnTo>
                  <a:pt x="277" y="1371"/>
                </a:lnTo>
                <a:cubicBezTo>
                  <a:pt x="277" y="1360"/>
                  <a:pt x="278" y="1348"/>
                  <a:pt x="269" y="1339"/>
                </a:cubicBezTo>
                <a:lnTo>
                  <a:pt x="269" y="1339"/>
                </a:lnTo>
                <a:cubicBezTo>
                  <a:pt x="267" y="1336"/>
                  <a:pt x="267" y="1330"/>
                  <a:pt x="267" y="1323"/>
                </a:cubicBezTo>
                <a:lnTo>
                  <a:pt x="267" y="1323"/>
                </a:lnTo>
                <a:cubicBezTo>
                  <a:pt x="265" y="1300"/>
                  <a:pt x="263" y="1276"/>
                  <a:pt x="269" y="1253"/>
                </a:cubicBezTo>
                <a:lnTo>
                  <a:pt x="269" y="1253"/>
                </a:lnTo>
                <a:cubicBezTo>
                  <a:pt x="284" y="1196"/>
                  <a:pt x="273" y="1138"/>
                  <a:pt x="276" y="1080"/>
                </a:cubicBezTo>
                <a:lnTo>
                  <a:pt x="276" y="1080"/>
                </a:lnTo>
                <a:cubicBezTo>
                  <a:pt x="278" y="1050"/>
                  <a:pt x="277" y="1019"/>
                  <a:pt x="277" y="989"/>
                </a:cubicBezTo>
                <a:lnTo>
                  <a:pt x="277" y="989"/>
                </a:lnTo>
                <a:cubicBezTo>
                  <a:pt x="280" y="985"/>
                  <a:pt x="280" y="982"/>
                  <a:pt x="278" y="977"/>
                </a:cubicBezTo>
                <a:lnTo>
                  <a:pt x="278" y="977"/>
                </a:lnTo>
                <a:cubicBezTo>
                  <a:pt x="277" y="981"/>
                  <a:pt x="276" y="983"/>
                  <a:pt x="275" y="985"/>
                </a:cubicBezTo>
                <a:close/>
              </a:path>
            </a:pathLst>
          </a:custGeom>
          <a:solidFill>
            <a:srgbClr val="d2d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pic>
        <p:nvPicPr>
          <p:cNvPr id="692" name="Group 1844" descr=""/>
          <p:cNvPicPr/>
          <p:nvPr/>
        </p:nvPicPr>
        <p:blipFill>
          <a:blip r:embed="rId1"/>
          <a:stretch/>
        </p:blipFill>
        <p:spPr>
          <a:xfrm>
            <a:off x="7553160" y="128520"/>
            <a:ext cx="143208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Placeholder 1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02"/>
          <p:cNvSpPr/>
          <p:nvPr/>
        </p:nvSpPr>
        <p:spPr>
          <a:xfrm>
            <a:off x="3776760" y="1592280"/>
            <a:ext cx="4725720" cy="1460520"/>
          </a:xfrm>
          <a:prstGeom prst="rect">
            <a:avLst/>
          </a:prstGeom>
          <a:solidFill>
            <a:srgbClr val="403459"/>
          </a:solidFill>
          <a:ln w="12600">
            <a:solidFill>
              <a:srgbClr val="2c23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33" name="TextBox 104"/>
          <p:cNvSpPr/>
          <p:nvPr/>
        </p:nvSpPr>
        <p:spPr>
          <a:xfrm>
            <a:off x="3284640" y="1830240"/>
            <a:ext cx="50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36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unito Bold"/>
                <a:ea typeface="Nunito Bold"/>
              </a:rPr>
              <a:t>Use Big Images</a:t>
            </a:r>
            <a:endParaRPr b="0" lang="en-US" sz="3600" spc="-1" strike="noStrike">
              <a:solidFill>
                <a:srgbClr val="b4b4b4"/>
              </a:solidFill>
              <a:latin typeface="Calibri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unito Bold"/>
                <a:ea typeface="Nunito Bold"/>
              </a:rPr>
              <a:t>To Show Your Ideas</a:t>
            </a:r>
            <a:endParaRPr b="0" lang="en-US" sz="36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Freeform 3"/>
          <p:cNvSpPr/>
          <p:nvPr/>
        </p:nvSpPr>
        <p:spPr>
          <a:xfrm>
            <a:off x="1663560" y="1467000"/>
            <a:ext cx="1965600" cy="1965240"/>
          </a:xfrm>
          <a:custGeom>
            <a:avLst/>
            <a:gdLst/>
            <a:ahLst/>
            <a:rect l="l" t="t" r="r" b="b"/>
            <a:pathLst>
              <a:path w="4777130" h="4777130">
                <a:moveTo>
                  <a:pt x="0" y="2388565"/>
                </a:moveTo>
                <a:cubicBezTo>
                  <a:pt x="0" y="1069397"/>
                  <a:pt x="1069397" y="0"/>
                  <a:pt x="2388565" y="0"/>
                </a:cubicBezTo>
                <a:cubicBezTo>
                  <a:pt x="3707733" y="0"/>
                  <a:pt x="4777130" y="1069397"/>
                  <a:pt x="4777130" y="2388565"/>
                </a:cubicBezTo>
                <a:cubicBezTo>
                  <a:pt x="4777130" y="3707733"/>
                  <a:pt x="3707733" y="4777130"/>
                  <a:pt x="2388565" y="4777130"/>
                </a:cubicBezTo>
                <a:cubicBezTo>
                  <a:pt x="1069397" y="4777130"/>
                  <a:pt x="0" y="3707733"/>
                  <a:pt x="0" y="2388565"/>
                </a:cubicBezTo>
                <a:close/>
              </a:path>
            </a:pathLst>
          </a:custGeom>
          <a:noFill/>
          <a:ln w="38160">
            <a:solidFill>
              <a:srgbClr val="4034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720" rIns="360720" tIns="293040" bIns="293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35" name="Freeform 4"/>
          <p:cNvSpPr/>
          <p:nvPr/>
        </p:nvSpPr>
        <p:spPr>
          <a:xfrm>
            <a:off x="4159080" y="1467000"/>
            <a:ext cx="1965600" cy="1965240"/>
          </a:xfrm>
          <a:custGeom>
            <a:avLst/>
            <a:gdLst/>
            <a:ahLst/>
            <a:rect l="l" t="t" r="r" b="b"/>
            <a:pathLst>
              <a:path w="4777130" h="4777130">
                <a:moveTo>
                  <a:pt x="0" y="2388565"/>
                </a:moveTo>
                <a:cubicBezTo>
                  <a:pt x="0" y="1069397"/>
                  <a:pt x="1069397" y="0"/>
                  <a:pt x="2388565" y="0"/>
                </a:cubicBezTo>
                <a:cubicBezTo>
                  <a:pt x="3707733" y="0"/>
                  <a:pt x="4777130" y="1069397"/>
                  <a:pt x="4777130" y="2388565"/>
                </a:cubicBezTo>
                <a:cubicBezTo>
                  <a:pt x="4777130" y="3707733"/>
                  <a:pt x="3707733" y="4777130"/>
                  <a:pt x="2388565" y="4777130"/>
                </a:cubicBezTo>
                <a:cubicBezTo>
                  <a:pt x="1069397" y="4777130"/>
                  <a:pt x="0" y="3707733"/>
                  <a:pt x="0" y="2388565"/>
                </a:cubicBezTo>
                <a:close/>
              </a:path>
            </a:pathLst>
          </a:custGeom>
          <a:noFill/>
          <a:ln w="38160">
            <a:solidFill>
              <a:srgbClr val="f32f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720" rIns="360720" tIns="293040" bIns="293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36" name="Freeform 5"/>
          <p:cNvSpPr/>
          <p:nvPr/>
        </p:nvSpPr>
        <p:spPr>
          <a:xfrm>
            <a:off x="6657840" y="1417680"/>
            <a:ext cx="1965600" cy="1965240"/>
          </a:xfrm>
          <a:custGeom>
            <a:avLst/>
            <a:gdLst/>
            <a:ahLst/>
            <a:rect l="l" t="t" r="r" b="b"/>
            <a:pathLst>
              <a:path w="4777130" h="4777130">
                <a:moveTo>
                  <a:pt x="0" y="2388565"/>
                </a:moveTo>
                <a:cubicBezTo>
                  <a:pt x="0" y="1069397"/>
                  <a:pt x="1069397" y="0"/>
                  <a:pt x="2388565" y="0"/>
                </a:cubicBezTo>
                <a:cubicBezTo>
                  <a:pt x="3707733" y="0"/>
                  <a:pt x="4777130" y="1069397"/>
                  <a:pt x="4777130" y="2388565"/>
                </a:cubicBezTo>
                <a:cubicBezTo>
                  <a:pt x="4777130" y="3707733"/>
                  <a:pt x="3707733" y="4777130"/>
                  <a:pt x="2388565" y="4777130"/>
                </a:cubicBezTo>
                <a:cubicBezTo>
                  <a:pt x="1069397" y="4777130"/>
                  <a:pt x="0" y="3707733"/>
                  <a:pt x="0" y="2388565"/>
                </a:cubicBezTo>
                <a:close/>
              </a:path>
            </a:pathLst>
          </a:custGeom>
          <a:noFill/>
          <a:ln w="38160">
            <a:solidFill>
              <a:srgbClr val="82dd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720" rIns="360720" tIns="293040" bIns="293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37" name="TextBox 24"/>
          <p:cNvSpPr/>
          <p:nvPr/>
        </p:nvSpPr>
        <p:spPr>
          <a:xfrm>
            <a:off x="2201760" y="230652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494949"/>
                </a:solidFill>
                <a:latin typeface="Nunito Bold"/>
                <a:ea typeface="Nunito Bold"/>
              </a:rPr>
              <a:t>TITLE 01</a:t>
            </a:r>
            <a:endParaRPr b="0" lang="en-US" sz="1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38" name="TextBox 25"/>
          <p:cNvSpPr/>
          <p:nvPr/>
        </p:nvSpPr>
        <p:spPr>
          <a:xfrm>
            <a:off x="4687200" y="229536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494949"/>
                </a:solidFill>
                <a:latin typeface="Nunito Bold"/>
                <a:ea typeface="Nunito Bold"/>
              </a:rPr>
              <a:t>TITLE 02</a:t>
            </a:r>
            <a:endParaRPr b="0" lang="en-US" sz="1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39" name="TextBox 26"/>
          <p:cNvSpPr/>
          <p:nvPr/>
        </p:nvSpPr>
        <p:spPr>
          <a:xfrm>
            <a:off x="7185960" y="224964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494949"/>
                </a:solidFill>
                <a:latin typeface="Nunito Bold"/>
                <a:ea typeface="Nunito Bold"/>
              </a:rPr>
              <a:t>TITLE 03</a:t>
            </a:r>
            <a:endParaRPr b="0" lang="en-US" sz="1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0" name="TextBox 36"/>
          <p:cNvSpPr/>
          <p:nvPr/>
        </p:nvSpPr>
        <p:spPr>
          <a:xfrm>
            <a:off x="4070520" y="3562200"/>
            <a:ext cx="2155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1" name="TextBox 16"/>
          <p:cNvSpPr/>
          <p:nvPr/>
        </p:nvSpPr>
        <p:spPr>
          <a:xfrm>
            <a:off x="6562800" y="3562200"/>
            <a:ext cx="2154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2" name="TextBox 17"/>
          <p:cNvSpPr/>
          <p:nvPr/>
        </p:nvSpPr>
        <p:spPr>
          <a:xfrm>
            <a:off x="1579680" y="3562200"/>
            <a:ext cx="2154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3" name="TextBox 112"/>
          <p:cNvSpPr/>
          <p:nvPr/>
        </p:nvSpPr>
        <p:spPr>
          <a:xfrm>
            <a:off x="1738800" y="528480"/>
            <a:ext cx="5375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Shapes to explain ideas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Oval 6"/>
          <p:cNvSpPr/>
          <p:nvPr/>
        </p:nvSpPr>
        <p:spPr>
          <a:xfrm rot="5400000">
            <a:off x="6663240" y="1956600"/>
            <a:ext cx="1508040" cy="1509480"/>
          </a:xfrm>
          <a:prstGeom prst="ellipse">
            <a:avLst/>
          </a:prstGeom>
          <a:solidFill>
            <a:srgbClr val="82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5" name="Oval 7"/>
          <p:cNvSpPr/>
          <p:nvPr/>
        </p:nvSpPr>
        <p:spPr>
          <a:xfrm rot="5400000">
            <a:off x="4368600" y="1957320"/>
            <a:ext cx="1508040" cy="1508040"/>
          </a:xfrm>
          <a:prstGeom prst="ellipse">
            <a:avLst/>
          </a:prstGeom>
          <a:solidFill>
            <a:srgbClr val="f32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6" name="Oval 8"/>
          <p:cNvSpPr/>
          <p:nvPr/>
        </p:nvSpPr>
        <p:spPr>
          <a:xfrm rot="5400000">
            <a:off x="2072880" y="1957320"/>
            <a:ext cx="1508040" cy="1508040"/>
          </a:xfrm>
          <a:prstGeom prst="ellipse">
            <a:avLst/>
          </a:pr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7" name="Shape 2641"/>
          <p:cNvSpPr/>
          <p:nvPr/>
        </p:nvSpPr>
        <p:spPr>
          <a:xfrm>
            <a:off x="2585880" y="2562120"/>
            <a:ext cx="48744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16606"/>
                </a:moveTo>
                <a:lnTo>
                  <a:pt x="16691" y="14138"/>
                </a:lnTo>
                <a:lnTo>
                  <a:pt x="16691" y="7462"/>
                </a:lnTo>
                <a:lnTo>
                  <a:pt x="20618" y="4994"/>
                </a:lnTo>
                <a:cubicBezTo>
                  <a:pt x="20618" y="4994"/>
                  <a:pt x="20618" y="16606"/>
                  <a:pt x="20618" y="16606"/>
                </a:cubicBezTo>
                <a:close/>
                <a:moveTo>
                  <a:pt x="21109" y="3086"/>
                </a:moveTo>
                <a:cubicBezTo>
                  <a:pt x="21030" y="3086"/>
                  <a:pt x="20958" y="3122"/>
                  <a:pt x="20892" y="3174"/>
                </a:cubicBezTo>
                <a:lnTo>
                  <a:pt x="20890" y="3167"/>
                </a:lnTo>
                <a:lnTo>
                  <a:pt x="16018" y="6229"/>
                </a:lnTo>
                <a:cubicBezTo>
                  <a:pt x="16013" y="6233"/>
                  <a:pt x="16008" y="6235"/>
                  <a:pt x="16003" y="6239"/>
                </a:cubicBezTo>
                <a:lnTo>
                  <a:pt x="15980" y="6252"/>
                </a:lnTo>
                <a:lnTo>
                  <a:pt x="15983" y="6260"/>
                </a:lnTo>
                <a:cubicBezTo>
                  <a:pt x="15822" y="6387"/>
                  <a:pt x="15709" y="6641"/>
                  <a:pt x="15709" y="6943"/>
                </a:cubicBezTo>
                <a:lnTo>
                  <a:pt x="15709" y="14657"/>
                </a:lnTo>
                <a:cubicBezTo>
                  <a:pt x="15709" y="14959"/>
                  <a:pt x="15822" y="15213"/>
                  <a:pt x="15983" y="15340"/>
                </a:cubicBezTo>
                <a:lnTo>
                  <a:pt x="15980" y="15347"/>
                </a:lnTo>
                <a:lnTo>
                  <a:pt x="16002" y="15360"/>
                </a:lnTo>
                <a:cubicBezTo>
                  <a:pt x="16008" y="15365"/>
                  <a:pt x="16013" y="15368"/>
                  <a:pt x="16018" y="15371"/>
                </a:cubicBezTo>
                <a:lnTo>
                  <a:pt x="20890" y="18433"/>
                </a:lnTo>
                <a:lnTo>
                  <a:pt x="20892" y="18426"/>
                </a:lnTo>
                <a:cubicBezTo>
                  <a:pt x="20958" y="18478"/>
                  <a:pt x="21030" y="18514"/>
                  <a:pt x="21109" y="18514"/>
                </a:cubicBezTo>
                <a:cubicBezTo>
                  <a:pt x="21380" y="18514"/>
                  <a:pt x="21600" y="18169"/>
                  <a:pt x="21600" y="17743"/>
                </a:cubicBezTo>
                <a:lnTo>
                  <a:pt x="21600" y="3857"/>
                </a:lnTo>
                <a:cubicBezTo>
                  <a:pt x="21600" y="3431"/>
                  <a:pt x="21380" y="3086"/>
                  <a:pt x="21109" y="3086"/>
                </a:cubicBezTo>
                <a:moveTo>
                  <a:pt x="13745" y="18514"/>
                </a:moveTo>
                <a:cubicBezTo>
                  <a:pt x="13745" y="19367"/>
                  <a:pt x="13306" y="20057"/>
                  <a:pt x="12764" y="20057"/>
                </a:cubicBezTo>
                <a:lnTo>
                  <a:pt x="1964" y="20057"/>
                </a:lnTo>
                <a:cubicBezTo>
                  <a:pt x="1422" y="20057"/>
                  <a:pt x="982" y="19367"/>
                  <a:pt x="982" y="18514"/>
                </a:cubicBezTo>
                <a:lnTo>
                  <a:pt x="982" y="3086"/>
                </a:lnTo>
                <a:cubicBezTo>
                  <a:pt x="982" y="2233"/>
                  <a:pt x="1422" y="1543"/>
                  <a:pt x="1964" y="1543"/>
                </a:cubicBezTo>
                <a:lnTo>
                  <a:pt x="12764" y="1543"/>
                </a:lnTo>
                <a:cubicBezTo>
                  <a:pt x="13306" y="1543"/>
                  <a:pt x="13745" y="2233"/>
                  <a:pt x="13745" y="3086"/>
                </a:cubicBezTo>
                <a:cubicBezTo>
                  <a:pt x="13745" y="3086"/>
                  <a:pt x="13745" y="18514"/>
                  <a:pt x="13745" y="18514"/>
                </a:cubicBezTo>
                <a:close/>
                <a:moveTo>
                  <a:pt x="12764" y="0"/>
                </a:moveTo>
                <a:lnTo>
                  <a:pt x="1964" y="0"/>
                </a:lnTo>
                <a:cubicBezTo>
                  <a:pt x="879" y="0"/>
                  <a:pt x="0" y="1382"/>
                  <a:pt x="0" y="3086"/>
                </a:cubicBezTo>
                <a:lnTo>
                  <a:pt x="0" y="18514"/>
                </a:lnTo>
                <a:cubicBezTo>
                  <a:pt x="0" y="20219"/>
                  <a:pt x="879" y="21600"/>
                  <a:pt x="1964" y="21600"/>
                </a:cubicBezTo>
                <a:lnTo>
                  <a:pt x="12764" y="21600"/>
                </a:lnTo>
                <a:cubicBezTo>
                  <a:pt x="13848" y="21600"/>
                  <a:pt x="14727" y="20219"/>
                  <a:pt x="14727" y="18514"/>
                </a:cubicBezTo>
                <a:lnTo>
                  <a:pt x="14727" y="3086"/>
                </a:lnTo>
                <a:cubicBezTo>
                  <a:pt x="14727" y="1382"/>
                  <a:pt x="13848" y="0"/>
                  <a:pt x="12764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8" name="Shape 2688"/>
          <p:cNvSpPr/>
          <p:nvPr/>
        </p:nvSpPr>
        <p:spPr>
          <a:xfrm>
            <a:off x="4881600" y="2473200"/>
            <a:ext cx="48744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10309"/>
                </a:moveTo>
                <a:cubicBezTo>
                  <a:pt x="20618" y="10851"/>
                  <a:pt x="20178" y="11291"/>
                  <a:pt x="19636" y="11291"/>
                </a:cubicBezTo>
                <a:lnTo>
                  <a:pt x="19636" y="7364"/>
                </a:lnTo>
                <a:cubicBezTo>
                  <a:pt x="20178" y="7364"/>
                  <a:pt x="20618" y="7804"/>
                  <a:pt x="20618" y="8345"/>
                </a:cubicBezTo>
                <a:cubicBezTo>
                  <a:pt x="20618" y="8345"/>
                  <a:pt x="20618" y="10309"/>
                  <a:pt x="20618" y="10309"/>
                </a:cubicBezTo>
                <a:close/>
                <a:moveTo>
                  <a:pt x="18655" y="17182"/>
                </a:moveTo>
                <a:cubicBezTo>
                  <a:pt x="18655" y="17453"/>
                  <a:pt x="18434" y="17673"/>
                  <a:pt x="18164" y="17673"/>
                </a:cubicBezTo>
                <a:cubicBezTo>
                  <a:pt x="17893" y="17673"/>
                  <a:pt x="17673" y="17453"/>
                  <a:pt x="17673" y="17182"/>
                </a:cubicBezTo>
                <a:lnTo>
                  <a:pt x="17673" y="1473"/>
                </a:lnTo>
                <a:cubicBezTo>
                  <a:pt x="17673" y="1202"/>
                  <a:pt x="17893" y="982"/>
                  <a:pt x="18164" y="982"/>
                </a:cubicBezTo>
                <a:cubicBezTo>
                  <a:pt x="18434" y="982"/>
                  <a:pt x="18655" y="1202"/>
                  <a:pt x="18655" y="1473"/>
                </a:cubicBezTo>
                <a:cubicBezTo>
                  <a:pt x="18655" y="1473"/>
                  <a:pt x="18655" y="17182"/>
                  <a:pt x="18655" y="17182"/>
                </a:cubicBezTo>
                <a:close/>
                <a:moveTo>
                  <a:pt x="16691" y="15788"/>
                </a:moveTo>
                <a:lnTo>
                  <a:pt x="2945" y="11745"/>
                </a:lnTo>
                <a:lnTo>
                  <a:pt x="2945" y="6910"/>
                </a:lnTo>
                <a:lnTo>
                  <a:pt x="16691" y="2867"/>
                </a:lnTo>
                <a:cubicBezTo>
                  <a:pt x="16691" y="2867"/>
                  <a:pt x="16691" y="15788"/>
                  <a:pt x="16691" y="15788"/>
                </a:cubicBezTo>
                <a:close/>
                <a:moveTo>
                  <a:pt x="8251" y="18655"/>
                </a:moveTo>
                <a:lnTo>
                  <a:pt x="5357" y="18655"/>
                </a:lnTo>
                <a:lnTo>
                  <a:pt x="4126" y="13116"/>
                </a:lnTo>
                <a:lnTo>
                  <a:pt x="7167" y="14010"/>
                </a:lnTo>
                <a:cubicBezTo>
                  <a:pt x="7167" y="14010"/>
                  <a:pt x="8251" y="18655"/>
                  <a:pt x="8251" y="18655"/>
                </a:cubicBezTo>
                <a:close/>
                <a:moveTo>
                  <a:pt x="8709" y="20618"/>
                </a:moveTo>
                <a:lnTo>
                  <a:pt x="5794" y="20618"/>
                </a:lnTo>
                <a:lnTo>
                  <a:pt x="5576" y="19636"/>
                </a:lnTo>
                <a:lnTo>
                  <a:pt x="8479" y="19636"/>
                </a:lnTo>
                <a:cubicBezTo>
                  <a:pt x="8479" y="19636"/>
                  <a:pt x="8709" y="20618"/>
                  <a:pt x="8709" y="20618"/>
                </a:cubicBezTo>
                <a:close/>
                <a:moveTo>
                  <a:pt x="1964" y="11782"/>
                </a:moveTo>
                <a:lnTo>
                  <a:pt x="982" y="11782"/>
                </a:lnTo>
                <a:lnTo>
                  <a:pt x="982" y="6873"/>
                </a:lnTo>
                <a:lnTo>
                  <a:pt x="1964" y="6873"/>
                </a:lnTo>
                <a:cubicBezTo>
                  <a:pt x="1964" y="6873"/>
                  <a:pt x="1964" y="11782"/>
                  <a:pt x="1964" y="11782"/>
                </a:cubicBezTo>
                <a:close/>
                <a:moveTo>
                  <a:pt x="19636" y="6382"/>
                </a:moveTo>
                <a:lnTo>
                  <a:pt x="19636" y="1473"/>
                </a:lnTo>
                <a:cubicBezTo>
                  <a:pt x="19636" y="659"/>
                  <a:pt x="18977" y="0"/>
                  <a:pt x="18164" y="0"/>
                </a:cubicBezTo>
                <a:cubicBezTo>
                  <a:pt x="17350" y="0"/>
                  <a:pt x="16691" y="659"/>
                  <a:pt x="16691" y="1473"/>
                </a:cubicBezTo>
                <a:lnTo>
                  <a:pt x="16691" y="1844"/>
                </a:lnTo>
                <a:lnTo>
                  <a:pt x="2459" y="6029"/>
                </a:lnTo>
                <a:cubicBezTo>
                  <a:pt x="2313" y="5944"/>
                  <a:pt x="2145" y="5891"/>
                  <a:pt x="1964" y="5891"/>
                </a:cubicBezTo>
                <a:lnTo>
                  <a:pt x="982" y="5891"/>
                </a:lnTo>
                <a:cubicBezTo>
                  <a:pt x="440" y="5891"/>
                  <a:pt x="0" y="6331"/>
                  <a:pt x="0" y="6873"/>
                </a:cubicBezTo>
                <a:lnTo>
                  <a:pt x="0" y="11782"/>
                </a:lnTo>
                <a:cubicBezTo>
                  <a:pt x="0" y="12324"/>
                  <a:pt x="440" y="12764"/>
                  <a:pt x="982" y="12764"/>
                </a:cubicBezTo>
                <a:lnTo>
                  <a:pt x="1964" y="12764"/>
                </a:lnTo>
                <a:cubicBezTo>
                  <a:pt x="2145" y="12764"/>
                  <a:pt x="2313" y="12711"/>
                  <a:pt x="2458" y="12626"/>
                </a:cubicBezTo>
                <a:lnTo>
                  <a:pt x="3050" y="12799"/>
                </a:lnTo>
                <a:lnTo>
                  <a:pt x="4921" y="21216"/>
                </a:lnTo>
                <a:lnTo>
                  <a:pt x="4930" y="21214"/>
                </a:lnTo>
                <a:cubicBezTo>
                  <a:pt x="4979" y="21433"/>
                  <a:pt x="5166" y="21600"/>
                  <a:pt x="5400" y="21600"/>
                </a:cubicBezTo>
                <a:lnTo>
                  <a:pt x="9327" y="21600"/>
                </a:lnTo>
                <a:cubicBezTo>
                  <a:pt x="9598" y="21600"/>
                  <a:pt x="9818" y="21381"/>
                  <a:pt x="9818" y="21109"/>
                </a:cubicBezTo>
                <a:cubicBezTo>
                  <a:pt x="9818" y="21072"/>
                  <a:pt x="9805" y="21039"/>
                  <a:pt x="9797" y="21005"/>
                </a:cubicBezTo>
                <a:lnTo>
                  <a:pt x="9806" y="21003"/>
                </a:lnTo>
                <a:lnTo>
                  <a:pt x="8249" y="14329"/>
                </a:lnTo>
                <a:lnTo>
                  <a:pt x="16691" y="16811"/>
                </a:lnTo>
                <a:lnTo>
                  <a:pt x="16691" y="17182"/>
                </a:lnTo>
                <a:cubicBezTo>
                  <a:pt x="16691" y="17995"/>
                  <a:pt x="17350" y="18655"/>
                  <a:pt x="18164" y="18655"/>
                </a:cubicBezTo>
                <a:cubicBezTo>
                  <a:pt x="18977" y="18655"/>
                  <a:pt x="19636" y="17995"/>
                  <a:pt x="19636" y="17182"/>
                </a:cubicBezTo>
                <a:lnTo>
                  <a:pt x="19636" y="12273"/>
                </a:lnTo>
                <a:cubicBezTo>
                  <a:pt x="20721" y="12273"/>
                  <a:pt x="21600" y="11394"/>
                  <a:pt x="21600" y="10309"/>
                </a:cubicBezTo>
                <a:lnTo>
                  <a:pt x="21600" y="8345"/>
                </a:lnTo>
                <a:cubicBezTo>
                  <a:pt x="21600" y="7261"/>
                  <a:pt x="20721" y="6382"/>
                  <a:pt x="19636" y="638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49" name="Shape 2783"/>
          <p:cNvSpPr/>
          <p:nvPr/>
        </p:nvSpPr>
        <p:spPr>
          <a:xfrm>
            <a:off x="7175520" y="2506680"/>
            <a:ext cx="488880" cy="42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5855"/>
                </a:moveTo>
                <a:lnTo>
                  <a:pt x="1633" y="10800"/>
                </a:lnTo>
                <a:lnTo>
                  <a:pt x="4615" y="9156"/>
                </a:lnTo>
                <a:lnTo>
                  <a:pt x="10589" y="12450"/>
                </a:lnTo>
                <a:lnTo>
                  <a:pt x="10591" y="12446"/>
                </a:lnTo>
                <a:cubicBezTo>
                  <a:pt x="10654" y="12482"/>
                  <a:pt x="10724" y="12505"/>
                  <a:pt x="10800" y="12505"/>
                </a:cubicBezTo>
                <a:cubicBezTo>
                  <a:pt x="10876" y="12505"/>
                  <a:pt x="10946" y="12482"/>
                  <a:pt x="11009" y="12446"/>
                </a:cubicBezTo>
                <a:lnTo>
                  <a:pt x="11011" y="12450"/>
                </a:lnTo>
                <a:lnTo>
                  <a:pt x="16985" y="9156"/>
                </a:lnTo>
                <a:lnTo>
                  <a:pt x="19967" y="10800"/>
                </a:lnTo>
                <a:cubicBezTo>
                  <a:pt x="19967" y="10800"/>
                  <a:pt x="10800" y="15855"/>
                  <a:pt x="10800" y="15855"/>
                </a:cubicBezTo>
                <a:close/>
                <a:moveTo>
                  <a:pt x="19967" y="15347"/>
                </a:moveTo>
                <a:lnTo>
                  <a:pt x="10800" y="20402"/>
                </a:lnTo>
                <a:lnTo>
                  <a:pt x="1633" y="15347"/>
                </a:lnTo>
                <a:lnTo>
                  <a:pt x="4615" y="13703"/>
                </a:lnTo>
                <a:lnTo>
                  <a:pt x="10589" y="16997"/>
                </a:lnTo>
                <a:lnTo>
                  <a:pt x="10591" y="16994"/>
                </a:lnTo>
                <a:cubicBezTo>
                  <a:pt x="10654" y="17029"/>
                  <a:pt x="10724" y="17053"/>
                  <a:pt x="10800" y="17053"/>
                </a:cubicBezTo>
                <a:cubicBezTo>
                  <a:pt x="10876" y="17053"/>
                  <a:pt x="10946" y="17029"/>
                  <a:pt x="11009" y="16994"/>
                </a:cubicBezTo>
                <a:lnTo>
                  <a:pt x="11011" y="16997"/>
                </a:lnTo>
                <a:lnTo>
                  <a:pt x="16985" y="13703"/>
                </a:lnTo>
                <a:cubicBezTo>
                  <a:pt x="16985" y="13703"/>
                  <a:pt x="19967" y="15347"/>
                  <a:pt x="19967" y="15347"/>
                </a:cubicBezTo>
                <a:close/>
                <a:moveTo>
                  <a:pt x="1633" y="6253"/>
                </a:moveTo>
                <a:lnTo>
                  <a:pt x="10800" y="1198"/>
                </a:lnTo>
                <a:lnTo>
                  <a:pt x="19967" y="6253"/>
                </a:lnTo>
                <a:lnTo>
                  <a:pt x="10800" y="11307"/>
                </a:lnTo>
                <a:cubicBezTo>
                  <a:pt x="10800" y="11307"/>
                  <a:pt x="1633" y="6253"/>
                  <a:pt x="1633" y="6253"/>
                </a:cubicBezTo>
                <a:close/>
                <a:moveTo>
                  <a:pt x="21600" y="10800"/>
                </a:moveTo>
                <a:cubicBezTo>
                  <a:pt x="21600" y="10574"/>
                  <a:pt x="21484" y="10383"/>
                  <a:pt x="21319" y="10290"/>
                </a:cubicBezTo>
                <a:lnTo>
                  <a:pt x="21320" y="10287"/>
                </a:lnTo>
                <a:lnTo>
                  <a:pt x="18127" y="8526"/>
                </a:lnTo>
                <a:lnTo>
                  <a:pt x="21320" y="6766"/>
                </a:lnTo>
                <a:lnTo>
                  <a:pt x="21319" y="6762"/>
                </a:lnTo>
                <a:cubicBezTo>
                  <a:pt x="21484" y="6671"/>
                  <a:pt x="21600" y="6479"/>
                  <a:pt x="21600" y="6253"/>
                </a:cubicBezTo>
                <a:cubicBezTo>
                  <a:pt x="21600" y="6027"/>
                  <a:pt x="21484" y="5835"/>
                  <a:pt x="21319" y="5743"/>
                </a:cubicBezTo>
                <a:lnTo>
                  <a:pt x="21320" y="5740"/>
                </a:lnTo>
                <a:lnTo>
                  <a:pt x="11011" y="56"/>
                </a:lnTo>
                <a:lnTo>
                  <a:pt x="11009" y="59"/>
                </a:lnTo>
                <a:cubicBezTo>
                  <a:pt x="10946" y="23"/>
                  <a:pt x="10876" y="0"/>
                  <a:pt x="10800" y="0"/>
                </a:cubicBezTo>
                <a:cubicBezTo>
                  <a:pt x="10724" y="0"/>
                  <a:pt x="10654" y="23"/>
                  <a:pt x="10591" y="59"/>
                </a:cubicBezTo>
                <a:lnTo>
                  <a:pt x="10589" y="56"/>
                </a:lnTo>
                <a:lnTo>
                  <a:pt x="280" y="5740"/>
                </a:lnTo>
                <a:lnTo>
                  <a:pt x="281" y="5743"/>
                </a:lnTo>
                <a:cubicBezTo>
                  <a:pt x="116" y="5835"/>
                  <a:pt x="0" y="6027"/>
                  <a:pt x="0" y="6253"/>
                </a:cubicBezTo>
                <a:cubicBezTo>
                  <a:pt x="0" y="6479"/>
                  <a:pt x="116" y="6671"/>
                  <a:pt x="281" y="6762"/>
                </a:cubicBezTo>
                <a:lnTo>
                  <a:pt x="280" y="6766"/>
                </a:lnTo>
                <a:lnTo>
                  <a:pt x="3473" y="8526"/>
                </a:lnTo>
                <a:lnTo>
                  <a:pt x="280" y="10287"/>
                </a:lnTo>
                <a:lnTo>
                  <a:pt x="281" y="10290"/>
                </a:lnTo>
                <a:cubicBezTo>
                  <a:pt x="116" y="10383"/>
                  <a:pt x="0" y="10574"/>
                  <a:pt x="0" y="10800"/>
                </a:cubicBezTo>
                <a:cubicBezTo>
                  <a:pt x="0" y="11026"/>
                  <a:pt x="116" y="11218"/>
                  <a:pt x="281" y="11310"/>
                </a:cubicBezTo>
                <a:lnTo>
                  <a:pt x="280" y="11313"/>
                </a:lnTo>
                <a:lnTo>
                  <a:pt x="3473" y="13074"/>
                </a:lnTo>
                <a:lnTo>
                  <a:pt x="280" y="14834"/>
                </a:lnTo>
                <a:lnTo>
                  <a:pt x="281" y="14838"/>
                </a:lnTo>
                <a:cubicBezTo>
                  <a:pt x="116" y="14930"/>
                  <a:pt x="0" y="15121"/>
                  <a:pt x="0" y="15347"/>
                </a:cubicBezTo>
                <a:cubicBezTo>
                  <a:pt x="0" y="15574"/>
                  <a:pt x="116" y="15765"/>
                  <a:pt x="281" y="15857"/>
                </a:cubicBezTo>
                <a:lnTo>
                  <a:pt x="280" y="15860"/>
                </a:lnTo>
                <a:lnTo>
                  <a:pt x="10589" y="21544"/>
                </a:lnTo>
                <a:lnTo>
                  <a:pt x="10591" y="21541"/>
                </a:lnTo>
                <a:cubicBezTo>
                  <a:pt x="10654" y="21577"/>
                  <a:pt x="10724" y="21600"/>
                  <a:pt x="10800" y="21600"/>
                </a:cubicBezTo>
                <a:cubicBezTo>
                  <a:pt x="10876" y="21600"/>
                  <a:pt x="10946" y="21577"/>
                  <a:pt x="11009" y="21541"/>
                </a:cubicBezTo>
                <a:lnTo>
                  <a:pt x="11011" y="21544"/>
                </a:lnTo>
                <a:lnTo>
                  <a:pt x="21320" y="15860"/>
                </a:lnTo>
                <a:lnTo>
                  <a:pt x="21319" y="15857"/>
                </a:lnTo>
                <a:cubicBezTo>
                  <a:pt x="21484" y="15765"/>
                  <a:pt x="21600" y="15574"/>
                  <a:pt x="21600" y="15347"/>
                </a:cubicBezTo>
                <a:cubicBezTo>
                  <a:pt x="21600" y="15121"/>
                  <a:pt x="21484" y="14930"/>
                  <a:pt x="21319" y="14838"/>
                </a:cubicBezTo>
                <a:lnTo>
                  <a:pt x="21320" y="14834"/>
                </a:lnTo>
                <a:lnTo>
                  <a:pt x="18127" y="13074"/>
                </a:lnTo>
                <a:lnTo>
                  <a:pt x="21320" y="11313"/>
                </a:lnTo>
                <a:lnTo>
                  <a:pt x="21319" y="11310"/>
                </a:lnTo>
                <a:cubicBezTo>
                  <a:pt x="21484" y="11218"/>
                  <a:pt x="21600" y="11026"/>
                  <a:pt x="21600" y="108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6822000" y="36496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600" spc="-1" strike="noStrike">
                <a:solidFill>
                  <a:srgbClr val="494949"/>
                </a:solidFill>
                <a:latin typeface="Nunito Bold"/>
                <a:ea typeface="Nunito Bold"/>
              </a:rPr>
              <a:t>Service 03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51" name="TextBox 14"/>
          <p:cNvSpPr/>
          <p:nvPr/>
        </p:nvSpPr>
        <p:spPr>
          <a:xfrm>
            <a:off x="2231640" y="36496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600" spc="-1" strike="noStrike">
                <a:solidFill>
                  <a:srgbClr val="494949"/>
                </a:solidFill>
                <a:latin typeface="Nunito Bold"/>
                <a:ea typeface="Nunito Bold"/>
              </a:rPr>
              <a:t>Service 01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52" name="TextBox 17"/>
          <p:cNvSpPr/>
          <p:nvPr/>
        </p:nvSpPr>
        <p:spPr>
          <a:xfrm>
            <a:off x="4536720" y="36496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600" spc="-1" strike="noStrike">
                <a:solidFill>
                  <a:srgbClr val="494949"/>
                </a:solidFill>
                <a:latin typeface="Nunito Bold"/>
                <a:ea typeface="Nunito Bold"/>
              </a:rPr>
              <a:t>Service 02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53" name="TextBox 110"/>
          <p:cNvSpPr/>
          <p:nvPr/>
        </p:nvSpPr>
        <p:spPr>
          <a:xfrm>
            <a:off x="2063880" y="736560"/>
            <a:ext cx="4518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Features with icons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828720" y="1484280"/>
          <a:ext cx="6378480" cy="2889360"/>
        </p:xfrm>
        <a:graphic>
          <a:graphicData uri="http://schemas.openxmlformats.org/drawingml/2006/table">
            <a:tbl>
              <a:tblPr/>
              <a:tblGrid>
                <a:gridCol w="1969920"/>
                <a:gridCol w="1425600"/>
                <a:gridCol w="1656000"/>
                <a:gridCol w="1326960"/>
              </a:tblGrid>
              <a:tr h="722520">
                <a:tc>
                  <a:txBody>
                    <a:bodyPr lIns="0" rIns="0" tIns="210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403459"/>
                    </a:solidFill>
                  </a:tcPr>
                </a:tc>
                <a:tc>
                  <a:txBody>
                    <a:bodyPr lIns="0" rIns="32400" tIns="210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Nunito Bold"/>
                          <a:ea typeface="Nunito Bold"/>
                        </a:rPr>
                        <a:t>A</a:t>
                      </a:r>
                      <a:endParaRPr b="0" lang="en-US" sz="20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R="32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32f80"/>
                    </a:solidFill>
                  </a:tcPr>
                </a:tc>
                <a:tc>
                  <a:txBody>
                    <a:bodyPr lIns="0" rIns="32400" tIns="210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Nunito Bold"/>
                          <a:ea typeface="Nunito Bold"/>
                        </a:rPr>
                        <a:t>B</a:t>
                      </a:r>
                      <a:endParaRPr b="0" lang="en-US" sz="20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R="32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9c5280"/>
                    </a:solidFill>
                  </a:tcPr>
                </a:tc>
                <a:tc>
                  <a:txBody>
                    <a:bodyPr lIns="0" rIns="32400" tIns="210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Nunito Bold"/>
                          <a:ea typeface="Nunito Bold"/>
                        </a:rPr>
                        <a:t>C</a:t>
                      </a:r>
                      <a:endParaRPr b="0" lang="en-US" sz="20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R="32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d2dae6"/>
                    </a:solidFill>
                  </a:tcPr>
                </a:tc>
              </a:tr>
              <a:tr h="722160">
                <a:tc>
                  <a:txBody>
                    <a:bodyPr lIns="82800" rIns="32400" tIns="150120" bIns="16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Content A</a:t>
                      </a:r>
                      <a:endParaRPr b="0" lang="en-US" sz="12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32400" tIns="150120" bIns="16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100</a:t>
                      </a:r>
                      <a:endParaRPr b="0" lang="en-US" sz="14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32400" tIns="150120" bIns="16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200</a:t>
                      </a:r>
                      <a:endParaRPr b="0" lang="en-US" sz="14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32400" tIns="150120" bIns="16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400</a:t>
                      </a:r>
                      <a:endParaRPr b="0" lang="en-US" sz="14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lIns="82800" rIns="32400" tIns="150120" bIns="16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Content B</a:t>
                      </a:r>
                      <a:endParaRPr b="0" lang="en-US" sz="12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32400" tIns="150120" bIns="16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$67,000</a:t>
                      </a:r>
                      <a:endParaRPr b="0" lang="en-US" sz="14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32400" tIns="150120" bIns="16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$56,000</a:t>
                      </a:r>
                      <a:endParaRPr b="0" lang="en-US" sz="14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32400" tIns="150120" bIns="16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$78,000</a:t>
                      </a:r>
                      <a:endParaRPr b="0" lang="en-US" sz="14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82800" rIns="32400" tIns="150120" bIns="16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Content C</a:t>
                      </a:r>
                      <a:endParaRPr b="0" lang="en-US" sz="12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32400" tIns="150120" bIns="16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4500</a:t>
                      </a:r>
                      <a:endParaRPr b="0" lang="en-US" sz="14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32400" tIns="150120" bIns="16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60000</a:t>
                      </a:r>
                      <a:endParaRPr b="0" lang="en-US" sz="14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32400" tIns="150120" bIns="16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494949"/>
                          </a:solidFill>
                          <a:latin typeface="Nunito Bold"/>
                          <a:ea typeface="Nunito Bold"/>
                        </a:rPr>
                        <a:t>$8,000</a:t>
                      </a:r>
                      <a:endParaRPr b="0" lang="en-US" sz="1400" spc="-1" strike="noStrike">
                        <a:solidFill>
                          <a:srgbClr val="b4b4b4"/>
                        </a:solidFill>
                        <a:latin typeface="Calibri"/>
                      </a:endParaRPr>
                    </a:p>
                  </a:txBody>
                  <a:tcPr anchor="t" marL="82800" marR="324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b4b4b4"/>
                      </a:solidFill>
                    </a:lnT>
                    <a:lnB w="5760">
                      <a:solidFill>
                        <a:srgbClr val="b4b4b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5" name="TextBox 3"/>
          <p:cNvSpPr/>
          <p:nvPr/>
        </p:nvSpPr>
        <p:spPr>
          <a:xfrm>
            <a:off x="726480" y="622440"/>
            <a:ext cx="53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Tables to compare data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509"/>
          <p:cNvSpPr/>
          <p:nvPr/>
        </p:nvSpPr>
        <p:spPr>
          <a:xfrm>
            <a:off x="1297080" y="1305000"/>
            <a:ext cx="6549840" cy="3201840"/>
          </a:xfrm>
          <a:custGeom>
            <a:avLst/>
            <a:gdLst/>
            <a:ahLst/>
            <a:rect l="l" t="t" r="r" b="b"/>
            <a:pathLst>
              <a:path w="19590" h="9575">
                <a:moveTo>
                  <a:pt x="4755" y="2277"/>
                </a:moveTo>
                <a:lnTo>
                  <a:pt x="4755" y="2277"/>
                </a:lnTo>
                <a:cubicBezTo>
                  <a:pt x="4802" y="2253"/>
                  <a:pt x="4802" y="2253"/>
                  <a:pt x="4802" y="2253"/>
                </a:cubicBezTo>
                <a:cubicBezTo>
                  <a:pt x="4850" y="2259"/>
                  <a:pt x="4850" y="2259"/>
                  <a:pt x="4850" y="2259"/>
                </a:cubicBezTo>
                <a:cubicBezTo>
                  <a:pt x="4850" y="2277"/>
                  <a:pt x="4850" y="2283"/>
                  <a:pt x="4856" y="2300"/>
                </a:cubicBezTo>
                <a:cubicBezTo>
                  <a:pt x="4856" y="2324"/>
                  <a:pt x="4856" y="2324"/>
                  <a:pt x="4856" y="2324"/>
                </a:cubicBezTo>
                <a:cubicBezTo>
                  <a:pt x="4832" y="2336"/>
                  <a:pt x="4832" y="2336"/>
                  <a:pt x="4832" y="2336"/>
                </a:cubicBezTo>
                <a:cubicBezTo>
                  <a:pt x="4773" y="2336"/>
                  <a:pt x="4773" y="2336"/>
                  <a:pt x="4773" y="2336"/>
                </a:cubicBezTo>
                <a:lnTo>
                  <a:pt x="4755" y="2277"/>
                </a:lnTo>
                <a:close/>
                <a:moveTo>
                  <a:pt x="4607" y="2289"/>
                </a:moveTo>
                <a:lnTo>
                  <a:pt x="4607" y="2289"/>
                </a:lnTo>
                <a:cubicBezTo>
                  <a:pt x="4631" y="2289"/>
                  <a:pt x="4648" y="2277"/>
                  <a:pt x="4666" y="2265"/>
                </a:cubicBezTo>
                <a:cubicBezTo>
                  <a:pt x="4672" y="2259"/>
                  <a:pt x="4678" y="2247"/>
                  <a:pt x="4684" y="2241"/>
                </a:cubicBezTo>
                <a:cubicBezTo>
                  <a:pt x="4678" y="2218"/>
                  <a:pt x="4678" y="2218"/>
                  <a:pt x="4678" y="2218"/>
                </a:cubicBezTo>
                <a:cubicBezTo>
                  <a:pt x="4666" y="2223"/>
                  <a:pt x="4666" y="2229"/>
                  <a:pt x="4654" y="2235"/>
                </a:cubicBezTo>
                <a:cubicBezTo>
                  <a:pt x="4648" y="2241"/>
                  <a:pt x="4636" y="2241"/>
                  <a:pt x="4631" y="2241"/>
                </a:cubicBezTo>
                <a:cubicBezTo>
                  <a:pt x="4613" y="2253"/>
                  <a:pt x="4601" y="2259"/>
                  <a:pt x="4577" y="2271"/>
                </a:cubicBezTo>
                <a:cubicBezTo>
                  <a:pt x="4589" y="2277"/>
                  <a:pt x="4595" y="2289"/>
                  <a:pt x="4607" y="2289"/>
                </a:cubicBezTo>
                <a:close/>
                <a:moveTo>
                  <a:pt x="4903" y="1287"/>
                </a:moveTo>
                <a:lnTo>
                  <a:pt x="4903" y="1287"/>
                </a:lnTo>
                <a:cubicBezTo>
                  <a:pt x="4945" y="1263"/>
                  <a:pt x="4945" y="1263"/>
                  <a:pt x="4945" y="1263"/>
                </a:cubicBezTo>
                <a:cubicBezTo>
                  <a:pt x="5016" y="1245"/>
                  <a:pt x="5016" y="1245"/>
                  <a:pt x="5016" y="1245"/>
                </a:cubicBezTo>
                <a:cubicBezTo>
                  <a:pt x="4945" y="1198"/>
                  <a:pt x="4945" y="1198"/>
                  <a:pt x="4945" y="1198"/>
                </a:cubicBezTo>
                <a:cubicBezTo>
                  <a:pt x="4838" y="1192"/>
                  <a:pt x="4838" y="1192"/>
                  <a:pt x="4838" y="1192"/>
                </a:cubicBezTo>
                <a:cubicBezTo>
                  <a:pt x="4761" y="1192"/>
                  <a:pt x="4761" y="1192"/>
                  <a:pt x="4761" y="1192"/>
                </a:cubicBezTo>
                <a:cubicBezTo>
                  <a:pt x="4773" y="1245"/>
                  <a:pt x="4773" y="1245"/>
                  <a:pt x="4773" y="1245"/>
                </a:cubicBezTo>
                <a:cubicBezTo>
                  <a:pt x="4791" y="1281"/>
                  <a:pt x="4791" y="1281"/>
                  <a:pt x="4791" y="1281"/>
                </a:cubicBezTo>
                <a:lnTo>
                  <a:pt x="4903" y="1287"/>
                </a:lnTo>
                <a:close/>
                <a:moveTo>
                  <a:pt x="13529" y="5680"/>
                </a:moveTo>
                <a:lnTo>
                  <a:pt x="13529" y="5680"/>
                </a:lnTo>
                <a:cubicBezTo>
                  <a:pt x="13529" y="5686"/>
                  <a:pt x="13523" y="5680"/>
                  <a:pt x="13517" y="5686"/>
                </a:cubicBezTo>
                <a:cubicBezTo>
                  <a:pt x="13517" y="5692"/>
                  <a:pt x="13517" y="5698"/>
                  <a:pt x="13517" y="5698"/>
                </a:cubicBezTo>
                <a:cubicBezTo>
                  <a:pt x="13517" y="5704"/>
                  <a:pt x="13517" y="5704"/>
                  <a:pt x="13517" y="5710"/>
                </a:cubicBezTo>
                <a:cubicBezTo>
                  <a:pt x="13517" y="5716"/>
                  <a:pt x="13517" y="5716"/>
                  <a:pt x="13517" y="5722"/>
                </a:cubicBezTo>
                <a:cubicBezTo>
                  <a:pt x="13517" y="5728"/>
                  <a:pt x="13523" y="5728"/>
                  <a:pt x="13523" y="5733"/>
                </a:cubicBezTo>
                <a:cubicBezTo>
                  <a:pt x="13523" y="5739"/>
                  <a:pt x="13517" y="5739"/>
                  <a:pt x="13517" y="5745"/>
                </a:cubicBezTo>
                <a:cubicBezTo>
                  <a:pt x="13517" y="5751"/>
                  <a:pt x="13523" y="5757"/>
                  <a:pt x="13523" y="5757"/>
                </a:cubicBezTo>
                <a:cubicBezTo>
                  <a:pt x="13523" y="5763"/>
                  <a:pt x="13517" y="5763"/>
                  <a:pt x="13511" y="5769"/>
                </a:cubicBezTo>
                <a:cubicBezTo>
                  <a:pt x="13511" y="5781"/>
                  <a:pt x="13511" y="5787"/>
                  <a:pt x="13511" y="5799"/>
                </a:cubicBezTo>
                <a:cubicBezTo>
                  <a:pt x="13511" y="5817"/>
                  <a:pt x="13511" y="5828"/>
                  <a:pt x="13517" y="5840"/>
                </a:cubicBezTo>
                <a:cubicBezTo>
                  <a:pt x="13523" y="5852"/>
                  <a:pt x="13529" y="5852"/>
                  <a:pt x="13541" y="5858"/>
                </a:cubicBezTo>
                <a:cubicBezTo>
                  <a:pt x="13547" y="5864"/>
                  <a:pt x="13547" y="5864"/>
                  <a:pt x="13553" y="5870"/>
                </a:cubicBezTo>
                <a:cubicBezTo>
                  <a:pt x="13559" y="5870"/>
                  <a:pt x="13565" y="5870"/>
                  <a:pt x="13577" y="5870"/>
                </a:cubicBezTo>
                <a:cubicBezTo>
                  <a:pt x="13589" y="5870"/>
                  <a:pt x="13594" y="5870"/>
                  <a:pt x="13606" y="5870"/>
                </a:cubicBezTo>
                <a:cubicBezTo>
                  <a:pt x="13606" y="5858"/>
                  <a:pt x="13606" y="5852"/>
                  <a:pt x="13606" y="5846"/>
                </a:cubicBezTo>
                <a:cubicBezTo>
                  <a:pt x="13606" y="5840"/>
                  <a:pt x="13606" y="5834"/>
                  <a:pt x="13606" y="5828"/>
                </a:cubicBezTo>
                <a:cubicBezTo>
                  <a:pt x="13606" y="5828"/>
                  <a:pt x="13606" y="5822"/>
                  <a:pt x="13606" y="5817"/>
                </a:cubicBezTo>
                <a:cubicBezTo>
                  <a:pt x="13606" y="5810"/>
                  <a:pt x="13600" y="5805"/>
                  <a:pt x="13600" y="5799"/>
                </a:cubicBezTo>
                <a:cubicBezTo>
                  <a:pt x="13600" y="5787"/>
                  <a:pt x="13600" y="5787"/>
                  <a:pt x="13600" y="5787"/>
                </a:cubicBezTo>
                <a:cubicBezTo>
                  <a:pt x="13600" y="5775"/>
                  <a:pt x="13600" y="5775"/>
                  <a:pt x="13600" y="5775"/>
                </a:cubicBezTo>
                <a:cubicBezTo>
                  <a:pt x="13600" y="5769"/>
                  <a:pt x="13594" y="5769"/>
                  <a:pt x="13594" y="5763"/>
                </a:cubicBezTo>
                <a:cubicBezTo>
                  <a:pt x="13594" y="5757"/>
                  <a:pt x="13589" y="5757"/>
                  <a:pt x="13582" y="5751"/>
                </a:cubicBezTo>
                <a:cubicBezTo>
                  <a:pt x="13582" y="5745"/>
                  <a:pt x="13582" y="5745"/>
                  <a:pt x="13582" y="5739"/>
                </a:cubicBezTo>
                <a:cubicBezTo>
                  <a:pt x="13577" y="5733"/>
                  <a:pt x="13571" y="5733"/>
                  <a:pt x="13571" y="5728"/>
                </a:cubicBezTo>
                <a:cubicBezTo>
                  <a:pt x="13565" y="5728"/>
                  <a:pt x="13565" y="5722"/>
                  <a:pt x="13559" y="5722"/>
                </a:cubicBezTo>
                <a:cubicBezTo>
                  <a:pt x="13559" y="5716"/>
                  <a:pt x="13553" y="5710"/>
                  <a:pt x="13553" y="5710"/>
                </a:cubicBezTo>
                <a:cubicBezTo>
                  <a:pt x="13547" y="5698"/>
                  <a:pt x="13547" y="5692"/>
                  <a:pt x="13547" y="5680"/>
                </a:cubicBezTo>
                <a:lnTo>
                  <a:pt x="13529" y="5680"/>
                </a:lnTo>
                <a:close/>
                <a:moveTo>
                  <a:pt x="17045" y="8578"/>
                </a:moveTo>
                <a:lnTo>
                  <a:pt x="17045" y="8578"/>
                </a:lnTo>
                <a:cubicBezTo>
                  <a:pt x="17051" y="8590"/>
                  <a:pt x="17057" y="8590"/>
                  <a:pt x="17057" y="8602"/>
                </a:cubicBezTo>
                <a:cubicBezTo>
                  <a:pt x="17063" y="8602"/>
                  <a:pt x="17057" y="8608"/>
                  <a:pt x="17057" y="8614"/>
                </a:cubicBezTo>
                <a:cubicBezTo>
                  <a:pt x="17057" y="8626"/>
                  <a:pt x="17057" y="8626"/>
                  <a:pt x="17057" y="8626"/>
                </a:cubicBezTo>
                <a:cubicBezTo>
                  <a:pt x="17057" y="8632"/>
                  <a:pt x="17063" y="8632"/>
                  <a:pt x="17063" y="8638"/>
                </a:cubicBezTo>
                <a:cubicBezTo>
                  <a:pt x="17069" y="8644"/>
                  <a:pt x="17069" y="8644"/>
                  <a:pt x="17075" y="8650"/>
                </a:cubicBezTo>
                <a:cubicBezTo>
                  <a:pt x="17081" y="8650"/>
                  <a:pt x="17087" y="8650"/>
                  <a:pt x="17087" y="8655"/>
                </a:cubicBezTo>
                <a:cubicBezTo>
                  <a:pt x="17099" y="8655"/>
                  <a:pt x="17104" y="8661"/>
                  <a:pt x="17110" y="8673"/>
                </a:cubicBezTo>
                <a:cubicBezTo>
                  <a:pt x="17110" y="8673"/>
                  <a:pt x="17110" y="8679"/>
                  <a:pt x="17110" y="8685"/>
                </a:cubicBezTo>
                <a:cubicBezTo>
                  <a:pt x="17110" y="8691"/>
                  <a:pt x="17116" y="8691"/>
                  <a:pt x="17122" y="8697"/>
                </a:cubicBezTo>
                <a:cubicBezTo>
                  <a:pt x="17122" y="8703"/>
                  <a:pt x="17134" y="8709"/>
                  <a:pt x="17134" y="8721"/>
                </a:cubicBezTo>
                <a:cubicBezTo>
                  <a:pt x="17140" y="8727"/>
                  <a:pt x="17140" y="8733"/>
                  <a:pt x="17146" y="8739"/>
                </a:cubicBezTo>
                <a:cubicBezTo>
                  <a:pt x="17152" y="8744"/>
                  <a:pt x="17158" y="8744"/>
                  <a:pt x="17158" y="8744"/>
                </a:cubicBezTo>
                <a:cubicBezTo>
                  <a:pt x="17187" y="8744"/>
                  <a:pt x="17187" y="8744"/>
                  <a:pt x="17187" y="8744"/>
                </a:cubicBezTo>
                <a:cubicBezTo>
                  <a:pt x="17187" y="8733"/>
                  <a:pt x="17187" y="8721"/>
                  <a:pt x="17187" y="8709"/>
                </a:cubicBezTo>
                <a:cubicBezTo>
                  <a:pt x="17187" y="8709"/>
                  <a:pt x="17187" y="8709"/>
                  <a:pt x="17187" y="8703"/>
                </a:cubicBezTo>
                <a:cubicBezTo>
                  <a:pt x="17235" y="8703"/>
                  <a:pt x="17235" y="8703"/>
                  <a:pt x="17235" y="8703"/>
                </a:cubicBezTo>
                <a:cubicBezTo>
                  <a:pt x="17235" y="8673"/>
                  <a:pt x="17235" y="8673"/>
                  <a:pt x="17235" y="8673"/>
                </a:cubicBezTo>
                <a:cubicBezTo>
                  <a:pt x="17235" y="8667"/>
                  <a:pt x="17223" y="8661"/>
                  <a:pt x="17223" y="8655"/>
                </a:cubicBezTo>
                <a:cubicBezTo>
                  <a:pt x="17223" y="8650"/>
                  <a:pt x="17229" y="8644"/>
                  <a:pt x="17229" y="8644"/>
                </a:cubicBezTo>
                <a:cubicBezTo>
                  <a:pt x="17235" y="8638"/>
                  <a:pt x="17241" y="8638"/>
                  <a:pt x="17241" y="8638"/>
                </a:cubicBezTo>
                <a:cubicBezTo>
                  <a:pt x="17247" y="8632"/>
                  <a:pt x="17253" y="8632"/>
                  <a:pt x="17253" y="8626"/>
                </a:cubicBezTo>
                <a:cubicBezTo>
                  <a:pt x="17253" y="8626"/>
                  <a:pt x="17253" y="8620"/>
                  <a:pt x="17253" y="8614"/>
                </a:cubicBezTo>
                <a:cubicBezTo>
                  <a:pt x="17253" y="8614"/>
                  <a:pt x="17253" y="8608"/>
                  <a:pt x="17253" y="8602"/>
                </a:cubicBezTo>
                <a:cubicBezTo>
                  <a:pt x="17253" y="8602"/>
                  <a:pt x="17253" y="8596"/>
                  <a:pt x="17253" y="8590"/>
                </a:cubicBezTo>
                <a:cubicBezTo>
                  <a:pt x="17253" y="8590"/>
                  <a:pt x="17253" y="8584"/>
                  <a:pt x="17253" y="8578"/>
                </a:cubicBezTo>
                <a:cubicBezTo>
                  <a:pt x="17187" y="8578"/>
                  <a:pt x="17187" y="8578"/>
                  <a:pt x="17187" y="8578"/>
                </a:cubicBezTo>
                <a:cubicBezTo>
                  <a:pt x="17181" y="8578"/>
                  <a:pt x="17176" y="8584"/>
                  <a:pt x="17176" y="8584"/>
                </a:cubicBezTo>
                <a:cubicBezTo>
                  <a:pt x="17170" y="8590"/>
                  <a:pt x="17164" y="8584"/>
                  <a:pt x="17158" y="8584"/>
                </a:cubicBezTo>
                <a:cubicBezTo>
                  <a:pt x="17158" y="8590"/>
                  <a:pt x="17152" y="8590"/>
                  <a:pt x="17146" y="8590"/>
                </a:cubicBezTo>
                <a:cubicBezTo>
                  <a:pt x="17146" y="8590"/>
                  <a:pt x="17140" y="8590"/>
                  <a:pt x="17134" y="8590"/>
                </a:cubicBezTo>
                <a:cubicBezTo>
                  <a:pt x="17134" y="8590"/>
                  <a:pt x="17134" y="8578"/>
                  <a:pt x="17128" y="8578"/>
                </a:cubicBezTo>
                <a:cubicBezTo>
                  <a:pt x="17122" y="8578"/>
                  <a:pt x="17122" y="8572"/>
                  <a:pt x="17116" y="8572"/>
                </a:cubicBezTo>
                <a:cubicBezTo>
                  <a:pt x="17110" y="8567"/>
                  <a:pt x="17110" y="8561"/>
                  <a:pt x="17110" y="8561"/>
                </a:cubicBezTo>
                <a:cubicBezTo>
                  <a:pt x="17104" y="8555"/>
                  <a:pt x="17099" y="8549"/>
                  <a:pt x="17093" y="8549"/>
                </a:cubicBezTo>
                <a:cubicBezTo>
                  <a:pt x="17087" y="8549"/>
                  <a:pt x="17081" y="8549"/>
                  <a:pt x="17075" y="8549"/>
                </a:cubicBezTo>
                <a:cubicBezTo>
                  <a:pt x="17069" y="8549"/>
                  <a:pt x="17063" y="8549"/>
                  <a:pt x="17057" y="8555"/>
                </a:cubicBezTo>
                <a:cubicBezTo>
                  <a:pt x="17057" y="8555"/>
                  <a:pt x="17057" y="8561"/>
                  <a:pt x="17057" y="8567"/>
                </a:cubicBezTo>
                <a:cubicBezTo>
                  <a:pt x="17057" y="8567"/>
                  <a:pt x="17045" y="8572"/>
                  <a:pt x="17045" y="8578"/>
                </a:cubicBezTo>
                <a:close/>
                <a:moveTo>
                  <a:pt x="17223" y="8495"/>
                </a:moveTo>
                <a:lnTo>
                  <a:pt x="17223" y="8495"/>
                </a:lnTo>
                <a:cubicBezTo>
                  <a:pt x="17223" y="8501"/>
                  <a:pt x="17223" y="8501"/>
                  <a:pt x="17223" y="8507"/>
                </a:cubicBezTo>
                <a:cubicBezTo>
                  <a:pt x="17223" y="8513"/>
                  <a:pt x="17223" y="8513"/>
                  <a:pt x="17223" y="8519"/>
                </a:cubicBezTo>
                <a:cubicBezTo>
                  <a:pt x="17229" y="8525"/>
                  <a:pt x="17235" y="8525"/>
                  <a:pt x="17235" y="8525"/>
                </a:cubicBezTo>
                <a:cubicBezTo>
                  <a:pt x="17241" y="8531"/>
                  <a:pt x="17247" y="8525"/>
                  <a:pt x="17247" y="8525"/>
                </a:cubicBezTo>
                <a:cubicBezTo>
                  <a:pt x="17253" y="8531"/>
                  <a:pt x="17247" y="8537"/>
                  <a:pt x="17253" y="8537"/>
                </a:cubicBezTo>
                <a:cubicBezTo>
                  <a:pt x="17253" y="8543"/>
                  <a:pt x="17253" y="8549"/>
                  <a:pt x="17253" y="8549"/>
                </a:cubicBezTo>
                <a:cubicBezTo>
                  <a:pt x="17276" y="8549"/>
                  <a:pt x="17276" y="8549"/>
                  <a:pt x="17276" y="8549"/>
                </a:cubicBezTo>
                <a:cubicBezTo>
                  <a:pt x="17276" y="8525"/>
                  <a:pt x="17276" y="8525"/>
                  <a:pt x="17276" y="8525"/>
                </a:cubicBezTo>
                <a:cubicBezTo>
                  <a:pt x="17276" y="8525"/>
                  <a:pt x="17276" y="8519"/>
                  <a:pt x="17270" y="8513"/>
                </a:cubicBezTo>
                <a:cubicBezTo>
                  <a:pt x="17270" y="8513"/>
                  <a:pt x="17259" y="8513"/>
                  <a:pt x="17259" y="8507"/>
                </a:cubicBezTo>
                <a:lnTo>
                  <a:pt x="17253" y="8501"/>
                </a:lnTo>
                <a:cubicBezTo>
                  <a:pt x="17247" y="8495"/>
                  <a:pt x="17253" y="8489"/>
                  <a:pt x="17247" y="8489"/>
                </a:cubicBezTo>
                <a:cubicBezTo>
                  <a:pt x="17247" y="8484"/>
                  <a:pt x="17241" y="8489"/>
                  <a:pt x="17235" y="8489"/>
                </a:cubicBezTo>
                <a:cubicBezTo>
                  <a:pt x="17235" y="8484"/>
                  <a:pt x="17229" y="8495"/>
                  <a:pt x="17223" y="8495"/>
                </a:cubicBezTo>
                <a:close/>
                <a:moveTo>
                  <a:pt x="17015" y="8484"/>
                </a:moveTo>
                <a:lnTo>
                  <a:pt x="17015" y="8484"/>
                </a:lnTo>
                <a:cubicBezTo>
                  <a:pt x="17010" y="8484"/>
                  <a:pt x="17010" y="8484"/>
                  <a:pt x="17004" y="8489"/>
                </a:cubicBezTo>
                <a:cubicBezTo>
                  <a:pt x="17004" y="8489"/>
                  <a:pt x="16998" y="8495"/>
                  <a:pt x="16998" y="8501"/>
                </a:cubicBezTo>
                <a:cubicBezTo>
                  <a:pt x="16998" y="8513"/>
                  <a:pt x="17010" y="8519"/>
                  <a:pt x="17015" y="8531"/>
                </a:cubicBezTo>
                <a:cubicBezTo>
                  <a:pt x="17027" y="8531"/>
                  <a:pt x="17027" y="8531"/>
                  <a:pt x="17027" y="8531"/>
                </a:cubicBezTo>
                <a:cubicBezTo>
                  <a:pt x="17027" y="8484"/>
                  <a:pt x="17027" y="8484"/>
                  <a:pt x="17027" y="8484"/>
                </a:cubicBezTo>
                <a:cubicBezTo>
                  <a:pt x="17021" y="8484"/>
                  <a:pt x="17021" y="8478"/>
                  <a:pt x="17015" y="8484"/>
                </a:cubicBezTo>
                <a:close/>
                <a:moveTo>
                  <a:pt x="18385" y="8952"/>
                </a:moveTo>
                <a:lnTo>
                  <a:pt x="18385" y="8952"/>
                </a:lnTo>
                <a:cubicBezTo>
                  <a:pt x="18385" y="8952"/>
                  <a:pt x="18385" y="8946"/>
                  <a:pt x="18391" y="8946"/>
                </a:cubicBezTo>
                <a:cubicBezTo>
                  <a:pt x="18391" y="8940"/>
                  <a:pt x="18397" y="8940"/>
                  <a:pt x="18403" y="8940"/>
                </a:cubicBezTo>
                <a:cubicBezTo>
                  <a:pt x="18403" y="8934"/>
                  <a:pt x="18403" y="8928"/>
                  <a:pt x="18409" y="8928"/>
                </a:cubicBezTo>
                <a:cubicBezTo>
                  <a:pt x="18409" y="8922"/>
                  <a:pt x="18415" y="8922"/>
                  <a:pt x="18421" y="8922"/>
                </a:cubicBezTo>
                <a:cubicBezTo>
                  <a:pt x="18433" y="8916"/>
                  <a:pt x="18438" y="8916"/>
                  <a:pt x="18450" y="8916"/>
                </a:cubicBezTo>
                <a:cubicBezTo>
                  <a:pt x="18450" y="8905"/>
                  <a:pt x="18450" y="8899"/>
                  <a:pt x="18456" y="8887"/>
                </a:cubicBezTo>
                <a:lnTo>
                  <a:pt x="18462" y="8881"/>
                </a:lnTo>
                <a:cubicBezTo>
                  <a:pt x="18468" y="8869"/>
                  <a:pt x="18480" y="8863"/>
                  <a:pt x="18486" y="8857"/>
                </a:cubicBezTo>
                <a:cubicBezTo>
                  <a:pt x="18492" y="8857"/>
                  <a:pt x="18498" y="8851"/>
                  <a:pt x="18498" y="8845"/>
                </a:cubicBezTo>
                <a:cubicBezTo>
                  <a:pt x="18504" y="8839"/>
                  <a:pt x="18504" y="8833"/>
                  <a:pt x="18504" y="8821"/>
                </a:cubicBezTo>
                <a:cubicBezTo>
                  <a:pt x="18504" y="8816"/>
                  <a:pt x="18510" y="8810"/>
                  <a:pt x="18510" y="8804"/>
                </a:cubicBezTo>
                <a:cubicBezTo>
                  <a:pt x="18510" y="8798"/>
                  <a:pt x="18515" y="8792"/>
                  <a:pt x="18515" y="8792"/>
                </a:cubicBezTo>
                <a:cubicBezTo>
                  <a:pt x="18515" y="8786"/>
                  <a:pt x="18515" y="8780"/>
                  <a:pt x="18515" y="8780"/>
                </a:cubicBezTo>
                <a:cubicBezTo>
                  <a:pt x="18522" y="8774"/>
                  <a:pt x="18527" y="8774"/>
                  <a:pt x="18527" y="8768"/>
                </a:cubicBezTo>
                <a:cubicBezTo>
                  <a:pt x="18539" y="8762"/>
                  <a:pt x="18545" y="8762"/>
                  <a:pt x="18551" y="8756"/>
                </a:cubicBezTo>
                <a:cubicBezTo>
                  <a:pt x="18557" y="8756"/>
                  <a:pt x="18557" y="8756"/>
                  <a:pt x="18563" y="8756"/>
                </a:cubicBezTo>
                <a:cubicBezTo>
                  <a:pt x="18575" y="8756"/>
                  <a:pt x="18587" y="8756"/>
                  <a:pt x="18599" y="8756"/>
                </a:cubicBezTo>
                <a:cubicBezTo>
                  <a:pt x="18604" y="8756"/>
                  <a:pt x="18604" y="8756"/>
                  <a:pt x="18610" y="8756"/>
                </a:cubicBezTo>
                <a:cubicBezTo>
                  <a:pt x="18610" y="8750"/>
                  <a:pt x="18604" y="8750"/>
                  <a:pt x="18604" y="8744"/>
                </a:cubicBezTo>
                <a:cubicBezTo>
                  <a:pt x="18599" y="8739"/>
                  <a:pt x="18593" y="8739"/>
                  <a:pt x="18593" y="8733"/>
                </a:cubicBezTo>
                <a:cubicBezTo>
                  <a:pt x="18593" y="8715"/>
                  <a:pt x="18599" y="8709"/>
                  <a:pt x="18604" y="8703"/>
                </a:cubicBezTo>
                <a:cubicBezTo>
                  <a:pt x="18610" y="8691"/>
                  <a:pt x="18622" y="8691"/>
                  <a:pt x="18628" y="8685"/>
                </a:cubicBezTo>
                <a:cubicBezTo>
                  <a:pt x="18634" y="8685"/>
                  <a:pt x="18640" y="8685"/>
                  <a:pt x="18640" y="8679"/>
                </a:cubicBezTo>
                <a:cubicBezTo>
                  <a:pt x="18646" y="8679"/>
                  <a:pt x="18646" y="8673"/>
                  <a:pt x="18652" y="8667"/>
                </a:cubicBezTo>
                <a:cubicBezTo>
                  <a:pt x="18652" y="8667"/>
                  <a:pt x="18658" y="8661"/>
                  <a:pt x="18664" y="8655"/>
                </a:cubicBezTo>
                <a:cubicBezTo>
                  <a:pt x="18664" y="8655"/>
                  <a:pt x="18658" y="8650"/>
                  <a:pt x="18664" y="8650"/>
                </a:cubicBezTo>
                <a:cubicBezTo>
                  <a:pt x="18664" y="8644"/>
                  <a:pt x="18664" y="8638"/>
                  <a:pt x="18664" y="8638"/>
                </a:cubicBezTo>
                <a:cubicBezTo>
                  <a:pt x="18664" y="8632"/>
                  <a:pt x="18664" y="8632"/>
                  <a:pt x="18664" y="8626"/>
                </a:cubicBezTo>
                <a:cubicBezTo>
                  <a:pt x="18664" y="8590"/>
                  <a:pt x="18664" y="8590"/>
                  <a:pt x="18664" y="8590"/>
                </a:cubicBezTo>
                <a:cubicBezTo>
                  <a:pt x="18652" y="8590"/>
                  <a:pt x="18646" y="8590"/>
                  <a:pt x="18634" y="8590"/>
                </a:cubicBezTo>
                <a:cubicBezTo>
                  <a:pt x="18628" y="8590"/>
                  <a:pt x="18616" y="8590"/>
                  <a:pt x="18610" y="8584"/>
                </a:cubicBezTo>
                <a:lnTo>
                  <a:pt x="18610" y="8578"/>
                </a:lnTo>
                <a:cubicBezTo>
                  <a:pt x="18610" y="8572"/>
                  <a:pt x="18604" y="8567"/>
                  <a:pt x="18604" y="8567"/>
                </a:cubicBezTo>
                <a:cubicBezTo>
                  <a:pt x="18604" y="8561"/>
                  <a:pt x="18599" y="8561"/>
                  <a:pt x="18593" y="8555"/>
                </a:cubicBezTo>
                <a:cubicBezTo>
                  <a:pt x="18587" y="8555"/>
                  <a:pt x="18581" y="8549"/>
                  <a:pt x="18575" y="8549"/>
                </a:cubicBezTo>
                <a:cubicBezTo>
                  <a:pt x="18563" y="8549"/>
                  <a:pt x="18557" y="8555"/>
                  <a:pt x="18545" y="8555"/>
                </a:cubicBezTo>
                <a:cubicBezTo>
                  <a:pt x="18545" y="8608"/>
                  <a:pt x="18545" y="8608"/>
                  <a:pt x="18545" y="8608"/>
                </a:cubicBezTo>
                <a:cubicBezTo>
                  <a:pt x="18522" y="8620"/>
                  <a:pt x="18522" y="8620"/>
                  <a:pt x="18522" y="8620"/>
                </a:cubicBezTo>
                <a:cubicBezTo>
                  <a:pt x="18522" y="8620"/>
                  <a:pt x="18515" y="8620"/>
                  <a:pt x="18510" y="8626"/>
                </a:cubicBezTo>
                <a:cubicBezTo>
                  <a:pt x="18510" y="8626"/>
                  <a:pt x="18504" y="8626"/>
                  <a:pt x="18504" y="8632"/>
                </a:cubicBezTo>
                <a:cubicBezTo>
                  <a:pt x="18498" y="8638"/>
                  <a:pt x="18504" y="8638"/>
                  <a:pt x="18504" y="8644"/>
                </a:cubicBezTo>
                <a:cubicBezTo>
                  <a:pt x="18498" y="8655"/>
                  <a:pt x="18504" y="8667"/>
                  <a:pt x="18504" y="8679"/>
                </a:cubicBezTo>
                <a:cubicBezTo>
                  <a:pt x="18504" y="8691"/>
                  <a:pt x="18492" y="8691"/>
                  <a:pt x="18486" y="8703"/>
                </a:cubicBezTo>
                <a:cubicBezTo>
                  <a:pt x="18480" y="8709"/>
                  <a:pt x="18474" y="8715"/>
                  <a:pt x="18462" y="8721"/>
                </a:cubicBezTo>
                <a:cubicBezTo>
                  <a:pt x="18456" y="8727"/>
                  <a:pt x="18444" y="8727"/>
                  <a:pt x="18438" y="8733"/>
                </a:cubicBezTo>
                <a:cubicBezTo>
                  <a:pt x="18427" y="8739"/>
                  <a:pt x="18427" y="8744"/>
                  <a:pt x="18415" y="8750"/>
                </a:cubicBezTo>
                <a:cubicBezTo>
                  <a:pt x="18403" y="8756"/>
                  <a:pt x="18403" y="8756"/>
                  <a:pt x="18403" y="8756"/>
                </a:cubicBezTo>
                <a:cubicBezTo>
                  <a:pt x="18403" y="8756"/>
                  <a:pt x="18397" y="8756"/>
                  <a:pt x="18391" y="8756"/>
                </a:cubicBezTo>
                <a:cubicBezTo>
                  <a:pt x="18391" y="8762"/>
                  <a:pt x="18385" y="8768"/>
                  <a:pt x="18385" y="8768"/>
                </a:cubicBezTo>
                <a:cubicBezTo>
                  <a:pt x="18379" y="8774"/>
                  <a:pt x="18373" y="8774"/>
                  <a:pt x="18373" y="8780"/>
                </a:cubicBezTo>
                <a:cubicBezTo>
                  <a:pt x="18367" y="8780"/>
                  <a:pt x="18367" y="8786"/>
                  <a:pt x="18361" y="8792"/>
                </a:cubicBezTo>
                <a:lnTo>
                  <a:pt x="18356" y="8792"/>
                </a:lnTo>
                <a:cubicBezTo>
                  <a:pt x="18344" y="8798"/>
                  <a:pt x="18332" y="8798"/>
                  <a:pt x="18326" y="8804"/>
                </a:cubicBezTo>
                <a:cubicBezTo>
                  <a:pt x="18326" y="8804"/>
                  <a:pt x="18326" y="8810"/>
                  <a:pt x="18320" y="8810"/>
                </a:cubicBezTo>
                <a:cubicBezTo>
                  <a:pt x="18314" y="8821"/>
                  <a:pt x="18314" y="8827"/>
                  <a:pt x="18308" y="8833"/>
                </a:cubicBezTo>
                <a:cubicBezTo>
                  <a:pt x="18308" y="8839"/>
                  <a:pt x="18302" y="8839"/>
                  <a:pt x="18296" y="8845"/>
                </a:cubicBezTo>
                <a:cubicBezTo>
                  <a:pt x="18296" y="8845"/>
                  <a:pt x="18290" y="8845"/>
                  <a:pt x="18284" y="8851"/>
                </a:cubicBezTo>
                <a:lnTo>
                  <a:pt x="18278" y="8857"/>
                </a:lnTo>
                <a:cubicBezTo>
                  <a:pt x="18272" y="8857"/>
                  <a:pt x="18267" y="8857"/>
                  <a:pt x="18267" y="8857"/>
                </a:cubicBezTo>
                <a:cubicBezTo>
                  <a:pt x="18260" y="8857"/>
                  <a:pt x="18255" y="8863"/>
                  <a:pt x="18255" y="8863"/>
                </a:cubicBezTo>
                <a:cubicBezTo>
                  <a:pt x="18255" y="8863"/>
                  <a:pt x="18255" y="8869"/>
                  <a:pt x="18255" y="8875"/>
                </a:cubicBezTo>
                <a:cubicBezTo>
                  <a:pt x="18255" y="8875"/>
                  <a:pt x="18249" y="8881"/>
                  <a:pt x="18249" y="8887"/>
                </a:cubicBezTo>
                <a:cubicBezTo>
                  <a:pt x="18249" y="8887"/>
                  <a:pt x="18243" y="8887"/>
                  <a:pt x="18243" y="8893"/>
                </a:cubicBezTo>
                <a:cubicBezTo>
                  <a:pt x="18243" y="8905"/>
                  <a:pt x="18249" y="8910"/>
                  <a:pt x="18255" y="8916"/>
                </a:cubicBezTo>
                <a:cubicBezTo>
                  <a:pt x="18260" y="8916"/>
                  <a:pt x="18260" y="8922"/>
                  <a:pt x="18267" y="8922"/>
                </a:cubicBezTo>
                <a:cubicBezTo>
                  <a:pt x="18278" y="8922"/>
                  <a:pt x="18290" y="8922"/>
                  <a:pt x="18302" y="8922"/>
                </a:cubicBezTo>
                <a:cubicBezTo>
                  <a:pt x="18314" y="8922"/>
                  <a:pt x="18320" y="8922"/>
                  <a:pt x="18326" y="8922"/>
                </a:cubicBezTo>
                <a:cubicBezTo>
                  <a:pt x="18332" y="8928"/>
                  <a:pt x="18332" y="8928"/>
                  <a:pt x="18338" y="8934"/>
                </a:cubicBezTo>
                <a:cubicBezTo>
                  <a:pt x="18344" y="8934"/>
                  <a:pt x="18344" y="8940"/>
                  <a:pt x="18349" y="8946"/>
                </a:cubicBezTo>
                <a:cubicBezTo>
                  <a:pt x="18356" y="8946"/>
                  <a:pt x="18361" y="8952"/>
                  <a:pt x="18373" y="8952"/>
                </a:cubicBezTo>
                <a:cubicBezTo>
                  <a:pt x="18373" y="8952"/>
                  <a:pt x="18379" y="8952"/>
                  <a:pt x="18385" y="8952"/>
                </a:cubicBezTo>
                <a:close/>
                <a:moveTo>
                  <a:pt x="18314" y="8976"/>
                </a:moveTo>
                <a:lnTo>
                  <a:pt x="18314" y="8976"/>
                </a:lnTo>
                <a:cubicBezTo>
                  <a:pt x="18308" y="8982"/>
                  <a:pt x="18308" y="8987"/>
                  <a:pt x="18308" y="8987"/>
                </a:cubicBezTo>
                <a:cubicBezTo>
                  <a:pt x="18302" y="8993"/>
                  <a:pt x="18296" y="8987"/>
                  <a:pt x="18296" y="8987"/>
                </a:cubicBezTo>
                <a:cubicBezTo>
                  <a:pt x="18290" y="8993"/>
                  <a:pt x="18296" y="8999"/>
                  <a:pt x="18290" y="8999"/>
                </a:cubicBezTo>
                <a:cubicBezTo>
                  <a:pt x="18338" y="8999"/>
                  <a:pt x="18338" y="8999"/>
                  <a:pt x="18338" y="8999"/>
                </a:cubicBezTo>
                <a:cubicBezTo>
                  <a:pt x="18338" y="8987"/>
                  <a:pt x="18338" y="8987"/>
                  <a:pt x="18338" y="8987"/>
                </a:cubicBezTo>
                <a:cubicBezTo>
                  <a:pt x="18338" y="8982"/>
                  <a:pt x="18338" y="8982"/>
                  <a:pt x="18338" y="8976"/>
                </a:cubicBezTo>
                <a:cubicBezTo>
                  <a:pt x="18332" y="8982"/>
                  <a:pt x="18314" y="8976"/>
                  <a:pt x="18314" y="8976"/>
                </a:cubicBezTo>
                <a:close/>
                <a:moveTo>
                  <a:pt x="18676" y="8341"/>
                </a:moveTo>
                <a:lnTo>
                  <a:pt x="18676" y="8341"/>
                </a:lnTo>
                <a:cubicBezTo>
                  <a:pt x="18676" y="8347"/>
                  <a:pt x="18676" y="8347"/>
                  <a:pt x="18676" y="8353"/>
                </a:cubicBezTo>
                <a:cubicBezTo>
                  <a:pt x="18682" y="8359"/>
                  <a:pt x="18682" y="8359"/>
                  <a:pt x="18682" y="8365"/>
                </a:cubicBezTo>
                <a:cubicBezTo>
                  <a:pt x="18687" y="8371"/>
                  <a:pt x="18693" y="8371"/>
                  <a:pt x="18693" y="8377"/>
                </a:cubicBezTo>
                <a:cubicBezTo>
                  <a:pt x="18693" y="8448"/>
                  <a:pt x="18693" y="8448"/>
                  <a:pt x="18693" y="8448"/>
                </a:cubicBezTo>
                <a:cubicBezTo>
                  <a:pt x="18634" y="8448"/>
                  <a:pt x="18634" y="8448"/>
                  <a:pt x="18634" y="8448"/>
                </a:cubicBezTo>
                <a:cubicBezTo>
                  <a:pt x="18634" y="8460"/>
                  <a:pt x="18628" y="8466"/>
                  <a:pt x="18634" y="8478"/>
                </a:cubicBezTo>
                <a:cubicBezTo>
                  <a:pt x="18634" y="8484"/>
                  <a:pt x="18634" y="8484"/>
                  <a:pt x="18634" y="8489"/>
                </a:cubicBezTo>
                <a:cubicBezTo>
                  <a:pt x="18634" y="8501"/>
                  <a:pt x="18634" y="8501"/>
                  <a:pt x="18634" y="8501"/>
                </a:cubicBezTo>
                <a:cubicBezTo>
                  <a:pt x="18711" y="8501"/>
                  <a:pt x="18711" y="8501"/>
                  <a:pt x="18711" y="8501"/>
                </a:cubicBezTo>
                <a:cubicBezTo>
                  <a:pt x="18711" y="8596"/>
                  <a:pt x="18711" y="8596"/>
                  <a:pt x="18711" y="8596"/>
                </a:cubicBezTo>
                <a:cubicBezTo>
                  <a:pt x="18759" y="8596"/>
                  <a:pt x="18759" y="8596"/>
                  <a:pt x="18759" y="8596"/>
                </a:cubicBezTo>
                <a:cubicBezTo>
                  <a:pt x="18759" y="8584"/>
                  <a:pt x="18759" y="8578"/>
                  <a:pt x="18765" y="8567"/>
                </a:cubicBezTo>
                <a:cubicBezTo>
                  <a:pt x="18765" y="8561"/>
                  <a:pt x="18770" y="8561"/>
                  <a:pt x="18776" y="8555"/>
                </a:cubicBezTo>
                <a:cubicBezTo>
                  <a:pt x="18776" y="8555"/>
                  <a:pt x="18782" y="8549"/>
                  <a:pt x="18788" y="8549"/>
                </a:cubicBezTo>
                <a:cubicBezTo>
                  <a:pt x="18788" y="8543"/>
                  <a:pt x="18794" y="8543"/>
                  <a:pt x="18800" y="8537"/>
                </a:cubicBezTo>
                <a:cubicBezTo>
                  <a:pt x="18800" y="8537"/>
                  <a:pt x="18800" y="8531"/>
                  <a:pt x="18800" y="8525"/>
                </a:cubicBezTo>
                <a:cubicBezTo>
                  <a:pt x="18806" y="8519"/>
                  <a:pt x="18806" y="8513"/>
                  <a:pt x="18812" y="8501"/>
                </a:cubicBezTo>
                <a:lnTo>
                  <a:pt x="18818" y="8495"/>
                </a:lnTo>
                <a:cubicBezTo>
                  <a:pt x="18818" y="8484"/>
                  <a:pt x="18818" y="8478"/>
                  <a:pt x="18818" y="8472"/>
                </a:cubicBezTo>
                <a:cubicBezTo>
                  <a:pt x="18859" y="8472"/>
                  <a:pt x="18859" y="8472"/>
                  <a:pt x="18859" y="8472"/>
                </a:cubicBezTo>
                <a:cubicBezTo>
                  <a:pt x="18859" y="8466"/>
                  <a:pt x="18853" y="8460"/>
                  <a:pt x="18859" y="8454"/>
                </a:cubicBezTo>
                <a:cubicBezTo>
                  <a:pt x="18859" y="8454"/>
                  <a:pt x="18859" y="8448"/>
                  <a:pt x="18865" y="8442"/>
                </a:cubicBezTo>
                <a:cubicBezTo>
                  <a:pt x="18865" y="8442"/>
                  <a:pt x="18871" y="8436"/>
                  <a:pt x="18871" y="8430"/>
                </a:cubicBezTo>
                <a:lnTo>
                  <a:pt x="18871" y="8424"/>
                </a:lnTo>
                <a:cubicBezTo>
                  <a:pt x="18877" y="8418"/>
                  <a:pt x="18877" y="8412"/>
                  <a:pt x="18883" y="8412"/>
                </a:cubicBezTo>
                <a:cubicBezTo>
                  <a:pt x="18883" y="8406"/>
                  <a:pt x="18889" y="8412"/>
                  <a:pt x="18895" y="8412"/>
                </a:cubicBezTo>
                <a:cubicBezTo>
                  <a:pt x="18895" y="8406"/>
                  <a:pt x="18895" y="8401"/>
                  <a:pt x="18895" y="8401"/>
                </a:cubicBezTo>
                <a:cubicBezTo>
                  <a:pt x="18895" y="8395"/>
                  <a:pt x="18895" y="8389"/>
                  <a:pt x="18895" y="8389"/>
                </a:cubicBezTo>
                <a:cubicBezTo>
                  <a:pt x="18895" y="8383"/>
                  <a:pt x="18895" y="8377"/>
                  <a:pt x="18895" y="8371"/>
                </a:cubicBezTo>
                <a:cubicBezTo>
                  <a:pt x="18889" y="8365"/>
                  <a:pt x="18883" y="8359"/>
                  <a:pt x="18877" y="8359"/>
                </a:cubicBezTo>
                <a:cubicBezTo>
                  <a:pt x="18865" y="8359"/>
                  <a:pt x="18865" y="8365"/>
                  <a:pt x="18859" y="8365"/>
                </a:cubicBezTo>
                <a:cubicBezTo>
                  <a:pt x="18853" y="8371"/>
                  <a:pt x="18859" y="8377"/>
                  <a:pt x="18859" y="8377"/>
                </a:cubicBezTo>
                <a:cubicBezTo>
                  <a:pt x="18853" y="8383"/>
                  <a:pt x="18848" y="8383"/>
                  <a:pt x="18842" y="8383"/>
                </a:cubicBezTo>
                <a:cubicBezTo>
                  <a:pt x="18830" y="8383"/>
                  <a:pt x="18818" y="8377"/>
                  <a:pt x="18812" y="8377"/>
                </a:cubicBezTo>
                <a:cubicBezTo>
                  <a:pt x="18794" y="8377"/>
                  <a:pt x="18794" y="8377"/>
                  <a:pt x="18794" y="8377"/>
                </a:cubicBezTo>
                <a:cubicBezTo>
                  <a:pt x="18788" y="8377"/>
                  <a:pt x="18788" y="8377"/>
                  <a:pt x="18782" y="8377"/>
                </a:cubicBezTo>
                <a:cubicBezTo>
                  <a:pt x="18776" y="8377"/>
                  <a:pt x="18776" y="8383"/>
                  <a:pt x="18770" y="8383"/>
                </a:cubicBezTo>
                <a:cubicBezTo>
                  <a:pt x="18770" y="8353"/>
                  <a:pt x="18770" y="8353"/>
                  <a:pt x="18770" y="8353"/>
                </a:cubicBezTo>
                <a:cubicBezTo>
                  <a:pt x="18770" y="8347"/>
                  <a:pt x="18776" y="8341"/>
                  <a:pt x="18776" y="8335"/>
                </a:cubicBezTo>
                <a:cubicBezTo>
                  <a:pt x="18776" y="8323"/>
                  <a:pt x="18765" y="8317"/>
                  <a:pt x="18759" y="8312"/>
                </a:cubicBezTo>
                <a:cubicBezTo>
                  <a:pt x="18759" y="8306"/>
                  <a:pt x="18753" y="8300"/>
                  <a:pt x="18747" y="8300"/>
                </a:cubicBezTo>
                <a:cubicBezTo>
                  <a:pt x="18747" y="8294"/>
                  <a:pt x="18741" y="8300"/>
                  <a:pt x="18741" y="8300"/>
                </a:cubicBezTo>
                <a:cubicBezTo>
                  <a:pt x="18735" y="8306"/>
                  <a:pt x="18729" y="8306"/>
                  <a:pt x="18729" y="8312"/>
                </a:cubicBezTo>
                <a:cubicBezTo>
                  <a:pt x="18729" y="8312"/>
                  <a:pt x="18729" y="8317"/>
                  <a:pt x="18729" y="8323"/>
                </a:cubicBezTo>
                <a:cubicBezTo>
                  <a:pt x="18729" y="8323"/>
                  <a:pt x="18723" y="8329"/>
                  <a:pt x="18723" y="8335"/>
                </a:cubicBezTo>
                <a:cubicBezTo>
                  <a:pt x="18717" y="8329"/>
                  <a:pt x="18711" y="8329"/>
                  <a:pt x="18711" y="8329"/>
                </a:cubicBezTo>
                <a:cubicBezTo>
                  <a:pt x="18705" y="8323"/>
                  <a:pt x="18705" y="8317"/>
                  <a:pt x="18699" y="8317"/>
                </a:cubicBezTo>
                <a:cubicBezTo>
                  <a:pt x="18699" y="8312"/>
                  <a:pt x="18693" y="8306"/>
                  <a:pt x="18693" y="8300"/>
                </a:cubicBezTo>
                <a:cubicBezTo>
                  <a:pt x="18693" y="8294"/>
                  <a:pt x="18699" y="8288"/>
                  <a:pt x="18699" y="8282"/>
                </a:cubicBezTo>
                <a:cubicBezTo>
                  <a:pt x="18699" y="8276"/>
                  <a:pt x="18699" y="8276"/>
                  <a:pt x="18699" y="8270"/>
                </a:cubicBezTo>
                <a:cubicBezTo>
                  <a:pt x="18699" y="8264"/>
                  <a:pt x="18699" y="8264"/>
                  <a:pt x="18699" y="8258"/>
                </a:cubicBezTo>
                <a:lnTo>
                  <a:pt x="18687" y="8258"/>
                </a:lnTo>
                <a:cubicBezTo>
                  <a:pt x="18682" y="8258"/>
                  <a:pt x="18682" y="8252"/>
                  <a:pt x="18682" y="8246"/>
                </a:cubicBezTo>
                <a:cubicBezTo>
                  <a:pt x="18676" y="8246"/>
                  <a:pt x="18676" y="8240"/>
                  <a:pt x="18670" y="8240"/>
                </a:cubicBezTo>
                <a:cubicBezTo>
                  <a:pt x="18664" y="8235"/>
                  <a:pt x="18664" y="8229"/>
                  <a:pt x="18664" y="8229"/>
                </a:cubicBezTo>
                <a:cubicBezTo>
                  <a:pt x="18658" y="8223"/>
                  <a:pt x="18658" y="8223"/>
                  <a:pt x="18652" y="8217"/>
                </a:cubicBezTo>
                <a:cubicBezTo>
                  <a:pt x="18646" y="8211"/>
                  <a:pt x="18646" y="8205"/>
                  <a:pt x="18646" y="8199"/>
                </a:cubicBezTo>
                <a:cubicBezTo>
                  <a:pt x="18640" y="8199"/>
                  <a:pt x="18640" y="8193"/>
                  <a:pt x="18634" y="8193"/>
                </a:cubicBezTo>
                <a:cubicBezTo>
                  <a:pt x="18634" y="8187"/>
                  <a:pt x="18634" y="8181"/>
                  <a:pt x="18628" y="8181"/>
                </a:cubicBezTo>
                <a:cubicBezTo>
                  <a:pt x="18622" y="8175"/>
                  <a:pt x="18616" y="8175"/>
                  <a:pt x="18610" y="8175"/>
                </a:cubicBezTo>
                <a:cubicBezTo>
                  <a:pt x="18604" y="8175"/>
                  <a:pt x="18593" y="8181"/>
                  <a:pt x="18593" y="8187"/>
                </a:cubicBezTo>
                <a:cubicBezTo>
                  <a:pt x="18593" y="8199"/>
                  <a:pt x="18599" y="8205"/>
                  <a:pt x="18604" y="8211"/>
                </a:cubicBezTo>
                <a:cubicBezTo>
                  <a:pt x="18604" y="8217"/>
                  <a:pt x="18610" y="8217"/>
                  <a:pt x="18610" y="8223"/>
                </a:cubicBezTo>
                <a:cubicBezTo>
                  <a:pt x="18616" y="8229"/>
                  <a:pt x="18616" y="8240"/>
                  <a:pt x="18622" y="8246"/>
                </a:cubicBezTo>
                <a:cubicBezTo>
                  <a:pt x="18634" y="8258"/>
                  <a:pt x="18640" y="8264"/>
                  <a:pt x="18652" y="8270"/>
                </a:cubicBezTo>
                <a:cubicBezTo>
                  <a:pt x="18652" y="8270"/>
                  <a:pt x="18658" y="8270"/>
                  <a:pt x="18664" y="8276"/>
                </a:cubicBezTo>
                <a:cubicBezTo>
                  <a:pt x="18664" y="8282"/>
                  <a:pt x="18664" y="8282"/>
                  <a:pt x="18664" y="8288"/>
                </a:cubicBezTo>
                <a:cubicBezTo>
                  <a:pt x="18670" y="8288"/>
                  <a:pt x="18670" y="8294"/>
                  <a:pt x="18670" y="8300"/>
                </a:cubicBezTo>
                <a:cubicBezTo>
                  <a:pt x="18670" y="8306"/>
                  <a:pt x="18676" y="8306"/>
                  <a:pt x="18676" y="8312"/>
                </a:cubicBezTo>
                <a:cubicBezTo>
                  <a:pt x="18676" y="8317"/>
                  <a:pt x="18676" y="8329"/>
                  <a:pt x="18676" y="8341"/>
                </a:cubicBezTo>
                <a:close/>
                <a:moveTo>
                  <a:pt x="18112" y="7327"/>
                </a:moveTo>
                <a:lnTo>
                  <a:pt x="18112" y="7327"/>
                </a:lnTo>
                <a:cubicBezTo>
                  <a:pt x="18112" y="7333"/>
                  <a:pt x="18118" y="7333"/>
                  <a:pt x="18118" y="7339"/>
                </a:cubicBezTo>
                <a:cubicBezTo>
                  <a:pt x="18118" y="7345"/>
                  <a:pt x="18124" y="7345"/>
                  <a:pt x="18124" y="7351"/>
                </a:cubicBezTo>
                <a:cubicBezTo>
                  <a:pt x="18124" y="7357"/>
                  <a:pt x="18130" y="7351"/>
                  <a:pt x="18136" y="7357"/>
                </a:cubicBezTo>
                <a:cubicBezTo>
                  <a:pt x="18142" y="7363"/>
                  <a:pt x="18148" y="7363"/>
                  <a:pt x="18148" y="7369"/>
                </a:cubicBezTo>
                <a:cubicBezTo>
                  <a:pt x="18148" y="7375"/>
                  <a:pt x="18148" y="7381"/>
                  <a:pt x="18148" y="7393"/>
                </a:cubicBezTo>
                <a:cubicBezTo>
                  <a:pt x="18148" y="7398"/>
                  <a:pt x="18154" y="7398"/>
                  <a:pt x="18154" y="7405"/>
                </a:cubicBezTo>
                <a:cubicBezTo>
                  <a:pt x="18160" y="7405"/>
                  <a:pt x="18160" y="7410"/>
                  <a:pt x="18166" y="7416"/>
                </a:cubicBezTo>
                <a:cubicBezTo>
                  <a:pt x="18166" y="7416"/>
                  <a:pt x="18172" y="7416"/>
                  <a:pt x="18178" y="7422"/>
                </a:cubicBezTo>
                <a:cubicBezTo>
                  <a:pt x="18190" y="7428"/>
                  <a:pt x="18201" y="7428"/>
                  <a:pt x="18213" y="7434"/>
                </a:cubicBezTo>
                <a:cubicBezTo>
                  <a:pt x="18219" y="7440"/>
                  <a:pt x="18225" y="7446"/>
                  <a:pt x="18237" y="7446"/>
                </a:cubicBezTo>
                <a:cubicBezTo>
                  <a:pt x="18243" y="7452"/>
                  <a:pt x="18243" y="7452"/>
                  <a:pt x="18249" y="7452"/>
                </a:cubicBezTo>
                <a:cubicBezTo>
                  <a:pt x="18249" y="7458"/>
                  <a:pt x="18255" y="7458"/>
                  <a:pt x="18260" y="7458"/>
                </a:cubicBezTo>
                <a:cubicBezTo>
                  <a:pt x="18284" y="7458"/>
                  <a:pt x="18284" y="7458"/>
                  <a:pt x="18284" y="7458"/>
                </a:cubicBezTo>
                <a:cubicBezTo>
                  <a:pt x="18284" y="7458"/>
                  <a:pt x="18284" y="7452"/>
                  <a:pt x="18284" y="7446"/>
                </a:cubicBezTo>
                <a:cubicBezTo>
                  <a:pt x="18284" y="7440"/>
                  <a:pt x="18278" y="7440"/>
                  <a:pt x="18278" y="7434"/>
                </a:cubicBezTo>
                <a:cubicBezTo>
                  <a:pt x="18272" y="7434"/>
                  <a:pt x="18272" y="7428"/>
                  <a:pt x="18267" y="7422"/>
                </a:cubicBezTo>
                <a:cubicBezTo>
                  <a:pt x="18267" y="7422"/>
                  <a:pt x="18260" y="7422"/>
                  <a:pt x="18255" y="7422"/>
                </a:cubicBezTo>
                <a:cubicBezTo>
                  <a:pt x="18249" y="7422"/>
                  <a:pt x="18243" y="7422"/>
                  <a:pt x="18237" y="7416"/>
                </a:cubicBezTo>
                <a:cubicBezTo>
                  <a:pt x="18231" y="7410"/>
                  <a:pt x="18231" y="7405"/>
                  <a:pt x="18225" y="7405"/>
                </a:cubicBezTo>
                <a:cubicBezTo>
                  <a:pt x="18219" y="7398"/>
                  <a:pt x="18219" y="7405"/>
                  <a:pt x="18213" y="7398"/>
                </a:cubicBezTo>
                <a:cubicBezTo>
                  <a:pt x="18207" y="7398"/>
                  <a:pt x="18201" y="7393"/>
                  <a:pt x="18201" y="7387"/>
                </a:cubicBezTo>
                <a:cubicBezTo>
                  <a:pt x="18201" y="7387"/>
                  <a:pt x="18201" y="7381"/>
                  <a:pt x="18201" y="7375"/>
                </a:cubicBezTo>
                <a:cubicBezTo>
                  <a:pt x="18195" y="7363"/>
                  <a:pt x="18190" y="7363"/>
                  <a:pt x="18183" y="7351"/>
                </a:cubicBezTo>
                <a:cubicBezTo>
                  <a:pt x="18172" y="7345"/>
                  <a:pt x="18166" y="7339"/>
                  <a:pt x="18154" y="7333"/>
                </a:cubicBezTo>
                <a:cubicBezTo>
                  <a:pt x="18148" y="7333"/>
                  <a:pt x="18148" y="7327"/>
                  <a:pt x="18142" y="7327"/>
                </a:cubicBezTo>
                <a:cubicBezTo>
                  <a:pt x="18136" y="7327"/>
                  <a:pt x="18136" y="7327"/>
                  <a:pt x="18130" y="7327"/>
                </a:cubicBezTo>
                <a:lnTo>
                  <a:pt x="18112" y="7327"/>
                </a:lnTo>
                <a:close/>
                <a:moveTo>
                  <a:pt x="16269" y="6818"/>
                </a:moveTo>
                <a:lnTo>
                  <a:pt x="16269" y="6818"/>
                </a:lnTo>
                <a:cubicBezTo>
                  <a:pt x="16262" y="6824"/>
                  <a:pt x="16262" y="6824"/>
                  <a:pt x="16257" y="6824"/>
                </a:cubicBezTo>
                <a:cubicBezTo>
                  <a:pt x="16251" y="6830"/>
                  <a:pt x="16245" y="6830"/>
                  <a:pt x="16245" y="6836"/>
                </a:cubicBezTo>
                <a:cubicBezTo>
                  <a:pt x="16245" y="6848"/>
                  <a:pt x="16245" y="6854"/>
                  <a:pt x="16251" y="6854"/>
                </a:cubicBezTo>
                <a:cubicBezTo>
                  <a:pt x="16257" y="6860"/>
                  <a:pt x="16257" y="6860"/>
                  <a:pt x="16262" y="6860"/>
                </a:cubicBezTo>
                <a:cubicBezTo>
                  <a:pt x="16269" y="6860"/>
                  <a:pt x="16269" y="6854"/>
                  <a:pt x="16274" y="6854"/>
                </a:cubicBezTo>
                <a:cubicBezTo>
                  <a:pt x="16280" y="6848"/>
                  <a:pt x="16286" y="6848"/>
                  <a:pt x="16298" y="6848"/>
                </a:cubicBezTo>
                <a:cubicBezTo>
                  <a:pt x="16310" y="6848"/>
                  <a:pt x="16310" y="6848"/>
                  <a:pt x="16310" y="6848"/>
                </a:cubicBezTo>
                <a:cubicBezTo>
                  <a:pt x="16316" y="6848"/>
                  <a:pt x="16322" y="6848"/>
                  <a:pt x="16334" y="6848"/>
                </a:cubicBezTo>
                <a:cubicBezTo>
                  <a:pt x="16334" y="6824"/>
                  <a:pt x="16334" y="6824"/>
                  <a:pt x="16334" y="6824"/>
                </a:cubicBezTo>
                <a:cubicBezTo>
                  <a:pt x="16310" y="6818"/>
                  <a:pt x="16310" y="6818"/>
                  <a:pt x="16310" y="6818"/>
                </a:cubicBezTo>
                <a:cubicBezTo>
                  <a:pt x="16298" y="6818"/>
                  <a:pt x="16292" y="6824"/>
                  <a:pt x="16280" y="6824"/>
                </a:cubicBezTo>
                <a:cubicBezTo>
                  <a:pt x="16274" y="6824"/>
                  <a:pt x="16269" y="6824"/>
                  <a:pt x="16257" y="6824"/>
                </a:cubicBezTo>
                <a:lnTo>
                  <a:pt x="16269" y="6818"/>
                </a:lnTo>
                <a:close/>
                <a:moveTo>
                  <a:pt x="16915" y="6848"/>
                </a:moveTo>
                <a:lnTo>
                  <a:pt x="16915" y="6848"/>
                </a:lnTo>
                <a:cubicBezTo>
                  <a:pt x="16915" y="6860"/>
                  <a:pt x="16915" y="6860"/>
                  <a:pt x="16915" y="6860"/>
                </a:cubicBezTo>
                <a:cubicBezTo>
                  <a:pt x="16915" y="6866"/>
                  <a:pt x="16909" y="6866"/>
                  <a:pt x="16903" y="6872"/>
                </a:cubicBezTo>
                <a:cubicBezTo>
                  <a:pt x="16903" y="6878"/>
                  <a:pt x="16897" y="6878"/>
                  <a:pt x="16897" y="6884"/>
                </a:cubicBezTo>
                <a:cubicBezTo>
                  <a:pt x="16891" y="6890"/>
                  <a:pt x="16885" y="6896"/>
                  <a:pt x="16885" y="6906"/>
                </a:cubicBezTo>
                <a:cubicBezTo>
                  <a:pt x="16879" y="6912"/>
                  <a:pt x="16873" y="6912"/>
                  <a:pt x="16873" y="6918"/>
                </a:cubicBezTo>
                <a:cubicBezTo>
                  <a:pt x="16873" y="6924"/>
                  <a:pt x="16873" y="6930"/>
                  <a:pt x="16873" y="6942"/>
                </a:cubicBezTo>
                <a:cubicBezTo>
                  <a:pt x="16873" y="6942"/>
                  <a:pt x="16873" y="6948"/>
                  <a:pt x="16873" y="6954"/>
                </a:cubicBezTo>
                <a:lnTo>
                  <a:pt x="16879" y="6960"/>
                </a:lnTo>
                <a:cubicBezTo>
                  <a:pt x="16879" y="6972"/>
                  <a:pt x="16879" y="6978"/>
                  <a:pt x="16879" y="6984"/>
                </a:cubicBezTo>
                <a:cubicBezTo>
                  <a:pt x="16879" y="7007"/>
                  <a:pt x="16879" y="7007"/>
                  <a:pt x="16879" y="7007"/>
                </a:cubicBezTo>
                <a:cubicBezTo>
                  <a:pt x="16879" y="7013"/>
                  <a:pt x="16879" y="7019"/>
                  <a:pt x="16879" y="7025"/>
                </a:cubicBezTo>
                <a:cubicBezTo>
                  <a:pt x="16873" y="7031"/>
                  <a:pt x="16873" y="7037"/>
                  <a:pt x="16873" y="7037"/>
                </a:cubicBezTo>
                <a:cubicBezTo>
                  <a:pt x="16867" y="7043"/>
                  <a:pt x="16861" y="7049"/>
                  <a:pt x="16861" y="7055"/>
                </a:cubicBezTo>
                <a:cubicBezTo>
                  <a:pt x="16861" y="7150"/>
                  <a:pt x="16861" y="7150"/>
                  <a:pt x="16861" y="7150"/>
                </a:cubicBezTo>
                <a:cubicBezTo>
                  <a:pt x="16861" y="7155"/>
                  <a:pt x="16861" y="7155"/>
                  <a:pt x="16855" y="7161"/>
                </a:cubicBezTo>
                <a:cubicBezTo>
                  <a:pt x="16855" y="7167"/>
                  <a:pt x="16849" y="7167"/>
                  <a:pt x="16844" y="7167"/>
                </a:cubicBezTo>
                <a:cubicBezTo>
                  <a:pt x="16844" y="7173"/>
                  <a:pt x="16838" y="7179"/>
                  <a:pt x="16832" y="7179"/>
                </a:cubicBezTo>
                <a:cubicBezTo>
                  <a:pt x="16826" y="7185"/>
                  <a:pt x="16826" y="7185"/>
                  <a:pt x="16814" y="7185"/>
                </a:cubicBezTo>
                <a:cubicBezTo>
                  <a:pt x="16808" y="7185"/>
                  <a:pt x="16796" y="7179"/>
                  <a:pt x="16790" y="7179"/>
                </a:cubicBezTo>
                <a:cubicBezTo>
                  <a:pt x="16784" y="7173"/>
                  <a:pt x="16778" y="7179"/>
                  <a:pt x="16778" y="7179"/>
                </a:cubicBezTo>
                <a:cubicBezTo>
                  <a:pt x="16772" y="7173"/>
                  <a:pt x="16772" y="7173"/>
                  <a:pt x="16767" y="7167"/>
                </a:cubicBezTo>
                <a:cubicBezTo>
                  <a:pt x="16760" y="7167"/>
                  <a:pt x="16755" y="7167"/>
                  <a:pt x="16755" y="7161"/>
                </a:cubicBezTo>
                <a:cubicBezTo>
                  <a:pt x="16755" y="7155"/>
                  <a:pt x="16755" y="7150"/>
                  <a:pt x="16755" y="7150"/>
                </a:cubicBezTo>
                <a:cubicBezTo>
                  <a:pt x="16749" y="7144"/>
                  <a:pt x="16749" y="7144"/>
                  <a:pt x="16743" y="7138"/>
                </a:cubicBezTo>
                <a:cubicBezTo>
                  <a:pt x="16731" y="7126"/>
                  <a:pt x="16719" y="7120"/>
                  <a:pt x="16701" y="7114"/>
                </a:cubicBezTo>
                <a:cubicBezTo>
                  <a:pt x="16695" y="7108"/>
                  <a:pt x="16683" y="7102"/>
                  <a:pt x="16672" y="7102"/>
                </a:cubicBezTo>
                <a:cubicBezTo>
                  <a:pt x="16672" y="7096"/>
                  <a:pt x="16666" y="7096"/>
                  <a:pt x="16660" y="7096"/>
                </a:cubicBezTo>
                <a:cubicBezTo>
                  <a:pt x="16648" y="7084"/>
                  <a:pt x="16648" y="7078"/>
                  <a:pt x="16642" y="7066"/>
                </a:cubicBezTo>
                <a:cubicBezTo>
                  <a:pt x="16642" y="7066"/>
                  <a:pt x="16642" y="7061"/>
                  <a:pt x="16636" y="7055"/>
                </a:cubicBezTo>
                <a:cubicBezTo>
                  <a:pt x="16636" y="7055"/>
                  <a:pt x="16630" y="7055"/>
                  <a:pt x="16624" y="7055"/>
                </a:cubicBezTo>
                <a:cubicBezTo>
                  <a:pt x="16624" y="7055"/>
                  <a:pt x="16618" y="7055"/>
                  <a:pt x="16612" y="7055"/>
                </a:cubicBezTo>
                <a:cubicBezTo>
                  <a:pt x="16606" y="7055"/>
                  <a:pt x="16606" y="7055"/>
                  <a:pt x="16601" y="7055"/>
                </a:cubicBezTo>
                <a:cubicBezTo>
                  <a:pt x="16594" y="7055"/>
                  <a:pt x="16594" y="7049"/>
                  <a:pt x="16589" y="7049"/>
                </a:cubicBezTo>
                <a:cubicBezTo>
                  <a:pt x="16583" y="7043"/>
                  <a:pt x="16577" y="7043"/>
                  <a:pt x="16577" y="7037"/>
                </a:cubicBezTo>
                <a:lnTo>
                  <a:pt x="16583" y="7031"/>
                </a:lnTo>
                <a:cubicBezTo>
                  <a:pt x="16583" y="7025"/>
                  <a:pt x="16577" y="7019"/>
                  <a:pt x="16577" y="7019"/>
                </a:cubicBezTo>
                <a:cubicBezTo>
                  <a:pt x="16577" y="7007"/>
                  <a:pt x="16583" y="7001"/>
                  <a:pt x="16583" y="6989"/>
                </a:cubicBezTo>
                <a:cubicBezTo>
                  <a:pt x="16583" y="6984"/>
                  <a:pt x="16583" y="6984"/>
                  <a:pt x="16583" y="6984"/>
                </a:cubicBezTo>
                <a:cubicBezTo>
                  <a:pt x="16583" y="6978"/>
                  <a:pt x="16577" y="6978"/>
                  <a:pt x="16577" y="6972"/>
                </a:cubicBezTo>
                <a:cubicBezTo>
                  <a:pt x="16577" y="6966"/>
                  <a:pt x="16571" y="6966"/>
                  <a:pt x="16571" y="6960"/>
                </a:cubicBezTo>
                <a:cubicBezTo>
                  <a:pt x="16571" y="6954"/>
                  <a:pt x="16577" y="6954"/>
                  <a:pt x="16577" y="6948"/>
                </a:cubicBezTo>
                <a:cubicBezTo>
                  <a:pt x="16577" y="6942"/>
                  <a:pt x="16589" y="6948"/>
                  <a:pt x="16589" y="6942"/>
                </a:cubicBezTo>
                <a:cubicBezTo>
                  <a:pt x="16589" y="6942"/>
                  <a:pt x="16589" y="6936"/>
                  <a:pt x="16589" y="6930"/>
                </a:cubicBezTo>
                <a:cubicBezTo>
                  <a:pt x="16594" y="6924"/>
                  <a:pt x="16601" y="6924"/>
                  <a:pt x="16601" y="6918"/>
                </a:cubicBezTo>
                <a:cubicBezTo>
                  <a:pt x="16601" y="6912"/>
                  <a:pt x="16606" y="6912"/>
                  <a:pt x="16606" y="6906"/>
                </a:cubicBezTo>
                <a:cubicBezTo>
                  <a:pt x="16618" y="6896"/>
                  <a:pt x="16624" y="6896"/>
                  <a:pt x="16630" y="6884"/>
                </a:cubicBezTo>
                <a:cubicBezTo>
                  <a:pt x="16636" y="6884"/>
                  <a:pt x="16630" y="6878"/>
                  <a:pt x="16636" y="6878"/>
                </a:cubicBezTo>
                <a:cubicBezTo>
                  <a:pt x="16624" y="6878"/>
                  <a:pt x="16624" y="6878"/>
                  <a:pt x="16624" y="6878"/>
                </a:cubicBezTo>
                <a:cubicBezTo>
                  <a:pt x="16612" y="6872"/>
                  <a:pt x="16606" y="6872"/>
                  <a:pt x="16601" y="6872"/>
                </a:cubicBezTo>
                <a:cubicBezTo>
                  <a:pt x="16589" y="6866"/>
                  <a:pt x="16583" y="6866"/>
                  <a:pt x="16577" y="6866"/>
                </a:cubicBezTo>
                <a:cubicBezTo>
                  <a:pt x="16565" y="6866"/>
                  <a:pt x="16565" y="6866"/>
                  <a:pt x="16565" y="6866"/>
                </a:cubicBezTo>
                <a:cubicBezTo>
                  <a:pt x="16547" y="6866"/>
                  <a:pt x="16541" y="6866"/>
                  <a:pt x="16523" y="6866"/>
                </a:cubicBezTo>
                <a:cubicBezTo>
                  <a:pt x="16517" y="6866"/>
                  <a:pt x="16517" y="6860"/>
                  <a:pt x="16512" y="6860"/>
                </a:cubicBezTo>
                <a:cubicBezTo>
                  <a:pt x="16506" y="6854"/>
                  <a:pt x="16506" y="6854"/>
                  <a:pt x="16500" y="6854"/>
                </a:cubicBezTo>
                <a:cubicBezTo>
                  <a:pt x="16494" y="6854"/>
                  <a:pt x="16494" y="6854"/>
                  <a:pt x="16488" y="6854"/>
                </a:cubicBezTo>
                <a:cubicBezTo>
                  <a:pt x="16488" y="6854"/>
                  <a:pt x="16482" y="6854"/>
                  <a:pt x="16476" y="6854"/>
                </a:cubicBezTo>
                <a:cubicBezTo>
                  <a:pt x="16470" y="6848"/>
                  <a:pt x="16470" y="6842"/>
                  <a:pt x="16464" y="6842"/>
                </a:cubicBezTo>
                <a:cubicBezTo>
                  <a:pt x="16464" y="6836"/>
                  <a:pt x="16458" y="6836"/>
                  <a:pt x="16452" y="6836"/>
                </a:cubicBezTo>
                <a:cubicBezTo>
                  <a:pt x="16452" y="6836"/>
                  <a:pt x="16446" y="6836"/>
                  <a:pt x="16440" y="6836"/>
                </a:cubicBezTo>
                <a:lnTo>
                  <a:pt x="16435" y="6830"/>
                </a:lnTo>
                <a:cubicBezTo>
                  <a:pt x="16428" y="6830"/>
                  <a:pt x="16423" y="6830"/>
                  <a:pt x="16423" y="6824"/>
                </a:cubicBezTo>
                <a:cubicBezTo>
                  <a:pt x="16411" y="6824"/>
                  <a:pt x="16405" y="6813"/>
                  <a:pt x="16399" y="6813"/>
                </a:cubicBezTo>
                <a:cubicBezTo>
                  <a:pt x="16393" y="6813"/>
                  <a:pt x="16393" y="6813"/>
                  <a:pt x="16387" y="6813"/>
                </a:cubicBezTo>
                <a:cubicBezTo>
                  <a:pt x="16375" y="6813"/>
                  <a:pt x="16375" y="6813"/>
                  <a:pt x="16375" y="6813"/>
                </a:cubicBezTo>
                <a:cubicBezTo>
                  <a:pt x="16369" y="6813"/>
                  <a:pt x="16369" y="6813"/>
                  <a:pt x="16363" y="6813"/>
                </a:cubicBezTo>
                <a:cubicBezTo>
                  <a:pt x="16357" y="6813"/>
                  <a:pt x="16357" y="6813"/>
                  <a:pt x="16351" y="6813"/>
                </a:cubicBezTo>
                <a:cubicBezTo>
                  <a:pt x="16351" y="6836"/>
                  <a:pt x="16351" y="6836"/>
                  <a:pt x="16351" y="6836"/>
                </a:cubicBezTo>
                <a:cubicBezTo>
                  <a:pt x="16351" y="6836"/>
                  <a:pt x="16351" y="6848"/>
                  <a:pt x="16357" y="6848"/>
                </a:cubicBezTo>
                <a:cubicBezTo>
                  <a:pt x="16363" y="6848"/>
                  <a:pt x="16369" y="6848"/>
                  <a:pt x="16375" y="6854"/>
                </a:cubicBezTo>
                <a:cubicBezTo>
                  <a:pt x="16381" y="6854"/>
                  <a:pt x="16387" y="6854"/>
                  <a:pt x="16387" y="6860"/>
                </a:cubicBezTo>
                <a:cubicBezTo>
                  <a:pt x="16393" y="6860"/>
                  <a:pt x="16399" y="6860"/>
                  <a:pt x="16399" y="6860"/>
                </a:cubicBezTo>
                <a:cubicBezTo>
                  <a:pt x="16405" y="6866"/>
                  <a:pt x="16399" y="6866"/>
                  <a:pt x="16399" y="6872"/>
                </a:cubicBezTo>
                <a:cubicBezTo>
                  <a:pt x="16393" y="6872"/>
                  <a:pt x="16393" y="6878"/>
                  <a:pt x="16387" y="6878"/>
                </a:cubicBezTo>
                <a:cubicBezTo>
                  <a:pt x="16381" y="6878"/>
                  <a:pt x="16375" y="6878"/>
                  <a:pt x="16363" y="6878"/>
                </a:cubicBezTo>
                <a:cubicBezTo>
                  <a:pt x="16357" y="6878"/>
                  <a:pt x="16351" y="6878"/>
                  <a:pt x="16340" y="6878"/>
                </a:cubicBezTo>
                <a:cubicBezTo>
                  <a:pt x="16334" y="6878"/>
                  <a:pt x="16334" y="6884"/>
                  <a:pt x="16328" y="6884"/>
                </a:cubicBezTo>
                <a:cubicBezTo>
                  <a:pt x="16322" y="6884"/>
                  <a:pt x="16322" y="6890"/>
                  <a:pt x="16316" y="6896"/>
                </a:cubicBezTo>
                <a:cubicBezTo>
                  <a:pt x="16304" y="6901"/>
                  <a:pt x="16298" y="6906"/>
                  <a:pt x="16286" y="6912"/>
                </a:cubicBezTo>
                <a:cubicBezTo>
                  <a:pt x="16286" y="6918"/>
                  <a:pt x="16280" y="6918"/>
                  <a:pt x="16274" y="6924"/>
                </a:cubicBezTo>
                <a:cubicBezTo>
                  <a:pt x="16269" y="6924"/>
                  <a:pt x="16262" y="6930"/>
                  <a:pt x="16262" y="6930"/>
                </a:cubicBezTo>
                <a:cubicBezTo>
                  <a:pt x="16257" y="6936"/>
                  <a:pt x="16251" y="6936"/>
                  <a:pt x="16251" y="6948"/>
                </a:cubicBezTo>
                <a:cubicBezTo>
                  <a:pt x="16251" y="6954"/>
                  <a:pt x="16251" y="6954"/>
                  <a:pt x="16251" y="6954"/>
                </a:cubicBezTo>
                <a:lnTo>
                  <a:pt x="16251" y="6960"/>
                </a:lnTo>
                <a:cubicBezTo>
                  <a:pt x="16251" y="6972"/>
                  <a:pt x="16251" y="6978"/>
                  <a:pt x="16251" y="6984"/>
                </a:cubicBezTo>
                <a:cubicBezTo>
                  <a:pt x="16251" y="6989"/>
                  <a:pt x="16251" y="6995"/>
                  <a:pt x="16251" y="6995"/>
                </a:cubicBezTo>
                <a:cubicBezTo>
                  <a:pt x="16251" y="7001"/>
                  <a:pt x="16245" y="7007"/>
                  <a:pt x="16245" y="7013"/>
                </a:cubicBezTo>
                <a:cubicBezTo>
                  <a:pt x="16245" y="7019"/>
                  <a:pt x="16245" y="7019"/>
                  <a:pt x="16239" y="7025"/>
                </a:cubicBezTo>
                <a:cubicBezTo>
                  <a:pt x="16233" y="7025"/>
                  <a:pt x="16227" y="7025"/>
                  <a:pt x="16221" y="7025"/>
                </a:cubicBezTo>
                <a:cubicBezTo>
                  <a:pt x="16203" y="7025"/>
                  <a:pt x="16191" y="7025"/>
                  <a:pt x="16174" y="7013"/>
                </a:cubicBezTo>
                <a:cubicBezTo>
                  <a:pt x="16168" y="7013"/>
                  <a:pt x="16174" y="7001"/>
                  <a:pt x="16168" y="7001"/>
                </a:cubicBezTo>
                <a:cubicBezTo>
                  <a:pt x="16168" y="7001"/>
                  <a:pt x="16162" y="7001"/>
                  <a:pt x="16156" y="7001"/>
                </a:cubicBezTo>
                <a:cubicBezTo>
                  <a:pt x="16144" y="7001"/>
                  <a:pt x="16138" y="7001"/>
                  <a:pt x="16126" y="7001"/>
                </a:cubicBezTo>
                <a:cubicBezTo>
                  <a:pt x="16126" y="6995"/>
                  <a:pt x="16126" y="6984"/>
                  <a:pt x="16120" y="6978"/>
                </a:cubicBezTo>
                <a:cubicBezTo>
                  <a:pt x="16102" y="6978"/>
                  <a:pt x="16102" y="6978"/>
                  <a:pt x="16102" y="6978"/>
                </a:cubicBezTo>
                <a:cubicBezTo>
                  <a:pt x="16091" y="6978"/>
                  <a:pt x="16085" y="6984"/>
                  <a:pt x="16079" y="6984"/>
                </a:cubicBezTo>
                <a:cubicBezTo>
                  <a:pt x="16067" y="6984"/>
                  <a:pt x="16061" y="6984"/>
                  <a:pt x="16055" y="6984"/>
                </a:cubicBezTo>
                <a:cubicBezTo>
                  <a:pt x="16043" y="6984"/>
                  <a:pt x="16037" y="6989"/>
                  <a:pt x="16031" y="6995"/>
                </a:cubicBezTo>
                <a:cubicBezTo>
                  <a:pt x="16025" y="6995"/>
                  <a:pt x="16031" y="7001"/>
                  <a:pt x="16025" y="7007"/>
                </a:cubicBezTo>
                <a:cubicBezTo>
                  <a:pt x="16025" y="7013"/>
                  <a:pt x="16019" y="7013"/>
                  <a:pt x="16014" y="7019"/>
                </a:cubicBezTo>
                <a:cubicBezTo>
                  <a:pt x="16008" y="7019"/>
                  <a:pt x="16014" y="7025"/>
                  <a:pt x="16008" y="7031"/>
                </a:cubicBezTo>
                <a:cubicBezTo>
                  <a:pt x="15996" y="7031"/>
                  <a:pt x="15990" y="7025"/>
                  <a:pt x="15984" y="7031"/>
                </a:cubicBezTo>
                <a:cubicBezTo>
                  <a:pt x="15972" y="7031"/>
                  <a:pt x="15966" y="7049"/>
                  <a:pt x="15966" y="7061"/>
                </a:cubicBezTo>
                <a:cubicBezTo>
                  <a:pt x="15960" y="7061"/>
                  <a:pt x="15960" y="7066"/>
                  <a:pt x="15960" y="7072"/>
                </a:cubicBezTo>
                <a:cubicBezTo>
                  <a:pt x="15960" y="7078"/>
                  <a:pt x="15954" y="7084"/>
                  <a:pt x="15948" y="7084"/>
                </a:cubicBezTo>
                <a:cubicBezTo>
                  <a:pt x="15948" y="7084"/>
                  <a:pt x="15942" y="7084"/>
                  <a:pt x="15936" y="7084"/>
                </a:cubicBezTo>
                <a:cubicBezTo>
                  <a:pt x="15930" y="7084"/>
                  <a:pt x="15925" y="7084"/>
                  <a:pt x="15913" y="7084"/>
                </a:cubicBezTo>
                <a:cubicBezTo>
                  <a:pt x="15913" y="7108"/>
                  <a:pt x="15913" y="7108"/>
                  <a:pt x="15913" y="7108"/>
                </a:cubicBezTo>
                <a:cubicBezTo>
                  <a:pt x="15919" y="7108"/>
                  <a:pt x="15919" y="7114"/>
                  <a:pt x="15919" y="7114"/>
                </a:cubicBezTo>
                <a:cubicBezTo>
                  <a:pt x="15925" y="7120"/>
                  <a:pt x="15930" y="7120"/>
                  <a:pt x="15930" y="7126"/>
                </a:cubicBezTo>
                <a:cubicBezTo>
                  <a:pt x="15936" y="7132"/>
                  <a:pt x="15936" y="7132"/>
                  <a:pt x="15936" y="7138"/>
                </a:cubicBezTo>
                <a:cubicBezTo>
                  <a:pt x="15936" y="7161"/>
                  <a:pt x="15936" y="7161"/>
                  <a:pt x="15936" y="7161"/>
                </a:cubicBezTo>
                <a:cubicBezTo>
                  <a:pt x="15889" y="7161"/>
                  <a:pt x="15889" y="7161"/>
                  <a:pt x="15889" y="7161"/>
                </a:cubicBezTo>
                <a:cubicBezTo>
                  <a:pt x="15889" y="7155"/>
                  <a:pt x="15889" y="7155"/>
                  <a:pt x="15889" y="7155"/>
                </a:cubicBezTo>
                <a:cubicBezTo>
                  <a:pt x="15889" y="7150"/>
                  <a:pt x="15889" y="7144"/>
                  <a:pt x="15889" y="7132"/>
                </a:cubicBezTo>
                <a:cubicBezTo>
                  <a:pt x="15889" y="7132"/>
                  <a:pt x="15889" y="7126"/>
                  <a:pt x="15889" y="7120"/>
                </a:cubicBezTo>
                <a:cubicBezTo>
                  <a:pt x="15853" y="7120"/>
                  <a:pt x="15853" y="7120"/>
                  <a:pt x="15853" y="7120"/>
                </a:cubicBezTo>
                <a:cubicBezTo>
                  <a:pt x="15853" y="7120"/>
                  <a:pt x="15847" y="7126"/>
                  <a:pt x="15842" y="7126"/>
                </a:cubicBezTo>
                <a:cubicBezTo>
                  <a:pt x="15842" y="7126"/>
                  <a:pt x="15836" y="7126"/>
                  <a:pt x="15830" y="7132"/>
                </a:cubicBezTo>
                <a:cubicBezTo>
                  <a:pt x="15830" y="7132"/>
                  <a:pt x="15824" y="7138"/>
                  <a:pt x="15824" y="7144"/>
                </a:cubicBezTo>
                <a:cubicBezTo>
                  <a:pt x="15818" y="7150"/>
                  <a:pt x="15818" y="7155"/>
                  <a:pt x="15818" y="7167"/>
                </a:cubicBezTo>
                <a:cubicBezTo>
                  <a:pt x="15818" y="7179"/>
                  <a:pt x="15824" y="7191"/>
                  <a:pt x="15818" y="7203"/>
                </a:cubicBezTo>
                <a:cubicBezTo>
                  <a:pt x="15818" y="7209"/>
                  <a:pt x="15818" y="7209"/>
                  <a:pt x="15818" y="7215"/>
                </a:cubicBezTo>
                <a:cubicBezTo>
                  <a:pt x="15818" y="7221"/>
                  <a:pt x="15812" y="7221"/>
                  <a:pt x="15806" y="7227"/>
                </a:cubicBezTo>
                <a:cubicBezTo>
                  <a:pt x="15800" y="7232"/>
                  <a:pt x="15800" y="7232"/>
                  <a:pt x="15794" y="7239"/>
                </a:cubicBezTo>
                <a:cubicBezTo>
                  <a:pt x="15794" y="7244"/>
                  <a:pt x="15788" y="7244"/>
                  <a:pt x="15788" y="7250"/>
                </a:cubicBezTo>
                <a:cubicBezTo>
                  <a:pt x="15782" y="7256"/>
                  <a:pt x="15788" y="7256"/>
                  <a:pt x="15782" y="7262"/>
                </a:cubicBezTo>
                <a:cubicBezTo>
                  <a:pt x="15782" y="7268"/>
                  <a:pt x="15776" y="7268"/>
                  <a:pt x="15770" y="7268"/>
                </a:cubicBezTo>
                <a:cubicBezTo>
                  <a:pt x="15764" y="7274"/>
                  <a:pt x="15759" y="7280"/>
                  <a:pt x="15753" y="7292"/>
                </a:cubicBezTo>
                <a:cubicBezTo>
                  <a:pt x="15753" y="7292"/>
                  <a:pt x="15753" y="7298"/>
                  <a:pt x="15747" y="7304"/>
                </a:cubicBezTo>
                <a:cubicBezTo>
                  <a:pt x="15741" y="7304"/>
                  <a:pt x="15741" y="7304"/>
                  <a:pt x="15735" y="7310"/>
                </a:cubicBezTo>
                <a:cubicBezTo>
                  <a:pt x="15729" y="7310"/>
                  <a:pt x="15729" y="7310"/>
                  <a:pt x="15723" y="7316"/>
                </a:cubicBezTo>
                <a:cubicBezTo>
                  <a:pt x="15717" y="7316"/>
                  <a:pt x="15717" y="7321"/>
                  <a:pt x="15711" y="7321"/>
                </a:cubicBezTo>
                <a:cubicBezTo>
                  <a:pt x="15711" y="7321"/>
                  <a:pt x="15705" y="7321"/>
                  <a:pt x="15699" y="7321"/>
                </a:cubicBezTo>
                <a:cubicBezTo>
                  <a:pt x="15693" y="7321"/>
                  <a:pt x="15693" y="7321"/>
                  <a:pt x="15687" y="7321"/>
                </a:cubicBezTo>
                <a:cubicBezTo>
                  <a:pt x="15664" y="7321"/>
                  <a:pt x="15658" y="7321"/>
                  <a:pt x="15634" y="7321"/>
                </a:cubicBezTo>
                <a:cubicBezTo>
                  <a:pt x="15628" y="7321"/>
                  <a:pt x="15628" y="7327"/>
                  <a:pt x="15622" y="7327"/>
                </a:cubicBezTo>
                <a:cubicBezTo>
                  <a:pt x="15610" y="7327"/>
                  <a:pt x="15604" y="7333"/>
                  <a:pt x="15592" y="7339"/>
                </a:cubicBezTo>
                <a:cubicBezTo>
                  <a:pt x="15587" y="7339"/>
                  <a:pt x="15581" y="7345"/>
                  <a:pt x="15581" y="7345"/>
                </a:cubicBezTo>
                <a:cubicBezTo>
                  <a:pt x="15563" y="7345"/>
                  <a:pt x="15557" y="7345"/>
                  <a:pt x="15545" y="7345"/>
                </a:cubicBezTo>
                <a:cubicBezTo>
                  <a:pt x="15539" y="7345"/>
                  <a:pt x="15533" y="7351"/>
                  <a:pt x="15527" y="7357"/>
                </a:cubicBezTo>
                <a:cubicBezTo>
                  <a:pt x="15521" y="7363"/>
                  <a:pt x="15510" y="7369"/>
                  <a:pt x="15504" y="7369"/>
                </a:cubicBezTo>
                <a:cubicBezTo>
                  <a:pt x="15486" y="7375"/>
                  <a:pt x="15480" y="7381"/>
                  <a:pt x="15462" y="7387"/>
                </a:cubicBezTo>
                <a:cubicBezTo>
                  <a:pt x="15456" y="7393"/>
                  <a:pt x="15456" y="7393"/>
                  <a:pt x="15450" y="7393"/>
                </a:cubicBezTo>
                <a:cubicBezTo>
                  <a:pt x="15444" y="7398"/>
                  <a:pt x="15438" y="7405"/>
                  <a:pt x="15432" y="7416"/>
                </a:cubicBezTo>
                <a:cubicBezTo>
                  <a:pt x="15432" y="7422"/>
                  <a:pt x="15438" y="7428"/>
                  <a:pt x="15432" y="7440"/>
                </a:cubicBezTo>
                <a:cubicBezTo>
                  <a:pt x="15432" y="7446"/>
                  <a:pt x="15432" y="7446"/>
                  <a:pt x="15426" y="7452"/>
                </a:cubicBezTo>
                <a:lnTo>
                  <a:pt x="15421" y="7452"/>
                </a:lnTo>
                <a:cubicBezTo>
                  <a:pt x="15415" y="7452"/>
                  <a:pt x="15409" y="7446"/>
                  <a:pt x="15409" y="7446"/>
                </a:cubicBezTo>
                <a:cubicBezTo>
                  <a:pt x="15403" y="7446"/>
                  <a:pt x="15397" y="7446"/>
                  <a:pt x="15397" y="7440"/>
                </a:cubicBezTo>
                <a:cubicBezTo>
                  <a:pt x="15391" y="7440"/>
                  <a:pt x="15385" y="7440"/>
                  <a:pt x="15385" y="7440"/>
                </a:cubicBezTo>
                <a:cubicBezTo>
                  <a:pt x="15379" y="7434"/>
                  <a:pt x="15385" y="7434"/>
                  <a:pt x="15385" y="7428"/>
                </a:cubicBezTo>
                <a:cubicBezTo>
                  <a:pt x="15379" y="7422"/>
                  <a:pt x="15379" y="7422"/>
                  <a:pt x="15373" y="7416"/>
                </a:cubicBezTo>
                <a:cubicBezTo>
                  <a:pt x="15373" y="7422"/>
                  <a:pt x="15373" y="7434"/>
                  <a:pt x="15367" y="7440"/>
                </a:cubicBezTo>
                <a:cubicBezTo>
                  <a:pt x="15367" y="7440"/>
                  <a:pt x="15355" y="7440"/>
                  <a:pt x="15355" y="7446"/>
                </a:cubicBezTo>
                <a:cubicBezTo>
                  <a:pt x="15355" y="7446"/>
                  <a:pt x="15355" y="7452"/>
                  <a:pt x="15355" y="7458"/>
                </a:cubicBezTo>
                <a:cubicBezTo>
                  <a:pt x="15355" y="7470"/>
                  <a:pt x="15355" y="7470"/>
                  <a:pt x="15355" y="7470"/>
                </a:cubicBezTo>
                <a:cubicBezTo>
                  <a:pt x="15355" y="7470"/>
                  <a:pt x="15355" y="7476"/>
                  <a:pt x="15355" y="7482"/>
                </a:cubicBezTo>
                <a:cubicBezTo>
                  <a:pt x="15361" y="7487"/>
                  <a:pt x="15361" y="7493"/>
                  <a:pt x="15355" y="7505"/>
                </a:cubicBezTo>
                <a:cubicBezTo>
                  <a:pt x="15355" y="7517"/>
                  <a:pt x="15355" y="7517"/>
                  <a:pt x="15355" y="7517"/>
                </a:cubicBezTo>
                <a:cubicBezTo>
                  <a:pt x="15355" y="7523"/>
                  <a:pt x="15349" y="7523"/>
                  <a:pt x="15349" y="7529"/>
                </a:cubicBezTo>
                <a:cubicBezTo>
                  <a:pt x="15349" y="7535"/>
                  <a:pt x="15337" y="7535"/>
                  <a:pt x="15337" y="7541"/>
                </a:cubicBezTo>
                <a:cubicBezTo>
                  <a:pt x="15337" y="7541"/>
                  <a:pt x="15337" y="7547"/>
                  <a:pt x="15337" y="7553"/>
                </a:cubicBezTo>
                <a:cubicBezTo>
                  <a:pt x="15337" y="7559"/>
                  <a:pt x="15337" y="7564"/>
                  <a:pt x="15344" y="7576"/>
                </a:cubicBezTo>
                <a:lnTo>
                  <a:pt x="15349" y="7582"/>
                </a:lnTo>
                <a:cubicBezTo>
                  <a:pt x="15349" y="7588"/>
                  <a:pt x="15355" y="7588"/>
                  <a:pt x="15361" y="7594"/>
                </a:cubicBezTo>
                <a:cubicBezTo>
                  <a:pt x="15367" y="7600"/>
                  <a:pt x="15367" y="7606"/>
                  <a:pt x="15367" y="7618"/>
                </a:cubicBezTo>
                <a:cubicBezTo>
                  <a:pt x="15373" y="7630"/>
                  <a:pt x="15385" y="7636"/>
                  <a:pt x="15391" y="7653"/>
                </a:cubicBezTo>
                <a:cubicBezTo>
                  <a:pt x="15391" y="7659"/>
                  <a:pt x="15391" y="7659"/>
                  <a:pt x="15391" y="7659"/>
                </a:cubicBezTo>
                <a:cubicBezTo>
                  <a:pt x="15385" y="7659"/>
                  <a:pt x="15385" y="7653"/>
                  <a:pt x="15379" y="7653"/>
                </a:cubicBezTo>
                <a:cubicBezTo>
                  <a:pt x="15373" y="7653"/>
                  <a:pt x="15367" y="7653"/>
                  <a:pt x="15361" y="7653"/>
                </a:cubicBezTo>
                <a:cubicBezTo>
                  <a:pt x="15361" y="7653"/>
                  <a:pt x="15355" y="7648"/>
                  <a:pt x="15349" y="7648"/>
                </a:cubicBezTo>
                <a:cubicBezTo>
                  <a:pt x="15349" y="7642"/>
                  <a:pt x="15344" y="7642"/>
                  <a:pt x="15344" y="7642"/>
                </a:cubicBezTo>
                <a:cubicBezTo>
                  <a:pt x="15337" y="7642"/>
                  <a:pt x="15332" y="7648"/>
                  <a:pt x="15332" y="7648"/>
                </a:cubicBezTo>
                <a:cubicBezTo>
                  <a:pt x="15332" y="7671"/>
                  <a:pt x="15332" y="7671"/>
                  <a:pt x="15332" y="7671"/>
                </a:cubicBezTo>
                <a:cubicBezTo>
                  <a:pt x="15332" y="7677"/>
                  <a:pt x="15332" y="7677"/>
                  <a:pt x="15337" y="7683"/>
                </a:cubicBezTo>
                <a:cubicBezTo>
                  <a:pt x="15344" y="7689"/>
                  <a:pt x="15349" y="7695"/>
                  <a:pt x="15355" y="7707"/>
                </a:cubicBezTo>
                <a:cubicBezTo>
                  <a:pt x="15361" y="7707"/>
                  <a:pt x="15361" y="7713"/>
                  <a:pt x="15367" y="7719"/>
                </a:cubicBezTo>
                <a:cubicBezTo>
                  <a:pt x="15373" y="7719"/>
                  <a:pt x="15373" y="7725"/>
                  <a:pt x="15379" y="7725"/>
                </a:cubicBezTo>
                <a:cubicBezTo>
                  <a:pt x="15385" y="7730"/>
                  <a:pt x="15385" y="7730"/>
                  <a:pt x="15391" y="7737"/>
                </a:cubicBezTo>
                <a:cubicBezTo>
                  <a:pt x="15391" y="7742"/>
                  <a:pt x="15397" y="7742"/>
                  <a:pt x="15397" y="7748"/>
                </a:cubicBezTo>
                <a:cubicBezTo>
                  <a:pt x="15397" y="7760"/>
                  <a:pt x="15397" y="7766"/>
                  <a:pt x="15397" y="7772"/>
                </a:cubicBezTo>
                <a:cubicBezTo>
                  <a:pt x="15397" y="7784"/>
                  <a:pt x="15397" y="7790"/>
                  <a:pt x="15403" y="7802"/>
                </a:cubicBezTo>
                <a:cubicBezTo>
                  <a:pt x="15409" y="7802"/>
                  <a:pt x="15409" y="7808"/>
                  <a:pt x="15415" y="7814"/>
                </a:cubicBezTo>
                <a:cubicBezTo>
                  <a:pt x="15415" y="7825"/>
                  <a:pt x="15421" y="7831"/>
                  <a:pt x="15421" y="7843"/>
                </a:cubicBezTo>
                <a:cubicBezTo>
                  <a:pt x="15421" y="7849"/>
                  <a:pt x="15421" y="7849"/>
                  <a:pt x="15426" y="7855"/>
                </a:cubicBezTo>
                <a:cubicBezTo>
                  <a:pt x="15426" y="7861"/>
                  <a:pt x="15421" y="7867"/>
                  <a:pt x="15426" y="7873"/>
                </a:cubicBezTo>
                <a:cubicBezTo>
                  <a:pt x="15426" y="7879"/>
                  <a:pt x="15432" y="7885"/>
                  <a:pt x="15432" y="7896"/>
                </a:cubicBezTo>
                <a:cubicBezTo>
                  <a:pt x="15438" y="7903"/>
                  <a:pt x="15444" y="7903"/>
                  <a:pt x="15444" y="7908"/>
                </a:cubicBezTo>
                <a:cubicBezTo>
                  <a:pt x="15450" y="7920"/>
                  <a:pt x="15456" y="7926"/>
                  <a:pt x="15462" y="7938"/>
                </a:cubicBezTo>
                <a:cubicBezTo>
                  <a:pt x="15462" y="7938"/>
                  <a:pt x="15468" y="7944"/>
                  <a:pt x="15468" y="7950"/>
                </a:cubicBezTo>
                <a:cubicBezTo>
                  <a:pt x="15468" y="7950"/>
                  <a:pt x="15468" y="7956"/>
                  <a:pt x="15468" y="7962"/>
                </a:cubicBezTo>
                <a:cubicBezTo>
                  <a:pt x="15474" y="7974"/>
                  <a:pt x="15468" y="7980"/>
                  <a:pt x="15468" y="7997"/>
                </a:cubicBezTo>
                <a:cubicBezTo>
                  <a:pt x="15468" y="8003"/>
                  <a:pt x="15474" y="8015"/>
                  <a:pt x="15480" y="8021"/>
                </a:cubicBezTo>
                <a:cubicBezTo>
                  <a:pt x="15480" y="8027"/>
                  <a:pt x="15486" y="8027"/>
                  <a:pt x="15486" y="8033"/>
                </a:cubicBezTo>
                <a:cubicBezTo>
                  <a:pt x="15486" y="8039"/>
                  <a:pt x="15486" y="8045"/>
                  <a:pt x="15486" y="8051"/>
                </a:cubicBezTo>
                <a:cubicBezTo>
                  <a:pt x="15486" y="8098"/>
                  <a:pt x="15486" y="8098"/>
                  <a:pt x="15486" y="8098"/>
                </a:cubicBezTo>
                <a:cubicBezTo>
                  <a:pt x="15480" y="8098"/>
                  <a:pt x="15474" y="8092"/>
                  <a:pt x="15462" y="8098"/>
                </a:cubicBezTo>
                <a:cubicBezTo>
                  <a:pt x="15456" y="8098"/>
                  <a:pt x="15450" y="8104"/>
                  <a:pt x="15438" y="8110"/>
                </a:cubicBezTo>
                <a:cubicBezTo>
                  <a:pt x="15438" y="8110"/>
                  <a:pt x="15432" y="8116"/>
                  <a:pt x="15426" y="8116"/>
                </a:cubicBezTo>
                <a:cubicBezTo>
                  <a:pt x="15426" y="8122"/>
                  <a:pt x="15421" y="8122"/>
                  <a:pt x="15421" y="8128"/>
                </a:cubicBezTo>
                <a:cubicBezTo>
                  <a:pt x="15421" y="8140"/>
                  <a:pt x="15421" y="8140"/>
                  <a:pt x="15421" y="8140"/>
                </a:cubicBezTo>
                <a:cubicBezTo>
                  <a:pt x="15432" y="8140"/>
                  <a:pt x="15444" y="8140"/>
                  <a:pt x="15456" y="8146"/>
                </a:cubicBezTo>
                <a:cubicBezTo>
                  <a:pt x="15462" y="8151"/>
                  <a:pt x="15462" y="8163"/>
                  <a:pt x="15468" y="8169"/>
                </a:cubicBezTo>
                <a:cubicBezTo>
                  <a:pt x="15474" y="8175"/>
                  <a:pt x="15480" y="8175"/>
                  <a:pt x="15480" y="8175"/>
                </a:cubicBezTo>
                <a:cubicBezTo>
                  <a:pt x="15486" y="8175"/>
                  <a:pt x="15486" y="8181"/>
                  <a:pt x="15492" y="8181"/>
                </a:cubicBezTo>
                <a:cubicBezTo>
                  <a:pt x="15504" y="8187"/>
                  <a:pt x="15504" y="8187"/>
                  <a:pt x="15515" y="8193"/>
                </a:cubicBezTo>
                <a:cubicBezTo>
                  <a:pt x="15521" y="8193"/>
                  <a:pt x="15521" y="8193"/>
                  <a:pt x="15527" y="8193"/>
                </a:cubicBezTo>
                <a:cubicBezTo>
                  <a:pt x="15533" y="8199"/>
                  <a:pt x="15539" y="8205"/>
                  <a:pt x="15551" y="8205"/>
                </a:cubicBezTo>
                <a:cubicBezTo>
                  <a:pt x="15557" y="8211"/>
                  <a:pt x="15563" y="8205"/>
                  <a:pt x="15569" y="8205"/>
                </a:cubicBezTo>
                <a:cubicBezTo>
                  <a:pt x="15575" y="8205"/>
                  <a:pt x="15581" y="8211"/>
                  <a:pt x="15587" y="8205"/>
                </a:cubicBezTo>
                <a:cubicBezTo>
                  <a:pt x="15592" y="8205"/>
                  <a:pt x="15604" y="8205"/>
                  <a:pt x="15610" y="8199"/>
                </a:cubicBezTo>
                <a:cubicBezTo>
                  <a:pt x="15610" y="8199"/>
                  <a:pt x="15616" y="8205"/>
                  <a:pt x="15622" y="8199"/>
                </a:cubicBezTo>
                <a:cubicBezTo>
                  <a:pt x="15628" y="8199"/>
                  <a:pt x="15628" y="8193"/>
                  <a:pt x="15634" y="8193"/>
                </a:cubicBezTo>
                <a:cubicBezTo>
                  <a:pt x="15640" y="8187"/>
                  <a:pt x="15646" y="8187"/>
                  <a:pt x="15646" y="8187"/>
                </a:cubicBezTo>
                <a:cubicBezTo>
                  <a:pt x="15652" y="8181"/>
                  <a:pt x="15652" y="8175"/>
                  <a:pt x="15658" y="8175"/>
                </a:cubicBezTo>
                <a:cubicBezTo>
                  <a:pt x="15658" y="8169"/>
                  <a:pt x="15658" y="8163"/>
                  <a:pt x="15658" y="8163"/>
                </a:cubicBezTo>
                <a:cubicBezTo>
                  <a:pt x="15664" y="8157"/>
                  <a:pt x="15664" y="8157"/>
                  <a:pt x="15670" y="8151"/>
                </a:cubicBezTo>
                <a:cubicBezTo>
                  <a:pt x="15676" y="8151"/>
                  <a:pt x="15676" y="8146"/>
                  <a:pt x="15676" y="8140"/>
                </a:cubicBezTo>
                <a:cubicBezTo>
                  <a:pt x="15687" y="8140"/>
                  <a:pt x="15693" y="8140"/>
                  <a:pt x="15699" y="8140"/>
                </a:cubicBezTo>
                <a:cubicBezTo>
                  <a:pt x="15711" y="8140"/>
                  <a:pt x="15717" y="8140"/>
                  <a:pt x="15723" y="8134"/>
                </a:cubicBezTo>
                <a:cubicBezTo>
                  <a:pt x="15729" y="8134"/>
                  <a:pt x="15729" y="8128"/>
                  <a:pt x="15735" y="8122"/>
                </a:cubicBezTo>
                <a:cubicBezTo>
                  <a:pt x="15741" y="8122"/>
                  <a:pt x="15747" y="8122"/>
                  <a:pt x="15759" y="8122"/>
                </a:cubicBezTo>
                <a:cubicBezTo>
                  <a:pt x="15776" y="8122"/>
                  <a:pt x="15788" y="8128"/>
                  <a:pt x="15812" y="8128"/>
                </a:cubicBezTo>
                <a:cubicBezTo>
                  <a:pt x="15818" y="8134"/>
                  <a:pt x="15824" y="8140"/>
                  <a:pt x="15836" y="8140"/>
                </a:cubicBezTo>
                <a:cubicBezTo>
                  <a:pt x="15842" y="8146"/>
                  <a:pt x="15842" y="8146"/>
                  <a:pt x="15847" y="8146"/>
                </a:cubicBezTo>
                <a:cubicBezTo>
                  <a:pt x="15859" y="8146"/>
                  <a:pt x="15859" y="8146"/>
                  <a:pt x="15871" y="8146"/>
                </a:cubicBezTo>
                <a:cubicBezTo>
                  <a:pt x="15877" y="8146"/>
                  <a:pt x="15883" y="8146"/>
                  <a:pt x="15889" y="8146"/>
                </a:cubicBezTo>
                <a:cubicBezTo>
                  <a:pt x="15889" y="8140"/>
                  <a:pt x="15895" y="8140"/>
                  <a:pt x="15895" y="8134"/>
                </a:cubicBezTo>
                <a:cubicBezTo>
                  <a:pt x="15901" y="8128"/>
                  <a:pt x="15907" y="8128"/>
                  <a:pt x="15907" y="8122"/>
                </a:cubicBezTo>
                <a:cubicBezTo>
                  <a:pt x="15913" y="8116"/>
                  <a:pt x="15919" y="8104"/>
                  <a:pt x="15925" y="8098"/>
                </a:cubicBezTo>
                <a:cubicBezTo>
                  <a:pt x="15930" y="8092"/>
                  <a:pt x="15930" y="8092"/>
                  <a:pt x="15936" y="8086"/>
                </a:cubicBezTo>
                <a:cubicBezTo>
                  <a:pt x="15954" y="8069"/>
                  <a:pt x="15966" y="8051"/>
                  <a:pt x="15990" y="8045"/>
                </a:cubicBezTo>
                <a:cubicBezTo>
                  <a:pt x="15990" y="8045"/>
                  <a:pt x="15996" y="8045"/>
                  <a:pt x="16002" y="8039"/>
                </a:cubicBezTo>
                <a:cubicBezTo>
                  <a:pt x="16008" y="8039"/>
                  <a:pt x="16008" y="8039"/>
                  <a:pt x="16014" y="8039"/>
                </a:cubicBezTo>
                <a:cubicBezTo>
                  <a:pt x="16014" y="8033"/>
                  <a:pt x="16019" y="8033"/>
                  <a:pt x="16025" y="8033"/>
                </a:cubicBezTo>
                <a:cubicBezTo>
                  <a:pt x="16025" y="8027"/>
                  <a:pt x="16031" y="8033"/>
                  <a:pt x="16037" y="8033"/>
                </a:cubicBezTo>
                <a:cubicBezTo>
                  <a:pt x="16037" y="8033"/>
                  <a:pt x="16043" y="8027"/>
                  <a:pt x="16049" y="8033"/>
                </a:cubicBezTo>
                <a:cubicBezTo>
                  <a:pt x="16049" y="8033"/>
                  <a:pt x="16055" y="8033"/>
                  <a:pt x="16055" y="8039"/>
                </a:cubicBezTo>
                <a:cubicBezTo>
                  <a:pt x="16061" y="8039"/>
                  <a:pt x="16067" y="8045"/>
                  <a:pt x="16067" y="8045"/>
                </a:cubicBezTo>
                <a:cubicBezTo>
                  <a:pt x="16079" y="8045"/>
                  <a:pt x="16085" y="8045"/>
                  <a:pt x="16091" y="8045"/>
                </a:cubicBezTo>
                <a:cubicBezTo>
                  <a:pt x="16102" y="8045"/>
                  <a:pt x="16108" y="8045"/>
                  <a:pt x="16114" y="8045"/>
                </a:cubicBezTo>
                <a:cubicBezTo>
                  <a:pt x="16120" y="8045"/>
                  <a:pt x="16120" y="8039"/>
                  <a:pt x="16126" y="8039"/>
                </a:cubicBezTo>
                <a:cubicBezTo>
                  <a:pt x="16138" y="8027"/>
                  <a:pt x="16138" y="8021"/>
                  <a:pt x="16150" y="8015"/>
                </a:cubicBezTo>
                <a:cubicBezTo>
                  <a:pt x="16156" y="8009"/>
                  <a:pt x="16162" y="8009"/>
                  <a:pt x="16168" y="8003"/>
                </a:cubicBezTo>
                <a:cubicBezTo>
                  <a:pt x="16168" y="8003"/>
                  <a:pt x="16174" y="7997"/>
                  <a:pt x="16174" y="7991"/>
                </a:cubicBezTo>
                <a:cubicBezTo>
                  <a:pt x="16180" y="7991"/>
                  <a:pt x="16180" y="7985"/>
                  <a:pt x="16185" y="7980"/>
                </a:cubicBezTo>
                <a:cubicBezTo>
                  <a:pt x="16185" y="7980"/>
                  <a:pt x="16191" y="7980"/>
                  <a:pt x="16197" y="7980"/>
                </a:cubicBezTo>
                <a:cubicBezTo>
                  <a:pt x="16203" y="7980"/>
                  <a:pt x="16215" y="7974"/>
                  <a:pt x="16227" y="7974"/>
                </a:cubicBezTo>
                <a:cubicBezTo>
                  <a:pt x="16233" y="7974"/>
                  <a:pt x="16239" y="7980"/>
                  <a:pt x="16245" y="7980"/>
                </a:cubicBezTo>
                <a:cubicBezTo>
                  <a:pt x="16262" y="7980"/>
                  <a:pt x="16269" y="7980"/>
                  <a:pt x="16286" y="7980"/>
                </a:cubicBezTo>
                <a:cubicBezTo>
                  <a:pt x="16292" y="7980"/>
                  <a:pt x="16298" y="7985"/>
                  <a:pt x="16310" y="7985"/>
                </a:cubicBezTo>
                <a:cubicBezTo>
                  <a:pt x="16322" y="7991"/>
                  <a:pt x="16322" y="7991"/>
                  <a:pt x="16322" y="7991"/>
                </a:cubicBezTo>
                <a:cubicBezTo>
                  <a:pt x="16328" y="7997"/>
                  <a:pt x="16328" y="7997"/>
                  <a:pt x="16334" y="8003"/>
                </a:cubicBezTo>
                <a:cubicBezTo>
                  <a:pt x="16340" y="8003"/>
                  <a:pt x="16346" y="8015"/>
                  <a:pt x="16351" y="8015"/>
                </a:cubicBezTo>
                <a:cubicBezTo>
                  <a:pt x="16357" y="8015"/>
                  <a:pt x="16363" y="8009"/>
                  <a:pt x="16369" y="8009"/>
                </a:cubicBezTo>
                <a:cubicBezTo>
                  <a:pt x="16375" y="8009"/>
                  <a:pt x="16375" y="8009"/>
                  <a:pt x="16381" y="8009"/>
                </a:cubicBezTo>
                <a:cubicBezTo>
                  <a:pt x="16405" y="8009"/>
                  <a:pt x="16405" y="8009"/>
                  <a:pt x="16405" y="8009"/>
                </a:cubicBezTo>
                <a:cubicBezTo>
                  <a:pt x="16411" y="8009"/>
                  <a:pt x="16423" y="8009"/>
                  <a:pt x="16428" y="8009"/>
                </a:cubicBezTo>
                <a:cubicBezTo>
                  <a:pt x="16435" y="8009"/>
                  <a:pt x="16435" y="8009"/>
                  <a:pt x="16440" y="8009"/>
                </a:cubicBezTo>
                <a:cubicBezTo>
                  <a:pt x="16446" y="8009"/>
                  <a:pt x="16446" y="8015"/>
                  <a:pt x="16452" y="8015"/>
                </a:cubicBezTo>
                <a:cubicBezTo>
                  <a:pt x="16458" y="8015"/>
                  <a:pt x="16458" y="8021"/>
                  <a:pt x="16458" y="8027"/>
                </a:cubicBezTo>
                <a:cubicBezTo>
                  <a:pt x="16464" y="8033"/>
                  <a:pt x="16470" y="8033"/>
                  <a:pt x="16470" y="8039"/>
                </a:cubicBezTo>
                <a:cubicBezTo>
                  <a:pt x="16470" y="8045"/>
                  <a:pt x="16476" y="8051"/>
                  <a:pt x="16476" y="8051"/>
                </a:cubicBezTo>
                <a:cubicBezTo>
                  <a:pt x="16476" y="8069"/>
                  <a:pt x="16476" y="8074"/>
                  <a:pt x="16476" y="8086"/>
                </a:cubicBezTo>
                <a:cubicBezTo>
                  <a:pt x="16494" y="8086"/>
                  <a:pt x="16506" y="8086"/>
                  <a:pt x="16517" y="8098"/>
                </a:cubicBezTo>
                <a:cubicBezTo>
                  <a:pt x="16523" y="8098"/>
                  <a:pt x="16523" y="8104"/>
                  <a:pt x="16523" y="8110"/>
                </a:cubicBezTo>
                <a:cubicBezTo>
                  <a:pt x="16529" y="8116"/>
                  <a:pt x="16529" y="8122"/>
                  <a:pt x="16529" y="8128"/>
                </a:cubicBezTo>
                <a:cubicBezTo>
                  <a:pt x="16529" y="8146"/>
                  <a:pt x="16529" y="8151"/>
                  <a:pt x="16535" y="8169"/>
                </a:cubicBezTo>
                <a:cubicBezTo>
                  <a:pt x="16535" y="8169"/>
                  <a:pt x="16535" y="8175"/>
                  <a:pt x="16535" y="8181"/>
                </a:cubicBezTo>
                <a:cubicBezTo>
                  <a:pt x="16541" y="8181"/>
                  <a:pt x="16541" y="8187"/>
                  <a:pt x="16547" y="8193"/>
                </a:cubicBezTo>
                <a:cubicBezTo>
                  <a:pt x="16547" y="8193"/>
                  <a:pt x="16553" y="8193"/>
                  <a:pt x="16559" y="8193"/>
                </a:cubicBezTo>
                <a:cubicBezTo>
                  <a:pt x="16571" y="8193"/>
                  <a:pt x="16583" y="8181"/>
                  <a:pt x="16589" y="8169"/>
                </a:cubicBezTo>
                <a:cubicBezTo>
                  <a:pt x="16594" y="8169"/>
                  <a:pt x="16594" y="8163"/>
                  <a:pt x="16594" y="8157"/>
                </a:cubicBezTo>
                <a:cubicBezTo>
                  <a:pt x="16601" y="8151"/>
                  <a:pt x="16612" y="8151"/>
                  <a:pt x="16618" y="8140"/>
                </a:cubicBezTo>
                <a:cubicBezTo>
                  <a:pt x="16618" y="8140"/>
                  <a:pt x="16618" y="8134"/>
                  <a:pt x="16624" y="8128"/>
                </a:cubicBezTo>
                <a:cubicBezTo>
                  <a:pt x="16624" y="8128"/>
                  <a:pt x="16630" y="8128"/>
                  <a:pt x="16636" y="8122"/>
                </a:cubicBezTo>
                <a:cubicBezTo>
                  <a:pt x="16636" y="8116"/>
                  <a:pt x="16642" y="8116"/>
                  <a:pt x="16642" y="8110"/>
                </a:cubicBezTo>
                <a:cubicBezTo>
                  <a:pt x="16648" y="8104"/>
                  <a:pt x="16648" y="8098"/>
                  <a:pt x="16654" y="8086"/>
                </a:cubicBezTo>
                <a:cubicBezTo>
                  <a:pt x="16654" y="8080"/>
                  <a:pt x="16654" y="8080"/>
                  <a:pt x="16660" y="8074"/>
                </a:cubicBezTo>
                <a:cubicBezTo>
                  <a:pt x="16666" y="8080"/>
                  <a:pt x="16672" y="8080"/>
                  <a:pt x="16678" y="8086"/>
                </a:cubicBezTo>
                <a:cubicBezTo>
                  <a:pt x="16683" y="8086"/>
                  <a:pt x="16689" y="8092"/>
                  <a:pt x="16689" y="8098"/>
                </a:cubicBezTo>
                <a:cubicBezTo>
                  <a:pt x="16689" y="8110"/>
                  <a:pt x="16678" y="8110"/>
                  <a:pt x="16672" y="8116"/>
                </a:cubicBezTo>
                <a:cubicBezTo>
                  <a:pt x="16660" y="8128"/>
                  <a:pt x="16660" y="8140"/>
                  <a:pt x="16660" y="8157"/>
                </a:cubicBezTo>
                <a:cubicBezTo>
                  <a:pt x="16660" y="8163"/>
                  <a:pt x="16660" y="8169"/>
                  <a:pt x="16660" y="8181"/>
                </a:cubicBezTo>
                <a:cubicBezTo>
                  <a:pt x="16666" y="8175"/>
                  <a:pt x="16672" y="8181"/>
                  <a:pt x="16672" y="8175"/>
                </a:cubicBezTo>
                <a:cubicBezTo>
                  <a:pt x="16678" y="8175"/>
                  <a:pt x="16672" y="8163"/>
                  <a:pt x="16678" y="8163"/>
                </a:cubicBezTo>
                <a:cubicBezTo>
                  <a:pt x="16683" y="8163"/>
                  <a:pt x="16683" y="8157"/>
                  <a:pt x="16689" y="8157"/>
                </a:cubicBezTo>
                <a:cubicBezTo>
                  <a:pt x="16695" y="8157"/>
                  <a:pt x="16695" y="8163"/>
                  <a:pt x="16701" y="8163"/>
                </a:cubicBezTo>
                <a:cubicBezTo>
                  <a:pt x="16701" y="8163"/>
                  <a:pt x="16707" y="8163"/>
                  <a:pt x="16713" y="8163"/>
                </a:cubicBezTo>
                <a:cubicBezTo>
                  <a:pt x="16713" y="8193"/>
                  <a:pt x="16713" y="8193"/>
                  <a:pt x="16713" y="8193"/>
                </a:cubicBezTo>
                <a:cubicBezTo>
                  <a:pt x="16713" y="8199"/>
                  <a:pt x="16707" y="8205"/>
                  <a:pt x="16707" y="8211"/>
                </a:cubicBezTo>
                <a:cubicBezTo>
                  <a:pt x="16707" y="8223"/>
                  <a:pt x="16707" y="8223"/>
                  <a:pt x="16707" y="8223"/>
                </a:cubicBezTo>
                <a:cubicBezTo>
                  <a:pt x="16701" y="8235"/>
                  <a:pt x="16701" y="8240"/>
                  <a:pt x="16701" y="8258"/>
                </a:cubicBezTo>
                <a:cubicBezTo>
                  <a:pt x="16701" y="8252"/>
                  <a:pt x="16707" y="8258"/>
                  <a:pt x="16713" y="8258"/>
                </a:cubicBezTo>
                <a:cubicBezTo>
                  <a:pt x="16719" y="8252"/>
                  <a:pt x="16719" y="8246"/>
                  <a:pt x="16725" y="8246"/>
                </a:cubicBezTo>
                <a:cubicBezTo>
                  <a:pt x="16725" y="8240"/>
                  <a:pt x="16731" y="8229"/>
                  <a:pt x="16737" y="8229"/>
                </a:cubicBezTo>
                <a:cubicBezTo>
                  <a:pt x="16743" y="8229"/>
                  <a:pt x="16749" y="8229"/>
                  <a:pt x="16755" y="8235"/>
                </a:cubicBezTo>
                <a:cubicBezTo>
                  <a:pt x="16760" y="8246"/>
                  <a:pt x="16755" y="8252"/>
                  <a:pt x="16755" y="8264"/>
                </a:cubicBezTo>
                <a:cubicBezTo>
                  <a:pt x="16760" y="8270"/>
                  <a:pt x="16772" y="8276"/>
                  <a:pt x="16778" y="8282"/>
                </a:cubicBezTo>
                <a:cubicBezTo>
                  <a:pt x="16784" y="8282"/>
                  <a:pt x="16790" y="8282"/>
                  <a:pt x="16790" y="8288"/>
                </a:cubicBezTo>
                <a:cubicBezTo>
                  <a:pt x="16796" y="8294"/>
                  <a:pt x="16796" y="8300"/>
                  <a:pt x="16796" y="8306"/>
                </a:cubicBezTo>
                <a:cubicBezTo>
                  <a:pt x="16796" y="8312"/>
                  <a:pt x="16796" y="8312"/>
                  <a:pt x="16796" y="8312"/>
                </a:cubicBezTo>
                <a:cubicBezTo>
                  <a:pt x="16796" y="8312"/>
                  <a:pt x="16790" y="8317"/>
                  <a:pt x="16790" y="8323"/>
                </a:cubicBezTo>
                <a:cubicBezTo>
                  <a:pt x="16790" y="8329"/>
                  <a:pt x="16790" y="8335"/>
                  <a:pt x="16790" y="8347"/>
                </a:cubicBezTo>
                <a:lnTo>
                  <a:pt x="16790" y="8353"/>
                </a:lnTo>
                <a:cubicBezTo>
                  <a:pt x="16796" y="8365"/>
                  <a:pt x="16802" y="8371"/>
                  <a:pt x="16808" y="8377"/>
                </a:cubicBezTo>
                <a:cubicBezTo>
                  <a:pt x="16814" y="8383"/>
                  <a:pt x="16820" y="8383"/>
                  <a:pt x="16832" y="8389"/>
                </a:cubicBezTo>
                <a:cubicBezTo>
                  <a:pt x="16838" y="8395"/>
                  <a:pt x="16838" y="8395"/>
                  <a:pt x="16844" y="8401"/>
                </a:cubicBezTo>
                <a:cubicBezTo>
                  <a:pt x="16849" y="8401"/>
                  <a:pt x="16855" y="8401"/>
                  <a:pt x="16867" y="8401"/>
                </a:cubicBezTo>
                <a:cubicBezTo>
                  <a:pt x="16879" y="8401"/>
                  <a:pt x="16891" y="8401"/>
                  <a:pt x="16903" y="8406"/>
                </a:cubicBezTo>
                <a:cubicBezTo>
                  <a:pt x="16909" y="8406"/>
                  <a:pt x="16909" y="8412"/>
                  <a:pt x="16909" y="8418"/>
                </a:cubicBezTo>
                <a:cubicBezTo>
                  <a:pt x="16915" y="8418"/>
                  <a:pt x="16921" y="8418"/>
                  <a:pt x="16921" y="8418"/>
                </a:cubicBezTo>
                <a:cubicBezTo>
                  <a:pt x="16926" y="8418"/>
                  <a:pt x="16933" y="8424"/>
                  <a:pt x="16933" y="8424"/>
                </a:cubicBezTo>
                <a:cubicBezTo>
                  <a:pt x="16938" y="8430"/>
                  <a:pt x="16938" y="8436"/>
                  <a:pt x="16944" y="8436"/>
                </a:cubicBezTo>
                <a:cubicBezTo>
                  <a:pt x="16956" y="8442"/>
                  <a:pt x="16962" y="8436"/>
                  <a:pt x="16974" y="8436"/>
                </a:cubicBezTo>
                <a:cubicBezTo>
                  <a:pt x="16992" y="8436"/>
                  <a:pt x="17010" y="8436"/>
                  <a:pt x="17021" y="8424"/>
                </a:cubicBezTo>
                <a:cubicBezTo>
                  <a:pt x="17033" y="8412"/>
                  <a:pt x="17033" y="8401"/>
                  <a:pt x="17033" y="8383"/>
                </a:cubicBezTo>
                <a:cubicBezTo>
                  <a:pt x="17051" y="8383"/>
                  <a:pt x="17051" y="8383"/>
                  <a:pt x="17051" y="8383"/>
                </a:cubicBezTo>
                <a:cubicBezTo>
                  <a:pt x="17069" y="8383"/>
                  <a:pt x="17075" y="8389"/>
                  <a:pt x="17081" y="8406"/>
                </a:cubicBezTo>
                <a:cubicBezTo>
                  <a:pt x="17081" y="8406"/>
                  <a:pt x="17081" y="8412"/>
                  <a:pt x="17081" y="8418"/>
                </a:cubicBezTo>
                <a:cubicBezTo>
                  <a:pt x="17087" y="8424"/>
                  <a:pt x="17087" y="8430"/>
                  <a:pt x="17093" y="8436"/>
                </a:cubicBezTo>
                <a:cubicBezTo>
                  <a:pt x="17099" y="8442"/>
                  <a:pt x="17110" y="8448"/>
                  <a:pt x="17122" y="8448"/>
                </a:cubicBezTo>
                <a:cubicBezTo>
                  <a:pt x="17134" y="8448"/>
                  <a:pt x="17140" y="8436"/>
                  <a:pt x="17152" y="8424"/>
                </a:cubicBezTo>
                <a:cubicBezTo>
                  <a:pt x="17158" y="8418"/>
                  <a:pt x="17164" y="8418"/>
                  <a:pt x="17164" y="8418"/>
                </a:cubicBezTo>
                <a:cubicBezTo>
                  <a:pt x="17176" y="8406"/>
                  <a:pt x="17181" y="8406"/>
                  <a:pt x="17193" y="8401"/>
                </a:cubicBezTo>
                <a:cubicBezTo>
                  <a:pt x="17193" y="8395"/>
                  <a:pt x="17199" y="8395"/>
                  <a:pt x="17199" y="8389"/>
                </a:cubicBezTo>
                <a:cubicBezTo>
                  <a:pt x="17211" y="8383"/>
                  <a:pt x="17217" y="8383"/>
                  <a:pt x="17229" y="8383"/>
                </a:cubicBezTo>
                <a:cubicBezTo>
                  <a:pt x="17241" y="8383"/>
                  <a:pt x="17241" y="8383"/>
                  <a:pt x="17247" y="8383"/>
                </a:cubicBezTo>
                <a:cubicBezTo>
                  <a:pt x="17270" y="8383"/>
                  <a:pt x="17288" y="8383"/>
                  <a:pt x="17312" y="8383"/>
                </a:cubicBezTo>
                <a:cubicBezTo>
                  <a:pt x="17318" y="8383"/>
                  <a:pt x="17318" y="8377"/>
                  <a:pt x="17324" y="8377"/>
                </a:cubicBezTo>
                <a:cubicBezTo>
                  <a:pt x="17324" y="8371"/>
                  <a:pt x="17330" y="8371"/>
                  <a:pt x="17336" y="8371"/>
                </a:cubicBezTo>
                <a:cubicBezTo>
                  <a:pt x="17336" y="8365"/>
                  <a:pt x="17330" y="8365"/>
                  <a:pt x="17336" y="8359"/>
                </a:cubicBezTo>
                <a:cubicBezTo>
                  <a:pt x="17336" y="8347"/>
                  <a:pt x="17342" y="8347"/>
                  <a:pt x="17348" y="8335"/>
                </a:cubicBezTo>
                <a:cubicBezTo>
                  <a:pt x="17348" y="8323"/>
                  <a:pt x="17342" y="8312"/>
                  <a:pt x="17348" y="8300"/>
                </a:cubicBezTo>
                <a:cubicBezTo>
                  <a:pt x="17353" y="8288"/>
                  <a:pt x="17365" y="8294"/>
                  <a:pt x="17371" y="8288"/>
                </a:cubicBezTo>
                <a:cubicBezTo>
                  <a:pt x="17377" y="8282"/>
                  <a:pt x="17383" y="8276"/>
                  <a:pt x="17383" y="8270"/>
                </a:cubicBezTo>
                <a:cubicBezTo>
                  <a:pt x="17383" y="8264"/>
                  <a:pt x="17383" y="8264"/>
                  <a:pt x="17383" y="8264"/>
                </a:cubicBezTo>
                <a:cubicBezTo>
                  <a:pt x="17383" y="8258"/>
                  <a:pt x="17377" y="8258"/>
                  <a:pt x="17371" y="8252"/>
                </a:cubicBezTo>
                <a:cubicBezTo>
                  <a:pt x="17371" y="8246"/>
                  <a:pt x="17371" y="8240"/>
                  <a:pt x="17371" y="8229"/>
                </a:cubicBezTo>
                <a:cubicBezTo>
                  <a:pt x="17371" y="8217"/>
                  <a:pt x="17377" y="8205"/>
                  <a:pt x="17377" y="8187"/>
                </a:cubicBezTo>
                <a:cubicBezTo>
                  <a:pt x="17377" y="8181"/>
                  <a:pt x="17383" y="8181"/>
                  <a:pt x="17383" y="8175"/>
                </a:cubicBezTo>
                <a:cubicBezTo>
                  <a:pt x="17383" y="8169"/>
                  <a:pt x="17389" y="8169"/>
                  <a:pt x="17389" y="8163"/>
                </a:cubicBezTo>
                <a:cubicBezTo>
                  <a:pt x="17389" y="8157"/>
                  <a:pt x="17389" y="8157"/>
                  <a:pt x="17395" y="8151"/>
                </a:cubicBezTo>
                <a:cubicBezTo>
                  <a:pt x="17401" y="8146"/>
                  <a:pt x="17407" y="8140"/>
                  <a:pt x="17413" y="8128"/>
                </a:cubicBezTo>
                <a:cubicBezTo>
                  <a:pt x="17419" y="8128"/>
                  <a:pt x="17419" y="8122"/>
                  <a:pt x="17425" y="8122"/>
                </a:cubicBezTo>
                <a:cubicBezTo>
                  <a:pt x="17431" y="8116"/>
                  <a:pt x="17431" y="8116"/>
                  <a:pt x="17436" y="8116"/>
                </a:cubicBezTo>
                <a:cubicBezTo>
                  <a:pt x="17436" y="8110"/>
                  <a:pt x="17442" y="8104"/>
                  <a:pt x="17442" y="8104"/>
                </a:cubicBezTo>
                <a:cubicBezTo>
                  <a:pt x="17442" y="8098"/>
                  <a:pt x="17448" y="8092"/>
                  <a:pt x="17448" y="8092"/>
                </a:cubicBezTo>
                <a:cubicBezTo>
                  <a:pt x="17448" y="8086"/>
                  <a:pt x="17448" y="8080"/>
                  <a:pt x="17448" y="8080"/>
                </a:cubicBezTo>
                <a:cubicBezTo>
                  <a:pt x="17448" y="8074"/>
                  <a:pt x="17448" y="8069"/>
                  <a:pt x="17448" y="8069"/>
                </a:cubicBezTo>
                <a:cubicBezTo>
                  <a:pt x="17454" y="8062"/>
                  <a:pt x="17454" y="8062"/>
                  <a:pt x="17460" y="8057"/>
                </a:cubicBezTo>
                <a:cubicBezTo>
                  <a:pt x="17460" y="8051"/>
                  <a:pt x="17466" y="8045"/>
                  <a:pt x="17472" y="8045"/>
                </a:cubicBezTo>
                <a:cubicBezTo>
                  <a:pt x="17472" y="8045"/>
                  <a:pt x="17478" y="8039"/>
                  <a:pt x="17484" y="8039"/>
                </a:cubicBezTo>
                <a:cubicBezTo>
                  <a:pt x="17484" y="8039"/>
                  <a:pt x="17490" y="8039"/>
                  <a:pt x="17496" y="8039"/>
                </a:cubicBezTo>
                <a:cubicBezTo>
                  <a:pt x="17502" y="8033"/>
                  <a:pt x="17496" y="8027"/>
                  <a:pt x="17496" y="8021"/>
                </a:cubicBezTo>
                <a:cubicBezTo>
                  <a:pt x="17496" y="8015"/>
                  <a:pt x="17502" y="8015"/>
                  <a:pt x="17502" y="8009"/>
                </a:cubicBezTo>
                <a:cubicBezTo>
                  <a:pt x="17502" y="8009"/>
                  <a:pt x="17502" y="8003"/>
                  <a:pt x="17502" y="7997"/>
                </a:cubicBezTo>
                <a:cubicBezTo>
                  <a:pt x="17502" y="7991"/>
                  <a:pt x="17502" y="7985"/>
                  <a:pt x="17502" y="7974"/>
                </a:cubicBezTo>
                <a:cubicBezTo>
                  <a:pt x="17508" y="7962"/>
                  <a:pt x="17514" y="7956"/>
                  <a:pt x="17519" y="7944"/>
                </a:cubicBezTo>
                <a:cubicBezTo>
                  <a:pt x="17525" y="7938"/>
                  <a:pt x="17531" y="7932"/>
                  <a:pt x="17531" y="7920"/>
                </a:cubicBezTo>
                <a:cubicBezTo>
                  <a:pt x="17537" y="7908"/>
                  <a:pt x="17537" y="7896"/>
                  <a:pt x="17543" y="7885"/>
                </a:cubicBezTo>
                <a:cubicBezTo>
                  <a:pt x="17543" y="7879"/>
                  <a:pt x="17543" y="7879"/>
                  <a:pt x="17543" y="7873"/>
                </a:cubicBezTo>
                <a:cubicBezTo>
                  <a:pt x="17543" y="7867"/>
                  <a:pt x="17549" y="7867"/>
                  <a:pt x="17549" y="7861"/>
                </a:cubicBezTo>
                <a:cubicBezTo>
                  <a:pt x="17549" y="7802"/>
                  <a:pt x="17549" y="7802"/>
                  <a:pt x="17549" y="7802"/>
                </a:cubicBezTo>
                <a:cubicBezTo>
                  <a:pt x="17549" y="7802"/>
                  <a:pt x="17543" y="7796"/>
                  <a:pt x="17537" y="7796"/>
                </a:cubicBezTo>
                <a:cubicBezTo>
                  <a:pt x="17537" y="7790"/>
                  <a:pt x="17537" y="7784"/>
                  <a:pt x="17531" y="7784"/>
                </a:cubicBezTo>
                <a:cubicBezTo>
                  <a:pt x="17531" y="7778"/>
                  <a:pt x="17525" y="7778"/>
                  <a:pt x="17519" y="7772"/>
                </a:cubicBezTo>
                <a:cubicBezTo>
                  <a:pt x="17519" y="7766"/>
                  <a:pt x="17514" y="7766"/>
                  <a:pt x="17514" y="7760"/>
                </a:cubicBezTo>
                <a:cubicBezTo>
                  <a:pt x="17514" y="7748"/>
                  <a:pt x="17514" y="7748"/>
                  <a:pt x="17514" y="7748"/>
                </a:cubicBezTo>
                <a:cubicBezTo>
                  <a:pt x="17514" y="7742"/>
                  <a:pt x="17514" y="7742"/>
                  <a:pt x="17514" y="7737"/>
                </a:cubicBezTo>
                <a:cubicBezTo>
                  <a:pt x="17514" y="7725"/>
                  <a:pt x="17525" y="7725"/>
                  <a:pt x="17525" y="7713"/>
                </a:cubicBezTo>
                <a:cubicBezTo>
                  <a:pt x="17525" y="7707"/>
                  <a:pt x="17525" y="7701"/>
                  <a:pt x="17525" y="7689"/>
                </a:cubicBezTo>
                <a:cubicBezTo>
                  <a:pt x="17519" y="7689"/>
                  <a:pt x="17519" y="7689"/>
                  <a:pt x="17519" y="7689"/>
                </a:cubicBezTo>
                <a:cubicBezTo>
                  <a:pt x="17519" y="7653"/>
                  <a:pt x="17519" y="7653"/>
                  <a:pt x="17519" y="7653"/>
                </a:cubicBezTo>
                <a:cubicBezTo>
                  <a:pt x="17519" y="7648"/>
                  <a:pt x="17519" y="7648"/>
                  <a:pt x="17519" y="7642"/>
                </a:cubicBezTo>
                <a:cubicBezTo>
                  <a:pt x="17519" y="7636"/>
                  <a:pt x="17514" y="7636"/>
                  <a:pt x="17508" y="7630"/>
                </a:cubicBezTo>
                <a:cubicBezTo>
                  <a:pt x="17502" y="7618"/>
                  <a:pt x="17496" y="7618"/>
                  <a:pt x="17490" y="7606"/>
                </a:cubicBezTo>
                <a:cubicBezTo>
                  <a:pt x="17490" y="7600"/>
                  <a:pt x="17484" y="7600"/>
                  <a:pt x="17484" y="7594"/>
                </a:cubicBezTo>
                <a:cubicBezTo>
                  <a:pt x="17484" y="7588"/>
                  <a:pt x="17484" y="7588"/>
                  <a:pt x="17484" y="7582"/>
                </a:cubicBezTo>
                <a:cubicBezTo>
                  <a:pt x="17478" y="7576"/>
                  <a:pt x="17478" y="7576"/>
                  <a:pt x="17478" y="7571"/>
                </a:cubicBezTo>
                <a:cubicBezTo>
                  <a:pt x="17472" y="7564"/>
                  <a:pt x="17472" y="7564"/>
                  <a:pt x="17472" y="7559"/>
                </a:cubicBezTo>
                <a:cubicBezTo>
                  <a:pt x="17466" y="7553"/>
                  <a:pt x="17460" y="7553"/>
                  <a:pt x="17460" y="7553"/>
                </a:cubicBezTo>
                <a:cubicBezTo>
                  <a:pt x="17454" y="7541"/>
                  <a:pt x="17448" y="7535"/>
                  <a:pt x="17436" y="7529"/>
                </a:cubicBezTo>
                <a:lnTo>
                  <a:pt x="17431" y="7523"/>
                </a:lnTo>
                <a:cubicBezTo>
                  <a:pt x="17425" y="7517"/>
                  <a:pt x="17419" y="7517"/>
                  <a:pt x="17413" y="7517"/>
                </a:cubicBezTo>
                <a:cubicBezTo>
                  <a:pt x="17407" y="7511"/>
                  <a:pt x="17407" y="7511"/>
                  <a:pt x="17407" y="7505"/>
                </a:cubicBezTo>
                <a:cubicBezTo>
                  <a:pt x="17407" y="7446"/>
                  <a:pt x="17407" y="7446"/>
                  <a:pt x="17407" y="7446"/>
                </a:cubicBezTo>
                <a:cubicBezTo>
                  <a:pt x="17395" y="7446"/>
                  <a:pt x="17389" y="7446"/>
                  <a:pt x="17383" y="7446"/>
                </a:cubicBezTo>
                <a:cubicBezTo>
                  <a:pt x="17371" y="7446"/>
                  <a:pt x="17359" y="7446"/>
                  <a:pt x="17348" y="7446"/>
                </a:cubicBezTo>
                <a:cubicBezTo>
                  <a:pt x="17342" y="7446"/>
                  <a:pt x="17336" y="7440"/>
                  <a:pt x="17336" y="7440"/>
                </a:cubicBezTo>
                <a:cubicBezTo>
                  <a:pt x="17330" y="7440"/>
                  <a:pt x="17324" y="7434"/>
                  <a:pt x="17324" y="7434"/>
                </a:cubicBezTo>
                <a:cubicBezTo>
                  <a:pt x="17312" y="7428"/>
                  <a:pt x="17306" y="7422"/>
                  <a:pt x="17306" y="7410"/>
                </a:cubicBezTo>
                <a:cubicBezTo>
                  <a:pt x="17306" y="7398"/>
                  <a:pt x="17306" y="7398"/>
                  <a:pt x="17306" y="7398"/>
                </a:cubicBezTo>
                <a:cubicBezTo>
                  <a:pt x="17306" y="7398"/>
                  <a:pt x="17300" y="7393"/>
                  <a:pt x="17300" y="7387"/>
                </a:cubicBezTo>
                <a:cubicBezTo>
                  <a:pt x="17300" y="7381"/>
                  <a:pt x="17300" y="7375"/>
                  <a:pt x="17300" y="7363"/>
                </a:cubicBezTo>
                <a:cubicBezTo>
                  <a:pt x="17300" y="7363"/>
                  <a:pt x="17294" y="7363"/>
                  <a:pt x="17288" y="7363"/>
                </a:cubicBezTo>
                <a:cubicBezTo>
                  <a:pt x="17288" y="7363"/>
                  <a:pt x="17282" y="7363"/>
                  <a:pt x="17276" y="7357"/>
                </a:cubicBezTo>
                <a:cubicBezTo>
                  <a:pt x="17276" y="7351"/>
                  <a:pt x="17282" y="7339"/>
                  <a:pt x="17276" y="7333"/>
                </a:cubicBezTo>
                <a:lnTo>
                  <a:pt x="17270" y="7333"/>
                </a:lnTo>
                <a:cubicBezTo>
                  <a:pt x="17265" y="7327"/>
                  <a:pt x="17259" y="7327"/>
                  <a:pt x="17259" y="7327"/>
                </a:cubicBezTo>
                <a:cubicBezTo>
                  <a:pt x="17247" y="7321"/>
                  <a:pt x="17241" y="7321"/>
                  <a:pt x="17235" y="7316"/>
                </a:cubicBezTo>
                <a:cubicBezTo>
                  <a:pt x="17229" y="7310"/>
                  <a:pt x="17229" y="7304"/>
                  <a:pt x="17223" y="7304"/>
                </a:cubicBezTo>
                <a:cubicBezTo>
                  <a:pt x="17223" y="7298"/>
                  <a:pt x="17217" y="7298"/>
                  <a:pt x="17211" y="7292"/>
                </a:cubicBezTo>
                <a:cubicBezTo>
                  <a:pt x="17211" y="7292"/>
                  <a:pt x="17211" y="7286"/>
                  <a:pt x="17205" y="7280"/>
                </a:cubicBezTo>
                <a:cubicBezTo>
                  <a:pt x="17205" y="7280"/>
                  <a:pt x="17199" y="7274"/>
                  <a:pt x="17193" y="7274"/>
                </a:cubicBezTo>
                <a:cubicBezTo>
                  <a:pt x="17181" y="7268"/>
                  <a:pt x="17176" y="7268"/>
                  <a:pt x="17158" y="7262"/>
                </a:cubicBezTo>
                <a:cubicBezTo>
                  <a:pt x="17152" y="7262"/>
                  <a:pt x="17152" y="7262"/>
                  <a:pt x="17146" y="7256"/>
                </a:cubicBezTo>
                <a:cubicBezTo>
                  <a:pt x="17140" y="7256"/>
                  <a:pt x="17134" y="7250"/>
                  <a:pt x="17134" y="7244"/>
                </a:cubicBezTo>
                <a:cubicBezTo>
                  <a:pt x="17134" y="7239"/>
                  <a:pt x="17134" y="7232"/>
                  <a:pt x="17134" y="7221"/>
                </a:cubicBezTo>
                <a:cubicBezTo>
                  <a:pt x="17128" y="7215"/>
                  <a:pt x="17122" y="7209"/>
                  <a:pt x="17122" y="7197"/>
                </a:cubicBezTo>
                <a:cubicBezTo>
                  <a:pt x="17116" y="7197"/>
                  <a:pt x="17122" y="7191"/>
                  <a:pt x="17122" y="7185"/>
                </a:cubicBezTo>
                <a:cubicBezTo>
                  <a:pt x="17116" y="7179"/>
                  <a:pt x="17116" y="7179"/>
                  <a:pt x="17116" y="7173"/>
                </a:cubicBezTo>
                <a:cubicBezTo>
                  <a:pt x="17116" y="7167"/>
                  <a:pt x="17110" y="7167"/>
                  <a:pt x="17110" y="7161"/>
                </a:cubicBezTo>
                <a:cubicBezTo>
                  <a:pt x="17110" y="7161"/>
                  <a:pt x="17110" y="7155"/>
                  <a:pt x="17110" y="7150"/>
                </a:cubicBezTo>
                <a:cubicBezTo>
                  <a:pt x="17110" y="7138"/>
                  <a:pt x="17110" y="7138"/>
                  <a:pt x="17110" y="7138"/>
                </a:cubicBezTo>
                <a:cubicBezTo>
                  <a:pt x="17110" y="7132"/>
                  <a:pt x="17110" y="7126"/>
                  <a:pt x="17110" y="7114"/>
                </a:cubicBezTo>
                <a:lnTo>
                  <a:pt x="17110" y="7108"/>
                </a:lnTo>
                <a:cubicBezTo>
                  <a:pt x="17104" y="7096"/>
                  <a:pt x="17099" y="7090"/>
                  <a:pt x="17093" y="7084"/>
                </a:cubicBezTo>
                <a:cubicBezTo>
                  <a:pt x="17087" y="7078"/>
                  <a:pt x="17081" y="7078"/>
                  <a:pt x="17075" y="7072"/>
                </a:cubicBezTo>
                <a:cubicBezTo>
                  <a:pt x="17075" y="7066"/>
                  <a:pt x="17075" y="7061"/>
                  <a:pt x="17075" y="7055"/>
                </a:cubicBezTo>
                <a:cubicBezTo>
                  <a:pt x="17075" y="7049"/>
                  <a:pt x="17081" y="7043"/>
                  <a:pt x="17081" y="7037"/>
                </a:cubicBezTo>
                <a:cubicBezTo>
                  <a:pt x="17081" y="7025"/>
                  <a:pt x="17069" y="7013"/>
                  <a:pt x="17057" y="7013"/>
                </a:cubicBezTo>
                <a:cubicBezTo>
                  <a:pt x="17057" y="7013"/>
                  <a:pt x="17051" y="7013"/>
                  <a:pt x="17045" y="7013"/>
                </a:cubicBezTo>
                <a:lnTo>
                  <a:pt x="17039" y="7013"/>
                </a:lnTo>
                <a:cubicBezTo>
                  <a:pt x="17033" y="7013"/>
                  <a:pt x="17027" y="7007"/>
                  <a:pt x="17027" y="7007"/>
                </a:cubicBezTo>
                <a:cubicBezTo>
                  <a:pt x="17015" y="7001"/>
                  <a:pt x="17010" y="7001"/>
                  <a:pt x="16998" y="7001"/>
                </a:cubicBezTo>
                <a:cubicBezTo>
                  <a:pt x="16998" y="6995"/>
                  <a:pt x="16992" y="6995"/>
                  <a:pt x="16986" y="6995"/>
                </a:cubicBezTo>
                <a:cubicBezTo>
                  <a:pt x="16986" y="6989"/>
                  <a:pt x="16992" y="6984"/>
                  <a:pt x="16986" y="6984"/>
                </a:cubicBezTo>
                <a:cubicBezTo>
                  <a:pt x="16986" y="6978"/>
                  <a:pt x="16986" y="6978"/>
                  <a:pt x="16986" y="6972"/>
                </a:cubicBezTo>
                <a:cubicBezTo>
                  <a:pt x="16986" y="6966"/>
                  <a:pt x="16986" y="6966"/>
                  <a:pt x="16980" y="6960"/>
                </a:cubicBezTo>
                <a:cubicBezTo>
                  <a:pt x="16980" y="6948"/>
                  <a:pt x="16980" y="6948"/>
                  <a:pt x="16980" y="6948"/>
                </a:cubicBezTo>
                <a:cubicBezTo>
                  <a:pt x="16980" y="6936"/>
                  <a:pt x="16986" y="6924"/>
                  <a:pt x="16980" y="6912"/>
                </a:cubicBezTo>
                <a:cubicBezTo>
                  <a:pt x="16980" y="6906"/>
                  <a:pt x="16974" y="6906"/>
                  <a:pt x="16968" y="6901"/>
                </a:cubicBezTo>
                <a:cubicBezTo>
                  <a:pt x="16968" y="6901"/>
                  <a:pt x="16968" y="6896"/>
                  <a:pt x="16968" y="6890"/>
                </a:cubicBezTo>
                <a:lnTo>
                  <a:pt x="16956" y="6884"/>
                </a:lnTo>
                <a:cubicBezTo>
                  <a:pt x="16956" y="6878"/>
                  <a:pt x="16956" y="6872"/>
                  <a:pt x="16956" y="6872"/>
                </a:cubicBezTo>
                <a:cubicBezTo>
                  <a:pt x="16956" y="6860"/>
                  <a:pt x="16956" y="6854"/>
                  <a:pt x="16956" y="6848"/>
                </a:cubicBezTo>
                <a:cubicBezTo>
                  <a:pt x="16950" y="6842"/>
                  <a:pt x="16950" y="6836"/>
                  <a:pt x="16950" y="6836"/>
                </a:cubicBezTo>
                <a:cubicBezTo>
                  <a:pt x="16944" y="6824"/>
                  <a:pt x="16938" y="6818"/>
                  <a:pt x="16933" y="6813"/>
                </a:cubicBezTo>
                <a:cubicBezTo>
                  <a:pt x="16926" y="6813"/>
                  <a:pt x="16921" y="6818"/>
                  <a:pt x="16921" y="6813"/>
                </a:cubicBezTo>
                <a:cubicBezTo>
                  <a:pt x="16915" y="6824"/>
                  <a:pt x="16915" y="6824"/>
                  <a:pt x="16915" y="6824"/>
                </a:cubicBezTo>
                <a:cubicBezTo>
                  <a:pt x="16921" y="6836"/>
                  <a:pt x="16915" y="6842"/>
                  <a:pt x="16915" y="6848"/>
                </a:cubicBezTo>
                <a:close/>
                <a:moveTo>
                  <a:pt x="17875" y="6735"/>
                </a:moveTo>
                <a:lnTo>
                  <a:pt x="17875" y="6735"/>
                </a:lnTo>
                <a:cubicBezTo>
                  <a:pt x="17875" y="6741"/>
                  <a:pt x="17875" y="6747"/>
                  <a:pt x="17881" y="6747"/>
                </a:cubicBezTo>
                <a:cubicBezTo>
                  <a:pt x="17887" y="6753"/>
                  <a:pt x="17893" y="6753"/>
                  <a:pt x="17905" y="6753"/>
                </a:cubicBezTo>
                <a:cubicBezTo>
                  <a:pt x="17917" y="6753"/>
                  <a:pt x="17917" y="6753"/>
                  <a:pt x="17917" y="6753"/>
                </a:cubicBezTo>
                <a:cubicBezTo>
                  <a:pt x="17923" y="6753"/>
                  <a:pt x="17923" y="6747"/>
                  <a:pt x="17929" y="6747"/>
                </a:cubicBezTo>
                <a:cubicBezTo>
                  <a:pt x="17929" y="6741"/>
                  <a:pt x="17923" y="6741"/>
                  <a:pt x="17923" y="6735"/>
                </a:cubicBezTo>
                <a:cubicBezTo>
                  <a:pt x="17917" y="6730"/>
                  <a:pt x="17923" y="6730"/>
                  <a:pt x="17917" y="6724"/>
                </a:cubicBezTo>
                <a:cubicBezTo>
                  <a:pt x="17917" y="6718"/>
                  <a:pt x="17911" y="6724"/>
                  <a:pt x="17905" y="6724"/>
                </a:cubicBezTo>
                <a:cubicBezTo>
                  <a:pt x="17899" y="6718"/>
                  <a:pt x="17893" y="6718"/>
                  <a:pt x="17887" y="6718"/>
                </a:cubicBezTo>
                <a:cubicBezTo>
                  <a:pt x="17881" y="6718"/>
                  <a:pt x="17875" y="6718"/>
                  <a:pt x="17869" y="6718"/>
                </a:cubicBezTo>
                <a:cubicBezTo>
                  <a:pt x="17869" y="6724"/>
                  <a:pt x="17869" y="6735"/>
                  <a:pt x="17875" y="6735"/>
                </a:cubicBezTo>
                <a:close/>
                <a:moveTo>
                  <a:pt x="17591" y="6546"/>
                </a:moveTo>
                <a:lnTo>
                  <a:pt x="17591" y="6546"/>
                </a:lnTo>
                <a:cubicBezTo>
                  <a:pt x="17591" y="6552"/>
                  <a:pt x="17603" y="6552"/>
                  <a:pt x="17603" y="6558"/>
                </a:cubicBezTo>
                <a:cubicBezTo>
                  <a:pt x="17608" y="6569"/>
                  <a:pt x="17620" y="6569"/>
                  <a:pt x="17626" y="6575"/>
                </a:cubicBezTo>
                <a:cubicBezTo>
                  <a:pt x="17626" y="6581"/>
                  <a:pt x="17626" y="6581"/>
                  <a:pt x="17632" y="6587"/>
                </a:cubicBezTo>
                <a:cubicBezTo>
                  <a:pt x="17632" y="6593"/>
                  <a:pt x="17638" y="6593"/>
                  <a:pt x="17644" y="6599"/>
                </a:cubicBezTo>
                <a:cubicBezTo>
                  <a:pt x="17644" y="6599"/>
                  <a:pt x="17650" y="6605"/>
                  <a:pt x="17656" y="6605"/>
                </a:cubicBezTo>
                <a:lnTo>
                  <a:pt x="17662" y="6599"/>
                </a:lnTo>
                <a:cubicBezTo>
                  <a:pt x="17662" y="6593"/>
                  <a:pt x="17662" y="6593"/>
                  <a:pt x="17662" y="6587"/>
                </a:cubicBezTo>
                <a:cubicBezTo>
                  <a:pt x="17662" y="6581"/>
                  <a:pt x="17656" y="6581"/>
                  <a:pt x="17656" y="6575"/>
                </a:cubicBezTo>
                <a:cubicBezTo>
                  <a:pt x="17650" y="6569"/>
                  <a:pt x="17656" y="6569"/>
                  <a:pt x="17656" y="6563"/>
                </a:cubicBezTo>
                <a:cubicBezTo>
                  <a:pt x="17650" y="6558"/>
                  <a:pt x="17650" y="6558"/>
                  <a:pt x="17644" y="6552"/>
                </a:cubicBezTo>
                <a:cubicBezTo>
                  <a:pt x="17638" y="6546"/>
                  <a:pt x="17632" y="6540"/>
                  <a:pt x="17620" y="6534"/>
                </a:cubicBezTo>
                <a:cubicBezTo>
                  <a:pt x="17620" y="6534"/>
                  <a:pt x="17614" y="6534"/>
                  <a:pt x="17608" y="6528"/>
                </a:cubicBezTo>
                <a:cubicBezTo>
                  <a:pt x="17608" y="6528"/>
                  <a:pt x="17608" y="6522"/>
                  <a:pt x="17608" y="6516"/>
                </a:cubicBezTo>
                <a:cubicBezTo>
                  <a:pt x="17608" y="6516"/>
                  <a:pt x="17608" y="6510"/>
                  <a:pt x="17608" y="6504"/>
                </a:cubicBezTo>
                <a:cubicBezTo>
                  <a:pt x="17597" y="6504"/>
                  <a:pt x="17597" y="6504"/>
                  <a:pt x="17597" y="6504"/>
                </a:cubicBezTo>
                <a:cubicBezTo>
                  <a:pt x="17597" y="6504"/>
                  <a:pt x="17591" y="6510"/>
                  <a:pt x="17585" y="6510"/>
                </a:cubicBezTo>
                <a:cubicBezTo>
                  <a:pt x="17591" y="6516"/>
                  <a:pt x="17591" y="6516"/>
                  <a:pt x="17591" y="6522"/>
                </a:cubicBezTo>
                <a:cubicBezTo>
                  <a:pt x="17597" y="6528"/>
                  <a:pt x="17597" y="6534"/>
                  <a:pt x="17597" y="6534"/>
                </a:cubicBezTo>
                <a:cubicBezTo>
                  <a:pt x="17597" y="6540"/>
                  <a:pt x="17591" y="6540"/>
                  <a:pt x="17591" y="6546"/>
                </a:cubicBezTo>
                <a:close/>
                <a:moveTo>
                  <a:pt x="17265" y="6510"/>
                </a:moveTo>
                <a:lnTo>
                  <a:pt x="17265" y="6510"/>
                </a:lnTo>
                <a:cubicBezTo>
                  <a:pt x="17265" y="6522"/>
                  <a:pt x="17270" y="6528"/>
                  <a:pt x="17270" y="6534"/>
                </a:cubicBezTo>
                <a:cubicBezTo>
                  <a:pt x="17270" y="6540"/>
                  <a:pt x="17265" y="6540"/>
                  <a:pt x="17265" y="6540"/>
                </a:cubicBezTo>
                <a:cubicBezTo>
                  <a:pt x="17288" y="6540"/>
                  <a:pt x="17300" y="6540"/>
                  <a:pt x="17318" y="6540"/>
                </a:cubicBezTo>
                <a:cubicBezTo>
                  <a:pt x="17324" y="6540"/>
                  <a:pt x="17330" y="6546"/>
                  <a:pt x="17342" y="6546"/>
                </a:cubicBezTo>
                <a:cubicBezTo>
                  <a:pt x="17348" y="6546"/>
                  <a:pt x="17353" y="6546"/>
                  <a:pt x="17359" y="6546"/>
                </a:cubicBezTo>
                <a:cubicBezTo>
                  <a:pt x="17371" y="6546"/>
                  <a:pt x="17377" y="6546"/>
                  <a:pt x="17383" y="6546"/>
                </a:cubicBezTo>
                <a:cubicBezTo>
                  <a:pt x="17389" y="6546"/>
                  <a:pt x="17395" y="6546"/>
                  <a:pt x="17395" y="6540"/>
                </a:cubicBezTo>
                <a:cubicBezTo>
                  <a:pt x="17401" y="6540"/>
                  <a:pt x="17401" y="6534"/>
                  <a:pt x="17407" y="6528"/>
                </a:cubicBezTo>
                <a:cubicBezTo>
                  <a:pt x="17413" y="6528"/>
                  <a:pt x="17413" y="6534"/>
                  <a:pt x="17419" y="6528"/>
                </a:cubicBezTo>
                <a:cubicBezTo>
                  <a:pt x="17425" y="6528"/>
                  <a:pt x="17425" y="6528"/>
                  <a:pt x="17431" y="6528"/>
                </a:cubicBezTo>
                <a:cubicBezTo>
                  <a:pt x="17436" y="6522"/>
                  <a:pt x="17436" y="6522"/>
                  <a:pt x="17442" y="6516"/>
                </a:cubicBezTo>
                <a:cubicBezTo>
                  <a:pt x="17448" y="6510"/>
                  <a:pt x="17448" y="6504"/>
                  <a:pt x="17454" y="6492"/>
                </a:cubicBezTo>
                <a:cubicBezTo>
                  <a:pt x="17454" y="6486"/>
                  <a:pt x="17454" y="6480"/>
                  <a:pt x="17454" y="6469"/>
                </a:cubicBezTo>
                <a:cubicBezTo>
                  <a:pt x="17460" y="6463"/>
                  <a:pt x="17466" y="6463"/>
                  <a:pt x="17466" y="6457"/>
                </a:cubicBezTo>
                <a:cubicBezTo>
                  <a:pt x="17466" y="6457"/>
                  <a:pt x="17466" y="6451"/>
                  <a:pt x="17466" y="6445"/>
                </a:cubicBezTo>
                <a:cubicBezTo>
                  <a:pt x="17466" y="6439"/>
                  <a:pt x="17460" y="6439"/>
                  <a:pt x="17460" y="6433"/>
                </a:cubicBezTo>
                <a:cubicBezTo>
                  <a:pt x="17460" y="6439"/>
                  <a:pt x="17454" y="6439"/>
                  <a:pt x="17448" y="6439"/>
                </a:cubicBezTo>
                <a:cubicBezTo>
                  <a:pt x="17448" y="6439"/>
                  <a:pt x="17442" y="6439"/>
                  <a:pt x="17436" y="6439"/>
                </a:cubicBezTo>
                <a:cubicBezTo>
                  <a:pt x="17436" y="6439"/>
                  <a:pt x="17431" y="6439"/>
                  <a:pt x="17431" y="6445"/>
                </a:cubicBezTo>
                <a:cubicBezTo>
                  <a:pt x="17425" y="6445"/>
                  <a:pt x="17419" y="6445"/>
                  <a:pt x="17419" y="6451"/>
                </a:cubicBezTo>
                <a:cubicBezTo>
                  <a:pt x="17413" y="6457"/>
                  <a:pt x="17419" y="6463"/>
                  <a:pt x="17419" y="6475"/>
                </a:cubicBezTo>
                <a:cubicBezTo>
                  <a:pt x="17413" y="6480"/>
                  <a:pt x="17413" y="6480"/>
                  <a:pt x="17407" y="6486"/>
                </a:cubicBezTo>
                <a:cubicBezTo>
                  <a:pt x="17407" y="6486"/>
                  <a:pt x="17407" y="6492"/>
                  <a:pt x="17407" y="6498"/>
                </a:cubicBezTo>
                <a:cubicBezTo>
                  <a:pt x="17401" y="6498"/>
                  <a:pt x="17395" y="6498"/>
                  <a:pt x="17395" y="6498"/>
                </a:cubicBezTo>
                <a:cubicBezTo>
                  <a:pt x="17377" y="6498"/>
                  <a:pt x="17365" y="6498"/>
                  <a:pt x="17342" y="6498"/>
                </a:cubicBezTo>
                <a:cubicBezTo>
                  <a:pt x="17330" y="6498"/>
                  <a:pt x="17330" y="6498"/>
                  <a:pt x="17330" y="6498"/>
                </a:cubicBezTo>
                <a:cubicBezTo>
                  <a:pt x="17318" y="6498"/>
                  <a:pt x="17318" y="6498"/>
                  <a:pt x="17318" y="6498"/>
                </a:cubicBezTo>
                <a:cubicBezTo>
                  <a:pt x="17306" y="6498"/>
                  <a:pt x="17294" y="6498"/>
                  <a:pt x="17282" y="6498"/>
                </a:cubicBezTo>
                <a:cubicBezTo>
                  <a:pt x="17276" y="6498"/>
                  <a:pt x="17276" y="6492"/>
                  <a:pt x="17270" y="6492"/>
                </a:cubicBezTo>
                <a:cubicBezTo>
                  <a:pt x="17270" y="6498"/>
                  <a:pt x="17265" y="6510"/>
                  <a:pt x="17265" y="6510"/>
                </a:cubicBezTo>
                <a:close/>
                <a:moveTo>
                  <a:pt x="16310" y="6652"/>
                </a:moveTo>
                <a:lnTo>
                  <a:pt x="16310" y="6652"/>
                </a:lnTo>
                <a:cubicBezTo>
                  <a:pt x="16310" y="6658"/>
                  <a:pt x="16310" y="6664"/>
                  <a:pt x="16310" y="6664"/>
                </a:cubicBezTo>
                <a:cubicBezTo>
                  <a:pt x="16346" y="6664"/>
                  <a:pt x="16346" y="6664"/>
                  <a:pt x="16346" y="6664"/>
                </a:cubicBezTo>
                <a:cubicBezTo>
                  <a:pt x="16351" y="6664"/>
                  <a:pt x="16357" y="6664"/>
                  <a:pt x="16357" y="6658"/>
                </a:cubicBezTo>
                <a:cubicBezTo>
                  <a:pt x="16363" y="6652"/>
                  <a:pt x="16363" y="6647"/>
                  <a:pt x="16363" y="6641"/>
                </a:cubicBezTo>
                <a:cubicBezTo>
                  <a:pt x="16363" y="6629"/>
                  <a:pt x="16363" y="6623"/>
                  <a:pt x="16357" y="6611"/>
                </a:cubicBezTo>
                <a:cubicBezTo>
                  <a:pt x="16357" y="6605"/>
                  <a:pt x="16351" y="6605"/>
                  <a:pt x="16351" y="6599"/>
                </a:cubicBezTo>
                <a:cubicBezTo>
                  <a:pt x="16334" y="6605"/>
                  <a:pt x="16328" y="6611"/>
                  <a:pt x="16310" y="6623"/>
                </a:cubicBezTo>
                <a:cubicBezTo>
                  <a:pt x="16310" y="6635"/>
                  <a:pt x="16310" y="6647"/>
                  <a:pt x="16310" y="6652"/>
                </a:cubicBezTo>
                <a:close/>
                <a:moveTo>
                  <a:pt x="16014" y="6623"/>
                </a:moveTo>
                <a:lnTo>
                  <a:pt x="16014" y="6623"/>
                </a:lnTo>
                <a:cubicBezTo>
                  <a:pt x="16014" y="6623"/>
                  <a:pt x="16014" y="6629"/>
                  <a:pt x="16014" y="6635"/>
                </a:cubicBezTo>
                <a:cubicBezTo>
                  <a:pt x="16014" y="6635"/>
                  <a:pt x="16019" y="6641"/>
                  <a:pt x="16019" y="6647"/>
                </a:cubicBezTo>
                <a:cubicBezTo>
                  <a:pt x="16025" y="6641"/>
                  <a:pt x="16025" y="6647"/>
                  <a:pt x="16031" y="6647"/>
                </a:cubicBezTo>
                <a:cubicBezTo>
                  <a:pt x="16037" y="6641"/>
                  <a:pt x="16037" y="6635"/>
                  <a:pt x="16043" y="6635"/>
                </a:cubicBezTo>
                <a:cubicBezTo>
                  <a:pt x="16049" y="6635"/>
                  <a:pt x="16055" y="6641"/>
                  <a:pt x="16061" y="6641"/>
                </a:cubicBezTo>
                <a:cubicBezTo>
                  <a:pt x="16067" y="6641"/>
                  <a:pt x="16067" y="6641"/>
                  <a:pt x="16067" y="6641"/>
                </a:cubicBezTo>
                <a:cubicBezTo>
                  <a:pt x="16073" y="6641"/>
                  <a:pt x="16073" y="6635"/>
                  <a:pt x="16079" y="6635"/>
                </a:cubicBezTo>
                <a:cubicBezTo>
                  <a:pt x="16067" y="6623"/>
                  <a:pt x="16067" y="6623"/>
                  <a:pt x="16067" y="6623"/>
                </a:cubicBezTo>
                <a:lnTo>
                  <a:pt x="16014" y="6623"/>
                </a:lnTo>
                <a:close/>
                <a:moveTo>
                  <a:pt x="16500" y="6504"/>
                </a:moveTo>
                <a:lnTo>
                  <a:pt x="16500" y="6504"/>
                </a:lnTo>
                <a:cubicBezTo>
                  <a:pt x="16494" y="6510"/>
                  <a:pt x="16488" y="6510"/>
                  <a:pt x="16488" y="6516"/>
                </a:cubicBezTo>
                <a:cubicBezTo>
                  <a:pt x="16482" y="6516"/>
                  <a:pt x="16476" y="6516"/>
                  <a:pt x="16476" y="6522"/>
                </a:cubicBezTo>
                <a:cubicBezTo>
                  <a:pt x="16476" y="6528"/>
                  <a:pt x="16476" y="6534"/>
                  <a:pt x="16476" y="6534"/>
                </a:cubicBezTo>
                <a:cubicBezTo>
                  <a:pt x="16476" y="6540"/>
                  <a:pt x="16470" y="6546"/>
                  <a:pt x="16470" y="6546"/>
                </a:cubicBezTo>
                <a:cubicBezTo>
                  <a:pt x="16470" y="6552"/>
                  <a:pt x="16470" y="6552"/>
                  <a:pt x="16470" y="6558"/>
                </a:cubicBezTo>
                <a:cubicBezTo>
                  <a:pt x="16470" y="6563"/>
                  <a:pt x="16464" y="6563"/>
                  <a:pt x="16464" y="6569"/>
                </a:cubicBezTo>
                <a:cubicBezTo>
                  <a:pt x="16464" y="6575"/>
                  <a:pt x="16476" y="6575"/>
                  <a:pt x="16482" y="6575"/>
                </a:cubicBezTo>
                <a:cubicBezTo>
                  <a:pt x="16482" y="6575"/>
                  <a:pt x="16488" y="6575"/>
                  <a:pt x="16494" y="6575"/>
                </a:cubicBezTo>
                <a:cubicBezTo>
                  <a:pt x="16494" y="6569"/>
                  <a:pt x="16500" y="6569"/>
                  <a:pt x="16506" y="6563"/>
                </a:cubicBezTo>
                <a:cubicBezTo>
                  <a:pt x="16506" y="6563"/>
                  <a:pt x="16506" y="6558"/>
                  <a:pt x="16506" y="6552"/>
                </a:cubicBezTo>
                <a:cubicBezTo>
                  <a:pt x="16512" y="6540"/>
                  <a:pt x="16517" y="6528"/>
                  <a:pt x="16517" y="6510"/>
                </a:cubicBezTo>
                <a:cubicBezTo>
                  <a:pt x="16517" y="6504"/>
                  <a:pt x="16517" y="6504"/>
                  <a:pt x="16517" y="6504"/>
                </a:cubicBezTo>
                <a:cubicBezTo>
                  <a:pt x="16517" y="6504"/>
                  <a:pt x="16512" y="6504"/>
                  <a:pt x="16512" y="6498"/>
                </a:cubicBezTo>
                <a:cubicBezTo>
                  <a:pt x="16506" y="6498"/>
                  <a:pt x="16500" y="6504"/>
                  <a:pt x="16500" y="6504"/>
                </a:cubicBezTo>
                <a:close/>
                <a:moveTo>
                  <a:pt x="16417" y="6415"/>
                </a:moveTo>
                <a:lnTo>
                  <a:pt x="16417" y="6415"/>
                </a:lnTo>
                <a:cubicBezTo>
                  <a:pt x="16423" y="6415"/>
                  <a:pt x="16423" y="6415"/>
                  <a:pt x="16428" y="6415"/>
                </a:cubicBezTo>
                <a:cubicBezTo>
                  <a:pt x="16435" y="6415"/>
                  <a:pt x="16435" y="6403"/>
                  <a:pt x="16435" y="6403"/>
                </a:cubicBezTo>
                <a:cubicBezTo>
                  <a:pt x="16440" y="6403"/>
                  <a:pt x="16446" y="6409"/>
                  <a:pt x="16446" y="6409"/>
                </a:cubicBezTo>
                <a:cubicBezTo>
                  <a:pt x="16458" y="6409"/>
                  <a:pt x="16464" y="6409"/>
                  <a:pt x="16470" y="6409"/>
                </a:cubicBezTo>
                <a:cubicBezTo>
                  <a:pt x="16476" y="6409"/>
                  <a:pt x="16482" y="6409"/>
                  <a:pt x="16482" y="6409"/>
                </a:cubicBezTo>
                <a:cubicBezTo>
                  <a:pt x="16494" y="6409"/>
                  <a:pt x="16500" y="6415"/>
                  <a:pt x="16506" y="6421"/>
                </a:cubicBezTo>
                <a:cubicBezTo>
                  <a:pt x="16517" y="6427"/>
                  <a:pt x="16517" y="6433"/>
                  <a:pt x="16529" y="6439"/>
                </a:cubicBezTo>
                <a:cubicBezTo>
                  <a:pt x="16529" y="6439"/>
                  <a:pt x="16535" y="6439"/>
                  <a:pt x="16541" y="6445"/>
                </a:cubicBezTo>
                <a:cubicBezTo>
                  <a:pt x="16547" y="6445"/>
                  <a:pt x="16541" y="6451"/>
                  <a:pt x="16547" y="6457"/>
                </a:cubicBezTo>
                <a:cubicBezTo>
                  <a:pt x="16553" y="6457"/>
                  <a:pt x="16559" y="6457"/>
                  <a:pt x="16559" y="6457"/>
                </a:cubicBezTo>
                <a:cubicBezTo>
                  <a:pt x="16565" y="6457"/>
                  <a:pt x="16571" y="6457"/>
                  <a:pt x="16577" y="6457"/>
                </a:cubicBezTo>
                <a:lnTo>
                  <a:pt x="16583" y="6463"/>
                </a:lnTo>
                <a:cubicBezTo>
                  <a:pt x="16601" y="6463"/>
                  <a:pt x="16606" y="6457"/>
                  <a:pt x="16624" y="6463"/>
                </a:cubicBezTo>
                <a:cubicBezTo>
                  <a:pt x="16624" y="6463"/>
                  <a:pt x="16630" y="6463"/>
                  <a:pt x="16636" y="6469"/>
                </a:cubicBezTo>
                <a:cubicBezTo>
                  <a:pt x="16642" y="6469"/>
                  <a:pt x="16648" y="6475"/>
                  <a:pt x="16660" y="6480"/>
                </a:cubicBezTo>
                <a:lnTo>
                  <a:pt x="16666" y="6486"/>
                </a:lnTo>
                <a:cubicBezTo>
                  <a:pt x="16672" y="6492"/>
                  <a:pt x="16678" y="6492"/>
                  <a:pt x="16678" y="6498"/>
                </a:cubicBezTo>
                <a:cubicBezTo>
                  <a:pt x="16689" y="6504"/>
                  <a:pt x="16695" y="6510"/>
                  <a:pt x="16701" y="6522"/>
                </a:cubicBezTo>
                <a:cubicBezTo>
                  <a:pt x="16701" y="6528"/>
                  <a:pt x="16701" y="6528"/>
                  <a:pt x="16707" y="6534"/>
                </a:cubicBezTo>
                <a:cubicBezTo>
                  <a:pt x="16713" y="6546"/>
                  <a:pt x="16731" y="6552"/>
                  <a:pt x="16731" y="6569"/>
                </a:cubicBezTo>
                <a:lnTo>
                  <a:pt x="16725" y="6575"/>
                </a:lnTo>
                <a:cubicBezTo>
                  <a:pt x="16725" y="6581"/>
                  <a:pt x="16725" y="6587"/>
                  <a:pt x="16725" y="6593"/>
                </a:cubicBezTo>
                <a:cubicBezTo>
                  <a:pt x="16725" y="6599"/>
                  <a:pt x="16719" y="6611"/>
                  <a:pt x="16707" y="6611"/>
                </a:cubicBezTo>
                <a:cubicBezTo>
                  <a:pt x="16707" y="6611"/>
                  <a:pt x="16701" y="6611"/>
                  <a:pt x="16695" y="6611"/>
                </a:cubicBezTo>
                <a:cubicBezTo>
                  <a:pt x="16695" y="6611"/>
                  <a:pt x="16689" y="6617"/>
                  <a:pt x="16683" y="6617"/>
                </a:cubicBezTo>
                <a:cubicBezTo>
                  <a:pt x="16683" y="6617"/>
                  <a:pt x="16678" y="6623"/>
                  <a:pt x="16672" y="6623"/>
                </a:cubicBezTo>
                <a:cubicBezTo>
                  <a:pt x="16672" y="6629"/>
                  <a:pt x="16666" y="6629"/>
                  <a:pt x="16660" y="6635"/>
                </a:cubicBezTo>
                <a:cubicBezTo>
                  <a:pt x="16660" y="6641"/>
                  <a:pt x="16660" y="6641"/>
                  <a:pt x="16660" y="6647"/>
                </a:cubicBezTo>
                <a:cubicBezTo>
                  <a:pt x="16660" y="6652"/>
                  <a:pt x="16660" y="6652"/>
                  <a:pt x="16660" y="6658"/>
                </a:cubicBezTo>
                <a:cubicBezTo>
                  <a:pt x="16660" y="6670"/>
                  <a:pt x="16672" y="6676"/>
                  <a:pt x="16683" y="6676"/>
                </a:cubicBezTo>
                <a:cubicBezTo>
                  <a:pt x="16695" y="6676"/>
                  <a:pt x="16701" y="6676"/>
                  <a:pt x="16713" y="6670"/>
                </a:cubicBezTo>
                <a:cubicBezTo>
                  <a:pt x="16713" y="6664"/>
                  <a:pt x="16719" y="6664"/>
                  <a:pt x="16725" y="6658"/>
                </a:cubicBezTo>
                <a:lnTo>
                  <a:pt x="16725" y="6652"/>
                </a:lnTo>
                <a:cubicBezTo>
                  <a:pt x="16731" y="6647"/>
                  <a:pt x="16731" y="6641"/>
                  <a:pt x="16737" y="6641"/>
                </a:cubicBezTo>
                <a:cubicBezTo>
                  <a:pt x="16755" y="6641"/>
                  <a:pt x="16760" y="6641"/>
                  <a:pt x="16772" y="6647"/>
                </a:cubicBezTo>
                <a:cubicBezTo>
                  <a:pt x="16778" y="6652"/>
                  <a:pt x="16778" y="6652"/>
                  <a:pt x="16784" y="6658"/>
                </a:cubicBezTo>
                <a:cubicBezTo>
                  <a:pt x="16784" y="6664"/>
                  <a:pt x="16790" y="6664"/>
                  <a:pt x="16796" y="6664"/>
                </a:cubicBezTo>
                <a:cubicBezTo>
                  <a:pt x="16796" y="6670"/>
                  <a:pt x="16802" y="6676"/>
                  <a:pt x="16808" y="6676"/>
                </a:cubicBezTo>
                <a:cubicBezTo>
                  <a:pt x="16808" y="6682"/>
                  <a:pt x="16814" y="6682"/>
                  <a:pt x="16814" y="6682"/>
                </a:cubicBezTo>
                <a:cubicBezTo>
                  <a:pt x="16820" y="6682"/>
                  <a:pt x="16826" y="6688"/>
                  <a:pt x="16826" y="6688"/>
                </a:cubicBezTo>
                <a:cubicBezTo>
                  <a:pt x="16838" y="6688"/>
                  <a:pt x="16844" y="6688"/>
                  <a:pt x="16855" y="6694"/>
                </a:cubicBezTo>
                <a:cubicBezTo>
                  <a:pt x="16861" y="6700"/>
                  <a:pt x="16861" y="6700"/>
                  <a:pt x="16867" y="6706"/>
                </a:cubicBezTo>
                <a:cubicBezTo>
                  <a:pt x="16873" y="6706"/>
                  <a:pt x="16873" y="6706"/>
                  <a:pt x="16879" y="6706"/>
                </a:cubicBezTo>
                <a:cubicBezTo>
                  <a:pt x="16885" y="6706"/>
                  <a:pt x="16891" y="6712"/>
                  <a:pt x="16897" y="6712"/>
                </a:cubicBezTo>
                <a:cubicBezTo>
                  <a:pt x="16909" y="6712"/>
                  <a:pt x="16915" y="6712"/>
                  <a:pt x="16926" y="6712"/>
                </a:cubicBezTo>
                <a:cubicBezTo>
                  <a:pt x="16933" y="6712"/>
                  <a:pt x="16938" y="6712"/>
                  <a:pt x="16950" y="6712"/>
                </a:cubicBezTo>
                <a:cubicBezTo>
                  <a:pt x="16950" y="6712"/>
                  <a:pt x="16956" y="6706"/>
                  <a:pt x="16962" y="6706"/>
                </a:cubicBezTo>
                <a:cubicBezTo>
                  <a:pt x="16962" y="6700"/>
                  <a:pt x="16968" y="6700"/>
                  <a:pt x="16968" y="6700"/>
                </a:cubicBezTo>
                <a:cubicBezTo>
                  <a:pt x="16974" y="6694"/>
                  <a:pt x="16974" y="6688"/>
                  <a:pt x="16974" y="6688"/>
                </a:cubicBezTo>
                <a:cubicBezTo>
                  <a:pt x="16974" y="6676"/>
                  <a:pt x="16974" y="6670"/>
                  <a:pt x="16974" y="6664"/>
                </a:cubicBezTo>
                <a:cubicBezTo>
                  <a:pt x="16980" y="6664"/>
                  <a:pt x="16986" y="6664"/>
                  <a:pt x="16992" y="6664"/>
                </a:cubicBezTo>
                <a:cubicBezTo>
                  <a:pt x="16998" y="6658"/>
                  <a:pt x="17004" y="6658"/>
                  <a:pt x="17015" y="6652"/>
                </a:cubicBezTo>
                <a:cubicBezTo>
                  <a:pt x="17021" y="6652"/>
                  <a:pt x="17021" y="6647"/>
                  <a:pt x="17027" y="6641"/>
                </a:cubicBezTo>
                <a:cubicBezTo>
                  <a:pt x="17033" y="6635"/>
                  <a:pt x="17039" y="6623"/>
                  <a:pt x="17051" y="6623"/>
                </a:cubicBezTo>
                <a:cubicBezTo>
                  <a:pt x="17057" y="6623"/>
                  <a:pt x="17057" y="6623"/>
                  <a:pt x="17057" y="6623"/>
                </a:cubicBezTo>
                <a:cubicBezTo>
                  <a:pt x="17063" y="6623"/>
                  <a:pt x="17063" y="6623"/>
                  <a:pt x="17069" y="6629"/>
                </a:cubicBezTo>
                <a:cubicBezTo>
                  <a:pt x="17069" y="6629"/>
                  <a:pt x="17075" y="6629"/>
                  <a:pt x="17081" y="6629"/>
                </a:cubicBezTo>
                <a:cubicBezTo>
                  <a:pt x="17087" y="6629"/>
                  <a:pt x="17087" y="6635"/>
                  <a:pt x="17093" y="6635"/>
                </a:cubicBezTo>
                <a:cubicBezTo>
                  <a:pt x="17099" y="6641"/>
                  <a:pt x="17104" y="6641"/>
                  <a:pt x="17116" y="6647"/>
                </a:cubicBezTo>
                <a:lnTo>
                  <a:pt x="17122" y="6652"/>
                </a:lnTo>
                <a:cubicBezTo>
                  <a:pt x="17134" y="6658"/>
                  <a:pt x="17134" y="6670"/>
                  <a:pt x="17140" y="6676"/>
                </a:cubicBezTo>
                <a:cubicBezTo>
                  <a:pt x="17140" y="6676"/>
                  <a:pt x="17146" y="6682"/>
                  <a:pt x="17146" y="6688"/>
                </a:cubicBezTo>
                <a:cubicBezTo>
                  <a:pt x="17152" y="6694"/>
                  <a:pt x="17158" y="6694"/>
                  <a:pt x="17170" y="6706"/>
                </a:cubicBezTo>
                <a:cubicBezTo>
                  <a:pt x="17170" y="6706"/>
                  <a:pt x="17176" y="6712"/>
                  <a:pt x="17176" y="6718"/>
                </a:cubicBezTo>
                <a:cubicBezTo>
                  <a:pt x="17181" y="6724"/>
                  <a:pt x="17187" y="6730"/>
                  <a:pt x="17193" y="6735"/>
                </a:cubicBezTo>
                <a:cubicBezTo>
                  <a:pt x="17193" y="6741"/>
                  <a:pt x="17199" y="6747"/>
                  <a:pt x="17199" y="6753"/>
                </a:cubicBezTo>
                <a:cubicBezTo>
                  <a:pt x="17199" y="6759"/>
                  <a:pt x="17205" y="6765"/>
                  <a:pt x="17205" y="6765"/>
                </a:cubicBezTo>
                <a:cubicBezTo>
                  <a:pt x="17217" y="6765"/>
                  <a:pt x="17217" y="6765"/>
                  <a:pt x="17229" y="6765"/>
                </a:cubicBezTo>
                <a:cubicBezTo>
                  <a:pt x="17241" y="6765"/>
                  <a:pt x="17253" y="6765"/>
                  <a:pt x="17270" y="6759"/>
                </a:cubicBezTo>
                <a:cubicBezTo>
                  <a:pt x="17276" y="6759"/>
                  <a:pt x="17282" y="6759"/>
                  <a:pt x="17288" y="6759"/>
                </a:cubicBezTo>
                <a:cubicBezTo>
                  <a:pt x="17306" y="6759"/>
                  <a:pt x="17312" y="6765"/>
                  <a:pt x="17318" y="6777"/>
                </a:cubicBezTo>
                <a:cubicBezTo>
                  <a:pt x="17330" y="6789"/>
                  <a:pt x="17330" y="6789"/>
                  <a:pt x="17342" y="6795"/>
                </a:cubicBezTo>
                <a:cubicBezTo>
                  <a:pt x="17348" y="6795"/>
                  <a:pt x="17353" y="6801"/>
                  <a:pt x="17359" y="6801"/>
                </a:cubicBezTo>
                <a:cubicBezTo>
                  <a:pt x="17365" y="6801"/>
                  <a:pt x="17371" y="6801"/>
                  <a:pt x="17377" y="6801"/>
                </a:cubicBezTo>
                <a:cubicBezTo>
                  <a:pt x="17377" y="6765"/>
                  <a:pt x="17377" y="6765"/>
                  <a:pt x="17377" y="6765"/>
                </a:cubicBezTo>
                <a:cubicBezTo>
                  <a:pt x="17377" y="6753"/>
                  <a:pt x="17371" y="6747"/>
                  <a:pt x="17359" y="6747"/>
                </a:cubicBezTo>
                <a:cubicBezTo>
                  <a:pt x="17359" y="6747"/>
                  <a:pt x="17353" y="6747"/>
                  <a:pt x="17353" y="6741"/>
                </a:cubicBezTo>
                <a:cubicBezTo>
                  <a:pt x="17348" y="6741"/>
                  <a:pt x="17342" y="6741"/>
                  <a:pt x="17342" y="6741"/>
                </a:cubicBezTo>
                <a:cubicBezTo>
                  <a:pt x="17336" y="6741"/>
                  <a:pt x="17336" y="6735"/>
                  <a:pt x="17336" y="6730"/>
                </a:cubicBezTo>
                <a:cubicBezTo>
                  <a:pt x="17330" y="6724"/>
                  <a:pt x="17330" y="6724"/>
                  <a:pt x="17324" y="6718"/>
                </a:cubicBezTo>
                <a:cubicBezTo>
                  <a:pt x="17324" y="6712"/>
                  <a:pt x="17318" y="6712"/>
                  <a:pt x="17312" y="6712"/>
                </a:cubicBezTo>
                <a:cubicBezTo>
                  <a:pt x="17306" y="6712"/>
                  <a:pt x="17300" y="6712"/>
                  <a:pt x="17300" y="6712"/>
                </a:cubicBezTo>
                <a:cubicBezTo>
                  <a:pt x="17294" y="6706"/>
                  <a:pt x="17294" y="6712"/>
                  <a:pt x="17288" y="6712"/>
                </a:cubicBezTo>
                <a:cubicBezTo>
                  <a:pt x="17282" y="6706"/>
                  <a:pt x="17282" y="6700"/>
                  <a:pt x="17276" y="6700"/>
                </a:cubicBezTo>
                <a:cubicBezTo>
                  <a:pt x="17270" y="6700"/>
                  <a:pt x="17270" y="6700"/>
                  <a:pt x="17265" y="6700"/>
                </a:cubicBezTo>
                <a:cubicBezTo>
                  <a:pt x="17259" y="6700"/>
                  <a:pt x="17259" y="6694"/>
                  <a:pt x="17253" y="6694"/>
                </a:cubicBezTo>
                <a:cubicBezTo>
                  <a:pt x="17247" y="6694"/>
                  <a:pt x="17241" y="6694"/>
                  <a:pt x="17229" y="6694"/>
                </a:cubicBezTo>
                <a:cubicBezTo>
                  <a:pt x="17229" y="6623"/>
                  <a:pt x="17229" y="6623"/>
                  <a:pt x="17229" y="6623"/>
                </a:cubicBezTo>
                <a:cubicBezTo>
                  <a:pt x="17211" y="6623"/>
                  <a:pt x="17199" y="6623"/>
                  <a:pt x="17181" y="6623"/>
                </a:cubicBezTo>
                <a:cubicBezTo>
                  <a:pt x="17181" y="6569"/>
                  <a:pt x="17181" y="6569"/>
                  <a:pt x="17181" y="6569"/>
                </a:cubicBezTo>
                <a:cubicBezTo>
                  <a:pt x="17199" y="6569"/>
                  <a:pt x="17205" y="6569"/>
                  <a:pt x="17223" y="6569"/>
                </a:cubicBezTo>
                <a:cubicBezTo>
                  <a:pt x="17223" y="6552"/>
                  <a:pt x="17223" y="6552"/>
                  <a:pt x="17223" y="6552"/>
                </a:cubicBezTo>
                <a:cubicBezTo>
                  <a:pt x="17223" y="6546"/>
                  <a:pt x="17217" y="6546"/>
                  <a:pt x="17211" y="6546"/>
                </a:cubicBezTo>
                <a:cubicBezTo>
                  <a:pt x="17211" y="6540"/>
                  <a:pt x="17211" y="6534"/>
                  <a:pt x="17205" y="6534"/>
                </a:cubicBezTo>
                <a:cubicBezTo>
                  <a:pt x="17199" y="6528"/>
                  <a:pt x="17199" y="6528"/>
                  <a:pt x="17193" y="6522"/>
                </a:cubicBezTo>
                <a:cubicBezTo>
                  <a:pt x="17134" y="6522"/>
                  <a:pt x="17134" y="6522"/>
                  <a:pt x="17134" y="6522"/>
                </a:cubicBezTo>
                <a:cubicBezTo>
                  <a:pt x="17134" y="6522"/>
                  <a:pt x="17134" y="6516"/>
                  <a:pt x="17128" y="6510"/>
                </a:cubicBezTo>
                <a:cubicBezTo>
                  <a:pt x="17122" y="6510"/>
                  <a:pt x="17116" y="6510"/>
                  <a:pt x="17116" y="6504"/>
                </a:cubicBezTo>
                <a:cubicBezTo>
                  <a:pt x="17110" y="6498"/>
                  <a:pt x="17116" y="6486"/>
                  <a:pt x="17110" y="6480"/>
                </a:cubicBezTo>
                <a:cubicBezTo>
                  <a:pt x="17110" y="6480"/>
                  <a:pt x="17110" y="6475"/>
                  <a:pt x="17110" y="6469"/>
                </a:cubicBezTo>
                <a:cubicBezTo>
                  <a:pt x="17104" y="6469"/>
                  <a:pt x="17099" y="6469"/>
                  <a:pt x="17099" y="6463"/>
                </a:cubicBezTo>
                <a:cubicBezTo>
                  <a:pt x="17093" y="6463"/>
                  <a:pt x="17087" y="6457"/>
                  <a:pt x="17087" y="6457"/>
                </a:cubicBezTo>
                <a:cubicBezTo>
                  <a:pt x="17081" y="6451"/>
                  <a:pt x="17081" y="6445"/>
                  <a:pt x="17075" y="6445"/>
                </a:cubicBezTo>
                <a:cubicBezTo>
                  <a:pt x="17069" y="6439"/>
                  <a:pt x="17063" y="6439"/>
                  <a:pt x="17063" y="6433"/>
                </a:cubicBezTo>
                <a:cubicBezTo>
                  <a:pt x="17051" y="6427"/>
                  <a:pt x="17051" y="6415"/>
                  <a:pt x="17039" y="6415"/>
                </a:cubicBezTo>
                <a:cubicBezTo>
                  <a:pt x="17033" y="6409"/>
                  <a:pt x="17033" y="6409"/>
                  <a:pt x="17027" y="6409"/>
                </a:cubicBezTo>
                <a:cubicBezTo>
                  <a:pt x="17021" y="6403"/>
                  <a:pt x="17010" y="6409"/>
                  <a:pt x="17004" y="6409"/>
                </a:cubicBezTo>
                <a:cubicBezTo>
                  <a:pt x="16992" y="6409"/>
                  <a:pt x="16986" y="6403"/>
                  <a:pt x="16974" y="6397"/>
                </a:cubicBezTo>
                <a:cubicBezTo>
                  <a:pt x="16974" y="6392"/>
                  <a:pt x="16974" y="6386"/>
                  <a:pt x="16968" y="6386"/>
                </a:cubicBezTo>
                <a:cubicBezTo>
                  <a:pt x="16968" y="6380"/>
                  <a:pt x="16962" y="6386"/>
                  <a:pt x="16962" y="6386"/>
                </a:cubicBezTo>
                <a:cubicBezTo>
                  <a:pt x="16956" y="6380"/>
                  <a:pt x="16950" y="6380"/>
                  <a:pt x="16944" y="6380"/>
                </a:cubicBezTo>
                <a:cubicBezTo>
                  <a:pt x="16938" y="6380"/>
                  <a:pt x="16933" y="6374"/>
                  <a:pt x="16921" y="6374"/>
                </a:cubicBezTo>
                <a:cubicBezTo>
                  <a:pt x="16915" y="6368"/>
                  <a:pt x="16909" y="6362"/>
                  <a:pt x="16897" y="6356"/>
                </a:cubicBezTo>
                <a:cubicBezTo>
                  <a:pt x="16897" y="6356"/>
                  <a:pt x="16891" y="6356"/>
                  <a:pt x="16891" y="6350"/>
                </a:cubicBezTo>
                <a:cubicBezTo>
                  <a:pt x="16885" y="6350"/>
                  <a:pt x="16879" y="6350"/>
                  <a:pt x="16879" y="6350"/>
                </a:cubicBezTo>
                <a:cubicBezTo>
                  <a:pt x="16861" y="6350"/>
                  <a:pt x="16855" y="6356"/>
                  <a:pt x="16838" y="6350"/>
                </a:cubicBezTo>
                <a:cubicBezTo>
                  <a:pt x="16832" y="6350"/>
                  <a:pt x="16832" y="6350"/>
                  <a:pt x="16826" y="6350"/>
                </a:cubicBezTo>
                <a:cubicBezTo>
                  <a:pt x="16814" y="6350"/>
                  <a:pt x="16802" y="6350"/>
                  <a:pt x="16790" y="6344"/>
                </a:cubicBezTo>
                <a:cubicBezTo>
                  <a:pt x="16784" y="6344"/>
                  <a:pt x="16778" y="6338"/>
                  <a:pt x="16767" y="6332"/>
                </a:cubicBezTo>
                <a:cubicBezTo>
                  <a:pt x="16760" y="6326"/>
                  <a:pt x="16755" y="6320"/>
                  <a:pt x="16743" y="6320"/>
                </a:cubicBezTo>
                <a:cubicBezTo>
                  <a:pt x="16743" y="6315"/>
                  <a:pt x="16737" y="6315"/>
                  <a:pt x="16737" y="6315"/>
                </a:cubicBezTo>
                <a:cubicBezTo>
                  <a:pt x="16731" y="6315"/>
                  <a:pt x="16725" y="6315"/>
                  <a:pt x="16719" y="6309"/>
                </a:cubicBezTo>
                <a:cubicBezTo>
                  <a:pt x="16713" y="6309"/>
                  <a:pt x="16707" y="6297"/>
                  <a:pt x="16701" y="6297"/>
                </a:cubicBezTo>
                <a:cubicBezTo>
                  <a:pt x="16695" y="6297"/>
                  <a:pt x="16689" y="6297"/>
                  <a:pt x="16683" y="6303"/>
                </a:cubicBezTo>
                <a:cubicBezTo>
                  <a:pt x="16678" y="6303"/>
                  <a:pt x="16678" y="6309"/>
                  <a:pt x="16672" y="6315"/>
                </a:cubicBezTo>
                <a:cubicBezTo>
                  <a:pt x="16666" y="6320"/>
                  <a:pt x="16660" y="6326"/>
                  <a:pt x="16648" y="6326"/>
                </a:cubicBezTo>
                <a:cubicBezTo>
                  <a:pt x="16642" y="6326"/>
                  <a:pt x="16636" y="6326"/>
                  <a:pt x="16624" y="6326"/>
                </a:cubicBezTo>
                <a:cubicBezTo>
                  <a:pt x="16618" y="6326"/>
                  <a:pt x="16618" y="6326"/>
                  <a:pt x="16612" y="6332"/>
                </a:cubicBezTo>
                <a:cubicBezTo>
                  <a:pt x="16606" y="6332"/>
                  <a:pt x="16606" y="6338"/>
                  <a:pt x="16601" y="6344"/>
                </a:cubicBezTo>
                <a:cubicBezTo>
                  <a:pt x="16601" y="6350"/>
                  <a:pt x="16606" y="6356"/>
                  <a:pt x="16601" y="6362"/>
                </a:cubicBezTo>
                <a:cubicBezTo>
                  <a:pt x="16601" y="6368"/>
                  <a:pt x="16601" y="6374"/>
                  <a:pt x="16594" y="6374"/>
                </a:cubicBezTo>
                <a:cubicBezTo>
                  <a:pt x="16594" y="6380"/>
                  <a:pt x="16589" y="6380"/>
                  <a:pt x="16583" y="6380"/>
                </a:cubicBezTo>
                <a:cubicBezTo>
                  <a:pt x="16577" y="6386"/>
                  <a:pt x="16571" y="6386"/>
                  <a:pt x="16565" y="6386"/>
                </a:cubicBezTo>
                <a:cubicBezTo>
                  <a:pt x="16553" y="6386"/>
                  <a:pt x="16547" y="6380"/>
                  <a:pt x="16535" y="6380"/>
                </a:cubicBezTo>
                <a:cubicBezTo>
                  <a:pt x="16529" y="6380"/>
                  <a:pt x="16523" y="6380"/>
                  <a:pt x="16512" y="6374"/>
                </a:cubicBezTo>
                <a:cubicBezTo>
                  <a:pt x="16512" y="6374"/>
                  <a:pt x="16512" y="6368"/>
                  <a:pt x="16506" y="6362"/>
                </a:cubicBezTo>
                <a:cubicBezTo>
                  <a:pt x="16506" y="6362"/>
                  <a:pt x="16506" y="6356"/>
                  <a:pt x="16506" y="6350"/>
                </a:cubicBezTo>
                <a:cubicBezTo>
                  <a:pt x="16500" y="6344"/>
                  <a:pt x="16494" y="6344"/>
                  <a:pt x="16482" y="6344"/>
                </a:cubicBezTo>
                <a:cubicBezTo>
                  <a:pt x="16476" y="6344"/>
                  <a:pt x="16476" y="6344"/>
                  <a:pt x="16470" y="6344"/>
                </a:cubicBezTo>
                <a:cubicBezTo>
                  <a:pt x="16464" y="6344"/>
                  <a:pt x="16464" y="6350"/>
                  <a:pt x="16458" y="6350"/>
                </a:cubicBezTo>
                <a:cubicBezTo>
                  <a:pt x="16458" y="6356"/>
                  <a:pt x="16452" y="6356"/>
                  <a:pt x="16446" y="6356"/>
                </a:cubicBezTo>
                <a:cubicBezTo>
                  <a:pt x="16375" y="6356"/>
                  <a:pt x="16375" y="6356"/>
                  <a:pt x="16375" y="6356"/>
                </a:cubicBezTo>
                <a:cubicBezTo>
                  <a:pt x="16375" y="6380"/>
                  <a:pt x="16375" y="6380"/>
                  <a:pt x="16375" y="6380"/>
                </a:cubicBezTo>
                <a:cubicBezTo>
                  <a:pt x="16381" y="6380"/>
                  <a:pt x="16387" y="6380"/>
                  <a:pt x="16387" y="6386"/>
                </a:cubicBezTo>
                <a:cubicBezTo>
                  <a:pt x="16393" y="6386"/>
                  <a:pt x="16399" y="6386"/>
                  <a:pt x="16399" y="6392"/>
                </a:cubicBezTo>
                <a:cubicBezTo>
                  <a:pt x="16405" y="6397"/>
                  <a:pt x="16399" y="6397"/>
                  <a:pt x="16399" y="6403"/>
                </a:cubicBezTo>
                <a:cubicBezTo>
                  <a:pt x="16399" y="6409"/>
                  <a:pt x="16399" y="6421"/>
                  <a:pt x="16399" y="6427"/>
                </a:cubicBezTo>
                <a:cubicBezTo>
                  <a:pt x="16417" y="6427"/>
                  <a:pt x="16417" y="6427"/>
                  <a:pt x="16417" y="6427"/>
                </a:cubicBezTo>
                <a:cubicBezTo>
                  <a:pt x="16417" y="6421"/>
                  <a:pt x="16417" y="6415"/>
                  <a:pt x="16417" y="6415"/>
                </a:cubicBezTo>
                <a:close/>
                <a:moveTo>
                  <a:pt x="15966" y="6291"/>
                </a:moveTo>
                <a:lnTo>
                  <a:pt x="15966" y="6291"/>
                </a:lnTo>
                <a:cubicBezTo>
                  <a:pt x="15960" y="6291"/>
                  <a:pt x="15954" y="6291"/>
                  <a:pt x="15954" y="6291"/>
                </a:cubicBezTo>
                <a:cubicBezTo>
                  <a:pt x="15948" y="6291"/>
                  <a:pt x="15948" y="6303"/>
                  <a:pt x="15948" y="6303"/>
                </a:cubicBezTo>
                <a:cubicBezTo>
                  <a:pt x="15948" y="6309"/>
                  <a:pt x="15954" y="6315"/>
                  <a:pt x="15960" y="6315"/>
                </a:cubicBezTo>
                <a:cubicBezTo>
                  <a:pt x="15966" y="6315"/>
                  <a:pt x="15966" y="6315"/>
                  <a:pt x="15966" y="6315"/>
                </a:cubicBezTo>
                <a:cubicBezTo>
                  <a:pt x="15978" y="6315"/>
                  <a:pt x="15978" y="6315"/>
                  <a:pt x="15978" y="6315"/>
                </a:cubicBezTo>
                <a:cubicBezTo>
                  <a:pt x="15990" y="6315"/>
                  <a:pt x="15996" y="6315"/>
                  <a:pt x="16002" y="6315"/>
                </a:cubicBezTo>
                <a:cubicBezTo>
                  <a:pt x="16014" y="6315"/>
                  <a:pt x="16019" y="6315"/>
                  <a:pt x="16025" y="6315"/>
                </a:cubicBezTo>
                <a:cubicBezTo>
                  <a:pt x="16025" y="6309"/>
                  <a:pt x="16019" y="6315"/>
                  <a:pt x="16019" y="6315"/>
                </a:cubicBezTo>
                <a:cubicBezTo>
                  <a:pt x="16019" y="6303"/>
                  <a:pt x="16019" y="6297"/>
                  <a:pt x="16019" y="6291"/>
                </a:cubicBezTo>
                <a:cubicBezTo>
                  <a:pt x="16014" y="6291"/>
                  <a:pt x="16008" y="6285"/>
                  <a:pt x="16002" y="6285"/>
                </a:cubicBezTo>
                <a:cubicBezTo>
                  <a:pt x="15966" y="6285"/>
                  <a:pt x="15966" y="6285"/>
                  <a:pt x="15966" y="6285"/>
                </a:cubicBezTo>
                <a:lnTo>
                  <a:pt x="15966" y="6291"/>
                </a:lnTo>
                <a:close/>
                <a:moveTo>
                  <a:pt x="16553" y="6249"/>
                </a:moveTo>
                <a:lnTo>
                  <a:pt x="16553" y="6249"/>
                </a:lnTo>
                <a:cubicBezTo>
                  <a:pt x="16553" y="6255"/>
                  <a:pt x="16559" y="6255"/>
                  <a:pt x="16559" y="6261"/>
                </a:cubicBezTo>
                <a:cubicBezTo>
                  <a:pt x="16559" y="6267"/>
                  <a:pt x="16565" y="6273"/>
                  <a:pt x="16565" y="6279"/>
                </a:cubicBezTo>
                <a:cubicBezTo>
                  <a:pt x="16565" y="6291"/>
                  <a:pt x="16559" y="6297"/>
                  <a:pt x="16559" y="6309"/>
                </a:cubicBezTo>
                <a:cubicBezTo>
                  <a:pt x="16618" y="6309"/>
                  <a:pt x="16618" y="6309"/>
                  <a:pt x="16618" y="6309"/>
                </a:cubicBezTo>
                <a:cubicBezTo>
                  <a:pt x="16618" y="6297"/>
                  <a:pt x="16618" y="6297"/>
                  <a:pt x="16618" y="6297"/>
                </a:cubicBezTo>
                <a:cubicBezTo>
                  <a:pt x="16594" y="6297"/>
                  <a:pt x="16594" y="6297"/>
                  <a:pt x="16594" y="6297"/>
                </a:cubicBezTo>
                <a:cubicBezTo>
                  <a:pt x="16594" y="6285"/>
                  <a:pt x="16594" y="6279"/>
                  <a:pt x="16594" y="6273"/>
                </a:cubicBezTo>
                <a:cubicBezTo>
                  <a:pt x="16594" y="6267"/>
                  <a:pt x="16589" y="6267"/>
                  <a:pt x="16589" y="6261"/>
                </a:cubicBezTo>
                <a:cubicBezTo>
                  <a:pt x="16589" y="6255"/>
                  <a:pt x="16594" y="6249"/>
                  <a:pt x="16594" y="6249"/>
                </a:cubicBezTo>
                <a:cubicBezTo>
                  <a:pt x="16577" y="6249"/>
                  <a:pt x="16571" y="6249"/>
                  <a:pt x="16553" y="6249"/>
                </a:cubicBezTo>
                <a:close/>
                <a:moveTo>
                  <a:pt x="16316" y="6255"/>
                </a:moveTo>
                <a:lnTo>
                  <a:pt x="16316" y="6255"/>
                </a:lnTo>
                <a:cubicBezTo>
                  <a:pt x="16310" y="6255"/>
                  <a:pt x="16304" y="6249"/>
                  <a:pt x="16298" y="6255"/>
                </a:cubicBezTo>
                <a:cubicBezTo>
                  <a:pt x="16292" y="6255"/>
                  <a:pt x="16286" y="6261"/>
                  <a:pt x="16274" y="6267"/>
                </a:cubicBezTo>
                <a:cubicBezTo>
                  <a:pt x="16280" y="6273"/>
                  <a:pt x="16280" y="6273"/>
                  <a:pt x="16280" y="6273"/>
                </a:cubicBezTo>
                <a:cubicBezTo>
                  <a:pt x="16286" y="6279"/>
                  <a:pt x="16286" y="6279"/>
                  <a:pt x="16292" y="6279"/>
                </a:cubicBezTo>
                <a:cubicBezTo>
                  <a:pt x="16298" y="6279"/>
                  <a:pt x="16298" y="6285"/>
                  <a:pt x="16304" y="6285"/>
                </a:cubicBezTo>
                <a:cubicBezTo>
                  <a:pt x="16310" y="6285"/>
                  <a:pt x="16310" y="6291"/>
                  <a:pt x="16316" y="6291"/>
                </a:cubicBezTo>
                <a:cubicBezTo>
                  <a:pt x="16316" y="6291"/>
                  <a:pt x="16322" y="6291"/>
                  <a:pt x="16328" y="6291"/>
                </a:cubicBezTo>
                <a:cubicBezTo>
                  <a:pt x="16334" y="6291"/>
                  <a:pt x="16334" y="6285"/>
                  <a:pt x="16340" y="6291"/>
                </a:cubicBezTo>
                <a:cubicBezTo>
                  <a:pt x="16346" y="6291"/>
                  <a:pt x="16346" y="6297"/>
                  <a:pt x="16351" y="6297"/>
                </a:cubicBezTo>
                <a:cubicBezTo>
                  <a:pt x="16357" y="6303"/>
                  <a:pt x="16351" y="6309"/>
                  <a:pt x="16357" y="6309"/>
                </a:cubicBezTo>
                <a:cubicBezTo>
                  <a:pt x="16357" y="6315"/>
                  <a:pt x="16357" y="6320"/>
                  <a:pt x="16363" y="6326"/>
                </a:cubicBezTo>
                <a:cubicBezTo>
                  <a:pt x="16369" y="6326"/>
                  <a:pt x="16369" y="6326"/>
                  <a:pt x="16375" y="6326"/>
                </a:cubicBezTo>
                <a:cubicBezTo>
                  <a:pt x="16387" y="6326"/>
                  <a:pt x="16387" y="6326"/>
                  <a:pt x="16387" y="6326"/>
                </a:cubicBezTo>
                <a:cubicBezTo>
                  <a:pt x="16393" y="6326"/>
                  <a:pt x="16399" y="6320"/>
                  <a:pt x="16405" y="6320"/>
                </a:cubicBezTo>
                <a:cubicBezTo>
                  <a:pt x="16405" y="6320"/>
                  <a:pt x="16405" y="6315"/>
                  <a:pt x="16411" y="6315"/>
                </a:cubicBezTo>
                <a:cubicBezTo>
                  <a:pt x="16411" y="6315"/>
                  <a:pt x="16417" y="6320"/>
                  <a:pt x="16423" y="6320"/>
                </a:cubicBezTo>
                <a:cubicBezTo>
                  <a:pt x="16423" y="6320"/>
                  <a:pt x="16428" y="6320"/>
                  <a:pt x="16435" y="6320"/>
                </a:cubicBezTo>
                <a:cubicBezTo>
                  <a:pt x="16440" y="6320"/>
                  <a:pt x="16440" y="6320"/>
                  <a:pt x="16452" y="6320"/>
                </a:cubicBezTo>
                <a:cubicBezTo>
                  <a:pt x="16458" y="6320"/>
                  <a:pt x="16464" y="6320"/>
                  <a:pt x="16470" y="6320"/>
                </a:cubicBezTo>
                <a:cubicBezTo>
                  <a:pt x="16476" y="6320"/>
                  <a:pt x="16476" y="6315"/>
                  <a:pt x="16482" y="6315"/>
                </a:cubicBezTo>
                <a:cubicBezTo>
                  <a:pt x="16476" y="6309"/>
                  <a:pt x="16482" y="6303"/>
                  <a:pt x="16476" y="6303"/>
                </a:cubicBezTo>
                <a:cubicBezTo>
                  <a:pt x="16476" y="6297"/>
                  <a:pt x="16470" y="6303"/>
                  <a:pt x="16464" y="6297"/>
                </a:cubicBezTo>
                <a:cubicBezTo>
                  <a:pt x="16458" y="6285"/>
                  <a:pt x="16464" y="6273"/>
                  <a:pt x="16464" y="6261"/>
                </a:cubicBezTo>
                <a:cubicBezTo>
                  <a:pt x="16464" y="6255"/>
                  <a:pt x="16470" y="6249"/>
                  <a:pt x="16464" y="6249"/>
                </a:cubicBezTo>
                <a:cubicBezTo>
                  <a:pt x="16464" y="6243"/>
                  <a:pt x="16464" y="6237"/>
                  <a:pt x="16458" y="6237"/>
                </a:cubicBezTo>
                <a:cubicBezTo>
                  <a:pt x="16452" y="6231"/>
                  <a:pt x="16452" y="6231"/>
                  <a:pt x="16446" y="6231"/>
                </a:cubicBezTo>
                <a:cubicBezTo>
                  <a:pt x="16435" y="6231"/>
                  <a:pt x="16428" y="6226"/>
                  <a:pt x="16423" y="6226"/>
                </a:cubicBezTo>
                <a:cubicBezTo>
                  <a:pt x="16411" y="6226"/>
                  <a:pt x="16405" y="6231"/>
                  <a:pt x="16393" y="6231"/>
                </a:cubicBezTo>
                <a:cubicBezTo>
                  <a:pt x="16387" y="6237"/>
                  <a:pt x="16387" y="6237"/>
                  <a:pt x="16381" y="6243"/>
                </a:cubicBezTo>
                <a:cubicBezTo>
                  <a:pt x="16375" y="6243"/>
                  <a:pt x="16369" y="6243"/>
                  <a:pt x="16357" y="6243"/>
                </a:cubicBezTo>
                <a:cubicBezTo>
                  <a:pt x="16351" y="6243"/>
                  <a:pt x="16346" y="6243"/>
                  <a:pt x="16340" y="6243"/>
                </a:cubicBezTo>
                <a:cubicBezTo>
                  <a:pt x="16334" y="6243"/>
                  <a:pt x="16328" y="6249"/>
                  <a:pt x="16322" y="6249"/>
                </a:cubicBezTo>
                <a:cubicBezTo>
                  <a:pt x="16316" y="6255"/>
                  <a:pt x="16316" y="6255"/>
                  <a:pt x="16310" y="6261"/>
                </a:cubicBezTo>
                <a:cubicBezTo>
                  <a:pt x="16310" y="6261"/>
                  <a:pt x="16310" y="6267"/>
                  <a:pt x="16304" y="6267"/>
                </a:cubicBezTo>
                <a:lnTo>
                  <a:pt x="16316" y="6255"/>
                </a:lnTo>
                <a:close/>
                <a:moveTo>
                  <a:pt x="16298" y="6231"/>
                </a:moveTo>
                <a:lnTo>
                  <a:pt x="16298" y="6231"/>
                </a:lnTo>
                <a:cubicBezTo>
                  <a:pt x="16310" y="6226"/>
                  <a:pt x="16316" y="6220"/>
                  <a:pt x="16316" y="6202"/>
                </a:cubicBezTo>
                <a:cubicBezTo>
                  <a:pt x="16316" y="6196"/>
                  <a:pt x="16310" y="6190"/>
                  <a:pt x="16304" y="6190"/>
                </a:cubicBezTo>
                <a:cubicBezTo>
                  <a:pt x="16304" y="6190"/>
                  <a:pt x="16298" y="6184"/>
                  <a:pt x="16292" y="6184"/>
                </a:cubicBezTo>
                <a:cubicBezTo>
                  <a:pt x="16280" y="6184"/>
                  <a:pt x="16280" y="6184"/>
                  <a:pt x="16280" y="6184"/>
                </a:cubicBezTo>
                <a:lnTo>
                  <a:pt x="16274" y="6184"/>
                </a:lnTo>
                <a:cubicBezTo>
                  <a:pt x="16269" y="6184"/>
                  <a:pt x="16269" y="6190"/>
                  <a:pt x="16269" y="6196"/>
                </a:cubicBezTo>
                <a:cubicBezTo>
                  <a:pt x="16262" y="6202"/>
                  <a:pt x="16262" y="6208"/>
                  <a:pt x="16257" y="6220"/>
                </a:cubicBezTo>
                <a:cubicBezTo>
                  <a:pt x="16262" y="6226"/>
                  <a:pt x="16274" y="6231"/>
                  <a:pt x="16280" y="6231"/>
                </a:cubicBezTo>
                <a:cubicBezTo>
                  <a:pt x="16286" y="6231"/>
                  <a:pt x="16298" y="6231"/>
                  <a:pt x="16298" y="6231"/>
                </a:cubicBezTo>
                <a:close/>
                <a:moveTo>
                  <a:pt x="16245" y="6303"/>
                </a:moveTo>
                <a:lnTo>
                  <a:pt x="16245" y="6303"/>
                </a:lnTo>
                <a:cubicBezTo>
                  <a:pt x="16245" y="6315"/>
                  <a:pt x="16245" y="6315"/>
                  <a:pt x="16245" y="6315"/>
                </a:cubicBezTo>
                <a:cubicBezTo>
                  <a:pt x="16245" y="6320"/>
                  <a:pt x="16245" y="6326"/>
                  <a:pt x="16245" y="6332"/>
                </a:cubicBezTo>
                <a:cubicBezTo>
                  <a:pt x="16262" y="6332"/>
                  <a:pt x="16269" y="6332"/>
                  <a:pt x="16280" y="6332"/>
                </a:cubicBezTo>
                <a:cubicBezTo>
                  <a:pt x="16280" y="6297"/>
                  <a:pt x="16280" y="6297"/>
                  <a:pt x="16280" y="6297"/>
                </a:cubicBezTo>
                <a:cubicBezTo>
                  <a:pt x="16251" y="6297"/>
                  <a:pt x="16251" y="6297"/>
                  <a:pt x="16251" y="6297"/>
                </a:cubicBezTo>
                <a:cubicBezTo>
                  <a:pt x="16251" y="6315"/>
                  <a:pt x="16251" y="6315"/>
                  <a:pt x="16251" y="6315"/>
                </a:cubicBezTo>
                <a:lnTo>
                  <a:pt x="16245" y="6303"/>
                </a:lnTo>
                <a:close/>
                <a:moveTo>
                  <a:pt x="16138" y="6368"/>
                </a:moveTo>
                <a:lnTo>
                  <a:pt x="16138" y="6368"/>
                </a:lnTo>
                <a:cubicBezTo>
                  <a:pt x="16138" y="6374"/>
                  <a:pt x="16138" y="6380"/>
                  <a:pt x="16138" y="6380"/>
                </a:cubicBezTo>
                <a:cubicBezTo>
                  <a:pt x="16138" y="6386"/>
                  <a:pt x="16144" y="6386"/>
                  <a:pt x="16144" y="6392"/>
                </a:cubicBezTo>
                <a:cubicBezTo>
                  <a:pt x="16180" y="6392"/>
                  <a:pt x="16180" y="6392"/>
                  <a:pt x="16180" y="6392"/>
                </a:cubicBezTo>
                <a:cubicBezTo>
                  <a:pt x="16185" y="6392"/>
                  <a:pt x="16191" y="6392"/>
                  <a:pt x="16203" y="6392"/>
                </a:cubicBezTo>
                <a:lnTo>
                  <a:pt x="16209" y="6392"/>
                </a:lnTo>
                <a:cubicBezTo>
                  <a:pt x="16221" y="6392"/>
                  <a:pt x="16221" y="6392"/>
                  <a:pt x="16221" y="6392"/>
                </a:cubicBezTo>
                <a:cubicBezTo>
                  <a:pt x="16227" y="6392"/>
                  <a:pt x="16233" y="6397"/>
                  <a:pt x="16233" y="6397"/>
                </a:cubicBezTo>
                <a:cubicBezTo>
                  <a:pt x="16239" y="6397"/>
                  <a:pt x="16245" y="6397"/>
                  <a:pt x="16245" y="6397"/>
                </a:cubicBezTo>
                <a:cubicBezTo>
                  <a:pt x="16251" y="6397"/>
                  <a:pt x="16257" y="6397"/>
                  <a:pt x="16257" y="6403"/>
                </a:cubicBezTo>
                <a:cubicBezTo>
                  <a:pt x="16262" y="6403"/>
                  <a:pt x="16262" y="6409"/>
                  <a:pt x="16269" y="6409"/>
                </a:cubicBezTo>
                <a:cubicBezTo>
                  <a:pt x="16280" y="6409"/>
                  <a:pt x="16286" y="6409"/>
                  <a:pt x="16292" y="6409"/>
                </a:cubicBezTo>
                <a:cubicBezTo>
                  <a:pt x="16292" y="6397"/>
                  <a:pt x="16292" y="6392"/>
                  <a:pt x="16292" y="6374"/>
                </a:cubicBezTo>
                <a:cubicBezTo>
                  <a:pt x="16280" y="6374"/>
                  <a:pt x="16274" y="6374"/>
                  <a:pt x="16262" y="6374"/>
                </a:cubicBezTo>
                <a:cubicBezTo>
                  <a:pt x="16257" y="6374"/>
                  <a:pt x="16251" y="6368"/>
                  <a:pt x="16239" y="6368"/>
                </a:cubicBezTo>
                <a:cubicBezTo>
                  <a:pt x="16239" y="6368"/>
                  <a:pt x="16233" y="6368"/>
                  <a:pt x="16227" y="6368"/>
                </a:cubicBezTo>
                <a:cubicBezTo>
                  <a:pt x="16215" y="6368"/>
                  <a:pt x="16215" y="6368"/>
                  <a:pt x="16215" y="6368"/>
                </a:cubicBezTo>
                <a:cubicBezTo>
                  <a:pt x="16209" y="6368"/>
                  <a:pt x="16203" y="6362"/>
                  <a:pt x="16197" y="6362"/>
                </a:cubicBezTo>
                <a:cubicBezTo>
                  <a:pt x="16185" y="6362"/>
                  <a:pt x="16180" y="6356"/>
                  <a:pt x="16168" y="6356"/>
                </a:cubicBezTo>
                <a:cubicBezTo>
                  <a:pt x="16162" y="6356"/>
                  <a:pt x="16156" y="6356"/>
                  <a:pt x="16150" y="6356"/>
                </a:cubicBezTo>
                <a:cubicBezTo>
                  <a:pt x="16144" y="6362"/>
                  <a:pt x="16150" y="6368"/>
                  <a:pt x="16144" y="6368"/>
                </a:cubicBezTo>
                <a:cubicBezTo>
                  <a:pt x="16144" y="6374"/>
                  <a:pt x="16144" y="6380"/>
                  <a:pt x="16138" y="6380"/>
                </a:cubicBezTo>
                <a:lnTo>
                  <a:pt x="16138" y="6368"/>
                </a:lnTo>
                <a:close/>
                <a:moveTo>
                  <a:pt x="16096" y="6380"/>
                </a:moveTo>
                <a:lnTo>
                  <a:pt x="16096" y="6380"/>
                </a:lnTo>
                <a:cubicBezTo>
                  <a:pt x="16085" y="6374"/>
                  <a:pt x="16079" y="6374"/>
                  <a:pt x="16073" y="6374"/>
                </a:cubicBezTo>
                <a:cubicBezTo>
                  <a:pt x="16067" y="6374"/>
                  <a:pt x="16055" y="6368"/>
                  <a:pt x="16049" y="6368"/>
                </a:cubicBezTo>
                <a:cubicBezTo>
                  <a:pt x="16049" y="6392"/>
                  <a:pt x="16049" y="6392"/>
                  <a:pt x="16049" y="6392"/>
                </a:cubicBezTo>
                <a:cubicBezTo>
                  <a:pt x="16049" y="6392"/>
                  <a:pt x="16049" y="6397"/>
                  <a:pt x="16055" y="6403"/>
                </a:cubicBezTo>
                <a:cubicBezTo>
                  <a:pt x="16067" y="6409"/>
                  <a:pt x="16067" y="6409"/>
                  <a:pt x="16067" y="6409"/>
                </a:cubicBezTo>
                <a:cubicBezTo>
                  <a:pt x="16073" y="6409"/>
                  <a:pt x="16073" y="6409"/>
                  <a:pt x="16079" y="6409"/>
                </a:cubicBezTo>
                <a:cubicBezTo>
                  <a:pt x="16102" y="6409"/>
                  <a:pt x="16102" y="6409"/>
                  <a:pt x="16102" y="6409"/>
                </a:cubicBezTo>
                <a:cubicBezTo>
                  <a:pt x="16102" y="6392"/>
                  <a:pt x="16102" y="6392"/>
                  <a:pt x="16102" y="6392"/>
                </a:cubicBezTo>
                <a:cubicBezTo>
                  <a:pt x="16096" y="6386"/>
                  <a:pt x="16096" y="6380"/>
                  <a:pt x="16096" y="6380"/>
                </a:cubicBezTo>
                <a:close/>
                <a:moveTo>
                  <a:pt x="16168" y="6065"/>
                </a:moveTo>
                <a:lnTo>
                  <a:pt x="16168" y="6065"/>
                </a:lnTo>
                <a:cubicBezTo>
                  <a:pt x="16162" y="6077"/>
                  <a:pt x="16156" y="6083"/>
                  <a:pt x="16144" y="6089"/>
                </a:cubicBezTo>
                <a:cubicBezTo>
                  <a:pt x="16144" y="6095"/>
                  <a:pt x="16138" y="6101"/>
                  <a:pt x="16132" y="6101"/>
                </a:cubicBezTo>
                <a:cubicBezTo>
                  <a:pt x="16132" y="6101"/>
                  <a:pt x="16126" y="6107"/>
                  <a:pt x="16120" y="6113"/>
                </a:cubicBezTo>
                <a:cubicBezTo>
                  <a:pt x="16120" y="6113"/>
                  <a:pt x="16114" y="6107"/>
                  <a:pt x="16114" y="6113"/>
                </a:cubicBezTo>
                <a:cubicBezTo>
                  <a:pt x="16108" y="6113"/>
                  <a:pt x="16108" y="6119"/>
                  <a:pt x="16108" y="6119"/>
                </a:cubicBezTo>
                <a:cubicBezTo>
                  <a:pt x="16108" y="6125"/>
                  <a:pt x="16108" y="6125"/>
                  <a:pt x="16108" y="6125"/>
                </a:cubicBezTo>
                <a:cubicBezTo>
                  <a:pt x="16108" y="6137"/>
                  <a:pt x="16114" y="6142"/>
                  <a:pt x="16114" y="6154"/>
                </a:cubicBezTo>
                <a:cubicBezTo>
                  <a:pt x="16114" y="6160"/>
                  <a:pt x="16114" y="6160"/>
                  <a:pt x="16114" y="6166"/>
                </a:cubicBezTo>
                <a:cubicBezTo>
                  <a:pt x="16114" y="6178"/>
                  <a:pt x="16114" y="6184"/>
                  <a:pt x="16114" y="6190"/>
                </a:cubicBezTo>
                <a:cubicBezTo>
                  <a:pt x="16108" y="6196"/>
                  <a:pt x="16102" y="6196"/>
                  <a:pt x="16102" y="6202"/>
                </a:cubicBezTo>
                <a:cubicBezTo>
                  <a:pt x="16102" y="6208"/>
                  <a:pt x="16096" y="6214"/>
                  <a:pt x="16096" y="6226"/>
                </a:cubicBezTo>
                <a:cubicBezTo>
                  <a:pt x="16096" y="6231"/>
                  <a:pt x="16096" y="6231"/>
                  <a:pt x="16096" y="6237"/>
                </a:cubicBezTo>
                <a:cubicBezTo>
                  <a:pt x="16096" y="6243"/>
                  <a:pt x="16096" y="6249"/>
                  <a:pt x="16096" y="6261"/>
                </a:cubicBezTo>
                <a:cubicBezTo>
                  <a:pt x="16102" y="6261"/>
                  <a:pt x="16102" y="6255"/>
                  <a:pt x="16108" y="6261"/>
                </a:cubicBezTo>
                <a:cubicBezTo>
                  <a:pt x="16114" y="6261"/>
                  <a:pt x="16114" y="6267"/>
                  <a:pt x="16120" y="6267"/>
                </a:cubicBezTo>
                <a:cubicBezTo>
                  <a:pt x="16126" y="6267"/>
                  <a:pt x="16132" y="6261"/>
                  <a:pt x="16144" y="6261"/>
                </a:cubicBezTo>
                <a:cubicBezTo>
                  <a:pt x="16144" y="6249"/>
                  <a:pt x="16144" y="6243"/>
                  <a:pt x="16144" y="6231"/>
                </a:cubicBezTo>
                <a:cubicBezTo>
                  <a:pt x="16144" y="6220"/>
                  <a:pt x="16144" y="6214"/>
                  <a:pt x="16144" y="6196"/>
                </a:cubicBezTo>
                <a:cubicBezTo>
                  <a:pt x="16144" y="6196"/>
                  <a:pt x="16144" y="6196"/>
                  <a:pt x="16150" y="6196"/>
                </a:cubicBezTo>
                <a:cubicBezTo>
                  <a:pt x="16162" y="6196"/>
                  <a:pt x="16174" y="6196"/>
                  <a:pt x="16191" y="6196"/>
                </a:cubicBezTo>
                <a:cubicBezTo>
                  <a:pt x="16191" y="6196"/>
                  <a:pt x="16197" y="6196"/>
                  <a:pt x="16203" y="6196"/>
                </a:cubicBezTo>
                <a:cubicBezTo>
                  <a:pt x="16203" y="6190"/>
                  <a:pt x="16203" y="6190"/>
                  <a:pt x="16203" y="6178"/>
                </a:cubicBezTo>
                <a:cubicBezTo>
                  <a:pt x="16203" y="6172"/>
                  <a:pt x="16197" y="6166"/>
                  <a:pt x="16197" y="6160"/>
                </a:cubicBezTo>
                <a:cubicBezTo>
                  <a:pt x="16191" y="6160"/>
                  <a:pt x="16185" y="6160"/>
                  <a:pt x="16185" y="6154"/>
                </a:cubicBezTo>
                <a:cubicBezTo>
                  <a:pt x="16185" y="6149"/>
                  <a:pt x="16185" y="6149"/>
                  <a:pt x="16185" y="6142"/>
                </a:cubicBezTo>
                <a:cubicBezTo>
                  <a:pt x="16185" y="6137"/>
                  <a:pt x="16185" y="6137"/>
                  <a:pt x="16185" y="6131"/>
                </a:cubicBezTo>
                <a:cubicBezTo>
                  <a:pt x="16180" y="6131"/>
                  <a:pt x="16180" y="6125"/>
                  <a:pt x="16174" y="6125"/>
                </a:cubicBezTo>
                <a:cubicBezTo>
                  <a:pt x="16168" y="6125"/>
                  <a:pt x="16162" y="6131"/>
                  <a:pt x="16150" y="6131"/>
                </a:cubicBezTo>
                <a:cubicBezTo>
                  <a:pt x="16150" y="6113"/>
                  <a:pt x="16150" y="6113"/>
                  <a:pt x="16150" y="6113"/>
                </a:cubicBezTo>
                <a:cubicBezTo>
                  <a:pt x="16150" y="6107"/>
                  <a:pt x="16156" y="6107"/>
                  <a:pt x="16156" y="6101"/>
                </a:cubicBezTo>
                <a:cubicBezTo>
                  <a:pt x="16156" y="6095"/>
                  <a:pt x="16162" y="6095"/>
                  <a:pt x="16168" y="6095"/>
                </a:cubicBezTo>
                <a:cubicBezTo>
                  <a:pt x="16168" y="6089"/>
                  <a:pt x="16168" y="6083"/>
                  <a:pt x="16168" y="6083"/>
                </a:cubicBezTo>
                <a:cubicBezTo>
                  <a:pt x="16168" y="6077"/>
                  <a:pt x="16168" y="6071"/>
                  <a:pt x="16168" y="6065"/>
                </a:cubicBezTo>
                <a:close/>
                <a:moveTo>
                  <a:pt x="15628" y="6374"/>
                </a:moveTo>
                <a:lnTo>
                  <a:pt x="15628" y="6374"/>
                </a:lnTo>
                <a:cubicBezTo>
                  <a:pt x="15628" y="6380"/>
                  <a:pt x="15634" y="6386"/>
                  <a:pt x="15640" y="6392"/>
                </a:cubicBezTo>
                <a:cubicBezTo>
                  <a:pt x="15646" y="6392"/>
                  <a:pt x="15646" y="6397"/>
                  <a:pt x="15652" y="6397"/>
                </a:cubicBezTo>
                <a:cubicBezTo>
                  <a:pt x="15658" y="6397"/>
                  <a:pt x="15658" y="6397"/>
                  <a:pt x="15664" y="6403"/>
                </a:cubicBezTo>
                <a:cubicBezTo>
                  <a:pt x="15670" y="6403"/>
                  <a:pt x="15676" y="6403"/>
                  <a:pt x="15687" y="6403"/>
                </a:cubicBezTo>
                <a:cubicBezTo>
                  <a:pt x="15687" y="6409"/>
                  <a:pt x="15687" y="6409"/>
                  <a:pt x="15687" y="6415"/>
                </a:cubicBezTo>
                <a:cubicBezTo>
                  <a:pt x="15687" y="6427"/>
                  <a:pt x="15681" y="6427"/>
                  <a:pt x="15681" y="6439"/>
                </a:cubicBezTo>
                <a:cubicBezTo>
                  <a:pt x="15681" y="6445"/>
                  <a:pt x="15676" y="6445"/>
                  <a:pt x="15676" y="6451"/>
                </a:cubicBezTo>
                <a:cubicBezTo>
                  <a:pt x="15676" y="6457"/>
                  <a:pt x="15676" y="6457"/>
                  <a:pt x="15676" y="6463"/>
                </a:cubicBezTo>
                <a:cubicBezTo>
                  <a:pt x="15676" y="6469"/>
                  <a:pt x="15676" y="6469"/>
                  <a:pt x="15676" y="6475"/>
                </a:cubicBezTo>
                <a:cubicBezTo>
                  <a:pt x="15676" y="6480"/>
                  <a:pt x="15681" y="6480"/>
                  <a:pt x="15681" y="6486"/>
                </a:cubicBezTo>
                <a:cubicBezTo>
                  <a:pt x="15687" y="6492"/>
                  <a:pt x="15687" y="6498"/>
                  <a:pt x="15687" y="6498"/>
                </a:cubicBezTo>
                <a:cubicBezTo>
                  <a:pt x="15687" y="6504"/>
                  <a:pt x="15693" y="6510"/>
                  <a:pt x="15693" y="6510"/>
                </a:cubicBezTo>
                <a:cubicBezTo>
                  <a:pt x="15699" y="6510"/>
                  <a:pt x="15699" y="6510"/>
                  <a:pt x="15705" y="6504"/>
                </a:cubicBezTo>
                <a:cubicBezTo>
                  <a:pt x="15705" y="6498"/>
                  <a:pt x="15711" y="6498"/>
                  <a:pt x="15717" y="6498"/>
                </a:cubicBezTo>
                <a:cubicBezTo>
                  <a:pt x="15717" y="6486"/>
                  <a:pt x="15717" y="6480"/>
                  <a:pt x="15717" y="6469"/>
                </a:cubicBezTo>
                <a:cubicBezTo>
                  <a:pt x="15717" y="6463"/>
                  <a:pt x="15717" y="6457"/>
                  <a:pt x="15717" y="6445"/>
                </a:cubicBezTo>
                <a:cubicBezTo>
                  <a:pt x="15717" y="6439"/>
                  <a:pt x="15723" y="6439"/>
                  <a:pt x="15723" y="6433"/>
                </a:cubicBezTo>
                <a:cubicBezTo>
                  <a:pt x="15723" y="6356"/>
                  <a:pt x="15723" y="6356"/>
                  <a:pt x="15723" y="6356"/>
                </a:cubicBezTo>
                <a:cubicBezTo>
                  <a:pt x="15759" y="6356"/>
                  <a:pt x="15759" y="6356"/>
                  <a:pt x="15759" y="6356"/>
                </a:cubicBezTo>
                <a:cubicBezTo>
                  <a:pt x="15759" y="6386"/>
                  <a:pt x="15759" y="6386"/>
                  <a:pt x="15759" y="6386"/>
                </a:cubicBezTo>
                <a:cubicBezTo>
                  <a:pt x="15753" y="6397"/>
                  <a:pt x="15753" y="6397"/>
                  <a:pt x="15753" y="6397"/>
                </a:cubicBezTo>
                <a:cubicBezTo>
                  <a:pt x="15753" y="6409"/>
                  <a:pt x="15753" y="6409"/>
                  <a:pt x="15753" y="6409"/>
                </a:cubicBezTo>
                <a:cubicBezTo>
                  <a:pt x="15759" y="6409"/>
                  <a:pt x="15764" y="6409"/>
                  <a:pt x="15764" y="6409"/>
                </a:cubicBezTo>
                <a:cubicBezTo>
                  <a:pt x="15770" y="6409"/>
                  <a:pt x="15776" y="6409"/>
                  <a:pt x="15776" y="6409"/>
                </a:cubicBezTo>
                <a:cubicBezTo>
                  <a:pt x="15782" y="6409"/>
                  <a:pt x="15782" y="6415"/>
                  <a:pt x="15788" y="6415"/>
                </a:cubicBezTo>
                <a:cubicBezTo>
                  <a:pt x="15794" y="6415"/>
                  <a:pt x="15800" y="6415"/>
                  <a:pt x="15800" y="6421"/>
                </a:cubicBezTo>
                <a:cubicBezTo>
                  <a:pt x="15806" y="6421"/>
                  <a:pt x="15806" y="6421"/>
                  <a:pt x="15812" y="6421"/>
                </a:cubicBezTo>
                <a:cubicBezTo>
                  <a:pt x="15812" y="6439"/>
                  <a:pt x="15812" y="6439"/>
                  <a:pt x="15812" y="6439"/>
                </a:cubicBezTo>
                <a:cubicBezTo>
                  <a:pt x="15812" y="6445"/>
                  <a:pt x="15806" y="6451"/>
                  <a:pt x="15806" y="6451"/>
                </a:cubicBezTo>
                <a:cubicBezTo>
                  <a:pt x="15806" y="6457"/>
                  <a:pt x="15806" y="6463"/>
                  <a:pt x="15806" y="6463"/>
                </a:cubicBezTo>
                <a:cubicBezTo>
                  <a:pt x="15806" y="6475"/>
                  <a:pt x="15806" y="6475"/>
                  <a:pt x="15806" y="6475"/>
                </a:cubicBezTo>
                <a:cubicBezTo>
                  <a:pt x="15806" y="6480"/>
                  <a:pt x="15800" y="6486"/>
                  <a:pt x="15806" y="6492"/>
                </a:cubicBezTo>
                <a:cubicBezTo>
                  <a:pt x="15806" y="6492"/>
                  <a:pt x="15812" y="6498"/>
                  <a:pt x="15818" y="6498"/>
                </a:cubicBezTo>
                <a:cubicBezTo>
                  <a:pt x="15818" y="6504"/>
                  <a:pt x="15824" y="6504"/>
                  <a:pt x="15830" y="6504"/>
                </a:cubicBezTo>
                <a:cubicBezTo>
                  <a:pt x="15865" y="6504"/>
                  <a:pt x="15865" y="6504"/>
                  <a:pt x="15865" y="6504"/>
                </a:cubicBezTo>
                <a:cubicBezTo>
                  <a:pt x="15865" y="6498"/>
                  <a:pt x="15871" y="6498"/>
                  <a:pt x="15871" y="6492"/>
                </a:cubicBezTo>
                <a:cubicBezTo>
                  <a:pt x="15871" y="6475"/>
                  <a:pt x="15871" y="6475"/>
                  <a:pt x="15871" y="6475"/>
                </a:cubicBezTo>
                <a:cubicBezTo>
                  <a:pt x="15871" y="6463"/>
                  <a:pt x="15871" y="6457"/>
                  <a:pt x="15865" y="6445"/>
                </a:cubicBezTo>
                <a:cubicBezTo>
                  <a:pt x="15865" y="6445"/>
                  <a:pt x="15859" y="6445"/>
                  <a:pt x="15853" y="6439"/>
                </a:cubicBezTo>
                <a:cubicBezTo>
                  <a:pt x="15853" y="6439"/>
                  <a:pt x="15847" y="6433"/>
                  <a:pt x="15842" y="6427"/>
                </a:cubicBezTo>
                <a:cubicBezTo>
                  <a:pt x="15842" y="6427"/>
                  <a:pt x="15836" y="6427"/>
                  <a:pt x="15830" y="6421"/>
                </a:cubicBezTo>
                <a:cubicBezTo>
                  <a:pt x="15830" y="6415"/>
                  <a:pt x="15824" y="6409"/>
                  <a:pt x="15824" y="6403"/>
                </a:cubicBezTo>
                <a:cubicBezTo>
                  <a:pt x="15824" y="6397"/>
                  <a:pt x="15830" y="6392"/>
                  <a:pt x="15830" y="6386"/>
                </a:cubicBezTo>
                <a:cubicBezTo>
                  <a:pt x="15830" y="6374"/>
                  <a:pt x="15830" y="6374"/>
                  <a:pt x="15830" y="6374"/>
                </a:cubicBezTo>
                <a:cubicBezTo>
                  <a:pt x="15830" y="6374"/>
                  <a:pt x="15836" y="6368"/>
                  <a:pt x="15830" y="6362"/>
                </a:cubicBezTo>
                <a:cubicBezTo>
                  <a:pt x="15830" y="6362"/>
                  <a:pt x="15824" y="6362"/>
                  <a:pt x="15818" y="6356"/>
                </a:cubicBezTo>
                <a:cubicBezTo>
                  <a:pt x="15818" y="6350"/>
                  <a:pt x="15818" y="6350"/>
                  <a:pt x="15812" y="6344"/>
                </a:cubicBezTo>
                <a:cubicBezTo>
                  <a:pt x="15806" y="6338"/>
                  <a:pt x="15806" y="6338"/>
                  <a:pt x="15800" y="6338"/>
                </a:cubicBezTo>
                <a:cubicBezTo>
                  <a:pt x="15794" y="6332"/>
                  <a:pt x="15788" y="6338"/>
                  <a:pt x="15788" y="6332"/>
                </a:cubicBezTo>
                <a:cubicBezTo>
                  <a:pt x="15782" y="6332"/>
                  <a:pt x="15788" y="6326"/>
                  <a:pt x="15782" y="6320"/>
                </a:cubicBezTo>
                <a:cubicBezTo>
                  <a:pt x="15788" y="6303"/>
                  <a:pt x="15788" y="6303"/>
                  <a:pt x="15788" y="6303"/>
                </a:cubicBezTo>
                <a:cubicBezTo>
                  <a:pt x="15800" y="6303"/>
                  <a:pt x="15812" y="6303"/>
                  <a:pt x="15824" y="6303"/>
                </a:cubicBezTo>
                <a:cubicBezTo>
                  <a:pt x="15830" y="6303"/>
                  <a:pt x="15830" y="6297"/>
                  <a:pt x="15836" y="6291"/>
                </a:cubicBezTo>
                <a:cubicBezTo>
                  <a:pt x="15836" y="6291"/>
                  <a:pt x="15842" y="6291"/>
                  <a:pt x="15847" y="6291"/>
                </a:cubicBezTo>
                <a:cubicBezTo>
                  <a:pt x="15859" y="6285"/>
                  <a:pt x="15865" y="6291"/>
                  <a:pt x="15883" y="6291"/>
                </a:cubicBezTo>
                <a:lnTo>
                  <a:pt x="15889" y="6291"/>
                </a:lnTo>
                <a:cubicBezTo>
                  <a:pt x="15895" y="6291"/>
                  <a:pt x="15901" y="6285"/>
                  <a:pt x="15901" y="6273"/>
                </a:cubicBezTo>
                <a:lnTo>
                  <a:pt x="15895" y="6267"/>
                </a:lnTo>
                <a:cubicBezTo>
                  <a:pt x="15895" y="6261"/>
                  <a:pt x="15889" y="6255"/>
                  <a:pt x="15889" y="6255"/>
                </a:cubicBezTo>
                <a:cubicBezTo>
                  <a:pt x="15883" y="6249"/>
                  <a:pt x="15877" y="6249"/>
                  <a:pt x="15877" y="6249"/>
                </a:cubicBezTo>
                <a:cubicBezTo>
                  <a:pt x="15871" y="6243"/>
                  <a:pt x="15865" y="6243"/>
                  <a:pt x="15865" y="6237"/>
                </a:cubicBezTo>
                <a:cubicBezTo>
                  <a:pt x="15859" y="6237"/>
                  <a:pt x="15859" y="6231"/>
                  <a:pt x="15853" y="6231"/>
                </a:cubicBezTo>
                <a:cubicBezTo>
                  <a:pt x="15842" y="6231"/>
                  <a:pt x="15842" y="6231"/>
                  <a:pt x="15842" y="6231"/>
                </a:cubicBezTo>
                <a:cubicBezTo>
                  <a:pt x="15836" y="6231"/>
                  <a:pt x="15836" y="6231"/>
                  <a:pt x="15830" y="6231"/>
                </a:cubicBezTo>
                <a:cubicBezTo>
                  <a:pt x="15824" y="6231"/>
                  <a:pt x="15824" y="6231"/>
                  <a:pt x="15818" y="6237"/>
                </a:cubicBezTo>
                <a:cubicBezTo>
                  <a:pt x="15812" y="6237"/>
                  <a:pt x="15812" y="6243"/>
                  <a:pt x="15812" y="6249"/>
                </a:cubicBezTo>
                <a:cubicBezTo>
                  <a:pt x="15800" y="6255"/>
                  <a:pt x="15788" y="6267"/>
                  <a:pt x="15776" y="6267"/>
                </a:cubicBezTo>
                <a:cubicBezTo>
                  <a:pt x="15764" y="6273"/>
                  <a:pt x="15759" y="6267"/>
                  <a:pt x="15753" y="6267"/>
                </a:cubicBezTo>
                <a:cubicBezTo>
                  <a:pt x="15747" y="6267"/>
                  <a:pt x="15747" y="6267"/>
                  <a:pt x="15741" y="6267"/>
                </a:cubicBezTo>
                <a:cubicBezTo>
                  <a:pt x="15735" y="6261"/>
                  <a:pt x="15729" y="6261"/>
                  <a:pt x="15717" y="6255"/>
                </a:cubicBezTo>
                <a:lnTo>
                  <a:pt x="15711" y="6249"/>
                </a:lnTo>
                <a:cubicBezTo>
                  <a:pt x="15699" y="6249"/>
                  <a:pt x="15699" y="6249"/>
                  <a:pt x="15699" y="6249"/>
                </a:cubicBezTo>
                <a:cubicBezTo>
                  <a:pt x="15693" y="6249"/>
                  <a:pt x="15687" y="6255"/>
                  <a:pt x="15687" y="6261"/>
                </a:cubicBezTo>
                <a:cubicBezTo>
                  <a:pt x="15681" y="6267"/>
                  <a:pt x="15676" y="6273"/>
                  <a:pt x="15670" y="6285"/>
                </a:cubicBezTo>
                <a:cubicBezTo>
                  <a:pt x="15670" y="6291"/>
                  <a:pt x="15676" y="6297"/>
                  <a:pt x="15670" y="6303"/>
                </a:cubicBezTo>
                <a:cubicBezTo>
                  <a:pt x="15670" y="6309"/>
                  <a:pt x="15664" y="6309"/>
                  <a:pt x="15664" y="6315"/>
                </a:cubicBezTo>
                <a:cubicBezTo>
                  <a:pt x="15664" y="6315"/>
                  <a:pt x="15670" y="6320"/>
                  <a:pt x="15664" y="6326"/>
                </a:cubicBezTo>
                <a:cubicBezTo>
                  <a:pt x="15664" y="6326"/>
                  <a:pt x="15670" y="6332"/>
                  <a:pt x="15664" y="6338"/>
                </a:cubicBezTo>
                <a:lnTo>
                  <a:pt x="15658" y="6344"/>
                </a:lnTo>
                <a:cubicBezTo>
                  <a:pt x="15652" y="6344"/>
                  <a:pt x="15646" y="6344"/>
                  <a:pt x="15646" y="6344"/>
                </a:cubicBezTo>
                <a:cubicBezTo>
                  <a:pt x="15640" y="6344"/>
                  <a:pt x="15640" y="6350"/>
                  <a:pt x="15634" y="6356"/>
                </a:cubicBezTo>
                <a:cubicBezTo>
                  <a:pt x="15634" y="6362"/>
                  <a:pt x="15628" y="6368"/>
                  <a:pt x="15628" y="6374"/>
                </a:cubicBezTo>
                <a:close/>
                <a:moveTo>
                  <a:pt x="15960" y="6131"/>
                </a:moveTo>
                <a:lnTo>
                  <a:pt x="15960" y="6131"/>
                </a:lnTo>
                <a:cubicBezTo>
                  <a:pt x="15954" y="6131"/>
                  <a:pt x="15960" y="6137"/>
                  <a:pt x="15960" y="6142"/>
                </a:cubicBezTo>
                <a:cubicBezTo>
                  <a:pt x="15764" y="6142"/>
                  <a:pt x="15764" y="6142"/>
                  <a:pt x="15764" y="6142"/>
                </a:cubicBezTo>
                <a:cubicBezTo>
                  <a:pt x="15753" y="6142"/>
                  <a:pt x="15753" y="6154"/>
                  <a:pt x="15741" y="6160"/>
                </a:cubicBezTo>
                <a:cubicBezTo>
                  <a:pt x="15735" y="6166"/>
                  <a:pt x="15729" y="6166"/>
                  <a:pt x="15723" y="6166"/>
                </a:cubicBezTo>
                <a:cubicBezTo>
                  <a:pt x="15705" y="6166"/>
                  <a:pt x="15699" y="6166"/>
                  <a:pt x="15687" y="6172"/>
                </a:cubicBezTo>
                <a:cubicBezTo>
                  <a:pt x="15681" y="6172"/>
                  <a:pt x="15681" y="6178"/>
                  <a:pt x="15676" y="6184"/>
                </a:cubicBezTo>
                <a:cubicBezTo>
                  <a:pt x="15676" y="6190"/>
                  <a:pt x="15670" y="6196"/>
                  <a:pt x="15670" y="6202"/>
                </a:cubicBezTo>
                <a:cubicBezTo>
                  <a:pt x="15670" y="6208"/>
                  <a:pt x="15676" y="6214"/>
                  <a:pt x="15676" y="6220"/>
                </a:cubicBezTo>
                <a:cubicBezTo>
                  <a:pt x="15687" y="6214"/>
                  <a:pt x="15699" y="6208"/>
                  <a:pt x="15711" y="6202"/>
                </a:cubicBezTo>
                <a:cubicBezTo>
                  <a:pt x="15711" y="6202"/>
                  <a:pt x="15717" y="6202"/>
                  <a:pt x="15723" y="6196"/>
                </a:cubicBezTo>
                <a:cubicBezTo>
                  <a:pt x="15723" y="6196"/>
                  <a:pt x="15723" y="6190"/>
                  <a:pt x="15729" y="6190"/>
                </a:cubicBezTo>
                <a:cubicBezTo>
                  <a:pt x="15735" y="6184"/>
                  <a:pt x="15735" y="6184"/>
                  <a:pt x="15741" y="6184"/>
                </a:cubicBezTo>
                <a:cubicBezTo>
                  <a:pt x="15747" y="6178"/>
                  <a:pt x="15747" y="6178"/>
                  <a:pt x="15753" y="6178"/>
                </a:cubicBezTo>
                <a:cubicBezTo>
                  <a:pt x="15759" y="6172"/>
                  <a:pt x="15759" y="6178"/>
                  <a:pt x="15764" y="6178"/>
                </a:cubicBezTo>
                <a:cubicBezTo>
                  <a:pt x="15770" y="6172"/>
                  <a:pt x="15770" y="6166"/>
                  <a:pt x="15776" y="6166"/>
                </a:cubicBezTo>
                <a:cubicBezTo>
                  <a:pt x="15800" y="6172"/>
                  <a:pt x="15800" y="6172"/>
                  <a:pt x="15800" y="6172"/>
                </a:cubicBezTo>
                <a:cubicBezTo>
                  <a:pt x="15871" y="6172"/>
                  <a:pt x="15871" y="6172"/>
                  <a:pt x="15871" y="6172"/>
                </a:cubicBezTo>
                <a:cubicBezTo>
                  <a:pt x="15871" y="6172"/>
                  <a:pt x="15877" y="6172"/>
                  <a:pt x="15883" y="6172"/>
                </a:cubicBezTo>
                <a:lnTo>
                  <a:pt x="15889" y="6178"/>
                </a:lnTo>
                <a:cubicBezTo>
                  <a:pt x="15901" y="6184"/>
                  <a:pt x="15901" y="6190"/>
                  <a:pt x="15907" y="6190"/>
                </a:cubicBezTo>
                <a:cubicBezTo>
                  <a:pt x="15913" y="6190"/>
                  <a:pt x="15919" y="6190"/>
                  <a:pt x="15925" y="6190"/>
                </a:cubicBezTo>
                <a:cubicBezTo>
                  <a:pt x="15930" y="6184"/>
                  <a:pt x="15936" y="6184"/>
                  <a:pt x="15936" y="6184"/>
                </a:cubicBezTo>
                <a:cubicBezTo>
                  <a:pt x="15942" y="6178"/>
                  <a:pt x="15942" y="6172"/>
                  <a:pt x="15948" y="6172"/>
                </a:cubicBezTo>
                <a:cubicBezTo>
                  <a:pt x="15948" y="6166"/>
                  <a:pt x="15954" y="6172"/>
                  <a:pt x="15960" y="6172"/>
                </a:cubicBezTo>
                <a:cubicBezTo>
                  <a:pt x="15966" y="6166"/>
                  <a:pt x="15966" y="6166"/>
                  <a:pt x="15966" y="6166"/>
                </a:cubicBezTo>
                <a:cubicBezTo>
                  <a:pt x="15972" y="6160"/>
                  <a:pt x="15972" y="6154"/>
                  <a:pt x="15978" y="6154"/>
                </a:cubicBezTo>
                <a:cubicBezTo>
                  <a:pt x="15984" y="6142"/>
                  <a:pt x="15990" y="6137"/>
                  <a:pt x="15990" y="6125"/>
                </a:cubicBezTo>
                <a:cubicBezTo>
                  <a:pt x="15978" y="6125"/>
                  <a:pt x="15972" y="6125"/>
                  <a:pt x="15960" y="6131"/>
                </a:cubicBezTo>
                <a:close/>
                <a:moveTo>
                  <a:pt x="15901" y="6741"/>
                </a:moveTo>
                <a:lnTo>
                  <a:pt x="15901" y="6741"/>
                </a:lnTo>
                <a:cubicBezTo>
                  <a:pt x="15901" y="6747"/>
                  <a:pt x="15895" y="6753"/>
                  <a:pt x="15895" y="6753"/>
                </a:cubicBezTo>
                <a:cubicBezTo>
                  <a:pt x="15895" y="6765"/>
                  <a:pt x="15907" y="6765"/>
                  <a:pt x="15919" y="6771"/>
                </a:cubicBezTo>
                <a:cubicBezTo>
                  <a:pt x="15919" y="6771"/>
                  <a:pt x="15925" y="6771"/>
                  <a:pt x="15930" y="6771"/>
                </a:cubicBezTo>
                <a:cubicBezTo>
                  <a:pt x="15936" y="6771"/>
                  <a:pt x="15936" y="6777"/>
                  <a:pt x="15942" y="6777"/>
                </a:cubicBezTo>
                <a:cubicBezTo>
                  <a:pt x="15948" y="6777"/>
                  <a:pt x="15954" y="6765"/>
                  <a:pt x="15960" y="6753"/>
                </a:cubicBezTo>
                <a:cubicBezTo>
                  <a:pt x="15966" y="6747"/>
                  <a:pt x="15972" y="6741"/>
                  <a:pt x="15978" y="6735"/>
                </a:cubicBezTo>
                <a:cubicBezTo>
                  <a:pt x="15984" y="6730"/>
                  <a:pt x="15990" y="6724"/>
                  <a:pt x="15996" y="6724"/>
                </a:cubicBezTo>
                <a:cubicBezTo>
                  <a:pt x="15996" y="6718"/>
                  <a:pt x="16002" y="6718"/>
                  <a:pt x="16008" y="6718"/>
                </a:cubicBezTo>
                <a:cubicBezTo>
                  <a:pt x="16014" y="6718"/>
                  <a:pt x="16019" y="6718"/>
                  <a:pt x="16031" y="6718"/>
                </a:cubicBezTo>
                <a:cubicBezTo>
                  <a:pt x="16037" y="6712"/>
                  <a:pt x="16043" y="6700"/>
                  <a:pt x="16049" y="6694"/>
                </a:cubicBezTo>
                <a:cubicBezTo>
                  <a:pt x="16061" y="6694"/>
                  <a:pt x="16067" y="6688"/>
                  <a:pt x="16073" y="6688"/>
                </a:cubicBezTo>
                <a:cubicBezTo>
                  <a:pt x="16085" y="6688"/>
                  <a:pt x="16091" y="6688"/>
                  <a:pt x="16096" y="6688"/>
                </a:cubicBezTo>
                <a:cubicBezTo>
                  <a:pt x="16102" y="6688"/>
                  <a:pt x="16102" y="6688"/>
                  <a:pt x="16108" y="6688"/>
                </a:cubicBezTo>
                <a:cubicBezTo>
                  <a:pt x="16114" y="6688"/>
                  <a:pt x="16114" y="6682"/>
                  <a:pt x="16114" y="6676"/>
                </a:cubicBezTo>
                <a:cubicBezTo>
                  <a:pt x="16108" y="6676"/>
                  <a:pt x="16108" y="6676"/>
                  <a:pt x="16102" y="6670"/>
                </a:cubicBezTo>
                <a:cubicBezTo>
                  <a:pt x="16096" y="6670"/>
                  <a:pt x="16096" y="6664"/>
                  <a:pt x="16091" y="6658"/>
                </a:cubicBezTo>
                <a:cubicBezTo>
                  <a:pt x="16085" y="6658"/>
                  <a:pt x="16079" y="6658"/>
                  <a:pt x="16067" y="6658"/>
                </a:cubicBezTo>
                <a:cubicBezTo>
                  <a:pt x="16067" y="6658"/>
                  <a:pt x="16061" y="6658"/>
                  <a:pt x="16055" y="6658"/>
                </a:cubicBezTo>
                <a:lnTo>
                  <a:pt x="16049" y="6658"/>
                </a:lnTo>
                <a:cubicBezTo>
                  <a:pt x="16043" y="6664"/>
                  <a:pt x="16043" y="6670"/>
                  <a:pt x="16037" y="6670"/>
                </a:cubicBezTo>
                <a:cubicBezTo>
                  <a:pt x="16031" y="6676"/>
                  <a:pt x="16025" y="6676"/>
                  <a:pt x="16025" y="6676"/>
                </a:cubicBezTo>
                <a:cubicBezTo>
                  <a:pt x="16019" y="6676"/>
                  <a:pt x="16014" y="6676"/>
                  <a:pt x="16014" y="6676"/>
                </a:cubicBezTo>
                <a:cubicBezTo>
                  <a:pt x="16008" y="6682"/>
                  <a:pt x="16008" y="6688"/>
                  <a:pt x="16002" y="6688"/>
                </a:cubicBezTo>
                <a:cubicBezTo>
                  <a:pt x="15996" y="6688"/>
                  <a:pt x="15990" y="6688"/>
                  <a:pt x="15984" y="6688"/>
                </a:cubicBezTo>
                <a:cubicBezTo>
                  <a:pt x="15984" y="6688"/>
                  <a:pt x="15978" y="6688"/>
                  <a:pt x="15972" y="6694"/>
                </a:cubicBezTo>
                <a:cubicBezTo>
                  <a:pt x="15972" y="6694"/>
                  <a:pt x="15978" y="6700"/>
                  <a:pt x="15972" y="6706"/>
                </a:cubicBezTo>
                <a:cubicBezTo>
                  <a:pt x="15966" y="6706"/>
                  <a:pt x="15954" y="6706"/>
                  <a:pt x="15948" y="6706"/>
                </a:cubicBezTo>
                <a:cubicBezTo>
                  <a:pt x="15942" y="6706"/>
                  <a:pt x="15942" y="6706"/>
                  <a:pt x="15936" y="6706"/>
                </a:cubicBezTo>
                <a:cubicBezTo>
                  <a:pt x="15930" y="6706"/>
                  <a:pt x="15930" y="6718"/>
                  <a:pt x="15925" y="6718"/>
                </a:cubicBezTo>
                <a:cubicBezTo>
                  <a:pt x="15925" y="6724"/>
                  <a:pt x="15919" y="6724"/>
                  <a:pt x="15913" y="6730"/>
                </a:cubicBezTo>
                <a:cubicBezTo>
                  <a:pt x="15913" y="6730"/>
                  <a:pt x="15901" y="6735"/>
                  <a:pt x="15901" y="6741"/>
                </a:cubicBezTo>
                <a:cubicBezTo>
                  <a:pt x="15901" y="6747"/>
                  <a:pt x="15901" y="6747"/>
                  <a:pt x="15901" y="6747"/>
                </a:cubicBezTo>
                <a:cubicBezTo>
                  <a:pt x="15901" y="6753"/>
                  <a:pt x="15907" y="6753"/>
                  <a:pt x="15907" y="6759"/>
                </a:cubicBezTo>
                <a:lnTo>
                  <a:pt x="15901" y="6741"/>
                </a:lnTo>
                <a:close/>
                <a:moveTo>
                  <a:pt x="15877" y="6795"/>
                </a:moveTo>
                <a:lnTo>
                  <a:pt x="15877" y="6795"/>
                </a:lnTo>
                <a:cubicBezTo>
                  <a:pt x="15871" y="6795"/>
                  <a:pt x="15865" y="6801"/>
                  <a:pt x="15853" y="6807"/>
                </a:cubicBezTo>
                <a:cubicBezTo>
                  <a:pt x="15859" y="6813"/>
                  <a:pt x="15859" y="6813"/>
                  <a:pt x="15859" y="6818"/>
                </a:cubicBezTo>
                <a:cubicBezTo>
                  <a:pt x="15895" y="6818"/>
                  <a:pt x="15895" y="6818"/>
                  <a:pt x="15895" y="6818"/>
                </a:cubicBezTo>
                <a:cubicBezTo>
                  <a:pt x="15895" y="6801"/>
                  <a:pt x="15895" y="6801"/>
                  <a:pt x="15895" y="6801"/>
                </a:cubicBezTo>
                <a:cubicBezTo>
                  <a:pt x="15889" y="6789"/>
                  <a:pt x="15889" y="6789"/>
                  <a:pt x="15889" y="6789"/>
                </a:cubicBezTo>
                <a:cubicBezTo>
                  <a:pt x="15883" y="6789"/>
                  <a:pt x="15883" y="6789"/>
                  <a:pt x="15877" y="6795"/>
                </a:cubicBezTo>
                <a:close/>
                <a:moveTo>
                  <a:pt x="15699" y="6676"/>
                </a:moveTo>
                <a:lnTo>
                  <a:pt x="15699" y="6676"/>
                </a:lnTo>
                <a:cubicBezTo>
                  <a:pt x="15705" y="6682"/>
                  <a:pt x="15711" y="6688"/>
                  <a:pt x="15723" y="6694"/>
                </a:cubicBezTo>
                <a:cubicBezTo>
                  <a:pt x="15747" y="6694"/>
                  <a:pt x="15759" y="6694"/>
                  <a:pt x="15782" y="6694"/>
                </a:cubicBezTo>
                <a:cubicBezTo>
                  <a:pt x="15794" y="6694"/>
                  <a:pt x="15794" y="6694"/>
                  <a:pt x="15794" y="6694"/>
                </a:cubicBezTo>
                <a:cubicBezTo>
                  <a:pt x="15812" y="6694"/>
                  <a:pt x="15824" y="6694"/>
                  <a:pt x="15842" y="6694"/>
                </a:cubicBezTo>
                <a:cubicBezTo>
                  <a:pt x="15847" y="6694"/>
                  <a:pt x="15853" y="6688"/>
                  <a:pt x="15853" y="6688"/>
                </a:cubicBezTo>
                <a:cubicBezTo>
                  <a:pt x="15859" y="6688"/>
                  <a:pt x="15865" y="6688"/>
                  <a:pt x="15865" y="6688"/>
                </a:cubicBezTo>
                <a:cubicBezTo>
                  <a:pt x="15871" y="6688"/>
                  <a:pt x="15871" y="6688"/>
                  <a:pt x="15877" y="6688"/>
                </a:cubicBezTo>
                <a:cubicBezTo>
                  <a:pt x="15883" y="6688"/>
                  <a:pt x="15883" y="6682"/>
                  <a:pt x="15889" y="6682"/>
                </a:cubicBezTo>
                <a:cubicBezTo>
                  <a:pt x="15895" y="6676"/>
                  <a:pt x="15895" y="6670"/>
                  <a:pt x="15901" y="6670"/>
                </a:cubicBezTo>
                <a:cubicBezTo>
                  <a:pt x="15907" y="6670"/>
                  <a:pt x="15907" y="6670"/>
                  <a:pt x="15913" y="6670"/>
                </a:cubicBezTo>
                <a:cubicBezTo>
                  <a:pt x="15919" y="6670"/>
                  <a:pt x="15925" y="6670"/>
                  <a:pt x="15936" y="6670"/>
                </a:cubicBezTo>
                <a:cubicBezTo>
                  <a:pt x="15942" y="6670"/>
                  <a:pt x="15942" y="6670"/>
                  <a:pt x="15948" y="6670"/>
                </a:cubicBezTo>
                <a:cubicBezTo>
                  <a:pt x="15954" y="6670"/>
                  <a:pt x="15954" y="6664"/>
                  <a:pt x="15960" y="6658"/>
                </a:cubicBezTo>
                <a:cubicBezTo>
                  <a:pt x="15954" y="6652"/>
                  <a:pt x="15954" y="6652"/>
                  <a:pt x="15954" y="6652"/>
                </a:cubicBezTo>
                <a:cubicBezTo>
                  <a:pt x="15948" y="6652"/>
                  <a:pt x="15948" y="6647"/>
                  <a:pt x="15942" y="6652"/>
                </a:cubicBezTo>
                <a:cubicBezTo>
                  <a:pt x="15936" y="6652"/>
                  <a:pt x="15936" y="6658"/>
                  <a:pt x="15930" y="6658"/>
                </a:cubicBezTo>
                <a:cubicBezTo>
                  <a:pt x="15919" y="6658"/>
                  <a:pt x="15907" y="6658"/>
                  <a:pt x="15895" y="6658"/>
                </a:cubicBezTo>
                <a:cubicBezTo>
                  <a:pt x="15889" y="6658"/>
                  <a:pt x="15877" y="6664"/>
                  <a:pt x="15871" y="6664"/>
                </a:cubicBezTo>
                <a:cubicBezTo>
                  <a:pt x="15859" y="6664"/>
                  <a:pt x="15859" y="6664"/>
                  <a:pt x="15859" y="6664"/>
                </a:cubicBezTo>
                <a:cubicBezTo>
                  <a:pt x="15853" y="6664"/>
                  <a:pt x="15853" y="6664"/>
                  <a:pt x="15847" y="6664"/>
                </a:cubicBezTo>
                <a:cubicBezTo>
                  <a:pt x="15847" y="6664"/>
                  <a:pt x="15842" y="6664"/>
                  <a:pt x="15836" y="6664"/>
                </a:cubicBezTo>
                <a:cubicBezTo>
                  <a:pt x="15830" y="6670"/>
                  <a:pt x="15830" y="6670"/>
                  <a:pt x="15818" y="6670"/>
                </a:cubicBezTo>
                <a:cubicBezTo>
                  <a:pt x="15812" y="6670"/>
                  <a:pt x="15812" y="6670"/>
                  <a:pt x="15806" y="6670"/>
                </a:cubicBezTo>
                <a:cubicBezTo>
                  <a:pt x="15800" y="6670"/>
                  <a:pt x="15794" y="6658"/>
                  <a:pt x="15788" y="6658"/>
                </a:cubicBezTo>
                <a:cubicBezTo>
                  <a:pt x="15782" y="6658"/>
                  <a:pt x="15776" y="6658"/>
                  <a:pt x="15764" y="6652"/>
                </a:cubicBezTo>
                <a:cubicBezTo>
                  <a:pt x="15759" y="6652"/>
                  <a:pt x="15759" y="6652"/>
                  <a:pt x="15747" y="6652"/>
                </a:cubicBezTo>
                <a:cubicBezTo>
                  <a:pt x="15741" y="6652"/>
                  <a:pt x="15741" y="6652"/>
                  <a:pt x="15735" y="6652"/>
                </a:cubicBezTo>
                <a:cubicBezTo>
                  <a:pt x="15729" y="6658"/>
                  <a:pt x="15723" y="6658"/>
                  <a:pt x="15717" y="6658"/>
                </a:cubicBezTo>
                <a:cubicBezTo>
                  <a:pt x="15711" y="6664"/>
                  <a:pt x="15711" y="6670"/>
                  <a:pt x="15705" y="6670"/>
                </a:cubicBezTo>
                <a:cubicBezTo>
                  <a:pt x="15687" y="6670"/>
                  <a:pt x="15687" y="6670"/>
                  <a:pt x="15687" y="6670"/>
                </a:cubicBezTo>
                <a:lnTo>
                  <a:pt x="15699" y="6676"/>
                </a:lnTo>
                <a:close/>
                <a:moveTo>
                  <a:pt x="15676" y="6712"/>
                </a:moveTo>
                <a:lnTo>
                  <a:pt x="15676" y="6712"/>
                </a:lnTo>
                <a:cubicBezTo>
                  <a:pt x="15670" y="6718"/>
                  <a:pt x="15664" y="6718"/>
                  <a:pt x="15658" y="6724"/>
                </a:cubicBezTo>
                <a:cubicBezTo>
                  <a:pt x="15658" y="6730"/>
                  <a:pt x="15658" y="6730"/>
                  <a:pt x="15664" y="6735"/>
                </a:cubicBezTo>
                <a:cubicBezTo>
                  <a:pt x="15664" y="6741"/>
                  <a:pt x="15670" y="6741"/>
                  <a:pt x="15670" y="6741"/>
                </a:cubicBezTo>
                <a:cubicBezTo>
                  <a:pt x="15676" y="6747"/>
                  <a:pt x="15676" y="6753"/>
                  <a:pt x="15676" y="6753"/>
                </a:cubicBezTo>
                <a:cubicBezTo>
                  <a:pt x="15681" y="6759"/>
                  <a:pt x="15681" y="6765"/>
                  <a:pt x="15687" y="6765"/>
                </a:cubicBezTo>
                <a:cubicBezTo>
                  <a:pt x="15693" y="6771"/>
                  <a:pt x="15693" y="6771"/>
                  <a:pt x="15699" y="6771"/>
                </a:cubicBezTo>
                <a:cubicBezTo>
                  <a:pt x="15711" y="6771"/>
                  <a:pt x="15717" y="6771"/>
                  <a:pt x="15723" y="6771"/>
                </a:cubicBezTo>
                <a:cubicBezTo>
                  <a:pt x="15741" y="6771"/>
                  <a:pt x="15747" y="6771"/>
                  <a:pt x="15759" y="6765"/>
                </a:cubicBezTo>
                <a:cubicBezTo>
                  <a:pt x="15759" y="6753"/>
                  <a:pt x="15759" y="6753"/>
                  <a:pt x="15759" y="6753"/>
                </a:cubicBezTo>
                <a:cubicBezTo>
                  <a:pt x="15753" y="6753"/>
                  <a:pt x="15753" y="6753"/>
                  <a:pt x="15747" y="6753"/>
                </a:cubicBezTo>
                <a:cubicBezTo>
                  <a:pt x="15741" y="6753"/>
                  <a:pt x="15735" y="6747"/>
                  <a:pt x="15735" y="6747"/>
                </a:cubicBezTo>
                <a:cubicBezTo>
                  <a:pt x="15729" y="6741"/>
                  <a:pt x="15735" y="6735"/>
                  <a:pt x="15729" y="6735"/>
                </a:cubicBezTo>
                <a:cubicBezTo>
                  <a:pt x="15729" y="6735"/>
                  <a:pt x="15723" y="6735"/>
                  <a:pt x="15717" y="6730"/>
                </a:cubicBezTo>
                <a:cubicBezTo>
                  <a:pt x="15717" y="6730"/>
                  <a:pt x="15711" y="6730"/>
                  <a:pt x="15705" y="6730"/>
                </a:cubicBezTo>
                <a:cubicBezTo>
                  <a:pt x="15699" y="6730"/>
                  <a:pt x="15699" y="6724"/>
                  <a:pt x="15699" y="6718"/>
                </a:cubicBezTo>
                <a:cubicBezTo>
                  <a:pt x="15693" y="6718"/>
                  <a:pt x="15681" y="6712"/>
                  <a:pt x="15676" y="6712"/>
                </a:cubicBezTo>
                <a:close/>
                <a:moveTo>
                  <a:pt x="15533" y="6664"/>
                </a:moveTo>
                <a:lnTo>
                  <a:pt x="15533" y="6664"/>
                </a:lnTo>
                <a:cubicBezTo>
                  <a:pt x="15527" y="6664"/>
                  <a:pt x="15515" y="6670"/>
                  <a:pt x="15515" y="6676"/>
                </a:cubicBezTo>
                <a:cubicBezTo>
                  <a:pt x="15515" y="6682"/>
                  <a:pt x="15521" y="6682"/>
                  <a:pt x="15527" y="6688"/>
                </a:cubicBezTo>
                <a:cubicBezTo>
                  <a:pt x="15533" y="6700"/>
                  <a:pt x="15545" y="6694"/>
                  <a:pt x="15563" y="6694"/>
                </a:cubicBezTo>
                <a:cubicBezTo>
                  <a:pt x="15569" y="6694"/>
                  <a:pt x="15575" y="6694"/>
                  <a:pt x="15581" y="6694"/>
                </a:cubicBezTo>
                <a:cubicBezTo>
                  <a:pt x="15587" y="6688"/>
                  <a:pt x="15592" y="6688"/>
                  <a:pt x="15592" y="6688"/>
                </a:cubicBezTo>
                <a:cubicBezTo>
                  <a:pt x="15598" y="6682"/>
                  <a:pt x="15598" y="6676"/>
                  <a:pt x="15604" y="6676"/>
                </a:cubicBezTo>
                <a:cubicBezTo>
                  <a:pt x="15610" y="6670"/>
                  <a:pt x="15622" y="6676"/>
                  <a:pt x="15628" y="6676"/>
                </a:cubicBezTo>
                <a:cubicBezTo>
                  <a:pt x="15640" y="6676"/>
                  <a:pt x="15646" y="6676"/>
                  <a:pt x="15658" y="6676"/>
                </a:cubicBezTo>
                <a:lnTo>
                  <a:pt x="15664" y="6676"/>
                </a:lnTo>
                <a:lnTo>
                  <a:pt x="15664" y="6676"/>
                </a:lnTo>
                <a:cubicBezTo>
                  <a:pt x="15658" y="6670"/>
                  <a:pt x="15664" y="6664"/>
                  <a:pt x="15664" y="6658"/>
                </a:cubicBezTo>
                <a:cubicBezTo>
                  <a:pt x="15652" y="6658"/>
                  <a:pt x="15646" y="6664"/>
                  <a:pt x="15640" y="6658"/>
                </a:cubicBezTo>
                <a:cubicBezTo>
                  <a:pt x="15634" y="6658"/>
                  <a:pt x="15634" y="6658"/>
                  <a:pt x="15628" y="6652"/>
                </a:cubicBezTo>
                <a:cubicBezTo>
                  <a:pt x="15622" y="6652"/>
                  <a:pt x="15616" y="6658"/>
                  <a:pt x="15616" y="6652"/>
                </a:cubicBezTo>
                <a:cubicBezTo>
                  <a:pt x="15610" y="6652"/>
                  <a:pt x="15604" y="6652"/>
                  <a:pt x="15598" y="6652"/>
                </a:cubicBezTo>
                <a:cubicBezTo>
                  <a:pt x="15587" y="6652"/>
                  <a:pt x="15587" y="6652"/>
                  <a:pt x="15581" y="6652"/>
                </a:cubicBezTo>
                <a:cubicBezTo>
                  <a:pt x="15575" y="6652"/>
                  <a:pt x="15569" y="6658"/>
                  <a:pt x="15569" y="6658"/>
                </a:cubicBezTo>
                <a:cubicBezTo>
                  <a:pt x="15563" y="6658"/>
                  <a:pt x="15563" y="6664"/>
                  <a:pt x="15557" y="6664"/>
                </a:cubicBezTo>
                <a:cubicBezTo>
                  <a:pt x="15551" y="6664"/>
                  <a:pt x="15545" y="6664"/>
                  <a:pt x="15533" y="6664"/>
                </a:cubicBezTo>
                <a:close/>
                <a:moveTo>
                  <a:pt x="14917" y="6569"/>
                </a:moveTo>
                <a:lnTo>
                  <a:pt x="14917" y="6569"/>
                </a:lnTo>
                <a:cubicBezTo>
                  <a:pt x="14917" y="6581"/>
                  <a:pt x="14917" y="6581"/>
                  <a:pt x="14917" y="6581"/>
                </a:cubicBezTo>
                <a:cubicBezTo>
                  <a:pt x="14952" y="6581"/>
                  <a:pt x="14952" y="6581"/>
                  <a:pt x="14952" y="6581"/>
                </a:cubicBezTo>
                <a:cubicBezTo>
                  <a:pt x="14952" y="6605"/>
                  <a:pt x="14952" y="6605"/>
                  <a:pt x="14952" y="6605"/>
                </a:cubicBezTo>
                <a:cubicBezTo>
                  <a:pt x="14958" y="6605"/>
                  <a:pt x="14964" y="6605"/>
                  <a:pt x="14970" y="6605"/>
                </a:cubicBezTo>
                <a:cubicBezTo>
                  <a:pt x="14976" y="6605"/>
                  <a:pt x="14982" y="6605"/>
                  <a:pt x="14982" y="6605"/>
                </a:cubicBezTo>
                <a:cubicBezTo>
                  <a:pt x="14994" y="6611"/>
                  <a:pt x="14994" y="6611"/>
                  <a:pt x="14994" y="6611"/>
                </a:cubicBezTo>
                <a:cubicBezTo>
                  <a:pt x="15000" y="6617"/>
                  <a:pt x="15000" y="6623"/>
                  <a:pt x="15005" y="6623"/>
                </a:cubicBezTo>
                <a:cubicBezTo>
                  <a:pt x="15005" y="6629"/>
                  <a:pt x="15012" y="6635"/>
                  <a:pt x="15017" y="6635"/>
                </a:cubicBezTo>
                <a:cubicBezTo>
                  <a:pt x="15023" y="6641"/>
                  <a:pt x="15023" y="6641"/>
                  <a:pt x="15035" y="6641"/>
                </a:cubicBezTo>
                <a:cubicBezTo>
                  <a:pt x="15047" y="6641"/>
                  <a:pt x="15047" y="6629"/>
                  <a:pt x="15059" y="6629"/>
                </a:cubicBezTo>
                <a:cubicBezTo>
                  <a:pt x="15065" y="6629"/>
                  <a:pt x="15071" y="6629"/>
                  <a:pt x="15071" y="6629"/>
                </a:cubicBezTo>
                <a:cubicBezTo>
                  <a:pt x="15083" y="6629"/>
                  <a:pt x="15089" y="6629"/>
                  <a:pt x="15094" y="6629"/>
                </a:cubicBezTo>
                <a:cubicBezTo>
                  <a:pt x="15106" y="6629"/>
                  <a:pt x="15112" y="6623"/>
                  <a:pt x="15118" y="6623"/>
                </a:cubicBezTo>
                <a:cubicBezTo>
                  <a:pt x="15130" y="6623"/>
                  <a:pt x="15136" y="6623"/>
                  <a:pt x="15142" y="6629"/>
                </a:cubicBezTo>
                <a:cubicBezTo>
                  <a:pt x="15148" y="6629"/>
                  <a:pt x="15148" y="6635"/>
                  <a:pt x="15148" y="6641"/>
                </a:cubicBezTo>
                <a:cubicBezTo>
                  <a:pt x="15154" y="6641"/>
                  <a:pt x="15154" y="6647"/>
                  <a:pt x="15160" y="6647"/>
                </a:cubicBezTo>
                <a:cubicBezTo>
                  <a:pt x="15166" y="6647"/>
                  <a:pt x="15166" y="6647"/>
                  <a:pt x="15171" y="6647"/>
                </a:cubicBezTo>
                <a:cubicBezTo>
                  <a:pt x="15183" y="6647"/>
                  <a:pt x="15189" y="6647"/>
                  <a:pt x="15195" y="6647"/>
                </a:cubicBezTo>
                <a:cubicBezTo>
                  <a:pt x="15207" y="6647"/>
                  <a:pt x="15213" y="6647"/>
                  <a:pt x="15225" y="6647"/>
                </a:cubicBezTo>
                <a:cubicBezTo>
                  <a:pt x="15237" y="6652"/>
                  <a:pt x="15237" y="6658"/>
                  <a:pt x="15249" y="6664"/>
                </a:cubicBezTo>
                <a:cubicBezTo>
                  <a:pt x="15255" y="6664"/>
                  <a:pt x="15255" y="6670"/>
                  <a:pt x="15260" y="6670"/>
                </a:cubicBezTo>
                <a:cubicBezTo>
                  <a:pt x="15260" y="6670"/>
                  <a:pt x="15266" y="6670"/>
                  <a:pt x="15272" y="6670"/>
                </a:cubicBezTo>
                <a:cubicBezTo>
                  <a:pt x="15284" y="6676"/>
                  <a:pt x="15290" y="6676"/>
                  <a:pt x="15296" y="6676"/>
                </a:cubicBezTo>
                <a:cubicBezTo>
                  <a:pt x="15296" y="6670"/>
                  <a:pt x="15296" y="6670"/>
                  <a:pt x="15296" y="6664"/>
                </a:cubicBezTo>
                <a:cubicBezTo>
                  <a:pt x="15296" y="6658"/>
                  <a:pt x="15302" y="6658"/>
                  <a:pt x="15302" y="6652"/>
                </a:cubicBezTo>
                <a:cubicBezTo>
                  <a:pt x="15308" y="6652"/>
                  <a:pt x="15314" y="6652"/>
                  <a:pt x="15314" y="6652"/>
                </a:cubicBezTo>
                <a:cubicBezTo>
                  <a:pt x="15320" y="6652"/>
                  <a:pt x="15320" y="6658"/>
                  <a:pt x="15326" y="6658"/>
                </a:cubicBezTo>
                <a:cubicBezTo>
                  <a:pt x="15332" y="6664"/>
                  <a:pt x="15332" y="6658"/>
                  <a:pt x="15337" y="6658"/>
                </a:cubicBezTo>
                <a:cubicBezTo>
                  <a:pt x="15349" y="6658"/>
                  <a:pt x="15349" y="6658"/>
                  <a:pt x="15349" y="6658"/>
                </a:cubicBezTo>
                <a:cubicBezTo>
                  <a:pt x="15355" y="6658"/>
                  <a:pt x="15361" y="6652"/>
                  <a:pt x="15367" y="6652"/>
                </a:cubicBezTo>
                <a:cubicBezTo>
                  <a:pt x="15373" y="6652"/>
                  <a:pt x="15379" y="6658"/>
                  <a:pt x="15385" y="6658"/>
                </a:cubicBezTo>
                <a:cubicBezTo>
                  <a:pt x="15391" y="6664"/>
                  <a:pt x="15397" y="6664"/>
                  <a:pt x="15397" y="6664"/>
                </a:cubicBezTo>
                <a:cubicBezTo>
                  <a:pt x="15403" y="6664"/>
                  <a:pt x="15403" y="6670"/>
                  <a:pt x="15409" y="6676"/>
                </a:cubicBezTo>
                <a:cubicBezTo>
                  <a:pt x="15415" y="6682"/>
                  <a:pt x="15421" y="6688"/>
                  <a:pt x="15426" y="6688"/>
                </a:cubicBezTo>
                <a:cubicBezTo>
                  <a:pt x="15438" y="6694"/>
                  <a:pt x="15444" y="6694"/>
                  <a:pt x="15456" y="6694"/>
                </a:cubicBezTo>
                <a:cubicBezTo>
                  <a:pt x="15468" y="6694"/>
                  <a:pt x="15468" y="6694"/>
                  <a:pt x="15468" y="6694"/>
                </a:cubicBezTo>
                <a:cubicBezTo>
                  <a:pt x="15474" y="6694"/>
                  <a:pt x="15474" y="6688"/>
                  <a:pt x="15480" y="6688"/>
                </a:cubicBezTo>
                <a:cubicBezTo>
                  <a:pt x="15474" y="6676"/>
                  <a:pt x="15468" y="6670"/>
                  <a:pt x="15468" y="6664"/>
                </a:cubicBezTo>
                <a:cubicBezTo>
                  <a:pt x="15462" y="6658"/>
                  <a:pt x="15462" y="6652"/>
                  <a:pt x="15456" y="6652"/>
                </a:cubicBezTo>
                <a:cubicBezTo>
                  <a:pt x="15450" y="6652"/>
                  <a:pt x="15450" y="6652"/>
                  <a:pt x="15444" y="6652"/>
                </a:cubicBezTo>
                <a:cubicBezTo>
                  <a:pt x="15432" y="6647"/>
                  <a:pt x="15426" y="6641"/>
                  <a:pt x="15426" y="6629"/>
                </a:cubicBezTo>
                <a:cubicBezTo>
                  <a:pt x="15337" y="6629"/>
                  <a:pt x="15337" y="6629"/>
                  <a:pt x="15337" y="6629"/>
                </a:cubicBezTo>
                <a:cubicBezTo>
                  <a:pt x="15337" y="6629"/>
                  <a:pt x="15332" y="6623"/>
                  <a:pt x="15337" y="6617"/>
                </a:cubicBezTo>
                <a:cubicBezTo>
                  <a:pt x="15337" y="6611"/>
                  <a:pt x="15337" y="6611"/>
                  <a:pt x="15344" y="6605"/>
                </a:cubicBezTo>
                <a:lnTo>
                  <a:pt x="15349" y="6605"/>
                </a:lnTo>
                <a:cubicBezTo>
                  <a:pt x="15361" y="6599"/>
                  <a:pt x="15367" y="6605"/>
                  <a:pt x="15373" y="6605"/>
                </a:cubicBezTo>
                <a:cubicBezTo>
                  <a:pt x="15385" y="6605"/>
                  <a:pt x="15391" y="6599"/>
                  <a:pt x="15397" y="6593"/>
                </a:cubicBezTo>
                <a:cubicBezTo>
                  <a:pt x="15391" y="6593"/>
                  <a:pt x="15385" y="6593"/>
                  <a:pt x="15373" y="6587"/>
                </a:cubicBezTo>
                <a:cubicBezTo>
                  <a:pt x="15373" y="6587"/>
                  <a:pt x="15367" y="6587"/>
                  <a:pt x="15361" y="6581"/>
                </a:cubicBezTo>
                <a:cubicBezTo>
                  <a:pt x="15361" y="6581"/>
                  <a:pt x="15355" y="6587"/>
                  <a:pt x="15349" y="6581"/>
                </a:cubicBezTo>
                <a:cubicBezTo>
                  <a:pt x="15344" y="6581"/>
                  <a:pt x="15337" y="6575"/>
                  <a:pt x="15326" y="6575"/>
                </a:cubicBezTo>
                <a:cubicBezTo>
                  <a:pt x="15320" y="6575"/>
                  <a:pt x="15314" y="6581"/>
                  <a:pt x="15302" y="6581"/>
                </a:cubicBezTo>
                <a:cubicBezTo>
                  <a:pt x="15296" y="6581"/>
                  <a:pt x="15296" y="6575"/>
                  <a:pt x="15290" y="6575"/>
                </a:cubicBezTo>
                <a:cubicBezTo>
                  <a:pt x="15278" y="6575"/>
                  <a:pt x="15266" y="6581"/>
                  <a:pt x="15255" y="6575"/>
                </a:cubicBezTo>
                <a:cubicBezTo>
                  <a:pt x="15249" y="6575"/>
                  <a:pt x="15243" y="6569"/>
                  <a:pt x="15231" y="6563"/>
                </a:cubicBezTo>
                <a:cubicBezTo>
                  <a:pt x="15225" y="6563"/>
                  <a:pt x="15219" y="6558"/>
                  <a:pt x="15207" y="6558"/>
                </a:cubicBezTo>
                <a:lnTo>
                  <a:pt x="14917" y="6569"/>
                </a:lnTo>
                <a:close/>
                <a:moveTo>
                  <a:pt x="14739" y="6486"/>
                </a:moveTo>
                <a:lnTo>
                  <a:pt x="14739" y="6486"/>
                </a:lnTo>
                <a:cubicBezTo>
                  <a:pt x="14739" y="6486"/>
                  <a:pt x="14733" y="6492"/>
                  <a:pt x="14733" y="6498"/>
                </a:cubicBezTo>
                <a:lnTo>
                  <a:pt x="14733" y="6504"/>
                </a:lnTo>
                <a:cubicBezTo>
                  <a:pt x="14745" y="6516"/>
                  <a:pt x="14745" y="6516"/>
                  <a:pt x="14745" y="6516"/>
                </a:cubicBezTo>
                <a:cubicBezTo>
                  <a:pt x="14745" y="6504"/>
                  <a:pt x="14745" y="6504"/>
                  <a:pt x="14745" y="6504"/>
                </a:cubicBezTo>
                <a:cubicBezTo>
                  <a:pt x="14745" y="6498"/>
                  <a:pt x="14739" y="6498"/>
                  <a:pt x="14739" y="6498"/>
                </a:cubicBezTo>
                <a:lnTo>
                  <a:pt x="14739" y="6486"/>
                </a:lnTo>
                <a:close/>
                <a:moveTo>
                  <a:pt x="15148" y="6095"/>
                </a:moveTo>
                <a:lnTo>
                  <a:pt x="15148" y="6095"/>
                </a:lnTo>
                <a:cubicBezTo>
                  <a:pt x="15136" y="6095"/>
                  <a:pt x="15136" y="6095"/>
                  <a:pt x="15136" y="6095"/>
                </a:cubicBezTo>
                <a:cubicBezTo>
                  <a:pt x="15130" y="6095"/>
                  <a:pt x="15130" y="6095"/>
                  <a:pt x="15124" y="6101"/>
                </a:cubicBezTo>
                <a:cubicBezTo>
                  <a:pt x="15124" y="6119"/>
                  <a:pt x="15124" y="6131"/>
                  <a:pt x="15118" y="6142"/>
                </a:cubicBezTo>
                <a:cubicBezTo>
                  <a:pt x="15118" y="6149"/>
                  <a:pt x="15106" y="6149"/>
                  <a:pt x="15106" y="6154"/>
                </a:cubicBezTo>
                <a:cubicBezTo>
                  <a:pt x="15106" y="6154"/>
                  <a:pt x="15106" y="6160"/>
                  <a:pt x="15106" y="6166"/>
                </a:cubicBezTo>
                <a:cubicBezTo>
                  <a:pt x="15100" y="6172"/>
                  <a:pt x="15106" y="6178"/>
                  <a:pt x="15106" y="6190"/>
                </a:cubicBezTo>
                <a:cubicBezTo>
                  <a:pt x="15106" y="6202"/>
                  <a:pt x="15100" y="6208"/>
                  <a:pt x="15106" y="6214"/>
                </a:cubicBezTo>
                <a:cubicBezTo>
                  <a:pt x="15106" y="6220"/>
                  <a:pt x="15106" y="6226"/>
                  <a:pt x="15106" y="6226"/>
                </a:cubicBezTo>
                <a:cubicBezTo>
                  <a:pt x="15112" y="6231"/>
                  <a:pt x="15112" y="6231"/>
                  <a:pt x="15118" y="6237"/>
                </a:cubicBezTo>
                <a:cubicBezTo>
                  <a:pt x="15124" y="6243"/>
                  <a:pt x="15136" y="6243"/>
                  <a:pt x="15142" y="6249"/>
                </a:cubicBezTo>
                <a:cubicBezTo>
                  <a:pt x="15148" y="6249"/>
                  <a:pt x="15148" y="6255"/>
                  <a:pt x="15148" y="6261"/>
                </a:cubicBezTo>
                <a:cubicBezTo>
                  <a:pt x="15154" y="6261"/>
                  <a:pt x="15160" y="6261"/>
                  <a:pt x="15160" y="6267"/>
                </a:cubicBezTo>
                <a:cubicBezTo>
                  <a:pt x="15166" y="6273"/>
                  <a:pt x="15160" y="6279"/>
                  <a:pt x="15160" y="6285"/>
                </a:cubicBezTo>
                <a:cubicBezTo>
                  <a:pt x="15160" y="6285"/>
                  <a:pt x="15160" y="6285"/>
                  <a:pt x="15160" y="6291"/>
                </a:cubicBezTo>
                <a:cubicBezTo>
                  <a:pt x="15160" y="6303"/>
                  <a:pt x="15160" y="6303"/>
                  <a:pt x="15160" y="6303"/>
                </a:cubicBezTo>
                <a:cubicBezTo>
                  <a:pt x="15160" y="6309"/>
                  <a:pt x="15154" y="6309"/>
                  <a:pt x="15154" y="6320"/>
                </a:cubicBezTo>
                <a:cubicBezTo>
                  <a:pt x="15154" y="6326"/>
                  <a:pt x="15160" y="6332"/>
                  <a:pt x="15160" y="6338"/>
                </a:cubicBezTo>
                <a:lnTo>
                  <a:pt x="15160" y="6344"/>
                </a:lnTo>
                <a:cubicBezTo>
                  <a:pt x="15166" y="6350"/>
                  <a:pt x="15166" y="6356"/>
                  <a:pt x="15171" y="6356"/>
                </a:cubicBezTo>
                <a:cubicBezTo>
                  <a:pt x="15171" y="6362"/>
                  <a:pt x="15178" y="6362"/>
                  <a:pt x="15183" y="6362"/>
                </a:cubicBezTo>
                <a:cubicBezTo>
                  <a:pt x="15189" y="6368"/>
                  <a:pt x="15195" y="6368"/>
                  <a:pt x="15201" y="6368"/>
                </a:cubicBezTo>
                <a:cubicBezTo>
                  <a:pt x="15213" y="6368"/>
                  <a:pt x="15219" y="6368"/>
                  <a:pt x="15231" y="6368"/>
                </a:cubicBezTo>
                <a:cubicBezTo>
                  <a:pt x="15231" y="6368"/>
                  <a:pt x="15237" y="6368"/>
                  <a:pt x="15243" y="6368"/>
                </a:cubicBezTo>
                <a:cubicBezTo>
                  <a:pt x="15243" y="6374"/>
                  <a:pt x="15243" y="6380"/>
                  <a:pt x="15243" y="6380"/>
                </a:cubicBezTo>
                <a:cubicBezTo>
                  <a:pt x="15249" y="6386"/>
                  <a:pt x="15255" y="6397"/>
                  <a:pt x="15266" y="6397"/>
                </a:cubicBezTo>
                <a:cubicBezTo>
                  <a:pt x="15272" y="6397"/>
                  <a:pt x="15278" y="6397"/>
                  <a:pt x="15284" y="6397"/>
                </a:cubicBezTo>
                <a:cubicBezTo>
                  <a:pt x="15296" y="6397"/>
                  <a:pt x="15302" y="6397"/>
                  <a:pt x="15308" y="6397"/>
                </a:cubicBezTo>
                <a:cubicBezTo>
                  <a:pt x="15320" y="6397"/>
                  <a:pt x="15326" y="6386"/>
                  <a:pt x="15337" y="6386"/>
                </a:cubicBezTo>
                <a:cubicBezTo>
                  <a:pt x="15344" y="6386"/>
                  <a:pt x="15349" y="6386"/>
                  <a:pt x="15355" y="6386"/>
                </a:cubicBezTo>
                <a:cubicBezTo>
                  <a:pt x="15361" y="6392"/>
                  <a:pt x="15361" y="6392"/>
                  <a:pt x="15367" y="6397"/>
                </a:cubicBezTo>
                <a:cubicBezTo>
                  <a:pt x="15373" y="6397"/>
                  <a:pt x="15367" y="6409"/>
                  <a:pt x="15373" y="6409"/>
                </a:cubicBezTo>
                <a:cubicBezTo>
                  <a:pt x="15385" y="6409"/>
                  <a:pt x="15385" y="6397"/>
                  <a:pt x="15391" y="6397"/>
                </a:cubicBezTo>
                <a:cubicBezTo>
                  <a:pt x="15403" y="6397"/>
                  <a:pt x="15415" y="6409"/>
                  <a:pt x="15421" y="6415"/>
                </a:cubicBezTo>
                <a:cubicBezTo>
                  <a:pt x="15426" y="6421"/>
                  <a:pt x="15426" y="6427"/>
                  <a:pt x="15432" y="6427"/>
                </a:cubicBezTo>
                <a:cubicBezTo>
                  <a:pt x="15438" y="6427"/>
                  <a:pt x="15438" y="6427"/>
                  <a:pt x="15444" y="6427"/>
                </a:cubicBezTo>
                <a:cubicBezTo>
                  <a:pt x="15450" y="6433"/>
                  <a:pt x="15456" y="6427"/>
                  <a:pt x="15462" y="6427"/>
                </a:cubicBezTo>
                <a:cubicBezTo>
                  <a:pt x="15480" y="6427"/>
                  <a:pt x="15480" y="6427"/>
                  <a:pt x="15480" y="6427"/>
                </a:cubicBezTo>
                <a:cubicBezTo>
                  <a:pt x="15480" y="6427"/>
                  <a:pt x="15480" y="6427"/>
                  <a:pt x="15486" y="6427"/>
                </a:cubicBezTo>
                <a:cubicBezTo>
                  <a:pt x="15486" y="6403"/>
                  <a:pt x="15486" y="6403"/>
                  <a:pt x="15486" y="6403"/>
                </a:cubicBezTo>
                <a:cubicBezTo>
                  <a:pt x="15486" y="6397"/>
                  <a:pt x="15486" y="6397"/>
                  <a:pt x="15486" y="6392"/>
                </a:cubicBezTo>
                <a:cubicBezTo>
                  <a:pt x="15492" y="6392"/>
                  <a:pt x="15492" y="6392"/>
                  <a:pt x="15498" y="6386"/>
                </a:cubicBezTo>
                <a:cubicBezTo>
                  <a:pt x="15504" y="6386"/>
                  <a:pt x="15504" y="6386"/>
                  <a:pt x="15510" y="6380"/>
                </a:cubicBezTo>
                <a:cubicBezTo>
                  <a:pt x="15515" y="6380"/>
                  <a:pt x="15515" y="6374"/>
                  <a:pt x="15515" y="6362"/>
                </a:cubicBezTo>
                <a:cubicBezTo>
                  <a:pt x="15515" y="6356"/>
                  <a:pt x="15515" y="6350"/>
                  <a:pt x="15515" y="6344"/>
                </a:cubicBezTo>
                <a:cubicBezTo>
                  <a:pt x="15515" y="6344"/>
                  <a:pt x="15510" y="6338"/>
                  <a:pt x="15504" y="6338"/>
                </a:cubicBezTo>
                <a:cubicBezTo>
                  <a:pt x="15504" y="6332"/>
                  <a:pt x="15504" y="6326"/>
                  <a:pt x="15504" y="6320"/>
                </a:cubicBezTo>
                <a:cubicBezTo>
                  <a:pt x="15504" y="6315"/>
                  <a:pt x="15510" y="6315"/>
                  <a:pt x="15510" y="6309"/>
                </a:cubicBezTo>
                <a:cubicBezTo>
                  <a:pt x="15510" y="6309"/>
                  <a:pt x="15515" y="6303"/>
                  <a:pt x="15521" y="6303"/>
                </a:cubicBezTo>
                <a:cubicBezTo>
                  <a:pt x="15521" y="6297"/>
                  <a:pt x="15527" y="6291"/>
                  <a:pt x="15527" y="6291"/>
                </a:cubicBezTo>
                <a:cubicBezTo>
                  <a:pt x="15527" y="6285"/>
                  <a:pt x="15533" y="6279"/>
                  <a:pt x="15533" y="6273"/>
                </a:cubicBezTo>
                <a:cubicBezTo>
                  <a:pt x="15539" y="6261"/>
                  <a:pt x="15539" y="6255"/>
                  <a:pt x="15545" y="6243"/>
                </a:cubicBezTo>
                <a:cubicBezTo>
                  <a:pt x="15581" y="6243"/>
                  <a:pt x="15581" y="6243"/>
                  <a:pt x="15581" y="6243"/>
                </a:cubicBezTo>
                <a:cubicBezTo>
                  <a:pt x="15581" y="6184"/>
                  <a:pt x="15581" y="6184"/>
                  <a:pt x="15581" y="6184"/>
                </a:cubicBezTo>
                <a:cubicBezTo>
                  <a:pt x="15592" y="6184"/>
                  <a:pt x="15598" y="6184"/>
                  <a:pt x="15616" y="6184"/>
                </a:cubicBezTo>
                <a:cubicBezTo>
                  <a:pt x="15622" y="6184"/>
                  <a:pt x="15622" y="6178"/>
                  <a:pt x="15628" y="6178"/>
                </a:cubicBezTo>
                <a:cubicBezTo>
                  <a:pt x="15634" y="6178"/>
                  <a:pt x="15640" y="6172"/>
                  <a:pt x="15640" y="6166"/>
                </a:cubicBezTo>
                <a:cubicBezTo>
                  <a:pt x="15640" y="6166"/>
                  <a:pt x="15646" y="6160"/>
                  <a:pt x="15646" y="6154"/>
                </a:cubicBezTo>
                <a:cubicBezTo>
                  <a:pt x="15640" y="6154"/>
                  <a:pt x="15640" y="6142"/>
                  <a:pt x="15640" y="6142"/>
                </a:cubicBezTo>
                <a:cubicBezTo>
                  <a:pt x="15634" y="6142"/>
                  <a:pt x="15628" y="6142"/>
                  <a:pt x="15622" y="6142"/>
                </a:cubicBezTo>
                <a:cubicBezTo>
                  <a:pt x="15622" y="6142"/>
                  <a:pt x="15616" y="6142"/>
                  <a:pt x="15610" y="6142"/>
                </a:cubicBezTo>
                <a:cubicBezTo>
                  <a:pt x="15604" y="6142"/>
                  <a:pt x="15598" y="6142"/>
                  <a:pt x="15587" y="6142"/>
                </a:cubicBezTo>
                <a:cubicBezTo>
                  <a:pt x="15587" y="6137"/>
                  <a:pt x="15581" y="6131"/>
                  <a:pt x="15581" y="6125"/>
                </a:cubicBezTo>
                <a:cubicBezTo>
                  <a:pt x="15581" y="6119"/>
                  <a:pt x="15587" y="6119"/>
                  <a:pt x="15587" y="6113"/>
                </a:cubicBezTo>
                <a:cubicBezTo>
                  <a:pt x="15587" y="6095"/>
                  <a:pt x="15587" y="6095"/>
                  <a:pt x="15587" y="6095"/>
                </a:cubicBezTo>
                <a:cubicBezTo>
                  <a:pt x="15587" y="6089"/>
                  <a:pt x="15592" y="6083"/>
                  <a:pt x="15587" y="6077"/>
                </a:cubicBezTo>
                <a:cubicBezTo>
                  <a:pt x="15587" y="6071"/>
                  <a:pt x="15587" y="6071"/>
                  <a:pt x="15581" y="6065"/>
                </a:cubicBezTo>
                <a:cubicBezTo>
                  <a:pt x="15581" y="6060"/>
                  <a:pt x="15575" y="6054"/>
                  <a:pt x="15575" y="6048"/>
                </a:cubicBezTo>
                <a:cubicBezTo>
                  <a:pt x="15575" y="5988"/>
                  <a:pt x="15575" y="5988"/>
                  <a:pt x="15575" y="5988"/>
                </a:cubicBezTo>
                <a:cubicBezTo>
                  <a:pt x="15587" y="5988"/>
                  <a:pt x="15592" y="5988"/>
                  <a:pt x="15604" y="5988"/>
                </a:cubicBezTo>
                <a:cubicBezTo>
                  <a:pt x="15610" y="5988"/>
                  <a:pt x="15616" y="5988"/>
                  <a:pt x="15616" y="5988"/>
                </a:cubicBezTo>
                <a:cubicBezTo>
                  <a:pt x="15616" y="5983"/>
                  <a:pt x="15616" y="5976"/>
                  <a:pt x="15616" y="5971"/>
                </a:cubicBezTo>
                <a:cubicBezTo>
                  <a:pt x="15616" y="5971"/>
                  <a:pt x="15616" y="5965"/>
                  <a:pt x="15616" y="5959"/>
                </a:cubicBezTo>
                <a:cubicBezTo>
                  <a:pt x="15622" y="5959"/>
                  <a:pt x="15622" y="5953"/>
                  <a:pt x="15628" y="5953"/>
                </a:cubicBezTo>
                <a:cubicBezTo>
                  <a:pt x="15628" y="5947"/>
                  <a:pt x="15634" y="5953"/>
                  <a:pt x="15640" y="5953"/>
                </a:cubicBezTo>
                <a:cubicBezTo>
                  <a:pt x="15640" y="5947"/>
                  <a:pt x="15646" y="5941"/>
                  <a:pt x="15652" y="5941"/>
                </a:cubicBezTo>
                <a:cubicBezTo>
                  <a:pt x="15658" y="5935"/>
                  <a:pt x="15664" y="5935"/>
                  <a:pt x="15670" y="5929"/>
                </a:cubicBezTo>
                <a:cubicBezTo>
                  <a:pt x="15670" y="5923"/>
                  <a:pt x="15670" y="5911"/>
                  <a:pt x="15664" y="5905"/>
                </a:cubicBezTo>
                <a:cubicBezTo>
                  <a:pt x="15658" y="5899"/>
                  <a:pt x="15652" y="5899"/>
                  <a:pt x="15640" y="5899"/>
                </a:cubicBezTo>
                <a:cubicBezTo>
                  <a:pt x="15634" y="5899"/>
                  <a:pt x="15628" y="5899"/>
                  <a:pt x="15616" y="5899"/>
                </a:cubicBezTo>
                <a:cubicBezTo>
                  <a:pt x="15610" y="5899"/>
                  <a:pt x="15610" y="5905"/>
                  <a:pt x="15604" y="5899"/>
                </a:cubicBezTo>
                <a:cubicBezTo>
                  <a:pt x="15598" y="5899"/>
                  <a:pt x="15598" y="5894"/>
                  <a:pt x="15592" y="5894"/>
                </a:cubicBezTo>
                <a:cubicBezTo>
                  <a:pt x="15587" y="5894"/>
                  <a:pt x="15581" y="5894"/>
                  <a:pt x="15581" y="5888"/>
                </a:cubicBezTo>
                <a:cubicBezTo>
                  <a:pt x="15581" y="5882"/>
                  <a:pt x="15581" y="5882"/>
                  <a:pt x="15581" y="5876"/>
                </a:cubicBezTo>
                <a:cubicBezTo>
                  <a:pt x="15581" y="5870"/>
                  <a:pt x="15581" y="5870"/>
                  <a:pt x="15581" y="5864"/>
                </a:cubicBezTo>
                <a:cubicBezTo>
                  <a:pt x="15581" y="5858"/>
                  <a:pt x="15569" y="5858"/>
                  <a:pt x="15569" y="5858"/>
                </a:cubicBezTo>
                <a:cubicBezTo>
                  <a:pt x="15563" y="5846"/>
                  <a:pt x="15563" y="5840"/>
                  <a:pt x="15557" y="5834"/>
                </a:cubicBezTo>
                <a:cubicBezTo>
                  <a:pt x="15557" y="5828"/>
                  <a:pt x="15551" y="5834"/>
                  <a:pt x="15545" y="5828"/>
                </a:cubicBezTo>
                <a:cubicBezTo>
                  <a:pt x="15545" y="5828"/>
                  <a:pt x="15539" y="5828"/>
                  <a:pt x="15533" y="5828"/>
                </a:cubicBezTo>
                <a:cubicBezTo>
                  <a:pt x="15533" y="5828"/>
                  <a:pt x="15533" y="5834"/>
                  <a:pt x="15533" y="5840"/>
                </a:cubicBezTo>
                <a:cubicBezTo>
                  <a:pt x="15527" y="5846"/>
                  <a:pt x="15527" y="5846"/>
                  <a:pt x="15521" y="5852"/>
                </a:cubicBezTo>
                <a:cubicBezTo>
                  <a:pt x="15515" y="5852"/>
                  <a:pt x="15515" y="5858"/>
                  <a:pt x="15510" y="5864"/>
                </a:cubicBezTo>
                <a:cubicBezTo>
                  <a:pt x="15504" y="5864"/>
                  <a:pt x="15498" y="5864"/>
                  <a:pt x="15492" y="5870"/>
                </a:cubicBezTo>
                <a:cubicBezTo>
                  <a:pt x="15486" y="5870"/>
                  <a:pt x="15480" y="5876"/>
                  <a:pt x="15480" y="5882"/>
                </a:cubicBezTo>
                <a:cubicBezTo>
                  <a:pt x="15474" y="5882"/>
                  <a:pt x="15468" y="5888"/>
                  <a:pt x="15468" y="5888"/>
                </a:cubicBezTo>
                <a:cubicBezTo>
                  <a:pt x="15462" y="5894"/>
                  <a:pt x="15462" y="5899"/>
                  <a:pt x="15456" y="5899"/>
                </a:cubicBezTo>
                <a:cubicBezTo>
                  <a:pt x="15456" y="5905"/>
                  <a:pt x="15456" y="5911"/>
                  <a:pt x="15456" y="5911"/>
                </a:cubicBezTo>
                <a:cubicBezTo>
                  <a:pt x="15456" y="5917"/>
                  <a:pt x="15450" y="5923"/>
                  <a:pt x="15450" y="5923"/>
                </a:cubicBezTo>
                <a:cubicBezTo>
                  <a:pt x="15450" y="5929"/>
                  <a:pt x="15444" y="5929"/>
                  <a:pt x="15438" y="5935"/>
                </a:cubicBezTo>
                <a:cubicBezTo>
                  <a:pt x="15432" y="5941"/>
                  <a:pt x="15432" y="5941"/>
                  <a:pt x="15426" y="5947"/>
                </a:cubicBezTo>
                <a:cubicBezTo>
                  <a:pt x="15426" y="5953"/>
                  <a:pt x="15426" y="5959"/>
                  <a:pt x="15421" y="5959"/>
                </a:cubicBezTo>
                <a:cubicBezTo>
                  <a:pt x="15415" y="5959"/>
                  <a:pt x="15415" y="5965"/>
                  <a:pt x="15409" y="5965"/>
                </a:cubicBezTo>
                <a:cubicBezTo>
                  <a:pt x="15397" y="5971"/>
                  <a:pt x="15385" y="5965"/>
                  <a:pt x="15373" y="5971"/>
                </a:cubicBezTo>
                <a:cubicBezTo>
                  <a:pt x="15367" y="5971"/>
                  <a:pt x="15367" y="5976"/>
                  <a:pt x="15361" y="5983"/>
                </a:cubicBezTo>
                <a:cubicBezTo>
                  <a:pt x="15355" y="5983"/>
                  <a:pt x="15355" y="5988"/>
                  <a:pt x="15349" y="5988"/>
                </a:cubicBezTo>
                <a:cubicBezTo>
                  <a:pt x="15344" y="5994"/>
                  <a:pt x="15344" y="6000"/>
                  <a:pt x="15344" y="6006"/>
                </a:cubicBezTo>
                <a:cubicBezTo>
                  <a:pt x="15337" y="6006"/>
                  <a:pt x="15344" y="6012"/>
                  <a:pt x="15337" y="6018"/>
                </a:cubicBezTo>
                <a:cubicBezTo>
                  <a:pt x="15332" y="6018"/>
                  <a:pt x="15332" y="6018"/>
                  <a:pt x="15326" y="6024"/>
                </a:cubicBezTo>
                <a:cubicBezTo>
                  <a:pt x="15320" y="6024"/>
                  <a:pt x="15320" y="6030"/>
                  <a:pt x="15314" y="6030"/>
                </a:cubicBezTo>
                <a:cubicBezTo>
                  <a:pt x="15314" y="6036"/>
                  <a:pt x="15308" y="6036"/>
                  <a:pt x="15302" y="6036"/>
                </a:cubicBezTo>
                <a:cubicBezTo>
                  <a:pt x="15302" y="6042"/>
                  <a:pt x="15302" y="6048"/>
                  <a:pt x="15296" y="6048"/>
                </a:cubicBezTo>
                <a:cubicBezTo>
                  <a:pt x="15290" y="6054"/>
                  <a:pt x="15284" y="6054"/>
                  <a:pt x="15278" y="6054"/>
                </a:cubicBezTo>
                <a:cubicBezTo>
                  <a:pt x="15278" y="6060"/>
                  <a:pt x="15272" y="6060"/>
                  <a:pt x="15272" y="6060"/>
                </a:cubicBezTo>
                <a:cubicBezTo>
                  <a:pt x="15260" y="6060"/>
                  <a:pt x="15255" y="6060"/>
                  <a:pt x="15249" y="6060"/>
                </a:cubicBezTo>
                <a:cubicBezTo>
                  <a:pt x="15249" y="6119"/>
                  <a:pt x="15249" y="6119"/>
                  <a:pt x="15249" y="6119"/>
                </a:cubicBezTo>
                <a:cubicBezTo>
                  <a:pt x="15237" y="6119"/>
                  <a:pt x="15237" y="6113"/>
                  <a:pt x="15225" y="6113"/>
                </a:cubicBezTo>
                <a:cubicBezTo>
                  <a:pt x="15219" y="6119"/>
                  <a:pt x="15219" y="6119"/>
                  <a:pt x="15213" y="6119"/>
                </a:cubicBezTo>
                <a:cubicBezTo>
                  <a:pt x="15207" y="6125"/>
                  <a:pt x="15207" y="6119"/>
                  <a:pt x="15201" y="6119"/>
                </a:cubicBezTo>
                <a:cubicBezTo>
                  <a:pt x="15189" y="6119"/>
                  <a:pt x="15189" y="6125"/>
                  <a:pt x="15183" y="6119"/>
                </a:cubicBezTo>
                <a:cubicBezTo>
                  <a:pt x="15171" y="6119"/>
                  <a:pt x="15166" y="6113"/>
                  <a:pt x="15160" y="6101"/>
                </a:cubicBezTo>
                <a:lnTo>
                  <a:pt x="15148" y="6095"/>
                </a:lnTo>
                <a:close/>
                <a:moveTo>
                  <a:pt x="14543" y="6267"/>
                </a:moveTo>
                <a:lnTo>
                  <a:pt x="14543" y="6267"/>
                </a:lnTo>
                <a:cubicBezTo>
                  <a:pt x="14543" y="6273"/>
                  <a:pt x="14543" y="6279"/>
                  <a:pt x="14543" y="6285"/>
                </a:cubicBezTo>
                <a:cubicBezTo>
                  <a:pt x="14549" y="6297"/>
                  <a:pt x="14555" y="6303"/>
                  <a:pt x="14561" y="6309"/>
                </a:cubicBezTo>
                <a:cubicBezTo>
                  <a:pt x="14567" y="6320"/>
                  <a:pt x="14567" y="6326"/>
                  <a:pt x="14579" y="6332"/>
                </a:cubicBezTo>
                <a:cubicBezTo>
                  <a:pt x="14585" y="6344"/>
                  <a:pt x="14591" y="6350"/>
                  <a:pt x="14596" y="6356"/>
                </a:cubicBezTo>
                <a:cubicBezTo>
                  <a:pt x="14602" y="6362"/>
                  <a:pt x="14602" y="6362"/>
                  <a:pt x="14602" y="6368"/>
                </a:cubicBezTo>
                <a:cubicBezTo>
                  <a:pt x="14608" y="6368"/>
                  <a:pt x="14614" y="6368"/>
                  <a:pt x="14614" y="6368"/>
                </a:cubicBezTo>
                <a:cubicBezTo>
                  <a:pt x="14620" y="6374"/>
                  <a:pt x="14620" y="6380"/>
                  <a:pt x="14626" y="6380"/>
                </a:cubicBezTo>
                <a:cubicBezTo>
                  <a:pt x="14626" y="6386"/>
                  <a:pt x="14626" y="6392"/>
                  <a:pt x="14626" y="6392"/>
                </a:cubicBezTo>
                <a:cubicBezTo>
                  <a:pt x="14632" y="6397"/>
                  <a:pt x="14632" y="6397"/>
                  <a:pt x="14638" y="6403"/>
                </a:cubicBezTo>
                <a:cubicBezTo>
                  <a:pt x="14638" y="6409"/>
                  <a:pt x="14644" y="6403"/>
                  <a:pt x="14650" y="6403"/>
                </a:cubicBezTo>
                <a:cubicBezTo>
                  <a:pt x="14650" y="6356"/>
                  <a:pt x="14650" y="6356"/>
                  <a:pt x="14650" y="6356"/>
                </a:cubicBezTo>
                <a:cubicBezTo>
                  <a:pt x="14644" y="6356"/>
                  <a:pt x="14638" y="6356"/>
                  <a:pt x="14638" y="6350"/>
                </a:cubicBezTo>
                <a:cubicBezTo>
                  <a:pt x="14632" y="6350"/>
                  <a:pt x="14632" y="6344"/>
                  <a:pt x="14626" y="6344"/>
                </a:cubicBezTo>
                <a:cubicBezTo>
                  <a:pt x="14620" y="6338"/>
                  <a:pt x="14614" y="6338"/>
                  <a:pt x="14614" y="6338"/>
                </a:cubicBezTo>
                <a:cubicBezTo>
                  <a:pt x="14608" y="6338"/>
                  <a:pt x="14602" y="6338"/>
                  <a:pt x="14596" y="6338"/>
                </a:cubicBezTo>
                <a:cubicBezTo>
                  <a:pt x="14591" y="6338"/>
                  <a:pt x="14591" y="6332"/>
                  <a:pt x="14585" y="6326"/>
                </a:cubicBezTo>
                <a:cubicBezTo>
                  <a:pt x="14585" y="6320"/>
                  <a:pt x="14579" y="6320"/>
                  <a:pt x="14579" y="6315"/>
                </a:cubicBezTo>
                <a:cubicBezTo>
                  <a:pt x="14579" y="6315"/>
                  <a:pt x="14579" y="6309"/>
                  <a:pt x="14579" y="6303"/>
                </a:cubicBezTo>
                <a:cubicBezTo>
                  <a:pt x="14573" y="6297"/>
                  <a:pt x="14579" y="6291"/>
                  <a:pt x="14579" y="6279"/>
                </a:cubicBezTo>
                <a:cubicBezTo>
                  <a:pt x="14579" y="6273"/>
                  <a:pt x="14579" y="6267"/>
                  <a:pt x="14573" y="6261"/>
                </a:cubicBezTo>
                <a:cubicBezTo>
                  <a:pt x="14567" y="6249"/>
                  <a:pt x="14561" y="6249"/>
                  <a:pt x="14549" y="6249"/>
                </a:cubicBezTo>
                <a:cubicBezTo>
                  <a:pt x="14543" y="6261"/>
                  <a:pt x="14543" y="6261"/>
                  <a:pt x="14543" y="6261"/>
                </a:cubicBezTo>
                <a:cubicBezTo>
                  <a:pt x="14543" y="6261"/>
                  <a:pt x="14543" y="6261"/>
                  <a:pt x="14543" y="6267"/>
                </a:cubicBezTo>
                <a:close/>
                <a:moveTo>
                  <a:pt x="14454" y="6137"/>
                </a:moveTo>
                <a:lnTo>
                  <a:pt x="14454" y="6137"/>
                </a:lnTo>
                <a:cubicBezTo>
                  <a:pt x="14460" y="6149"/>
                  <a:pt x="14466" y="6154"/>
                  <a:pt x="14472" y="6166"/>
                </a:cubicBezTo>
                <a:cubicBezTo>
                  <a:pt x="14478" y="6166"/>
                  <a:pt x="14484" y="6172"/>
                  <a:pt x="14490" y="6178"/>
                </a:cubicBezTo>
                <a:cubicBezTo>
                  <a:pt x="14490" y="6178"/>
                  <a:pt x="14496" y="6178"/>
                  <a:pt x="14502" y="6184"/>
                </a:cubicBezTo>
                <a:cubicBezTo>
                  <a:pt x="14502" y="6190"/>
                  <a:pt x="14507" y="6196"/>
                  <a:pt x="14507" y="6202"/>
                </a:cubicBezTo>
                <a:lnTo>
                  <a:pt x="14507" y="6196"/>
                </a:lnTo>
                <a:cubicBezTo>
                  <a:pt x="14507" y="6184"/>
                  <a:pt x="14507" y="6184"/>
                  <a:pt x="14507" y="6184"/>
                </a:cubicBezTo>
                <a:cubicBezTo>
                  <a:pt x="14507" y="6178"/>
                  <a:pt x="14507" y="6166"/>
                  <a:pt x="14507" y="6160"/>
                </a:cubicBezTo>
                <a:cubicBezTo>
                  <a:pt x="14502" y="6154"/>
                  <a:pt x="14496" y="6154"/>
                  <a:pt x="14496" y="6154"/>
                </a:cubicBezTo>
                <a:cubicBezTo>
                  <a:pt x="14484" y="6142"/>
                  <a:pt x="14484" y="6137"/>
                  <a:pt x="14472" y="6131"/>
                </a:cubicBezTo>
                <a:cubicBezTo>
                  <a:pt x="14472" y="6131"/>
                  <a:pt x="14466" y="6131"/>
                  <a:pt x="14460" y="6125"/>
                </a:cubicBezTo>
                <a:cubicBezTo>
                  <a:pt x="14460" y="6131"/>
                  <a:pt x="14454" y="6131"/>
                  <a:pt x="14454" y="6137"/>
                </a:cubicBezTo>
                <a:cubicBezTo>
                  <a:pt x="14454" y="6142"/>
                  <a:pt x="14454" y="6149"/>
                  <a:pt x="14454" y="6149"/>
                </a:cubicBezTo>
                <a:lnTo>
                  <a:pt x="14454" y="6137"/>
                </a:lnTo>
                <a:close/>
                <a:moveTo>
                  <a:pt x="14413" y="6065"/>
                </a:moveTo>
                <a:lnTo>
                  <a:pt x="14413" y="6065"/>
                </a:lnTo>
                <a:cubicBezTo>
                  <a:pt x="14413" y="6060"/>
                  <a:pt x="14407" y="6060"/>
                  <a:pt x="14407" y="6054"/>
                </a:cubicBezTo>
                <a:cubicBezTo>
                  <a:pt x="14395" y="6042"/>
                  <a:pt x="14395" y="6042"/>
                  <a:pt x="14395" y="6042"/>
                </a:cubicBezTo>
                <a:cubicBezTo>
                  <a:pt x="14395" y="6048"/>
                  <a:pt x="14395" y="6054"/>
                  <a:pt x="14395" y="6060"/>
                </a:cubicBezTo>
                <a:lnTo>
                  <a:pt x="14401" y="6065"/>
                </a:lnTo>
                <a:cubicBezTo>
                  <a:pt x="14401" y="6071"/>
                  <a:pt x="14401" y="6077"/>
                  <a:pt x="14401" y="6077"/>
                </a:cubicBezTo>
                <a:cubicBezTo>
                  <a:pt x="14401" y="6083"/>
                  <a:pt x="14401" y="6089"/>
                  <a:pt x="14407" y="6089"/>
                </a:cubicBezTo>
                <a:cubicBezTo>
                  <a:pt x="14413" y="6095"/>
                  <a:pt x="14419" y="6095"/>
                  <a:pt x="14430" y="6095"/>
                </a:cubicBezTo>
                <a:cubicBezTo>
                  <a:pt x="14430" y="6083"/>
                  <a:pt x="14430" y="6083"/>
                  <a:pt x="14430" y="6083"/>
                </a:cubicBezTo>
                <a:cubicBezTo>
                  <a:pt x="14424" y="6077"/>
                  <a:pt x="14413" y="6071"/>
                  <a:pt x="14413" y="6065"/>
                </a:cubicBezTo>
                <a:close/>
                <a:moveTo>
                  <a:pt x="14430" y="5935"/>
                </a:moveTo>
                <a:lnTo>
                  <a:pt x="14430" y="5935"/>
                </a:lnTo>
                <a:cubicBezTo>
                  <a:pt x="14424" y="5935"/>
                  <a:pt x="14424" y="5935"/>
                  <a:pt x="14419" y="5935"/>
                </a:cubicBezTo>
                <a:cubicBezTo>
                  <a:pt x="14413" y="5929"/>
                  <a:pt x="14413" y="5929"/>
                  <a:pt x="14407" y="5923"/>
                </a:cubicBezTo>
                <a:cubicBezTo>
                  <a:pt x="14407" y="5923"/>
                  <a:pt x="14401" y="5923"/>
                  <a:pt x="14395" y="5923"/>
                </a:cubicBezTo>
                <a:cubicBezTo>
                  <a:pt x="14389" y="5917"/>
                  <a:pt x="14383" y="5905"/>
                  <a:pt x="14371" y="5905"/>
                </a:cubicBezTo>
                <a:cubicBezTo>
                  <a:pt x="14371" y="5905"/>
                  <a:pt x="14365" y="5899"/>
                  <a:pt x="14359" y="5899"/>
                </a:cubicBezTo>
                <a:lnTo>
                  <a:pt x="14353" y="5905"/>
                </a:lnTo>
                <a:cubicBezTo>
                  <a:pt x="14353" y="5911"/>
                  <a:pt x="14347" y="5911"/>
                  <a:pt x="14353" y="5917"/>
                </a:cubicBezTo>
                <a:cubicBezTo>
                  <a:pt x="14353" y="5923"/>
                  <a:pt x="14359" y="5929"/>
                  <a:pt x="14359" y="5941"/>
                </a:cubicBezTo>
                <a:cubicBezTo>
                  <a:pt x="14365" y="5941"/>
                  <a:pt x="14371" y="5947"/>
                  <a:pt x="14371" y="5953"/>
                </a:cubicBezTo>
                <a:cubicBezTo>
                  <a:pt x="14377" y="5953"/>
                  <a:pt x="14383" y="5959"/>
                  <a:pt x="14383" y="5965"/>
                </a:cubicBezTo>
                <a:cubicBezTo>
                  <a:pt x="14389" y="5971"/>
                  <a:pt x="14395" y="5971"/>
                  <a:pt x="14395" y="5976"/>
                </a:cubicBezTo>
                <a:cubicBezTo>
                  <a:pt x="14401" y="5983"/>
                  <a:pt x="14401" y="5983"/>
                  <a:pt x="14407" y="5988"/>
                </a:cubicBezTo>
                <a:cubicBezTo>
                  <a:pt x="14413" y="5994"/>
                  <a:pt x="14424" y="5994"/>
                  <a:pt x="14430" y="5994"/>
                </a:cubicBezTo>
                <a:cubicBezTo>
                  <a:pt x="14436" y="6000"/>
                  <a:pt x="14436" y="6000"/>
                  <a:pt x="14442" y="6006"/>
                </a:cubicBezTo>
                <a:cubicBezTo>
                  <a:pt x="14448" y="6012"/>
                  <a:pt x="14448" y="6012"/>
                  <a:pt x="14448" y="6018"/>
                </a:cubicBezTo>
                <a:cubicBezTo>
                  <a:pt x="14454" y="6024"/>
                  <a:pt x="14460" y="6024"/>
                  <a:pt x="14460" y="6030"/>
                </a:cubicBezTo>
                <a:cubicBezTo>
                  <a:pt x="14466" y="6036"/>
                  <a:pt x="14466" y="6042"/>
                  <a:pt x="14472" y="6054"/>
                </a:cubicBezTo>
                <a:cubicBezTo>
                  <a:pt x="14472" y="6060"/>
                  <a:pt x="14472" y="6065"/>
                  <a:pt x="14478" y="6065"/>
                </a:cubicBezTo>
                <a:cubicBezTo>
                  <a:pt x="14478" y="6071"/>
                  <a:pt x="14478" y="6077"/>
                  <a:pt x="14484" y="6077"/>
                </a:cubicBezTo>
                <a:cubicBezTo>
                  <a:pt x="14484" y="6077"/>
                  <a:pt x="14490" y="6083"/>
                  <a:pt x="14496" y="6083"/>
                </a:cubicBezTo>
                <a:cubicBezTo>
                  <a:pt x="14496" y="6083"/>
                  <a:pt x="14502" y="6083"/>
                  <a:pt x="14507" y="6083"/>
                </a:cubicBezTo>
                <a:lnTo>
                  <a:pt x="14513" y="6083"/>
                </a:lnTo>
                <a:cubicBezTo>
                  <a:pt x="14525" y="6089"/>
                  <a:pt x="14531" y="6095"/>
                  <a:pt x="14531" y="6107"/>
                </a:cubicBezTo>
                <a:cubicBezTo>
                  <a:pt x="14537" y="6113"/>
                  <a:pt x="14543" y="6119"/>
                  <a:pt x="14543" y="6125"/>
                </a:cubicBezTo>
                <a:cubicBezTo>
                  <a:pt x="14543" y="6137"/>
                  <a:pt x="14543" y="6142"/>
                  <a:pt x="14543" y="6149"/>
                </a:cubicBezTo>
                <a:cubicBezTo>
                  <a:pt x="14543" y="6160"/>
                  <a:pt x="14543" y="6160"/>
                  <a:pt x="14543" y="6160"/>
                </a:cubicBezTo>
                <a:cubicBezTo>
                  <a:pt x="14543" y="6166"/>
                  <a:pt x="14549" y="6166"/>
                  <a:pt x="14549" y="6172"/>
                </a:cubicBezTo>
                <a:cubicBezTo>
                  <a:pt x="14555" y="6184"/>
                  <a:pt x="14567" y="6184"/>
                  <a:pt x="14573" y="6190"/>
                </a:cubicBezTo>
                <a:cubicBezTo>
                  <a:pt x="14585" y="6202"/>
                  <a:pt x="14591" y="6208"/>
                  <a:pt x="14596" y="6214"/>
                </a:cubicBezTo>
                <a:cubicBezTo>
                  <a:pt x="14602" y="6214"/>
                  <a:pt x="14602" y="6220"/>
                  <a:pt x="14608" y="6220"/>
                </a:cubicBezTo>
                <a:cubicBezTo>
                  <a:pt x="14614" y="6231"/>
                  <a:pt x="14620" y="6237"/>
                  <a:pt x="14626" y="6243"/>
                </a:cubicBezTo>
                <a:cubicBezTo>
                  <a:pt x="14632" y="6255"/>
                  <a:pt x="14638" y="6255"/>
                  <a:pt x="14644" y="6267"/>
                </a:cubicBezTo>
                <a:cubicBezTo>
                  <a:pt x="14650" y="6273"/>
                  <a:pt x="14656" y="6279"/>
                  <a:pt x="14656" y="6291"/>
                </a:cubicBezTo>
                <a:cubicBezTo>
                  <a:pt x="14656" y="6297"/>
                  <a:pt x="14656" y="6309"/>
                  <a:pt x="14656" y="6315"/>
                </a:cubicBezTo>
                <a:cubicBezTo>
                  <a:pt x="14662" y="6320"/>
                  <a:pt x="14662" y="6320"/>
                  <a:pt x="14662" y="6326"/>
                </a:cubicBezTo>
                <a:cubicBezTo>
                  <a:pt x="14668" y="6338"/>
                  <a:pt x="14673" y="6344"/>
                  <a:pt x="14673" y="6350"/>
                </a:cubicBezTo>
                <a:cubicBezTo>
                  <a:pt x="14679" y="6356"/>
                  <a:pt x="14685" y="6356"/>
                  <a:pt x="14685" y="6362"/>
                </a:cubicBezTo>
                <a:cubicBezTo>
                  <a:pt x="14691" y="6368"/>
                  <a:pt x="14697" y="6368"/>
                  <a:pt x="14697" y="6374"/>
                </a:cubicBezTo>
                <a:cubicBezTo>
                  <a:pt x="14703" y="6380"/>
                  <a:pt x="14709" y="6380"/>
                  <a:pt x="14709" y="6386"/>
                </a:cubicBezTo>
                <a:cubicBezTo>
                  <a:pt x="14715" y="6392"/>
                  <a:pt x="14715" y="6397"/>
                  <a:pt x="14721" y="6397"/>
                </a:cubicBezTo>
                <a:cubicBezTo>
                  <a:pt x="14727" y="6409"/>
                  <a:pt x="14733" y="6409"/>
                  <a:pt x="14745" y="6421"/>
                </a:cubicBezTo>
                <a:cubicBezTo>
                  <a:pt x="14751" y="6427"/>
                  <a:pt x="14757" y="6433"/>
                  <a:pt x="14762" y="6439"/>
                </a:cubicBezTo>
                <a:cubicBezTo>
                  <a:pt x="14768" y="6445"/>
                  <a:pt x="14774" y="6445"/>
                  <a:pt x="14774" y="6451"/>
                </a:cubicBezTo>
                <a:cubicBezTo>
                  <a:pt x="14780" y="6457"/>
                  <a:pt x="14780" y="6463"/>
                  <a:pt x="14780" y="6463"/>
                </a:cubicBezTo>
                <a:cubicBezTo>
                  <a:pt x="14786" y="6475"/>
                  <a:pt x="14798" y="6480"/>
                  <a:pt x="14804" y="6486"/>
                </a:cubicBezTo>
                <a:cubicBezTo>
                  <a:pt x="14816" y="6492"/>
                  <a:pt x="14822" y="6498"/>
                  <a:pt x="14828" y="6504"/>
                </a:cubicBezTo>
                <a:cubicBezTo>
                  <a:pt x="14828" y="6510"/>
                  <a:pt x="14834" y="6510"/>
                  <a:pt x="14839" y="6510"/>
                </a:cubicBezTo>
                <a:cubicBezTo>
                  <a:pt x="14839" y="6516"/>
                  <a:pt x="14839" y="6522"/>
                  <a:pt x="14839" y="6522"/>
                </a:cubicBezTo>
                <a:cubicBezTo>
                  <a:pt x="14846" y="6522"/>
                  <a:pt x="14851" y="6516"/>
                  <a:pt x="14851" y="6516"/>
                </a:cubicBezTo>
                <a:cubicBezTo>
                  <a:pt x="14857" y="6516"/>
                  <a:pt x="14863" y="6516"/>
                  <a:pt x="14863" y="6516"/>
                </a:cubicBezTo>
                <a:cubicBezTo>
                  <a:pt x="14875" y="6516"/>
                  <a:pt x="14881" y="6516"/>
                  <a:pt x="14893" y="6516"/>
                </a:cubicBezTo>
                <a:cubicBezTo>
                  <a:pt x="14899" y="6516"/>
                  <a:pt x="14905" y="6516"/>
                  <a:pt x="14911" y="6516"/>
                </a:cubicBezTo>
                <a:cubicBezTo>
                  <a:pt x="14917" y="6516"/>
                  <a:pt x="14923" y="6510"/>
                  <a:pt x="14923" y="6504"/>
                </a:cubicBezTo>
                <a:cubicBezTo>
                  <a:pt x="14928" y="6498"/>
                  <a:pt x="14934" y="6498"/>
                  <a:pt x="14934" y="6492"/>
                </a:cubicBezTo>
                <a:cubicBezTo>
                  <a:pt x="14934" y="6480"/>
                  <a:pt x="14934" y="6480"/>
                  <a:pt x="14934" y="6480"/>
                </a:cubicBezTo>
                <a:cubicBezTo>
                  <a:pt x="14934" y="6469"/>
                  <a:pt x="14928" y="6463"/>
                  <a:pt x="14934" y="6445"/>
                </a:cubicBezTo>
                <a:cubicBezTo>
                  <a:pt x="14934" y="6445"/>
                  <a:pt x="14934" y="6439"/>
                  <a:pt x="14934" y="6433"/>
                </a:cubicBezTo>
                <a:cubicBezTo>
                  <a:pt x="14934" y="6427"/>
                  <a:pt x="14940" y="6421"/>
                  <a:pt x="14940" y="6415"/>
                </a:cubicBezTo>
                <a:cubicBezTo>
                  <a:pt x="14940" y="6403"/>
                  <a:pt x="14940" y="6403"/>
                  <a:pt x="14940" y="6403"/>
                </a:cubicBezTo>
                <a:cubicBezTo>
                  <a:pt x="14940" y="6397"/>
                  <a:pt x="14940" y="6392"/>
                  <a:pt x="14946" y="6392"/>
                </a:cubicBezTo>
                <a:cubicBezTo>
                  <a:pt x="14946" y="6386"/>
                  <a:pt x="14952" y="6380"/>
                  <a:pt x="14958" y="6380"/>
                </a:cubicBezTo>
                <a:cubicBezTo>
                  <a:pt x="14964" y="6380"/>
                  <a:pt x="14970" y="6380"/>
                  <a:pt x="14976" y="6380"/>
                </a:cubicBezTo>
                <a:cubicBezTo>
                  <a:pt x="14982" y="6380"/>
                  <a:pt x="14982" y="6386"/>
                  <a:pt x="14988" y="6386"/>
                </a:cubicBezTo>
                <a:cubicBezTo>
                  <a:pt x="14994" y="6386"/>
                  <a:pt x="14994" y="6380"/>
                  <a:pt x="15000" y="6380"/>
                </a:cubicBezTo>
                <a:cubicBezTo>
                  <a:pt x="15000" y="6374"/>
                  <a:pt x="15000" y="6368"/>
                  <a:pt x="15000" y="6368"/>
                </a:cubicBezTo>
                <a:cubicBezTo>
                  <a:pt x="15000" y="6362"/>
                  <a:pt x="14994" y="6356"/>
                  <a:pt x="14988" y="6350"/>
                </a:cubicBezTo>
                <a:cubicBezTo>
                  <a:pt x="14988" y="6350"/>
                  <a:pt x="14982" y="6344"/>
                  <a:pt x="14976" y="6344"/>
                </a:cubicBezTo>
                <a:cubicBezTo>
                  <a:pt x="14976" y="6338"/>
                  <a:pt x="14970" y="6344"/>
                  <a:pt x="14964" y="6344"/>
                </a:cubicBezTo>
                <a:cubicBezTo>
                  <a:pt x="14964" y="6338"/>
                  <a:pt x="14958" y="6338"/>
                  <a:pt x="14958" y="6338"/>
                </a:cubicBezTo>
                <a:cubicBezTo>
                  <a:pt x="14958" y="6332"/>
                  <a:pt x="14952" y="6326"/>
                  <a:pt x="14958" y="6326"/>
                </a:cubicBezTo>
                <a:cubicBezTo>
                  <a:pt x="14958" y="6320"/>
                  <a:pt x="14964" y="6315"/>
                  <a:pt x="14964" y="6315"/>
                </a:cubicBezTo>
                <a:cubicBezTo>
                  <a:pt x="14964" y="6309"/>
                  <a:pt x="14964" y="6303"/>
                  <a:pt x="14964" y="6303"/>
                </a:cubicBezTo>
                <a:cubicBezTo>
                  <a:pt x="14958" y="6297"/>
                  <a:pt x="14952" y="6297"/>
                  <a:pt x="14952" y="6297"/>
                </a:cubicBezTo>
                <a:cubicBezTo>
                  <a:pt x="14946" y="6297"/>
                  <a:pt x="14940" y="6291"/>
                  <a:pt x="14940" y="6291"/>
                </a:cubicBezTo>
                <a:cubicBezTo>
                  <a:pt x="14934" y="6291"/>
                  <a:pt x="14928" y="6291"/>
                  <a:pt x="14923" y="6291"/>
                </a:cubicBezTo>
                <a:cubicBezTo>
                  <a:pt x="14917" y="6291"/>
                  <a:pt x="14917" y="6291"/>
                  <a:pt x="14911" y="6291"/>
                </a:cubicBezTo>
                <a:cubicBezTo>
                  <a:pt x="14905" y="6291"/>
                  <a:pt x="14899" y="6291"/>
                  <a:pt x="14899" y="6297"/>
                </a:cubicBezTo>
                <a:cubicBezTo>
                  <a:pt x="14893" y="6297"/>
                  <a:pt x="14899" y="6303"/>
                  <a:pt x="14893" y="6309"/>
                </a:cubicBezTo>
                <a:cubicBezTo>
                  <a:pt x="14893" y="6309"/>
                  <a:pt x="14893" y="6315"/>
                  <a:pt x="14893" y="6320"/>
                </a:cubicBezTo>
                <a:cubicBezTo>
                  <a:pt x="14863" y="6320"/>
                  <a:pt x="14863" y="6320"/>
                  <a:pt x="14863" y="6320"/>
                </a:cubicBezTo>
                <a:cubicBezTo>
                  <a:pt x="14863" y="6309"/>
                  <a:pt x="14857" y="6303"/>
                  <a:pt x="14857" y="6297"/>
                </a:cubicBezTo>
                <a:cubicBezTo>
                  <a:pt x="14857" y="6285"/>
                  <a:pt x="14863" y="6279"/>
                  <a:pt x="14863" y="6273"/>
                </a:cubicBezTo>
                <a:cubicBezTo>
                  <a:pt x="14857" y="6273"/>
                  <a:pt x="14857" y="6267"/>
                  <a:pt x="14851" y="6267"/>
                </a:cubicBezTo>
                <a:cubicBezTo>
                  <a:pt x="14839" y="6267"/>
                  <a:pt x="14839" y="6267"/>
                  <a:pt x="14839" y="6267"/>
                </a:cubicBezTo>
                <a:cubicBezTo>
                  <a:pt x="14834" y="6261"/>
                  <a:pt x="14828" y="6267"/>
                  <a:pt x="14816" y="6267"/>
                </a:cubicBezTo>
                <a:cubicBezTo>
                  <a:pt x="14810" y="6261"/>
                  <a:pt x="14810" y="6255"/>
                  <a:pt x="14804" y="6255"/>
                </a:cubicBezTo>
                <a:cubicBezTo>
                  <a:pt x="14798" y="6255"/>
                  <a:pt x="14798" y="6249"/>
                  <a:pt x="14792" y="6249"/>
                </a:cubicBezTo>
                <a:cubicBezTo>
                  <a:pt x="14786" y="6243"/>
                  <a:pt x="14780" y="6243"/>
                  <a:pt x="14780" y="6243"/>
                </a:cubicBezTo>
                <a:cubicBezTo>
                  <a:pt x="14774" y="6237"/>
                  <a:pt x="14774" y="6231"/>
                  <a:pt x="14774" y="6226"/>
                </a:cubicBezTo>
                <a:cubicBezTo>
                  <a:pt x="14774" y="6172"/>
                  <a:pt x="14774" y="6172"/>
                  <a:pt x="14774" y="6172"/>
                </a:cubicBezTo>
                <a:cubicBezTo>
                  <a:pt x="14762" y="6172"/>
                  <a:pt x="14757" y="6172"/>
                  <a:pt x="14745" y="6172"/>
                </a:cubicBezTo>
                <a:cubicBezTo>
                  <a:pt x="14739" y="6172"/>
                  <a:pt x="14739" y="6172"/>
                  <a:pt x="14733" y="6172"/>
                </a:cubicBezTo>
                <a:cubicBezTo>
                  <a:pt x="14727" y="6166"/>
                  <a:pt x="14727" y="6160"/>
                  <a:pt x="14721" y="6160"/>
                </a:cubicBezTo>
                <a:cubicBezTo>
                  <a:pt x="14721" y="6154"/>
                  <a:pt x="14715" y="6154"/>
                  <a:pt x="14709" y="6149"/>
                </a:cubicBezTo>
                <a:cubicBezTo>
                  <a:pt x="14709" y="6149"/>
                  <a:pt x="14709" y="6142"/>
                  <a:pt x="14709" y="6137"/>
                </a:cubicBezTo>
                <a:cubicBezTo>
                  <a:pt x="14703" y="6137"/>
                  <a:pt x="14703" y="6131"/>
                  <a:pt x="14703" y="6125"/>
                </a:cubicBezTo>
                <a:cubicBezTo>
                  <a:pt x="14703" y="6125"/>
                  <a:pt x="14703" y="6119"/>
                  <a:pt x="14703" y="6113"/>
                </a:cubicBezTo>
                <a:lnTo>
                  <a:pt x="14703" y="6107"/>
                </a:lnTo>
                <a:cubicBezTo>
                  <a:pt x="14703" y="6101"/>
                  <a:pt x="14697" y="6095"/>
                  <a:pt x="14691" y="6095"/>
                </a:cubicBezTo>
                <a:cubicBezTo>
                  <a:pt x="14691" y="6095"/>
                  <a:pt x="14685" y="6101"/>
                  <a:pt x="14679" y="6101"/>
                </a:cubicBezTo>
                <a:cubicBezTo>
                  <a:pt x="14668" y="6101"/>
                  <a:pt x="14668" y="6101"/>
                  <a:pt x="14668" y="6101"/>
                </a:cubicBezTo>
                <a:cubicBezTo>
                  <a:pt x="14662" y="6101"/>
                  <a:pt x="14656" y="6095"/>
                  <a:pt x="14650" y="6095"/>
                </a:cubicBezTo>
                <a:cubicBezTo>
                  <a:pt x="14644" y="6095"/>
                  <a:pt x="14638" y="6089"/>
                  <a:pt x="14632" y="6089"/>
                </a:cubicBezTo>
                <a:cubicBezTo>
                  <a:pt x="14626" y="6083"/>
                  <a:pt x="14626" y="6083"/>
                  <a:pt x="14620" y="6077"/>
                </a:cubicBezTo>
                <a:cubicBezTo>
                  <a:pt x="14620" y="6071"/>
                  <a:pt x="14620" y="6065"/>
                  <a:pt x="14620" y="6065"/>
                </a:cubicBezTo>
                <a:cubicBezTo>
                  <a:pt x="14614" y="6060"/>
                  <a:pt x="14608" y="6065"/>
                  <a:pt x="14608" y="6060"/>
                </a:cubicBezTo>
                <a:cubicBezTo>
                  <a:pt x="14602" y="6060"/>
                  <a:pt x="14602" y="6054"/>
                  <a:pt x="14596" y="6048"/>
                </a:cubicBezTo>
                <a:cubicBezTo>
                  <a:pt x="14596" y="6048"/>
                  <a:pt x="14596" y="6042"/>
                  <a:pt x="14591" y="6036"/>
                </a:cubicBezTo>
                <a:cubicBezTo>
                  <a:pt x="14585" y="6036"/>
                  <a:pt x="14585" y="6036"/>
                  <a:pt x="14579" y="6030"/>
                </a:cubicBezTo>
                <a:cubicBezTo>
                  <a:pt x="14573" y="6024"/>
                  <a:pt x="14573" y="6024"/>
                  <a:pt x="14567" y="6018"/>
                </a:cubicBezTo>
                <a:cubicBezTo>
                  <a:pt x="14561" y="6018"/>
                  <a:pt x="14555" y="6012"/>
                  <a:pt x="14555" y="6012"/>
                </a:cubicBezTo>
                <a:cubicBezTo>
                  <a:pt x="14549" y="6006"/>
                  <a:pt x="14549" y="6000"/>
                  <a:pt x="14549" y="6000"/>
                </a:cubicBezTo>
                <a:cubicBezTo>
                  <a:pt x="14543" y="5994"/>
                  <a:pt x="14531" y="5994"/>
                  <a:pt x="14525" y="5988"/>
                </a:cubicBezTo>
                <a:cubicBezTo>
                  <a:pt x="14519" y="5988"/>
                  <a:pt x="14513" y="5988"/>
                  <a:pt x="14513" y="5988"/>
                </a:cubicBezTo>
                <a:cubicBezTo>
                  <a:pt x="14513" y="5983"/>
                  <a:pt x="14513" y="5983"/>
                  <a:pt x="14507" y="5976"/>
                </a:cubicBezTo>
                <a:cubicBezTo>
                  <a:pt x="14507" y="5971"/>
                  <a:pt x="14513" y="5971"/>
                  <a:pt x="14507" y="5965"/>
                </a:cubicBezTo>
                <a:cubicBezTo>
                  <a:pt x="14507" y="5959"/>
                  <a:pt x="14502" y="5965"/>
                  <a:pt x="14502" y="5959"/>
                </a:cubicBezTo>
                <a:cubicBezTo>
                  <a:pt x="14496" y="5959"/>
                  <a:pt x="14490" y="5953"/>
                  <a:pt x="14490" y="5947"/>
                </a:cubicBezTo>
                <a:cubicBezTo>
                  <a:pt x="14484" y="5941"/>
                  <a:pt x="14478" y="5935"/>
                  <a:pt x="14472" y="5923"/>
                </a:cubicBezTo>
                <a:cubicBezTo>
                  <a:pt x="14460" y="5923"/>
                  <a:pt x="14442" y="5935"/>
                  <a:pt x="14430" y="5935"/>
                </a:cubicBezTo>
                <a:close/>
                <a:moveTo>
                  <a:pt x="15907" y="5733"/>
                </a:moveTo>
                <a:lnTo>
                  <a:pt x="15907" y="5733"/>
                </a:lnTo>
                <a:cubicBezTo>
                  <a:pt x="15895" y="5739"/>
                  <a:pt x="15889" y="5733"/>
                  <a:pt x="15883" y="5739"/>
                </a:cubicBezTo>
                <a:cubicBezTo>
                  <a:pt x="15877" y="5739"/>
                  <a:pt x="15877" y="5739"/>
                  <a:pt x="15871" y="5739"/>
                </a:cubicBezTo>
                <a:cubicBezTo>
                  <a:pt x="15871" y="5745"/>
                  <a:pt x="15877" y="5751"/>
                  <a:pt x="15871" y="5751"/>
                </a:cubicBezTo>
                <a:cubicBezTo>
                  <a:pt x="15871" y="5757"/>
                  <a:pt x="15865" y="5757"/>
                  <a:pt x="15859" y="5757"/>
                </a:cubicBezTo>
                <a:cubicBezTo>
                  <a:pt x="15859" y="5763"/>
                  <a:pt x="15853" y="5757"/>
                  <a:pt x="15847" y="5757"/>
                </a:cubicBezTo>
                <a:cubicBezTo>
                  <a:pt x="15847" y="5757"/>
                  <a:pt x="15842" y="5757"/>
                  <a:pt x="15836" y="5757"/>
                </a:cubicBezTo>
                <a:cubicBezTo>
                  <a:pt x="15836" y="5763"/>
                  <a:pt x="15830" y="5763"/>
                  <a:pt x="15824" y="5763"/>
                </a:cubicBezTo>
                <a:cubicBezTo>
                  <a:pt x="15824" y="5769"/>
                  <a:pt x="15824" y="5769"/>
                  <a:pt x="15818" y="5775"/>
                </a:cubicBezTo>
                <a:cubicBezTo>
                  <a:pt x="15818" y="5781"/>
                  <a:pt x="15812" y="5781"/>
                  <a:pt x="15812" y="5787"/>
                </a:cubicBezTo>
                <a:cubicBezTo>
                  <a:pt x="15812" y="5846"/>
                  <a:pt x="15812" y="5846"/>
                  <a:pt x="15812" y="5846"/>
                </a:cubicBezTo>
                <a:cubicBezTo>
                  <a:pt x="15824" y="5852"/>
                  <a:pt x="15824" y="5852"/>
                  <a:pt x="15824" y="5852"/>
                </a:cubicBezTo>
                <a:cubicBezTo>
                  <a:pt x="15824" y="5846"/>
                  <a:pt x="15830" y="5846"/>
                  <a:pt x="15830" y="5840"/>
                </a:cubicBezTo>
                <a:cubicBezTo>
                  <a:pt x="15830" y="5828"/>
                  <a:pt x="15830" y="5828"/>
                  <a:pt x="15830" y="5828"/>
                </a:cubicBezTo>
                <a:cubicBezTo>
                  <a:pt x="15830" y="5817"/>
                  <a:pt x="15830" y="5817"/>
                  <a:pt x="15830" y="5817"/>
                </a:cubicBezTo>
                <a:cubicBezTo>
                  <a:pt x="15830" y="5817"/>
                  <a:pt x="15830" y="5810"/>
                  <a:pt x="15830" y="5805"/>
                </a:cubicBezTo>
                <a:cubicBezTo>
                  <a:pt x="15836" y="5805"/>
                  <a:pt x="15842" y="5805"/>
                  <a:pt x="15842" y="5805"/>
                </a:cubicBezTo>
                <a:cubicBezTo>
                  <a:pt x="15847" y="5805"/>
                  <a:pt x="15847" y="5799"/>
                  <a:pt x="15853" y="5799"/>
                </a:cubicBezTo>
                <a:cubicBezTo>
                  <a:pt x="15865" y="5793"/>
                  <a:pt x="15871" y="5793"/>
                  <a:pt x="15877" y="5793"/>
                </a:cubicBezTo>
                <a:cubicBezTo>
                  <a:pt x="15895" y="5793"/>
                  <a:pt x="15901" y="5793"/>
                  <a:pt x="15913" y="5799"/>
                </a:cubicBezTo>
                <a:cubicBezTo>
                  <a:pt x="15913" y="5817"/>
                  <a:pt x="15913" y="5817"/>
                  <a:pt x="15913" y="5817"/>
                </a:cubicBezTo>
                <a:cubicBezTo>
                  <a:pt x="15913" y="5828"/>
                  <a:pt x="15913" y="5834"/>
                  <a:pt x="15913" y="5840"/>
                </a:cubicBezTo>
                <a:cubicBezTo>
                  <a:pt x="15919" y="5846"/>
                  <a:pt x="15919" y="5852"/>
                  <a:pt x="15919" y="5852"/>
                </a:cubicBezTo>
                <a:cubicBezTo>
                  <a:pt x="15925" y="5858"/>
                  <a:pt x="15930" y="5858"/>
                  <a:pt x="15930" y="5858"/>
                </a:cubicBezTo>
                <a:cubicBezTo>
                  <a:pt x="15936" y="5858"/>
                  <a:pt x="15942" y="5858"/>
                  <a:pt x="15942" y="5858"/>
                </a:cubicBezTo>
                <a:cubicBezTo>
                  <a:pt x="15948" y="5858"/>
                  <a:pt x="15948" y="5864"/>
                  <a:pt x="15954" y="5870"/>
                </a:cubicBezTo>
                <a:cubicBezTo>
                  <a:pt x="15960" y="5870"/>
                  <a:pt x="15966" y="5876"/>
                  <a:pt x="15966" y="5876"/>
                </a:cubicBezTo>
                <a:cubicBezTo>
                  <a:pt x="15972" y="5876"/>
                  <a:pt x="15978" y="5870"/>
                  <a:pt x="15984" y="5876"/>
                </a:cubicBezTo>
                <a:cubicBezTo>
                  <a:pt x="15984" y="5882"/>
                  <a:pt x="15990" y="5882"/>
                  <a:pt x="15990" y="5888"/>
                </a:cubicBezTo>
                <a:cubicBezTo>
                  <a:pt x="15996" y="5888"/>
                  <a:pt x="15990" y="5894"/>
                  <a:pt x="15990" y="5899"/>
                </a:cubicBezTo>
                <a:cubicBezTo>
                  <a:pt x="15996" y="5899"/>
                  <a:pt x="16002" y="5899"/>
                  <a:pt x="16002" y="5899"/>
                </a:cubicBezTo>
                <a:cubicBezTo>
                  <a:pt x="16008" y="5899"/>
                  <a:pt x="16008" y="5905"/>
                  <a:pt x="16014" y="5905"/>
                </a:cubicBezTo>
                <a:cubicBezTo>
                  <a:pt x="16025" y="5905"/>
                  <a:pt x="16025" y="5905"/>
                  <a:pt x="16025" y="5905"/>
                </a:cubicBezTo>
                <a:cubicBezTo>
                  <a:pt x="16025" y="5882"/>
                  <a:pt x="16025" y="5882"/>
                  <a:pt x="16025" y="5882"/>
                </a:cubicBezTo>
                <a:cubicBezTo>
                  <a:pt x="16025" y="5876"/>
                  <a:pt x="16025" y="5876"/>
                  <a:pt x="16025" y="5870"/>
                </a:cubicBezTo>
                <a:cubicBezTo>
                  <a:pt x="16019" y="5864"/>
                  <a:pt x="16014" y="5870"/>
                  <a:pt x="16014" y="5864"/>
                </a:cubicBezTo>
                <a:cubicBezTo>
                  <a:pt x="16008" y="5864"/>
                  <a:pt x="16014" y="5858"/>
                  <a:pt x="16014" y="5852"/>
                </a:cubicBezTo>
                <a:cubicBezTo>
                  <a:pt x="16008" y="5846"/>
                  <a:pt x="16008" y="5840"/>
                  <a:pt x="16008" y="5828"/>
                </a:cubicBezTo>
                <a:cubicBezTo>
                  <a:pt x="16014" y="5828"/>
                  <a:pt x="16014" y="5822"/>
                  <a:pt x="16019" y="5822"/>
                </a:cubicBezTo>
                <a:cubicBezTo>
                  <a:pt x="16025" y="5822"/>
                  <a:pt x="16025" y="5828"/>
                  <a:pt x="16031" y="5828"/>
                </a:cubicBezTo>
                <a:cubicBezTo>
                  <a:pt x="16037" y="5828"/>
                  <a:pt x="16037" y="5828"/>
                  <a:pt x="16043" y="5828"/>
                </a:cubicBezTo>
                <a:cubicBezTo>
                  <a:pt x="16049" y="5828"/>
                  <a:pt x="16049" y="5828"/>
                  <a:pt x="16055" y="5828"/>
                </a:cubicBezTo>
                <a:cubicBezTo>
                  <a:pt x="16061" y="5817"/>
                  <a:pt x="16061" y="5817"/>
                  <a:pt x="16061" y="5817"/>
                </a:cubicBezTo>
                <a:cubicBezTo>
                  <a:pt x="16049" y="5799"/>
                  <a:pt x="16049" y="5799"/>
                  <a:pt x="16049" y="5799"/>
                </a:cubicBezTo>
                <a:cubicBezTo>
                  <a:pt x="16049" y="5710"/>
                  <a:pt x="16049" y="5710"/>
                  <a:pt x="16049" y="5710"/>
                </a:cubicBezTo>
                <a:cubicBezTo>
                  <a:pt x="16049" y="5704"/>
                  <a:pt x="16049" y="5704"/>
                  <a:pt x="16049" y="5698"/>
                </a:cubicBezTo>
                <a:cubicBezTo>
                  <a:pt x="16049" y="5692"/>
                  <a:pt x="16043" y="5692"/>
                  <a:pt x="16043" y="5686"/>
                </a:cubicBezTo>
                <a:cubicBezTo>
                  <a:pt x="16037" y="5680"/>
                  <a:pt x="16031" y="5674"/>
                  <a:pt x="16025" y="5674"/>
                </a:cubicBezTo>
                <a:cubicBezTo>
                  <a:pt x="16019" y="5674"/>
                  <a:pt x="16014" y="5680"/>
                  <a:pt x="16014" y="5686"/>
                </a:cubicBezTo>
                <a:cubicBezTo>
                  <a:pt x="16008" y="5698"/>
                  <a:pt x="16008" y="5698"/>
                  <a:pt x="16008" y="5698"/>
                </a:cubicBezTo>
                <a:cubicBezTo>
                  <a:pt x="16008" y="5698"/>
                  <a:pt x="16008" y="5704"/>
                  <a:pt x="16002" y="5710"/>
                </a:cubicBezTo>
                <a:cubicBezTo>
                  <a:pt x="15996" y="5716"/>
                  <a:pt x="15990" y="5716"/>
                  <a:pt x="15978" y="5722"/>
                </a:cubicBezTo>
                <a:cubicBezTo>
                  <a:pt x="15978" y="5722"/>
                  <a:pt x="15972" y="5716"/>
                  <a:pt x="15966" y="5716"/>
                </a:cubicBezTo>
                <a:cubicBezTo>
                  <a:pt x="15966" y="5716"/>
                  <a:pt x="15960" y="5722"/>
                  <a:pt x="15960" y="5728"/>
                </a:cubicBezTo>
                <a:cubicBezTo>
                  <a:pt x="15954" y="5728"/>
                  <a:pt x="15948" y="5733"/>
                  <a:pt x="15948" y="5733"/>
                </a:cubicBezTo>
                <a:cubicBezTo>
                  <a:pt x="15942" y="5739"/>
                  <a:pt x="15948" y="5745"/>
                  <a:pt x="15942" y="5745"/>
                </a:cubicBezTo>
                <a:cubicBezTo>
                  <a:pt x="15936" y="5751"/>
                  <a:pt x="15930" y="5751"/>
                  <a:pt x="15919" y="5751"/>
                </a:cubicBezTo>
                <a:cubicBezTo>
                  <a:pt x="15919" y="5751"/>
                  <a:pt x="15913" y="5751"/>
                  <a:pt x="15907" y="5751"/>
                </a:cubicBezTo>
                <a:cubicBezTo>
                  <a:pt x="15907" y="5751"/>
                  <a:pt x="15913" y="5739"/>
                  <a:pt x="15907" y="5733"/>
                </a:cubicBezTo>
                <a:close/>
                <a:moveTo>
                  <a:pt x="15741" y="5473"/>
                </a:moveTo>
                <a:lnTo>
                  <a:pt x="15741" y="5473"/>
                </a:lnTo>
                <a:cubicBezTo>
                  <a:pt x="15735" y="5478"/>
                  <a:pt x="15735" y="5478"/>
                  <a:pt x="15735" y="5490"/>
                </a:cubicBezTo>
                <a:cubicBezTo>
                  <a:pt x="15735" y="5496"/>
                  <a:pt x="15741" y="5502"/>
                  <a:pt x="15741" y="5508"/>
                </a:cubicBezTo>
                <a:cubicBezTo>
                  <a:pt x="15747" y="5514"/>
                  <a:pt x="15753" y="5514"/>
                  <a:pt x="15753" y="5514"/>
                </a:cubicBezTo>
                <a:cubicBezTo>
                  <a:pt x="15759" y="5520"/>
                  <a:pt x="15764" y="5514"/>
                  <a:pt x="15764" y="5514"/>
                </a:cubicBezTo>
                <a:cubicBezTo>
                  <a:pt x="15776" y="5520"/>
                  <a:pt x="15776" y="5514"/>
                  <a:pt x="15788" y="5514"/>
                </a:cubicBezTo>
                <a:cubicBezTo>
                  <a:pt x="15788" y="5532"/>
                  <a:pt x="15782" y="5538"/>
                  <a:pt x="15788" y="5550"/>
                </a:cubicBezTo>
                <a:cubicBezTo>
                  <a:pt x="15788" y="5556"/>
                  <a:pt x="15794" y="5556"/>
                  <a:pt x="15794" y="5562"/>
                </a:cubicBezTo>
                <a:cubicBezTo>
                  <a:pt x="15794" y="5573"/>
                  <a:pt x="15800" y="5579"/>
                  <a:pt x="15800" y="5591"/>
                </a:cubicBezTo>
                <a:cubicBezTo>
                  <a:pt x="15800" y="5597"/>
                  <a:pt x="15794" y="5603"/>
                  <a:pt x="15794" y="5609"/>
                </a:cubicBezTo>
                <a:cubicBezTo>
                  <a:pt x="15794" y="5615"/>
                  <a:pt x="15794" y="5615"/>
                  <a:pt x="15794" y="5621"/>
                </a:cubicBezTo>
                <a:cubicBezTo>
                  <a:pt x="15794" y="5621"/>
                  <a:pt x="15794" y="5621"/>
                  <a:pt x="15794" y="5627"/>
                </a:cubicBezTo>
                <a:cubicBezTo>
                  <a:pt x="15794" y="5627"/>
                  <a:pt x="15800" y="5633"/>
                  <a:pt x="15806" y="5633"/>
                </a:cubicBezTo>
                <a:cubicBezTo>
                  <a:pt x="15806" y="5639"/>
                  <a:pt x="15812" y="5639"/>
                  <a:pt x="15818" y="5644"/>
                </a:cubicBezTo>
                <a:cubicBezTo>
                  <a:pt x="15818" y="5644"/>
                  <a:pt x="15824" y="5644"/>
                  <a:pt x="15824" y="5651"/>
                </a:cubicBezTo>
                <a:cubicBezTo>
                  <a:pt x="15836" y="5651"/>
                  <a:pt x="15842" y="5644"/>
                  <a:pt x="15847" y="5644"/>
                </a:cubicBezTo>
                <a:cubicBezTo>
                  <a:pt x="15847" y="5651"/>
                  <a:pt x="15842" y="5651"/>
                  <a:pt x="15842" y="5656"/>
                </a:cubicBezTo>
                <a:cubicBezTo>
                  <a:pt x="15842" y="5662"/>
                  <a:pt x="15842" y="5662"/>
                  <a:pt x="15842" y="5668"/>
                </a:cubicBezTo>
                <a:cubicBezTo>
                  <a:pt x="15842" y="5674"/>
                  <a:pt x="15836" y="5674"/>
                  <a:pt x="15836" y="5680"/>
                </a:cubicBezTo>
                <a:cubicBezTo>
                  <a:pt x="15836" y="5686"/>
                  <a:pt x="15836" y="5686"/>
                  <a:pt x="15836" y="5692"/>
                </a:cubicBezTo>
                <a:cubicBezTo>
                  <a:pt x="15842" y="5692"/>
                  <a:pt x="15847" y="5692"/>
                  <a:pt x="15847" y="5698"/>
                </a:cubicBezTo>
                <a:cubicBezTo>
                  <a:pt x="15853" y="5698"/>
                  <a:pt x="15853" y="5704"/>
                  <a:pt x="15859" y="5704"/>
                </a:cubicBezTo>
                <a:cubicBezTo>
                  <a:pt x="15865" y="5704"/>
                  <a:pt x="15865" y="5704"/>
                  <a:pt x="15871" y="5704"/>
                </a:cubicBezTo>
                <a:cubicBezTo>
                  <a:pt x="15877" y="5704"/>
                  <a:pt x="15877" y="5704"/>
                  <a:pt x="15883" y="5704"/>
                </a:cubicBezTo>
                <a:cubicBezTo>
                  <a:pt x="15889" y="5698"/>
                  <a:pt x="15883" y="5692"/>
                  <a:pt x="15883" y="5692"/>
                </a:cubicBezTo>
                <a:cubicBezTo>
                  <a:pt x="15883" y="5686"/>
                  <a:pt x="15889" y="5686"/>
                  <a:pt x="15895" y="5686"/>
                </a:cubicBezTo>
                <a:cubicBezTo>
                  <a:pt x="15901" y="5686"/>
                  <a:pt x="15907" y="5686"/>
                  <a:pt x="15913" y="5686"/>
                </a:cubicBezTo>
                <a:cubicBezTo>
                  <a:pt x="15913" y="5656"/>
                  <a:pt x="15913" y="5656"/>
                  <a:pt x="15913" y="5656"/>
                </a:cubicBezTo>
                <a:cubicBezTo>
                  <a:pt x="15913" y="5644"/>
                  <a:pt x="15907" y="5639"/>
                  <a:pt x="15901" y="5633"/>
                </a:cubicBezTo>
                <a:cubicBezTo>
                  <a:pt x="15895" y="5633"/>
                  <a:pt x="15889" y="5633"/>
                  <a:pt x="15889" y="5633"/>
                </a:cubicBezTo>
                <a:cubicBezTo>
                  <a:pt x="15883" y="5627"/>
                  <a:pt x="15883" y="5627"/>
                  <a:pt x="15877" y="5621"/>
                </a:cubicBezTo>
                <a:cubicBezTo>
                  <a:pt x="15877" y="5621"/>
                  <a:pt x="15877" y="5615"/>
                  <a:pt x="15877" y="5609"/>
                </a:cubicBezTo>
                <a:cubicBezTo>
                  <a:pt x="15871" y="5609"/>
                  <a:pt x="15877" y="5603"/>
                  <a:pt x="15877" y="5597"/>
                </a:cubicBezTo>
                <a:cubicBezTo>
                  <a:pt x="15871" y="5597"/>
                  <a:pt x="15865" y="5591"/>
                  <a:pt x="15865" y="5591"/>
                </a:cubicBezTo>
                <a:cubicBezTo>
                  <a:pt x="15859" y="5591"/>
                  <a:pt x="15853" y="5585"/>
                  <a:pt x="15853" y="5585"/>
                </a:cubicBezTo>
                <a:cubicBezTo>
                  <a:pt x="15847" y="5585"/>
                  <a:pt x="15842" y="5585"/>
                  <a:pt x="15842" y="5579"/>
                </a:cubicBezTo>
                <a:cubicBezTo>
                  <a:pt x="15836" y="5579"/>
                  <a:pt x="15836" y="5573"/>
                  <a:pt x="15836" y="5573"/>
                </a:cubicBezTo>
                <a:cubicBezTo>
                  <a:pt x="15836" y="5567"/>
                  <a:pt x="15830" y="5562"/>
                  <a:pt x="15830" y="5562"/>
                </a:cubicBezTo>
                <a:cubicBezTo>
                  <a:pt x="15830" y="5550"/>
                  <a:pt x="15830" y="5544"/>
                  <a:pt x="15830" y="5538"/>
                </a:cubicBezTo>
                <a:cubicBezTo>
                  <a:pt x="15830" y="5532"/>
                  <a:pt x="15824" y="5532"/>
                  <a:pt x="15818" y="5526"/>
                </a:cubicBezTo>
                <a:cubicBezTo>
                  <a:pt x="15818" y="5514"/>
                  <a:pt x="15812" y="5508"/>
                  <a:pt x="15800" y="5502"/>
                </a:cubicBezTo>
                <a:cubicBezTo>
                  <a:pt x="15794" y="5502"/>
                  <a:pt x="15788" y="5496"/>
                  <a:pt x="15776" y="5496"/>
                </a:cubicBezTo>
                <a:cubicBezTo>
                  <a:pt x="15776" y="5490"/>
                  <a:pt x="15776" y="5485"/>
                  <a:pt x="15770" y="5485"/>
                </a:cubicBezTo>
                <a:cubicBezTo>
                  <a:pt x="15764" y="5478"/>
                  <a:pt x="15764" y="5478"/>
                  <a:pt x="15759" y="5473"/>
                </a:cubicBezTo>
                <a:cubicBezTo>
                  <a:pt x="15753" y="5473"/>
                  <a:pt x="15741" y="5473"/>
                  <a:pt x="15741" y="5473"/>
                </a:cubicBezTo>
                <a:close/>
                <a:moveTo>
                  <a:pt x="15818" y="5461"/>
                </a:moveTo>
                <a:lnTo>
                  <a:pt x="15818" y="5461"/>
                </a:lnTo>
                <a:cubicBezTo>
                  <a:pt x="15830" y="5467"/>
                  <a:pt x="15836" y="5473"/>
                  <a:pt x="15847" y="5478"/>
                </a:cubicBezTo>
                <a:cubicBezTo>
                  <a:pt x="15853" y="5478"/>
                  <a:pt x="15853" y="5485"/>
                  <a:pt x="15859" y="5490"/>
                </a:cubicBezTo>
                <a:cubicBezTo>
                  <a:pt x="15859" y="5490"/>
                  <a:pt x="15865" y="5490"/>
                  <a:pt x="15871" y="5496"/>
                </a:cubicBezTo>
                <a:cubicBezTo>
                  <a:pt x="15871" y="5496"/>
                  <a:pt x="15877" y="5490"/>
                  <a:pt x="15883" y="5496"/>
                </a:cubicBezTo>
                <a:cubicBezTo>
                  <a:pt x="15883" y="5496"/>
                  <a:pt x="15877" y="5502"/>
                  <a:pt x="15883" y="5502"/>
                </a:cubicBezTo>
                <a:cubicBezTo>
                  <a:pt x="15883" y="5508"/>
                  <a:pt x="15889" y="5508"/>
                  <a:pt x="15889" y="5508"/>
                </a:cubicBezTo>
                <a:cubicBezTo>
                  <a:pt x="15895" y="5514"/>
                  <a:pt x="15901" y="5514"/>
                  <a:pt x="15901" y="5520"/>
                </a:cubicBezTo>
                <a:cubicBezTo>
                  <a:pt x="15907" y="5526"/>
                  <a:pt x="15907" y="5532"/>
                  <a:pt x="15907" y="5532"/>
                </a:cubicBezTo>
                <a:cubicBezTo>
                  <a:pt x="15907" y="5538"/>
                  <a:pt x="15907" y="5544"/>
                  <a:pt x="15907" y="5544"/>
                </a:cubicBezTo>
                <a:cubicBezTo>
                  <a:pt x="15907" y="5550"/>
                  <a:pt x="15907" y="5556"/>
                  <a:pt x="15913" y="5556"/>
                </a:cubicBezTo>
                <a:cubicBezTo>
                  <a:pt x="15913" y="5562"/>
                  <a:pt x="15919" y="5562"/>
                  <a:pt x="15925" y="5562"/>
                </a:cubicBezTo>
                <a:cubicBezTo>
                  <a:pt x="15930" y="5567"/>
                  <a:pt x="15936" y="5573"/>
                  <a:pt x="15948" y="5579"/>
                </a:cubicBezTo>
                <a:cubicBezTo>
                  <a:pt x="15948" y="5585"/>
                  <a:pt x="15954" y="5585"/>
                  <a:pt x="15960" y="5585"/>
                </a:cubicBezTo>
                <a:cubicBezTo>
                  <a:pt x="15960" y="5591"/>
                  <a:pt x="15966" y="5597"/>
                  <a:pt x="15966" y="5597"/>
                </a:cubicBezTo>
                <a:cubicBezTo>
                  <a:pt x="15972" y="5609"/>
                  <a:pt x="15966" y="5615"/>
                  <a:pt x="15966" y="5621"/>
                </a:cubicBezTo>
                <a:cubicBezTo>
                  <a:pt x="16014" y="5621"/>
                  <a:pt x="16014" y="5621"/>
                  <a:pt x="16014" y="5621"/>
                </a:cubicBezTo>
                <a:cubicBezTo>
                  <a:pt x="16014" y="5621"/>
                  <a:pt x="16014" y="5615"/>
                  <a:pt x="16014" y="5609"/>
                </a:cubicBezTo>
                <a:cubicBezTo>
                  <a:pt x="16014" y="5603"/>
                  <a:pt x="16019" y="5597"/>
                  <a:pt x="16019" y="5585"/>
                </a:cubicBezTo>
                <a:lnTo>
                  <a:pt x="16014" y="5585"/>
                </a:lnTo>
                <a:cubicBezTo>
                  <a:pt x="16014" y="5567"/>
                  <a:pt x="16008" y="5556"/>
                  <a:pt x="15996" y="5550"/>
                </a:cubicBezTo>
                <a:cubicBezTo>
                  <a:pt x="15996" y="5544"/>
                  <a:pt x="15990" y="5544"/>
                  <a:pt x="15984" y="5544"/>
                </a:cubicBezTo>
                <a:cubicBezTo>
                  <a:pt x="15984" y="5538"/>
                  <a:pt x="15984" y="5532"/>
                  <a:pt x="15984" y="5532"/>
                </a:cubicBezTo>
                <a:cubicBezTo>
                  <a:pt x="15978" y="5526"/>
                  <a:pt x="15978" y="5520"/>
                  <a:pt x="15972" y="5514"/>
                </a:cubicBezTo>
                <a:cubicBezTo>
                  <a:pt x="15972" y="5514"/>
                  <a:pt x="15966" y="5508"/>
                  <a:pt x="15966" y="5502"/>
                </a:cubicBezTo>
                <a:cubicBezTo>
                  <a:pt x="15960" y="5502"/>
                  <a:pt x="15954" y="5496"/>
                  <a:pt x="15948" y="5496"/>
                </a:cubicBezTo>
                <a:lnTo>
                  <a:pt x="15936" y="5496"/>
                </a:lnTo>
                <a:cubicBezTo>
                  <a:pt x="15930" y="5485"/>
                  <a:pt x="15930" y="5485"/>
                  <a:pt x="15930" y="5485"/>
                </a:cubicBezTo>
                <a:cubicBezTo>
                  <a:pt x="15930" y="5478"/>
                  <a:pt x="15936" y="5473"/>
                  <a:pt x="15936" y="5473"/>
                </a:cubicBezTo>
                <a:cubicBezTo>
                  <a:pt x="15936" y="5437"/>
                  <a:pt x="15936" y="5437"/>
                  <a:pt x="15936" y="5437"/>
                </a:cubicBezTo>
                <a:cubicBezTo>
                  <a:pt x="15930" y="5437"/>
                  <a:pt x="15930" y="5437"/>
                  <a:pt x="15925" y="5437"/>
                </a:cubicBezTo>
                <a:cubicBezTo>
                  <a:pt x="15919" y="5437"/>
                  <a:pt x="15919" y="5437"/>
                  <a:pt x="15913" y="5437"/>
                </a:cubicBezTo>
                <a:cubicBezTo>
                  <a:pt x="15901" y="5437"/>
                  <a:pt x="15901" y="5437"/>
                  <a:pt x="15901" y="5437"/>
                </a:cubicBezTo>
                <a:cubicBezTo>
                  <a:pt x="15889" y="5437"/>
                  <a:pt x="15883" y="5437"/>
                  <a:pt x="15877" y="5437"/>
                </a:cubicBezTo>
                <a:cubicBezTo>
                  <a:pt x="15871" y="5443"/>
                  <a:pt x="15877" y="5449"/>
                  <a:pt x="15871" y="5449"/>
                </a:cubicBezTo>
                <a:cubicBezTo>
                  <a:pt x="15871" y="5455"/>
                  <a:pt x="15865" y="5455"/>
                  <a:pt x="15859" y="5455"/>
                </a:cubicBezTo>
                <a:cubicBezTo>
                  <a:pt x="15859" y="5455"/>
                  <a:pt x="15853" y="5455"/>
                  <a:pt x="15847" y="5455"/>
                </a:cubicBezTo>
                <a:cubicBezTo>
                  <a:pt x="15842" y="5455"/>
                  <a:pt x="15830" y="5461"/>
                  <a:pt x="15818" y="5461"/>
                </a:cubicBezTo>
                <a:close/>
                <a:moveTo>
                  <a:pt x="15711" y="5514"/>
                </a:moveTo>
                <a:lnTo>
                  <a:pt x="15711" y="5514"/>
                </a:lnTo>
                <a:cubicBezTo>
                  <a:pt x="15711" y="5520"/>
                  <a:pt x="15711" y="5520"/>
                  <a:pt x="15705" y="5526"/>
                </a:cubicBezTo>
                <a:cubicBezTo>
                  <a:pt x="15699" y="5538"/>
                  <a:pt x="15693" y="5538"/>
                  <a:pt x="15687" y="5550"/>
                </a:cubicBezTo>
                <a:cubicBezTo>
                  <a:pt x="15687" y="5556"/>
                  <a:pt x="15687" y="5556"/>
                  <a:pt x="15687" y="5562"/>
                </a:cubicBezTo>
                <a:cubicBezTo>
                  <a:pt x="15681" y="5567"/>
                  <a:pt x="15681" y="5567"/>
                  <a:pt x="15676" y="5573"/>
                </a:cubicBezTo>
                <a:cubicBezTo>
                  <a:pt x="15676" y="5579"/>
                  <a:pt x="15676" y="5579"/>
                  <a:pt x="15670" y="5585"/>
                </a:cubicBezTo>
                <a:cubicBezTo>
                  <a:pt x="15670" y="5591"/>
                  <a:pt x="15664" y="5591"/>
                  <a:pt x="15664" y="5591"/>
                </a:cubicBezTo>
                <a:cubicBezTo>
                  <a:pt x="15658" y="5597"/>
                  <a:pt x="15658" y="5603"/>
                  <a:pt x="15658" y="5603"/>
                </a:cubicBezTo>
                <a:cubicBezTo>
                  <a:pt x="15652" y="5609"/>
                  <a:pt x="15652" y="5615"/>
                  <a:pt x="15652" y="5615"/>
                </a:cubicBezTo>
                <a:cubicBezTo>
                  <a:pt x="15646" y="5621"/>
                  <a:pt x="15640" y="5621"/>
                  <a:pt x="15640" y="5627"/>
                </a:cubicBezTo>
                <a:cubicBezTo>
                  <a:pt x="15634" y="5627"/>
                  <a:pt x="15640" y="5633"/>
                  <a:pt x="15640" y="5639"/>
                </a:cubicBezTo>
                <a:cubicBezTo>
                  <a:pt x="15640" y="5639"/>
                  <a:pt x="15640" y="5644"/>
                  <a:pt x="15640" y="5651"/>
                </a:cubicBezTo>
                <a:cubicBezTo>
                  <a:pt x="15640" y="5651"/>
                  <a:pt x="15634" y="5656"/>
                  <a:pt x="15628" y="5656"/>
                </a:cubicBezTo>
                <a:cubicBezTo>
                  <a:pt x="15628" y="5662"/>
                  <a:pt x="15622" y="5668"/>
                  <a:pt x="15622" y="5668"/>
                </a:cubicBezTo>
                <a:cubicBezTo>
                  <a:pt x="15616" y="5674"/>
                  <a:pt x="15616" y="5680"/>
                  <a:pt x="15616" y="5680"/>
                </a:cubicBezTo>
                <a:cubicBezTo>
                  <a:pt x="15610" y="5686"/>
                  <a:pt x="15598" y="5680"/>
                  <a:pt x="15592" y="5686"/>
                </a:cubicBezTo>
                <a:cubicBezTo>
                  <a:pt x="15587" y="5692"/>
                  <a:pt x="15592" y="5698"/>
                  <a:pt x="15587" y="5698"/>
                </a:cubicBezTo>
                <a:cubicBezTo>
                  <a:pt x="15587" y="5704"/>
                  <a:pt x="15581" y="5704"/>
                  <a:pt x="15581" y="5710"/>
                </a:cubicBezTo>
                <a:cubicBezTo>
                  <a:pt x="15575" y="5710"/>
                  <a:pt x="15569" y="5710"/>
                  <a:pt x="15569" y="5710"/>
                </a:cubicBezTo>
                <a:cubicBezTo>
                  <a:pt x="15563" y="5710"/>
                  <a:pt x="15557" y="5710"/>
                  <a:pt x="15557" y="5710"/>
                </a:cubicBezTo>
                <a:cubicBezTo>
                  <a:pt x="15551" y="5710"/>
                  <a:pt x="15551" y="5716"/>
                  <a:pt x="15545" y="5722"/>
                </a:cubicBezTo>
                <a:cubicBezTo>
                  <a:pt x="15539" y="5728"/>
                  <a:pt x="15539" y="5733"/>
                  <a:pt x="15539" y="5745"/>
                </a:cubicBezTo>
                <a:cubicBezTo>
                  <a:pt x="15545" y="5745"/>
                  <a:pt x="15545" y="5745"/>
                  <a:pt x="15551" y="5745"/>
                </a:cubicBezTo>
                <a:cubicBezTo>
                  <a:pt x="15551" y="5745"/>
                  <a:pt x="15557" y="5745"/>
                  <a:pt x="15563" y="5745"/>
                </a:cubicBezTo>
                <a:cubicBezTo>
                  <a:pt x="15563" y="5745"/>
                  <a:pt x="15569" y="5745"/>
                  <a:pt x="15575" y="5745"/>
                </a:cubicBezTo>
                <a:cubicBezTo>
                  <a:pt x="15575" y="5745"/>
                  <a:pt x="15581" y="5739"/>
                  <a:pt x="15581" y="5733"/>
                </a:cubicBezTo>
                <a:cubicBezTo>
                  <a:pt x="15587" y="5733"/>
                  <a:pt x="15592" y="5728"/>
                  <a:pt x="15592" y="5728"/>
                </a:cubicBezTo>
                <a:cubicBezTo>
                  <a:pt x="15592" y="5722"/>
                  <a:pt x="15592" y="5716"/>
                  <a:pt x="15592" y="5716"/>
                </a:cubicBezTo>
                <a:cubicBezTo>
                  <a:pt x="15598" y="5704"/>
                  <a:pt x="15604" y="5698"/>
                  <a:pt x="15610" y="5692"/>
                </a:cubicBezTo>
                <a:cubicBezTo>
                  <a:pt x="15610" y="5692"/>
                  <a:pt x="15616" y="5692"/>
                  <a:pt x="15622" y="5692"/>
                </a:cubicBezTo>
                <a:cubicBezTo>
                  <a:pt x="15628" y="5686"/>
                  <a:pt x="15628" y="5686"/>
                  <a:pt x="15634" y="5686"/>
                </a:cubicBezTo>
                <a:cubicBezTo>
                  <a:pt x="15640" y="5680"/>
                  <a:pt x="15646" y="5686"/>
                  <a:pt x="15658" y="5686"/>
                </a:cubicBezTo>
                <a:cubicBezTo>
                  <a:pt x="15658" y="5674"/>
                  <a:pt x="15658" y="5668"/>
                  <a:pt x="15658" y="5662"/>
                </a:cubicBezTo>
                <a:cubicBezTo>
                  <a:pt x="15658" y="5651"/>
                  <a:pt x="15664" y="5644"/>
                  <a:pt x="15664" y="5639"/>
                </a:cubicBezTo>
                <a:cubicBezTo>
                  <a:pt x="15670" y="5633"/>
                  <a:pt x="15676" y="5621"/>
                  <a:pt x="15681" y="5615"/>
                </a:cubicBezTo>
                <a:cubicBezTo>
                  <a:pt x="15681" y="5615"/>
                  <a:pt x="15687" y="5615"/>
                  <a:pt x="15693" y="5609"/>
                </a:cubicBezTo>
                <a:cubicBezTo>
                  <a:pt x="15693" y="5609"/>
                  <a:pt x="15699" y="5609"/>
                  <a:pt x="15705" y="5603"/>
                </a:cubicBezTo>
                <a:cubicBezTo>
                  <a:pt x="15705" y="5603"/>
                  <a:pt x="15705" y="5597"/>
                  <a:pt x="15705" y="5591"/>
                </a:cubicBezTo>
                <a:cubicBezTo>
                  <a:pt x="15711" y="5579"/>
                  <a:pt x="15705" y="5573"/>
                  <a:pt x="15705" y="5567"/>
                </a:cubicBezTo>
                <a:cubicBezTo>
                  <a:pt x="15705" y="5562"/>
                  <a:pt x="15711" y="5556"/>
                  <a:pt x="15711" y="5556"/>
                </a:cubicBezTo>
                <a:cubicBezTo>
                  <a:pt x="15711" y="5544"/>
                  <a:pt x="15711" y="5526"/>
                  <a:pt x="15711" y="5514"/>
                </a:cubicBezTo>
                <a:close/>
                <a:moveTo>
                  <a:pt x="15759" y="5182"/>
                </a:moveTo>
                <a:lnTo>
                  <a:pt x="15759" y="5182"/>
                </a:lnTo>
                <a:cubicBezTo>
                  <a:pt x="15729" y="5182"/>
                  <a:pt x="15729" y="5182"/>
                  <a:pt x="15729" y="5182"/>
                </a:cubicBezTo>
                <a:cubicBezTo>
                  <a:pt x="15729" y="5182"/>
                  <a:pt x="15729" y="5182"/>
                  <a:pt x="15729" y="5188"/>
                </a:cubicBezTo>
                <a:lnTo>
                  <a:pt x="15729" y="5188"/>
                </a:lnTo>
                <a:cubicBezTo>
                  <a:pt x="15729" y="5194"/>
                  <a:pt x="15729" y="5194"/>
                  <a:pt x="15729" y="5200"/>
                </a:cubicBezTo>
                <a:lnTo>
                  <a:pt x="15729" y="5200"/>
                </a:lnTo>
                <a:cubicBezTo>
                  <a:pt x="15729" y="5206"/>
                  <a:pt x="15729" y="5206"/>
                  <a:pt x="15729" y="5212"/>
                </a:cubicBezTo>
                <a:cubicBezTo>
                  <a:pt x="15729" y="5212"/>
                  <a:pt x="15729" y="5212"/>
                  <a:pt x="15729" y="5218"/>
                </a:cubicBezTo>
                <a:cubicBezTo>
                  <a:pt x="15729" y="5218"/>
                  <a:pt x="15729" y="5218"/>
                  <a:pt x="15735" y="5224"/>
                </a:cubicBezTo>
                <a:lnTo>
                  <a:pt x="15735" y="5230"/>
                </a:lnTo>
                <a:cubicBezTo>
                  <a:pt x="15735" y="5235"/>
                  <a:pt x="15735" y="5235"/>
                  <a:pt x="15735" y="5235"/>
                </a:cubicBezTo>
                <a:cubicBezTo>
                  <a:pt x="15735" y="5241"/>
                  <a:pt x="15729" y="5241"/>
                  <a:pt x="15729" y="5247"/>
                </a:cubicBezTo>
                <a:cubicBezTo>
                  <a:pt x="15729" y="5247"/>
                  <a:pt x="15723" y="5247"/>
                  <a:pt x="15723" y="5253"/>
                </a:cubicBezTo>
                <a:cubicBezTo>
                  <a:pt x="15723" y="5253"/>
                  <a:pt x="15723" y="5259"/>
                  <a:pt x="15723" y="5265"/>
                </a:cubicBezTo>
                <a:cubicBezTo>
                  <a:pt x="15723" y="5271"/>
                  <a:pt x="15729" y="5277"/>
                  <a:pt x="15729" y="5289"/>
                </a:cubicBezTo>
                <a:cubicBezTo>
                  <a:pt x="15729" y="5295"/>
                  <a:pt x="15723" y="5295"/>
                  <a:pt x="15723" y="5295"/>
                </a:cubicBezTo>
                <a:cubicBezTo>
                  <a:pt x="15717" y="5295"/>
                  <a:pt x="15717" y="5301"/>
                  <a:pt x="15717" y="5301"/>
                </a:cubicBezTo>
                <a:cubicBezTo>
                  <a:pt x="15711" y="5301"/>
                  <a:pt x="15711" y="5301"/>
                  <a:pt x="15705" y="5307"/>
                </a:cubicBezTo>
                <a:cubicBezTo>
                  <a:pt x="15699" y="5307"/>
                  <a:pt x="15693" y="5307"/>
                  <a:pt x="15693" y="5312"/>
                </a:cubicBezTo>
                <a:cubicBezTo>
                  <a:pt x="15687" y="5312"/>
                  <a:pt x="15687" y="5318"/>
                  <a:pt x="15687" y="5318"/>
                </a:cubicBezTo>
                <a:cubicBezTo>
                  <a:pt x="15687" y="5324"/>
                  <a:pt x="15687" y="5324"/>
                  <a:pt x="15687" y="5324"/>
                </a:cubicBezTo>
                <a:cubicBezTo>
                  <a:pt x="15687" y="5330"/>
                  <a:pt x="15687" y="5330"/>
                  <a:pt x="15687" y="5336"/>
                </a:cubicBezTo>
                <a:cubicBezTo>
                  <a:pt x="15687" y="5336"/>
                  <a:pt x="15693" y="5336"/>
                  <a:pt x="15693" y="5342"/>
                </a:cubicBezTo>
                <a:cubicBezTo>
                  <a:pt x="15693" y="5348"/>
                  <a:pt x="15699" y="5348"/>
                  <a:pt x="15699" y="5354"/>
                </a:cubicBezTo>
                <a:cubicBezTo>
                  <a:pt x="15705" y="5354"/>
                  <a:pt x="15705" y="5354"/>
                  <a:pt x="15711" y="5360"/>
                </a:cubicBezTo>
                <a:lnTo>
                  <a:pt x="15717" y="5366"/>
                </a:lnTo>
                <a:cubicBezTo>
                  <a:pt x="15723" y="5366"/>
                  <a:pt x="15729" y="5372"/>
                  <a:pt x="15735" y="5378"/>
                </a:cubicBezTo>
                <a:cubicBezTo>
                  <a:pt x="15735" y="5378"/>
                  <a:pt x="15735" y="5378"/>
                  <a:pt x="15741" y="5378"/>
                </a:cubicBezTo>
                <a:lnTo>
                  <a:pt x="15741" y="5378"/>
                </a:lnTo>
                <a:cubicBezTo>
                  <a:pt x="15741" y="5390"/>
                  <a:pt x="15735" y="5390"/>
                  <a:pt x="15735" y="5401"/>
                </a:cubicBezTo>
                <a:cubicBezTo>
                  <a:pt x="15735" y="5407"/>
                  <a:pt x="15741" y="5407"/>
                  <a:pt x="15741" y="5413"/>
                </a:cubicBezTo>
                <a:cubicBezTo>
                  <a:pt x="15741" y="5419"/>
                  <a:pt x="15741" y="5419"/>
                  <a:pt x="15747" y="5425"/>
                </a:cubicBezTo>
                <a:cubicBezTo>
                  <a:pt x="15753" y="5425"/>
                  <a:pt x="15753" y="5425"/>
                  <a:pt x="15753" y="5425"/>
                </a:cubicBezTo>
                <a:cubicBezTo>
                  <a:pt x="15759" y="5425"/>
                  <a:pt x="15759" y="5425"/>
                  <a:pt x="15764" y="5425"/>
                </a:cubicBezTo>
                <a:cubicBezTo>
                  <a:pt x="15788" y="5425"/>
                  <a:pt x="15788" y="5425"/>
                  <a:pt x="15788" y="5425"/>
                </a:cubicBezTo>
                <a:cubicBezTo>
                  <a:pt x="15788" y="5407"/>
                  <a:pt x="15788" y="5407"/>
                  <a:pt x="15788" y="5407"/>
                </a:cubicBezTo>
                <a:cubicBezTo>
                  <a:pt x="15788" y="5401"/>
                  <a:pt x="15788" y="5401"/>
                  <a:pt x="15788" y="5396"/>
                </a:cubicBezTo>
                <a:cubicBezTo>
                  <a:pt x="15788" y="5372"/>
                  <a:pt x="15788" y="5372"/>
                  <a:pt x="15788" y="5372"/>
                </a:cubicBezTo>
                <a:cubicBezTo>
                  <a:pt x="15788" y="5366"/>
                  <a:pt x="15788" y="5360"/>
                  <a:pt x="15794" y="5354"/>
                </a:cubicBezTo>
                <a:cubicBezTo>
                  <a:pt x="15800" y="5348"/>
                  <a:pt x="15800" y="5348"/>
                  <a:pt x="15806" y="5342"/>
                </a:cubicBezTo>
                <a:lnTo>
                  <a:pt x="15812" y="5342"/>
                </a:lnTo>
                <a:cubicBezTo>
                  <a:pt x="15812" y="5342"/>
                  <a:pt x="15812" y="5336"/>
                  <a:pt x="15818" y="5336"/>
                </a:cubicBezTo>
                <a:lnTo>
                  <a:pt x="15818" y="5330"/>
                </a:lnTo>
                <a:cubicBezTo>
                  <a:pt x="15824" y="5324"/>
                  <a:pt x="15824" y="5324"/>
                  <a:pt x="15824" y="5324"/>
                </a:cubicBezTo>
                <a:cubicBezTo>
                  <a:pt x="15830" y="5318"/>
                  <a:pt x="15830" y="5318"/>
                  <a:pt x="15830" y="5312"/>
                </a:cubicBezTo>
                <a:cubicBezTo>
                  <a:pt x="15830" y="5307"/>
                  <a:pt x="15836" y="5307"/>
                  <a:pt x="15836" y="5301"/>
                </a:cubicBezTo>
                <a:cubicBezTo>
                  <a:pt x="15836" y="5295"/>
                  <a:pt x="15836" y="5295"/>
                  <a:pt x="15836" y="5289"/>
                </a:cubicBezTo>
                <a:cubicBezTo>
                  <a:pt x="15836" y="5283"/>
                  <a:pt x="15836" y="5283"/>
                  <a:pt x="15836" y="5283"/>
                </a:cubicBezTo>
                <a:cubicBezTo>
                  <a:pt x="15836" y="5277"/>
                  <a:pt x="15842" y="5277"/>
                  <a:pt x="15842" y="5271"/>
                </a:cubicBezTo>
                <a:cubicBezTo>
                  <a:pt x="15842" y="5265"/>
                  <a:pt x="15842" y="5265"/>
                  <a:pt x="15842" y="5265"/>
                </a:cubicBezTo>
                <a:cubicBezTo>
                  <a:pt x="15842" y="5265"/>
                  <a:pt x="15842" y="5259"/>
                  <a:pt x="15836" y="5253"/>
                </a:cubicBezTo>
                <a:cubicBezTo>
                  <a:pt x="15836" y="5253"/>
                  <a:pt x="15836" y="5253"/>
                  <a:pt x="15836" y="5247"/>
                </a:cubicBezTo>
                <a:cubicBezTo>
                  <a:pt x="15836" y="5247"/>
                  <a:pt x="15836" y="5247"/>
                  <a:pt x="15830" y="5241"/>
                </a:cubicBezTo>
                <a:cubicBezTo>
                  <a:pt x="15830" y="5241"/>
                  <a:pt x="15830" y="5241"/>
                  <a:pt x="15830" y="5235"/>
                </a:cubicBezTo>
                <a:cubicBezTo>
                  <a:pt x="15830" y="5235"/>
                  <a:pt x="15830" y="5235"/>
                  <a:pt x="15830" y="5230"/>
                </a:cubicBezTo>
                <a:lnTo>
                  <a:pt x="15824" y="5224"/>
                </a:lnTo>
                <a:lnTo>
                  <a:pt x="15824" y="5218"/>
                </a:lnTo>
                <a:lnTo>
                  <a:pt x="15818" y="5212"/>
                </a:lnTo>
                <a:cubicBezTo>
                  <a:pt x="15818" y="5212"/>
                  <a:pt x="15818" y="5206"/>
                  <a:pt x="15812" y="5206"/>
                </a:cubicBezTo>
                <a:cubicBezTo>
                  <a:pt x="15812" y="5206"/>
                  <a:pt x="15812" y="5200"/>
                  <a:pt x="15806" y="5200"/>
                </a:cubicBezTo>
                <a:lnTo>
                  <a:pt x="15800" y="5200"/>
                </a:lnTo>
                <a:cubicBezTo>
                  <a:pt x="15794" y="5200"/>
                  <a:pt x="15794" y="5200"/>
                  <a:pt x="15794" y="5200"/>
                </a:cubicBezTo>
                <a:cubicBezTo>
                  <a:pt x="15788" y="5200"/>
                  <a:pt x="15788" y="5200"/>
                  <a:pt x="15782" y="5194"/>
                </a:cubicBezTo>
                <a:lnTo>
                  <a:pt x="15776" y="5194"/>
                </a:lnTo>
                <a:lnTo>
                  <a:pt x="15776" y="5188"/>
                </a:lnTo>
                <a:cubicBezTo>
                  <a:pt x="15770" y="5188"/>
                  <a:pt x="15770" y="5182"/>
                  <a:pt x="15770" y="5182"/>
                </a:cubicBezTo>
                <a:cubicBezTo>
                  <a:pt x="15764" y="5182"/>
                  <a:pt x="15759" y="5182"/>
                  <a:pt x="15759" y="5182"/>
                </a:cubicBezTo>
                <a:close/>
                <a:moveTo>
                  <a:pt x="15812" y="4820"/>
                </a:moveTo>
                <a:lnTo>
                  <a:pt x="15812" y="4820"/>
                </a:lnTo>
                <a:cubicBezTo>
                  <a:pt x="15812" y="4814"/>
                  <a:pt x="15812" y="4809"/>
                  <a:pt x="15818" y="4803"/>
                </a:cubicBezTo>
                <a:cubicBezTo>
                  <a:pt x="15806" y="4803"/>
                  <a:pt x="15800" y="4803"/>
                  <a:pt x="15794" y="4803"/>
                </a:cubicBezTo>
                <a:cubicBezTo>
                  <a:pt x="15788" y="4803"/>
                  <a:pt x="15782" y="4803"/>
                  <a:pt x="15782" y="4803"/>
                </a:cubicBezTo>
                <a:cubicBezTo>
                  <a:pt x="15776" y="4803"/>
                  <a:pt x="15776" y="4809"/>
                  <a:pt x="15770" y="4814"/>
                </a:cubicBezTo>
                <a:cubicBezTo>
                  <a:pt x="15770" y="4814"/>
                  <a:pt x="15764" y="4820"/>
                  <a:pt x="15759" y="4820"/>
                </a:cubicBezTo>
                <a:cubicBezTo>
                  <a:pt x="15759" y="4826"/>
                  <a:pt x="15753" y="4826"/>
                  <a:pt x="15747" y="4832"/>
                </a:cubicBezTo>
                <a:cubicBezTo>
                  <a:pt x="15747" y="4838"/>
                  <a:pt x="15741" y="4838"/>
                  <a:pt x="15741" y="4844"/>
                </a:cubicBezTo>
                <a:cubicBezTo>
                  <a:pt x="15741" y="4844"/>
                  <a:pt x="15741" y="4850"/>
                  <a:pt x="15735" y="4856"/>
                </a:cubicBezTo>
                <a:lnTo>
                  <a:pt x="15723" y="4856"/>
                </a:lnTo>
                <a:cubicBezTo>
                  <a:pt x="15723" y="4862"/>
                  <a:pt x="15723" y="4862"/>
                  <a:pt x="15723" y="4868"/>
                </a:cubicBezTo>
                <a:cubicBezTo>
                  <a:pt x="15717" y="4874"/>
                  <a:pt x="15717" y="4880"/>
                  <a:pt x="15717" y="4892"/>
                </a:cubicBezTo>
                <a:cubicBezTo>
                  <a:pt x="15717" y="4986"/>
                  <a:pt x="15717" y="4986"/>
                  <a:pt x="15717" y="4986"/>
                </a:cubicBezTo>
                <a:cubicBezTo>
                  <a:pt x="15747" y="4986"/>
                  <a:pt x="15747" y="4986"/>
                  <a:pt x="15747" y="4986"/>
                </a:cubicBezTo>
                <a:cubicBezTo>
                  <a:pt x="15747" y="4980"/>
                  <a:pt x="15747" y="4975"/>
                  <a:pt x="15747" y="4963"/>
                </a:cubicBezTo>
                <a:cubicBezTo>
                  <a:pt x="15747" y="4957"/>
                  <a:pt x="15753" y="4957"/>
                  <a:pt x="15753" y="4951"/>
                </a:cubicBezTo>
                <a:cubicBezTo>
                  <a:pt x="15753" y="4945"/>
                  <a:pt x="15753" y="4945"/>
                  <a:pt x="15753" y="4939"/>
                </a:cubicBezTo>
                <a:cubicBezTo>
                  <a:pt x="15759" y="4933"/>
                  <a:pt x="15764" y="4933"/>
                  <a:pt x="15764" y="4933"/>
                </a:cubicBezTo>
                <a:cubicBezTo>
                  <a:pt x="15770" y="4921"/>
                  <a:pt x="15770" y="4921"/>
                  <a:pt x="15770" y="4921"/>
                </a:cubicBezTo>
                <a:cubicBezTo>
                  <a:pt x="15776" y="4915"/>
                  <a:pt x="15770" y="4909"/>
                  <a:pt x="15770" y="4909"/>
                </a:cubicBezTo>
                <a:cubicBezTo>
                  <a:pt x="15776" y="4903"/>
                  <a:pt x="15782" y="4903"/>
                  <a:pt x="15782" y="4897"/>
                </a:cubicBezTo>
                <a:cubicBezTo>
                  <a:pt x="15788" y="4892"/>
                  <a:pt x="15788" y="4892"/>
                  <a:pt x="15788" y="4886"/>
                </a:cubicBezTo>
                <a:cubicBezTo>
                  <a:pt x="15794" y="4874"/>
                  <a:pt x="15806" y="4874"/>
                  <a:pt x="15812" y="4862"/>
                </a:cubicBezTo>
                <a:cubicBezTo>
                  <a:pt x="15812" y="4856"/>
                  <a:pt x="15818" y="4856"/>
                  <a:pt x="15818" y="4850"/>
                </a:cubicBezTo>
                <a:cubicBezTo>
                  <a:pt x="15818" y="4838"/>
                  <a:pt x="15818" y="4838"/>
                  <a:pt x="15818" y="4838"/>
                </a:cubicBezTo>
                <a:cubicBezTo>
                  <a:pt x="15818" y="4826"/>
                  <a:pt x="15818" y="4826"/>
                  <a:pt x="15818" y="4826"/>
                </a:cubicBezTo>
                <a:cubicBezTo>
                  <a:pt x="15818" y="4826"/>
                  <a:pt x="15812" y="4826"/>
                  <a:pt x="15812" y="4820"/>
                </a:cubicBezTo>
                <a:close/>
                <a:moveTo>
                  <a:pt x="17270" y="3540"/>
                </a:moveTo>
                <a:lnTo>
                  <a:pt x="17270" y="3540"/>
                </a:lnTo>
                <a:cubicBezTo>
                  <a:pt x="17265" y="3540"/>
                  <a:pt x="17259" y="3540"/>
                  <a:pt x="17259" y="3540"/>
                </a:cubicBezTo>
                <a:cubicBezTo>
                  <a:pt x="17247" y="3546"/>
                  <a:pt x="17241" y="3546"/>
                  <a:pt x="17235" y="3557"/>
                </a:cubicBezTo>
                <a:cubicBezTo>
                  <a:pt x="17229" y="3557"/>
                  <a:pt x="17235" y="3563"/>
                  <a:pt x="17229" y="3569"/>
                </a:cubicBezTo>
                <a:cubicBezTo>
                  <a:pt x="17229" y="3569"/>
                  <a:pt x="17229" y="3575"/>
                  <a:pt x="17223" y="3575"/>
                </a:cubicBezTo>
                <a:cubicBezTo>
                  <a:pt x="17223" y="3581"/>
                  <a:pt x="17217" y="3581"/>
                  <a:pt x="17211" y="3581"/>
                </a:cubicBezTo>
                <a:cubicBezTo>
                  <a:pt x="17205" y="3587"/>
                  <a:pt x="17199" y="3593"/>
                  <a:pt x="17193" y="3599"/>
                </a:cubicBezTo>
                <a:cubicBezTo>
                  <a:pt x="17187" y="3599"/>
                  <a:pt x="17181" y="3599"/>
                  <a:pt x="17181" y="3599"/>
                </a:cubicBezTo>
                <a:cubicBezTo>
                  <a:pt x="17170" y="3599"/>
                  <a:pt x="17164" y="3599"/>
                  <a:pt x="17158" y="3599"/>
                </a:cubicBezTo>
                <a:cubicBezTo>
                  <a:pt x="17146" y="3599"/>
                  <a:pt x="17146" y="3599"/>
                  <a:pt x="17146" y="3599"/>
                </a:cubicBezTo>
                <a:cubicBezTo>
                  <a:pt x="17140" y="3599"/>
                  <a:pt x="17140" y="3605"/>
                  <a:pt x="17134" y="3605"/>
                </a:cubicBezTo>
                <a:cubicBezTo>
                  <a:pt x="17122" y="3605"/>
                  <a:pt x="17122" y="3605"/>
                  <a:pt x="17122" y="3605"/>
                </a:cubicBezTo>
                <a:cubicBezTo>
                  <a:pt x="17116" y="3605"/>
                  <a:pt x="17104" y="3599"/>
                  <a:pt x="17099" y="3605"/>
                </a:cubicBezTo>
                <a:cubicBezTo>
                  <a:pt x="17093" y="3605"/>
                  <a:pt x="17093" y="3611"/>
                  <a:pt x="17093" y="3617"/>
                </a:cubicBezTo>
                <a:cubicBezTo>
                  <a:pt x="17087" y="3617"/>
                  <a:pt x="17087" y="3617"/>
                  <a:pt x="17081" y="3623"/>
                </a:cubicBezTo>
                <a:cubicBezTo>
                  <a:pt x="17075" y="3623"/>
                  <a:pt x="17075" y="3623"/>
                  <a:pt x="17069" y="3629"/>
                </a:cubicBezTo>
                <a:cubicBezTo>
                  <a:pt x="17063" y="3629"/>
                  <a:pt x="17057" y="3635"/>
                  <a:pt x="17051" y="3635"/>
                </a:cubicBezTo>
                <a:cubicBezTo>
                  <a:pt x="17045" y="3635"/>
                  <a:pt x="17039" y="3629"/>
                  <a:pt x="17033" y="3629"/>
                </a:cubicBezTo>
                <a:cubicBezTo>
                  <a:pt x="17021" y="3623"/>
                  <a:pt x="17010" y="3617"/>
                  <a:pt x="16998" y="3611"/>
                </a:cubicBezTo>
                <a:cubicBezTo>
                  <a:pt x="16992" y="3605"/>
                  <a:pt x="16992" y="3605"/>
                  <a:pt x="16986" y="3599"/>
                </a:cubicBezTo>
                <a:cubicBezTo>
                  <a:pt x="16974" y="3593"/>
                  <a:pt x="16974" y="3587"/>
                  <a:pt x="16968" y="3575"/>
                </a:cubicBezTo>
                <a:cubicBezTo>
                  <a:pt x="16962" y="3575"/>
                  <a:pt x="16962" y="3575"/>
                  <a:pt x="16956" y="3569"/>
                </a:cubicBezTo>
                <a:cubicBezTo>
                  <a:pt x="16950" y="3569"/>
                  <a:pt x="16950" y="3563"/>
                  <a:pt x="16944" y="3563"/>
                </a:cubicBezTo>
                <a:cubicBezTo>
                  <a:pt x="16933" y="3557"/>
                  <a:pt x="16921" y="3557"/>
                  <a:pt x="16909" y="3557"/>
                </a:cubicBezTo>
                <a:cubicBezTo>
                  <a:pt x="16903" y="3552"/>
                  <a:pt x="16897" y="3552"/>
                  <a:pt x="16891" y="3546"/>
                </a:cubicBezTo>
                <a:cubicBezTo>
                  <a:pt x="16891" y="3552"/>
                  <a:pt x="16891" y="3552"/>
                  <a:pt x="16891" y="3557"/>
                </a:cubicBezTo>
                <a:cubicBezTo>
                  <a:pt x="16885" y="3569"/>
                  <a:pt x="16885" y="3575"/>
                  <a:pt x="16891" y="3581"/>
                </a:cubicBezTo>
                <a:cubicBezTo>
                  <a:pt x="16891" y="3587"/>
                  <a:pt x="16891" y="3593"/>
                  <a:pt x="16891" y="3593"/>
                </a:cubicBezTo>
                <a:cubicBezTo>
                  <a:pt x="16891" y="3605"/>
                  <a:pt x="16891" y="3611"/>
                  <a:pt x="16891" y="3617"/>
                </a:cubicBezTo>
                <a:cubicBezTo>
                  <a:pt x="16891" y="3623"/>
                  <a:pt x="16891" y="3629"/>
                  <a:pt x="16891" y="3629"/>
                </a:cubicBezTo>
                <a:cubicBezTo>
                  <a:pt x="16891" y="3635"/>
                  <a:pt x="16891" y="3635"/>
                  <a:pt x="16891" y="3641"/>
                </a:cubicBezTo>
                <a:cubicBezTo>
                  <a:pt x="16891" y="3646"/>
                  <a:pt x="16885" y="3646"/>
                  <a:pt x="16879" y="3652"/>
                </a:cubicBezTo>
                <a:cubicBezTo>
                  <a:pt x="16879" y="3652"/>
                  <a:pt x="16879" y="3658"/>
                  <a:pt x="16873" y="3658"/>
                </a:cubicBezTo>
                <a:cubicBezTo>
                  <a:pt x="16873" y="3664"/>
                  <a:pt x="16867" y="3664"/>
                  <a:pt x="16861" y="3664"/>
                </a:cubicBezTo>
                <a:cubicBezTo>
                  <a:pt x="16861" y="3670"/>
                  <a:pt x="16855" y="3670"/>
                  <a:pt x="16855" y="3676"/>
                </a:cubicBezTo>
                <a:cubicBezTo>
                  <a:pt x="16849" y="3688"/>
                  <a:pt x="16849" y="3700"/>
                  <a:pt x="16849" y="3712"/>
                </a:cubicBezTo>
                <a:cubicBezTo>
                  <a:pt x="16844" y="3712"/>
                  <a:pt x="16844" y="3718"/>
                  <a:pt x="16838" y="3718"/>
                </a:cubicBezTo>
                <a:cubicBezTo>
                  <a:pt x="16832" y="3718"/>
                  <a:pt x="16832" y="3712"/>
                  <a:pt x="16826" y="3706"/>
                </a:cubicBezTo>
                <a:cubicBezTo>
                  <a:pt x="16826" y="3706"/>
                  <a:pt x="16826" y="3700"/>
                  <a:pt x="16820" y="3694"/>
                </a:cubicBezTo>
                <a:cubicBezTo>
                  <a:pt x="16820" y="3700"/>
                  <a:pt x="16814" y="3706"/>
                  <a:pt x="16814" y="3712"/>
                </a:cubicBezTo>
                <a:cubicBezTo>
                  <a:pt x="16814" y="3712"/>
                  <a:pt x="16814" y="3718"/>
                  <a:pt x="16814" y="3723"/>
                </a:cubicBezTo>
                <a:cubicBezTo>
                  <a:pt x="16808" y="3723"/>
                  <a:pt x="16802" y="3718"/>
                  <a:pt x="16802" y="3723"/>
                </a:cubicBezTo>
                <a:cubicBezTo>
                  <a:pt x="16796" y="3723"/>
                  <a:pt x="16796" y="3730"/>
                  <a:pt x="16790" y="3730"/>
                </a:cubicBezTo>
                <a:cubicBezTo>
                  <a:pt x="16784" y="3741"/>
                  <a:pt x="16778" y="3747"/>
                  <a:pt x="16778" y="3759"/>
                </a:cubicBezTo>
                <a:cubicBezTo>
                  <a:pt x="16778" y="3765"/>
                  <a:pt x="16778" y="3771"/>
                  <a:pt x="16784" y="3777"/>
                </a:cubicBezTo>
                <a:cubicBezTo>
                  <a:pt x="16784" y="3783"/>
                  <a:pt x="16790" y="3783"/>
                  <a:pt x="16796" y="3783"/>
                </a:cubicBezTo>
                <a:cubicBezTo>
                  <a:pt x="16796" y="3789"/>
                  <a:pt x="16802" y="3789"/>
                  <a:pt x="16808" y="3795"/>
                </a:cubicBezTo>
                <a:cubicBezTo>
                  <a:pt x="16808" y="3801"/>
                  <a:pt x="16802" y="3807"/>
                  <a:pt x="16808" y="3807"/>
                </a:cubicBezTo>
                <a:cubicBezTo>
                  <a:pt x="16808" y="3812"/>
                  <a:pt x="16814" y="3812"/>
                  <a:pt x="16814" y="3812"/>
                </a:cubicBezTo>
                <a:cubicBezTo>
                  <a:pt x="16820" y="3812"/>
                  <a:pt x="16820" y="3812"/>
                  <a:pt x="16820" y="3812"/>
                </a:cubicBezTo>
                <a:cubicBezTo>
                  <a:pt x="16832" y="3812"/>
                  <a:pt x="16832" y="3807"/>
                  <a:pt x="16838" y="3807"/>
                </a:cubicBezTo>
                <a:cubicBezTo>
                  <a:pt x="16838" y="3836"/>
                  <a:pt x="16838" y="3836"/>
                  <a:pt x="16838" y="3836"/>
                </a:cubicBezTo>
                <a:cubicBezTo>
                  <a:pt x="16796" y="3836"/>
                  <a:pt x="16796" y="3836"/>
                  <a:pt x="16796" y="3836"/>
                </a:cubicBezTo>
                <a:cubicBezTo>
                  <a:pt x="16796" y="3842"/>
                  <a:pt x="16796" y="3848"/>
                  <a:pt x="16796" y="3860"/>
                </a:cubicBezTo>
                <a:cubicBezTo>
                  <a:pt x="16796" y="3872"/>
                  <a:pt x="16796" y="3872"/>
                  <a:pt x="16796" y="3872"/>
                </a:cubicBezTo>
                <a:cubicBezTo>
                  <a:pt x="16796" y="3878"/>
                  <a:pt x="16796" y="3884"/>
                  <a:pt x="16796" y="3884"/>
                </a:cubicBezTo>
                <a:cubicBezTo>
                  <a:pt x="16796" y="3889"/>
                  <a:pt x="16790" y="3895"/>
                  <a:pt x="16790" y="3895"/>
                </a:cubicBezTo>
                <a:cubicBezTo>
                  <a:pt x="16790" y="3901"/>
                  <a:pt x="16784" y="3901"/>
                  <a:pt x="16784" y="3907"/>
                </a:cubicBezTo>
                <a:cubicBezTo>
                  <a:pt x="16784" y="3913"/>
                  <a:pt x="16790" y="3913"/>
                  <a:pt x="16790" y="3919"/>
                </a:cubicBezTo>
                <a:cubicBezTo>
                  <a:pt x="16790" y="3961"/>
                  <a:pt x="16790" y="3961"/>
                  <a:pt x="16790" y="3961"/>
                </a:cubicBezTo>
                <a:cubicBezTo>
                  <a:pt x="16790" y="3967"/>
                  <a:pt x="16790" y="3973"/>
                  <a:pt x="16790" y="3984"/>
                </a:cubicBezTo>
                <a:cubicBezTo>
                  <a:pt x="16790" y="3984"/>
                  <a:pt x="16790" y="3990"/>
                  <a:pt x="16784" y="3996"/>
                </a:cubicBezTo>
                <a:cubicBezTo>
                  <a:pt x="16784" y="3996"/>
                  <a:pt x="16778" y="3996"/>
                  <a:pt x="16772" y="4002"/>
                </a:cubicBezTo>
                <a:cubicBezTo>
                  <a:pt x="16772" y="4002"/>
                  <a:pt x="16767" y="4002"/>
                  <a:pt x="16760" y="4002"/>
                </a:cubicBezTo>
                <a:cubicBezTo>
                  <a:pt x="16755" y="4002"/>
                  <a:pt x="16755" y="4008"/>
                  <a:pt x="16749" y="4014"/>
                </a:cubicBezTo>
                <a:cubicBezTo>
                  <a:pt x="16749" y="4020"/>
                  <a:pt x="16743" y="4026"/>
                  <a:pt x="16737" y="4038"/>
                </a:cubicBezTo>
                <a:cubicBezTo>
                  <a:pt x="16737" y="4044"/>
                  <a:pt x="16731" y="4044"/>
                  <a:pt x="16725" y="4050"/>
                </a:cubicBezTo>
                <a:cubicBezTo>
                  <a:pt x="16719" y="4055"/>
                  <a:pt x="16713" y="4062"/>
                  <a:pt x="16707" y="4067"/>
                </a:cubicBezTo>
                <a:cubicBezTo>
                  <a:pt x="16707" y="4067"/>
                  <a:pt x="16707" y="4062"/>
                  <a:pt x="16707" y="4055"/>
                </a:cubicBezTo>
                <a:cubicBezTo>
                  <a:pt x="16707" y="4055"/>
                  <a:pt x="16713" y="4050"/>
                  <a:pt x="16713" y="4044"/>
                </a:cubicBezTo>
                <a:cubicBezTo>
                  <a:pt x="16713" y="4038"/>
                  <a:pt x="16707" y="4032"/>
                  <a:pt x="16707" y="4026"/>
                </a:cubicBezTo>
                <a:lnTo>
                  <a:pt x="16701" y="4026"/>
                </a:lnTo>
                <a:cubicBezTo>
                  <a:pt x="16701" y="4032"/>
                  <a:pt x="16701" y="4038"/>
                  <a:pt x="16695" y="4038"/>
                </a:cubicBezTo>
                <a:cubicBezTo>
                  <a:pt x="16695" y="4050"/>
                  <a:pt x="16695" y="4055"/>
                  <a:pt x="16695" y="4062"/>
                </a:cubicBezTo>
                <a:cubicBezTo>
                  <a:pt x="16654" y="4062"/>
                  <a:pt x="16654" y="4062"/>
                  <a:pt x="16654" y="4062"/>
                </a:cubicBezTo>
                <a:cubicBezTo>
                  <a:pt x="16654" y="4109"/>
                  <a:pt x="16654" y="4109"/>
                  <a:pt x="16654" y="4109"/>
                </a:cubicBezTo>
                <a:cubicBezTo>
                  <a:pt x="16642" y="4109"/>
                  <a:pt x="16642" y="4109"/>
                  <a:pt x="16642" y="4109"/>
                </a:cubicBezTo>
                <a:cubicBezTo>
                  <a:pt x="16636" y="4109"/>
                  <a:pt x="16630" y="4109"/>
                  <a:pt x="16630" y="4109"/>
                </a:cubicBezTo>
                <a:cubicBezTo>
                  <a:pt x="16624" y="4103"/>
                  <a:pt x="16624" y="4097"/>
                  <a:pt x="16624" y="4097"/>
                </a:cubicBezTo>
                <a:cubicBezTo>
                  <a:pt x="16618" y="4085"/>
                  <a:pt x="16624" y="4079"/>
                  <a:pt x="16624" y="4073"/>
                </a:cubicBezTo>
                <a:cubicBezTo>
                  <a:pt x="16612" y="4067"/>
                  <a:pt x="16612" y="4067"/>
                  <a:pt x="16612" y="4067"/>
                </a:cubicBezTo>
                <a:cubicBezTo>
                  <a:pt x="16612" y="4073"/>
                  <a:pt x="16606" y="4073"/>
                  <a:pt x="16606" y="4079"/>
                </a:cubicBezTo>
                <a:cubicBezTo>
                  <a:pt x="16606" y="4085"/>
                  <a:pt x="16606" y="4091"/>
                  <a:pt x="16606" y="4097"/>
                </a:cubicBezTo>
                <a:cubicBezTo>
                  <a:pt x="16606" y="4103"/>
                  <a:pt x="16606" y="4109"/>
                  <a:pt x="16601" y="4115"/>
                </a:cubicBezTo>
                <a:cubicBezTo>
                  <a:pt x="16601" y="4121"/>
                  <a:pt x="16594" y="4121"/>
                  <a:pt x="16589" y="4121"/>
                </a:cubicBezTo>
                <a:cubicBezTo>
                  <a:pt x="16583" y="4121"/>
                  <a:pt x="16577" y="4121"/>
                  <a:pt x="16571" y="4121"/>
                </a:cubicBezTo>
                <a:cubicBezTo>
                  <a:pt x="16571" y="4192"/>
                  <a:pt x="16571" y="4192"/>
                  <a:pt x="16571" y="4192"/>
                </a:cubicBezTo>
                <a:cubicBezTo>
                  <a:pt x="16547" y="4192"/>
                  <a:pt x="16547" y="4192"/>
                  <a:pt x="16547" y="4192"/>
                </a:cubicBezTo>
                <a:cubicBezTo>
                  <a:pt x="16541" y="4186"/>
                  <a:pt x="16535" y="4186"/>
                  <a:pt x="16535" y="4186"/>
                </a:cubicBezTo>
                <a:cubicBezTo>
                  <a:pt x="16529" y="4180"/>
                  <a:pt x="16535" y="4174"/>
                  <a:pt x="16529" y="4174"/>
                </a:cubicBezTo>
                <a:cubicBezTo>
                  <a:pt x="16529" y="4168"/>
                  <a:pt x="16523" y="4168"/>
                  <a:pt x="16517" y="4162"/>
                </a:cubicBezTo>
                <a:lnTo>
                  <a:pt x="16512" y="4162"/>
                </a:lnTo>
                <a:cubicBezTo>
                  <a:pt x="16506" y="4168"/>
                  <a:pt x="16500" y="4180"/>
                  <a:pt x="16494" y="4186"/>
                </a:cubicBezTo>
                <a:cubicBezTo>
                  <a:pt x="16494" y="4186"/>
                  <a:pt x="16488" y="4186"/>
                  <a:pt x="16482" y="4186"/>
                </a:cubicBezTo>
                <a:cubicBezTo>
                  <a:pt x="16476" y="4186"/>
                  <a:pt x="16470" y="4186"/>
                  <a:pt x="16458" y="4186"/>
                </a:cubicBezTo>
                <a:cubicBezTo>
                  <a:pt x="16446" y="4180"/>
                  <a:pt x="16435" y="4180"/>
                  <a:pt x="16423" y="4186"/>
                </a:cubicBezTo>
                <a:cubicBezTo>
                  <a:pt x="16417" y="4186"/>
                  <a:pt x="16417" y="4180"/>
                  <a:pt x="16411" y="4186"/>
                </a:cubicBezTo>
                <a:cubicBezTo>
                  <a:pt x="16405" y="4186"/>
                  <a:pt x="16405" y="4186"/>
                  <a:pt x="16399" y="4192"/>
                </a:cubicBezTo>
                <a:cubicBezTo>
                  <a:pt x="16399" y="4192"/>
                  <a:pt x="16393" y="4192"/>
                  <a:pt x="16387" y="4192"/>
                </a:cubicBezTo>
                <a:cubicBezTo>
                  <a:pt x="16381" y="4192"/>
                  <a:pt x="16375" y="4192"/>
                  <a:pt x="16363" y="4192"/>
                </a:cubicBezTo>
                <a:cubicBezTo>
                  <a:pt x="16357" y="4198"/>
                  <a:pt x="16351" y="4204"/>
                  <a:pt x="16346" y="4210"/>
                </a:cubicBezTo>
                <a:cubicBezTo>
                  <a:pt x="16346" y="4216"/>
                  <a:pt x="16340" y="4221"/>
                  <a:pt x="16340" y="4221"/>
                </a:cubicBezTo>
                <a:cubicBezTo>
                  <a:pt x="16340" y="4228"/>
                  <a:pt x="16340" y="4228"/>
                  <a:pt x="16340" y="4233"/>
                </a:cubicBezTo>
                <a:cubicBezTo>
                  <a:pt x="16340" y="4245"/>
                  <a:pt x="16340" y="4251"/>
                  <a:pt x="16340" y="4257"/>
                </a:cubicBezTo>
                <a:cubicBezTo>
                  <a:pt x="16286" y="4257"/>
                  <a:pt x="16286" y="4257"/>
                  <a:pt x="16286" y="4257"/>
                </a:cubicBezTo>
                <a:cubicBezTo>
                  <a:pt x="16286" y="4263"/>
                  <a:pt x="16286" y="4269"/>
                  <a:pt x="16286" y="4269"/>
                </a:cubicBezTo>
                <a:cubicBezTo>
                  <a:pt x="16286" y="4281"/>
                  <a:pt x="16286" y="4287"/>
                  <a:pt x="16286" y="4293"/>
                </a:cubicBezTo>
                <a:cubicBezTo>
                  <a:pt x="16280" y="4293"/>
                  <a:pt x="16274" y="4293"/>
                  <a:pt x="16262" y="4299"/>
                </a:cubicBezTo>
                <a:cubicBezTo>
                  <a:pt x="16257" y="4299"/>
                  <a:pt x="16257" y="4299"/>
                  <a:pt x="16251" y="4299"/>
                </a:cubicBezTo>
                <a:cubicBezTo>
                  <a:pt x="16245" y="4305"/>
                  <a:pt x="16245" y="4305"/>
                  <a:pt x="16245" y="4310"/>
                </a:cubicBezTo>
                <a:cubicBezTo>
                  <a:pt x="16239" y="4316"/>
                  <a:pt x="16239" y="4316"/>
                  <a:pt x="16233" y="4322"/>
                </a:cubicBezTo>
                <a:cubicBezTo>
                  <a:pt x="16233" y="4328"/>
                  <a:pt x="16233" y="4328"/>
                  <a:pt x="16233" y="4334"/>
                </a:cubicBezTo>
                <a:cubicBezTo>
                  <a:pt x="16233" y="4340"/>
                  <a:pt x="16227" y="4340"/>
                  <a:pt x="16227" y="4346"/>
                </a:cubicBezTo>
                <a:cubicBezTo>
                  <a:pt x="16227" y="4352"/>
                  <a:pt x="16221" y="4352"/>
                  <a:pt x="16221" y="4358"/>
                </a:cubicBezTo>
                <a:cubicBezTo>
                  <a:pt x="16227" y="4358"/>
                  <a:pt x="16233" y="4364"/>
                  <a:pt x="16239" y="4364"/>
                </a:cubicBezTo>
                <a:cubicBezTo>
                  <a:pt x="16245" y="4364"/>
                  <a:pt x="16251" y="4364"/>
                  <a:pt x="16262" y="4364"/>
                </a:cubicBezTo>
                <a:cubicBezTo>
                  <a:pt x="16274" y="4364"/>
                  <a:pt x="16280" y="4364"/>
                  <a:pt x="16286" y="4364"/>
                </a:cubicBezTo>
                <a:cubicBezTo>
                  <a:pt x="16292" y="4364"/>
                  <a:pt x="16286" y="4358"/>
                  <a:pt x="16286" y="4358"/>
                </a:cubicBezTo>
                <a:cubicBezTo>
                  <a:pt x="16286" y="4364"/>
                  <a:pt x="16292" y="4370"/>
                  <a:pt x="16286" y="4370"/>
                </a:cubicBezTo>
                <a:cubicBezTo>
                  <a:pt x="16286" y="4376"/>
                  <a:pt x="16286" y="4382"/>
                  <a:pt x="16286" y="4382"/>
                </a:cubicBezTo>
                <a:cubicBezTo>
                  <a:pt x="16286" y="4387"/>
                  <a:pt x="16280" y="4387"/>
                  <a:pt x="16274" y="4394"/>
                </a:cubicBezTo>
                <a:cubicBezTo>
                  <a:pt x="16274" y="4405"/>
                  <a:pt x="16274" y="4405"/>
                  <a:pt x="16274" y="4405"/>
                </a:cubicBezTo>
                <a:cubicBezTo>
                  <a:pt x="16269" y="4411"/>
                  <a:pt x="16262" y="4411"/>
                  <a:pt x="16262" y="4417"/>
                </a:cubicBezTo>
                <a:cubicBezTo>
                  <a:pt x="16262" y="4423"/>
                  <a:pt x="16262" y="4429"/>
                  <a:pt x="16262" y="4435"/>
                </a:cubicBezTo>
                <a:cubicBezTo>
                  <a:pt x="16262" y="4453"/>
                  <a:pt x="16274" y="4465"/>
                  <a:pt x="16292" y="4465"/>
                </a:cubicBezTo>
                <a:cubicBezTo>
                  <a:pt x="16310" y="4465"/>
                  <a:pt x="16310" y="4465"/>
                  <a:pt x="16310" y="4465"/>
                </a:cubicBezTo>
                <a:cubicBezTo>
                  <a:pt x="16310" y="4447"/>
                  <a:pt x="16310" y="4441"/>
                  <a:pt x="16310" y="4429"/>
                </a:cubicBezTo>
                <a:cubicBezTo>
                  <a:pt x="16310" y="4423"/>
                  <a:pt x="16310" y="4411"/>
                  <a:pt x="16316" y="4405"/>
                </a:cubicBezTo>
                <a:cubicBezTo>
                  <a:pt x="16322" y="4399"/>
                  <a:pt x="16334" y="4399"/>
                  <a:pt x="16340" y="4399"/>
                </a:cubicBezTo>
                <a:cubicBezTo>
                  <a:pt x="16351" y="4394"/>
                  <a:pt x="16363" y="4387"/>
                  <a:pt x="16363" y="4376"/>
                </a:cubicBezTo>
                <a:cubicBezTo>
                  <a:pt x="16363" y="4364"/>
                  <a:pt x="16351" y="4358"/>
                  <a:pt x="16351" y="4346"/>
                </a:cubicBezTo>
                <a:cubicBezTo>
                  <a:pt x="16346" y="4340"/>
                  <a:pt x="16351" y="4340"/>
                  <a:pt x="16351" y="4334"/>
                </a:cubicBezTo>
                <a:cubicBezTo>
                  <a:pt x="16346" y="4328"/>
                  <a:pt x="16351" y="4322"/>
                  <a:pt x="16351" y="4310"/>
                </a:cubicBezTo>
                <a:cubicBezTo>
                  <a:pt x="16346" y="4310"/>
                  <a:pt x="16340" y="4316"/>
                  <a:pt x="16340" y="4316"/>
                </a:cubicBezTo>
                <a:cubicBezTo>
                  <a:pt x="16328" y="4316"/>
                  <a:pt x="16322" y="4316"/>
                  <a:pt x="16310" y="4310"/>
                </a:cubicBezTo>
                <a:cubicBezTo>
                  <a:pt x="16316" y="4310"/>
                  <a:pt x="16310" y="4305"/>
                  <a:pt x="16310" y="4299"/>
                </a:cubicBezTo>
                <a:cubicBezTo>
                  <a:pt x="16316" y="4299"/>
                  <a:pt x="16322" y="4299"/>
                  <a:pt x="16322" y="4293"/>
                </a:cubicBezTo>
                <a:cubicBezTo>
                  <a:pt x="16328" y="4293"/>
                  <a:pt x="16328" y="4287"/>
                  <a:pt x="16334" y="4287"/>
                </a:cubicBezTo>
                <a:cubicBezTo>
                  <a:pt x="16346" y="4287"/>
                  <a:pt x="16351" y="4287"/>
                  <a:pt x="16357" y="4287"/>
                </a:cubicBezTo>
                <a:cubicBezTo>
                  <a:pt x="16369" y="4287"/>
                  <a:pt x="16375" y="4281"/>
                  <a:pt x="16387" y="4275"/>
                </a:cubicBezTo>
                <a:cubicBezTo>
                  <a:pt x="16399" y="4269"/>
                  <a:pt x="16405" y="4257"/>
                  <a:pt x="16423" y="4257"/>
                </a:cubicBezTo>
                <a:cubicBezTo>
                  <a:pt x="16423" y="4251"/>
                  <a:pt x="16428" y="4257"/>
                  <a:pt x="16435" y="4257"/>
                </a:cubicBezTo>
                <a:lnTo>
                  <a:pt x="16440" y="4251"/>
                </a:lnTo>
                <a:cubicBezTo>
                  <a:pt x="16452" y="4251"/>
                  <a:pt x="16458" y="4251"/>
                  <a:pt x="16464" y="4251"/>
                </a:cubicBezTo>
                <a:cubicBezTo>
                  <a:pt x="16470" y="4251"/>
                  <a:pt x="16476" y="4251"/>
                  <a:pt x="16476" y="4251"/>
                </a:cubicBezTo>
                <a:cubicBezTo>
                  <a:pt x="16482" y="4251"/>
                  <a:pt x="16482" y="4245"/>
                  <a:pt x="16488" y="4245"/>
                </a:cubicBezTo>
                <a:cubicBezTo>
                  <a:pt x="16500" y="4245"/>
                  <a:pt x="16512" y="4245"/>
                  <a:pt x="16523" y="4245"/>
                </a:cubicBezTo>
                <a:cubicBezTo>
                  <a:pt x="16529" y="4245"/>
                  <a:pt x="16529" y="4245"/>
                  <a:pt x="16535" y="4245"/>
                </a:cubicBezTo>
                <a:cubicBezTo>
                  <a:pt x="16529" y="4245"/>
                  <a:pt x="16529" y="4251"/>
                  <a:pt x="16523" y="4257"/>
                </a:cubicBezTo>
                <a:cubicBezTo>
                  <a:pt x="16523" y="4257"/>
                  <a:pt x="16517" y="4257"/>
                  <a:pt x="16512" y="4257"/>
                </a:cubicBezTo>
                <a:cubicBezTo>
                  <a:pt x="16506" y="4257"/>
                  <a:pt x="16500" y="4251"/>
                  <a:pt x="16494" y="4257"/>
                </a:cubicBezTo>
                <a:cubicBezTo>
                  <a:pt x="16470" y="4257"/>
                  <a:pt x="16464" y="4275"/>
                  <a:pt x="16446" y="4275"/>
                </a:cubicBezTo>
                <a:cubicBezTo>
                  <a:pt x="16387" y="4275"/>
                  <a:pt x="16387" y="4275"/>
                  <a:pt x="16387" y="4275"/>
                </a:cubicBezTo>
                <a:cubicBezTo>
                  <a:pt x="16387" y="4352"/>
                  <a:pt x="16387" y="4352"/>
                  <a:pt x="16387" y="4352"/>
                </a:cubicBezTo>
                <a:cubicBezTo>
                  <a:pt x="16411" y="4352"/>
                  <a:pt x="16411" y="4352"/>
                  <a:pt x="16411" y="4352"/>
                </a:cubicBezTo>
                <a:cubicBezTo>
                  <a:pt x="16417" y="4352"/>
                  <a:pt x="16423" y="4352"/>
                  <a:pt x="16428" y="4346"/>
                </a:cubicBezTo>
                <a:cubicBezTo>
                  <a:pt x="16435" y="4346"/>
                  <a:pt x="16440" y="4340"/>
                  <a:pt x="16446" y="4340"/>
                </a:cubicBezTo>
                <a:cubicBezTo>
                  <a:pt x="16452" y="4334"/>
                  <a:pt x="16452" y="4328"/>
                  <a:pt x="16452" y="4328"/>
                </a:cubicBezTo>
                <a:cubicBezTo>
                  <a:pt x="16458" y="4322"/>
                  <a:pt x="16458" y="4316"/>
                  <a:pt x="16464" y="4316"/>
                </a:cubicBezTo>
                <a:cubicBezTo>
                  <a:pt x="16470" y="4310"/>
                  <a:pt x="16470" y="4305"/>
                  <a:pt x="16476" y="4305"/>
                </a:cubicBezTo>
                <a:cubicBezTo>
                  <a:pt x="16482" y="4305"/>
                  <a:pt x="16488" y="4305"/>
                  <a:pt x="16488" y="4305"/>
                </a:cubicBezTo>
                <a:cubicBezTo>
                  <a:pt x="16494" y="4305"/>
                  <a:pt x="16506" y="4305"/>
                  <a:pt x="16512" y="4305"/>
                </a:cubicBezTo>
                <a:cubicBezTo>
                  <a:pt x="16517" y="4299"/>
                  <a:pt x="16517" y="4293"/>
                  <a:pt x="16517" y="4293"/>
                </a:cubicBezTo>
                <a:cubicBezTo>
                  <a:pt x="16517" y="4287"/>
                  <a:pt x="16517" y="4287"/>
                  <a:pt x="16517" y="4281"/>
                </a:cubicBezTo>
                <a:cubicBezTo>
                  <a:pt x="16517" y="4275"/>
                  <a:pt x="16523" y="4275"/>
                  <a:pt x="16529" y="4275"/>
                </a:cubicBezTo>
                <a:cubicBezTo>
                  <a:pt x="16529" y="4281"/>
                  <a:pt x="16535" y="4281"/>
                  <a:pt x="16535" y="4287"/>
                </a:cubicBezTo>
                <a:cubicBezTo>
                  <a:pt x="16541" y="4287"/>
                  <a:pt x="16535" y="4293"/>
                  <a:pt x="16535" y="4299"/>
                </a:cubicBezTo>
                <a:cubicBezTo>
                  <a:pt x="16541" y="4305"/>
                  <a:pt x="16547" y="4305"/>
                  <a:pt x="16547" y="4305"/>
                </a:cubicBezTo>
                <a:cubicBezTo>
                  <a:pt x="16553" y="4310"/>
                  <a:pt x="16559" y="4310"/>
                  <a:pt x="16565" y="4310"/>
                </a:cubicBezTo>
                <a:cubicBezTo>
                  <a:pt x="16577" y="4310"/>
                  <a:pt x="16577" y="4305"/>
                  <a:pt x="16583" y="4299"/>
                </a:cubicBezTo>
                <a:cubicBezTo>
                  <a:pt x="16583" y="4293"/>
                  <a:pt x="16583" y="4287"/>
                  <a:pt x="16589" y="4287"/>
                </a:cubicBezTo>
                <a:cubicBezTo>
                  <a:pt x="16594" y="4275"/>
                  <a:pt x="16606" y="4281"/>
                  <a:pt x="16618" y="4281"/>
                </a:cubicBezTo>
                <a:cubicBezTo>
                  <a:pt x="16618" y="4275"/>
                  <a:pt x="16618" y="4275"/>
                  <a:pt x="16618" y="4269"/>
                </a:cubicBezTo>
                <a:cubicBezTo>
                  <a:pt x="16618" y="4263"/>
                  <a:pt x="16624" y="4263"/>
                  <a:pt x="16624" y="4257"/>
                </a:cubicBezTo>
                <a:cubicBezTo>
                  <a:pt x="16624" y="4251"/>
                  <a:pt x="16618" y="4251"/>
                  <a:pt x="16618" y="4245"/>
                </a:cubicBezTo>
                <a:cubicBezTo>
                  <a:pt x="16618" y="4245"/>
                  <a:pt x="16618" y="4239"/>
                  <a:pt x="16618" y="4233"/>
                </a:cubicBezTo>
                <a:cubicBezTo>
                  <a:pt x="16630" y="4228"/>
                  <a:pt x="16630" y="4228"/>
                  <a:pt x="16630" y="4228"/>
                </a:cubicBezTo>
                <a:cubicBezTo>
                  <a:pt x="16755" y="4233"/>
                  <a:pt x="16755" y="4233"/>
                  <a:pt x="16755" y="4233"/>
                </a:cubicBezTo>
                <a:cubicBezTo>
                  <a:pt x="16767" y="4228"/>
                  <a:pt x="16767" y="4216"/>
                  <a:pt x="16778" y="4216"/>
                </a:cubicBezTo>
                <a:cubicBezTo>
                  <a:pt x="16784" y="4210"/>
                  <a:pt x="16790" y="4216"/>
                  <a:pt x="16802" y="4216"/>
                </a:cubicBezTo>
                <a:cubicBezTo>
                  <a:pt x="16814" y="4216"/>
                  <a:pt x="16820" y="4210"/>
                  <a:pt x="16820" y="4204"/>
                </a:cubicBezTo>
                <a:cubicBezTo>
                  <a:pt x="16826" y="4198"/>
                  <a:pt x="16832" y="4192"/>
                  <a:pt x="16832" y="4180"/>
                </a:cubicBezTo>
                <a:cubicBezTo>
                  <a:pt x="16832" y="4127"/>
                  <a:pt x="16832" y="4127"/>
                  <a:pt x="16832" y="4127"/>
                </a:cubicBezTo>
                <a:cubicBezTo>
                  <a:pt x="16832" y="4121"/>
                  <a:pt x="16838" y="4121"/>
                  <a:pt x="16838" y="4115"/>
                </a:cubicBezTo>
                <a:cubicBezTo>
                  <a:pt x="16838" y="4109"/>
                  <a:pt x="16838" y="4109"/>
                  <a:pt x="16838" y="4103"/>
                </a:cubicBezTo>
                <a:cubicBezTo>
                  <a:pt x="16844" y="4091"/>
                  <a:pt x="16855" y="4091"/>
                  <a:pt x="16855" y="4079"/>
                </a:cubicBezTo>
                <a:cubicBezTo>
                  <a:pt x="16855" y="4067"/>
                  <a:pt x="16855" y="4067"/>
                  <a:pt x="16855" y="4067"/>
                </a:cubicBezTo>
                <a:cubicBezTo>
                  <a:pt x="16855" y="4062"/>
                  <a:pt x="16855" y="4055"/>
                  <a:pt x="16855" y="4044"/>
                </a:cubicBezTo>
                <a:cubicBezTo>
                  <a:pt x="16855" y="4026"/>
                  <a:pt x="16855" y="4026"/>
                  <a:pt x="16855" y="4026"/>
                </a:cubicBezTo>
                <a:cubicBezTo>
                  <a:pt x="16855" y="4020"/>
                  <a:pt x="16849" y="4014"/>
                  <a:pt x="16855" y="4008"/>
                </a:cubicBezTo>
                <a:cubicBezTo>
                  <a:pt x="16855" y="4002"/>
                  <a:pt x="16861" y="4002"/>
                  <a:pt x="16867" y="4002"/>
                </a:cubicBezTo>
                <a:cubicBezTo>
                  <a:pt x="16873" y="3996"/>
                  <a:pt x="16879" y="3996"/>
                  <a:pt x="16879" y="3996"/>
                </a:cubicBezTo>
                <a:cubicBezTo>
                  <a:pt x="16885" y="3984"/>
                  <a:pt x="16879" y="3973"/>
                  <a:pt x="16885" y="3961"/>
                </a:cubicBezTo>
                <a:cubicBezTo>
                  <a:pt x="16885" y="3955"/>
                  <a:pt x="16885" y="3955"/>
                  <a:pt x="16885" y="3949"/>
                </a:cubicBezTo>
                <a:cubicBezTo>
                  <a:pt x="16885" y="3943"/>
                  <a:pt x="16891" y="3937"/>
                  <a:pt x="16891" y="3925"/>
                </a:cubicBezTo>
                <a:cubicBezTo>
                  <a:pt x="16897" y="3919"/>
                  <a:pt x="16903" y="3919"/>
                  <a:pt x="16903" y="3913"/>
                </a:cubicBezTo>
                <a:cubicBezTo>
                  <a:pt x="16909" y="3907"/>
                  <a:pt x="16903" y="3901"/>
                  <a:pt x="16903" y="3889"/>
                </a:cubicBezTo>
                <a:cubicBezTo>
                  <a:pt x="16903" y="3884"/>
                  <a:pt x="16909" y="3872"/>
                  <a:pt x="16903" y="3866"/>
                </a:cubicBezTo>
                <a:cubicBezTo>
                  <a:pt x="16903" y="3860"/>
                  <a:pt x="16891" y="3860"/>
                  <a:pt x="16891" y="3860"/>
                </a:cubicBezTo>
                <a:cubicBezTo>
                  <a:pt x="16891" y="3854"/>
                  <a:pt x="16885" y="3848"/>
                  <a:pt x="16885" y="3848"/>
                </a:cubicBezTo>
                <a:cubicBezTo>
                  <a:pt x="16879" y="3836"/>
                  <a:pt x="16873" y="3830"/>
                  <a:pt x="16873" y="3824"/>
                </a:cubicBezTo>
                <a:cubicBezTo>
                  <a:pt x="16873" y="3818"/>
                  <a:pt x="16873" y="3818"/>
                  <a:pt x="16873" y="3812"/>
                </a:cubicBezTo>
                <a:cubicBezTo>
                  <a:pt x="16867" y="3801"/>
                  <a:pt x="16861" y="3801"/>
                  <a:pt x="16861" y="3789"/>
                </a:cubicBezTo>
                <a:cubicBezTo>
                  <a:pt x="16861" y="3783"/>
                  <a:pt x="16861" y="3783"/>
                  <a:pt x="16861" y="3777"/>
                </a:cubicBezTo>
                <a:cubicBezTo>
                  <a:pt x="16855" y="3771"/>
                  <a:pt x="16855" y="3771"/>
                  <a:pt x="16855" y="3765"/>
                </a:cubicBezTo>
                <a:cubicBezTo>
                  <a:pt x="16849" y="3765"/>
                  <a:pt x="16844" y="3765"/>
                  <a:pt x="16844" y="3765"/>
                </a:cubicBezTo>
                <a:cubicBezTo>
                  <a:pt x="16838" y="3759"/>
                  <a:pt x="16826" y="3759"/>
                  <a:pt x="16820" y="3759"/>
                </a:cubicBezTo>
                <a:cubicBezTo>
                  <a:pt x="16820" y="3741"/>
                  <a:pt x="16820" y="3741"/>
                  <a:pt x="16820" y="3741"/>
                </a:cubicBezTo>
                <a:cubicBezTo>
                  <a:pt x="16873" y="3741"/>
                  <a:pt x="16873" y="3741"/>
                  <a:pt x="16873" y="3741"/>
                </a:cubicBezTo>
                <a:cubicBezTo>
                  <a:pt x="16885" y="3741"/>
                  <a:pt x="16885" y="3730"/>
                  <a:pt x="16891" y="3730"/>
                </a:cubicBezTo>
                <a:cubicBezTo>
                  <a:pt x="16897" y="3730"/>
                  <a:pt x="16897" y="3730"/>
                  <a:pt x="16897" y="3730"/>
                </a:cubicBezTo>
                <a:cubicBezTo>
                  <a:pt x="16903" y="3730"/>
                  <a:pt x="16909" y="3741"/>
                  <a:pt x="16915" y="3741"/>
                </a:cubicBezTo>
                <a:cubicBezTo>
                  <a:pt x="16921" y="3741"/>
                  <a:pt x="16921" y="3747"/>
                  <a:pt x="16926" y="3747"/>
                </a:cubicBezTo>
                <a:cubicBezTo>
                  <a:pt x="16926" y="3747"/>
                  <a:pt x="16933" y="3747"/>
                  <a:pt x="16938" y="3747"/>
                </a:cubicBezTo>
                <a:cubicBezTo>
                  <a:pt x="16938" y="3747"/>
                  <a:pt x="16938" y="3759"/>
                  <a:pt x="16944" y="3759"/>
                </a:cubicBezTo>
                <a:cubicBezTo>
                  <a:pt x="16950" y="3759"/>
                  <a:pt x="16956" y="3759"/>
                  <a:pt x="16968" y="3759"/>
                </a:cubicBezTo>
                <a:cubicBezTo>
                  <a:pt x="16980" y="3759"/>
                  <a:pt x="16986" y="3765"/>
                  <a:pt x="16992" y="3765"/>
                </a:cubicBezTo>
                <a:cubicBezTo>
                  <a:pt x="16992" y="3759"/>
                  <a:pt x="16998" y="3759"/>
                  <a:pt x="16998" y="3753"/>
                </a:cubicBezTo>
                <a:cubicBezTo>
                  <a:pt x="16998" y="3741"/>
                  <a:pt x="16998" y="3730"/>
                  <a:pt x="16992" y="3718"/>
                </a:cubicBezTo>
                <a:cubicBezTo>
                  <a:pt x="17057" y="3718"/>
                  <a:pt x="17057" y="3718"/>
                  <a:pt x="17057" y="3718"/>
                </a:cubicBezTo>
                <a:cubicBezTo>
                  <a:pt x="17063" y="3718"/>
                  <a:pt x="17063" y="3712"/>
                  <a:pt x="17069" y="3712"/>
                </a:cubicBezTo>
                <a:cubicBezTo>
                  <a:pt x="17069" y="3706"/>
                  <a:pt x="17075" y="3706"/>
                  <a:pt x="17081" y="3706"/>
                </a:cubicBezTo>
                <a:cubicBezTo>
                  <a:pt x="17081" y="3706"/>
                  <a:pt x="17087" y="3706"/>
                  <a:pt x="17093" y="3706"/>
                </a:cubicBezTo>
                <a:cubicBezTo>
                  <a:pt x="17093" y="3700"/>
                  <a:pt x="17093" y="3694"/>
                  <a:pt x="17093" y="3694"/>
                </a:cubicBezTo>
                <a:cubicBezTo>
                  <a:pt x="17099" y="3682"/>
                  <a:pt x="17093" y="3676"/>
                  <a:pt x="17093" y="3670"/>
                </a:cubicBezTo>
                <a:cubicBezTo>
                  <a:pt x="17093" y="3664"/>
                  <a:pt x="17093" y="3664"/>
                  <a:pt x="17099" y="3658"/>
                </a:cubicBezTo>
                <a:cubicBezTo>
                  <a:pt x="17099" y="3652"/>
                  <a:pt x="17099" y="3652"/>
                  <a:pt x="17104" y="3646"/>
                </a:cubicBezTo>
                <a:cubicBezTo>
                  <a:pt x="17104" y="3646"/>
                  <a:pt x="17110" y="3646"/>
                  <a:pt x="17116" y="3646"/>
                </a:cubicBezTo>
                <a:cubicBezTo>
                  <a:pt x="17116" y="3641"/>
                  <a:pt x="17122" y="3641"/>
                  <a:pt x="17122" y="3641"/>
                </a:cubicBezTo>
                <a:cubicBezTo>
                  <a:pt x="17134" y="3635"/>
                  <a:pt x="17140" y="3641"/>
                  <a:pt x="17146" y="3641"/>
                </a:cubicBezTo>
                <a:cubicBezTo>
                  <a:pt x="17152" y="3635"/>
                  <a:pt x="17152" y="3629"/>
                  <a:pt x="17158" y="3629"/>
                </a:cubicBezTo>
                <a:cubicBezTo>
                  <a:pt x="17170" y="3623"/>
                  <a:pt x="17181" y="3623"/>
                  <a:pt x="17193" y="3623"/>
                </a:cubicBezTo>
                <a:cubicBezTo>
                  <a:pt x="17205" y="3623"/>
                  <a:pt x="17205" y="3623"/>
                  <a:pt x="17205" y="3623"/>
                </a:cubicBezTo>
                <a:cubicBezTo>
                  <a:pt x="17211" y="3623"/>
                  <a:pt x="17211" y="3617"/>
                  <a:pt x="17217" y="3617"/>
                </a:cubicBezTo>
                <a:cubicBezTo>
                  <a:pt x="17217" y="3617"/>
                  <a:pt x="17223" y="3617"/>
                  <a:pt x="17229" y="3617"/>
                </a:cubicBezTo>
                <a:cubicBezTo>
                  <a:pt x="17229" y="3611"/>
                  <a:pt x="17229" y="3605"/>
                  <a:pt x="17229" y="3605"/>
                </a:cubicBezTo>
                <a:cubicBezTo>
                  <a:pt x="17235" y="3599"/>
                  <a:pt x="17235" y="3593"/>
                  <a:pt x="17235" y="3593"/>
                </a:cubicBezTo>
                <a:cubicBezTo>
                  <a:pt x="17235" y="3587"/>
                  <a:pt x="17241" y="3587"/>
                  <a:pt x="17247" y="3587"/>
                </a:cubicBezTo>
                <a:cubicBezTo>
                  <a:pt x="17247" y="3581"/>
                  <a:pt x="17253" y="3581"/>
                  <a:pt x="17253" y="3575"/>
                </a:cubicBezTo>
                <a:cubicBezTo>
                  <a:pt x="17259" y="3569"/>
                  <a:pt x="17265" y="3569"/>
                  <a:pt x="17265" y="3569"/>
                </a:cubicBezTo>
                <a:cubicBezTo>
                  <a:pt x="17265" y="3563"/>
                  <a:pt x="17265" y="3557"/>
                  <a:pt x="17270" y="3557"/>
                </a:cubicBezTo>
                <a:cubicBezTo>
                  <a:pt x="17270" y="3552"/>
                  <a:pt x="17270" y="3546"/>
                  <a:pt x="17270" y="3540"/>
                </a:cubicBezTo>
                <a:close/>
                <a:moveTo>
                  <a:pt x="17371" y="3486"/>
                </a:moveTo>
                <a:lnTo>
                  <a:pt x="17371" y="3486"/>
                </a:lnTo>
                <a:cubicBezTo>
                  <a:pt x="17371" y="3486"/>
                  <a:pt x="17365" y="3486"/>
                  <a:pt x="17359" y="3486"/>
                </a:cubicBezTo>
                <a:lnTo>
                  <a:pt x="17353" y="3492"/>
                </a:lnTo>
                <a:cubicBezTo>
                  <a:pt x="17348" y="3498"/>
                  <a:pt x="17342" y="3498"/>
                  <a:pt x="17342" y="3498"/>
                </a:cubicBezTo>
                <a:cubicBezTo>
                  <a:pt x="17336" y="3504"/>
                  <a:pt x="17336" y="3510"/>
                  <a:pt x="17330" y="3510"/>
                </a:cubicBezTo>
                <a:cubicBezTo>
                  <a:pt x="17324" y="3516"/>
                  <a:pt x="17318" y="3516"/>
                  <a:pt x="17318" y="3516"/>
                </a:cubicBezTo>
                <a:cubicBezTo>
                  <a:pt x="17324" y="3522"/>
                  <a:pt x="17330" y="3528"/>
                  <a:pt x="17336" y="3528"/>
                </a:cubicBezTo>
                <a:cubicBezTo>
                  <a:pt x="17348" y="3528"/>
                  <a:pt x="17353" y="3528"/>
                  <a:pt x="17353" y="3522"/>
                </a:cubicBezTo>
                <a:cubicBezTo>
                  <a:pt x="17359" y="3522"/>
                  <a:pt x="17359" y="3516"/>
                  <a:pt x="17359" y="3510"/>
                </a:cubicBezTo>
                <a:cubicBezTo>
                  <a:pt x="17365" y="3504"/>
                  <a:pt x="17371" y="3498"/>
                  <a:pt x="17371" y="3486"/>
                </a:cubicBezTo>
                <a:close/>
                <a:moveTo>
                  <a:pt x="17656" y="3184"/>
                </a:moveTo>
                <a:lnTo>
                  <a:pt x="17656" y="3184"/>
                </a:lnTo>
                <a:cubicBezTo>
                  <a:pt x="17650" y="3184"/>
                  <a:pt x="17650" y="3190"/>
                  <a:pt x="17650" y="3196"/>
                </a:cubicBezTo>
                <a:cubicBezTo>
                  <a:pt x="17644" y="3202"/>
                  <a:pt x="17638" y="3202"/>
                  <a:pt x="17638" y="3208"/>
                </a:cubicBezTo>
                <a:cubicBezTo>
                  <a:pt x="17638" y="3208"/>
                  <a:pt x="17638" y="3214"/>
                  <a:pt x="17638" y="3220"/>
                </a:cubicBezTo>
                <a:cubicBezTo>
                  <a:pt x="17638" y="3225"/>
                  <a:pt x="17632" y="3231"/>
                  <a:pt x="17626" y="3237"/>
                </a:cubicBezTo>
                <a:cubicBezTo>
                  <a:pt x="17620" y="3249"/>
                  <a:pt x="17620" y="3249"/>
                  <a:pt x="17620" y="3249"/>
                </a:cubicBezTo>
                <a:cubicBezTo>
                  <a:pt x="17620" y="3243"/>
                  <a:pt x="17626" y="3249"/>
                  <a:pt x="17632" y="3249"/>
                </a:cubicBezTo>
                <a:cubicBezTo>
                  <a:pt x="17638" y="3243"/>
                  <a:pt x="17638" y="3237"/>
                  <a:pt x="17638" y="3231"/>
                </a:cubicBezTo>
                <a:cubicBezTo>
                  <a:pt x="17644" y="3225"/>
                  <a:pt x="17644" y="3225"/>
                  <a:pt x="17650" y="3220"/>
                </a:cubicBezTo>
                <a:cubicBezTo>
                  <a:pt x="17650" y="3220"/>
                  <a:pt x="17656" y="3220"/>
                  <a:pt x="17662" y="3214"/>
                </a:cubicBezTo>
                <a:cubicBezTo>
                  <a:pt x="17662" y="3214"/>
                  <a:pt x="17662" y="3208"/>
                  <a:pt x="17662" y="3202"/>
                </a:cubicBezTo>
                <a:cubicBezTo>
                  <a:pt x="17662" y="3202"/>
                  <a:pt x="17668" y="3196"/>
                  <a:pt x="17668" y="3190"/>
                </a:cubicBezTo>
                <a:lnTo>
                  <a:pt x="17668" y="3184"/>
                </a:lnTo>
                <a:cubicBezTo>
                  <a:pt x="17656" y="3178"/>
                  <a:pt x="17656" y="3178"/>
                  <a:pt x="17656" y="3178"/>
                </a:cubicBezTo>
                <a:lnTo>
                  <a:pt x="17656" y="3184"/>
                </a:lnTo>
                <a:close/>
                <a:moveTo>
                  <a:pt x="18338" y="2882"/>
                </a:moveTo>
                <a:lnTo>
                  <a:pt x="18338" y="2882"/>
                </a:lnTo>
                <a:cubicBezTo>
                  <a:pt x="18332" y="2870"/>
                  <a:pt x="18332" y="2870"/>
                  <a:pt x="18332" y="2870"/>
                </a:cubicBezTo>
                <a:cubicBezTo>
                  <a:pt x="18326" y="2864"/>
                  <a:pt x="18320" y="2864"/>
                  <a:pt x="18314" y="2864"/>
                </a:cubicBezTo>
                <a:cubicBezTo>
                  <a:pt x="18314" y="2864"/>
                  <a:pt x="18308" y="2864"/>
                  <a:pt x="18302" y="2864"/>
                </a:cubicBezTo>
                <a:cubicBezTo>
                  <a:pt x="18302" y="2870"/>
                  <a:pt x="18302" y="2876"/>
                  <a:pt x="18302" y="2882"/>
                </a:cubicBezTo>
                <a:cubicBezTo>
                  <a:pt x="18302" y="2887"/>
                  <a:pt x="18302" y="2887"/>
                  <a:pt x="18302" y="2899"/>
                </a:cubicBezTo>
                <a:cubicBezTo>
                  <a:pt x="18338" y="2899"/>
                  <a:pt x="18338" y="2899"/>
                  <a:pt x="18338" y="2899"/>
                </a:cubicBezTo>
                <a:cubicBezTo>
                  <a:pt x="18338" y="2893"/>
                  <a:pt x="18338" y="2887"/>
                  <a:pt x="18338" y="2882"/>
                </a:cubicBezTo>
                <a:close/>
                <a:moveTo>
                  <a:pt x="18260" y="2887"/>
                </a:moveTo>
                <a:lnTo>
                  <a:pt x="18260" y="2887"/>
                </a:lnTo>
                <a:cubicBezTo>
                  <a:pt x="18255" y="2887"/>
                  <a:pt x="18255" y="2882"/>
                  <a:pt x="18255" y="2882"/>
                </a:cubicBezTo>
                <a:cubicBezTo>
                  <a:pt x="18249" y="2870"/>
                  <a:pt x="18255" y="2864"/>
                  <a:pt x="18255" y="2852"/>
                </a:cubicBezTo>
                <a:cubicBezTo>
                  <a:pt x="18255" y="2846"/>
                  <a:pt x="18249" y="2846"/>
                  <a:pt x="18243" y="2840"/>
                </a:cubicBezTo>
                <a:cubicBezTo>
                  <a:pt x="18243" y="2834"/>
                  <a:pt x="18237" y="2834"/>
                  <a:pt x="18237" y="2828"/>
                </a:cubicBezTo>
                <a:cubicBezTo>
                  <a:pt x="18231" y="2822"/>
                  <a:pt x="18225" y="2822"/>
                  <a:pt x="18219" y="2816"/>
                </a:cubicBezTo>
                <a:cubicBezTo>
                  <a:pt x="18219" y="2828"/>
                  <a:pt x="18219" y="2834"/>
                  <a:pt x="18219" y="2846"/>
                </a:cubicBezTo>
                <a:cubicBezTo>
                  <a:pt x="18219" y="2846"/>
                  <a:pt x="18225" y="2852"/>
                  <a:pt x="18225" y="2858"/>
                </a:cubicBezTo>
                <a:cubicBezTo>
                  <a:pt x="18225" y="2864"/>
                  <a:pt x="18225" y="2870"/>
                  <a:pt x="18225" y="2882"/>
                </a:cubicBezTo>
                <a:cubicBezTo>
                  <a:pt x="18225" y="2887"/>
                  <a:pt x="18231" y="2893"/>
                  <a:pt x="18231" y="2905"/>
                </a:cubicBezTo>
                <a:cubicBezTo>
                  <a:pt x="18267" y="2905"/>
                  <a:pt x="18267" y="2905"/>
                  <a:pt x="18267" y="2905"/>
                </a:cubicBezTo>
                <a:cubicBezTo>
                  <a:pt x="18260" y="2899"/>
                  <a:pt x="18260" y="2893"/>
                  <a:pt x="18260" y="2887"/>
                </a:cubicBezTo>
                <a:close/>
                <a:moveTo>
                  <a:pt x="18106" y="2579"/>
                </a:moveTo>
                <a:lnTo>
                  <a:pt x="18106" y="2579"/>
                </a:lnTo>
                <a:cubicBezTo>
                  <a:pt x="18112" y="2579"/>
                  <a:pt x="18118" y="2573"/>
                  <a:pt x="18124" y="2573"/>
                </a:cubicBezTo>
                <a:lnTo>
                  <a:pt x="18130" y="2567"/>
                </a:lnTo>
                <a:cubicBezTo>
                  <a:pt x="18136" y="2561"/>
                  <a:pt x="18142" y="2567"/>
                  <a:pt x="18142" y="2561"/>
                </a:cubicBezTo>
                <a:cubicBezTo>
                  <a:pt x="18148" y="2555"/>
                  <a:pt x="18148" y="2550"/>
                  <a:pt x="18148" y="2538"/>
                </a:cubicBezTo>
                <a:cubicBezTo>
                  <a:pt x="18142" y="2538"/>
                  <a:pt x="18142" y="2532"/>
                  <a:pt x="18136" y="2532"/>
                </a:cubicBezTo>
                <a:cubicBezTo>
                  <a:pt x="18130" y="2532"/>
                  <a:pt x="18130" y="2532"/>
                  <a:pt x="18130" y="2532"/>
                </a:cubicBezTo>
                <a:cubicBezTo>
                  <a:pt x="18124" y="2532"/>
                  <a:pt x="18118" y="2538"/>
                  <a:pt x="18112" y="2538"/>
                </a:cubicBezTo>
                <a:cubicBezTo>
                  <a:pt x="18106" y="2538"/>
                  <a:pt x="18095" y="2538"/>
                  <a:pt x="18089" y="2538"/>
                </a:cubicBezTo>
                <a:cubicBezTo>
                  <a:pt x="18083" y="2544"/>
                  <a:pt x="18071" y="2550"/>
                  <a:pt x="18071" y="2555"/>
                </a:cubicBezTo>
                <a:cubicBezTo>
                  <a:pt x="18071" y="2579"/>
                  <a:pt x="18071" y="2579"/>
                  <a:pt x="18071" y="2579"/>
                </a:cubicBezTo>
                <a:cubicBezTo>
                  <a:pt x="18077" y="2579"/>
                  <a:pt x="18083" y="2579"/>
                  <a:pt x="18083" y="2579"/>
                </a:cubicBezTo>
                <a:cubicBezTo>
                  <a:pt x="18095" y="2579"/>
                  <a:pt x="18101" y="2579"/>
                  <a:pt x="18106" y="2579"/>
                </a:cubicBezTo>
                <a:close/>
                <a:moveTo>
                  <a:pt x="19429" y="2182"/>
                </a:moveTo>
                <a:lnTo>
                  <a:pt x="19429" y="2182"/>
                </a:lnTo>
                <a:cubicBezTo>
                  <a:pt x="19435" y="2182"/>
                  <a:pt x="19446" y="2182"/>
                  <a:pt x="19452" y="2182"/>
                </a:cubicBezTo>
                <a:cubicBezTo>
                  <a:pt x="19452" y="2182"/>
                  <a:pt x="19458" y="2182"/>
                  <a:pt x="19464" y="2182"/>
                </a:cubicBezTo>
                <a:cubicBezTo>
                  <a:pt x="19470" y="2182"/>
                  <a:pt x="19464" y="2194"/>
                  <a:pt x="19470" y="2194"/>
                </a:cubicBezTo>
                <a:cubicBezTo>
                  <a:pt x="19482" y="2200"/>
                  <a:pt x="19488" y="2194"/>
                  <a:pt x="19500" y="2194"/>
                </a:cubicBezTo>
                <a:cubicBezTo>
                  <a:pt x="19512" y="2194"/>
                  <a:pt x="19512" y="2194"/>
                  <a:pt x="19512" y="2194"/>
                </a:cubicBezTo>
                <a:cubicBezTo>
                  <a:pt x="19518" y="2194"/>
                  <a:pt x="19524" y="2188"/>
                  <a:pt x="19529" y="2188"/>
                </a:cubicBezTo>
                <a:cubicBezTo>
                  <a:pt x="19541" y="2188"/>
                  <a:pt x="19547" y="2194"/>
                  <a:pt x="19559" y="2200"/>
                </a:cubicBezTo>
                <a:cubicBezTo>
                  <a:pt x="19565" y="2200"/>
                  <a:pt x="19565" y="2206"/>
                  <a:pt x="19577" y="2206"/>
                </a:cubicBezTo>
                <a:cubicBezTo>
                  <a:pt x="19583" y="2206"/>
                  <a:pt x="19583" y="2206"/>
                  <a:pt x="19589" y="2206"/>
                </a:cubicBezTo>
                <a:cubicBezTo>
                  <a:pt x="19589" y="2182"/>
                  <a:pt x="19589" y="2182"/>
                  <a:pt x="19589" y="2182"/>
                </a:cubicBezTo>
                <a:lnTo>
                  <a:pt x="19583" y="2182"/>
                </a:lnTo>
                <a:cubicBezTo>
                  <a:pt x="19577" y="2176"/>
                  <a:pt x="19571" y="2176"/>
                  <a:pt x="19571" y="2176"/>
                </a:cubicBezTo>
                <a:cubicBezTo>
                  <a:pt x="19565" y="2170"/>
                  <a:pt x="19559" y="2170"/>
                  <a:pt x="19559" y="2170"/>
                </a:cubicBezTo>
                <a:cubicBezTo>
                  <a:pt x="19547" y="2170"/>
                  <a:pt x="19541" y="2164"/>
                  <a:pt x="19529" y="2164"/>
                </a:cubicBezTo>
                <a:cubicBezTo>
                  <a:pt x="19524" y="2164"/>
                  <a:pt x="19518" y="2164"/>
                  <a:pt x="19512" y="2164"/>
                </a:cubicBezTo>
                <a:cubicBezTo>
                  <a:pt x="19506" y="2164"/>
                  <a:pt x="19500" y="2158"/>
                  <a:pt x="19500" y="2158"/>
                </a:cubicBezTo>
                <a:cubicBezTo>
                  <a:pt x="19494" y="2158"/>
                  <a:pt x="19488" y="2158"/>
                  <a:pt x="19488" y="2158"/>
                </a:cubicBezTo>
                <a:cubicBezTo>
                  <a:pt x="19482" y="2158"/>
                  <a:pt x="19476" y="2152"/>
                  <a:pt x="19470" y="2152"/>
                </a:cubicBezTo>
                <a:cubicBezTo>
                  <a:pt x="19452" y="2152"/>
                  <a:pt x="19440" y="2158"/>
                  <a:pt x="19429" y="2164"/>
                </a:cubicBezTo>
                <a:cubicBezTo>
                  <a:pt x="19429" y="2164"/>
                  <a:pt x="19423" y="2182"/>
                  <a:pt x="19429" y="2182"/>
                </a:cubicBezTo>
                <a:close/>
                <a:moveTo>
                  <a:pt x="18925" y="1482"/>
                </a:moveTo>
                <a:lnTo>
                  <a:pt x="18925" y="1482"/>
                </a:lnTo>
                <a:cubicBezTo>
                  <a:pt x="18925" y="1482"/>
                  <a:pt x="18931" y="1482"/>
                  <a:pt x="18937" y="1482"/>
                </a:cubicBezTo>
                <a:cubicBezTo>
                  <a:pt x="18948" y="1482"/>
                  <a:pt x="18954" y="1482"/>
                  <a:pt x="18966" y="1482"/>
                </a:cubicBezTo>
                <a:cubicBezTo>
                  <a:pt x="18984" y="1482"/>
                  <a:pt x="18990" y="1482"/>
                  <a:pt x="19008" y="1482"/>
                </a:cubicBezTo>
                <a:cubicBezTo>
                  <a:pt x="19014" y="1482"/>
                  <a:pt x="19020" y="1476"/>
                  <a:pt x="19031" y="1476"/>
                </a:cubicBezTo>
                <a:cubicBezTo>
                  <a:pt x="19031" y="1470"/>
                  <a:pt x="19037" y="1470"/>
                  <a:pt x="19043" y="1470"/>
                </a:cubicBezTo>
                <a:cubicBezTo>
                  <a:pt x="19049" y="1465"/>
                  <a:pt x="19055" y="1470"/>
                  <a:pt x="19067" y="1470"/>
                </a:cubicBezTo>
                <a:cubicBezTo>
                  <a:pt x="19091" y="1470"/>
                  <a:pt x="19091" y="1470"/>
                  <a:pt x="19091" y="1470"/>
                </a:cubicBezTo>
                <a:cubicBezTo>
                  <a:pt x="19091" y="1470"/>
                  <a:pt x="19097" y="1470"/>
                  <a:pt x="19103" y="1470"/>
                </a:cubicBezTo>
                <a:cubicBezTo>
                  <a:pt x="19114" y="1470"/>
                  <a:pt x="19114" y="1470"/>
                  <a:pt x="19114" y="1470"/>
                </a:cubicBezTo>
                <a:cubicBezTo>
                  <a:pt x="19120" y="1470"/>
                  <a:pt x="19120" y="1470"/>
                  <a:pt x="19126" y="1470"/>
                </a:cubicBezTo>
                <a:cubicBezTo>
                  <a:pt x="19126" y="1453"/>
                  <a:pt x="19126" y="1453"/>
                  <a:pt x="19126" y="1453"/>
                </a:cubicBezTo>
                <a:cubicBezTo>
                  <a:pt x="19126" y="1447"/>
                  <a:pt x="19126" y="1441"/>
                  <a:pt x="19120" y="1441"/>
                </a:cubicBezTo>
                <a:cubicBezTo>
                  <a:pt x="19114" y="1435"/>
                  <a:pt x="19114" y="1435"/>
                  <a:pt x="19108" y="1429"/>
                </a:cubicBezTo>
                <a:cubicBezTo>
                  <a:pt x="19097" y="1423"/>
                  <a:pt x="19091" y="1429"/>
                  <a:pt x="19073" y="1429"/>
                </a:cubicBezTo>
                <a:cubicBezTo>
                  <a:pt x="19073" y="1429"/>
                  <a:pt x="19067" y="1423"/>
                  <a:pt x="19061" y="1423"/>
                </a:cubicBezTo>
                <a:cubicBezTo>
                  <a:pt x="19061" y="1423"/>
                  <a:pt x="19055" y="1429"/>
                  <a:pt x="19049" y="1423"/>
                </a:cubicBezTo>
                <a:cubicBezTo>
                  <a:pt x="19043" y="1423"/>
                  <a:pt x="19043" y="1423"/>
                  <a:pt x="19037" y="1417"/>
                </a:cubicBezTo>
                <a:cubicBezTo>
                  <a:pt x="19031" y="1417"/>
                  <a:pt x="19031" y="1411"/>
                  <a:pt x="19025" y="1411"/>
                </a:cubicBezTo>
                <a:cubicBezTo>
                  <a:pt x="19020" y="1405"/>
                  <a:pt x="19020" y="1411"/>
                  <a:pt x="19014" y="1411"/>
                </a:cubicBezTo>
                <a:cubicBezTo>
                  <a:pt x="19008" y="1411"/>
                  <a:pt x="19008" y="1405"/>
                  <a:pt x="19002" y="1411"/>
                </a:cubicBezTo>
                <a:cubicBezTo>
                  <a:pt x="18996" y="1411"/>
                  <a:pt x="18996" y="1417"/>
                  <a:pt x="18990" y="1417"/>
                </a:cubicBezTo>
                <a:cubicBezTo>
                  <a:pt x="18984" y="1417"/>
                  <a:pt x="18990" y="1429"/>
                  <a:pt x="18984" y="1429"/>
                </a:cubicBezTo>
                <a:cubicBezTo>
                  <a:pt x="18984" y="1429"/>
                  <a:pt x="18978" y="1429"/>
                  <a:pt x="18972" y="1429"/>
                </a:cubicBezTo>
                <a:cubicBezTo>
                  <a:pt x="18972" y="1429"/>
                  <a:pt x="18966" y="1429"/>
                  <a:pt x="18960" y="1429"/>
                </a:cubicBezTo>
                <a:cubicBezTo>
                  <a:pt x="18954" y="1429"/>
                  <a:pt x="18948" y="1429"/>
                  <a:pt x="18937" y="1429"/>
                </a:cubicBezTo>
                <a:cubicBezTo>
                  <a:pt x="18931" y="1429"/>
                  <a:pt x="18931" y="1435"/>
                  <a:pt x="18925" y="1435"/>
                </a:cubicBezTo>
                <a:cubicBezTo>
                  <a:pt x="18913" y="1441"/>
                  <a:pt x="18913" y="1453"/>
                  <a:pt x="18913" y="1470"/>
                </a:cubicBezTo>
                <a:cubicBezTo>
                  <a:pt x="18919" y="1476"/>
                  <a:pt x="18919" y="1482"/>
                  <a:pt x="18925" y="1482"/>
                </a:cubicBezTo>
                <a:close/>
                <a:moveTo>
                  <a:pt x="17140" y="1044"/>
                </a:moveTo>
                <a:lnTo>
                  <a:pt x="17140" y="1044"/>
                </a:lnTo>
                <a:cubicBezTo>
                  <a:pt x="17146" y="1050"/>
                  <a:pt x="17146" y="1050"/>
                  <a:pt x="17152" y="1050"/>
                </a:cubicBezTo>
                <a:cubicBezTo>
                  <a:pt x="17158" y="1050"/>
                  <a:pt x="17158" y="1050"/>
                  <a:pt x="17164" y="1055"/>
                </a:cubicBezTo>
                <a:cubicBezTo>
                  <a:pt x="17164" y="1055"/>
                  <a:pt x="17164" y="1061"/>
                  <a:pt x="17170" y="1067"/>
                </a:cubicBezTo>
                <a:cubicBezTo>
                  <a:pt x="17176" y="1073"/>
                  <a:pt x="17181" y="1073"/>
                  <a:pt x="17187" y="1073"/>
                </a:cubicBezTo>
                <a:cubicBezTo>
                  <a:pt x="17193" y="1073"/>
                  <a:pt x="17199" y="1073"/>
                  <a:pt x="17205" y="1067"/>
                </a:cubicBezTo>
                <a:cubicBezTo>
                  <a:pt x="17217" y="1067"/>
                  <a:pt x="17223" y="1061"/>
                  <a:pt x="17229" y="1061"/>
                </a:cubicBezTo>
                <a:cubicBezTo>
                  <a:pt x="17241" y="1061"/>
                  <a:pt x="17247" y="1067"/>
                  <a:pt x="17253" y="1073"/>
                </a:cubicBezTo>
                <a:cubicBezTo>
                  <a:pt x="17259" y="1073"/>
                  <a:pt x="17259" y="1079"/>
                  <a:pt x="17265" y="1085"/>
                </a:cubicBezTo>
                <a:cubicBezTo>
                  <a:pt x="17270" y="1085"/>
                  <a:pt x="17270" y="1085"/>
                  <a:pt x="17276" y="1085"/>
                </a:cubicBezTo>
                <a:cubicBezTo>
                  <a:pt x="17282" y="1085"/>
                  <a:pt x="17282" y="1091"/>
                  <a:pt x="17288" y="1091"/>
                </a:cubicBezTo>
                <a:cubicBezTo>
                  <a:pt x="17294" y="1091"/>
                  <a:pt x="17300" y="1091"/>
                  <a:pt x="17312" y="1091"/>
                </a:cubicBezTo>
                <a:cubicBezTo>
                  <a:pt x="17324" y="1091"/>
                  <a:pt x="17324" y="1091"/>
                  <a:pt x="17324" y="1091"/>
                </a:cubicBezTo>
                <a:cubicBezTo>
                  <a:pt x="17324" y="1091"/>
                  <a:pt x="17330" y="1091"/>
                  <a:pt x="17336" y="1091"/>
                </a:cubicBezTo>
                <a:cubicBezTo>
                  <a:pt x="17342" y="1091"/>
                  <a:pt x="17342" y="1085"/>
                  <a:pt x="17348" y="1079"/>
                </a:cubicBezTo>
                <a:cubicBezTo>
                  <a:pt x="17348" y="1079"/>
                  <a:pt x="17348" y="1067"/>
                  <a:pt x="17353" y="1067"/>
                </a:cubicBezTo>
                <a:cubicBezTo>
                  <a:pt x="17359" y="1067"/>
                  <a:pt x="17359" y="1067"/>
                  <a:pt x="17365" y="1067"/>
                </a:cubicBezTo>
                <a:cubicBezTo>
                  <a:pt x="17371" y="1067"/>
                  <a:pt x="17377" y="1067"/>
                  <a:pt x="17383" y="1067"/>
                </a:cubicBezTo>
                <a:cubicBezTo>
                  <a:pt x="17383" y="1044"/>
                  <a:pt x="17383" y="1044"/>
                  <a:pt x="17383" y="1044"/>
                </a:cubicBezTo>
                <a:cubicBezTo>
                  <a:pt x="17383" y="1044"/>
                  <a:pt x="17377" y="1038"/>
                  <a:pt x="17377" y="1032"/>
                </a:cubicBezTo>
                <a:lnTo>
                  <a:pt x="17383" y="1032"/>
                </a:lnTo>
                <a:cubicBezTo>
                  <a:pt x="17365" y="1032"/>
                  <a:pt x="17359" y="1032"/>
                  <a:pt x="17342" y="1032"/>
                </a:cubicBezTo>
                <a:cubicBezTo>
                  <a:pt x="17336" y="1032"/>
                  <a:pt x="17336" y="1032"/>
                  <a:pt x="17330" y="1032"/>
                </a:cubicBezTo>
                <a:cubicBezTo>
                  <a:pt x="17324" y="1032"/>
                  <a:pt x="17318" y="1032"/>
                  <a:pt x="17306" y="1032"/>
                </a:cubicBezTo>
                <a:cubicBezTo>
                  <a:pt x="17294" y="1032"/>
                  <a:pt x="17294" y="1032"/>
                  <a:pt x="17294" y="1032"/>
                </a:cubicBezTo>
                <a:cubicBezTo>
                  <a:pt x="17294" y="1032"/>
                  <a:pt x="17288" y="1032"/>
                  <a:pt x="17282" y="1032"/>
                </a:cubicBezTo>
                <a:cubicBezTo>
                  <a:pt x="17270" y="1032"/>
                  <a:pt x="17270" y="1032"/>
                  <a:pt x="17270" y="1032"/>
                </a:cubicBezTo>
                <a:cubicBezTo>
                  <a:pt x="17265" y="1032"/>
                  <a:pt x="17265" y="1032"/>
                  <a:pt x="17259" y="1032"/>
                </a:cubicBezTo>
                <a:cubicBezTo>
                  <a:pt x="17259" y="1002"/>
                  <a:pt x="17259" y="1002"/>
                  <a:pt x="17259" y="1002"/>
                </a:cubicBezTo>
                <a:cubicBezTo>
                  <a:pt x="17247" y="1002"/>
                  <a:pt x="17235" y="1002"/>
                  <a:pt x="17223" y="1002"/>
                </a:cubicBezTo>
                <a:cubicBezTo>
                  <a:pt x="17217" y="1002"/>
                  <a:pt x="17217" y="1002"/>
                  <a:pt x="17211" y="1002"/>
                </a:cubicBezTo>
                <a:cubicBezTo>
                  <a:pt x="17205" y="1002"/>
                  <a:pt x="17211" y="1014"/>
                  <a:pt x="17205" y="1014"/>
                </a:cubicBezTo>
                <a:cubicBezTo>
                  <a:pt x="17205" y="1020"/>
                  <a:pt x="17199" y="1014"/>
                  <a:pt x="17193" y="1014"/>
                </a:cubicBezTo>
                <a:cubicBezTo>
                  <a:pt x="17181" y="1014"/>
                  <a:pt x="17181" y="1014"/>
                  <a:pt x="17176" y="1014"/>
                </a:cubicBezTo>
                <a:cubicBezTo>
                  <a:pt x="17158" y="1008"/>
                  <a:pt x="17158" y="996"/>
                  <a:pt x="17146" y="984"/>
                </a:cubicBezTo>
                <a:cubicBezTo>
                  <a:pt x="17134" y="990"/>
                  <a:pt x="17134" y="990"/>
                  <a:pt x="17134" y="990"/>
                </a:cubicBezTo>
                <a:cubicBezTo>
                  <a:pt x="17134" y="1038"/>
                  <a:pt x="17134" y="1038"/>
                  <a:pt x="17134" y="1038"/>
                </a:cubicBezTo>
                <a:cubicBezTo>
                  <a:pt x="17140" y="1038"/>
                  <a:pt x="17134" y="1044"/>
                  <a:pt x="17140" y="1044"/>
                </a:cubicBezTo>
                <a:close/>
                <a:moveTo>
                  <a:pt x="16796" y="1227"/>
                </a:moveTo>
                <a:lnTo>
                  <a:pt x="16796" y="1227"/>
                </a:lnTo>
                <a:cubicBezTo>
                  <a:pt x="16808" y="1227"/>
                  <a:pt x="16814" y="1233"/>
                  <a:pt x="16820" y="1233"/>
                </a:cubicBezTo>
                <a:cubicBezTo>
                  <a:pt x="16826" y="1233"/>
                  <a:pt x="16832" y="1233"/>
                  <a:pt x="16844" y="1233"/>
                </a:cubicBezTo>
                <a:cubicBezTo>
                  <a:pt x="16855" y="1233"/>
                  <a:pt x="16855" y="1233"/>
                  <a:pt x="16855" y="1233"/>
                </a:cubicBezTo>
                <a:cubicBezTo>
                  <a:pt x="16861" y="1233"/>
                  <a:pt x="16861" y="1233"/>
                  <a:pt x="16867" y="1233"/>
                </a:cubicBezTo>
                <a:cubicBezTo>
                  <a:pt x="16879" y="1233"/>
                  <a:pt x="16891" y="1233"/>
                  <a:pt x="16903" y="1233"/>
                </a:cubicBezTo>
                <a:cubicBezTo>
                  <a:pt x="16909" y="1233"/>
                  <a:pt x="16915" y="1227"/>
                  <a:pt x="16921" y="1227"/>
                </a:cubicBezTo>
                <a:cubicBezTo>
                  <a:pt x="16926" y="1227"/>
                  <a:pt x="16926" y="1227"/>
                  <a:pt x="16926" y="1227"/>
                </a:cubicBezTo>
                <a:cubicBezTo>
                  <a:pt x="16933" y="1227"/>
                  <a:pt x="16933" y="1233"/>
                  <a:pt x="16938" y="1239"/>
                </a:cubicBezTo>
                <a:cubicBezTo>
                  <a:pt x="16944" y="1239"/>
                  <a:pt x="16950" y="1245"/>
                  <a:pt x="16962" y="1245"/>
                </a:cubicBezTo>
                <a:cubicBezTo>
                  <a:pt x="16962" y="1245"/>
                  <a:pt x="16968" y="1251"/>
                  <a:pt x="16974" y="1251"/>
                </a:cubicBezTo>
                <a:cubicBezTo>
                  <a:pt x="16992" y="1251"/>
                  <a:pt x="16992" y="1251"/>
                  <a:pt x="16992" y="1251"/>
                </a:cubicBezTo>
                <a:cubicBezTo>
                  <a:pt x="16998" y="1227"/>
                  <a:pt x="16998" y="1227"/>
                  <a:pt x="16998" y="1227"/>
                </a:cubicBezTo>
                <a:cubicBezTo>
                  <a:pt x="16992" y="1221"/>
                  <a:pt x="16992" y="1215"/>
                  <a:pt x="16992" y="1215"/>
                </a:cubicBezTo>
                <a:cubicBezTo>
                  <a:pt x="16986" y="1210"/>
                  <a:pt x="16986" y="1210"/>
                  <a:pt x="16980" y="1210"/>
                </a:cubicBezTo>
                <a:cubicBezTo>
                  <a:pt x="16974" y="1204"/>
                  <a:pt x="16974" y="1204"/>
                  <a:pt x="16968" y="1198"/>
                </a:cubicBezTo>
                <a:cubicBezTo>
                  <a:pt x="16962" y="1198"/>
                  <a:pt x="16962" y="1204"/>
                  <a:pt x="16956" y="1198"/>
                </a:cubicBezTo>
                <a:cubicBezTo>
                  <a:pt x="16950" y="1198"/>
                  <a:pt x="16950" y="1198"/>
                  <a:pt x="16944" y="1198"/>
                </a:cubicBezTo>
                <a:cubicBezTo>
                  <a:pt x="16938" y="1192"/>
                  <a:pt x="16938" y="1192"/>
                  <a:pt x="16933" y="1186"/>
                </a:cubicBezTo>
                <a:lnTo>
                  <a:pt x="16933" y="1180"/>
                </a:lnTo>
                <a:cubicBezTo>
                  <a:pt x="16926" y="1174"/>
                  <a:pt x="16921" y="1180"/>
                  <a:pt x="16921" y="1180"/>
                </a:cubicBezTo>
                <a:cubicBezTo>
                  <a:pt x="16909" y="1180"/>
                  <a:pt x="16909" y="1180"/>
                  <a:pt x="16909" y="1180"/>
                </a:cubicBezTo>
                <a:cubicBezTo>
                  <a:pt x="16897" y="1180"/>
                  <a:pt x="16885" y="1174"/>
                  <a:pt x="16873" y="1180"/>
                </a:cubicBezTo>
                <a:cubicBezTo>
                  <a:pt x="16867" y="1180"/>
                  <a:pt x="16867" y="1186"/>
                  <a:pt x="16861" y="1186"/>
                </a:cubicBezTo>
                <a:cubicBezTo>
                  <a:pt x="16861" y="1192"/>
                  <a:pt x="16861" y="1198"/>
                  <a:pt x="16855" y="1198"/>
                </a:cubicBezTo>
                <a:cubicBezTo>
                  <a:pt x="16855" y="1204"/>
                  <a:pt x="16849" y="1198"/>
                  <a:pt x="16844" y="1198"/>
                </a:cubicBezTo>
                <a:cubicBezTo>
                  <a:pt x="16826" y="1204"/>
                  <a:pt x="16820" y="1215"/>
                  <a:pt x="16808" y="1227"/>
                </a:cubicBezTo>
                <a:lnTo>
                  <a:pt x="16796" y="1227"/>
                </a:lnTo>
                <a:close/>
                <a:moveTo>
                  <a:pt x="16855" y="1156"/>
                </a:moveTo>
                <a:lnTo>
                  <a:pt x="16855" y="1156"/>
                </a:lnTo>
                <a:cubicBezTo>
                  <a:pt x="16861" y="1156"/>
                  <a:pt x="16861" y="1156"/>
                  <a:pt x="16867" y="1150"/>
                </a:cubicBezTo>
                <a:cubicBezTo>
                  <a:pt x="16867" y="1150"/>
                  <a:pt x="16867" y="1144"/>
                  <a:pt x="16867" y="1138"/>
                </a:cubicBezTo>
                <a:cubicBezTo>
                  <a:pt x="16861" y="1138"/>
                  <a:pt x="16861" y="1132"/>
                  <a:pt x="16855" y="1132"/>
                </a:cubicBezTo>
                <a:cubicBezTo>
                  <a:pt x="16855" y="1132"/>
                  <a:pt x="16849" y="1132"/>
                  <a:pt x="16844" y="1132"/>
                </a:cubicBezTo>
                <a:cubicBezTo>
                  <a:pt x="16838" y="1132"/>
                  <a:pt x="16832" y="1127"/>
                  <a:pt x="16820" y="1127"/>
                </a:cubicBezTo>
                <a:cubicBezTo>
                  <a:pt x="16802" y="1127"/>
                  <a:pt x="16802" y="1127"/>
                  <a:pt x="16802" y="1127"/>
                </a:cubicBezTo>
                <a:cubicBezTo>
                  <a:pt x="16802" y="1132"/>
                  <a:pt x="16796" y="1132"/>
                  <a:pt x="16796" y="1138"/>
                </a:cubicBezTo>
                <a:cubicBezTo>
                  <a:pt x="16796" y="1144"/>
                  <a:pt x="16802" y="1150"/>
                  <a:pt x="16808" y="1150"/>
                </a:cubicBezTo>
                <a:cubicBezTo>
                  <a:pt x="16808" y="1156"/>
                  <a:pt x="16814" y="1156"/>
                  <a:pt x="16814" y="1156"/>
                </a:cubicBezTo>
                <a:cubicBezTo>
                  <a:pt x="16826" y="1156"/>
                  <a:pt x="16832" y="1162"/>
                  <a:pt x="16838" y="1162"/>
                </a:cubicBezTo>
                <a:cubicBezTo>
                  <a:pt x="16844" y="1162"/>
                  <a:pt x="16849" y="1156"/>
                  <a:pt x="16855" y="1156"/>
                </a:cubicBezTo>
                <a:close/>
                <a:moveTo>
                  <a:pt x="16642" y="1032"/>
                </a:moveTo>
                <a:lnTo>
                  <a:pt x="16642" y="1032"/>
                </a:lnTo>
                <a:cubicBezTo>
                  <a:pt x="16642" y="1032"/>
                  <a:pt x="16642" y="1038"/>
                  <a:pt x="16648" y="1038"/>
                </a:cubicBezTo>
                <a:cubicBezTo>
                  <a:pt x="16654" y="1044"/>
                  <a:pt x="16648" y="1050"/>
                  <a:pt x="16654" y="1050"/>
                </a:cubicBezTo>
                <a:cubicBezTo>
                  <a:pt x="16660" y="1055"/>
                  <a:pt x="16660" y="1055"/>
                  <a:pt x="16666" y="1055"/>
                </a:cubicBezTo>
                <a:cubicBezTo>
                  <a:pt x="16672" y="1055"/>
                  <a:pt x="16672" y="1061"/>
                  <a:pt x="16678" y="1061"/>
                </a:cubicBezTo>
                <a:cubicBezTo>
                  <a:pt x="16683" y="1067"/>
                  <a:pt x="16683" y="1067"/>
                  <a:pt x="16689" y="1067"/>
                </a:cubicBezTo>
                <a:cubicBezTo>
                  <a:pt x="16695" y="1067"/>
                  <a:pt x="16701" y="1073"/>
                  <a:pt x="16701" y="1079"/>
                </a:cubicBezTo>
                <a:cubicBezTo>
                  <a:pt x="16707" y="1079"/>
                  <a:pt x="16707" y="1085"/>
                  <a:pt x="16707" y="1091"/>
                </a:cubicBezTo>
                <a:cubicBezTo>
                  <a:pt x="16713" y="1091"/>
                  <a:pt x="16713" y="1097"/>
                  <a:pt x="16713" y="1103"/>
                </a:cubicBezTo>
                <a:cubicBezTo>
                  <a:pt x="16719" y="1103"/>
                  <a:pt x="16725" y="1103"/>
                  <a:pt x="16731" y="1103"/>
                </a:cubicBezTo>
                <a:cubicBezTo>
                  <a:pt x="16743" y="1103"/>
                  <a:pt x="16749" y="1103"/>
                  <a:pt x="16760" y="1103"/>
                </a:cubicBezTo>
                <a:cubicBezTo>
                  <a:pt x="16760" y="1091"/>
                  <a:pt x="16767" y="1091"/>
                  <a:pt x="16767" y="1085"/>
                </a:cubicBezTo>
                <a:cubicBezTo>
                  <a:pt x="16767" y="1079"/>
                  <a:pt x="16767" y="1073"/>
                  <a:pt x="16767" y="1073"/>
                </a:cubicBezTo>
                <a:cubicBezTo>
                  <a:pt x="16767" y="1067"/>
                  <a:pt x="16772" y="1067"/>
                  <a:pt x="16772" y="1061"/>
                </a:cubicBezTo>
                <a:cubicBezTo>
                  <a:pt x="16784" y="1067"/>
                  <a:pt x="16796" y="1073"/>
                  <a:pt x="16808" y="1073"/>
                </a:cubicBezTo>
                <a:cubicBezTo>
                  <a:pt x="16820" y="1073"/>
                  <a:pt x="16832" y="1073"/>
                  <a:pt x="16844" y="1073"/>
                </a:cubicBezTo>
                <a:cubicBezTo>
                  <a:pt x="16855" y="1073"/>
                  <a:pt x="16861" y="1073"/>
                  <a:pt x="16867" y="1067"/>
                </a:cubicBezTo>
                <a:cubicBezTo>
                  <a:pt x="16873" y="1067"/>
                  <a:pt x="16867" y="1061"/>
                  <a:pt x="16873" y="1055"/>
                </a:cubicBezTo>
                <a:cubicBezTo>
                  <a:pt x="16873" y="1055"/>
                  <a:pt x="16879" y="1055"/>
                  <a:pt x="16885" y="1055"/>
                </a:cubicBezTo>
                <a:lnTo>
                  <a:pt x="16891" y="1055"/>
                </a:lnTo>
                <a:cubicBezTo>
                  <a:pt x="16897" y="1061"/>
                  <a:pt x="16897" y="1067"/>
                  <a:pt x="16903" y="1067"/>
                </a:cubicBezTo>
                <a:cubicBezTo>
                  <a:pt x="16909" y="1067"/>
                  <a:pt x="16909" y="1073"/>
                  <a:pt x="16915" y="1073"/>
                </a:cubicBezTo>
                <a:cubicBezTo>
                  <a:pt x="16926" y="1073"/>
                  <a:pt x="16926" y="1061"/>
                  <a:pt x="16938" y="1055"/>
                </a:cubicBezTo>
                <a:cubicBezTo>
                  <a:pt x="16938" y="1055"/>
                  <a:pt x="16938" y="1050"/>
                  <a:pt x="16944" y="1044"/>
                </a:cubicBezTo>
                <a:cubicBezTo>
                  <a:pt x="16950" y="1044"/>
                  <a:pt x="16956" y="1044"/>
                  <a:pt x="16962" y="1044"/>
                </a:cubicBezTo>
                <a:cubicBezTo>
                  <a:pt x="16968" y="1044"/>
                  <a:pt x="16968" y="1044"/>
                  <a:pt x="16968" y="1044"/>
                </a:cubicBezTo>
                <a:cubicBezTo>
                  <a:pt x="16974" y="1044"/>
                  <a:pt x="16974" y="1050"/>
                  <a:pt x="16980" y="1050"/>
                </a:cubicBezTo>
                <a:cubicBezTo>
                  <a:pt x="16986" y="1055"/>
                  <a:pt x="16986" y="1055"/>
                  <a:pt x="16992" y="1055"/>
                </a:cubicBezTo>
                <a:cubicBezTo>
                  <a:pt x="16998" y="1055"/>
                  <a:pt x="16998" y="1055"/>
                  <a:pt x="17004" y="1055"/>
                </a:cubicBezTo>
                <a:cubicBezTo>
                  <a:pt x="17045" y="1055"/>
                  <a:pt x="17045" y="1055"/>
                  <a:pt x="17045" y="1055"/>
                </a:cubicBezTo>
                <a:cubicBezTo>
                  <a:pt x="17045" y="1044"/>
                  <a:pt x="17045" y="1038"/>
                  <a:pt x="17045" y="1026"/>
                </a:cubicBezTo>
                <a:cubicBezTo>
                  <a:pt x="17051" y="1020"/>
                  <a:pt x="17051" y="1020"/>
                  <a:pt x="17051" y="1014"/>
                </a:cubicBezTo>
                <a:cubicBezTo>
                  <a:pt x="17057" y="1008"/>
                  <a:pt x="17063" y="1008"/>
                  <a:pt x="17063" y="1002"/>
                </a:cubicBezTo>
                <a:cubicBezTo>
                  <a:pt x="17069" y="996"/>
                  <a:pt x="17075" y="996"/>
                  <a:pt x="17075" y="990"/>
                </a:cubicBezTo>
                <a:cubicBezTo>
                  <a:pt x="17075" y="990"/>
                  <a:pt x="17075" y="984"/>
                  <a:pt x="17075" y="978"/>
                </a:cubicBezTo>
                <a:cubicBezTo>
                  <a:pt x="17069" y="978"/>
                  <a:pt x="17063" y="978"/>
                  <a:pt x="17063" y="978"/>
                </a:cubicBezTo>
                <a:cubicBezTo>
                  <a:pt x="17057" y="978"/>
                  <a:pt x="17057" y="978"/>
                  <a:pt x="17051" y="978"/>
                </a:cubicBezTo>
                <a:cubicBezTo>
                  <a:pt x="17045" y="978"/>
                  <a:pt x="17051" y="966"/>
                  <a:pt x="17045" y="966"/>
                </a:cubicBezTo>
                <a:cubicBezTo>
                  <a:pt x="17039" y="966"/>
                  <a:pt x="17039" y="966"/>
                  <a:pt x="17033" y="966"/>
                </a:cubicBezTo>
                <a:cubicBezTo>
                  <a:pt x="17021" y="966"/>
                  <a:pt x="17015" y="966"/>
                  <a:pt x="16998" y="966"/>
                </a:cubicBezTo>
                <a:cubicBezTo>
                  <a:pt x="16992" y="966"/>
                  <a:pt x="16992" y="961"/>
                  <a:pt x="16980" y="961"/>
                </a:cubicBezTo>
                <a:cubicBezTo>
                  <a:pt x="16974" y="961"/>
                  <a:pt x="16974" y="961"/>
                  <a:pt x="16974" y="961"/>
                </a:cubicBezTo>
                <a:cubicBezTo>
                  <a:pt x="16974" y="966"/>
                  <a:pt x="16968" y="966"/>
                  <a:pt x="16968" y="966"/>
                </a:cubicBezTo>
                <a:cubicBezTo>
                  <a:pt x="16962" y="972"/>
                  <a:pt x="16962" y="978"/>
                  <a:pt x="16962" y="978"/>
                </a:cubicBezTo>
                <a:cubicBezTo>
                  <a:pt x="16956" y="984"/>
                  <a:pt x="16950" y="984"/>
                  <a:pt x="16950" y="990"/>
                </a:cubicBezTo>
                <a:cubicBezTo>
                  <a:pt x="16950" y="996"/>
                  <a:pt x="16950" y="1002"/>
                  <a:pt x="16950" y="1002"/>
                </a:cubicBezTo>
                <a:cubicBezTo>
                  <a:pt x="16944" y="1014"/>
                  <a:pt x="16950" y="1020"/>
                  <a:pt x="16950" y="1026"/>
                </a:cubicBezTo>
                <a:cubicBezTo>
                  <a:pt x="16938" y="1026"/>
                  <a:pt x="16933" y="1026"/>
                  <a:pt x="16926" y="1026"/>
                </a:cubicBezTo>
                <a:cubicBezTo>
                  <a:pt x="16921" y="1026"/>
                  <a:pt x="16921" y="1026"/>
                  <a:pt x="16915" y="1026"/>
                </a:cubicBezTo>
                <a:cubicBezTo>
                  <a:pt x="16915" y="996"/>
                  <a:pt x="16915" y="996"/>
                  <a:pt x="16915" y="996"/>
                </a:cubicBezTo>
                <a:cubicBezTo>
                  <a:pt x="16915" y="990"/>
                  <a:pt x="16921" y="984"/>
                  <a:pt x="16921" y="984"/>
                </a:cubicBezTo>
                <a:cubicBezTo>
                  <a:pt x="16926" y="972"/>
                  <a:pt x="16933" y="972"/>
                  <a:pt x="16933" y="961"/>
                </a:cubicBezTo>
                <a:cubicBezTo>
                  <a:pt x="16933" y="955"/>
                  <a:pt x="16926" y="955"/>
                  <a:pt x="16926" y="949"/>
                </a:cubicBezTo>
                <a:cubicBezTo>
                  <a:pt x="16921" y="949"/>
                  <a:pt x="16915" y="949"/>
                  <a:pt x="16903" y="949"/>
                </a:cubicBezTo>
                <a:cubicBezTo>
                  <a:pt x="16903" y="949"/>
                  <a:pt x="16897" y="949"/>
                  <a:pt x="16891" y="949"/>
                </a:cubicBezTo>
                <a:cubicBezTo>
                  <a:pt x="16885" y="943"/>
                  <a:pt x="16879" y="949"/>
                  <a:pt x="16873" y="949"/>
                </a:cubicBezTo>
                <a:cubicBezTo>
                  <a:pt x="16867" y="949"/>
                  <a:pt x="16861" y="949"/>
                  <a:pt x="16861" y="949"/>
                </a:cubicBezTo>
                <a:cubicBezTo>
                  <a:pt x="16861" y="978"/>
                  <a:pt x="16861" y="978"/>
                  <a:pt x="16861" y="978"/>
                </a:cubicBezTo>
                <a:cubicBezTo>
                  <a:pt x="16849" y="978"/>
                  <a:pt x="16844" y="978"/>
                  <a:pt x="16838" y="978"/>
                </a:cubicBezTo>
                <a:cubicBezTo>
                  <a:pt x="16826" y="978"/>
                  <a:pt x="16820" y="978"/>
                  <a:pt x="16814" y="978"/>
                </a:cubicBezTo>
                <a:cubicBezTo>
                  <a:pt x="16808" y="978"/>
                  <a:pt x="16808" y="978"/>
                  <a:pt x="16802" y="978"/>
                </a:cubicBezTo>
                <a:cubicBezTo>
                  <a:pt x="16796" y="978"/>
                  <a:pt x="16796" y="966"/>
                  <a:pt x="16796" y="966"/>
                </a:cubicBezTo>
                <a:cubicBezTo>
                  <a:pt x="16790" y="961"/>
                  <a:pt x="16790" y="961"/>
                  <a:pt x="16784" y="955"/>
                </a:cubicBezTo>
                <a:cubicBezTo>
                  <a:pt x="16784" y="949"/>
                  <a:pt x="16778" y="955"/>
                  <a:pt x="16772" y="949"/>
                </a:cubicBezTo>
                <a:cubicBezTo>
                  <a:pt x="16772" y="949"/>
                  <a:pt x="16778" y="937"/>
                  <a:pt x="16772" y="937"/>
                </a:cubicBezTo>
                <a:cubicBezTo>
                  <a:pt x="16767" y="931"/>
                  <a:pt x="16760" y="937"/>
                  <a:pt x="16755" y="937"/>
                </a:cubicBezTo>
                <a:cubicBezTo>
                  <a:pt x="16737" y="937"/>
                  <a:pt x="16737" y="937"/>
                  <a:pt x="16737" y="937"/>
                </a:cubicBezTo>
                <a:lnTo>
                  <a:pt x="16731" y="943"/>
                </a:lnTo>
                <a:cubicBezTo>
                  <a:pt x="16707" y="943"/>
                  <a:pt x="16695" y="943"/>
                  <a:pt x="16672" y="943"/>
                </a:cubicBezTo>
                <a:cubicBezTo>
                  <a:pt x="16672" y="949"/>
                  <a:pt x="16678" y="955"/>
                  <a:pt x="16672" y="966"/>
                </a:cubicBezTo>
                <a:cubicBezTo>
                  <a:pt x="16672" y="972"/>
                  <a:pt x="16666" y="978"/>
                  <a:pt x="16660" y="990"/>
                </a:cubicBezTo>
                <a:cubicBezTo>
                  <a:pt x="16660" y="990"/>
                  <a:pt x="16660" y="996"/>
                  <a:pt x="16660" y="1002"/>
                </a:cubicBezTo>
                <a:cubicBezTo>
                  <a:pt x="16660" y="1008"/>
                  <a:pt x="16654" y="1008"/>
                  <a:pt x="16654" y="1014"/>
                </a:cubicBezTo>
                <a:cubicBezTo>
                  <a:pt x="16648" y="1020"/>
                  <a:pt x="16654" y="1020"/>
                  <a:pt x="16654" y="1026"/>
                </a:cubicBezTo>
                <a:cubicBezTo>
                  <a:pt x="16648" y="1032"/>
                  <a:pt x="16648" y="1032"/>
                  <a:pt x="16648" y="1038"/>
                </a:cubicBezTo>
                <a:lnTo>
                  <a:pt x="16642" y="1032"/>
                </a:lnTo>
                <a:close/>
                <a:moveTo>
                  <a:pt x="16583" y="1008"/>
                </a:moveTo>
                <a:lnTo>
                  <a:pt x="16583" y="1008"/>
                </a:lnTo>
                <a:cubicBezTo>
                  <a:pt x="16577" y="1002"/>
                  <a:pt x="16577" y="996"/>
                  <a:pt x="16577" y="996"/>
                </a:cubicBezTo>
                <a:cubicBezTo>
                  <a:pt x="16577" y="984"/>
                  <a:pt x="16577" y="978"/>
                  <a:pt x="16583" y="972"/>
                </a:cubicBezTo>
                <a:cubicBezTo>
                  <a:pt x="16577" y="972"/>
                  <a:pt x="16571" y="972"/>
                  <a:pt x="16565" y="972"/>
                </a:cubicBezTo>
                <a:cubicBezTo>
                  <a:pt x="16559" y="972"/>
                  <a:pt x="16559" y="966"/>
                  <a:pt x="16553" y="966"/>
                </a:cubicBezTo>
                <a:cubicBezTo>
                  <a:pt x="16547" y="966"/>
                  <a:pt x="16547" y="972"/>
                  <a:pt x="16541" y="978"/>
                </a:cubicBezTo>
                <a:cubicBezTo>
                  <a:pt x="16541" y="978"/>
                  <a:pt x="16541" y="984"/>
                  <a:pt x="16541" y="990"/>
                </a:cubicBezTo>
                <a:cubicBezTo>
                  <a:pt x="16541" y="996"/>
                  <a:pt x="16541" y="996"/>
                  <a:pt x="16541" y="1002"/>
                </a:cubicBezTo>
                <a:cubicBezTo>
                  <a:pt x="16541" y="1008"/>
                  <a:pt x="16547" y="1008"/>
                  <a:pt x="16553" y="1008"/>
                </a:cubicBezTo>
                <a:cubicBezTo>
                  <a:pt x="16559" y="1014"/>
                  <a:pt x="16559" y="1020"/>
                  <a:pt x="16565" y="1020"/>
                </a:cubicBezTo>
                <a:cubicBezTo>
                  <a:pt x="16571" y="1020"/>
                  <a:pt x="16577" y="1008"/>
                  <a:pt x="16583" y="1008"/>
                </a:cubicBezTo>
                <a:close/>
                <a:moveTo>
                  <a:pt x="16547" y="1127"/>
                </a:moveTo>
                <a:lnTo>
                  <a:pt x="16547" y="1127"/>
                </a:lnTo>
                <a:cubicBezTo>
                  <a:pt x="16547" y="1132"/>
                  <a:pt x="16547" y="1138"/>
                  <a:pt x="16553" y="1138"/>
                </a:cubicBezTo>
                <a:cubicBezTo>
                  <a:pt x="16553" y="1150"/>
                  <a:pt x="16565" y="1156"/>
                  <a:pt x="16565" y="1162"/>
                </a:cubicBezTo>
                <a:cubicBezTo>
                  <a:pt x="16565" y="1168"/>
                  <a:pt x="16571" y="1168"/>
                  <a:pt x="16571" y="1174"/>
                </a:cubicBezTo>
                <a:cubicBezTo>
                  <a:pt x="16571" y="1180"/>
                  <a:pt x="16571" y="1186"/>
                  <a:pt x="16571" y="1198"/>
                </a:cubicBezTo>
                <a:cubicBezTo>
                  <a:pt x="16624" y="1198"/>
                  <a:pt x="16624" y="1198"/>
                  <a:pt x="16624" y="1198"/>
                </a:cubicBezTo>
                <a:cubicBezTo>
                  <a:pt x="16618" y="1192"/>
                  <a:pt x="16624" y="1186"/>
                  <a:pt x="16618" y="1186"/>
                </a:cubicBezTo>
                <a:cubicBezTo>
                  <a:pt x="16612" y="1180"/>
                  <a:pt x="16606" y="1180"/>
                  <a:pt x="16601" y="1180"/>
                </a:cubicBezTo>
                <a:cubicBezTo>
                  <a:pt x="16601" y="1180"/>
                  <a:pt x="16594" y="1180"/>
                  <a:pt x="16589" y="1174"/>
                </a:cubicBezTo>
                <a:cubicBezTo>
                  <a:pt x="16583" y="1168"/>
                  <a:pt x="16583" y="1162"/>
                  <a:pt x="16577" y="1150"/>
                </a:cubicBezTo>
                <a:cubicBezTo>
                  <a:pt x="16571" y="1138"/>
                  <a:pt x="16571" y="1138"/>
                  <a:pt x="16571" y="1138"/>
                </a:cubicBezTo>
                <a:cubicBezTo>
                  <a:pt x="16571" y="1132"/>
                  <a:pt x="16565" y="1132"/>
                  <a:pt x="16565" y="1127"/>
                </a:cubicBezTo>
                <a:lnTo>
                  <a:pt x="16547" y="1127"/>
                </a:lnTo>
                <a:close/>
                <a:moveTo>
                  <a:pt x="15029" y="711"/>
                </a:moveTo>
                <a:lnTo>
                  <a:pt x="15029" y="711"/>
                </a:lnTo>
                <a:cubicBezTo>
                  <a:pt x="15029" y="706"/>
                  <a:pt x="15023" y="706"/>
                  <a:pt x="15017" y="700"/>
                </a:cubicBezTo>
                <a:cubicBezTo>
                  <a:pt x="15017" y="700"/>
                  <a:pt x="15023" y="694"/>
                  <a:pt x="15017" y="688"/>
                </a:cubicBezTo>
                <a:cubicBezTo>
                  <a:pt x="15017" y="688"/>
                  <a:pt x="15012" y="688"/>
                  <a:pt x="15005" y="688"/>
                </a:cubicBezTo>
                <a:cubicBezTo>
                  <a:pt x="15000" y="688"/>
                  <a:pt x="15000" y="682"/>
                  <a:pt x="14994" y="682"/>
                </a:cubicBezTo>
                <a:cubicBezTo>
                  <a:pt x="14982" y="682"/>
                  <a:pt x="14982" y="682"/>
                  <a:pt x="14982" y="682"/>
                </a:cubicBezTo>
                <a:cubicBezTo>
                  <a:pt x="14976" y="682"/>
                  <a:pt x="14976" y="676"/>
                  <a:pt x="14970" y="676"/>
                </a:cubicBezTo>
                <a:cubicBezTo>
                  <a:pt x="14964" y="676"/>
                  <a:pt x="14964" y="676"/>
                  <a:pt x="14958" y="676"/>
                </a:cubicBezTo>
                <a:cubicBezTo>
                  <a:pt x="14946" y="676"/>
                  <a:pt x="14946" y="676"/>
                  <a:pt x="14946" y="676"/>
                </a:cubicBezTo>
                <a:cubicBezTo>
                  <a:pt x="14940" y="676"/>
                  <a:pt x="14940" y="682"/>
                  <a:pt x="14934" y="688"/>
                </a:cubicBezTo>
                <a:cubicBezTo>
                  <a:pt x="14934" y="700"/>
                  <a:pt x="14934" y="700"/>
                  <a:pt x="14934" y="700"/>
                </a:cubicBezTo>
                <a:cubicBezTo>
                  <a:pt x="14940" y="700"/>
                  <a:pt x="14946" y="700"/>
                  <a:pt x="14946" y="700"/>
                </a:cubicBezTo>
                <a:cubicBezTo>
                  <a:pt x="14952" y="700"/>
                  <a:pt x="14952" y="700"/>
                  <a:pt x="14958" y="700"/>
                </a:cubicBezTo>
                <a:cubicBezTo>
                  <a:pt x="14964" y="706"/>
                  <a:pt x="14964" y="706"/>
                  <a:pt x="14970" y="711"/>
                </a:cubicBezTo>
                <a:cubicBezTo>
                  <a:pt x="14976" y="711"/>
                  <a:pt x="14976" y="718"/>
                  <a:pt x="14976" y="723"/>
                </a:cubicBezTo>
                <a:cubicBezTo>
                  <a:pt x="14988" y="723"/>
                  <a:pt x="14994" y="723"/>
                  <a:pt x="15005" y="723"/>
                </a:cubicBezTo>
                <a:cubicBezTo>
                  <a:pt x="15017" y="723"/>
                  <a:pt x="15017" y="723"/>
                  <a:pt x="15017" y="723"/>
                </a:cubicBezTo>
                <a:cubicBezTo>
                  <a:pt x="15023" y="723"/>
                  <a:pt x="15023" y="723"/>
                  <a:pt x="15029" y="723"/>
                </a:cubicBezTo>
                <a:cubicBezTo>
                  <a:pt x="15029" y="718"/>
                  <a:pt x="15029" y="711"/>
                  <a:pt x="15029" y="711"/>
                </a:cubicBezTo>
                <a:close/>
                <a:moveTo>
                  <a:pt x="14365" y="842"/>
                </a:moveTo>
                <a:lnTo>
                  <a:pt x="14365" y="842"/>
                </a:lnTo>
                <a:cubicBezTo>
                  <a:pt x="14371" y="842"/>
                  <a:pt x="14371" y="836"/>
                  <a:pt x="14377" y="836"/>
                </a:cubicBezTo>
                <a:cubicBezTo>
                  <a:pt x="14383" y="836"/>
                  <a:pt x="14389" y="842"/>
                  <a:pt x="14401" y="842"/>
                </a:cubicBezTo>
                <a:cubicBezTo>
                  <a:pt x="14401" y="842"/>
                  <a:pt x="14407" y="848"/>
                  <a:pt x="14413" y="848"/>
                </a:cubicBezTo>
                <a:cubicBezTo>
                  <a:pt x="14424" y="848"/>
                  <a:pt x="14424" y="848"/>
                  <a:pt x="14424" y="848"/>
                </a:cubicBezTo>
                <a:lnTo>
                  <a:pt x="14424" y="842"/>
                </a:lnTo>
                <a:cubicBezTo>
                  <a:pt x="14424" y="836"/>
                  <a:pt x="14424" y="830"/>
                  <a:pt x="14424" y="824"/>
                </a:cubicBezTo>
                <a:cubicBezTo>
                  <a:pt x="14419" y="818"/>
                  <a:pt x="14424" y="812"/>
                  <a:pt x="14424" y="812"/>
                </a:cubicBezTo>
                <a:cubicBezTo>
                  <a:pt x="14419" y="806"/>
                  <a:pt x="14413" y="806"/>
                  <a:pt x="14407" y="806"/>
                </a:cubicBezTo>
                <a:cubicBezTo>
                  <a:pt x="14401" y="806"/>
                  <a:pt x="14401" y="806"/>
                  <a:pt x="14401" y="806"/>
                </a:cubicBezTo>
                <a:cubicBezTo>
                  <a:pt x="14395" y="806"/>
                  <a:pt x="14395" y="812"/>
                  <a:pt x="14389" y="818"/>
                </a:cubicBezTo>
                <a:cubicBezTo>
                  <a:pt x="14383" y="824"/>
                  <a:pt x="14377" y="824"/>
                  <a:pt x="14365" y="830"/>
                </a:cubicBezTo>
                <a:lnTo>
                  <a:pt x="14365" y="842"/>
                </a:lnTo>
                <a:close/>
                <a:moveTo>
                  <a:pt x="14614" y="741"/>
                </a:moveTo>
                <a:lnTo>
                  <a:pt x="14614" y="741"/>
                </a:lnTo>
                <a:cubicBezTo>
                  <a:pt x="14626" y="741"/>
                  <a:pt x="14632" y="729"/>
                  <a:pt x="14644" y="723"/>
                </a:cubicBezTo>
                <a:cubicBezTo>
                  <a:pt x="14644" y="718"/>
                  <a:pt x="14650" y="718"/>
                  <a:pt x="14656" y="711"/>
                </a:cubicBezTo>
                <a:cubicBezTo>
                  <a:pt x="14656" y="706"/>
                  <a:pt x="14656" y="706"/>
                  <a:pt x="14662" y="700"/>
                </a:cubicBezTo>
                <a:cubicBezTo>
                  <a:pt x="14668" y="700"/>
                  <a:pt x="14673" y="700"/>
                  <a:pt x="14673" y="700"/>
                </a:cubicBezTo>
                <a:cubicBezTo>
                  <a:pt x="14679" y="700"/>
                  <a:pt x="14685" y="694"/>
                  <a:pt x="14691" y="694"/>
                </a:cubicBezTo>
                <a:cubicBezTo>
                  <a:pt x="14697" y="694"/>
                  <a:pt x="14697" y="700"/>
                  <a:pt x="14703" y="700"/>
                </a:cubicBezTo>
                <a:cubicBezTo>
                  <a:pt x="14762" y="700"/>
                  <a:pt x="14762" y="700"/>
                  <a:pt x="14762" y="700"/>
                </a:cubicBezTo>
                <a:cubicBezTo>
                  <a:pt x="14768" y="700"/>
                  <a:pt x="14768" y="694"/>
                  <a:pt x="14774" y="694"/>
                </a:cubicBezTo>
                <a:cubicBezTo>
                  <a:pt x="14780" y="688"/>
                  <a:pt x="14780" y="688"/>
                  <a:pt x="14786" y="688"/>
                </a:cubicBezTo>
                <a:cubicBezTo>
                  <a:pt x="14792" y="688"/>
                  <a:pt x="14792" y="688"/>
                  <a:pt x="14798" y="688"/>
                </a:cubicBezTo>
                <a:cubicBezTo>
                  <a:pt x="14810" y="688"/>
                  <a:pt x="14816" y="688"/>
                  <a:pt x="14822" y="688"/>
                </a:cubicBezTo>
                <a:cubicBezTo>
                  <a:pt x="14828" y="688"/>
                  <a:pt x="14828" y="688"/>
                  <a:pt x="14834" y="688"/>
                </a:cubicBezTo>
                <a:cubicBezTo>
                  <a:pt x="14839" y="688"/>
                  <a:pt x="14846" y="676"/>
                  <a:pt x="14851" y="676"/>
                </a:cubicBezTo>
                <a:cubicBezTo>
                  <a:pt x="14863" y="676"/>
                  <a:pt x="14869" y="682"/>
                  <a:pt x="14881" y="682"/>
                </a:cubicBezTo>
                <a:cubicBezTo>
                  <a:pt x="14887" y="682"/>
                  <a:pt x="14893" y="682"/>
                  <a:pt x="14899" y="676"/>
                </a:cubicBezTo>
                <a:cubicBezTo>
                  <a:pt x="14905" y="670"/>
                  <a:pt x="14905" y="670"/>
                  <a:pt x="14905" y="664"/>
                </a:cubicBezTo>
                <a:cubicBezTo>
                  <a:pt x="14911" y="658"/>
                  <a:pt x="14911" y="658"/>
                  <a:pt x="14911" y="652"/>
                </a:cubicBezTo>
                <a:cubicBezTo>
                  <a:pt x="14911" y="646"/>
                  <a:pt x="14905" y="646"/>
                  <a:pt x="14905" y="640"/>
                </a:cubicBezTo>
                <a:cubicBezTo>
                  <a:pt x="14905" y="629"/>
                  <a:pt x="14905" y="629"/>
                  <a:pt x="14905" y="629"/>
                </a:cubicBezTo>
                <a:cubicBezTo>
                  <a:pt x="14857" y="629"/>
                  <a:pt x="14857" y="629"/>
                  <a:pt x="14857" y="629"/>
                </a:cubicBezTo>
                <a:cubicBezTo>
                  <a:pt x="14857" y="617"/>
                  <a:pt x="14857" y="611"/>
                  <a:pt x="14857" y="599"/>
                </a:cubicBezTo>
                <a:cubicBezTo>
                  <a:pt x="14857" y="599"/>
                  <a:pt x="14857" y="593"/>
                  <a:pt x="14857" y="587"/>
                </a:cubicBezTo>
                <a:cubicBezTo>
                  <a:pt x="14857" y="587"/>
                  <a:pt x="14851" y="587"/>
                  <a:pt x="14846" y="581"/>
                </a:cubicBezTo>
                <a:cubicBezTo>
                  <a:pt x="14846" y="581"/>
                  <a:pt x="14839" y="581"/>
                  <a:pt x="14834" y="581"/>
                </a:cubicBezTo>
                <a:cubicBezTo>
                  <a:pt x="14822" y="575"/>
                  <a:pt x="14816" y="575"/>
                  <a:pt x="14798" y="575"/>
                </a:cubicBezTo>
                <a:cubicBezTo>
                  <a:pt x="14792" y="575"/>
                  <a:pt x="14792" y="575"/>
                  <a:pt x="14786" y="575"/>
                </a:cubicBezTo>
                <a:cubicBezTo>
                  <a:pt x="14780" y="575"/>
                  <a:pt x="14786" y="581"/>
                  <a:pt x="14780" y="587"/>
                </a:cubicBezTo>
                <a:cubicBezTo>
                  <a:pt x="14774" y="593"/>
                  <a:pt x="14774" y="599"/>
                  <a:pt x="14768" y="599"/>
                </a:cubicBezTo>
                <a:cubicBezTo>
                  <a:pt x="14762" y="599"/>
                  <a:pt x="14762" y="599"/>
                  <a:pt x="14762" y="599"/>
                </a:cubicBezTo>
                <a:cubicBezTo>
                  <a:pt x="14757" y="599"/>
                  <a:pt x="14757" y="593"/>
                  <a:pt x="14751" y="587"/>
                </a:cubicBezTo>
                <a:cubicBezTo>
                  <a:pt x="14757" y="587"/>
                  <a:pt x="14762" y="581"/>
                  <a:pt x="14762" y="575"/>
                </a:cubicBezTo>
                <a:cubicBezTo>
                  <a:pt x="14768" y="575"/>
                  <a:pt x="14774" y="575"/>
                  <a:pt x="14774" y="569"/>
                </a:cubicBezTo>
                <a:cubicBezTo>
                  <a:pt x="14774" y="563"/>
                  <a:pt x="14774" y="563"/>
                  <a:pt x="14774" y="557"/>
                </a:cubicBezTo>
                <a:cubicBezTo>
                  <a:pt x="14774" y="557"/>
                  <a:pt x="14768" y="557"/>
                  <a:pt x="14762" y="557"/>
                </a:cubicBezTo>
                <a:cubicBezTo>
                  <a:pt x="14762" y="552"/>
                  <a:pt x="14757" y="552"/>
                  <a:pt x="14751" y="552"/>
                </a:cubicBezTo>
                <a:cubicBezTo>
                  <a:pt x="14745" y="552"/>
                  <a:pt x="14751" y="540"/>
                  <a:pt x="14739" y="540"/>
                </a:cubicBezTo>
                <a:cubicBezTo>
                  <a:pt x="14733" y="540"/>
                  <a:pt x="14733" y="540"/>
                  <a:pt x="14733" y="540"/>
                </a:cubicBezTo>
                <a:cubicBezTo>
                  <a:pt x="14733" y="540"/>
                  <a:pt x="14727" y="545"/>
                  <a:pt x="14727" y="552"/>
                </a:cubicBezTo>
                <a:cubicBezTo>
                  <a:pt x="14721" y="552"/>
                  <a:pt x="14715" y="552"/>
                  <a:pt x="14709" y="552"/>
                </a:cubicBezTo>
                <a:cubicBezTo>
                  <a:pt x="14709" y="552"/>
                  <a:pt x="14703" y="552"/>
                  <a:pt x="14697" y="557"/>
                </a:cubicBezTo>
                <a:cubicBezTo>
                  <a:pt x="14697" y="557"/>
                  <a:pt x="14691" y="563"/>
                  <a:pt x="14691" y="569"/>
                </a:cubicBezTo>
                <a:cubicBezTo>
                  <a:pt x="14685" y="569"/>
                  <a:pt x="14679" y="569"/>
                  <a:pt x="14679" y="575"/>
                </a:cubicBezTo>
                <a:cubicBezTo>
                  <a:pt x="14679" y="581"/>
                  <a:pt x="14673" y="581"/>
                  <a:pt x="14673" y="587"/>
                </a:cubicBezTo>
                <a:cubicBezTo>
                  <a:pt x="14673" y="593"/>
                  <a:pt x="14673" y="593"/>
                  <a:pt x="14668" y="599"/>
                </a:cubicBezTo>
                <a:cubicBezTo>
                  <a:pt x="14668" y="605"/>
                  <a:pt x="14668" y="605"/>
                  <a:pt x="14662" y="611"/>
                </a:cubicBezTo>
                <a:cubicBezTo>
                  <a:pt x="14662" y="611"/>
                  <a:pt x="14656" y="605"/>
                  <a:pt x="14656" y="611"/>
                </a:cubicBezTo>
                <a:cubicBezTo>
                  <a:pt x="14650" y="611"/>
                  <a:pt x="14644" y="611"/>
                  <a:pt x="14644" y="617"/>
                </a:cubicBezTo>
                <a:cubicBezTo>
                  <a:pt x="14638" y="623"/>
                  <a:pt x="14644" y="623"/>
                  <a:pt x="14644" y="629"/>
                </a:cubicBezTo>
                <a:cubicBezTo>
                  <a:pt x="14638" y="634"/>
                  <a:pt x="14644" y="646"/>
                  <a:pt x="14644" y="652"/>
                </a:cubicBezTo>
                <a:cubicBezTo>
                  <a:pt x="14638" y="658"/>
                  <a:pt x="14638" y="658"/>
                  <a:pt x="14638" y="664"/>
                </a:cubicBezTo>
                <a:cubicBezTo>
                  <a:pt x="14632" y="670"/>
                  <a:pt x="14626" y="664"/>
                  <a:pt x="14626" y="670"/>
                </a:cubicBezTo>
                <a:cubicBezTo>
                  <a:pt x="14620" y="670"/>
                  <a:pt x="14614" y="670"/>
                  <a:pt x="14608" y="676"/>
                </a:cubicBezTo>
                <a:cubicBezTo>
                  <a:pt x="14608" y="676"/>
                  <a:pt x="14602" y="676"/>
                  <a:pt x="14596" y="682"/>
                </a:cubicBezTo>
                <a:cubicBezTo>
                  <a:pt x="14596" y="688"/>
                  <a:pt x="14591" y="688"/>
                  <a:pt x="14591" y="694"/>
                </a:cubicBezTo>
                <a:cubicBezTo>
                  <a:pt x="14591" y="700"/>
                  <a:pt x="14591" y="700"/>
                  <a:pt x="14591" y="706"/>
                </a:cubicBezTo>
                <a:cubicBezTo>
                  <a:pt x="14591" y="711"/>
                  <a:pt x="14591" y="718"/>
                  <a:pt x="14591" y="723"/>
                </a:cubicBezTo>
                <a:cubicBezTo>
                  <a:pt x="14596" y="723"/>
                  <a:pt x="14608" y="741"/>
                  <a:pt x="14614" y="741"/>
                </a:cubicBezTo>
                <a:close/>
                <a:moveTo>
                  <a:pt x="14430" y="457"/>
                </a:moveTo>
                <a:lnTo>
                  <a:pt x="14430" y="457"/>
                </a:lnTo>
                <a:cubicBezTo>
                  <a:pt x="14424" y="457"/>
                  <a:pt x="14424" y="463"/>
                  <a:pt x="14419" y="463"/>
                </a:cubicBezTo>
                <a:cubicBezTo>
                  <a:pt x="14413" y="468"/>
                  <a:pt x="14413" y="468"/>
                  <a:pt x="14407" y="468"/>
                </a:cubicBezTo>
                <a:cubicBezTo>
                  <a:pt x="14401" y="474"/>
                  <a:pt x="14407" y="480"/>
                  <a:pt x="14401" y="480"/>
                </a:cubicBezTo>
                <a:cubicBezTo>
                  <a:pt x="14395" y="480"/>
                  <a:pt x="14389" y="480"/>
                  <a:pt x="14389" y="486"/>
                </a:cubicBezTo>
                <a:cubicBezTo>
                  <a:pt x="14377" y="486"/>
                  <a:pt x="14365" y="480"/>
                  <a:pt x="14353" y="486"/>
                </a:cubicBezTo>
                <a:cubicBezTo>
                  <a:pt x="14347" y="486"/>
                  <a:pt x="14347" y="486"/>
                  <a:pt x="14341" y="486"/>
                </a:cubicBezTo>
                <a:cubicBezTo>
                  <a:pt x="14336" y="486"/>
                  <a:pt x="14336" y="486"/>
                  <a:pt x="14330" y="486"/>
                </a:cubicBezTo>
                <a:cubicBezTo>
                  <a:pt x="14324" y="486"/>
                  <a:pt x="14324" y="492"/>
                  <a:pt x="14318" y="492"/>
                </a:cubicBezTo>
                <a:cubicBezTo>
                  <a:pt x="14312" y="498"/>
                  <a:pt x="14318" y="504"/>
                  <a:pt x="14312" y="504"/>
                </a:cubicBezTo>
                <a:cubicBezTo>
                  <a:pt x="14306" y="510"/>
                  <a:pt x="14300" y="504"/>
                  <a:pt x="14300" y="504"/>
                </a:cubicBezTo>
                <a:cubicBezTo>
                  <a:pt x="14294" y="510"/>
                  <a:pt x="14294" y="510"/>
                  <a:pt x="14288" y="510"/>
                </a:cubicBezTo>
                <a:cubicBezTo>
                  <a:pt x="14282" y="510"/>
                  <a:pt x="14276" y="516"/>
                  <a:pt x="14276" y="522"/>
                </a:cubicBezTo>
                <a:cubicBezTo>
                  <a:pt x="14270" y="528"/>
                  <a:pt x="14270" y="528"/>
                  <a:pt x="14270" y="534"/>
                </a:cubicBezTo>
                <a:cubicBezTo>
                  <a:pt x="14264" y="534"/>
                  <a:pt x="14270" y="540"/>
                  <a:pt x="14270" y="540"/>
                </a:cubicBezTo>
                <a:cubicBezTo>
                  <a:pt x="14276" y="545"/>
                  <a:pt x="14282" y="545"/>
                  <a:pt x="14288" y="552"/>
                </a:cubicBezTo>
                <a:cubicBezTo>
                  <a:pt x="14294" y="552"/>
                  <a:pt x="14300" y="552"/>
                  <a:pt x="14300" y="557"/>
                </a:cubicBezTo>
                <a:cubicBezTo>
                  <a:pt x="14306" y="557"/>
                  <a:pt x="14300" y="563"/>
                  <a:pt x="14300" y="569"/>
                </a:cubicBezTo>
                <a:lnTo>
                  <a:pt x="14300" y="575"/>
                </a:lnTo>
                <a:cubicBezTo>
                  <a:pt x="14300" y="587"/>
                  <a:pt x="14306" y="587"/>
                  <a:pt x="14306" y="593"/>
                </a:cubicBezTo>
                <a:cubicBezTo>
                  <a:pt x="14407" y="593"/>
                  <a:pt x="14407" y="593"/>
                  <a:pt x="14407" y="593"/>
                </a:cubicBezTo>
                <a:cubicBezTo>
                  <a:pt x="14413" y="593"/>
                  <a:pt x="14413" y="599"/>
                  <a:pt x="14419" y="599"/>
                </a:cubicBezTo>
                <a:cubicBezTo>
                  <a:pt x="14424" y="599"/>
                  <a:pt x="14424" y="599"/>
                  <a:pt x="14430" y="599"/>
                </a:cubicBezTo>
                <a:cubicBezTo>
                  <a:pt x="14436" y="599"/>
                  <a:pt x="14436" y="605"/>
                  <a:pt x="14436" y="611"/>
                </a:cubicBezTo>
                <a:cubicBezTo>
                  <a:pt x="14442" y="611"/>
                  <a:pt x="14442" y="617"/>
                  <a:pt x="14448" y="623"/>
                </a:cubicBezTo>
                <a:cubicBezTo>
                  <a:pt x="14478" y="623"/>
                  <a:pt x="14490" y="623"/>
                  <a:pt x="14519" y="623"/>
                </a:cubicBezTo>
                <a:cubicBezTo>
                  <a:pt x="14525" y="623"/>
                  <a:pt x="14531" y="623"/>
                  <a:pt x="14531" y="623"/>
                </a:cubicBezTo>
                <a:cubicBezTo>
                  <a:pt x="14549" y="623"/>
                  <a:pt x="14549" y="623"/>
                  <a:pt x="14549" y="623"/>
                </a:cubicBezTo>
                <a:cubicBezTo>
                  <a:pt x="14561" y="623"/>
                  <a:pt x="14561" y="623"/>
                  <a:pt x="14573" y="623"/>
                </a:cubicBezTo>
                <a:cubicBezTo>
                  <a:pt x="14573" y="623"/>
                  <a:pt x="14579" y="623"/>
                  <a:pt x="14585" y="623"/>
                </a:cubicBezTo>
                <a:cubicBezTo>
                  <a:pt x="14591" y="617"/>
                  <a:pt x="14596" y="617"/>
                  <a:pt x="14602" y="611"/>
                </a:cubicBezTo>
                <a:cubicBezTo>
                  <a:pt x="14608" y="611"/>
                  <a:pt x="14608" y="605"/>
                  <a:pt x="14608" y="599"/>
                </a:cubicBezTo>
                <a:cubicBezTo>
                  <a:pt x="14608" y="575"/>
                  <a:pt x="14608" y="575"/>
                  <a:pt x="14608" y="575"/>
                </a:cubicBezTo>
                <a:cubicBezTo>
                  <a:pt x="14602" y="575"/>
                  <a:pt x="14602" y="581"/>
                  <a:pt x="14591" y="575"/>
                </a:cubicBezTo>
                <a:cubicBezTo>
                  <a:pt x="14591" y="575"/>
                  <a:pt x="14585" y="575"/>
                  <a:pt x="14585" y="569"/>
                </a:cubicBezTo>
                <a:cubicBezTo>
                  <a:pt x="14585" y="563"/>
                  <a:pt x="14585" y="557"/>
                  <a:pt x="14585" y="552"/>
                </a:cubicBezTo>
                <a:cubicBezTo>
                  <a:pt x="14585" y="545"/>
                  <a:pt x="14591" y="540"/>
                  <a:pt x="14591" y="540"/>
                </a:cubicBezTo>
                <a:cubicBezTo>
                  <a:pt x="14591" y="534"/>
                  <a:pt x="14596" y="534"/>
                  <a:pt x="14596" y="528"/>
                </a:cubicBezTo>
                <a:cubicBezTo>
                  <a:pt x="14602" y="522"/>
                  <a:pt x="14608" y="522"/>
                  <a:pt x="14608" y="510"/>
                </a:cubicBezTo>
                <a:cubicBezTo>
                  <a:pt x="14608" y="504"/>
                  <a:pt x="14602" y="498"/>
                  <a:pt x="14602" y="492"/>
                </a:cubicBezTo>
                <a:cubicBezTo>
                  <a:pt x="14602" y="486"/>
                  <a:pt x="14596" y="486"/>
                  <a:pt x="14596" y="480"/>
                </a:cubicBezTo>
                <a:cubicBezTo>
                  <a:pt x="14591" y="474"/>
                  <a:pt x="14591" y="474"/>
                  <a:pt x="14585" y="468"/>
                </a:cubicBezTo>
                <a:cubicBezTo>
                  <a:pt x="14579" y="463"/>
                  <a:pt x="14573" y="468"/>
                  <a:pt x="14561" y="468"/>
                </a:cubicBezTo>
                <a:cubicBezTo>
                  <a:pt x="14555" y="468"/>
                  <a:pt x="14549" y="463"/>
                  <a:pt x="14543" y="468"/>
                </a:cubicBezTo>
                <a:cubicBezTo>
                  <a:pt x="14537" y="468"/>
                  <a:pt x="14531" y="468"/>
                  <a:pt x="14531" y="474"/>
                </a:cubicBezTo>
                <a:cubicBezTo>
                  <a:pt x="14525" y="474"/>
                  <a:pt x="14525" y="480"/>
                  <a:pt x="14525" y="486"/>
                </a:cubicBezTo>
                <a:cubicBezTo>
                  <a:pt x="14519" y="486"/>
                  <a:pt x="14519" y="492"/>
                  <a:pt x="14513" y="492"/>
                </a:cubicBezTo>
                <a:cubicBezTo>
                  <a:pt x="14507" y="492"/>
                  <a:pt x="14507" y="492"/>
                  <a:pt x="14502" y="492"/>
                </a:cubicBezTo>
                <a:cubicBezTo>
                  <a:pt x="14496" y="492"/>
                  <a:pt x="14490" y="492"/>
                  <a:pt x="14478" y="492"/>
                </a:cubicBezTo>
                <a:cubicBezTo>
                  <a:pt x="14484" y="486"/>
                  <a:pt x="14484" y="486"/>
                  <a:pt x="14484" y="480"/>
                </a:cubicBezTo>
                <a:cubicBezTo>
                  <a:pt x="14490" y="474"/>
                  <a:pt x="14490" y="474"/>
                  <a:pt x="14496" y="474"/>
                </a:cubicBezTo>
                <a:cubicBezTo>
                  <a:pt x="14496" y="457"/>
                  <a:pt x="14496" y="457"/>
                  <a:pt x="14496" y="457"/>
                </a:cubicBezTo>
                <a:cubicBezTo>
                  <a:pt x="14478" y="457"/>
                  <a:pt x="14472" y="457"/>
                  <a:pt x="14454" y="457"/>
                </a:cubicBezTo>
                <a:cubicBezTo>
                  <a:pt x="14448" y="457"/>
                  <a:pt x="14442" y="457"/>
                  <a:pt x="14430" y="457"/>
                </a:cubicBezTo>
                <a:close/>
                <a:moveTo>
                  <a:pt x="14258" y="468"/>
                </a:moveTo>
                <a:lnTo>
                  <a:pt x="14258" y="468"/>
                </a:lnTo>
                <a:cubicBezTo>
                  <a:pt x="14264" y="474"/>
                  <a:pt x="14264" y="474"/>
                  <a:pt x="14270" y="474"/>
                </a:cubicBezTo>
                <a:cubicBezTo>
                  <a:pt x="14276" y="474"/>
                  <a:pt x="14282" y="474"/>
                  <a:pt x="14288" y="474"/>
                </a:cubicBezTo>
                <a:cubicBezTo>
                  <a:pt x="14294" y="474"/>
                  <a:pt x="14300" y="474"/>
                  <a:pt x="14306" y="474"/>
                </a:cubicBezTo>
                <a:cubicBezTo>
                  <a:pt x="14312" y="474"/>
                  <a:pt x="14312" y="468"/>
                  <a:pt x="14318" y="468"/>
                </a:cubicBezTo>
                <a:cubicBezTo>
                  <a:pt x="14324" y="463"/>
                  <a:pt x="14324" y="457"/>
                  <a:pt x="14330" y="457"/>
                </a:cubicBezTo>
                <a:cubicBezTo>
                  <a:pt x="14330" y="457"/>
                  <a:pt x="14336" y="457"/>
                  <a:pt x="14341" y="457"/>
                </a:cubicBezTo>
                <a:cubicBezTo>
                  <a:pt x="14347" y="457"/>
                  <a:pt x="14353" y="457"/>
                  <a:pt x="14359" y="457"/>
                </a:cubicBezTo>
                <a:cubicBezTo>
                  <a:pt x="14365" y="457"/>
                  <a:pt x="14371" y="457"/>
                  <a:pt x="14371" y="451"/>
                </a:cubicBezTo>
                <a:cubicBezTo>
                  <a:pt x="14377" y="451"/>
                  <a:pt x="14377" y="445"/>
                  <a:pt x="14383" y="439"/>
                </a:cubicBezTo>
                <a:cubicBezTo>
                  <a:pt x="14389" y="439"/>
                  <a:pt x="14395" y="439"/>
                  <a:pt x="14407" y="439"/>
                </a:cubicBezTo>
                <a:cubicBezTo>
                  <a:pt x="14424" y="439"/>
                  <a:pt x="14430" y="439"/>
                  <a:pt x="14448" y="439"/>
                </a:cubicBezTo>
                <a:cubicBezTo>
                  <a:pt x="14448" y="433"/>
                  <a:pt x="14454" y="427"/>
                  <a:pt x="14454" y="421"/>
                </a:cubicBezTo>
                <a:cubicBezTo>
                  <a:pt x="14454" y="415"/>
                  <a:pt x="14454" y="409"/>
                  <a:pt x="14454" y="403"/>
                </a:cubicBezTo>
                <a:cubicBezTo>
                  <a:pt x="14460" y="397"/>
                  <a:pt x="14460" y="391"/>
                  <a:pt x="14466" y="391"/>
                </a:cubicBezTo>
                <a:cubicBezTo>
                  <a:pt x="14466" y="386"/>
                  <a:pt x="14472" y="391"/>
                  <a:pt x="14478" y="391"/>
                </a:cubicBezTo>
                <a:cubicBezTo>
                  <a:pt x="14478" y="386"/>
                  <a:pt x="14478" y="379"/>
                  <a:pt x="14484" y="379"/>
                </a:cubicBezTo>
                <a:cubicBezTo>
                  <a:pt x="14490" y="374"/>
                  <a:pt x="14490" y="374"/>
                  <a:pt x="14496" y="374"/>
                </a:cubicBezTo>
                <a:cubicBezTo>
                  <a:pt x="14490" y="368"/>
                  <a:pt x="14490" y="368"/>
                  <a:pt x="14484" y="368"/>
                </a:cubicBezTo>
                <a:lnTo>
                  <a:pt x="14484" y="362"/>
                </a:lnTo>
                <a:cubicBezTo>
                  <a:pt x="14413" y="362"/>
                  <a:pt x="14413" y="362"/>
                  <a:pt x="14413" y="362"/>
                </a:cubicBezTo>
                <a:cubicBezTo>
                  <a:pt x="14413" y="350"/>
                  <a:pt x="14413" y="344"/>
                  <a:pt x="14407" y="338"/>
                </a:cubicBezTo>
                <a:cubicBezTo>
                  <a:pt x="14401" y="332"/>
                  <a:pt x="14401" y="326"/>
                  <a:pt x="14401" y="326"/>
                </a:cubicBezTo>
                <a:cubicBezTo>
                  <a:pt x="14395" y="320"/>
                  <a:pt x="14389" y="326"/>
                  <a:pt x="14389" y="326"/>
                </a:cubicBezTo>
                <a:cubicBezTo>
                  <a:pt x="14383" y="320"/>
                  <a:pt x="14383" y="320"/>
                  <a:pt x="14377" y="320"/>
                </a:cubicBezTo>
                <a:cubicBezTo>
                  <a:pt x="14365" y="320"/>
                  <a:pt x="14359" y="320"/>
                  <a:pt x="14353" y="326"/>
                </a:cubicBezTo>
                <a:cubicBezTo>
                  <a:pt x="14347" y="326"/>
                  <a:pt x="14347" y="326"/>
                  <a:pt x="14341" y="332"/>
                </a:cubicBezTo>
                <a:cubicBezTo>
                  <a:pt x="14336" y="332"/>
                  <a:pt x="14336" y="338"/>
                  <a:pt x="14336" y="338"/>
                </a:cubicBezTo>
                <a:cubicBezTo>
                  <a:pt x="14324" y="344"/>
                  <a:pt x="14318" y="344"/>
                  <a:pt x="14306" y="344"/>
                </a:cubicBezTo>
                <a:cubicBezTo>
                  <a:pt x="14306" y="344"/>
                  <a:pt x="14300" y="350"/>
                  <a:pt x="14294" y="350"/>
                </a:cubicBezTo>
                <a:cubicBezTo>
                  <a:pt x="14288" y="350"/>
                  <a:pt x="14282" y="356"/>
                  <a:pt x="14270" y="356"/>
                </a:cubicBezTo>
                <a:cubicBezTo>
                  <a:pt x="14264" y="362"/>
                  <a:pt x="14258" y="356"/>
                  <a:pt x="14247" y="356"/>
                </a:cubicBezTo>
                <a:cubicBezTo>
                  <a:pt x="14241" y="356"/>
                  <a:pt x="14241" y="362"/>
                  <a:pt x="14235" y="362"/>
                </a:cubicBezTo>
                <a:cubicBezTo>
                  <a:pt x="14235" y="368"/>
                  <a:pt x="14235" y="374"/>
                  <a:pt x="14235" y="386"/>
                </a:cubicBezTo>
                <a:cubicBezTo>
                  <a:pt x="14235" y="391"/>
                  <a:pt x="14235" y="391"/>
                  <a:pt x="14229" y="397"/>
                </a:cubicBezTo>
                <a:cubicBezTo>
                  <a:pt x="14229" y="403"/>
                  <a:pt x="14223" y="403"/>
                  <a:pt x="14217" y="409"/>
                </a:cubicBezTo>
                <a:cubicBezTo>
                  <a:pt x="14211" y="409"/>
                  <a:pt x="14205" y="403"/>
                  <a:pt x="14199" y="409"/>
                </a:cubicBezTo>
                <a:cubicBezTo>
                  <a:pt x="14193" y="409"/>
                  <a:pt x="14187" y="409"/>
                  <a:pt x="14187" y="415"/>
                </a:cubicBezTo>
                <a:cubicBezTo>
                  <a:pt x="14181" y="415"/>
                  <a:pt x="14175" y="415"/>
                  <a:pt x="14170" y="415"/>
                </a:cubicBezTo>
                <a:cubicBezTo>
                  <a:pt x="14170" y="415"/>
                  <a:pt x="14170" y="421"/>
                  <a:pt x="14170" y="427"/>
                </a:cubicBezTo>
                <a:cubicBezTo>
                  <a:pt x="14170" y="433"/>
                  <a:pt x="14170" y="433"/>
                  <a:pt x="14175" y="439"/>
                </a:cubicBezTo>
                <a:cubicBezTo>
                  <a:pt x="14181" y="445"/>
                  <a:pt x="14181" y="445"/>
                  <a:pt x="14193" y="445"/>
                </a:cubicBezTo>
                <a:cubicBezTo>
                  <a:pt x="14199" y="445"/>
                  <a:pt x="14205" y="439"/>
                  <a:pt x="14211" y="439"/>
                </a:cubicBezTo>
                <a:cubicBezTo>
                  <a:pt x="14217" y="439"/>
                  <a:pt x="14217" y="439"/>
                  <a:pt x="14217" y="439"/>
                </a:cubicBezTo>
                <a:cubicBezTo>
                  <a:pt x="14223" y="439"/>
                  <a:pt x="14229" y="445"/>
                  <a:pt x="14229" y="451"/>
                </a:cubicBezTo>
                <a:cubicBezTo>
                  <a:pt x="14235" y="451"/>
                  <a:pt x="14235" y="457"/>
                  <a:pt x="14241" y="463"/>
                </a:cubicBezTo>
                <a:cubicBezTo>
                  <a:pt x="14241" y="463"/>
                  <a:pt x="14247" y="463"/>
                  <a:pt x="14253" y="463"/>
                </a:cubicBezTo>
                <a:lnTo>
                  <a:pt x="14258" y="468"/>
                </a:lnTo>
                <a:close/>
                <a:moveTo>
                  <a:pt x="14235" y="492"/>
                </a:moveTo>
                <a:lnTo>
                  <a:pt x="14235" y="492"/>
                </a:lnTo>
                <a:cubicBezTo>
                  <a:pt x="14235" y="492"/>
                  <a:pt x="14229" y="492"/>
                  <a:pt x="14223" y="492"/>
                </a:cubicBezTo>
                <a:cubicBezTo>
                  <a:pt x="14223" y="492"/>
                  <a:pt x="14217" y="486"/>
                  <a:pt x="14211" y="486"/>
                </a:cubicBezTo>
                <a:cubicBezTo>
                  <a:pt x="14211" y="486"/>
                  <a:pt x="14205" y="486"/>
                  <a:pt x="14199" y="486"/>
                </a:cubicBezTo>
                <a:cubicBezTo>
                  <a:pt x="14193" y="480"/>
                  <a:pt x="14187" y="480"/>
                  <a:pt x="14187" y="480"/>
                </a:cubicBezTo>
                <a:cubicBezTo>
                  <a:pt x="14175" y="480"/>
                  <a:pt x="14175" y="480"/>
                  <a:pt x="14175" y="480"/>
                </a:cubicBezTo>
                <a:cubicBezTo>
                  <a:pt x="14170" y="480"/>
                  <a:pt x="14164" y="474"/>
                  <a:pt x="14164" y="474"/>
                </a:cubicBezTo>
                <a:cubicBezTo>
                  <a:pt x="14158" y="474"/>
                  <a:pt x="14158" y="480"/>
                  <a:pt x="14152" y="480"/>
                </a:cubicBezTo>
                <a:cubicBezTo>
                  <a:pt x="14140" y="480"/>
                  <a:pt x="14140" y="480"/>
                  <a:pt x="14140" y="480"/>
                </a:cubicBezTo>
                <a:cubicBezTo>
                  <a:pt x="14134" y="480"/>
                  <a:pt x="14134" y="480"/>
                  <a:pt x="14134" y="480"/>
                </a:cubicBezTo>
                <a:cubicBezTo>
                  <a:pt x="14134" y="492"/>
                  <a:pt x="14134" y="504"/>
                  <a:pt x="14134" y="516"/>
                </a:cubicBezTo>
                <a:cubicBezTo>
                  <a:pt x="14152" y="516"/>
                  <a:pt x="14158" y="516"/>
                  <a:pt x="14181" y="516"/>
                </a:cubicBezTo>
                <a:cubicBezTo>
                  <a:pt x="14193" y="516"/>
                  <a:pt x="14193" y="516"/>
                  <a:pt x="14193" y="516"/>
                </a:cubicBezTo>
                <a:cubicBezTo>
                  <a:pt x="14193" y="516"/>
                  <a:pt x="14199" y="522"/>
                  <a:pt x="14199" y="528"/>
                </a:cubicBezTo>
                <a:cubicBezTo>
                  <a:pt x="14205" y="528"/>
                  <a:pt x="14205" y="540"/>
                  <a:pt x="14205" y="540"/>
                </a:cubicBezTo>
                <a:cubicBezTo>
                  <a:pt x="14211" y="540"/>
                  <a:pt x="14217" y="540"/>
                  <a:pt x="14217" y="540"/>
                </a:cubicBezTo>
                <a:cubicBezTo>
                  <a:pt x="14223" y="540"/>
                  <a:pt x="14229" y="540"/>
                  <a:pt x="14229" y="540"/>
                </a:cubicBezTo>
                <a:cubicBezTo>
                  <a:pt x="14235" y="540"/>
                  <a:pt x="14235" y="534"/>
                  <a:pt x="14241" y="534"/>
                </a:cubicBezTo>
                <a:cubicBezTo>
                  <a:pt x="14247" y="528"/>
                  <a:pt x="14253" y="528"/>
                  <a:pt x="14253" y="528"/>
                </a:cubicBezTo>
                <a:cubicBezTo>
                  <a:pt x="14253" y="522"/>
                  <a:pt x="14253" y="522"/>
                  <a:pt x="14253" y="516"/>
                </a:cubicBezTo>
                <a:cubicBezTo>
                  <a:pt x="14253" y="504"/>
                  <a:pt x="14253" y="504"/>
                  <a:pt x="14253" y="504"/>
                </a:cubicBezTo>
                <a:cubicBezTo>
                  <a:pt x="14253" y="498"/>
                  <a:pt x="14247" y="498"/>
                  <a:pt x="14247" y="492"/>
                </a:cubicBezTo>
                <a:cubicBezTo>
                  <a:pt x="14241" y="492"/>
                  <a:pt x="14241" y="492"/>
                  <a:pt x="14235" y="492"/>
                </a:cubicBezTo>
                <a:close/>
                <a:moveTo>
                  <a:pt x="14122" y="308"/>
                </a:moveTo>
                <a:lnTo>
                  <a:pt x="14122" y="308"/>
                </a:lnTo>
                <a:cubicBezTo>
                  <a:pt x="14110" y="308"/>
                  <a:pt x="14110" y="320"/>
                  <a:pt x="14104" y="320"/>
                </a:cubicBezTo>
                <a:cubicBezTo>
                  <a:pt x="14098" y="320"/>
                  <a:pt x="14092" y="314"/>
                  <a:pt x="14087" y="314"/>
                </a:cubicBezTo>
                <a:cubicBezTo>
                  <a:pt x="14087" y="314"/>
                  <a:pt x="14081" y="308"/>
                  <a:pt x="14075" y="308"/>
                </a:cubicBezTo>
                <a:cubicBezTo>
                  <a:pt x="14069" y="320"/>
                  <a:pt x="14069" y="320"/>
                  <a:pt x="14069" y="320"/>
                </a:cubicBezTo>
                <a:cubicBezTo>
                  <a:pt x="14069" y="344"/>
                  <a:pt x="14069" y="344"/>
                  <a:pt x="14069" y="344"/>
                </a:cubicBezTo>
                <a:cubicBezTo>
                  <a:pt x="14075" y="344"/>
                  <a:pt x="14075" y="344"/>
                  <a:pt x="14081" y="344"/>
                </a:cubicBezTo>
                <a:cubicBezTo>
                  <a:pt x="14087" y="350"/>
                  <a:pt x="14087" y="356"/>
                  <a:pt x="14092" y="356"/>
                </a:cubicBezTo>
                <a:cubicBezTo>
                  <a:pt x="14098" y="356"/>
                  <a:pt x="14098" y="362"/>
                  <a:pt x="14104" y="362"/>
                </a:cubicBezTo>
                <a:cubicBezTo>
                  <a:pt x="14110" y="362"/>
                  <a:pt x="14110" y="362"/>
                  <a:pt x="14110" y="362"/>
                </a:cubicBezTo>
                <a:cubicBezTo>
                  <a:pt x="14116" y="362"/>
                  <a:pt x="14122" y="362"/>
                  <a:pt x="14128" y="356"/>
                </a:cubicBezTo>
                <a:cubicBezTo>
                  <a:pt x="14134" y="356"/>
                  <a:pt x="14140" y="356"/>
                  <a:pt x="14140" y="350"/>
                </a:cubicBezTo>
                <a:cubicBezTo>
                  <a:pt x="14140" y="350"/>
                  <a:pt x="14140" y="344"/>
                  <a:pt x="14140" y="338"/>
                </a:cubicBezTo>
                <a:cubicBezTo>
                  <a:pt x="14140" y="338"/>
                  <a:pt x="14140" y="332"/>
                  <a:pt x="14134" y="332"/>
                </a:cubicBezTo>
                <a:cubicBezTo>
                  <a:pt x="14134" y="326"/>
                  <a:pt x="14140" y="320"/>
                  <a:pt x="14134" y="320"/>
                </a:cubicBezTo>
                <a:cubicBezTo>
                  <a:pt x="14134" y="314"/>
                  <a:pt x="14128" y="308"/>
                  <a:pt x="14122" y="308"/>
                </a:cubicBezTo>
                <a:close/>
                <a:moveTo>
                  <a:pt x="11893" y="1648"/>
                </a:moveTo>
                <a:lnTo>
                  <a:pt x="11893" y="1648"/>
                </a:lnTo>
                <a:cubicBezTo>
                  <a:pt x="11887" y="1648"/>
                  <a:pt x="11887" y="1648"/>
                  <a:pt x="11881" y="1648"/>
                </a:cubicBezTo>
                <a:cubicBezTo>
                  <a:pt x="11875" y="1642"/>
                  <a:pt x="11875" y="1642"/>
                  <a:pt x="11869" y="1642"/>
                </a:cubicBezTo>
                <a:cubicBezTo>
                  <a:pt x="11863" y="1642"/>
                  <a:pt x="11863" y="1636"/>
                  <a:pt x="11863" y="1631"/>
                </a:cubicBezTo>
                <a:cubicBezTo>
                  <a:pt x="11863" y="1631"/>
                  <a:pt x="11863" y="1625"/>
                  <a:pt x="11863" y="1619"/>
                </a:cubicBezTo>
                <a:cubicBezTo>
                  <a:pt x="11792" y="1619"/>
                  <a:pt x="11792" y="1619"/>
                  <a:pt x="11792" y="1619"/>
                </a:cubicBezTo>
                <a:cubicBezTo>
                  <a:pt x="11792" y="1625"/>
                  <a:pt x="11792" y="1631"/>
                  <a:pt x="11792" y="1636"/>
                </a:cubicBezTo>
                <a:cubicBezTo>
                  <a:pt x="11792" y="1636"/>
                  <a:pt x="11792" y="1642"/>
                  <a:pt x="11798" y="1648"/>
                </a:cubicBezTo>
                <a:cubicBezTo>
                  <a:pt x="11798" y="1702"/>
                  <a:pt x="11798" y="1702"/>
                  <a:pt x="11798" y="1702"/>
                </a:cubicBezTo>
                <a:cubicBezTo>
                  <a:pt x="11827" y="1702"/>
                  <a:pt x="11827" y="1702"/>
                  <a:pt x="11827" y="1702"/>
                </a:cubicBezTo>
                <a:cubicBezTo>
                  <a:pt x="11834" y="1702"/>
                  <a:pt x="11839" y="1702"/>
                  <a:pt x="11839" y="1696"/>
                </a:cubicBezTo>
                <a:cubicBezTo>
                  <a:pt x="11845" y="1690"/>
                  <a:pt x="11845" y="1684"/>
                  <a:pt x="11851" y="1678"/>
                </a:cubicBezTo>
                <a:cubicBezTo>
                  <a:pt x="11851" y="1678"/>
                  <a:pt x="11851" y="1678"/>
                  <a:pt x="11857" y="1678"/>
                </a:cubicBezTo>
                <a:cubicBezTo>
                  <a:pt x="11863" y="1678"/>
                  <a:pt x="11863" y="1678"/>
                  <a:pt x="11875" y="1672"/>
                </a:cubicBezTo>
                <a:cubicBezTo>
                  <a:pt x="11875" y="1672"/>
                  <a:pt x="11881" y="1672"/>
                  <a:pt x="11887" y="1672"/>
                </a:cubicBezTo>
                <a:cubicBezTo>
                  <a:pt x="11887" y="1666"/>
                  <a:pt x="11887" y="1666"/>
                  <a:pt x="11893" y="1660"/>
                </a:cubicBezTo>
                <a:cubicBezTo>
                  <a:pt x="11893" y="1654"/>
                  <a:pt x="11893" y="1654"/>
                  <a:pt x="11893" y="1648"/>
                </a:cubicBezTo>
                <a:close/>
                <a:moveTo>
                  <a:pt x="12112" y="1233"/>
                </a:moveTo>
                <a:lnTo>
                  <a:pt x="12112" y="1233"/>
                </a:lnTo>
                <a:cubicBezTo>
                  <a:pt x="12106" y="1233"/>
                  <a:pt x="12100" y="1233"/>
                  <a:pt x="12088" y="1233"/>
                </a:cubicBezTo>
                <a:cubicBezTo>
                  <a:pt x="12082" y="1233"/>
                  <a:pt x="12082" y="1233"/>
                  <a:pt x="12077" y="1233"/>
                </a:cubicBezTo>
                <a:cubicBezTo>
                  <a:pt x="12077" y="1269"/>
                  <a:pt x="12077" y="1269"/>
                  <a:pt x="12077" y="1269"/>
                </a:cubicBezTo>
                <a:cubicBezTo>
                  <a:pt x="12065" y="1269"/>
                  <a:pt x="12059" y="1269"/>
                  <a:pt x="12047" y="1269"/>
                </a:cubicBezTo>
                <a:cubicBezTo>
                  <a:pt x="12041" y="1275"/>
                  <a:pt x="12035" y="1275"/>
                  <a:pt x="12023" y="1281"/>
                </a:cubicBezTo>
                <a:cubicBezTo>
                  <a:pt x="12023" y="1287"/>
                  <a:pt x="12023" y="1287"/>
                  <a:pt x="12023" y="1293"/>
                </a:cubicBezTo>
                <a:cubicBezTo>
                  <a:pt x="12023" y="1299"/>
                  <a:pt x="12029" y="1299"/>
                  <a:pt x="12029" y="1304"/>
                </a:cubicBezTo>
                <a:cubicBezTo>
                  <a:pt x="12029" y="1304"/>
                  <a:pt x="12029" y="1310"/>
                  <a:pt x="12029" y="1316"/>
                </a:cubicBezTo>
                <a:cubicBezTo>
                  <a:pt x="12023" y="1322"/>
                  <a:pt x="12017" y="1316"/>
                  <a:pt x="12017" y="1322"/>
                </a:cubicBezTo>
                <a:cubicBezTo>
                  <a:pt x="12011" y="1328"/>
                  <a:pt x="12017" y="1328"/>
                  <a:pt x="12017" y="1334"/>
                </a:cubicBezTo>
                <a:cubicBezTo>
                  <a:pt x="12017" y="1340"/>
                  <a:pt x="12011" y="1340"/>
                  <a:pt x="12011" y="1346"/>
                </a:cubicBezTo>
                <a:cubicBezTo>
                  <a:pt x="12005" y="1346"/>
                  <a:pt x="12000" y="1346"/>
                  <a:pt x="11988" y="1346"/>
                </a:cubicBezTo>
                <a:cubicBezTo>
                  <a:pt x="11988" y="1346"/>
                  <a:pt x="11982" y="1346"/>
                  <a:pt x="11976" y="1346"/>
                </a:cubicBezTo>
                <a:cubicBezTo>
                  <a:pt x="11976" y="1346"/>
                  <a:pt x="11970" y="1352"/>
                  <a:pt x="11970" y="1358"/>
                </a:cubicBezTo>
                <a:cubicBezTo>
                  <a:pt x="11970" y="1358"/>
                  <a:pt x="11970" y="1364"/>
                  <a:pt x="11970" y="1370"/>
                </a:cubicBezTo>
                <a:cubicBezTo>
                  <a:pt x="11970" y="1376"/>
                  <a:pt x="11958" y="1370"/>
                  <a:pt x="11958" y="1376"/>
                </a:cubicBezTo>
                <a:cubicBezTo>
                  <a:pt x="11952" y="1382"/>
                  <a:pt x="11958" y="1387"/>
                  <a:pt x="11958" y="1399"/>
                </a:cubicBezTo>
                <a:cubicBezTo>
                  <a:pt x="11958" y="1399"/>
                  <a:pt x="11958" y="1405"/>
                  <a:pt x="11958" y="1411"/>
                </a:cubicBezTo>
                <a:lnTo>
                  <a:pt x="11958" y="1417"/>
                </a:lnTo>
                <a:cubicBezTo>
                  <a:pt x="11958" y="1423"/>
                  <a:pt x="11958" y="1429"/>
                  <a:pt x="11958" y="1429"/>
                </a:cubicBezTo>
                <a:cubicBezTo>
                  <a:pt x="11988" y="1435"/>
                  <a:pt x="11988" y="1435"/>
                  <a:pt x="11988" y="1435"/>
                </a:cubicBezTo>
                <a:cubicBezTo>
                  <a:pt x="11988" y="1429"/>
                  <a:pt x="11988" y="1423"/>
                  <a:pt x="11988" y="1423"/>
                </a:cubicBezTo>
                <a:cubicBezTo>
                  <a:pt x="11993" y="1417"/>
                  <a:pt x="12000" y="1417"/>
                  <a:pt x="12000" y="1417"/>
                </a:cubicBezTo>
                <a:cubicBezTo>
                  <a:pt x="12005" y="1417"/>
                  <a:pt x="12011" y="1417"/>
                  <a:pt x="12011" y="1417"/>
                </a:cubicBezTo>
                <a:cubicBezTo>
                  <a:pt x="12011" y="1423"/>
                  <a:pt x="12011" y="1429"/>
                  <a:pt x="12017" y="1429"/>
                </a:cubicBezTo>
                <a:cubicBezTo>
                  <a:pt x="12017" y="1435"/>
                  <a:pt x="12023" y="1441"/>
                  <a:pt x="12023" y="1441"/>
                </a:cubicBezTo>
                <a:cubicBezTo>
                  <a:pt x="12029" y="1441"/>
                  <a:pt x="12035" y="1435"/>
                  <a:pt x="12035" y="1429"/>
                </a:cubicBezTo>
                <a:cubicBezTo>
                  <a:pt x="12035" y="1429"/>
                  <a:pt x="12035" y="1423"/>
                  <a:pt x="12035" y="1417"/>
                </a:cubicBezTo>
                <a:cubicBezTo>
                  <a:pt x="12041" y="1423"/>
                  <a:pt x="12041" y="1423"/>
                  <a:pt x="12047" y="1423"/>
                </a:cubicBezTo>
                <a:cubicBezTo>
                  <a:pt x="12053" y="1429"/>
                  <a:pt x="12053" y="1435"/>
                  <a:pt x="12059" y="1435"/>
                </a:cubicBezTo>
                <a:cubicBezTo>
                  <a:pt x="12065" y="1441"/>
                  <a:pt x="12077" y="1441"/>
                  <a:pt x="12082" y="1453"/>
                </a:cubicBezTo>
                <a:cubicBezTo>
                  <a:pt x="12088" y="1453"/>
                  <a:pt x="12088" y="1459"/>
                  <a:pt x="12088" y="1465"/>
                </a:cubicBezTo>
                <a:cubicBezTo>
                  <a:pt x="12071" y="1488"/>
                  <a:pt x="12071" y="1488"/>
                  <a:pt x="12071" y="1488"/>
                </a:cubicBezTo>
                <a:cubicBezTo>
                  <a:pt x="12071" y="1494"/>
                  <a:pt x="12071" y="1494"/>
                  <a:pt x="12071" y="1494"/>
                </a:cubicBezTo>
                <a:cubicBezTo>
                  <a:pt x="12071" y="1500"/>
                  <a:pt x="12077" y="1500"/>
                  <a:pt x="12077" y="1506"/>
                </a:cubicBezTo>
                <a:cubicBezTo>
                  <a:pt x="12136" y="1506"/>
                  <a:pt x="12136" y="1506"/>
                  <a:pt x="12136" y="1506"/>
                </a:cubicBezTo>
                <a:cubicBezTo>
                  <a:pt x="12154" y="1506"/>
                  <a:pt x="12159" y="1512"/>
                  <a:pt x="12177" y="1512"/>
                </a:cubicBezTo>
                <a:cubicBezTo>
                  <a:pt x="12183" y="1512"/>
                  <a:pt x="12189" y="1512"/>
                  <a:pt x="12195" y="1512"/>
                </a:cubicBezTo>
                <a:cubicBezTo>
                  <a:pt x="12201" y="1512"/>
                  <a:pt x="12207" y="1518"/>
                  <a:pt x="12219" y="1518"/>
                </a:cubicBezTo>
                <a:cubicBezTo>
                  <a:pt x="12225" y="1518"/>
                  <a:pt x="12231" y="1518"/>
                  <a:pt x="12237" y="1518"/>
                </a:cubicBezTo>
                <a:cubicBezTo>
                  <a:pt x="12254" y="1518"/>
                  <a:pt x="12254" y="1518"/>
                  <a:pt x="12254" y="1518"/>
                </a:cubicBezTo>
                <a:cubicBezTo>
                  <a:pt x="12260" y="1518"/>
                  <a:pt x="12260" y="1518"/>
                  <a:pt x="12266" y="1518"/>
                </a:cubicBezTo>
                <a:cubicBezTo>
                  <a:pt x="12272" y="1518"/>
                  <a:pt x="12272" y="1518"/>
                  <a:pt x="12272" y="1518"/>
                </a:cubicBezTo>
                <a:cubicBezTo>
                  <a:pt x="12272" y="1494"/>
                  <a:pt x="12272" y="1494"/>
                  <a:pt x="12272" y="1494"/>
                </a:cubicBezTo>
                <a:cubicBezTo>
                  <a:pt x="12272" y="1488"/>
                  <a:pt x="12272" y="1488"/>
                  <a:pt x="12272" y="1482"/>
                </a:cubicBezTo>
                <a:cubicBezTo>
                  <a:pt x="12272" y="1476"/>
                  <a:pt x="12260" y="1482"/>
                  <a:pt x="12260" y="1476"/>
                </a:cubicBezTo>
                <a:cubicBezTo>
                  <a:pt x="12260" y="1470"/>
                  <a:pt x="12260" y="1465"/>
                  <a:pt x="12260" y="1453"/>
                </a:cubicBezTo>
                <a:cubicBezTo>
                  <a:pt x="12254" y="1453"/>
                  <a:pt x="12254" y="1459"/>
                  <a:pt x="12248" y="1453"/>
                </a:cubicBezTo>
                <a:cubicBezTo>
                  <a:pt x="12243" y="1453"/>
                  <a:pt x="12243" y="1447"/>
                  <a:pt x="12237" y="1447"/>
                </a:cubicBezTo>
                <a:cubicBezTo>
                  <a:pt x="12237" y="1441"/>
                  <a:pt x="12237" y="1435"/>
                  <a:pt x="12237" y="1435"/>
                </a:cubicBezTo>
                <a:cubicBezTo>
                  <a:pt x="12237" y="1429"/>
                  <a:pt x="12231" y="1429"/>
                  <a:pt x="12225" y="1423"/>
                </a:cubicBezTo>
                <a:cubicBezTo>
                  <a:pt x="12225" y="1423"/>
                  <a:pt x="12219" y="1417"/>
                  <a:pt x="12213" y="1417"/>
                </a:cubicBezTo>
                <a:cubicBezTo>
                  <a:pt x="12213" y="1411"/>
                  <a:pt x="12207" y="1405"/>
                  <a:pt x="12201" y="1399"/>
                </a:cubicBezTo>
                <a:cubicBezTo>
                  <a:pt x="12201" y="1399"/>
                  <a:pt x="12201" y="1393"/>
                  <a:pt x="12195" y="1387"/>
                </a:cubicBezTo>
                <a:lnTo>
                  <a:pt x="12189" y="1387"/>
                </a:lnTo>
                <a:cubicBezTo>
                  <a:pt x="12183" y="1382"/>
                  <a:pt x="12189" y="1376"/>
                  <a:pt x="12189" y="1376"/>
                </a:cubicBezTo>
                <a:cubicBezTo>
                  <a:pt x="12183" y="1370"/>
                  <a:pt x="12189" y="1370"/>
                  <a:pt x="12189" y="1364"/>
                </a:cubicBezTo>
                <a:cubicBezTo>
                  <a:pt x="12183" y="1358"/>
                  <a:pt x="12183" y="1352"/>
                  <a:pt x="12183" y="1346"/>
                </a:cubicBezTo>
                <a:cubicBezTo>
                  <a:pt x="12183" y="1340"/>
                  <a:pt x="12183" y="1340"/>
                  <a:pt x="12183" y="1340"/>
                </a:cubicBezTo>
                <a:cubicBezTo>
                  <a:pt x="12183" y="1334"/>
                  <a:pt x="12189" y="1334"/>
                  <a:pt x="12195" y="1334"/>
                </a:cubicBezTo>
                <a:cubicBezTo>
                  <a:pt x="12195" y="1328"/>
                  <a:pt x="12195" y="1322"/>
                  <a:pt x="12195" y="1322"/>
                </a:cubicBezTo>
                <a:cubicBezTo>
                  <a:pt x="12195" y="1304"/>
                  <a:pt x="12189" y="1299"/>
                  <a:pt x="12195" y="1287"/>
                </a:cubicBezTo>
                <a:cubicBezTo>
                  <a:pt x="12195" y="1281"/>
                  <a:pt x="12201" y="1281"/>
                  <a:pt x="12207" y="1281"/>
                </a:cubicBezTo>
                <a:cubicBezTo>
                  <a:pt x="12213" y="1275"/>
                  <a:pt x="12219" y="1269"/>
                  <a:pt x="12225" y="1257"/>
                </a:cubicBezTo>
                <a:cubicBezTo>
                  <a:pt x="12231" y="1257"/>
                  <a:pt x="12225" y="1245"/>
                  <a:pt x="12231" y="1245"/>
                </a:cubicBezTo>
                <a:cubicBezTo>
                  <a:pt x="12231" y="1245"/>
                  <a:pt x="12237" y="1245"/>
                  <a:pt x="12243" y="1245"/>
                </a:cubicBezTo>
                <a:cubicBezTo>
                  <a:pt x="12243" y="1239"/>
                  <a:pt x="12248" y="1245"/>
                  <a:pt x="12254" y="1239"/>
                </a:cubicBezTo>
                <a:cubicBezTo>
                  <a:pt x="12254" y="1239"/>
                  <a:pt x="12248" y="1233"/>
                  <a:pt x="12254" y="1227"/>
                </a:cubicBezTo>
                <a:cubicBezTo>
                  <a:pt x="12254" y="1227"/>
                  <a:pt x="12260" y="1227"/>
                  <a:pt x="12266" y="1227"/>
                </a:cubicBezTo>
                <a:cubicBezTo>
                  <a:pt x="12272" y="1221"/>
                  <a:pt x="12278" y="1215"/>
                  <a:pt x="12284" y="1204"/>
                </a:cubicBezTo>
                <a:cubicBezTo>
                  <a:pt x="12284" y="1204"/>
                  <a:pt x="12284" y="1198"/>
                  <a:pt x="12284" y="1192"/>
                </a:cubicBezTo>
                <a:cubicBezTo>
                  <a:pt x="12284" y="1192"/>
                  <a:pt x="12290" y="1192"/>
                  <a:pt x="12296" y="1186"/>
                </a:cubicBezTo>
                <a:cubicBezTo>
                  <a:pt x="12296" y="1186"/>
                  <a:pt x="12296" y="1180"/>
                  <a:pt x="12302" y="1180"/>
                </a:cubicBezTo>
                <a:cubicBezTo>
                  <a:pt x="12302" y="1174"/>
                  <a:pt x="12308" y="1180"/>
                  <a:pt x="12314" y="1180"/>
                </a:cubicBezTo>
                <a:cubicBezTo>
                  <a:pt x="12320" y="1174"/>
                  <a:pt x="12325" y="1168"/>
                  <a:pt x="12332" y="1156"/>
                </a:cubicBezTo>
                <a:cubicBezTo>
                  <a:pt x="12332" y="1156"/>
                  <a:pt x="12332" y="1150"/>
                  <a:pt x="12332" y="1144"/>
                </a:cubicBezTo>
                <a:cubicBezTo>
                  <a:pt x="12332" y="1144"/>
                  <a:pt x="12337" y="1138"/>
                  <a:pt x="12337" y="1132"/>
                </a:cubicBezTo>
                <a:cubicBezTo>
                  <a:pt x="12343" y="1132"/>
                  <a:pt x="12349" y="1132"/>
                  <a:pt x="12349" y="1127"/>
                </a:cubicBezTo>
                <a:cubicBezTo>
                  <a:pt x="12349" y="1121"/>
                  <a:pt x="12355" y="1121"/>
                  <a:pt x="12355" y="1115"/>
                </a:cubicBezTo>
                <a:cubicBezTo>
                  <a:pt x="12361" y="1109"/>
                  <a:pt x="12355" y="1109"/>
                  <a:pt x="12355" y="1103"/>
                </a:cubicBezTo>
                <a:cubicBezTo>
                  <a:pt x="12367" y="1103"/>
                  <a:pt x="12373" y="1103"/>
                  <a:pt x="12385" y="1103"/>
                </a:cubicBezTo>
                <a:cubicBezTo>
                  <a:pt x="12391" y="1103"/>
                  <a:pt x="12391" y="1103"/>
                  <a:pt x="12397" y="1103"/>
                </a:cubicBezTo>
                <a:cubicBezTo>
                  <a:pt x="12403" y="1103"/>
                  <a:pt x="12403" y="1091"/>
                  <a:pt x="12409" y="1091"/>
                </a:cubicBezTo>
                <a:cubicBezTo>
                  <a:pt x="12409" y="1091"/>
                  <a:pt x="12414" y="1091"/>
                  <a:pt x="12420" y="1091"/>
                </a:cubicBezTo>
                <a:cubicBezTo>
                  <a:pt x="12426" y="1091"/>
                  <a:pt x="12432" y="1091"/>
                  <a:pt x="12432" y="1085"/>
                </a:cubicBezTo>
                <a:cubicBezTo>
                  <a:pt x="12438" y="1079"/>
                  <a:pt x="12432" y="1073"/>
                  <a:pt x="12432" y="1073"/>
                </a:cubicBezTo>
                <a:cubicBezTo>
                  <a:pt x="12438" y="1067"/>
                  <a:pt x="12444" y="1067"/>
                  <a:pt x="12444" y="1067"/>
                </a:cubicBezTo>
                <a:cubicBezTo>
                  <a:pt x="12450" y="1067"/>
                  <a:pt x="12456" y="1067"/>
                  <a:pt x="12456" y="1067"/>
                </a:cubicBezTo>
                <a:cubicBezTo>
                  <a:pt x="12462" y="1067"/>
                  <a:pt x="12468" y="1067"/>
                  <a:pt x="12468" y="1067"/>
                </a:cubicBezTo>
                <a:cubicBezTo>
                  <a:pt x="12474" y="1061"/>
                  <a:pt x="12474" y="1061"/>
                  <a:pt x="12480" y="1055"/>
                </a:cubicBezTo>
                <a:cubicBezTo>
                  <a:pt x="12486" y="1055"/>
                  <a:pt x="12486" y="1050"/>
                  <a:pt x="12486" y="1044"/>
                </a:cubicBezTo>
                <a:cubicBezTo>
                  <a:pt x="12492" y="1044"/>
                  <a:pt x="12492" y="1044"/>
                  <a:pt x="12498" y="1038"/>
                </a:cubicBezTo>
                <a:cubicBezTo>
                  <a:pt x="12503" y="1038"/>
                  <a:pt x="12509" y="1038"/>
                  <a:pt x="12509" y="1032"/>
                </a:cubicBezTo>
                <a:cubicBezTo>
                  <a:pt x="12509" y="1020"/>
                  <a:pt x="12509" y="1014"/>
                  <a:pt x="12503" y="1008"/>
                </a:cubicBezTo>
                <a:cubicBezTo>
                  <a:pt x="12515" y="1008"/>
                  <a:pt x="12521" y="1008"/>
                  <a:pt x="12527" y="1008"/>
                </a:cubicBezTo>
                <a:cubicBezTo>
                  <a:pt x="12545" y="1008"/>
                  <a:pt x="12557" y="1008"/>
                  <a:pt x="12575" y="1002"/>
                </a:cubicBezTo>
                <a:cubicBezTo>
                  <a:pt x="12580" y="1002"/>
                  <a:pt x="12580" y="996"/>
                  <a:pt x="12580" y="990"/>
                </a:cubicBezTo>
                <a:cubicBezTo>
                  <a:pt x="12586" y="990"/>
                  <a:pt x="12592" y="984"/>
                  <a:pt x="12598" y="978"/>
                </a:cubicBezTo>
                <a:cubicBezTo>
                  <a:pt x="12598" y="978"/>
                  <a:pt x="12604" y="978"/>
                  <a:pt x="12610" y="978"/>
                </a:cubicBezTo>
                <a:cubicBezTo>
                  <a:pt x="12616" y="978"/>
                  <a:pt x="12622" y="972"/>
                  <a:pt x="12634" y="972"/>
                </a:cubicBezTo>
                <a:cubicBezTo>
                  <a:pt x="12699" y="972"/>
                  <a:pt x="12699" y="972"/>
                  <a:pt x="12699" y="972"/>
                </a:cubicBezTo>
                <a:cubicBezTo>
                  <a:pt x="12705" y="972"/>
                  <a:pt x="12711" y="966"/>
                  <a:pt x="12711" y="966"/>
                </a:cubicBezTo>
                <a:cubicBezTo>
                  <a:pt x="12717" y="961"/>
                  <a:pt x="12717" y="955"/>
                  <a:pt x="12723" y="955"/>
                </a:cubicBezTo>
                <a:cubicBezTo>
                  <a:pt x="12729" y="955"/>
                  <a:pt x="12735" y="955"/>
                  <a:pt x="12747" y="955"/>
                </a:cubicBezTo>
                <a:cubicBezTo>
                  <a:pt x="12752" y="955"/>
                  <a:pt x="12758" y="955"/>
                  <a:pt x="12770" y="955"/>
                </a:cubicBezTo>
                <a:cubicBezTo>
                  <a:pt x="12782" y="949"/>
                  <a:pt x="12782" y="937"/>
                  <a:pt x="12794" y="937"/>
                </a:cubicBezTo>
                <a:cubicBezTo>
                  <a:pt x="12847" y="937"/>
                  <a:pt x="12847" y="937"/>
                  <a:pt x="12847" y="937"/>
                </a:cubicBezTo>
                <a:cubicBezTo>
                  <a:pt x="12853" y="937"/>
                  <a:pt x="12859" y="931"/>
                  <a:pt x="12859" y="931"/>
                </a:cubicBezTo>
                <a:cubicBezTo>
                  <a:pt x="12871" y="925"/>
                  <a:pt x="12871" y="913"/>
                  <a:pt x="12883" y="907"/>
                </a:cubicBezTo>
                <a:cubicBezTo>
                  <a:pt x="12883" y="901"/>
                  <a:pt x="12883" y="895"/>
                  <a:pt x="12889" y="895"/>
                </a:cubicBezTo>
                <a:cubicBezTo>
                  <a:pt x="12889" y="895"/>
                  <a:pt x="12895" y="895"/>
                  <a:pt x="12895" y="889"/>
                </a:cubicBezTo>
                <a:cubicBezTo>
                  <a:pt x="12907" y="889"/>
                  <a:pt x="12913" y="889"/>
                  <a:pt x="12918" y="889"/>
                </a:cubicBezTo>
                <a:cubicBezTo>
                  <a:pt x="12924" y="884"/>
                  <a:pt x="12924" y="884"/>
                  <a:pt x="12924" y="877"/>
                </a:cubicBezTo>
                <a:cubicBezTo>
                  <a:pt x="12924" y="872"/>
                  <a:pt x="12918" y="866"/>
                  <a:pt x="12918" y="866"/>
                </a:cubicBezTo>
                <a:cubicBezTo>
                  <a:pt x="12918" y="860"/>
                  <a:pt x="12913" y="854"/>
                  <a:pt x="12913" y="854"/>
                </a:cubicBezTo>
                <a:cubicBezTo>
                  <a:pt x="12913" y="848"/>
                  <a:pt x="12913" y="842"/>
                  <a:pt x="12907" y="842"/>
                </a:cubicBezTo>
                <a:cubicBezTo>
                  <a:pt x="12901" y="836"/>
                  <a:pt x="12895" y="842"/>
                  <a:pt x="12883" y="842"/>
                </a:cubicBezTo>
                <a:cubicBezTo>
                  <a:pt x="12877" y="842"/>
                  <a:pt x="12877" y="836"/>
                  <a:pt x="12871" y="836"/>
                </a:cubicBezTo>
                <a:cubicBezTo>
                  <a:pt x="12859" y="836"/>
                  <a:pt x="12859" y="836"/>
                  <a:pt x="12859" y="836"/>
                </a:cubicBezTo>
                <a:cubicBezTo>
                  <a:pt x="12847" y="836"/>
                  <a:pt x="12847" y="836"/>
                  <a:pt x="12847" y="836"/>
                </a:cubicBezTo>
                <a:cubicBezTo>
                  <a:pt x="12841" y="836"/>
                  <a:pt x="12841" y="836"/>
                  <a:pt x="12835" y="836"/>
                </a:cubicBezTo>
                <a:cubicBezTo>
                  <a:pt x="12824" y="836"/>
                  <a:pt x="12818" y="836"/>
                  <a:pt x="12812" y="836"/>
                </a:cubicBezTo>
                <a:cubicBezTo>
                  <a:pt x="12800" y="842"/>
                  <a:pt x="12794" y="842"/>
                  <a:pt x="12788" y="848"/>
                </a:cubicBezTo>
                <a:cubicBezTo>
                  <a:pt x="12788" y="854"/>
                  <a:pt x="12788" y="860"/>
                  <a:pt x="12788" y="860"/>
                </a:cubicBezTo>
                <a:cubicBezTo>
                  <a:pt x="12782" y="866"/>
                  <a:pt x="12782" y="866"/>
                  <a:pt x="12782" y="872"/>
                </a:cubicBezTo>
                <a:cubicBezTo>
                  <a:pt x="12776" y="877"/>
                  <a:pt x="12776" y="877"/>
                  <a:pt x="12770" y="877"/>
                </a:cubicBezTo>
                <a:cubicBezTo>
                  <a:pt x="12758" y="884"/>
                  <a:pt x="12752" y="877"/>
                  <a:pt x="12747" y="877"/>
                </a:cubicBezTo>
                <a:cubicBezTo>
                  <a:pt x="12741" y="877"/>
                  <a:pt x="12741" y="877"/>
                  <a:pt x="12735" y="877"/>
                </a:cubicBezTo>
                <a:cubicBezTo>
                  <a:pt x="12729" y="884"/>
                  <a:pt x="12729" y="884"/>
                  <a:pt x="12723" y="884"/>
                </a:cubicBezTo>
                <a:cubicBezTo>
                  <a:pt x="12717" y="889"/>
                  <a:pt x="12717" y="895"/>
                  <a:pt x="12711" y="895"/>
                </a:cubicBezTo>
                <a:cubicBezTo>
                  <a:pt x="12705" y="895"/>
                  <a:pt x="12705" y="901"/>
                  <a:pt x="12699" y="901"/>
                </a:cubicBezTo>
                <a:cubicBezTo>
                  <a:pt x="12699" y="901"/>
                  <a:pt x="12693" y="901"/>
                  <a:pt x="12687" y="901"/>
                </a:cubicBezTo>
                <a:cubicBezTo>
                  <a:pt x="12681" y="901"/>
                  <a:pt x="12675" y="901"/>
                  <a:pt x="12664" y="901"/>
                </a:cubicBezTo>
                <a:cubicBezTo>
                  <a:pt x="12658" y="901"/>
                  <a:pt x="12658" y="901"/>
                  <a:pt x="12652" y="901"/>
                </a:cubicBezTo>
                <a:cubicBezTo>
                  <a:pt x="12646" y="907"/>
                  <a:pt x="12640" y="907"/>
                  <a:pt x="12640" y="907"/>
                </a:cubicBezTo>
                <a:cubicBezTo>
                  <a:pt x="12634" y="913"/>
                  <a:pt x="12628" y="913"/>
                  <a:pt x="12628" y="913"/>
                </a:cubicBezTo>
                <a:cubicBezTo>
                  <a:pt x="12622" y="913"/>
                  <a:pt x="12622" y="919"/>
                  <a:pt x="12616" y="919"/>
                </a:cubicBezTo>
                <a:cubicBezTo>
                  <a:pt x="12610" y="919"/>
                  <a:pt x="12610" y="919"/>
                  <a:pt x="12604" y="919"/>
                </a:cubicBezTo>
                <a:cubicBezTo>
                  <a:pt x="12586" y="925"/>
                  <a:pt x="12580" y="919"/>
                  <a:pt x="12563" y="919"/>
                </a:cubicBezTo>
                <a:cubicBezTo>
                  <a:pt x="12557" y="919"/>
                  <a:pt x="12551" y="919"/>
                  <a:pt x="12539" y="919"/>
                </a:cubicBezTo>
                <a:cubicBezTo>
                  <a:pt x="12527" y="919"/>
                  <a:pt x="12527" y="919"/>
                  <a:pt x="12527" y="919"/>
                </a:cubicBezTo>
                <a:cubicBezTo>
                  <a:pt x="12521" y="919"/>
                  <a:pt x="12521" y="919"/>
                  <a:pt x="12515" y="919"/>
                </a:cubicBezTo>
                <a:cubicBezTo>
                  <a:pt x="12503" y="919"/>
                  <a:pt x="12498" y="919"/>
                  <a:pt x="12492" y="919"/>
                </a:cubicBezTo>
                <a:cubicBezTo>
                  <a:pt x="12486" y="919"/>
                  <a:pt x="12480" y="925"/>
                  <a:pt x="12480" y="925"/>
                </a:cubicBezTo>
                <a:cubicBezTo>
                  <a:pt x="12468" y="931"/>
                  <a:pt x="12462" y="931"/>
                  <a:pt x="12456" y="937"/>
                </a:cubicBezTo>
                <a:cubicBezTo>
                  <a:pt x="12450" y="937"/>
                  <a:pt x="12450" y="943"/>
                  <a:pt x="12450" y="949"/>
                </a:cubicBezTo>
                <a:cubicBezTo>
                  <a:pt x="12444" y="955"/>
                  <a:pt x="12438" y="961"/>
                  <a:pt x="12432" y="966"/>
                </a:cubicBezTo>
                <a:cubicBezTo>
                  <a:pt x="12355" y="966"/>
                  <a:pt x="12355" y="966"/>
                  <a:pt x="12355" y="966"/>
                </a:cubicBezTo>
                <a:cubicBezTo>
                  <a:pt x="12349" y="972"/>
                  <a:pt x="12349" y="972"/>
                  <a:pt x="12343" y="978"/>
                </a:cubicBezTo>
                <a:cubicBezTo>
                  <a:pt x="12337" y="978"/>
                  <a:pt x="12337" y="984"/>
                  <a:pt x="12337" y="990"/>
                </a:cubicBezTo>
                <a:cubicBezTo>
                  <a:pt x="12332" y="990"/>
                  <a:pt x="12332" y="996"/>
                  <a:pt x="12325" y="1002"/>
                </a:cubicBezTo>
                <a:cubicBezTo>
                  <a:pt x="12325" y="1002"/>
                  <a:pt x="12320" y="1002"/>
                  <a:pt x="12314" y="1002"/>
                </a:cubicBezTo>
                <a:cubicBezTo>
                  <a:pt x="12308" y="1008"/>
                  <a:pt x="12302" y="1002"/>
                  <a:pt x="12296" y="1008"/>
                </a:cubicBezTo>
                <a:cubicBezTo>
                  <a:pt x="12296" y="1008"/>
                  <a:pt x="12290" y="1008"/>
                  <a:pt x="12284" y="1008"/>
                </a:cubicBezTo>
                <a:cubicBezTo>
                  <a:pt x="12284" y="1014"/>
                  <a:pt x="12278" y="1014"/>
                  <a:pt x="12272" y="1020"/>
                </a:cubicBezTo>
                <a:cubicBezTo>
                  <a:pt x="12272" y="1020"/>
                  <a:pt x="12272" y="1026"/>
                  <a:pt x="12272" y="1032"/>
                </a:cubicBezTo>
                <a:cubicBezTo>
                  <a:pt x="12272" y="1038"/>
                  <a:pt x="12272" y="1044"/>
                  <a:pt x="12272" y="1055"/>
                </a:cubicBezTo>
                <a:cubicBezTo>
                  <a:pt x="12266" y="1055"/>
                  <a:pt x="12266" y="1050"/>
                  <a:pt x="12260" y="1050"/>
                </a:cubicBezTo>
                <a:cubicBezTo>
                  <a:pt x="12243" y="1050"/>
                  <a:pt x="12237" y="1050"/>
                  <a:pt x="12225" y="1050"/>
                </a:cubicBezTo>
                <a:cubicBezTo>
                  <a:pt x="12219" y="1050"/>
                  <a:pt x="12219" y="1055"/>
                  <a:pt x="12213" y="1055"/>
                </a:cubicBezTo>
                <a:cubicBezTo>
                  <a:pt x="12213" y="1061"/>
                  <a:pt x="12219" y="1061"/>
                  <a:pt x="12219" y="1067"/>
                </a:cubicBezTo>
                <a:cubicBezTo>
                  <a:pt x="12219" y="1079"/>
                  <a:pt x="12213" y="1085"/>
                  <a:pt x="12207" y="1091"/>
                </a:cubicBezTo>
                <a:cubicBezTo>
                  <a:pt x="12201" y="1097"/>
                  <a:pt x="12195" y="1097"/>
                  <a:pt x="12195" y="1103"/>
                </a:cubicBezTo>
                <a:lnTo>
                  <a:pt x="12195" y="1109"/>
                </a:lnTo>
                <a:cubicBezTo>
                  <a:pt x="12195" y="1121"/>
                  <a:pt x="12195" y="1121"/>
                  <a:pt x="12195" y="1121"/>
                </a:cubicBezTo>
                <a:cubicBezTo>
                  <a:pt x="12195" y="1144"/>
                  <a:pt x="12195" y="1144"/>
                  <a:pt x="12195" y="1144"/>
                </a:cubicBezTo>
                <a:cubicBezTo>
                  <a:pt x="12189" y="1144"/>
                  <a:pt x="12183" y="1150"/>
                  <a:pt x="12177" y="1150"/>
                </a:cubicBezTo>
                <a:cubicBezTo>
                  <a:pt x="12166" y="1150"/>
                  <a:pt x="12154" y="1144"/>
                  <a:pt x="12142" y="1150"/>
                </a:cubicBezTo>
                <a:cubicBezTo>
                  <a:pt x="12136" y="1150"/>
                  <a:pt x="12124" y="1150"/>
                  <a:pt x="12118" y="1156"/>
                </a:cubicBezTo>
                <a:cubicBezTo>
                  <a:pt x="12112" y="1162"/>
                  <a:pt x="12106" y="1162"/>
                  <a:pt x="12106" y="1168"/>
                </a:cubicBezTo>
                <a:cubicBezTo>
                  <a:pt x="12094" y="1174"/>
                  <a:pt x="12088" y="1180"/>
                  <a:pt x="12088" y="1186"/>
                </a:cubicBezTo>
                <a:cubicBezTo>
                  <a:pt x="12088" y="1192"/>
                  <a:pt x="12094" y="1198"/>
                  <a:pt x="12094" y="1204"/>
                </a:cubicBezTo>
                <a:cubicBezTo>
                  <a:pt x="12100" y="1204"/>
                  <a:pt x="12100" y="1204"/>
                  <a:pt x="12106" y="1198"/>
                </a:cubicBezTo>
                <a:cubicBezTo>
                  <a:pt x="12112" y="1198"/>
                  <a:pt x="12118" y="1192"/>
                  <a:pt x="12124" y="1192"/>
                </a:cubicBezTo>
                <a:cubicBezTo>
                  <a:pt x="12130" y="1192"/>
                  <a:pt x="12136" y="1192"/>
                  <a:pt x="12142" y="1192"/>
                </a:cubicBezTo>
                <a:cubicBezTo>
                  <a:pt x="12136" y="1204"/>
                  <a:pt x="12136" y="1204"/>
                  <a:pt x="12136" y="1210"/>
                </a:cubicBezTo>
                <a:cubicBezTo>
                  <a:pt x="12136" y="1215"/>
                  <a:pt x="12136" y="1215"/>
                  <a:pt x="12136" y="1215"/>
                </a:cubicBezTo>
                <a:cubicBezTo>
                  <a:pt x="12136" y="1221"/>
                  <a:pt x="12142" y="1227"/>
                  <a:pt x="12142" y="1227"/>
                </a:cubicBezTo>
                <a:cubicBezTo>
                  <a:pt x="12136" y="1227"/>
                  <a:pt x="12118" y="1233"/>
                  <a:pt x="12112" y="1233"/>
                </a:cubicBezTo>
                <a:close/>
                <a:moveTo>
                  <a:pt x="12972" y="1263"/>
                </a:moveTo>
                <a:lnTo>
                  <a:pt x="12972" y="1263"/>
                </a:lnTo>
                <a:cubicBezTo>
                  <a:pt x="12978" y="1263"/>
                  <a:pt x="12984" y="1257"/>
                  <a:pt x="12990" y="1257"/>
                </a:cubicBezTo>
                <a:cubicBezTo>
                  <a:pt x="12990" y="1257"/>
                  <a:pt x="12996" y="1257"/>
                  <a:pt x="13002" y="1257"/>
                </a:cubicBezTo>
                <a:cubicBezTo>
                  <a:pt x="13002" y="1257"/>
                  <a:pt x="13007" y="1251"/>
                  <a:pt x="13013" y="1251"/>
                </a:cubicBezTo>
                <a:cubicBezTo>
                  <a:pt x="13019" y="1251"/>
                  <a:pt x="13025" y="1251"/>
                  <a:pt x="13037" y="1251"/>
                </a:cubicBezTo>
                <a:cubicBezTo>
                  <a:pt x="13043" y="1251"/>
                  <a:pt x="13043" y="1251"/>
                  <a:pt x="13043" y="1251"/>
                </a:cubicBezTo>
                <a:cubicBezTo>
                  <a:pt x="13049" y="1251"/>
                  <a:pt x="13055" y="1245"/>
                  <a:pt x="13055" y="1245"/>
                </a:cubicBezTo>
                <a:cubicBezTo>
                  <a:pt x="13055" y="1239"/>
                  <a:pt x="13061" y="1233"/>
                  <a:pt x="13055" y="1233"/>
                </a:cubicBezTo>
                <a:cubicBezTo>
                  <a:pt x="13055" y="1227"/>
                  <a:pt x="13055" y="1221"/>
                  <a:pt x="13049" y="1221"/>
                </a:cubicBezTo>
                <a:cubicBezTo>
                  <a:pt x="13043" y="1215"/>
                  <a:pt x="13043" y="1215"/>
                  <a:pt x="13037" y="1215"/>
                </a:cubicBezTo>
                <a:cubicBezTo>
                  <a:pt x="13031" y="1215"/>
                  <a:pt x="13031" y="1210"/>
                  <a:pt x="13025" y="1210"/>
                </a:cubicBezTo>
                <a:cubicBezTo>
                  <a:pt x="13019" y="1210"/>
                  <a:pt x="13019" y="1210"/>
                  <a:pt x="13013" y="1210"/>
                </a:cubicBezTo>
                <a:cubicBezTo>
                  <a:pt x="13002" y="1210"/>
                  <a:pt x="13002" y="1215"/>
                  <a:pt x="12990" y="1221"/>
                </a:cubicBezTo>
                <a:cubicBezTo>
                  <a:pt x="12984" y="1221"/>
                  <a:pt x="12984" y="1227"/>
                  <a:pt x="12978" y="1233"/>
                </a:cubicBezTo>
                <a:cubicBezTo>
                  <a:pt x="12972" y="1239"/>
                  <a:pt x="12966" y="1245"/>
                  <a:pt x="12960" y="1251"/>
                </a:cubicBezTo>
                <a:cubicBezTo>
                  <a:pt x="12960" y="1257"/>
                  <a:pt x="12966" y="1263"/>
                  <a:pt x="12972" y="1263"/>
                </a:cubicBezTo>
                <a:close/>
                <a:moveTo>
                  <a:pt x="12563" y="356"/>
                </a:moveTo>
                <a:lnTo>
                  <a:pt x="12563" y="356"/>
                </a:lnTo>
                <a:cubicBezTo>
                  <a:pt x="12569" y="368"/>
                  <a:pt x="12569" y="368"/>
                  <a:pt x="12569" y="368"/>
                </a:cubicBezTo>
                <a:cubicBezTo>
                  <a:pt x="12575" y="374"/>
                  <a:pt x="12580" y="379"/>
                  <a:pt x="12592" y="386"/>
                </a:cubicBezTo>
                <a:cubicBezTo>
                  <a:pt x="12598" y="391"/>
                  <a:pt x="12598" y="391"/>
                  <a:pt x="12604" y="397"/>
                </a:cubicBezTo>
                <a:cubicBezTo>
                  <a:pt x="12610" y="403"/>
                  <a:pt x="12622" y="403"/>
                  <a:pt x="12634" y="403"/>
                </a:cubicBezTo>
                <a:cubicBezTo>
                  <a:pt x="12640" y="403"/>
                  <a:pt x="12646" y="403"/>
                  <a:pt x="12652" y="403"/>
                </a:cubicBezTo>
                <a:cubicBezTo>
                  <a:pt x="12652" y="397"/>
                  <a:pt x="12658" y="397"/>
                  <a:pt x="12658" y="397"/>
                </a:cubicBezTo>
                <a:cubicBezTo>
                  <a:pt x="12664" y="391"/>
                  <a:pt x="12669" y="391"/>
                  <a:pt x="12669" y="391"/>
                </a:cubicBezTo>
                <a:cubicBezTo>
                  <a:pt x="12675" y="386"/>
                  <a:pt x="12675" y="379"/>
                  <a:pt x="12675" y="379"/>
                </a:cubicBezTo>
                <a:cubicBezTo>
                  <a:pt x="12681" y="374"/>
                  <a:pt x="12681" y="368"/>
                  <a:pt x="12687" y="368"/>
                </a:cubicBezTo>
                <a:cubicBezTo>
                  <a:pt x="12687" y="362"/>
                  <a:pt x="12693" y="368"/>
                  <a:pt x="12699" y="362"/>
                </a:cubicBezTo>
                <a:cubicBezTo>
                  <a:pt x="12699" y="362"/>
                  <a:pt x="12705" y="362"/>
                  <a:pt x="12711" y="356"/>
                </a:cubicBezTo>
                <a:cubicBezTo>
                  <a:pt x="12711" y="356"/>
                  <a:pt x="12717" y="356"/>
                  <a:pt x="12723" y="350"/>
                </a:cubicBezTo>
                <a:cubicBezTo>
                  <a:pt x="12729" y="350"/>
                  <a:pt x="12735" y="350"/>
                  <a:pt x="12741" y="344"/>
                </a:cubicBezTo>
                <a:cubicBezTo>
                  <a:pt x="12741" y="338"/>
                  <a:pt x="12741" y="338"/>
                  <a:pt x="12741" y="338"/>
                </a:cubicBezTo>
                <a:cubicBezTo>
                  <a:pt x="12735" y="332"/>
                  <a:pt x="12735" y="332"/>
                  <a:pt x="12729" y="332"/>
                </a:cubicBezTo>
                <a:cubicBezTo>
                  <a:pt x="12717" y="332"/>
                  <a:pt x="12717" y="332"/>
                  <a:pt x="12717" y="332"/>
                </a:cubicBezTo>
                <a:cubicBezTo>
                  <a:pt x="12717" y="332"/>
                  <a:pt x="12711" y="326"/>
                  <a:pt x="12705" y="326"/>
                </a:cubicBezTo>
                <a:cubicBezTo>
                  <a:pt x="12699" y="326"/>
                  <a:pt x="12693" y="326"/>
                  <a:pt x="12687" y="326"/>
                </a:cubicBezTo>
                <a:cubicBezTo>
                  <a:pt x="12681" y="326"/>
                  <a:pt x="12675" y="326"/>
                  <a:pt x="12669" y="326"/>
                </a:cubicBezTo>
                <a:cubicBezTo>
                  <a:pt x="12669" y="326"/>
                  <a:pt x="12664" y="326"/>
                  <a:pt x="12658" y="332"/>
                </a:cubicBezTo>
                <a:cubicBezTo>
                  <a:pt x="12658" y="332"/>
                  <a:pt x="12664" y="338"/>
                  <a:pt x="12658" y="338"/>
                </a:cubicBezTo>
                <a:cubicBezTo>
                  <a:pt x="12652" y="344"/>
                  <a:pt x="12652" y="338"/>
                  <a:pt x="12646" y="338"/>
                </a:cubicBezTo>
                <a:cubicBezTo>
                  <a:pt x="12634" y="344"/>
                  <a:pt x="12622" y="338"/>
                  <a:pt x="12610" y="338"/>
                </a:cubicBezTo>
                <a:cubicBezTo>
                  <a:pt x="12610" y="344"/>
                  <a:pt x="12604" y="344"/>
                  <a:pt x="12598" y="344"/>
                </a:cubicBezTo>
                <a:cubicBezTo>
                  <a:pt x="12598" y="344"/>
                  <a:pt x="12592" y="350"/>
                  <a:pt x="12586" y="350"/>
                </a:cubicBezTo>
                <a:cubicBezTo>
                  <a:pt x="12586" y="356"/>
                  <a:pt x="12580" y="362"/>
                  <a:pt x="12580" y="362"/>
                </a:cubicBezTo>
                <a:cubicBezTo>
                  <a:pt x="12575" y="362"/>
                  <a:pt x="12569" y="356"/>
                  <a:pt x="12563" y="356"/>
                </a:cubicBezTo>
                <a:close/>
                <a:moveTo>
                  <a:pt x="12426" y="356"/>
                </a:moveTo>
                <a:lnTo>
                  <a:pt x="12426" y="356"/>
                </a:lnTo>
                <a:cubicBezTo>
                  <a:pt x="12426" y="362"/>
                  <a:pt x="12426" y="362"/>
                  <a:pt x="12426" y="368"/>
                </a:cubicBezTo>
                <a:cubicBezTo>
                  <a:pt x="12420" y="368"/>
                  <a:pt x="12426" y="374"/>
                  <a:pt x="12426" y="379"/>
                </a:cubicBezTo>
                <a:cubicBezTo>
                  <a:pt x="12420" y="379"/>
                  <a:pt x="12414" y="379"/>
                  <a:pt x="12414" y="379"/>
                </a:cubicBezTo>
                <a:cubicBezTo>
                  <a:pt x="12403" y="386"/>
                  <a:pt x="12397" y="391"/>
                  <a:pt x="12391" y="397"/>
                </a:cubicBezTo>
                <a:cubicBezTo>
                  <a:pt x="12385" y="397"/>
                  <a:pt x="12385" y="403"/>
                  <a:pt x="12385" y="409"/>
                </a:cubicBezTo>
                <a:cubicBezTo>
                  <a:pt x="12397" y="415"/>
                  <a:pt x="12397" y="415"/>
                  <a:pt x="12397" y="415"/>
                </a:cubicBezTo>
                <a:cubicBezTo>
                  <a:pt x="12397" y="415"/>
                  <a:pt x="12403" y="421"/>
                  <a:pt x="12409" y="421"/>
                </a:cubicBezTo>
                <a:cubicBezTo>
                  <a:pt x="12414" y="421"/>
                  <a:pt x="12414" y="421"/>
                  <a:pt x="12426" y="421"/>
                </a:cubicBezTo>
                <a:lnTo>
                  <a:pt x="12426" y="421"/>
                </a:lnTo>
                <a:cubicBezTo>
                  <a:pt x="12432" y="421"/>
                  <a:pt x="12438" y="415"/>
                  <a:pt x="12438" y="415"/>
                </a:cubicBezTo>
                <a:cubicBezTo>
                  <a:pt x="12444" y="415"/>
                  <a:pt x="12450" y="415"/>
                  <a:pt x="12456" y="415"/>
                </a:cubicBezTo>
                <a:cubicBezTo>
                  <a:pt x="12474" y="415"/>
                  <a:pt x="12474" y="415"/>
                  <a:pt x="12474" y="415"/>
                </a:cubicBezTo>
                <a:cubicBezTo>
                  <a:pt x="12480" y="415"/>
                  <a:pt x="12486" y="415"/>
                  <a:pt x="12492" y="415"/>
                </a:cubicBezTo>
                <a:cubicBezTo>
                  <a:pt x="12503" y="421"/>
                  <a:pt x="12515" y="421"/>
                  <a:pt x="12533" y="415"/>
                </a:cubicBezTo>
                <a:cubicBezTo>
                  <a:pt x="12539" y="415"/>
                  <a:pt x="12539" y="415"/>
                  <a:pt x="12545" y="415"/>
                </a:cubicBezTo>
                <a:cubicBezTo>
                  <a:pt x="12539" y="409"/>
                  <a:pt x="12533" y="403"/>
                  <a:pt x="12533" y="403"/>
                </a:cubicBezTo>
                <a:cubicBezTo>
                  <a:pt x="12527" y="397"/>
                  <a:pt x="12527" y="397"/>
                  <a:pt x="12521" y="391"/>
                </a:cubicBezTo>
                <a:cubicBezTo>
                  <a:pt x="12521" y="386"/>
                  <a:pt x="12527" y="379"/>
                  <a:pt x="12521" y="379"/>
                </a:cubicBezTo>
                <a:cubicBezTo>
                  <a:pt x="12521" y="368"/>
                  <a:pt x="12509" y="362"/>
                  <a:pt x="12509" y="356"/>
                </a:cubicBezTo>
                <a:cubicBezTo>
                  <a:pt x="12509" y="350"/>
                  <a:pt x="12509" y="338"/>
                  <a:pt x="12509" y="332"/>
                </a:cubicBezTo>
                <a:cubicBezTo>
                  <a:pt x="12492" y="332"/>
                  <a:pt x="12492" y="332"/>
                  <a:pt x="12492" y="332"/>
                </a:cubicBezTo>
                <a:cubicBezTo>
                  <a:pt x="12486" y="332"/>
                  <a:pt x="12486" y="332"/>
                  <a:pt x="12480" y="332"/>
                </a:cubicBezTo>
                <a:cubicBezTo>
                  <a:pt x="12474" y="338"/>
                  <a:pt x="12474" y="338"/>
                  <a:pt x="12474" y="344"/>
                </a:cubicBezTo>
                <a:cubicBezTo>
                  <a:pt x="12468" y="350"/>
                  <a:pt x="12468" y="350"/>
                  <a:pt x="12462" y="356"/>
                </a:cubicBezTo>
                <a:cubicBezTo>
                  <a:pt x="12456" y="356"/>
                  <a:pt x="12450" y="356"/>
                  <a:pt x="12450" y="356"/>
                </a:cubicBezTo>
                <a:cubicBezTo>
                  <a:pt x="12444" y="362"/>
                  <a:pt x="12444" y="362"/>
                  <a:pt x="12438" y="362"/>
                </a:cubicBezTo>
                <a:lnTo>
                  <a:pt x="12426" y="356"/>
                </a:lnTo>
                <a:close/>
                <a:moveTo>
                  <a:pt x="12403" y="457"/>
                </a:moveTo>
                <a:lnTo>
                  <a:pt x="12403" y="457"/>
                </a:lnTo>
                <a:cubicBezTo>
                  <a:pt x="12397" y="457"/>
                  <a:pt x="12397" y="463"/>
                  <a:pt x="12391" y="463"/>
                </a:cubicBezTo>
                <a:cubicBezTo>
                  <a:pt x="12379" y="463"/>
                  <a:pt x="12379" y="463"/>
                  <a:pt x="12379" y="463"/>
                </a:cubicBezTo>
                <a:cubicBezTo>
                  <a:pt x="12373" y="463"/>
                  <a:pt x="12373" y="468"/>
                  <a:pt x="12367" y="468"/>
                </a:cubicBezTo>
                <a:cubicBezTo>
                  <a:pt x="12355" y="468"/>
                  <a:pt x="12355" y="468"/>
                  <a:pt x="12355" y="468"/>
                </a:cubicBezTo>
                <a:cubicBezTo>
                  <a:pt x="12361" y="468"/>
                  <a:pt x="12355" y="474"/>
                  <a:pt x="12355" y="480"/>
                </a:cubicBezTo>
                <a:cubicBezTo>
                  <a:pt x="12361" y="480"/>
                  <a:pt x="12361" y="486"/>
                  <a:pt x="12361" y="492"/>
                </a:cubicBezTo>
                <a:cubicBezTo>
                  <a:pt x="12367" y="492"/>
                  <a:pt x="12373" y="492"/>
                  <a:pt x="12379" y="492"/>
                </a:cubicBezTo>
                <a:cubicBezTo>
                  <a:pt x="12379" y="492"/>
                  <a:pt x="12385" y="492"/>
                  <a:pt x="12391" y="492"/>
                </a:cubicBezTo>
                <a:cubicBezTo>
                  <a:pt x="12391" y="486"/>
                  <a:pt x="12397" y="486"/>
                  <a:pt x="12403" y="486"/>
                </a:cubicBezTo>
                <a:cubicBezTo>
                  <a:pt x="12409" y="480"/>
                  <a:pt x="12414" y="480"/>
                  <a:pt x="12426" y="480"/>
                </a:cubicBezTo>
                <a:cubicBezTo>
                  <a:pt x="12420" y="474"/>
                  <a:pt x="12426" y="468"/>
                  <a:pt x="12426" y="468"/>
                </a:cubicBezTo>
                <a:cubicBezTo>
                  <a:pt x="12420" y="463"/>
                  <a:pt x="12414" y="463"/>
                  <a:pt x="12414" y="457"/>
                </a:cubicBezTo>
                <a:cubicBezTo>
                  <a:pt x="12409" y="457"/>
                  <a:pt x="12409" y="457"/>
                  <a:pt x="12403" y="457"/>
                </a:cubicBezTo>
                <a:close/>
                <a:moveTo>
                  <a:pt x="12201" y="439"/>
                </a:moveTo>
                <a:lnTo>
                  <a:pt x="12201" y="439"/>
                </a:lnTo>
                <a:cubicBezTo>
                  <a:pt x="12201" y="474"/>
                  <a:pt x="12201" y="474"/>
                  <a:pt x="12201" y="474"/>
                </a:cubicBezTo>
                <a:cubicBezTo>
                  <a:pt x="12254" y="474"/>
                  <a:pt x="12254" y="474"/>
                  <a:pt x="12254" y="474"/>
                </a:cubicBezTo>
                <a:cubicBezTo>
                  <a:pt x="12260" y="468"/>
                  <a:pt x="12266" y="468"/>
                  <a:pt x="12266" y="463"/>
                </a:cubicBezTo>
                <a:cubicBezTo>
                  <a:pt x="12266" y="463"/>
                  <a:pt x="12266" y="457"/>
                  <a:pt x="12266" y="451"/>
                </a:cubicBezTo>
                <a:cubicBezTo>
                  <a:pt x="12266" y="451"/>
                  <a:pt x="12272" y="451"/>
                  <a:pt x="12272" y="445"/>
                </a:cubicBezTo>
                <a:cubicBezTo>
                  <a:pt x="12272" y="457"/>
                  <a:pt x="12272" y="468"/>
                  <a:pt x="12278" y="474"/>
                </a:cubicBezTo>
                <a:cubicBezTo>
                  <a:pt x="12284" y="480"/>
                  <a:pt x="12290" y="480"/>
                  <a:pt x="12296" y="480"/>
                </a:cubicBezTo>
                <a:cubicBezTo>
                  <a:pt x="12302" y="480"/>
                  <a:pt x="12302" y="474"/>
                  <a:pt x="12308" y="474"/>
                </a:cubicBezTo>
                <a:cubicBezTo>
                  <a:pt x="12314" y="474"/>
                  <a:pt x="12314" y="474"/>
                  <a:pt x="12320" y="474"/>
                </a:cubicBezTo>
                <a:cubicBezTo>
                  <a:pt x="12320" y="463"/>
                  <a:pt x="12320" y="457"/>
                  <a:pt x="12320" y="439"/>
                </a:cubicBezTo>
                <a:cubicBezTo>
                  <a:pt x="12367" y="439"/>
                  <a:pt x="12367" y="439"/>
                  <a:pt x="12367" y="439"/>
                </a:cubicBezTo>
                <a:cubicBezTo>
                  <a:pt x="12367" y="427"/>
                  <a:pt x="12367" y="427"/>
                  <a:pt x="12367" y="427"/>
                </a:cubicBezTo>
                <a:cubicBezTo>
                  <a:pt x="12367" y="427"/>
                  <a:pt x="12367" y="421"/>
                  <a:pt x="12367" y="415"/>
                </a:cubicBezTo>
                <a:cubicBezTo>
                  <a:pt x="12284" y="415"/>
                  <a:pt x="12284" y="415"/>
                  <a:pt x="12284" y="415"/>
                </a:cubicBezTo>
                <a:cubicBezTo>
                  <a:pt x="12272" y="415"/>
                  <a:pt x="12266" y="421"/>
                  <a:pt x="12260" y="427"/>
                </a:cubicBezTo>
                <a:cubicBezTo>
                  <a:pt x="12254" y="427"/>
                  <a:pt x="12248" y="433"/>
                  <a:pt x="12243" y="433"/>
                </a:cubicBezTo>
                <a:cubicBezTo>
                  <a:pt x="12237" y="433"/>
                  <a:pt x="12237" y="439"/>
                  <a:pt x="12231" y="439"/>
                </a:cubicBezTo>
                <a:cubicBezTo>
                  <a:pt x="12225" y="445"/>
                  <a:pt x="12213" y="445"/>
                  <a:pt x="12201" y="451"/>
                </a:cubicBezTo>
                <a:lnTo>
                  <a:pt x="12201" y="439"/>
                </a:lnTo>
                <a:close/>
                <a:moveTo>
                  <a:pt x="12041" y="445"/>
                </a:moveTo>
                <a:lnTo>
                  <a:pt x="12041" y="445"/>
                </a:lnTo>
                <a:cubicBezTo>
                  <a:pt x="12041" y="445"/>
                  <a:pt x="12053" y="445"/>
                  <a:pt x="12053" y="439"/>
                </a:cubicBezTo>
                <a:cubicBezTo>
                  <a:pt x="12053" y="439"/>
                  <a:pt x="12053" y="433"/>
                  <a:pt x="12053" y="427"/>
                </a:cubicBezTo>
                <a:cubicBezTo>
                  <a:pt x="12053" y="427"/>
                  <a:pt x="12053" y="421"/>
                  <a:pt x="12059" y="415"/>
                </a:cubicBezTo>
                <a:cubicBezTo>
                  <a:pt x="12065" y="415"/>
                  <a:pt x="12071" y="421"/>
                  <a:pt x="12082" y="415"/>
                </a:cubicBezTo>
                <a:cubicBezTo>
                  <a:pt x="12082" y="415"/>
                  <a:pt x="12088" y="415"/>
                  <a:pt x="12094" y="415"/>
                </a:cubicBezTo>
                <a:cubicBezTo>
                  <a:pt x="12100" y="415"/>
                  <a:pt x="12100" y="409"/>
                  <a:pt x="12106" y="409"/>
                </a:cubicBezTo>
                <a:cubicBezTo>
                  <a:pt x="12112" y="403"/>
                  <a:pt x="12118" y="409"/>
                  <a:pt x="12124" y="409"/>
                </a:cubicBezTo>
                <a:cubicBezTo>
                  <a:pt x="12130" y="403"/>
                  <a:pt x="12136" y="397"/>
                  <a:pt x="12136" y="397"/>
                </a:cubicBezTo>
                <a:cubicBezTo>
                  <a:pt x="12142" y="397"/>
                  <a:pt x="12148" y="397"/>
                  <a:pt x="12148" y="397"/>
                </a:cubicBezTo>
                <a:cubicBezTo>
                  <a:pt x="12159" y="397"/>
                  <a:pt x="12166" y="397"/>
                  <a:pt x="12171" y="397"/>
                </a:cubicBezTo>
                <a:cubicBezTo>
                  <a:pt x="12177" y="397"/>
                  <a:pt x="12177" y="391"/>
                  <a:pt x="12183" y="391"/>
                </a:cubicBezTo>
                <a:cubicBezTo>
                  <a:pt x="12189" y="391"/>
                  <a:pt x="12183" y="379"/>
                  <a:pt x="12189" y="379"/>
                </a:cubicBezTo>
                <a:cubicBezTo>
                  <a:pt x="12201" y="379"/>
                  <a:pt x="12201" y="386"/>
                  <a:pt x="12213" y="391"/>
                </a:cubicBezTo>
                <a:cubicBezTo>
                  <a:pt x="12213" y="391"/>
                  <a:pt x="12219" y="391"/>
                  <a:pt x="12225" y="391"/>
                </a:cubicBezTo>
                <a:cubicBezTo>
                  <a:pt x="12231" y="391"/>
                  <a:pt x="12231" y="397"/>
                  <a:pt x="12237" y="397"/>
                </a:cubicBezTo>
                <a:cubicBezTo>
                  <a:pt x="12260" y="397"/>
                  <a:pt x="12260" y="397"/>
                  <a:pt x="12260" y="397"/>
                </a:cubicBezTo>
                <a:cubicBezTo>
                  <a:pt x="12260" y="391"/>
                  <a:pt x="12260" y="386"/>
                  <a:pt x="12260" y="386"/>
                </a:cubicBezTo>
                <a:cubicBezTo>
                  <a:pt x="12260" y="374"/>
                  <a:pt x="12254" y="368"/>
                  <a:pt x="12254" y="362"/>
                </a:cubicBezTo>
                <a:cubicBezTo>
                  <a:pt x="12254" y="350"/>
                  <a:pt x="12266" y="344"/>
                  <a:pt x="12272" y="344"/>
                </a:cubicBezTo>
                <a:cubicBezTo>
                  <a:pt x="12284" y="344"/>
                  <a:pt x="12284" y="350"/>
                  <a:pt x="12290" y="350"/>
                </a:cubicBezTo>
                <a:cubicBezTo>
                  <a:pt x="12296" y="356"/>
                  <a:pt x="12302" y="356"/>
                  <a:pt x="12302" y="356"/>
                </a:cubicBezTo>
                <a:cubicBezTo>
                  <a:pt x="12308" y="356"/>
                  <a:pt x="12308" y="362"/>
                  <a:pt x="12308" y="368"/>
                </a:cubicBezTo>
                <a:cubicBezTo>
                  <a:pt x="12320" y="374"/>
                  <a:pt x="12325" y="379"/>
                  <a:pt x="12337" y="379"/>
                </a:cubicBezTo>
                <a:cubicBezTo>
                  <a:pt x="12349" y="379"/>
                  <a:pt x="12355" y="374"/>
                  <a:pt x="12367" y="374"/>
                </a:cubicBezTo>
                <a:cubicBezTo>
                  <a:pt x="12367" y="368"/>
                  <a:pt x="12373" y="368"/>
                  <a:pt x="12373" y="362"/>
                </a:cubicBezTo>
                <a:cubicBezTo>
                  <a:pt x="12373" y="356"/>
                  <a:pt x="12367" y="356"/>
                  <a:pt x="12367" y="350"/>
                </a:cubicBezTo>
                <a:cubicBezTo>
                  <a:pt x="12367" y="338"/>
                  <a:pt x="12367" y="338"/>
                  <a:pt x="12367" y="338"/>
                </a:cubicBezTo>
                <a:cubicBezTo>
                  <a:pt x="12361" y="338"/>
                  <a:pt x="12355" y="332"/>
                  <a:pt x="12343" y="338"/>
                </a:cubicBezTo>
                <a:cubicBezTo>
                  <a:pt x="12337" y="338"/>
                  <a:pt x="12337" y="338"/>
                  <a:pt x="12332" y="338"/>
                </a:cubicBezTo>
                <a:cubicBezTo>
                  <a:pt x="12325" y="338"/>
                  <a:pt x="12320" y="338"/>
                  <a:pt x="12308" y="338"/>
                </a:cubicBezTo>
                <a:cubicBezTo>
                  <a:pt x="12308" y="338"/>
                  <a:pt x="12302" y="338"/>
                  <a:pt x="12296" y="338"/>
                </a:cubicBezTo>
                <a:cubicBezTo>
                  <a:pt x="12302" y="326"/>
                  <a:pt x="12302" y="326"/>
                  <a:pt x="12308" y="320"/>
                </a:cubicBezTo>
                <a:cubicBezTo>
                  <a:pt x="12314" y="314"/>
                  <a:pt x="12320" y="314"/>
                  <a:pt x="12325" y="308"/>
                </a:cubicBezTo>
                <a:cubicBezTo>
                  <a:pt x="12332" y="302"/>
                  <a:pt x="12332" y="297"/>
                  <a:pt x="12337" y="291"/>
                </a:cubicBezTo>
                <a:cubicBezTo>
                  <a:pt x="12332" y="279"/>
                  <a:pt x="12332" y="279"/>
                  <a:pt x="12332" y="279"/>
                </a:cubicBezTo>
                <a:cubicBezTo>
                  <a:pt x="12325" y="279"/>
                  <a:pt x="12325" y="279"/>
                  <a:pt x="12320" y="279"/>
                </a:cubicBezTo>
                <a:cubicBezTo>
                  <a:pt x="12314" y="279"/>
                  <a:pt x="12314" y="285"/>
                  <a:pt x="12308" y="285"/>
                </a:cubicBezTo>
                <a:cubicBezTo>
                  <a:pt x="12302" y="285"/>
                  <a:pt x="12296" y="285"/>
                  <a:pt x="12296" y="285"/>
                </a:cubicBezTo>
                <a:cubicBezTo>
                  <a:pt x="12284" y="285"/>
                  <a:pt x="12284" y="285"/>
                  <a:pt x="12284" y="285"/>
                </a:cubicBezTo>
                <a:cubicBezTo>
                  <a:pt x="12278" y="285"/>
                  <a:pt x="12278" y="291"/>
                  <a:pt x="12272" y="291"/>
                </a:cubicBezTo>
                <a:cubicBezTo>
                  <a:pt x="12266" y="291"/>
                  <a:pt x="12260" y="291"/>
                  <a:pt x="12260" y="291"/>
                </a:cubicBezTo>
                <a:cubicBezTo>
                  <a:pt x="12254" y="297"/>
                  <a:pt x="12248" y="297"/>
                  <a:pt x="12248" y="302"/>
                </a:cubicBezTo>
                <a:cubicBezTo>
                  <a:pt x="12248" y="302"/>
                  <a:pt x="12248" y="308"/>
                  <a:pt x="12248" y="314"/>
                </a:cubicBezTo>
                <a:cubicBezTo>
                  <a:pt x="12248" y="314"/>
                  <a:pt x="12248" y="320"/>
                  <a:pt x="12248" y="326"/>
                </a:cubicBezTo>
                <a:cubicBezTo>
                  <a:pt x="12248" y="332"/>
                  <a:pt x="12248" y="332"/>
                  <a:pt x="12248" y="338"/>
                </a:cubicBezTo>
                <a:cubicBezTo>
                  <a:pt x="12237" y="338"/>
                  <a:pt x="12231" y="338"/>
                  <a:pt x="12219" y="338"/>
                </a:cubicBezTo>
                <a:cubicBezTo>
                  <a:pt x="12219" y="338"/>
                  <a:pt x="12213" y="338"/>
                  <a:pt x="12207" y="338"/>
                </a:cubicBezTo>
                <a:cubicBezTo>
                  <a:pt x="12195" y="338"/>
                  <a:pt x="12195" y="338"/>
                  <a:pt x="12195" y="338"/>
                </a:cubicBezTo>
                <a:cubicBezTo>
                  <a:pt x="12183" y="338"/>
                  <a:pt x="12183" y="338"/>
                  <a:pt x="12183" y="338"/>
                </a:cubicBezTo>
                <a:cubicBezTo>
                  <a:pt x="12177" y="338"/>
                  <a:pt x="12171" y="332"/>
                  <a:pt x="12171" y="338"/>
                </a:cubicBezTo>
                <a:cubicBezTo>
                  <a:pt x="12166" y="338"/>
                  <a:pt x="12159" y="338"/>
                  <a:pt x="12159" y="344"/>
                </a:cubicBezTo>
                <a:cubicBezTo>
                  <a:pt x="12159" y="350"/>
                  <a:pt x="12166" y="356"/>
                  <a:pt x="12166" y="356"/>
                </a:cubicBezTo>
                <a:cubicBezTo>
                  <a:pt x="12159" y="362"/>
                  <a:pt x="12154" y="362"/>
                  <a:pt x="12154" y="362"/>
                </a:cubicBezTo>
                <a:cubicBezTo>
                  <a:pt x="12154" y="368"/>
                  <a:pt x="12159" y="368"/>
                  <a:pt x="12159" y="374"/>
                </a:cubicBezTo>
                <a:cubicBezTo>
                  <a:pt x="12159" y="397"/>
                  <a:pt x="12159" y="397"/>
                  <a:pt x="12159" y="397"/>
                </a:cubicBezTo>
                <a:cubicBezTo>
                  <a:pt x="12142" y="397"/>
                  <a:pt x="12130" y="397"/>
                  <a:pt x="12112" y="397"/>
                </a:cubicBezTo>
                <a:cubicBezTo>
                  <a:pt x="12106" y="397"/>
                  <a:pt x="12100" y="397"/>
                  <a:pt x="12100" y="403"/>
                </a:cubicBezTo>
                <a:cubicBezTo>
                  <a:pt x="12094" y="403"/>
                  <a:pt x="12088" y="403"/>
                  <a:pt x="12088" y="403"/>
                </a:cubicBezTo>
                <a:cubicBezTo>
                  <a:pt x="12082" y="403"/>
                  <a:pt x="12082" y="409"/>
                  <a:pt x="12077" y="409"/>
                </a:cubicBezTo>
                <a:cubicBezTo>
                  <a:pt x="12071" y="409"/>
                  <a:pt x="12065" y="409"/>
                  <a:pt x="12065" y="409"/>
                </a:cubicBezTo>
                <a:cubicBezTo>
                  <a:pt x="12059" y="409"/>
                  <a:pt x="12059" y="415"/>
                  <a:pt x="12053" y="415"/>
                </a:cubicBezTo>
                <a:cubicBezTo>
                  <a:pt x="12047" y="415"/>
                  <a:pt x="12047" y="421"/>
                  <a:pt x="12041" y="427"/>
                </a:cubicBezTo>
                <a:cubicBezTo>
                  <a:pt x="12029" y="439"/>
                  <a:pt x="12029" y="439"/>
                  <a:pt x="12029" y="439"/>
                </a:cubicBezTo>
                <a:lnTo>
                  <a:pt x="12041" y="445"/>
                </a:lnTo>
                <a:close/>
                <a:moveTo>
                  <a:pt x="11810" y="368"/>
                </a:moveTo>
                <a:lnTo>
                  <a:pt x="11810" y="368"/>
                </a:lnTo>
                <a:cubicBezTo>
                  <a:pt x="11804" y="368"/>
                  <a:pt x="11798" y="368"/>
                  <a:pt x="11792" y="368"/>
                </a:cubicBezTo>
                <a:cubicBezTo>
                  <a:pt x="11786" y="368"/>
                  <a:pt x="11780" y="374"/>
                  <a:pt x="11780" y="374"/>
                </a:cubicBezTo>
                <a:cubicBezTo>
                  <a:pt x="11774" y="379"/>
                  <a:pt x="11774" y="379"/>
                  <a:pt x="11768" y="379"/>
                </a:cubicBezTo>
                <a:cubicBezTo>
                  <a:pt x="11762" y="379"/>
                  <a:pt x="11762" y="379"/>
                  <a:pt x="11762" y="379"/>
                </a:cubicBezTo>
                <a:cubicBezTo>
                  <a:pt x="11756" y="379"/>
                  <a:pt x="11750" y="379"/>
                  <a:pt x="11745" y="379"/>
                </a:cubicBezTo>
                <a:cubicBezTo>
                  <a:pt x="11739" y="379"/>
                  <a:pt x="11739" y="374"/>
                  <a:pt x="11733" y="374"/>
                </a:cubicBezTo>
                <a:cubicBezTo>
                  <a:pt x="11727" y="374"/>
                  <a:pt x="11721" y="374"/>
                  <a:pt x="11721" y="368"/>
                </a:cubicBezTo>
                <a:cubicBezTo>
                  <a:pt x="11715" y="374"/>
                  <a:pt x="11715" y="379"/>
                  <a:pt x="11709" y="386"/>
                </a:cubicBezTo>
                <a:lnTo>
                  <a:pt x="11709" y="397"/>
                </a:lnTo>
                <a:cubicBezTo>
                  <a:pt x="11703" y="397"/>
                  <a:pt x="11703" y="403"/>
                  <a:pt x="11697" y="403"/>
                </a:cubicBezTo>
                <a:cubicBezTo>
                  <a:pt x="11691" y="403"/>
                  <a:pt x="11691" y="391"/>
                  <a:pt x="11685" y="391"/>
                </a:cubicBezTo>
                <a:cubicBezTo>
                  <a:pt x="11679" y="391"/>
                  <a:pt x="11679" y="391"/>
                  <a:pt x="11673" y="391"/>
                </a:cubicBezTo>
                <a:cubicBezTo>
                  <a:pt x="11661" y="386"/>
                  <a:pt x="11656" y="386"/>
                  <a:pt x="11650" y="386"/>
                </a:cubicBezTo>
                <a:cubicBezTo>
                  <a:pt x="11626" y="386"/>
                  <a:pt x="11626" y="386"/>
                  <a:pt x="11626" y="386"/>
                </a:cubicBezTo>
                <a:cubicBezTo>
                  <a:pt x="11626" y="391"/>
                  <a:pt x="11626" y="403"/>
                  <a:pt x="11632" y="409"/>
                </a:cubicBezTo>
                <a:cubicBezTo>
                  <a:pt x="11638" y="421"/>
                  <a:pt x="11644" y="427"/>
                  <a:pt x="11656" y="427"/>
                </a:cubicBezTo>
                <a:cubicBezTo>
                  <a:pt x="11668" y="427"/>
                  <a:pt x="11668" y="421"/>
                  <a:pt x="11679" y="415"/>
                </a:cubicBezTo>
                <a:cubicBezTo>
                  <a:pt x="11679" y="415"/>
                  <a:pt x="11685" y="415"/>
                  <a:pt x="11691" y="415"/>
                </a:cubicBezTo>
                <a:cubicBezTo>
                  <a:pt x="11697" y="415"/>
                  <a:pt x="11697" y="409"/>
                  <a:pt x="11703" y="409"/>
                </a:cubicBezTo>
                <a:cubicBezTo>
                  <a:pt x="11709" y="409"/>
                  <a:pt x="11709" y="403"/>
                  <a:pt x="11715" y="403"/>
                </a:cubicBezTo>
                <a:cubicBezTo>
                  <a:pt x="11727" y="403"/>
                  <a:pt x="11733" y="403"/>
                  <a:pt x="11739" y="403"/>
                </a:cubicBezTo>
                <a:cubicBezTo>
                  <a:pt x="11750" y="403"/>
                  <a:pt x="11750" y="403"/>
                  <a:pt x="11762" y="403"/>
                </a:cubicBezTo>
                <a:cubicBezTo>
                  <a:pt x="11768" y="403"/>
                  <a:pt x="11768" y="409"/>
                  <a:pt x="11774" y="409"/>
                </a:cubicBezTo>
                <a:cubicBezTo>
                  <a:pt x="11774" y="409"/>
                  <a:pt x="11780" y="403"/>
                  <a:pt x="11786" y="403"/>
                </a:cubicBezTo>
                <a:cubicBezTo>
                  <a:pt x="11786" y="421"/>
                  <a:pt x="11786" y="421"/>
                  <a:pt x="11786" y="421"/>
                </a:cubicBezTo>
                <a:cubicBezTo>
                  <a:pt x="11780" y="427"/>
                  <a:pt x="11780" y="433"/>
                  <a:pt x="11774" y="433"/>
                </a:cubicBezTo>
                <a:cubicBezTo>
                  <a:pt x="11768" y="433"/>
                  <a:pt x="11762" y="433"/>
                  <a:pt x="11750" y="433"/>
                </a:cubicBezTo>
                <a:cubicBezTo>
                  <a:pt x="11750" y="457"/>
                  <a:pt x="11750" y="457"/>
                  <a:pt x="11750" y="457"/>
                </a:cubicBezTo>
                <a:cubicBezTo>
                  <a:pt x="11750" y="463"/>
                  <a:pt x="11750" y="463"/>
                  <a:pt x="11756" y="468"/>
                </a:cubicBezTo>
                <a:cubicBezTo>
                  <a:pt x="11762" y="474"/>
                  <a:pt x="11762" y="474"/>
                  <a:pt x="11768" y="480"/>
                </a:cubicBezTo>
                <a:cubicBezTo>
                  <a:pt x="11780" y="486"/>
                  <a:pt x="11780" y="486"/>
                  <a:pt x="11780" y="486"/>
                </a:cubicBezTo>
                <a:cubicBezTo>
                  <a:pt x="11792" y="492"/>
                  <a:pt x="11798" y="492"/>
                  <a:pt x="11816" y="492"/>
                </a:cubicBezTo>
                <a:cubicBezTo>
                  <a:pt x="11822" y="492"/>
                  <a:pt x="11827" y="492"/>
                  <a:pt x="11834" y="492"/>
                </a:cubicBezTo>
                <a:cubicBezTo>
                  <a:pt x="11839" y="486"/>
                  <a:pt x="11845" y="486"/>
                  <a:pt x="11845" y="480"/>
                </a:cubicBezTo>
                <a:cubicBezTo>
                  <a:pt x="11851" y="474"/>
                  <a:pt x="11857" y="468"/>
                  <a:pt x="11857" y="463"/>
                </a:cubicBezTo>
                <a:cubicBezTo>
                  <a:pt x="11857" y="457"/>
                  <a:pt x="11851" y="451"/>
                  <a:pt x="11851" y="439"/>
                </a:cubicBezTo>
                <a:cubicBezTo>
                  <a:pt x="11851" y="427"/>
                  <a:pt x="11851" y="427"/>
                  <a:pt x="11851" y="427"/>
                </a:cubicBezTo>
                <a:cubicBezTo>
                  <a:pt x="11863" y="427"/>
                  <a:pt x="11875" y="427"/>
                  <a:pt x="11887" y="427"/>
                </a:cubicBezTo>
                <a:cubicBezTo>
                  <a:pt x="11893" y="427"/>
                  <a:pt x="11893" y="427"/>
                  <a:pt x="11899" y="427"/>
                </a:cubicBezTo>
                <a:cubicBezTo>
                  <a:pt x="11905" y="427"/>
                  <a:pt x="11905" y="427"/>
                  <a:pt x="11905" y="427"/>
                </a:cubicBezTo>
                <a:cubicBezTo>
                  <a:pt x="11911" y="427"/>
                  <a:pt x="11916" y="427"/>
                  <a:pt x="11922" y="427"/>
                </a:cubicBezTo>
                <a:cubicBezTo>
                  <a:pt x="11928" y="427"/>
                  <a:pt x="11928" y="421"/>
                  <a:pt x="11934" y="415"/>
                </a:cubicBezTo>
                <a:cubicBezTo>
                  <a:pt x="11940" y="415"/>
                  <a:pt x="11940" y="415"/>
                  <a:pt x="11946" y="415"/>
                </a:cubicBezTo>
                <a:cubicBezTo>
                  <a:pt x="11952" y="409"/>
                  <a:pt x="11952" y="403"/>
                  <a:pt x="11952" y="397"/>
                </a:cubicBezTo>
                <a:cubicBezTo>
                  <a:pt x="11952" y="379"/>
                  <a:pt x="11952" y="379"/>
                  <a:pt x="11952" y="379"/>
                </a:cubicBezTo>
                <a:cubicBezTo>
                  <a:pt x="11940" y="374"/>
                  <a:pt x="11934" y="374"/>
                  <a:pt x="11922" y="374"/>
                </a:cubicBezTo>
                <a:cubicBezTo>
                  <a:pt x="11922" y="338"/>
                  <a:pt x="11922" y="338"/>
                  <a:pt x="11922" y="338"/>
                </a:cubicBezTo>
                <a:cubicBezTo>
                  <a:pt x="11916" y="338"/>
                  <a:pt x="11916" y="338"/>
                  <a:pt x="11911" y="338"/>
                </a:cubicBezTo>
                <a:cubicBezTo>
                  <a:pt x="11905" y="338"/>
                  <a:pt x="11905" y="338"/>
                  <a:pt x="11899" y="338"/>
                </a:cubicBezTo>
                <a:cubicBezTo>
                  <a:pt x="11887" y="338"/>
                  <a:pt x="11881" y="338"/>
                  <a:pt x="11875" y="338"/>
                </a:cubicBezTo>
                <a:cubicBezTo>
                  <a:pt x="11875" y="344"/>
                  <a:pt x="11875" y="350"/>
                  <a:pt x="11875" y="350"/>
                </a:cubicBezTo>
                <a:cubicBezTo>
                  <a:pt x="11875" y="356"/>
                  <a:pt x="11869" y="356"/>
                  <a:pt x="11863" y="362"/>
                </a:cubicBezTo>
                <a:cubicBezTo>
                  <a:pt x="11863" y="368"/>
                  <a:pt x="11857" y="368"/>
                  <a:pt x="11851" y="374"/>
                </a:cubicBezTo>
                <a:cubicBezTo>
                  <a:pt x="11839" y="379"/>
                  <a:pt x="11827" y="368"/>
                  <a:pt x="11810" y="368"/>
                </a:cubicBezTo>
                <a:close/>
                <a:moveTo>
                  <a:pt x="10179" y="468"/>
                </a:moveTo>
                <a:lnTo>
                  <a:pt x="10179" y="468"/>
                </a:lnTo>
                <a:cubicBezTo>
                  <a:pt x="10179" y="474"/>
                  <a:pt x="10185" y="468"/>
                  <a:pt x="10191" y="474"/>
                </a:cubicBezTo>
                <a:cubicBezTo>
                  <a:pt x="10197" y="474"/>
                  <a:pt x="10197" y="474"/>
                  <a:pt x="10203" y="480"/>
                </a:cubicBezTo>
                <a:cubicBezTo>
                  <a:pt x="10215" y="480"/>
                  <a:pt x="10215" y="480"/>
                  <a:pt x="10215" y="480"/>
                </a:cubicBezTo>
                <a:cubicBezTo>
                  <a:pt x="10215" y="480"/>
                  <a:pt x="10221" y="480"/>
                  <a:pt x="10227" y="480"/>
                </a:cubicBezTo>
                <a:cubicBezTo>
                  <a:pt x="10233" y="480"/>
                  <a:pt x="10233" y="486"/>
                  <a:pt x="10245" y="486"/>
                </a:cubicBezTo>
                <a:cubicBezTo>
                  <a:pt x="10250" y="486"/>
                  <a:pt x="10256" y="486"/>
                  <a:pt x="10262" y="486"/>
                </a:cubicBezTo>
                <a:cubicBezTo>
                  <a:pt x="10268" y="480"/>
                  <a:pt x="10268" y="480"/>
                  <a:pt x="10274" y="480"/>
                </a:cubicBezTo>
                <a:cubicBezTo>
                  <a:pt x="10286" y="480"/>
                  <a:pt x="10286" y="480"/>
                  <a:pt x="10292" y="480"/>
                </a:cubicBezTo>
                <a:cubicBezTo>
                  <a:pt x="10298" y="480"/>
                  <a:pt x="10304" y="480"/>
                  <a:pt x="10304" y="486"/>
                </a:cubicBezTo>
                <a:cubicBezTo>
                  <a:pt x="10310" y="486"/>
                  <a:pt x="10310" y="486"/>
                  <a:pt x="10316" y="492"/>
                </a:cubicBezTo>
                <a:cubicBezTo>
                  <a:pt x="10322" y="492"/>
                  <a:pt x="10316" y="498"/>
                  <a:pt x="10322" y="504"/>
                </a:cubicBezTo>
                <a:cubicBezTo>
                  <a:pt x="10233" y="504"/>
                  <a:pt x="10233" y="504"/>
                  <a:pt x="10233" y="504"/>
                </a:cubicBezTo>
                <a:cubicBezTo>
                  <a:pt x="10233" y="528"/>
                  <a:pt x="10233" y="528"/>
                  <a:pt x="10233" y="528"/>
                </a:cubicBezTo>
                <a:cubicBezTo>
                  <a:pt x="10245" y="534"/>
                  <a:pt x="10250" y="534"/>
                  <a:pt x="10256" y="540"/>
                </a:cubicBezTo>
                <a:cubicBezTo>
                  <a:pt x="10268" y="540"/>
                  <a:pt x="10268" y="552"/>
                  <a:pt x="10280" y="552"/>
                </a:cubicBezTo>
                <a:cubicBezTo>
                  <a:pt x="10339" y="552"/>
                  <a:pt x="10339" y="552"/>
                  <a:pt x="10339" y="552"/>
                </a:cubicBezTo>
                <a:cubicBezTo>
                  <a:pt x="10345" y="552"/>
                  <a:pt x="10351" y="545"/>
                  <a:pt x="10351" y="545"/>
                </a:cubicBezTo>
                <a:cubicBezTo>
                  <a:pt x="10363" y="545"/>
                  <a:pt x="10369" y="545"/>
                  <a:pt x="10375" y="552"/>
                </a:cubicBezTo>
                <a:cubicBezTo>
                  <a:pt x="10381" y="552"/>
                  <a:pt x="10381" y="557"/>
                  <a:pt x="10387" y="563"/>
                </a:cubicBezTo>
                <a:cubicBezTo>
                  <a:pt x="10387" y="563"/>
                  <a:pt x="10393" y="563"/>
                  <a:pt x="10399" y="569"/>
                </a:cubicBezTo>
                <a:cubicBezTo>
                  <a:pt x="10404" y="569"/>
                  <a:pt x="10404" y="569"/>
                  <a:pt x="10411" y="569"/>
                </a:cubicBezTo>
                <a:cubicBezTo>
                  <a:pt x="10416" y="569"/>
                  <a:pt x="10422" y="569"/>
                  <a:pt x="10428" y="569"/>
                </a:cubicBezTo>
                <a:cubicBezTo>
                  <a:pt x="10440" y="569"/>
                  <a:pt x="10446" y="569"/>
                  <a:pt x="10458" y="569"/>
                </a:cubicBezTo>
                <a:cubicBezTo>
                  <a:pt x="10464" y="563"/>
                  <a:pt x="10464" y="563"/>
                  <a:pt x="10470" y="563"/>
                </a:cubicBezTo>
                <a:cubicBezTo>
                  <a:pt x="10476" y="557"/>
                  <a:pt x="10476" y="557"/>
                  <a:pt x="10482" y="552"/>
                </a:cubicBezTo>
                <a:cubicBezTo>
                  <a:pt x="10488" y="552"/>
                  <a:pt x="10488" y="540"/>
                  <a:pt x="10493" y="540"/>
                </a:cubicBezTo>
                <a:cubicBezTo>
                  <a:pt x="10511" y="540"/>
                  <a:pt x="10517" y="552"/>
                  <a:pt x="10529" y="552"/>
                </a:cubicBezTo>
                <a:cubicBezTo>
                  <a:pt x="10541" y="552"/>
                  <a:pt x="10553" y="552"/>
                  <a:pt x="10559" y="545"/>
                </a:cubicBezTo>
                <a:cubicBezTo>
                  <a:pt x="10565" y="540"/>
                  <a:pt x="10570" y="540"/>
                  <a:pt x="10570" y="540"/>
                </a:cubicBezTo>
                <a:cubicBezTo>
                  <a:pt x="10577" y="534"/>
                  <a:pt x="10570" y="522"/>
                  <a:pt x="10570" y="516"/>
                </a:cubicBezTo>
                <a:cubicBezTo>
                  <a:pt x="10577" y="504"/>
                  <a:pt x="10577" y="498"/>
                  <a:pt x="10588" y="498"/>
                </a:cubicBezTo>
                <a:cubicBezTo>
                  <a:pt x="10594" y="498"/>
                  <a:pt x="10594" y="498"/>
                  <a:pt x="10600" y="498"/>
                </a:cubicBezTo>
                <a:cubicBezTo>
                  <a:pt x="10606" y="498"/>
                  <a:pt x="10606" y="498"/>
                  <a:pt x="10612" y="492"/>
                </a:cubicBezTo>
                <a:cubicBezTo>
                  <a:pt x="10618" y="492"/>
                  <a:pt x="10618" y="486"/>
                  <a:pt x="10624" y="486"/>
                </a:cubicBezTo>
                <a:cubicBezTo>
                  <a:pt x="10636" y="480"/>
                  <a:pt x="10636" y="480"/>
                  <a:pt x="10636" y="480"/>
                </a:cubicBezTo>
                <a:cubicBezTo>
                  <a:pt x="10630" y="474"/>
                  <a:pt x="10624" y="463"/>
                  <a:pt x="10618" y="463"/>
                </a:cubicBezTo>
                <a:cubicBezTo>
                  <a:pt x="10606" y="457"/>
                  <a:pt x="10600" y="457"/>
                  <a:pt x="10594" y="457"/>
                </a:cubicBezTo>
                <a:cubicBezTo>
                  <a:pt x="10588" y="457"/>
                  <a:pt x="10582" y="457"/>
                  <a:pt x="10577" y="457"/>
                </a:cubicBezTo>
                <a:cubicBezTo>
                  <a:pt x="10570" y="457"/>
                  <a:pt x="10565" y="468"/>
                  <a:pt x="10559" y="468"/>
                </a:cubicBezTo>
                <a:cubicBezTo>
                  <a:pt x="10535" y="468"/>
                  <a:pt x="10535" y="468"/>
                  <a:pt x="10535" y="468"/>
                </a:cubicBezTo>
                <a:cubicBezTo>
                  <a:pt x="10535" y="463"/>
                  <a:pt x="10535" y="457"/>
                  <a:pt x="10535" y="451"/>
                </a:cubicBezTo>
                <a:cubicBezTo>
                  <a:pt x="10535" y="445"/>
                  <a:pt x="10529" y="445"/>
                  <a:pt x="10529" y="439"/>
                </a:cubicBezTo>
                <a:cubicBezTo>
                  <a:pt x="10523" y="433"/>
                  <a:pt x="10517" y="433"/>
                  <a:pt x="10511" y="427"/>
                </a:cubicBezTo>
                <a:cubicBezTo>
                  <a:pt x="10511" y="427"/>
                  <a:pt x="10505" y="421"/>
                  <a:pt x="10505" y="415"/>
                </a:cubicBezTo>
                <a:cubicBezTo>
                  <a:pt x="10499" y="421"/>
                  <a:pt x="10499" y="421"/>
                  <a:pt x="10493" y="421"/>
                </a:cubicBezTo>
                <a:cubicBezTo>
                  <a:pt x="10488" y="421"/>
                  <a:pt x="10488" y="427"/>
                  <a:pt x="10488" y="433"/>
                </a:cubicBezTo>
                <a:cubicBezTo>
                  <a:pt x="10482" y="433"/>
                  <a:pt x="10476" y="439"/>
                  <a:pt x="10476" y="445"/>
                </a:cubicBezTo>
                <a:cubicBezTo>
                  <a:pt x="10464" y="451"/>
                  <a:pt x="10458" y="457"/>
                  <a:pt x="10446" y="457"/>
                </a:cubicBezTo>
                <a:cubicBezTo>
                  <a:pt x="10446" y="457"/>
                  <a:pt x="10440" y="463"/>
                  <a:pt x="10434" y="463"/>
                </a:cubicBezTo>
                <a:cubicBezTo>
                  <a:pt x="10428" y="463"/>
                  <a:pt x="10428" y="457"/>
                  <a:pt x="10422" y="451"/>
                </a:cubicBezTo>
                <a:cubicBezTo>
                  <a:pt x="10446" y="427"/>
                  <a:pt x="10446" y="427"/>
                  <a:pt x="10446" y="427"/>
                </a:cubicBezTo>
                <a:cubicBezTo>
                  <a:pt x="10446" y="421"/>
                  <a:pt x="10446" y="421"/>
                  <a:pt x="10446" y="421"/>
                </a:cubicBezTo>
                <a:cubicBezTo>
                  <a:pt x="10446" y="415"/>
                  <a:pt x="10446" y="415"/>
                  <a:pt x="10446" y="409"/>
                </a:cubicBezTo>
                <a:cubicBezTo>
                  <a:pt x="10440" y="409"/>
                  <a:pt x="10440" y="409"/>
                  <a:pt x="10434" y="415"/>
                </a:cubicBezTo>
                <a:cubicBezTo>
                  <a:pt x="10428" y="415"/>
                  <a:pt x="10428" y="421"/>
                  <a:pt x="10422" y="421"/>
                </a:cubicBezTo>
                <a:cubicBezTo>
                  <a:pt x="10416" y="421"/>
                  <a:pt x="10416" y="421"/>
                  <a:pt x="10416" y="421"/>
                </a:cubicBezTo>
                <a:cubicBezTo>
                  <a:pt x="10411" y="427"/>
                  <a:pt x="10411" y="415"/>
                  <a:pt x="10404" y="415"/>
                </a:cubicBezTo>
                <a:cubicBezTo>
                  <a:pt x="10369" y="415"/>
                  <a:pt x="10369" y="415"/>
                  <a:pt x="10369" y="415"/>
                </a:cubicBezTo>
                <a:cubicBezTo>
                  <a:pt x="10369" y="427"/>
                  <a:pt x="10369" y="433"/>
                  <a:pt x="10369" y="445"/>
                </a:cubicBezTo>
                <a:cubicBezTo>
                  <a:pt x="10369" y="457"/>
                  <a:pt x="10369" y="463"/>
                  <a:pt x="10363" y="468"/>
                </a:cubicBezTo>
                <a:cubicBezTo>
                  <a:pt x="10363" y="474"/>
                  <a:pt x="10357" y="474"/>
                  <a:pt x="10357" y="480"/>
                </a:cubicBezTo>
                <a:cubicBezTo>
                  <a:pt x="10345" y="480"/>
                  <a:pt x="10345" y="480"/>
                  <a:pt x="10345" y="480"/>
                </a:cubicBezTo>
                <a:cubicBezTo>
                  <a:pt x="10345" y="463"/>
                  <a:pt x="10345" y="457"/>
                  <a:pt x="10339" y="445"/>
                </a:cubicBezTo>
                <a:cubicBezTo>
                  <a:pt x="10339" y="439"/>
                  <a:pt x="10333" y="439"/>
                  <a:pt x="10327" y="433"/>
                </a:cubicBezTo>
                <a:cubicBezTo>
                  <a:pt x="10327" y="433"/>
                  <a:pt x="10322" y="433"/>
                  <a:pt x="10316" y="427"/>
                </a:cubicBezTo>
                <a:cubicBezTo>
                  <a:pt x="10310" y="427"/>
                  <a:pt x="10310" y="427"/>
                  <a:pt x="10304" y="427"/>
                </a:cubicBezTo>
                <a:cubicBezTo>
                  <a:pt x="10268" y="427"/>
                  <a:pt x="10250" y="421"/>
                  <a:pt x="10209" y="421"/>
                </a:cubicBezTo>
                <a:cubicBezTo>
                  <a:pt x="10209" y="421"/>
                  <a:pt x="10203" y="427"/>
                  <a:pt x="10197" y="427"/>
                </a:cubicBezTo>
                <a:lnTo>
                  <a:pt x="10191" y="427"/>
                </a:lnTo>
                <a:cubicBezTo>
                  <a:pt x="10179" y="433"/>
                  <a:pt x="10173" y="439"/>
                  <a:pt x="10173" y="445"/>
                </a:cubicBezTo>
                <a:cubicBezTo>
                  <a:pt x="10173" y="457"/>
                  <a:pt x="10173" y="463"/>
                  <a:pt x="10179" y="468"/>
                </a:cubicBezTo>
                <a:close/>
                <a:moveTo>
                  <a:pt x="10061" y="682"/>
                </a:moveTo>
                <a:lnTo>
                  <a:pt x="10061" y="682"/>
                </a:lnTo>
                <a:cubicBezTo>
                  <a:pt x="10061" y="688"/>
                  <a:pt x="10067" y="688"/>
                  <a:pt x="10067" y="688"/>
                </a:cubicBezTo>
                <a:cubicBezTo>
                  <a:pt x="10067" y="688"/>
                  <a:pt x="10067" y="700"/>
                  <a:pt x="10061" y="700"/>
                </a:cubicBezTo>
                <a:cubicBezTo>
                  <a:pt x="10055" y="700"/>
                  <a:pt x="10049" y="694"/>
                  <a:pt x="10037" y="694"/>
                </a:cubicBezTo>
                <a:cubicBezTo>
                  <a:pt x="10025" y="694"/>
                  <a:pt x="10025" y="694"/>
                  <a:pt x="10025" y="694"/>
                </a:cubicBezTo>
                <a:cubicBezTo>
                  <a:pt x="10019" y="694"/>
                  <a:pt x="10013" y="694"/>
                  <a:pt x="10013" y="694"/>
                </a:cubicBezTo>
                <a:cubicBezTo>
                  <a:pt x="10001" y="694"/>
                  <a:pt x="9995" y="688"/>
                  <a:pt x="9990" y="694"/>
                </a:cubicBezTo>
                <a:cubicBezTo>
                  <a:pt x="9983" y="694"/>
                  <a:pt x="9983" y="694"/>
                  <a:pt x="9978" y="700"/>
                </a:cubicBezTo>
                <a:cubicBezTo>
                  <a:pt x="9972" y="700"/>
                  <a:pt x="9972" y="706"/>
                  <a:pt x="9966" y="706"/>
                </a:cubicBezTo>
                <a:cubicBezTo>
                  <a:pt x="9954" y="706"/>
                  <a:pt x="9942" y="700"/>
                  <a:pt x="9930" y="706"/>
                </a:cubicBezTo>
                <a:cubicBezTo>
                  <a:pt x="9912" y="706"/>
                  <a:pt x="9906" y="706"/>
                  <a:pt x="9895" y="718"/>
                </a:cubicBezTo>
                <a:cubicBezTo>
                  <a:pt x="9889" y="718"/>
                  <a:pt x="9889" y="723"/>
                  <a:pt x="9889" y="729"/>
                </a:cubicBezTo>
                <a:cubicBezTo>
                  <a:pt x="9889" y="753"/>
                  <a:pt x="9889" y="753"/>
                  <a:pt x="9889" y="753"/>
                </a:cubicBezTo>
                <a:cubicBezTo>
                  <a:pt x="9906" y="747"/>
                  <a:pt x="9912" y="747"/>
                  <a:pt x="9924" y="747"/>
                </a:cubicBezTo>
                <a:cubicBezTo>
                  <a:pt x="9936" y="747"/>
                  <a:pt x="9936" y="747"/>
                  <a:pt x="9936" y="747"/>
                </a:cubicBezTo>
                <a:cubicBezTo>
                  <a:pt x="9942" y="747"/>
                  <a:pt x="9942" y="747"/>
                  <a:pt x="9948" y="747"/>
                </a:cubicBezTo>
                <a:cubicBezTo>
                  <a:pt x="9954" y="747"/>
                  <a:pt x="9960" y="753"/>
                  <a:pt x="9966" y="753"/>
                </a:cubicBezTo>
                <a:cubicBezTo>
                  <a:pt x="9978" y="753"/>
                  <a:pt x="9990" y="753"/>
                  <a:pt x="9995" y="747"/>
                </a:cubicBezTo>
                <a:cubicBezTo>
                  <a:pt x="10007" y="741"/>
                  <a:pt x="10013" y="735"/>
                  <a:pt x="10019" y="729"/>
                </a:cubicBezTo>
                <a:cubicBezTo>
                  <a:pt x="10025" y="729"/>
                  <a:pt x="10031" y="723"/>
                  <a:pt x="10037" y="723"/>
                </a:cubicBezTo>
                <a:cubicBezTo>
                  <a:pt x="10043" y="723"/>
                  <a:pt x="10043" y="723"/>
                  <a:pt x="10043" y="723"/>
                </a:cubicBezTo>
                <a:cubicBezTo>
                  <a:pt x="10049" y="723"/>
                  <a:pt x="10049" y="723"/>
                  <a:pt x="10055" y="723"/>
                </a:cubicBezTo>
                <a:cubicBezTo>
                  <a:pt x="10061" y="729"/>
                  <a:pt x="10055" y="735"/>
                  <a:pt x="10061" y="735"/>
                </a:cubicBezTo>
                <a:cubicBezTo>
                  <a:pt x="10055" y="741"/>
                  <a:pt x="10055" y="747"/>
                  <a:pt x="10049" y="747"/>
                </a:cubicBezTo>
                <a:cubicBezTo>
                  <a:pt x="10049" y="747"/>
                  <a:pt x="10043" y="747"/>
                  <a:pt x="10037" y="747"/>
                </a:cubicBezTo>
                <a:cubicBezTo>
                  <a:pt x="10037" y="753"/>
                  <a:pt x="10031" y="753"/>
                  <a:pt x="10031" y="753"/>
                </a:cubicBezTo>
                <a:cubicBezTo>
                  <a:pt x="10025" y="753"/>
                  <a:pt x="10025" y="759"/>
                  <a:pt x="10019" y="765"/>
                </a:cubicBezTo>
                <a:cubicBezTo>
                  <a:pt x="10013" y="765"/>
                  <a:pt x="10007" y="771"/>
                  <a:pt x="10001" y="771"/>
                </a:cubicBezTo>
                <a:cubicBezTo>
                  <a:pt x="9995" y="771"/>
                  <a:pt x="9990" y="771"/>
                  <a:pt x="9983" y="771"/>
                </a:cubicBezTo>
                <a:cubicBezTo>
                  <a:pt x="9972" y="771"/>
                  <a:pt x="9960" y="771"/>
                  <a:pt x="9948" y="771"/>
                </a:cubicBezTo>
                <a:cubicBezTo>
                  <a:pt x="9942" y="771"/>
                  <a:pt x="9936" y="771"/>
                  <a:pt x="9936" y="771"/>
                </a:cubicBezTo>
                <a:cubicBezTo>
                  <a:pt x="9930" y="771"/>
                  <a:pt x="9924" y="771"/>
                  <a:pt x="9924" y="777"/>
                </a:cubicBezTo>
                <a:cubicBezTo>
                  <a:pt x="9918" y="777"/>
                  <a:pt x="9912" y="777"/>
                  <a:pt x="9912" y="777"/>
                </a:cubicBezTo>
                <a:cubicBezTo>
                  <a:pt x="9906" y="783"/>
                  <a:pt x="9906" y="783"/>
                  <a:pt x="9906" y="789"/>
                </a:cubicBezTo>
                <a:cubicBezTo>
                  <a:pt x="9906" y="795"/>
                  <a:pt x="9912" y="795"/>
                  <a:pt x="9912" y="800"/>
                </a:cubicBezTo>
                <a:cubicBezTo>
                  <a:pt x="9918" y="812"/>
                  <a:pt x="9924" y="818"/>
                  <a:pt x="9930" y="818"/>
                </a:cubicBezTo>
                <a:cubicBezTo>
                  <a:pt x="9936" y="824"/>
                  <a:pt x="9936" y="818"/>
                  <a:pt x="9942" y="818"/>
                </a:cubicBezTo>
                <a:cubicBezTo>
                  <a:pt x="9954" y="824"/>
                  <a:pt x="9960" y="818"/>
                  <a:pt x="9966" y="818"/>
                </a:cubicBezTo>
                <a:cubicBezTo>
                  <a:pt x="9972" y="818"/>
                  <a:pt x="9972" y="824"/>
                  <a:pt x="9978" y="824"/>
                </a:cubicBezTo>
                <a:cubicBezTo>
                  <a:pt x="9983" y="824"/>
                  <a:pt x="9990" y="830"/>
                  <a:pt x="10001" y="836"/>
                </a:cubicBezTo>
                <a:cubicBezTo>
                  <a:pt x="10001" y="836"/>
                  <a:pt x="10007" y="842"/>
                  <a:pt x="10013" y="842"/>
                </a:cubicBezTo>
                <a:cubicBezTo>
                  <a:pt x="10013" y="848"/>
                  <a:pt x="10013" y="854"/>
                  <a:pt x="10019" y="854"/>
                </a:cubicBezTo>
                <a:cubicBezTo>
                  <a:pt x="10019" y="860"/>
                  <a:pt x="10025" y="860"/>
                  <a:pt x="10025" y="866"/>
                </a:cubicBezTo>
                <a:cubicBezTo>
                  <a:pt x="10031" y="877"/>
                  <a:pt x="10037" y="877"/>
                  <a:pt x="10043" y="889"/>
                </a:cubicBezTo>
                <a:cubicBezTo>
                  <a:pt x="10055" y="884"/>
                  <a:pt x="10055" y="884"/>
                  <a:pt x="10055" y="884"/>
                </a:cubicBezTo>
                <a:lnTo>
                  <a:pt x="10055" y="877"/>
                </a:lnTo>
                <a:cubicBezTo>
                  <a:pt x="10055" y="872"/>
                  <a:pt x="10061" y="866"/>
                  <a:pt x="10061" y="866"/>
                </a:cubicBezTo>
                <a:cubicBezTo>
                  <a:pt x="10067" y="860"/>
                  <a:pt x="10072" y="860"/>
                  <a:pt x="10072" y="860"/>
                </a:cubicBezTo>
                <a:cubicBezTo>
                  <a:pt x="10084" y="854"/>
                  <a:pt x="10090" y="854"/>
                  <a:pt x="10096" y="842"/>
                </a:cubicBezTo>
                <a:cubicBezTo>
                  <a:pt x="10096" y="842"/>
                  <a:pt x="10096" y="836"/>
                  <a:pt x="10102" y="830"/>
                </a:cubicBezTo>
                <a:cubicBezTo>
                  <a:pt x="10102" y="824"/>
                  <a:pt x="10096" y="818"/>
                  <a:pt x="10102" y="806"/>
                </a:cubicBezTo>
                <a:cubicBezTo>
                  <a:pt x="10102" y="800"/>
                  <a:pt x="10102" y="800"/>
                  <a:pt x="10108" y="795"/>
                </a:cubicBezTo>
                <a:cubicBezTo>
                  <a:pt x="10108" y="789"/>
                  <a:pt x="10114" y="789"/>
                  <a:pt x="10114" y="783"/>
                </a:cubicBezTo>
                <a:cubicBezTo>
                  <a:pt x="10120" y="783"/>
                  <a:pt x="10126" y="777"/>
                  <a:pt x="10126" y="777"/>
                </a:cubicBezTo>
                <a:cubicBezTo>
                  <a:pt x="10138" y="777"/>
                  <a:pt x="10144" y="777"/>
                  <a:pt x="10150" y="777"/>
                </a:cubicBezTo>
                <a:cubicBezTo>
                  <a:pt x="10150" y="723"/>
                  <a:pt x="10150" y="723"/>
                  <a:pt x="10150" y="723"/>
                </a:cubicBezTo>
                <a:cubicBezTo>
                  <a:pt x="10156" y="723"/>
                  <a:pt x="10161" y="723"/>
                  <a:pt x="10173" y="723"/>
                </a:cubicBezTo>
                <a:cubicBezTo>
                  <a:pt x="10179" y="718"/>
                  <a:pt x="10185" y="711"/>
                  <a:pt x="10197" y="706"/>
                </a:cubicBezTo>
                <a:cubicBezTo>
                  <a:pt x="10191" y="700"/>
                  <a:pt x="10185" y="700"/>
                  <a:pt x="10185" y="694"/>
                </a:cubicBezTo>
                <a:cubicBezTo>
                  <a:pt x="10185" y="688"/>
                  <a:pt x="10185" y="688"/>
                  <a:pt x="10185" y="682"/>
                </a:cubicBezTo>
                <a:cubicBezTo>
                  <a:pt x="10185" y="682"/>
                  <a:pt x="10185" y="676"/>
                  <a:pt x="10185" y="670"/>
                </a:cubicBezTo>
                <a:cubicBezTo>
                  <a:pt x="10185" y="670"/>
                  <a:pt x="10191" y="664"/>
                  <a:pt x="10191" y="658"/>
                </a:cubicBezTo>
                <a:cubicBezTo>
                  <a:pt x="10191" y="658"/>
                  <a:pt x="10185" y="652"/>
                  <a:pt x="10185" y="646"/>
                </a:cubicBezTo>
                <a:cubicBezTo>
                  <a:pt x="10268" y="646"/>
                  <a:pt x="10268" y="646"/>
                  <a:pt x="10268" y="646"/>
                </a:cubicBezTo>
                <a:cubicBezTo>
                  <a:pt x="10268" y="652"/>
                  <a:pt x="10268" y="658"/>
                  <a:pt x="10268" y="664"/>
                </a:cubicBezTo>
                <a:cubicBezTo>
                  <a:pt x="10268" y="670"/>
                  <a:pt x="10262" y="676"/>
                  <a:pt x="10262" y="688"/>
                </a:cubicBezTo>
                <a:cubicBezTo>
                  <a:pt x="10262" y="694"/>
                  <a:pt x="10262" y="694"/>
                  <a:pt x="10262" y="700"/>
                </a:cubicBezTo>
                <a:cubicBezTo>
                  <a:pt x="10268" y="700"/>
                  <a:pt x="10274" y="700"/>
                  <a:pt x="10286" y="700"/>
                </a:cubicBezTo>
                <a:cubicBezTo>
                  <a:pt x="10292" y="700"/>
                  <a:pt x="10298" y="700"/>
                  <a:pt x="10298" y="706"/>
                </a:cubicBezTo>
                <a:cubicBezTo>
                  <a:pt x="10304" y="706"/>
                  <a:pt x="10310" y="706"/>
                  <a:pt x="10310" y="711"/>
                </a:cubicBezTo>
                <a:cubicBezTo>
                  <a:pt x="10310" y="718"/>
                  <a:pt x="10310" y="718"/>
                  <a:pt x="10310" y="723"/>
                </a:cubicBezTo>
                <a:cubicBezTo>
                  <a:pt x="10310" y="729"/>
                  <a:pt x="10310" y="741"/>
                  <a:pt x="10310" y="747"/>
                </a:cubicBezTo>
                <a:cubicBezTo>
                  <a:pt x="10304" y="753"/>
                  <a:pt x="10298" y="747"/>
                  <a:pt x="10298" y="753"/>
                </a:cubicBezTo>
                <a:cubicBezTo>
                  <a:pt x="10286" y="759"/>
                  <a:pt x="10280" y="765"/>
                  <a:pt x="10280" y="777"/>
                </a:cubicBezTo>
                <a:cubicBezTo>
                  <a:pt x="10280" y="783"/>
                  <a:pt x="10280" y="789"/>
                  <a:pt x="10280" y="795"/>
                </a:cubicBezTo>
                <a:cubicBezTo>
                  <a:pt x="10310" y="795"/>
                  <a:pt x="10310" y="795"/>
                  <a:pt x="10310" y="795"/>
                </a:cubicBezTo>
                <a:cubicBezTo>
                  <a:pt x="10322" y="795"/>
                  <a:pt x="10327" y="783"/>
                  <a:pt x="10345" y="771"/>
                </a:cubicBezTo>
                <a:cubicBezTo>
                  <a:pt x="10351" y="765"/>
                  <a:pt x="10357" y="759"/>
                  <a:pt x="10363" y="759"/>
                </a:cubicBezTo>
                <a:cubicBezTo>
                  <a:pt x="10369" y="759"/>
                  <a:pt x="10375" y="765"/>
                  <a:pt x="10375" y="771"/>
                </a:cubicBezTo>
                <a:cubicBezTo>
                  <a:pt x="10381" y="771"/>
                  <a:pt x="10375" y="777"/>
                  <a:pt x="10375" y="783"/>
                </a:cubicBezTo>
                <a:cubicBezTo>
                  <a:pt x="10375" y="789"/>
                  <a:pt x="10375" y="795"/>
                  <a:pt x="10375" y="800"/>
                </a:cubicBezTo>
                <a:cubicBezTo>
                  <a:pt x="10411" y="800"/>
                  <a:pt x="10411" y="800"/>
                  <a:pt x="10411" y="800"/>
                </a:cubicBezTo>
                <a:cubicBezTo>
                  <a:pt x="10411" y="800"/>
                  <a:pt x="10416" y="800"/>
                  <a:pt x="10422" y="800"/>
                </a:cubicBezTo>
                <a:cubicBezTo>
                  <a:pt x="10422" y="795"/>
                  <a:pt x="10422" y="789"/>
                  <a:pt x="10422" y="789"/>
                </a:cubicBezTo>
                <a:cubicBezTo>
                  <a:pt x="10422" y="783"/>
                  <a:pt x="10428" y="777"/>
                  <a:pt x="10428" y="777"/>
                </a:cubicBezTo>
                <a:cubicBezTo>
                  <a:pt x="10493" y="777"/>
                  <a:pt x="10493" y="777"/>
                  <a:pt x="10493" y="777"/>
                </a:cubicBezTo>
                <a:cubicBezTo>
                  <a:pt x="10517" y="771"/>
                  <a:pt x="10517" y="771"/>
                  <a:pt x="10517" y="771"/>
                </a:cubicBezTo>
                <a:cubicBezTo>
                  <a:pt x="10517" y="759"/>
                  <a:pt x="10517" y="759"/>
                  <a:pt x="10517" y="759"/>
                </a:cubicBezTo>
                <a:cubicBezTo>
                  <a:pt x="10511" y="747"/>
                  <a:pt x="10505" y="735"/>
                  <a:pt x="10488" y="735"/>
                </a:cubicBezTo>
                <a:cubicBezTo>
                  <a:pt x="10482" y="735"/>
                  <a:pt x="10482" y="735"/>
                  <a:pt x="10476" y="735"/>
                </a:cubicBezTo>
                <a:cubicBezTo>
                  <a:pt x="10464" y="735"/>
                  <a:pt x="10458" y="735"/>
                  <a:pt x="10452" y="735"/>
                </a:cubicBezTo>
                <a:cubicBezTo>
                  <a:pt x="10446" y="723"/>
                  <a:pt x="10446" y="718"/>
                  <a:pt x="10446" y="711"/>
                </a:cubicBezTo>
                <a:cubicBezTo>
                  <a:pt x="10446" y="706"/>
                  <a:pt x="10452" y="700"/>
                  <a:pt x="10452" y="700"/>
                </a:cubicBezTo>
                <a:cubicBezTo>
                  <a:pt x="10375" y="700"/>
                  <a:pt x="10375" y="700"/>
                  <a:pt x="10375" y="700"/>
                </a:cubicBezTo>
                <a:cubicBezTo>
                  <a:pt x="10375" y="682"/>
                  <a:pt x="10381" y="664"/>
                  <a:pt x="10369" y="652"/>
                </a:cubicBezTo>
                <a:cubicBezTo>
                  <a:pt x="10363" y="652"/>
                  <a:pt x="10363" y="652"/>
                  <a:pt x="10357" y="652"/>
                </a:cubicBezTo>
                <a:cubicBezTo>
                  <a:pt x="10351" y="652"/>
                  <a:pt x="10351" y="646"/>
                  <a:pt x="10345" y="646"/>
                </a:cubicBezTo>
                <a:cubicBezTo>
                  <a:pt x="10345" y="646"/>
                  <a:pt x="10339" y="640"/>
                  <a:pt x="10339" y="634"/>
                </a:cubicBezTo>
                <a:lnTo>
                  <a:pt x="10339" y="623"/>
                </a:lnTo>
                <a:cubicBezTo>
                  <a:pt x="10327" y="617"/>
                  <a:pt x="10322" y="617"/>
                  <a:pt x="10310" y="617"/>
                </a:cubicBezTo>
                <a:cubicBezTo>
                  <a:pt x="10310" y="617"/>
                  <a:pt x="10304" y="617"/>
                  <a:pt x="10298" y="617"/>
                </a:cubicBezTo>
                <a:cubicBezTo>
                  <a:pt x="10292" y="617"/>
                  <a:pt x="10292" y="611"/>
                  <a:pt x="10286" y="611"/>
                </a:cubicBezTo>
                <a:cubicBezTo>
                  <a:pt x="10280" y="605"/>
                  <a:pt x="10286" y="593"/>
                  <a:pt x="10274" y="587"/>
                </a:cubicBezTo>
                <a:cubicBezTo>
                  <a:pt x="10274" y="587"/>
                  <a:pt x="10268" y="587"/>
                  <a:pt x="10268" y="581"/>
                </a:cubicBezTo>
                <a:cubicBezTo>
                  <a:pt x="10262" y="581"/>
                  <a:pt x="10256" y="581"/>
                  <a:pt x="10256" y="581"/>
                </a:cubicBezTo>
                <a:cubicBezTo>
                  <a:pt x="10250" y="581"/>
                  <a:pt x="10245" y="581"/>
                  <a:pt x="10245" y="581"/>
                </a:cubicBezTo>
                <a:cubicBezTo>
                  <a:pt x="10233" y="587"/>
                  <a:pt x="10233" y="593"/>
                  <a:pt x="10227" y="593"/>
                </a:cubicBezTo>
                <a:cubicBezTo>
                  <a:pt x="10215" y="593"/>
                  <a:pt x="10209" y="593"/>
                  <a:pt x="10203" y="587"/>
                </a:cubicBezTo>
                <a:cubicBezTo>
                  <a:pt x="10197" y="587"/>
                  <a:pt x="10197" y="593"/>
                  <a:pt x="10191" y="587"/>
                </a:cubicBezTo>
                <a:cubicBezTo>
                  <a:pt x="10185" y="587"/>
                  <a:pt x="10185" y="581"/>
                  <a:pt x="10179" y="581"/>
                </a:cubicBezTo>
                <a:cubicBezTo>
                  <a:pt x="10179" y="545"/>
                  <a:pt x="10179" y="545"/>
                  <a:pt x="10179" y="545"/>
                </a:cubicBezTo>
                <a:lnTo>
                  <a:pt x="10185" y="552"/>
                </a:lnTo>
                <a:cubicBezTo>
                  <a:pt x="10179" y="552"/>
                  <a:pt x="10173" y="552"/>
                  <a:pt x="10167" y="552"/>
                </a:cubicBezTo>
                <a:cubicBezTo>
                  <a:pt x="10161" y="552"/>
                  <a:pt x="10156" y="552"/>
                  <a:pt x="10150" y="552"/>
                </a:cubicBezTo>
                <a:cubicBezTo>
                  <a:pt x="10144" y="552"/>
                  <a:pt x="10144" y="552"/>
                  <a:pt x="10138" y="545"/>
                </a:cubicBezTo>
                <a:cubicBezTo>
                  <a:pt x="10138" y="545"/>
                  <a:pt x="10138" y="540"/>
                  <a:pt x="10138" y="534"/>
                </a:cubicBezTo>
                <a:cubicBezTo>
                  <a:pt x="10144" y="528"/>
                  <a:pt x="10156" y="522"/>
                  <a:pt x="10156" y="510"/>
                </a:cubicBezTo>
                <a:cubicBezTo>
                  <a:pt x="10156" y="510"/>
                  <a:pt x="10156" y="504"/>
                  <a:pt x="10156" y="498"/>
                </a:cubicBezTo>
                <a:cubicBezTo>
                  <a:pt x="10055" y="486"/>
                  <a:pt x="10055" y="486"/>
                  <a:pt x="10055" y="486"/>
                </a:cubicBezTo>
                <a:cubicBezTo>
                  <a:pt x="10055" y="486"/>
                  <a:pt x="10049" y="480"/>
                  <a:pt x="10043" y="486"/>
                </a:cubicBezTo>
                <a:cubicBezTo>
                  <a:pt x="10037" y="486"/>
                  <a:pt x="10037" y="492"/>
                  <a:pt x="10037" y="492"/>
                </a:cubicBezTo>
                <a:cubicBezTo>
                  <a:pt x="10031" y="504"/>
                  <a:pt x="10031" y="510"/>
                  <a:pt x="10031" y="516"/>
                </a:cubicBezTo>
                <a:cubicBezTo>
                  <a:pt x="10031" y="528"/>
                  <a:pt x="10031" y="528"/>
                  <a:pt x="10031" y="528"/>
                </a:cubicBezTo>
                <a:cubicBezTo>
                  <a:pt x="10031" y="534"/>
                  <a:pt x="10031" y="540"/>
                  <a:pt x="10031" y="540"/>
                </a:cubicBezTo>
                <a:cubicBezTo>
                  <a:pt x="10031" y="545"/>
                  <a:pt x="10037" y="552"/>
                  <a:pt x="10037" y="557"/>
                </a:cubicBezTo>
                <a:cubicBezTo>
                  <a:pt x="10037" y="569"/>
                  <a:pt x="10037" y="569"/>
                  <a:pt x="10031" y="575"/>
                </a:cubicBezTo>
                <a:cubicBezTo>
                  <a:pt x="10025" y="581"/>
                  <a:pt x="10019" y="587"/>
                  <a:pt x="10013" y="587"/>
                </a:cubicBezTo>
                <a:cubicBezTo>
                  <a:pt x="10007" y="587"/>
                  <a:pt x="10001" y="587"/>
                  <a:pt x="9995" y="581"/>
                </a:cubicBezTo>
                <a:cubicBezTo>
                  <a:pt x="9990" y="575"/>
                  <a:pt x="9990" y="563"/>
                  <a:pt x="9990" y="557"/>
                </a:cubicBezTo>
                <a:cubicBezTo>
                  <a:pt x="9990" y="545"/>
                  <a:pt x="9990" y="545"/>
                  <a:pt x="9990" y="545"/>
                </a:cubicBezTo>
                <a:cubicBezTo>
                  <a:pt x="9990" y="540"/>
                  <a:pt x="9983" y="534"/>
                  <a:pt x="9983" y="534"/>
                </a:cubicBezTo>
                <a:cubicBezTo>
                  <a:pt x="9983" y="522"/>
                  <a:pt x="9983" y="522"/>
                  <a:pt x="9983" y="522"/>
                </a:cubicBezTo>
                <a:cubicBezTo>
                  <a:pt x="9983" y="510"/>
                  <a:pt x="9983" y="510"/>
                  <a:pt x="9983" y="498"/>
                </a:cubicBezTo>
                <a:cubicBezTo>
                  <a:pt x="9960" y="498"/>
                  <a:pt x="9960" y="498"/>
                  <a:pt x="9960" y="498"/>
                </a:cubicBezTo>
                <a:cubicBezTo>
                  <a:pt x="9954" y="504"/>
                  <a:pt x="9942" y="504"/>
                  <a:pt x="9936" y="510"/>
                </a:cubicBezTo>
                <a:cubicBezTo>
                  <a:pt x="9936" y="510"/>
                  <a:pt x="9936" y="516"/>
                  <a:pt x="9930" y="522"/>
                </a:cubicBezTo>
                <a:cubicBezTo>
                  <a:pt x="9930" y="522"/>
                  <a:pt x="9924" y="528"/>
                  <a:pt x="9918" y="528"/>
                </a:cubicBezTo>
                <a:cubicBezTo>
                  <a:pt x="9918" y="534"/>
                  <a:pt x="9912" y="540"/>
                  <a:pt x="9906" y="540"/>
                </a:cubicBezTo>
                <a:cubicBezTo>
                  <a:pt x="9871" y="540"/>
                  <a:pt x="9871" y="540"/>
                  <a:pt x="9871" y="540"/>
                </a:cubicBezTo>
                <a:cubicBezTo>
                  <a:pt x="9871" y="516"/>
                  <a:pt x="9871" y="516"/>
                  <a:pt x="9871" y="516"/>
                </a:cubicBezTo>
                <a:cubicBezTo>
                  <a:pt x="9877" y="516"/>
                  <a:pt x="9871" y="510"/>
                  <a:pt x="9877" y="504"/>
                </a:cubicBezTo>
                <a:cubicBezTo>
                  <a:pt x="9883" y="504"/>
                  <a:pt x="9883" y="510"/>
                  <a:pt x="9889" y="504"/>
                </a:cubicBezTo>
                <a:cubicBezTo>
                  <a:pt x="9895" y="504"/>
                  <a:pt x="9895" y="498"/>
                  <a:pt x="9901" y="498"/>
                </a:cubicBezTo>
                <a:cubicBezTo>
                  <a:pt x="9895" y="486"/>
                  <a:pt x="9895" y="486"/>
                  <a:pt x="9895" y="486"/>
                </a:cubicBezTo>
                <a:cubicBezTo>
                  <a:pt x="9895" y="486"/>
                  <a:pt x="9889" y="486"/>
                  <a:pt x="9883" y="486"/>
                </a:cubicBezTo>
                <a:lnTo>
                  <a:pt x="9877" y="492"/>
                </a:lnTo>
                <a:cubicBezTo>
                  <a:pt x="9871" y="498"/>
                  <a:pt x="9865" y="498"/>
                  <a:pt x="9865" y="498"/>
                </a:cubicBezTo>
                <a:cubicBezTo>
                  <a:pt x="9859" y="504"/>
                  <a:pt x="9859" y="510"/>
                  <a:pt x="9859" y="510"/>
                </a:cubicBezTo>
                <a:cubicBezTo>
                  <a:pt x="9783" y="510"/>
                  <a:pt x="9783" y="510"/>
                  <a:pt x="9783" y="510"/>
                </a:cubicBezTo>
                <a:cubicBezTo>
                  <a:pt x="9777" y="510"/>
                  <a:pt x="9777" y="516"/>
                  <a:pt x="9771" y="516"/>
                </a:cubicBezTo>
                <a:cubicBezTo>
                  <a:pt x="9765" y="516"/>
                  <a:pt x="9753" y="516"/>
                  <a:pt x="9747" y="516"/>
                </a:cubicBezTo>
                <a:cubicBezTo>
                  <a:pt x="9741" y="516"/>
                  <a:pt x="9741" y="522"/>
                  <a:pt x="9736" y="522"/>
                </a:cubicBezTo>
                <a:cubicBezTo>
                  <a:pt x="9736" y="534"/>
                  <a:pt x="9736" y="540"/>
                  <a:pt x="9736" y="545"/>
                </a:cubicBezTo>
                <a:cubicBezTo>
                  <a:pt x="9741" y="552"/>
                  <a:pt x="9747" y="552"/>
                  <a:pt x="9747" y="557"/>
                </a:cubicBezTo>
                <a:cubicBezTo>
                  <a:pt x="9753" y="563"/>
                  <a:pt x="9753" y="569"/>
                  <a:pt x="9759" y="569"/>
                </a:cubicBezTo>
                <a:cubicBezTo>
                  <a:pt x="9771" y="569"/>
                  <a:pt x="9777" y="569"/>
                  <a:pt x="9795" y="569"/>
                </a:cubicBezTo>
                <a:cubicBezTo>
                  <a:pt x="9795" y="569"/>
                  <a:pt x="9800" y="569"/>
                  <a:pt x="9806" y="569"/>
                </a:cubicBezTo>
                <a:cubicBezTo>
                  <a:pt x="9806" y="575"/>
                  <a:pt x="9806" y="581"/>
                  <a:pt x="9806" y="581"/>
                </a:cubicBezTo>
                <a:cubicBezTo>
                  <a:pt x="9800" y="587"/>
                  <a:pt x="9800" y="593"/>
                  <a:pt x="9800" y="593"/>
                </a:cubicBezTo>
                <a:cubicBezTo>
                  <a:pt x="9800" y="599"/>
                  <a:pt x="9789" y="599"/>
                  <a:pt x="9789" y="605"/>
                </a:cubicBezTo>
                <a:cubicBezTo>
                  <a:pt x="9789" y="611"/>
                  <a:pt x="9789" y="617"/>
                  <a:pt x="9795" y="623"/>
                </a:cubicBezTo>
                <a:cubicBezTo>
                  <a:pt x="9795" y="623"/>
                  <a:pt x="9800" y="623"/>
                  <a:pt x="9806" y="629"/>
                </a:cubicBezTo>
                <a:cubicBezTo>
                  <a:pt x="9806" y="634"/>
                  <a:pt x="9806" y="640"/>
                  <a:pt x="9806" y="646"/>
                </a:cubicBezTo>
                <a:cubicBezTo>
                  <a:pt x="9806" y="652"/>
                  <a:pt x="9806" y="658"/>
                  <a:pt x="9800" y="664"/>
                </a:cubicBezTo>
                <a:cubicBezTo>
                  <a:pt x="9795" y="664"/>
                  <a:pt x="9795" y="664"/>
                  <a:pt x="9789" y="658"/>
                </a:cubicBezTo>
                <a:cubicBezTo>
                  <a:pt x="9789" y="658"/>
                  <a:pt x="9783" y="658"/>
                  <a:pt x="9777" y="652"/>
                </a:cubicBezTo>
                <a:lnTo>
                  <a:pt x="9777" y="646"/>
                </a:lnTo>
                <a:cubicBezTo>
                  <a:pt x="9771" y="640"/>
                  <a:pt x="9771" y="634"/>
                  <a:pt x="9771" y="629"/>
                </a:cubicBezTo>
                <a:cubicBezTo>
                  <a:pt x="9765" y="629"/>
                  <a:pt x="9765" y="623"/>
                  <a:pt x="9759" y="623"/>
                </a:cubicBezTo>
                <a:cubicBezTo>
                  <a:pt x="9753" y="617"/>
                  <a:pt x="9753" y="617"/>
                  <a:pt x="9747" y="617"/>
                </a:cubicBezTo>
                <a:cubicBezTo>
                  <a:pt x="9741" y="611"/>
                  <a:pt x="9741" y="617"/>
                  <a:pt x="9736" y="617"/>
                </a:cubicBezTo>
                <a:cubicBezTo>
                  <a:pt x="9741" y="623"/>
                  <a:pt x="9747" y="629"/>
                  <a:pt x="9747" y="640"/>
                </a:cubicBezTo>
                <a:lnTo>
                  <a:pt x="9747" y="646"/>
                </a:lnTo>
                <a:cubicBezTo>
                  <a:pt x="9747" y="652"/>
                  <a:pt x="9747" y="658"/>
                  <a:pt x="9747" y="658"/>
                </a:cubicBezTo>
                <a:cubicBezTo>
                  <a:pt x="9753" y="664"/>
                  <a:pt x="9759" y="670"/>
                  <a:pt x="9759" y="670"/>
                </a:cubicBezTo>
                <a:cubicBezTo>
                  <a:pt x="9765" y="676"/>
                  <a:pt x="9765" y="682"/>
                  <a:pt x="9771" y="682"/>
                </a:cubicBezTo>
                <a:cubicBezTo>
                  <a:pt x="9783" y="688"/>
                  <a:pt x="9789" y="694"/>
                  <a:pt x="9800" y="694"/>
                </a:cubicBezTo>
                <a:cubicBezTo>
                  <a:pt x="9806" y="694"/>
                  <a:pt x="9806" y="688"/>
                  <a:pt x="9812" y="688"/>
                </a:cubicBezTo>
                <a:cubicBezTo>
                  <a:pt x="9812" y="682"/>
                  <a:pt x="9806" y="676"/>
                  <a:pt x="9806" y="664"/>
                </a:cubicBezTo>
                <a:cubicBezTo>
                  <a:pt x="9806" y="664"/>
                  <a:pt x="9812" y="658"/>
                  <a:pt x="9812" y="652"/>
                </a:cubicBezTo>
                <a:cubicBezTo>
                  <a:pt x="9818" y="658"/>
                  <a:pt x="9829" y="652"/>
                  <a:pt x="9835" y="658"/>
                </a:cubicBezTo>
                <a:cubicBezTo>
                  <a:pt x="9841" y="664"/>
                  <a:pt x="9835" y="676"/>
                  <a:pt x="9841" y="682"/>
                </a:cubicBezTo>
                <a:cubicBezTo>
                  <a:pt x="9847" y="688"/>
                  <a:pt x="9847" y="688"/>
                  <a:pt x="9853" y="688"/>
                </a:cubicBezTo>
                <a:cubicBezTo>
                  <a:pt x="9859" y="694"/>
                  <a:pt x="9859" y="694"/>
                  <a:pt x="9865" y="694"/>
                </a:cubicBezTo>
                <a:cubicBezTo>
                  <a:pt x="9871" y="700"/>
                  <a:pt x="9883" y="694"/>
                  <a:pt x="9889" y="694"/>
                </a:cubicBezTo>
                <a:cubicBezTo>
                  <a:pt x="9901" y="694"/>
                  <a:pt x="9901" y="694"/>
                  <a:pt x="9901" y="694"/>
                </a:cubicBezTo>
                <a:cubicBezTo>
                  <a:pt x="9906" y="694"/>
                  <a:pt x="9906" y="700"/>
                  <a:pt x="9912" y="694"/>
                </a:cubicBezTo>
                <a:cubicBezTo>
                  <a:pt x="9918" y="694"/>
                  <a:pt x="9918" y="688"/>
                  <a:pt x="9918" y="682"/>
                </a:cubicBezTo>
                <a:cubicBezTo>
                  <a:pt x="9924" y="682"/>
                  <a:pt x="9918" y="676"/>
                  <a:pt x="9918" y="670"/>
                </a:cubicBezTo>
                <a:cubicBezTo>
                  <a:pt x="9924" y="670"/>
                  <a:pt x="9924" y="664"/>
                  <a:pt x="9930" y="658"/>
                </a:cubicBezTo>
                <a:cubicBezTo>
                  <a:pt x="9930" y="658"/>
                  <a:pt x="9936" y="664"/>
                  <a:pt x="9942" y="658"/>
                </a:cubicBezTo>
                <a:cubicBezTo>
                  <a:pt x="9942" y="658"/>
                  <a:pt x="9948" y="658"/>
                  <a:pt x="9954" y="652"/>
                </a:cubicBezTo>
                <a:cubicBezTo>
                  <a:pt x="9948" y="652"/>
                  <a:pt x="9948" y="646"/>
                  <a:pt x="9948" y="646"/>
                </a:cubicBezTo>
                <a:cubicBezTo>
                  <a:pt x="9948" y="629"/>
                  <a:pt x="9948" y="629"/>
                  <a:pt x="9948" y="629"/>
                </a:cubicBezTo>
                <a:cubicBezTo>
                  <a:pt x="9972" y="623"/>
                  <a:pt x="9972" y="623"/>
                  <a:pt x="9972" y="623"/>
                </a:cubicBezTo>
                <a:cubicBezTo>
                  <a:pt x="9972" y="629"/>
                  <a:pt x="9983" y="629"/>
                  <a:pt x="9983" y="634"/>
                </a:cubicBezTo>
                <a:cubicBezTo>
                  <a:pt x="9983" y="634"/>
                  <a:pt x="9983" y="640"/>
                  <a:pt x="9983" y="646"/>
                </a:cubicBezTo>
                <a:cubicBezTo>
                  <a:pt x="9983" y="652"/>
                  <a:pt x="9983" y="658"/>
                  <a:pt x="9983" y="664"/>
                </a:cubicBezTo>
                <a:cubicBezTo>
                  <a:pt x="10031" y="664"/>
                  <a:pt x="10031" y="664"/>
                  <a:pt x="10031" y="664"/>
                </a:cubicBezTo>
                <a:cubicBezTo>
                  <a:pt x="10049" y="646"/>
                  <a:pt x="10049" y="646"/>
                  <a:pt x="10049" y="646"/>
                </a:cubicBezTo>
                <a:cubicBezTo>
                  <a:pt x="10061" y="658"/>
                  <a:pt x="10061" y="658"/>
                  <a:pt x="10061" y="658"/>
                </a:cubicBezTo>
                <a:cubicBezTo>
                  <a:pt x="10061" y="670"/>
                  <a:pt x="10061" y="676"/>
                  <a:pt x="10061" y="682"/>
                </a:cubicBezTo>
                <a:close/>
                <a:moveTo>
                  <a:pt x="17122" y="2532"/>
                </a:moveTo>
                <a:lnTo>
                  <a:pt x="17122" y="2532"/>
                </a:lnTo>
                <a:cubicBezTo>
                  <a:pt x="17134" y="2532"/>
                  <a:pt x="17134" y="2532"/>
                  <a:pt x="17140" y="2526"/>
                </a:cubicBezTo>
                <a:cubicBezTo>
                  <a:pt x="17146" y="2526"/>
                  <a:pt x="17152" y="2520"/>
                  <a:pt x="17152" y="2520"/>
                </a:cubicBezTo>
                <a:cubicBezTo>
                  <a:pt x="17294" y="2520"/>
                  <a:pt x="17294" y="2520"/>
                  <a:pt x="17294" y="2520"/>
                </a:cubicBezTo>
                <a:cubicBezTo>
                  <a:pt x="17294" y="2496"/>
                  <a:pt x="17294" y="2496"/>
                  <a:pt x="17294" y="2496"/>
                </a:cubicBezTo>
                <a:cubicBezTo>
                  <a:pt x="17300" y="2490"/>
                  <a:pt x="17294" y="2478"/>
                  <a:pt x="17300" y="2473"/>
                </a:cubicBezTo>
                <a:cubicBezTo>
                  <a:pt x="17306" y="2466"/>
                  <a:pt x="17312" y="2466"/>
                  <a:pt x="17312" y="2466"/>
                </a:cubicBezTo>
                <a:cubicBezTo>
                  <a:pt x="17318" y="2466"/>
                  <a:pt x="17324" y="2473"/>
                  <a:pt x="17330" y="2478"/>
                </a:cubicBezTo>
                <a:cubicBezTo>
                  <a:pt x="17336" y="2478"/>
                  <a:pt x="17336" y="2484"/>
                  <a:pt x="17348" y="2484"/>
                </a:cubicBezTo>
                <a:cubicBezTo>
                  <a:pt x="17353" y="2484"/>
                  <a:pt x="17359" y="2478"/>
                  <a:pt x="17365" y="2478"/>
                </a:cubicBezTo>
                <a:cubicBezTo>
                  <a:pt x="17377" y="2478"/>
                  <a:pt x="17377" y="2484"/>
                  <a:pt x="17383" y="2484"/>
                </a:cubicBezTo>
                <a:cubicBezTo>
                  <a:pt x="17389" y="2490"/>
                  <a:pt x="17389" y="2496"/>
                  <a:pt x="17395" y="2496"/>
                </a:cubicBezTo>
                <a:cubicBezTo>
                  <a:pt x="17401" y="2496"/>
                  <a:pt x="17407" y="2496"/>
                  <a:pt x="17407" y="2496"/>
                </a:cubicBezTo>
                <a:cubicBezTo>
                  <a:pt x="17413" y="2502"/>
                  <a:pt x="17413" y="2508"/>
                  <a:pt x="17419" y="2508"/>
                </a:cubicBezTo>
                <a:cubicBezTo>
                  <a:pt x="17419" y="2514"/>
                  <a:pt x="17419" y="2514"/>
                  <a:pt x="17419" y="2520"/>
                </a:cubicBezTo>
                <a:cubicBezTo>
                  <a:pt x="17413" y="2526"/>
                  <a:pt x="17407" y="2526"/>
                  <a:pt x="17407" y="2532"/>
                </a:cubicBezTo>
                <a:cubicBezTo>
                  <a:pt x="17407" y="2538"/>
                  <a:pt x="17407" y="2544"/>
                  <a:pt x="17413" y="2550"/>
                </a:cubicBezTo>
                <a:cubicBezTo>
                  <a:pt x="17413" y="2555"/>
                  <a:pt x="17419" y="2555"/>
                  <a:pt x="17425" y="2555"/>
                </a:cubicBezTo>
                <a:cubicBezTo>
                  <a:pt x="17478" y="2555"/>
                  <a:pt x="17478" y="2555"/>
                  <a:pt x="17478" y="2555"/>
                </a:cubicBezTo>
                <a:cubicBezTo>
                  <a:pt x="17490" y="2555"/>
                  <a:pt x="17496" y="2544"/>
                  <a:pt x="17502" y="2538"/>
                </a:cubicBezTo>
                <a:cubicBezTo>
                  <a:pt x="17508" y="2532"/>
                  <a:pt x="17508" y="2532"/>
                  <a:pt x="17508" y="2526"/>
                </a:cubicBezTo>
                <a:cubicBezTo>
                  <a:pt x="17514" y="2520"/>
                  <a:pt x="17514" y="2514"/>
                  <a:pt x="17519" y="2514"/>
                </a:cubicBezTo>
                <a:cubicBezTo>
                  <a:pt x="17537" y="2514"/>
                  <a:pt x="17537" y="2526"/>
                  <a:pt x="17549" y="2538"/>
                </a:cubicBezTo>
                <a:cubicBezTo>
                  <a:pt x="17555" y="2544"/>
                  <a:pt x="17561" y="2544"/>
                  <a:pt x="17561" y="2550"/>
                </a:cubicBezTo>
                <a:cubicBezTo>
                  <a:pt x="17561" y="2544"/>
                  <a:pt x="17561" y="2538"/>
                  <a:pt x="17561" y="2538"/>
                </a:cubicBezTo>
                <a:cubicBezTo>
                  <a:pt x="17561" y="2532"/>
                  <a:pt x="17567" y="2532"/>
                  <a:pt x="17567" y="2526"/>
                </a:cubicBezTo>
                <a:cubicBezTo>
                  <a:pt x="17573" y="2526"/>
                  <a:pt x="17573" y="2526"/>
                  <a:pt x="17579" y="2526"/>
                </a:cubicBezTo>
                <a:cubicBezTo>
                  <a:pt x="17585" y="2532"/>
                  <a:pt x="17585" y="2538"/>
                  <a:pt x="17591" y="2538"/>
                </a:cubicBezTo>
                <a:cubicBezTo>
                  <a:pt x="17626" y="2538"/>
                  <a:pt x="17626" y="2538"/>
                  <a:pt x="17626" y="2538"/>
                </a:cubicBezTo>
                <a:cubicBezTo>
                  <a:pt x="17626" y="2532"/>
                  <a:pt x="17626" y="2526"/>
                  <a:pt x="17626" y="2526"/>
                </a:cubicBezTo>
                <a:cubicBezTo>
                  <a:pt x="17620" y="2520"/>
                  <a:pt x="17620" y="2520"/>
                  <a:pt x="17614" y="2514"/>
                </a:cubicBezTo>
                <a:cubicBezTo>
                  <a:pt x="17614" y="2508"/>
                  <a:pt x="17614" y="2508"/>
                  <a:pt x="17614" y="2502"/>
                </a:cubicBezTo>
                <a:cubicBezTo>
                  <a:pt x="17603" y="2502"/>
                  <a:pt x="17597" y="2502"/>
                  <a:pt x="17591" y="2502"/>
                </a:cubicBezTo>
                <a:cubicBezTo>
                  <a:pt x="17585" y="2502"/>
                  <a:pt x="17585" y="2502"/>
                  <a:pt x="17579" y="2502"/>
                </a:cubicBezTo>
                <a:cubicBezTo>
                  <a:pt x="17579" y="2473"/>
                  <a:pt x="17579" y="2473"/>
                  <a:pt x="17579" y="2473"/>
                </a:cubicBezTo>
                <a:cubicBezTo>
                  <a:pt x="17579" y="2461"/>
                  <a:pt x="17591" y="2461"/>
                  <a:pt x="17597" y="2455"/>
                </a:cubicBezTo>
                <a:cubicBezTo>
                  <a:pt x="17603" y="2449"/>
                  <a:pt x="17603" y="2455"/>
                  <a:pt x="17608" y="2455"/>
                </a:cubicBezTo>
                <a:cubicBezTo>
                  <a:pt x="17614" y="2449"/>
                  <a:pt x="17614" y="2449"/>
                  <a:pt x="17614" y="2443"/>
                </a:cubicBezTo>
                <a:cubicBezTo>
                  <a:pt x="17620" y="2437"/>
                  <a:pt x="17620" y="2437"/>
                  <a:pt x="17620" y="2431"/>
                </a:cubicBezTo>
                <a:cubicBezTo>
                  <a:pt x="17626" y="2425"/>
                  <a:pt x="17626" y="2425"/>
                  <a:pt x="17632" y="2419"/>
                </a:cubicBezTo>
                <a:cubicBezTo>
                  <a:pt x="17632" y="2413"/>
                  <a:pt x="17638" y="2413"/>
                  <a:pt x="17638" y="2407"/>
                </a:cubicBezTo>
                <a:cubicBezTo>
                  <a:pt x="17644" y="2401"/>
                  <a:pt x="17644" y="2395"/>
                  <a:pt x="17650" y="2395"/>
                </a:cubicBezTo>
                <a:cubicBezTo>
                  <a:pt x="17656" y="2395"/>
                  <a:pt x="17656" y="2395"/>
                  <a:pt x="17662" y="2395"/>
                </a:cubicBezTo>
                <a:cubicBezTo>
                  <a:pt x="17674" y="2389"/>
                  <a:pt x="17674" y="2389"/>
                  <a:pt x="17674" y="2389"/>
                </a:cubicBezTo>
                <a:cubicBezTo>
                  <a:pt x="17680" y="2389"/>
                  <a:pt x="17680" y="2384"/>
                  <a:pt x="17680" y="2378"/>
                </a:cubicBezTo>
                <a:cubicBezTo>
                  <a:pt x="17691" y="2366"/>
                  <a:pt x="17697" y="2360"/>
                  <a:pt x="17703" y="2348"/>
                </a:cubicBezTo>
                <a:cubicBezTo>
                  <a:pt x="17715" y="2336"/>
                  <a:pt x="17721" y="2324"/>
                  <a:pt x="17739" y="2318"/>
                </a:cubicBezTo>
                <a:cubicBezTo>
                  <a:pt x="17745" y="2307"/>
                  <a:pt x="17751" y="2307"/>
                  <a:pt x="17763" y="2307"/>
                </a:cubicBezTo>
                <a:cubicBezTo>
                  <a:pt x="17769" y="2307"/>
                  <a:pt x="17774" y="2307"/>
                  <a:pt x="17780" y="2307"/>
                </a:cubicBezTo>
                <a:cubicBezTo>
                  <a:pt x="17786" y="2307"/>
                  <a:pt x="17792" y="2312"/>
                  <a:pt x="17798" y="2312"/>
                </a:cubicBezTo>
                <a:cubicBezTo>
                  <a:pt x="17804" y="2312"/>
                  <a:pt x="17804" y="2312"/>
                  <a:pt x="17804" y="2312"/>
                </a:cubicBezTo>
                <a:cubicBezTo>
                  <a:pt x="17810" y="2312"/>
                  <a:pt x="17810" y="2312"/>
                  <a:pt x="17816" y="2307"/>
                </a:cubicBezTo>
                <a:cubicBezTo>
                  <a:pt x="17822" y="2307"/>
                  <a:pt x="17822" y="2295"/>
                  <a:pt x="17828" y="2295"/>
                </a:cubicBezTo>
                <a:cubicBezTo>
                  <a:pt x="17834" y="2295"/>
                  <a:pt x="17834" y="2295"/>
                  <a:pt x="17834" y="2295"/>
                </a:cubicBezTo>
                <a:cubicBezTo>
                  <a:pt x="17840" y="2295"/>
                  <a:pt x="17840" y="2307"/>
                  <a:pt x="17840" y="2307"/>
                </a:cubicBezTo>
                <a:cubicBezTo>
                  <a:pt x="17846" y="2312"/>
                  <a:pt x="17846" y="2318"/>
                  <a:pt x="17851" y="2318"/>
                </a:cubicBezTo>
                <a:cubicBezTo>
                  <a:pt x="17851" y="2318"/>
                  <a:pt x="17858" y="2324"/>
                  <a:pt x="17863" y="2324"/>
                </a:cubicBezTo>
                <a:cubicBezTo>
                  <a:pt x="17863" y="2324"/>
                  <a:pt x="17869" y="2324"/>
                  <a:pt x="17875" y="2324"/>
                </a:cubicBezTo>
                <a:cubicBezTo>
                  <a:pt x="17875" y="2324"/>
                  <a:pt x="17881" y="2330"/>
                  <a:pt x="17887" y="2330"/>
                </a:cubicBezTo>
                <a:cubicBezTo>
                  <a:pt x="17881" y="2336"/>
                  <a:pt x="17875" y="2342"/>
                  <a:pt x="17875" y="2348"/>
                </a:cubicBezTo>
                <a:cubicBezTo>
                  <a:pt x="17875" y="2354"/>
                  <a:pt x="17875" y="2354"/>
                  <a:pt x="17875" y="2354"/>
                </a:cubicBezTo>
                <a:cubicBezTo>
                  <a:pt x="17875" y="2360"/>
                  <a:pt x="17875" y="2360"/>
                  <a:pt x="17881" y="2366"/>
                </a:cubicBezTo>
                <a:cubicBezTo>
                  <a:pt x="17881" y="2366"/>
                  <a:pt x="17887" y="2366"/>
                  <a:pt x="17893" y="2372"/>
                </a:cubicBezTo>
                <a:cubicBezTo>
                  <a:pt x="17893" y="2372"/>
                  <a:pt x="17893" y="2378"/>
                  <a:pt x="17893" y="2384"/>
                </a:cubicBezTo>
                <a:cubicBezTo>
                  <a:pt x="17893" y="2389"/>
                  <a:pt x="17893" y="2395"/>
                  <a:pt x="17893" y="2407"/>
                </a:cubicBezTo>
                <a:cubicBezTo>
                  <a:pt x="17905" y="2407"/>
                  <a:pt x="17905" y="2407"/>
                  <a:pt x="17905" y="2407"/>
                </a:cubicBezTo>
                <a:cubicBezTo>
                  <a:pt x="17911" y="2407"/>
                  <a:pt x="17917" y="2407"/>
                  <a:pt x="17917" y="2401"/>
                </a:cubicBezTo>
                <a:cubicBezTo>
                  <a:pt x="17923" y="2395"/>
                  <a:pt x="17923" y="2395"/>
                  <a:pt x="17929" y="2389"/>
                </a:cubicBezTo>
                <a:cubicBezTo>
                  <a:pt x="17935" y="2384"/>
                  <a:pt x="17940" y="2378"/>
                  <a:pt x="17952" y="2372"/>
                </a:cubicBezTo>
                <a:cubicBezTo>
                  <a:pt x="17958" y="2372"/>
                  <a:pt x="17958" y="2372"/>
                  <a:pt x="17964" y="2372"/>
                </a:cubicBezTo>
                <a:cubicBezTo>
                  <a:pt x="17970" y="2366"/>
                  <a:pt x="17970" y="2366"/>
                  <a:pt x="17976" y="2360"/>
                </a:cubicBezTo>
                <a:cubicBezTo>
                  <a:pt x="17982" y="2360"/>
                  <a:pt x="17982" y="2354"/>
                  <a:pt x="17982" y="2348"/>
                </a:cubicBezTo>
                <a:cubicBezTo>
                  <a:pt x="17988" y="2348"/>
                  <a:pt x="17994" y="2342"/>
                  <a:pt x="17994" y="2342"/>
                </a:cubicBezTo>
                <a:cubicBezTo>
                  <a:pt x="18000" y="2336"/>
                  <a:pt x="18000" y="2330"/>
                  <a:pt x="18006" y="2330"/>
                </a:cubicBezTo>
                <a:cubicBezTo>
                  <a:pt x="18012" y="2324"/>
                  <a:pt x="18017" y="2324"/>
                  <a:pt x="18029" y="2324"/>
                </a:cubicBezTo>
                <a:cubicBezTo>
                  <a:pt x="18029" y="2324"/>
                  <a:pt x="18035" y="2324"/>
                  <a:pt x="18041" y="2324"/>
                </a:cubicBezTo>
                <a:cubicBezTo>
                  <a:pt x="18041" y="2324"/>
                  <a:pt x="18041" y="2318"/>
                  <a:pt x="18047" y="2312"/>
                </a:cubicBezTo>
                <a:cubicBezTo>
                  <a:pt x="18047" y="2312"/>
                  <a:pt x="18047" y="2307"/>
                  <a:pt x="18047" y="2300"/>
                </a:cubicBezTo>
                <a:cubicBezTo>
                  <a:pt x="18053" y="2300"/>
                  <a:pt x="18053" y="2295"/>
                  <a:pt x="18053" y="2289"/>
                </a:cubicBezTo>
                <a:cubicBezTo>
                  <a:pt x="18059" y="2283"/>
                  <a:pt x="18053" y="2277"/>
                  <a:pt x="18053" y="2265"/>
                </a:cubicBezTo>
                <a:cubicBezTo>
                  <a:pt x="18059" y="2259"/>
                  <a:pt x="18059" y="2253"/>
                  <a:pt x="18059" y="2247"/>
                </a:cubicBezTo>
                <a:cubicBezTo>
                  <a:pt x="18071" y="2247"/>
                  <a:pt x="18077" y="2247"/>
                  <a:pt x="18083" y="2247"/>
                </a:cubicBezTo>
                <a:cubicBezTo>
                  <a:pt x="18095" y="2241"/>
                  <a:pt x="18101" y="2235"/>
                  <a:pt x="18106" y="2235"/>
                </a:cubicBezTo>
                <a:cubicBezTo>
                  <a:pt x="18166" y="2235"/>
                  <a:pt x="18166" y="2235"/>
                  <a:pt x="18166" y="2235"/>
                </a:cubicBezTo>
                <a:cubicBezTo>
                  <a:pt x="18166" y="2253"/>
                  <a:pt x="18166" y="2253"/>
                  <a:pt x="18166" y="2253"/>
                </a:cubicBezTo>
                <a:cubicBezTo>
                  <a:pt x="18160" y="2259"/>
                  <a:pt x="18160" y="2259"/>
                  <a:pt x="18154" y="2265"/>
                </a:cubicBezTo>
                <a:cubicBezTo>
                  <a:pt x="18130" y="2271"/>
                  <a:pt x="18130" y="2271"/>
                  <a:pt x="18130" y="2271"/>
                </a:cubicBezTo>
                <a:cubicBezTo>
                  <a:pt x="18124" y="2277"/>
                  <a:pt x="18124" y="2277"/>
                  <a:pt x="18118" y="2277"/>
                </a:cubicBezTo>
                <a:cubicBezTo>
                  <a:pt x="18112" y="2283"/>
                  <a:pt x="18106" y="2283"/>
                  <a:pt x="18106" y="2289"/>
                </a:cubicBezTo>
                <a:cubicBezTo>
                  <a:pt x="18106" y="2295"/>
                  <a:pt x="18101" y="2300"/>
                  <a:pt x="18101" y="2300"/>
                </a:cubicBezTo>
                <a:cubicBezTo>
                  <a:pt x="18101" y="2307"/>
                  <a:pt x="18101" y="2312"/>
                  <a:pt x="18101" y="2312"/>
                </a:cubicBezTo>
                <a:cubicBezTo>
                  <a:pt x="18101" y="2318"/>
                  <a:pt x="18101" y="2324"/>
                  <a:pt x="18101" y="2324"/>
                </a:cubicBezTo>
                <a:cubicBezTo>
                  <a:pt x="18101" y="2330"/>
                  <a:pt x="18095" y="2330"/>
                  <a:pt x="18095" y="2336"/>
                </a:cubicBezTo>
                <a:cubicBezTo>
                  <a:pt x="18095" y="2348"/>
                  <a:pt x="18089" y="2354"/>
                  <a:pt x="18083" y="2360"/>
                </a:cubicBezTo>
                <a:cubicBezTo>
                  <a:pt x="18083" y="2366"/>
                  <a:pt x="18083" y="2372"/>
                  <a:pt x="18083" y="2372"/>
                </a:cubicBezTo>
                <a:cubicBezTo>
                  <a:pt x="18083" y="2378"/>
                  <a:pt x="18083" y="2384"/>
                  <a:pt x="18077" y="2384"/>
                </a:cubicBezTo>
                <a:cubicBezTo>
                  <a:pt x="18077" y="2389"/>
                  <a:pt x="18077" y="2395"/>
                  <a:pt x="18071" y="2395"/>
                </a:cubicBezTo>
                <a:cubicBezTo>
                  <a:pt x="18065" y="2395"/>
                  <a:pt x="18065" y="2395"/>
                  <a:pt x="18059" y="2401"/>
                </a:cubicBezTo>
                <a:cubicBezTo>
                  <a:pt x="18053" y="2401"/>
                  <a:pt x="18047" y="2401"/>
                  <a:pt x="18047" y="2407"/>
                </a:cubicBezTo>
                <a:cubicBezTo>
                  <a:pt x="18041" y="2407"/>
                  <a:pt x="18035" y="2407"/>
                  <a:pt x="18035" y="2407"/>
                </a:cubicBezTo>
                <a:cubicBezTo>
                  <a:pt x="18029" y="2413"/>
                  <a:pt x="18029" y="2413"/>
                  <a:pt x="18029" y="2419"/>
                </a:cubicBezTo>
                <a:cubicBezTo>
                  <a:pt x="18029" y="2425"/>
                  <a:pt x="18029" y="2425"/>
                  <a:pt x="18029" y="2431"/>
                </a:cubicBezTo>
                <a:cubicBezTo>
                  <a:pt x="18024" y="2443"/>
                  <a:pt x="18012" y="2443"/>
                  <a:pt x="18006" y="2449"/>
                </a:cubicBezTo>
                <a:cubicBezTo>
                  <a:pt x="17994" y="2455"/>
                  <a:pt x="17982" y="2466"/>
                  <a:pt x="17970" y="2473"/>
                </a:cubicBezTo>
                <a:cubicBezTo>
                  <a:pt x="17958" y="2484"/>
                  <a:pt x="17946" y="2490"/>
                  <a:pt x="17935" y="2496"/>
                </a:cubicBezTo>
                <a:cubicBezTo>
                  <a:pt x="17917" y="2502"/>
                  <a:pt x="17911" y="2514"/>
                  <a:pt x="17899" y="2520"/>
                </a:cubicBezTo>
                <a:cubicBezTo>
                  <a:pt x="17887" y="2532"/>
                  <a:pt x="17881" y="2544"/>
                  <a:pt x="17869" y="2555"/>
                </a:cubicBezTo>
                <a:cubicBezTo>
                  <a:pt x="17869" y="2561"/>
                  <a:pt x="17863" y="2567"/>
                  <a:pt x="17863" y="2567"/>
                </a:cubicBezTo>
                <a:cubicBezTo>
                  <a:pt x="17851" y="2573"/>
                  <a:pt x="17846" y="2573"/>
                  <a:pt x="17840" y="2579"/>
                </a:cubicBezTo>
                <a:cubicBezTo>
                  <a:pt x="17834" y="2585"/>
                  <a:pt x="17840" y="2591"/>
                  <a:pt x="17834" y="2591"/>
                </a:cubicBezTo>
                <a:cubicBezTo>
                  <a:pt x="17834" y="2597"/>
                  <a:pt x="17828" y="2603"/>
                  <a:pt x="17822" y="2603"/>
                </a:cubicBezTo>
                <a:lnTo>
                  <a:pt x="17816" y="2603"/>
                </a:lnTo>
                <a:cubicBezTo>
                  <a:pt x="17810" y="2603"/>
                  <a:pt x="17804" y="2603"/>
                  <a:pt x="17798" y="2603"/>
                </a:cubicBezTo>
                <a:cubicBezTo>
                  <a:pt x="17792" y="2603"/>
                  <a:pt x="17792" y="2609"/>
                  <a:pt x="17786" y="2609"/>
                </a:cubicBezTo>
                <a:cubicBezTo>
                  <a:pt x="17786" y="2609"/>
                  <a:pt x="17780" y="2615"/>
                  <a:pt x="17774" y="2615"/>
                </a:cubicBezTo>
                <a:cubicBezTo>
                  <a:pt x="17769" y="2615"/>
                  <a:pt x="17763" y="2621"/>
                  <a:pt x="17751" y="2627"/>
                </a:cubicBezTo>
                <a:cubicBezTo>
                  <a:pt x="17745" y="2627"/>
                  <a:pt x="17745" y="2627"/>
                  <a:pt x="17739" y="2632"/>
                </a:cubicBezTo>
                <a:cubicBezTo>
                  <a:pt x="17733" y="2632"/>
                  <a:pt x="17733" y="2627"/>
                  <a:pt x="17727" y="2632"/>
                </a:cubicBezTo>
                <a:cubicBezTo>
                  <a:pt x="17721" y="2632"/>
                  <a:pt x="17721" y="2632"/>
                  <a:pt x="17715" y="2639"/>
                </a:cubicBezTo>
                <a:cubicBezTo>
                  <a:pt x="17715" y="2639"/>
                  <a:pt x="17709" y="2644"/>
                  <a:pt x="17709" y="2650"/>
                </a:cubicBezTo>
                <a:cubicBezTo>
                  <a:pt x="17709" y="2656"/>
                  <a:pt x="17715" y="2656"/>
                  <a:pt x="17715" y="2662"/>
                </a:cubicBezTo>
                <a:cubicBezTo>
                  <a:pt x="17715" y="2674"/>
                  <a:pt x="17715" y="2686"/>
                  <a:pt x="17709" y="2698"/>
                </a:cubicBezTo>
                <a:cubicBezTo>
                  <a:pt x="17709" y="2704"/>
                  <a:pt x="17703" y="2704"/>
                  <a:pt x="17697" y="2710"/>
                </a:cubicBezTo>
                <a:cubicBezTo>
                  <a:pt x="17697" y="2710"/>
                  <a:pt x="17691" y="2710"/>
                  <a:pt x="17685" y="2716"/>
                </a:cubicBezTo>
                <a:cubicBezTo>
                  <a:pt x="17685" y="2721"/>
                  <a:pt x="17685" y="2721"/>
                  <a:pt x="17685" y="2727"/>
                </a:cubicBezTo>
                <a:cubicBezTo>
                  <a:pt x="17685" y="2733"/>
                  <a:pt x="17680" y="2733"/>
                  <a:pt x="17674" y="2739"/>
                </a:cubicBezTo>
                <a:cubicBezTo>
                  <a:pt x="17674" y="2745"/>
                  <a:pt x="17674" y="2751"/>
                  <a:pt x="17674" y="2757"/>
                </a:cubicBezTo>
                <a:cubicBezTo>
                  <a:pt x="17674" y="2763"/>
                  <a:pt x="17680" y="2769"/>
                  <a:pt x="17674" y="2781"/>
                </a:cubicBezTo>
                <a:cubicBezTo>
                  <a:pt x="17674" y="2787"/>
                  <a:pt x="17662" y="2793"/>
                  <a:pt x="17662" y="2805"/>
                </a:cubicBezTo>
                <a:cubicBezTo>
                  <a:pt x="17662" y="2810"/>
                  <a:pt x="17662" y="2816"/>
                  <a:pt x="17662" y="2828"/>
                </a:cubicBezTo>
                <a:cubicBezTo>
                  <a:pt x="17662" y="2834"/>
                  <a:pt x="17662" y="2840"/>
                  <a:pt x="17662" y="2852"/>
                </a:cubicBezTo>
                <a:cubicBezTo>
                  <a:pt x="17662" y="2899"/>
                  <a:pt x="17668" y="2923"/>
                  <a:pt x="17668" y="2971"/>
                </a:cubicBezTo>
                <a:cubicBezTo>
                  <a:pt x="17668" y="2976"/>
                  <a:pt x="17668" y="2982"/>
                  <a:pt x="17668" y="2988"/>
                </a:cubicBezTo>
                <a:cubicBezTo>
                  <a:pt x="17668" y="2994"/>
                  <a:pt x="17662" y="2994"/>
                  <a:pt x="17656" y="3000"/>
                </a:cubicBezTo>
                <a:cubicBezTo>
                  <a:pt x="17685" y="3048"/>
                  <a:pt x="17685" y="3048"/>
                  <a:pt x="17685" y="3048"/>
                </a:cubicBezTo>
                <a:cubicBezTo>
                  <a:pt x="17685" y="3142"/>
                  <a:pt x="17685" y="3142"/>
                  <a:pt x="17685" y="3142"/>
                </a:cubicBezTo>
                <a:cubicBezTo>
                  <a:pt x="17691" y="3142"/>
                  <a:pt x="17691" y="3148"/>
                  <a:pt x="17697" y="3148"/>
                </a:cubicBezTo>
                <a:cubicBezTo>
                  <a:pt x="17703" y="3148"/>
                  <a:pt x="17703" y="3142"/>
                  <a:pt x="17709" y="3137"/>
                </a:cubicBezTo>
                <a:cubicBezTo>
                  <a:pt x="17715" y="3137"/>
                  <a:pt x="17721" y="3137"/>
                  <a:pt x="17721" y="3137"/>
                </a:cubicBezTo>
                <a:cubicBezTo>
                  <a:pt x="17727" y="3137"/>
                  <a:pt x="17727" y="3131"/>
                  <a:pt x="17733" y="3131"/>
                </a:cubicBezTo>
                <a:cubicBezTo>
                  <a:pt x="17739" y="3131"/>
                  <a:pt x="17739" y="3125"/>
                  <a:pt x="17745" y="3125"/>
                </a:cubicBezTo>
                <a:cubicBezTo>
                  <a:pt x="17751" y="3125"/>
                  <a:pt x="17757" y="3125"/>
                  <a:pt x="17763" y="3125"/>
                </a:cubicBezTo>
                <a:cubicBezTo>
                  <a:pt x="17763" y="3113"/>
                  <a:pt x="17763" y="3107"/>
                  <a:pt x="17763" y="3095"/>
                </a:cubicBezTo>
                <a:cubicBezTo>
                  <a:pt x="17763" y="3089"/>
                  <a:pt x="17763" y="3083"/>
                  <a:pt x="17763" y="3083"/>
                </a:cubicBezTo>
                <a:cubicBezTo>
                  <a:pt x="17769" y="3077"/>
                  <a:pt x="17769" y="3071"/>
                  <a:pt x="17774" y="3071"/>
                </a:cubicBezTo>
                <a:cubicBezTo>
                  <a:pt x="17774" y="3065"/>
                  <a:pt x="17780" y="3065"/>
                  <a:pt x="17786" y="3065"/>
                </a:cubicBezTo>
                <a:cubicBezTo>
                  <a:pt x="17786" y="3059"/>
                  <a:pt x="17792" y="3059"/>
                  <a:pt x="17792" y="3054"/>
                </a:cubicBezTo>
                <a:cubicBezTo>
                  <a:pt x="17798" y="3048"/>
                  <a:pt x="17798" y="3048"/>
                  <a:pt x="17804" y="3042"/>
                </a:cubicBezTo>
                <a:cubicBezTo>
                  <a:pt x="17810" y="3030"/>
                  <a:pt x="17810" y="3030"/>
                  <a:pt x="17810" y="3030"/>
                </a:cubicBezTo>
                <a:cubicBezTo>
                  <a:pt x="17810" y="3024"/>
                  <a:pt x="17810" y="3024"/>
                  <a:pt x="17816" y="3018"/>
                </a:cubicBezTo>
                <a:cubicBezTo>
                  <a:pt x="17816" y="3012"/>
                  <a:pt x="17822" y="3006"/>
                  <a:pt x="17828" y="3006"/>
                </a:cubicBezTo>
                <a:cubicBezTo>
                  <a:pt x="17834" y="3006"/>
                  <a:pt x="17834" y="3006"/>
                  <a:pt x="17834" y="3006"/>
                </a:cubicBezTo>
                <a:cubicBezTo>
                  <a:pt x="17840" y="3006"/>
                  <a:pt x="17840" y="3012"/>
                  <a:pt x="17846" y="3012"/>
                </a:cubicBezTo>
                <a:cubicBezTo>
                  <a:pt x="17858" y="3012"/>
                  <a:pt x="17858" y="3012"/>
                  <a:pt x="17858" y="3012"/>
                </a:cubicBezTo>
                <a:cubicBezTo>
                  <a:pt x="17858" y="3012"/>
                  <a:pt x="17863" y="3012"/>
                  <a:pt x="17869" y="3012"/>
                </a:cubicBezTo>
                <a:cubicBezTo>
                  <a:pt x="17869" y="3012"/>
                  <a:pt x="17875" y="3006"/>
                  <a:pt x="17875" y="3000"/>
                </a:cubicBezTo>
                <a:cubicBezTo>
                  <a:pt x="17881" y="3000"/>
                  <a:pt x="17881" y="2994"/>
                  <a:pt x="17881" y="2988"/>
                </a:cubicBezTo>
                <a:cubicBezTo>
                  <a:pt x="17881" y="2935"/>
                  <a:pt x="17881" y="2935"/>
                  <a:pt x="17881" y="2935"/>
                </a:cubicBezTo>
                <a:cubicBezTo>
                  <a:pt x="17887" y="2923"/>
                  <a:pt x="17893" y="2917"/>
                  <a:pt x="17899" y="2911"/>
                </a:cubicBezTo>
                <a:cubicBezTo>
                  <a:pt x="17905" y="2905"/>
                  <a:pt x="17911" y="2905"/>
                  <a:pt x="17911" y="2899"/>
                </a:cubicBezTo>
                <a:cubicBezTo>
                  <a:pt x="17994" y="2899"/>
                  <a:pt x="17994" y="2899"/>
                  <a:pt x="17994" y="2899"/>
                </a:cubicBezTo>
                <a:cubicBezTo>
                  <a:pt x="17994" y="2870"/>
                  <a:pt x="17994" y="2870"/>
                  <a:pt x="17994" y="2870"/>
                </a:cubicBezTo>
                <a:cubicBezTo>
                  <a:pt x="17994" y="2858"/>
                  <a:pt x="17988" y="2858"/>
                  <a:pt x="17982" y="2846"/>
                </a:cubicBezTo>
                <a:cubicBezTo>
                  <a:pt x="17982" y="2840"/>
                  <a:pt x="17976" y="2840"/>
                  <a:pt x="17976" y="2834"/>
                </a:cubicBezTo>
                <a:cubicBezTo>
                  <a:pt x="17976" y="2822"/>
                  <a:pt x="17976" y="2822"/>
                  <a:pt x="17976" y="2822"/>
                </a:cubicBezTo>
                <a:cubicBezTo>
                  <a:pt x="17976" y="2810"/>
                  <a:pt x="17976" y="2810"/>
                  <a:pt x="17976" y="2810"/>
                </a:cubicBezTo>
                <a:lnTo>
                  <a:pt x="17982" y="2805"/>
                </a:lnTo>
                <a:cubicBezTo>
                  <a:pt x="17988" y="2799"/>
                  <a:pt x="17994" y="2793"/>
                  <a:pt x="17994" y="2787"/>
                </a:cubicBezTo>
                <a:cubicBezTo>
                  <a:pt x="18000" y="2781"/>
                  <a:pt x="18000" y="2781"/>
                  <a:pt x="18000" y="2775"/>
                </a:cubicBezTo>
                <a:cubicBezTo>
                  <a:pt x="18006" y="2769"/>
                  <a:pt x="18006" y="2763"/>
                  <a:pt x="18012" y="2763"/>
                </a:cubicBezTo>
                <a:cubicBezTo>
                  <a:pt x="18017" y="2763"/>
                  <a:pt x="18024" y="2763"/>
                  <a:pt x="18029" y="2769"/>
                </a:cubicBezTo>
                <a:cubicBezTo>
                  <a:pt x="18035" y="2769"/>
                  <a:pt x="18029" y="2775"/>
                  <a:pt x="18035" y="2781"/>
                </a:cubicBezTo>
                <a:cubicBezTo>
                  <a:pt x="18035" y="2781"/>
                  <a:pt x="18041" y="2781"/>
                  <a:pt x="18047" y="2787"/>
                </a:cubicBezTo>
                <a:cubicBezTo>
                  <a:pt x="18065" y="2787"/>
                  <a:pt x="18065" y="2787"/>
                  <a:pt x="18065" y="2787"/>
                </a:cubicBezTo>
                <a:cubicBezTo>
                  <a:pt x="18071" y="2763"/>
                  <a:pt x="18071" y="2763"/>
                  <a:pt x="18071" y="2763"/>
                </a:cubicBezTo>
                <a:cubicBezTo>
                  <a:pt x="18065" y="2763"/>
                  <a:pt x="18065" y="2757"/>
                  <a:pt x="18059" y="2751"/>
                </a:cubicBezTo>
                <a:cubicBezTo>
                  <a:pt x="18053" y="2745"/>
                  <a:pt x="18047" y="2745"/>
                  <a:pt x="18041" y="2733"/>
                </a:cubicBezTo>
                <a:cubicBezTo>
                  <a:pt x="18041" y="2727"/>
                  <a:pt x="18041" y="2727"/>
                  <a:pt x="18041" y="2721"/>
                </a:cubicBezTo>
                <a:cubicBezTo>
                  <a:pt x="18041" y="2716"/>
                  <a:pt x="18041" y="2716"/>
                  <a:pt x="18041" y="2710"/>
                </a:cubicBezTo>
                <a:cubicBezTo>
                  <a:pt x="18041" y="2704"/>
                  <a:pt x="18035" y="2704"/>
                  <a:pt x="18035" y="2698"/>
                </a:cubicBezTo>
                <a:cubicBezTo>
                  <a:pt x="18035" y="2692"/>
                  <a:pt x="18035" y="2686"/>
                  <a:pt x="18035" y="2674"/>
                </a:cubicBezTo>
                <a:cubicBezTo>
                  <a:pt x="18035" y="2668"/>
                  <a:pt x="18029" y="2668"/>
                  <a:pt x="18035" y="2662"/>
                </a:cubicBezTo>
                <a:cubicBezTo>
                  <a:pt x="18035" y="2656"/>
                  <a:pt x="18041" y="2662"/>
                  <a:pt x="18047" y="2656"/>
                </a:cubicBezTo>
                <a:cubicBezTo>
                  <a:pt x="18047" y="2656"/>
                  <a:pt x="18053" y="2656"/>
                  <a:pt x="18053" y="2650"/>
                </a:cubicBezTo>
                <a:cubicBezTo>
                  <a:pt x="18053" y="2650"/>
                  <a:pt x="18059" y="2644"/>
                  <a:pt x="18053" y="2644"/>
                </a:cubicBezTo>
                <a:cubicBezTo>
                  <a:pt x="18053" y="2639"/>
                  <a:pt x="18047" y="2632"/>
                  <a:pt x="18047" y="2632"/>
                </a:cubicBezTo>
                <a:cubicBezTo>
                  <a:pt x="18041" y="2632"/>
                  <a:pt x="18041" y="2627"/>
                  <a:pt x="18035" y="2632"/>
                </a:cubicBezTo>
                <a:cubicBezTo>
                  <a:pt x="18029" y="2632"/>
                  <a:pt x="18029" y="2644"/>
                  <a:pt x="18029" y="2644"/>
                </a:cubicBezTo>
                <a:cubicBezTo>
                  <a:pt x="18006" y="2644"/>
                  <a:pt x="18006" y="2644"/>
                  <a:pt x="18006" y="2644"/>
                </a:cubicBezTo>
                <a:cubicBezTo>
                  <a:pt x="18006" y="2632"/>
                  <a:pt x="18000" y="2627"/>
                  <a:pt x="18006" y="2615"/>
                </a:cubicBezTo>
                <a:cubicBezTo>
                  <a:pt x="18006" y="2609"/>
                  <a:pt x="18012" y="2603"/>
                  <a:pt x="18017" y="2591"/>
                </a:cubicBezTo>
                <a:cubicBezTo>
                  <a:pt x="18017" y="2591"/>
                  <a:pt x="18017" y="2585"/>
                  <a:pt x="18017" y="2579"/>
                </a:cubicBezTo>
                <a:cubicBezTo>
                  <a:pt x="18024" y="2579"/>
                  <a:pt x="18024" y="2573"/>
                  <a:pt x="18029" y="2573"/>
                </a:cubicBezTo>
                <a:cubicBezTo>
                  <a:pt x="18035" y="2561"/>
                  <a:pt x="18041" y="2567"/>
                  <a:pt x="18047" y="2561"/>
                </a:cubicBezTo>
                <a:cubicBezTo>
                  <a:pt x="18053" y="2555"/>
                  <a:pt x="18059" y="2550"/>
                  <a:pt x="18059" y="2550"/>
                </a:cubicBezTo>
                <a:cubicBezTo>
                  <a:pt x="18059" y="2544"/>
                  <a:pt x="18059" y="2538"/>
                  <a:pt x="18059" y="2538"/>
                </a:cubicBezTo>
                <a:cubicBezTo>
                  <a:pt x="18065" y="2532"/>
                  <a:pt x="18065" y="2532"/>
                  <a:pt x="18065" y="2526"/>
                </a:cubicBezTo>
                <a:cubicBezTo>
                  <a:pt x="18071" y="2520"/>
                  <a:pt x="18071" y="2520"/>
                  <a:pt x="18071" y="2514"/>
                </a:cubicBezTo>
                <a:cubicBezTo>
                  <a:pt x="18071" y="2502"/>
                  <a:pt x="18071" y="2496"/>
                  <a:pt x="18071" y="2490"/>
                </a:cubicBezTo>
                <a:cubicBezTo>
                  <a:pt x="18071" y="2484"/>
                  <a:pt x="18071" y="2478"/>
                  <a:pt x="18071" y="2478"/>
                </a:cubicBezTo>
                <a:cubicBezTo>
                  <a:pt x="18071" y="2473"/>
                  <a:pt x="18071" y="2466"/>
                  <a:pt x="18077" y="2466"/>
                </a:cubicBezTo>
                <a:cubicBezTo>
                  <a:pt x="18077" y="2461"/>
                  <a:pt x="18083" y="2455"/>
                  <a:pt x="18083" y="2455"/>
                </a:cubicBezTo>
                <a:cubicBezTo>
                  <a:pt x="18089" y="2449"/>
                  <a:pt x="18095" y="2449"/>
                  <a:pt x="18095" y="2449"/>
                </a:cubicBezTo>
                <a:cubicBezTo>
                  <a:pt x="18101" y="2449"/>
                  <a:pt x="18101" y="2449"/>
                  <a:pt x="18106" y="2449"/>
                </a:cubicBezTo>
                <a:cubicBezTo>
                  <a:pt x="18118" y="2449"/>
                  <a:pt x="18124" y="2455"/>
                  <a:pt x="18130" y="2461"/>
                </a:cubicBezTo>
                <a:cubicBezTo>
                  <a:pt x="18136" y="2461"/>
                  <a:pt x="18130" y="2466"/>
                  <a:pt x="18136" y="2473"/>
                </a:cubicBezTo>
                <a:cubicBezTo>
                  <a:pt x="18142" y="2473"/>
                  <a:pt x="18148" y="2478"/>
                  <a:pt x="18154" y="2478"/>
                </a:cubicBezTo>
                <a:cubicBezTo>
                  <a:pt x="18160" y="2478"/>
                  <a:pt x="18166" y="2478"/>
                  <a:pt x="18172" y="2473"/>
                </a:cubicBezTo>
                <a:cubicBezTo>
                  <a:pt x="18172" y="2473"/>
                  <a:pt x="18178" y="2466"/>
                  <a:pt x="18178" y="2461"/>
                </a:cubicBezTo>
                <a:cubicBezTo>
                  <a:pt x="18183" y="2461"/>
                  <a:pt x="18183" y="2455"/>
                  <a:pt x="18190" y="2449"/>
                </a:cubicBezTo>
                <a:cubicBezTo>
                  <a:pt x="18190" y="2449"/>
                  <a:pt x="18195" y="2449"/>
                  <a:pt x="18201" y="2443"/>
                </a:cubicBezTo>
                <a:cubicBezTo>
                  <a:pt x="18201" y="2449"/>
                  <a:pt x="18207" y="2449"/>
                  <a:pt x="18207" y="2455"/>
                </a:cubicBezTo>
                <a:cubicBezTo>
                  <a:pt x="18213" y="2455"/>
                  <a:pt x="18207" y="2461"/>
                  <a:pt x="18207" y="2466"/>
                </a:cubicBezTo>
                <a:cubicBezTo>
                  <a:pt x="18213" y="2473"/>
                  <a:pt x="18219" y="2473"/>
                  <a:pt x="18219" y="2478"/>
                </a:cubicBezTo>
                <a:cubicBezTo>
                  <a:pt x="18219" y="2473"/>
                  <a:pt x="18225" y="2478"/>
                  <a:pt x="18231" y="2478"/>
                </a:cubicBezTo>
                <a:cubicBezTo>
                  <a:pt x="18237" y="2473"/>
                  <a:pt x="18237" y="2473"/>
                  <a:pt x="18243" y="2466"/>
                </a:cubicBezTo>
                <a:cubicBezTo>
                  <a:pt x="18243" y="2466"/>
                  <a:pt x="18249" y="2461"/>
                  <a:pt x="18255" y="2461"/>
                </a:cubicBezTo>
                <a:cubicBezTo>
                  <a:pt x="18260" y="2449"/>
                  <a:pt x="18260" y="2443"/>
                  <a:pt x="18272" y="2437"/>
                </a:cubicBezTo>
                <a:cubicBezTo>
                  <a:pt x="18272" y="2431"/>
                  <a:pt x="18272" y="2425"/>
                  <a:pt x="18278" y="2425"/>
                </a:cubicBezTo>
                <a:cubicBezTo>
                  <a:pt x="18284" y="2425"/>
                  <a:pt x="18290" y="2425"/>
                  <a:pt x="18296" y="2425"/>
                </a:cubicBezTo>
                <a:cubicBezTo>
                  <a:pt x="18302" y="2425"/>
                  <a:pt x="18308" y="2425"/>
                  <a:pt x="18314" y="2425"/>
                </a:cubicBezTo>
                <a:cubicBezTo>
                  <a:pt x="18320" y="2425"/>
                  <a:pt x="18320" y="2425"/>
                  <a:pt x="18326" y="2425"/>
                </a:cubicBezTo>
                <a:cubicBezTo>
                  <a:pt x="18326" y="2431"/>
                  <a:pt x="18332" y="2431"/>
                  <a:pt x="18338" y="2431"/>
                </a:cubicBezTo>
                <a:cubicBezTo>
                  <a:pt x="18421" y="2431"/>
                  <a:pt x="18421" y="2431"/>
                  <a:pt x="18421" y="2431"/>
                </a:cubicBezTo>
                <a:cubicBezTo>
                  <a:pt x="18421" y="2437"/>
                  <a:pt x="18415" y="2443"/>
                  <a:pt x="18421" y="2455"/>
                </a:cubicBezTo>
                <a:cubicBezTo>
                  <a:pt x="18421" y="2461"/>
                  <a:pt x="18415" y="2461"/>
                  <a:pt x="18421" y="2466"/>
                </a:cubicBezTo>
                <a:cubicBezTo>
                  <a:pt x="18421" y="2473"/>
                  <a:pt x="18427" y="2478"/>
                  <a:pt x="18433" y="2484"/>
                </a:cubicBezTo>
                <a:cubicBezTo>
                  <a:pt x="18438" y="2484"/>
                  <a:pt x="18444" y="2484"/>
                  <a:pt x="18444" y="2484"/>
                </a:cubicBezTo>
                <a:cubicBezTo>
                  <a:pt x="18444" y="2466"/>
                  <a:pt x="18444" y="2449"/>
                  <a:pt x="18456" y="2437"/>
                </a:cubicBezTo>
                <a:cubicBezTo>
                  <a:pt x="18462" y="2437"/>
                  <a:pt x="18468" y="2437"/>
                  <a:pt x="18468" y="2431"/>
                </a:cubicBezTo>
                <a:cubicBezTo>
                  <a:pt x="18474" y="2431"/>
                  <a:pt x="18474" y="2425"/>
                  <a:pt x="18480" y="2425"/>
                </a:cubicBezTo>
                <a:cubicBezTo>
                  <a:pt x="18486" y="2419"/>
                  <a:pt x="18486" y="2419"/>
                  <a:pt x="18492" y="2413"/>
                </a:cubicBezTo>
                <a:cubicBezTo>
                  <a:pt x="18498" y="2401"/>
                  <a:pt x="18498" y="2395"/>
                  <a:pt x="18510" y="2389"/>
                </a:cubicBezTo>
                <a:cubicBezTo>
                  <a:pt x="18510" y="2384"/>
                  <a:pt x="18515" y="2378"/>
                  <a:pt x="18515" y="2372"/>
                </a:cubicBezTo>
                <a:cubicBezTo>
                  <a:pt x="18522" y="2372"/>
                  <a:pt x="18522" y="2366"/>
                  <a:pt x="18527" y="2360"/>
                </a:cubicBezTo>
                <a:cubicBezTo>
                  <a:pt x="18533" y="2360"/>
                  <a:pt x="18539" y="2360"/>
                  <a:pt x="18551" y="2354"/>
                </a:cubicBezTo>
                <a:cubicBezTo>
                  <a:pt x="18557" y="2354"/>
                  <a:pt x="18557" y="2348"/>
                  <a:pt x="18563" y="2348"/>
                </a:cubicBezTo>
                <a:cubicBezTo>
                  <a:pt x="18581" y="2348"/>
                  <a:pt x="18581" y="2348"/>
                  <a:pt x="18581" y="2348"/>
                </a:cubicBezTo>
                <a:cubicBezTo>
                  <a:pt x="18587" y="2348"/>
                  <a:pt x="18593" y="2354"/>
                  <a:pt x="18604" y="2348"/>
                </a:cubicBezTo>
                <a:cubicBezTo>
                  <a:pt x="18610" y="2348"/>
                  <a:pt x="18610" y="2348"/>
                  <a:pt x="18616" y="2342"/>
                </a:cubicBezTo>
                <a:cubicBezTo>
                  <a:pt x="18622" y="2342"/>
                  <a:pt x="18628" y="2342"/>
                  <a:pt x="18640" y="2336"/>
                </a:cubicBezTo>
                <a:cubicBezTo>
                  <a:pt x="18646" y="2336"/>
                  <a:pt x="18646" y="2336"/>
                  <a:pt x="18652" y="2330"/>
                </a:cubicBezTo>
                <a:cubicBezTo>
                  <a:pt x="18658" y="2330"/>
                  <a:pt x="18658" y="2324"/>
                  <a:pt x="18658" y="2318"/>
                </a:cubicBezTo>
                <a:cubicBezTo>
                  <a:pt x="18664" y="2312"/>
                  <a:pt x="18664" y="2312"/>
                  <a:pt x="18670" y="2307"/>
                </a:cubicBezTo>
                <a:cubicBezTo>
                  <a:pt x="18676" y="2307"/>
                  <a:pt x="18676" y="2307"/>
                  <a:pt x="18682" y="2307"/>
                </a:cubicBezTo>
                <a:cubicBezTo>
                  <a:pt x="18693" y="2300"/>
                  <a:pt x="18699" y="2283"/>
                  <a:pt x="18717" y="2283"/>
                </a:cubicBezTo>
                <a:cubicBezTo>
                  <a:pt x="18723" y="2283"/>
                  <a:pt x="18729" y="2283"/>
                  <a:pt x="18741" y="2283"/>
                </a:cubicBezTo>
                <a:cubicBezTo>
                  <a:pt x="18747" y="2283"/>
                  <a:pt x="18753" y="2277"/>
                  <a:pt x="18753" y="2277"/>
                </a:cubicBezTo>
                <a:cubicBezTo>
                  <a:pt x="18759" y="2277"/>
                  <a:pt x="18765" y="2271"/>
                  <a:pt x="18770" y="2271"/>
                </a:cubicBezTo>
                <a:cubicBezTo>
                  <a:pt x="18782" y="2265"/>
                  <a:pt x="18782" y="2253"/>
                  <a:pt x="18794" y="2247"/>
                </a:cubicBezTo>
                <a:cubicBezTo>
                  <a:pt x="18794" y="2241"/>
                  <a:pt x="18800" y="2235"/>
                  <a:pt x="18806" y="2235"/>
                </a:cubicBezTo>
                <a:cubicBezTo>
                  <a:pt x="18812" y="2235"/>
                  <a:pt x="18818" y="2235"/>
                  <a:pt x="18824" y="2235"/>
                </a:cubicBezTo>
                <a:cubicBezTo>
                  <a:pt x="18842" y="2235"/>
                  <a:pt x="18848" y="2235"/>
                  <a:pt x="18859" y="2241"/>
                </a:cubicBezTo>
                <a:cubicBezTo>
                  <a:pt x="18865" y="2241"/>
                  <a:pt x="18865" y="2247"/>
                  <a:pt x="18871" y="2247"/>
                </a:cubicBezTo>
                <a:cubicBezTo>
                  <a:pt x="18877" y="2253"/>
                  <a:pt x="18877" y="2259"/>
                  <a:pt x="18883" y="2259"/>
                </a:cubicBezTo>
                <a:cubicBezTo>
                  <a:pt x="18889" y="2259"/>
                  <a:pt x="18889" y="2259"/>
                  <a:pt x="18895" y="2265"/>
                </a:cubicBezTo>
                <a:cubicBezTo>
                  <a:pt x="18907" y="2265"/>
                  <a:pt x="18913" y="2265"/>
                  <a:pt x="18925" y="2265"/>
                </a:cubicBezTo>
                <a:cubicBezTo>
                  <a:pt x="18942" y="2265"/>
                  <a:pt x="18942" y="2265"/>
                  <a:pt x="18942" y="2265"/>
                </a:cubicBezTo>
                <a:cubicBezTo>
                  <a:pt x="18948" y="2265"/>
                  <a:pt x="18948" y="2265"/>
                  <a:pt x="18954" y="2265"/>
                </a:cubicBezTo>
                <a:cubicBezTo>
                  <a:pt x="18954" y="2229"/>
                  <a:pt x="18954" y="2229"/>
                  <a:pt x="18954" y="2229"/>
                </a:cubicBezTo>
                <a:cubicBezTo>
                  <a:pt x="18948" y="2223"/>
                  <a:pt x="18948" y="2223"/>
                  <a:pt x="18942" y="2218"/>
                </a:cubicBezTo>
                <a:cubicBezTo>
                  <a:pt x="18942" y="2218"/>
                  <a:pt x="18937" y="2218"/>
                  <a:pt x="18931" y="2212"/>
                </a:cubicBezTo>
                <a:cubicBezTo>
                  <a:pt x="18931" y="2206"/>
                  <a:pt x="18931" y="2206"/>
                  <a:pt x="18931" y="2200"/>
                </a:cubicBezTo>
                <a:cubicBezTo>
                  <a:pt x="18925" y="2188"/>
                  <a:pt x="18925" y="2188"/>
                  <a:pt x="18925" y="2188"/>
                </a:cubicBezTo>
                <a:cubicBezTo>
                  <a:pt x="18919" y="2182"/>
                  <a:pt x="18919" y="2182"/>
                  <a:pt x="18913" y="2176"/>
                </a:cubicBezTo>
                <a:cubicBezTo>
                  <a:pt x="18913" y="2170"/>
                  <a:pt x="18907" y="2170"/>
                  <a:pt x="18907" y="2164"/>
                </a:cubicBezTo>
                <a:cubicBezTo>
                  <a:pt x="18907" y="2164"/>
                  <a:pt x="18907" y="2158"/>
                  <a:pt x="18901" y="2152"/>
                </a:cubicBezTo>
                <a:cubicBezTo>
                  <a:pt x="18901" y="2117"/>
                  <a:pt x="18901" y="2117"/>
                  <a:pt x="18901" y="2117"/>
                </a:cubicBezTo>
                <a:cubicBezTo>
                  <a:pt x="18889" y="2117"/>
                  <a:pt x="18877" y="2123"/>
                  <a:pt x="18871" y="2111"/>
                </a:cubicBezTo>
                <a:cubicBezTo>
                  <a:pt x="18865" y="2111"/>
                  <a:pt x="18865" y="2105"/>
                  <a:pt x="18865" y="2105"/>
                </a:cubicBezTo>
                <a:cubicBezTo>
                  <a:pt x="18859" y="2099"/>
                  <a:pt x="18865" y="2093"/>
                  <a:pt x="18859" y="2093"/>
                </a:cubicBezTo>
                <a:cubicBezTo>
                  <a:pt x="18859" y="2087"/>
                  <a:pt x="18859" y="2081"/>
                  <a:pt x="18853" y="2081"/>
                </a:cubicBezTo>
                <a:cubicBezTo>
                  <a:pt x="18853" y="2075"/>
                  <a:pt x="18848" y="2075"/>
                  <a:pt x="18842" y="2075"/>
                </a:cubicBezTo>
                <a:cubicBezTo>
                  <a:pt x="18782" y="2075"/>
                  <a:pt x="18782" y="2075"/>
                  <a:pt x="18782" y="2075"/>
                </a:cubicBezTo>
                <a:cubicBezTo>
                  <a:pt x="18776" y="2075"/>
                  <a:pt x="18776" y="2075"/>
                  <a:pt x="18770" y="2075"/>
                </a:cubicBezTo>
                <a:cubicBezTo>
                  <a:pt x="18765" y="2069"/>
                  <a:pt x="18770" y="2063"/>
                  <a:pt x="18765" y="2063"/>
                </a:cubicBezTo>
                <a:cubicBezTo>
                  <a:pt x="18770" y="2057"/>
                  <a:pt x="18770" y="2052"/>
                  <a:pt x="18776" y="2052"/>
                </a:cubicBezTo>
                <a:cubicBezTo>
                  <a:pt x="18776" y="2052"/>
                  <a:pt x="18782" y="2052"/>
                  <a:pt x="18788" y="2046"/>
                </a:cubicBezTo>
                <a:cubicBezTo>
                  <a:pt x="18794" y="2046"/>
                  <a:pt x="18794" y="2040"/>
                  <a:pt x="18800" y="2034"/>
                </a:cubicBezTo>
                <a:cubicBezTo>
                  <a:pt x="18800" y="2034"/>
                  <a:pt x="18806" y="2034"/>
                  <a:pt x="18812" y="2034"/>
                </a:cubicBezTo>
                <a:cubicBezTo>
                  <a:pt x="18818" y="2034"/>
                  <a:pt x="18818" y="2034"/>
                  <a:pt x="18818" y="2034"/>
                </a:cubicBezTo>
                <a:cubicBezTo>
                  <a:pt x="18830" y="2040"/>
                  <a:pt x="18836" y="2052"/>
                  <a:pt x="18842" y="2052"/>
                </a:cubicBezTo>
                <a:cubicBezTo>
                  <a:pt x="18913" y="2052"/>
                  <a:pt x="18913" y="2052"/>
                  <a:pt x="18913" y="2052"/>
                </a:cubicBezTo>
                <a:cubicBezTo>
                  <a:pt x="18925" y="2052"/>
                  <a:pt x="18931" y="2052"/>
                  <a:pt x="18937" y="2052"/>
                </a:cubicBezTo>
                <a:cubicBezTo>
                  <a:pt x="18948" y="2052"/>
                  <a:pt x="18954" y="2052"/>
                  <a:pt x="18960" y="2052"/>
                </a:cubicBezTo>
                <a:cubicBezTo>
                  <a:pt x="18972" y="2046"/>
                  <a:pt x="18972" y="2040"/>
                  <a:pt x="18978" y="2034"/>
                </a:cubicBezTo>
                <a:cubicBezTo>
                  <a:pt x="18984" y="2028"/>
                  <a:pt x="18990" y="2022"/>
                  <a:pt x="18990" y="2022"/>
                </a:cubicBezTo>
                <a:cubicBezTo>
                  <a:pt x="18996" y="2016"/>
                  <a:pt x="19002" y="2016"/>
                  <a:pt x="19002" y="2016"/>
                </a:cubicBezTo>
                <a:cubicBezTo>
                  <a:pt x="19008" y="2010"/>
                  <a:pt x="19002" y="2004"/>
                  <a:pt x="19002" y="1998"/>
                </a:cubicBezTo>
                <a:cubicBezTo>
                  <a:pt x="19002" y="1992"/>
                  <a:pt x="19008" y="1986"/>
                  <a:pt x="19002" y="1980"/>
                </a:cubicBezTo>
                <a:cubicBezTo>
                  <a:pt x="19002" y="1975"/>
                  <a:pt x="18996" y="1980"/>
                  <a:pt x="18990" y="1975"/>
                </a:cubicBezTo>
                <a:lnTo>
                  <a:pt x="18990" y="1968"/>
                </a:lnTo>
                <a:cubicBezTo>
                  <a:pt x="18990" y="1933"/>
                  <a:pt x="18990" y="1933"/>
                  <a:pt x="18990" y="1933"/>
                </a:cubicBezTo>
                <a:cubicBezTo>
                  <a:pt x="19002" y="1933"/>
                  <a:pt x="19008" y="1927"/>
                  <a:pt x="19020" y="1927"/>
                </a:cubicBezTo>
                <a:cubicBezTo>
                  <a:pt x="19031" y="1927"/>
                  <a:pt x="19043" y="1939"/>
                  <a:pt x="19049" y="1951"/>
                </a:cubicBezTo>
                <a:cubicBezTo>
                  <a:pt x="19049" y="1957"/>
                  <a:pt x="19043" y="1957"/>
                  <a:pt x="19049" y="1963"/>
                </a:cubicBezTo>
                <a:cubicBezTo>
                  <a:pt x="19049" y="1968"/>
                  <a:pt x="19049" y="1968"/>
                  <a:pt x="19049" y="1975"/>
                </a:cubicBezTo>
                <a:cubicBezTo>
                  <a:pt x="19055" y="1986"/>
                  <a:pt x="19061" y="1986"/>
                  <a:pt x="19067" y="1998"/>
                </a:cubicBezTo>
                <a:cubicBezTo>
                  <a:pt x="19162" y="1998"/>
                  <a:pt x="19162" y="1998"/>
                  <a:pt x="19162" y="1998"/>
                </a:cubicBezTo>
                <a:cubicBezTo>
                  <a:pt x="19168" y="1998"/>
                  <a:pt x="19168" y="1998"/>
                  <a:pt x="19174" y="1998"/>
                </a:cubicBezTo>
                <a:cubicBezTo>
                  <a:pt x="19180" y="1998"/>
                  <a:pt x="19186" y="2004"/>
                  <a:pt x="19192" y="2004"/>
                </a:cubicBezTo>
                <a:cubicBezTo>
                  <a:pt x="19192" y="2010"/>
                  <a:pt x="19197" y="2010"/>
                  <a:pt x="19203" y="2016"/>
                </a:cubicBezTo>
                <a:cubicBezTo>
                  <a:pt x="19203" y="2028"/>
                  <a:pt x="19203" y="2034"/>
                  <a:pt x="19203" y="2046"/>
                </a:cubicBezTo>
                <a:cubicBezTo>
                  <a:pt x="19257" y="2046"/>
                  <a:pt x="19257" y="2046"/>
                  <a:pt x="19257" y="2046"/>
                </a:cubicBezTo>
                <a:cubicBezTo>
                  <a:pt x="19263" y="2046"/>
                  <a:pt x="19269" y="2052"/>
                  <a:pt x="19280" y="2057"/>
                </a:cubicBezTo>
                <a:cubicBezTo>
                  <a:pt x="19280" y="2063"/>
                  <a:pt x="19280" y="2069"/>
                  <a:pt x="19286" y="2069"/>
                </a:cubicBezTo>
                <a:cubicBezTo>
                  <a:pt x="19292" y="2075"/>
                  <a:pt x="19298" y="2081"/>
                  <a:pt x="19310" y="2087"/>
                </a:cubicBezTo>
                <a:cubicBezTo>
                  <a:pt x="19316" y="2087"/>
                  <a:pt x="19316" y="2087"/>
                  <a:pt x="19322" y="2093"/>
                </a:cubicBezTo>
                <a:cubicBezTo>
                  <a:pt x="19328" y="2093"/>
                  <a:pt x="19334" y="2099"/>
                  <a:pt x="19340" y="2099"/>
                </a:cubicBezTo>
                <a:cubicBezTo>
                  <a:pt x="19346" y="2099"/>
                  <a:pt x="19346" y="2099"/>
                  <a:pt x="19346" y="2099"/>
                </a:cubicBezTo>
                <a:cubicBezTo>
                  <a:pt x="19352" y="2099"/>
                  <a:pt x="19358" y="2093"/>
                  <a:pt x="19358" y="2093"/>
                </a:cubicBezTo>
                <a:cubicBezTo>
                  <a:pt x="19358" y="2087"/>
                  <a:pt x="19358" y="2081"/>
                  <a:pt x="19358" y="2081"/>
                </a:cubicBezTo>
                <a:cubicBezTo>
                  <a:pt x="19358" y="2069"/>
                  <a:pt x="19358" y="2063"/>
                  <a:pt x="19358" y="2057"/>
                </a:cubicBezTo>
                <a:cubicBezTo>
                  <a:pt x="19358" y="2052"/>
                  <a:pt x="19358" y="2052"/>
                  <a:pt x="19358" y="2046"/>
                </a:cubicBezTo>
                <a:cubicBezTo>
                  <a:pt x="19369" y="2046"/>
                  <a:pt x="19369" y="2046"/>
                  <a:pt x="19369" y="2046"/>
                </a:cubicBezTo>
                <a:cubicBezTo>
                  <a:pt x="19375" y="2046"/>
                  <a:pt x="19381" y="2046"/>
                  <a:pt x="19387" y="2040"/>
                </a:cubicBezTo>
                <a:cubicBezTo>
                  <a:pt x="19387" y="2028"/>
                  <a:pt x="19393" y="2022"/>
                  <a:pt x="19387" y="2010"/>
                </a:cubicBezTo>
                <a:cubicBezTo>
                  <a:pt x="19387" y="2004"/>
                  <a:pt x="19387" y="1998"/>
                  <a:pt x="19387" y="1998"/>
                </a:cubicBezTo>
                <a:cubicBezTo>
                  <a:pt x="19387" y="1992"/>
                  <a:pt x="19387" y="1986"/>
                  <a:pt x="19387" y="1986"/>
                </a:cubicBezTo>
                <a:cubicBezTo>
                  <a:pt x="19387" y="1980"/>
                  <a:pt x="19387" y="1975"/>
                  <a:pt x="19387" y="1975"/>
                </a:cubicBezTo>
                <a:cubicBezTo>
                  <a:pt x="19393" y="1968"/>
                  <a:pt x="19399" y="1968"/>
                  <a:pt x="19399" y="1968"/>
                </a:cubicBezTo>
                <a:cubicBezTo>
                  <a:pt x="19411" y="1975"/>
                  <a:pt x="19411" y="1980"/>
                  <a:pt x="19423" y="1986"/>
                </a:cubicBezTo>
                <a:cubicBezTo>
                  <a:pt x="19429" y="1986"/>
                  <a:pt x="19429" y="1992"/>
                  <a:pt x="19435" y="1992"/>
                </a:cubicBezTo>
                <a:cubicBezTo>
                  <a:pt x="19446" y="1992"/>
                  <a:pt x="19446" y="1992"/>
                  <a:pt x="19446" y="1992"/>
                </a:cubicBezTo>
                <a:cubicBezTo>
                  <a:pt x="19452" y="1992"/>
                  <a:pt x="19452" y="1992"/>
                  <a:pt x="19458" y="1992"/>
                </a:cubicBezTo>
                <a:cubicBezTo>
                  <a:pt x="19464" y="1992"/>
                  <a:pt x="19464" y="1992"/>
                  <a:pt x="19470" y="1986"/>
                </a:cubicBezTo>
                <a:cubicBezTo>
                  <a:pt x="19470" y="1986"/>
                  <a:pt x="19476" y="1980"/>
                  <a:pt x="19476" y="1975"/>
                </a:cubicBezTo>
                <a:cubicBezTo>
                  <a:pt x="19482" y="1975"/>
                  <a:pt x="19488" y="1968"/>
                  <a:pt x="19488" y="1968"/>
                </a:cubicBezTo>
                <a:cubicBezTo>
                  <a:pt x="19494" y="1963"/>
                  <a:pt x="19494" y="1957"/>
                  <a:pt x="19494" y="1957"/>
                </a:cubicBezTo>
                <a:cubicBezTo>
                  <a:pt x="19500" y="1957"/>
                  <a:pt x="19500" y="1957"/>
                  <a:pt x="19506" y="1957"/>
                </a:cubicBezTo>
                <a:cubicBezTo>
                  <a:pt x="19512" y="1957"/>
                  <a:pt x="19512" y="1951"/>
                  <a:pt x="19518" y="1951"/>
                </a:cubicBezTo>
                <a:cubicBezTo>
                  <a:pt x="19524" y="1945"/>
                  <a:pt x="19529" y="1945"/>
                  <a:pt x="19529" y="1945"/>
                </a:cubicBezTo>
                <a:cubicBezTo>
                  <a:pt x="19529" y="1939"/>
                  <a:pt x="19529" y="1933"/>
                  <a:pt x="19529" y="1933"/>
                </a:cubicBezTo>
                <a:cubicBezTo>
                  <a:pt x="19529" y="1921"/>
                  <a:pt x="19524" y="1915"/>
                  <a:pt x="19512" y="1915"/>
                </a:cubicBezTo>
                <a:cubicBezTo>
                  <a:pt x="19512" y="1909"/>
                  <a:pt x="19506" y="1909"/>
                  <a:pt x="19506" y="1909"/>
                </a:cubicBezTo>
                <a:cubicBezTo>
                  <a:pt x="19494" y="1903"/>
                  <a:pt x="19488" y="1909"/>
                  <a:pt x="19482" y="1903"/>
                </a:cubicBezTo>
                <a:cubicBezTo>
                  <a:pt x="19476" y="1903"/>
                  <a:pt x="19482" y="1897"/>
                  <a:pt x="19476" y="1891"/>
                </a:cubicBezTo>
                <a:cubicBezTo>
                  <a:pt x="19476" y="1891"/>
                  <a:pt x="19470" y="1886"/>
                  <a:pt x="19470" y="1880"/>
                </a:cubicBezTo>
                <a:cubicBezTo>
                  <a:pt x="19464" y="1880"/>
                  <a:pt x="19464" y="1880"/>
                  <a:pt x="19458" y="1874"/>
                </a:cubicBezTo>
                <a:cubicBezTo>
                  <a:pt x="19452" y="1868"/>
                  <a:pt x="19440" y="1868"/>
                  <a:pt x="19435" y="1868"/>
                </a:cubicBezTo>
                <a:cubicBezTo>
                  <a:pt x="19423" y="1868"/>
                  <a:pt x="19423" y="1868"/>
                  <a:pt x="19423" y="1868"/>
                </a:cubicBezTo>
                <a:cubicBezTo>
                  <a:pt x="19411" y="1868"/>
                  <a:pt x="19411" y="1874"/>
                  <a:pt x="19399" y="1874"/>
                </a:cubicBezTo>
                <a:cubicBezTo>
                  <a:pt x="19387" y="1874"/>
                  <a:pt x="19381" y="1868"/>
                  <a:pt x="19369" y="1868"/>
                </a:cubicBezTo>
                <a:cubicBezTo>
                  <a:pt x="19358" y="1868"/>
                  <a:pt x="19358" y="1868"/>
                  <a:pt x="19358" y="1868"/>
                </a:cubicBezTo>
                <a:cubicBezTo>
                  <a:pt x="19352" y="1868"/>
                  <a:pt x="19352" y="1868"/>
                  <a:pt x="19346" y="1868"/>
                </a:cubicBezTo>
                <a:cubicBezTo>
                  <a:pt x="19340" y="1868"/>
                  <a:pt x="19334" y="1862"/>
                  <a:pt x="19334" y="1862"/>
                </a:cubicBezTo>
                <a:cubicBezTo>
                  <a:pt x="19328" y="1856"/>
                  <a:pt x="19328" y="1850"/>
                  <a:pt x="19322" y="1850"/>
                </a:cubicBezTo>
                <a:cubicBezTo>
                  <a:pt x="19316" y="1850"/>
                  <a:pt x="19310" y="1850"/>
                  <a:pt x="19310" y="1850"/>
                </a:cubicBezTo>
                <a:cubicBezTo>
                  <a:pt x="19304" y="1850"/>
                  <a:pt x="19298" y="1850"/>
                  <a:pt x="19292" y="1850"/>
                </a:cubicBezTo>
                <a:cubicBezTo>
                  <a:pt x="19292" y="1850"/>
                  <a:pt x="19286" y="1856"/>
                  <a:pt x="19280" y="1856"/>
                </a:cubicBezTo>
                <a:cubicBezTo>
                  <a:pt x="19286" y="1862"/>
                  <a:pt x="19286" y="1868"/>
                  <a:pt x="19292" y="1868"/>
                </a:cubicBezTo>
                <a:cubicBezTo>
                  <a:pt x="19298" y="1868"/>
                  <a:pt x="19298" y="1868"/>
                  <a:pt x="19304" y="1868"/>
                </a:cubicBezTo>
                <a:cubicBezTo>
                  <a:pt x="19304" y="1868"/>
                  <a:pt x="19310" y="1874"/>
                  <a:pt x="19316" y="1874"/>
                </a:cubicBezTo>
                <a:cubicBezTo>
                  <a:pt x="19322" y="1880"/>
                  <a:pt x="19316" y="1886"/>
                  <a:pt x="19316" y="1891"/>
                </a:cubicBezTo>
                <a:cubicBezTo>
                  <a:pt x="19316" y="1897"/>
                  <a:pt x="19316" y="1897"/>
                  <a:pt x="19316" y="1897"/>
                </a:cubicBezTo>
                <a:cubicBezTo>
                  <a:pt x="19316" y="1897"/>
                  <a:pt x="19316" y="1903"/>
                  <a:pt x="19316" y="1909"/>
                </a:cubicBezTo>
                <a:cubicBezTo>
                  <a:pt x="19310" y="1915"/>
                  <a:pt x="19304" y="1915"/>
                  <a:pt x="19298" y="1915"/>
                </a:cubicBezTo>
                <a:cubicBezTo>
                  <a:pt x="19280" y="1915"/>
                  <a:pt x="19274" y="1909"/>
                  <a:pt x="19269" y="1897"/>
                </a:cubicBezTo>
                <a:cubicBezTo>
                  <a:pt x="19269" y="1891"/>
                  <a:pt x="19269" y="1891"/>
                  <a:pt x="19269" y="1886"/>
                </a:cubicBezTo>
                <a:cubicBezTo>
                  <a:pt x="19269" y="1814"/>
                  <a:pt x="19269" y="1814"/>
                  <a:pt x="19269" y="1814"/>
                </a:cubicBezTo>
                <a:cubicBezTo>
                  <a:pt x="19269" y="1809"/>
                  <a:pt x="19263" y="1809"/>
                  <a:pt x="19257" y="1802"/>
                </a:cubicBezTo>
                <a:cubicBezTo>
                  <a:pt x="19251" y="1802"/>
                  <a:pt x="19251" y="1802"/>
                  <a:pt x="19245" y="1802"/>
                </a:cubicBezTo>
                <a:cubicBezTo>
                  <a:pt x="19239" y="1797"/>
                  <a:pt x="19239" y="1797"/>
                  <a:pt x="19233" y="1797"/>
                </a:cubicBezTo>
                <a:cubicBezTo>
                  <a:pt x="19221" y="1797"/>
                  <a:pt x="19221" y="1797"/>
                  <a:pt x="19221" y="1797"/>
                </a:cubicBezTo>
                <a:cubicBezTo>
                  <a:pt x="19215" y="1797"/>
                  <a:pt x="19215" y="1791"/>
                  <a:pt x="19209" y="1791"/>
                </a:cubicBezTo>
                <a:cubicBezTo>
                  <a:pt x="19197" y="1791"/>
                  <a:pt x="19192" y="1791"/>
                  <a:pt x="19186" y="1791"/>
                </a:cubicBezTo>
                <a:cubicBezTo>
                  <a:pt x="19180" y="1785"/>
                  <a:pt x="19180" y="1779"/>
                  <a:pt x="19174" y="1779"/>
                </a:cubicBezTo>
                <a:cubicBezTo>
                  <a:pt x="19168" y="1773"/>
                  <a:pt x="19162" y="1773"/>
                  <a:pt x="19162" y="1773"/>
                </a:cubicBezTo>
                <a:cubicBezTo>
                  <a:pt x="19156" y="1773"/>
                  <a:pt x="19150" y="1767"/>
                  <a:pt x="19144" y="1767"/>
                </a:cubicBezTo>
                <a:cubicBezTo>
                  <a:pt x="19138" y="1767"/>
                  <a:pt x="19132" y="1761"/>
                  <a:pt x="19126" y="1761"/>
                </a:cubicBezTo>
                <a:cubicBezTo>
                  <a:pt x="19120" y="1755"/>
                  <a:pt x="19114" y="1755"/>
                  <a:pt x="19114" y="1749"/>
                </a:cubicBezTo>
                <a:cubicBezTo>
                  <a:pt x="19108" y="1743"/>
                  <a:pt x="19103" y="1743"/>
                  <a:pt x="19103" y="1737"/>
                </a:cubicBezTo>
                <a:cubicBezTo>
                  <a:pt x="19097" y="1731"/>
                  <a:pt x="19103" y="1725"/>
                  <a:pt x="19097" y="1725"/>
                </a:cubicBezTo>
                <a:cubicBezTo>
                  <a:pt x="19097" y="1725"/>
                  <a:pt x="19091" y="1725"/>
                  <a:pt x="19085" y="1725"/>
                </a:cubicBezTo>
                <a:cubicBezTo>
                  <a:pt x="19079" y="1720"/>
                  <a:pt x="19079" y="1720"/>
                  <a:pt x="19073" y="1720"/>
                </a:cubicBezTo>
                <a:cubicBezTo>
                  <a:pt x="19061" y="1720"/>
                  <a:pt x="19055" y="1720"/>
                  <a:pt x="19049" y="1720"/>
                </a:cubicBezTo>
                <a:cubicBezTo>
                  <a:pt x="19043" y="1720"/>
                  <a:pt x="19037" y="1714"/>
                  <a:pt x="19037" y="1714"/>
                </a:cubicBezTo>
                <a:cubicBezTo>
                  <a:pt x="19025" y="1714"/>
                  <a:pt x="19020" y="1714"/>
                  <a:pt x="19008" y="1714"/>
                </a:cubicBezTo>
                <a:cubicBezTo>
                  <a:pt x="19008" y="1702"/>
                  <a:pt x="19014" y="1690"/>
                  <a:pt x="19002" y="1684"/>
                </a:cubicBezTo>
                <a:cubicBezTo>
                  <a:pt x="18996" y="1672"/>
                  <a:pt x="18984" y="1666"/>
                  <a:pt x="18972" y="1660"/>
                </a:cubicBezTo>
                <a:cubicBezTo>
                  <a:pt x="18960" y="1654"/>
                  <a:pt x="18960" y="1648"/>
                  <a:pt x="18954" y="1648"/>
                </a:cubicBezTo>
                <a:cubicBezTo>
                  <a:pt x="18948" y="1642"/>
                  <a:pt x="18942" y="1642"/>
                  <a:pt x="18931" y="1642"/>
                </a:cubicBezTo>
                <a:cubicBezTo>
                  <a:pt x="18925" y="1636"/>
                  <a:pt x="18919" y="1642"/>
                  <a:pt x="18907" y="1642"/>
                </a:cubicBezTo>
                <a:cubicBezTo>
                  <a:pt x="18901" y="1642"/>
                  <a:pt x="18901" y="1636"/>
                  <a:pt x="18895" y="1636"/>
                </a:cubicBezTo>
                <a:cubicBezTo>
                  <a:pt x="18889" y="1631"/>
                  <a:pt x="18883" y="1631"/>
                  <a:pt x="18883" y="1631"/>
                </a:cubicBezTo>
                <a:cubicBezTo>
                  <a:pt x="18877" y="1625"/>
                  <a:pt x="18877" y="1619"/>
                  <a:pt x="18871" y="1619"/>
                </a:cubicBezTo>
                <a:cubicBezTo>
                  <a:pt x="18865" y="1619"/>
                  <a:pt x="18859" y="1619"/>
                  <a:pt x="18859" y="1619"/>
                </a:cubicBezTo>
                <a:cubicBezTo>
                  <a:pt x="18853" y="1613"/>
                  <a:pt x="18853" y="1613"/>
                  <a:pt x="18848" y="1613"/>
                </a:cubicBezTo>
                <a:cubicBezTo>
                  <a:pt x="18836" y="1613"/>
                  <a:pt x="18836" y="1613"/>
                  <a:pt x="18836" y="1613"/>
                </a:cubicBezTo>
                <a:cubicBezTo>
                  <a:pt x="18824" y="1613"/>
                  <a:pt x="18824" y="1613"/>
                  <a:pt x="18824" y="1613"/>
                </a:cubicBezTo>
                <a:cubicBezTo>
                  <a:pt x="18818" y="1613"/>
                  <a:pt x="18818" y="1607"/>
                  <a:pt x="18812" y="1607"/>
                </a:cubicBezTo>
                <a:cubicBezTo>
                  <a:pt x="18806" y="1607"/>
                  <a:pt x="18800" y="1601"/>
                  <a:pt x="18800" y="1601"/>
                </a:cubicBezTo>
                <a:cubicBezTo>
                  <a:pt x="18788" y="1595"/>
                  <a:pt x="18776" y="1595"/>
                  <a:pt x="18770" y="1589"/>
                </a:cubicBezTo>
                <a:cubicBezTo>
                  <a:pt x="18765" y="1589"/>
                  <a:pt x="18765" y="1583"/>
                  <a:pt x="18759" y="1577"/>
                </a:cubicBezTo>
                <a:cubicBezTo>
                  <a:pt x="18747" y="1577"/>
                  <a:pt x="18735" y="1577"/>
                  <a:pt x="18723" y="1577"/>
                </a:cubicBezTo>
                <a:cubicBezTo>
                  <a:pt x="18705" y="1577"/>
                  <a:pt x="18705" y="1577"/>
                  <a:pt x="18705" y="1577"/>
                </a:cubicBezTo>
                <a:cubicBezTo>
                  <a:pt x="18699" y="1577"/>
                  <a:pt x="18699" y="1583"/>
                  <a:pt x="18693" y="1583"/>
                </a:cubicBezTo>
                <a:cubicBezTo>
                  <a:pt x="18687" y="1589"/>
                  <a:pt x="18687" y="1595"/>
                  <a:pt x="18682" y="1595"/>
                </a:cubicBezTo>
                <a:cubicBezTo>
                  <a:pt x="18676" y="1601"/>
                  <a:pt x="18670" y="1601"/>
                  <a:pt x="18664" y="1601"/>
                </a:cubicBezTo>
                <a:cubicBezTo>
                  <a:pt x="18652" y="1601"/>
                  <a:pt x="18646" y="1595"/>
                  <a:pt x="18634" y="1595"/>
                </a:cubicBezTo>
                <a:cubicBezTo>
                  <a:pt x="18622" y="1595"/>
                  <a:pt x="18622" y="1595"/>
                  <a:pt x="18622" y="1595"/>
                </a:cubicBezTo>
                <a:cubicBezTo>
                  <a:pt x="18616" y="1595"/>
                  <a:pt x="18610" y="1595"/>
                  <a:pt x="18604" y="1589"/>
                </a:cubicBezTo>
                <a:cubicBezTo>
                  <a:pt x="18599" y="1589"/>
                  <a:pt x="18599" y="1583"/>
                  <a:pt x="18593" y="1577"/>
                </a:cubicBezTo>
                <a:cubicBezTo>
                  <a:pt x="18593" y="1577"/>
                  <a:pt x="18587" y="1583"/>
                  <a:pt x="18587" y="1577"/>
                </a:cubicBezTo>
                <a:cubicBezTo>
                  <a:pt x="18575" y="1577"/>
                  <a:pt x="18569" y="1577"/>
                  <a:pt x="18557" y="1571"/>
                </a:cubicBezTo>
                <a:cubicBezTo>
                  <a:pt x="18551" y="1565"/>
                  <a:pt x="18545" y="1559"/>
                  <a:pt x="18533" y="1559"/>
                </a:cubicBezTo>
                <a:cubicBezTo>
                  <a:pt x="18533" y="1554"/>
                  <a:pt x="18527" y="1554"/>
                  <a:pt x="18522" y="1554"/>
                </a:cubicBezTo>
                <a:cubicBezTo>
                  <a:pt x="18515" y="1554"/>
                  <a:pt x="18515" y="1554"/>
                  <a:pt x="18510" y="1554"/>
                </a:cubicBezTo>
                <a:cubicBezTo>
                  <a:pt x="18498" y="1554"/>
                  <a:pt x="18498" y="1554"/>
                  <a:pt x="18492" y="1554"/>
                </a:cubicBezTo>
                <a:cubicBezTo>
                  <a:pt x="18486" y="1554"/>
                  <a:pt x="18480" y="1559"/>
                  <a:pt x="18480" y="1559"/>
                </a:cubicBezTo>
                <a:cubicBezTo>
                  <a:pt x="18474" y="1565"/>
                  <a:pt x="18468" y="1565"/>
                  <a:pt x="18468" y="1571"/>
                </a:cubicBezTo>
                <a:cubicBezTo>
                  <a:pt x="18468" y="1571"/>
                  <a:pt x="18474" y="1577"/>
                  <a:pt x="18468" y="1577"/>
                </a:cubicBezTo>
                <a:cubicBezTo>
                  <a:pt x="18468" y="1583"/>
                  <a:pt x="18462" y="1589"/>
                  <a:pt x="18462" y="1589"/>
                </a:cubicBezTo>
                <a:cubicBezTo>
                  <a:pt x="18462" y="1595"/>
                  <a:pt x="18456" y="1601"/>
                  <a:pt x="18456" y="1601"/>
                </a:cubicBezTo>
                <a:cubicBezTo>
                  <a:pt x="18450" y="1607"/>
                  <a:pt x="18450" y="1607"/>
                  <a:pt x="18444" y="1613"/>
                </a:cubicBezTo>
                <a:cubicBezTo>
                  <a:pt x="18450" y="1613"/>
                  <a:pt x="18450" y="1613"/>
                  <a:pt x="18456" y="1619"/>
                </a:cubicBezTo>
                <a:cubicBezTo>
                  <a:pt x="18462" y="1619"/>
                  <a:pt x="18462" y="1625"/>
                  <a:pt x="18468" y="1625"/>
                </a:cubicBezTo>
                <a:cubicBezTo>
                  <a:pt x="18468" y="1631"/>
                  <a:pt x="18474" y="1631"/>
                  <a:pt x="18480" y="1631"/>
                </a:cubicBezTo>
                <a:cubicBezTo>
                  <a:pt x="18486" y="1636"/>
                  <a:pt x="18486" y="1648"/>
                  <a:pt x="18486" y="1654"/>
                </a:cubicBezTo>
                <a:cubicBezTo>
                  <a:pt x="18486" y="1660"/>
                  <a:pt x="18486" y="1660"/>
                  <a:pt x="18486" y="1666"/>
                </a:cubicBezTo>
                <a:cubicBezTo>
                  <a:pt x="18480" y="1672"/>
                  <a:pt x="18474" y="1672"/>
                  <a:pt x="18474" y="1678"/>
                </a:cubicBezTo>
                <a:cubicBezTo>
                  <a:pt x="18468" y="1678"/>
                  <a:pt x="18468" y="1684"/>
                  <a:pt x="18468" y="1690"/>
                </a:cubicBezTo>
                <a:cubicBezTo>
                  <a:pt x="18462" y="1690"/>
                  <a:pt x="18462" y="1696"/>
                  <a:pt x="18456" y="1696"/>
                </a:cubicBezTo>
                <a:cubicBezTo>
                  <a:pt x="18409" y="1696"/>
                  <a:pt x="18409" y="1696"/>
                  <a:pt x="18409" y="1696"/>
                </a:cubicBezTo>
                <a:cubicBezTo>
                  <a:pt x="18409" y="1654"/>
                  <a:pt x="18409" y="1654"/>
                  <a:pt x="18409" y="1654"/>
                </a:cubicBezTo>
                <a:cubicBezTo>
                  <a:pt x="18349" y="1654"/>
                  <a:pt x="18349" y="1654"/>
                  <a:pt x="18349" y="1654"/>
                </a:cubicBezTo>
                <a:cubicBezTo>
                  <a:pt x="18349" y="1613"/>
                  <a:pt x="18349" y="1613"/>
                  <a:pt x="18349" y="1613"/>
                </a:cubicBezTo>
                <a:cubicBezTo>
                  <a:pt x="18356" y="1613"/>
                  <a:pt x="18356" y="1613"/>
                  <a:pt x="18356" y="1613"/>
                </a:cubicBezTo>
                <a:cubicBezTo>
                  <a:pt x="18373" y="1613"/>
                  <a:pt x="18379" y="1613"/>
                  <a:pt x="18391" y="1613"/>
                </a:cubicBezTo>
                <a:cubicBezTo>
                  <a:pt x="18403" y="1607"/>
                  <a:pt x="18409" y="1601"/>
                  <a:pt x="18415" y="1595"/>
                </a:cubicBezTo>
                <a:cubicBezTo>
                  <a:pt x="18415" y="1583"/>
                  <a:pt x="18415" y="1583"/>
                  <a:pt x="18415" y="1583"/>
                </a:cubicBezTo>
                <a:cubicBezTo>
                  <a:pt x="18409" y="1583"/>
                  <a:pt x="18403" y="1583"/>
                  <a:pt x="18403" y="1583"/>
                </a:cubicBezTo>
                <a:cubicBezTo>
                  <a:pt x="18397" y="1583"/>
                  <a:pt x="18397" y="1577"/>
                  <a:pt x="18391" y="1577"/>
                </a:cubicBezTo>
                <a:cubicBezTo>
                  <a:pt x="18314" y="1577"/>
                  <a:pt x="18314" y="1577"/>
                  <a:pt x="18314" y="1577"/>
                </a:cubicBezTo>
                <a:cubicBezTo>
                  <a:pt x="18314" y="1589"/>
                  <a:pt x="18314" y="1595"/>
                  <a:pt x="18314" y="1601"/>
                </a:cubicBezTo>
                <a:cubicBezTo>
                  <a:pt x="18314" y="1607"/>
                  <a:pt x="18314" y="1613"/>
                  <a:pt x="18314" y="1613"/>
                </a:cubicBezTo>
                <a:cubicBezTo>
                  <a:pt x="18314" y="1619"/>
                  <a:pt x="18308" y="1625"/>
                  <a:pt x="18308" y="1625"/>
                </a:cubicBezTo>
                <a:cubicBezTo>
                  <a:pt x="18302" y="1631"/>
                  <a:pt x="18296" y="1625"/>
                  <a:pt x="18296" y="1631"/>
                </a:cubicBezTo>
                <a:cubicBezTo>
                  <a:pt x="18290" y="1631"/>
                  <a:pt x="18284" y="1636"/>
                  <a:pt x="18278" y="1636"/>
                </a:cubicBezTo>
                <a:cubicBezTo>
                  <a:pt x="18272" y="1636"/>
                  <a:pt x="18272" y="1636"/>
                  <a:pt x="18272" y="1636"/>
                </a:cubicBezTo>
                <a:cubicBezTo>
                  <a:pt x="18267" y="1631"/>
                  <a:pt x="18260" y="1631"/>
                  <a:pt x="18260" y="1625"/>
                </a:cubicBezTo>
                <a:cubicBezTo>
                  <a:pt x="18249" y="1625"/>
                  <a:pt x="18243" y="1619"/>
                  <a:pt x="18237" y="1619"/>
                </a:cubicBezTo>
                <a:cubicBezTo>
                  <a:pt x="18213" y="1613"/>
                  <a:pt x="18195" y="1619"/>
                  <a:pt x="18172" y="1619"/>
                </a:cubicBezTo>
                <a:cubicBezTo>
                  <a:pt x="18124" y="1619"/>
                  <a:pt x="18124" y="1619"/>
                  <a:pt x="18124" y="1619"/>
                </a:cubicBezTo>
                <a:cubicBezTo>
                  <a:pt x="18118" y="1619"/>
                  <a:pt x="18112" y="1619"/>
                  <a:pt x="18106" y="1619"/>
                </a:cubicBezTo>
                <a:cubicBezTo>
                  <a:pt x="18095" y="1619"/>
                  <a:pt x="18089" y="1631"/>
                  <a:pt x="18077" y="1631"/>
                </a:cubicBezTo>
                <a:cubicBezTo>
                  <a:pt x="18071" y="1631"/>
                  <a:pt x="18071" y="1631"/>
                  <a:pt x="18059" y="1631"/>
                </a:cubicBezTo>
                <a:cubicBezTo>
                  <a:pt x="18053" y="1631"/>
                  <a:pt x="18053" y="1631"/>
                  <a:pt x="18047" y="1631"/>
                </a:cubicBezTo>
                <a:cubicBezTo>
                  <a:pt x="18041" y="1631"/>
                  <a:pt x="18035" y="1631"/>
                  <a:pt x="18029" y="1625"/>
                </a:cubicBezTo>
                <a:cubicBezTo>
                  <a:pt x="18024" y="1619"/>
                  <a:pt x="18024" y="1613"/>
                  <a:pt x="18017" y="1613"/>
                </a:cubicBezTo>
                <a:cubicBezTo>
                  <a:pt x="18017" y="1607"/>
                  <a:pt x="18012" y="1607"/>
                  <a:pt x="18006" y="1607"/>
                </a:cubicBezTo>
                <a:cubicBezTo>
                  <a:pt x="17982" y="1607"/>
                  <a:pt x="17982" y="1607"/>
                  <a:pt x="17982" y="1607"/>
                </a:cubicBezTo>
                <a:cubicBezTo>
                  <a:pt x="17982" y="1613"/>
                  <a:pt x="17982" y="1619"/>
                  <a:pt x="17982" y="1625"/>
                </a:cubicBezTo>
                <a:cubicBezTo>
                  <a:pt x="17982" y="1631"/>
                  <a:pt x="17982" y="1631"/>
                  <a:pt x="17982" y="1636"/>
                </a:cubicBezTo>
                <a:cubicBezTo>
                  <a:pt x="17982" y="1672"/>
                  <a:pt x="17982" y="1672"/>
                  <a:pt x="17982" y="1672"/>
                </a:cubicBezTo>
                <a:cubicBezTo>
                  <a:pt x="17970" y="1678"/>
                  <a:pt x="17970" y="1678"/>
                  <a:pt x="17970" y="1678"/>
                </a:cubicBezTo>
                <a:cubicBezTo>
                  <a:pt x="17958" y="1672"/>
                  <a:pt x="17958" y="1672"/>
                  <a:pt x="17958" y="1672"/>
                </a:cubicBezTo>
                <a:cubicBezTo>
                  <a:pt x="17958" y="1648"/>
                  <a:pt x="17958" y="1648"/>
                  <a:pt x="17958" y="1648"/>
                </a:cubicBezTo>
                <a:cubicBezTo>
                  <a:pt x="17958" y="1642"/>
                  <a:pt x="17958" y="1631"/>
                  <a:pt x="17952" y="1625"/>
                </a:cubicBezTo>
                <a:cubicBezTo>
                  <a:pt x="17952" y="1619"/>
                  <a:pt x="17946" y="1619"/>
                  <a:pt x="17940" y="1619"/>
                </a:cubicBezTo>
                <a:cubicBezTo>
                  <a:pt x="17940" y="1613"/>
                  <a:pt x="17935" y="1613"/>
                  <a:pt x="17929" y="1613"/>
                </a:cubicBezTo>
                <a:cubicBezTo>
                  <a:pt x="17929" y="1613"/>
                  <a:pt x="17923" y="1607"/>
                  <a:pt x="17917" y="1607"/>
                </a:cubicBezTo>
                <a:cubicBezTo>
                  <a:pt x="17917" y="1607"/>
                  <a:pt x="17911" y="1607"/>
                  <a:pt x="17905" y="1601"/>
                </a:cubicBezTo>
                <a:cubicBezTo>
                  <a:pt x="17905" y="1601"/>
                  <a:pt x="17899" y="1595"/>
                  <a:pt x="17893" y="1589"/>
                </a:cubicBezTo>
                <a:cubicBezTo>
                  <a:pt x="17893" y="1583"/>
                  <a:pt x="17887" y="1577"/>
                  <a:pt x="17887" y="1571"/>
                </a:cubicBezTo>
                <a:cubicBezTo>
                  <a:pt x="17887" y="1559"/>
                  <a:pt x="17893" y="1554"/>
                  <a:pt x="17893" y="1542"/>
                </a:cubicBezTo>
                <a:cubicBezTo>
                  <a:pt x="17893" y="1542"/>
                  <a:pt x="17899" y="1536"/>
                  <a:pt x="17899" y="1530"/>
                </a:cubicBezTo>
                <a:cubicBezTo>
                  <a:pt x="17899" y="1524"/>
                  <a:pt x="17893" y="1524"/>
                  <a:pt x="17893" y="1518"/>
                </a:cubicBezTo>
                <a:cubicBezTo>
                  <a:pt x="17893" y="1512"/>
                  <a:pt x="17887" y="1512"/>
                  <a:pt x="17887" y="1506"/>
                </a:cubicBezTo>
                <a:cubicBezTo>
                  <a:pt x="17881" y="1506"/>
                  <a:pt x="17881" y="1500"/>
                  <a:pt x="17881" y="1494"/>
                </a:cubicBezTo>
                <a:cubicBezTo>
                  <a:pt x="17875" y="1494"/>
                  <a:pt x="17869" y="1494"/>
                  <a:pt x="17869" y="1494"/>
                </a:cubicBezTo>
                <a:cubicBezTo>
                  <a:pt x="17863" y="1488"/>
                  <a:pt x="17858" y="1488"/>
                  <a:pt x="17858" y="1488"/>
                </a:cubicBezTo>
                <a:cubicBezTo>
                  <a:pt x="17851" y="1482"/>
                  <a:pt x="17858" y="1476"/>
                  <a:pt x="17851" y="1476"/>
                </a:cubicBezTo>
                <a:cubicBezTo>
                  <a:pt x="17851" y="1470"/>
                  <a:pt x="17846" y="1470"/>
                  <a:pt x="17840" y="1470"/>
                </a:cubicBezTo>
                <a:cubicBezTo>
                  <a:pt x="17840" y="1470"/>
                  <a:pt x="17834" y="1470"/>
                  <a:pt x="17828" y="1470"/>
                </a:cubicBezTo>
                <a:cubicBezTo>
                  <a:pt x="17828" y="1470"/>
                  <a:pt x="17822" y="1465"/>
                  <a:pt x="17816" y="1465"/>
                </a:cubicBezTo>
                <a:cubicBezTo>
                  <a:pt x="17816" y="1465"/>
                  <a:pt x="17810" y="1465"/>
                  <a:pt x="17804" y="1465"/>
                </a:cubicBezTo>
                <a:cubicBezTo>
                  <a:pt x="17798" y="1465"/>
                  <a:pt x="17798" y="1459"/>
                  <a:pt x="17792" y="1459"/>
                </a:cubicBezTo>
                <a:cubicBezTo>
                  <a:pt x="17786" y="1459"/>
                  <a:pt x="17780" y="1459"/>
                  <a:pt x="17769" y="1459"/>
                </a:cubicBezTo>
                <a:cubicBezTo>
                  <a:pt x="17763" y="1459"/>
                  <a:pt x="17757" y="1459"/>
                  <a:pt x="17745" y="1459"/>
                </a:cubicBezTo>
                <a:cubicBezTo>
                  <a:pt x="17739" y="1459"/>
                  <a:pt x="17739" y="1459"/>
                  <a:pt x="17733" y="1459"/>
                </a:cubicBezTo>
                <a:cubicBezTo>
                  <a:pt x="17727" y="1459"/>
                  <a:pt x="17727" y="1459"/>
                  <a:pt x="17721" y="1465"/>
                </a:cubicBezTo>
                <a:cubicBezTo>
                  <a:pt x="17715" y="1465"/>
                  <a:pt x="17715" y="1465"/>
                  <a:pt x="17709" y="1470"/>
                </a:cubicBezTo>
                <a:cubicBezTo>
                  <a:pt x="17703" y="1470"/>
                  <a:pt x="17709" y="1476"/>
                  <a:pt x="17703" y="1482"/>
                </a:cubicBezTo>
                <a:cubicBezTo>
                  <a:pt x="17697" y="1482"/>
                  <a:pt x="17691" y="1482"/>
                  <a:pt x="17685" y="1482"/>
                </a:cubicBezTo>
                <a:cubicBezTo>
                  <a:pt x="17685" y="1482"/>
                  <a:pt x="17680" y="1488"/>
                  <a:pt x="17674" y="1488"/>
                </a:cubicBezTo>
                <a:cubicBezTo>
                  <a:pt x="17650" y="1488"/>
                  <a:pt x="17650" y="1488"/>
                  <a:pt x="17650" y="1488"/>
                </a:cubicBezTo>
                <a:cubicBezTo>
                  <a:pt x="17644" y="1488"/>
                  <a:pt x="17638" y="1488"/>
                  <a:pt x="17638" y="1488"/>
                </a:cubicBezTo>
                <a:cubicBezTo>
                  <a:pt x="17620" y="1488"/>
                  <a:pt x="17614" y="1488"/>
                  <a:pt x="17597" y="1488"/>
                </a:cubicBezTo>
                <a:cubicBezTo>
                  <a:pt x="17585" y="1488"/>
                  <a:pt x="17579" y="1488"/>
                  <a:pt x="17573" y="1494"/>
                </a:cubicBezTo>
                <a:cubicBezTo>
                  <a:pt x="17567" y="1494"/>
                  <a:pt x="17567" y="1500"/>
                  <a:pt x="17561" y="1500"/>
                </a:cubicBezTo>
                <a:cubicBezTo>
                  <a:pt x="17549" y="1500"/>
                  <a:pt x="17549" y="1500"/>
                  <a:pt x="17549" y="1500"/>
                </a:cubicBezTo>
                <a:cubicBezTo>
                  <a:pt x="17543" y="1500"/>
                  <a:pt x="17537" y="1500"/>
                  <a:pt x="17537" y="1500"/>
                </a:cubicBezTo>
                <a:cubicBezTo>
                  <a:pt x="17531" y="1500"/>
                  <a:pt x="17531" y="1494"/>
                  <a:pt x="17525" y="1494"/>
                </a:cubicBezTo>
                <a:cubicBezTo>
                  <a:pt x="17519" y="1494"/>
                  <a:pt x="17519" y="1494"/>
                  <a:pt x="17514" y="1494"/>
                </a:cubicBezTo>
                <a:cubicBezTo>
                  <a:pt x="17508" y="1488"/>
                  <a:pt x="17508" y="1482"/>
                  <a:pt x="17502" y="1482"/>
                </a:cubicBezTo>
                <a:cubicBezTo>
                  <a:pt x="17496" y="1476"/>
                  <a:pt x="17496" y="1470"/>
                  <a:pt x="17490" y="1470"/>
                </a:cubicBezTo>
                <a:cubicBezTo>
                  <a:pt x="17484" y="1470"/>
                  <a:pt x="17478" y="1470"/>
                  <a:pt x="17478" y="1470"/>
                </a:cubicBezTo>
                <a:cubicBezTo>
                  <a:pt x="17448" y="1470"/>
                  <a:pt x="17448" y="1470"/>
                  <a:pt x="17448" y="1470"/>
                </a:cubicBezTo>
                <a:cubicBezTo>
                  <a:pt x="17442" y="1470"/>
                  <a:pt x="17442" y="1465"/>
                  <a:pt x="17436" y="1465"/>
                </a:cubicBezTo>
                <a:cubicBezTo>
                  <a:pt x="17431" y="1465"/>
                  <a:pt x="17425" y="1465"/>
                  <a:pt x="17419" y="1465"/>
                </a:cubicBezTo>
                <a:cubicBezTo>
                  <a:pt x="17413" y="1465"/>
                  <a:pt x="17407" y="1459"/>
                  <a:pt x="17401" y="1459"/>
                </a:cubicBezTo>
                <a:cubicBezTo>
                  <a:pt x="17395" y="1459"/>
                  <a:pt x="17395" y="1453"/>
                  <a:pt x="17389" y="1453"/>
                </a:cubicBezTo>
                <a:cubicBezTo>
                  <a:pt x="17401" y="1441"/>
                  <a:pt x="17401" y="1441"/>
                  <a:pt x="17401" y="1441"/>
                </a:cubicBezTo>
                <a:cubicBezTo>
                  <a:pt x="17389" y="1435"/>
                  <a:pt x="17383" y="1435"/>
                  <a:pt x="17377" y="1429"/>
                </a:cubicBezTo>
                <a:cubicBezTo>
                  <a:pt x="17371" y="1423"/>
                  <a:pt x="17371" y="1423"/>
                  <a:pt x="17365" y="1417"/>
                </a:cubicBezTo>
                <a:cubicBezTo>
                  <a:pt x="17359" y="1417"/>
                  <a:pt x="17365" y="1411"/>
                  <a:pt x="17359" y="1411"/>
                </a:cubicBezTo>
                <a:cubicBezTo>
                  <a:pt x="17353" y="1405"/>
                  <a:pt x="17348" y="1405"/>
                  <a:pt x="17336" y="1405"/>
                </a:cubicBezTo>
                <a:cubicBezTo>
                  <a:pt x="17312" y="1405"/>
                  <a:pt x="17312" y="1405"/>
                  <a:pt x="17312" y="1405"/>
                </a:cubicBezTo>
                <a:cubicBezTo>
                  <a:pt x="17306" y="1393"/>
                  <a:pt x="17306" y="1393"/>
                  <a:pt x="17306" y="1393"/>
                </a:cubicBezTo>
                <a:cubicBezTo>
                  <a:pt x="17312" y="1393"/>
                  <a:pt x="17312" y="1387"/>
                  <a:pt x="17318" y="1382"/>
                </a:cubicBezTo>
                <a:cubicBezTo>
                  <a:pt x="17324" y="1376"/>
                  <a:pt x="17330" y="1376"/>
                  <a:pt x="17342" y="1370"/>
                </a:cubicBezTo>
                <a:cubicBezTo>
                  <a:pt x="17336" y="1358"/>
                  <a:pt x="17336" y="1358"/>
                  <a:pt x="17336" y="1358"/>
                </a:cubicBezTo>
                <a:cubicBezTo>
                  <a:pt x="17330" y="1358"/>
                  <a:pt x="17324" y="1358"/>
                  <a:pt x="17324" y="1358"/>
                </a:cubicBezTo>
                <a:cubicBezTo>
                  <a:pt x="17318" y="1358"/>
                  <a:pt x="17312" y="1352"/>
                  <a:pt x="17306" y="1352"/>
                </a:cubicBezTo>
                <a:cubicBezTo>
                  <a:pt x="17164" y="1352"/>
                  <a:pt x="17164" y="1352"/>
                  <a:pt x="17164" y="1352"/>
                </a:cubicBezTo>
                <a:cubicBezTo>
                  <a:pt x="17164" y="1364"/>
                  <a:pt x="17164" y="1364"/>
                  <a:pt x="17164" y="1376"/>
                </a:cubicBezTo>
                <a:cubicBezTo>
                  <a:pt x="17164" y="1382"/>
                  <a:pt x="17158" y="1382"/>
                  <a:pt x="17152" y="1387"/>
                </a:cubicBezTo>
                <a:cubicBezTo>
                  <a:pt x="17146" y="1393"/>
                  <a:pt x="17146" y="1399"/>
                  <a:pt x="17134" y="1405"/>
                </a:cubicBezTo>
                <a:cubicBezTo>
                  <a:pt x="17128" y="1405"/>
                  <a:pt x="17128" y="1405"/>
                  <a:pt x="17122" y="1405"/>
                </a:cubicBezTo>
                <a:cubicBezTo>
                  <a:pt x="17110" y="1405"/>
                  <a:pt x="17110" y="1405"/>
                  <a:pt x="17110" y="1405"/>
                </a:cubicBezTo>
                <a:cubicBezTo>
                  <a:pt x="17104" y="1405"/>
                  <a:pt x="17104" y="1399"/>
                  <a:pt x="17099" y="1399"/>
                </a:cubicBezTo>
                <a:cubicBezTo>
                  <a:pt x="17104" y="1393"/>
                  <a:pt x="17104" y="1387"/>
                  <a:pt x="17104" y="1387"/>
                </a:cubicBezTo>
                <a:cubicBezTo>
                  <a:pt x="17104" y="1382"/>
                  <a:pt x="17110" y="1376"/>
                  <a:pt x="17110" y="1370"/>
                </a:cubicBezTo>
                <a:cubicBezTo>
                  <a:pt x="17110" y="1370"/>
                  <a:pt x="17110" y="1364"/>
                  <a:pt x="17110" y="1358"/>
                </a:cubicBezTo>
                <a:cubicBezTo>
                  <a:pt x="17110" y="1358"/>
                  <a:pt x="17116" y="1352"/>
                  <a:pt x="17122" y="1346"/>
                </a:cubicBezTo>
                <a:lnTo>
                  <a:pt x="17128" y="1346"/>
                </a:lnTo>
                <a:cubicBezTo>
                  <a:pt x="17134" y="1346"/>
                  <a:pt x="17128" y="1340"/>
                  <a:pt x="17128" y="1334"/>
                </a:cubicBezTo>
                <a:cubicBezTo>
                  <a:pt x="17122" y="1334"/>
                  <a:pt x="17116" y="1334"/>
                  <a:pt x="17110" y="1334"/>
                </a:cubicBezTo>
                <a:cubicBezTo>
                  <a:pt x="17104" y="1334"/>
                  <a:pt x="17099" y="1328"/>
                  <a:pt x="17093" y="1328"/>
                </a:cubicBezTo>
                <a:cubicBezTo>
                  <a:pt x="17087" y="1328"/>
                  <a:pt x="17087" y="1322"/>
                  <a:pt x="17081" y="1322"/>
                </a:cubicBezTo>
                <a:cubicBezTo>
                  <a:pt x="17075" y="1322"/>
                  <a:pt x="17075" y="1322"/>
                  <a:pt x="17069" y="1322"/>
                </a:cubicBezTo>
                <a:cubicBezTo>
                  <a:pt x="17057" y="1316"/>
                  <a:pt x="17057" y="1310"/>
                  <a:pt x="17045" y="1310"/>
                </a:cubicBezTo>
                <a:cubicBezTo>
                  <a:pt x="17039" y="1310"/>
                  <a:pt x="17039" y="1310"/>
                  <a:pt x="17033" y="1310"/>
                </a:cubicBezTo>
                <a:cubicBezTo>
                  <a:pt x="17027" y="1310"/>
                  <a:pt x="17027" y="1310"/>
                  <a:pt x="17021" y="1310"/>
                </a:cubicBezTo>
                <a:cubicBezTo>
                  <a:pt x="17010" y="1310"/>
                  <a:pt x="17004" y="1310"/>
                  <a:pt x="16992" y="1310"/>
                </a:cubicBezTo>
                <a:cubicBezTo>
                  <a:pt x="16986" y="1310"/>
                  <a:pt x="16980" y="1310"/>
                  <a:pt x="16968" y="1310"/>
                </a:cubicBezTo>
                <a:cubicBezTo>
                  <a:pt x="16962" y="1304"/>
                  <a:pt x="16962" y="1299"/>
                  <a:pt x="16956" y="1299"/>
                </a:cubicBezTo>
                <a:cubicBezTo>
                  <a:pt x="16950" y="1299"/>
                  <a:pt x="16944" y="1299"/>
                  <a:pt x="16938" y="1299"/>
                </a:cubicBezTo>
                <a:cubicBezTo>
                  <a:pt x="16933" y="1299"/>
                  <a:pt x="16926" y="1293"/>
                  <a:pt x="16915" y="1293"/>
                </a:cubicBezTo>
                <a:cubicBezTo>
                  <a:pt x="16903" y="1287"/>
                  <a:pt x="16891" y="1293"/>
                  <a:pt x="16879" y="1293"/>
                </a:cubicBezTo>
                <a:cubicBezTo>
                  <a:pt x="16873" y="1293"/>
                  <a:pt x="16867" y="1287"/>
                  <a:pt x="16855" y="1287"/>
                </a:cubicBezTo>
                <a:cubicBezTo>
                  <a:pt x="16855" y="1287"/>
                  <a:pt x="16849" y="1281"/>
                  <a:pt x="16844" y="1281"/>
                </a:cubicBezTo>
                <a:cubicBezTo>
                  <a:pt x="16838" y="1281"/>
                  <a:pt x="16838" y="1287"/>
                  <a:pt x="16832" y="1293"/>
                </a:cubicBezTo>
                <a:cubicBezTo>
                  <a:pt x="16832" y="1293"/>
                  <a:pt x="16838" y="1299"/>
                  <a:pt x="16832" y="1304"/>
                </a:cubicBezTo>
                <a:cubicBezTo>
                  <a:pt x="16832" y="1310"/>
                  <a:pt x="16832" y="1316"/>
                  <a:pt x="16832" y="1328"/>
                </a:cubicBezTo>
                <a:cubicBezTo>
                  <a:pt x="16767" y="1328"/>
                  <a:pt x="16767" y="1328"/>
                  <a:pt x="16767" y="1328"/>
                </a:cubicBezTo>
                <a:cubicBezTo>
                  <a:pt x="16760" y="1328"/>
                  <a:pt x="16755" y="1334"/>
                  <a:pt x="16743" y="1334"/>
                </a:cubicBezTo>
                <a:cubicBezTo>
                  <a:pt x="16743" y="1340"/>
                  <a:pt x="16743" y="1340"/>
                  <a:pt x="16743" y="1346"/>
                </a:cubicBezTo>
                <a:cubicBezTo>
                  <a:pt x="16743" y="1352"/>
                  <a:pt x="16743" y="1358"/>
                  <a:pt x="16749" y="1358"/>
                </a:cubicBezTo>
                <a:cubicBezTo>
                  <a:pt x="16749" y="1364"/>
                  <a:pt x="16755" y="1370"/>
                  <a:pt x="16755" y="1370"/>
                </a:cubicBezTo>
                <a:cubicBezTo>
                  <a:pt x="16760" y="1376"/>
                  <a:pt x="16767" y="1376"/>
                  <a:pt x="16767" y="1376"/>
                </a:cubicBezTo>
                <a:cubicBezTo>
                  <a:pt x="16772" y="1382"/>
                  <a:pt x="16778" y="1376"/>
                  <a:pt x="16778" y="1382"/>
                </a:cubicBezTo>
                <a:cubicBezTo>
                  <a:pt x="16784" y="1382"/>
                  <a:pt x="16784" y="1387"/>
                  <a:pt x="16784" y="1393"/>
                </a:cubicBezTo>
                <a:cubicBezTo>
                  <a:pt x="16790" y="1393"/>
                  <a:pt x="16796" y="1393"/>
                  <a:pt x="16796" y="1399"/>
                </a:cubicBezTo>
                <a:cubicBezTo>
                  <a:pt x="16796" y="1405"/>
                  <a:pt x="16796" y="1405"/>
                  <a:pt x="16802" y="1411"/>
                </a:cubicBezTo>
                <a:cubicBezTo>
                  <a:pt x="16802" y="1417"/>
                  <a:pt x="16802" y="1417"/>
                  <a:pt x="16802" y="1423"/>
                </a:cubicBezTo>
                <a:cubicBezTo>
                  <a:pt x="16802" y="1429"/>
                  <a:pt x="16802" y="1429"/>
                  <a:pt x="16802" y="1435"/>
                </a:cubicBezTo>
                <a:cubicBezTo>
                  <a:pt x="16790" y="1435"/>
                  <a:pt x="16790" y="1435"/>
                  <a:pt x="16790" y="1435"/>
                </a:cubicBezTo>
                <a:cubicBezTo>
                  <a:pt x="16778" y="1435"/>
                  <a:pt x="16772" y="1429"/>
                  <a:pt x="16767" y="1429"/>
                </a:cubicBezTo>
                <a:cubicBezTo>
                  <a:pt x="16760" y="1429"/>
                  <a:pt x="16760" y="1423"/>
                  <a:pt x="16755" y="1423"/>
                </a:cubicBezTo>
                <a:cubicBezTo>
                  <a:pt x="16749" y="1423"/>
                  <a:pt x="16743" y="1429"/>
                  <a:pt x="16737" y="1423"/>
                </a:cubicBezTo>
                <a:lnTo>
                  <a:pt x="16731" y="1423"/>
                </a:lnTo>
                <a:cubicBezTo>
                  <a:pt x="16725" y="1423"/>
                  <a:pt x="16719" y="1417"/>
                  <a:pt x="16719" y="1417"/>
                </a:cubicBezTo>
                <a:cubicBezTo>
                  <a:pt x="16713" y="1411"/>
                  <a:pt x="16707" y="1411"/>
                  <a:pt x="16707" y="1411"/>
                </a:cubicBezTo>
                <a:cubicBezTo>
                  <a:pt x="16701" y="1411"/>
                  <a:pt x="16701" y="1417"/>
                  <a:pt x="16695" y="1417"/>
                </a:cubicBezTo>
                <a:cubicBezTo>
                  <a:pt x="16683" y="1417"/>
                  <a:pt x="16678" y="1411"/>
                  <a:pt x="16666" y="1411"/>
                </a:cubicBezTo>
                <a:cubicBezTo>
                  <a:pt x="16666" y="1429"/>
                  <a:pt x="16666" y="1429"/>
                  <a:pt x="16666" y="1429"/>
                </a:cubicBezTo>
                <a:cubicBezTo>
                  <a:pt x="16678" y="1435"/>
                  <a:pt x="16678" y="1435"/>
                  <a:pt x="16678" y="1435"/>
                </a:cubicBezTo>
                <a:cubicBezTo>
                  <a:pt x="16683" y="1435"/>
                  <a:pt x="16683" y="1435"/>
                  <a:pt x="16689" y="1441"/>
                </a:cubicBezTo>
                <a:cubicBezTo>
                  <a:pt x="16695" y="1441"/>
                  <a:pt x="16701" y="1447"/>
                  <a:pt x="16701" y="1453"/>
                </a:cubicBezTo>
                <a:cubicBezTo>
                  <a:pt x="16701" y="1465"/>
                  <a:pt x="16695" y="1465"/>
                  <a:pt x="16695" y="1476"/>
                </a:cubicBezTo>
                <a:cubicBezTo>
                  <a:pt x="16683" y="1470"/>
                  <a:pt x="16678" y="1470"/>
                  <a:pt x="16666" y="1465"/>
                </a:cubicBezTo>
                <a:cubicBezTo>
                  <a:pt x="16666" y="1459"/>
                  <a:pt x="16660" y="1459"/>
                  <a:pt x="16660" y="1453"/>
                </a:cubicBezTo>
                <a:cubicBezTo>
                  <a:pt x="16654" y="1453"/>
                  <a:pt x="16648" y="1447"/>
                  <a:pt x="16648" y="1441"/>
                </a:cubicBezTo>
                <a:cubicBezTo>
                  <a:pt x="16642" y="1441"/>
                  <a:pt x="16636" y="1441"/>
                  <a:pt x="16636" y="1435"/>
                </a:cubicBezTo>
                <a:cubicBezTo>
                  <a:pt x="16630" y="1435"/>
                  <a:pt x="16630" y="1429"/>
                  <a:pt x="16624" y="1423"/>
                </a:cubicBezTo>
                <a:cubicBezTo>
                  <a:pt x="16624" y="1423"/>
                  <a:pt x="16630" y="1417"/>
                  <a:pt x="16624" y="1417"/>
                </a:cubicBezTo>
                <a:cubicBezTo>
                  <a:pt x="16624" y="1411"/>
                  <a:pt x="16618" y="1411"/>
                  <a:pt x="16612" y="1411"/>
                </a:cubicBezTo>
                <a:cubicBezTo>
                  <a:pt x="16606" y="1411"/>
                  <a:pt x="16601" y="1411"/>
                  <a:pt x="16589" y="1411"/>
                </a:cubicBezTo>
                <a:cubicBezTo>
                  <a:pt x="16583" y="1411"/>
                  <a:pt x="16583" y="1411"/>
                  <a:pt x="16577" y="1411"/>
                </a:cubicBezTo>
                <a:cubicBezTo>
                  <a:pt x="16571" y="1411"/>
                  <a:pt x="16571" y="1411"/>
                  <a:pt x="16565" y="1411"/>
                </a:cubicBezTo>
                <a:cubicBezTo>
                  <a:pt x="16565" y="1411"/>
                  <a:pt x="16565" y="1417"/>
                  <a:pt x="16565" y="1423"/>
                </a:cubicBezTo>
                <a:cubicBezTo>
                  <a:pt x="16565" y="1429"/>
                  <a:pt x="16559" y="1429"/>
                  <a:pt x="16553" y="1429"/>
                </a:cubicBezTo>
                <a:cubicBezTo>
                  <a:pt x="16547" y="1441"/>
                  <a:pt x="16535" y="1441"/>
                  <a:pt x="16517" y="1441"/>
                </a:cubicBezTo>
                <a:cubicBezTo>
                  <a:pt x="16506" y="1441"/>
                  <a:pt x="16500" y="1435"/>
                  <a:pt x="16488" y="1429"/>
                </a:cubicBezTo>
                <a:cubicBezTo>
                  <a:pt x="16476" y="1429"/>
                  <a:pt x="16470" y="1429"/>
                  <a:pt x="16458" y="1423"/>
                </a:cubicBezTo>
                <a:cubicBezTo>
                  <a:pt x="16458" y="1423"/>
                  <a:pt x="16452" y="1429"/>
                  <a:pt x="16446" y="1423"/>
                </a:cubicBezTo>
                <a:cubicBezTo>
                  <a:pt x="16446" y="1423"/>
                  <a:pt x="16446" y="1417"/>
                  <a:pt x="16440" y="1417"/>
                </a:cubicBezTo>
                <a:cubicBezTo>
                  <a:pt x="16435" y="1411"/>
                  <a:pt x="16435" y="1411"/>
                  <a:pt x="16428" y="1411"/>
                </a:cubicBezTo>
                <a:cubicBezTo>
                  <a:pt x="16423" y="1411"/>
                  <a:pt x="16423" y="1411"/>
                  <a:pt x="16417" y="1417"/>
                </a:cubicBezTo>
                <a:cubicBezTo>
                  <a:pt x="16411" y="1417"/>
                  <a:pt x="16417" y="1423"/>
                  <a:pt x="16411" y="1423"/>
                </a:cubicBezTo>
                <a:cubicBezTo>
                  <a:pt x="16393" y="1423"/>
                  <a:pt x="16393" y="1417"/>
                  <a:pt x="16375" y="1417"/>
                </a:cubicBezTo>
                <a:cubicBezTo>
                  <a:pt x="16369" y="1417"/>
                  <a:pt x="16363" y="1417"/>
                  <a:pt x="16357" y="1423"/>
                </a:cubicBezTo>
                <a:cubicBezTo>
                  <a:pt x="16357" y="1429"/>
                  <a:pt x="16363" y="1441"/>
                  <a:pt x="16363" y="1447"/>
                </a:cubicBezTo>
                <a:cubicBezTo>
                  <a:pt x="16363" y="1465"/>
                  <a:pt x="16363" y="1470"/>
                  <a:pt x="16363" y="1482"/>
                </a:cubicBezTo>
                <a:cubicBezTo>
                  <a:pt x="16363" y="1494"/>
                  <a:pt x="16363" y="1494"/>
                  <a:pt x="16357" y="1506"/>
                </a:cubicBezTo>
                <a:cubicBezTo>
                  <a:pt x="16298" y="1506"/>
                  <a:pt x="16298" y="1506"/>
                  <a:pt x="16298" y="1506"/>
                </a:cubicBezTo>
                <a:cubicBezTo>
                  <a:pt x="16298" y="1494"/>
                  <a:pt x="16304" y="1482"/>
                  <a:pt x="16292" y="1470"/>
                </a:cubicBezTo>
                <a:cubicBezTo>
                  <a:pt x="16292" y="1465"/>
                  <a:pt x="16286" y="1465"/>
                  <a:pt x="16280" y="1465"/>
                </a:cubicBezTo>
                <a:cubicBezTo>
                  <a:pt x="16280" y="1459"/>
                  <a:pt x="16274" y="1453"/>
                  <a:pt x="16269" y="1453"/>
                </a:cubicBezTo>
                <a:cubicBezTo>
                  <a:pt x="16262" y="1453"/>
                  <a:pt x="16262" y="1453"/>
                  <a:pt x="16257" y="1447"/>
                </a:cubicBezTo>
                <a:cubicBezTo>
                  <a:pt x="16251" y="1447"/>
                  <a:pt x="16251" y="1441"/>
                  <a:pt x="16245" y="1441"/>
                </a:cubicBezTo>
                <a:cubicBezTo>
                  <a:pt x="16239" y="1435"/>
                  <a:pt x="16239" y="1435"/>
                  <a:pt x="16233" y="1429"/>
                </a:cubicBezTo>
                <a:cubicBezTo>
                  <a:pt x="16227" y="1429"/>
                  <a:pt x="16227" y="1423"/>
                  <a:pt x="16221" y="1417"/>
                </a:cubicBezTo>
                <a:cubicBezTo>
                  <a:pt x="16209" y="1411"/>
                  <a:pt x="16203" y="1405"/>
                  <a:pt x="16203" y="1393"/>
                </a:cubicBezTo>
                <a:cubicBezTo>
                  <a:pt x="16203" y="1387"/>
                  <a:pt x="16203" y="1387"/>
                  <a:pt x="16203" y="1387"/>
                </a:cubicBezTo>
                <a:cubicBezTo>
                  <a:pt x="16203" y="1382"/>
                  <a:pt x="16203" y="1382"/>
                  <a:pt x="16203" y="1376"/>
                </a:cubicBezTo>
                <a:cubicBezTo>
                  <a:pt x="16203" y="1376"/>
                  <a:pt x="16215" y="1376"/>
                  <a:pt x="16215" y="1370"/>
                </a:cubicBezTo>
                <a:cubicBezTo>
                  <a:pt x="16215" y="1364"/>
                  <a:pt x="16209" y="1364"/>
                  <a:pt x="16209" y="1358"/>
                </a:cubicBezTo>
                <a:cubicBezTo>
                  <a:pt x="16209" y="1346"/>
                  <a:pt x="16209" y="1340"/>
                  <a:pt x="16209" y="1334"/>
                </a:cubicBezTo>
                <a:cubicBezTo>
                  <a:pt x="16209" y="1322"/>
                  <a:pt x="16209" y="1316"/>
                  <a:pt x="16209" y="1310"/>
                </a:cubicBezTo>
                <a:cubicBezTo>
                  <a:pt x="16209" y="1299"/>
                  <a:pt x="16203" y="1293"/>
                  <a:pt x="16203" y="1281"/>
                </a:cubicBezTo>
                <a:cubicBezTo>
                  <a:pt x="16203" y="1275"/>
                  <a:pt x="16209" y="1269"/>
                  <a:pt x="16203" y="1263"/>
                </a:cubicBezTo>
                <a:cubicBezTo>
                  <a:pt x="16203" y="1257"/>
                  <a:pt x="16203" y="1251"/>
                  <a:pt x="16203" y="1251"/>
                </a:cubicBezTo>
                <a:cubicBezTo>
                  <a:pt x="16197" y="1245"/>
                  <a:pt x="16191" y="1245"/>
                  <a:pt x="16191" y="1239"/>
                </a:cubicBezTo>
                <a:cubicBezTo>
                  <a:pt x="16185" y="1233"/>
                  <a:pt x="16180" y="1233"/>
                  <a:pt x="16174" y="1227"/>
                </a:cubicBezTo>
                <a:cubicBezTo>
                  <a:pt x="16168" y="1227"/>
                  <a:pt x="16168" y="1221"/>
                  <a:pt x="16162" y="1221"/>
                </a:cubicBezTo>
                <a:cubicBezTo>
                  <a:pt x="16156" y="1221"/>
                  <a:pt x="16150" y="1221"/>
                  <a:pt x="16138" y="1221"/>
                </a:cubicBezTo>
                <a:cubicBezTo>
                  <a:pt x="16132" y="1221"/>
                  <a:pt x="16126" y="1221"/>
                  <a:pt x="16120" y="1227"/>
                </a:cubicBezTo>
                <a:cubicBezTo>
                  <a:pt x="16120" y="1227"/>
                  <a:pt x="16120" y="1233"/>
                  <a:pt x="16114" y="1239"/>
                </a:cubicBezTo>
                <a:cubicBezTo>
                  <a:pt x="16114" y="1239"/>
                  <a:pt x="16114" y="1245"/>
                  <a:pt x="16114" y="1251"/>
                </a:cubicBezTo>
                <a:cubicBezTo>
                  <a:pt x="16108" y="1251"/>
                  <a:pt x="16102" y="1251"/>
                  <a:pt x="16091" y="1251"/>
                </a:cubicBezTo>
                <a:cubicBezTo>
                  <a:pt x="16079" y="1251"/>
                  <a:pt x="16067" y="1251"/>
                  <a:pt x="16061" y="1239"/>
                </a:cubicBezTo>
                <a:cubicBezTo>
                  <a:pt x="16061" y="1233"/>
                  <a:pt x="16061" y="1227"/>
                  <a:pt x="16055" y="1227"/>
                </a:cubicBezTo>
                <a:cubicBezTo>
                  <a:pt x="16055" y="1221"/>
                  <a:pt x="16049" y="1215"/>
                  <a:pt x="16049" y="1215"/>
                </a:cubicBezTo>
                <a:cubicBezTo>
                  <a:pt x="16043" y="1210"/>
                  <a:pt x="16043" y="1204"/>
                  <a:pt x="16037" y="1204"/>
                </a:cubicBezTo>
                <a:cubicBezTo>
                  <a:pt x="16031" y="1204"/>
                  <a:pt x="16031" y="1204"/>
                  <a:pt x="16025" y="1204"/>
                </a:cubicBezTo>
                <a:cubicBezTo>
                  <a:pt x="16014" y="1204"/>
                  <a:pt x="16008" y="1204"/>
                  <a:pt x="15996" y="1198"/>
                </a:cubicBezTo>
                <a:cubicBezTo>
                  <a:pt x="15990" y="1198"/>
                  <a:pt x="15996" y="1192"/>
                  <a:pt x="15990" y="1186"/>
                </a:cubicBezTo>
                <a:cubicBezTo>
                  <a:pt x="15978" y="1180"/>
                  <a:pt x="15972" y="1180"/>
                  <a:pt x="15960" y="1180"/>
                </a:cubicBezTo>
                <a:cubicBezTo>
                  <a:pt x="15954" y="1180"/>
                  <a:pt x="15948" y="1180"/>
                  <a:pt x="15942" y="1186"/>
                </a:cubicBezTo>
                <a:cubicBezTo>
                  <a:pt x="15936" y="1186"/>
                  <a:pt x="15930" y="1186"/>
                  <a:pt x="15925" y="1186"/>
                </a:cubicBezTo>
                <a:cubicBezTo>
                  <a:pt x="15919" y="1192"/>
                  <a:pt x="15919" y="1192"/>
                  <a:pt x="15913" y="1198"/>
                </a:cubicBezTo>
                <a:cubicBezTo>
                  <a:pt x="15907" y="1198"/>
                  <a:pt x="15901" y="1204"/>
                  <a:pt x="15895" y="1204"/>
                </a:cubicBezTo>
                <a:cubicBezTo>
                  <a:pt x="15889" y="1204"/>
                  <a:pt x="15889" y="1210"/>
                  <a:pt x="15883" y="1215"/>
                </a:cubicBezTo>
                <a:cubicBezTo>
                  <a:pt x="15895" y="1239"/>
                  <a:pt x="15895" y="1239"/>
                  <a:pt x="15895" y="1239"/>
                </a:cubicBezTo>
                <a:cubicBezTo>
                  <a:pt x="15895" y="1245"/>
                  <a:pt x="15901" y="1245"/>
                  <a:pt x="15901" y="1251"/>
                </a:cubicBezTo>
                <a:cubicBezTo>
                  <a:pt x="15907" y="1251"/>
                  <a:pt x="15913" y="1257"/>
                  <a:pt x="15913" y="1263"/>
                </a:cubicBezTo>
                <a:cubicBezTo>
                  <a:pt x="15913" y="1263"/>
                  <a:pt x="15913" y="1269"/>
                  <a:pt x="15913" y="1275"/>
                </a:cubicBezTo>
                <a:cubicBezTo>
                  <a:pt x="15913" y="1281"/>
                  <a:pt x="15913" y="1281"/>
                  <a:pt x="15913" y="1287"/>
                </a:cubicBezTo>
                <a:cubicBezTo>
                  <a:pt x="15836" y="1287"/>
                  <a:pt x="15836" y="1287"/>
                  <a:pt x="15836" y="1287"/>
                </a:cubicBezTo>
                <a:cubicBezTo>
                  <a:pt x="15830" y="1287"/>
                  <a:pt x="15830" y="1293"/>
                  <a:pt x="15824" y="1293"/>
                </a:cubicBezTo>
                <a:cubicBezTo>
                  <a:pt x="15812" y="1299"/>
                  <a:pt x="15806" y="1304"/>
                  <a:pt x="15788" y="1304"/>
                </a:cubicBezTo>
                <a:cubicBezTo>
                  <a:pt x="15776" y="1304"/>
                  <a:pt x="15770" y="1299"/>
                  <a:pt x="15759" y="1293"/>
                </a:cubicBezTo>
                <a:cubicBezTo>
                  <a:pt x="15753" y="1293"/>
                  <a:pt x="15747" y="1287"/>
                  <a:pt x="15741" y="1287"/>
                </a:cubicBezTo>
                <a:cubicBezTo>
                  <a:pt x="15729" y="1281"/>
                  <a:pt x="15723" y="1281"/>
                  <a:pt x="15717" y="1281"/>
                </a:cubicBezTo>
                <a:cubicBezTo>
                  <a:pt x="15711" y="1281"/>
                  <a:pt x="15711" y="1269"/>
                  <a:pt x="15705" y="1269"/>
                </a:cubicBezTo>
                <a:cubicBezTo>
                  <a:pt x="15699" y="1263"/>
                  <a:pt x="15693" y="1263"/>
                  <a:pt x="15687" y="1263"/>
                </a:cubicBezTo>
                <a:cubicBezTo>
                  <a:pt x="15681" y="1263"/>
                  <a:pt x="15681" y="1269"/>
                  <a:pt x="15676" y="1269"/>
                </a:cubicBezTo>
                <a:cubicBezTo>
                  <a:pt x="15670" y="1269"/>
                  <a:pt x="15670" y="1281"/>
                  <a:pt x="15664" y="1281"/>
                </a:cubicBezTo>
                <a:cubicBezTo>
                  <a:pt x="15658" y="1281"/>
                  <a:pt x="15652" y="1275"/>
                  <a:pt x="15646" y="1269"/>
                </a:cubicBezTo>
                <a:cubicBezTo>
                  <a:pt x="15640" y="1263"/>
                  <a:pt x="15646" y="1257"/>
                  <a:pt x="15646" y="1251"/>
                </a:cubicBezTo>
                <a:cubicBezTo>
                  <a:pt x="15646" y="1227"/>
                  <a:pt x="15646" y="1227"/>
                  <a:pt x="15646" y="1227"/>
                </a:cubicBezTo>
                <a:cubicBezTo>
                  <a:pt x="15640" y="1221"/>
                  <a:pt x="15634" y="1215"/>
                  <a:pt x="15628" y="1215"/>
                </a:cubicBezTo>
                <a:cubicBezTo>
                  <a:pt x="15622" y="1210"/>
                  <a:pt x="15622" y="1204"/>
                  <a:pt x="15616" y="1204"/>
                </a:cubicBezTo>
                <a:cubicBezTo>
                  <a:pt x="15616" y="1204"/>
                  <a:pt x="15610" y="1204"/>
                  <a:pt x="15604" y="1204"/>
                </a:cubicBezTo>
                <a:cubicBezTo>
                  <a:pt x="15604" y="1204"/>
                  <a:pt x="15598" y="1204"/>
                  <a:pt x="15592" y="1204"/>
                </a:cubicBezTo>
                <a:cubicBezTo>
                  <a:pt x="15592" y="1204"/>
                  <a:pt x="15587" y="1204"/>
                  <a:pt x="15581" y="1210"/>
                </a:cubicBezTo>
                <a:cubicBezTo>
                  <a:pt x="15581" y="1210"/>
                  <a:pt x="15581" y="1221"/>
                  <a:pt x="15575" y="1221"/>
                </a:cubicBezTo>
                <a:cubicBezTo>
                  <a:pt x="15569" y="1221"/>
                  <a:pt x="15563" y="1215"/>
                  <a:pt x="15557" y="1215"/>
                </a:cubicBezTo>
                <a:cubicBezTo>
                  <a:pt x="15545" y="1215"/>
                  <a:pt x="15545" y="1215"/>
                  <a:pt x="15545" y="1215"/>
                </a:cubicBezTo>
                <a:cubicBezTo>
                  <a:pt x="15539" y="1215"/>
                  <a:pt x="15539" y="1210"/>
                  <a:pt x="15533" y="1210"/>
                </a:cubicBezTo>
                <a:cubicBezTo>
                  <a:pt x="15474" y="1210"/>
                  <a:pt x="15474" y="1210"/>
                  <a:pt x="15474" y="1210"/>
                </a:cubicBezTo>
                <a:cubicBezTo>
                  <a:pt x="15450" y="1215"/>
                  <a:pt x="15450" y="1215"/>
                  <a:pt x="15450" y="1215"/>
                </a:cubicBezTo>
                <a:cubicBezTo>
                  <a:pt x="15438" y="1215"/>
                  <a:pt x="15432" y="1210"/>
                  <a:pt x="15421" y="1210"/>
                </a:cubicBezTo>
                <a:cubicBezTo>
                  <a:pt x="15415" y="1210"/>
                  <a:pt x="15415" y="1210"/>
                  <a:pt x="15409" y="1210"/>
                </a:cubicBezTo>
                <a:lnTo>
                  <a:pt x="15409" y="1221"/>
                </a:lnTo>
                <a:cubicBezTo>
                  <a:pt x="15403" y="1227"/>
                  <a:pt x="15397" y="1221"/>
                  <a:pt x="15385" y="1221"/>
                </a:cubicBezTo>
                <a:cubicBezTo>
                  <a:pt x="15367" y="1221"/>
                  <a:pt x="15367" y="1221"/>
                  <a:pt x="15367" y="1221"/>
                </a:cubicBezTo>
                <a:cubicBezTo>
                  <a:pt x="15367" y="1221"/>
                  <a:pt x="15361" y="1221"/>
                  <a:pt x="15355" y="1221"/>
                </a:cubicBezTo>
                <a:cubicBezTo>
                  <a:pt x="15355" y="1221"/>
                  <a:pt x="15349" y="1221"/>
                  <a:pt x="15344" y="1221"/>
                </a:cubicBezTo>
                <a:cubicBezTo>
                  <a:pt x="15344" y="1215"/>
                  <a:pt x="15349" y="1210"/>
                  <a:pt x="15349" y="1198"/>
                </a:cubicBezTo>
                <a:cubicBezTo>
                  <a:pt x="15349" y="1198"/>
                  <a:pt x="15344" y="1192"/>
                  <a:pt x="15344" y="1186"/>
                </a:cubicBezTo>
                <a:lnTo>
                  <a:pt x="15344" y="1180"/>
                </a:lnTo>
                <a:cubicBezTo>
                  <a:pt x="15326" y="1174"/>
                  <a:pt x="15326" y="1174"/>
                  <a:pt x="15326" y="1174"/>
                </a:cubicBezTo>
                <a:cubicBezTo>
                  <a:pt x="15326" y="1174"/>
                  <a:pt x="15320" y="1174"/>
                  <a:pt x="15314" y="1180"/>
                </a:cubicBezTo>
                <a:cubicBezTo>
                  <a:pt x="15314" y="1180"/>
                  <a:pt x="15314" y="1186"/>
                  <a:pt x="15308" y="1186"/>
                </a:cubicBezTo>
                <a:cubicBezTo>
                  <a:pt x="15302" y="1198"/>
                  <a:pt x="15296" y="1204"/>
                  <a:pt x="15278" y="1204"/>
                </a:cubicBezTo>
                <a:cubicBezTo>
                  <a:pt x="15272" y="1204"/>
                  <a:pt x="15272" y="1204"/>
                  <a:pt x="15266" y="1198"/>
                </a:cubicBezTo>
                <a:cubicBezTo>
                  <a:pt x="15260" y="1198"/>
                  <a:pt x="15255" y="1192"/>
                  <a:pt x="15255" y="1186"/>
                </a:cubicBezTo>
                <a:cubicBezTo>
                  <a:pt x="15255" y="1180"/>
                  <a:pt x="15255" y="1180"/>
                  <a:pt x="15255" y="1180"/>
                </a:cubicBezTo>
                <a:cubicBezTo>
                  <a:pt x="15266" y="1180"/>
                  <a:pt x="15272" y="1180"/>
                  <a:pt x="15278" y="1180"/>
                </a:cubicBezTo>
                <a:cubicBezTo>
                  <a:pt x="15284" y="1180"/>
                  <a:pt x="15284" y="1180"/>
                  <a:pt x="15290" y="1180"/>
                </a:cubicBezTo>
                <a:cubicBezTo>
                  <a:pt x="15296" y="1174"/>
                  <a:pt x="15296" y="1174"/>
                  <a:pt x="15302" y="1168"/>
                </a:cubicBezTo>
                <a:cubicBezTo>
                  <a:pt x="15302" y="1168"/>
                  <a:pt x="15302" y="1162"/>
                  <a:pt x="15308" y="1156"/>
                </a:cubicBezTo>
                <a:cubicBezTo>
                  <a:pt x="15308" y="1156"/>
                  <a:pt x="15314" y="1156"/>
                  <a:pt x="15320" y="1156"/>
                </a:cubicBezTo>
                <a:cubicBezTo>
                  <a:pt x="15320" y="1150"/>
                  <a:pt x="15326" y="1150"/>
                  <a:pt x="15332" y="1150"/>
                </a:cubicBezTo>
                <a:cubicBezTo>
                  <a:pt x="15337" y="1144"/>
                  <a:pt x="15337" y="1138"/>
                  <a:pt x="15337" y="1132"/>
                </a:cubicBezTo>
                <a:cubicBezTo>
                  <a:pt x="15337" y="1127"/>
                  <a:pt x="15337" y="1127"/>
                  <a:pt x="15337" y="1127"/>
                </a:cubicBezTo>
                <a:cubicBezTo>
                  <a:pt x="15337" y="1121"/>
                  <a:pt x="15337" y="1121"/>
                  <a:pt x="15332" y="1115"/>
                </a:cubicBezTo>
                <a:cubicBezTo>
                  <a:pt x="15326" y="1109"/>
                  <a:pt x="15320" y="1115"/>
                  <a:pt x="15314" y="1115"/>
                </a:cubicBezTo>
                <a:cubicBezTo>
                  <a:pt x="15302" y="1115"/>
                  <a:pt x="15296" y="1115"/>
                  <a:pt x="15284" y="1115"/>
                </a:cubicBezTo>
                <a:cubicBezTo>
                  <a:pt x="15284" y="1121"/>
                  <a:pt x="15278" y="1121"/>
                  <a:pt x="15278" y="1127"/>
                </a:cubicBezTo>
                <a:cubicBezTo>
                  <a:pt x="15272" y="1127"/>
                  <a:pt x="15266" y="1127"/>
                  <a:pt x="15266" y="1132"/>
                </a:cubicBezTo>
                <a:cubicBezTo>
                  <a:pt x="15260" y="1132"/>
                  <a:pt x="15260" y="1144"/>
                  <a:pt x="15260" y="1144"/>
                </a:cubicBezTo>
                <a:cubicBezTo>
                  <a:pt x="15255" y="1150"/>
                  <a:pt x="15255" y="1156"/>
                  <a:pt x="15249" y="1156"/>
                </a:cubicBezTo>
                <a:cubicBezTo>
                  <a:pt x="15249" y="1162"/>
                  <a:pt x="15243" y="1162"/>
                  <a:pt x="15237" y="1168"/>
                </a:cubicBezTo>
                <a:cubicBezTo>
                  <a:pt x="15231" y="1168"/>
                  <a:pt x="15231" y="1180"/>
                  <a:pt x="15225" y="1180"/>
                </a:cubicBezTo>
                <a:cubicBezTo>
                  <a:pt x="15154" y="1180"/>
                  <a:pt x="15154" y="1180"/>
                  <a:pt x="15154" y="1180"/>
                </a:cubicBezTo>
                <a:cubicBezTo>
                  <a:pt x="15142" y="1186"/>
                  <a:pt x="15142" y="1186"/>
                  <a:pt x="15142" y="1186"/>
                </a:cubicBezTo>
                <a:lnTo>
                  <a:pt x="15142" y="1192"/>
                </a:lnTo>
                <a:cubicBezTo>
                  <a:pt x="15148" y="1204"/>
                  <a:pt x="15154" y="1204"/>
                  <a:pt x="15154" y="1210"/>
                </a:cubicBezTo>
                <a:cubicBezTo>
                  <a:pt x="15154" y="1215"/>
                  <a:pt x="15154" y="1215"/>
                  <a:pt x="15154" y="1215"/>
                </a:cubicBezTo>
                <a:cubicBezTo>
                  <a:pt x="15154" y="1221"/>
                  <a:pt x="15142" y="1221"/>
                  <a:pt x="15142" y="1221"/>
                </a:cubicBezTo>
                <a:cubicBezTo>
                  <a:pt x="15136" y="1227"/>
                  <a:pt x="15136" y="1233"/>
                  <a:pt x="15130" y="1233"/>
                </a:cubicBezTo>
                <a:cubicBezTo>
                  <a:pt x="15124" y="1239"/>
                  <a:pt x="15118" y="1239"/>
                  <a:pt x="15112" y="1239"/>
                </a:cubicBezTo>
                <a:cubicBezTo>
                  <a:pt x="15106" y="1239"/>
                  <a:pt x="15106" y="1239"/>
                  <a:pt x="15106" y="1239"/>
                </a:cubicBezTo>
                <a:cubicBezTo>
                  <a:pt x="15100" y="1239"/>
                  <a:pt x="15100" y="1233"/>
                  <a:pt x="15094" y="1233"/>
                </a:cubicBezTo>
                <a:cubicBezTo>
                  <a:pt x="15089" y="1233"/>
                  <a:pt x="15083" y="1233"/>
                  <a:pt x="15071" y="1233"/>
                </a:cubicBezTo>
                <a:cubicBezTo>
                  <a:pt x="15065" y="1233"/>
                  <a:pt x="15065" y="1239"/>
                  <a:pt x="15059" y="1239"/>
                </a:cubicBezTo>
                <a:cubicBezTo>
                  <a:pt x="15053" y="1245"/>
                  <a:pt x="15053" y="1245"/>
                  <a:pt x="15047" y="1251"/>
                </a:cubicBezTo>
                <a:cubicBezTo>
                  <a:pt x="15041" y="1251"/>
                  <a:pt x="15035" y="1251"/>
                  <a:pt x="15023" y="1251"/>
                </a:cubicBezTo>
                <a:cubicBezTo>
                  <a:pt x="15000" y="1251"/>
                  <a:pt x="15000" y="1251"/>
                  <a:pt x="15000" y="1251"/>
                </a:cubicBezTo>
                <a:cubicBezTo>
                  <a:pt x="14988" y="1251"/>
                  <a:pt x="14982" y="1257"/>
                  <a:pt x="14970" y="1257"/>
                </a:cubicBezTo>
                <a:cubicBezTo>
                  <a:pt x="14964" y="1257"/>
                  <a:pt x="14964" y="1257"/>
                  <a:pt x="14964" y="1257"/>
                </a:cubicBezTo>
                <a:lnTo>
                  <a:pt x="14964" y="1251"/>
                </a:lnTo>
                <a:cubicBezTo>
                  <a:pt x="14970" y="1251"/>
                  <a:pt x="14976" y="1251"/>
                  <a:pt x="14976" y="1251"/>
                </a:cubicBezTo>
                <a:cubicBezTo>
                  <a:pt x="14982" y="1245"/>
                  <a:pt x="14982" y="1239"/>
                  <a:pt x="14988" y="1239"/>
                </a:cubicBezTo>
                <a:cubicBezTo>
                  <a:pt x="14988" y="1233"/>
                  <a:pt x="14994" y="1233"/>
                  <a:pt x="15000" y="1227"/>
                </a:cubicBezTo>
                <a:cubicBezTo>
                  <a:pt x="15000" y="1227"/>
                  <a:pt x="15005" y="1221"/>
                  <a:pt x="15005" y="1215"/>
                </a:cubicBezTo>
                <a:cubicBezTo>
                  <a:pt x="15012" y="1215"/>
                  <a:pt x="15012" y="1215"/>
                  <a:pt x="15017" y="1210"/>
                </a:cubicBezTo>
                <a:cubicBezTo>
                  <a:pt x="15023" y="1210"/>
                  <a:pt x="15035" y="1215"/>
                  <a:pt x="15041" y="1210"/>
                </a:cubicBezTo>
                <a:cubicBezTo>
                  <a:pt x="15047" y="1210"/>
                  <a:pt x="15047" y="1215"/>
                  <a:pt x="15053" y="1210"/>
                </a:cubicBezTo>
                <a:cubicBezTo>
                  <a:pt x="15059" y="1210"/>
                  <a:pt x="15053" y="1204"/>
                  <a:pt x="15059" y="1198"/>
                </a:cubicBezTo>
                <a:cubicBezTo>
                  <a:pt x="15065" y="1198"/>
                  <a:pt x="15065" y="1192"/>
                  <a:pt x="15071" y="1192"/>
                </a:cubicBezTo>
                <a:cubicBezTo>
                  <a:pt x="15077" y="1186"/>
                  <a:pt x="15089" y="1186"/>
                  <a:pt x="15094" y="1174"/>
                </a:cubicBezTo>
                <a:cubicBezTo>
                  <a:pt x="15100" y="1168"/>
                  <a:pt x="15100" y="1156"/>
                  <a:pt x="15106" y="1150"/>
                </a:cubicBezTo>
                <a:cubicBezTo>
                  <a:pt x="15112" y="1144"/>
                  <a:pt x="15118" y="1144"/>
                  <a:pt x="15130" y="1144"/>
                </a:cubicBezTo>
                <a:cubicBezTo>
                  <a:pt x="15142" y="1144"/>
                  <a:pt x="15142" y="1144"/>
                  <a:pt x="15142" y="1144"/>
                </a:cubicBezTo>
                <a:cubicBezTo>
                  <a:pt x="15148" y="1144"/>
                  <a:pt x="15148" y="1144"/>
                  <a:pt x="15154" y="1144"/>
                </a:cubicBezTo>
                <a:cubicBezTo>
                  <a:pt x="15154" y="1144"/>
                  <a:pt x="15160" y="1144"/>
                  <a:pt x="15166" y="1144"/>
                </a:cubicBezTo>
                <a:cubicBezTo>
                  <a:pt x="15166" y="1144"/>
                  <a:pt x="15171" y="1138"/>
                  <a:pt x="15178" y="1138"/>
                </a:cubicBezTo>
                <a:cubicBezTo>
                  <a:pt x="15178" y="1132"/>
                  <a:pt x="15178" y="1127"/>
                  <a:pt x="15178" y="1127"/>
                </a:cubicBezTo>
                <a:cubicBezTo>
                  <a:pt x="15183" y="1121"/>
                  <a:pt x="15183" y="1121"/>
                  <a:pt x="15189" y="1115"/>
                </a:cubicBezTo>
                <a:cubicBezTo>
                  <a:pt x="15195" y="1109"/>
                  <a:pt x="15201" y="1109"/>
                  <a:pt x="15207" y="1109"/>
                </a:cubicBezTo>
                <a:cubicBezTo>
                  <a:pt x="15219" y="1109"/>
                  <a:pt x="15219" y="1109"/>
                  <a:pt x="15219" y="1109"/>
                </a:cubicBezTo>
                <a:cubicBezTo>
                  <a:pt x="15225" y="1109"/>
                  <a:pt x="15231" y="1109"/>
                  <a:pt x="15231" y="1109"/>
                </a:cubicBezTo>
                <a:cubicBezTo>
                  <a:pt x="15237" y="1109"/>
                  <a:pt x="15243" y="1109"/>
                  <a:pt x="15249" y="1109"/>
                </a:cubicBezTo>
                <a:cubicBezTo>
                  <a:pt x="15249" y="1103"/>
                  <a:pt x="15255" y="1103"/>
                  <a:pt x="15260" y="1103"/>
                </a:cubicBezTo>
                <a:cubicBezTo>
                  <a:pt x="15260" y="1103"/>
                  <a:pt x="15266" y="1097"/>
                  <a:pt x="15272" y="1097"/>
                </a:cubicBezTo>
                <a:cubicBezTo>
                  <a:pt x="15272" y="1091"/>
                  <a:pt x="15278" y="1091"/>
                  <a:pt x="15278" y="1085"/>
                </a:cubicBezTo>
                <a:cubicBezTo>
                  <a:pt x="15284" y="1085"/>
                  <a:pt x="15278" y="1079"/>
                  <a:pt x="15278" y="1073"/>
                </a:cubicBezTo>
                <a:cubicBezTo>
                  <a:pt x="15284" y="1067"/>
                  <a:pt x="15284" y="1061"/>
                  <a:pt x="15284" y="1050"/>
                </a:cubicBezTo>
                <a:cubicBezTo>
                  <a:pt x="15344" y="1050"/>
                  <a:pt x="15344" y="1050"/>
                  <a:pt x="15344" y="1050"/>
                </a:cubicBezTo>
                <a:cubicBezTo>
                  <a:pt x="15344" y="1044"/>
                  <a:pt x="15344" y="1044"/>
                  <a:pt x="15349" y="1032"/>
                </a:cubicBezTo>
                <a:cubicBezTo>
                  <a:pt x="15349" y="1032"/>
                  <a:pt x="15344" y="1026"/>
                  <a:pt x="15349" y="1026"/>
                </a:cubicBezTo>
                <a:cubicBezTo>
                  <a:pt x="15349" y="1020"/>
                  <a:pt x="15349" y="1014"/>
                  <a:pt x="15349" y="1014"/>
                </a:cubicBezTo>
                <a:cubicBezTo>
                  <a:pt x="15355" y="1008"/>
                  <a:pt x="15361" y="1014"/>
                  <a:pt x="15361" y="1014"/>
                </a:cubicBezTo>
                <a:cubicBezTo>
                  <a:pt x="15367" y="1008"/>
                  <a:pt x="15367" y="1008"/>
                  <a:pt x="15367" y="1002"/>
                </a:cubicBezTo>
                <a:cubicBezTo>
                  <a:pt x="15367" y="996"/>
                  <a:pt x="15367" y="990"/>
                  <a:pt x="15367" y="990"/>
                </a:cubicBezTo>
                <a:cubicBezTo>
                  <a:pt x="15367" y="984"/>
                  <a:pt x="15367" y="978"/>
                  <a:pt x="15361" y="978"/>
                </a:cubicBezTo>
                <a:cubicBezTo>
                  <a:pt x="15361" y="972"/>
                  <a:pt x="15355" y="978"/>
                  <a:pt x="15349" y="972"/>
                </a:cubicBezTo>
                <a:cubicBezTo>
                  <a:pt x="15349" y="972"/>
                  <a:pt x="15355" y="966"/>
                  <a:pt x="15349" y="961"/>
                </a:cubicBezTo>
                <a:lnTo>
                  <a:pt x="15349" y="955"/>
                </a:lnTo>
                <a:cubicBezTo>
                  <a:pt x="15344" y="949"/>
                  <a:pt x="15337" y="955"/>
                  <a:pt x="15337" y="955"/>
                </a:cubicBezTo>
                <a:cubicBezTo>
                  <a:pt x="15332" y="949"/>
                  <a:pt x="15337" y="943"/>
                  <a:pt x="15337" y="943"/>
                </a:cubicBezTo>
                <a:cubicBezTo>
                  <a:pt x="15332" y="937"/>
                  <a:pt x="15332" y="931"/>
                  <a:pt x="15332" y="925"/>
                </a:cubicBezTo>
                <a:cubicBezTo>
                  <a:pt x="15326" y="919"/>
                  <a:pt x="15320" y="919"/>
                  <a:pt x="15314" y="913"/>
                </a:cubicBezTo>
                <a:cubicBezTo>
                  <a:pt x="15308" y="913"/>
                  <a:pt x="15308" y="907"/>
                  <a:pt x="15302" y="907"/>
                </a:cubicBezTo>
                <a:cubicBezTo>
                  <a:pt x="15296" y="907"/>
                  <a:pt x="15296" y="907"/>
                  <a:pt x="15290" y="907"/>
                </a:cubicBezTo>
                <a:cubicBezTo>
                  <a:pt x="15284" y="907"/>
                  <a:pt x="15284" y="901"/>
                  <a:pt x="15278" y="901"/>
                </a:cubicBezTo>
                <a:cubicBezTo>
                  <a:pt x="15278" y="889"/>
                  <a:pt x="15278" y="884"/>
                  <a:pt x="15278" y="872"/>
                </a:cubicBezTo>
                <a:cubicBezTo>
                  <a:pt x="15195" y="872"/>
                  <a:pt x="15195" y="872"/>
                  <a:pt x="15195" y="872"/>
                </a:cubicBezTo>
                <a:cubicBezTo>
                  <a:pt x="15183" y="872"/>
                  <a:pt x="15178" y="866"/>
                  <a:pt x="15171" y="866"/>
                </a:cubicBezTo>
                <a:cubicBezTo>
                  <a:pt x="15160" y="860"/>
                  <a:pt x="15154" y="860"/>
                  <a:pt x="15142" y="860"/>
                </a:cubicBezTo>
                <a:cubicBezTo>
                  <a:pt x="15142" y="860"/>
                  <a:pt x="15136" y="860"/>
                  <a:pt x="15130" y="860"/>
                </a:cubicBezTo>
                <a:cubicBezTo>
                  <a:pt x="15130" y="860"/>
                  <a:pt x="15124" y="866"/>
                  <a:pt x="15118" y="866"/>
                </a:cubicBezTo>
                <a:cubicBezTo>
                  <a:pt x="15118" y="866"/>
                  <a:pt x="15118" y="877"/>
                  <a:pt x="15112" y="877"/>
                </a:cubicBezTo>
                <a:cubicBezTo>
                  <a:pt x="15112" y="877"/>
                  <a:pt x="15106" y="877"/>
                  <a:pt x="15100" y="877"/>
                </a:cubicBezTo>
                <a:cubicBezTo>
                  <a:pt x="15094" y="872"/>
                  <a:pt x="15089" y="866"/>
                  <a:pt x="15083" y="860"/>
                </a:cubicBezTo>
                <a:cubicBezTo>
                  <a:pt x="15077" y="860"/>
                  <a:pt x="15071" y="860"/>
                  <a:pt x="15071" y="860"/>
                </a:cubicBezTo>
                <a:cubicBezTo>
                  <a:pt x="15065" y="854"/>
                  <a:pt x="15059" y="854"/>
                  <a:pt x="15053" y="854"/>
                </a:cubicBezTo>
                <a:cubicBezTo>
                  <a:pt x="15047" y="854"/>
                  <a:pt x="15041" y="860"/>
                  <a:pt x="15035" y="860"/>
                </a:cubicBezTo>
                <a:cubicBezTo>
                  <a:pt x="15035" y="889"/>
                  <a:pt x="15035" y="889"/>
                  <a:pt x="15035" y="889"/>
                </a:cubicBezTo>
                <a:cubicBezTo>
                  <a:pt x="15000" y="889"/>
                  <a:pt x="15000" y="889"/>
                  <a:pt x="15000" y="889"/>
                </a:cubicBezTo>
                <a:cubicBezTo>
                  <a:pt x="14988" y="884"/>
                  <a:pt x="14988" y="884"/>
                  <a:pt x="14988" y="884"/>
                </a:cubicBezTo>
                <a:cubicBezTo>
                  <a:pt x="14994" y="877"/>
                  <a:pt x="14994" y="872"/>
                  <a:pt x="14994" y="872"/>
                </a:cubicBezTo>
                <a:cubicBezTo>
                  <a:pt x="15000" y="872"/>
                  <a:pt x="15005" y="872"/>
                  <a:pt x="15005" y="872"/>
                </a:cubicBezTo>
                <a:cubicBezTo>
                  <a:pt x="15012" y="860"/>
                  <a:pt x="15017" y="854"/>
                  <a:pt x="15017" y="848"/>
                </a:cubicBezTo>
                <a:cubicBezTo>
                  <a:pt x="15017" y="842"/>
                  <a:pt x="15017" y="842"/>
                  <a:pt x="15017" y="836"/>
                </a:cubicBezTo>
                <a:cubicBezTo>
                  <a:pt x="14952" y="836"/>
                  <a:pt x="14952" y="836"/>
                  <a:pt x="14952" y="836"/>
                </a:cubicBezTo>
                <a:cubicBezTo>
                  <a:pt x="14946" y="836"/>
                  <a:pt x="14940" y="830"/>
                  <a:pt x="14928" y="830"/>
                </a:cubicBezTo>
                <a:cubicBezTo>
                  <a:pt x="14917" y="830"/>
                  <a:pt x="14911" y="830"/>
                  <a:pt x="14899" y="830"/>
                </a:cubicBezTo>
                <a:lnTo>
                  <a:pt x="14893" y="824"/>
                </a:lnTo>
                <a:cubicBezTo>
                  <a:pt x="14893" y="824"/>
                  <a:pt x="14893" y="818"/>
                  <a:pt x="14893" y="812"/>
                </a:cubicBezTo>
                <a:cubicBezTo>
                  <a:pt x="14899" y="806"/>
                  <a:pt x="14905" y="800"/>
                  <a:pt x="14917" y="795"/>
                </a:cubicBezTo>
                <a:cubicBezTo>
                  <a:pt x="14917" y="795"/>
                  <a:pt x="14923" y="795"/>
                  <a:pt x="14928" y="795"/>
                </a:cubicBezTo>
                <a:cubicBezTo>
                  <a:pt x="14934" y="795"/>
                  <a:pt x="14934" y="789"/>
                  <a:pt x="14940" y="789"/>
                </a:cubicBezTo>
                <a:cubicBezTo>
                  <a:pt x="14940" y="765"/>
                  <a:pt x="14940" y="765"/>
                  <a:pt x="14940" y="765"/>
                </a:cubicBezTo>
                <a:cubicBezTo>
                  <a:pt x="14810" y="765"/>
                  <a:pt x="14810" y="765"/>
                  <a:pt x="14810" y="765"/>
                </a:cubicBezTo>
                <a:cubicBezTo>
                  <a:pt x="14804" y="765"/>
                  <a:pt x="14798" y="765"/>
                  <a:pt x="14798" y="771"/>
                </a:cubicBezTo>
                <a:cubicBezTo>
                  <a:pt x="14786" y="771"/>
                  <a:pt x="14780" y="777"/>
                  <a:pt x="14774" y="777"/>
                </a:cubicBezTo>
                <a:cubicBezTo>
                  <a:pt x="14768" y="777"/>
                  <a:pt x="14762" y="777"/>
                  <a:pt x="14762" y="777"/>
                </a:cubicBezTo>
                <a:cubicBezTo>
                  <a:pt x="14751" y="783"/>
                  <a:pt x="14739" y="783"/>
                  <a:pt x="14727" y="789"/>
                </a:cubicBezTo>
                <a:cubicBezTo>
                  <a:pt x="14721" y="789"/>
                  <a:pt x="14721" y="789"/>
                  <a:pt x="14715" y="795"/>
                </a:cubicBezTo>
                <a:cubicBezTo>
                  <a:pt x="14709" y="795"/>
                  <a:pt x="14709" y="800"/>
                  <a:pt x="14703" y="800"/>
                </a:cubicBezTo>
                <a:cubicBezTo>
                  <a:pt x="14697" y="806"/>
                  <a:pt x="14697" y="806"/>
                  <a:pt x="14697" y="812"/>
                </a:cubicBezTo>
                <a:cubicBezTo>
                  <a:pt x="14697" y="818"/>
                  <a:pt x="14697" y="824"/>
                  <a:pt x="14697" y="824"/>
                </a:cubicBezTo>
                <a:cubicBezTo>
                  <a:pt x="14697" y="830"/>
                  <a:pt x="14697" y="836"/>
                  <a:pt x="14697" y="836"/>
                </a:cubicBezTo>
                <a:cubicBezTo>
                  <a:pt x="14691" y="842"/>
                  <a:pt x="14691" y="848"/>
                  <a:pt x="14685" y="848"/>
                </a:cubicBezTo>
                <a:cubicBezTo>
                  <a:pt x="14679" y="854"/>
                  <a:pt x="14673" y="854"/>
                  <a:pt x="14662" y="860"/>
                </a:cubicBezTo>
                <a:cubicBezTo>
                  <a:pt x="14668" y="866"/>
                  <a:pt x="14668" y="866"/>
                  <a:pt x="14668" y="872"/>
                </a:cubicBezTo>
                <a:cubicBezTo>
                  <a:pt x="14673" y="877"/>
                  <a:pt x="14679" y="877"/>
                  <a:pt x="14679" y="877"/>
                </a:cubicBezTo>
                <a:cubicBezTo>
                  <a:pt x="14679" y="889"/>
                  <a:pt x="14679" y="889"/>
                  <a:pt x="14679" y="889"/>
                </a:cubicBezTo>
                <a:cubicBezTo>
                  <a:pt x="14567" y="889"/>
                  <a:pt x="14567" y="889"/>
                  <a:pt x="14567" y="889"/>
                </a:cubicBezTo>
                <a:cubicBezTo>
                  <a:pt x="14561" y="901"/>
                  <a:pt x="14567" y="907"/>
                  <a:pt x="14561" y="913"/>
                </a:cubicBezTo>
                <a:cubicBezTo>
                  <a:pt x="14549" y="919"/>
                  <a:pt x="14543" y="913"/>
                  <a:pt x="14531" y="919"/>
                </a:cubicBezTo>
                <a:cubicBezTo>
                  <a:pt x="14531" y="925"/>
                  <a:pt x="14537" y="931"/>
                  <a:pt x="14531" y="931"/>
                </a:cubicBezTo>
                <a:cubicBezTo>
                  <a:pt x="14531" y="937"/>
                  <a:pt x="14525" y="943"/>
                  <a:pt x="14525" y="943"/>
                </a:cubicBezTo>
                <a:cubicBezTo>
                  <a:pt x="14519" y="949"/>
                  <a:pt x="14519" y="949"/>
                  <a:pt x="14513" y="949"/>
                </a:cubicBezTo>
                <a:cubicBezTo>
                  <a:pt x="14502" y="955"/>
                  <a:pt x="14496" y="955"/>
                  <a:pt x="14484" y="955"/>
                </a:cubicBezTo>
                <a:cubicBezTo>
                  <a:pt x="14472" y="955"/>
                  <a:pt x="14466" y="955"/>
                  <a:pt x="14460" y="955"/>
                </a:cubicBezTo>
                <a:cubicBezTo>
                  <a:pt x="14460" y="949"/>
                  <a:pt x="14454" y="949"/>
                  <a:pt x="14448" y="949"/>
                </a:cubicBezTo>
                <a:cubicBezTo>
                  <a:pt x="14448" y="943"/>
                  <a:pt x="14442" y="943"/>
                  <a:pt x="14436" y="937"/>
                </a:cubicBezTo>
                <a:cubicBezTo>
                  <a:pt x="14436" y="937"/>
                  <a:pt x="14436" y="931"/>
                  <a:pt x="14430" y="925"/>
                </a:cubicBezTo>
                <a:cubicBezTo>
                  <a:pt x="14424" y="925"/>
                  <a:pt x="14424" y="925"/>
                  <a:pt x="14419" y="925"/>
                </a:cubicBezTo>
                <a:cubicBezTo>
                  <a:pt x="14413" y="925"/>
                  <a:pt x="14413" y="925"/>
                  <a:pt x="14407" y="925"/>
                </a:cubicBezTo>
                <a:cubicBezTo>
                  <a:pt x="14395" y="925"/>
                  <a:pt x="14389" y="925"/>
                  <a:pt x="14377" y="925"/>
                </a:cubicBezTo>
                <a:cubicBezTo>
                  <a:pt x="14365" y="925"/>
                  <a:pt x="14365" y="925"/>
                  <a:pt x="14365" y="925"/>
                </a:cubicBezTo>
                <a:cubicBezTo>
                  <a:pt x="14359" y="925"/>
                  <a:pt x="14353" y="913"/>
                  <a:pt x="14341" y="913"/>
                </a:cubicBezTo>
                <a:cubicBezTo>
                  <a:pt x="14336" y="913"/>
                  <a:pt x="14330" y="919"/>
                  <a:pt x="14330" y="919"/>
                </a:cubicBezTo>
                <a:cubicBezTo>
                  <a:pt x="14324" y="919"/>
                  <a:pt x="14318" y="913"/>
                  <a:pt x="14312" y="919"/>
                </a:cubicBezTo>
                <a:cubicBezTo>
                  <a:pt x="14312" y="925"/>
                  <a:pt x="14306" y="925"/>
                  <a:pt x="14306" y="931"/>
                </a:cubicBezTo>
                <a:cubicBezTo>
                  <a:pt x="14300" y="937"/>
                  <a:pt x="14312" y="943"/>
                  <a:pt x="14306" y="949"/>
                </a:cubicBezTo>
                <a:lnTo>
                  <a:pt x="14306" y="955"/>
                </a:lnTo>
                <a:cubicBezTo>
                  <a:pt x="14306" y="961"/>
                  <a:pt x="14294" y="961"/>
                  <a:pt x="14294" y="961"/>
                </a:cubicBezTo>
                <a:cubicBezTo>
                  <a:pt x="14288" y="966"/>
                  <a:pt x="14282" y="966"/>
                  <a:pt x="14276" y="966"/>
                </a:cubicBezTo>
                <a:cubicBezTo>
                  <a:pt x="14217" y="966"/>
                  <a:pt x="14217" y="966"/>
                  <a:pt x="14217" y="966"/>
                </a:cubicBezTo>
                <a:cubicBezTo>
                  <a:pt x="14205" y="966"/>
                  <a:pt x="14199" y="972"/>
                  <a:pt x="14187" y="978"/>
                </a:cubicBezTo>
                <a:cubicBezTo>
                  <a:pt x="14181" y="984"/>
                  <a:pt x="14175" y="984"/>
                  <a:pt x="14175" y="984"/>
                </a:cubicBezTo>
                <a:cubicBezTo>
                  <a:pt x="14164" y="990"/>
                  <a:pt x="14158" y="996"/>
                  <a:pt x="14152" y="996"/>
                </a:cubicBezTo>
                <a:cubicBezTo>
                  <a:pt x="14146" y="996"/>
                  <a:pt x="14140" y="996"/>
                  <a:pt x="14140" y="1002"/>
                </a:cubicBezTo>
                <a:cubicBezTo>
                  <a:pt x="14134" y="1002"/>
                  <a:pt x="14134" y="1014"/>
                  <a:pt x="14122" y="1014"/>
                </a:cubicBezTo>
                <a:lnTo>
                  <a:pt x="14116" y="1008"/>
                </a:lnTo>
                <a:cubicBezTo>
                  <a:pt x="14110" y="1008"/>
                  <a:pt x="14110" y="996"/>
                  <a:pt x="14110" y="996"/>
                </a:cubicBezTo>
                <a:cubicBezTo>
                  <a:pt x="14104" y="996"/>
                  <a:pt x="14098" y="996"/>
                  <a:pt x="14092" y="996"/>
                </a:cubicBezTo>
                <a:cubicBezTo>
                  <a:pt x="14087" y="996"/>
                  <a:pt x="14081" y="996"/>
                  <a:pt x="14069" y="1002"/>
                </a:cubicBezTo>
                <a:cubicBezTo>
                  <a:pt x="14063" y="1002"/>
                  <a:pt x="14063" y="1008"/>
                  <a:pt x="14057" y="1008"/>
                </a:cubicBezTo>
                <a:cubicBezTo>
                  <a:pt x="14051" y="1014"/>
                  <a:pt x="14045" y="1014"/>
                  <a:pt x="14039" y="1020"/>
                </a:cubicBezTo>
                <a:cubicBezTo>
                  <a:pt x="14033" y="1026"/>
                  <a:pt x="14033" y="1032"/>
                  <a:pt x="14027" y="1032"/>
                </a:cubicBezTo>
                <a:cubicBezTo>
                  <a:pt x="14021" y="1032"/>
                  <a:pt x="14015" y="1032"/>
                  <a:pt x="14015" y="1032"/>
                </a:cubicBezTo>
                <a:cubicBezTo>
                  <a:pt x="14009" y="1038"/>
                  <a:pt x="14003" y="1032"/>
                  <a:pt x="13998" y="1032"/>
                </a:cubicBezTo>
                <a:cubicBezTo>
                  <a:pt x="13986" y="1032"/>
                  <a:pt x="13980" y="1032"/>
                  <a:pt x="13968" y="1038"/>
                </a:cubicBezTo>
                <a:cubicBezTo>
                  <a:pt x="13962" y="1038"/>
                  <a:pt x="13956" y="1044"/>
                  <a:pt x="13950" y="1050"/>
                </a:cubicBezTo>
                <a:cubicBezTo>
                  <a:pt x="13944" y="1050"/>
                  <a:pt x="13944" y="1055"/>
                  <a:pt x="13938" y="1061"/>
                </a:cubicBezTo>
                <a:cubicBezTo>
                  <a:pt x="13938" y="1067"/>
                  <a:pt x="13938" y="1073"/>
                  <a:pt x="13938" y="1073"/>
                </a:cubicBezTo>
                <a:cubicBezTo>
                  <a:pt x="13932" y="1079"/>
                  <a:pt x="13932" y="1085"/>
                  <a:pt x="13932" y="1085"/>
                </a:cubicBezTo>
                <a:cubicBezTo>
                  <a:pt x="13926" y="1085"/>
                  <a:pt x="13921" y="1085"/>
                  <a:pt x="13921" y="1085"/>
                </a:cubicBezTo>
                <a:cubicBezTo>
                  <a:pt x="13915" y="1085"/>
                  <a:pt x="13909" y="1085"/>
                  <a:pt x="13903" y="1085"/>
                </a:cubicBezTo>
                <a:cubicBezTo>
                  <a:pt x="13903" y="1085"/>
                  <a:pt x="13897" y="1091"/>
                  <a:pt x="13891" y="1091"/>
                </a:cubicBezTo>
                <a:lnTo>
                  <a:pt x="13885" y="1091"/>
                </a:lnTo>
                <a:cubicBezTo>
                  <a:pt x="13879" y="1091"/>
                  <a:pt x="13873" y="1091"/>
                  <a:pt x="13873" y="1097"/>
                </a:cubicBezTo>
                <a:cubicBezTo>
                  <a:pt x="13867" y="1097"/>
                  <a:pt x="13861" y="1097"/>
                  <a:pt x="13861" y="1109"/>
                </a:cubicBezTo>
                <a:cubicBezTo>
                  <a:pt x="13861" y="1115"/>
                  <a:pt x="13867" y="1121"/>
                  <a:pt x="13873" y="1127"/>
                </a:cubicBezTo>
                <a:cubicBezTo>
                  <a:pt x="13873" y="1132"/>
                  <a:pt x="13879" y="1132"/>
                  <a:pt x="13885" y="1132"/>
                </a:cubicBezTo>
                <a:cubicBezTo>
                  <a:pt x="13891" y="1138"/>
                  <a:pt x="13897" y="1138"/>
                  <a:pt x="13909" y="1144"/>
                </a:cubicBezTo>
                <a:cubicBezTo>
                  <a:pt x="13915" y="1144"/>
                  <a:pt x="13915" y="1144"/>
                  <a:pt x="13921" y="1150"/>
                </a:cubicBezTo>
                <a:cubicBezTo>
                  <a:pt x="13921" y="1150"/>
                  <a:pt x="13921" y="1156"/>
                  <a:pt x="13921" y="1162"/>
                </a:cubicBezTo>
                <a:cubicBezTo>
                  <a:pt x="13921" y="1174"/>
                  <a:pt x="13921" y="1174"/>
                  <a:pt x="13921" y="1174"/>
                </a:cubicBezTo>
                <a:cubicBezTo>
                  <a:pt x="13921" y="1174"/>
                  <a:pt x="13915" y="1180"/>
                  <a:pt x="13909" y="1186"/>
                </a:cubicBezTo>
                <a:cubicBezTo>
                  <a:pt x="13909" y="1180"/>
                  <a:pt x="13903" y="1180"/>
                  <a:pt x="13897" y="1180"/>
                </a:cubicBezTo>
                <a:cubicBezTo>
                  <a:pt x="13885" y="1180"/>
                  <a:pt x="13879" y="1174"/>
                  <a:pt x="13861" y="1174"/>
                </a:cubicBezTo>
                <a:cubicBezTo>
                  <a:pt x="13855" y="1174"/>
                  <a:pt x="13849" y="1174"/>
                  <a:pt x="13837" y="1180"/>
                </a:cubicBezTo>
                <a:cubicBezTo>
                  <a:pt x="13837" y="1180"/>
                  <a:pt x="13832" y="1180"/>
                  <a:pt x="13826" y="1180"/>
                </a:cubicBezTo>
                <a:cubicBezTo>
                  <a:pt x="13826" y="1180"/>
                  <a:pt x="13826" y="1186"/>
                  <a:pt x="13820" y="1192"/>
                </a:cubicBezTo>
                <a:cubicBezTo>
                  <a:pt x="13814" y="1192"/>
                  <a:pt x="13814" y="1198"/>
                  <a:pt x="13808" y="1198"/>
                </a:cubicBezTo>
                <a:cubicBezTo>
                  <a:pt x="13802" y="1204"/>
                  <a:pt x="13802" y="1198"/>
                  <a:pt x="13796" y="1198"/>
                </a:cubicBezTo>
                <a:cubicBezTo>
                  <a:pt x="13790" y="1198"/>
                  <a:pt x="13790" y="1204"/>
                  <a:pt x="13784" y="1198"/>
                </a:cubicBezTo>
                <a:cubicBezTo>
                  <a:pt x="13778" y="1198"/>
                  <a:pt x="13778" y="1186"/>
                  <a:pt x="13772" y="1186"/>
                </a:cubicBezTo>
                <a:cubicBezTo>
                  <a:pt x="13760" y="1186"/>
                  <a:pt x="13755" y="1192"/>
                  <a:pt x="13737" y="1192"/>
                </a:cubicBezTo>
                <a:cubicBezTo>
                  <a:pt x="13731" y="1192"/>
                  <a:pt x="13725" y="1192"/>
                  <a:pt x="13719" y="1192"/>
                </a:cubicBezTo>
                <a:cubicBezTo>
                  <a:pt x="13713" y="1192"/>
                  <a:pt x="13707" y="1192"/>
                  <a:pt x="13707" y="1192"/>
                </a:cubicBezTo>
                <a:cubicBezTo>
                  <a:pt x="13701" y="1198"/>
                  <a:pt x="13695" y="1198"/>
                  <a:pt x="13695" y="1198"/>
                </a:cubicBezTo>
                <a:cubicBezTo>
                  <a:pt x="13642" y="1198"/>
                  <a:pt x="13642" y="1198"/>
                  <a:pt x="13642" y="1198"/>
                </a:cubicBezTo>
                <a:cubicBezTo>
                  <a:pt x="13636" y="1198"/>
                  <a:pt x="13630" y="1198"/>
                  <a:pt x="13630" y="1198"/>
                </a:cubicBezTo>
                <a:cubicBezTo>
                  <a:pt x="13624" y="1198"/>
                  <a:pt x="13618" y="1198"/>
                  <a:pt x="13618" y="1198"/>
                </a:cubicBezTo>
                <a:cubicBezTo>
                  <a:pt x="13612" y="1204"/>
                  <a:pt x="13618" y="1210"/>
                  <a:pt x="13612" y="1210"/>
                </a:cubicBezTo>
                <a:cubicBezTo>
                  <a:pt x="13612" y="1215"/>
                  <a:pt x="13606" y="1221"/>
                  <a:pt x="13606" y="1221"/>
                </a:cubicBezTo>
                <a:cubicBezTo>
                  <a:pt x="13547" y="1221"/>
                  <a:pt x="13547" y="1221"/>
                  <a:pt x="13547" y="1221"/>
                </a:cubicBezTo>
                <a:cubicBezTo>
                  <a:pt x="13535" y="1221"/>
                  <a:pt x="13535" y="1233"/>
                  <a:pt x="13523" y="1239"/>
                </a:cubicBezTo>
                <a:cubicBezTo>
                  <a:pt x="13529" y="1245"/>
                  <a:pt x="13529" y="1245"/>
                  <a:pt x="13529" y="1251"/>
                </a:cubicBezTo>
                <a:cubicBezTo>
                  <a:pt x="13535" y="1257"/>
                  <a:pt x="13541" y="1257"/>
                  <a:pt x="13541" y="1263"/>
                </a:cubicBezTo>
                <a:cubicBezTo>
                  <a:pt x="13547" y="1269"/>
                  <a:pt x="13553" y="1269"/>
                  <a:pt x="13553" y="1275"/>
                </a:cubicBezTo>
                <a:cubicBezTo>
                  <a:pt x="13559" y="1281"/>
                  <a:pt x="13565" y="1281"/>
                  <a:pt x="13565" y="1281"/>
                </a:cubicBezTo>
                <a:cubicBezTo>
                  <a:pt x="13565" y="1293"/>
                  <a:pt x="13565" y="1299"/>
                  <a:pt x="13565" y="1304"/>
                </a:cubicBezTo>
                <a:cubicBezTo>
                  <a:pt x="13565" y="1310"/>
                  <a:pt x="13565" y="1316"/>
                  <a:pt x="13565" y="1316"/>
                </a:cubicBezTo>
                <a:cubicBezTo>
                  <a:pt x="13565" y="1322"/>
                  <a:pt x="13571" y="1322"/>
                  <a:pt x="13571" y="1328"/>
                </a:cubicBezTo>
                <a:cubicBezTo>
                  <a:pt x="13571" y="1334"/>
                  <a:pt x="13571" y="1340"/>
                  <a:pt x="13577" y="1340"/>
                </a:cubicBezTo>
                <a:cubicBezTo>
                  <a:pt x="13582" y="1346"/>
                  <a:pt x="13589" y="1340"/>
                  <a:pt x="13600" y="1340"/>
                </a:cubicBezTo>
                <a:cubicBezTo>
                  <a:pt x="13618" y="1340"/>
                  <a:pt x="13618" y="1340"/>
                  <a:pt x="13618" y="1340"/>
                </a:cubicBezTo>
                <a:cubicBezTo>
                  <a:pt x="13624" y="1340"/>
                  <a:pt x="13630" y="1340"/>
                  <a:pt x="13636" y="1340"/>
                </a:cubicBezTo>
                <a:cubicBezTo>
                  <a:pt x="13636" y="1340"/>
                  <a:pt x="13642" y="1346"/>
                  <a:pt x="13648" y="1346"/>
                </a:cubicBezTo>
                <a:cubicBezTo>
                  <a:pt x="13648" y="1346"/>
                  <a:pt x="13648" y="1352"/>
                  <a:pt x="13654" y="1358"/>
                </a:cubicBezTo>
                <a:cubicBezTo>
                  <a:pt x="13660" y="1364"/>
                  <a:pt x="13666" y="1364"/>
                  <a:pt x="13666" y="1370"/>
                </a:cubicBezTo>
                <a:cubicBezTo>
                  <a:pt x="13666" y="1370"/>
                  <a:pt x="13666" y="1376"/>
                  <a:pt x="13666" y="1382"/>
                </a:cubicBezTo>
                <a:cubicBezTo>
                  <a:pt x="13666" y="1393"/>
                  <a:pt x="13666" y="1393"/>
                  <a:pt x="13666" y="1393"/>
                </a:cubicBezTo>
                <a:cubicBezTo>
                  <a:pt x="13666" y="1405"/>
                  <a:pt x="13654" y="1411"/>
                  <a:pt x="13642" y="1411"/>
                </a:cubicBezTo>
                <a:cubicBezTo>
                  <a:pt x="13630" y="1411"/>
                  <a:pt x="13630" y="1405"/>
                  <a:pt x="13624" y="1405"/>
                </a:cubicBezTo>
                <a:cubicBezTo>
                  <a:pt x="13618" y="1399"/>
                  <a:pt x="13612" y="1399"/>
                  <a:pt x="13612" y="1399"/>
                </a:cubicBezTo>
                <a:cubicBezTo>
                  <a:pt x="13606" y="1393"/>
                  <a:pt x="13612" y="1387"/>
                  <a:pt x="13606" y="1387"/>
                </a:cubicBezTo>
                <a:cubicBezTo>
                  <a:pt x="13600" y="1382"/>
                  <a:pt x="13600" y="1387"/>
                  <a:pt x="13594" y="1387"/>
                </a:cubicBezTo>
                <a:cubicBezTo>
                  <a:pt x="13589" y="1382"/>
                  <a:pt x="13582" y="1382"/>
                  <a:pt x="13582" y="1382"/>
                </a:cubicBezTo>
                <a:cubicBezTo>
                  <a:pt x="13577" y="1382"/>
                  <a:pt x="13571" y="1382"/>
                  <a:pt x="13571" y="1376"/>
                </a:cubicBezTo>
                <a:cubicBezTo>
                  <a:pt x="13565" y="1376"/>
                  <a:pt x="13559" y="1376"/>
                  <a:pt x="13559" y="1376"/>
                </a:cubicBezTo>
                <a:cubicBezTo>
                  <a:pt x="13553" y="1370"/>
                  <a:pt x="13559" y="1364"/>
                  <a:pt x="13553" y="1364"/>
                </a:cubicBezTo>
                <a:cubicBezTo>
                  <a:pt x="13553" y="1358"/>
                  <a:pt x="13553" y="1358"/>
                  <a:pt x="13553" y="1352"/>
                </a:cubicBezTo>
                <a:cubicBezTo>
                  <a:pt x="13547" y="1346"/>
                  <a:pt x="13541" y="1346"/>
                  <a:pt x="13541" y="1346"/>
                </a:cubicBezTo>
                <a:cubicBezTo>
                  <a:pt x="13470" y="1346"/>
                  <a:pt x="13470" y="1346"/>
                  <a:pt x="13470" y="1346"/>
                </a:cubicBezTo>
                <a:cubicBezTo>
                  <a:pt x="13464" y="1346"/>
                  <a:pt x="13458" y="1340"/>
                  <a:pt x="13446" y="1334"/>
                </a:cubicBezTo>
                <a:lnTo>
                  <a:pt x="13446" y="1322"/>
                </a:lnTo>
                <a:cubicBezTo>
                  <a:pt x="13440" y="1316"/>
                  <a:pt x="13428" y="1316"/>
                  <a:pt x="13423" y="1316"/>
                </a:cubicBezTo>
                <a:cubicBezTo>
                  <a:pt x="13416" y="1316"/>
                  <a:pt x="13416" y="1316"/>
                  <a:pt x="13411" y="1316"/>
                </a:cubicBezTo>
                <a:cubicBezTo>
                  <a:pt x="13405" y="1316"/>
                  <a:pt x="13405" y="1322"/>
                  <a:pt x="13399" y="1328"/>
                </a:cubicBezTo>
                <a:cubicBezTo>
                  <a:pt x="13399" y="1328"/>
                  <a:pt x="13393" y="1328"/>
                  <a:pt x="13387" y="1328"/>
                </a:cubicBezTo>
                <a:cubicBezTo>
                  <a:pt x="13375" y="1334"/>
                  <a:pt x="13369" y="1334"/>
                  <a:pt x="13351" y="1340"/>
                </a:cubicBezTo>
                <a:cubicBezTo>
                  <a:pt x="13357" y="1346"/>
                  <a:pt x="13357" y="1346"/>
                  <a:pt x="13357" y="1346"/>
                </a:cubicBezTo>
                <a:cubicBezTo>
                  <a:pt x="13363" y="1352"/>
                  <a:pt x="13363" y="1352"/>
                  <a:pt x="13369" y="1352"/>
                </a:cubicBezTo>
                <a:cubicBezTo>
                  <a:pt x="13375" y="1352"/>
                  <a:pt x="13381" y="1352"/>
                  <a:pt x="13393" y="1352"/>
                </a:cubicBezTo>
                <a:cubicBezTo>
                  <a:pt x="13393" y="1352"/>
                  <a:pt x="13399" y="1352"/>
                  <a:pt x="13405" y="1352"/>
                </a:cubicBezTo>
                <a:cubicBezTo>
                  <a:pt x="13405" y="1352"/>
                  <a:pt x="13411" y="1358"/>
                  <a:pt x="13411" y="1364"/>
                </a:cubicBezTo>
                <a:cubicBezTo>
                  <a:pt x="13416" y="1370"/>
                  <a:pt x="13423" y="1370"/>
                  <a:pt x="13423" y="1376"/>
                </a:cubicBezTo>
                <a:cubicBezTo>
                  <a:pt x="13423" y="1382"/>
                  <a:pt x="13416" y="1382"/>
                  <a:pt x="13416" y="1387"/>
                </a:cubicBezTo>
                <a:cubicBezTo>
                  <a:pt x="13405" y="1387"/>
                  <a:pt x="13399" y="1387"/>
                  <a:pt x="13387" y="1382"/>
                </a:cubicBezTo>
                <a:cubicBezTo>
                  <a:pt x="13387" y="1382"/>
                  <a:pt x="13381" y="1382"/>
                  <a:pt x="13375" y="1382"/>
                </a:cubicBezTo>
                <a:cubicBezTo>
                  <a:pt x="13369" y="1376"/>
                  <a:pt x="13375" y="1370"/>
                  <a:pt x="13369" y="1370"/>
                </a:cubicBezTo>
                <a:cubicBezTo>
                  <a:pt x="13363" y="1364"/>
                  <a:pt x="13357" y="1370"/>
                  <a:pt x="13351" y="1370"/>
                </a:cubicBezTo>
                <a:cubicBezTo>
                  <a:pt x="13345" y="1370"/>
                  <a:pt x="13345" y="1370"/>
                  <a:pt x="13345" y="1370"/>
                </a:cubicBezTo>
                <a:cubicBezTo>
                  <a:pt x="13339" y="1370"/>
                  <a:pt x="13334" y="1364"/>
                  <a:pt x="13334" y="1370"/>
                </a:cubicBezTo>
                <a:cubicBezTo>
                  <a:pt x="13328" y="1370"/>
                  <a:pt x="13328" y="1376"/>
                  <a:pt x="13328" y="1382"/>
                </a:cubicBezTo>
                <a:cubicBezTo>
                  <a:pt x="13322" y="1382"/>
                  <a:pt x="13322" y="1387"/>
                  <a:pt x="13322" y="1393"/>
                </a:cubicBezTo>
                <a:cubicBezTo>
                  <a:pt x="13322" y="1399"/>
                  <a:pt x="13310" y="1399"/>
                  <a:pt x="13310" y="1405"/>
                </a:cubicBezTo>
                <a:cubicBezTo>
                  <a:pt x="13310" y="1417"/>
                  <a:pt x="13328" y="1429"/>
                  <a:pt x="13339" y="1429"/>
                </a:cubicBezTo>
                <a:cubicBezTo>
                  <a:pt x="13345" y="1429"/>
                  <a:pt x="13351" y="1429"/>
                  <a:pt x="13363" y="1429"/>
                </a:cubicBezTo>
                <a:cubicBezTo>
                  <a:pt x="13369" y="1429"/>
                  <a:pt x="13369" y="1429"/>
                  <a:pt x="13375" y="1429"/>
                </a:cubicBezTo>
                <a:cubicBezTo>
                  <a:pt x="13387" y="1435"/>
                  <a:pt x="13399" y="1441"/>
                  <a:pt x="13411" y="1447"/>
                </a:cubicBezTo>
                <a:cubicBezTo>
                  <a:pt x="13411" y="1447"/>
                  <a:pt x="13411" y="1453"/>
                  <a:pt x="13416" y="1459"/>
                </a:cubicBezTo>
                <a:cubicBezTo>
                  <a:pt x="13423" y="1459"/>
                  <a:pt x="13423" y="1459"/>
                  <a:pt x="13428" y="1459"/>
                </a:cubicBezTo>
                <a:cubicBezTo>
                  <a:pt x="13434" y="1465"/>
                  <a:pt x="13434" y="1465"/>
                  <a:pt x="13440" y="1465"/>
                </a:cubicBezTo>
                <a:cubicBezTo>
                  <a:pt x="13440" y="1470"/>
                  <a:pt x="13446" y="1470"/>
                  <a:pt x="13446" y="1476"/>
                </a:cubicBezTo>
                <a:cubicBezTo>
                  <a:pt x="13446" y="1482"/>
                  <a:pt x="13440" y="1482"/>
                  <a:pt x="13440" y="1488"/>
                </a:cubicBezTo>
                <a:cubicBezTo>
                  <a:pt x="13434" y="1482"/>
                  <a:pt x="13434" y="1476"/>
                  <a:pt x="13428" y="1470"/>
                </a:cubicBezTo>
                <a:cubicBezTo>
                  <a:pt x="13423" y="1470"/>
                  <a:pt x="13411" y="1470"/>
                  <a:pt x="13405" y="1470"/>
                </a:cubicBezTo>
                <a:cubicBezTo>
                  <a:pt x="13399" y="1465"/>
                  <a:pt x="13399" y="1459"/>
                  <a:pt x="13393" y="1459"/>
                </a:cubicBezTo>
                <a:cubicBezTo>
                  <a:pt x="13393" y="1459"/>
                  <a:pt x="13387" y="1459"/>
                  <a:pt x="13381" y="1459"/>
                </a:cubicBezTo>
                <a:cubicBezTo>
                  <a:pt x="13381" y="1459"/>
                  <a:pt x="13375" y="1459"/>
                  <a:pt x="13369" y="1459"/>
                </a:cubicBezTo>
                <a:cubicBezTo>
                  <a:pt x="13369" y="1459"/>
                  <a:pt x="13363" y="1453"/>
                  <a:pt x="13357" y="1453"/>
                </a:cubicBezTo>
                <a:lnTo>
                  <a:pt x="13351" y="1447"/>
                </a:lnTo>
                <a:cubicBezTo>
                  <a:pt x="13334" y="1447"/>
                  <a:pt x="13328" y="1453"/>
                  <a:pt x="13316" y="1447"/>
                </a:cubicBezTo>
                <a:cubicBezTo>
                  <a:pt x="13304" y="1447"/>
                  <a:pt x="13298" y="1447"/>
                  <a:pt x="13292" y="1441"/>
                </a:cubicBezTo>
                <a:cubicBezTo>
                  <a:pt x="13286" y="1435"/>
                  <a:pt x="13280" y="1435"/>
                  <a:pt x="13280" y="1429"/>
                </a:cubicBezTo>
                <a:cubicBezTo>
                  <a:pt x="13280" y="1423"/>
                  <a:pt x="13274" y="1423"/>
                  <a:pt x="13274" y="1417"/>
                </a:cubicBezTo>
                <a:cubicBezTo>
                  <a:pt x="13274" y="1411"/>
                  <a:pt x="13274" y="1411"/>
                  <a:pt x="13274" y="1405"/>
                </a:cubicBezTo>
                <a:cubicBezTo>
                  <a:pt x="13274" y="1382"/>
                  <a:pt x="13274" y="1382"/>
                  <a:pt x="13274" y="1382"/>
                </a:cubicBezTo>
                <a:cubicBezTo>
                  <a:pt x="13274" y="1376"/>
                  <a:pt x="13274" y="1370"/>
                  <a:pt x="13274" y="1358"/>
                </a:cubicBezTo>
                <a:cubicBezTo>
                  <a:pt x="13274" y="1358"/>
                  <a:pt x="13280" y="1352"/>
                  <a:pt x="13280" y="1346"/>
                </a:cubicBezTo>
                <a:cubicBezTo>
                  <a:pt x="13286" y="1346"/>
                  <a:pt x="13280" y="1340"/>
                  <a:pt x="13280" y="1340"/>
                </a:cubicBezTo>
                <a:cubicBezTo>
                  <a:pt x="13280" y="1334"/>
                  <a:pt x="13286" y="1328"/>
                  <a:pt x="13280" y="1328"/>
                </a:cubicBezTo>
                <a:cubicBezTo>
                  <a:pt x="13280" y="1322"/>
                  <a:pt x="13280" y="1316"/>
                  <a:pt x="13280" y="1316"/>
                </a:cubicBezTo>
                <a:cubicBezTo>
                  <a:pt x="13280" y="1310"/>
                  <a:pt x="13268" y="1310"/>
                  <a:pt x="13268" y="1310"/>
                </a:cubicBezTo>
                <a:cubicBezTo>
                  <a:pt x="13268" y="1304"/>
                  <a:pt x="13268" y="1299"/>
                  <a:pt x="13268" y="1299"/>
                </a:cubicBezTo>
                <a:cubicBezTo>
                  <a:pt x="13262" y="1287"/>
                  <a:pt x="13262" y="1281"/>
                  <a:pt x="13257" y="1275"/>
                </a:cubicBezTo>
                <a:cubicBezTo>
                  <a:pt x="13250" y="1275"/>
                  <a:pt x="13250" y="1281"/>
                  <a:pt x="13245" y="1281"/>
                </a:cubicBezTo>
                <a:cubicBezTo>
                  <a:pt x="13239" y="1281"/>
                  <a:pt x="13239" y="1281"/>
                  <a:pt x="13233" y="1281"/>
                </a:cubicBezTo>
                <a:cubicBezTo>
                  <a:pt x="13233" y="1287"/>
                  <a:pt x="13233" y="1293"/>
                  <a:pt x="13233" y="1299"/>
                </a:cubicBezTo>
                <a:cubicBezTo>
                  <a:pt x="13233" y="1299"/>
                  <a:pt x="13239" y="1304"/>
                  <a:pt x="13239" y="1310"/>
                </a:cubicBezTo>
                <a:cubicBezTo>
                  <a:pt x="13239" y="1322"/>
                  <a:pt x="13239" y="1328"/>
                  <a:pt x="13239" y="1340"/>
                </a:cubicBezTo>
                <a:cubicBezTo>
                  <a:pt x="13239" y="1346"/>
                  <a:pt x="13233" y="1352"/>
                  <a:pt x="13233" y="1352"/>
                </a:cubicBezTo>
                <a:cubicBezTo>
                  <a:pt x="13233" y="1370"/>
                  <a:pt x="13233" y="1370"/>
                  <a:pt x="13233" y="1370"/>
                </a:cubicBezTo>
                <a:cubicBezTo>
                  <a:pt x="13227" y="1370"/>
                  <a:pt x="13221" y="1364"/>
                  <a:pt x="13209" y="1364"/>
                </a:cubicBezTo>
                <a:cubicBezTo>
                  <a:pt x="13203" y="1364"/>
                  <a:pt x="13203" y="1370"/>
                  <a:pt x="13197" y="1370"/>
                </a:cubicBezTo>
                <a:cubicBezTo>
                  <a:pt x="13191" y="1370"/>
                  <a:pt x="13191" y="1370"/>
                  <a:pt x="13185" y="1370"/>
                </a:cubicBezTo>
                <a:cubicBezTo>
                  <a:pt x="13185" y="1376"/>
                  <a:pt x="13185" y="1382"/>
                  <a:pt x="13185" y="1387"/>
                </a:cubicBezTo>
                <a:cubicBezTo>
                  <a:pt x="13185" y="1387"/>
                  <a:pt x="13185" y="1393"/>
                  <a:pt x="13185" y="1399"/>
                </a:cubicBezTo>
                <a:cubicBezTo>
                  <a:pt x="13179" y="1399"/>
                  <a:pt x="13173" y="1399"/>
                  <a:pt x="13173" y="1405"/>
                </a:cubicBezTo>
                <a:cubicBezTo>
                  <a:pt x="13168" y="1405"/>
                  <a:pt x="13162" y="1405"/>
                  <a:pt x="13162" y="1405"/>
                </a:cubicBezTo>
                <a:cubicBezTo>
                  <a:pt x="13150" y="1411"/>
                  <a:pt x="13144" y="1417"/>
                  <a:pt x="13144" y="1429"/>
                </a:cubicBezTo>
                <a:cubicBezTo>
                  <a:pt x="13144" y="1435"/>
                  <a:pt x="13144" y="1435"/>
                  <a:pt x="13144" y="1435"/>
                </a:cubicBezTo>
                <a:cubicBezTo>
                  <a:pt x="13150" y="1453"/>
                  <a:pt x="13162" y="1459"/>
                  <a:pt x="13173" y="1470"/>
                </a:cubicBezTo>
                <a:cubicBezTo>
                  <a:pt x="13179" y="1476"/>
                  <a:pt x="13185" y="1476"/>
                  <a:pt x="13191" y="1488"/>
                </a:cubicBezTo>
                <a:cubicBezTo>
                  <a:pt x="13191" y="1494"/>
                  <a:pt x="13191" y="1494"/>
                  <a:pt x="13191" y="1500"/>
                </a:cubicBezTo>
                <a:cubicBezTo>
                  <a:pt x="13191" y="1506"/>
                  <a:pt x="13197" y="1512"/>
                  <a:pt x="13197" y="1524"/>
                </a:cubicBezTo>
                <a:cubicBezTo>
                  <a:pt x="13197" y="1530"/>
                  <a:pt x="13197" y="1530"/>
                  <a:pt x="13197" y="1536"/>
                </a:cubicBezTo>
                <a:cubicBezTo>
                  <a:pt x="13191" y="1536"/>
                  <a:pt x="13191" y="1542"/>
                  <a:pt x="13191" y="1548"/>
                </a:cubicBezTo>
                <a:cubicBezTo>
                  <a:pt x="13185" y="1554"/>
                  <a:pt x="13173" y="1554"/>
                  <a:pt x="13173" y="1565"/>
                </a:cubicBezTo>
                <a:cubicBezTo>
                  <a:pt x="13173" y="1571"/>
                  <a:pt x="13173" y="1571"/>
                  <a:pt x="13173" y="1571"/>
                </a:cubicBezTo>
                <a:lnTo>
                  <a:pt x="13179" y="1577"/>
                </a:lnTo>
                <a:cubicBezTo>
                  <a:pt x="13179" y="1583"/>
                  <a:pt x="13179" y="1589"/>
                  <a:pt x="13185" y="1595"/>
                </a:cubicBezTo>
                <a:cubicBezTo>
                  <a:pt x="13185" y="1595"/>
                  <a:pt x="13185" y="1601"/>
                  <a:pt x="13185" y="1607"/>
                </a:cubicBezTo>
                <a:cubicBezTo>
                  <a:pt x="13185" y="1613"/>
                  <a:pt x="13179" y="1613"/>
                  <a:pt x="13179" y="1619"/>
                </a:cubicBezTo>
                <a:cubicBezTo>
                  <a:pt x="13179" y="1619"/>
                  <a:pt x="13179" y="1625"/>
                  <a:pt x="13185" y="1631"/>
                </a:cubicBezTo>
                <a:cubicBezTo>
                  <a:pt x="13185" y="1636"/>
                  <a:pt x="13191" y="1642"/>
                  <a:pt x="13197" y="1648"/>
                </a:cubicBezTo>
                <a:cubicBezTo>
                  <a:pt x="13197" y="1654"/>
                  <a:pt x="13203" y="1654"/>
                  <a:pt x="13209" y="1654"/>
                </a:cubicBezTo>
                <a:cubicBezTo>
                  <a:pt x="13262" y="1654"/>
                  <a:pt x="13262" y="1654"/>
                  <a:pt x="13262" y="1654"/>
                </a:cubicBezTo>
                <a:cubicBezTo>
                  <a:pt x="13268" y="1654"/>
                  <a:pt x="13268" y="1648"/>
                  <a:pt x="13274" y="1648"/>
                </a:cubicBezTo>
                <a:cubicBezTo>
                  <a:pt x="13274" y="1642"/>
                  <a:pt x="13280" y="1642"/>
                  <a:pt x="13280" y="1636"/>
                </a:cubicBezTo>
                <a:cubicBezTo>
                  <a:pt x="13286" y="1631"/>
                  <a:pt x="13286" y="1625"/>
                  <a:pt x="13292" y="1625"/>
                </a:cubicBezTo>
                <a:cubicBezTo>
                  <a:pt x="13298" y="1625"/>
                  <a:pt x="13298" y="1625"/>
                  <a:pt x="13298" y="1625"/>
                </a:cubicBezTo>
                <a:cubicBezTo>
                  <a:pt x="13304" y="1625"/>
                  <a:pt x="13310" y="1625"/>
                  <a:pt x="13310" y="1631"/>
                </a:cubicBezTo>
                <a:cubicBezTo>
                  <a:pt x="13316" y="1631"/>
                  <a:pt x="13316" y="1636"/>
                  <a:pt x="13322" y="1642"/>
                </a:cubicBezTo>
                <a:cubicBezTo>
                  <a:pt x="13328" y="1648"/>
                  <a:pt x="13334" y="1648"/>
                  <a:pt x="13345" y="1654"/>
                </a:cubicBezTo>
                <a:lnTo>
                  <a:pt x="13351" y="1654"/>
                </a:lnTo>
                <a:cubicBezTo>
                  <a:pt x="13357" y="1660"/>
                  <a:pt x="13363" y="1660"/>
                  <a:pt x="13363" y="1666"/>
                </a:cubicBezTo>
                <a:cubicBezTo>
                  <a:pt x="13369" y="1672"/>
                  <a:pt x="13369" y="1678"/>
                  <a:pt x="13375" y="1690"/>
                </a:cubicBezTo>
                <a:cubicBezTo>
                  <a:pt x="13381" y="1696"/>
                  <a:pt x="13387" y="1702"/>
                  <a:pt x="13399" y="1708"/>
                </a:cubicBezTo>
                <a:cubicBezTo>
                  <a:pt x="13399" y="1714"/>
                  <a:pt x="13405" y="1714"/>
                  <a:pt x="13411" y="1720"/>
                </a:cubicBezTo>
                <a:lnTo>
                  <a:pt x="13416" y="1725"/>
                </a:lnTo>
                <a:cubicBezTo>
                  <a:pt x="13416" y="1737"/>
                  <a:pt x="13411" y="1743"/>
                  <a:pt x="13411" y="1749"/>
                </a:cubicBezTo>
                <a:cubicBezTo>
                  <a:pt x="13405" y="1755"/>
                  <a:pt x="13405" y="1761"/>
                  <a:pt x="13399" y="1761"/>
                </a:cubicBezTo>
                <a:cubicBezTo>
                  <a:pt x="13399" y="1767"/>
                  <a:pt x="13387" y="1767"/>
                  <a:pt x="13387" y="1773"/>
                </a:cubicBezTo>
                <a:cubicBezTo>
                  <a:pt x="13387" y="1779"/>
                  <a:pt x="13393" y="1779"/>
                  <a:pt x="13393" y="1785"/>
                </a:cubicBezTo>
                <a:cubicBezTo>
                  <a:pt x="13399" y="1785"/>
                  <a:pt x="13405" y="1779"/>
                  <a:pt x="13405" y="1785"/>
                </a:cubicBezTo>
                <a:cubicBezTo>
                  <a:pt x="13416" y="1791"/>
                  <a:pt x="13416" y="1791"/>
                  <a:pt x="13416" y="1791"/>
                </a:cubicBezTo>
                <a:cubicBezTo>
                  <a:pt x="13423" y="1791"/>
                  <a:pt x="13423" y="1797"/>
                  <a:pt x="13428" y="1802"/>
                </a:cubicBezTo>
                <a:cubicBezTo>
                  <a:pt x="13434" y="1802"/>
                  <a:pt x="13446" y="1802"/>
                  <a:pt x="13458" y="1802"/>
                </a:cubicBezTo>
                <a:cubicBezTo>
                  <a:pt x="13464" y="1802"/>
                  <a:pt x="13464" y="1802"/>
                  <a:pt x="13470" y="1802"/>
                </a:cubicBezTo>
                <a:cubicBezTo>
                  <a:pt x="13464" y="1814"/>
                  <a:pt x="13464" y="1814"/>
                  <a:pt x="13464" y="1814"/>
                </a:cubicBezTo>
                <a:cubicBezTo>
                  <a:pt x="13458" y="1820"/>
                  <a:pt x="13458" y="1820"/>
                  <a:pt x="13452" y="1820"/>
                </a:cubicBezTo>
                <a:cubicBezTo>
                  <a:pt x="13446" y="1826"/>
                  <a:pt x="13434" y="1826"/>
                  <a:pt x="13428" y="1826"/>
                </a:cubicBezTo>
                <a:cubicBezTo>
                  <a:pt x="13416" y="1826"/>
                  <a:pt x="13416" y="1826"/>
                  <a:pt x="13416" y="1826"/>
                </a:cubicBezTo>
                <a:cubicBezTo>
                  <a:pt x="13411" y="1826"/>
                  <a:pt x="13411" y="1820"/>
                  <a:pt x="13405" y="1814"/>
                </a:cubicBezTo>
                <a:cubicBezTo>
                  <a:pt x="13399" y="1814"/>
                  <a:pt x="13399" y="1809"/>
                  <a:pt x="13393" y="1809"/>
                </a:cubicBezTo>
                <a:cubicBezTo>
                  <a:pt x="13393" y="1809"/>
                  <a:pt x="13387" y="1809"/>
                  <a:pt x="13381" y="1802"/>
                </a:cubicBezTo>
                <a:cubicBezTo>
                  <a:pt x="13375" y="1802"/>
                  <a:pt x="13375" y="1791"/>
                  <a:pt x="13375" y="1779"/>
                </a:cubicBezTo>
                <a:cubicBezTo>
                  <a:pt x="13375" y="1761"/>
                  <a:pt x="13375" y="1761"/>
                  <a:pt x="13375" y="1761"/>
                </a:cubicBezTo>
                <a:cubicBezTo>
                  <a:pt x="13375" y="1755"/>
                  <a:pt x="13381" y="1755"/>
                  <a:pt x="13381" y="1749"/>
                </a:cubicBezTo>
                <a:cubicBezTo>
                  <a:pt x="13381" y="1737"/>
                  <a:pt x="13369" y="1731"/>
                  <a:pt x="13363" y="1725"/>
                </a:cubicBezTo>
                <a:cubicBezTo>
                  <a:pt x="13357" y="1720"/>
                  <a:pt x="13351" y="1725"/>
                  <a:pt x="13351" y="1720"/>
                </a:cubicBezTo>
                <a:cubicBezTo>
                  <a:pt x="13351" y="1714"/>
                  <a:pt x="13351" y="1714"/>
                  <a:pt x="13351" y="1708"/>
                </a:cubicBezTo>
                <a:cubicBezTo>
                  <a:pt x="13351" y="1702"/>
                  <a:pt x="13345" y="1702"/>
                  <a:pt x="13345" y="1696"/>
                </a:cubicBezTo>
                <a:cubicBezTo>
                  <a:pt x="13339" y="1696"/>
                  <a:pt x="13334" y="1696"/>
                  <a:pt x="13334" y="1696"/>
                </a:cubicBezTo>
                <a:cubicBezTo>
                  <a:pt x="13328" y="1690"/>
                  <a:pt x="13322" y="1690"/>
                  <a:pt x="13316" y="1690"/>
                </a:cubicBezTo>
                <a:cubicBezTo>
                  <a:pt x="13310" y="1690"/>
                  <a:pt x="13304" y="1690"/>
                  <a:pt x="13292" y="1690"/>
                </a:cubicBezTo>
                <a:cubicBezTo>
                  <a:pt x="13280" y="1690"/>
                  <a:pt x="13274" y="1690"/>
                  <a:pt x="13262" y="1690"/>
                </a:cubicBezTo>
                <a:cubicBezTo>
                  <a:pt x="13257" y="1690"/>
                  <a:pt x="13250" y="1690"/>
                  <a:pt x="13250" y="1690"/>
                </a:cubicBezTo>
                <a:cubicBezTo>
                  <a:pt x="13245" y="1690"/>
                  <a:pt x="13239" y="1696"/>
                  <a:pt x="13239" y="1696"/>
                </a:cubicBezTo>
                <a:cubicBezTo>
                  <a:pt x="13233" y="1696"/>
                  <a:pt x="13227" y="1702"/>
                  <a:pt x="13227" y="1702"/>
                </a:cubicBezTo>
                <a:cubicBezTo>
                  <a:pt x="13221" y="1708"/>
                  <a:pt x="13215" y="1708"/>
                  <a:pt x="13215" y="1714"/>
                </a:cubicBezTo>
                <a:cubicBezTo>
                  <a:pt x="13215" y="1720"/>
                  <a:pt x="13215" y="1720"/>
                  <a:pt x="13215" y="1725"/>
                </a:cubicBezTo>
                <a:cubicBezTo>
                  <a:pt x="13215" y="1731"/>
                  <a:pt x="13221" y="1731"/>
                  <a:pt x="13221" y="1737"/>
                </a:cubicBezTo>
                <a:cubicBezTo>
                  <a:pt x="13221" y="1749"/>
                  <a:pt x="13227" y="1755"/>
                  <a:pt x="13227" y="1767"/>
                </a:cubicBezTo>
                <a:cubicBezTo>
                  <a:pt x="13227" y="1779"/>
                  <a:pt x="13227" y="1785"/>
                  <a:pt x="13221" y="1797"/>
                </a:cubicBezTo>
                <a:lnTo>
                  <a:pt x="13221" y="1802"/>
                </a:lnTo>
                <a:cubicBezTo>
                  <a:pt x="13215" y="1809"/>
                  <a:pt x="13215" y="1814"/>
                  <a:pt x="13209" y="1814"/>
                </a:cubicBezTo>
                <a:cubicBezTo>
                  <a:pt x="13203" y="1820"/>
                  <a:pt x="13203" y="1820"/>
                  <a:pt x="13197" y="1826"/>
                </a:cubicBezTo>
                <a:cubicBezTo>
                  <a:pt x="13191" y="1832"/>
                  <a:pt x="13185" y="1832"/>
                  <a:pt x="13185" y="1838"/>
                </a:cubicBezTo>
                <a:cubicBezTo>
                  <a:pt x="13179" y="1838"/>
                  <a:pt x="13173" y="1838"/>
                  <a:pt x="13173" y="1844"/>
                </a:cubicBezTo>
                <a:cubicBezTo>
                  <a:pt x="13168" y="1856"/>
                  <a:pt x="13173" y="1862"/>
                  <a:pt x="13173" y="1874"/>
                </a:cubicBezTo>
                <a:cubicBezTo>
                  <a:pt x="13162" y="1874"/>
                  <a:pt x="13156" y="1874"/>
                  <a:pt x="13150" y="1874"/>
                </a:cubicBezTo>
                <a:cubicBezTo>
                  <a:pt x="13132" y="1880"/>
                  <a:pt x="13126" y="1886"/>
                  <a:pt x="13114" y="1891"/>
                </a:cubicBezTo>
                <a:cubicBezTo>
                  <a:pt x="13108" y="1897"/>
                  <a:pt x="13096" y="1897"/>
                  <a:pt x="13090" y="1909"/>
                </a:cubicBezTo>
                <a:cubicBezTo>
                  <a:pt x="13090" y="1909"/>
                  <a:pt x="13090" y="1915"/>
                  <a:pt x="13090" y="1921"/>
                </a:cubicBezTo>
                <a:cubicBezTo>
                  <a:pt x="13090" y="1921"/>
                  <a:pt x="13084" y="1927"/>
                  <a:pt x="13084" y="1933"/>
                </a:cubicBezTo>
                <a:cubicBezTo>
                  <a:pt x="13079" y="1933"/>
                  <a:pt x="13079" y="1933"/>
                  <a:pt x="13073" y="1933"/>
                </a:cubicBezTo>
                <a:cubicBezTo>
                  <a:pt x="13061" y="1933"/>
                  <a:pt x="13055" y="1933"/>
                  <a:pt x="13049" y="1927"/>
                </a:cubicBezTo>
                <a:cubicBezTo>
                  <a:pt x="13043" y="1927"/>
                  <a:pt x="13043" y="1921"/>
                  <a:pt x="13037" y="1921"/>
                </a:cubicBezTo>
                <a:cubicBezTo>
                  <a:pt x="13031" y="1921"/>
                  <a:pt x="13031" y="1921"/>
                  <a:pt x="13025" y="1921"/>
                </a:cubicBezTo>
                <a:cubicBezTo>
                  <a:pt x="13019" y="1915"/>
                  <a:pt x="13019" y="1909"/>
                  <a:pt x="13013" y="1909"/>
                </a:cubicBezTo>
                <a:cubicBezTo>
                  <a:pt x="12948" y="1909"/>
                  <a:pt x="12948" y="1909"/>
                  <a:pt x="12948" y="1909"/>
                </a:cubicBezTo>
                <a:cubicBezTo>
                  <a:pt x="12936" y="1903"/>
                  <a:pt x="12936" y="1903"/>
                  <a:pt x="12936" y="1903"/>
                </a:cubicBezTo>
                <a:cubicBezTo>
                  <a:pt x="12936" y="1903"/>
                  <a:pt x="12942" y="1897"/>
                  <a:pt x="12942" y="1891"/>
                </a:cubicBezTo>
                <a:cubicBezTo>
                  <a:pt x="12948" y="1891"/>
                  <a:pt x="12948" y="1886"/>
                  <a:pt x="12954" y="1880"/>
                </a:cubicBezTo>
                <a:cubicBezTo>
                  <a:pt x="12960" y="1880"/>
                  <a:pt x="12960" y="1880"/>
                  <a:pt x="12966" y="1880"/>
                </a:cubicBezTo>
                <a:cubicBezTo>
                  <a:pt x="12978" y="1880"/>
                  <a:pt x="12978" y="1880"/>
                  <a:pt x="12984" y="1880"/>
                </a:cubicBezTo>
                <a:cubicBezTo>
                  <a:pt x="12990" y="1886"/>
                  <a:pt x="12996" y="1886"/>
                  <a:pt x="12996" y="1886"/>
                </a:cubicBezTo>
                <a:cubicBezTo>
                  <a:pt x="13007" y="1891"/>
                  <a:pt x="13013" y="1886"/>
                  <a:pt x="13019" y="1886"/>
                </a:cubicBezTo>
                <a:cubicBezTo>
                  <a:pt x="13031" y="1886"/>
                  <a:pt x="13037" y="1891"/>
                  <a:pt x="13043" y="1886"/>
                </a:cubicBezTo>
                <a:cubicBezTo>
                  <a:pt x="13049" y="1886"/>
                  <a:pt x="13049" y="1880"/>
                  <a:pt x="13055" y="1880"/>
                </a:cubicBezTo>
                <a:cubicBezTo>
                  <a:pt x="13061" y="1880"/>
                  <a:pt x="13061" y="1874"/>
                  <a:pt x="13067" y="1874"/>
                </a:cubicBezTo>
                <a:cubicBezTo>
                  <a:pt x="13067" y="1868"/>
                  <a:pt x="13073" y="1868"/>
                  <a:pt x="13079" y="1862"/>
                </a:cubicBezTo>
                <a:cubicBezTo>
                  <a:pt x="13084" y="1856"/>
                  <a:pt x="13084" y="1844"/>
                  <a:pt x="13090" y="1838"/>
                </a:cubicBezTo>
                <a:cubicBezTo>
                  <a:pt x="13090" y="1838"/>
                  <a:pt x="13096" y="1838"/>
                  <a:pt x="13102" y="1832"/>
                </a:cubicBezTo>
                <a:cubicBezTo>
                  <a:pt x="13108" y="1826"/>
                  <a:pt x="13114" y="1820"/>
                  <a:pt x="13120" y="1814"/>
                </a:cubicBezTo>
                <a:cubicBezTo>
                  <a:pt x="13120" y="1809"/>
                  <a:pt x="13120" y="1802"/>
                  <a:pt x="13120" y="1802"/>
                </a:cubicBezTo>
                <a:cubicBezTo>
                  <a:pt x="13126" y="1797"/>
                  <a:pt x="13132" y="1802"/>
                  <a:pt x="13132" y="1797"/>
                </a:cubicBezTo>
                <a:cubicBezTo>
                  <a:pt x="13138" y="1797"/>
                  <a:pt x="13144" y="1797"/>
                  <a:pt x="13144" y="1791"/>
                </a:cubicBezTo>
                <a:cubicBezTo>
                  <a:pt x="13150" y="1791"/>
                  <a:pt x="13144" y="1785"/>
                  <a:pt x="13144" y="1779"/>
                </a:cubicBezTo>
                <a:cubicBezTo>
                  <a:pt x="13144" y="1779"/>
                  <a:pt x="13150" y="1773"/>
                  <a:pt x="13150" y="1767"/>
                </a:cubicBezTo>
                <a:cubicBezTo>
                  <a:pt x="13150" y="1761"/>
                  <a:pt x="13156" y="1755"/>
                  <a:pt x="13156" y="1743"/>
                </a:cubicBezTo>
                <a:cubicBezTo>
                  <a:pt x="13156" y="1743"/>
                  <a:pt x="13162" y="1737"/>
                  <a:pt x="13162" y="1731"/>
                </a:cubicBezTo>
                <a:lnTo>
                  <a:pt x="13162" y="1725"/>
                </a:lnTo>
                <a:cubicBezTo>
                  <a:pt x="13162" y="1720"/>
                  <a:pt x="13168" y="1720"/>
                  <a:pt x="13168" y="1714"/>
                </a:cubicBezTo>
                <a:cubicBezTo>
                  <a:pt x="13168" y="1708"/>
                  <a:pt x="13168" y="1702"/>
                  <a:pt x="13168" y="1696"/>
                </a:cubicBezTo>
                <a:cubicBezTo>
                  <a:pt x="13156" y="1696"/>
                  <a:pt x="13150" y="1702"/>
                  <a:pt x="13144" y="1702"/>
                </a:cubicBezTo>
                <a:cubicBezTo>
                  <a:pt x="13138" y="1702"/>
                  <a:pt x="13132" y="1696"/>
                  <a:pt x="13126" y="1696"/>
                </a:cubicBezTo>
                <a:cubicBezTo>
                  <a:pt x="13126" y="1696"/>
                  <a:pt x="13120" y="1690"/>
                  <a:pt x="13114" y="1690"/>
                </a:cubicBezTo>
                <a:cubicBezTo>
                  <a:pt x="13108" y="1690"/>
                  <a:pt x="13108" y="1684"/>
                  <a:pt x="13108" y="1678"/>
                </a:cubicBezTo>
                <a:cubicBezTo>
                  <a:pt x="13102" y="1672"/>
                  <a:pt x="13102" y="1666"/>
                  <a:pt x="13102" y="1660"/>
                </a:cubicBezTo>
                <a:cubicBezTo>
                  <a:pt x="13102" y="1648"/>
                  <a:pt x="13108" y="1648"/>
                  <a:pt x="13108" y="1636"/>
                </a:cubicBezTo>
                <a:cubicBezTo>
                  <a:pt x="13108" y="1619"/>
                  <a:pt x="13108" y="1613"/>
                  <a:pt x="13108" y="1601"/>
                </a:cubicBezTo>
                <a:cubicBezTo>
                  <a:pt x="13108" y="1589"/>
                  <a:pt x="13108" y="1589"/>
                  <a:pt x="13108" y="1589"/>
                </a:cubicBezTo>
                <a:cubicBezTo>
                  <a:pt x="13108" y="1577"/>
                  <a:pt x="13114" y="1571"/>
                  <a:pt x="13114" y="1565"/>
                </a:cubicBezTo>
                <a:cubicBezTo>
                  <a:pt x="13120" y="1554"/>
                  <a:pt x="13120" y="1548"/>
                  <a:pt x="13120" y="1530"/>
                </a:cubicBezTo>
                <a:cubicBezTo>
                  <a:pt x="13120" y="1530"/>
                  <a:pt x="13120" y="1524"/>
                  <a:pt x="13120" y="1518"/>
                </a:cubicBezTo>
                <a:cubicBezTo>
                  <a:pt x="13120" y="1512"/>
                  <a:pt x="13114" y="1506"/>
                  <a:pt x="13108" y="1494"/>
                </a:cubicBezTo>
                <a:lnTo>
                  <a:pt x="13108" y="1488"/>
                </a:lnTo>
                <a:cubicBezTo>
                  <a:pt x="13102" y="1476"/>
                  <a:pt x="13102" y="1470"/>
                  <a:pt x="13096" y="1465"/>
                </a:cubicBezTo>
                <a:cubicBezTo>
                  <a:pt x="13096" y="1459"/>
                  <a:pt x="13090" y="1453"/>
                  <a:pt x="13090" y="1453"/>
                </a:cubicBezTo>
                <a:cubicBezTo>
                  <a:pt x="13084" y="1447"/>
                  <a:pt x="13084" y="1447"/>
                  <a:pt x="13084" y="1441"/>
                </a:cubicBezTo>
                <a:cubicBezTo>
                  <a:pt x="13084" y="1370"/>
                  <a:pt x="13084" y="1370"/>
                  <a:pt x="13084" y="1370"/>
                </a:cubicBezTo>
                <a:cubicBezTo>
                  <a:pt x="13090" y="1370"/>
                  <a:pt x="13096" y="1370"/>
                  <a:pt x="13108" y="1370"/>
                </a:cubicBezTo>
                <a:cubicBezTo>
                  <a:pt x="13108" y="1370"/>
                  <a:pt x="13114" y="1370"/>
                  <a:pt x="13120" y="1370"/>
                </a:cubicBezTo>
                <a:lnTo>
                  <a:pt x="13120" y="1370"/>
                </a:lnTo>
                <a:cubicBezTo>
                  <a:pt x="13120" y="1299"/>
                  <a:pt x="13120" y="1299"/>
                  <a:pt x="13120" y="1299"/>
                </a:cubicBezTo>
                <a:cubicBezTo>
                  <a:pt x="13108" y="1299"/>
                  <a:pt x="13102" y="1299"/>
                  <a:pt x="13090" y="1299"/>
                </a:cubicBezTo>
                <a:cubicBezTo>
                  <a:pt x="13084" y="1299"/>
                  <a:pt x="13084" y="1287"/>
                  <a:pt x="13079" y="1287"/>
                </a:cubicBezTo>
                <a:cubicBezTo>
                  <a:pt x="13079" y="1287"/>
                  <a:pt x="13073" y="1281"/>
                  <a:pt x="13067" y="1281"/>
                </a:cubicBezTo>
                <a:cubicBezTo>
                  <a:pt x="13061" y="1281"/>
                  <a:pt x="13055" y="1281"/>
                  <a:pt x="13043" y="1281"/>
                </a:cubicBezTo>
                <a:cubicBezTo>
                  <a:pt x="13025" y="1281"/>
                  <a:pt x="13025" y="1281"/>
                  <a:pt x="13025" y="1281"/>
                </a:cubicBezTo>
                <a:cubicBezTo>
                  <a:pt x="13019" y="1281"/>
                  <a:pt x="13013" y="1281"/>
                  <a:pt x="13007" y="1281"/>
                </a:cubicBezTo>
                <a:cubicBezTo>
                  <a:pt x="12996" y="1281"/>
                  <a:pt x="12990" y="1281"/>
                  <a:pt x="12978" y="1287"/>
                </a:cubicBezTo>
                <a:cubicBezTo>
                  <a:pt x="12972" y="1287"/>
                  <a:pt x="12972" y="1293"/>
                  <a:pt x="12966" y="1293"/>
                </a:cubicBezTo>
                <a:cubicBezTo>
                  <a:pt x="12960" y="1299"/>
                  <a:pt x="12960" y="1299"/>
                  <a:pt x="12954" y="1299"/>
                </a:cubicBezTo>
                <a:cubicBezTo>
                  <a:pt x="12948" y="1299"/>
                  <a:pt x="12948" y="1299"/>
                  <a:pt x="12942" y="1299"/>
                </a:cubicBezTo>
                <a:cubicBezTo>
                  <a:pt x="12936" y="1299"/>
                  <a:pt x="12930" y="1299"/>
                  <a:pt x="12918" y="1299"/>
                </a:cubicBezTo>
                <a:cubicBezTo>
                  <a:pt x="12918" y="1299"/>
                  <a:pt x="12913" y="1304"/>
                  <a:pt x="12907" y="1304"/>
                </a:cubicBezTo>
                <a:cubicBezTo>
                  <a:pt x="12907" y="1316"/>
                  <a:pt x="12907" y="1322"/>
                  <a:pt x="12907" y="1340"/>
                </a:cubicBezTo>
                <a:cubicBezTo>
                  <a:pt x="12907" y="1340"/>
                  <a:pt x="12907" y="1346"/>
                  <a:pt x="12907" y="1352"/>
                </a:cubicBezTo>
                <a:cubicBezTo>
                  <a:pt x="12907" y="1358"/>
                  <a:pt x="12901" y="1364"/>
                  <a:pt x="12895" y="1376"/>
                </a:cubicBezTo>
                <a:cubicBezTo>
                  <a:pt x="12889" y="1382"/>
                  <a:pt x="12889" y="1382"/>
                  <a:pt x="12889" y="1387"/>
                </a:cubicBezTo>
                <a:cubicBezTo>
                  <a:pt x="12877" y="1393"/>
                  <a:pt x="12871" y="1399"/>
                  <a:pt x="12865" y="1411"/>
                </a:cubicBezTo>
                <a:cubicBezTo>
                  <a:pt x="12865" y="1417"/>
                  <a:pt x="12865" y="1423"/>
                  <a:pt x="12859" y="1429"/>
                </a:cubicBezTo>
                <a:cubicBezTo>
                  <a:pt x="12859" y="1435"/>
                  <a:pt x="12859" y="1441"/>
                  <a:pt x="12853" y="1447"/>
                </a:cubicBezTo>
                <a:cubicBezTo>
                  <a:pt x="12853" y="1447"/>
                  <a:pt x="12847" y="1447"/>
                  <a:pt x="12841" y="1447"/>
                </a:cubicBezTo>
                <a:cubicBezTo>
                  <a:pt x="12835" y="1453"/>
                  <a:pt x="12830" y="1447"/>
                  <a:pt x="12818" y="1447"/>
                </a:cubicBezTo>
                <a:cubicBezTo>
                  <a:pt x="12812" y="1447"/>
                  <a:pt x="12812" y="1447"/>
                  <a:pt x="12812" y="1447"/>
                </a:cubicBezTo>
                <a:cubicBezTo>
                  <a:pt x="12806" y="1447"/>
                  <a:pt x="12800" y="1453"/>
                  <a:pt x="12800" y="1453"/>
                </a:cubicBezTo>
                <a:cubicBezTo>
                  <a:pt x="12794" y="1459"/>
                  <a:pt x="12794" y="1465"/>
                  <a:pt x="12794" y="1470"/>
                </a:cubicBezTo>
                <a:cubicBezTo>
                  <a:pt x="12794" y="1476"/>
                  <a:pt x="12794" y="1476"/>
                  <a:pt x="12794" y="1476"/>
                </a:cubicBezTo>
                <a:cubicBezTo>
                  <a:pt x="12794" y="1482"/>
                  <a:pt x="12794" y="1488"/>
                  <a:pt x="12794" y="1494"/>
                </a:cubicBezTo>
                <a:cubicBezTo>
                  <a:pt x="12794" y="1494"/>
                  <a:pt x="12806" y="1488"/>
                  <a:pt x="12806" y="1494"/>
                </a:cubicBezTo>
                <a:cubicBezTo>
                  <a:pt x="12812" y="1500"/>
                  <a:pt x="12824" y="1500"/>
                  <a:pt x="12824" y="1512"/>
                </a:cubicBezTo>
                <a:cubicBezTo>
                  <a:pt x="12830" y="1518"/>
                  <a:pt x="12830" y="1524"/>
                  <a:pt x="12830" y="1536"/>
                </a:cubicBezTo>
                <a:cubicBezTo>
                  <a:pt x="12830" y="1542"/>
                  <a:pt x="12830" y="1554"/>
                  <a:pt x="12824" y="1559"/>
                </a:cubicBezTo>
                <a:cubicBezTo>
                  <a:pt x="12818" y="1559"/>
                  <a:pt x="12812" y="1559"/>
                  <a:pt x="12812" y="1559"/>
                </a:cubicBezTo>
                <a:cubicBezTo>
                  <a:pt x="12806" y="1565"/>
                  <a:pt x="12806" y="1565"/>
                  <a:pt x="12800" y="1565"/>
                </a:cubicBezTo>
                <a:cubicBezTo>
                  <a:pt x="12794" y="1571"/>
                  <a:pt x="12800" y="1577"/>
                  <a:pt x="12800" y="1583"/>
                </a:cubicBezTo>
                <a:cubicBezTo>
                  <a:pt x="12800" y="1589"/>
                  <a:pt x="12800" y="1595"/>
                  <a:pt x="12800" y="1607"/>
                </a:cubicBezTo>
                <a:cubicBezTo>
                  <a:pt x="12812" y="1607"/>
                  <a:pt x="12812" y="1607"/>
                  <a:pt x="12824" y="1607"/>
                </a:cubicBezTo>
                <a:cubicBezTo>
                  <a:pt x="12830" y="1607"/>
                  <a:pt x="12830" y="1601"/>
                  <a:pt x="12835" y="1607"/>
                </a:cubicBezTo>
                <a:cubicBezTo>
                  <a:pt x="12841" y="1607"/>
                  <a:pt x="12841" y="1613"/>
                  <a:pt x="12847" y="1613"/>
                </a:cubicBezTo>
                <a:cubicBezTo>
                  <a:pt x="12847" y="1619"/>
                  <a:pt x="12853" y="1619"/>
                  <a:pt x="12853" y="1625"/>
                </a:cubicBezTo>
                <a:cubicBezTo>
                  <a:pt x="12853" y="1631"/>
                  <a:pt x="12853" y="1631"/>
                  <a:pt x="12853" y="1636"/>
                </a:cubicBezTo>
                <a:cubicBezTo>
                  <a:pt x="12859" y="1642"/>
                  <a:pt x="12859" y="1642"/>
                  <a:pt x="12859" y="1648"/>
                </a:cubicBezTo>
                <a:cubicBezTo>
                  <a:pt x="12865" y="1654"/>
                  <a:pt x="12871" y="1648"/>
                  <a:pt x="12871" y="1654"/>
                </a:cubicBezTo>
                <a:cubicBezTo>
                  <a:pt x="12877" y="1660"/>
                  <a:pt x="12877" y="1660"/>
                  <a:pt x="12883" y="1666"/>
                </a:cubicBezTo>
                <a:lnTo>
                  <a:pt x="12889" y="1666"/>
                </a:lnTo>
                <a:cubicBezTo>
                  <a:pt x="12901" y="1672"/>
                  <a:pt x="12907" y="1684"/>
                  <a:pt x="12913" y="1690"/>
                </a:cubicBezTo>
                <a:cubicBezTo>
                  <a:pt x="12913" y="1690"/>
                  <a:pt x="12918" y="1690"/>
                  <a:pt x="12924" y="1696"/>
                </a:cubicBezTo>
                <a:cubicBezTo>
                  <a:pt x="12924" y="1696"/>
                  <a:pt x="12924" y="1702"/>
                  <a:pt x="12924" y="1708"/>
                </a:cubicBezTo>
                <a:cubicBezTo>
                  <a:pt x="12924" y="1708"/>
                  <a:pt x="12924" y="1714"/>
                  <a:pt x="12924" y="1720"/>
                </a:cubicBezTo>
                <a:cubicBezTo>
                  <a:pt x="12924" y="1725"/>
                  <a:pt x="12913" y="1725"/>
                  <a:pt x="12913" y="1725"/>
                </a:cubicBezTo>
                <a:cubicBezTo>
                  <a:pt x="12907" y="1731"/>
                  <a:pt x="12913" y="1737"/>
                  <a:pt x="12907" y="1737"/>
                </a:cubicBezTo>
                <a:cubicBezTo>
                  <a:pt x="12907" y="1743"/>
                  <a:pt x="12901" y="1737"/>
                  <a:pt x="12895" y="1737"/>
                </a:cubicBezTo>
                <a:cubicBezTo>
                  <a:pt x="12889" y="1737"/>
                  <a:pt x="12889" y="1737"/>
                  <a:pt x="12889" y="1737"/>
                </a:cubicBezTo>
                <a:cubicBezTo>
                  <a:pt x="12877" y="1737"/>
                  <a:pt x="12871" y="1743"/>
                  <a:pt x="12865" y="1737"/>
                </a:cubicBezTo>
                <a:cubicBezTo>
                  <a:pt x="12853" y="1737"/>
                  <a:pt x="12847" y="1731"/>
                  <a:pt x="12841" y="1725"/>
                </a:cubicBezTo>
                <a:cubicBezTo>
                  <a:pt x="12830" y="1720"/>
                  <a:pt x="12824" y="1708"/>
                  <a:pt x="12824" y="1690"/>
                </a:cubicBezTo>
                <a:cubicBezTo>
                  <a:pt x="12818" y="1690"/>
                  <a:pt x="12812" y="1684"/>
                  <a:pt x="12806" y="1684"/>
                </a:cubicBezTo>
                <a:cubicBezTo>
                  <a:pt x="12788" y="1684"/>
                  <a:pt x="12782" y="1684"/>
                  <a:pt x="12770" y="1678"/>
                </a:cubicBezTo>
                <a:cubicBezTo>
                  <a:pt x="12764" y="1678"/>
                  <a:pt x="12764" y="1672"/>
                  <a:pt x="12758" y="1666"/>
                </a:cubicBezTo>
                <a:cubicBezTo>
                  <a:pt x="12758" y="1666"/>
                  <a:pt x="12752" y="1660"/>
                  <a:pt x="12747" y="1660"/>
                </a:cubicBezTo>
                <a:cubicBezTo>
                  <a:pt x="12741" y="1654"/>
                  <a:pt x="12735" y="1660"/>
                  <a:pt x="12729" y="1660"/>
                </a:cubicBezTo>
                <a:cubicBezTo>
                  <a:pt x="12723" y="1660"/>
                  <a:pt x="12717" y="1654"/>
                  <a:pt x="12717" y="1654"/>
                </a:cubicBezTo>
                <a:cubicBezTo>
                  <a:pt x="12705" y="1654"/>
                  <a:pt x="12699" y="1654"/>
                  <a:pt x="12693" y="1654"/>
                </a:cubicBezTo>
                <a:cubicBezTo>
                  <a:pt x="12687" y="1654"/>
                  <a:pt x="12681" y="1648"/>
                  <a:pt x="12681" y="1642"/>
                </a:cubicBezTo>
                <a:cubicBezTo>
                  <a:pt x="12675" y="1636"/>
                  <a:pt x="12681" y="1631"/>
                  <a:pt x="12675" y="1631"/>
                </a:cubicBezTo>
                <a:cubicBezTo>
                  <a:pt x="12669" y="1625"/>
                  <a:pt x="12669" y="1625"/>
                  <a:pt x="12664" y="1625"/>
                </a:cubicBezTo>
                <a:cubicBezTo>
                  <a:pt x="12658" y="1625"/>
                  <a:pt x="12658" y="1625"/>
                  <a:pt x="12652" y="1625"/>
                </a:cubicBezTo>
                <a:cubicBezTo>
                  <a:pt x="12646" y="1619"/>
                  <a:pt x="12640" y="1619"/>
                  <a:pt x="12640" y="1613"/>
                </a:cubicBezTo>
                <a:cubicBezTo>
                  <a:pt x="12634" y="1613"/>
                  <a:pt x="12628" y="1607"/>
                  <a:pt x="12628" y="1607"/>
                </a:cubicBezTo>
                <a:cubicBezTo>
                  <a:pt x="12569" y="1607"/>
                  <a:pt x="12569" y="1607"/>
                  <a:pt x="12569" y="1607"/>
                </a:cubicBezTo>
                <a:cubicBezTo>
                  <a:pt x="12563" y="1607"/>
                  <a:pt x="12563" y="1607"/>
                  <a:pt x="12557" y="1601"/>
                </a:cubicBezTo>
                <a:cubicBezTo>
                  <a:pt x="12557" y="1601"/>
                  <a:pt x="12557" y="1595"/>
                  <a:pt x="12551" y="1589"/>
                </a:cubicBezTo>
                <a:cubicBezTo>
                  <a:pt x="12551" y="1589"/>
                  <a:pt x="12545" y="1583"/>
                  <a:pt x="12539" y="1583"/>
                </a:cubicBezTo>
                <a:cubicBezTo>
                  <a:pt x="12480" y="1583"/>
                  <a:pt x="12480" y="1583"/>
                  <a:pt x="12480" y="1583"/>
                </a:cubicBezTo>
                <a:cubicBezTo>
                  <a:pt x="12468" y="1583"/>
                  <a:pt x="12468" y="1577"/>
                  <a:pt x="12456" y="1571"/>
                </a:cubicBezTo>
                <a:cubicBezTo>
                  <a:pt x="12450" y="1565"/>
                  <a:pt x="12444" y="1559"/>
                  <a:pt x="12432" y="1559"/>
                </a:cubicBezTo>
                <a:cubicBezTo>
                  <a:pt x="12432" y="1554"/>
                  <a:pt x="12426" y="1554"/>
                  <a:pt x="12426" y="1554"/>
                </a:cubicBezTo>
                <a:cubicBezTo>
                  <a:pt x="12420" y="1554"/>
                  <a:pt x="12420" y="1548"/>
                  <a:pt x="12420" y="1542"/>
                </a:cubicBezTo>
                <a:cubicBezTo>
                  <a:pt x="12414" y="1542"/>
                  <a:pt x="12409" y="1542"/>
                  <a:pt x="12409" y="1542"/>
                </a:cubicBezTo>
                <a:cubicBezTo>
                  <a:pt x="12403" y="1536"/>
                  <a:pt x="12397" y="1536"/>
                  <a:pt x="12397" y="1530"/>
                </a:cubicBezTo>
                <a:cubicBezTo>
                  <a:pt x="12391" y="1530"/>
                  <a:pt x="12397" y="1524"/>
                  <a:pt x="12391" y="1518"/>
                </a:cubicBezTo>
                <a:cubicBezTo>
                  <a:pt x="12391" y="1518"/>
                  <a:pt x="12385" y="1518"/>
                  <a:pt x="12379" y="1518"/>
                </a:cubicBezTo>
                <a:cubicBezTo>
                  <a:pt x="12373" y="1518"/>
                  <a:pt x="12367" y="1518"/>
                  <a:pt x="12361" y="1518"/>
                </a:cubicBezTo>
                <a:cubicBezTo>
                  <a:pt x="12355" y="1518"/>
                  <a:pt x="12355" y="1518"/>
                  <a:pt x="12355" y="1518"/>
                </a:cubicBezTo>
                <a:cubicBezTo>
                  <a:pt x="12355" y="1518"/>
                  <a:pt x="12349" y="1518"/>
                  <a:pt x="12349" y="1524"/>
                </a:cubicBezTo>
                <a:cubicBezTo>
                  <a:pt x="12343" y="1524"/>
                  <a:pt x="12337" y="1530"/>
                  <a:pt x="12337" y="1536"/>
                </a:cubicBezTo>
                <a:cubicBezTo>
                  <a:pt x="12337" y="1542"/>
                  <a:pt x="12337" y="1548"/>
                  <a:pt x="12337" y="1554"/>
                </a:cubicBezTo>
                <a:cubicBezTo>
                  <a:pt x="12337" y="1559"/>
                  <a:pt x="12343" y="1559"/>
                  <a:pt x="12349" y="1565"/>
                </a:cubicBezTo>
                <a:cubicBezTo>
                  <a:pt x="12355" y="1565"/>
                  <a:pt x="12361" y="1565"/>
                  <a:pt x="12361" y="1571"/>
                </a:cubicBezTo>
                <a:cubicBezTo>
                  <a:pt x="12361" y="1577"/>
                  <a:pt x="12361" y="1577"/>
                  <a:pt x="12361" y="1583"/>
                </a:cubicBezTo>
                <a:cubicBezTo>
                  <a:pt x="12361" y="1589"/>
                  <a:pt x="12361" y="1589"/>
                  <a:pt x="12361" y="1595"/>
                </a:cubicBezTo>
                <a:cubicBezTo>
                  <a:pt x="12367" y="1595"/>
                  <a:pt x="12373" y="1595"/>
                  <a:pt x="12385" y="1595"/>
                </a:cubicBezTo>
                <a:cubicBezTo>
                  <a:pt x="12391" y="1595"/>
                  <a:pt x="12391" y="1601"/>
                  <a:pt x="12397" y="1601"/>
                </a:cubicBezTo>
                <a:cubicBezTo>
                  <a:pt x="12397" y="1601"/>
                  <a:pt x="12403" y="1601"/>
                  <a:pt x="12409" y="1601"/>
                </a:cubicBezTo>
                <a:cubicBezTo>
                  <a:pt x="12409" y="1601"/>
                  <a:pt x="12414" y="1601"/>
                  <a:pt x="12420" y="1607"/>
                </a:cubicBezTo>
                <a:cubicBezTo>
                  <a:pt x="12420" y="1607"/>
                  <a:pt x="12420" y="1613"/>
                  <a:pt x="12420" y="1619"/>
                </a:cubicBezTo>
                <a:cubicBezTo>
                  <a:pt x="12420" y="1625"/>
                  <a:pt x="12426" y="1625"/>
                  <a:pt x="12426" y="1631"/>
                </a:cubicBezTo>
                <a:cubicBezTo>
                  <a:pt x="12432" y="1636"/>
                  <a:pt x="12444" y="1636"/>
                  <a:pt x="12456" y="1642"/>
                </a:cubicBezTo>
                <a:cubicBezTo>
                  <a:pt x="12462" y="1642"/>
                  <a:pt x="12462" y="1642"/>
                  <a:pt x="12468" y="1648"/>
                </a:cubicBezTo>
                <a:cubicBezTo>
                  <a:pt x="12468" y="1648"/>
                  <a:pt x="12474" y="1648"/>
                  <a:pt x="12474" y="1654"/>
                </a:cubicBezTo>
                <a:cubicBezTo>
                  <a:pt x="12474" y="1660"/>
                  <a:pt x="12474" y="1666"/>
                  <a:pt x="12474" y="1666"/>
                </a:cubicBezTo>
                <a:cubicBezTo>
                  <a:pt x="12474" y="1672"/>
                  <a:pt x="12468" y="1678"/>
                  <a:pt x="12468" y="1678"/>
                </a:cubicBezTo>
                <a:cubicBezTo>
                  <a:pt x="12462" y="1690"/>
                  <a:pt x="12456" y="1696"/>
                  <a:pt x="12450" y="1702"/>
                </a:cubicBezTo>
                <a:cubicBezTo>
                  <a:pt x="12444" y="1702"/>
                  <a:pt x="12444" y="1702"/>
                  <a:pt x="12438" y="1702"/>
                </a:cubicBezTo>
                <a:cubicBezTo>
                  <a:pt x="12426" y="1702"/>
                  <a:pt x="12426" y="1702"/>
                  <a:pt x="12426" y="1702"/>
                </a:cubicBezTo>
                <a:cubicBezTo>
                  <a:pt x="12420" y="1702"/>
                  <a:pt x="12420" y="1696"/>
                  <a:pt x="12414" y="1702"/>
                </a:cubicBezTo>
                <a:cubicBezTo>
                  <a:pt x="12409" y="1702"/>
                  <a:pt x="12409" y="1708"/>
                  <a:pt x="12409" y="1714"/>
                </a:cubicBezTo>
                <a:cubicBezTo>
                  <a:pt x="12409" y="1714"/>
                  <a:pt x="12409" y="1720"/>
                  <a:pt x="12409" y="1725"/>
                </a:cubicBezTo>
                <a:cubicBezTo>
                  <a:pt x="12403" y="1725"/>
                  <a:pt x="12403" y="1731"/>
                  <a:pt x="12403" y="1731"/>
                </a:cubicBezTo>
                <a:cubicBezTo>
                  <a:pt x="12397" y="1737"/>
                  <a:pt x="12391" y="1737"/>
                  <a:pt x="12391" y="1737"/>
                </a:cubicBezTo>
                <a:cubicBezTo>
                  <a:pt x="12379" y="1737"/>
                  <a:pt x="12379" y="1737"/>
                  <a:pt x="12379" y="1737"/>
                </a:cubicBezTo>
                <a:cubicBezTo>
                  <a:pt x="12379" y="1725"/>
                  <a:pt x="12379" y="1725"/>
                  <a:pt x="12379" y="1714"/>
                </a:cubicBezTo>
                <a:cubicBezTo>
                  <a:pt x="12379" y="1708"/>
                  <a:pt x="12379" y="1708"/>
                  <a:pt x="12379" y="1702"/>
                </a:cubicBezTo>
                <a:cubicBezTo>
                  <a:pt x="12379" y="1696"/>
                  <a:pt x="12379" y="1690"/>
                  <a:pt x="12379" y="1678"/>
                </a:cubicBezTo>
                <a:cubicBezTo>
                  <a:pt x="12379" y="1672"/>
                  <a:pt x="12379" y="1672"/>
                  <a:pt x="12379" y="1666"/>
                </a:cubicBezTo>
                <a:cubicBezTo>
                  <a:pt x="12361" y="1666"/>
                  <a:pt x="12361" y="1666"/>
                  <a:pt x="12361" y="1666"/>
                </a:cubicBezTo>
                <a:cubicBezTo>
                  <a:pt x="12355" y="1672"/>
                  <a:pt x="12349" y="1666"/>
                  <a:pt x="12349" y="1672"/>
                </a:cubicBezTo>
                <a:cubicBezTo>
                  <a:pt x="12343" y="1672"/>
                  <a:pt x="12343" y="1678"/>
                  <a:pt x="12337" y="1678"/>
                </a:cubicBezTo>
                <a:cubicBezTo>
                  <a:pt x="12337" y="1684"/>
                  <a:pt x="12337" y="1690"/>
                  <a:pt x="12332" y="1690"/>
                </a:cubicBezTo>
                <a:cubicBezTo>
                  <a:pt x="12332" y="1696"/>
                  <a:pt x="12332" y="1702"/>
                  <a:pt x="12325" y="1702"/>
                </a:cubicBezTo>
                <a:cubicBezTo>
                  <a:pt x="12320" y="1708"/>
                  <a:pt x="12314" y="1702"/>
                  <a:pt x="12302" y="1702"/>
                </a:cubicBezTo>
                <a:cubicBezTo>
                  <a:pt x="12290" y="1702"/>
                  <a:pt x="12290" y="1702"/>
                  <a:pt x="12290" y="1702"/>
                </a:cubicBezTo>
                <a:cubicBezTo>
                  <a:pt x="12284" y="1702"/>
                  <a:pt x="12278" y="1702"/>
                  <a:pt x="12272" y="1702"/>
                </a:cubicBezTo>
                <a:cubicBezTo>
                  <a:pt x="12266" y="1702"/>
                  <a:pt x="12260" y="1696"/>
                  <a:pt x="12254" y="1702"/>
                </a:cubicBezTo>
                <a:cubicBezTo>
                  <a:pt x="12248" y="1702"/>
                  <a:pt x="12254" y="1708"/>
                  <a:pt x="12248" y="1714"/>
                </a:cubicBezTo>
                <a:cubicBezTo>
                  <a:pt x="12243" y="1714"/>
                  <a:pt x="12248" y="1720"/>
                  <a:pt x="12243" y="1725"/>
                </a:cubicBezTo>
                <a:cubicBezTo>
                  <a:pt x="12237" y="1725"/>
                  <a:pt x="12231" y="1725"/>
                  <a:pt x="12225" y="1725"/>
                </a:cubicBezTo>
                <a:cubicBezTo>
                  <a:pt x="12213" y="1725"/>
                  <a:pt x="12213" y="1725"/>
                  <a:pt x="12213" y="1725"/>
                </a:cubicBezTo>
                <a:cubicBezTo>
                  <a:pt x="12213" y="1725"/>
                  <a:pt x="12207" y="1720"/>
                  <a:pt x="12201" y="1720"/>
                </a:cubicBezTo>
                <a:cubicBezTo>
                  <a:pt x="12195" y="1720"/>
                  <a:pt x="12195" y="1720"/>
                  <a:pt x="12195" y="1720"/>
                </a:cubicBezTo>
                <a:cubicBezTo>
                  <a:pt x="12166" y="1720"/>
                  <a:pt x="12166" y="1720"/>
                  <a:pt x="12166" y="1720"/>
                </a:cubicBezTo>
                <a:cubicBezTo>
                  <a:pt x="12159" y="1720"/>
                  <a:pt x="12159" y="1720"/>
                  <a:pt x="12154" y="1720"/>
                </a:cubicBezTo>
                <a:cubicBezTo>
                  <a:pt x="12154" y="1749"/>
                  <a:pt x="12154" y="1749"/>
                  <a:pt x="12154" y="1749"/>
                </a:cubicBezTo>
                <a:cubicBezTo>
                  <a:pt x="12118" y="1749"/>
                  <a:pt x="12118" y="1749"/>
                  <a:pt x="12118" y="1749"/>
                </a:cubicBezTo>
                <a:lnTo>
                  <a:pt x="12112" y="1743"/>
                </a:lnTo>
                <a:cubicBezTo>
                  <a:pt x="12106" y="1737"/>
                  <a:pt x="12106" y="1737"/>
                  <a:pt x="12106" y="1731"/>
                </a:cubicBezTo>
                <a:cubicBezTo>
                  <a:pt x="12100" y="1725"/>
                  <a:pt x="12094" y="1731"/>
                  <a:pt x="12094" y="1725"/>
                </a:cubicBezTo>
                <a:lnTo>
                  <a:pt x="12100" y="1720"/>
                </a:lnTo>
                <a:cubicBezTo>
                  <a:pt x="12100" y="1714"/>
                  <a:pt x="12100" y="1708"/>
                  <a:pt x="12100" y="1708"/>
                </a:cubicBezTo>
                <a:cubicBezTo>
                  <a:pt x="12100" y="1696"/>
                  <a:pt x="12106" y="1690"/>
                  <a:pt x="12112" y="1684"/>
                </a:cubicBezTo>
                <a:cubicBezTo>
                  <a:pt x="12106" y="1672"/>
                  <a:pt x="12106" y="1672"/>
                  <a:pt x="12106" y="1672"/>
                </a:cubicBezTo>
                <a:cubicBezTo>
                  <a:pt x="12100" y="1672"/>
                  <a:pt x="12100" y="1672"/>
                  <a:pt x="12094" y="1672"/>
                </a:cubicBezTo>
                <a:cubicBezTo>
                  <a:pt x="12094" y="1678"/>
                  <a:pt x="12094" y="1684"/>
                  <a:pt x="12088" y="1684"/>
                </a:cubicBezTo>
                <a:cubicBezTo>
                  <a:pt x="12088" y="1690"/>
                  <a:pt x="12082" y="1690"/>
                  <a:pt x="12077" y="1690"/>
                </a:cubicBezTo>
                <a:cubicBezTo>
                  <a:pt x="12077" y="1690"/>
                  <a:pt x="12071" y="1690"/>
                  <a:pt x="12065" y="1690"/>
                </a:cubicBezTo>
                <a:cubicBezTo>
                  <a:pt x="12059" y="1690"/>
                  <a:pt x="12047" y="1690"/>
                  <a:pt x="12041" y="1696"/>
                </a:cubicBezTo>
                <a:cubicBezTo>
                  <a:pt x="12035" y="1696"/>
                  <a:pt x="12035" y="1702"/>
                  <a:pt x="12035" y="1708"/>
                </a:cubicBezTo>
                <a:cubicBezTo>
                  <a:pt x="12023" y="1708"/>
                  <a:pt x="12017" y="1714"/>
                  <a:pt x="12011" y="1720"/>
                </a:cubicBezTo>
                <a:cubicBezTo>
                  <a:pt x="11993" y="1720"/>
                  <a:pt x="11993" y="1720"/>
                  <a:pt x="11993" y="1720"/>
                </a:cubicBezTo>
                <a:cubicBezTo>
                  <a:pt x="11982" y="1720"/>
                  <a:pt x="11970" y="1714"/>
                  <a:pt x="11958" y="1720"/>
                </a:cubicBezTo>
                <a:cubicBezTo>
                  <a:pt x="11952" y="1720"/>
                  <a:pt x="11952" y="1725"/>
                  <a:pt x="11946" y="1725"/>
                </a:cubicBezTo>
                <a:lnTo>
                  <a:pt x="11946" y="1737"/>
                </a:lnTo>
                <a:cubicBezTo>
                  <a:pt x="11940" y="1737"/>
                  <a:pt x="11934" y="1743"/>
                  <a:pt x="11934" y="1743"/>
                </a:cubicBezTo>
                <a:cubicBezTo>
                  <a:pt x="11928" y="1743"/>
                  <a:pt x="11928" y="1743"/>
                  <a:pt x="11922" y="1743"/>
                </a:cubicBezTo>
                <a:cubicBezTo>
                  <a:pt x="11911" y="1743"/>
                  <a:pt x="11911" y="1743"/>
                  <a:pt x="11911" y="1743"/>
                </a:cubicBezTo>
                <a:cubicBezTo>
                  <a:pt x="11905" y="1743"/>
                  <a:pt x="11905" y="1743"/>
                  <a:pt x="11899" y="1743"/>
                </a:cubicBezTo>
                <a:cubicBezTo>
                  <a:pt x="11887" y="1749"/>
                  <a:pt x="11881" y="1749"/>
                  <a:pt x="11875" y="1749"/>
                </a:cubicBezTo>
                <a:cubicBezTo>
                  <a:pt x="11869" y="1755"/>
                  <a:pt x="11863" y="1755"/>
                  <a:pt x="11863" y="1761"/>
                </a:cubicBezTo>
                <a:cubicBezTo>
                  <a:pt x="11851" y="1767"/>
                  <a:pt x="11845" y="1773"/>
                  <a:pt x="11839" y="1779"/>
                </a:cubicBezTo>
                <a:cubicBezTo>
                  <a:pt x="11834" y="1785"/>
                  <a:pt x="11827" y="1785"/>
                  <a:pt x="11822" y="1791"/>
                </a:cubicBezTo>
                <a:cubicBezTo>
                  <a:pt x="11810" y="1791"/>
                  <a:pt x="11792" y="1785"/>
                  <a:pt x="11780" y="1791"/>
                </a:cubicBezTo>
                <a:cubicBezTo>
                  <a:pt x="11774" y="1791"/>
                  <a:pt x="11774" y="1797"/>
                  <a:pt x="11768" y="1802"/>
                </a:cubicBezTo>
                <a:cubicBezTo>
                  <a:pt x="11768" y="1809"/>
                  <a:pt x="11768" y="1809"/>
                  <a:pt x="11774" y="1814"/>
                </a:cubicBezTo>
                <a:cubicBezTo>
                  <a:pt x="11774" y="1820"/>
                  <a:pt x="11786" y="1820"/>
                  <a:pt x="11786" y="1826"/>
                </a:cubicBezTo>
                <a:cubicBezTo>
                  <a:pt x="11786" y="1838"/>
                  <a:pt x="11786" y="1838"/>
                  <a:pt x="11780" y="1844"/>
                </a:cubicBezTo>
                <a:cubicBezTo>
                  <a:pt x="11774" y="1850"/>
                  <a:pt x="11762" y="1850"/>
                  <a:pt x="11756" y="1856"/>
                </a:cubicBezTo>
                <a:cubicBezTo>
                  <a:pt x="11750" y="1862"/>
                  <a:pt x="11750" y="1862"/>
                  <a:pt x="11745" y="1868"/>
                </a:cubicBezTo>
                <a:cubicBezTo>
                  <a:pt x="11739" y="1868"/>
                  <a:pt x="11739" y="1868"/>
                  <a:pt x="11733" y="1868"/>
                </a:cubicBezTo>
                <a:cubicBezTo>
                  <a:pt x="11727" y="1868"/>
                  <a:pt x="11727" y="1868"/>
                  <a:pt x="11721" y="1868"/>
                </a:cubicBezTo>
                <a:cubicBezTo>
                  <a:pt x="11715" y="1868"/>
                  <a:pt x="11715" y="1868"/>
                  <a:pt x="11709" y="1868"/>
                </a:cubicBezTo>
                <a:cubicBezTo>
                  <a:pt x="11697" y="1868"/>
                  <a:pt x="11697" y="1880"/>
                  <a:pt x="11691" y="1880"/>
                </a:cubicBezTo>
                <a:cubicBezTo>
                  <a:pt x="11685" y="1880"/>
                  <a:pt x="11685" y="1880"/>
                  <a:pt x="11685" y="1880"/>
                </a:cubicBezTo>
                <a:cubicBezTo>
                  <a:pt x="11679" y="1880"/>
                  <a:pt x="11679" y="1868"/>
                  <a:pt x="11673" y="1868"/>
                </a:cubicBezTo>
                <a:cubicBezTo>
                  <a:pt x="11673" y="1862"/>
                  <a:pt x="11668" y="1862"/>
                  <a:pt x="11661" y="1862"/>
                </a:cubicBezTo>
                <a:cubicBezTo>
                  <a:pt x="11656" y="1856"/>
                  <a:pt x="11656" y="1850"/>
                  <a:pt x="11650" y="1850"/>
                </a:cubicBezTo>
                <a:cubicBezTo>
                  <a:pt x="11650" y="1844"/>
                  <a:pt x="11650" y="1838"/>
                  <a:pt x="11650" y="1838"/>
                </a:cubicBezTo>
                <a:cubicBezTo>
                  <a:pt x="11644" y="1832"/>
                  <a:pt x="11638" y="1826"/>
                  <a:pt x="11638" y="1820"/>
                </a:cubicBezTo>
                <a:cubicBezTo>
                  <a:pt x="11638" y="1809"/>
                  <a:pt x="11638" y="1802"/>
                  <a:pt x="11638" y="1791"/>
                </a:cubicBezTo>
                <a:cubicBezTo>
                  <a:pt x="11703" y="1791"/>
                  <a:pt x="11703" y="1791"/>
                  <a:pt x="11703" y="1791"/>
                </a:cubicBezTo>
                <a:cubicBezTo>
                  <a:pt x="11703" y="1755"/>
                  <a:pt x="11703" y="1755"/>
                  <a:pt x="11703" y="1755"/>
                </a:cubicBezTo>
                <a:cubicBezTo>
                  <a:pt x="11697" y="1755"/>
                  <a:pt x="11697" y="1749"/>
                  <a:pt x="11691" y="1743"/>
                </a:cubicBezTo>
                <a:cubicBezTo>
                  <a:pt x="11685" y="1743"/>
                  <a:pt x="11679" y="1743"/>
                  <a:pt x="11679" y="1743"/>
                </a:cubicBezTo>
                <a:cubicBezTo>
                  <a:pt x="11673" y="1737"/>
                  <a:pt x="11673" y="1737"/>
                  <a:pt x="11673" y="1731"/>
                </a:cubicBezTo>
                <a:cubicBezTo>
                  <a:pt x="11668" y="1725"/>
                  <a:pt x="11668" y="1725"/>
                  <a:pt x="11661" y="1720"/>
                </a:cubicBezTo>
                <a:cubicBezTo>
                  <a:pt x="11661" y="1714"/>
                  <a:pt x="11661" y="1708"/>
                  <a:pt x="11656" y="1708"/>
                </a:cubicBezTo>
                <a:cubicBezTo>
                  <a:pt x="11644" y="1708"/>
                  <a:pt x="11638" y="1714"/>
                  <a:pt x="11632" y="1714"/>
                </a:cubicBezTo>
                <a:cubicBezTo>
                  <a:pt x="11626" y="1714"/>
                  <a:pt x="11626" y="1714"/>
                  <a:pt x="11626" y="1714"/>
                </a:cubicBezTo>
                <a:cubicBezTo>
                  <a:pt x="11620" y="1714"/>
                  <a:pt x="11620" y="1708"/>
                  <a:pt x="11614" y="1702"/>
                </a:cubicBezTo>
                <a:cubicBezTo>
                  <a:pt x="11608" y="1702"/>
                  <a:pt x="11602" y="1702"/>
                  <a:pt x="11602" y="1702"/>
                </a:cubicBezTo>
                <a:cubicBezTo>
                  <a:pt x="11590" y="1696"/>
                  <a:pt x="11584" y="1702"/>
                  <a:pt x="11579" y="1702"/>
                </a:cubicBezTo>
                <a:cubicBezTo>
                  <a:pt x="11555" y="1702"/>
                  <a:pt x="11555" y="1702"/>
                  <a:pt x="11555" y="1702"/>
                </a:cubicBezTo>
                <a:cubicBezTo>
                  <a:pt x="11549" y="1702"/>
                  <a:pt x="11543" y="1702"/>
                  <a:pt x="11543" y="1702"/>
                </a:cubicBezTo>
                <a:cubicBezTo>
                  <a:pt x="11537" y="1702"/>
                  <a:pt x="11537" y="1702"/>
                  <a:pt x="11531" y="1702"/>
                </a:cubicBezTo>
                <a:cubicBezTo>
                  <a:pt x="11531" y="1725"/>
                  <a:pt x="11531" y="1725"/>
                  <a:pt x="11531" y="1725"/>
                </a:cubicBezTo>
                <a:cubicBezTo>
                  <a:pt x="11543" y="1725"/>
                  <a:pt x="11549" y="1725"/>
                  <a:pt x="11555" y="1725"/>
                </a:cubicBezTo>
                <a:cubicBezTo>
                  <a:pt x="11561" y="1725"/>
                  <a:pt x="11561" y="1731"/>
                  <a:pt x="11567" y="1731"/>
                </a:cubicBezTo>
                <a:cubicBezTo>
                  <a:pt x="11567" y="1802"/>
                  <a:pt x="11567" y="1802"/>
                  <a:pt x="11567" y="1802"/>
                </a:cubicBezTo>
                <a:cubicBezTo>
                  <a:pt x="11567" y="1809"/>
                  <a:pt x="11561" y="1809"/>
                  <a:pt x="11561" y="1814"/>
                </a:cubicBezTo>
                <a:cubicBezTo>
                  <a:pt x="11555" y="1820"/>
                  <a:pt x="11549" y="1814"/>
                  <a:pt x="11549" y="1820"/>
                </a:cubicBezTo>
                <a:cubicBezTo>
                  <a:pt x="11549" y="1826"/>
                  <a:pt x="11549" y="1832"/>
                  <a:pt x="11549" y="1832"/>
                </a:cubicBezTo>
                <a:cubicBezTo>
                  <a:pt x="11549" y="1838"/>
                  <a:pt x="11549" y="1844"/>
                  <a:pt x="11549" y="1844"/>
                </a:cubicBezTo>
                <a:cubicBezTo>
                  <a:pt x="11555" y="1850"/>
                  <a:pt x="11561" y="1844"/>
                  <a:pt x="11561" y="1850"/>
                </a:cubicBezTo>
                <a:cubicBezTo>
                  <a:pt x="11567" y="1850"/>
                  <a:pt x="11567" y="1850"/>
                  <a:pt x="11573" y="1856"/>
                </a:cubicBezTo>
                <a:cubicBezTo>
                  <a:pt x="11579" y="1856"/>
                  <a:pt x="11579" y="1862"/>
                  <a:pt x="11579" y="1868"/>
                </a:cubicBezTo>
                <a:cubicBezTo>
                  <a:pt x="11584" y="1868"/>
                  <a:pt x="11590" y="1874"/>
                  <a:pt x="11590" y="1880"/>
                </a:cubicBezTo>
                <a:cubicBezTo>
                  <a:pt x="11590" y="1886"/>
                  <a:pt x="11590" y="1886"/>
                  <a:pt x="11590" y="1886"/>
                </a:cubicBezTo>
                <a:cubicBezTo>
                  <a:pt x="11590" y="1891"/>
                  <a:pt x="11584" y="1886"/>
                  <a:pt x="11584" y="1891"/>
                </a:cubicBezTo>
                <a:cubicBezTo>
                  <a:pt x="11584" y="1897"/>
                  <a:pt x="11584" y="1897"/>
                  <a:pt x="11584" y="1903"/>
                </a:cubicBezTo>
                <a:cubicBezTo>
                  <a:pt x="11584" y="1915"/>
                  <a:pt x="11584" y="1921"/>
                  <a:pt x="11584" y="1939"/>
                </a:cubicBezTo>
                <a:cubicBezTo>
                  <a:pt x="11584" y="1939"/>
                  <a:pt x="11584" y="1939"/>
                  <a:pt x="11584" y="1945"/>
                </a:cubicBezTo>
                <a:cubicBezTo>
                  <a:pt x="11573" y="1939"/>
                  <a:pt x="11567" y="1939"/>
                  <a:pt x="11561" y="1939"/>
                </a:cubicBezTo>
                <a:cubicBezTo>
                  <a:pt x="11555" y="1939"/>
                  <a:pt x="11549" y="1939"/>
                  <a:pt x="11549" y="1939"/>
                </a:cubicBezTo>
                <a:cubicBezTo>
                  <a:pt x="11543" y="1939"/>
                  <a:pt x="11537" y="1933"/>
                  <a:pt x="11537" y="1933"/>
                </a:cubicBezTo>
                <a:cubicBezTo>
                  <a:pt x="11531" y="1927"/>
                  <a:pt x="11537" y="1921"/>
                  <a:pt x="11537" y="1921"/>
                </a:cubicBezTo>
                <a:cubicBezTo>
                  <a:pt x="11531" y="1915"/>
                  <a:pt x="11531" y="1909"/>
                  <a:pt x="11525" y="1909"/>
                </a:cubicBezTo>
                <a:cubicBezTo>
                  <a:pt x="11525" y="1903"/>
                  <a:pt x="11519" y="1909"/>
                  <a:pt x="11513" y="1909"/>
                </a:cubicBezTo>
                <a:cubicBezTo>
                  <a:pt x="11507" y="1909"/>
                  <a:pt x="11507" y="1909"/>
                  <a:pt x="11501" y="1909"/>
                </a:cubicBezTo>
                <a:cubicBezTo>
                  <a:pt x="11495" y="1909"/>
                  <a:pt x="11495" y="1915"/>
                  <a:pt x="11490" y="1915"/>
                </a:cubicBezTo>
                <a:cubicBezTo>
                  <a:pt x="11484" y="1915"/>
                  <a:pt x="11484" y="1915"/>
                  <a:pt x="11478" y="1915"/>
                </a:cubicBezTo>
                <a:cubicBezTo>
                  <a:pt x="11466" y="1915"/>
                  <a:pt x="11460" y="1915"/>
                  <a:pt x="11454" y="1915"/>
                </a:cubicBezTo>
                <a:cubicBezTo>
                  <a:pt x="11448" y="1915"/>
                  <a:pt x="11448" y="1921"/>
                  <a:pt x="11442" y="1921"/>
                </a:cubicBezTo>
                <a:cubicBezTo>
                  <a:pt x="11442" y="1921"/>
                  <a:pt x="11442" y="1927"/>
                  <a:pt x="11442" y="1933"/>
                </a:cubicBezTo>
                <a:cubicBezTo>
                  <a:pt x="11442" y="1933"/>
                  <a:pt x="11442" y="1939"/>
                  <a:pt x="11436" y="1945"/>
                </a:cubicBezTo>
                <a:cubicBezTo>
                  <a:pt x="11436" y="1945"/>
                  <a:pt x="11430" y="1945"/>
                  <a:pt x="11424" y="1951"/>
                </a:cubicBezTo>
                <a:lnTo>
                  <a:pt x="11418" y="1951"/>
                </a:lnTo>
                <a:cubicBezTo>
                  <a:pt x="11407" y="1951"/>
                  <a:pt x="11401" y="1957"/>
                  <a:pt x="11395" y="1957"/>
                </a:cubicBezTo>
                <a:cubicBezTo>
                  <a:pt x="11389" y="1957"/>
                  <a:pt x="11383" y="1957"/>
                  <a:pt x="11377" y="1957"/>
                </a:cubicBezTo>
                <a:cubicBezTo>
                  <a:pt x="11371" y="1963"/>
                  <a:pt x="11371" y="1963"/>
                  <a:pt x="11365" y="1968"/>
                </a:cubicBezTo>
                <a:cubicBezTo>
                  <a:pt x="11365" y="1975"/>
                  <a:pt x="11365" y="1975"/>
                  <a:pt x="11359" y="1980"/>
                </a:cubicBezTo>
                <a:cubicBezTo>
                  <a:pt x="11359" y="1980"/>
                  <a:pt x="11353" y="1986"/>
                  <a:pt x="11347" y="1986"/>
                </a:cubicBezTo>
                <a:cubicBezTo>
                  <a:pt x="11341" y="1992"/>
                  <a:pt x="11335" y="1992"/>
                  <a:pt x="11329" y="1992"/>
                </a:cubicBezTo>
                <a:cubicBezTo>
                  <a:pt x="11329" y="1992"/>
                  <a:pt x="11335" y="1986"/>
                  <a:pt x="11335" y="1992"/>
                </a:cubicBezTo>
                <a:cubicBezTo>
                  <a:pt x="11335" y="1998"/>
                  <a:pt x="11329" y="2004"/>
                  <a:pt x="11335" y="2016"/>
                </a:cubicBezTo>
                <a:cubicBezTo>
                  <a:pt x="11335" y="2016"/>
                  <a:pt x="11335" y="2022"/>
                  <a:pt x="11341" y="2028"/>
                </a:cubicBezTo>
                <a:lnTo>
                  <a:pt x="11341" y="2034"/>
                </a:lnTo>
                <a:cubicBezTo>
                  <a:pt x="11347" y="2040"/>
                  <a:pt x="11347" y="2040"/>
                  <a:pt x="11353" y="2040"/>
                </a:cubicBezTo>
                <a:cubicBezTo>
                  <a:pt x="11359" y="2040"/>
                  <a:pt x="11359" y="2046"/>
                  <a:pt x="11365" y="2046"/>
                </a:cubicBezTo>
                <a:cubicBezTo>
                  <a:pt x="11371" y="2052"/>
                  <a:pt x="11371" y="2057"/>
                  <a:pt x="11371" y="2063"/>
                </a:cubicBezTo>
                <a:cubicBezTo>
                  <a:pt x="11371" y="2069"/>
                  <a:pt x="11365" y="2075"/>
                  <a:pt x="11365" y="2081"/>
                </a:cubicBezTo>
                <a:cubicBezTo>
                  <a:pt x="11365" y="2081"/>
                  <a:pt x="11371" y="2075"/>
                  <a:pt x="11365" y="2075"/>
                </a:cubicBezTo>
                <a:cubicBezTo>
                  <a:pt x="11359" y="2069"/>
                  <a:pt x="11353" y="2075"/>
                  <a:pt x="11347" y="2075"/>
                </a:cubicBezTo>
                <a:cubicBezTo>
                  <a:pt x="11335" y="2075"/>
                  <a:pt x="11329" y="2075"/>
                  <a:pt x="11324" y="2075"/>
                </a:cubicBezTo>
                <a:cubicBezTo>
                  <a:pt x="11312" y="2075"/>
                  <a:pt x="11306" y="2069"/>
                  <a:pt x="11300" y="2069"/>
                </a:cubicBezTo>
                <a:cubicBezTo>
                  <a:pt x="11288" y="2069"/>
                  <a:pt x="11288" y="2069"/>
                  <a:pt x="11288" y="2069"/>
                </a:cubicBezTo>
                <a:cubicBezTo>
                  <a:pt x="11282" y="2069"/>
                  <a:pt x="11282" y="2063"/>
                  <a:pt x="11276" y="2063"/>
                </a:cubicBezTo>
                <a:cubicBezTo>
                  <a:pt x="11264" y="2063"/>
                  <a:pt x="11258" y="2063"/>
                  <a:pt x="11252" y="2063"/>
                </a:cubicBezTo>
                <a:cubicBezTo>
                  <a:pt x="11246" y="2063"/>
                  <a:pt x="11246" y="2057"/>
                  <a:pt x="11241" y="2052"/>
                </a:cubicBezTo>
                <a:cubicBezTo>
                  <a:pt x="11235" y="2052"/>
                  <a:pt x="11229" y="2052"/>
                  <a:pt x="11229" y="2052"/>
                </a:cubicBezTo>
                <a:cubicBezTo>
                  <a:pt x="11223" y="2052"/>
                  <a:pt x="11217" y="2052"/>
                  <a:pt x="11217" y="2052"/>
                </a:cubicBezTo>
                <a:cubicBezTo>
                  <a:pt x="11211" y="2052"/>
                  <a:pt x="11211" y="2046"/>
                  <a:pt x="11205" y="2040"/>
                </a:cubicBezTo>
                <a:cubicBezTo>
                  <a:pt x="11199" y="2040"/>
                  <a:pt x="11199" y="2034"/>
                  <a:pt x="11193" y="2028"/>
                </a:cubicBezTo>
                <a:cubicBezTo>
                  <a:pt x="11193" y="2016"/>
                  <a:pt x="11193" y="2016"/>
                  <a:pt x="11193" y="2016"/>
                </a:cubicBezTo>
                <a:cubicBezTo>
                  <a:pt x="11187" y="2016"/>
                  <a:pt x="11181" y="2022"/>
                  <a:pt x="11181" y="2022"/>
                </a:cubicBezTo>
                <a:cubicBezTo>
                  <a:pt x="11175" y="2028"/>
                  <a:pt x="11175" y="2034"/>
                  <a:pt x="11169" y="2034"/>
                </a:cubicBezTo>
                <a:cubicBezTo>
                  <a:pt x="11169" y="2034"/>
                  <a:pt x="11163" y="2034"/>
                  <a:pt x="11158" y="2034"/>
                </a:cubicBezTo>
                <a:cubicBezTo>
                  <a:pt x="11152" y="2034"/>
                  <a:pt x="11146" y="2040"/>
                  <a:pt x="11146" y="2046"/>
                </a:cubicBezTo>
                <a:cubicBezTo>
                  <a:pt x="11146" y="2057"/>
                  <a:pt x="11152" y="2057"/>
                  <a:pt x="11152" y="2063"/>
                </a:cubicBezTo>
                <a:cubicBezTo>
                  <a:pt x="11158" y="2069"/>
                  <a:pt x="11158" y="2069"/>
                  <a:pt x="11163" y="2075"/>
                </a:cubicBezTo>
                <a:cubicBezTo>
                  <a:pt x="11169" y="2075"/>
                  <a:pt x="11175" y="2075"/>
                  <a:pt x="11175" y="2075"/>
                </a:cubicBezTo>
                <a:cubicBezTo>
                  <a:pt x="11175" y="2081"/>
                  <a:pt x="11175" y="2087"/>
                  <a:pt x="11175" y="2087"/>
                </a:cubicBezTo>
                <a:cubicBezTo>
                  <a:pt x="11175" y="2093"/>
                  <a:pt x="11181" y="2093"/>
                  <a:pt x="11181" y="2099"/>
                </a:cubicBezTo>
                <a:cubicBezTo>
                  <a:pt x="11193" y="2099"/>
                  <a:pt x="11193" y="2099"/>
                  <a:pt x="11193" y="2099"/>
                </a:cubicBezTo>
                <a:cubicBezTo>
                  <a:pt x="11205" y="2099"/>
                  <a:pt x="11211" y="2093"/>
                  <a:pt x="11217" y="2099"/>
                </a:cubicBezTo>
                <a:cubicBezTo>
                  <a:pt x="11229" y="2099"/>
                  <a:pt x="11235" y="2105"/>
                  <a:pt x="11241" y="2111"/>
                </a:cubicBezTo>
                <a:cubicBezTo>
                  <a:pt x="11246" y="2117"/>
                  <a:pt x="11252" y="2117"/>
                  <a:pt x="11252" y="2123"/>
                </a:cubicBezTo>
                <a:cubicBezTo>
                  <a:pt x="11252" y="2129"/>
                  <a:pt x="11241" y="2129"/>
                  <a:pt x="11241" y="2134"/>
                </a:cubicBezTo>
                <a:cubicBezTo>
                  <a:pt x="11187" y="2134"/>
                  <a:pt x="11187" y="2134"/>
                  <a:pt x="11187" y="2134"/>
                </a:cubicBezTo>
                <a:cubicBezTo>
                  <a:pt x="11181" y="2141"/>
                  <a:pt x="11181" y="2146"/>
                  <a:pt x="11181" y="2146"/>
                </a:cubicBezTo>
                <a:cubicBezTo>
                  <a:pt x="11175" y="2146"/>
                  <a:pt x="11169" y="2152"/>
                  <a:pt x="11169" y="2152"/>
                </a:cubicBezTo>
                <a:cubicBezTo>
                  <a:pt x="11163" y="2152"/>
                  <a:pt x="11158" y="2152"/>
                  <a:pt x="11158" y="2146"/>
                </a:cubicBezTo>
                <a:cubicBezTo>
                  <a:pt x="11152" y="2146"/>
                  <a:pt x="11158" y="2141"/>
                  <a:pt x="11152" y="2134"/>
                </a:cubicBezTo>
                <a:cubicBezTo>
                  <a:pt x="11152" y="2134"/>
                  <a:pt x="11146" y="2129"/>
                  <a:pt x="11140" y="2129"/>
                </a:cubicBezTo>
                <a:cubicBezTo>
                  <a:pt x="11134" y="2117"/>
                  <a:pt x="11122" y="2117"/>
                  <a:pt x="11110" y="2111"/>
                </a:cubicBezTo>
                <a:cubicBezTo>
                  <a:pt x="11104" y="2111"/>
                  <a:pt x="11098" y="2117"/>
                  <a:pt x="11098" y="2111"/>
                </a:cubicBezTo>
                <a:cubicBezTo>
                  <a:pt x="11086" y="2111"/>
                  <a:pt x="11080" y="2105"/>
                  <a:pt x="11075" y="2099"/>
                </a:cubicBezTo>
                <a:cubicBezTo>
                  <a:pt x="11075" y="2093"/>
                  <a:pt x="11069" y="2087"/>
                  <a:pt x="11069" y="2087"/>
                </a:cubicBezTo>
                <a:cubicBezTo>
                  <a:pt x="11069" y="2081"/>
                  <a:pt x="11069" y="2075"/>
                  <a:pt x="11069" y="2075"/>
                </a:cubicBezTo>
                <a:cubicBezTo>
                  <a:pt x="11069" y="2057"/>
                  <a:pt x="11069" y="2052"/>
                  <a:pt x="11069" y="2040"/>
                </a:cubicBezTo>
                <a:cubicBezTo>
                  <a:pt x="11033" y="2040"/>
                  <a:pt x="11033" y="2040"/>
                  <a:pt x="11033" y="2040"/>
                </a:cubicBezTo>
                <a:cubicBezTo>
                  <a:pt x="11033" y="2004"/>
                  <a:pt x="11033" y="2004"/>
                  <a:pt x="11033" y="2004"/>
                </a:cubicBezTo>
                <a:cubicBezTo>
                  <a:pt x="11033" y="1986"/>
                  <a:pt x="11039" y="1968"/>
                  <a:pt x="11039" y="1957"/>
                </a:cubicBezTo>
                <a:cubicBezTo>
                  <a:pt x="11039" y="1945"/>
                  <a:pt x="11039" y="1939"/>
                  <a:pt x="11033" y="1933"/>
                </a:cubicBezTo>
                <a:cubicBezTo>
                  <a:pt x="11021" y="1921"/>
                  <a:pt x="11009" y="1927"/>
                  <a:pt x="10997" y="1927"/>
                </a:cubicBezTo>
                <a:cubicBezTo>
                  <a:pt x="10991" y="1927"/>
                  <a:pt x="10991" y="1915"/>
                  <a:pt x="10991" y="1915"/>
                </a:cubicBezTo>
                <a:cubicBezTo>
                  <a:pt x="10986" y="1909"/>
                  <a:pt x="10980" y="1909"/>
                  <a:pt x="10980" y="1903"/>
                </a:cubicBezTo>
                <a:cubicBezTo>
                  <a:pt x="10974" y="1897"/>
                  <a:pt x="10980" y="1886"/>
                  <a:pt x="10968" y="1880"/>
                </a:cubicBezTo>
                <a:cubicBezTo>
                  <a:pt x="10962" y="1874"/>
                  <a:pt x="10956" y="1880"/>
                  <a:pt x="10944" y="1880"/>
                </a:cubicBezTo>
                <a:cubicBezTo>
                  <a:pt x="10938" y="1874"/>
                  <a:pt x="10938" y="1868"/>
                  <a:pt x="10932" y="1868"/>
                </a:cubicBezTo>
                <a:cubicBezTo>
                  <a:pt x="10926" y="1862"/>
                  <a:pt x="10920" y="1856"/>
                  <a:pt x="10909" y="1856"/>
                </a:cubicBezTo>
                <a:cubicBezTo>
                  <a:pt x="10914" y="1844"/>
                  <a:pt x="10914" y="1844"/>
                  <a:pt x="10914" y="1844"/>
                </a:cubicBezTo>
                <a:cubicBezTo>
                  <a:pt x="10914" y="1844"/>
                  <a:pt x="10920" y="1844"/>
                  <a:pt x="10926" y="1844"/>
                </a:cubicBezTo>
                <a:cubicBezTo>
                  <a:pt x="10926" y="1844"/>
                  <a:pt x="10932" y="1844"/>
                  <a:pt x="10938" y="1850"/>
                </a:cubicBezTo>
                <a:cubicBezTo>
                  <a:pt x="10938" y="1850"/>
                  <a:pt x="10938" y="1856"/>
                  <a:pt x="10944" y="1862"/>
                </a:cubicBezTo>
                <a:cubicBezTo>
                  <a:pt x="10950" y="1862"/>
                  <a:pt x="10956" y="1862"/>
                  <a:pt x="10962" y="1868"/>
                </a:cubicBezTo>
                <a:cubicBezTo>
                  <a:pt x="10974" y="1874"/>
                  <a:pt x="10980" y="1880"/>
                  <a:pt x="10986" y="1880"/>
                </a:cubicBezTo>
                <a:cubicBezTo>
                  <a:pt x="10991" y="1886"/>
                  <a:pt x="10997" y="1886"/>
                  <a:pt x="10997" y="1886"/>
                </a:cubicBezTo>
                <a:cubicBezTo>
                  <a:pt x="11015" y="1891"/>
                  <a:pt x="11021" y="1886"/>
                  <a:pt x="11039" y="1886"/>
                </a:cubicBezTo>
                <a:cubicBezTo>
                  <a:pt x="11045" y="1886"/>
                  <a:pt x="11045" y="1886"/>
                  <a:pt x="11051" y="1886"/>
                </a:cubicBezTo>
                <a:cubicBezTo>
                  <a:pt x="11057" y="1891"/>
                  <a:pt x="11057" y="1897"/>
                  <a:pt x="11057" y="1897"/>
                </a:cubicBezTo>
                <a:cubicBezTo>
                  <a:pt x="11069" y="1903"/>
                  <a:pt x="11075" y="1909"/>
                  <a:pt x="11080" y="1909"/>
                </a:cubicBezTo>
                <a:cubicBezTo>
                  <a:pt x="11163" y="1909"/>
                  <a:pt x="11163" y="1909"/>
                  <a:pt x="11163" y="1909"/>
                </a:cubicBezTo>
                <a:cubicBezTo>
                  <a:pt x="11163" y="1909"/>
                  <a:pt x="11169" y="1915"/>
                  <a:pt x="11175" y="1915"/>
                </a:cubicBezTo>
                <a:cubicBezTo>
                  <a:pt x="11175" y="1915"/>
                  <a:pt x="11181" y="1915"/>
                  <a:pt x="11187" y="1915"/>
                </a:cubicBezTo>
                <a:cubicBezTo>
                  <a:pt x="11187" y="1921"/>
                  <a:pt x="11187" y="1927"/>
                  <a:pt x="11193" y="1927"/>
                </a:cubicBezTo>
                <a:lnTo>
                  <a:pt x="11199" y="1933"/>
                </a:lnTo>
                <a:cubicBezTo>
                  <a:pt x="11205" y="1933"/>
                  <a:pt x="11211" y="1933"/>
                  <a:pt x="11211" y="1933"/>
                </a:cubicBezTo>
                <a:cubicBezTo>
                  <a:pt x="11217" y="1933"/>
                  <a:pt x="11223" y="1933"/>
                  <a:pt x="11223" y="1933"/>
                </a:cubicBezTo>
                <a:cubicBezTo>
                  <a:pt x="11235" y="1933"/>
                  <a:pt x="11241" y="1933"/>
                  <a:pt x="11246" y="1933"/>
                </a:cubicBezTo>
                <a:cubicBezTo>
                  <a:pt x="11258" y="1933"/>
                  <a:pt x="11258" y="1933"/>
                  <a:pt x="11258" y="1933"/>
                </a:cubicBezTo>
                <a:cubicBezTo>
                  <a:pt x="11270" y="1933"/>
                  <a:pt x="11270" y="1933"/>
                  <a:pt x="11270" y="1933"/>
                </a:cubicBezTo>
                <a:cubicBezTo>
                  <a:pt x="11276" y="1933"/>
                  <a:pt x="11276" y="1927"/>
                  <a:pt x="11282" y="1927"/>
                </a:cubicBezTo>
                <a:cubicBezTo>
                  <a:pt x="11288" y="1927"/>
                  <a:pt x="11288" y="1927"/>
                  <a:pt x="11294" y="1927"/>
                </a:cubicBezTo>
                <a:cubicBezTo>
                  <a:pt x="11294" y="1927"/>
                  <a:pt x="11300" y="1927"/>
                  <a:pt x="11306" y="1927"/>
                </a:cubicBezTo>
                <a:cubicBezTo>
                  <a:pt x="11312" y="1921"/>
                  <a:pt x="11318" y="1915"/>
                  <a:pt x="11329" y="1915"/>
                </a:cubicBezTo>
                <a:cubicBezTo>
                  <a:pt x="11329" y="1915"/>
                  <a:pt x="11335" y="1915"/>
                  <a:pt x="11341" y="1915"/>
                </a:cubicBezTo>
                <a:cubicBezTo>
                  <a:pt x="11347" y="1915"/>
                  <a:pt x="11353" y="1915"/>
                  <a:pt x="11359" y="1909"/>
                </a:cubicBezTo>
                <a:cubicBezTo>
                  <a:pt x="11365" y="1909"/>
                  <a:pt x="11371" y="1903"/>
                  <a:pt x="11371" y="1903"/>
                </a:cubicBezTo>
                <a:cubicBezTo>
                  <a:pt x="11377" y="1897"/>
                  <a:pt x="11383" y="1897"/>
                  <a:pt x="11383" y="1891"/>
                </a:cubicBezTo>
                <a:cubicBezTo>
                  <a:pt x="11389" y="1891"/>
                  <a:pt x="11395" y="1891"/>
                  <a:pt x="11395" y="1886"/>
                </a:cubicBezTo>
                <a:cubicBezTo>
                  <a:pt x="11401" y="1880"/>
                  <a:pt x="11401" y="1880"/>
                  <a:pt x="11401" y="1874"/>
                </a:cubicBezTo>
                <a:cubicBezTo>
                  <a:pt x="11407" y="1868"/>
                  <a:pt x="11407" y="1862"/>
                  <a:pt x="11407" y="1850"/>
                </a:cubicBezTo>
                <a:cubicBezTo>
                  <a:pt x="11407" y="1838"/>
                  <a:pt x="11401" y="1832"/>
                  <a:pt x="11401" y="1814"/>
                </a:cubicBezTo>
                <a:cubicBezTo>
                  <a:pt x="11401" y="1814"/>
                  <a:pt x="11401" y="1809"/>
                  <a:pt x="11401" y="1802"/>
                </a:cubicBezTo>
                <a:cubicBezTo>
                  <a:pt x="11401" y="1797"/>
                  <a:pt x="11395" y="1791"/>
                  <a:pt x="11389" y="1785"/>
                </a:cubicBezTo>
                <a:cubicBezTo>
                  <a:pt x="11389" y="1779"/>
                  <a:pt x="11383" y="1779"/>
                  <a:pt x="11377" y="1773"/>
                </a:cubicBezTo>
                <a:cubicBezTo>
                  <a:pt x="11377" y="1767"/>
                  <a:pt x="11371" y="1767"/>
                  <a:pt x="11365" y="1761"/>
                </a:cubicBezTo>
                <a:cubicBezTo>
                  <a:pt x="11365" y="1761"/>
                  <a:pt x="11359" y="1761"/>
                  <a:pt x="11353" y="1761"/>
                </a:cubicBezTo>
                <a:cubicBezTo>
                  <a:pt x="11353" y="1761"/>
                  <a:pt x="11347" y="1755"/>
                  <a:pt x="11341" y="1755"/>
                </a:cubicBezTo>
                <a:cubicBezTo>
                  <a:pt x="11335" y="1755"/>
                  <a:pt x="11329" y="1755"/>
                  <a:pt x="11318" y="1755"/>
                </a:cubicBezTo>
                <a:cubicBezTo>
                  <a:pt x="11312" y="1755"/>
                  <a:pt x="11306" y="1761"/>
                  <a:pt x="11294" y="1755"/>
                </a:cubicBezTo>
                <a:cubicBezTo>
                  <a:pt x="11288" y="1755"/>
                  <a:pt x="11282" y="1749"/>
                  <a:pt x="11270" y="1743"/>
                </a:cubicBezTo>
                <a:lnTo>
                  <a:pt x="11264" y="1737"/>
                </a:lnTo>
                <a:cubicBezTo>
                  <a:pt x="11258" y="1731"/>
                  <a:pt x="11258" y="1725"/>
                  <a:pt x="11258" y="1725"/>
                </a:cubicBezTo>
                <a:cubicBezTo>
                  <a:pt x="11252" y="1725"/>
                  <a:pt x="11246" y="1725"/>
                  <a:pt x="11246" y="1720"/>
                </a:cubicBezTo>
                <a:cubicBezTo>
                  <a:pt x="11241" y="1720"/>
                  <a:pt x="11241" y="1708"/>
                  <a:pt x="11235" y="1708"/>
                </a:cubicBezTo>
                <a:cubicBezTo>
                  <a:pt x="11235" y="1708"/>
                  <a:pt x="11229" y="1708"/>
                  <a:pt x="11223" y="1708"/>
                </a:cubicBezTo>
                <a:cubicBezTo>
                  <a:pt x="11211" y="1702"/>
                  <a:pt x="11211" y="1702"/>
                  <a:pt x="11211" y="1702"/>
                </a:cubicBezTo>
                <a:cubicBezTo>
                  <a:pt x="11211" y="1702"/>
                  <a:pt x="11211" y="1696"/>
                  <a:pt x="11205" y="1690"/>
                </a:cubicBezTo>
                <a:cubicBezTo>
                  <a:pt x="11199" y="1690"/>
                  <a:pt x="11199" y="1690"/>
                  <a:pt x="11193" y="1690"/>
                </a:cubicBezTo>
                <a:cubicBezTo>
                  <a:pt x="11181" y="1684"/>
                  <a:pt x="11181" y="1684"/>
                  <a:pt x="11181" y="1684"/>
                </a:cubicBezTo>
                <a:cubicBezTo>
                  <a:pt x="11175" y="1678"/>
                  <a:pt x="11175" y="1678"/>
                  <a:pt x="11169" y="1672"/>
                </a:cubicBezTo>
                <a:cubicBezTo>
                  <a:pt x="11169" y="1672"/>
                  <a:pt x="11163" y="1672"/>
                  <a:pt x="11158" y="1672"/>
                </a:cubicBezTo>
                <a:cubicBezTo>
                  <a:pt x="11152" y="1666"/>
                  <a:pt x="11140" y="1666"/>
                  <a:pt x="11134" y="1666"/>
                </a:cubicBezTo>
                <a:cubicBezTo>
                  <a:pt x="11122" y="1666"/>
                  <a:pt x="11116" y="1672"/>
                  <a:pt x="11104" y="1672"/>
                </a:cubicBezTo>
                <a:cubicBezTo>
                  <a:pt x="11098" y="1672"/>
                  <a:pt x="11092" y="1672"/>
                  <a:pt x="11086" y="1672"/>
                </a:cubicBezTo>
                <a:cubicBezTo>
                  <a:pt x="11080" y="1672"/>
                  <a:pt x="11080" y="1672"/>
                  <a:pt x="11080" y="1672"/>
                </a:cubicBezTo>
                <a:cubicBezTo>
                  <a:pt x="11075" y="1672"/>
                  <a:pt x="11075" y="1666"/>
                  <a:pt x="11069" y="1666"/>
                </a:cubicBezTo>
                <a:cubicBezTo>
                  <a:pt x="11063" y="1666"/>
                  <a:pt x="11063" y="1660"/>
                  <a:pt x="11057" y="1660"/>
                </a:cubicBezTo>
                <a:cubicBezTo>
                  <a:pt x="11045" y="1654"/>
                  <a:pt x="11045" y="1648"/>
                  <a:pt x="11039" y="1642"/>
                </a:cubicBezTo>
                <a:cubicBezTo>
                  <a:pt x="11003" y="1642"/>
                  <a:pt x="11003" y="1642"/>
                  <a:pt x="11003" y="1642"/>
                </a:cubicBezTo>
                <a:cubicBezTo>
                  <a:pt x="11003" y="1648"/>
                  <a:pt x="11003" y="1654"/>
                  <a:pt x="11003" y="1654"/>
                </a:cubicBezTo>
                <a:cubicBezTo>
                  <a:pt x="10997" y="1660"/>
                  <a:pt x="11003" y="1666"/>
                  <a:pt x="10997" y="1666"/>
                </a:cubicBezTo>
                <a:cubicBezTo>
                  <a:pt x="10991" y="1666"/>
                  <a:pt x="10991" y="1666"/>
                  <a:pt x="10986" y="1666"/>
                </a:cubicBezTo>
                <a:cubicBezTo>
                  <a:pt x="10974" y="1666"/>
                  <a:pt x="10974" y="1666"/>
                  <a:pt x="10974" y="1666"/>
                </a:cubicBezTo>
                <a:cubicBezTo>
                  <a:pt x="10968" y="1666"/>
                  <a:pt x="10962" y="1660"/>
                  <a:pt x="10962" y="1660"/>
                </a:cubicBezTo>
                <a:cubicBezTo>
                  <a:pt x="10962" y="1654"/>
                  <a:pt x="10962" y="1654"/>
                  <a:pt x="10962" y="1648"/>
                </a:cubicBezTo>
                <a:cubicBezTo>
                  <a:pt x="10968" y="1642"/>
                  <a:pt x="10968" y="1636"/>
                  <a:pt x="10968" y="1631"/>
                </a:cubicBezTo>
                <a:cubicBezTo>
                  <a:pt x="10968" y="1631"/>
                  <a:pt x="10974" y="1625"/>
                  <a:pt x="10968" y="1625"/>
                </a:cubicBezTo>
                <a:cubicBezTo>
                  <a:pt x="10968" y="1625"/>
                  <a:pt x="10962" y="1625"/>
                  <a:pt x="10962" y="1619"/>
                </a:cubicBezTo>
                <a:cubicBezTo>
                  <a:pt x="10956" y="1619"/>
                  <a:pt x="10950" y="1619"/>
                  <a:pt x="10950" y="1613"/>
                </a:cubicBezTo>
                <a:cubicBezTo>
                  <a:pt x="10944" y="1613"/>
                  <a:pt x="10950" y="1607"/>
                  <a:pt x="10950" y="1601"/>
                </a:cubicBezTo>
                <a:cubicBezTo>
                  <a:pt x="10944" y="1595"/>
                  <a:pt x="10944" y="1595"/>
                  <a:pt x="10944" y="1589"/>
                </a:cubicBezTo>
                <a:cubicBezTo>
                  <a:pt x="10909" y="1589"/>
                  <a:pt x="10909" y="1589"/>
                  <a:pt x="10909" y="1589"/>
                </a:cubicBezTo>
                <a:cubicBezTo>
                  <a:pt x="10909" y="1589"/>
                  <a:pt x="10903" y="1589"/>
                  <a:pt x="10897" y="1595"/>
                </a:cubicBezTo>
                <a:cubicBezTo>
                  <a:pt x="10897" y="1595"/>
                  <a:pt x="10897" y="1607"/>
                  <a:pt x="10885" y="1607"/>
                </a:cubicBezTo>
                <a:cubicBezTo>
                  <a:pt x="10879" y="1607"/>
                  <a:pt x="10879" y="1601"/>
                  <a:pt x="10873" y="1601"/>
                </a:cubicBezTo>
                <a:cubicBezTo>
                  <a:pt x="10867" y="1595"/>
                  <a:pt x="10861" y="1595"/>
                  <a:pt x="10861" y="1595"/>
                </a:cubicBezTo>
                <a:cubicBezTo>
                  <a:pt x="10855" y="1589"/>
                  <a:pt x="10861" y="1589"/>
                  <a:pt x="10855" y="1583"/>
                </a:cubicBezTo>
                <a:cubicBezTo>
                  <a:pt x="10849" y="1583"/>
                  <a:pt x="10837" y="1589"/>
                  <a:pt x="10831" y="1583"/>
                </a:cubicBezTo>
                <a:cubicBezTo>
                  <a:pt x="10820" y="1583"/>
                  <a:pt x="10814" y="1583"/>
                  <a:pt x="10808" y="1577"/>
                </a:cubicBezTo>
                <a:cubicBezTo>
                  <a:pt x="10802" y="1577"/>
                  <a:pt x="10796" y="1577"/>
                  <a:pt x="10796" y="1577"/>
                </a:cubicBezTo>
                <a:cubicBezTo>
                  <a:pt x="10796" y="1565"/>
                  <a:pt x="10796" y="1565"/>
                  <a:pt x="10796" y="1565"/>
                </a:cubicBezTo>
                <a:cubicBezTo>
                  <a:pt x="10796" y="1565"/>
                  <a:pt x="10802" y="1565"/>
                  <a:pt x="10808" y="1565"/>
                </a:cubicBezTo>
                <a:lnTo>
                  <a:pt x="10814" y="1565"/>
                </a:lnTo>
                <a:cubicBezTo>
                  <a:pt x="10820" y="1565"/>
                  <a:pt x="10825" y="1565"/>
                  <a:pt x="10831" y="1565"/>
                </a:cubicBezTo>
                <a:cubicBezTo>
                  <a:pt x="10831" y="1542"/>
                  <a:pt x="10831" y="1542"/>
                  <a:pt x="10831" y="1542"/>
                </a:cubicBezTo>
                <a:cubicBezTo>
                  <a:pt x="10831" y="1536"/>
                  <a:pt x="10825" y="1530"/>
                  <a:pt x="10825" y="1530"/>
                </a:cubicBezTo>
                <a:cubicBezTo>
                  <a:pt x="10820" y="1524"/>
                  <a:pt x="10820" y="1518"/>
                  <a:pt x="10814" y="1518"/>
                </a:cubicBezTo>
                <a:lnTo>
                  <a:pt x="10808" y="1518"/>
                </a:lnTo>
                <a:cubicBezTo>
                  <a:pt x="10796" y="1518"/>
                  <a:pt x="10790" y="1518"/>
                  <a:pt x="10778" y="1518"/>
                </a:cubicBezTo>
                <a:cubicBezTo>
                  <a:pt x="10772" y="1518"/>
                  <a:pt x="10766" y="1518"/>
                  <a:pt x="10754" y="1512"/>
                </a:cubicBezTo>
                <a:cubicBezTo>
                  <a:pt x="10748" y="1512"/>
                  <a:pt x="10748" y="1506"/>
                  <a:pt x="10748" y="1500"/>
                </a:cubicBezTo>
                <a:cubicBezTo>
                  <a:pt x="10743" y="1500"/>
                  <a:pt x="10743" y="1494"/>
                  <a:pt x="10736" y="1494"/>
                </a:cubicBezTo>
                <a:cubicBezTo>
                  <a:pt x="10736" y="1488"/>
                  <a:pt x="10731" y="1488"/>
                  <a:pt x="10731" y="1488"/>
                </a:cubicBezTo>
                <a:cubicBezTo>
                  <a:pt x="10719" y="1494"/>
                  <a:pt x="10719" y="1494"/>
                  <a:pt x="10719" y="1494"/>
                </a:cubicBezTo>
                <a:cubicBezTo>
                  <a:pt x="10719" y="1524"/>
                  <a:pt x="10719" y="1524"/>
                  <a:pt x="10719" y="1524"/>
                </a:cubicBezTo>
                <a:cubicBezTo>
                  <a:pt x="10707" y="1530"/>
                  <a:pt x="10695" y="1530"/>
                  <a:pt x="10683" y="1530"/>
                </a:cubicBezTo>
                <a:cubicBezTo>
                  <a:pt x="10683" y="1506"/>
                  <a:pt x="10683" y="1506"/>
                  <a:pt x="10683" y="1506"/>
                </a:cubicBezTo>
                <a:cubicBezTo>
                  <a:pt x="10683" y="1500"/>
                  <a:pt x="10689" y="1500"/>
                  <a:pt x="10689" y="1494"/>
                </a:cubicBezTo>
                <a:cubicBezTo>
                  <a:pt x="10695" y="1488"/>
                  <a:pt x="10701" y="1488"/>
                  <a:pt x="10701" y="1482"/>
                </a:cubicBezTo>
                <a:cubicBezTo>
                  <a:pt x="10701" y="1482"/>
                  <a:pt x="10701" y="1476"/>
                  <a:pt x="10701" y="1470"/>
                </a:cubicBezTo>
                <a:cubicBezTo>
                  <a:pt x="10624" y="1470"/>
                  <a:pt x="10624" y="1470"/>
                  <a:pt x="10624" y="1470"/>
                </a:cubicBezTo>
                <a:cubicBezTo>
                  <a:pt x="10624" y="1488"/>
                  <a:pt x="10630" y="1494"/>
                  <a:pt x="10624" y="1506"/>
                </a:cubicBezTo>
                <a:cubicBezTo>
                  <a:pt x="10624" y="1512"/>
                  <a:pt x="10618" y="1512"/>
                  <a:pt x="10618" y="1518"/>
                </a:cubicBezTo>
                <a:cubicBezTo>
                  <a:pt x="10618" y="1530"/>
                  <a:pt x="10618" y="1530"/>
                  <a:pt x="10618" y="1530"/>
                </a:cubicBezTo>
                <a:cubicBezTo>
                  <a:pt x="10618" y="1536"/>
                  <a:pt x="10624" y="1536"/>
                  <a:pt x="10624" y="1542"/>
                </a:cubicBezTo>
                <a:cubicBezTo>
                  <a:pt x="10606" y="1542"/>
                  <a:pt x="10606" y="1542"/>
                  <a:pt x="10606" y="1542"/>
                </a:cubicBezTo>
                <a:cubicBezTo>
                  <a:pt x="10606" y="1536"/>
                  <a:pt x="10612" y="1536"/>
                  <a:pt x="10612" y="1530"/>
                </a:cubicBezTo>
                <a:cubicBezTo>
                  <a:pt x="10612" y="1524"/>
                  <a:pt x="10612" y="1518"/>
                  <a:pt x="10612" y="1512"/>
                </a:cubicBezTo>
                <a:cubicBezTo>
                  <a:pt x="10612" y="1506"/>
                  <a:pt x="10606" y="1500"/>
                  <a:pt x="10606" y="1494"/>
                </a:cubicBezTo>
                <a:cubicBezTo>
                  <a:pt x="10600" y="1488"/>
                  <a:pt x="10600" y="1488"/>
                  <a:pt x="10594" y="1488"/>
                </a:cubicBezTo>
                <a:cubicBezTo>
                  <a:pt x="10570" y="1488"/>
                  <a:pt x="10570" y="1488"/>
                  <a:pt x="10570" y="1488"/>
                </a:cubicBezTo>
                <a:cubicBezTo>
                  <a:pt x="10570" y="1548"/>
                  <a:pt x="10570" y="1548"/>
                  <a:pt x="10570" y="1548"/>
                </a:cubicBezTo>
                <a:cubicBezTo>
                  <a:pt x="10529" y="1548"/>
                  <a:pt x="10529" y="1548"/>
                  <a:pt x="10529" y="1548"/>
                </a:cubicBezTo>
                <a:cubicBezTo>
                  <a:pt x="10529" y="1536"/>
                  <a:pt x="10529" y="1530"/>
                  <a:pt x="10529" y="1512"/>
                </a:cubicBezTo>
                <a:cubicBezTo>
                  <a:pt x="10529" y="1512"/>
                  <a:pt x="10529" y="1506"/>
                  <a:pt x="10529" y="1500"/>
                </a:cubicBezTo>
                <a:cubicBezTo>
                  <a:pt x="10529" y="1500"/>
                  <a:pt x="10529" y="1500"/>
                  <a:pt x="10529" y="1494"/>
                </a:cubicBezTo>
                <a:cubicBezTo>
                  <a:pt x="10553" y="1494"/>
                  <a:pt x="10553" y="1494"/>
                  <a:pt x="10553" y="1494"/>
                </a:cubicBezTo>
                <a:cubicBezTo>
                  <a:pt x="10559" y="1494"/>
                  <a:pt x="10559" y="1494"/>
                  <a:pt x="10565" y="1494"/>
                </a:cubicBezTo>
                <a:lnTo>
                  <a:pt x="10570" y="1494"/>
                </a:lnTo>
                <a:cubicBezTo>
                  <a:pt x="10570" y="1459"/>
                  <a:pt x="10570" y="1459"/>
                  <a:pt x="10570" y="1459"/>
                </a:cubicBezTo>
                <a:cubicBezTo>
                  <a:pt x="10559" y="1459"/>
                  <a:pt x="10559" y="1459"/>
                  <a:pt x="10559" y="1459"/>
                </a:cubicBezTo>
                <a:cubicBezTo>
                  <a:pt x="10547" y="1465"/>
                  <a:pt x="10541" y="1470"/>
                  <a:pt x="10529" y="1476"/>
                </a:cubicBezTo>
                <a:cubicBezTo>
                  <a:pt x="10529" y="1476"/>
                  <a:pt x="10523" y="1482"/>
                  <a:pt x="10517" y="1482"/>
                </a:cubicBezTo>
                <a:cubicBezTo>
                  <a:pt x="10517" y="1482"/>
                  <a:pt x="10511" y="1476"/>
                  <a:pt x="10505" y="1476"/>
                </a:cubicBezTo>
                <a:lnTo>
                  <a:pt x="10499" y="1476"/>
                </a:lnTo>
                <a:cubicBezTo>
                  <a:pt x="10493" y="1476"/>
                  <a:pt x="10488" y="1482"/>
                  <a:pt x="10488" y="1488"/>
                </a:cubicBezTo>
                <a:cubicBezTo>
                  <a:pt x="10488" y="1500"/>
                  <a:pt x="10482" y="1506"/>
                  <a:pt x="10476" y="1512"/>
                </a:cubicBezTo>
                <a:cubicBezTo>
                  <a:pt x="10470" y="1518"/>
                  <a:pt x="10464" y="1518"/>
                  <a:pt x="10458" y="1518"/>
                </a:cubicBezTo>
                <a:cubicBezTo>
                  <a:pt x="10452" y="1518"/>
                  <a:pt x="10452" y="1518"/>
                  <a:pt x="10452" y="1518"/>
                </a:cubicBezTo>
                <a:cubicBezTo>
                  <a:pt x="10446" y="1518"/>
                  <a:pt x="10446" y="1518"/>
                  <a:pt x="10440" y="1518"/>
                </a:cubicBezTo>
                <a:cubicBezTo>
                  <a:pt x="10434" y="1518"/>
                  <a:pt x="10434" y="1506"/>
                  <a:pt x="10428" y="1506"/>
                </a:cubicBezTo>
                <a:cubicBezTo>
                  <a:pt x="10434" y="1500"/>
                  <a:pt x="10434" y="1500"/>
                  <a:pt x="10434" y="1494"/>
                </a:cubicBezTo>
                <a:cubicBezTo>
                  <a:pt x="10440" y="1488"/>
                  <a:pt x="10446" y="1488"/>
                  <a:pt x="10446" y="1488"/>
                </a:cubicBezTo>
                <a:cubicBezTo>
                  <a:pt x="10411" y="1488"/>
                  <a:pt x="10411" y="1488"/>
                  <a:pt x="10411" y="1488"/>
                </a:cubicBezTo>
                <a:cubicBezTo>
                  <a:pt x="10393" y="1488"/>
                  <a:pt x="10387" y="1488"/>
                  <a:pt x="10375" y="1494"/>
                </a:cubicBezTo>
                <a:cubicBezTo>
                  <a:pt x="10369" y="1494"/>
                  <a:pt x="10363" y="1500"/>
                  <a:pt x="10357" y="1500"/>
                </a:cubicBezTo>
                <a:cubicBezTo>
                  <a:pt x="10351" y="1500"/>
                  <a:pt x="10345" y="1500"/>
                  <a:pt x="10345" y="1506"/>
                </a:cubicBezTo>
                <a:cubicBezTo>
                  <a:pt x="10345" y="1512"/>
                  <a:pt x="10345" y="1518"/>
                  <a:pt x="10345" y="1518"/>
                </a:cubicBezTo>
                <a:cubicBezTo>
                  <a:pt x="10345" y="1524"/>
                  <a:pt x="10345" y="1530"/>
                  <a:pt x="10351" y="1530"/>
                </a:cubicBezTo>
                <a:cubicBezTo>
                  <a:pt x="10351" y="1536"/>
                  <a:pt x="10351" y="1542"/>
                  <a:pt x="10357" y="1542"/>
                </a:cubicBezTo>
                <a:cubicBezTo>
                  <a:pt x="10369" y="1548"/>
                  <a:pt x="10375" y="1548"/>
                  <a:pt x="10381" y="1548"/>
                </a:cubicBezTo>
                <a:cubicBezTo>
                  <a:pt x="10393" y="1548"/>
                  <a:pt x="10393" y="1548"/>
                  <a:pt x="10404" y="1548"/>
                </a:cubicBezTo>
                <a:cubicBezTo>
                  <a:pt x="10404" y="1571"/>
                  <a:pt x="10404" y="1571"/>
                  <a:pt x="10404" y="1571"/>
                </a:cubicBezTo>
                <a:cubicBezTo>
                  <a:pt x="10381" y="1571"/>
                  <a:pt x="10381" y="1571"/>
                  <a:pt x="10381" y="1571"/>
                </a:cubicBezTo>
                <a:cubicBezTo>
                  <a:pt x="10375" y="1571"/>
                  <a:pt x="10375" y="1565"/>
                  <a:pt x="10369" y="1565"/>
                </a:cubicBezTo>
                <a:cubicBezTo>
                  <a:pt x="10357" y="1565"/>
                  <a:pt x="10351" y="1565"/>
                  <a:pt x="10345" y="1565"/>
                </a:cubicBezTo>
                <a:cubicBezTo>
                  <a:pt x="10333" y="1565"/>
                  <a:pt x="10327" y="1565"/>
                  <a:pt x="10322" y="1565"/>
                </a:cubicBezTo>
                <a:cubicBezTo>
                  <a:pt x="10316" y="1559"/>
                  <a:pt x="10310" y="1559"/>
                  <a:pt x="10310" y="1559"/>
                </a:cubicBezTo>
                <a:cubicBezTo>
                  <a:pt x="10286" y="1559"/>
                  <a:pt x="10286" y="1559"/>
                  <a:pt x="10286" y="1559"/>
                </a:cubicBezTo>
                <a:cubicBezTo>
                  <a:pt x="10286" y="1571"/>
                  <a:pt x="10286" y="1577"/>
                  <a:pt x="10286" y="1589"/>
                </a:cubicBezTo>
                <a:cubicBezTo>
                  <a:pt x="10286" y="1595"/>
                  <a:pt x="10286" y="1601"/>
                  <a:pt x="10286" y="1601"/>
                </a:cubicBezTo>
                <a:cubicBezTo>
                  <a:pt x="10286" y="1607"/>
                  <a:pt x="10280" y="1607"/>
                  <a:pt x="10280" y="1613"/>
                </a:cubicBezTo>
                <a:cubicBezTo>
                  <a:pt x="10280" y="1619"/>
                  <a:pt x="10274" y="1619"/>
                  <a:pt x="10268" y="1619"/>
                </a:cubicBezTo>
                <a:cubicBezTo>
                  <a:pt x="10268" y="1613"/>
                  <a:pt x="10268" y="1607"/>
                  <a:pt x="10268" y="1595"/>
                </a:cubicBezTo>
                <a:cubicBezTo>
                  <a:pt x="10268" y="1595"/>
                  <a:pt x="10268" y="1589"/>
                  <a:pt x="10268" y="1583"/>
                </a:cubicBezTo>
                <a:cubicBezTo>
                  <a:pt x="10262" y="1583"/>
                  <a:pt x="10256" y="1583"/>
                  <a:pt x="10256" y="1577"/>
                </a:cubicBezTo>
                <a:cubicBezTo>
                  <a:pt x="10250" y="1577"/>
                  <a:pt x="10245" y="1583"/>
                  <a:pt x="10245" y="1577"/>
                </a:cubicBezTo>
                <a:cubicBezTo>
                  <a:pt x="10238" y="1577"/>
                  <a:pt x="10233" y="1571"/>
                  <a:pt x="10233" y="1571"/>
                </a:cubicBezTo>
                <a:cubicBezTo>
                  <a:pt x="10227" y="1571"/>
                  <a:pt x="10227" y="1565"/>
                  <a:pt x="10221" y="1559"/>
                </a:cubicBezTo>
                <a:cubicBezTo>
                  <a:pt x="10221" y="1559"/>
                  <a:pt x="10215" y="1559"/>
                  <a:pt x="10209" y="1559"/>
                </a:cubicBezTo>
                <a:cubicBezTo>
                  <a:pt x="10203" y="1554"/>
                  <a:pt x="10197" y="1542"/>
                  <a:pt x="10185" y="1542"/>
                </a:cubicBezTo>
                <a:cubicBezTo>
                  <a:pt x="10179" y="1542"/>
                  <a:pt x="10173" y="1548"/>
                  <a:pt x="10167" y="1548"/>
                </a:cubicBezTo>
                <a:cubicBezTo>
                  <a:pt x="10167" y="1565"/>
                  <a:pt x="10167" y="1565"/>
                  <a:pt x="10167" y="1565"/>
                </a:cubicBezTo>
                <a:cubicBezTo>
                  <a:pt x="10167" y="1571"/>
                  <a:pt x="10173" y="1577"/>
                  <a:pt x="10173" y="1577"/>
                </a:cubicBezTo>
                <a:cubicBezTo>
                  <a:pt x="10173" y="1583"/>
                  <a:pt x="10179" y="1589"/>
                  <a:pt x="10179" y="1595"/>
                </a:cubicBezTo>
                <a:cubicBezTo>
                  <a:pt x="10179" y="1601"/>
                  <a:pt x="10167" y="1607"/>
                  <a:pt x="10167" y="1619"/>
                </a:cubicBezTo>
                <a:cubicBezTo>
                  <a:pt x="10167" y="1619"/>
                  <a:pt x="10173" y="1625"/>
                  <a:pt x="10173" y="1631"/>
                </a:cubicBezTo>
                <a:cubicBezTo>
                  <a:pt x="10167" y="1631"/>
                  <a:pt x="10161" y="1631"/>
                  <a:pt x="10161" y="1636"/>
                </a:cubicBezTo>
                <a:cubicBezTo>
                  <a:pt x="10156" y="1642"/>
                  <a:pt x="10150" y="1648"/>
                  <a:pt x="10144" y="1648"/>
                </a:cubicBezTo>
                <a:cubicBezTo>
                  <a:pt x="10138" y="1648"/>
                  <a:pt x="10132" y="1648"/>
                  <a:pt x="10126" y="1642"/>
                </a:cubicBezTo>
                <a:cubicBezTo>
                  <a:pt x="10126" y="1642"/>
                  <a:pt x="10126" y="1636"/>
                  <a:pt x="10126" y="1631"/>
                </a:cubicBezTo>
                <a:cubicBezTo>
                  <a:pt x="10126" y="1625"/>
                  <a:pt x="10120" y="1625"/>
                  <a:pt x="10120" y="1619"/>
                </a:cubicBezTo>
                <a:cubicBezTo>
                  <a:pt x="10120" y="1619"/>
                  <a:pt x="10120" y="1613"/>
                  <a:pt x="10120" y="1607"/>
                </a:cubicBezTo>
                <a:cubicBezTo>
                  <a:pt x="10114" y="1613"/>
                  <a:pt x="10114" y="1613"/>
                  <a:pt x="10108" y="1613"/>
                </a:cubicBezTo>
                <a:cubicBezTo>
                  <a:pt x="10102" y="1619"/>
                  <a:pt x="10108" y="1625"/>
                  <a:pt x="10108" y="1631"/>
                </a:cubicBezTo>
                <a:cubicBezTo>
                  <a:pt x="10102" y="1631"/>
                  <a:pt x="10096" y="1631"/>
                  <a:pt x="10096" y="1631"/>
                </a:cubicBezTo>
                <a:cubicBezTo>
                  <a:pt x="10084" y="1631"/>
                  <a:pt x="10079" y="1631"/>
                  <a:pt x="10072" y="1631"/>
                </a:cubicBezTo>
                <a:cubicBezTo>
                  <a:pt x="10067" y="1648"/>
                  <a:pt x="10067" y="1648"/>
                  <a:pt x="10067" y="1648"/>
                </a:cubicBezTo>
                <a:cubicBezTo>
                  <a:pt x="10072" y="1654"/>
                  <a:pt x="10072" y="1660"/>
                  <a:pt x="10072" y="1660"/>
                </a:cubicBezTo>
                <a:cubicBezTo>
                  <a:pt x="10079" y="1666"/>
                  <a:pt x="10084" y="1660"/>
                  <a:pt x="10084" y="1660"/>
                </a:cubicBezTo>
                <a:cubicBezTo>
                  <a:pt x="10090" y="1666"/>
                  <a:pt x="10096" y="1666"/>
                  <a:pt x="10096" y="1666"/>
                </a:cubicBezTo>
                <a:cubicBezTo>
                  <a:pt x="10096" y="1672"/>
                  <a:pt x="10096" y="1678"/>
                  <a:pt x="10096" y="1678"/>
                </a:cubicBezTo>
                <a:cubicBezTo>
                  <a:pt x="10096" y="1690"/>
                  <a:pt x="10096" y="1690"/>
                  <a:pt x="10096" y="1690"/>
                </a:cubicBezTo>
                <a:cubicBezTo>
                  <a:pt x="10096" y="1696"/>
                  <a:pt x="10090" y="1696"/>
                  <a:pt x="10090" y="1702"/>
                </a:cubicBezTo>
                <a:cubicBezTo>
                  <a:pt x="10090" y="1702"/>
                  <a:pt x="10084" y="1702"/>
                  <a:pt x="10079" y="1702"/>
                </a:cubicBezTo>
                <a:cubicBezTo>
                  <a:pt x="10072" y="1696"/>
                  <a:pt x="10072" y="1690"/>
                  <a:pt x="10067" y="1690"/>
                </a:cubicBezTo>
                <a:cubicBezTo>
                  <a:pt x="10061" y="1684"/>
                  <a:pt x="10055" y="1690"/>
                  <a:pt x="10043" y="1690"/>
                </a:cubicBezTo>
                <a:cubicBezTo>
                  <a:pt x="10037" y="1690"/>
                  <a:pt x="10031" y="1684"/>
                  <a:pt x="10031" y="1684"/>
                </a:cubicBezTo>
                <a:cubicBezTo>
                  <a:pt x="10031" y="1672"/>
                  <a:pt x="10037" y="1660"/>
                  <a:pt x="10037" y="1648"/>
                </a:cubicBezTo>
                <a:cubicBezTo>
                  <a:pt x="10037" y="1642"/>
                  <a:pt x="10031" y="1642"/>
                  <a:pt x="10031" y="1636"/>
                </a:cubicBezTo>
                <a:cubicBezTo>
                  <a:pt x="10019" y="1636"/>
                  <a:pt x="10019" y="1642"/>
                  <a:pt x="10013" y="1642"/>
                </a:cubicBezTo>
                <a:cubicBezTo>
                  <a:pt x="10013" y="1678"/>
                  <a:pt x="10013" y="1678"/>
                  <a:pt x="10013" y="1678"/>
                </a:cubicBezTo>
                <a:cubicBezTo>
                  <a:pt x="10007" y="1678"/>
                  <a:pt x="10007" y="1684"/>
                  <a:pt x="10001" y="1684"/>
                </a:cubicBezTo>
                <a:cubicBezTo>
                  <a:pt x="9995" y="1684"/>
                  <a:pt x="9990" y="1678"/>
                  <a:pt x="9983" y="1678"/>
                </a:cubicBezTo>
                <a:cubicBezTo>
                  <a:pt x="9972" y="1678"/>
                  <a:pt x="9966" y="1684"/>
                  <a:pt x="9954" y="1690"/>
                </a:cubicBezTo>
                <a:cubicBezTo>
                  <a:pt x="9954" y="1690"/>
                  <a:pt x="9954" y="1696"/>
                  <a:pt x="9960" y="1702"/>
                </a:cubicBezTo>
                <a:cubicBezTo>
                  <a:pt x="9960" y="1702"/>
                  <a:pt x="9966" y="1702"/>
                  <a:pt x="9966" y="1708"/>
                </a:cubicBezTo>
                <a:cubicBezTo>
                  <a:pt x="9966" y="1708"/>
                  <a:pt x="9966" y="1714"/>
                  <a:pt x="9966" y="1720"/>
                </a:cubicBezTo>
                <a:cubicBezTo>
                  <a:pt x="9954" y="1720"/>
                  <a:pt x="9948" y="1714"/>
                  <a:pt x="9936" y="1720"/>
                </a:cubicBezTo>
                <a:cubicBezTo>
                  <a:pt x="9930" y="1720"/>
                  <a:pt x="9924" y="1720"/>
                  <a:pt x="9924" y="1720"/>
                </a:cubicBezTo>
                <a:cubicBezTo>
                  <a:pt x="9918" y="1720"/>
                  <a:pt x="9912" y="1720"/>
                  <a:pt x="9912" y="1720"/>
                </a:cubicBezTo>
                <a:cubicBezTo>
                  <a:pt x="9906" y="1720"/>
                  <a:pt x="9906" y="1725"/>
                  <a:pt x="9901" y="1725"/>
                </a:cubicBezTo>
                <a:cubicBezTo>
                  <a:pt x="9895" y="1731"/>
                  <a:pt x="9901" y="1737"/>
                  <a:pt x="9895" y="1737"/>
                </a:cubicBezTo>
                <a:cubicBezTo>
                  <a:pt x="9895" y="1743"/>
                  <a:pt x="9889" y="1743"/>
                  <a:pt x="9883" y="1743"/>
                </a:cubicBezTo>
                <a:cubicBezTo>
                  <a:pt x="9883" y="1743"/>
                  <a:pt x="9877" y="1749"/>
                  <a:pt x="9877" y="1755"/>
                </a:cubicBezTo>
                <a:cubicBezTo>
                  <a:pt x="9871" y="1755"/>
                  <a:pt x="9877" y="1761"/>
                  <a:pt x="9871" y="1767"/>
                </a:cubicBezTo>
                <a:cubicBezTo>
                  <a:pt x="9871" y="1767"/>
                  <a:pt x="9865" y="1761"/>
                  <a:pt x="9859" y="1767"/>
                </a:cubicBezTo>
                <a:cubicBezTo>
                  <a:pt x="9853" y="1767"/>
                  <a:pt x="9853" y="1773"/>
                  <a:pt x="9847" y="1779"/>
                </a:cubicBezTo>
                <a:cubicBezTo>
                  <a:pt x="9871" y="1779"/>
                  <a:pt x="9871" y="1779"/>
                  <a:pt x="9871" y="1779"/>
                </a:cubicBezTo>
                <a:cubicBezTo>
                  <a:pt x="9877" y="1779"/>
                  <a:pt x="9877" y="1779"/>
                  <a:pt x="9883" y="1773"/>
                </a:cubicBezTo>
                <a:cubicBezTo>
                  <a:pt x="9889" y="1773"/>
                  <a:pt x="9889" y="1767"/>
                  <a:pt x="9889" y="1761"/>
                </a:cubicBezTo>
                <a:cubicBezTo>
                  <a:pt x="9895" y="1761"/>
                  <a:pt x="9901" y="1761"/>
                  <a:pt x="9901" y="1755"/>
                </a:cubicBezTo>
                <a:cubicBezTo>
                  <a:pt x="9906" y="1755"/>
                  <a:pt x="9912" y="1755"/>
                  <a:pt x="9912" y="1755"/>
                </a:cubicBezTo>
                <a:cubicBezTo>
                  <a:pt x="9918" y="1755"/>
                  <a:pt x="9924" y="1755"/>
                  <a:pt x="9924" y="1755"/>
                </a:cubicBezTo>
                <a:cubicBezTo>
                  <a:pt x="9930" y="1755"/>
                  <a:pt x="9936" y="1761"/>
                  <a:pt x="9936" y="1755"/>
                </a:cubicBezTo>
                <a:cubicBezTo>
                  <a:pt x="9942" y="1755"/>
                  <a:pt x="9942" y="1749"/>
                  <a:pt x="9948" y="1749"/>
                </a:cubicBezTo>
                <a:cubicBezTo>
                  <a:pt x="9954" y="1743"/>
                  <a:pt x="9948" y="1737"/>
                  <a:pt x="9954" y="1737"/>
                </a:cubicBezTo>
                <a:cubicBezTo>
                  <a:pt x="9960" y="1737"/>
                  <a:pt x="9960" y="1737"/>
                  <a:pt x="9966" y="1737"/>
                </a:cubicBezTo>
                <a:cubicBezTo>
                  <a:pt x="9972" y="1737"/>
                  <a:pt x="9972" y="1737"/>
                  <a:pt x="9978" y="1737"/>
                </a:cubicBezTo>
                <a:cubicBezTo>
                  <a:pt x="9983" y="1737"/>
                  <a:pt x="9983" y="1731"/>
                  <a:pt x="9990" y="1725"/>
                </a:cubicBezTo>
                <a:cubicBezTo>
                  <a:pt x="10001" y="1725"/>
                  <a:pt x="10007" y="1725"/>
                  <a:pt x="10019" y="1725"/>
                </a:cubicBezTo>
                <a:cubicBezTo>
                  <a:pt x="10031" y="1725"/>
                  <a:pt x="10037" y="1725"/>
                  <a:pt x="10049" y="1725"/>
                </a:cubicBezTo>
                <a:cubicBezTo>
                  <a:pt x="10055" y="1731"/>
                  <a:pt x="10055" y="1737"/>
                  <a:pt x="10061" y="1737"/>
                </a:cubicBezTo>
                <a:cubicBezTo>
                  <a:pt x="10055" y="1749"/>
                  <a:pt x="10055" y="1749"/>
                  <a:pt x="10055" y="1749"/>
                </a:cubicBezTo>
                <a:cubicBezTo>
                  <a:pt x="10043" y="1749"/>
                  <a:pt x="10037" y="1749"/>
                  <a:pt x="10031" y="1749"/>
                </a:cubicBezTo>
                <a:cubicBezTo>
                  <a:pt x="10025" y="1749"/>
                  <a:pt x="10025" y="1749"/>
                  <a:pt x="10019" y="1749"/>
                </a:cubicBezTo>
                <a:lnTo>
                  <a:pt x="10019" y="1761"/>
                </a:lnTo>
                <a:cubicBezTo>
                  <a:pt x="10013" y="1761"/>
                  <a:pt x="10007" y="1761"/>
                  <a:pt x="10007" y="1761"/>
                </a:cubicBezTo>
                <a:cubicBezTo>
                  <a:pt x="10001" y="1761"/>
                  <a:pt x="9995" y="1761"/>
                  <a:pt x="9995" y="1761"/>
                </a:cubicBezTo>
                <a:cubicBezTo>
                  <a:pt x="9990" y="1761"/>
                  <a:pt x="9983" y="1767"/>
                  <a:pt x="9983" y="1767"/>
                </a:cubicBezTo>
                <a:cubicBezTo>
                  <a:pt x="9983" y="1773"/>
                  <a:pt x="9983" y="1779"/>
                  <a:pt x="9978" y="1779"/>
                </a:cubicBezTo>
                <a:cubicBezTo>
                  <a:pt x="9978" y="1785"/>
                  <a:pt x="9978" y="1785"/>
                  <a:pt x="9972" y="1791"/>
                </a:cubicBezTo>
                <a:cubicBezTo>
                  <a:pt x="9972" y="1797"/>
                  <a:pt x="9966" y="1791"/>
                  <a:pt x="9966" y="1797"/>
                </a:cubicBezTo>
                <a:cubicBezTo>
                  <a:pt x="9960" y="1802"/>
                  <a:pt x="9960" y="1802"/>
                  <a:pt x="9960" y="1809"/>
                </a:cubicBezTo>
                <a:cubicBezTo>
                  <a:pt x="9954" y="1814"/>
                  <a:pt x="9960" y="1814"/>
                  <a:pt x="9960" y="1820"/>
                </a:cubicBezTo>
                <a:cubicBezTo>
                  <a:pt x="9960" y="1826"/>
                  <a:pt x="9960" y="1832"/>
                  <a:pt x="9960" y="1844"/>
                </a:cubicBezTo>
                <a:cubicBezTo>
                  <a:pt x="9942" y="1844"/>
                  <a:pt x="9930" y="1838"/>
                  <a:pt x="9924" y="1850"/>
                </a:cubicBezTo>
                <a:cubicBezTo>
                  <a:pt x="9918" y="1856"/>
                  <a:pt x="9918" y="1862"/>
                  <a:pt x="9912" y="1874"/>
                </a:cubicBezTo>
                <a:cubicBezTo>
                  <a:pt x="9912" y="1874"/>
                  <a:pt x="9906" y="1874"/>
                  <a:pt x="9901" y="1880"/>
                </a:cubicBezTo>
                <a:cubicBezTo>
                  <a:pt x="9901" y="1880"/>
                  <a:pt x="9895" y="1880"/>
                  <a:pt x="9889" y="1886"/>
                </a:cubicBezTo>
                <a:cubicBezTo>
                  <a:pt x="9889" y="1886"/>
                  <a:pt x="9889" y="1891"/>
                  <a:pt x="9883" y="1897"/>
                </a:cubicBezTo>
                <a:cubicBezTo>
                  <a:pt x="9883" y="1897"/>
                  <a:pt x="9877" y="1897"/>
                  <a:pt x="9877" y="1903"/>
                </a:cubicBezTo>
                <a:cubicBezTo>
                  <a:pt x="9871" y="1903"/>
                  <a:pt x="9865" y="1909"/>
                  <a:pt x="9865" y="1909"/>
                </a:cubicBezTo>
                <a:cubicBezTo>
                  <a:pt x="9859" y="1915"/>
                  <a:pt x="9865" y="1921"/>
                  <a:pt x="9865" y="1921"/>
                </a:cubicBezTo>
                <a:cubicBezTo>
                  <a:pt x="9865" y="1927"/>
                  <a:pt x="9865" y="1933"/>
                  <a:pt x="9865" y="1933"/>
                </a:cubicBezTo>
                <a:cubicBezTo>
                  <a:pt x="9859" y="1939"/>
                  <a:pt x="9853" y="1939"/>
                  <a:pt x="9853" y="1945"/>
                </a:cubicBezTo>
                <a:cubicBezTo>
                  <a:pt x="9847" y="1951"/>
                  <a:pt x="9841" y="1951"/>
                  <a:pt x="9841" y="1957"/>
                </a:cubicBezTo>
                <a:cubicBezTo>
                  <a:pt x="9841" y="1963"/>
                  <a:pt x="9841" y="1975"/>
                  <a:pt x="9841" y="1980"/>
                </a:cubicBezTo>
                <a:cubicBezTo>
                  <a:pt x="9841" y="1986"/>
                  <a:pt x="9835" y="1986"/>
                  <a:pt x="9835" y="1992"/>
                </a:cubicBezTo>
                <a:cubicBezTo>
                  <a:pt x="9835" y="1992"/>
                  <a:pt x="9835" y="1998"/>
                  <a:pt x="9835" y="2004"/>
                </a:cubicBezTo>
                <a:cubicBezTo>
                  <a:pt x="9829" y="1992"/>
                  <a:pt x="9829" y="1992"/>
                  <a:pt x="9829" y="1992"/>
                </a:cubicBezTo>
                <a:cubicBezTo>
                  <a:pt x="9829" y="1992"/>
                  <a:pt x="9824" y="1998"/>
                  <a:pt x="9818" y="1998"/>
                </a:cubicBezTo>
                <a:cubicBezTo>
                  <a:pt x="9812" y="2004"/>
                  <a:pt x="9806" y="2004"/>
                  <a:pt x="9800" y="2010"/>
                </a:cubicBezTo>
                <a:cubicBezTo>
                  <a:pt x="9795" y="2010"/>
                  <a:pt x="9795" y="2016"/>
                  <a:pt x="9789" y="2022"/>
                </a:cubicBezTo>
                <a:cubicBezTo>
                  <a:pt x="9783" y="2022"/>
                  <a:pt x="9783" y="2028"/>
                  <a:pt x="9777" y="2028"/>
                </a:cubicBezTo>
                <a:cubicBezTo>
                  <a:pt x="9777" y="2028"/>
                  <a:pt x="9771" y="2028"/>
                  <a:pt x="9765" y="2028"/>
                </a:cubicBezTo>
                <a:cubicBezTo>
                  <a:pt x="9765" y="2028"/>
                  <a:pt x="9753" y="2034"/>
                  <a:pt x="9747" y="2034"/>
                </a:cubicBezTo>
                <a:cubicBezTo>
                  <a:pt x="9747" y="2034"/>
                  <a:pt x="9741" y="2040"/>
                  <a:pt x="9736" y="2040"/>
                </a:cubicBezTo>
                <a:cubicBezTo>
                  <a:pt x="9741" y="2057"/>
                  <a:pt x="9741" y="2057"/>
                  <a:pt x="9741" y="2057"/>
                </a:cubicBezTo>
                <a:cubicBezTo>
                  <a:pt x="9747" y="2057"/>
                  <a:pt x="9747" y="2057"/>
                  <a:pt x="9753" y="2057"/>
                </a:cubicBezTo>
                <a:cubicBezTo>
                  <a:pt x="9759" y="2057"/>
                  <a:pt x="9759" y="2057"/>
                  <a:pt x="9765" y="2057"/>
                </a:cubicBezTo>
                <a:cubicBezTo>
                  <a:pt x="9789" y="2057"/>
                  <a:pt x="9789" y="2057"/>
                  <a:pt x="9789" y="2057"/>
                </a:cubicBezTo>
                <a:cubicBezTo>
                  <a:pt x="9789" y="2063"/>
                  <a:pt x="9783" y="2063"/>
                  <a:pt x="9783" y="2069"/>
                </a:cubicBezTo>
                <a:cubicBezTo>
                  <a:pt x="9783" y="2075"/>
                  <a:pt x="9783" y="2081"/>
                  <a:pt x="9783" y="2081"/>
                </a:cubicBezTo>
                <a:cubicBezTo>
                  <a:pt x="9783" y="2087"/>
                  <a:pt x="9777" y="2087"/>
                  <a:pt x="9771" y="2087"/>
                </a:cubicBezTo>
                <a:cubicBezTo>
                  <a:pt x="9771" y="2087"/>
                  <a:pt x="9765" y="2093"/>
                  <a:pt x="9759" y="2093"/>
                </a:cubicBezTo>
                <a:cubicBezTo>
                  <a:pt x="9753" y="2093"/>
                  <a:pt x="9753" y="2099"/>
                  <a:pt x="9747" y="2105"/>
                </a:cubicBezTo>
                <a:cubicBezTo>
                  <a:pt x="9747" y="2105"/>
                  <a:pt x="9736" y="2105"/>
                  <a:pt x="9730" y="2105"/>
                </a:cubicBezTo>
                <a:cubicBezTo>
                  <a:pt x="9730" y="2111"/>
                  <a:pt x="9724" y="2111"/>
                  <a:pt x="9724" y="2117"/>
                </a:cubicBezTo>
                <a:cubicBezTo>
                  <a:pt x="9718" y="2117"/>
                  <a:pt x="9712" y="2123"/>
                  <a:pt x="9712" y="2123"/>
                </a:cubicBezTo>
                <a:cubicBezTo>
                  <a:pt x="9706" y="2129"/>
                  <a:pt x="9700" y="2129"/>
                  <a:pt x="9700" y="2129"/>
                </a:cubicBezTo>
                <a:cubicBezTo>
                  <a:pt x="9694" y="2129"/>
                  <a:pt x="9688" y="2134"/>
                  <a:pt x="9688" y="2134"/>
                </a:cubicBezTo>
                <a:cubicBezTo>
                  <a:pt x="9682" y="2141"/>
                  <a:pt x="9682" y="2146"/>
                  <a:pt x="9682" y="2146"/>
                </a:cubicBezTo>
                <a:cubicBezTo>
                  <a:pt x="9676" y="2152"/>
                  <a:pt x="9682" y="2158"/>
                  <a:pt x="9676" y="2158"/>
                </a:cubicBezTo>
                <a:cubicBezTo>
                  <a:pt x="9676" y="2164"/>
                  <a:pt x="9670" y="2170"/>
                  <a:pt x="9658" y="2170"/>
                </a:cubicBezTo>
                <a:cubicBezTo>
                  <a:pt x="9647" y="2170"/>
                  <a:pt x="9647" y="2158"/>
                  <a:pt x="9635" y="2158"/>
                </a:cubicBezTo>
                <a:cubicBezTo>
                  <a:pt x="9611" y="2158"/>
                  <a:pt x="9611" y="2158"/>
                  <a:pt x="9611" y="2158"/>
                </a:cubicBezTo>
                <a:cubicBezTo>
                  <a:pt x="9605" y="2182"/>
                  <a:pt x="9605" y="2182"/>
                  <a:pt x="9605" y="2182"/>
                </a:cubicBezTo>
                <a:cubicBezTo>
                  <a:pt x="9611" y="2188"/>
                  <a:pt x="9611" y="2194"/>
                  <a:pt x="9617" y="2200"/>
                </a:cubicBezTo>
                <a:cubicBezTo>
                  <a:pt x="9605" y="2206"/>
                  <a:pt x="9593" y="2206"/>
                  <a:pt x="9581" y="2212"/>
                </a:cubicBezTo>
                <a:cubicBezTo>
                  <a:pt x="9575" y="2212"/>
                  <a:pt x="9575" y="2212"/>
                  <a:pt x="9570" y="2212"/>
                </a:cubicBezTo>
                <a:cubicBezTo>
                  <a:pt x="9558" y="2212"/>
                  <a:pt x="9558" y="2218"/>
                  <a:pt x="9546" y="2223"/>
                </a:cubicBezTo>
                <a:cubicBezTo>
                  <a:pt x="9540" y="2223"/>
                  <a:pt x="9540" y="2229"/>
                  <a:pt x="9534" y="2229"/>
                </a:cubicBezTo>
                <a:cubicBezTo>
                  <a:pt x="9534" y="2235"/>
                  <a:pt x="9528" y="2235"/>
                  <a:pt x="9522" y="2241"/>
                </a:cubicBezTo>
                <a:cubicBezTo>
                  <a:pt x="9522" y="2241"/>
                  <a:pt x="9516" y="2235"/>
                  <a:pt x="9510" y="2241"/>
                </a:cubicBezTo>
                <a:cubicBezTo>
                  <a:pt x="9510" y="2241"/>
                  <a:pt x="9504" y="2241"/>
                  <a:pt x="9498" y="2247"/>
                </a:cubicBezTo>
                <a:cubicBezTo>
                  <a:pt x="9498" y="2247"/>
                  <a:pt x="9504" y="2253"/>
                  <a:pt x="9498" y="2259"/>
                </a:cubicBezTo>
                <a:cubicBezTo>
                  <a:pt x="9498" y="2259"/>
                  <a:pt x="9504" y="2265"/>
                  <a:pt x="9498" y="2265"/>
                </a:cubicBezTo>
                <a:cubicBezTo>
                  <a:pt x="9498" y="2271"/>
                  <a:pt x="9492" y="2277"/>
                  <a:pt x="9492" y="2277"/>
                </a:cubicBezTo>
                <a:cubicBezTo>
                  <a:pt x="9487" y="2283"/>
                  <a:pt x="9481" y="2289"/>
                  <a:pt x="9481" y="2289"/>
                </a:cubicBezTo>
                <a:cubicBezTo>
                  <a:pt x="9475" y="2289"/>
                  <a:pt x="9469" y="2289"/>
                  <a:pt x="9469" y="2289"/>
                </a:cubicBezTo>
                <a:cubicBezTo>
                  <a:pt x="9463" y="2289"/>
                  <a:pt x="9457" y="2289"/>
                  <a:pt x="9457" y="2289"/>
                </a:cubicBezTo>
                <a:cubicBezTo>
                  <a:pt x="9451" y="2289"/>
                  <a:pt x="9451" y="2295"/>
                  <a:pt x="9445" y="2295"/>
                </a:cubicBezTo>
                <a:cubicBezTo>
                  <a:pt x="9439" y="2300"/>
                  <a:pt x="9433" y="2300"/>
                  <a:pt x="9433" y="2307"/>
                </a:cubicBezTo>
                <a:cubicBezTo>
                  <a:pt x="9433" y="2307"/>
                  <a:pt x="9433" y="2312"/>
                  <a:pt x="9433" y="2318"/>
                </a:cubicBezTo>
                <a:cubicBezTo>
                  <a:pt x="9433" y="2324"/>
                  <a:pt x="9439" y="2324"/>
                  <a:pt x="9439" y="2330"/>
                </a:cubicBezTo>
                <a:cubicBezTo>
                  <a:pt x="9439" y="2330"/>
                  <a:pt x="9439" y="2336"/>
                  <a:pt x="9433" y="2342"/>
                </a:cubicBezTo>
                <a:cubicBezTo>
                  <a:pt x="9433" y="2342"/>
                  <a:pt x="9427" y="2342"/>
                  <a:pt x="9421" y="2342"/>
                </a:cubicBezTo>
                <a:cubicBezTo>
                  <a:pt x="9421" y="2348"/>
                  <a:pt x="9421" y="2348"/>
                  <a:pt x="9421" y="2354"/>
                </a:cubicBezTo>
                <a:cubicBezTo>
                  <a:pt x="9421" y="2360"/>
                  <a:pt x="9421" y="2360"/>
                  <a:pt x="9421" y="2366"/>
                </a:cubicBezTo>
                <a:cubicBezTo>
                  <a:pt x="9421" y="2372"/>
                  <a:pt x="9427" y="2378"/>
                  <a:pt x="9427" y="2384"/>
                </a:cubicBezTo>
                <a:cubicBezTo>
                  <a:pt x="9427" y="2389"/>
                  <a:pt x="9433" y="2395"/>
                  <a:pt x="9427" y="2401"/>
                </a:cubicBezTo>
                <a:cubicBezTo>
                  <a:pt x="9427" y="2407"/>
                  <a:pt x="9421" y="2401"/>
                  <a:pt x="9415" y="2401"/>
                </a:cubicBezTo>
                <a:cubicBezTo>
                  <a:pt x="9409" y="2407"/>
                  <a:pt x="9415" y="2413"/>
                  <a:pt x="9409" y="2413"/>
                </a:cubicBezTo>
                <a:cubicBezTo>
                  <a:pt x="9409" y="2437"/>
                  <a:pt x="9409" y="2437"/>
                  <a:pt x="9409" y="2437"/>
                </a:cubicBezTo>
                <a:cubicBezTo>
                  <a:pt x="9439" y="2437"/>
                  <a:pt x="9439" y="2437"/>
                  <a:pt x="9439" y="2437"/>
                </a:cubicBezTo>
                <a:cubicBezTo>
                  <a:pt x="9445" y="2437"/>
                  <a:pt x="9451" y="2431"/>
                  <a:pt x="9451" y="2431"/>
                </a:cubicBezTo>
                <a:cubicBezTo>
                  <a:pt x="9457" y="2437"/>
                  <a:pt x="9463" y="2437"/>
                  <a:pt x="9463" y="2437"/>
                </a:cubicBezTo>
                <a:cubicBezTo>
                  <a:pt x="9469" y="2443"/>
                  <a:pt x="9469" y="2449"/>
                  <a:pt x="9469" y="2449"/>
                </a:cubicBezTo>
                <a:cubicBezTo>
                  <a:pt x="9469" y="2455"/>
                  <a:pt x="9463" y="2461"/>
                  <a:pt x="9463" y="2461"/>
                </a:cubicBezTo>
                <a:cubicBezTo>
                  <a:pt x="9457" y="2466"/>
                  <a:pt x="9451" y="2461"/>
                  <a:pt x="9451" y="2466"/>
                </a:cubicBezTo>
                <a:cubicBezTo>
                  <a:pt x="9451" y="2473"/>
                  <a:pt x="9451" y="2473"/>
                  <a:pt x="9451" y="2478"/>
                </a:cubicBezTo>
                <a:cubicBezTo>
                  <a:pt x="9451" y="2484"/>
                  <a:pt x="9451" y="2484"/>
                  <a:pt x="9451" y="2490"/>
                </a:cubicBezTo>
                <a:cubicBezTo>
                  <a:pt x="9451" y="2496"/>
                  <a:pt x="9439" y="2490"/>
                  <a:pt x="9433" y="2496"/>
                </a:cubicBezTo>
                <a:cubicBezTo>
                  <a:pt x="9433" y="2502"/>
                  <a:pt x="9433" y="2502"/>
                  <a:pt x="9433" y="2508"/>
                </a:cubicBezTo>
                <a:cubicBezTo>
                  <a:pt x="9433" y="2514"/>
                  <a:pt x="9433" y="2514"/>
                  <a:pt x="9433" y="2520"/>
                </a:cubicBezTo>
                <a:cubicBezTo>
                  <a:pt x="9451" y="2520"/>
                  <a:pt x="9463" y="2520"/>
                  <a:pt x="9481" y="2526"/>
                </a:cubicBezTo>
                <a:cubicBezTo>
                  <a:pt x="9481" y="2532"/>
                  <a:pt x="9481" y="2544"/>
                  <a:pt x="9481" y="2550"/>
                </a:cubicBezTo>
                <a:cubicBezTo>
                  <a:pt x="9475" y="2555"/>
                  <a:pt x="9469" y="2555"/>
                  <a:pt x="9469" y="2561"/>
                </a:cubicBezTo>
                <a:cubicBezTo>
                  <a:pt x="9463" y="2561"/>
                  <a:pt x="9463" y="2567"/>
                  <a:pt x="9463" y="2573"/>
                </a:cubicBezTo>
                <a:lnTo>
                  <a:pt x="9469" y="2579"/>
                </a:lnTo>
                <a:cubicBezTo>
                  <a:pt x="9469" y="2585"/>
                  <a:pt x="9469" y="2585"/>
                  <a:pt x="9469" y="2591"/>
                </a:cubicBezTo>
                <a:cubicBezTo>
                  <a:pt x="9475" y="2591"/>
                  <a:pt x="9481" y="2591"/>
                  <a:pt x="9492" y="2591"/>
                </a:cubicBezTo>
                <a:cubicBezTo>
                  <a:pt x="9492" y="2591"/>
                  <a:pt x="9498" y="2591"/>
                  <a:pt x="9504" y="2591"/>
                </a:cubicBezTo>
                <a:cubicBezTo>
                  <a:pt x="9510" y="2591"/>
                  <a:pt x="9510" y="2597"/>
                  <a:pt x="9510" y="2603"/>
                </a:cubicBezTo>
                <a:cubicBezTo>
                  <a:pt x="9516" y="2603"/>
                  <a:pt x="9522" y="2609"/>
                  <a:pt x="9522" y="2615"/>
                </a:cubicBezTo>
                <a:cubicBezTo>
                  <a:pt x="9546" y="2609"/>
                  <a:pt x="9546" y="2609"/>
                  <a:pt x="9546" y="2609"/>
                </a:cubicBezTo>
                <a:cubicBezTo>
                  <a:pt x="9552" y="2609"/>
                  <a:pt x="9558" y="2609"/>
                  <a:pt x="9558" y="2609"/>
                </a:cubicBezTo>
                <a:cubicBezTo>
                  <a:pt x="9564" y="2615"/>
                  <a:pt x="9570" y="2615"/>
                  <a:pt x="9575" y="2615"/>
                </a:cubicBezTo>
                <a:cubicBezTo>
                  <a:pt x="9587" y="2615"/>
                  <a:pt x="9593" y="2615"/>
                  <a:pt x="9605" y="2609"/>
                </a:cubicBezTo>
                <a:cubicBezTo>
                  <a:pt x="9611" y="2603"/>
                  <a:pt x="9605" y="2597"/>
                  <a:pt x="9611" y="2597"/>
                </a:cubicBezTo>
                <a:cubicBezTo>
                  <a:pt x="9617" y="2597"/>
                  <a:pt x="9623" y="2597"/>
                  <a:pt x="9623" y="2597"/>
                </a:cubicBezTo>
                <a:cubicBezTo>
                  <a:pt x="9629" y="2597"/>
                  <a:pt x="9635" y="2597"/>
                  <a:pt x="9635" y="2591"/>
                </a:cubicBezTo>
                <a:cubicBezTo>
                  <a:pt x="9641" y="2591"/>
                  <a:pt x="9641" y="2585"/>
                  <a:pt x="9647" y="2585"/>
                </a:cubicBezTo>
                <a:cubicBezTo>
                  <a:pt x="9653" y="2585"/>
                  <a:pt x="9653" y="2579"/>
                  <a:pt x="9653" y="2573"/>
                </a:cubicBezTo>
                <a:cubicBezTo>
                  <a:pt x="9658" y="2567"/>
                  <a:pt x="9658" y="2567"/>
                  <a:pt x="9664" y="2561"/>
                </a:cubicBezTo>
                <a:cubicBezTo>
                  <a:pt x="9670" y="2555"/>
                  <a:pt x="9676" y="2550"/>
                  <a:pt x="9682" y="2538"/>
                </a:cubicBezTo>
                <a:cubicBezTo>
                  <a:pt x="9682" y="2538"/>
                  <a:pt x="9682" y="2532"/>
                  <a:pt x="9688" y="2526"/>
                </a:cubicBezTo>
                <a:cubicBezTo>
                  <a:pt x="9694" y="2526"/>
                  <a:pt x="9700" y="2526"/>
                  <a:pt x="9700" y="2526"/>
                </a:cubicBezTo>
                <a:cubicBezTo>
                  <a:pt x="9706" y="2526"/>
                  <a:pt x="9706" y="2526"/>
                  <a:pt x="9712" y="2526"/>
                </a:cubicBezTo>
                <a:cubicBezTo>
                  <a:pt x="9718" y="2526"/>
                  <a:pt x="9718" y="2520"/>
                  <a:pt x="9724" y="2520"/>
                </a:cubicBezTo>
                <a:cubicBezTo>
                  <a:pt x="9724" y="2496"/>
                  <a:pt x="9724" y="2496"/>
                  <a:pt x="9724" y="2496"/>
                </a:cubicBezTo>
                <a:cubicBezTo>
                  <a:pt x="9730" y="2502"/>
                  <a:pt x="9730" y="2496"/>
                  <a:pt x="9736" y="2496"/>
                </a:cubicBezTo>
                <a:cubicBezTo>
                  <a:pt x="9741" y="2502"/>
                  <a:pt x="9741" y="2502"/>
                  <a:pt x="9747" y="2502"/>
                </a:cubicBezTo>
                <a:cubicBezTo>
                  <a:pt x="9747" y="2508"/>
                  <a:pt x="9753" y="2514"/>
                  <a:pt x="9753" y="2514"/>
                </a:cubicBezTo>
                <a:cubicBezTo>
                  <a:pt x="9753" y="2520"/>
                  <a:pt x="9753" y="2526"/>
                  <a:pt x="9753" y="2526"/>
                </a:cubicBezTo>
                <a:cubicBezTo>
                  <a:pt x="9753" y="2532"/>
                  <a:pt x="9765" y="2532"/>
                  <a:pt x="9765" y="2538"/>
                </a:cubicBezTo>
                <a:cubicBezTo>
                  <a:pt x="9765" y="2544"/>
                  <a:pt x="9759" y="2555"/>
                  <a:pt x="9765" y="2561"/>
                </a:cubicBezTo>
                <a:cubicBezTo>
                  <a:pt x="9765" y="2567"/>
                  <a:pt x="9765" y="2567"/>
                  <a:pt x="9765" y="2573"/>
                </a:cubicBezTo>
                <a:cubicBezTo>
                  <a:pt x="9771" y="2579"/>
                  <a:pt x="9777" y="2579"/>
                  <a:pt x="9777" y="2579"/>
                </a:cubicBezTo>
                <a:cubicBezTo>
                  <a:pt x="9783" y="2585"/>
                  <a:pt x="9789" y="2591"/>
                  <a:pt x="9789" y="2597"/>
                </a:cubicBezTo>
                <a:cubicBezTo>
                  <a:pt x="9789" y="2603"/>
                  <a:pt x="9789" y="2603"/>
                  <a:pt x="9789" y="2603"/>
                </a:cubicBezTo>
                <a:cubicBezTo>
                  <a:pt x="9789" y="2609"/>
                  <a:pt x="9777" y="2609"/>
                  <a:pt x="9777" y="2615"/>
                </a:cubicBezTo>
                <a:cubicBezTo>
                  <a:pt x="9777" y="2621"/>
                  <a:pt x="9783" y="2627"/>
                  <a:pt x="9783" y="2627"/>
                </a:cubicBezTo>
                <a:cubicBezTo>
                  <a:pt x="9783" y="2639"/>
                  <a:pt x="9789" y="2644"/>
                  <a:pt x="9795" y="2650"/>
                </a:cubicBezTo>
                <a:cubicBezTo>
                  <a:pt x="9800" y="2650"/>
                  <a:pt x="9800" y="2650"/>
                  <a:pt x="9806" y="2650"/>
                </a:cubicBezTo>
                <a:cubicBezTo>
                  <a:pt x="9812" y="2656"/>
                  <a:pt x="9812" y="2662"/>
                  <a:pt x="9812" y="2662"/>
                </a:cubicBezTo>
                <a:cubicBezTo>
                  <a:pt x="9818" y="2668"/>
                  <a:pt x="9824" y="2668"/>
                  <a:pt x="9824" y="2674"/>
                </a:cubicBezTo>
                <a:cubicBezTo>
                  <a:pt x="9824" y="2686"/>
                  <a:pt x="9824" y="2686"/>
                  <a:pt x="9824" y="2686"/>
                </a:cubicBezTo>
                <a:cubicBezTo>
                  <a:pt x="9824" y="2698"/>
                  <a:pt x="9824" y="2698"/>
                  <a:pt x="9824" y="2698"/>
                </a:cubicBezTo>
                <a:cubicBezTo>
                  <a:pt x="9824" y="2710"/>
                  <a:pt x="9829" y="2716"/>
                  <a:pt x="9829" y="2721"/>
                </a:cubicBezTo>
                <a:cubicBezTo>
                  <a:pt x="9835" y="2727"/>
                  <a:pt x="9841" y="2727"/>
                  <a:pt x="9841" y="2727"/>
                </a:cubicBezTo>
                <a:cubicBezTo>
                  <a:pt x="9847" y="2733"/>
                  <a:pt x="9853" y="2739"/>
                  <a:pt x="9853" y="2739"/>
                </a:cubicBezTo>
                <a:cubicBezTo>
                  <a:pt x="9859" y="2745"/>
                  <a:pt x="9865" y="2745"/>
                  <a:pt x="9865" y="2751"/>
                </a:cubicBezTo>
                <a:cubicBezTo>
                  <a:pt x="9865" y="2751"/>
                  <a:pt x="9871" y="2757"/>
                  <a:pt x="9871" y="2763"/>
                </a:cubicBezTo>
                <a:cubicBezTo>
                  <a:pt x="9871" y="2763"/>
                  <a:pt x="9865" y="2769"/>
                  <a:pt x="9865" y="2775"/>
                </a:cubicBezTo>
                <a:cubicBezTo>
                  <a:pt x="9865" y="2781"/>
                  <a:pt x="9859" y="2781"/>
                  <a:pt x="9859" y="2793"/>
                </a:cubicBezTo>
                <a:cubicBezTo>
                  <a:pt x="9859" y="2799"/>
                  <a:pt x="9859" y="2799"/>
                  <a:pt x="9859" y="2799"/>
                </a:cubicBezTo>
                <a:lnTo>
                  <a:pt x="9865" y="2805"/>
                </a:lnTo>
                <a:cubicBezTo>
                  <a:pt x="9865" y="2810"/>
                  <a:pt x="9865" y="2816"/>
                  <a:pt x="9865" y="2816"/>
                </a:cubicBezTo>
                <a:cubicBezTo>
                  <a:pt x="9942" y="2816"/>
                  <a:pt x="9942" y="2816"/>
                  <a:pt x="9942" y="2816"/>
                </a:cubicBezTo>
                <a:cubicBezTo>
                  <a:pt x="9942" y="2810"/>
                  <a:pt x="9942" y="2805"/>
                  <a:pt x="9948" y="2805"/>
                </a:cubicBezTo>
                <a:cubicBezTo>
                  <a:pt x="9948" y="2799"/>
                  <a:pt x="9942" y="2793"/>
                  <a:pt x="9948" y="2793"/>
                </a:cubicBezTo>
                <a:cubicBezTo>
                  <a:pt x="9948" y="2787"/>
                  <a:pt x="9954" y="2781"/>
                  <a:pt x="9954" y="2781"/>
                </a:cubicBezTo>
                <a:cubicBezTo>
                  <a:pt x="9960" y="2775"/>
                  <a:pt x="9960" y="2769"/>
                  <a:pt x="9966" y="2769"/>
                </a:cubicBezTo>
                <a:cubicBezTo>
                  <a:pt x="9972" y="2769"/>
                  <a:pt x="9972" y="2769"/>
                  <a:pt x="9978" y="2769"/>
                </a:cubicBezTo>
                <a:cubicBezTo>
                  <a:pt x="9990" y="2769"/>
                  <a:pt x="9990" y="2769"/>
                  <a:pt x="9990" y="2769"/>
                </a:cubicBezTo>
                <a:cubicBezTo>
                  <a:pt x="9990" y="2769"/>
                  <a:pt x="9995" y="2769"/>
                  <a:pt x="10001" y="2769"/>
                </a:cubicBezTo>
                <a:cubicBezTo>
                  <a:pt x="10001" y="2769"/>
                  <a:pt x="10007" y="2775"/>
                  <a:pt x="10013" y="2775"/>
                </a:cubicBezTo>
                <a:cubicBezTo>
                  <a:pt x="10019" y="2775"/>
                  <a:pt x="10019" y="2775"/>
                  <a:pt x="10025" y="2769"/>
                </a:cubicBezTo>
                <a:cubicBezTo>
                  <a:pt x="10025" y="2769"/>
                  <a:pt x="10025" y="2763"/>
                  <a:pt x="10031" y="2757"/>
                </a:cubicBezTo>
                <a:cubicBezTo>
                  <a:pt x="10037" y="2757"/>
                  <a:pt x="10049" y="2757"/>
                  <a:pt x="10055" y="2757"/>
                </a:cubicBezTo>
                <a:cubicBezTo>
                  <a:pt x="10055" y="2721"/>
                  <a:pt x="10055" y="2721"/>
                  <a:pt x="10055" y="2721"/>
                </a:cubicBezTo>
                <a:cubicBezTo>
                  <a:pt x="10102" y="2721"/>
                  <a:pt x="10102" y="2721"/>
                  <a:pt x="10102" y="2721"/>
                </a:cubicBezTo>
                <a:cubicBezTo>
                  <a:pt x="10102" y="2716"/>
                  <a:pt x="10108" y="2716"/>
                  <a:pt x="10108" y="2710"/>
                </a:cubicBezTo>
                <a:cubicBezTo>
                  <a:pt x="10108" y="2704"/>
                  <a:pt x="10102" y="2698"/>
                  <a:pt x="10102" y="2692"/>
                </a:cubicBezTo>
                <a:cubicBezTo>
                  <a:pt x="10079" y="2692"/>
                  <a:pt x="10079" y="2692"/>
                  <a:pt x="10079" y="2692"/>
                </a:cubicBezTo>
                <a:cubicBezTo>
                  <a:pt x="10079" y="2692"/>
                  <a:pt x="10072" y="2698"/>
                  <a:pt x="10067" y="2698"/>
                </a:cubicBezTo>
                <a:cubicBezTo>
                  <a:pt x="10067" y="2698"/>
                  <a:pt x="10061" y="2698"/>
                  <a:pt x="10055" y="2698"/>
                </a:cubicBezTo>
                <a:cubicBezTo>
                  <a:pt x="10055" y="2692"/>
                  <a:pt x="10061" y="2686"/>
                  <a:pt x="10055" y="2686"/>
                </a:cubicBezTo>
                <a:cubicBezTo>
                  <a:pt x="10055" y="2680"/>
                  <a:pt x="10049" y="2686"/>
                  <a:pt x="10043" y="2680"/>
                </a:cubicBezTo>
                <a:cubicBezTo>
                  <a:pt x="10049" y="2674"/>
                  <a:pt x="10055" y="2668"/>
                  <a:pt x="10061" y="2656"/>
                </a:cubicBezTo>
                <a:lnTo>
                  <a:pt x="10067" y="2650"/>
                </a:lnTo>
                <a:cubicBezTo>
                  <a:pt x="10072" y="2639"/>
                  <a:pt x="10072" y="2632"/>
                  <a:pt x="10072" y="2627"/>
                </a:cubicBezTo>
                <a:cubicBezTo>
                  <a:pt x="10072" y="2615"/>
                  <a:pt x="10072" y="2609"/>
                  <a:pt x="10072" y="2603"/>
                </a:cubicBezTo>
                <a:cubicBezTo>
                  <a:pt x="10072" y="2597"/>
                  <a:pt x="10072" y="2591"/>
                  <a:pt x="10072" y="2591"/>
                </a:cubicBezTo>
                <a:cubicBezTo>
                  <a:pt x="10079" y="2585"/>
                  <a:pt x="10079" y="2585"/>
                  <a:pt x="10079" y="2579"/>
                </a:cubicBezTo>
                <a:cubicBezTo>
                  <a:pt x="10084" y="2573"/>
                  <a:pt x="10090" y="2573"/>
                  <a:pt x="10090" y="2573"/>
                </a:cubicBezTo>
                <a:cubicBezTo>
                  <a:pt x="10096" y="2567"/>
                  <a:pt x="10096" y="2561"/>
                  <a:pt x="10102" y="2561"/>
                </a:cubicBezTo>
                <a:cubicBezTo>
                  <a:pt x="10108" y="2561"/>
                  <a:pt x="10108" y="2561"/>
                  <a:pt x="10114" y="2561"/>
                </a:cubicBezTo>
                <a:cubicBezTo>
                  <a:pt x="10120" y="2555"/>
                  <a:pt x="10120" y="2550"/>
                  <a:pt x="10126" y="2550"/>
                </a:cubicBezTo>
                <a:cubicBezTo>
                  <a:pt x="10132" y="2550"/>
                  <a:pt x="10132" y="2550"/>
                  <a:pt x="10138" y="2550"/>
                </a:cubicBezTo>
                <a:cubicBezTo>
                  <a:pt x="10138" y="2544"/>
                  <a:pt x="10144" y="2550"/>
                  <a:pt x="10150" y="2550"/>
                </a:cubicBezTo>
                <a:cubicBezTo>
                  <a:pt x="10150" y="2544"/>
                  <a:pt x="10150" y="2538"/>
                  <a:pt x="10156" y="2538"/>
                </a:cubicBezTo>
                <a:cubicBezTo>
                  <a:pt x="10156" y="2532"/>
                  <a:pt x="10156" y="2526"/>
                  <a:pt x="10156" y="2526"/>
                </a:cubicBezTo>
                <a:cubicBezTo>
                  <a:pt x="10156" y="2520"/>
                  <a:pt x="10161" y="2520"/>
                  <a:pt x="10161" y="2514"/>
                </a:cubicBezTo>
                <a:cubicBezTo>
                  <a:pt x="10167" y="2508"/>
                  <a:pt x="10173" y="2508"/>
                  <a:pt x="10173" y="2502"/>
                </a:cubicBezTo>
                <a:cubicBezTo>
                  <a:pt x="10179" y="2502"/>
                  <a:pt x="10185" y="2502"/>
                  <a:pt x="10185" y="2496"/>
                </a:cubicBezTo>
                <a:cubicBezTo>
                  <a:pt x="10185" y="2490"/>
                  <a:pt x="10185" y="2490"/>
                  <a:pt x="10185" y="2484"/>
                </a:cubicBezTo>
                <a:cubicBezTo>
                  <a:pt x="10185" y="2473"/>
                  <a:pt x="10185" y="2473"/>
                  <a:pt x="10185" y="2473"/>
                </a:cubicBezTo>
                <a:cubicBezTo>
                  <a:pt x="10185" y="2466"/>
                  <a:pt x="10185" y="2466"/>
                  <a:pt x="10185" y="2461"/>
                </a:cubicBezTo>
                <a:cubicBezTo>
                  <a:pt x="10173" y="2461"/>
                  <a:pt x="10167" y="2461"/>
                  <a:pt x="10161" y="2461"/>
                </a:cubicBezTo>
                <a:cubicBezTo>
                  <a:pt x="10150" y="2461"/>
                  <a:pt x="10144" y="2455"/>
                  <a:pt x="10138" y="2455"/>
                </a:cubicBezTo>
                <a:cubicBezTo>
                  <a:pt x="10132" y="2455"/>
                  <a:pt x="10132" y="2461"/>
                  <a:pt x="10126" y="2461"/>
                </a:cubicBezTo>
                <a:cubicBezTo>
                  <a:pt x="10126" y="2443"/>
                  <a:pt x="10126" y="2437"/>
                  <a:pt x="10126" y="2419"/>
                </a:cubicBezTo>
                <a:cubicBezTo>
                  <a:pt x="10126" y="2419"/>
                  <a:pt x="10120" y="2413"/>
                  <a:pt x="10114" y="2413"/>
                </a:cubicBezTo>
                <a:cubicBezTo>
                  <a:pt x="10108" y="2407"/>
                  <a:pt x="10108" y="2413"/>
                  <a:pt x="10102" y="2413"/>
                </a:cubicBezTo>
                <a:cubicBezTo>
                  <a:pt x="10096" y="2407"/>
                  <a:pt x="10096" y="2407"/>
                  <a:pt x="10090" y="2401"/>
                </a:cubicBezTo>
                <a:cubicBezTo>
                  <a:pt x="10090" y="2401"/>
                  <a:pt x="10090" y="2395"/>
                  <a:pt x="10090" y="2389"/>
                </a:cubicBezTo>
                <a:cubicBezTo>
                  <a:pt x="10090" y="2300"/>
                  <a:pt x="10090" y="2300"/>
                  <a:pt x="10090" y="2300"/>
                </a:cubicBezTo>
                <a:cubicBezTo>
                  <a:pt x="10096" y="2295"/>
                  <a:pt x="10102" y="2295"/>
                  <a:pt x="10108" y="2289"/>
                </a:cubicBezTo>
                <a:cubicBezTo>
                  <a:pt x="10108" y="2289"/>
                  <a:pt x="10108" y="2283"/>
                  <a:pt x="10114" y="2277"/>
                </a:cubicBezTo>
                <a:cubicBezTo>
                  <a:pt x="10114" y="2277"/>
                  <a:pt x="10120" y="2271"/>
                  <a:pt x="10120" y="2265"/>
                </a:cubicBezTo>
                <a:cubicBezTo>
                  <a:pt x="10126" y="2265"/>
                  <a:pt x="10126" y="2259"/>
                  <a:pt x="10126" y="2259"/>
                </a:cubicBezTo>
                <a:cubicBezTo>
                  <a:pt x="10132" y="2247"/>
                  <a:pt x="10132" y="2241"/>
                  <a:pt x="10132" y="2235"/>
                </a:cubicBezTo>
                <a:cubicBezTo>
                  <a:pt x="10138" y="2229"/>
                  <a:pt x="10138" y="2223"/>
                  <a:pt x="10138" y="2223"/>
                </a:cubicBezTo>
                <a:cubicBezTo>
                  <a:pt x="10144" y="2218"/>
                  <a:pt x="10150" y="2218"/>
                  <a:pt x="10150" y="2218"/>
                </a:cubicBezTo>
                <a:cubicBezTo>
                  <a:pt x="10156" y="2218"/>
                  <a:pt x="10161" y="2218"/>
                  <a:pt x="10161" y="2218"/>
                </a:cubicBezTo>
                <a:cubicBezTo>
                  <a:pt x="10173" y="2212"/>
                  <a:pt x="10179" y="2212"/>
                  <a:pt x="10185" y="2206"/>
                </a:cubicBezTo>
                <a:cubicBezTo>
                  <a:pt x="10191" y="2200"/>
                  <a:pt x="10191" y="2200"/>
                  <a:pt x="10197" y="2194"/>
                </a:cubicBezTo>
                <a:cubicBezTo>
                  <a:pt x="10197" y="2188"/>
                  <a:pt x="10203" y="2188"/>
                  <a:pt x="10203" y="2188"/>
                </a:cubicBezTo>
                <a:cubicBezTo>
                  <a:pt x="10209" y="2182"/>
                  <a:pt x="10209" y="2176"/>
                  <a:pt x="10209" y="2176"/>
                </a:cubicBezTo>
                <a:cubicBezTo>
                  <a:pt x="10221" y="2170"/>
                  <a:pt x="10227" y="2170"/>
                  <a:pt x="10233" y="2170"/>
                </a:cubicBezTo>
                <a:cubicBezTo>
                  <a:pt x="10238" y="2170"/>
                  <a:pt x="10245" y="2170"/>
                  <a:pt x="10250" y="2170"/>
                </a:cubicBezTo>
                <a:cubicBezTo>
                  <a:pt x="10250" y="2170"/>
                  <a:pt x="10250" y="2164"/>
                  <a:pt x="10256" y="2158"/>
                </a:cubicBezTo>
                <a:cubicBezTo>
                  <a:pt x="10262" y="2158"/>
                  <a:pt x="10268" y="2152"/>
                  <a:pt x="10268" y="2152"/>
                </a:cubicBezTo>
                <a:cubicBezTo>
                  <a:pt x="10268" y="2146"/>
                  <a:pt x="10268" y="2141"/>
                  <a:pt x="10268" y="2141"/>
                </a:cubicBezTo>
                <a:cubicBezTo>
                  <a:pt x="10268" y="2134"/>
                  <a:pt x="10274" y="2129"/>
                  <a:pt x="10274" y="2129"/>
                </a:cubicBezTo>
                <a:cubicBezTo>
                  <a:pt x="10280" y="2129"/>
                  <a:pt x="10286" y="2129"/>
                  <a:pt x="10286" y="2123"/>
                </a:cubicBezTo>
                <a:cubicBezTo>
                  <a:pt x="10292" y="2123"/>
                  <a:pt x="10298" y="2123"/>
                  <a:pt x="10298" y="2123"/>
                </a:cubicBezTo>
                <a:cubicBezTo>
                  <a:pt x="10304" y="2123"/>
                  <a:pt x="10310" y="2123"/>
                  <a:pt x="10310" y="2123"/>
                </a:cubicBezTo>
                <a:cubicBezTo>
                  <a:pt x="10316" y="2123"/>
                  <a:pt x="10322" y="2123"/>
                  <a:pt x="10322" y="2117"/>
                </a:cubicBezTo>
                <a:cubicBezTo>
                  <a:pt x="10327" y="2117"/>
                  <a:pt x="10333" y="2111"/>
                  <a:pt x="10333" y="2105"/>
                </a:cubicBezTo>
                <a:cubicBezTo>
                  <a:pt x="10333" y="2093"/>
                  <a:pt x="10327" y="2093"/>
                  <a:pt x="10322" y="2087"/>
                </a:cubicBezTo>
                <a:cubicBezTo>
                  <a:pt x="10322" y="2081"/>
                  <a:pt x="10316" y="2081"/>
                  <a:pt x="10310" y="2075"/>
                </a:cubicBezTo>
                <a:cubicBezTo>
                  <a:pt x="10310" y="2075"/>
                  <a:pt x="10310" y="2069"/>
                  <a:pt x="10310" y="2063"/>
                </a:cubicBezTo>
                <a:cubicBezTo>
                  <a:pt x="10310" y="2052"/>
                  <a:pt x="10310" y="2040"/>
                  <a:pt x="10322" y="2034"/>
                </a:cubicBezTo>
                <a:cubicBezTo>
                  <a:pt x="10322" y="2028"/>
                  <a:pt x="10322" y="2022"/>
                  <a:pt x="10327" y="2022"/>
                </a:cubicBezTo>
                <a:cubicBezTo>
                  <a:pt x="10333" y="2016"/>
                  <a:pt x="10333" y="2022"/>
                  <a:pt x="10339" y="2022"/>
                </a:cubicBezTo>
                <a:cubicBezTo>
                  <a:pt x="10345" y="2016"/>
                  <a:pt x="10345" y="2016"/>
                  <a:pt x="10351" y="2010"/>
                </a:cubicBezTo>
                <a:cubicBezTo>
                  <a:pt x="10357" y="2010"/>
                  <a:pt x="10357" y="2004"/>
                  <a:pt x="10357" y="1998"/>
                </a:cubicBezTo>
                <a:cubicBezTo>
                  <a:pt x="10363" y="1986"/>
                  <a:pt x="10363" y="1980"/>
                  <a:pt x="10369" y="1975"/>
                </a:cubicBezTo>
                <a:cubicBezTo>
                  <a:pt x="10369" y="1968"/>
                  <a:pt x="10369" y="1963"/>
                  <a:pt x="10369" y="1963"/>
                </a:cubicBezTo>
                <a:cubicBezTo>
                  <a:pt x="10375" y="1957"/>
                  <a:pt x="10387" y="1957"/>
                  <a:pt x="10393" y="1957"/>
                </a:cubicBezTo>
                <a:cubicBezTo>
                  <a:pt x="10404" y="1957"/>
                  <a:pt x="10411" y="1963"/>
                  <a:pt x="10416" y="1963"/>
                </a:cubicBezTo>
                <a:cubicBezTo>
                  <a:pt x="10422" y="1963"/>
                  <a:pt x="10422" y="1963"/>
                  <a:pt x="10428" y="1963"/>
                </a:cubicBezTo>
                <a:cubicBezTo>
                  <a:pt x="10434" y="1963"/>
                  <a:pt x="10434" y="1968"/>
                  <a:pt x="10434" y="1975"/>
                </a:cubicBezTo>
                <a:cubicBezTo>
                  <a:pt x="10446" y="1980"/>
                  <a:pt x="10446" y="1986"/>
                  <a:pt x="10452" y="1998"/>
                </a:cubicBezTo>
                <a:cubicBezTo>
                  <a:pt x="10458" y="1992"/>
                  <a:pt x="10464" y="1992"/>
                  <a:pt x="10464" y="1992"/>
                </a:cubicBezTo>
                <a:cubicBezTo>
                  <a:pt x="10470" y="1992"/>
                  <a:pt x="10470" y="1986"/>
                  <a:pt x="10476" y="1980"/>
                </a:cubicBezTo>
                <a:cubicBezTo>
                  <a:pt x="10476" y="1980"/>
                  <a:pt x="10482" y="1980"/>
                  <a:pt x="10488" y="1980"/>
                </a:cubicBezTo>
                <a:cubicBezTo>
                  <a:pt x="10493" y="1980"/>
                  <a:pt x="10493" y="1986"/>
                  <a:pt x="10499" y="1986"/>
                </a:cubicBezTo>
                <a:cubicBezTo>
                  <a:pt x="10499" y="1992"/>
                  <a:pt x="10505" y="1992"/>
                  <a:pt x="10505" y="1998"/>
                </a:cubicBezTo>
                <a:cubicBezTo>
                  <a:pt x="10511" y="1998"/>
                  <a:pt x="10511" y="2004"/>
                  <a:pt x="10511" y="2010"/>
                </a:cubicBezTo>
                <a:cubicBezTo>
                  <a:pt x="10517" y="2010"/>
                  <a:pt x="10517" y="2016"/>
                  <a:pt x="10517" y="2022"/>
                </a:cubicBezTo>
                <a:cubicBezTo>
                  <a:pt x="10517" y="2057"/>
                  <a:pt x="10517" y="2057"/>
                  <a:pt x="10517" y="2057"/>
                </a:cubicBezTo>
                <a:cubicBezTo>
                  <a:pt x="10488" y="2057"/>
                  <a:pt x="10488" y="2057"/>
                  <a:pt x="10488" y="2057"/>
                </a:cubicBezTo>
                <a:cubicBezTo>
                  <a:pt x="10488" y="2069"/>
                  <a:pt x="10488" y="2075"/>
                  <a:pt x="10488" y="2093"/>
                </a:cubicBezTo>
                <a:cubicBezTo>
                  <a:pt x="10488" y="2093"/>
                  <a:pt x="10488" y="2099"/>
                  <a:pt x="10488" y="2105"/>
                </a:cubicBezTo>
                <a:cubicBezTo>
                  <a:pt x="10482" y="2111"/>
                  <a:pt x="10482" y="2117"/>
                  <a:pt x="10476" y="2123"/>
                </a:cubicBezTo>
                <a:cubicBezTo>
                  <a:pt x="10470" y="2129"/>
                  <a:pt x="10464" y="2129"/>
                  <a:pt x="10464" y="2134"/>
                </a:cubicBezTo>
                <a:cubicBezTo>
                  <a:pt x="10458" y="2141"/>
                  <a:pt x="10452" y="2141"/>
                  <a:pt x="10446" y="2141"/>
                </a:cubicBezTo>
                <a:cubicBezTo>
                  <a:pt x="10434" y="2141"/>
                  <a:pt x="10428" y="2134"/>
                  <a:pt x="10416" y="2134"/>
                </a:cubicBezTo>
                <a:cubicBezTo>
                  <a:pt x="10411" y="2134"/>
                  <a:pt x="10404" y="2141"/>
                  <a:pt x="10404" y="2141"/>
                </a:cubicBezTo>
                <a:cubicBezTo>
                  <a:pt x="10399" y="2146"/>
                  <a:pt x="10393" y="2146"/>
                  <a:pt x="10393" y="2146"/>
                </a:cubicBezTo>
                <a:cubicBezTo>
                  <a:pt x="10387" y="2152"/>
                  <a:pt x="10387" y="2158"/>
                  <a:pt x="10387" y="2158"/>
                </a:cubicBezTo>
                <a:cubicBezTo>
                  <a:pt x="10381" y="2164"/>
                  <a:pt x="10381" y="2164"/>
                  <a:pt x="10375" y="2170"/>
                </a:cubicBezTo>
                <a:cubicBezTo>
                  <a:pt x="10375" y="2176"/>
                  <a:pt x="10375" y="2176"/>
                  <a:pt x="10375" y="2182"/>
                </a:cubicBezTo>
                <a:cubicBezTo>
                  <a:pt x="10369" y="2188"/>
                  <a:pt x="10363" y="2188"/>
                  <a:pt x="10363" y="2188"/>
                </a:cubicBezTo>
                <a:cubicBezTo>
                  <a:pt x="10357" y="2194"/>
                  <a:pt x="10357" y="2194"/>
                  <a:pt x="10351" y="2200"/>
                </a:cubicBezTo>
                <a:cubicBezTo>
                  <a:pt x="10351" y="2206"/>
                  <a:pt x="10351" y="2206"/>
                  <a:pt x="10345" y="2212"/>
                </a:cubicBezTo>
                <a:cubicBezTo>
                  <a:pt x="10339" y="2212"/>
                  <a:pt x="10339" y="2212"/>
                  <a:pt x="10333" y="2218"/>
                </a:cubicBezTo>
                <a:cubicBezTo>
                  <a:pt x="10327" y="2223"/>
                  <a:pt x="10316" y="2223"/>
                  <a:pt x="10316" y="2235"/>
                </a:cubicBezTo>
                <a:cubicBezTo>
                  <a:pt x="10316" y="2253"/>
                  <a:pt x="10322" y="2259"/>
                  <a:pt x="10322" y="2277"/>
                </a:cubicBezTo>
                <a:cubicBezTo>
                  <a:pt x="10322" y="2283"/>
                  <a:pt x="10322" y="2289"/>
                  <a:pt x="10316" y="2295"/>
                </a:cubicBezTo>
                <a:cubicBezTo>
                  <a:pt x="10316" y="2300"/>
                  <a:pt x="10304" y="2300"/>
                  <a:pt x="10304" y="2312"/>
                </a:cubicBezTo>
                <a:cubicBezTo>
                  <a:pt x="10304" y="2324"/>
                  <a:pt x="10310" y="2336"/>
                  <a:pt x="10310" y="2348"/>
                </a:cubicBezTo>
                <a:cubicBezTo>
                  <a:pt x="10310" y="2360"/>
                  <a:pt x="10310" y="2360"/>
                  <a:pt x="10310" y="2360"/>
                </a:cubicBezTo>
                <a:cubicBezTo>
                  <a:pt x="10310" y="2366"/>
                  <a:pt x="10316" y="2372"/>
                  <a:pt x="10316" y="2372"/>
                </a:cubicBezTo>
                <a:cubicBezTo>
                  <a:pt x="10316" y="2384"/>
                  <a:pt x="10316" y="2389"/>
                  <a:pt x="10316" y="2401"/>
                </a:cubicBezTo>
                <a:cubicBezTo>
                  <a:pt x="10327" y="2401"/>
                  <a:pt x="10333" y="2401"/>
                  <a:pt x="10345" y="2401"/>
                </a:cubicBezTo>
                <a:cubicBezTo>
                  <a:pt x="10351" y="2401"/>
                  <a:pt x="10357" y="2407"/>
                  <a:pt x="10363" y="2413"/>
                </a:cubicBezTo>
                <a:cubicBezTo>
                  <a:pt x="10369" y="2413"/>
                  <a:pt x="10369" y="2419"/>
                  <a:pt x="10375" y="2419"/>
                </a:cubicBezTo>
                <a:cubicBezTo>
                  <a:pt x="10375" y="2425"/>
                  <a:pt x="10381" y="2431"/>
                  <a:pt x="10381" y="2431"/>
                </a:cubicBezTo>
                <a:cubicBezTo>
                  <a:pt x="10393" y="2437"/>
                  <a:pt x="10399" y="2437"/>
                  <a:pt x="10404" y="2443"/>
                </a:cubicBezTo>
                <a:cubicBezTo>
                  <a:pt x="10411" y="2443"/>
                  <a:pt x="10411" y="2449"/>
                  <a:pt x="10416" y="2449"/>
                </a:cubicBezTo>
                <a:cubicBezTo>
                  <a:pt x="10428" y="2455"/>
                  <a:pt x="10434" y="2466"/>
                  <a:pt x="10446" y="2466"/>
                </a:cubicBezTo>
                <a:cubicBezTo>
                  <a:pt x="10452" y="2466"/>
                  <a:pt x="10452" y="2466"/>
                  <a:pt x="10452" y="2466"/>
                </a:cubicBezTo>
                <a:cubicBezTo>
                  <a:pt x="10458" y="2466"/>
                  <a:pt x="10458" y="2461"/>
                  <a:pt x="10464" y="2461"/>
                </a:cubicBezTo>
                <a:cubicBezTo>
                  <a:pt x="10476" y="2455"/>
                  <a:pt x="10488" y="2437"/>
                  <a:pt x="10499" y="2437"/>
                </a:cubicBezTo>
                <a:cubicBezTo>
                  <a:pt x="10511" y="2437"/>
                  <a:pt x="10517" y="2449"/>
                  <a:pt x="10529" y="2449"/>
                </a:cubicBezTo>
                <a:cubicBezTo>
                  <a:pt x="10535" y="2449"/>
                  <a:pt x="10541" y="2443"/>
                  <a:pt x="10547" y="2443"/>
                </a:cubicBezTo>
                <a:cubicBezTo>
                  <a:pt x="10553" y="2443"/>
                  <a:pt x="10559" y="2449"/>
                  <a:pt x="10559" y="2443"/>
                </a:cubicBezTo>
                <a:cubicBezTo>
                  <a:pt x="10565" y="2443"/>
                  <a:pt x="10565" y="2443"/>
                  <a:pt x="10570" y="2437"/>
                </a:cubicBezTo>
                <a:cubicBezTo>
                  <a:pt x="10577" y="2437"/>
                  <a:pt x="10570" y="2431"/>
                  <a:pt x="10577" y="2425"/>
                </a:cubicBezTo>
                <a:cubicBezTo>
                  <a:pt x="10577" y="2425"/>
                  <a:pt x="10582" y="2425"/>
                  <a:pt x="10582" y="2419"/>
                </a:cubicBezTo>
                <a:cubicBezTo>
                  <a:pt x="10677" y="2419"/>
                  <a:pt x="10677" y="2419"/>
                  <a:pt x="10677" y="2419"/>
                </a:cubicBezTo>
                <a:cubicBezTo>
                  <a:pt x="10683" y="2419"/>
                  <a:pt x="10683" y="2413"/>
                  <a:pt x="10689" y="2413"/>
                </a:cubicBezTo>
                <a:cubicBezTo>
                  <a:pt x="10695" y="2413"/>
                  <a:pt x="10701" y="2413"/>
                  <a:pt x="10707" y="2413"/>
                </a:cubicBezTo>
                <a:cubicBezTo>
                  <a:pt x="10707" y="2413"/>
                  <a:pt x="10707" y="2407"/>
                  <a:pt x="10713" y="2413"/>
                </a:cubicBezTo>
                <a:lnTo>
                  <a:pt x="10719" y="2419"/>
                </a:lnTo>
                <a:cubicBezTo>
                  <a:pt x="10719" y="2425"/>
                  <a:pt x="10719" y="2431"/>
                  <a:pt x="10725" y="2431"/>
                </a:cubicBezTo>
                <a:cubicBezTo>
                  <a:pt x="10725" y="2437"/>
                  <a:pt x="10731" y="2437"/>
                  <a:pt x="10731" y="2437"/>
                </a:cubicBezTo>
                <a:cubicBezTo>
                  <a:pt x="10790" y="2437"/>
                  <a:pt x="10790" y="2437"/>
                  <a:pt x="10790" y="2437"/>
                </a:cubicBezTo>
                <a:cubicBezTo>
                  <a:pt x="10796" y="2449"/>
                  <a:pt x="10796" y="2449"/>
                  <a:pt x="10796" y="2449"/>
                </a:cubicBezTo>
                <a:cubicBezTo>
                  <a:pt x="10790" y="2455"/>
                  <a:pt x="10790" y="2461"/>
                  <a:pt x="10784" y="2461"/>
                </a:cubicBezTo>
                <a:cubicBezTo>
                  <a:pt x="10778" y="2461"/>
                  <a:pt x="10772" y="2461"/>
                  <a:pt x="10760" y="2461"/>
                </a:cubicBezTo>
                <a:cubicBezTo>
                  <a:pt x="10748" y="2461"/>
                  <a:pt x="10743" y="2461"/>
                  <a:pt x="10731" y="2461"/>
                </a:cubicBezTo>
                <a:lnTo>
                  <a:pt x="10725" y="2466"/>
                </a:lnTo>
                <a:cubicBezTo>
                  <a:pt x="10719" y="2466"/>
                  <a:pt x="10713" y="2473"/>
                  <a:pt x="10713" y="2473"/>
                </a:cubicBezTo>
                <a:cubicBezTo>
                  <a:pt x="10707" y="2473"/>
                  <a:pt x="10701" y="2478"/>
                  <a:pt x="10701" y="2484"/>
                </a:cubicBezTo>
                <a:cubicBezTo>
                  <a:pt x="10695" y="2484"/>
                  <a:pt x="10689" y="2484"/>
                  <a:pt x="10689" y="2490"/>
                </a:cubicBezTo>
                <a:cubicBezTo>
                  <a:pt x="10683" y="2496"/>
                  <a:pt x="10683" y="2496"/>
                  <a:pt x="10677" y="2502"/>
                </a:cubicBezTo>
                <a:cubicBezTo>
                  <a:pt x="10677" y="2508"/>
                  <a:pt x="10677" y="2508"/>
                  <a:pt x="10671" y="2514"/>
                </a:cubicBezTo>
                <a:cubicBezTo>
                  <a:pt x="10671" y="2520"/>
                  <a:pt x="10671" y="2520"/>
                  <a:pt x="10665" y="2526"/>
                </a:cubicBezTo>
                <a:cubicBezTo>
                  <a:pt x="10659" y="2526"/>
                  <a:pt x="10659" y="2526"/>
                  <a:pt x="10654" y="2526"/>
                </a:cubicBezTo>
                <a:cubicBezTo>
                  <a:pt x="10648" y="2526"/>
                  <a:pt x="10636" y="2526"/>
                  <a:pt x="10630" y="2520"/>
                </a:cubicBezTo>
                <a:cubicBezTo>
                  <a:pt x="10624" y="2520"/>
                  <a:pt x="10624" y="2514"/>
                  <a:pt x="10618" y="2508"/>
                </a:cubicBezTo>
                <a:cubicBezTo>
                  <a:pt x="10612" y="2508"/>
                  <a:pt x="10612" y="2496"/>
                  <a:pt x="10600" y="2496"/>
                </a:cubicBezTo>
                <a:cubicBezTo>
                  <a:pt x="10588" y="2496"/>
                  <a:pt x="10582" y="2508"/>
                  <a:pt x="10577" y="2508"/>
                </a:cubicBezTo>
                <a:cubicBezTo>
                  <a:pt x="10565" y="2508"/>
                  <a:pt x="10559" y="2508"/>
                  <a:pt x="10553" y="2508"/>
                </a:cubicBezTo>
                <a:cubicBezTo>
                  <a:pt x="10541" y="2508"/>
                  <a:pt x="10535" y="2502"/>
                  <a:pt x="10529" y="2502"/>
                </a:cubicBezTo>
                <a:cubicBezTo>
                  <a:pt x="10523" y="2502"/>
                  <a:pt x="10517" y="2508"/>
                  <a:pt x="10517" y="2508"/>
                </a:cubicBezTo>
                <a:cubicBezTo>
                  <a:pt x="10511" y="2508"/>
                  <a:pt x="10511" y="2514"/>
                  <a:pt x="10505" y="2514"/>
                </a:cubicBezTo>
                <a:cubicBezTo>
                  <a:pt x="10499" y="2514"/>
                  <a:pt x="10499" y="2520"/>
                  <a:pt x="10493" y="2520"/>
                </a:cubicBezTo>
                <a:cubicBezTo>
                  <a:pt x="10488" y="2520"/>
                  <a:pt x="10488" y="2520"/>
                  <a:pt x="10482" y="2520"/>
                </a:cubicBezTo>
                <a:cubicBezTo>
                  <a:pt x="10476" y="2520"/>
                  <a:pt x="10476" y="2514"/>
                  <a:pt x="10470" y="2514"/>
                </a:cubicBezTo>
                <a:cubicBezTo>
                  <a:pt x="10464" y="2514"/>
                  <a:pt x="10464" y="2520"/>
                  <a:pt x="10458" y="2520"/>
                </a:cubicBezTo>
                <a:cubicBezTo>
                  <a:pt x="10458" y="2520"/>
                  <a:pt x="10452" y="2520"/>
                  <a:pt x="10446" y="2526"/>
                </a:cubicBezTo>
                <a:cubicBezTo>
                  <a:pt x="10446" y="2526"/>
                  <a:pt x="10452" y="2532"/>
                  <a:pt x="10446" y="2538"/>
                </a:cubicBezTo>
                <a:cubicBezTo>
                  <a:pt x="10446" y="2544"/>
                  <a:pt x="10440" y="2544"/>
                  <a:pt x="10434" y="2550"/>
                </a:cubicBezTo>
                <a:cubicBezTo>
                  <a:pt x="10434" y="2550"/>
                  <a:pt x="10440" y="2561"/>
                  <a:pt x="10434" y="2561"/>
                </a:cubicBezTo>
                <a:cubicBezTo>
                  <a:pt x="10428" y="2561"/>
                  <a:pt x="10428" y="2555"/>
                  <a:pt x="10422" y="2555"/>
                </a:cubicBezTo>
                <a:cubicBezTo>
                  <a:pt x="10416" y="2555"/>
                  <a:pt x="10416" y="2555"/>
                  <a:pt x="10411" y="2555"/>
                </a:cubicBezTo>
                <a:cubicBezTo>
                  <a:pt x="10404" y="2555"/>
                  <a:pt x="10404" y="2550"/>
                  <a:pt x="10399" y="2550"/>
                </a:cubicBezTo>
                <a:cubicBezTo>
                  <a:pt x="10399" y="2544"/>
                  <a:pt x="10404" y="2538"/>
                  <a:pt x="10399" y="2538"/>
                </a:cubicBezTo>
                <a:cubicBezTo>
                  <a:pt x="10399" y="2532"/>
                  <a:pt x="10393" y="2538"/>
                  <a:pt x="10387" y="2538"/>
                </a:cubicBezTo>
                <a:cubicBezTo>
                  <a:pt x="10387" y="2538"/>
                  <a:pt x="10381" y="2538"/>
                  <a:pt x="10375" y="2538"/>
                </a:cubicBezTo>
                <a:cubicBezTo>
                  <a:pt x="10375" y="2538"/>
                  <a:pt x="10369" y="2538"/>
                  <a:pt x="10363" y="2544"/>
                </a:cubicBezTo>
                <a:cubicBezTo>
                  <a:pt x="10363" y="2544"/>
                  <a:pt x="10363" y="2550"/>
                  <a:pt x="10363" y="2555"/>
                </a:cubicBezTo>
                <a:cubicBezTo>
                  <a:pt x="10369" y="2555"/>
                  <a:pt x="10369" y="2561"/>
                  <a:pt x="10375" y="2561"/>
                </a:cubicBezTo>
                <a:cubicBezTo>
                  <a:pt x="10375" y="2561"/>
                  <a:pt x="10381" y="2561"/>
                  <a:pt x="10387" y="2561"/>
                </a:cubicBezTo>
                <a:cubicBezTo>
                  <a:pt x="10393" y="2561"/>
                  <a:pt x="10393" y="2567"/>
                  <a:pt x="10399" y="2573"/>
                </a:cubicBezTo>
                <a:cubicBezTo>
                  <a:pt x="10387" y="2573"/>
                  <a:pt x="10381" y="2567"/>
                  <a:pt x="10375" y="2573"/>
                </a:cubicBezTo>
                <a:cubicBezTo>
                  <a:pt x="10357" y="2573"/>
                  <a:pt x="10351" y="2579"/>
                  <a:pt x="10339" y="2579"/>
                </a:cubicBezTo>
                <a:cubicBezTo>
                  <a:pt x="10333" y="2585"/>
                  <a:pt x="10327" y="2585"/>
                  <a:pt x="10327" y="2585"/>
                </a:cubicBezTo>
                <a:cubicBezTo>
                  <a:pt x="10327" y="2591"/>
                  <a:pt x="10327" y="2597"/>
                  <a:pt x="10327" y="2597"/>
                </a:cubicBezTo>
                <a:cubicBezTo>
                  <a:pt x="10333" y="2609"/>
                  <a:pt x="10339" y="2615"/>
                  <a:pt x="10351" y="2615"/>
                </a:cubicBezTo>
                <a:lnTo>
                  <a:pt x="10357" y="2615"/>
                </a:lnTo>
                <a:cubicBezTo>
                  <a:pt x="10363" y="2615"/>
                  <a:pt x="10369" y="2621"/>
                  <a:pt x="10369" y="2621"/>
                </a:cubicBezTo>
                <a:cubicBezTo>
                  <a:pt x="10375" y="2621"/>
                  <a:pt x="10381" y="2621"/>
                  <a:pt x="10387" y="2621"/>
                </a:cubicBezTo>
                <a:cubicBezTo>
                  <a:pt x="10393" y="2621"/>
                  <a:pt x="10399" y="2621"/>
                  <a:pt x="10404" y="2621"/>
                </a:cubicBezTo>
                <a:cubicBezTo>
                  <a:pt x="10416" y="2615"/>
                  <a:pt x="10416" y="2603"/>
                  <a:pt x="10422" y="2597"/>
                </a:cubicBezTo>
                <a:cubicBezTo>
                  <a:pt x="10428" y="2591"/>
                  <a:pt x="10428" y="2585"/>
                  <a:pt x="10434" y="2585"/>
                </a:cubicBezTo>
                <a:cubicBezTo>
                  <a:pt x="10446" y="2585"/>
                  <a:pt x="10446" y="2585"/>
                  <a:pt x="10452" y="2591"/>
                </a:cubicBezTo>
                <a:cubicBezTo>
                  <a:pt x="10458" y="2591"/>
                  <a:pt x="10464" y="2591"/>
                  <a:pt x="10464" y="2597"/>
                </a:cubicBezTo>
                <a:cubicBezTo>
                  <a:pt x="10470" y="2597"/>
                  <a:pt x="10476" y="2603"/>
                  <a:pt x="10476" y="2603"/>
                </a:cubicBezTo>
                <a:cubicBezTo>
                  <a:pt x="10476" y="2609"/>
                  <a:pt x="10476" y="2615"/>
                  <a:pt x="10482" y="2615"/>
                </a:cubicBezTo>
                <a:cubicBezTo>
                  <a:pt x="10482" y="2621"/>
                  <a:pt x="10476" y="2627"/>
                  <a:pt x="10482" y="2627"/>
                </a:cubicBezTo>
                <a:cubicBezTo>
                  <a:pt x="10482" y="2632"/>
                  <a:pt x="10488" y="2632"/>
                  <a:pt x="10493" y="2632"/>
                </a:cubicBezTo>
                <a:lnTo>
                  <a:pt x="10499" y="2639"/>
                </a:lnTo>
                <a:cubicBezTo>
                  <a:pt x="10505" y="2639"/>
                  <a:pt x="10511" y="2644"/>
                  <a:pt x="10511" y="2650"/>
                </a:cubicBezTo>
                <a:cubicBezTo>
                  <a:pt x="10511" y="2650"/>
                  <a:pt x="10511" y="2656"/>
                  <a:pt x="10505" y="2656"/>
                </a:cubicBezTo>
                <a:cubicBezTo>
                  <a:pt x="10499" y="2668"/>
                  <a:pt x="10488" y="2668"/>
                  <a:pt x="10476" y="2674"/>
                </a:cubicBezTo>
                <a:cubicBezTo>
                  <a:pt x="10476" y="2674"/>
                  <a:pt x="10464" y="2674"/>
                  <a:pt x="10464" y="2680"/>
                </a:cubicBezTo>
                <a:cubicBezTo>
                  <a:pt x="10464" y="2680"/>
                  <a:pt x="10464" y="2686"/>
                  <a:pt x="10464" y="2692"/>
                </a:cubicBezTo>
                <a:cubicBezTo>
                  <a:pt x="10464" y="2698"/>
                  <a:pt x="10464" y="2704"/>
                  <a:pt x="10464" y="2710"/>
                </a:cubicBezTo>
                <a:cubicBezTo>
                  <a:pt x="10440" y="2710"/>
                  <a:pt x="10440" y="2710"/>
                  <a:pt x="10440" y="2710"/>
                </a:cubicBezTo>
                <a:cubicBezTo>
                  <a:pt x="10434" y="2710"/>
                  <a:pt x="10428" y="2710"/>
                  <a:pt x="10422" y="2710"/>
                </a:cubicBezTo>
                <a:cubicBezTo>
                  <a:pt x="10422" y="2704"/>
                  <a:pt x="10416" y="2704"/>
                  <a:pt x="10416" y="2704"/>
                </a:cubicBezTo>
                <a:cubicBezTo>
                  <a:pt x="10411" y="2704"/>
                  <a:pt x="10411" y="2698"/>
                  <a:pt x="10411" y="2692"/>
                </a:cubicBezTo>
                <a:cubicBezTo>
                  <a:pt x="10404" y="2692"/>
                  <a:pt x="10411" y="2686"/>
                  <a:pt x="10411" y="2680"/>
                </a:cubicBezTo>
                <a:cubicBezTo>
                  <a:pt x="10404" y="2680"/>
                  <a:pt x="10404" y="2674"/>
                  <a:pt x="10399" y="2668"/>
                </a:cubicBezTo>
                <a:cubicBezTo>
                  <a:pt x="10399" y="2668"/>
                  <a:pt x="10387" y="2674"/>
                  <a:pt x="10387" y="2668"/>
                </a:cubicBezTo>
                <a:cubicBezTo>
                  <a:pt x="10387" y="2668"/>
                  <a:pt x="10387" y="2662"/>
                  <a:pt x="10387" y="2656"/>
                </a:cubicBezTo>
                <a:lnTo>
                  <a:pt x="10387" y="2650"/>
                </a:lnTo>
                <a:cubicBezTo>
                  <a:pt x="10363" y="2650"/>
                  <a:pt x="10363" y="2650"/>
                  <a:pt x="10363" y="2650"/>
                </a:cubicBezTo>
                <a:cubicBezTo>
                  <a:pt x="10357" y="2656"/>
                  <a:pt x="10357" y="2662"/>
                  <a:pt x="10351" y="2668"/>
                </a:cubicBezTo>
                <a:cubicBezTo>
                  <a:pt x="10345" y="2674"/>
                  <a:pt x="10339" y="2674"/>
                  <a:pt x="10339" y="2680"/>
                </a:cubicBezTo>
                <a:cubicBezTo>
                  <a:pt x="10333" y="2680"/>
                  <a:pt x="10327" y="2680"/>
                  <a:pt x="10327" y="2686"/>
                </a:cubicBezTo>
                <a:cubicBezTo>
                  <a:pt x="10322" y="2686"/>
                  <a:pt x="10327" y="2692"/>
                  <a:pt x="10327" y="2698"/>
                </a:cubicBezTo>
                <a:cubicBezTo>
                  <a:pt x="10327" y="2698"/>
                  <a:pt x="10327" y="2704"/>
                  <a:pt x="10327" y="2710"/>
                </a:cubicBezTo>
                <a:cubicBezTo>
                  <a:pt x="10327" y="2710"/>
                  <a:pt x="10322" y="2716"/>
                  <a:pt x="10322" y="2721"/>
                </a:cubicBezTo>
                <a:cubicBezTo>
                  <a:pt x="10316" y="2721"/>
                  <a:pt x="10316" y="2727"/>
                  <a:pt x="10310" y="2727"/>
                </a:cubicBezTo>
                <a:cubicBezTo>
                  <a:pt x="10310" y="2733"/>
                  <a:pt x="10310" y="2739"/>
                  <a:pt x="10310" y="2739"/>
                </a:cubicBezTo>
                <a:cubicBezTo>
                  <a:pt x="10310" y="2745"/>
                  <a:pt x="10304" y="2751"/>
                  <a:pt x="10304" y="2757"/>
                </a:cubicBezTo>
                <a:cubicBezTo>
                  <a:pt x="10304" y="2763"/>
                  <a:pt x="10304" y="2769"/>
                  <a:pt x="10304" y="2775"/>
                </a:cubicBezTo>
                <a:cubicBezTo>
                  <a:pt x="10304" y="2781"/>
                  <a:pt x="10310" y="2781"/>
                  <a:pt x="10310" y="2787"/>
                </a:cubicBezTo>
                <a:cubicBezTo>
                  <a:pt x="10310" y="2793"/>
                  <a:pt x="10316" y="2793"/>
                  <a:pt x="10316" y="2799"/>
                </a:cubicBezTo>
                <a:cubicBezTo>
                  <a:pt x="10316" y="2805"/>
                  <a:pt x="10310" y="2805"/>
                  <a:pt x="10304" y="2810"/>
                </a:cubicBezTo>
                <a:cubicBezTo>
                  <a:pt x="10304" y="2816"/>
                  <a:pt x="10298" y="2816"/>
                  <a:pt x="10292" y="2822"/>
                </a:cubicBezTo>
                <a:cubicBezTo>
                  <a:pt x="10292" y="2828"/>
                  <a:pt x="10292" y="2828"/>
                  <a:pt x="10292" y="2834"/>
                </a:cubicBezTo>
                <a:cubicBezTo>
                  <a:pt x="10304" y="2846"/>
                  <a:pt x="10304" y="2846"/>
                  <a:pt x="10304" y="2846"/>
                </a:cubicBezTo>
                <a:cubicBezTo>
                  <a:pt x="10298" y="2858"/>
                  <a:pt x="10298" y="2858"/>
                  <a:pt x="10298" y="2858"/>
                </a:cubicBezTo>
                <a:cubicBezTo>
                  <a:pt x="10298" y="2858"/>
                  <a:pt x="10292" y="2858"/>
                  <a:pt x="10286" y="2858"/>
                </a:cubicBezTo>
                <a:cubicBezTo>
                  <a:pt x="10274" y="2858"/>
                  <a:pt x="10274" y="2846"/>
                  <a:pt x="10262" y="2846"/>
                </a:cubicBezTo>
                <a:cubicBezTo>
                  <a:pt x="10250" y="2846"/>
                  <a:pt x="10245" y="2846"/>
                  <a:pt x="10238" y="2846"/>
                </a:cubicBezTo>
                <a:cubicBezTo>
                  <a:pt x="10227" y="2846"/>
                  <a:pt x="10221" y="2846"/>
                  <a:pt x="10215" y="2846"/>
                </a:cubicBezTo>
                <a:cubicBezTo>
                  <a:pt x="10209" y="2846"/>
                  <a:pt x="10203" y="2846"/>
                  <a:pt x="10197" y="2852"/>
                </a:cubicBezTo>
                <a:cubicBezTo>
                  <a:pt x="10197" y="2858"/>
                  <a:pt x="10191" y="2858"/>
                  <a:pt x="10191" y="2864"/>
                </a:cubicBezTo>
                <a:cubicBezTo>
                  <a:pt x="10191" y="2870"/>
                  <a:pt x="10197" y="2870"/>
                  <a:pt x="10197" y="2876"/>
                </a:cubicBezTo>
                <a:cubicBezTo>
                  <a:pt x="10203" y="2887"/>
                  <a:pt x="10209" y="2887"/>
                  <a:pt x="10215" y="2893"/>
                </a:cubicBezTo>
                <a:cubicBezTo>
                  <a:pt x="10215" y="2905"/>
                  <a:pt x="10215" y="2905"/>
                  <a:pt x="10215" y="2905"/>
                </a:cubicBezTo>
                <a:cubicBezTo>
                  <a:pt x="10203" y="2911"/>
                  <a:pt x="10203" y="2911"/>
                  <a:pt x="10203" y="2911"/>
                </a:cubicBezTo>
                <a:cubicBezTo>
                  <a:pt x="10185" y="2899"/>
                  <a:pt x="10179" y="2893"/>
                  <a:pt x="10161" y="2882"/>
                </a:cubicBezTo>
                <a:cubicBezTo>
                  <a:pt x="10156" y="2882"/>
                  <a:pt x="10156" y="2882"/>
                  <a:pt x="10150" y="2876"/>
                </a:cubicBezTo>
                <a:cubicBezTo>
                  <a:pt x="10144" y="2870"/>
                  <a:pt x="10144" y="2864"/>
                  <a:pt x="10138" y="2864"/>
                </a:cubicBezTo>
                <a:cubicBezTo>
                  <a:pt x="10138" y="2858"/>
                  <a:pt x="10132" y="2858"/>
                  <a:pt x="10126" y="2858"/>
                </a:cubicBezTo>
                <a:cubicBezTo>
                  <a:pt x="10126" y="2858"/>
                  <a:pt x="10120" y="2864"/>
                  <a:pt x="10114" y="2864"/>
                </a:cubicBezTo>
                <a:cubicBezTo>
                  <a:pt x="10108" y="2870"/>
                  <a:pt x="10102" y="2876"/>
                  <a:pt x="10090" y="2882"/>
                </a:cubicBezTo>
                <a:cubicBezTo>
                  <a:pt x="10084" y="2882"/>
                  <a:pt x="10084" y="2887"/>
                  <a:pt x="10079" y="2887"/>
                </a:cubicBezTo>
                <a:cubicBezTo>
                  <a:pt x="10079" y="2887"/>
                  <a:pt x="10072" y="2887"/>
                  <a:pt x="10067" y="2887"/>
                </a:cubicBezTo>
                <a:cubicBezTo>
                  <a:pt x="10067" y="2893"/>
                  <a:pt x="10061" y="2893"/>
                  <a:pt x="10055" y="2893"/>
                </a:cubicBezTo>
                <a:cubicBezTo>
                  <a:pt x="10055" y="2899"/>
                  <a:pt x="10055" y="2905"/>
                  <a:pt x="10049" y="2905"/>
                </a:cubicBezTo>
                <a:cubicBezTo>
                  <a:pt x="10043" y="2911"/>
                  <a:pt x="10043" y="2911"/>
                  <a:pt x="10037" y="2917"/>
                </a:cubicBezTo>
                <a:cubicBezTo>
                  <a:pt x="10025" y="2923"/>
                  <a:pt x="10019" y="2917"/>
                  <a:pt x="10001" y="2917"/>
                </a:cubicBezTo>
                <a:cubicBezTo>
                  <a:pt x="9995" y="2917"/>
                  <a:pt x="9990" y="2917"/>
                  <a:pt x="9978" y="2923"/>
                </a:cubicBezTo>
                <a:cubicBezTo>
                  <a:pt x="9972" y="2923"/>
                  <a:pt x="9972" y="2929"/>
                  <a:pt x="9966" y="2929"/>
                </a:cubicBezTo>
                <a:cubicBezTo>
                  <a:pt x="9960" y="2935"/>
                  <a:pt x="9954" y="2935"/>
                  <a:pt x="9948" y="2935"/>
                </a:cubicBezTo>
                <a:cubicBezTo>
                  <a:pt x="9936" y="2935"/>
                  <a:pt x="9924" y="2935"/>
                  <a:pt x="9912" y="2923"/>
                </a:cubicBezTo>
                <a:cubicBezTo>
                  <a:pt x="9906" y="2911"/>
                  <a:pt x="9906" y="2899"/>
                  <a:pt x="9906" y="2882"/>
                </a:cubicBezTo>
                <a:cubicBezTo>
                  <a:pt x="9883" y="2882"/>
                  <a:pt x="9883" y="2882"/>
                  <a:pt x="9883" y="2882"/>
                </a:cubicBezTo>
                <a:cubicBezTo>
                  <a:pt x="9883" y="2887"/>
                  <a:pt x="9877" y="2887"/>
                  <a:pt x="9877" y="2887"/>
                </a:cubicBezTo>
                <a:cubicBezTo>
                  <a:pt x="9871" y="2893"/>
                  <a:pt x="9871" y="2899"/>
                  <a:pt x="9871" y="2899"/>
                </a:cubicBezTo>
                <a:cubicBezTo>
                  <a:pt x="9865" y="2899"/>
                  <a:pt x="9859" y="2899"/>
                  <a:pt x="9859" y="2899"/>
                </a:cubicBezTo>
                <a:cubicBezTo>
                  <a:pt x="9853" y="2899"/>
                  <a:pt x="9847" y="2893"/>
                  <a:pt x="9841" y="2893"/>
                </a:cubicBezTo>
                <a:cubicBezTo>
                  <a:pt x="9818" y="2893"/>
                  <a:pt x="9818" y="2893"/>
                  <a:pt x="9818" y="2893"/>
                </a:cubicBezTo>
                <a:cubicBezTo>
                  <a:pt x="9812" y="2893"/>
                  <a:pt x="9806" y="2899"/>
                  <a:pt x="9795" y="2899"/>
                </a:cubicBezTo>
                <a:cubicBezTo>
                  <a:pt x="9795" y="2911"/>
                  <a:pt x="9800" y="2917"/>
                  <a:pt x="9795" y="2935"/>
                </a:cubicBezTo>
                <a:cubicBezTo>
                  <a:pt x="9771" y="2935"/>
                  <a:pt x="9771" y="2935"/>
                  <a:pt x="9771" y="2935"/>
                </a:cubicBezTo>
                <a:cubicBezTo>
                  <a:pt x="9765" y="2935"/>
                  <a:pt x="9759" y="2935"/>
                  <a:pt x="9753" y="2929"/>
                </a:cubicBezTo>
                <a:cubicBezTo>
                  <a:pt x="9753" y="2929"/>
                  <a:pt x="9747" y="2929"/>
                  <a:pt x="9741" y="2923"/>
                </a:cubicBezTo>
                <a:cubicBezTo>
                  <a:pt x="9741" y="2911"/>
                  <a:pt x="9741" y="2905"/>
                  <a:pt x="9736" y="2893"/>
                </a:cubicBezTo>
                <a:cubicBezTo>
                  <a:pt x="9730" y="2899"/>
                  <a:pt x="9730" y="2899"/>
                  <a:pt x="9730" y="2899"/>
                </a:cubicBezTo>
                <a:cubicBezTo>
                  <a:pt x="9706" y="2899"/>
                  <a:pt x="9706" y="2899"/>
                  <a:pt x="9706" y="2899"/>
                </a:cubicBezTo>
                <a:cubicBezTo>
                  <a:pt x="9706" y="2882"/>
                  <a:pt x="9706" y="2882"/>
                  <a:pt x="9706" y="2882"/>
                </a:cubicBezTo>
                <a:cubicBezTo>
                  <a:pt x="9706" y="2876"/>
                  <a:pt x="9700" y="2876"/>
                  <a:pt x="9700" y="2870"/>
                </a:cubicBezTo>
                <a:cubicBezTo>
                  <a:pt x="9700" y="2864"/>
                  <a:pt x="9706" y="2864"/>
                  <a:pt x="9706" y="2858"/>
                </a:cubicBezTo>
                <a:cubicBezTo>
                  <a:pt x="9753" y="2858"/>
                  <a:pt x="9753" y="2858"/>
                  <a:pt x="9753" y="2858"/>
                </a:cubicBezTo>
                <a:cubicBezTo>
                  <a:pt x="9759" y="2858"/>
                  <a:pt x="9765" y="2864"/>
                  <a:pt x="9777" y="2864"/>
                </a:cubicBezTo>
                <a:cubicBezTo>
                  <a:pt x="9783" y="2864"/>
                  <a:pt x="9783" y="2870"/>
                  <a:pt x="9789" y="2876"/>
                </a:cubicBezTo>
                <a:cubicBezTo>
                  <a:pt x="9795" y="2876"/>
                  <a:pt x="9795" y="2882"/>
                  <a:pt x="9806" y="2882"/>
                </a:cubicBezTo>
                <a:cubicBezTo>
                  <a:pt x="9812" y="2882"/>
                  <a:pt x="9818" y="2876"/>
                  <a:pt x="9824" y="2876"/>
                </a:cubicBezTo>
                <a:cubicBezTo>
                  <a:pt x="9829" y="2870"/>
                  <a:pt x="9829" y="2864"/>
                  <a:pt x="9829" y="2852"/>
                </a:cubicBezTo>
                <a:cubicBezTo>
                  <a:pt x="9829" y="2840"/>
                  <a:pt x="9824" y="2834"/>
                  <a:pt x="9824" y="2822"/>
                </a:cubicBezTo>
                <a:cubicBezTo>
                  <a:pt x="9824" y="2816"/>
                  <a:pt x="9829" y="2816"/>
                  <a:pt x="9829" y="2805"/>
                </a:cubicBezTo>
                <a:cubicBezTo>
                  <a:pt x="9835" y="2799"/>
                  <a:pt x="9841" y="2799"/>
                  <a:pt x="9841" y="2793"/>
                </a:cubicBezTo>
                <a:cubicBezTo>
                  <a:pt x="9841" y="2781"/>
                  <a:pt x="9841" y="2775"/>
                  <a:pt x="9841" y="2769"/>
                </a:cubicBezTo>
                <a:cubicBezTo>
                  <a:pt x="9818" y="2769"/>
                  <a:pt x="9818" y="2769"/>
                  <a:pt x="9818" y="2769"/>
                </a:cubicBezTo>
                <a:cubicBezTo>
                  <a:pt x="9812" y="2769"/>
                  <a:pt x="9812" y="2775"/>
                  <a:pt x="9806" y="2775"/>
                </a:cubicBezTo>
                <a:cubicBezTo>
                  <a:pt x="9800" y="2775"/>
                  <a:pt x="9789" y="2769"/>
                  <a:pt x="9783" y="2775"/>
                </a:cubicBezTo>
                <a:cubicBezTo>
                  <a:pt x="9777" y="2775"/>
                  <a:pt x="9777" y="2775"/>
                  <a:pt x="9771" y="2781"/>
                </a:cubicBezTo>
                <a:cubicBezTo>
                  <a:pt x="9771" y="2781"/>
                  <a:pt x="9771" y="2787"/>
                  <a:pt x="9765" y="2793"/>
                </a:cubicBezTo>
                <a:cubicBezTo>
                  <a:pt x="9765" y="2793"/>
                  <a:pt x="9759" y="2805"/>
                  <a:pt x="9753" y="2805"/>
                </a:cubicBezTo>
                <a:cubicBezTo>
                  <a:pt x="9747" y="2805"/>
                  <a:pt x="9747" y="2805"/>
                  <a:pt x="9747" y="2805"/>
                </a:cubicBezTo>
                <a:cubicBezTo>
                  <a:pt x="9747" y="2805"/>
                  <a:pt x="9741" y="2799"/>
                  <a:pt x="9736" y="2799"/>
                </a:cubicBezTo>
                <a:cubicBezTo>
                  <a:pt x="9741" y="2787"/>
                  <a:pt x="9736" y="2781"/>
                  <a:pt x="9741" y="2775"/>
                </a:cubicBezTo>
                <a:cubicBezTo>
                  <a:pt x="9741" y="2769"/>
                  <a:pt x="9753" y="2769"/>
                  <a:pt x="9753" y="2763"/>
                </a:cubicBezTo>
                <a:cubicBezTo>
                  <a:pt x="9753" y="2763"/>
                  <a:pt x="9753" y="2757"/>
                  <a:pt x="9753" y="2751"/>
                </a:cubicBezTo>
                <a:cubicBezTo>
                  <a:pt x="9753" y="2733"/>
                  <a:pt x="9753" y="2733"/>
                  <a:pt x="9753" y="2733"/>
                </a:cubicBezTo>
                <a:cubicBezTo>
                  <a:pt x="9747" y="2739"/>
                  <a:pt x="9741" y="2739"/>
                  <a:pt x="9730" y="2739"/>
                </a:cubicBezTo>
                <a:cubicBezTo>
                  <a:pt x="9730" y="2739"/>
                  <a:pt x="9724" y="2739"/>
                  <a:pt x="9724" y="2733"/>
                </a:cubicBezTo>
                <a:cubicBezTo>
                  <a:pt x="9724" y="2727"/>
                  <a:pt x="9724" y="2727"/>
                  <a:pt x="9724" y="2721"/>
                </a:cubicBezTo>
                <a:cubicBezTo>
                  <a:pt x="9730" y="2716"/>
                  <a:pt x="9736" y="2710"/>
                  <a:pt x="9736" y="2698"/>
                </a:cubicBezTo>
                <a:cubicBezTo>
                  <a:pt x="9741" y="2698"/>
                  <a:pt x="9736" y="2692"/>
                  <a:pt x="9736" y="2686"/>
                </a:cubicBezTo>
                <a:cubicBezTo>
                  <a:pt x="9736" y="2686"/>
                  <a:pt x="9741" y="2680"/>
                  <a:pt x="9736" y="2674"/>
                </a:cubicBezTo>
                <a:cubicBezTo>
                  <a:pt x="9736" y="2668"/>
                  <a:pt x="9730" y="2668"/>
                  <a:pt x="9730" y="2662"/>
                </a:cubicBezTo>
                <a:cubicBezTo>
                  <a:pt x="9730" y="2662"/>
                  <a:pt x="9730" y="2656"/>
                  <a:pt x="9724" y="2650"/>
                </a:cubicBezTo>
                <a:cubicBezTo>
                  <a:pt x="9718" y="2650"/>
                  <a:pt x="9724" y="2644"/>
                  <a:pt x="9718" y="2644"/>
                </a:cubicBezTo>
                <a:cubicBezTo>
                  <a:pt x="9712" y="2644"/>
                  <a:pt x="9706" y="2644"/>
                  <a:pt x="9706" y="2644"/>
                </a:cubicBezTo>
                <a:cubicBezTo>
                  <a:pt x="9700" y="2644"/>
                  <a:pt x="9694" y="2650"/>
                  <a:pt x="9688" y="2650"/>
                </a:cubicBezTo>
                <a:cubicBezTo>
                  <a:pt x="9688" y="2662"/>
                  <a:pt x="9688" y="2668"/>
                  <a:pt x="9682" y="2674"/>
                </a:cubicBezTo>
                <a:cubicBezTo>
                  <a:pt x="9676" y="2686"/>
                  <a:pt x="9676" y="2692"/>
                  <a:pt x="9664" y="2698"/>
                </a:cubicBezTo>
                <a:cubicBezTo>
                  <a:pt x="9658" y="2698"/>
                  <a:pt x="9658" y="2698"/>
                  <a:pt x="9653" y="2698"/>
                </a:cubicBezTo>
                <a:cubicBezTo>
                  <a:pt x="9647" y="2698"/>
                  <a:pt x="9641" y="2698"/>
                  <a:pt x="9641" y="2698"/>
                </a:cubicBezTo>
                <a:cubicBezTo>
                  <a:pt x="9635" y="2698"/>
                  <a:pt x="9629" y="2704"/>
                  <a:pt x="9629" y="2710"/>
                </a:cubicBezTo>
                <a:cubicBezTo>
                  <a:pt x="9629" y="2716"/>
                  <a:pt x="9635" y="2721"/>
                  <a:pt x="9635" y="2727"/>
                </a:cubicBezTo>
                <a:cubicBezTo>
                  <a:pt x="9635" y="2733"/>
                  <a:pt x="9635" y="2733"/>
                  <a:pt x="9635" y="2733"/>
                </a:cubicBezTo>
                <a:cubicBezTo>
                  <a:pt x="9635" y="2739"/>
                  <a:pt x="9635" y="2745"/>
                  <a:pt x="9629" y="2745"/>
                </a:cubicBezTo>
                <a:cubicBezTo>
                  <a:pt x="9629" y="2745"/>
                  <a:pt x="9623" y="2745"/>
                  <a:pt x="9617" y="2745"/>
                </a:cubicBezTo>
                <a:cubicBezTo>
                  <a:pt x="9617" y="2751"/>
                  <a:pt x="9611" y="2751"/>
                  <a:pt x="9605" y="2751"/>
                </a:cubicBezTo>
                <a:cubicBezTo>
                  <a:pt x="9593" y="2757"/>
                  <a:pt x="9587" y="2763"/>
                  <a:pt x="9587" y="2775"/>
                </a:cubicBezTo>
                <a:cubicBezTo>
                  <a:pt x="9587" y="2787"/>
                  <a:pt x="9593" y="2793"/>
                  <a:pt x="9599" y="2805"/>
                </a:cubicBezTo>
                <a:cubicBezTo>
                  <a:pt x="9599" y="2810"/>
                  <a:pt x="9605" y="2810"/>
                  <a:pt x="9605" y="2816"/>
                </a:cubicBezTo>
                <a:cubicBezTo>
                  <a:pt x="9611" y="2816"/>
                  <a:pt x="9617" y="2816"/>
                  <a:pt x="9617" y="2816"/>
                </a:cubicBezTo>
                <a:cubicBezTo>
                  <a:pt x="9623" y="2822"/>
                  <a:pt x="9623" y="2822"/>
                  <a:pt x="9629" y="2828"/>
                </a:cubicBezTo>
                <a:cubicBezTo>
                  <a:pt x="9629" y="2828"/>
                  <a:pt x="9629" y="2834"/>
                  <a:pt x="9629" y="2840"/>
                </a:cubicBezTo>
                <a:cubicBezTo>
                  <a:pt x="9629" y="2840"/>
                  <a:pt x="9617" y="2846"/>
                  <a:pt x="9617" y="2852"/>
                </a:cubicBezTo>
                <a:cubicBezTo>
                  <a:pt x="9617" y="2858"/>
                  <a:pt x="9623" y="2858"/>
                  <a:pt x="9623" y="2864"/>
                </a:cubicBezTo>
                <a:cubicBezTo>
                  <a:pt x="9623" y="2876"/>
                  <a:pt x="9623" y="2876"/>
                  <a:pt x="9623" y="2876"/>
                </a:cubicBezTo>
                <a:cubicBezTo>
                  <a:pt x="9623" y="2882"/>
                  <a:pt x="9617" y="2882"/>
                  <a:pt x="9617" y="2893"/>
                </a:cubicBezTo>
                <a:cubicBezTo>
                  <a:pt x="9617" y="2893"/>
                  <a:pt x="9617" y="2893"/>
                  <a:pt x="9617" y="2899"/>
                </a:cubicBezTo>
                <a:cubicBezTo>
                  <a:pt x="9617" y="2905"/>
                  <a:pt x="9617" y="2905"/>
                  <a:pt x="9623" y="2911"/>
                </a:cubicBezTo>
                <a:cubicBezTo>
                  <a:pt x="9623" y="2917"/>
                  <a:pt x="9629" y="2917"/>
                  <a:pt x="9629" y="2923"/>
                </a:cubicBezTo>
                <a:cubicBezTo>
                  <a:pt x="9635" y="2929"/>
                  <a:pt x="9641" y="2935"/>
                  <a:pt x="9641" y="2947"/>
                </a:cubicBezTo>
                <a:cubicBezTo>
                  <a:pt x="9641" y="2965"/>
                  <a:pt x="9641" y="2965"/>
                  <a:pt x="9641" y="2965"/>
                </a:cubicBezTo>
                <a:cubicBezTo>
                  <a:pt x="9623" y="2965"/>
                  <a:pt x="9623" y="2965"/>
                  <a:pt x="9623" y="2965"/>
                </a:cubicBezTo>
                <a:cubicBezTo>
                  <a:pt x="9617" y="2965"/>
                  <a:pt x="9611" y="2971"/>
                  <a:pt x="9605" y="2971"/>
                </a:cubicBezTo>
                <a:cubicBezTo>
                  <a:pt x="9593" y="2971"/>
                  <a:pt x="9587" y="2971"/>
                  <a:pt x="9575" y="2971"/>
                </a:cubicBezTo>
                <a:cubicBezTo>
                  <a:pt x="9564" y="2971"/>
                  <a:pt x="9564" y="2971"/>
                  <a:pt x="9564" y="2971"/>
                </a:cubicBezTo>
                <a:cubicBezTo>
                  <a:pt x="9558" y="2971"/>
                  <a:pt x="9552" y="2971"/>
                  <a:pt x="9546" y="2971"/>
                </a:cubicBezTo>
                <a:cubicBezTo>
                  <a:pt x="9534" y="2971"/>
                  <a:pt x="9528" y="2971"/>
                  <a:pt x="9516" y="2971"/>
                </a:cubicBezTo>
                <a:cubicBezTo>
                  <a:pt x="9504" y="2971"/>
                  <a:pt x="9498" y="2971"/>
                  <a:pt x="9492" y="2971"/>
                </a:cubicBezTo>
                <a:cubicBezTo>
                  <a:pt x="9487" y="2976"/>
                  <a:pt x="9492" y="2982"/>
                  <a:pt x="9487" y="2982"/>
                </a:cubicBezTo>
                <a:cubicBezTo>
                  <a:pt x="9481" y="2988"/>
                  <a:pt x="9481" y="2988"/>
                  <a:pt x="9475" y="2988"/>
                </a:cubicBezTo>
                <a:cubicBezTo>
                  <a:pt x="9469" y="2994"/>
                  <a:pt x="9457" y="2988"/>
                  <a:pt x="9451" y="2994"/>
                </a:cubicBezTo>
                <a:cubicBezTo>
                  <a:pt x="9445" y="3000"/>
                  <a:pt x="9451" y="3006"/>
                  <a:pt x="9445" y="3006"/>
                </a:cubicBezTo>
                <a:cubicBezTo>
                  <a:pt x="9445" y="3012"/>
                  <a:pt x="9445" y="3012"/>
                  <a:pt x="9439" y="3018"/>
                </a:cubicBezTo>
                <a:cubicBezTo>
                  <a:pt x="9433" y="3030"/>
                  <a:pt x="9427" y="3036"/>
                  <a:pt x="9415" y="3036"/>
                </a:cubicBezTo>
                <a:cubicBezTo>
                  <a:pt x="9409" y="3036"/>
                  <a:pt x="9409" y="3030"/>
                  <a:pt x="9403" y="3030"/>
                </a:cubicBezTo>
                <a:cubicBezTo>
                  <a:pt x="9392" y="3030"/>
                  <a:pt x="9392" y="3030"/>
                  <a:pt x="9392" y="3030"/>
                </a:cubicBezTo>
                <a:cubicBezTo>
                  <a:pt x="9380" y="3030"/>
                  <a:pt x="9380" y="3030"/>
                  <a:pt x="9380" y="3030"/>
                </a:cubicBezTo>
                <a:cubicBezTo>
                  <a:pt x="9380" y="3030"/>
                  <a:pt x="9374" y="3036"/>
                  <a:pt x="9368" y="3036"/>
                </a:cubicBezTo>
                <a:cubicBezTo>
                  <a:pt x="9368" y="3036"/>
                  <a:pt x="9362" y="3030"/>
                  <a:pt x="9356" y="3030"/>
                </a:cubicBezTo>
                <a:cubicBezTo>
                  <a:pt x="9356" y="3054"/>
                  <a:pt x="9356" y="3054"/>
                  <a:pt x="9356" y="3054"/>
                </a:cubicBezTo>
                <a:cubicBezTo>
                  <a:pt x="9380" y="3065"/>
                  <a:pt x="9380" y="3065"/>
                  <a:pt x="9380" y="3065"/>
                </a:cubicBezTo>
                <a:cubicBezTo>
                  <a:pt x="9380" y="3101"/>
                  <a:pt x="9380" y="3101"/>
                  <a:pt x="9380" y="3101"/>
                </a:cubicBezTo>
                <a:cubicBezTo>
                  <a:pt x="9374" y="3101"/>
                  <a:pt x="9368" y="3101"/>
                  <a:pt x="9362" y="3101"/>
                </a:cubicBezTo>
                <a:cubicBezTo>
                  <a:pt x="9362" y="3101"/>
                  <a:pt x="9356" y="3107"/>
                  <a:pt x="9350" y="3107"/>
                </a:cubicBezTo>
                <a:cubicBezTo>
                  <a:pt x="9350" y="3107"/>
                  <a:pt x="9344" y="3107"/>
                  <a:pt x="9344" y="3113"/>
                </a:cubicBezTo>
                <a:cubicBezTo>
                  <a:pt x="9338" y="3113"/>
                  <a:pt x="9332" y="3119"/>
                  <a:pt x="9332" y="3119"/>
                </a:cubicBezTo>
                <a:cubicBezTo>
                  <a:pt x="9321" y="3125"/>
                  <a:pt x="9315" y="3131"/>
                  <a:pt x="9309" y="3137"/>
                </a:cubicBezTo>
                <a:cubicBezTo>
                  <a:pt x="9303" y="3137"/>
                  <a:pt x="9303" y="3142"/>
                  <a:pt x="9297" y="3148"/>
                </a:cubicBezTo>
                <a:cubicBezTo>
                  <a:pt x="9291" y="3148"/>
                  <a:pt x="9291" y="3154"/>
                  <a:pt x="9285" y="3154"/>
                </a:cubicBezTo>
                <a:cubicBezTo>
                  <a:pt x="9273" y="3154"/>
                  <a:pt x="9273" y="3154"/>
                  <a:pt x="9273" y="3154"/>
                </a:cubicBezTo>
                <a:cubicBezTo>
                  <a:pt x="9261" y="3154"/>
                  <a:pt x="9249" y="3154"/>
                  <a:pt x="9237" y="3154"/>
                </a:cubicBezTo>
                <a:cubicBezTo>
                  <a:pt x="9237" y="3225"/>
                  <a:pt x="9237" y="3225"/>
                  <a:pt x="9237" y="3225"/>
                </a:cubicBezTo>
                <a:cubicBezTo>
                  <a:pt x="9220" y="3225"/>
                  <a:pt x="9208" y="3225"/>
                  <a:pt x="9190" y="3225"/>
                </a:cubicBezTo>
                <a:lnTo>
                  <a:pt x="9184" y="3231"/>
                </a:lnTo>
                <a:cubicBezTo>
                  <a:pt x="9178" y="3231"/>
                  <a:pt x="9172" y="3231"/>
                  <a:pt x="9172" y="3231"/>
                </a:cubicBezTo>
                <a:cubicBezTo>
                  <a:pt x="9172" y="3267"/>
                  <a:pt x="9172" y="3267"/>
                  <a:pt x="9172" y="3267"/>
                </a:cubicBezTo>
                <a:cubicBezTo>
                  <a:pt x="9131" y="3267"/>
                  <a:pt x="9131" y="3267"/>
                  <a:pt x="9131" y="3267"/>
                </a:cubicBezTo>
                <a:cubicBezTo>
                  <a:pt x="9125" y="3267"/>
                  <a:pt x="9119" y="3261"/>
                  <a:pt x="9113" y="3261"/>
                </a:cubicBezTo>
                <a:cubicBezTo>
                  <a:pt x="9107" y="3261"/>
                  <a:pt x="9101" y="3261"/>
                  <a:pt x="9095" y="3261"/>
                </a:cubicBezTo>
                <a:cubicBezTo>
                  <a:pt x="9089" y="3261"/>
                  <a:pt x="9083" y="3261"/>
                  <a:pt x="9077" y="3261"/>
                </a:cubicBezTo>
                <a:cubicBezTo>
                  <a:pt x="9077" y="3255"/>
                  <a:pt x="9083" y="3249"/>
                  <a:pt x="9077" y="3249"/>
                </a:cubicBezTo>
                <a:cubicBezTo>
                  <a:pt x="9077" y="3243"/>
                  <a:pt x="9071" y="3237"/>
                  <a:pt x="9066" y="3237"/>
                </a:cubicBezTo>
                <a:cubicBezTo>
                  <a:pt x="9060" y="3237"/>
                  <a:pt x="9054" y="3237"/>
                  <a:pt x="9048" y="3237"/>
                </a:cubicBezTo>
                <a:cubicBezTo>
                  <a:pt x="9048" y="3273"/>
                  <a:pt x="9048" y="3273"/>
                  <a:pt x="9048" y="3273"/>
                </a:cubicBezTo>
                <a:cubicBezTo>
                  <a:pt x="9054" y="3279"/>
                  <a:pt x="9060" y="3279"/>
                  <a:pt x="9071" y="3279"/>
                </a:cubicBezTo>
                <a:cubicBezTo>
                  <a:pt x="9060" y="3303"/>
                  <a:pt x="9060" y="3303"/>
                  <a:pt x="9060" y="3303"/>
                </a:cubicBezTo>
                <a:cubicBezTo>
                  <a:pt x="9066" y="3314"/>
                  <a:pt x="9066" y="3314"/>
                  <a:pt x="9066" y="3314"/>
                </a:cubicBezTo>
                <a:cubicBezTo>
                  <a:pt x="9066" y="3332"/>
                  <a:pt x="9066" y="3332"/>
                  <a:pt x="9066" y="3332"/>
                </a:cubicBezTo>
                <a:cubicBezTo>
                  <a:pt x="9048" y="3332"/>
                  <a:pt x="9042" y="3332"/>
                  <a:pt x="9030" y="3332"/>
                </a:cubicBezTo>
                <a:cubicBezTo>
                  <a:pt x="9024" y="3332"/>
                  <a:pt x="9018" y="3326"/>
                  <a:pt x="9018" y="3326"/>
                </a:cubicBezTo>
                <a:cubicBezTo>
                  <a:pt x="9012" y="3326"/>
                  <a:pt x="9006" y="3326"/>
                  <a:pt x="9006" y="3326"/>
                </a:cubicBezTo>
                <a:cubicBezTo>
                  <a:pt x="9000" y="3326"/>
                  <a:pt x="9000" y="3326"/>
                  <a:pt x="8994" y="3326"/>
                </a:cubicBezTo>
                <a:cubicBezTo>
                  <a:pt x="8989" y="3326"/>
                  <a:pt x="8982" y="3326"/>
                  <a:pt x="8977" y="3326"/>
                </a:cubicBezTo>
                <a:cubicBezTo>
                  <a:pt x="8977" y="3326"/>
                  <a:pt x="8971" y="3320"/>
                  <a:pt x="8965" y="3320"/>
                </a:cubicBezTo>
                <a:cubicBezTo>
                  <a:pt x="8965" y="3314"/>
                  <a:pt x="8965" y="3309"/>
                  <a:pt x="8959" y="3309"/>
                </a:cubicBezTo>
                <a:cubicBezTo>
                  <a:pt x="8953" y="3309"/>
                  <a:pt x="8947" y="3314"/>
                  <a:pt x="8941" y="3314"/>
                </a:cubicBezTo>
                <a:cubicBezTo>
                  <a:pt x="8935" y="3314"/>
                  <a:pt x="8929" y="3314"/>
                  <a:pt x="8929" y="3314"/>
                </a:cubicBezTo>
                <a:cubicBezTo>
                  <a:pt x="8917" y="3314"/>
                  <a:pt x="8911" y="3320"/>
                  <a:pt x="8905" y="3326"/>
                </a:cubicBezTo>
                <a:cubicBezTo>
                  <a:pt x="8900" y="3326"/>
                  <a:pt x="8894" y="3326"/>
                  <a:pt x="8894" y="3332"/>
                </a:cubicBezTo>
                <a:cubicBezTo>
                  <a:pt x="8894" y="3338"/>
                  <a:pt x="8888" y="3338"/>
                  <a:pt x="8888" y="3344"/>
                </a:cubicBezTo>
                <a:cubicBezTo>
                  <a:pt x="8888" y="3350"/>
                  <a:pt x="8894" y="3350"/>
                  <a:pt x="8894" y="3356"/>
                </a:cubicBezTo>
                <a:cubicBezTo>
                  <a:pt x="8900" y="3356"/>
                  <a:pt x="8905" y="3356"/>
                  <a:pt x="8905" y="3356"/>
                </a:cubicBezTo>
                <a:cubicBezTo>
                  <a:pt x="8911" y="3356"/>
                  <a:pt x="8911" y="3362"/>
                  <a:pt x="8917" y="3368"/>
                </a:cubicBezTo>
                <a:cubicBezTo>
                  <a:pt x="8917" y="3368"/>
                  <a:pt x="8923" y="3368"/>
                  <a:pt x="8929" y="3374"/>
                </a:cubicBezTo>
                <a:cubicBezTo>
                  <a:pt x="8929" y="3374"/>
                  <a:pt x="8935" y="3380"/>
                  <a:pt x="8941" y="3380"/>
                </a:cubicBezTo>
                <a:cubicBezTo>
                  <a:pt x="8947" y="3380"/>
                  <a:pt x="8953" y="3380"/>
                  <a:pt x="8965" y="3380"/>
                </a:cubicBezTo>
                <a:cubicBezTo>
                  <a:pt x="8977" y="3380"/>
                  <a:pt x="8977" y="3380"/>
                  <a:pt x="8977" y="3380"/>
                </a:cubicBezTo>
                <a:cubicBezTo>
                  <a:pt x="8982" y="3380"/>
                  <a:pt x="8982" y="3386"/>
                  <a:pt x="8989" y="3386"/>
                </a:cubicBezTo>
                <a:cubicBezTo>
                  <a:pt x="8994" y="3391"/>
                  <a:pt x="8994" y="3391"/>
                  <a:pt x="9000" y="3397"/>
                </a:cubicBezTo>
                <a:cubicBezTo>
                  <a:pt x="9000" y="3397"/>
                  <a:pt x="9006" y="3397"/>
                  <a:pt x="9012" y="3403"/>
                </a:cubicBezTo>
                <a:cubicBezTo>
                  <a:pt x="9012" y="3403"/>
                  <a:pt x="9018" y="3409"/>
                  <a:pt x="9018" y="3415"/>
                </a:cubicBezTo>
                <a:cubicBezTo>
                  <a:pt x="9024" y="3421"/>
                  <a:pt x="9036" y="3427"/>
                  <a:pt x="9042" y="3433"/>
                </a:cubicBezTo>
                <a:cubicBezTo>
                  <a:pt x="9042" y="3492"/>
                  <a:pt x="9042" y="3492"/>
                  <a:pt x="9042" y="3492"/>
                </a:cubicBezTo>
                <a:cubicBezTo>
                  <a:pt x="9048" y="3498"/>
                  <a:pt x="9048" y="3498"/>
                  <a:pt x="9048" y="3504"/>
                </a:cubicBezTo>
                <a:cubicBezTo>
                  <a:pt x="9054" y="3504"/>
                  <a:pt x="9060" y="3510"/>
                  <a:pt x="9060" y="3510"/>
                </a:cubicBezTo>
                <a:cubicBezTo>
                  <a:pt x="9071" y="3516"/>
                  <a:pt x="9077" y="3516"/>
                  <a:pt x="9083" y="3522"/>
                </a:cubicBezTo>
                <a:cubicBezTo>
                  <a:pt x="9089" y="3522"/>
                  <a:pt x="9095" y="3534"/>
                  <a:pt x="9095" y="3540"/>
                </a:cubicBezTo>
                <a:cubicBezTo>
                  <a:pt x="9095" y="3546"/>
                  <a:pt x="9089" y="3552"/>
                  <a:pt x="9089" y="3557"/>
                </a:cubicBezTo>
                <a:cubicBezTo>
                  <a:pt x="9089" y="3563"/>
                  <a:pt x="9083" y="3569"/>
                  <a:pt x="9083" y="3575"/>
                </a:cubicBezTo>
                <a:cubicBezTo>
                  <a:pt x="9083" y="3593"/>
                  <a:pt x="9089" y="3599"/>
                  <a:pt x="9095" y="3617"/>
                </a:cubicBezTo>
                <a:cubicBezTo>
                  <a:pt x="9095" y="3623"/>
                  <a:pt x="9095" y="3629"/>
                  <a:pt x="9095" y="3635"/>
                </a:cubicBezTo>
                <a:cubicBezTo>
                  <a:pt x="9095" y="3641"/>
                  <a:pt x="9095" y="3646"/>
                  <a:pt x="9095" y="3652"/>
                </a:cubicBezTo>
                <a:cubicBezTo>
                  <a:pt x="9089" y="3664"/>
                  <a:pt x="9071" y="3664"/>
                  <a:pt x="9060" y="3676"/>
                </a:cubicBezTo>
                <a:cubicBezTo>
                  <a:pt x="9060" y="3676"/>
                  <a:pt x="9060" y="3682"/>
                  <a:pt x="9060" y="3688"/>
                </a:cubicBezTo>
                <a:cubicBezTo>
                  <a:pt x="9054" y="3688"/>
                  <a:pt x="9054" y="3688"/>
                  <a:pt x="9048" y="3694"/>
                </a:cubicBezTo>
                <a:cubicBezTo>
                  <a:pt x="9036" y="3700"/>
                  <a:pt x="9030" y="3706"/>
                  <a:pt x="9012" y="3706"/>
                </a:cubicBezTo>
                <a:cubicBezTo>
                  <a:pt x="9000" y="3706"/>
                  <a:pt x="9000" y="3706"/>
                  <a:pt x="9000" y="3706"/>
                </a:cubicBezTo>
                <a:cubicBezTo>
                  <a:pt x="8994" y="3706"/>
                  <a:pt x="8994" y="3700"/>
                  <a:pt x="8989" y="3700"/>
                </a:cubicBezTo>
                <a:cubicBezTo>
                  <a:pt x="8982" y="3700"/>
                  <a:pt x="8977" y="3694"/>
                  <a:pt x="8965" y="3694"/>
                </a:cubicBezTo>
                <a:lnTo>
                  <a:pt x="8959" y="3694"/>
                </a:lnTo>
                <a:cubicBezTo>
                  <a:pt x="8947" y="3694"/>
                  <a:pt x="8941" y="3694"/>
                  <a:pt x="8929" y="3694"/>
                </a:cubicBezTo>
                <a:cubicBezTo>
                  <a:pt x="8923" y="3694"/>
                  <a:pt x="8923" y="3688"/>
                  <a:pt x="8917" y="3682"/>
                </a:cubicBezTo>
                <a:cubicBezTo>
                  <a:pt x="8911" y="3682"/>
                  <a:pt x="8911" y="3676"/>
                  <a:pt x="8905" y="3670"/>
                </a:cubicBezTo>
                <a:cubicBezTo>
                  <a:pt x="8900" y="3670"/>
                  <a:pt x="8900" y="3670"/>
                  <a:pt x="8894" y="3670"/>
                </a:cubicBezTo>
                <a:cubicBezTo>
                  <a:pt x="8793" y="3670"/>
                  <a:pt x="8793" y="3670"/>
                  <a:pt x="8793" y="3670"/>
                </a:cubicBezTo>
                <a:cubicBezTo>
                  <a:pt x="8781" y="3670"/>
                  <a:pt x="8775" y="3664"/>
                  <a:pt x="8763" y="3664"/>
                </a:cubicBezTo>
                <a:cubicBezTo>
                  <a:pt x="8757" y="3664"/>
                  <a:pt x="8751" y="3670"/>
                  <a:pt x="8745" y="3664"/>
                </a:cubicBezTo>
                <a:cubicBezTo>
                  <a:pt x="8739" y="3664"/>
                  <a:pt x="8739" y="3652"/>
                  <a:pt x="8734" y="3652"/>
                </a:cubicBezTo>
                <a:cubicBezTo>
                  <a:pt x="8727" y="3652"/>
                  <a:pt x="8727" y="3652"/>
                  <a:pt x="8727" y="3652"/>
                </a:cubicBezTo>
                <a:cubicBezTo>
                  <a:pt x="8722" y="3658"/>
                  <a:pt x="8716" y="3658"/>
                  <a:pt x="8716" y="3658"/>
                </a:cubicBezTo>
                <a:cubicBezTo>
                  <a:pt x="8710" y="3664"/>
                  <a:pt x="8716" y="3670"/>
                  <a:pt x="8716" y="3670"/>
                </a:cubicBezTo>
                <a:cubicBezTo>
                  <a:pt x="8710" y="3676"/>
                  <a:pt x="8710" y="3682"/>
                  <a:pt x="8710" y="3682"/>
                </a:cubicBezTo>
                <a:cubicBezTo>
                  <a:pt x="8650" y="3682"/>
                  <a:pt x="8650" y="3682"/>
                  <a:pt x="8650" y="3682"/>
                </a:cubicBezTo>
                <a:cubicBezTo>
                  <a:pt x="8645" y="3694"/>
                  <a:pt x="8645" y="3694"/>
                  <a:pt x="8645" y="3694"/>
                </a:cubicBezTo>
                <a:cubicBezTo>
                  <a:pt x="8650" y="3700"/>
                  <a:pt x="8650" y="3706"/>
                  <a:pt x="8650" y="3706"/>
                </a:cubicBezTo>
                <a:cubicBezTo>
                  <a:pt x="8657" y="3712"/>
                  <a:pt x="8662" y="3712"/>
                  <a:pt x="8662" y="3718"/>
                </a:cubicBezTo>
                <a:cubicBezTo>
                  <a:pt x="8668" y="3718"/>
                  <a:pt x="8668" y="3723"/>
                  <a:pt x="8668" y="3730"/>
                </a:cubicBezTo>
                <a:cubicBezTo>
                  <a:pt x="8668" y="3741"/>
                  <a:pt x="8668" y="3741"/>
                  <a:pt x="8662" y="3747"/>
                </a:cubicBezTo>
                <a:cubicBezTo>
                  <a:pt x="8662" y="3759"/>
                  <a:pt x="8657" y="3765"/>
                  <a:pt x="8657" y="3777"/>
                </a:cubicBezTo>
                <a:cubicBezTo>
                  <a:pt x="8657" y="3783"/>
                  <a:pt x="8657" y="3789"/>
                  <a:pt x="8657" y="3801"/>
                </a:cubicBezTo>
                <a:cubicBezTo>
                  <a:pt x="8662" y="3801"/>
                  <a:pt x="8662" y="3807"/>
                  <a:pt x="8662" y="3807"/>
                </a:cubicBezTo>
                <a:cubicBezTo>
                  <a:pt x="8668" y="3812"/>
                  <a:pt x="8674" y="3818"/>
                  <a:pt x="8674" y="3824"/>
                </a:cubicBezTo>
                <a:cubicBezTo>
                  <a:pt x="8674" y="3889"/>
                  <a:pt x="8674" y="3889"/>
                  <a:pt x="8674" y="3889"/>
                </a:cubicBezTo>
                <a:cubicBezTo>
                  <a:pt x="8674" y="3895"/>
                  <a:pt x="8674" y="3895"/>
                  <a:pt x="8668" y="3901"/>
                </a:cubicBezTo>
                <a:cubicBezTo>
                  <a:pt x="8668" y="3907"/>
                  <a:pt x="8662" y="3907"/>
                  <a:pt x="8657" y="3907"/>
                </a:cubicBezTo>
                <a:cubicBezTo>
                  <a:pt x="8657" y="3913"/>
                  <a:pt x="8657" y="3919"/>
                  <a:pt x="8650" y="3919"/>
                </a:cubicBezTo>
                <a:cubicBezTo>
                  <a:pt x="8645" y="3931"/>
                  <a:pt x="8639" y="3943"/>
                  <a:pt x="8639" y="3955"/>
                </a:cubicBezTo>
                <a:cubicBezTo>
                  <a:pt x="8639" y="3961"/>
                  <a:pt x="8639" y="3961"/>
                  <a:pt x="8639" y="3967"/>
                </a:cubicBezTo>
                <a:cubicBezTo>
                  <a:pt x="8639" y="3973"/>
                  <a:pt x="8645" y="3973"/>
                  <a:pt x="8650" y="3978"/>
                </a:cubicBezTo>
                <a:cubicBezTo>
                  <a:pt x="8650" y="3990"/>
                  <a:pt x="8650" y="3990"/>
                  <a:pt x="8650" y="3990"/>
                </a:cubicBezTo>
                <a:cubicBezTo>
                  <a:pt x="8657" y="3996"/>
                  <a:pt x="8662" y="3996"/>
                  <a:pt x="8662" y="4002"/>
                </a:cubicBezTo>
                <a:cubicBezTo>
                  <a:pt x="8662" y="4014"/>
                  <a:pt x="8662" y="4014"/>
                  <a:pt x="8662" y="4014"/>
                </a:cubicBezTo>
                <a:cubicBezTo>
                  <a:pt x="8662" y="4026"/>
                  <a:pt x="8662" y="4026"/>
                  <a:pt x="8662" y="4026"/>
                </a:cubicBezTo>
                <a:cubicBezTo>
                  <a:pt x="8662" y="4032"/>
                  <a:pt x="8657" y="4032"/>
                  <a:pt x="8650" y="4038"/>
                </a:cubicBezTo>
                <a:cubicBezTo>
                  <a:pt x="8650" y="4044"/>
                  <a:pt x="8650" y="4050"/>
                  <a:pt x="8650" y="4055"/>
                </a:cubicBezTo>
                <a:cubicBezTo>
                  <a:pt x="8650" y="4067"/>
                  <a:pt x="8650" y="4073"/>
                  <a:pt x="8650" y="4085"/>
                </a:cubicBezTo>
                <a:cubicBezTo>
                  <a:pt x="8686" y="4085"/>
                  <a:pt x="8686" y="4085"/>
                  <a:pt x="8686" y="4085"/>
                </a:cubicBezTo>
                <a:cubicBezTo>
                  <a:pt x="8698" y="4085"/>
                  <a:pt x="8704" y="4079"/>
                  <a:pt x="8716" y="4079"/>
                </a:cubicBezTo>
                <a:cubicBezTo>
                  <a:pt x="8716" y="4079"/>
                  <a:pt x="8722" y="4079"/>
                  <a:pt x="8727" y="4085"/>
                </a:cubicBezTo>
                <a:cubicBezTo>
                  <a:pt x="8727" y="4085"/>
                  <a:pt x="8727" y="4091"/>
                  <a:pt x="8734" y="4097"/>
                </a:cubicBezTo>
                <a:cubicBezTo>
                  <a:pt x="8739" y="4097"/>
                  <a:pt x="8745" y="4097"/>
                  <a:pt x="8751" y="4097"/>
                </a:cubicBezTo>
                <a:cubicBezTo>
                  <a:pt x="8763" y="4097"/>
                  <a:pt x="8769" y="4091"/>
                  <a:pt x="8781" y="4091"/>
                </a:cubicBezTo>
                <a:cubicBezTo>
                  <a:pt x="8787" y="4091"/>
                  <a:pt x="8787" y="4097"/>
                  <a:pt x="8793" y="4097"/>
                </a:cubicBezTo>
                <a:cubicBezTo>
                  <a:pt x="8793" y="4097"/>
                  <a:pt x="8799" y="4103"/>
                  <a:pt x="8805" y="4103"/>
                </a:cubicBezTo>
                <a:cubicBezTo>
                  <a:pt x="8805" y="4103"/>
                  <a:pt x="8811" y="4103"/>
                  <a:pt x="8811" y="4109"/>
                </a:cubicBezTo>
                <a:cubicBezTo>
                  <a:pt x="8823" y="4109"/>
                  <a:pt x="8823" y="4109"/>
                  <a:pt x="8823" y="4109"/>
                </a:cubicBezTo>
                <a:cubicBezTo>
                  <a:pt x="8828" y="4115"/>
                  <a:pt x="8828" y="4121"/>
                  <a:pt x="8834" y="4121"/>
                </a:cubicBezTo>
                <a:cubicBezTo>
                  <a:pt x="8834" y="4127"/>
                  <a:pt x="8840" y="4133"/>
                  <a:pt x="8840" y="4133"/>
                </a:cubicBezTo>
                <a:cubicBezTo>
                  <a:pt x="8846" y="4139"/>
                  <a:pt x="8840" y="4144"/>
                  <a:pt x="8846" y="4144"/>
                </a:cubicBezTo>
                <a:cubicBezTo>
                  <a:pt x="8846" y="4150"/>
                  <a:pt x="8852" y="4150"/>
                  <a:pt x="8858" y="4156"/>
                </a:cubicBezTo>
                <a:cubicBezTo>
                  <a:pt x="8864" y="4139"/>
                  <a:pt x="8864" y="4139"/>
                  <a:pt x="8864" y="4139"/>
                </a:cubicBezTo>
                <a:cubicBezTo>
                  <a:pt x="8852" y="4139"/>
                  <a:pt x="8852" y="4139"/>
                  <a:pt x="8852" y="4139"/>
                </a:cubicBezTo>
                <a:cubicBezTo>
                  <a:pt x="8852" y="4139"/>
                  <a:pt x="8858" y="4133"/>
                  <a:pt x="8864" y="4133"/>
                </a:cubicBezTo>
                <a:cubicBezTo>
                  <a:pt x="8870" y="4133"/>
                  <a:pt x="8876" y="4133"/>
                  <a:pt x="8888" y="4133"/>
                </a:cubicBezTo>
                <a:cubicBezTo>
                  <a:pt x="8894" y="4133"/>
                  <a:pt x="8900" y="4127"/>
                  <a:pt x="8905" y="4127"/>
                </a:cubicBezTo>
                <a:cubicBezTo>
                  <a:pt x="8911" y="4127"/>
                  <a:pt x="8917" y="4121"/>
                  <a:pt x="8917" y="4115"/>
                </a:cubicBezTo>
                <a:cubicBezTo>
                  <a:pt x="8929" y="4109"/>
                  <a:pt x="8935" y="4109"/>
                  <a:pt x="8941" y="4103"/>
                </a:cubicBezTo>
                <a:cubicBezTo>
                  <a:pt x="8947" y="4097"/>
                  <a:pt x="8947" y="4091"/>
                  <a:pt x="8953" y="4091"/>
                </a:cubicBezTo>
                <a:cubicBezTo>
                  <a:pt x="8959" y="4085"/>
                  <a:pt x="8965" y="4079"/>
                  <a:pt x="8977" y="4079"/>
                </a:cubicBezTo>
                <a:cubicBezTo>
                  <a:pt x="8982" y="4079"/>
                  <a:pt x="8989" y="4079"/>
                  <a:pt x="9000" y="4079"/>
                </a:cubicBezTo>
                <a:cubicBezTo>
                  <a:pt x="9006" y="4079"/>
                  <a:pt x="9006" y="4073"/>
                  <a:pt x="9012" y="4073"/>
                </a:cubicBezTo>
                <a:cubicBezTo>
                  <a:pt x="9018" y="4073"/>
                  <a:pt x="9018" y="4073"/>
                  <a:pt x="9024" y="4067"/>
                </a:cubicBezTo>
                <a:cubicBezTo>
                  <a:pt x="9036" y="4062"/>
                  <a:pt x="9036" y="4055"/>
                  <a:pt x="9042" y="4044"/>
                </a:cubicBezTo>
                <a:cubicBezTo>
                  <a:pt x="9054" y="4032"/>
                  <a:pt x="9060" y="4026"/>
                  <a:pt x="9077" y="4020"/>
                </a:cubicBezTo>
                <a:cubicBezTo>
                  <a:pt x="9083" y="4020"/>
                  <a:pt x="9089" y="4014"/>
                  <a:pt x="9101" y="4014"/>
                </a:cubicBezTo>
                <a:cubicBezTo>
                  <a:pt x="9113" y="4014"/>
                  <a:pt x="9119" y="4014"/>
                  <a:pt x="9137" y="4014"/>
                </a:cubicBezTo>
                <a:cubicBezTo>
                  <a:pt x="9143" y="4014"/>
                  <a:pt x="9148" y="4014"/>
                  <a:pt x="9160" y="4014"/>
                </a:cubicBezTo>
                <a:cubicBezTo>
                  <a:pt x="9160" y="3973"/>
                  <a:pt x="9160" y="3973"/>
                  <a:pt x="9160" y="3973"/>
                </a:cubicBezTo>
                <a:cubicBezTo>
                  <a:pt x="9160" y="3967"/>
                  <a:pt x="9154" y="3967"/>
                  <a:pt x="9154" y="3961"/>
                </a:cubicBezTo>
                <a:cubicBezTo>
                  <a:pt x="9148" y="3961"/>
                  <a:pt x="9148" y="3955"/>
                  <a:pt x="9143" y="3955"/>
                </a:cubicBezTo>
                <a:cubicBezTo>
                  <a:pt x="9137" y="3949"/>
                  <a:pt x="9131" y="3949"/>
                  <a:pt x="9131" y="3943"/>
                </a:cubicBezTo>
                <a:cubicBezTo>
                  <a:pt x="9131" y="3937"/>
                  <a:pt x="9131" y="3931"/>
                  <a:pt x="9131" y="3925"/>
                </a:cubicBezTo>
                <a:cubicBezTo>
                  <a:pt x="9137" y="3919"/>
                  <a:pt x="9137" y="3919"/>
                  <a:pt x="9143" y="3913"/>
                </a:cubicBezTo>
                <a:cubicBezTo>
                  <a:pt x="9148" y="3901"/>
                  <a:pt x="9148" y="3895"/>
                  <a:pt x="9154" y="3884"/>
                </a:cubicBezTo>
                <a:cubicBezTo>
                  <a:pt x="9160" y="3878"/>
                  <a:pt x="9160" y="3878"/>
                  <a:pt x="9160" y="3878"/>
                </a:cubicBezTo>
                <a:cubicBezTo>
                  <a:pt x="9166" y="3872"/>
                  <a:pt x="9166" y="3866"/>
                  <a:pt x="9166" y="3866"/>
                </a:cubicBezTo>
                <a:cubicBezTo>
                  <a:pt x="9172" y="3860"/>
                  <a:pt x="9172" y="3854"/>
                  <a:pt x="9172" y="3854"/>
                </a:cubicBezTo>
                <a:cubicBezTo>
                  <a:pt x="9178" y="3848"/>
                  <a:pt x="9178" y="3854"/>
                  <a:pt x="9184" y="3854"/>
                </a:cubicBezTo>
                <a:cubicBezTo>
                  <a:pt x="9190" y="3848"/>
                  <a:pt x="9202" y="3854"/>
                  <a:pt x="9208" y="3848"/>
                </a:cubicBezTo>
                <a:cubicBezTo>
                  <a:pt x="9214" y="3848"/>
                  <a:pt x="9214" y="3842"/>
                  <a:pt x="9214" y="3836"/>
                </a:cubicBezTo>
                <a:cubicBezTo>
                  <a:pt x="9220" y="3836"/>
                  <a:pt x="9220" y="3830"/>
                  <a:pt x="9226" y="3824"/>
                </a:cubicBezTo>
                <a:cubicBezTo>
                  <a:pt x="9226" y="3824"/>
                  <a:pt x="9232" y="3824"/>
                  <a:pt x="9237" y="3824"/>
                </a:cubicBezTo>
                <a:cubicBezTo>
                  <a:pt x="9237" y="3824"/>
                  <a:pt x="9243" y="3824"/>
                  <a:pt x="9249" y="3824"/>
                </a:cubicBezTo>
                <a:cubicBezTo>
                  <a:pt x="9249" y="3824"/>
                  <a:pt x="9249" y="3812"/>
                  <a:pt x="9255" y="3812"/>
                </a:cubicBezTo>
                <a:cubicBezTo>
                  <a:pt x="9261" y="3812"/>
                  <a:pt x="9261" y="3812"/>
                  <a:pt x="9267" y="3812"/>
                </a:cubicBezTo>
                <a:cubicBezTo>
                  <a:pt x="9273" y="3812"/>
                  <a:pt x="9273" y="3807"/>
                  <a:pt x="9279" y="3807"/>
                </a:cubicBezTo>
                <a:cubicBezTo>
                  <a:pt x="9291" y="3807"/>
                  <a:pt x="9297" y="3807"/>
                  <a:pt x="9315" y="3807"/>
                </a:cubicBezTo>
                <a:cubicBezTo>
                  <a:pt x="9321" y="3807"/>
                  <a:pt x="9326" y="3807"/>
                  <a:pt x="9338" y="3807"/>
                </a:cubicBezTo>
                <a:cubicBezTo>
                  <a:pt x="9338" y="3771"/>
                  <a:pt x="9338" y="3771"/>
                  <a:pt x="9338" y="3771"/>
                </a:cubicBezTo>
                <a:cubicBezTo>
                  <a:pt x="9338" y="3759"/>
                  <a:pt x="9338" y="3759"/>
                  <a:pt x="9338" y="3759"/>
                </a:cubicBezTo>
                <a:cubicBezTo>
                  <a:pt x="9332" y="3747"/>
                  <a:pt x="9332" y="3741"/>
                  <a:pt x="9332" y="3735"/>
                </a:cubicBezTo>
                <a:cubicBezTo>
                  <a:pt x="9332" y="3730"/>
                  <a:pt x="9332" y="3730"/>
                  <a:pt x="9332" y="3723"/>
                </a:cubicBezTo>
                <a:cubicBezTo>
                  <a:pt x="9332" y="3712"/>
                  <a:pt x="9332" y="3706"/>
                  <a:pt x="9332" y="3700"/>
                </a:cubicBezTo>
                <a:cubicBezTo>
                  <a:pt x="9332" y="3694"/>
                  <a:pt x="9338" y="3694"/>
                  <a:pt x="9338" y="3688"/>
                </a:cubicBezTo>
                <a:cubicBezTo>
                  <a:pt x="9344" y="3682"/>
                  <a:pt x="9350" y="3682"/>
                  <a:pt x="9362" y="3682"/>
                </a:cubicBezTo>
                <a:cubicBezTo>
                  <a:pt x="9368" y="3682"/>
                  <a:pt x="9374" y="3676"/>
                  <a:pt x="9380" y="3676"/>
                </a:cubicBezTo>
                <a:cubicBezTo>
                  <a:pt x="9392" y="3676"/>
                  <a:pt x="9398" y="3682"/>
                  <a:pt x="9409" y="3682"/>
                </a:cubicBezTo>
                <a:cubicBezTo>
                  <a:pt x="9409" y="3682"/>
                  <a:pt x="9415" y="3682"/>
                  <a:pt x="9421" y="3682"/>
                </a:cubicBezTo>
                <a:cubicBezTo>
                  <a:pt x="9433" y="3688"/>
                  <a:pt x="9439" y="3694"/>
                  <a:pt x="9451" y="3700"/>
                </a:cubicBezTo>
                <a:cubicBezTo>
                  <a:pt x="9463" y="3706"/>
                  <a:pt x="9469" y="3706"/>
                  <a:pt x="9481" y="3706"/>
                </a:cubicBezTo>
                <a:cubicBezTo>
                  <a:pt x="9498" y="3706"/>
                  <a:pt x="9498" y="3706"/>
                  <a:pt x="9498" y="3706"/>
                </a:cubicBezTo>
                <a:cubicBezTo>
                  <a:pt x="9504" y="3706"/>
                  <a:pt x="9504" y="3700"/>
                  <a:pt x="9510" y="3700"/>
                </a:cubicBezTo>
                <a:cubicBezTo>
                  <a:pt x="9516" y="3700"/>
                  <a:pt x="9516" y="3706"/>
                  <a:pt x="9522" y="3706"/>
                </a:cubicBezTo>
                <a:cubicBezTo>
                  <a:pt x="9522" y="3694"/>
                  <a:pt x="9522" y="3688"/>
                  <a:pt x="9522" y="3682"/>
                </a:cubicBezTo>
                <a:cubicBezTo>
                  <a:pt x="9522" y="3682"/>
                  <a:pt x="9522" y="3676"/>
                  <a:pt x="9522" y="3670"/>
                </a:cubicBezTo>
                <a:cubicBezTo>
                  <a:pt x="9528" y="3670"/>
                  <a:pt x="9534" y="3664"/>
                  <a:pt x="9534" y="3664"/>
                </a:cubicBezTo>
                <a:cubicBezTo>
                  <a:pt x="9540" y="3658"/>
                  <a:pt x="9540" y="3652"/>
                  <a:pt x="9546" y="3652"/>
                </a:cubicBezTo>
                <a:cubicBezTo>
                  <a:pt x="9546" y="3652"/>
                  <a:pt x="9552" y="3652"/>
                  <a:pt x="9558" y="3652"/>
                </a:cubicBezTo>
                <a:cubicBezTo>
                  <a:pt x="9570" y="3652"/>
                  <a:pt x="9570" y="3652"/>
                  <a:pt x="9570" y="3652"/>
                </a:cubicBezTo>
                <a:cubicBezTo>
                  <a:pt x="9575" y="3652"/>
                  <a:pt x="9581" y="3652"/>
                  <a:pt x="9587" y="3652"/>
                </a:cubicBezTo>
                <a:cubicBezTo>
                  <a:pt x="9593" y="3652"/>
                  <a:pt x="9593" y="3646"/>
                  <a:pt x="9599" y="3646"/>
                </a:cubicBezTo>
                <a:cubicBezTo>
                  <a:pt x="9605" y="3641"/>
                  <a:pt x="9611" y="3641"/>
                  <a:pt x="9611" y="3635"/>
                </a:cubicBezTo>
                <a:cubicBezTo>
                  <a:pt x="9617" y="3635"/>
                  <a:pt x="9617" y="3629"/>
                  <a:pt x="9623" y="3629"/>
                </a:cubicBezTo>
                <a:cubicBezTo>
                  <a:pt x="9629" y="3623"/>
                  <a:pt x="9629" y="3617"/>
                  <a:pt x="9635" y="3617"/>
                </a:cubicBezTo>
                <a:cubicBezTo>
                  <a:pt x="9641" y="3617"/>
                  <a:pt x="9641" y="3617"/>
                  <a:pt x="9647" y="3617"/>
                </a:cubicBezTo>
                <a:cubicBezTo>
                  <a:pt x="9658" y="3617"/>
                  <a:pt x="9664" y="3623"/>
                  <a:pt x="9670" y="3629"/>
                </a:cubicBezTo>
                <a:cubicBezTo>
                  <a:pt x="9676" y="3635"/>
                  <a:pt x="9682" y="3641"/>
                  <a:pt x="9688" y="3652"/>
                </a:cubicBezTo>
                <a:cubicBezTo>
                  <a:pt x="9700" y="3658"/>
                  <a:pt x="9706" y="3670"/>
                  <a:pt x="9712" y="3682"/>
                </a:cubicBezTo>
                <a:cubicBezTo>
                  <a:pt x="9712" y="3688"/>
                  <a:pt x="9712" y="3694"/>
                  <a:pt x="9712" y="3694"/>
                </a:cubicBezTo>
                <a:cubicBezTo>
                  <a:pt x="9712" y="3700"/>
                  <a:pt x="9718" y="3700"/>
                  <a:pt x="9724" y="3706"/>
                </a:cubicBezTo>
                <a:cubicBezTo>
                  <a:pt x="9724" y="3712"/>
                  <a:pt x="9724" y="3718"/>
                  <a:pt x="9730" y="3718"/>
                </a:cubicBezTo>
                <a:cubicBezTo>
                  <a:pt x="9736" y="3718"/>
                  <a:pt x="9736" y="3723"/>
                  <a:pt x="9741" y="3723"/>
                </a:cubicBezTo>
                <a:cubicBezTo>
                  <a:pt x="9753" y="3730"/>
                  <a:pt x="9753" y="3730"/>
                  <a:pt x="9753" y="3730"/>
                </a:cubicBezTo>
                <a:cubicBezTo>
                  <a:pt x="9759" y="3730"/>
                  <a:pt x="9759" y="3735"/>
                  <a:pt x="9765" y="3735"/>
                </a:cubicBezTo>
                <a:cubicBezTo>
                  <a:pt x="9771" y="3735"/>
                  <a:pt x="9771" y="3741"/>
                  <a:pt x="9777" y="3747"/>
                </a:cubicBezTo>
                <a:cubicBezTo>
                  <a:pt x="9777" y="3747"/>
                  <a:pt x="9777" y="3753"/>
                  <a:pt x="9777" y="3759"/>
                </a:cubicBezTo>
                <a:cubicBezTo>
                  <a:pt x="9783" y="3765"/>
                  <a:pt x="9789" y="3765"/>
                  <a:pt x="9795" y="3765"/>
                </a:cubicBezTo>
                <a:cubicBezTo>
                  <a:pt x="9795" y="3771"/>
                  <a:pt x="9795" y="3777"/>
                  <a:pt x="9800" y="3777"/>
                </a:cubicBezTo>
                <a:cubicBezTo>
                  <a:pt x="9806" y="3783"/>
                  <a:pt x="9806" y="3783"/>
                  <a:pt x="9812" y="3783"/>
                </a:cubicBezTo>
                <a:cubicBezTo>
                  <a:pt x="9818" y="3789"/>
                  <a:pt x="9818" y="3789"/>
                  <a:pt x="9824" y="3795"/>
                </a:cubicBezTo>
                <a:cubicBezTo>
                  <a:pt x="9824" y="3795"/>
                  <a:pt x="9829" y="3801"/>
                  <a:pt x="9835" y="3801"/>
                </a:cubicBezTo>
                <a:cubicBezTo>
                  <a:pt x="9841" y="3807"/>
                  <a:pt x="9841" y="3807"/>
                  <a:pt x="9847" y="3812"/>
                </a:cubicBezTo>
                <a:cubicBezTo>
                  <a:pt x="9847" y="3812"/>
                  <a:pt x="9853" y="3818"/>
                  <a:pt x="9859" y="3818"/>
                </a:cubicBezTo>
                <a:cubicBezTo>
                  <a:pt x="9871" y="3818"/>
                  <a:pt x="9877" y="3824"/>
                  <a:pt x="9883" y="3824"/>
                </a:cubicBezTo>
                <a:cubicBezTo>
                  <a:pt x="9889" y="3824"/>
                  <a:pt x="9895" y="3824"/>
                  <a:pt x="9895" y="3824"/>
                </a:cubicBezTo>
                <a:cubicBezTo>
                  <a:pt x="9901" y="3830"/>
                  <a:pt x="9906" y="3830"/>
                  <a:pt x="9906" y="3830"/>
                </a:cubicBezTo>
                <a:cubicBezTo>
                  <a:pt x="9912" y="3836"/>
                  <a:pt x="9912" y="3842"/>
                  <a:pt x="9912" y="3842"/>
                </a:cubicBezTo>
                <a:cubicBezTo>
                  <a:pt x="9924" y="3854"/>
                  <a:pt x="9930" y="3866"/>
                  <a:pt x="9942" y="3878"/>
                </a:cubicBezTo>
                <a:cubicBezTo>
                  <a:pt x="9948" y="3878"/>
                  <a:pt x="9948" y="3878"/>
                  <a:pt x="9954" y="3878"/>
                </a:cubicBezTo>
                <a:cubicBezTo>
                  <a:pt x="9960" y="3878"/>
                  <a:pt x="9960" y="3884"/>
                  <a:pt x="9966" y="3884"/>
                </a:cubicBezTo>
                <a:cubicBezTo>
                  <a:pt x="9972" y="3884"/>
                  <a:pt x="9972" y="3884"/>
                  <a:pt x="9978" y="3889"/>
                </a:cubicBezTo>
                <a:cubicBezTo>
                  <a:pt x="9983" y="3895"/>
                  <a:pt x="9983" y="3901"/>
                  <a:pt x="9990" y="3913"/>
                </a:cubicBezTo>
                <a:cubicBezTo>
                  <a:pt x="9995" y="3919"/>
                  <a:pt x="10007" y="3919"/>
                  <a:pt x="10013" y="3931"/>
                </a:cubicBezTo>
                <a:cubicBezTo>
                  <a:pt x="10019" y="3931"/>
                  <a:pt x="10019" y="3937"/>
                  <a:pt x="10019" y="3943"/>
                </a:cubicBezTo>
                <a:cubicBezTo>
                  <a:pt x="10019" y="3943"/>
                  <a:pt x="10019" y="3949"/>
                  <a:pt x="10025" y="3955"/>
                </a:cubicBezTo>
                <a:cubicBezTo>
                  <a:pt x="10025" y="3961"/>
                  <a:pt x="10025" y="3967"/>
                  <a:pt x="10025" y="3978"/>
                </a:cubicBezTo>
                <a:cubicBezTo>
                  <a:pt x="10025" y="3984"/>
                  <a:pt x="10025" y="3990"/>
                  <a:pt x="10025" y="3996"/>
                </a:cubicBezTo>
                <a:cubicBezTo>
                  <a:pt x="10001" y="3996"/>
                  <a:pt x="9983" y="3996"/>
                  <a:pt x="9966" y="4008"/>
                </a:cubicBezTo>
                <a:cubicBezTo>
                  <a:pt x="9960" y="4014"/>
                  <a:pt x="9960" y="4020"/>
                  <a:pt x="9960" y="4020"/>
                </a:cubicBezTo>
                <a:cubicBezTo>
                  <a:pt x="9954" y="4020"/>
                  <a:pt x="9948" y="4020"/>
                  <a:pt x="9948" y="4026"/>
                </a:cubicBezTo>
                <a:cubicBezTo>
                  <a:pt x="9936" y="4026"/>
                  <a:pt x="9930" y="4026"/>
                  <a:pt x="9924" y="4026"/>
                </a:cubicBezTo>
                <a:cubicBezTo>
                  <a:pt x="9918" y="4026"/>
                  <a:pt x="9912" y="4020"/>
                  <a:pt x="9906" y="4020"/>
                </a:cubicBezTo>
                <a:cubicBezTo>
                  <a:pt x="9877" y="4020"/>
                  <a:pt x="9859" y="4020"/>
                  <a:pt x="9829" y="4020"/>
                </a:cubicBezTo>
                <a:cubicBezTo>
                  <a:pt x="9829" y="4038"/>
                  <a:pt x="9829" y="4038"/>
                  <a:pt x="9829" y="4038"/>
                </a:cubicBezTo>
                <a:cubicBezTo>
                  <a:pt x="9841" y="4038"/>
                  <a:pt x="9847" y="4038"/>
                  <a:pt x="9853" y="4044"/>
                </a:cubicBezTo>
                <a:cubicBezTo>
                  <a:pt x="9859" y="4050"/>
                  <a:pt x="9865" y="4050"/>
                  <a:pt x="9865" y="4055"/>
                </a:cubicBezTo>
                <a:cubicBezTo>
                  <a:pt x="9871" y="4055"/>
                  <a:pt x="9871" y="4062"/>
                  <a:pt x="9871" y="4067"/>
                </a:cubicBezTo>
                <a:cubicBezTo>
                  <a:pt x="9871" y="4067"/>
                  <a:pt x="9877" y="4073"/>
                  <a:pt x="9877" y="4079"/>
                </a:cubicBezTo>
                <a:cubicBezTo>
                  <a:pt x="9883" y="4079"/>
                  <a:pt x="9883" y="4085"/>
                  <a:pt x="9889" y="4085"/>
                </a:cubicBezTo>
                <a:cubicBezTo>
                  <a:pt x="9895" y="4085"/>
                  <a:pt x="9895" y="4085"/>
                  <a:pt x="9901" y="4085"/>
                </a:cubicBezTo>
                <a:cubicBezTo>
                  <a:pt x="9906" y="4085"/>
                  <a:pt x="9912" y="4091"/>
                  <a:pt x="9924" y="4091"/>
                </a:cubicBezTo>
                <a:cubicBezTo>
                  <a:pt x="9990" y="4091"/>
                  <a:pt x="9990" y="4091"/>
                  <a:pt x="9990" y="4091"/>
                </a:cubicBezTo>
                <a:cubicBezTo>
                  <a:pt x="9990" y="4050"/>
                  <a:pt x="9990" y="4050"/>
                  <a:pt x="9990" y="4050"/>
                </a:cubicBezTo>
                <a:cubicBezTo>
                  <a:pt x="9995" y="4050"/>
                  <a:pt x="10001" y="4044"/>
                  <a:pt x="10007" y="4044"/>
                </a:cubicBezTo>
                <a:cubicBezTo>
                  <a:pt x="10013" y="4038"/>
                  <a:pt x="10019" y="4038"/>
                  <a:pt x="10031" y="4032"/>
                </a:cubicBezTo>
                <a:cubicBezTo>
                  <a:pt x="10031" y="4026"/>
                  <a:pt x="10037" y="4020"/>
                  <a:pt x="10037" y="4020"/>
                </a:cubicBezTo>
                <a:cubicBezTo>
                  <a:pt x="10043" y="4014"/>
                  <a:pt x="10049" y="4020"/>
                  <a:pt x="10049" y="4020"/>
                </a:cubicBezTo>
                <a:cubicBezTo>
                  <a:pt x="10055" y="4014"/>
                  <a:pt x="10055" y="4008"/>
                  <a:pt x="10055" y="4008"/>
                </a:cubicBezTo>
                <a:cubicBezTo>
                  <a:pt x="10055" y="3996"/>
                  <a:pt x="10055" y="3990"/>
                  <a:pt x="10061" y="3984"/>
                </a:cubicBezTo>
                <a:cubicBezTo>
                  <a:pt x="10061" y="3978"/>
                  <a:pt x="10061" y="3973"/>
                  <a:pt x="10061" y="3973"/>
                </a:cubicBezTo>
                <a:cubicBezTo>
                  <a:pt x="10067" y="3967"/>
                  <a:pt x="10067" y="3967"/>
                  <a:pt x="10072" y="3961"/>
                </a:cubicBezTo>
                <a:cubicBezTo>
                  <a:pt x="10079" y="3961"/>
                  <a:pt x="10084" y="3967"/>
                  <a:pt x="10084" y="3961"/>
                </a:cubicBezTo>
                <a:cubicBezTo>
                  <a:pt x="10096" y="3961"/>
                  <a:pt x="10096" y="3961"/>
                  <a:pt x="10108" y="3955"/>
                </a:cubicBezTo>
                <a:cubicBezTo>
                  <a:pt x="10108" y="3949"/>
                  <a:pt x="10108" y="3949"/>
                  <a:pt x="10108" y="3943"/>
                </a:cubicBezTo>
                <a:cubicBezTo>
                  <a:pt x="10108" y="3937"/>
                  <a:pt x="10108" y="3937"/>
                  <a:pt x="10108" y="3931"/>
                </a:cubicBezTo>
                <a:cubicBezTo>
                  <a:pt x="10108" y="3919"/>
                  <a:pt x="10108" y="3919"/>
                  <a:pt x="10108" y="3919"/>
                </a:cubicBezTo>
                <a:cubicBezTo>
                  <a:pt x="10102" y="3919"/>
                  <a:pt x="10096" y="3919"/>
                  <a:pt x="10090" y="3919"/>
                </a:cubicBezTo>
                <a:cubicBezTo>
                  <a:pt x="10067" y="3919"/>
                  <a:pt x="10067" y="3919"/>
                  <a:pt x="10067" y="3919"/>
                </a:cubicBezTo>
                <a:cubicBezTo>
                  <a:pt x="10067" y="3919"/>
                  <a:pt x="10061" y="3919"/>
                  <a:pt x="10055" y="3919"/>
                </a:cubicBezTo>
                <a:cubicBezTo>
                  <a:pt x="10055" y="3907"/>
                  <a:pt x="10055" y="3907"/>
                  <a:pt x="10055" y="3907"/>
                </a:cubicBezTo>
                <a:cubicBezTo>
                  <a:pt x="10061" y="3901"/>
                  <a:pt x="10061" y="3895"/>
                  <a:pt x="10061" y="3889"/>
                </a:cubicBezTo>
                <a:cubicBezTo>
                  <a:pt x="10102" y="3889"/>
                  <a:pt x="10102" y="3889"/>
                  <a:pt x="10102" y="3889"/>
                </a:cubicBezTo>
                <a:cubicBezTo>
                  <a:pt x="10114" y="3889"/>
                  <a:pt x="10120" y="3895"/>
                  <a:pt x="10126" y="3895"/>
                </a:cubicBezTo>
                <a:cubicBezTo>
                  <a:pt x="10132" y="3901"/>
                  <a:pt x="10138" y="3901"/>
                  <a:pt x="10138" y="3901"/>
                </a:cubicBezTo>
                <a:cubicBezTo>
                  <a:pt x="10144" y="3907"/>
                  <a:pt x="10144" y="3913"/>
                  <a:pt x="10150" y="3913"/>
                </a:cubicBezTo>
                <a:cubicBezTo>
                  <a:pt x="10156" y="3913"/>
                  <a:pt x="10156" y="3907"/>
                  <a:pt x="10161" y="3907"/>
                </a:cubicBezTo>
                <a:cubicBezTo>
                  <a:pt x="10156" y="3895"/>
                  <a:pt x="10150" y="3889"/>
                  <a:pt x="10150" y="3878"/>
                </a:cubicBezTo>
                <a:cubicBezTo>
                  <a:pt x="10150" y="3866"/>
                  <a:pt x="10150" y="3860"/>
                  <a:pt x="10150" y="3854"/>
                </a:cubicBezTo>
                <a:cubicBezTo>
                  <a:pt x="10144" y="3854"/>
                  <a:pt x="10138" y="3848"/>
                  <a:pt x="10132" y="3848"/>
                </a:cubicBezTo>
                <a:cubicBezTo>
                  <a:pt x="10126" y="3848"/>
                  <a:pt x="10126" y="3848"/>
                  <a:pt x="10120" y="3848"/>
                </a:cubicBezTo>
                <a:cubicBezTo>
                  <a:pt x="10114" y="3848"/>
                  <a:pt x="10114" y="3842"/>
                  <a:pt x="10108" y="3842"/>
                </a:cubicBezTo>
                <a:cubicBezTo>
                  <a:pt x="10102" y="3836"/>
                  <a:pt x="10102" y="3836"/>
                  <a:pt x="10096" y="3830"/>
                </a:cubicBezTo>
                <a:cubicBezTo>
                  <a:pt x="10090" y="3830"/>
                  <a:pt x="10090" y="3824"/>
                  <a:pt x="10084" y="3818"/>
                </a:cubicBezTo>
                <a:cubicBezTo>
                  <a:pt x="10084" y="3818"/>
                  <a:pt x="10079" y="3818"/>
                  <a:pt x="10072" y="3818"/>
                </a:cubicBezTo>
                <a:cubicBezTo>
                  <a:pt x="10067" y="3812"/>
                  <a:pt x="10067" y="3807"/>
                  <a:pt x="10061" y="3807"/>
                </a:cubicBezTo>
                <a:cubicBezTo>
                  <a:pt x="10061" y="3807"/>
                  <a:pt x="10055" y="3807"/>
                  <a:pt x="10049" y="3807"/>
                </a:cubicBezTo>
                <a:cubicBezTo>
                  <a:pt x="10049" y="3801"/>
                  <a:pt x="10049" y="3801"/>
                  <a:pt x="10043" y="3795"/>
                </a:cubicBezTo>
                <a:cubicBezTo>
                  <a:pt x="10037" y="3795"/>
                  <a:pt x="10043" y="3783"/>
                  <a:pt x="10037" y="3783"/>
                </a:cubicBezTo>
                <a:lnTo>
                  <a:pt x="10031" y="3783"/>
                </a:lnTo>
                <a:cubicBezTo>
                  <a:pt x="10025" y="3783"/>
                  <a:pt x="10019" y="3783"/>
                  <a:pt x="10019" y="3783"/>
                </a:cubicBezTo>
                <a:cubicBezTo>
                  <a:pt x="10013" y="3783"/>
                  <a:pt x="10007" y="3777"/>
                  <a:pt x="10007" y="3777"/>
                </a:cubicBezTo>
                <a:cubicBezTo>
                  <a:pt x="10001" y="3777"/>
                  <a:pt x="9995" y="3777"/>
                  <a:pt x="9995" y="3777"/>
                </a:cubicBezTo>
                <a:cubicBezTo>
                  <a:pt x="9990" y="3771"/>
                  <a:pt x="9990" y="3765"/>
                  <a:pt x="9990" y="3765"/>
                </a:cubicBezTo>
                <a:cubicBezTo>
                  <a:pt x="9983" y="3759"/>
                  <a:pt x="9983" y="3759"/>
                  <a:pt x="9978" y="3753"/>
                </a:cubicBezTo>
                <a:cubicBezTo>
                  <a:pt x="9972" y="3753"/>
                  <a:pt x="9972" y="3753"/>
                  <a:pt x="9966" y="3753"/>
                </a:cubicBezTo>
                <a:cubicBezTo>
                  <a:pt x="9960" y="3753"/>
                  <a:pt x="9960" y="3747"/>
                  <a:pt x="9954" y="3747"/>
                </a:cubicBezTo>
                <a:cubicBezTo>
                  <a:pt x="9948" y="3747"/>
                  <a:pt x="9948" y="3747"/>
                  <a:pt x="9942" y="3747"/>
                </a:cubicBezTo>
                <a:cubicBezTo>
                  <a:pt x="9942" y="3747"/>
                  <a:pt x="9942" y="3741"/>
                  <a:pt x="9942" y="3735"/>
                </a:cubicBezTo>
                <a:lnTo>
                  <a:pt x="9954" y="3730"/>
                </a:lnTo>
                <a:cubicBezTo>
                  <a:pt x="9954" y="3723"/>
                  <a:pt x="9948" y="3718"/>
                  <a:pt x="9948" y="3718"/>
                </a:cubicBezTo>
                <a:cubicBezTo>
                  <a:pt x="9948" y="3706"/>
                  <a:pt x="9942" y="3706"/>
                  <a:pt x="9942" y="3700"/>
                </a:cubicBezTo>
                <a:cubicBezTo>
                  <a:pt x="9936" y="3700"/>
                  <a:pt x="9936" y="3694"/>
                  <a:pt x="9930" y="3694"/>
                </a:cubicBezTo>
                <a:cubicBezTo>
                  <a:pt x="9918" y="3688"/>
                  <a:pt x="9906" y="3688"/>
                  <a:pt x="9895" y="3682"/>
                </a:cubicBezTo>
                <a:cubicBezTo>
                  <a:pt x="9889" y="3676"/>
                  <a:pt x="9895" y="3670"/>
                  <a:pt x="9889" y="3670"/>
                </a:cubicBezTo>
                <a:cubicBezTo>
                  <a:pt x="9883" y="3670"/>
                  <a:pt x="9877" y="3670"/>
                  <a:pt x="9877" y="3670"/>
                </a:cubicBezTo>
                <a:cubicBezTo>
                  <a:pt x="9877" y="3664"/>
                  <a:pt x="9877" y="3664"/>
                  <a:pt x="9877" y="3658"/>
                </a:cubicBezTo>
                <a:cubicBezTo>
                  <a:pt x="9871" y="3646"/>
                  <a:pt x="9877" y="3641"/>
                  <a:pt x="9877" y="3635"/>
                </a:cubicBezTo>
                <a:cubicBezTo>
                  <a:pt x="9865" y="3629"/>
                  <a:pt x="9859" y="3629"/>
                  <a:pt x="9847" y="3629"/>
                </a:cubicBezTo>
                <a:cubicBezTo>
                  <a:pt x="9841" y="3629"/>
                  <a:pt x="9835" y="3629"/>
                  <a:pt x="9824" y="3629"/>
                </a:cubicBezTo>
                <a:cubicBezTo>
                  <a:pt x="9824" y="3599"/>
                  <a:pt x="9824" y="3599"/>
                  <a:pt x="9824" y="3599"/>
                </a:cubicBezTo>
                <a:cubicBezTo>
                  <a:pt x="9835" y="3587"/>
                  <a:pt x="9835" y="3587"/>
                  <a:pt x="9835" y="3587"/>
                </a:cubicBezTo>
                <a:cubicBezTo>
                  <a:pt x="9835" y="3587"/>
                  <a:pt x="9847" y="3587"/>
                  <a:pt x="9847" y="3581"/>
                </a:cubicBezTo>
                <a:cubicBezTo>
                  <a:pt x="9847" y="3575"/>
                  <a:pt x="9847" y="3575"/>
                  <a:pt x="9847" y="3575"/>
                </a:cubicBezTo>
                <a:cubicBezTo>
                  <a:pt x="9847" y="3569"/>
                  <a:pt x="9841" y="3569"/>
                  <a:pt x="9841" y="3563"/>
                </a:cubicBezTo>
                <a:cubicBezTo>
                  <a:pt x="9841" y="3557"/>
                  <a:pt x="9829" y="3557"/>
                  <a:pt x="9829" y="3552"/>
                </a:cubicBezTo>
                <a:cubicBezTo>
                  <a:pt x="9829" y="3546"/>
                  <a:pt x="9835" y="3540"/>
                  <a:pt x="9841" y="3534"/>
                </a:cubicBezTo>
                <a:cubicBezTo>
                  <a:pt x="9841" y="3534"/>
                  <a:pt x="9853" y="3534"/>
                  <a:pt x="9859" y="3534"/>
                </a:cubicBezTo>
                <a:cubicBezTo>
                  <a:pt x="9865" y="3534"/>
                  <a:pt x="9871" y="3534"/>
                  <a:pt x="9877" y="3534"/>
                </a:cubicBezTo>
                <a:cubicBezTo>
                  <a:pt x="9877" y="3540"/>
                  <a:pt x="9883" y="3540"/>
                  <a:pt x="9883" y="3546"/>
                </a:cubicBezTo>
                <a:cubicBezTo>
                  <a:pt x="9889" y="3546"/>
                  <a:pt x="9883" y="3552"/>
                  <a:pt x="9889" y="3557"/>
                </a:cubicBezTo>
                <a:cubicBezTo>
                  <a:pt x="9889" y="3563"/>
                  <a:pt x="9889" y="3569"/>
                  <a:pt x="9895" y="3569"/>
                </a:cubicBezTo>
                <a:cubicBezTo>
                  <a:pt x="9895" y="3569"/>
                  <a:pt x="9901" y="3569"/>
                  <a:pt x="9906" y="3569"/>
                </a:cubicBezTo>
                <a:cubicBezTo>
                  <a:pt x="9906" y="3569"/>
                  <a:pt x="9912" y="3569"/>
                  <a:pt x="9918" y="3575"/>
                </a:cubicBezTo>
                <a:cubicBezTo>
                  <a:pt x="9924" y="3575"/>
                  <a:pt x="9924" y="3575"/>
                  <a:pt x="9930" y="3581"/>
                </a:cubicBezTo>
                <a:cubicBezTo>
                  <a:pt x="9930" y="3581"/>
                  <a:pt x="9930" y="3587"/>
                  <a:pt x="9936" y="3593"/>
                </a:cubicBezTo>
                <a:cubicBezTo>
                  <a:pt x="9942" y="3593"/>
                  <a:pt x="9942" y="3599"/>
                  <a:pt x="9948" y="3599"/>
                </a:cubicBezTo>
                <a:cubicBezTo>
                  <a:pt x="9954" y="3599"/>
                  <a:pt x="9954" y="3599"/>
                  <a:pt x="9960" y="3599"/>
                </a:cubicBezTo>
                <a:cubicBezTo>
                  <a:pt x="9966" y="3599"/>
                  <a:pt x="9966" y="3605"/>
                  <a:pt x="9972" y="3605"/>
                </a:cubicBezTo>
                <a:cubicBezTo>
                  <a:pt x="9978" y="3611"/>
                  <a:pt x="9978" y="3617"/>
                  <a:pt x="9978" y="3623"/>
                </a:cubicBezTo>
                <a:cubicBezTo>
                  <a:pt x="9983" y="3629"/>
                  <a:pt x="9983" y="3641"/>
                  <a:pt x="9990" y="3646"/>
                </a:cubicBezTo>
                <a:cubicBezTo>
                  <a:pt x="9990" y="3646"/>
                  <a:pt x="9995" y="3646"/>
                  <a:pt x="10001" y="3646"/>
                </a:cubicBezTo>
                <a:cubicBezTo>
                  <a:pt x="10007" y="3652"/>
                  <a:pt x="10013" y="3658"/>
                  <a:pt x="10025" y="3664"/>
                </a:cubicBezTo>
                <a:cubicBezTo>
                  <a:pt x="10025" y="3664"/>
                  <a:pt x="10031" y="3670"/>
                  <a:pt x="10037" y="3670"/>
                </a:cubicBezTo>
                <a:cubicBezTo>
                  <a:pt x="10037" y="3670"/>
                  <a:pt x="10037" y="3676"/>
                  <a:pt x="10043" y="3682"/>
                </a:cubicBezTo>
                <a:cubicBezTo>
                  <a:pt x="10049" y="3688"/>
                  <a:pt x="10061" y="3694"/>
                  <a:pt x="10067" y="3694"/>
                </a:cubicBezTo>
                <a:cubicBezTo>
                  <a:pt x="10079" y="3694"/>
                  <a:pt x="10084" y="3688"/>
                  <a:pt x="10090" y="3694"/>
                </a:cubicBezTo>
                <a:cubicBezTo>
                  <a:pt x="10096" y="3700"/>
                  <a:pt x="10090" y="3706"/>
                  <a:pt x="10096" y="3706"/>
                </a:cubicBezTo>
                <a:cubicBezTo>
                  <a:pt x="10096" y="3712"/>
                  <a:pt x="10096" y="3718"/>
                  <a:pt x="10102" y="3718"/>
                </a:cubicBezTo>
                <a:cubicBezTo>
                  <a:pt x="10108" y="3723"/>
                  <a:pt x="10108" y="3723"/>
                  <a:pt x="10114" y="3723"/>
                </a:cubicBezTo>
                <a:cubicBezTo>
                  <a:pt x="10120" y="3730"/>
                  <a:pt x="10126" y="3730"/>
                  <a:pt x="10138" y="3735"/>
                </a:cubicBezTo>
                <a:cubicBezTo>
                  <a:pt x="10150" y="3741"/>
                  <a:pt x="10156" y="3759"/>
                  <a:pt x="10173" y="3765"/>
                </a:cubicBezTo>
                <a:cubicBezTo>
                  <a:pt x="10179" y="3765"/>
                  <a:pt x="10185" y="3765"/>
                  <a:pt x="10197" y="3771"/>
                </a:cubicBezTo>
                <a:cubicBezTo>
                  <a:pt x="10197" y="3771"/>
                  <a:pt x="10203" y="3771"/>
                  <a:pt x="10203" y="3777"/>
                </a:cubicBezTo>
                <a:cubicBezTo>
                  <a:pt x="10209" y="3783"/>
                  <a:pt x="10209" y="3783"/>
                  <a:pt x="10209" y="3789"/>
                </a:cubicBezTo>
                <a:cubicBezTo>
                  <a:pt x="10209" y="3795"/>
                  <a:pt x="10215" y="3795"/>
                  <a:pt x="10215" y="3801"/>
                </a:cubicBezTo>
                <a:cubicBezTo>
                  <a:pt x="10215" y="3807"/>
                  <a:pt x="10215" y="3807"/>
                  <a:pt x="10209" y="3812"/>
                </a:cubicBezTo>
                <a:cubicBezTo>
                  <a:pt x="10209" y="3818"/>
                  <a:pt x="10203" y="3818"/>
                  <a:pt x="10197" y="3818"/>
                </a:cubicBezTo>
                <a:cubicBezTo>
                  <a:pt x="10197" y="3824"/>
                  <a:pt x="10203" y="3830"/>
                  <a:pt x="10197" y="3830"/>
                </a:cubicBezTo>
                <a:cubicBezTo>
                  <a:pt x="10197" y="3836"/>
                  <a:pt x="10197" y="3842"/>
                  <a:pt x="10197" y="3848"/>
                </a:cubicBezTo>
                <a:cubicBezTo>
                  <a:pt x="10197" y="3854"/>
                  <a:pt x="10197" y="3860"/>
                  <a:pt x="10197" y="3866"/>
                </a:cubicBezTo>
                <a:cubicBezTo>
                  <a:pt x="10203" y="3878"/>
                  <a:pt x="10221" y="3878"/>
                  <a:pt x="10221" y="3884"/>
                </a:cubicBezTo>
                <a:cubicBezTo>
                  <a:pt x="10221" y="3895"/>
                  <a:pt x="10215" y="3901"/>
                  <a:pt x="10215" y="3907"/>
                </a:cubicBezTo>
                <a:cubicBezTo>
                  <a:pt x="10221" y="3919"/>
                  <a:pt x="10227" y="3925"/>
                  <a:pt x="10233" y="3931"/>
                </a:cubicBezTo>
                <a:cubicBezTo>
                  <a:pt x="10233" y="3937"/>
                  <a:pt x="10233" y="3943"/>
                  <a:pt x="10238" y="3943"/>
                </a:cubicBezTo>
                <a:cubicBezTo>
                  <a:pt x="10238" y="3943"/>
                  <a:pt x="10245" y="3943"/>
                  <a:pt x="10250" y="3943"/>
                </a:cubicBezTo>
                <a:cubicBezTo>
                  <a:pt x="10250" y="3943"/>
                  <a:pt x="10256" y="3943"/>
                  <a:pt x="10262" y="3943"/>
                </a:cubicBezTo>
                <a:cubicBezTo>
                  <a:pt x="10268" y="3943"/>
                  <a:pt x="10274" y="3949"/>
                  <a:pt x="10280" y="3949"/>
                </a:cubicBezTo>
                <a:cubicBezTo>
                  <a:pt x="10280" y="3996"/>
                  <a:pt x="10280" y="3996"/>
                  <a:pt x="10280" y="3996"/>
                </a:cubicBezTo>
                <a:cubicBezTo>
                  <a:pt x="10256" y="3996"/>
                  <a:pt x="10256" y="3996"/>
                  <a:pt x="10256" y="3996"/>
                </a:cubicBezTo>
                <a:cubicBezTo>
                  <a:pt x="10250" y="3990"/>
                  <a:pt x="10256" y="3984"/>
                  <a:pt x="10256" y="3984"/>
                </a:cubicBezTo>
                <a:cubicBezTo>
                  <a:pt x="10250" y="3984"/>
                  <a:pt x="10245" y="3978"/>
                  <a:pt x="10245" y="3978"/>
                </a:cubicBezTo>
                <a:cubicBezTo>
                  <a:pt x="10238" y="3978"/>
                  <a:pt x="10233" y="3984"/>
                  <a:pt x="10233" y="3984"/>
                </a:cubicBezTo>
                <a:cubicBezTo>
                  <a:pt x="10233" y="3990"/>
                  <a:pt x="10233" y="3996"/>
                  <a:pt x="10233" y="3996"/>
                </a:cubicBezTo>
                <a:cubicBezTo>
                  <a:pt x="10238" y="4002"/>
                  <a:pt x="10238" y="4002"/>
                  <a:pt x="10245" y="4008"/>
                </a:cubicBezTo>
                <a:cubicBezTo>
                  <a:pt x="10250" y="4020"/>
                  <a:pt x="10250" y="4026"/>
                  <a:pt x="10262" y="4032"/>
                </a:cubicBezTo>
                <a:cubicBezTo>
                  <a:pt x="10262" y="4038"/>
                  <a:pt x="10268" y="4038"/>
                  <a:pt x="10268" y="4038"/>
                </a:cubicBezTo>
                <a:cubicBezTo>
                  <a:pt x="10274" y="4044"/>
                  <a:pt x="10280" y="4044"/>
                  <a:pt x="10280" y="4050"/>
                </a:cubicBezTo>
                <a:cubicBezTo>
                  <a:pt x="10286" y="4044"/>
                  <a:pt x="10292" y="4044"/>
                  <a:pt x="10292" y="4038"/>
                </a:cubicBezTo>
                <a:cubicBezTo>
                  <a:pt x="10298" y="4038"/>
                  <a:pt x="10298" y="4032"/>
                  <a:pt x="10298" y="4032"/>
                </a:cubicBezTo>
                <a:cubicBezTo>
                  <a:pt x="10298" y="4026"/>
                  <a:pt x="10304" y="4026"/>
                  <a:pt x="10310" y="4020"/>
                </a:cubicBezTo>
                <a:cubicBezTo>
                  <a:pt x="10310" y="4026"/>
                  <a:pt x="10310" y="4026"/>
                  <a:pt x="10310" y="4032"/>
                </a:cubicBezTo>
                <a:cubicBezTo>
                  <a:pt x="10310" y="4038"/>
                  <a:pt x="10310" y="4038"/>
                  <a:pt x="10316" y="4044"/>
                </a:cubicBezTo>
                <a:cubicBezTo>
                  <a:pt x="10322" y="4050"/>
                  <a:pt x="10333" y="4050"/>
                  <a:pt x="10339" y="4055"/>
                </a:cubicBezTo>
                <a:cubicBezTo>
                  <a:pt x="10339" y="4067"/>
                  <a:pt x="10333" y="4073"/>
                  <a:pt x="10333" y="4085"/>
                </a:cubicBezTo>
                <a:cubicBezTo>
                  <a:pt x="10333" y="4085"/>
                  <a:pt x="10333" y="4091"/>
                  <a:pt x="10333" y="4097"/>
                </a:cubicBezTo>
                <a:cubicBezTo>
                  <a:pt x="10333" y="4103"/>
                  <a:pt x="10345" y="4103"/>
                  <a:pt x="10351" y="4109"/>
                </a:cubicBezTo>
                <a:cubicBezTo>
                  <a:pt x="10375" y="4109"/>
                  <a:pt x="10375" y="4109"/>
                  <a:pt x="10375" y="4109"/>
                </a:cubicBezTo>
                <a:cubicBezTo>
                  <a:pt x="10381" y="4109"/>
                  <a:pt x="10381" y="4109"/>
                  <a:pt x="10387" y="4109"/>
                </a:cubicBezTo>
                <a:cubicBezTo>
                  <a:pt x="10387" y="4103"/>
                  <a:pt x="10393" y="4103"/>
                  <a:pt x="10399" y="4103"/>
                </a:cubicBezTo>
                <a:cubicBezTo>
                  <a:pt x="10399" y="4103"/>
                  <a:pt x="10399" y="4097"/>
                  <a:pt x="10404" y="4091"/>
                </a:cubicBezTo>
                <a:cubicBezTo>
                  <a:pt x="10404" y="4085"/>
                  <a:pt x="10411" y="4091"/>
                  <a:pt x="10416" y="4085"/>
                </a:cubicBezTo>
                <a:cubicBezTo>
                  <a:pt x="10416" y="4079"/>
                  <a:pt x="10416" y="4073"/>
                  <a:pt x="10416" y="4073"/>
                </a:cubicBezTo>
                <a:cubicBezTo>
                  <a:pt x="10416" y="4062"/>
                  <a:pt x="10416" y="4062"/>
                  <a:pt x="10416" y="4062"/>
                </a:cubicBezTo>
                <a:cubicBezTo>
                  <a:pt x="10416" y="4055"/>
                  <a:pt x="10411" y="4055"/>
                  <a:pt x="10411" y="4050"/>
                </a:cubicBezTo>
                <a:cubicBezTo>
                  <a:pt x="10411" y="4044"/>
                  <a:pt x="10411" y="4038"/>
                  <a:pt x="10416" y="4038"/>
                </a:cubicBezTo>
                <a:cubicBezTo>
                  <a:pt x="10422" y="4038"/>
                  <a:pt x="10422" y="4032"/>
                  <a:pt x="10428" y="4032"/>
                </a:cubicBezTo>
                <a:cubicBezTo>
                  <a:pt x="10434" y="4032"/>
                  <a:pt x="10434" y="4032"/>
                  <a:pt x="10440" y="4038"/>
                </a:cubicBezTo>
                <a:cubicBezTo>
                  <a:pt x="10446" y="4038"/>
                  <a:pt x="10446" y="4044"/>
                  <a:pt x="10452" y="4044"/>
                </a:cubicBezTo>
                <a:cubicBezTo>
                  <a:pt x="10458" y="4050"/>
                  <a:pt x="10458" y="4044"/>
                  <a:pt x="10464" y="4044"/>
                </a:cubicBezTo>
                <a:cubicBezTo>
                  <a:pt x="10476" y="4044"/>
                  <a:pt x="10476" y="4044"/>
                  <a:pt x="10476" y="4044"/>
                </a:cubicBezTo>
                <a:cubicBezTo>
                  <a:pt x="10482" y="4044"/>
                  <a:pt x="10482" y="4044"/>
                  <a:pt x="10488" y="4044"/>
                </a:cubicBezTo>
                <a:cubicBezTo>
                  <a:pt x="10488" y="4032"/>
                  <a:pt x="10488" y="4026"/>
                  <a:pt x="10488" y="4020"/>
                </a:cubicBezTo>
                <a:cubicBezTo>
                  <a:pt x="10488" y="4014"/>
                  <a:pt x="10493" y="4008"/>
                  <a:pt x="10493" y="4008"/>
                </a:cubicBezTo>
                <a:cubicBezTo>
                  <a:pt x="10493" y="4002"/>
                  <a:pt x="10488" y="4002"/>
                  <a:pt x="10488" y="4002"/>
                </a:cubicBezTo>
                <a:cubicBezTo>
                  <a:pt x="10499" y="4002"/>
                  <a:pt x="10505" y="4002"/>
                  <a:pt x="10511" y="4002"/>
                </a:cubicBezTo>
                <a:cubicBezTo>
                  <a:pt x="10517" y="4002"/>
                  <a:pt x="10523" y="3996"/>
                  <a:pt x="10523" y="3996"/>
                </a:cubicBezTo>
                <a:cubicBezTo>
                  <a:pt x="10523" y="3990"/>
                  <a:pt x="10517" y="3990"/>
                  <a:pt x="10517" y="3984"/>
                </a:cubicBezTo>
                <a:cubicBezTo>
                  <a:pt x="10511" y="3978"/>
                  <a:pt x="10511" y="3978"/>
                  <a:pt x="10505" y="3973"/>
                </a:cubicBezTo>
                <a:cubicBezTo>
                  <a:pt x="10499" y="3973"/>
                  <a:pt x="10499" y="3967"/>
                  <a:pt x="10493" y="3961"/>
                </a:cubicBezTo>
                <a:cubicBezTo>
                  <a:pt x="10488" y="3961"/>
                  <a:pt x="10488" y="3961"/>
                  <a:pt x="10482" y="3961"/>
                </a:cubicBezTo>
                <a:cubicBezTo>
                  <a:pt x="10482" y="3973"/>
                  <a:pt x="10482" y="3978"/>
                  <a:pt x="10482" y="3984"/>
                </a:cubicBezTo>
                <a:cubicBezTo>
                  <a:pt x="10482" y="3990"/>
                  <a:pt x="10482" y="3996"/>
                  <a:pt x="10482" y="3996"/>
                </a:cubicBezTo>
                <a:cubicBezTo>
                  <a:pt x="10476" y="3996"/>
                  <a:pt x="10470" y="4002"/>
                  <a:pt x="10464" y="3996"/>
                </a:cubicBezTo>
                <a:cubicBezTo>
                  <a:pt x="10464" y="3996"/>
                  <a:pt x="10458" y="3996"/>
                  <a:pt x="10452" y="3996"/>
                </a:cubicBezTo>
                <a:cubicBezTo>
                  <a:pt x="10446" y="3990"/>
                  <a:pt x="10446" y="3984"/>
                  <a:pt x="10446" y="3978"/>
                </a:cubicBezTo>
                <a:cubicBezTo>
                  <a:pt x="10440" y="3978"/>
                  <a:pt x="10434" y="3978"/>
                  <a:pt x="10434" y="3973"/>
                </a:cubicBezTo>
                <a:cubicBezTo>
                  <a:pt x="10434" y="3967"/>
                  <a:pt x="10434" y="3967"/>
                  <a:pt x="10434" y="3961"/>
                </a:cubicBezTo>
                <a:cubicBezTo>
                  <a:pt x="10434" y="3955"/>
                  <a:pt x="10434" y="3955"/>
                  <a:pt x="10428" y="3949"/>
                </a:cubicBezTo>
                <a:cubicBezTo>
                  <a:pt x="10428" y="3943"/>
                  <a:pt x="10428" y="3943"/>
                  <a:pt x="10428" y="3937"/>
                </a:cubicBezTo>
                <a:cubicBezTo>
                  <a:pt x="10428" y="3931"/>
                  <a:pt x="10428" y="3931"/>
                  <a:pt x="10422" y="3925"/>
                </a:cubicBezTo>
                <a:cubicBezTo>
                  <a:pt x="10422" y="3925"/>
                  <a:pt x="10416" y="3925"/>
                  <a:pt x="10411" y="3925"/>
                </a:cubicBezTo>
                <a:cubicBezTo>
                  <a:pt x="10404" y="3919"/>
                  <a:pt x="10404" y="3925"/>
                  <a:pt x="10399" y="3925"/>
                </a:cubicBezTo>
                <a:cubicBezTo>
                  <a:pt x="10393" y="3919"/>
                  <a:pt x="10393" y="3919"/>
                  <a:pt x="10387" y="3913"/>
                </a:cubicBezTo>
                <a:cubicBezTo>
                  <a:pt x="10387" y="3907"/>
                  <a:pt x="10375" y="3907"/>
                  <a:pt x="10375" y="3901"/>
                </a:cubicBezTo>
                <a:cubicBezTo>
                  <a:pt x="10375" y="3901"/>
                  <a:pt x="10375" y="3895"/>
                  <a:pt x="10375" y="3889"/>
                </a:cubicBezTo>
                <a:cubicBezTo>
                  <a:pt x="10375" y="3884"/>
                  <a:pt x="10375" y="3884"/>
                  <a:pt x="10375" y="3884"/>
                </a:cubicBezTo>
                <a:cubicBezTo>
                  <a:pt x="10375" y="3878"/>
                  <a:pt x="10381" y="3872"/>
                  <a:pt x="10387" y="3872"/>
                </a:cubicBezTo>
                <a:cubicBezTo>
                  <a:pt x="10399" y="3878"/>
                  <a:pt x="10399" y="3878"/>
                  <a:pt x="10399" y="3878"/>
                </a:cubicBezTo>
                <a:cubicBezTo>
                  <a:pt x="10399" y="3878"/>
                  <a:pt x="10404" y="3884"/>
                  <a:pt x="10411" y="3884"/>
                </a:cubicBezTo>
                <a:cubicBezTo>
                  <a:pt x="10411" y="3884"/>
                  <a:pt x="10416" y="3889"/>
                  <a:pt x="10422" y="3889"/>
                </a:cubicBezTo>
                <a:cubicBezTo>
                  <a:pt x="10428" y="3895"/>
                  <a:pt x="10434" y="3889"/>
                  <a:pt x="10440" y="3889"/>
                </a:cubicBezTo>
                <a:cubicBezTo>
                  <a:pt x="10452" y="3889"/>
                  <a:pt x="10452" y="3889"/>
                  <a:pt x="10452" y="3889"/>
                </a:cubicBezTo>
                <a:cubicBezTo>
                  <a:pt x="10464" y="3889"/>
                  <a:pt x="10464" y="3889"/>
                  <a:pt x="10464" y="3889"/>
                </a:cubicBezTo>
                <a:cubicBezTo>
                  <a:pt x="10470" y="3889"/>
                  <a:pt x="10470" y="3884"/>
                  <a:pt x="10476" y="3884"/>
                </a:cubicBezTo>
                <a:cubicBezTo>
                  <a:pt x="10470" y="3878"/>
                  <a:pt x="10470" y="3878"/>
                  <a:pt x="10470" y="3872"/>
                </a:cubicBezTo>
                <a:cubicBezTo>
                  <a:pt x="10464" y="3872"/>
                  <a:pt x="10458" y="3872"/>
                  <a:pt x="10458" y="3872"/>
                </a:cubicBezTo>
                <a:cubicBezTo>
                  <a:pt x="10458" y="3866"/>
                  <a:pt x="10464" y="3860"/>
                  <a:pt x="10464" y="3860"/>
                </a:cubicBezTo>
                <a:cubicBezTo>
                  <a:pt x="10470" y="3854"/>
                  <a:pt x="10470" y="3848"/>
                  <a:pt x="10476" y="3848"/>
                </a:cubicBezTo>
                <a:cubicBezTo>
                  <a:pt x="10488" y="3842"/>
                  <a:pt x="10493" y="3848"/>
                  <a:pt x="10499" y="3848"/>
                </a:cubicBezTo>
                <a:cubicBezTo>
                  <a:pt x="10511" y="3848"/>
                  <a:pt x="10517" y="3842"/>
                  <a:pt x="10529" y="3848"/>
                </a:cubicBezTo>
                <a:cubicBezTo>
                  <a:pt x="10529" y="3848"/>
                  <a:pt x="10535" y="3848"/>
                  <a:pt x="10541" y="3848"/>
                </a:cubicBezTo>
                <a:cubicBezTo>
                  <a:pt x="10541" y="3848"/>
                  <a:pt x="10547" y="3854"/>
                  <a:pt x="10553" y="3854"/>
                </a:cubicBezTo>
                <a:cubicBezTo>
                  <a:pt x="10559" y="3860"/>
                  <a:pt x="10559" y="3866"/>
                  <a:pt x="10565" y="3866"/>
                </a:cubicBezTo>
                <a:cubicBezTo>
                  <a:pt x="10565" y="3866"/>
                  <a:pt x="10570" y="3866"/>
                  <a:pt x="10577" y="3866"/>
                </a:cubicBezTo>
                <a:cubicBezTo>
                  <a:pt x="10577" y="3866"/>
                  <a:pt x="10582" y="3866"/>
                  <a:pt x="10582" y="3872"/>
                </a:cubicBezTo>
                <a:cubicBezTo>
                  <a:pt x="10588" y="3872"/>
                  <a:pt x="10588" y="3878"/>
                  <a:pt x="10588" y="3884"/>
                </a:cubicBezTo>
                <a:lnTo>
                  <a:pt x="10588" y="3889"/>
                </a:lnTo>
                <a:cubicBezTo>
                  <a:pt x="10588" y="3895"/>
                  <a:pt x="10594" y="3895"/>
                  <a:pt x="10600" y="3895"/>
                </a:cubicBezTo>
                <a:cubicBezTo>
                  <a:pt x="10606" y="3895"/>
                  <a:pt x="10606" y="3901"/>
                  <a:pt x="10612" y="3901"/>
                </a:cubicBezTo>
                <a:cubicBezTo>
                  <a:pt x="10606" y="3913"/>
                  <a:pt x="10606" y="3913"/>
                  <a:pt x="10606" y="3913"/>
                </a:cubicBezTo>
                <a:cubicBezTo>
                  <a:pt x="10606" y="3919"/>
                  <a:pt x="10600" y="3913"/>
                  <a:pt x="10594" y="3919"/>
                </a:cubicBezTo>
                <a:cubicBezTo>
                  <a:pt x="10594" y="3919"/>
                  <a:pt x="10582" y="3925"/>
                  <a:pt x="10582" y="3931"/>
                </a:cubicBezTo>
                <a:cubicBezTo>
                  <a:pt x="10582" y="3943"/>
                  <a:pt x="10588" y="3949"/>
                  <a:pt x="10594" y="3961"/>
                </a:cubicBezTo>
                <a:cubicBezTo>
                  <a:pt x="10606" y="3967"/>
                  <a:pt x="10612" y="3961"/>
                  <a:pt x="10618" y="3967"/>
                </a:cubicBezTo>
                <a:cubicBezTo>
                  <a:pt x="10630" y="3978"/>
                  <a:pt x="10630" y="3990"/>
                  <a:pt x="10630" y="4002"/>
                </a:cubicBezTo>
                <a:cubicBezTo>
                  <a:pt x="10630" y="4002"/>
                  <a:pt x="10624" y="4002"/>
                  <a:pt x="10624" y="4008"/>
                </a:cubicBezTo>
                <a:cubicBezTo>
                  <a:pt x="10624" y="4008"/>
                  <a:pt x="10630" y="4014"/>
                  <a:pt x="10630" y="4020"/>
                </a:cubicBezTo>
                <a:cubicBezTo>
                  <a:pt x="10630" y="4020"/>
                  <a:pt x="10624" y="4026"/>
                  <a:pt x="10624" y="4032"/>
                </a:cubicBezTo>
                <a:cubicBezTo>
                  <a:pt x="10624" y="4038"/>
                  <a:pt x="10624" y="4038"/>
                  <a:pt x="10624" y="4038"/>
                </a:cubicBezTo>
                <a:cubicBezTo>
                  <a:pt x="10624" y="4044"/>
                  <a:pt x="10630" y="4044"/>
                  <a:pt x="10630" y="4050"/>
                </a:cubicBezTo>
                <a:cubicBezTo>
                  <a:pt x="10630" y="4055"/>
                  <a:pt x="10636" y="4055"/>
                  <a:pt x="10636" y="4062"/>
                </a:cubicBezTo>
                <a:cubicBezTo>
                  <a:pt x="10642" y="4062"/>
                  <a:pt x="10642" y="4067"/>
                  <a:pt x="10642" y="4067"/>
                </a:cubicBezTo>
                <a:cubicBezTo>
                  <a:pt x="10642" y="4073"/>
                  <a:pt x="10642" y="4073"/>
                  <a:pt x="10648" y="4073"/>
                </a:cubicBezTo>
                <a:cubicBezTo>
                  <a:pt x="10648" y="4073"/>
                  <a:pt x="10648" y="4073"/>
                  <a:pt x="10654" y="4079"/>
                </a:cubicBezTo>
                <a:cubicBezTo>
                  <a:pt x="10654" y="4079"/>
                  <a:pt x="10654" y="4079"/>
                  <a:pt x="10654" y="4085"/>
                </a:cubicBezTo>
                <a:cubicBezTo>
                  <a:pt x="10659" y="4085"/>
                  <a:pt x="10659" y="4085"/>
                  <a:pt x="10665" y="4091"/>
                </a:cubicBezTo>
                <a:cubicBezTo>
                  <a:pt x="10665" y="4091"/>
                  <a:pt x="10665" y="4091"/>
                  <a:pt x="10671" y="4091"/>
                </a:cubicBezTo>
                <a:cubicBezTo>
                  <a:pt x="10671" y="4097"/>
                  <a:pt x="10677" y="4097"/>
                  <a:pt x="10677" y="4103"/>
                </a:cubicBezTo>
                <a:cubicBezTo>
                  <a:pt x="10677" y="4103"/>
                  <a:pt x="10677" y="4109"/>
                  <a:pt x="10671" y="4109"/>
                </a:cubicBezTo>
                <a:cubicBezTo>
                  <a:pt x="10671" y="4115"/>
                  <a:pt x="10671" y="4115"/>
                  <a:pt x="10665" y="4115"/>
                </a:cubicBezTo>
                <a:cubicBezTo>
                  <a:pt x="10665" y="4121"/>
                  <a:pt x="10665" y="4121"/>
                  <a:pt x="10665" y="4121"/>
                </a:cubicBezTo>
                <a:cubicBezTo>
                  <a:pt x="10665" y="4127"/>
                  <a:pt x="10665" y="4127"/>
                  <a:pt x="10659" y="4133"/>
                </a:cubicBezTo>
                <a:lnTo>
                  <a:pt x="10659" y="4139"/>
                </a:lnTo>
                <a:cubicBezTo>
                  <a:pt x="10659" y="4150"/>
                  <a:pt x="10659" y="4150"/>
                  <a:pt x="10665" y="4156"/>
                </a:cubicBezTo>
                <a:cubicBezTo>
                  <a:pt x="10665" y="4162"/>
                  <a:pt x="10665" y="4162"/>
                  <a:pt x="10665" y="4162"/>
                </a:cubicBezTo>
                <a:cubicBezTo>
                  <a:pt x="10665" y="4168"/>
                  <a:pt x="10671" y="4168"/>
                  <a:pt x="10671" y="4168"/>
                </a:cubicBezTo>
                <a:cubicBezTo>
                  <a:pt x="10677" y="4168"/>
                  <a:pt x="10677" y="4174"/>
                  <a:pt x="10677" y="4174"/>
                </a:cubicBezTo>
                <a:cubicBezTo>
                  <a:pt x="10683" y="4174"/>
                  <a:pt x="10689" y="4168"/>
                  <a:pt x="10689" y="4162"/>
                </a:cubicBezTo>
                <a:cubicBezTo>
                  <a:pt x="10689" y="4156"/>
                  <a:pt x="10689" y="4156"/>
                  <a:pt x="10689" y="4156"/>
                </a:cubicBezTo>
                <a:cubicBezTo>
                  <a:pt x="10689" y="4150"/>
                  <a:pt x="10695" y="4150"/>
                  <a:pt x="10695" y="4144"/>
                </a:cubicBezTo>
                <a:cubicBezTo>
                  <a:pt x="10695" y="4144"/>
                  <a:pt x="10695" y="4144"/>
                  <a:pt x="10695" y="4139"/>
                </a:cubicBezTo>
                <a:cubicBezTo>
                  <a:pt x="10695" y="4133"/>
                  <a:pt x="10695" y="4133"/>
                  <a:pt x="10695" y="4121"/>
                </a:cubicBezTo>
                <a:cubicBezTo>
                  <a:pt x="10695" y="4121"/>
                  <a:pt x="10695" y="4121"/>
                  <a:pt x="10695" y="4115"/>
                </a:cubicBezTo>
                <a:cubicBezTo>
                  <a:pt x="10695" y="4109"/>
                  <a:pt x="10695" y="4109"/>
                  <a:pt x="10695" y="4103"/>
                </a:cubicBezTo>
                <a:cubicBezTo>
                  <a:pt x="10707" y="4103"/>
                  <a:pt x="10707" y="4103"/>
                  <a:pt x="10707" y="4103"/>
                </a:cubicBezTo>
                <a:cubicBezTo>
                  <a:pt x="10707" y="4103"/>
                  <a:pt x="10707" y="4103"/>
                  <a:pt x="10713" y="4103"/>
                </a:cubicBezTo>
                <a:cubicBezTo>
                  <a:pt x="10713" y="4103"/>
                  <a:pt x="10713" y="4103"/>
                  <a:pt x="10719" y="4109"/>
                </a:cubicBezTo>
                <a:lnTo>
                  <a:pt x="10719" y="4109"/>
                </a:lnTo>
                <a:cubicBezTo>
                  <a:pt x="10725" y="4115"/>
                  <a:pt x="10725" y="4115"/>
                  <a:pt x="10725" y="4115"/>
                </a:cubicBezTo>
                <a:cubicBezTo>
                  <a:pt x="10731" y="4121"/>
                  <a:pt x="10736" y="4121"/>
                  <a:pt x="10736" y="4127"/>
                </a:cubicBezTo>
                <a:cubicBezTo>
                  <a:pt x="10743" y="4133"/>
                  <a:pt x="10743" y="4133"/>
                  <a:pt x="10743" y="4133"/>
                </a:cubicBezTo>
                <a:cubicBezTo>
                  <a:pt x="10748" y="4139"/>
                  <a:pt x="10748" y="4139"/>
                  <a:pt x="10748" y="4139"/>
                </a:cubicBezTo>
                <a:cubicBezTo>
                  <a:pt x="10754" y="4144"/>
                  <a:pt x="10754" y="4144"/>
                  <a:pt x="10754" y="4144"/>
                </a:cubicBezTo>
                <a:lnTo>
                  <a:pt x="10760" y="4150"/>
                </a:lnTo>
                <a:lnTo>
                  <a:pt x="10766" y="4150"/>
                </a:lnTo>
                <a:cubicBezTo>
                  <a:pt x="10772" y="4150"/>
                  <a:pt x="10772" y="4150"/>
                  <a:pt x="10778" y="4150"/>
                </a:cubicBezTo>
                <a:cubicBezTo>
                  <a:pt x="10784" y="4150"/>
                  <a:pt x="10784" y="4150"/>
                  <a:pt x="10790" y="4150"/>
                </a:cubicBezTo>
                <a:cubicBezTo>
                  <a:pt x="10790" y="4150"/>
                  <a:pt x="10790" y="4156"/>
                  <a:pt x="10796" y="4156"/>
                </a:cubicBezTo>
                <a:cubicBezTo>
                  <a:pt x="10802" y="4156"/>
                  <a:pt x="10802" y="4156"/>
                  <a:pt x="10808" y="4156"/>
                </a:cubicBezTo>
                <a:lnTo>
                  <a:pt x="10814" y="4156"/>
                </a:lnTo>
                <a:cubicBezTo>
                  <a:pt x="10814" y="4156"/>
                  <a:pt x="10820" y="4156"/>
                  <a:pt x="10820" y="4150"/>
                </a:cubicBezTo>
                <a:lnTo>
                  <a:pt x="10825" y="4150"/>
                </a:lnTo>
                <a:cubicBezTo>
                  <a:pt x="10825" y="4144"/>
                  <a:pt x="10825" y="4144"/>
                  <a:pt x="10825" y="4144"/>
                </a:cubicBezTo>
                <a:cubicBezTo>
                  <a:pt x="10825" y="4139"/>
                  <a:pt x="10825" y="4139"/>
                  <a:pt x="10825" y="4139"/>
                </a:cubicBezTo>
                <a:cubicBezTo>
                  <a:pt x="10825" y="4133"/>
                  <a:pt x="10820" y="4127"/>
                  <a:pt x="10820" y="4121"/>
                </a:cubicBezTo>
                <a:cubicBezTo>
                  <a:pt x="10820" y="4121"/>
                  <a:pt x="10820" y="4115"/>
                  <a:pt x="10825" y="4115"/>
                </a:cubicBezTo>
                <a:cubicBezTo>
                  <a:pt x="10825" y="4109"/>
                  <a:pt x="10825" y="4109"/>
                  <a:pt x="10831" y="4109"/>
                </a:cubicBezTo>
                <a:cubicBezTo>
                  <a:pt x="10831" y="4103"/>
                  <a:pt x="10831" y="4103"/>
                  <a:pt x="10831" y="4103"/>
                </a:cubicBezTo>
                <a:cubicBezTo>
                  <a:pt x="10831" y="4103"/>
                  <a:pt x="10837" y="4097"/>
                  <a:pt x="10843" y="4097"/>
                </a:cubicBezTo>
                <a:cubicBezTo>
                  <a:pt x="10843" y="4091"/>
                  <a:pt x="10849" y="4097"/>
                  <a:pt x="10855" y="4097"/>
                </a:cubicBezTo>
                <a:cubicBezTo>
                  <a:pt x="10861" y="4097"/>
                  <a:pt x="10867" y="4091"/>
                  <a:pt x="10873" y="4097"/>
                </a:cubicBezTo>
                <a:cubicBezTo>
                  <a:pt x="10873" y="4097"/>
                  <a:pt x="10873" y="4103"/>
                  <a:pt x="10879" y="4103"/>
                </a:cubicBezTo>
                <a:cubicBezTo>
                  <a:pt x="10879" y="4103"/>
                  <a:pt x="10885" y="4109"/>
                  <a:pt x="10885" y="4115"/>
                </a:cubicBezTo>
                <a:cubicBezTo>
                  <a:pt x="10891" y="4115"/>
                  <a:pt x="10891" y="4115"/>
                  <a:pt x="10891" y="4115"/>
                </a:cubicBezTo>
                <a:cubicBezTo>
                  <a:pt x="10897" y="4121"/>
                  <a:pt x="10903" y="4127"/>
                  <a:pt x="10903" y="4127"/>
                </a:cubicBezTo>
                <a:cubicBezTo>
                  <a:pt x="10909" y="4133"/>
                  <a:pt x="10909" y="4133"/>
                  <a:pt x="10914" y="4133"/>
                </a:cubicBezTo>
                <a:cubicBezTo>
                  <a:pt x="10914" y="4133"/>
                  <a:pt x="10914" y="4139"/>
                  <a:pt x="10920" y="4139"/>
                </a:cubicBezTo>
                <a:cubicBezTo>
                  <a:pt x="10920" y="4139"/>
                  <a:pt x="10920" y="4144"/>
                  <a:pt x="10926" y="4144"/>
                </a:cubicBezTo>
                <a:lnTo>
                  <a:pt x="10926" y="4144"/>
                </a:lnTo>
                <a:cubicBezTo>
                  <a:pt x="10932" y="4144"/>
                  <a:pt x="10932" y="4150"/>
                  <a:pt x="10938" y="4150"/>
                </a:cubicBezTo>
                <a:cubicBezTo>
                  <a:pt x="11015" y="4150"/>
                  <a:pt x="11015" y="4150"/>
                  <a:pt x="11015" y="4150"/>
                </a:cubicBezTo>
                <a:cubicBezTo>
                  <a:pt x="11015" y="4139"/>
                  <a:pt x="11015" y="4133"/>
                  <a:pt x="11015" y="4127"/>
                </a:cubicBezTo>
                <a:cubicBezTo>
                  <a:pt x="11015" y="4121"/>
                  <a:pt x="11015" y="4121"/>
                  <a:pt x="11015" y="4121"/>
                </a:cubicBezTo>
                <a:cubicBezTo>
                  <a:pt x="11015" y="4115"/>
                  <a:pt x="11009" y="4115"/>
                  <a:pt x="11009" y="4109"/>
                </a:cubicBezTo>
                <a:cubicBezTo>
                  <a:pt x="11009" y="4109"/>
                  <a:pt x="11015" y="4103"/>
                  <a:pt x="11015" y="4097"/>
                </a:cubicBezTo>
                <a:lnTo>
                  <a:pt x="11021" y="4103"/>
                </a:lnTo>
                <a:cubicBezTo>
                  <a:pt x="11027" y="4103"/>
                  <a:pt x="11027" y="4097"/>
                  <a:pt x="11027" y="4097"/>
                </a:cubicBezTo>
                <a:cubicBezTo>
                  <a:pt x="11033" y="4097"/>
                  <a:pt x="11033" y="4097"/>
                  <a:pt x="11033" y="4097"/>
                </a:cubicBezTo>
                <a:cubicBezTo>
                  <a:pt x="11039" y="4097"/>
                  <a:pt x="11039" y="4097"/>
                  <a:pt x="11045" y="4097"/>
                </a:cubicBezTo>
                <a:cubicBezTo>
                  <a:pt x="11051" y="4097"/>
                  <a:pt x="11057" y="4097"/>
                  <a:pt x="11063" y="4103"/>
                </a:cubicBezTo>
                <a:cubicBezTo>
                  <a:pt x="11069" y="4103"/>
                  <a:pt x="11069" y="4109"/>
                  <a:pt x="11075" y="4115"/>
                </a:cubicBezTo>
                <a:cubicBezTo>
                  <a:pt x="11075" y="4115"/>
                  <a:pt x="11075" y="4115"/>
                  <a:pt x="11080" y="4115"/>
                </a:cubicBezTo>
                <a:cubicBezTo>
                  <a:pt x="11080" y="4115"/>
                  <a:pt x="11086" y="4115"/>
                  <a:pt x="11092" y="4115"/>
                </a:cubicBezTo>
                <a:cubicBezTo>
                  <a:pt x="11092" y="4115"/>
                  <a:pt x="11092" y="4121"/>
                  <a:pt x="11098" y="4115"/>
                </a:cubicBezTo>
                <a:cubicBezTo>
                  <a:pt x="11098" y="4115"/>
                  <a:pt x="11098" y="4115"/>
                  <a:pt x="11104" y="4115"/>
                </a:cubicBezTo>
                <a:lnTo>
                  <a:pt x="11104" y="4109"/>
                </a:lnTo>
                <a:cubicBezTo>
                  <a:pt x="11104" y="4109"/>
                  <a:pt x="11110" y="4109"/>
                  <a:pt x="11110" y="4103"/>
                </a:cubicBezTo>
                <a:cubicBezTo>
                  <a:pt x="11110" y="4103"/>
                  <a:pt x="11116" y="4103"/>
                  <a:pt x="11116" y="4109"/>
                </a:cubicBezTo>
                <a:cubicBezTo>
                  <a:pt x="11116" y="4109"/>
                  <a:pt x="11116" y="4115"/>
                  <a:pt x="11122" y="4115"/>
                </a:cubicBezTo>
                <a:cubicBezTo>
                  <a:pt x="11122" y="4121"/>
                  <a:pt x="11122" y="4121"/>
                  <a:pt x="11128" y="4121"/>
                </a:cubicBezTo>
                <a:lnTo>
                  <a:pt x="11128" y="4127"/>
                </a:lnTo>
                <a:cubicBezTo>
                  <a:pt x="11128" y="4133"/>
                  <a:pt x="11128" y="4133"/>
                  <a:pt x="11128" y="4139"/>
                </a:cubicBezTo>
                <a:cubicBezTo>
                  <a:pt x="11128" y="4144"/>
                  <a:pt x="11128" y="4150"/>
                  <a:pt x="11128" y="4156"/>
                </a:cubicBezTo>
                <a:lnTo>
                  <a:pt x="11122" y="4162"/>
                </a:lnTo>
                <a:cubicBezTo>
                  <a:pt x="11116" y="4168"/>
                  <a:pt x="11116" y="4174"/>
                  <a:pt x="11116" y="4180"/>
                </a:cubicBezTo>
                <a:cubicBezTo>
                  <a:pt x="11116" y="4186"/>
                  <a:pt x="11110" y="4192"/>
                  <a:pt x="11110" y="4204"/>
                </a:cubicBezTo>
                <a:lnTo>
                  <a:pt x="11110" y="4210"/>
                </a:lnTo>
                <a:cubicBezTo>
                  <a:pt x="11110" y="4216"/>
                  <a:pt x="11116" y="4216"/>
                  <a:pt x="11116" y="4221"/>
                </a:cubicBezTo>
                <a:cubicBezTo>
                  <a:pt x="11116" y="4221"/>
                  <a:pt x="11116" y="4221"/>
                  <a:pt x="11116" y="4228"/>
                </a:cubicBezTo>
                <a:cubicBezTo>
                  <a:pt x="11116" y="4228"/>
                  <a:pt x="11116" y="4228"/>
                  <a:pt x="11116" y="4233"/>
                </a:cubicBezTo>
                <a:cubicBezTo>
                  <a:pt x="11122" y="4233"/>
                  <a:pt x="11122" y="4239"/>
                  <a:pt x="11122" y="4239"/>
                </a:cubicBezTo>
                <a:cubicBezTo>
                  <a:pt x="11128" y="4245"/>
                  <a:pt x="11128" y="4245"/>
                  <a:pt x="11128" y="4251"/>
                </a:cubicBezTo>
                <a:cubicBezTo>
                  <a:pt x="11128" y="4251"/>
                  <a:pt x="11128" y="4257"/>
                  <a:pt x="11122" y="4257"/>
                </a:cubicBezTo>
                <a:cubicBezTo>
                  <a:pt x="11122" y="4263"/>
                  <a:pt x="11122" y="4263"/>
                  <a:pt x="11116" y="4263"/>
                </a:cubicBezTo>
                <a:cubicBezTo>
                  <a:pt x="11116" y="4269"/>
                  <a:pt x="11116" y="4269"/>
                  <a:pt x="11116" y="4269"/>
                </a:cubicBezTo>
                <a:cubicBezTo>
                  <a:pt x="11110" y="4269"/>
                  <a:pt x="11110" y="4275"/>
                  <a:pt x="11110" y="4275"/>
                </a:cubicBezTo>
                <a:cubicBezTo>
                  <a:pt x="11110" y="4281"/>
                  <a:pt x="11110" y="4281"/>
                  <a:pt x="11110" y="4287"/>
                </a:cubicBezTo>
                <a:lnTo>
                  <a:pt x="11110" y="4293"/>
                </a:lnTo>
                <a:cubicBezTo>
                  <a:pt x="11104" y="4299"/>
                  <a:pt x="11104" y="4299"/>
                  <a:pt x="11104" y="4299"/>
                </a:cubicBezTo>
                <a:cubicBezTo>
                  <a:pt x="11098" y="4305"/>
                  <a:pt x="11098" y="4310"/>
                  <a:pt x="11092" y="4316"/>
                </a:cubicBezTo>
                <a:cubicBezTo>
                  <a:pt x="11092" y="4316"/>
                  <a:pt x="11092" y="4322"/>
                  <a:pt x="11086" y="4328"/>
                </a:cubicBezTo>
                <a:cubicBezTo>
                  <a:pt x="11086" y="4328"/>
                  <a:pt x="11080" y="4334"/>
                  <a:pt x="11075" y="4334"/>
                </a:cubicBezTo>
                <a:lnTo>
                  <a:pt x="11069" y="4340"/>
                </a:lnTo>
                <a:lnTo>
                  <a:pt x="11063" y="4340"/>
                </a:lnTo>
                <a:cubicBezTo>
                  <a:pt x="11063" y="4346"/>
                  <a:pt x="11057" y="4346"/>
                  <a:pt x="11057" y="4346"/>
                </a:cubicBezTo>
                <a:cubicBezTo>
                  <a:pt x="11057" y="4352"/>
                  <a:pt x="11057" y="4352"/>
                  <a:pt x="11057" y="4352"/>
                </a:cubicBezTo>
                <a:cubicBezTo>
                  <a:pt x="11057" y="4358"/>
                  <a:pt x="11057" y="4364"/>
                  <a:pt x="11057" y="4364"/>
                </a:cubicBezTo>
                <a:cubicBezTo>
                  <a:pt x="11051" y="4376"/>
                  <a:pt x="11051" y="4382"/>
                  <a:pt x="11045" y="4394"/>
                </a:cubicBezTo>
                <a:cubicBezTo>
                  <a:pt x="11045" y="4399"/>
                  <a:pt x="11045" y="4405"/>
                  <a:pt x="11039" y="4411"/>
                </a:cubicBezTo>
                <a:cubicBezTo>
                  <a:pt x="11039" y="4417"/>
                  <a:pt x="11033" y="4417"/>
                  <a:pt x="11033" y="4423"/>
                </a:cubicBezTo>
                <a:cubicBezTo>
                  <a:pt x="11027" y="4423"/>
                  <a:pt x="11027" y="4423"/>
                  <a:pt x="11027" y="4429"/>
                </a:cubicBezTo>
                <a:cubicBezTo>
                  <a:pt x="11021" y="4429"/>
                  <a:pt x="11021" y="4429"/>
                  <a:pt x="11021" y="4435"/>
                </a:cubicBezTo>
                <a:cubicBezTo>
                  <a:pt x="11015" y="4435"/>
                  <a:pt x="11015" y="4435"/>
                  <a:pt x="11015" y="4435"/>
                </a:cubicBezTo>
                <a:cubicBezTo>
                  <a:pt x="11009" y="4435"/>
                  <a:pt x="11009" y="4435"/>
                  <a:pt x="11009" y="4435"/>
                </a:cubicBezTo>
                <a:cubicBezTo>
                  <a:pt x="11003" y="4435"/>
                  <a:pt x="10997" y="4435"/>
                  <a:pt x="10997" y="4435"/>
                </a:cubicBezTo>
                <a:cubicBezTo>
                  <a:pt x="10991" y="4441"/>
                  <a:pt x="10986" y="4441"/>
                  <a:pt x="10986" y="4441"/>
                </a:cubicBezTo>
                <a:cubicBezTo>
                  <a:pt x="10980" y="4441"/>
                  <a:pt x="10980" y="4441"/>
                  <a:pt x="10980" y="4441"/>
                </a:cubicBezTo>
                <a:cubicBezTo>
                  <a:pt x="10974" y="4441"/>
                  <a:pt x="10974" y="4441"/>
                  <a:pt x="10968" y="4441"/>
                </a:cubicBezTo>
                <a:cubicBezTo>
                  <a:pt x="10968" y="4441"/>
                  <a:pt x="10968" y="4447"/>
                  <a:pt x="10962" y="4447"/>
                </a:cubicBezTo>
                <a:lnTo>
                  <a:pt x="10962" y="4447"/>
                </a:lnTo>
                <a:cubicBezTo>
                  <a:pt x="10956" y="4447"/>
                  <a:pt x="10956" y="4453"/>
                  <a:pt x="10950" y="4453"/>
                </a:cubicBezTo>
                <a:lnTo>
                  <a:pt x="10944" y="4453"/>
                </a:lnTo>
                <a:cubicBezTo>
                  <a:pt x="10938" y="4453"/>
                  <a:pt x="10938" y="4447"/>
                  <a:pt x="10938" y="4447"/>
                </a:cubicBezTo>
                <a:cubicBezTo>
                  <a:pt x="10932" y="4441"/>
                  <a:pt x="10932" y="4441"/>
                  <a:pt x="10926" y="4435"/>
                </a:cubicBezTo>
                <a:cubicBezTo>
                  <a:pt x="10920" y="4435"/>
                  <a:pt x="10920" y="4435"/>
                  <a:pt x="10920" y="4435"/>
                </a:cubicBezTo>
                <a:cubicBezTo>
                  <a:pt x="10914" y="4435"/>
                  <a:pt x="10914" y="4435"/>
                  <a:pt x="10909" y="4435"/>
                </a:cubicBezTo>
                <a:cubicBezTo>
                  <a:pt x="10903" y="4435"/>
                  <a:pt x="10903" y="4435"/>
                  <a:pt x="10897" y="4435"/>
                </a:cubicBezTo>
                <a:cubicBezTo>
                  <a:pt x="10897" y="4435"/>
                  <a:pt x="10897" y="4435"/>
                  <a:pt x="10891" y="4435"/>
                </a:cubicBezTo>
                <a:cubicBezTo>
                  <a:pt x="10885" y="4435"/>
                  <a:pt x="10879" y="4435"/>
                  <a:pt x="10879" y="4435"/>
                </a:cubicBezTo>
                <a:cubicBezTo>
                  <a:pt x="10873" y="4435"/>
                  <a:pt x="10873" y="4429"/>
                  <a:pt x="10867" y="4429"/>
                </a:cubicBezTo>
                <a:cubicBezTo>
                  <a:pt x="10861" y="4429"/>
                  <a:pt x="10861" y="4429"/>
                  <a:pt x="10861" y="4429"/>
                </a:cubicBezTo>
                <a:cubicBezTo>
                  <a:pt x="10861" y="4429"/>
                  <a:pt x="10861" y="4429"/>
                  <a:pt x="10855" y="4429"/>
                </a:cubicBezTo>
                <a:lnTo>
                  <a:pt x="10849" y="4435"/>
                </a:lnTo>
                <a:cubicBezTo>
                  <a:pt x="10855" y="4435"/>
                  <a:pt x="10855" y="4441"/>
                  <a:pt x="10861" y="4441"/>
                </a:cubicBezTo>
                <a:cubicBezTo>
                  <a:pt x="10867" y="4441"/>
                  <a:pt x="10873" y="4447"/>
                  <a:pt x="10879" y="4447"/>
                </a:cubicBezTo>
                <a:cubicBezTo>
                  <a:pt x="10885" y="4447"/>
                  <a:pt x="10891" y="4447"/>
                  <a:pt x="10897" y="4453"/>
                </a:cubicBezTo>
                <a:cubicBezTo>
                  <a:pt x="10903" y="4453"/>
                  <a:pt x="10909" y="4453"/>
                  <a:pt x="10909" y="4453"/>
                </a:cubicBezTo>
                <a:cubicBezTo>
                  <a:pt x="10909" y="4465"/>
                  <a:pt x="10909" y="4465"/>
                  <a:pt x="10909" y="4465"/>
                </a:cubicBezTo>
                <a:cubicBezTo>
                  <a:pt x="10909" y="4471"/>
                  <a:pt x="10909" y="4471"/>
                  <a:pt x="10909" y="4471"/>
                </a:cubicBezTo>
                <a:cubicBezTo>
                  <a:pt x="10909" y="4476"/>
                  <a:pt x="10914" y="4476"/>
                  <a:pt x="10920" y="4482"/>
                </a:cubicBezTo>
                <a:cubicBezTo>
                  <a:pt x="10920" y="4482"/>
                  <a:pt x="10920" y="4482"/>
                  <a:pt x="10920" y="4488"/>
                </a:cubicBezTo>
                <a:cubicBezTo>
                  <a:pt x="10926" y="4488"/>
                  <a:pt x="10926" y="4494"/>
                  <a:pt x="10926" y="4494"/>
                </a:cubicBezTo>
                <a:cubicBezTo>
                  <a:pt x="10926" y="4500"/>
                  <a:pt x="10920" y="4500"/>
                  <a:pt x="10920" y="4500"/>
                </a:cubicBezTo>
                <a:cubicBezTo>
                  <a:pt x="10920" y="4506"/>
                  <a:pt x="10926" y="4506"/>
                  <a:pt x="10926" y="4506"/>
                </a:cubicBezTo>
                <a:cubicBezTo>
                  <a:pt x="10926" y="4512"/>
                  <a:pt x="10920" y="4512"/>
                  <a:pt x="10920" y="4512"/>
                </a:cubicBezTo>
                <a:cubicBezTo>
                  <a:pt x="10920" y="4524"/>
                  <a:pt x="10920" y="4530"/>
                  <a:pt x="10920" y="4536"/>
                </a:cubicBezTo>
                <a:cubicBezTo>
                  <a:pt x="10920" y="4536"/>
                  <a:pt x="10926" y="4548"/>
                  <a:pt x="10932" y="4548"/>
                </a:cubicBezTo>
                <a:cubicBezTo>
                  <a:pt x="10938" y="4554"/>
                  <a:pt x="10944" y="4560"/>
                  <a:pt x="10950" y="4571"/>
                </a:cubicBezTo>
                <a:lnTo>
                  <a:pt x="10956" y="4577"/>
                </a:lnTo>
                <a:cubicBezTo>
                  <a:pt x="10962" y="4589"/>
                  <a:pt x="10962" y="4589"/>
                  <a:pt x="10962" y="4589"/>
                </a:cubicBezTo>
                <a:cubicBezTo>
                  <a:pt x="10962" y="4595"/>
                  <a:pt x="10968" y="4601"/>
                  <a:pt x="10968" y="4601"/>
                </a:cubicBezTo>
                <a:cubicBezTo>
                  <a:pt x="10974" y="4607"/>
                  <a:pt x="10974" y="4613"/>
                  <a:pt x="10980" y="4613"/>
                </a:cubicBezTo>
                <a:cubicBezTo>
                  <a:pt x="10980" y="4619"/>
                  <a:pt x="10986" y="4625"/>
                  <a:pt x="10991" y="4625"/>
                </a:cubicBezTo>
                <a:cubicBezTo>
                  <a:pt x="10997" y="4625"/>
                  <a:pt x="10997" y="4631"/>
                  <a:pt x="11003" y="4631"/>
                </a:cubicBezTo>
                <a:cubicBezTo>
                  <a:pt x="11015" y="4631"/>
                  <a:pt x="11015" y="4631"/>
                  <a:pt x="11015" y="4631"/>
                </a:cubicBezTo>
                <a:cubicBezTo>
                  <a:pt x="11021" y="4631"/>
                  <a:pt x="11021" y="4631"/>
                  <a:pt x="11027" y="4631"/>
                </a:cubicBezTo>
                <a:cubicBezTo>
                  <a:pt x="11033" y="4631"/>
                  <a:pt x="11039" y="4625"/>
                  <a:pt x="11039" y="4625"/>
                </a:cubicBezTo>
                <a:cubicBezTo>
                  <a:pt x="11039" y="4619"/>
                  <a:pt x="11039" y="4613"/>
                  <a:pt x="11039" y="4613"/>
                </a:cubicBezTo>
                <a:cubicBezTo>
                  <a:pt x="11039" y="4607"/>
                  <a:pt x="11045" y="4607"/>
                  <a:pt x="11051" y="4601"/>
                </a:cubicBezTo>
                <a:cubicBezTo>
                  <a:pt x="11057" y="4613"/>
                  <a:pt x="11057" y="4613"/>
                  <a:pt x="11057" y="4613"/>
                </a:cubicBezTo>
                <a:cubicBezTo>
                  <a:pt x="11063" y="4625"/>
                  <a:pt x="11075" y="4631"/>
                  <a:pt x="11080" y="4648"/>
                </a:cubicBezTo>
                <a:cubicBezTo>
                  <a:pt x="11086" y="4648"/>
                  <a:pt x="11086" y="4654"/>
                  <a:pt x="11086" y="4654"/>
                </a:cubicBezTo>
                <a:cubicBezTo>
                  <a:pt x="11092" y="4660"/>
                  <a:pt x="11092" y="4660"/>
                  <a:pt x="11098" y="4666"/>
                </a:cubicBezTo>
                <a:cubicBezTo>
                  <a:pt x="11104" y="4666"/>
                  <a:pt x="11104" y="4672"/>
                  <a:pt x="11110" y="4672"/>
                </a:cubicBezTo>
                <a:cubicBezTo>
                  <a:pt x="11116" y="4672"/>
                  <a:pt x="11116" y="4678"/>
                  <a:pt x="11116" y="4684"/>
                </a:cubicBezTo>
                <a:cubicBezTo>
                  <a:pt x="11122" y="4690"/>
                  <a:pt x="11122" y="4702"/>
                  <a:pt x="11122" y="4708"/>
                </a:cubicBezTo>
                <a:cubicBezTo>
                  <a:pt x="11122" y="4714"/>
                  <a:pt x="11122" y="4714"/>
                  <a:pt x="11122" y="4720"/>
                </a:cubicBezTo>
                <a:cubicBezTo>
                  <a:pt x="11128" y="4726"/>
                  <a:pt x="11134" y="4726"/>
                  <a:pt x="11134" y="4731"/>
                </a:cubicBezTo>
                <a:cubicBezTo>
                  <a:pt x="11140" y="4743"/>
                  <a:pt x="11146" y="4749"/>
                  <a:pt x="11152" y="4755"/>
                </a:cubicBezTo>
                <a:cubicBezTo>
                  <a:pt x="11158" y="4761"/>
                  <a:pt x="11163" y="4761"/>
                  <a:pt x="11163" y="4767"/>
                </a:cubicBezTo>
                <a:cubicBezTo>
                  <a:pt x="11169" y="4773"/>
                  <a:pt x="11169" y="4779"/>
                  <a:pt x="11169" y="4791"/>
                </a:cubicBezTo>
                <a:cubicBezTo>
                  <a:pt x="11169" y="4797"/>
                  <a:pt x="11169" y="4797"/>
                  <a:pt x="11169" y="4797"/>
                </a:cubicBezTo>
                <a:lnTo>
                  <a:pt x="11163" y="4803"/>
                </a:lnTo>
                <a:cubicBezTo>
                  <a:pt x="11163" y="4820"/>
                  <a:pt x="11163" y="4832"/>
                  <a:pt x="11169" y="4844"/>
                </a:cubicBezTo>
                <a:cubicBezTo>
                  <a:pt x="11175" y="4850"/>
                  <a:pt x="11181" y="4850"/>
                  <a:pt x="11187" y="4850"/>
                </a:cubicBezTo>
                <a:cubicBezTo>
                  <a:pt x="11193" y="4850"/>
                  <a:pt x="11193" y="4856"/>
                  <a:pt x="11199" y="4856"/>
                </a:cubicBezTo>
                <a:cubicBezTo>
                  <a:pt x="11205" y="4856"/>
                  <a:pt x="11205" y="4856"/>
                  <a:pt x="11211" y="4862"/>
                </a:cubicBezTo>
                <a:cubicBezTo>
                  <a:pt x="11217" y="4862"/>
                  <a:pt x="11217" y="4862"/>
                  <a:pt x="11223" y="4868"/>
                </a:cubicBezTo>
                <a:cubicBezTo>
                  <a:pt x="11223" y="4874"/>
                  <a:pt x="11223" y="4874"/>
                  <a:pt x="11229" y="4880"/>
                </a:cubicBezTo>
                <a:cubicBezTo>
                  <a:pt x="11229" y="4886"/>
                  <a:pt x="11229" y="4886"/>
                  <a:pt x="11235" y="4892"/>
                </a:cubicBezTo>
                <a:cubicBezTo>
                  <a:pt x="11241" y="4903"/>
                  <a:pt x="11252" y="4903"/>
                  <a:pt x="11258" y="4915"/>
                </a:cubicBezTo>
                <a:cubicBezTo>
                  <a:pt x="11258" y="4927"/>
                  <a:pt x="11264" y="4933"/>
                  <a:pt x="11270" y="4939"/>
                </a:cubicBezTo>
                <a:cubicBezTo>
                  <a:pt x="11276" y="4963"/>
                  <a:pt x="11276" y="4963"/>
                  <a:pt x="11276" y="4963"/>
                </a:cubicBezTo>
                <a:cubicBezTo>
                  <a:pt x="11282" y="4975"/>
                  <a:pt x="11288" y="4986"/>
                  <a:pt x="11288" y="4998"/>
                </a:cubicBezTo>
                <a:cubicBezTo>
                  <a:pt x="11288" y="5004"/>
                  <a:pt x="11294" y="5004"/>
                  <a:pt x="11288" y="5010"/>
                </a:cubicBezTo>
                <a:cubicBezTo>
                  <a:pt x="11288" y="5016"/>
                  <a:pt x="11282" y="5016"/>
                  <a:pt x="11282" y="5022"/>
                </a:cubicBezTo>
                <a:cubicBezTo>
                  <a:pt x="11282" y="5028"/>
                  <a:pt x="11282" y="5028"/>
                  <a:pt x="11282" y="5034"/>
                </a:cubicBezTo>
                <a:cubicBezTo>
                  <a:pt x="11282" y="5040"/>
                  <a:pt x="11282" y="5052"/>
                  <a:pt x="11288" y="5058"/>
                </a:cubicBezTo>
                <a:cubicBezTo>
                  <a:pt x="11288" y="5063"/>
                  <a:pt x="11294" y="5063"/>
                  <a:pt x="11300" y="5063"/>
                </a:cubicBezTo>
                <a:cubicBezTo>
                  <a:pt x="11300" y="5069"/>
                  <a:pt x="11306" y="5069"/>
                  <a:pt x="11312" y="5069"/>
                </a:cubicBezTo>
                <a:cubicBezTo>
                  <a:pt x="11318" y="5075"/>
                  <a:pt x="11318" y="5081"/>
                  <a:pt x="11324" y="5081"/>
                </a:cubicBezTo>
                <a:cubicBezTo>
                  <a:pt x="11329" y="5087"/>
                  <a:pt x="11335" y="5093"/>
                  <a:pt x="11347" y="5105"/>
                </a:cubicBezTo>
                <a:cubicBezTo>
                  <a:pt x="11347" y="5105"/>
                  <a:pt x="11353" y="5105"/>
                  <a:pt x="11353" y="5111"/>
                </a:cubicBezTo>
                <a:cubicBezTo>
                  <a:pt x="11359" y="5117"/>
                  <a:pt x="11359" y="5117"/>
                  <a:pt x="11359" y="5123"/>
                </a:cubicBezTo>
                <a:cubicBezTo>
                  <a:pt x="11365" y="5129"/>
                  <a:pt x="11371" y="5129"/>
                  <a:pt x="11371" y="5135"/>
                </a:cubicBezTo>
                <a:cubicBezTo>
                  <a:pt x="11377" y="5141"/>
                  <a:pt x="11383" y="5152"/>
                  <a:pt x="11383" y="5158"/>
                </a:cubicBezTo>
                <a:cubicBezTo>
                  <a:pt x="11389" y="5164"/>
                  <a:pt x="11389" y="5170"/>
                  <a:pt x="11395" y="5176"/>
                </a:cubicBezTo>
                <a:cubicBezTo>
                  <a:pt x="11395" y="5176"/>
                  <a:pt x="11407" y="5182"/>
                  <a:pt x="11407" y="5188"/>
                </a:cubicBezTo>
                <a:cubicBezTo>
                  <a:pt x="11418" y="5200"/>
                  <a:pt x="11424" y="5206"/>
                  <a:pt x="11430" y="5218"/>
                </a:cubicBezTo>
                <a:cubicBezTo>
                  <a:pt x="11442" y="5235"/>
                  <a:pt x="11454" y="5241"/>
                  <a:pt x="11466" y="5253"/>
                </a:cubicBezTo>
                <a:cubicBezTo>
                  <a:pt x="11466" y="5259"/>
                  <a:pt x="11466" y="5259"/>
                  <a:pt x="11472" y="5265"/>
                </a:cubicBezTo>
                <a:cubicBezTo>
                  <a:pt x="11472" y="5271"/>
                  <a:pt x="11478" y="5271"/>
                  <a:pt x="11478" y="5277"/>
                </a:cubicBezTo>
                <a:cubicBezTo>
                  <a:pt x="11478" y="5283"/>
                  <a:pt x="11484" y="5283"/>
                  <a:pt x="11484" y="5289"/>
                </a:cubicBezTo>
                <a:cubicBezTo>
                  <a:pt x="11484" y="5301"/>
                  <a:pt x="11484" y="5307"/>
                  <a:pt x="11484" y="5312"/>
                </a:cubicBezTo>
                <a:cubicBezTo>
                  <a:pt x="11484" y="5318"/>
                  <a:pt x="11484" y="5324"/>
                  <a:pt x="11484" y="5324"/>
                </a:cubicBezTo>
                <a:cubicBezTo>
                  <a:pt x="11484" y="5330"/>
                  <a:pt x="11490" y="5330"/>
                  <a:pt x="11490" y="5336"/>
                </a:cubicBezTo>
                <a:cubicBezTo>
                  <a:pt x="11495" y="5348"/>
                  <a:pt x="11501" y="5348"/>
                  <a:pt x="11501" y="5360"/>
                </a:cubicBezTo>
                <a:cubicBezTo>
                  <a:pt x="11501" y="5461"/>
                  <a:pt x="11501" y="5461"/>
                  <a:pt x="11501" y="5461"/>
                </a:cubicBezTo>
                <a:cubicBezTo>
                  <a:pt x="11501" y="5473"/>
                  <a:pt x="11519" y="5478"/>
                  <a:pt x="11531" y="5490"/>
                </a:cubicBezTo>
                <a:cubicBezTo>
                  <a:pt x="11543" y="5496"/>
                  <a:pt x="11543" y="5502"/>
                  <a:pt x="11555" y="5502"/>
                </a:cubicBezTo>
                <a:cubicBezTo>
                  <a:pt x="11567" y="5508"/>
                  <a:pt x="11573" y="5502"/>
                  <a:pt x="11579" y="5502"/>
                </a:cubicBezTo>
                <a:cubicBezTo>
                  <a:pt x="11590" y="5502"/>
                  <a:pt x="11602" y="5508"/>
                  <a:pt x="11614" y="5502"/>
                </a:cubicBezTo>
                <a:cubicBezTo>
                  <a:pt x="11620" y="5502"/>
                  <a:pt x="11620" y="5496"/>
                  <a:pt x="11626" y="5490"/>
                </a:cubicBezTo>
                <a:cubicBezTo>
                  <a:pt x="11632" y="5485"/>
                  <a:pt x="11632" y="5473"/>
                  <a:pt x="11638" y="5467"/>
                </a:cubicBezTo>
                <a:cubicBezTo>
                  <a:pt x="11644" y="5461"/>
                  <a:pt x="11656" y="5455"/>
                  <a:pt x="11661" y="5455"/>
                </a:cubicBezTo>
                <a:cubicBezTo>
                  <a:pt x="11668" y="5455"/>
                  <a:pt x="11668" y="5449"/>
                  <a:pt x="11673" y="5449"/>
                </a:cubicBezTo>
                <a:cubicBezTo>
                  <a:pt x="11745" y="5449"/>
                  <a:pt x="11745" y="5449"/>
                  <a:pt x="11745" y="5449"/>
                </a:cubicBezTo>
                <a:cubicBezTo>
                  <a:pt x="11750" y="5449"/>
                  <a:pt x="11750" y="5461"/>
                  <a:pt x="11756" y="5461"/>
                </a:cubicBezTo>
                <a:cubicBezTo>
                  <a:pt x="11756" y="5461"/>
                  <a:pt x="11762" y="5461"/>
                  <a:pt x="11768" y="5461"/>
                </a:cubicBezTo>
                <a:cubicBezTo>
                  <a:pt x="11780" y="5437"/>
                  <a:pt x="11780" y="5437"/>
                  <a:pt x="11780" y="5437"/>
                </a:cubicBezTo>
                <a:cubicBezTo>
                  <a:pt x="11780" y="5431"/>
                  <a:pt x="11786" y="5431"/>
                  <a:pt x="11786" y="5425"/>
                </a:cubicBezTo>
                <a:cubicBezTo>
                  <a:pt x="11792" y="5419"/>
                  <a:pt x="11798" y="5419"/>
                  <a:pt x="11804" y="5419"/>
                </a:cubicBezTo>
                <a:cubicBezTo>
                  <a:pt x="11804" y="5413"/>
                  <a:pt x="11810" y="5407"/>
                  <a:pt x="11810" y="5407"/>
                </a:cubicBezTo>
                <a:cubicBezTo>
                  <a:pt x="11827" y="5401"/>
                  <a:pt x="11834" y="5401"/>
                  <a:pt x="11845" y="5401"/>
                </a:cubicBezTo>
                <a:cubicBezTo>
                  <a:pt x="11851" y="5396"/>
                  <a:pt x="11851" y="5390"/>
                  <a:pt x="11857" y="5390"/>
                </a:cubicBezTo>
                <a:cubicBezTo>
                  <a:pt x="11863" y="5390"/>
                  <a:pt x="11875" y="5390"/>
                  <a:pt x="11881" y="5390"/>
                </a:cubicBezTo>
                <a:cubicBezTo>
                  <a:pt x="11887" y="5390"/>
                  <a:pt x="11887" y="5384"/>
                  <a:pt x="11893" y="5384"/>
                </a:cubicBezTo>
                <a:cubicBezTo>
                  <a:pt x="11899" y="5384"/>
                  <a:pt x="11899" y="5384"/>
                  <a:pt x="11905" y="5384"/>
                </a:cubicBezTo>
                <a:cubicBezTo>
                  <a:pt x="11911" y="5384"/>
                  <a:pt x="11916" y="5384"/>
                  <a:pt x="11928" y="5378"/>
                </a:cubicBezTo>
                <a:cubicBezTo>
                  <a:pt x="11934" y="5378"/>
                  <a:pt x="11934" y="5372"/>
                  <a:pt x="11940" y="5366"/>
                </a:cubicBezTo>
                <a:cubicBezTo>
                  <a:pt x="11952" y="5354"/>
                  <a:pt x="11952" y="5354"/>
                  <a:pt x="11952" y="5354"/>
                </a:cubicBezTo>
                <a:cubicBezTo>
                  <a:pt x="11952" y="5354"/>
                  <a:pt x="11958" y="5348"/>
                  <a:pt x="11964" y="5342"/>
                </a:cubicBezTo>
                <a:lnTo>
                  <a:pt x="11970" y="5342"/>
                </a:lnTo>
                <a:cubicBezTo>
                  <a:pt x="11988" y="5342"/>
                  <a:pt x="11993" y="5342"/>
                  <a:pt x="12005" y="5342"/>
                </a:cubicBezTo>
                <a:cubicBezTo>
                  <a:pt x="12005" y="5336"/>
                  <a:pt x="12005" y="5330"/>
                  <a:pt x="12005" y="5324"/>
                </a:cubicBezTo>
                <a:cubicBezTo>
                  <a:pt x="12005" y="5318"/>
                  <a:pt x="12005" y="5318"/>
                  <a:pt x="12005" y="5312"/>
                </a:cubicBezTo>
                <a:cubicBezTo>
                  <a:pt x="12011" y="5307"/>
                  <a:pt x="12011" y="5307"/>
                  <a:pt x="12017" y="5301"/>
                </a:cubicBezTo>
                <a:cubicBezTo>
                  <a:pt x="12017" y="5301"/>
                  <a:pt x="12023" y="5307"/>
                  <a:pt x="12029" y="5301"/>
                </a:cubicBezTo>
                <a:cubicBezTo>
                  <a:pt x="12029" y="5301"/>
                  <a:pt x="12035" y="5295"/>
                  <a:pt x="12041" y="5295"/>
                </a:cubicBezTo>
                <a:lnTo>
                  <a:pt x="12047" y="5289"/>
                </a:lnTo>
                <a:cubicBezTo>
                  <a:pt x="12053" y="5289"/>
                  <a:pt x="12059" y="5283"/>
                  <a:pt x="12059" y="5283"/>
                </a:cubicBezTo>
                <a:cubicBezTo>
                  <a:pt x="12065" y="5283"/>
                  <a:pt x="12071" y="5283"/>
                  <a:pt x="12071" y="5283"/>
                </a:cubicBezTo>
                <a:cubicBezTo>
                  <a:pt x="12077" y="5283"/>
                  <a:pt x="12082" y="5283"/>
                  <a:pt x="12082" y="5283"/>
                </a:cubicBezTo>
                <a:cubicBezTo>
                  <a:pt x="12166" y="5283"/>
                  <a:pt x="12166" y="5283"/>
                  <a:pt x="12166" y="5283"/>
                </a:cubicBezTo>
                <a:cubicBezTo>
                  <a:pt x="12166" y="5277"/>
                  <a:pt x="12166" y="5277"/>
                  <a:pt x="12166" y="5265"/>
                </a:cubicBezTo>
                <a:lnTo>
                  <a:pt x="12166" y="5259"/>
                </a:lnTo>
                <a:cubicBezTo>
                  <a:pt x="12166" y="5253"/>
                  <a:pt x="12166" y="5247"/>
                  <a:pt x="12166" y="5247"/>
                </a:cubicBezTo>
                <a:cubicBezTo>
                  <a:pt x="12171" y="5235"/>
                  <a:pt x="12177" y="5230"/>
                  <a:pt x="12183" y="5224"/>
                </a:cubicBezTo>
                <a:cubicBezTo>
                  <a:pt x="12237" y="5224"/>
                  <a:pt x="12237" y="5224"/>
                  <a:pt x="12237" y="5224"/>
                </a:cubicBezTo>
                <a:cubicBezTo>
                  <a:pt x="12237" y="5218"/>
                  <a:pt x="12243" y="5212"/>
                  <a:pt x="12243" y="5212"/>
                </a:cubicBezTo>
                <a:cubicBezTo>
                  <a:pt x="12243" y="5206"/>
                  <a:pt x="12243" y="5206"/>
                  <a:pt x="12248" y="5200"/>
                </a:cubicBezTo>
                <a:cubicBezTo>
                  <a:pt x="12248" y="5188"/>
                  <a:pt x="12248" y="5182"/>
                  <a:pt x="12254" y="5176"/>
                </a:cubicBezTo>
                <a:cubicBezTo>
                  <a:pt x="12260" y="5170"/>
                  <a:pt x="12260" y="5170"/>
                  <a:pt x="12266" y="5164"/>
                </a:cubicBezTo>
                <a:cubicBezTo>
                  <a:pt x="12272" y="5164"/>
                  <a:pt x="12272" y="5170"/>
                  <a:pt x="12278" y="5170"/>
                </a:cubicBezTo>
                <a:cubicBezTo>
                  <a:pt x="12290" y="5170"/>
                  <a:pt x="12290" y="5170"/>
                  <a:pt x="12290" y="5170"/>
                </a:cubicBezTo>
                <a:cubicBezTo>
                  <a:pt x="12296" y="5170"/>
                  <a:pt x="12296" y="5164"/>
                  <a:pt x="12302" y="5164"/>
                </a:cubicBezTo>
                <a:cubicBezTo>
                  <a:pt x="12308" y="5146"/>
                  <a:pt x="12308" y="5146"/>
                  <a:pt x="12308" y="5146"/>
                </a:cubicBezTo>
                <a:cubicBezTo>
                  <a:pt x="12308" y="5141"/>
                  <a:pt x="12314" y="5141"/>
                  <a:pt x="12314" y="5135"/>
                </a:cubicBezTo>
                <a:cubicBezTo>
                  <a:pt x="12314" y="5129"/>
                  <a:pt x="12314" y="5129"/>
                  <a:pt x="12314" y="5123"/>
                </a:cubicBezTo>
                <a:cubicBezTo>
                  <a:pt x="12314" y="5117"/>
                  <a:pt x="12320" y="5117"/>
                  <a:pt x="12320" y="5111"/>
                </a:cubicBezTo>
                <a:cubicBezTo>
                  <a:pt x="12325" y="5105"/>
                  <a:pt x="12325" y="5105"/>
                  <a:pt x="12325" y="5099"/>
                </a:cubicBezTo>
                <a:cubicBezTo>
                  <a:pt x="12332" y="5093"/>
                  <a:pt x="12337" y="5093"/>
                  <a:pt x="12343" y="5093"/>
                </a:cubicBezTo>
                <a:cubicBezTo>
                  <a:pt x="12349" y="5093"/>
                  <a:pt x="12349" y="5093"/>
                  <a:pt x="12349" y="5093"/>
                </a:cubicBezTo>
                <a:cubicBezTo>
                  <a:pt x="12355" y="5093"/>
                  <a:pt x="12355" y="5099"/>
                  <a:pt x="12355" y="5105"/>
                </a:cubicBezTo>
                <a:cubicBezTo>
                  <a:pt x="12361" y="5105"/>
                  <a:pt x="12367" y="5105"/>
                  <a:pt x="12367" y="5105"/>
                </a:cubicBezTo>
                <a:cubicBezTo>
                  <a:pt x="12367" y="5093"/>
                  <a:pt x="12367" y="5087"/>
                  <a:pt x="12367" y="5069"/>
                </a:cubicBezTo>
                <a:cubicBezTo>
                  <a:pt x="12373" y="5058"/>
                  <a:pt x="12373" y="5046"/>
                  <a:pt x="12379" y="5034"/>
                </a:cubicBezTo>
                <a:cubicBezTo>
                  <a:pt x="12379" y="5028"/>
                  <a:pt x="12379" y="5022"/>
                  <a:pt x="12379" y="5022"/>
                </a:cubicBezTo>
                <a:cubicBezTo>
                  <a:pt x="12379" y="5016"/>
                  <a:pt x="12379" y="5010"/>
                  <a:pt x="12385" y="5010"/>
                </a:cubicBezTo>
                <a:cubicBezTo>
                  <a:pt x="12385" y="5004"/>
                  <a:pt x="12391" y="5004"/>
                  <a:pt x="12397" y="5004"/>
                </a:cubicBezTo>
                <a:cubicBezTo>
                  <a:pt x="12397" y="5004"/>
                  <a:pt x="12403" y="5004"/>
                  <a:pt x="12409" y="5004"/>
                </a:cubicBezTo>
                <a:cubicBezTo>
                  <a:pt x="12414" y="5004"/>
                  <a:pt x="12420" y="4998"/>
                  <a:pt x="12426" y="4998"/>
                </a:cubicBezTo>
                <a:cubicBezTo>
                  <a:pt x="12426" y="4986"/>
                  <a:pt x="12426" y="4980"/>
                  <a:pt x="12426" y="4969"/>
                </a:cubicBezTo>
                <a:cubicBezTo>
                  <a:pt x="12420" y="4963"/>
                  <a:pt x="12420" y="4963"/>
                  <a:pt x="12414" y="4963"/>
                </a:cubicBezTo>
                <a:cubicBezTo>
                  <a:pt x="12409" y="4957"/>
                  <a:pt x="12403" y="4963"/>
                  <a:pt x="12403" y="4963"/>
                </a:cubicBezTo>
                <a:cubicBezTo>
                  <a:pt x="12397" y="4957"/>
                  <a:pt x="12391" y="4957"/>
                  <a:pt x="12391" y="4957"/>
                </a:cubicBezTo>
                <a:cubicBezTo>
                  <a:pt x="12385" y="4951"/>
                  <a:pt x="12379" y="4951"/>
                  <a:pt x="12379" y="4951"/>
                </a:cubicBezTo>
                <a:cubicBezTo>
                  <a:pt x="12379" y="4945"/>
                  <a:pt x="12379" y="4939"/>
                  <a:pt x="12379" y="4939"/>
                </a:cubicBezTo>
                <a:cubicBezTo>
                  <a:pt x="12379" y="4933"/>
                  <a:pt x="12373" y="4927"/>
                  <a:pt x="12373" y="4921"/>
                </a:cubicBezTo>
                <a:cubicBezTo>
                  <a:pt x="12373" y="4921"/>
                  <a:pt x="12373" y="4915"/>
                  <a:pt x="12367" y="4909"/>
                </a:cubicBezTo>
                <a:cubicBezTo>
                  <a:pt x="12367" y="4903"/>
                  <a:pt x="12361" y="4903"/>
                  <a:pt x="12355" y="4897"/>
                </a:cubicBezTo>
                <a:cubicBezTo>
                  <a:pt x="12349" y="4897"/>
                  <a:pt x="12343" y="4892"/>
                  <a:pt x="12337" y="4892"/>
                </a:cubicBezTo>
                <a:cubicBezTo>
                  <a:pt x="12332" y="4892"/>
                  <a:pt x="12325" y="4892"/>
                  <a:pt x="12325" y="4892"/>
                </a:cubicBezTo>
                <a:cubicBezTo>
                  <a:pt x="12320" y="4892"/>
                  <a:pt x="12314" y="4886"/>
                  <a:pt x="12314" y="4886"/>
                </a:cubicBezTo>
                <a:cubicBezTo>
                  <a:pt x="12314" y="4880"/>
                  <a:pt x="12314" y="4880"/>
                  <a:pt x="12314" y="4874"/>
                </a:cubicBezTo>
                <a:cubicBezTo>
                  <a:pt x="12314" y="4868"/>
                  <a:pt x="12320" y="4862"/>
                  <a:pt x="12320" y="4850"/>
                </a:cubicBezTo>
                <a:cubicBezTo>
                  <a:pt x="12320" y="4844"/>
                  <a:pt x="12320" y="4844"/>
                  <a:pt x="12320" y="4838"/>
                </a:cubicBezTo>
                <a:cubicBezTo>
                  <a:pt x="12314" y="4838"/>
                  <a:pt x="12308" y="4838"/>
                  <a:pt x="12308" y="4832"/>
                </a:cubicBezTo>
                <a:cubicBezTo>
                  <a:pt x="12302" y="4832"/>
                  <a:pt x="12302" y="4826"/>
                  <a:pt x="12296" y="4826"/>
                </a:cubicBezTo>
                <a:cubicBezTo>
                  <a:pt x="12272" y="4826"/>
                  <a:pt x="12272" y="4826"/>
                  <a:pt x="12272" y="4826"/>
                </a:cubicBezTo>
                <a:cubicBezTo>
                  <a:pt x="12272" y="4838"/>
                  <a:pt x="12272" y="4844"/>
                  <a:pt x="12272" y="4856"/>
                </a:cubicBezTo>
                <a:cubicBezTo>
                  <a:pt x="12272" y="4862"/>
                  <a:pt x="12260" y="4868"/>
                  <a:pt x="12254" y="4874"/>
                </a:cubicBezTo>
                <a:cubicBezTo>
                  <a:pt x="12254" y="4862"/>
                  <a:pt x="12248" y="4856"/>
                  <a:pt x="12248" y="4850"/>
                </a:cubicBezTo>
                <a:cubicBezTo>
                  <a:pt x="12248" y="4844"/>
                  <a:pt x="12248" y="4838"/>
                  <a:pt x="12248" y="4838"/>
                </a:cubicBezTo>
                <a:cubicBezTo>
                  <a:pt x="12248" y="4832"/>
                  <a:pt x="12243" y="4832"/>
                  <a:pt x="12237" y="4832"/>
                </a:cubicBezTo>
                <a:cubicBezTo>
                  <a:pt x="12237" y="4826"/>
                  <a:pt x="12231" y="4826"/>
                  <a:pt x="12231" y="4820"/>
                </a:cubicBezTo>
                <a:cubicBezTo>
                  <a:pt x="12231" y="4761"/>
                  <a:pt x="12231" y="4761"/>
                  <a:pt x="12231" y="4761"/>
                </a:cubicBezTo>
                <a:cubicBezTo>
                  <a:pt x="12225" y="4761"/>
                  <a:pt x="12225" y="4755"/>
                  <a:pt x="12219" y="4749"/>
                </a:cubicBezTo>
                <a:cubicBezTo>
                  <a:pt x="12219" y="4749"/>
                  <a:pt x="12213" y="4743"/>
                  <a:pt x="12207" y="4743"/>
                </a:cubicBezTo>
                <a:cubicBezTo>
                  <a:pt x="12207" y="4749"/>
                  <a:pt x="12207" y="4749"/>
                  <a:pt x="12201" y="4755"/>
                </a:cubicBezTo>
                <a:cubicBezTo>
                  <a:pt x="12201" y="4755"/>
                  <a:pt x="12195" y="4755"/>
                  <a:pt x="12195" y="4761"/>
                </a:cubicBezTo>
                <a:cubicBezTo>
                  <a:pt x="12189" y="4761"/>
                  <a:pt x="12183" y="4761"/>
                  <a:pt x="12183" y="4767"/>
                </a:cubicBezTo>
                <a:cubicBezTo>
                  <a:pt x="12171" y="4767"/>
                  <a:pt x="12171" y="4779"/>
                  <a:pt x="12166" y="4791"/>
                </a:cubicBezTo>
                <a:cubicBezTo>
                  <a:pt x="12166" y="4803"/>
                  <a:pt x="12166" y="4809"/>
                  <a:pt x="12166" y="4820"/>
                </a:cubicBezTo>
                <a:cubicBezTo>
                  <a:pt x="12166" y="4832"/>
                  <a:pt x="12166" y="4838"/>
                  <a:pt x="12166" y="4844"/>
                </a:cubicBezTo>
                <a:cubicBezTo>
                  <a:pt x="12154" y="4844"/>
                  <a:pt x="12148" y="4844"/>
                  <a:pt x="12142" y="4844"/>
                </a:cubicBezTo>
                <a:cubicBezTo>
                  <a:pt x="12130" y="4844"/>
                  <a:pt x="12124" y="4844"/>
                  <a:pt x="12118" y="4844"/>
                </a:cubicBezTo>
                <a:cubicBezTo>
                  <a:pt x="12106" y="4844"/>
                  <a:pt x="12106" y="4844"/>
                  <a:pt x="12106" y="4844"/>
                </a:cubicBezTo>
                <a:cubicBezTo>
                  <a:pt x="12100" y="4844"/>
                  <a:pt x="12094" y="4838"/>
                  <a:pt x="12088" y="4838"/>
                </a:cubicBezTo>
                <a:cubicBezTo>
                  <a:pt x="12082" y="4832"/>
                  <a:pt x="12077" y="4832"/>
                  <a:pt x="12071" y="4832"/>
                </a:cubicBezTo>
                <a:cubicBezTo>
                  <a:pt x="12065" y="4832"/>
                  <a:pt x="12065" y="4832"/>
                  <a:pt x="12059" y="4832"/>
                </a:cubicBezTo>
                <a:cubicBezTo>
                  <a:pt x="12059" y="4832"/>
                  <a:pt x="12053" y="4838"/>
                  <a:pt x="12047" y="4838"/>
                </a:cubicBezTo>
                <a:cubicBezTo>
                  <a:pt x="12047" y="4844"/>
                  <a:pt x="12041" y="4844"/>
                  <a:pt x="12041" y="4844"/>
                </a:cubicBezTo>
                <a:cubicBezTo>
                  <a:pt x="12035" y="4850"/>
                  <a:pt x="12029" y="4850"/>
                  <a:pt x="12029" y="4856"/>
                </a:cubicBezTo>
                <a:cubicBezTo>
                  <a:pt x="12023" y="4862"/>
                  <a:pt x="12023" y="4868"/>
                  <a:pt x="12017" y="4868"/>
                </a:cubicBezTo>
                <a:cubicBezTo>
                  <a:pt x="12005" y="4868"/>
                  <a:pt x="12000" y="4862"/>
                  <a:pt x="11993" y="4862"/>
                </a:cubicBezTo>
                <a:cubicBezTo>
                  <a:pt x="11988" y="4856"/>
                  <a:pt x="11988" y="4850"/>
                  <a:pt x="11982" y="4850"/>
                </a:cubicBezTo>
                <a:cubicBezTo>
                  <a:pt x="11976" y="4844"/>
                  <a:pt x="11970" y="4844"/>
                  <a:pt x="11970" y="4838"/>
                </a:cubicBezTo>
                <a:cubicBezTo>
                  <a:pt x="11970" y="4832"/>
                  <a:pt x="11970" y="4832"/>
                  <a:pt x="11970" y="4826"/>
                </a:cubicBezTo>
                <a:cubicBezTo>
                  <a:pt x="11970" y="4820"/>
                  <a:pt x="11970" y="4814"/>
                  <a:pt x="11970" y="4814"/>
                </a:cubicBezTo>
                <a:cubicBezTo>
                  <a:pt x="11970" y="4809"/>
                  <a:pt x="11976" y="4814"/>
                  <a:pt x="11982" y="4809"/>
                </a:cubicBezTo>
                <a:cubicBezTo>
                  <a:pt x="11988" y="4803"/>
                  <a:pt x="12000" y="4803"/>
                  <a:pt x="12011" y="4803"/>
                </a:cubicBezTo>
                <a:cubicBezTo>
                  <a:pt x="12017" y="4803"/>
                  <a:pt x="12017" y="4803"/>
                  <a:pt x="12017" y="4803"/>
                </a:cubicBezTo>
                <a:cubicBezTo>
                  <a:pt x="12023" y="4803"/>
                  <a:pt x="12023" y="4809"/>
                  <a:pt x="12035" y="4809"/>
                </a:cubicBezTo>
                <a:cubicBezTo>
                  <a:pt x="12041" y="4809"/>
                  <a:pt x="12041" y="4809"/>
                  <a:pt x="12053" y="4809"/>
                </a:cubicBezTo>
                <a:cubicBezTo>
                  <a:pt x="12059" y="4809"/>
                  <a:pt x="12065" y="4809"/>
                  <a:pt x="12071" y="4809"/>
                </a:cubicBezTo>
                <a:cubicBezTo>
                  <a:pt x="12077" y="4809"/>
                  <a:pt x="12077" y="4803"/>
                  <a:pt x="12082" y="4803"/>
                </a:cubicBezTo>
                <a:cubicBezTo>
                  <a:pt x="12082" y="4797"/>
                  <a:pt x="12082" y="4791"/>
                  <a:pt x="12082" y="4791"/>
                </a:cubicBezTo>
                <a:cubicBezTo>
                  <a:pt x="12077" y="4791"/>
                  <a:pt x="12077" y="4785"/>
                  <a:pt x="12071" y="4785"/>
                </a:cubicBezTo>
                <a:cubicBezTo>
                  <a:pt x="12059" y="4785"/>
                  <a:pt x="12059" y="4785"/>
                  <a:pt x="12059" y="4785"/>
                </a:cubicBezTo>
                <a:cubicBezTo>
                  <a:pt x="12047" y="4785"/>
                  <a:pt x="12047" y="4785"/>
                  <a:pt x="12035" y="4785"/>
                </a:cubicBezTo>
                <a:cubicBezTo>
                  <a:pt x="12023" y="4785"/>
                  <a:pt x="12023" y="4785"/>
                  <a:pt x="12023" y="4785"/>
                </a:cubicBezTo>
                <a:cubicBezTo>
                  <a:pt x="12017" y="4785"/>
                  <a:pt x="12017" y="4785"/>
                  <a:pt x="12011" y="4785"/>
                </a:cubicBezTo>
                <a:cubicBezTo>
                  <a:pt x="12005" y="4785"/>
                  <a:pt x="12005" y="4785"/>
                  <a:pt x="12000" y="4785"/>
                </a:cubicBezTo>
                <a:cubicBezTo>
                  <a:pt x="11988" y="4779"/>
                  <a:pt x="11982" y="4773"/>
                  <a:pt x="11970" y="4773"/>
                </a:cubicBezTo>
                <a:cubicBezTo>
                  <a:pt x="11958" y="4773"/>
                  <a:pt x="11952" y="4773"/>
                  <a:pt x="11934" y="4773"/>
                </a:cubicBezTo>
                <a:cubicBezTo>
                  <a:pt x="11928" y="4773"/>
                  <a:pt x="11928" y="4767"/>
                  <a:pt x="11922" y="4767"/>
                </a:cubicBezTo>
                <a:cubicBezTo>
                  <a:pt x="11911" y="4767"/>
                  <a:pt x="11911" y="4767"/>
                  <a:pt x="11911" y="4767"/>
                </a:cubicBezTo>
                <a:cubicBezTo>
                  <a:pt x="11911" y="4714"/>
                  <a:pt x="11911" y="4714"/>
                  <a:pt x="11911" y="4714"/>
                </a:cubicBezTo>
                <a:cubicBezTo>
                  <a:pt x="11905" y="4708"/>
                  <a:pt x="11905" y="4702"/>
                  <a:pt x="11899" y="4702"/>
                </a:cubicBezTo>
                <a:cubicBezTo>
                  <a:pt x="11899" y="4696"/>
                  <a:pt x="11893" y="4702"/>
                  <a:pt x="11887" y="4696"/>
                </a:cubicBezTo>
                <a:cubicBezTo>
                  <a:pt x="11887" y="4696"/>
                  <a:pt x="11887" y="4690"/>
                  <a:pt x="11881" y="4684"/>
                </a:cubicBezTo>
                <a:cubicBezTo>
                  <a:pt x="11875" y="4684"/>
                  <a:pt x="11869" y="4684"/>
                  <a:pt x="11869" y="4684"/>
                </a:cubicBezTo>
                <a:cubicBezTo>
                  <a:pt x="11863" y="4684"/>
                  <a:pt x="11857" y="4684"/>
                  <a:pt x="11857" y="4684"/>
                </a:cubicBezTo>
                <a:cubicBezTo>
                  <a:pt x="11851" y="4684"/>
                  <a:pt x="11845" y="4678"/>
                  <a:pt x="11845" y="4678"/>
                </a:cubicBezTo>
                <a:cubicBezTo>
                  <a:pt x="11839" y="4672"/>
                  <a:pt x="11827" y="4678"/>
                  <a:pt x="11827" y="4672"/>
                </a:cubicBezTo>
                <a:cubicBezTo>
                  <a:pt x="11827" y="4666"/>
                  <a:pt x="11827" y="4660"/>
                  <a:pt x="11827" y="4654"/>
                </a:cubicBezTo>
                <a:cubicBezTo>
                  <a:pt x="11827" y="4648"/>
                  <a:pt x="11827" y="4642"/>
                  <a:pt x="11827" y="4637"/>
                </a:cubicBezTo>
                <a:cubicBezTo>
                  <a:pt x="11827" y="4625"/>
                  <a:pt x="11816" y="4619"/>
                  <a:pt x="11810" y="4613"/>
                </a:cubicBezTo>
                <a:cubicBezTo>
                  <a:pt x="11810" y="4607"/>
                  <a:pt x="11804" y="4607"/>
                  <a:pt x="11804" y="4601"/>
                </a:cubicBezTo>
                <a:cubicBezTo>
                  <a:pt x="11798" y="4595"/>
                  <a:pt x="11804" y="4595"/>
                  <a:pt x="11804" y="4589"/>
                </a:cubicBezTo>
                <a:cubicBezTo>
                  <a:pt x="11798" y="4583"/>
                  <a:pt x="11804" y="4583"/>
                  <a:pt x="11804" y="4577"/>
                </a:cubicBezTo>
                <a:cubicBezTo>
                  <a:pt x="11804" y="4571"/>
                  <a:pt x="11798" y="4571"/>
                  <a:pt x="11798" y="4565"/>
                </a:cubicBezTo>
                <a:cubicBezTo>
                  <a:pt x="11792" y="4554"/>
                  <a:pt x="11798" y="4554"/>
                  <a:pt x="11798" y="4542"/>
                </a:cubicBezTo>
                <a:cubicBezTo>
                  <a:pt x="11798" y="4536"/>
                  <a:pt x="11792" y="4536"/>
                  <a:pt x="11798" y="4524"/>
                </a:cubicBezTo>
                <a:cubicBezTo>
                  <a:pt x="11798" y="4518"/>
                  <a:pt x="11798" y="4518"/>
                  <a:pt x="11804" y="4512"/>
                </a:cubicBezTo>
                <a:cubicBezTo>
                  <a:pt x="11804" y="4506"/>
                  <a:pt x="11810" y="4506"/>
                  <a:pt x="11810" y="4500"/>
                </a:cubicBezTo>
                <a:cubicBezTo>
                  <a:pt x="11816" y="4500"/>
                  <a:pt x="11822" y="4500"/>
                  <a:pt x="11827" y="4500"/>
                </a:cubicBezTo>
                <a:cubicBezTo>
                  <a:pt x="11839" y="4500"/>
                  <a:pt x="11845" y="4506"/>
                  <a:pt x="11857" y="4506"/>
                </a:cubicBezTo>
                <a:cubicBezTo>
                  <a:pt x="11875" y="4512"/>
                  <a:pt x="11881" y="4524"/>
                  <a:pt x="11887" y="4536"/>
                </a:cubicBezTo>
                <a:cubicBezTo>
                  <a:pt x="11893" y="4536"/>
                  <a:pt x="11899" y="4542"/>
                  <a:pt x="11899" y="4542"/>
                </a:cubicBezTo>
                <a:cubicBezTo>
                  <a:pt x="11911" y="4548"/>
                  <a:pt x="11916" y="4560"/>
                  <a:pt x="11922" y="4565"/>
                </a:cubicBezTo>
                <a:cubicBezTo>
                  <a:pt x="11922" y="4571"/>
                  <a:pt x="11928" y="4571"/>
                  <a:pt x="11934" y="4577"/>
                </a:cubicBezTo>
                <a:cubicBezTo>
                  <a:pt x="11940" y="4589"/>
                  <a:pt x="11940" y="4601"/>
                  <a:pt x="11952" y="4613"/>
                </a:cubicBezTo>
                <a:cubicBezTo>
                  <a:pt x="11952" y="4619"/>
                  <a:pt x="11958" y="4619"/>
                  <a:pt x="11964" y="4625"/>
                </a:cubicBezTo>
                <a:cubicBezTo>
                  <a:pt x="11976" y="4631"/>
                  <a:pt x="11982" y="4631"/>
                  <a:pt x="11993" y="4642"/>
                </a:cubicBezTo>
                <a:cubicBezTo>
                  <a:pt x="12005" y="4642"/>
                  <a:pt x="12011" y="4654"/>
                  <a:pt x="12017" y="4660"/>
                </a:cubicBezTo>
                <a:cubicBezTo>
                  <a:pt x="12029" y="4666"/>
                  <a:pt x="12029" y="4672"/>
                  <a:pt x="12041" y="4678"/>
                </a:cubicBezTo>
                <a:cubicBezTo>
                  <a:pt x="12047" y="4684"/>
                  <a:pt x="12053" y="4690"/>
                  <a:pt x="12065" y="4690"/>
                </a:cubicBezTo>
                <a:cubicBezTo>
                  <a:pt x="12071" y="4696"/>
                  <a:pt x="12082" y="4690"/>
                  <a:pt x="12088" y="4690"/>
                </a:cubicBezTo>
                <a:cubicBezTo>
                  <a:pt x="12094" y="4690"/>
                  <a:pt x="12100" y="4696"/>
                  <a:pt x="12100" y="4696"/>
                </a:cubicBezTo>
                <a:cubicBezTo>
                  <a:pt x="12118" y="4696"/>
                  <a:pt x="12130" y="4702"/>
                  <a:pt x="12148" y="4702"/>
                </a:cubicBezTo>
                <a:cubicBezTo>
                  <a:pt x="12154" y="4702"/>
                  <a:pt x="12154" y="4702"/>
                  <a:pt x="12154" y="4702"/>
                </a:cubicBezTo>
                <a:cubicBezTo>
                  <a:pt x="12166" y="4702"/>
                  <a:pt x="12166" y="4702"/>
                  <a:pt x="12166" y="4702"/>
                </a:cubicBezTo>
                <a:cubicBezTo>
                  <a:pt x="12166" y="4702"/>
                  <a:pt x="12171" y="4696"/>
                  <a:pt x="12177" y="4696"/>
                </a:cubicBezTo>
                <a:cubicBezTo>
                  <a:pt x="12183" y="4696"/>
                  <a:pt x="12189" y="4696"/>
                  <a:pt x="12195" y="4696"/>
                </a:cubicBezTo>
                <a:cubicBezTo>
                  <a:pt x="12201" y="4696"/>
                  <a:pt x="12207" y="4690"/>
                  <a:pt x="12207" y="4690"/>
                </a:cubicBezTo>
                <a:cubicBezTo>
                  <a:pt x="12219" y="4690"/>
                  <a:pt x="12219" y="4690"/>
                  <a:pt x="12219" y="4690"/>
                </a:cubicBezTo>
                <a:cubicBezTo>
                  <a:pt x="12231" y="4690"/>
                  <a:pt x="12237" y="4690"/>
                  <a:pt x="12243" y="4690"/>
                </a:cubicBezTo>
                <a:cubicBezTo>
                  <a:pt x="12248" y="4690"/>
                  <a:pt x="12248" y="4696"/>
                  <a:pt x="12254" y="4702"/>
                </a:cubicBezTo>
                <a:cubicBezTo>
                  <a:pt x="12260" y="4708"/>
                  <a:pt x="12266" y="4708"/>
                  <a:pt x="12272" y="4720"/>
                </a:cubicBezTo>
                <a:cubicBezTo>
                  <a:pt x="12272" y="4726"/>
                  <a:pt x="12272" y="4726"/>
                  <a:pt x="12272" y="4731"/>
                </a:cubicBezTo>
                <a:cubicBezTo>
                  <a:pt x="12272" y="4737"/>
                  <a:pt x="12272" y="4737"/>
                  <a:pt x="12272" y="4743"/>
                </a:cubicBezTo>
                <a:cubicBezTo>
                  <a:pt x="12278" y="4749"/>
                  <a:pt x="12278" y="4749"/>
                  <a:pt x="12278" y="4755"/>
                </a:cubicBezTo>
                <a:cubicBezTo>
                  <a:pt x="12284" y="4755"/>
                  <a:pt x="12290" y="4755"/>
                  <a:pt x="12290" y="4761"/>
                </a:cubicBezTo>
                <a:cubicBezTo>
                  <a:pt x="12296" y="4761"/>
                  <a:pt x="12302" y="4761"/>
                  <a:pt x="12308" y="4761"/>
                </a:cubicBezTo>
                <a:cubicBezTo>
                  <a:pt x="12367" y="4761"/>
                  <a:pt x="12367" y="4761"/>
                  <a:pt x="12367" y="4761"/>
                </a:cubicBezTo>
                <a:cubicBezTo>
                  <a:pt x="12373" y="4761"/>
                  <a:pt x="12373" y="4761"/>
                  <a:pt x="12379" y="4761"/>
                </a:cubicBezTo>
                <a:cubicBezTo>
                  <a:pt x="12385" y="4761"/>
                  <a:pt x="12385" y="4761"/>
                  <a:pt x="12391" y="4761"/>
                </a:cubicBezTo>
                <a:cubicBezTo>
                  <a:pt x="12397" y="4761"/>
                  <a:pt x="12397" y="4767"/>
                  <a:pt x="12403" y="4767"/>
                </a:cubicBezTo>
                <a:cubicBezTo>
                  <a:pt x="12409" y="4773"/>
                  <a:pt x="12409" y="4779"/>
                  <a:pt x="12409" y="4779"/>
                </a:cubicBezTo>
                <a:cubicBezTo>
                  <a:pt x="12414" y="4785"/>
                  <a:pt x="12414" y="4785"/>
                  <a:pt x="12420" y="4785"/>
                </a:cubicBezTo>
                <a:cubicBezTo>
                  <a:pt x="12426" y="4791"/>
                  <a:pt x="12426" y="4791"/>
                  <a:pt x="12438" y="4791"/>
                </a:cubicBezTo>
                <a:cubicBezTo>
                  <a:pt x="12492" y="4791"/>
                  <a:pt x="12492" y="4791"/>
                  <a:pt x="12492" y="4791"/>
                </a:cubicBezTo>
                <a:cubicBezTo>
                  <a:pt x="12503" y="4791"/>
                  <a:pt x="12509" y="4803"/>
                  <a:pt x="12521" y="4803"/>
                </a:cubicBezTo>
                <a:cubicBezTo>
                  <a:pt x="12616" y="4803"/>
                  <a:pt x="12616" y="4803"/>
                  <a:pt x="12616" y="4803"/>
                </a:cubicBezTo>
                <a:cubicBezTo>
                  <a:pt x="12687" y="4791"/>
                  <a:pt x="12687" y="4791"/>
                  <a:pt x="12687" y="4791"/>
                </a:cubicBezTo>
                <a:cubicBezTo>
                  <a:pt x="12752" y="4791"/>
                  <a:pt x="12752" y="4791"/>
                  <a:pt x="12752" y="4791"/>
                </a:cubicBezTo>
                <a:cubicBezTo>
                  <a:pt x="12764" y="4791"/>
                  <a:pt x="12764" y="4797"/>
                  <a:pt x="12776" y="4803"/>
                </a:cubicBezTo>
                <a:cubicBezTo>
                  <a:pt x="12776" y="4809"/>
                  <a:pt x="12782" y="4809"/>
                  <a:pt x="12788" y="4814"/>
                </a:cubicBezTo>
                <a:cubicBezTo>
                  <a:pt x="12788" y="4814"/>
                  <a:pt x="12794" y="4820"/>
                  <a:pt x="12800" y="4820"/>
                </a:cubicBezTo>
                <a:cubicBezTo>
                  <a:pt x="12806" y="4832"/>
                  <a:pt x="12806" y="4838"/>
                  <a:pt x="12812" y="4844"/>
                </a:cubicBezTo>
                <a:cubicBezTo>
                  <a:pt x="12818" y="4850"/>
                  <a:pt x="12818" y="4850"/>
                  <a:pt x="12824" y="4856"/>
                </a:cubicBezTo>
                <a:cubicBezTo>
                  <a:pt x="12830" y="4856"/>
                  <a:pt x="12830" y="4856"/>
                  <a:pt x="12835" y="4856"/>
                </a:cubicBezTo>
                <a:cubicBezTo>
                  <a:pt x="12841" y="4862"/>
                  <a:pt x="12841" y="4862"/>
                  <a:pt x="12847" y="4868"/>
                </a:cubicBezTo>
                <a:cubicBezTo>
                  <a:pt x="12847" y="4868"/>
                  <a:pt x="12847" y="4874"/>
                  <a:pt x="12853" y="4880"/>
                </a:cubicBezTo>
                <a:cubicBezTo>
                  <a:pt x="12853" y="4886"/>
                  <a:pt x="12853" y="4892"/>
                  <a:pt x="12853" y="4897"/>
                </a:cubicBezTo>
                <a:cubicBezTo>
                  <a:pt x="12859" y="4903"/>
                  <a:pt x="12871" y="4897"/>
                  <a:pt x="12877" y="4903"/>
                </a:cubicBezTo>
                <a:cubicBezTo>
                  <a:pt x="12877" y="4903"/>
                  <a:pt x="12877" y="4909"/>
                  <a:pt x="12883" y="4915"/>
                </a:cubicBezTo>
                <a:cubicBezTo>
                  <a:pt x="12883" y="4915"/>
                  <a:pt x="12883" y="4921"/>
                  <a:pt x="12889" y="4927"/>
                </a:cubicBezTo>
                <a:cubicBezTo>
                  <a:pt x="12895" y="4927"/>
                  <a:pt x="12895" y="4927"/>
                  <a:pt x="12901" y="4927"/>
                </a:cubicBezTo>
                <a:cubicBezTo>
                  <a:pt x="12913" y="4927"/>
                  <a:pt x="12913" y="4927"/>
                  <a:pt x="12913" y="4927"/>
                </a:cubicBezTo>
                <a:cubicBezTo>
                  <a:pt x="12918" y="4927"/>
                  <a:pt x="12924" y="4927"/>
                  <a:pt x="12936" y="4927"/>
                </a:cubicBezTo>
                <a:cubicBezTo>
                  <a:pt x="12936" y="4927"/>
                  <a:pt x="12942" y="4933"/>
                  <a:pt x="12948" y="4933"/>
                </a:cubicBezTo>
                <a:cubicBezTo>
                  <a:pt x="12948" y="4933"/>
                  <a:pt x="12954" y="4933"/>
                  <a:pt x="12960" y="4939"/>
                </a:cubicBezTo>
                <a:cubicBezTo>
                  <a:pt x="12966" y="4939"/>
                  <a:pt x="12972" y="4945"/>
                  <a:pt x="12984" y="4951"/>
                </a:cubicBezTo>
                <a:cubicBezTo>
                  <a:pt x="12972" y="4951"/>
                  <a:pt x="12960" y="4945"/>
                  <a:pt x="12948" y="4951"/>
                </a:cubicBezTo>
                <a:cubicBezTo>
                  <a:pt x="12942" y="4951"/>
                  <a:pt x="12936" y="4951"/>
                  <a:pt x="12924" y="4957"/>
                </a:cubicBezTo>
                <a:cubicBezTo>
                  <a:pt x="12924" y="4957"/>
                  <a:pt x="12918" y="4957"/>
                  <a:pt x="12913" y="4963"/>
                </a:cubicBezTo>
                <a:lnTo>
                  <a:pt x="12913" y="4969"/>
                </a:lnTo>
                <a:cubicBezTo>
                  <a:pt x="12918" y="4975"/>
                  <a:pt x="12918" y="4980"/>
                  <a:pt x="12918" y="4980"/>
                </a:cubicBezTo>
                <a:cubicBezTo>
                  <a:pt x="12924" y="4986"/>
                  <a:pt x="12930" y="4986"/>
                  <a:pt x="12930" y="4986"/>
                </a:cubicBezTo>
                <a:cubicBezTo>
                  <a:pt x="12936" y="4986"/>
                  <a:pt x="12942" y="4986"/>
                  <a:pt x="12942" y="4986"/>
                </a:cubicBezTo>
                <a:cubicBezTo>
                  <a:pt x="12948" y="4992"/>
                  <a:pt x="12948" y="4998"/>
                  <a:pt x="12954" y="4998"/>
                </a:cubicBezTo>
                <a:cubicBezTo>
                  <a:pt x="12954" y="5004"/>
                  <a:pt x="12954" y="5004"/>
                  <a:pt x="12960" y="5010"/>
                </a:cubicBezTo>
                <a:cubicBezTo>
                  <a:pt x="12966" y="5022"/>
                  <a:pt x="12972" y="5028"/>
                  <a:pt x="12984" y="5034"/>
                </a:cubicBezTo>
                <a:cubicBezTo>
                  <a:pt x="12990" y="5034"/>
                  <a:pt x="12990" y="5034"/>
                  <a:pt x="12996" y="5040"/>
                </a:cubicBezTo>
                <a:cubicBezTo>
                  <a:pt x="13002" y="5046"/>
                  <a:pt x="13002" y="5052"/>
                  <a:pt x="13007" y="5052"/>
                </a:cubicBezTo>
                <a:cubicBezTo>
                  <a:pt x="13013" y="5052"/>
                  <a:pt x="13013" y="5052"/>
                  <a:pt x="13019" y="5052"/>
                </a:cubicBezTo>
                <a:cubicBezTo>
                  <a:pt x="13025" y="5052"/>
                  <a:pt x="13025" y="5052"/>
                  <a:pt x="13031" y="5052"/>
                </a:cubicBezTo>
                <a:cubicBezTo>
                  <a:pt x="13037" y="5052"/>
                  <a:pt x="13037" y="5046"/>
                  <a:pt x="13043" y="5040"/>
                </a:cubicBezTo>
                <a:cubicBezTo>
                  <a:pt x="13049" y="5040"/>
                  <a:pt x="13049" y="5034"/>
                  <a:pt x="13049" y="5034"/>
                </a:cubicBezTo>
                <a:cubicBezTo>
                  <a:pt x="13061" y="5028"/>
                  <a:pt x="13067" y="5028"/>
                  <a:pt x="13073" y="5028"/>
                </a:cubicBezTo>
                <a:cubicBezTo>
                  <a:pt x="13079" y="5022"/>
                  <a:pt x="13079" y="5016"/>
                  <a:pt x="13084" y="5010"/>
                </a:cubicBezTo>
                <a:cubicBezTo>
                  <a:pt x="13084" y="5004"/>
                  <a:pt x="13090" y="4998"/>
                  <a:pt x="13096" y="4998"/>
                </a:cubicBezTo>
                <a:cubicBezTo>
                  <a:pt x="13108" y="4998"/>
                  <a:pt x="13114" y="5004"/>
                  <a:pt x="13120" y="5010"/>
                </a:cubicBezTo>
                <a:cubicBezTo>
                  <a:pt x="13126" y="5016"/>
                  <a:pt x="13126" y="5016"/>
                  <a:pt x="13126" y="5022"/>
                </a:cubicBezTo>
                <a:cubicBezTo>
                  <a:pt x="13132" y="5034"/>
                  <a:pt x="13132" y="5040"/>
                  <a:pt x="13132" y="5052"/>
                </a:cubicBezTo>
                <a:cubicBezTo>
                  <a:pt x="13132" y="5058"/>
                  <a:pt x="13138" y="5063"/>
                  <a:pt x="13138" y="5075"/>
                </a:cubicBezTo>
                <a:cubicBezTo>
                  <a:pt x="13138" y="5081"/>
                  <a:pt x="13144" y="5087"/>
                  <a:pt x="13150" y="5099"/>
                </a:cubicBezTo>
                <a:cubicBezTo>
                  <a:pt x="13150" y="5105"/>
                  <a:pt x="13150" y="5105"/>
                  <a:pt x="13150" y="5111"/>
                </a:cubicBezTo>
                <a:cubicBezTo>
                  <a:pt x="13150" y="5117"/>
                  <a:pt x="13150" y="5129"/>
                  <a:pt x="13150" y="5135"/>
                </a:cubicBezTo>
                <a:cubicBezTo>
                  <a:pt x="13150" y="5158"/>
                  <a:pt x="13150" y="5158"/>
                  <a:pt x="13150" y="5158"/>
                </a:cubicBezTo>
                <a:cubicBezTo>
                  <a:pt x="13150" y="5164"/>
                  <a:pt x="13150" y="5170"/>
                  <a:pt x="13150" y="5176"/>
                </a:cubicBezTo>
                <a:cubicBezTo>
                  <a:pt x="13150" y="5188"/>
                  <a:pt x="13150" y="5200"/>
                  <a:pt x="13150" y="5212"/>
                </a:cubicBezTo>
                <a:cubicBezTo>
                  <a:pt x="13150" y="5218"/>
                  <a:pt x="13150" y="5224"/>
                  <a:pt x="13150" y="5224"/>
                </a:cubicBezTo>
                <a:cubicBezTo>
                  <a:pt x="13150" y="5235"/>
                  <a:pt x="13156" y="5241"/>
                  <a:pt x="13156" y="5247"/>
                </a:cubicBezTo>
                <a:cubicBezTo>
                  <a:pt x="13156" y="5253"/>
                  <a:pt x="13162" y="5253"/>
                  <a:pt x="13162" y="5259"/>
                </a:cubicBezTo>
                <a:cubicBezTo>
                  <a:pt x="13162" y="5271"/>
                  <a:pt x="13156" y="5283"/>
                  <a:pt x="13162" y="5295"/>
                </a:cubicBezTo>
                <a:cubicBezTo>
                  <a:pt x="13162" y="5307"/>
                  <a:pt x="13168" y="5312"/>
                  <a:pt x="13179" y="5318"/>
                </a:cubicBezTo>
                <a:cubicBezTo>
                  <a:pt x="13179" y="5324"/>
                  <a:pt x="13179" y="5324"/>
                  <a:pt x="13185" y="5330"/>
                </a:cubicBezTo>
                <a:cubicBezTo>
                  <a:pt x="13191" y="5336"/>
                  <a:pt x="13197" y="5336"/>
                  <a:pt x="13197" y="5342"/>
                </a:cubicBezTo>
                <a:cubicBezTo>
                  <a:pt x="13197" y="5348"/>
                  <a:pt x="13203" y="5348"/>
                  <a:pt x="13203" y="5354"/>
                </a:cubicBezTo>
                <a:cubicBezTo>
                  <a:pt x="13209" y="5360"/>
                  <a:pt x="13203" y="5360"/>
                  <a:pt x="13203" y="5366"/>
                </a:cubicBezTo>
                <a:cubicBezTo>
                  <a:pt x="13209" y="5372"/>
                  <a:pt x="13209" y="5384"/>
                  <a:pt x="13209" y="5390"/>
                </a:cubicBezTo>
                <a:cubicBezTo>
                  <a:pt x="13215" y="5396"/>
                  <a:pt x="13215" y="5401"/>
                  <a:pt x="13215" y="5401"/>
                </a:cubicBezTo>
                <a:cubicBezTo>
                  <a:pt x="13215" y="5407"/>
                  <a:pt x="13221" y="5407"/>
                  <a:pt x="13221" y="5413"/>
                </a:cubicBezTo>
                <a:cubicBezTo>
                  <a:pt x="13227" y="5419"/>
                  <a:pt x="13227" y="5425"/>
                  <a:pt x="13227" y="5425"/>
                </a:cubicBezTo>
                <a:cubicBezTo>
                  <a:pt x="13227" y="5431"/>
                  <a:pt x="13227" y="5437"/>
                  <a:pt x="13227" y="5437"/>
                </a:cubicBezTo>
                <a:cubicBezTo>
                  <a:pt x="13227" y="5443"/>
                  <a:pt x="13233" y="5449"/>
                  <a:pt x="13233" y="5449"/>
                </a:cubicBezTo>
                <a:cubicBezTo>
                  <a:pt x="13233" y="5455"/>
                  <a:pt x="13239" y="5461"/>
                  <a:pt x="13239" y="5461"/>
                </a:cubicBezTo>
                <a:cubicBezTo>
                  <a:pt x="13245" y="5467"/>
                  <a:pt x="13250" y="5467"/>
                  <a:pt x="13250" y="5473"/>
                </a:cubicBezTo>
                <a:cubicBezTo>
                  <a:pt x="13257" y="5478"/>
                  <a:pt x="13257" y="5478"/>
                  <a:pt x="13257" y="5485"/>
                </a:cubicBezTo>
                <a:cubicBezTo>
                  <a:pt x="13262" y="5490"/>
                  <a:pt x="13268" y="5490"/>
                  <a:pt x="13268" y="5496"/>
                </a:cubicBezTo>
                <a:cubicBezTo>
                  <a:pt x="13274" y="5502"/>
                  <a:pt x="13274" y="5508"/>
                  <a:pt x="13274" y="5520"/>
                </a:cubicBezTo>
                <a:cubicBezTo>
                  <a:pt x="13274" y="5532"/>
                  <a:pt x="13274" y="5532"/>
                  <a:pt x="13274" y="5532"/>
                </a:cubicBezTo>
                <a:cubicBezTo>
                  <a:pt x="13268" y="5538"/>
                  <a:pt x="13268" y="5544"/>
                  <a:pt x="13268" y="5556"/>
                </a:cubicBezTo>
                <a:cubicBezTo>
                  <a:pt x="13268" y="5567"/>
                  <a:pt x="13268" y="5579"/>
                  <a:pt x="13280" y="5591"/>
                </a:cubicBezTo>
                <a:cubicBezTo>
                  <a:pt x="13280" y="5597"/>
                  <a:pt x="13286" y="5597"/>
                  <a:pt x="13292" y="5603"/>
                </a:cubicBezTo>
                <a:cubicBezTo>
                  <a:pt x="13292" y="5609"/>
                  <a:pt x="13292" y="5615"/>
                  <a:pt x="13298" y="5615"/>
                </a:cubicBezTo>
                <a:cubicBezTo>
                  <a:pt x="13298" y="5621"/>
                  <a:pt x="13304" y="5621"/>
                  <a:pt x="13304" y="5627"/>
                </a:cubicBezTo>
                <a:cubicBezTo>
                  <a:pt x="13316" y="5644"/>
                  <a:pt x="13322" y="5662"/>
                  <a:pt x="13334" y="5680"/>
                </a:cubicBezTo>
                <a:cubicBezTo>
                  <a:pt x="13339" y="5692"/>
                  <a:pt x="13345" y="5698"/>
                  <a:pt x="13351" y="5716"/>
                </a:cubicBezTo>
                <a:cubicBezTo>
                  <a:pt x="13351" y="5716"/>
                  <a:pt x="13351" y="5722"/>
                  <a:pt x="13351" y="5728"/>
                </a:cubicBezTo>
                <a:cubicBezTo>
                  <a:pt x="13357" y="5733"/>
                  <a:pt x="13357" y="5733"/>
                  <a:pt x="13357" y="5733"/>
                </a:cubicBezTo>
                <a:cubicBezTo>
                  <a:pt x="13357" y="5739"/>
                  <a:pt x="13363" y="5739"/>
                  <a:pt x="13369" y="5745"/>
                </a:cubicBezTo>
                <a:cubicBezTo>
                  <a:pt x="13375" y="5751"/>
                  <a:pt x="13375" y="5757"/>
                  <a:pt x="13387" y="5757"/>
                </a:cubicBezTo>
                <a:cubicBezTo>
                  <a:pt x="13393" y="5757"/>
                  <a:pt x="13399" y="5757"/>
                  <a:pt x="13405" y="5751"/>
                </a:cubicBezTo>
                <a:cubicBezTo>
                  <a:pt x="13405" y="5751"/>
                  <a:pt x="13411" y="5751"/>
                  <a:pt x="13416" y="5745"/>
                </a:cubicBezTo>
                <a:cubicBezTo>
                  <a:pt x="13416" y="5739"/>
                  <a:pt x="13416" y="5739"/>
                  <a:pt x="13416" y="5733"/>
                </a:cubicBezTo>
                <a:cubicBezTo>
                  <a:pt x="13416" y="5728"/>
                  <a:pt x="13423" y="5728"/>
                  <a:pt x="13423" y="5722"/>
                </a:cubicBezTo>
                <a:cubicBezTo>
                  <a:pt x="13428" y="5710"/>
                  <a:pt x="13434" y="5698"/>
                  <a:pt x="13440" y="5686"/>
                </a:cubicBezTo>
                <a:cubicBezTo>
                  <a:pt x="13446" y="5686"/>
                  <a:pt x="13446" y="5680"/>
                  <a:pt x="13446" y="5674"/>
                </a:cubicBezTo>
                <a:cubicBezTo>
                  <a:pt x="13452" y="5674"/>
                  <a:pt x="13458" y="5680"/>
                  <a:pt x="13458" y="5674"/>
                </a:cubicBezTo>
                <a:cubicBezTo>
                  <a:pt x="13464" y="5674"/>
                  <a:pt x="13470" y="5674"/>
                  <a:pt x="13470" y="5674"/>
                </a:cubicBezTo>
                <a:cubicBezTo>
                  <a:pt x="13476" y="5668"/>
                  <a:pt x="13482" y="5668"/>
                  <a:pt x="13482" y="5662"/>
                </a:cubicBezTo>
                <a:cubicBezTo>
                  <a:pt x="13488" y="5656"/>
                  <a:pt x="13494" y="5656"/>
                  <a:pt x="13494" y="5651"/>
                </a:cubicBezTo>
                <a:cubicBezTo>
                  <a:pt x="13494" y="5651"/>
                  <a:pt x="13494" y="5644"/>
                  <a:pt x="13500" y="5644"/>
                </a:cubicBezTo>
                <a:cubicBezTo>
                  <a:pt x="13500" y="5639"/>
                  <a:pt x="13500" y="5633"/>
                  <a:pt x="13500" y="5633"/>
                </a:cubicBezTo>
                <a:cubicBezTo>
                  <a:pt x="13505" y="5621"/>
                  <a:pt x="13511" y="5621"/>
                  <a:pt x="13511" y="5609"/>
                </a:cubicBezTo>
                <a:cubicBezTo>
                  <a:pt x="13511" y="5597"/>
                  <a:pt x="13505" y="5591"/>
                  <a:pt x="13511" y="5579"/>
                </a:cubicBezTo>
                <a:lnTo>
                  <a:pt x="13517" y="5573"/>
                </a:lnTo>
                <a:cubicBezTo>
                  <a:pt x="13523" y="5562"/>
                  <a:pt x="13523" y="5556"/>
                  <a:pt x="13529" y="5550"/>
                </a:cubicBezTo>
                <a:cubicBezTo>
                  <a:pt x="13529" y="5538"/>
                  <a:pt x="13535" y="5532"/>
                  <a:pt x="13535" y="5526"/>
                </a:cubicBezTo>
                <a:cubicBezTo>
                  <a:pt x="13535" y="5514"/>
                  <a:pt x="13535" y="5508"/>
                  <a:pt x="13535" y="5502"/>
                </a:cubicBezTo>
                <a:cubicBezTo>
                  <a:pt x="13535" y="5496"/>
                  <a:pt x="13529" y="5490"/>
                  <a:pt x="13529" y="5478"/>
                </a:cubicBezTo>
                <a:cubicBezTo>
                  <a:pt x="13529" y="5473"/>
                  <a:pt x="13535" y="5473"/>
                  <a:pt x="13535" y="5467"/>
                </a:cubicBezTo>
                <a:cubicBezTo>
                  <a:pt x="13535" y="5407"/>
                  <a:pt x="13535" y="5407"/>
                  <a:pt x="13535" y="5407"/>
                </a:cubicBezTo>
                <a:cubicBezTo>
                  <a:pt x="13535" y="5390"/>
                  <a:pt x="13529" y="5372"/>
                  <a:pt x="13529" y="5354"/>
                </a:cubicBezTo>
                <a:cubicBezTo>
                  <a:pt x="13529" y="5348"/>
                  <a:pt x="13535" y="5348"/>
                  <a:pt x="13535" y="5342"/>
                </a:cubicBezTo>
                <a:cubicBezTo>
                  <a:pt x="13541" y="5342"/>
                  <a:pt x="13541" y="5336"/>
                  <a:pt x="13541" y="5336"/>
                </a:cubicBezTo>
                <a:cubicBezTo>
                  <a:pt x="13553" y="5324"/>
                  <a:pt x="13565" y="5330"/>
                  <a:pt x="13577" y="5330"/>
                </a:cubicBezTo>
                <a:cubicBezTo>
                  <a:pt x="13589" y="5330"/>
                  <a:pt x="13600" y="5336"/>
                  <a:pt x="13612" y="5324"/>
                </a:cubicBezTo>
                <a:cubicBezTo>
                  <a:pt x="13618" y="5318"/>
                  <a:pt x="13618" y="5312"/>
                  <a:pt x="13618" y="5301"/>
                </a:cubicBezTo>
                <a:cubicBezTo>
                  <a:pt x="13618" y="5301"/>
                  <a:pt x="13624" y="5295"/>
                  <a:pt x="13624" y="5289"/>
                </a:cubicBezTo>
                <a:cubicBezTo>
                  <a:pt x="13630" y="5283"/>
                  <a:pt x="13630" y="5283"/>
                  <a:pt x="13636" y="5277"/>
                </a:cubicBezTo>
                <a:cubicBezTo>
                  <a:pt x="13642" y="5277"/>
                  <a:pt x="13642" y="5277"/>
                  <a:pt x="13648" y="5277"/>
                </a:cubicBezTo>
                <a:cubicBezTo>
                  <a:pt x="13654" y="5277"/>
                  <a:pt x="13654" y="5277"/>
                  <a:pt x="13660" y="5271"/>
                </a:cubicBezTo>
                <a:cubicBezTo>
                  <a:pt x="13666" y="5271"/>
                  <a:pt x="13666" y="5265"/>
                  <a:pt x="13671" y="5265"/>
                </a:cubicBezTo>
                <a:cubicBezTo>
                  <a:pt x="13677" y="5265"/>
                  <a:pt x="13677" y="5259"/>
                  <a:pt x="13677" y="5253"/>
                </a:cubicBezTo>
                <a:cubicBezTo>
                  <a:pt x="13683" y="5253"/>
                  <a:pt x="13689" y="5247"/>
                  <a:pt x="13689" y="5247"/>
                </a:cubicBezTo>
                <a:cubicBezTo>
                  <a:pt x="13695" y="5247"/>
                  <a:pt x="13701" y="5247"/>
                  <a:pt x="13701" y="5247"/>
                </a:cubicBezTo>
                <a:cubicBezTo>
                  <a:pt x="13707" y="5241"/>
                  <a:pt x="13707" y="5235"/>
                  <a:pt x="13713" y="5235"/>
                </a:cubicBezTo>
                <a:cubicBezTo>
                  <a:pt x="13719" y="5224"/>
                  <a:pt x="13719" y="5218"/>
                  <a:pt x="13725" y="5212"/>
                </a:cubicBezTo>
                <a:cubicBezTo>
                  <a:pt x="13725" y="5206"/>
                  <a:pt x="13731" y="5206"/>
                  <a:pt x="13731" y="5200"/>
                </a:cubicBezTo>
                <a:cubicBezTo>
                  <a:pt x="13737" y="5194"/>
                  <a:pt x="13737" y="5194"/>
                  <a:pt x="13743" y="5188"/>
                </a:cubicBezTo>
                <a:cubicBezTo>
                  <a:pt x="13743" y="5182"/>
                  <a:pt x="13748" y="5182"/>
                  <a:pt x="13748" y="5176"/>
                </a:cubicBezTo>
                <a:cubicBezTo>
                  <a:pt x="13760" y="5170"/>
                  <a:pt x="13766" y="5170"/>
                  <a:pt x="13772" y="5164"/>
                </a:cubicBezTo>
                <a:cubicBezTo>
                  <a:pt x="13778" y="5164"/>
                  <a:pt x="13778" y="5158"/>
                  <a:pt x="13784" y="5152"/>
                </a:cubicBezTo>
                <a:cubicBezTo>
                  <a:pt x="13784" y="5152"/>
                  <a:pt x="13784" y="5146"/>
                  <a:pt x="13790" y="5141"/>
                </a:cubicBezTo>
                <a:cubicBezTo>
                  <a:pt x="13790" y="5141"/>
                  <a:pt x="13790" y="5135"/>
                  <a:pt x="13796" y="5129"/>
                </a:cubicBezTo>
                <a:cubicBezTo>
                  <a:pt x="13796" y="5129"/>
                  <a:pt x="13802" y="5135"/>
                  <a:pt x="13808" y="5129"/>
                </a:cubicBezTo>
                <a:cubicBezTo>
                  <a:pt x="13808" y="5129"/>
                  <a:pt x="13814" y="5135"/>
                  <a:pt x="13814" y="5129"/>
                </a:cubicBezTo>
                <a:cubicBezTo>
                  <a:pt x="13820" y="5129"/>
                  <a:pt x="13826" y="5129"/>
                  <a:pt x="13826" y="5123"/>
                </a:cubicBezTo>
                <a:cubicBezTo>
                  <a:pt x="13832" y="5117"/>
                  <a:pt x="13826" y="5117"/>
                  <a:pt x="13826" y="5111"/>
                </a:cubicBezTo>
                <a:cubicBezTo>
                  <a:pt x="13832" y="5105"/>
                  <a:pt x="13837" y="5099"/>
                  <a:pt x="13849" y="5093"/>
                </a:cubicBezTo>
                <a:cubicBezTo>
                  <a:pt x="13849" y="5093"/>
                  <a:pt x="13855" y="5093"/>
                  <a:pt x="13861" y="5093"/>
                </a:cubicBezTo>
                <a:cubicBezTo>
                  <a:pt x="13867" y="5093"/>
                  <a:pt x="13873" y="5093"/>
                  <a:pt x="13885" y="5093"/>
                </a:cubicBezTo>
                <a:cubicBezTo>
                  <a:pt x="13885" y="5087"/>
                  <a:pt x="13891" y="5081"/>
                  <a:pt x="13891" y="5081"/>
                </a:cubicBezTo>
                <a:cubicBezTo>
                  <a:pt x="13903" y="5063"/>
                  <a:pt x="13897" y="5052"/>
                  <a:pt x="13897" y="5034"/>
                </a:cubicBezTo>
                <a:cubicBezTo>
                  <a:pt x="13903" y="5028"/>
                  <a:pt x="13903" y="5022"/>
                  <a:pt x="13903" y="5010"/>
                </a:cubicBezTo>
                <a:cubicBezTo>
                  <a:pt x="13956" y="5010"/>
                  <a:pt x="13956" y="5010"/>
                  <a:pt x="13956" y="5010"/>
                </a:cubicBezTo>
                <a:cubicBezTo>
                  <a:pt x="13962" y="5010"/>
                  <a:pt x="13962" y="5016"/>
                  <a:pt x="13968" y="5016"/>
                </a:cubicBezTo>
                <a:cubicBezTo>
                  <a:pt x="13974" y="5016"/>
                  <a:pt x="13980" y="5022"/>
                  <a:pt x="13986" y="5022"/>
                </a:cubicBezTo>
                <a:cubicBezTo>
                  <a:pt x="13992" y="5022"/>
                  <a:pt x="13992" y="5022"/>
                  <a:pt x="13992" y="5022"/>
                </a:cubicBezTo>
                <a:cubicBezTo>
                  <a:pt x="13998" y="5016"/>
                  <a:pt x="13998" y="5016"/>
                  <a:pt x="14003" y="5010"/>
                </a:cubicBezTo>
                <a:cubicBezTo>
                  <a:pt x="14003" y="5010"/>
                  <a:pt x="14009" y="5010"/>
                  <a:pt x="14015" y="5010"/>
                </a:cubicBezTo>
                <a:cubicBezTo>
                  <a:pt x="14021" y="5010"/>
                  <a:pt x="14021" y="5004"/>
                  <a:pt x="14027" y="4998"/>
                </a:cubicBezTo>
                <a:cubicBezTo>
                  <a:pt x="14027" y="4998"/>
                  <a:pt x="14033" y="4998"/>
                  <a:pt x="14039" y="4998"/>
                </a:cubicBezTo>
                <a:cubicBezTo>
                  <a:pt x="14039" y="4992"/>
                  <a:pt x="14045" y="4992"/>
                  <a:pt x="14045" y="4986"/>
                </a:cubicBezTo>
                <a:cubicBezTo>
                  <a:pt x="14051" y="4986"/>
                  <a:pt x="14051" y="4980"/>
                  <a:pt x="14051" y="4975"/>
                </a:cubicBezTo>
                <a:cubicBezTo>
                  <a:pt x="14110" y="4975"/>
                  <a:pt x="14110" y="4975"/>
                  <a:pt x="14110" y="4975"/>
                </a:cubicBezTo>
                <a:cubicBezTo>
                  <a:pt x="14110" y="4945"/>
                  <a:pt x="14110" y="4945"/>
                  <a:pt x="14110" y="4945"/>
                </a:cubicBezTo>
                <a:cubicBezTo>
                  <a:pt x="14116" y="4945"/>
                  <a:pt x="14122" y="4945"/>
                  <a:pt x="14128" y="4945"/>
                </a:cubicBezTo>
                <a:cubicBezTo>
                  <a:pt x="14134" y="4945"/>
                  <a:pt x="14140" y="4945"/>
                  <a:pt x="14140" y="4945"/>
                </a:cubicBezTo>
                <a:cubicBezTo>
                  <a:pt x="14146" y="4951"/>
                  <a:pt x="14146" y="4951"/>
                  <a:pt x="14152" y="4957"/>
                </a:cubicBezTo>
                <a:cubicBezTo>
                  <a:pt x="14152" y="4963"/>
                  <a:pt x="14152" y="4963"/>
                  <a:pt x="14152" y="4969"/>
                </a:cubicBezTo>
                <a:cubicBezTo>
                  <a:pt x="14158" y="4975"/>
                  <a:pt x="14158" y="4975"/>
                  <a:pt x="14158" y="4980"/>
                </a:cubicBezTo>
                <a:cubicBezTo>
                  <a:pt x="14164" y="4980"/>
                  <a:pt x="14170" y="4980"/>
                  <a:pt x="14170" y="4986"/>
                </a:cubicBezTo>
                <a:cubicBezTo>
                  <a:pt x="14175" y="4986"/>
                  <a:pt x="14175" y="4992"/>
                  <a:pt x="14175" y="4998"/>
                </a:cubicBezTo>
                <a:cubicBezTo>
                  <a:pt x="14181" y="5004"/>
                  <a:pt x="14181" y="5016"/>
                  <a:pt x="14187" y="5022"/>
                </a:cubicBezTo>
                <a:cubicBezTo>
                  <a:pt x="14187" y="5034"/>
                  <a:pt x="14181" y="5034"/>
                  <a:pt x="14181" y="5046"/>
                </a:cubicBezTo>
                <a:cubicBezTo>
                  <a:pt x="14181" y="5052"/>
                  <a:pt x="14187" y="5052"/>
                  <a:pt x="14187" y="5058"/>
                </a:cubicBezTo>
                <a:cubicBezTo>
                  <a:pt x="14187" y="5058"/>
                  <a:pt x="14193" y="5063"/>
                  <a:pt x="14193" y="5069"/>
                </a:cubicBezTo>
                <a:cubicBezTo>
                  <a:pt x="14193" y="5069"/>
                  <a:pt x="14199" y="5069"/>
                  <a:pt x="14205" y="5075"/>
                </a:cubicBezTo>
                <a:cubicBezTo>
                  <a:pt x="14205" y="5075"/>
                  <a:pt x="14205" y="5081"/>
                  <a:pt x="14205" y="5087"/>
                </a:cubicBezTo>
                <a:cubicBezTo>
                  <a:pt x="14217" y="5093"/>
                  <a:pt x="14223" y="5093"/>
                  <a:pt x="14229" y="5105"/>
                </a:cubicBezTo>
                <a:cubicBezTo>
                  <a:pt x="14235" y="5105"/>
                  <a:pt x="14241" y="5105"/>
                  <a:pt x="14241" y="5111"/>
                </a:cubicBezTo>
                <a:cubicBezTo>
                  <a:pt x="14247" y="5117"/>
                  <a:pt x="14247" y="5117"/>
                  <a:pt x="14253" y="5123"/>
                </a:cubicBezTo>
                <a:cubicBezTo>
                  <a:pt x="14253" y="5129"/>
                  <a:pt x="14258" y="5129"/>
                  <a:pt x="14258" y="5135"/>
                </a:cubicBezTo>
                <a:cubicBezTo>
                  <a:pt x="14258" y="5146"/>
                  <a:pt x="14258" y="5146"/>
                  <a:pt x="14258" y="5146"/>
                </a:cubicBezTo>
                <a:cubicBezTo>
                  <a:pt x="14258" y="5152"/>
                  <a:pt x="14258" y="5152"/>
                  <a:pt x="14258" y="5158"/>
                </a:cubicBezTo>
                <a:cubicBezTo>
                  <a:pt x="14253" y="5164"/>
                  <a:pt x="14258" y="5170"/>
                  <a:pt x="14258" y="5182"/>
                </a:cubicBezTo>
                <a:cubicBezTo>
                  <a:pt x="14258" y="5182"/>
                  <a:pt x="14253" y="5182"/>
                  <a:pt x="14258" y="5182"/>
                </a:cubicBezTo>
                <a:cubicBezTo>
                  <a:pt x="14264" y="5176"/>
                  <a:pt x="14270" y="5176"/>
                  <a:pt x="14276" y="5176"/>
                </a:cubicBezTo>
                <a:cubicBezTo>
                  <a:pt x="14282" y="5176"/>
                  <a:pt x="14288" y="5182"/>
                  <a:pt x="14288" y="5182"/>
                </a:cubicBezTo>
                <a:cubicBezTo>
                  <a:pt x="14294" y="5182"/>
                  <a:pt x="14300" y="5182"/>
                  <a:pt x="14300" y="5188"/>
                </a:cubicBezTo>
                <a:cubicBezTo>
                  <a:pt x="14306" y="5188"/>
                  <a:pt x="14300" y="5194"/>
                  <a:pt x="14300" y="5194"/>
                </a:cubicBezTo>
                <a:cubicBezTo>
                  <a:pt x="14300" y="5206"/>
                  <a:pt x="14300" y="5212"/>
                  <a:pt x="14300" y="5218"/>
                </a:cubicBezTo>
                <a:cubicBezTo>
                  <a:pt x="14300" y="5224"/>
                  <a:pt x="14294" y="5230"/>
                  <a:pt x="14294" y="5230"/>
                </a:cubicBezTo>
                <a:cubicBezTo>
                  <a:pt x="14288" y="5241"/>
                  <a:pt x="14288" y="5253"/>
                  <a:pt x="14288" y="5265"/>
                </a:cubicBezTo>
                <a:cubicBezTo>
                  <a:pt x="14288" y="5283"/>
                  <a:pt x="14288" y="5301"/>
                  <a:pt x="14300" y="5312"/>
                </a:cubicBezTo>
                <a:cubicBezTo>
                  <a:pt x="14306" y="5312"/>
                  <a:pt x="14312" y="5318"/>
                  <a:pt x="14312" y="5318"/>
                </a:cubicBezTo>
                <a:cubicBezTo>
                  <a:pt x="14318" y="5324"/>
                  <a:pt x="14318" y="5324"/>
                  <a:pt x="14324" y="5330"/>
                </a:cubicBezTo>
                <a:cubicBezTo>
                  <a:pt x="14330" y="5330"/>
                  <a:pt x="14341" y="5330"/>
                  <a:pt x="14347" y="5330"/>
                </a:cubicBezTo>
                <a:cubicBezTo>
                  <a:pt x="14359" y="5330"/>
                  <a:pt x="14359" y="5330"/>
                  <a:pt x="14359" y="5330"/>
                </a:cubicBezTo>
                <a:cubicBezTo>
                  <a:pt x="14365" y="5330"/>
                  <a:pt x="14365" y="5330"/>
                  <a:pt x="14371" y="5330"/>
                </a:cubicBezTo>
                <a:cubicBezTo>
                  <a:pt x="14377" y="5324"/>
                  <a:pt x="14371" y="5318"/>
                  <a:pt x="14377" y="5318"/>
                </a:cubicBezTo>
                <a:cubicBezTo>
                  <a:pt x="14377" y="5312"/>
                  <a:pt x="14383" y="5312"/>
                  <a:pt x="14389" y="5312"/>
                </a:cubicBezTo>
                <a:cubicBezTo>
                  <a:pt x="14395" y="5312"/>
                  <a:pt x="14395" y="5307"/>
                  <a:pt x="14401" y="5307"/>
                </a:cubicBezTo>
                <a:cubicBezTo>
                  <a:pt x="14407" y="5307"/>
                  <a:pt x="14413" y="5307"/>
                  <a:pt x="14424" y="5301"/>
                </a:cubicBezTo>
                <a:cubicBezTo>
                  <a:pt x="14424" y="5289"/>
                  <a:pt x="14424" y="5289"/>
                  <a:pt x="14424" y="5289"/>
                </a:cubicBezTo>
                <a:cubicBezTo>
                  <a:pt x="14424" y="5277"/>
                  <a:pt x="14424" y="5277"/>
                  <a:pt x="14424" y="5277"/>
                </a:cubicBezTo>
                <a:cubicBezTo>
                  <a:pt x="14424" y="5277"/>
                  <a:pt x="14430" y="5271"/>
                  <a:pt x="14430" y="5265"/>
                </a:cubicBezTo>
                <a:cubicBezTo>
                  <a:pt x="14448" y="5271"/>
                  <a:pt x="14460" y="5271"/>
                  <a:pt x="14466" y="5283"/>
                </a:cubicBezTo>
                <a:cubicBezTo>
                  <a:pt x="14472" y="5283"/>
                  <a:pt x="14472" y="5289"/>
                  <a:pt x="14472" y="5295"/>
                </a:cubicBezTo>
                <a:cubicBezTo>
                  <a:pt x="14478" y="5301"/>
                  <a:pt x="14478" y="5301"/>
                  <a:pt x="14478" y="5307"/>
                </a:cubicBezTo>
                <a:cubicBezTo>
                  <a:pt x="14484" y="5312"/>
                  <a:pt x="14484" y="5318"/>
                  <a:pt x="14490" y="5330"/>
                </a:cubicBezTo>
                <a:cubicBezTo>
                  <a:pt x="14490" y="5342"/>
                  <a:pt x="14490" y="5348"/>
                  <a:pt x="14496" y="5366"/>
                </a:cubicBezTo>
                <a:cubicBezTo>
                  <a:pt x="14496" y="5366"/>
                  <a:pt x="14496" y="5372"/>
                  <a:pt x="14502" y="5378"/>
                </a:cubicBezTo>
                <a:cubicBezTo>
                  <a:pt x="14502" y="5384"/>
                  <a:pt x="14507" y="5384"/>
                  <a:pt x="14507" y="5390"/>
                </a:cubicBezTo>
                <a:cubicBezTo>
                  <a:pt x="14507" y="5390"/>
                  <a:pt x="14519" y="5390"/>
                  <a:pt x="14519" y="5396"/>
                </a:cubicBezTo>
                <a:cubicBezTo>
                  <a:pt x="14519" y="5396"/>
                  <a:pt x="14519" y="5401"/>
                  <a:pt x="14519" y="5407"/>
                </a:cubicBezTo>
                <a:cubicBezTo>
                  <a:pt x="14519" y="5419"/>
                  <a:pt x="14502" y="5425"/>
                  <a:pt x="14502" y="5443"/>
                </a:cubicBezTo>
                <a:cubicBezTo>
                  <a:pt x="14502" y="5449"/>
                  <a:pt x="14507" y="5455"/>
                  <a:pt x="14507" y="5455"/>
                </a:cubicBezTo>
                <a:cubicBezTo>
                  <a:pt x="14507" y="5461"/>
                  <a:pt x="14513" y="5467"/>
                  <a:pt x="14513" y="5467"/>
                </a:cubicBezTo>
                <a:cubicBezTo>
                  <a:pt x="14513" y="5473"/>
                  <a:pt x="14519" y="5473"/>
                  <a:pt x="14525" y="5478"/>
                </a:cubicBezTo>
                <a:cubicBezTo>
                  <a:pt x="14531" y="5485"/>
                  <a:pt x="14531" y="5490"/>
                  <a:pt x="14543" y="5496"/>
                </a:cubicBezTo>
                <a:cubicBezTo>
                  <a:pt x="14543" y="5502"/>
                  <a:pt x="14549" y="5502"/>
                  <a:pt x="14555" y="5508"/>
                </a:cubicBezTo>
                <a:cubicBezTo>
                  <a:pt x="14555" y="5514"/>
                  <a:pt x="14561" y="5520"/>
                  <a:pt x="14561" y="5526"/>
                </a:cubicBezTo>
                <a:cubicBezTo>
                  <a:pt x="14561" y="5532"/>
                  <a:pt x="14555" y="5538"/>
                  <a:pt x="14555" y="5550"/>
                </a:cubicBezTo>
                <a:cubicBezTo>
                  <a:pt x="14555" y="5556"/>
                  <a:pt x="14561" y="5562"/>
                  <a:pt x="14561" y="5573"/>
                </a:cubicBezTo>
                <a:cubicBezTo>
                  <a:pt x="14561" y="5585"/>
                  <a:pt x="14555" y="5591"/>
                  <a:pt x="14543" y="5597"/>
                </a:cubicBezTo>
                <a:cubicBezTo>
                  <a:pt x="14543" y="5597"/>
                  <a:pt x="14537" y="5597"/>
                  <a:pt x="14531" y="5603"/>
                </a:cubicBezTo>
                <a:cubicBezTo>
                  <a:pt x="14531" y="5603"/>
                  <a:pt x="14525" y="5603"/>
                  <a:pt x="14519" y="5603"/>
                </a:cubicBezTo>
                <a:cubicBezTo>
                  <a:pt x="14519" y="5609"/>
                  <a:pt x="14519" y="5615"/>
                  <a:pt x="14513" y="5615"/>
                </a:cubicBezTo>
                <a:cubicBezTo>
                  <a:pt x="14513" y="5621"/>
                  <a:pt x="14513" y="5627"/>
                  <a:pt x="14513" y="5627"/>
                </a:cubicBezTo>
                <a:cubicBezTo>
                  <a:pt x="14513" y="5639"/>
                  <a:pt x="14513" y="5651"/>
                  <a:pt x="14513" y="5662"/>
                </a:cubicBezTo>
                <a:cubicBezTo>
                  <a:pt x="14513" y="5674"/>
                  <a:pt x="14513" y="5674"/>
                  <a:pt x="14513" y="5674"/>
                </a:cubicBezTo>
                <a:cubicBezTo>
                  <a:pt x="14513" y="5680"/>
                  <a:pt x="14507" y="5686"/>
                  <a:pt x="14507" y="5698"/>
                </a:cubicBezTo>
                <a:cubicBezTo>
                  <a:pt x="14507" y="5704"/>
                  <a:pt x="14507" y="5710"/>
                  <a:pt x="14507" y="5716"/>
                </a:cubicBezTo>
                <a:cubicBezTo>
                  <a:pt x="14507" y="5728"/>
                  <a:pt x="14507" y="5733"/>
                  <a:pt x="14507" y="5745"/>
                </a:cubicBezTo>
                <a:cubicBezTo>
                  <a:pt x="14513" y="5751"/>
                  <a:pt x="14513" y="5751"/>
                  <a:pt x="14519" y="5757"/>
                </a:cubicBezTo>
                <a:cubicBezTo>
                  <a:pt x="14525" y="5757"/>
                  <a:pt x="14525" y="5757"/>
                  <a:pt x="14531" y="5763"/>
                </a:cubicBezTo>
                <a:cubicBezTo>
                  <a:pt x="14531" y="5763"/>
                  <a:pt x="14537" y="5763"/>
                  <a:pt x="14543" y="5763"/>
                </a:cubicBezTo>
                <a:cubicBezTo>
                  <a:pt x="14549" y="5769"/>
                  <a:pt x="14555" y="5781"/>
                  <a:pt x="14561" y="5787"/>
                </a:cubicBezTo>
                <a:cubicBezTo>
                  <a:pt x="14567" y="5799"/>
                  <a:pt x="14573" y="5805"/>
                  <a:pt x="14585" y="5805"/>
                </a:cubicBezTo>
                <a:cubicBezTo>
                  <a:pt x="14591" y="5810"/>
                  <a:pt x="14591" y="5810"/>
                  <a:pt x="14596" y="5810"/>
                </a:cubicBezTo>
                <a:cubicBezTo>
                  <a:pt x="14602" y="5810"/>
                  <a:pt x="14602" y="5817"/>
                  <a:pt x="14602" y="5822"/>
                </a:cubicBezTo>
                <a:cubicBezTo>
                  <a:pt x="14608" y="5828"/>
                  <a:pt x="14614" y="5828"/>
                  <a:pt x="14614" y="5834"/>
                </a:cubicBezTo>
                <a:cubicBezTo>
                  <a:pt x="14614" y="5846"/>
                  <a:pt x="14614" y="5846"/>
                  <a:pt x="14614" y="5858"/>
                </a:cubicBezTo>
                <a:cubicBezTo>
                  <a:pt x="14614" y="5870"/>
                  <a:pt x="14614" y="5876"/>
                  <a:pt x="14620" y="5882"/>
                </a:cubicBezTo>
                <a:cubicBezTo>
                  <a:pt x="14620" y="5888"/>
                  <a:pt x="14632" y="5894"/>
                  <a:pt x="14632" y="5905"/>
                </a:cubicBezTo>
                <a:cubicBezTo>
                  <a:pt x="14638" y="5911"/>
                  <a:pt x="14632" y="5911"/>
                  <a:pt x="14638" y="5917"/>
                </a:cubicBezTo>
                <a:cubicBezTo>
                  <a:pt x="14638" y="5923"/>
                  <a:pt x="14644" y="5923"/>
                  <a:pt x="14650" y="5929"/>
                </a:cubicBezTo>
                <a:cubicBezTo>
                  <a:pt x="14650" y="5941"/>
                  <a:pt x="14656" y="5947"/>
                  <a:pt x="14656" y="5959"/>
                </a:cubicBezTo>
                <a:cubicBezTo>
                  <a:pt x="14656" y="6018"/>
                  <a:pt x="14656" y="6018"/>
                  <a:pt x="14656" y="6018"/>
                </a:cubicBezTo>
                <a:cubicBezTo>
                  <a:pt x="14656" y="6024"/>
                  <a:pt x="14662" y="6024"/>
                  <a:pt x="14662" y="6030"/>
                </a:cubicBezTo>
                <a:cubicBezTo>
                  <a:pt x="14662" y="6036"/>
                  <a:pt x="14662" y="6042"/>
                  <a:pt x="14662" y="6042"/>
                </a:cubicBezTo>
                <a:cubicBezTo>
                  <a:pt x="14668" y="6048"/>
                  <a:pt x="14668" y="6054"/>
                  <a:pt x="14673" y="6054"/>
                </a:cubicBezTo>
                <a:cubicBezTo>
                  <a:pt x="14679" y="6060"/>
                  <a:pt x="14679" y="6065"/>
                  <a:pt x="14685" y="6065"/>
                </a:cubicBezTo>
                <a:cubicBezTo>
                  <a:pt x="14685" y="6071"/>
                  <a:pt x="14691" y="6071"/>
                  <a:pt x="14697" y="6071"/>
                </a:cubicBezTo>
                <a:cubicBezTo>
                  <a:pt x="14709" y="6083"/>
                  <a:pt x="14715" y="6089"/>
                  <a:pt x="14733" y="6095"/>
                </a:cubicBezTo>
                <a:cubicBezTo>
                  <a:pt x="14739" y="6101"/>
                  <a:pt x="14751" y="6101"/>
                  <a:pt x="14757" y="6107"/>
                </a:cubicBezTo>
                <a:cubicBezTo>
                  <a:pt x="14762" y="6113"/>
                  <a:pt x="14762" y="6119"/>
                  <a:pt x="14768" y="6125"/>
                </a:cubicBezTo>
                <a:cubicBezTo>
                  <a:pt x="14774" y="6131"/>
                  <a:pt x="14774" y="6137"/>
                  <a:pt x="14774" y="6137"/>
                </a:cubicBezTo>
                <a:cubicBezTo>
                  <a:pt x="14780" y="6142"/>
                  <a:pt x="14786" y="6142"/>
                  <a:pt x="14786" y="6142"/>
                </a:cubicBezTo>
                <a:cubicBezTo>
                  <a:pt x="14792" y="6142"/>
                  <a:pt x="14792" y="6142"/>
                  <a:pt x="14798" y="6142"/>
                </a:cubicBezTo>
                <a:cubicBezTo>
                  <a:pt x="14804" y="6149"/>
                  <a:pt x="14810" y="6149"/>
                  <a:pt x="14816" y="6149"/>
                </a:cubicBezTo>
                <a:cubicBezTo>
                  <a:pt x="14822" y="6154"/>
                  <a:pt x="14828" y="6154"/>
                  <a:pt x="14834" y="6154"/>
                </a:cubicBezTo>
                <a:cubicBezTo>
                  <a:pt x="14839" y="6154"/>
                  <a:pt x="14839" y="6154"/>
                  <a:pt x="14839" y="6154"/>
                </a:cubicBezTo>
                <a:cubicBezTo>
                  <a:pt x="14846" y="6154"/>
                  <a:pt x="14846" y="6149"/>
                  <a:pt x="14851" y="6149"/>
                </a:cubicBezTo>
                <a:cubicBezTo>
                  <a:pt x="14846" y="6137"/>
                  <a:pt x="14839" y="6131"/>
                  <a:pt x="14834" y="6125"/>
                </a:cubicBezTo>
                <a:cubicBezTo>
                  <a:pt x="14834" y="6119"/>
                  <a:pt x="14834" y="6113"/>
                  <a:pt x="14828" y="6113"/>
                </a:cubicBezTo>
                <a:cubicBezTo>
                  <a:pt x="14828" y="6113"/>
                  <a:pt x="14822" y="6113"/>
                  <a:pt x="14816" y="6113"/>
                </a:cubicBezTo>
                <a:cubicBezTo>
                  <a:pt x="14810" y="6101"/>
                  <a:pt x="14804" y="6095"/>
                  <a:pt x="14804" y="6089"/>
                </a:cubicBezTo>
                <a:cubicBezTo>
                  <a:pt x="14804" y="6077"/>
                  <a:pt x="14804" y="6071"/>
                  <a:pt x="14804" y="6060"/>
                </a:cubicBezTo>
                <a:cubicBezTo>
                  <a:pt x="14804" y="6060"/>
                  <a:pt x="14804" y="6054"/>
                  <a:pt x="14804" y="6048"/>
                </a:cubicBezTo>
                <a:cubicBezTo>
                  <a:pt x="14798" y="6036"/>
                  <a:pt x="14804" y="6030"/>
                  <a:pt x="14804" y="6018"/>
                </a:cubicBezTo>
                <a:cubicBezTo>
                  <a:pt x="14804" y="6012"/>
                  <a:pt x="14798" y="6006"/>
                  <a:pt x="14798" y="6006"/>
                </a:cubicBezTo>
                <a:cubicBezTo>
                  <a:pt x="14798" y="6000"/>
                  <a:pt x="14792" y="5994"/>
                  <a:pt x="14792" y="5994"/>
                </a:cubicBezTo>
                <a:cubicBezTo>
                  <a:pt x="14792" y="5988"/>
                  <a:pt x="14780" y="5988"/>
                  <a:pt x="14780" y="5983"/>
                </a:cubicBezTo>
                <a:cubicBezTo>
                  <a:pt x="14780" y="5971"/>
                  <a:pt x="14780" y="5959"/>
                  <a:pt x="14780" y="5947"/>
                </a:cubicBezTo>
                <a:cubicBezTo>
                  <a:pt x="14780" y="5935"/>
                  <a:pt x="14780" y="5935"/>
                  <a:pt x="14780" y="5935"/>
                </a:cubicBezTo>
                <a:cubicBezTo>
                  <a:pt x="14780" y="5929"/>
                  <a:pt x="14780" y="5929"/>
                  <a:pt x="14780" y="5923"/>
                </a:cubicBezTo>
                <a:cubicBezTo>
                  <a:pt x="14780" y="5911"/>
                  <a:pt x="14780" y="5911"/>
                  <a:pt x="14780" y="5911"/>
                </a:cubicBezTo>
                <a:cubicBezTo>
                  <a:pt x="14780" y="5905"/>
                  <a:pt x="14774" y="5905"/>
                  <a:pt x="14774" y="5899"/>
                </a:cubicBezTo>
                <a:cubicBezTo>
                  <a:pt x="14774" y="5876"/>
                  <a:pt x="14774" y="5876"/>
                  <a:pt x="14774" y="5876"/>
                </a:cubicBezTo>
                <a:cubicBezTo>
                  <a:pt x="14762" y="5876"/>
                  <a:pt x="14751" y="5882"/>
                  <a:pt x="14739" y="5876"/>
                </a:cubicBezTo>
                <a:cubicBezTo>
                  <a:pt x="14739" y="5870"/>
                  <a:pt x="14733" y="5870"/>
                  <a:pt x="14733" y="5864"/>
                </a:cubicBezTo>
                <a:cubicBezTo>
                  <a:pt x="14727" y="5864"/>
                  <a:pt x="14727" y="5858"/>
                  <a:pt x="14721" y="5852"/>
                </a:cubicBezTo>
                <a:cubicBezTo>
                  <a:pt x="14715" y="5852"/>
                  <a:pt x="14715" y="5852"/>
                  <a:pt x="14709" y="5846"/>
                </a:cubicBezTo>
                <a:cubicBezTo>
                  <a:pt x="14703" y="5846"/>
                  <a:pt x="14703" y="5840"/>
                  <a:pt x="14697" y="5834"/>
                </a:cubicBezTo>
                <a:cubicBezTo>
                  <a:pt x="14691" y="5834"/>
                  <a:pt x="14685" y="5828"/>
                  <a:pt x="14673" y="5828"/>
                </a:cubicBezTo>
                <a:cubicBezTo>
                  <a:pt x="14673" y="5828"/>
                  <a:pt x="14668" y="5828"/>
                  <a:pt x="14662" y="5828"/>
                </a:cubicBezTo>
                <a:cubicBezTo>
                  <a:pt x="14650" y="5822"/>
                  <a:pt x="14650" y="5817"/>
                  <a:pt x="14644" y="5810"/>
                </a:cubicBezTo>
                <a:cubicBezTo>
                  <a:pt x="14638" y="5805"/>
                  <a:pt x="14632" y="5805"/>
                  <a:pt x="14632" y="5799"/>
                </a:cubicBezTo>
                <a:cubicBezTo>
                  <a:pt x="14632" y="5793"/>
                  <a:pt x="14632" y="5793"/>
                  <a:pt x="14632" y="5787"/>
                </a:cubicBezTo>
                <a:cubicBezTo>
                  <a:pt x="14626" y="5781"/>
                  <a:pt x="14632" y="5775"/>
                  <a:pt x="14632" y="5763"/>
                </a:cubicBezTo>
                <a:cubicBezTo>
                  <a:pt x="14632" y="5763"/>
                  <a:pt x="14632" y="5757"/>
                  <a:pt x="14632" y="5751"/>
                </a:cubicBezTo>
                <a:cubicBezTo>
                  <a:pt x="14632" y="5751"/>
                  <a:pt x="14632" y="5745"/>
                  <a:pt x="14626" y="5739"/>
                </a:cubicBezTo>
                <a:cubicBezTo>
                  <a:pt x="14626" y="5739"/>
                  <a:pt x="14620" y="5739"/>
                  <a:pt x="14614" y="5733"/>
                </a:cubicBezTo>
                <a:cubicBezTo>
                  <a:pt x="14614" y="5733"/>
                  <a:pt x="14608" y="5733"/>
                  <a:pt x="14602" y="5728"/>
                </a:cubicBezTo>
                <a:cubicBezTo>
                  <a:pt x="14602" y="5722"/>
                  <a:pt x="14602" y="5716"/>
                  <a:pt x="14602" y="5710"/>
                </a:cubicBezTo>
                <a:cubicBezTo>
                  <a:pt x="14602" y="5698"/>
                  <a:pt x="14602" y="5698"/>
                  <a:pt x="14602" y="5698"/>
                </a:cubicBezTo>
                <a:cubicBezTo>
                  <a:pt x="14602" y="5692"/>
                  <a:pt x="14602" y="5686"/>
                  <a:pt x="14602" y="5686"/>
                </a:cubicBezTo>
                <a:cubicBezTo>
                  <a:pt x="14602" y="5680"/>
                  <a:pt x="14596" y="5686"/>
                  <a:pt x="14591" y="5680"/>
                </a:cubicBezTo>
                <a:cubicBezTo>
                  <a:pt x="14585" y="5680"/>
                  <a:pt x="14585" y="5680"/>
                  <a:pt x="14579" y="5674"/>
                </a:cubicBezTo>
                <a:cubicBezTo>
                  <a:pt x="14573" y="5674"/>
                  <a:pt x="14573" y="5674"/>
                  <a:pt x="14573" y="5674"/>
                </a:cubicBezTo>
                <a:cubicBezTo>
                  <a:pt x="14573" y="5615"/>
                  <a:pt x="14573" y="5615"/>
                  <a:pt x="14573" y="5615"/>
                </a:cubicBezTo>
                <a:cubicBezTo>
                  <a:pt x="14573" y="5597"/>
                  <a:pt x="14585" y="5591"/>
                  <a:pt x="14591" y="5579"/>
                </a:cubicBezTo>
                <a:cubicBezTo>
                  <a:pt x="14602" y="5567"/>
                  <a:pt x="14602" y="5556"/>
                  <a:pt x="14608" y="5544"/>
                </a:cubicBezTo>
                <a:cubicBezTo>
                  <a:pt x="14614" y="5538"/>
                  <a:pt x="14614" y="5532"/>
                  <a:pt x="14614" y="5526"/>
                </a:cubicBezTo>
                <a:cubicBezTo>
                  <a:pt x="14614" y="5520"/>
                  <a:pt x="14608" y="5514"/>
                  <a:pt x="14608" y="5502"/>
                </a:cubicBezTo>
                <a:cubicBezTo>
                  <a:pt x="14608" y="5496"/>
                  <a:pt x="14608" y="5496"/>
                  <a:pt x="14614" y="5490"/>
                </a:cubicBezTo>
                <a:cubicBezTo>
                  <a:pt x="14614" y="5485"/>
                  <a:pt x="14620" y="5485"/>
                  <a:pt x="14626" y="5478"/>
                </a:cubicBezTo>
                <a:cubicBezTo>
                  <a:pt x="14626" y="5473"/>
                  <a:pt x="14632" y="5473"/>
                  <a:pt x="14632" y="5467"/>
                </a:cubicBezTo>
                <a:cubicBezTo>
                  <a:pt x="14638" y="5467"/>
                  <a:pt x="14644" y="5467"/>
                  <a:pt x="14644" y="5467"/>
                </a:cubicBezTo>
                <a:cubicBezTo>
                  <a:pt x="14650" y="5473"/>
                  <a:pt x="14650" y="5473"/>
                  <a:pt x="14656" y="5478"/>
                </a:cubicBezTo>
                <a:cubicBezTo>
                  <a:pt x="14662" y="5478"/>
                  <a:pt x="14656" y="5485"/>
                  <a:pt x="14662" y="5490"/>
                </a:cubicBezTo>
                <a:cubicBezTo>
                  <a:pt x="14662" y="5490"/>
                  <a:pt x="14673" y="5490"/>
                  <a:pt x="14673" y="5496"/>
                </a:cubicBezTo>
                <a:cubicBezTo>
                  <a:pt x="14679" y="5502"/>
                  <a:pt x="14673" y="5514"/>
                  <a:pt x="14679" y="5520"/>
                </a:cubicBezTo>
                <a:cubicBezTo>
                  <a:pt x="14679" y="5526"/>
                  <a:pt x="14685" y="5526"/>
                  <a:pt x="14691" y="5526"/>
                </a:cubicBezTo>
                <a:cubicBezTo>
                  <a:pt x="14697" y="5532"/>
                  <a:pt x="14697" y="5532"/>
                  <a:pt x="14709" y="5532"/>
                </a:cubicBezTo>
                <a:cubicBezTo>
                  <a:pt x="14715" y="5532"/>
                  <a:pt x="14715" y="5532"/>
                  <a:pt x="14715" y="5532"/>
                </a:cubicBezTo>
                <a:cubicBezTo>
                  <a:pt x="14715" y="5532"/>
                  <a:pt x="14721" y="5526"/>
                  <a:pt x="14727" y="5526"/>
                </a:cubicBezTo>
                <a:lnTo>
                  <a:pt x="14733" y="5520"/>
                </a:lnTo>
                <a:cubicBezTo>
                  <a:pt x="14745" y="5520"/>
                  <a:pt x="14745" y="5532"/>
                  <a:pt x="14751" y="5544"/>
                </a:cubicBezTo>
                <a:cubicBezTo>
                  <a:pt x="14757" y="5550"/>
                  <a:pt x="14768" y="5556"/>
                  <a:pt x="14768" y="5567"/>
                </a:cubicBezTo>
                <a:cubicBezTo>
                  <a:pt x="14774" y="5573"/>
                  <a:pt x="14774" y="5579"/>
                  <a:pt x="14780" y="5591"/>
                </a:cubicBezTo>
                <a:cubicBezTo>
                  <a:pt x="14780" y="5597"/>
                  <a:pt x="14786" y="5603"/>
                  <a:pt x="14792" y="5615"/>
                </a:cubicBezTo>
                <a:cubicBezTo>
                  <a:pt x="14792" y="5621"/>
                  <a:pt x="14798" y="5627"/>
                  <a:pt x="14804" y="5639"/>
                </a:cubicBezTo>
                <a:cubicBezTo>
                  <a:pt x="14810" y="5644"/>
                  <a:pt x="14816" y="5651"/>
                  <a:pt x="14822" y="5656"/>
                </a:cubicBezTo>
                <a:cubicBezTo>
                  <a:pt x="14828" y="5656"/>
                  <a:pt x="14834" y="5656"/>
                  <a:pt x="14834" y="5656"/>
                </a:cubicBezTo>
                <a:cubicBezTo>
                  <a:pt x="14839" y="5656"/>
                  <a:pt x="14846" y="5656"/>
                  <a:pt x="14846" y="5656"/>
                </a:cubicBezTo>
                <a:cubicBezTo>
                  <a:pt x="14851" y="5662"/>
                  <a:pt x="14857" y="5662"/>
                  <a:pt x="14857" y="5662"/>
                </a:cubicBezTo>
                <a:cubicBezTo>
                  <a:pt x="14863" y="5662"/>
                  <a:pt x="14869" y="5662"/>
                  <a:pt x="14869" y="5662"/>
                </a:cubicBezTo>
                <a:cubicBezTo>
                  <a:pt x="14875" y="5668"/>
                  <a:pt x="14881" y="5668"/>
                  <a:pt x="14881" y="5674"/>
                </a:cubicBezTo>
                <a:cubicBezTo>
                  <a:pt x="14881" y="5686"/>
                  <a:pt x="14869" y="5692"/>
                  <a:pt x="14869" y="5698"/>
                </a:cubicBezTo>
                <a:cubicBezTo>
                  <a:pt x="14863" y="5710"/>
                  <a:pt x="14863" y="5716"/>
                  <a:pt x="14863" y="5722"/>
                </a:cubicBezTo>
                <a:cubicBezTo>
                  <a:pt x="14863" y="5739"/>
                  <a:pt x="14869" y="5751"/>
                  <a:pt x="14881" y="5769"/>
                </a:cubicBezTo>
                <a:cubicBezTo>
                  <a:pt x="14887" y="5769"/>
                  <a:pt x="14887" y="5763"/>
                  <a:pt x="14893" y="5757"/>
                </a:cubicBezTo>
                <a:cubicBezTo>
                  <a:pt x="14899" y="5751"/>
                  <a:pt x="14899" y="5745"/>
                  <a:pt x="14911" y="5733"/>
                </a:cubicBezTo>
                <a:cubicBezTo>
                  <a:pt x="14917" y="5733"/>
                  <a:pt x="14917" y="5733"/>
                  <a:pt x="14923" y="5728"/>
                </a:cubicBezTo>
                <a:cubicBezTo>
                  <a:pt x="14928" y="5722"/>
                  <a:pt x="14928" y="5722"/>
                  <a:pt x="14934" y="5716"/>
                </a:cubicBezTo>
                <a:cubicBezTo>
                  <a:pt x="14940" y="5710"/>
                  <a:pt x="14940" y="5710"/>
                  <a:pt x="14946" y="5704"/>
                </a:cubicBezTo>
                <a:cubicBezTo>
                  <a:pt x="14952" y="5704"/>
                  <a:pt x="14958" y="5698"/>
                  <a:pt x="14958" y="5698"/>
                </a:cubicBezTo>
                <a:cubicBezTo>
                  <a:pt x="14958" y="5692"/>
                  <a:pt x="14964" y="5686"/>
                  <a:pt x="14964" y="5686"/>
                </a:cubicBezTo>
                <a:cubicBezTo>
                  <a:pt x="14964" y="5680"/>
                  <a:pt x="14970" y="5680"/>
                  <a:pt x="14970" y="5674"/>
                </a:cubicBezTo>
                <a:cubicBezTo>
                  <a:pt x="14976" y="5668"/>
                  <a:pt x="14976" y="5668"/>
                  <a:pt x="14976" y="5662"/>
                </a:cubicBezTo>
                <a:cubicBezTo>
                  <a:pt x="14976" y="5656"/>
                  <a:pt x="14976" y="5656"/>
                  <a:pt x="14976" y="5651"/>
                </a:cubicBezTo>
                <a:cubicBezTo>
                  <a:pt x="14982" y="5644"/>
                  <a:pt x="14982" y="5639"/>
                  <a:pt x="14988" y="5639"/>
                </a:cubicBezTo>
                <a:cubicBezTo>
                  <a:pt x="14994" y="5639"/>
                  <a:pt x="15000" y="5644"/>
                  <a:pt x="15005" y="5644"/>
                </a:cubicBezTo>
                <a:cubicBezTo>
                  <a:pt x="15017" y="5644"/>
                  <a:pt x="15023" y="5644"/>
                  <a:pt x="15029" y="5644"/>
                </a:cubicBezTo>
                <a:cubicBezTo>
                  <a:pt x="15035" y="5639"/>
                  <a:pt x="15041" y="5639"/>
                  <a:pt x="15041" y="5633"/>
                </a:cubicBezTo>
                <a:cubicBezTo>
                  <a:pt x="15053" y="5627"/>
                  <a:pt x="15059" y="5615"/>
                  <a:pt x="15071" y="5609"/>
                </a:cubicBezTo>
                <a:cubicBezTo>
                  <a:pt x="15077" y="5603"/>
                  <a:pt x="15077" y="5597"/>
                  <a:pt x="15083" y="5597"/>
                </a:cubicBezTo>
                <a:cubicBezTo>
                  <a:pt x="15089" y="5597"/>
                  <a:pt x="15094" y="5597"/>
                  <a:pt x="15094" y="5591"/>
                </a:cubicBezTo>
                <a:cubicBezTo>
                  <a:pt x="15100" y="5591"/>
                  <a:pt x="15106" y="5591"/>
                  <a:pt x="15106" y="5585"/>
                </a:cubicBezTo>
                <a:cubicBezTo>
                  <a:pt x="15106" y="5579"/>
                  <a:pt x="15106" y="5579"/>
                  <a:pt x="15112" y="5573"/>
                </a:cubicBezTo>
                <a:cubicBezTo>
                  <a:pt x="15112" y="5567"/>
                  <a:pt x="15112" y="5562"/>
                  <a:pt x="15112" y="5550"/>
                </a:cubicBezTo>
                <a:cubicBezTo>
                  <a:pt x="15112" y="5532"/>
                  <a:pt x="15112" y="5514"/>
                  <a:pt x="15112" y="5496"/>
                </a:cubicBezTo>
                <a:cubicBezTo>
                  <a:pt x="15112" y="5455"/>
                  <a:pt x="15112" y="5455"/>
                  <a:pt x="15112" y="5455"/>
                </a:cubicBezTo>
                <a:cubicBezTo>
                  <a:pt x="15112" y="5443"/>
                  <a:pt x="15112" y="5437"/>
                  <a:pt x="15112" y="5425"/>
                </a:cubicBezTo>
                <a:cubicBezTo>
                  <a:pt x="15106" y="5413"/>
                  <a:pt x="15100" y="5407"/>
                  <a:pt x="15094" y="5390"/>
                </a:cubicBezTo>
                <a:cubicBezTo>
                  <a:pt x="15094" y="5384"/>
                  <a:pt x="15089" y="5378"/>
                  <a:pt x="15089" y="5366"/>
                </a:cubicBezTo>
                <a:cubicBezTo>
                  <a:pt x="15089" y="5354"/>
                  <a:pt x="15089" y="5348"/>
                  <a:pt x="15089" y="5342"/>
                </a:cubicBezTo>
                <a:cubicBezTo>
                  <a:pt x="15077" y="5342"/>
                  <a:pt x="15071" y="5342"/>
                  <a:pt x="15059" y="5342"/>
                </a:cubicBezTo>
                <a:cubicBezTo>
                  <a:pt x="15059" y="5336"/>
                  <a:pt x="15053" y="5336"/>
                  <a:pt x="15047" y="5336"/>
                </a:cubicBezTo>
                <a:cubicBezTo>
                  <a:pt x="15047" y="5330"/>
                  <a:pt x="15047" y="5324"/>
                  <a:pt x="15041" y="5324"/>
                </a:cubicBezTo>
                <a:cubicBezTo>
                  <a:pt x="15035" y="5312"/>
                  <a:pt x="15029" y="5307"/>
                  <a:pt x="15023" y="5295"/>
                </a:cubicBezTo>
                <a:cubicBezTo>
                  <a:pt x="15023" y="5295"/>
                  <a:pt x="15023" y="5289"/>
                  <a:pt x="15023" y="5283"/>
                </a:cubicBezTo>
                <a:cubicBezTo>
                  <a:pt x="15023" y="5283"/>
                  <a:pt x="15017" y="5283"/>
                  <a:pt x="15012" y="5283"/>
                </a:cubicBezTo>
                <a:cubicBezTo>
                  <a:pt x="15005" y="5277"/>
                  <a:pt x="15005" y="5277"/>
                  <a:pt x="15000" y="5271"/>
                </a:cubicBezTo>
                <a:cubicBezTo>
                  <a:pt x="14994" y="5265"/>
                  <a:pt x="14988" y="5265"/>
                  <a:pt x="14976" y="5259"/>
                </a:cubicBezTo>
                <a:cubicBezTo>
                  <a:pt x="14976" y="5253"/>
                  <a:pt x="14970" y="5253"/>
                  <a:pt x="14964" y="5247"/>
                </a:cubicBezTo>
                <a:cubicBezTo>
                  <a:pt x="14964" y="5247"/>
                  <a:pt x="14964" y="5241"/>
                  <a:pt x="14958" y="5235"/>
                </a:cubicBezTo>
                <a:cubicBezTo>
                  <a:pt x="14952" y="5230"/>
                  <a:pt x="14946" y="5235"/>
                  <a:pt x="14946" y="5230"/>
                </a:cubicBezTo>
                <a:cubicBezTo>
                  <a:pt x="14946" y="5224"/>
                  <a:pt x="14946" y="5212"/>
                  <a:pt x="14946" y="5206"/>
                </a:cubicBezTo>
                <a:cubicBezTo>
                  <a:pt x="14946" y="5200"/>
                  <a:pt x="14946" y="5200"/>
                  <a:pt x="14946" y="5194"/>
                </a:cubicBezTo>
                <a:cubicBezTo>
                  <a:pt x="14946" y="5188"/>
                  <a:pt x="14934" y="5188"/>
                  <a:pt x="14934" y="5188"/>
                </a:cubicBezTo>
                <a:cubicBezTo>
                  <a:pt x="14928" y="5176"/>
                  <a:pt x="14934" y="5176"/>
                  <a:pt x="14934" y="5164"/>
                </a:cubicBezTo>
                <a:cubicBezTo>
                  <a:pt x="14934" y="5158"/>
                  <a:pt x="14928" y="5152"/>
                  <a:pt x="14934" y="5146"/>
                </a:cubicBezTo>
                <a:cubicBezTo>
                  <a:pt x="14934" y="5141"/>
                  <a:pt x="14934" y="5141"/>
                  <a:pt x="14934" y="5135"/>
                </a:cubicBezTo>
                <a:cubicBezTo>
                  <a:pt x="14934" y="5129"/>
                  <a:pt x="14946" y="5129"/>
                  <a:pt x="14946" y="5123"/>
                </a:cubicBezTo>
                <a:cubicBezTo>
                  <a:pt x="14952" y="5123"/>
                  <a:pt x="14952" y="5123"/>
                  <a:pt x="14958" y="5117"/>
                </a:cubicBezTo>
                <a:cubicBezTo>
                  <a:pt x="14964" y="5111"/>
                  <a:pt x="14970" y="5117"/>
                  <a:pt x="14970" y="5111"/>
                </a:cubicBezTo>
                <a:cubicBezTo>
                  <a:pt x="14970" y="5105"/>
                  <a:pt x="14970" y="5099"/>
                  <a:pt x="14970" y="5099"/>
                </a:cubicBezTo>
                <a:cubicBezTo>
                  <a:pt x="14970" y="5093"/>
                  <a:pt x="14970" y="5087"/>
                  <a:pt x="14970" y="5081"/>
                </a:cubicBezTo>
                <a:cubicBezTo>
                  <a:pt x="14976" y="5075"/>
                  <a:pt x="14976" y="5069"/>
                  <a:pt x="14976" y="5063"/>
                </a:cubicBezTo>
                <a:cubicBezTo>
                  <a:pt x="14982" y="5058"/>
                  <a:pt x="14982" y="5058"/>
                  <a:pt x="14982" y="5052"/>
                </a:cubicBezTo>
                <a:cubicBezTo>
                  <a:pt x="14982" y="5046"/>
                  <a:pt x="14982" y="5040"/>
                  <a:pt x="14988" y="5034"/>
                </a:cubicBezTo>
                <a:cubicBezTo>
                  <a:pt x="14994" y="5034"/>
                  <a:pt x="15000" y="5034"/>
                  <a:pt x="15000" y="5034"/>
                </a:cubicBezTo>
                <a:cubicBezTo>
                  <a:pt x="15005" y="5034"/>
                  <a:pt x="15012" y="5034"/>
                  <a:pt x="15017" y="5034"/>
                </a:cubicBezTo>
                <a:cubicBezTo>
                  <a:pt x="15023" y="5034"/>
                  <a:pt x="15029" y="5028"/>
                  <a:pt x="15041" y="5022"/>
                </a:cubicBezTo>
                <a:cubicBezTo>
                  <a:pt x="15047" y="5022"/>
                  <a:pt x="15047" y="5022"/>
                  <a:pt x="15053" y="5022"/>
                </a:cubicBezTo>
                <a:cubicBezTo>
                  <a:pt x="15059" y="5022"/>
                  <a:pt x="15059" y="5010"/>
                  <a:pt x="15059" y="5010"/>
                </a:cubicBezTo>
                <a:cubicBezTo>
                  <a:pt x="15065" y="5010"/>
                  <a:pt x="15071" y="5010"/>
                  <a:pt x="15071" y="5010"/>
                </a:cubicBezTo>
                <a:cubicBezTo>
                  <a:pt x="15083" y="5010"/>
                  <a:pt x="15089" y="5010"/>
                  <a:pt x="15094" y="5010"/>
                </a:cubicBezTo>
                <a:cubicBezTo>
                  <a:pt x="15100" y="5010"/>
                  <a:pt x="15100" y="5016"/>
                  <a:pt x="15106" y="5016"/>
                </a:cubicBezTo>
                <a:cubicBezTo>
                  <a:pt x="15118" y="5016"/>
                  <a:pt x="15130" y="5010"/>
                  <a:pt x="15142" y="5010"/>
                </a:cubicBezTo>
                <a:cubicBezTo>
                  <a:pt x="15142" y="5028"/>
                  <a:pt x="15142" y="5028"/>
                  <a:pt x="15142" y="5028"/>
                </a:cubicBezTo>
                <a:lnTo>
                  <a:pt x="15136" y="5034"/>
                </a:lnTo>
                <a:cubicBezTo>
                  <a:pt x="15136" y="5099"/>
                  <a:pt x="15136" y="5099"/>
                  <a:pt x="15136" y="5099"/>
                </a:cubicBezTo>
                <a:cubicBezTo>
                  <a:pt x="15136" y="5105"/>
                  <a:pt x="15136" y="5111"/>
                  <a:pt x="15130" y="5111"/>
                </a:cubicBezTo>
                <a:cubicBezTo>
                  <a:pt x="15124" y="5111"/>
                  <a:pt x="15124" y="5117"/>
                  <a:pt x="15118" y="5117"/>
                </a:cubicBezTo>
                <a:cubicBezTo>
                  <a:pt x="15112" y="5117"/>
                  <a:pt x="15112" y="5117"/>
                  <a:pt x="15106" y="5117"/>
                </a:cubicBezTo>
                <a:cubicBezTo>
                  <a:pt x="15100" y="5117"/>
                  <a:pt x="15100" y="5123"/>
                  <a:pt x="15094" y="5123"/>
                </a:cubicBezTo>
                <a:cubicBezTo>
                  <a:pt x="15089" y="5129"/>
                  <a:pt x="15089" y="5135"/>
                  <a:pt x="15089" y="5135"/>
                </a:cubicBezTo>
                <a:cubicBezTo>
                  <a:pt x="15083" y="5141"/>
                  <a:pt x="15077" y="5146"/>
                  <a:pt x="15077" y="5152"/>
                </a:cubicBezTo>
                <a:cubicBezTo>
                  <a:pt x="15077" y="5158"/>
                  <a:pt x="15077" y="5164"/>
                  <a:pt x="15077" y="5170"/>
                </a:cubicBezTo>
                <a:cubicBezTo>
                  <a:pt x="15083" y="5176"/>
                  <a:pt x="15077" y="5182"/>
                  <a:pt x="15083" y="5188"/>
                </a:cubicBezTo>
                <a:cubicBezTo>
                  <a:pt x="15083" y="5188"/>
                  <a:pt x="15089" y="5188"/>
                  <a:pt x="15094" y="5188"/>
                </a:cubicBezTo>
                <a:cubicBezTo>
                  <a:pt x="15183" y="5188"/>
                  <a:pt x="15183" y="5188"/>
                  <a:pt x="15183" y="5188"/>
                </a:cubicBezTo>
                <a:cubicBezTo>
                  <a:pt x="15183" y="5176"/>
                  <a:pt x="15183" y="5164"/>
                  <a:pt x="15189" y="5152"/>
                </a:cubicBezTo>
                <a:cubicBezTo>
                  <a:pt x="15189" y="5146"/>
                  <a:pt x="15189" y="5141"/>
                  <a:pt x="15195" y="5141"/>
                </a:cubicBezTo>
                <a:cubicBezTo>
                  <a:pt x="15195" y="5135"/>
                  <a:pt x="15201" y="5135"/>
                  <a:pt x="15201" y="5129"/>
                </a:cubicBezTo>
                <a:cubicBezTo>
                  <a:pt x="15201" y="5123"/>
                  <a:pt x="15201" y="5123"/>
                  <a:pt x="15201" y="5117"/>
                </a:cubicBezTo>
                <a:cubicBezTo>
                  <a:pt x="15201" y="5111"/>
                  <a:pt x="15201" y="5105"/>
                  <a:pt x="15201" y="5105"/>
                </a:cubicBezTo>
                <a:cubicBezTo>
                  <a:pt x="15195" y="5093"/>
                  <a:pt x="15189" y="5099"/>
                  <a:pt x="15178" y="5093"/>
                </a:cubicBezTo>
                <a:cubicBezTo>
                  <a:pt x="15178" y="5028"/>
                  <a:pt x="15178" y="5028"/>
                  <a:pt x="15178" y="5028"/>
                </a:cubicBezTo>
                <a:cubicBezTo>
                  <a:pt x="15189" y="5028"/>
                  <a:pt x="15195" y="5028"/>
                  <a:pt x="15201" y="5028"/>
                </a:cubicBezTo>
                <a:cubicBezTo>
                  <a:pt x="15213" y="5028"/>
                  <a:pt x="15213" y="5028"/>
                  <a:pt x="15213" y="5028"/>
                </a:cubicBezTo>
                <a:cubicBezTo>
                  <a:pt x="15219" y="5028"/>
                  <a:pt x="15225" y="5022"/>
                  <a:pt x="15225" y="5022"/>
                </a:cubicBezTo>
                <a:cubicBezTo>
                  <a:pt x="15231" y="5016"/>
                  <a:pt x="15231" y="5010"/>
                  <a:pt x="15237" y="5010"/>
                </a:cubicBezTo>
                <a:cubicBezTo>
                  <a:pt x="15243" y="5004"/>
                  <a:pt x="15243" y="4998"/>
                  <a:pt x="15249" y="4998"/>
                </a:cubicBezTo>
                <a:cubicBezTo>
                  <a:pt x="15255" y="4998"/>
                  <a:pt x="15266" y="4998"/>
                  <a:pt x="15272" y="4992"/>
                </a:cubicBezTo>
                <a:cubicBezTo>
                  <a:pt x="15278" y="4992"/>
                  <a:pt x="15290" y="4992"/>
                  <a:pt x="15296" y="4992"/>
                </a:cubicBezTo>
                <a:cubicBezTo>
                  <a:pt x="15308" y="4992"/>
                  <a:pt x="15308" y="4992"/>
                  <a:pt x="15308" y="4992"/>
                </a:cubicBezTo>
                <a:cubicBezTo>
                  <a:pt x="15314" y="4992"/>
                  <a:pt x="15320" y="4992"/>
                  <a:pt x="15320" y="4992"/>
                </a:cubicBezTo>
                <a:cubicBezTo>
                  <a:pt x="15332" y="4992"/>
                  <a:pt x="15337" y="4998"/>
                  <a:pt x="15344" y="4998"/>
                </a:cubicBezTo>
                <a:cubicBezTo>
                  <a:pt x="15349" y="4998"/>
                  <a:pt x="15349" y="4998"/>
                  <a:pt x="15355" y="4998"/>
                </a:cubicBezTo>
                <a:cubicBezTo>
                  <a:pt x="15361" y="4998"/>
                  <a:pt x="15361" y="4992"/>
                  <a:pt x="15367" y="4992"/>
                </a:cubicBezTo>
                <a:cubicBezTo>
                  <a:pt x="15373" y="4986"/>
                  <a:pt x="15373" y="4980"/>
                  <a:pt x="15373" y="4980"/>
                </a:cubicBezTo>
                <a:cubicBezTo>
                  <a:pt x="15379" y="4975"/>
                  <a:pt x="15379" y="4975"/>
                  <a:pt x="15379" y="4969"/>
                </a:cubicBezTo>
                <a:cubicBezTo>
                  <a:pt x="15391" y="4969"/>
                  <a:pt x="15397" y="4969"/>
                  <a:pt x="15403" y="4969"/>
                </a:cubicBezTo>
                <a:cubicBezTo>
                  <a:pt x="15409" y="4969"/>
                  <a:pt x="15409" y="4963"/>
                  <a:pt x="15415" y="4963"/>
                </a:cubicBezTo>
                <a:cubicBezTo>
                  <a:pt x="15421" y="4963"/>
                  <a:pt x="15426" y="4963"/>
                  <a:pt x="15438" y="4963"/>
                </a:cubicBezTo>
                <a:cubicBezTo>
                  <a:pt x="15444" y="4963"/>
                  <a:pt x="15444" y="4963"/>
                  <a:pt x="15450" y="4963"/>
                </a:cubicBezTo>
                <a:cubicBezTo>
                  <a:pt x="15450" y="4957"/>
                  <a:pt x="15456" y="4963"/>
                  <a:pt x="15462" y="4963"/>
                </a:cubicBezTo>
                <a:cubicBezTo>
                  <a:pt x="15468" y="4957"/>
                  <a:pt x="15468" y="4951"/>
                  <a:pt x="15468" y="4951"/>
                </a:cubicBezTo>
                <a:cubicBezTo>
                  <a:pt x="15474" y="4945"/>
                  <a:pt x="15474" y="4939"/>
                  <a:pt x="15480" y="4939"/>
                </a:cubicBezTo>
                <a:cubicBezTo>
                  <a:pt x="15486" y="4939"/>
                  <a:pt x="15486" y="4939"/>
                  <a:pt x="15492" y="4939"/>
                </a:cubicBezTo>
                <a:cubicBezTo>
                  <a:pt x="15498" y="4933"/>
                  <a:pt x="15498" y="4933"/>
                  <a:pt x="15504" y="4927"/>
                </a:cubicBezTo>
                <a:cubicBezTo>
                  <a:pt x="15510" y="4927"/>
                  <a:pt x="15510" y="4927"/>
                  <a:pt x="15515" y="4921"/>
                </a:cubicBezTo>
                <a:cubicBezTo>
                  <a:pt x="15515" y="4921"/>
                  <a:pt x="15515" y="4915"/>
                  <a:pt x="15521" y="4909"/>
                </a:cubicBezTo>
                <a:cubicBezTo>
                  <a:pt x="15527" y="4909"/>
                  <a:pt x="15527" y="4903"/>
                  <a:pt x="15527" y="4897"/>
                </a:cubicBezTo>
                <a:cubicBezTo>
                  <a:pt x="15533" y="4897"/>
                  <a:pt x="15539" y="4892"/>
                  <a:pt x="15539" y="4892"/>
                </a:cubicBezTo>
                <a:cubicBezTo>
                  <a:pt x="15545" y="4886"/>
                  <a:pt x="15545" y="4886"/>
                  <a:pt x="15551" y="4886"/>
                </a:cubicBezTo>
                <a:cubicBezTo>
                  <a:pt x="15557" y="4886"/>
                  <a:pt x="15563" y="4886"/>
                  <a:pt x="15563" y="4886"/>
                </a:cubicBezTo>
                <a:cubicBezTo>
                  <a:pt x="15569" y="4880"/>
                  <a:pt x="15569" y="4886"/>
                  <a:pt x="15575" y="4886"/>
                </a:cubicBezTo>
                <a:cubicBezTo>
                  <a:pt x="15587" y="4880"/>
                  <a:pt x="15592" y="4874"/>
                  <a:pt x="15598" y="4868"/>
                </a:cubicBezTo>
                <a:cubicBezTo>
                  <a:pt x="15604" y="4868"/>
                  <a:pt x="15598" y="4862"/>
                  <a:pt x="15604" y="4856"/>
                </a:cubicBezTo>
                <a:cubicBezTo>
                  <a:pt x="15604" y="4856"/>
                  <a:pt x="15610" y="4856"/>
                  <a:pt x="15616" y="4850"/>
                </a:cubicBezTo>
                <a:cubicBezTo>
                  <a:pt x="15622" y="4850"/>
                  <a:pt x="15622" y="4844"/>
                  <a:pt x="15628" y="4838"/>
                </a:cubicBezTo>
                <a:cubicBezTo>
                  <a:pt x="15628" y="4838"/>
                  <a:pt x="15634" y="4832"/>
                  <a:pt x="15634" y="4826"/>
                </a:cubicBezTo>
                <a:cubicBezTo>
                  <a:pt x="15640" y="4826"/>
                  <a:pt x="15640" y="4820"/>
                  <a:pt x="15646" y="4814"/>
                </a:cubicBezTo>
                <a:cubicBezTo>
                  <a:pt x="15646" y="4814"/>
                  <a:pt x="15646" y="4809"/>
                  <a:pt x="15646" y="4803"/>
                </a:cubicBezTo>
                <a:lnTo>
                  <a:pt x="15652" y="4797"/>
                </a:lnTo>
                <a:cubicBezTo>
                  <a:pt x="15658" y="4785"/>
                  <a:pt x="15670" y="4785"/>
                  <a:pt x="15676" y="4773"/>
                </a:cubicBezTo>
                <a:cubicBezTo>
                  <a:pt x="15681" y="4761"/>
                  <a:pt x="15687" y="4749"/>
                  <a:pt x="15693" y="4737"/>
                </a:cubicBezTo>
                <a:cubicBezTo>
                  <a:pt x="15693" y="4731"/>
                  <a:pt x="15693" y="4731"/>
                  <a:pt x="15693" y="4726"/>
                </a:cubicBezTo>
                <a:cubicBezTo>
                  <a:pt x="15699" y="4720"/>
                  <a:pt x="15705" y="4720"/>
                  <a:pt x="15705" y="4714"/>
                </a:cubicBezTo>
                <a:cubicBezTo>
                  <a:pt x="15711" y="4708"/>
                  <a:pt x="15711" y="4708"/>
                  <a:pt x="15717" y="4702"/>
                </a:cubicBezTo>
                <a:cubicBezTo>
                  <a:pt x="15717" y="4696"/>
                  <a:pt x="15723" y="4696"/>
                  <a:pt x="15729" y="4690"/>
                </a:cubicBezTo>
                <a:cubicBezTo>
                  <a:pt x="15735" y="4690"/>
                  <a:pt x="15741" y="4684"/>
                  <a:pt x="15741" y="4684"/>
                </a:cubicBezTo>
                <a:cubicBezTo>
                  <a:pt x="15747" y="4678"/>
                  <a:pt x="15753" y="4678"/>
                  <a:pt x="15753" y="4672"/>
                </a:cubicBezTo>
                <a:cubicBezTo>
                  <a:pt x="15753" y="4666"/>
                  <a:pt x="15753" y="4660"/>
                  <a:pt x="15753" y="4654"/>
                </a:cubicBezTo>
                <a:cubicBezTo>
                  <a:pt x="15759" y="4654"/>
                  <a:pt x="15759" y="4648"/>
                  <a:pt x="15759" y="4642"/>
                </a:cubicBezTo>
                <a:cubicBezTo>
                  <a:pt x="15759" y="4637"/>
                  <a:pt x="15759" y="4637"/>
                  <a:pt x="15759" y="4631"/>
                </a:cubicBezTo>
                <a:cubicBezTo>
                  <a:pt x="15759" y="4631"/>
                  <a:pt x="15764" y="4625"/>
                  <a:pt x="15764" y="4619"/>
                </a:cubicBezTo>
                <a:cubicBezTo>
                  <a:pt x="15764" y="4619"/>
                  <a:pt x="15764" y="4613"/>
                  <a:pt x="15764" y="4607"/>
                </a:cubicBezTo>
                <a:cubicBezTo>
                  <a:pt x="15770" y="4601"/>
                  <a:pt x="15776" y="4601"/>
                  <a:pt x="15782" y="4601"/>
                </a:cubicBezTo>
                <a:cubicBezTo>
                  <a:pt x="15788" y="4595"/>
                  <a:pt x="15794" y="4589"/>
                  <a:pt x="15800" y="4577"/>
                </a:cubicBezTo>
                <a:cubicBezTo>
                  <a:pt x="15806" y="4565"/>
                  <a:pt x="15818" y="4560"/>
                  <a:pt x="15818" y="4548"/>
                </a:cubicBezTo>
                <a:cubicBezTo>
                  <a:pt x="15818" y="4536"/>
                  <a:pt x="15812" y="4536"/>
                  <a:pt x="15812" y="4530"/>
                </a:cubicBezTo>
                <a:cubicBezTo>
                  <a:pt x="15806" y="4524"/>
                  <a:pt x="15806" y="4518"/>
                  <a:pt x="15800" y="4518"/>
                </a:cubicBezTo>
                <a:cubicBezTo>
                  <a:pt x="15800" y="4518"/>
                  <a:pt x="15794" y="4518"/>
                  <a:pt x="15788" y="4518"/>
                </a:cubicBezTo>
                <a:cubicBezTo>
                  <a:pt x="15782" y="4518"/>
                  <a:pt x="15776" y="4518"/>
                  <a:pt x="15764" y="4512"/>
                </a:cubicBezTo>
                <a:cubicBezTo>
                  <a:pt x="15764" y="4506"/>
                  <a:pt x="15764" y="4500"/>
                  <a:pt x="15764" y="4494"/>
                </a:cubicBezTo>
                <a:cubicBezTo>
                  <a:pt x="15764" y="4488"/>
                  <a:pt x="15764" y="4482"/>
                  <a:pt x="15764" y="4482"/>
                </a:cubicBezTo>
                <a:cubicBezTo>
                  <a:pt x="15764" y="4476"/>
                  <a:pt x="15764" y="4471"/>
                  <a:pt x="15764" y="4471"/>
                </a:cubicBezTo>
                <a:cubicBezTo>
                  <a:pt x="15788" y="4471"/>
                  <a:pt x="15788" y="4471"/>
                  <a:pt x="15788" y="4471"/>
                </a:cubicBezTo>
                <a:cubicBezTo>
                  <a:pt x="15788" y="4465"/>
                  <a:pt x="15788" y="4459"/>
                  <a:pt x="15788" y="4459"/>
                </a:cubicBezTo>
                <a:cubicBezTo>
                  <a:pt x="15782" y="4453"/>
                  <a:pt x="15776" y="4453"/>
                  <a:pt x="15776" y="4447"/>
                </a:cubicBezTo>
                <a:cubicBezTo>
                  <a:pt x="15776" y="4435"/>
                  <a:pt x="15782" y="4423"/>
                  <a:pt x="15776" y="4411"/>
                </a:cubicBezTo>
                <a:cubicBezTo>
                  <a:pt x="15776" y="4405"/>
                  <a:pt x="15776" y="4405"/>
                  <a:pt x="15776" y="4399"/>
                </a:cubicBezTo>
                <a:cubicBezTo>
                  <a:pt x="15776" y="4394"/>
                  <a:pt x="15770" y="4394"/>
                  <a:pt x="15764" y="4387"/>
                </a:cubicBezTo>
                <a:cubicBezTo>
                  <a:pt x="15764" y="4382"/>
                  <a:pt x="15759" y="4387"/>
                  <a:pt x="15753" y="4382"/>
                </a:cubicBezTo>
                <a:cubicBezTo>
                  <a:pt x="15753" y="4370"/>
                  <a:pt x="15759" y="4358"/>
                  <a:pt x="15759" y="4346"/>
                </a:cubicBezTo>
                <a:cubicBezTo>
                  <a:pt x="15759" y="4334"/>
                  <a:pt x="15753" y="4322"/>
                  <a:pt x="15747" y="4310"/>
                </a:cubicBezTo>
                <a:cubicBezTo>
                  <a:pt x="15747" y="4305"/>
                  <a:pt x="15741" y="4299"/>
                  <a:pt x="15735" y="4287"/>
                </a:cubicBezTo>
                <a:cubicBezTo>
                  <a:pt x="15723" y="4281"/>
                  <a:pt x="15723" y="4269"/>
                  <a:pt x="15711" y="4263"/>
                </a:cubicBezTo>
                <a:cubicBezTo>
                  <a:pt x="15705" y="4263"/>
                  <a:pt x="15705" y="4257"/>
                  <a:pt x="15699" y="4257"/>
                </a:cubicBezTo>
                <a:cubicBezTo>
                  <a:pt x="15693" y="4251"/>
                  <a:pt x="15687" y="4257"/>
                  <a:pt x="15681" y="4257"/>
                </a:cubicBezTo>
                <a:cubicBezTo>
                  <a:pt x="15681" y="4251"/>
                  <a:pt x="15676" y="4251"/>
                  <a:pt x="15670" y="4245"/>
                </a:cubicBezTo>
                <a:cubicBezTo>
                  <a:pt x="15670" y="4245"/>
                  <a:pt x="15670" y="4239"/>
                  <a:pt x="15670" y="4233"/>
                </a:cubicBezTo>
                <a:cubicBezTo>
                  <a:pt x="15670" y="4221"/>
                  <a:pt x="15670" y="4221"/>
                  <a:pt x="15670" y="4221"/>
                </a:cubicBezTo>
                <a:cubicBezTo>
                  <a:pt x="15670" y="4216"/>
                  <a:pt x="15676" y="4216"/>
                  <a:pt x="15676" y="4210"/>
                </a:cubicBezTo>
                <a:cubicBezTo>
                  <a:pt x="15681" y="4204"/>
                  <a:pt x="15687" y="4204"/>
                  <a:pt x="15687" y="4198"/>
                </a:cubicBezTo>
                <a:cubicBezTo>
                  <a:pt x="15693" y="4198"/>
                  <a:pt x="15699" y="4198"/>
                  <a:pt x="15699" y="4192"/>
                </a:cubicBezTo>
                <a:cubicBezTo>
                  <a:pt x="15699" y="4186"/>
                  <a:pt x="15699" y="4180"/>
                  <a:pt x="15699" y="4168"/>
                </a:cubicBezTo>
                <a:cubicBezTo>
                  <a:pt x="15699" y="4144"/>
                  <a:pt x="15699" y="4144"/>
                  <a:pt x="15699" y="4144"/>
                </a:cubicBezTo>
                <a:cubicBezTo>
                  <a:pt x="15735" y="4144"/>
                  <a:pt x="15735" y="4144"/>
                  <a:pt x="15735" y="4144"/>
                </a:cubicBezTo>
                <a:cubicBezTo>
                  <a:pt x="15735" y="4144"/>
                  <a:pt x="15741" y="4144"/>
                  <a:pt x="15741" y="4139"/>
                </a:cubicBezTo>
                <a:cubicBezTo>
                  <a:pt x="15747" y="4133"/>
                  <a:pt x="15747" y="4133"/>
                  <a:pt x="15753" y="4127"/>
                </a:cubicBezTo>
                <a:cubicBezTo>
                  <a:pt x="15753" y="4121"/>
                  <a:pt x="15753" y="4115"/>
                  <a:pt x="15759" y="4115"/>
                </a:cubicBezTo>
                <a:cubicBezTo>
                  <a:pt x="15759" y="4115"/>
                  <a:pt x="15764" y="4115"/>
                  <a:pt x="15770" y="4115"/>
                </a:cubicBezTo>
                <a:cubicBezTo>
                  <a:pt x="15770" y="4115"/>
                  <a:pt x="15776" y="4115"/>
                  <a:pt x="15782" y="4115"/>
                </a:cubicBezTo>
                <a:cubicBezTo>
                  <a:pt x="15782" y="4115"/>
                  <a:pt x="15788" y="4109"/>
                  <a:pt x="15794" y="4109"/>
                </a:cubicBezTo>
                <a:cubicBezTo>
                  <a:pt x="15806" y="4109"/>
                  <a:pt x="15806" y="4109"/>
                  <a:pt x="15806" y="4109"/>
                </a:cubicBezTo>
                <a:cubicBezTo>
                  <a:pt x="15818" y="4109"/>
                  <a:pt x="15824" y="4109"/>
                  <a:pt x="15836" y="4109"/>
                </a:cubicBezTo>
                <a:cubicBezTo>
                  <a:pt x="15842" y="4097"/>
                  <a:pt x="15842" y="4091"/>
                  <a:pt x="15842" y="4079"/>
                </a:cubicBezTo>
                <a:lnTo>
                  <a:pt x="15836" y="4073"/>
                </a:lnTo>
                <a:cubicBezTo>
                  <a:pt x="15782" y="4073"/>
                  <a:pt x="15782" y="4073"/>
                  <a:pt x="15782" y="4073"/>
                </a:cubicBezTo>
                <a:cubicBezTo>
                  <a:pt x="15776" y="4067"/>
                  <a:pt x="15776" y="4062"/>
                  <a:pt x="15776" y="4062"/>
                </a:cubicBezTo>
                <a:cubicBezTo>
                  <a:pt x="15770" y="4050"/>
                  <a:pt x="15764" y="4044"/>
                  <a:pt x="15759" y="4038"/>
                </a:cubicBezTo>
                <a:cubicBezTo>
                  <a:pt x="15717" y="4038"/>
                  <a:pt x="15717" y="4038"/>
                  <a:pt x="15717" y="4038"/>
                </a:cubicBezTo>
                <a:cubicBezTo>
                  <a:pt x="15717" y="4044"/>
                  <a:pt x="15711" y="4050"/>
                  <a:pt x="15711" y="4062"/>
                </a:cubicBezTo>
                <a:cubicBezTo>
                  <a:pt x="15711" y="4067"/>
                  <a:pt x="15711" y="4067"/>
                  <a:pt x="15711" y="4073"/>
                </a:cubicBezTo>
                <a:lnTo>
                  <a:pt x="15705" y="4079"/>
                </a:lnTo>
                <a:cubicBezTo>
                  <a:pt x="15699" y="4079"/>
                  <a:pt x="15699" y="4085"/>
                  <a:pt x="15693" y="4085"/>
                </a:cubicBezTo>
                <a:cubicBezTo>
                  <a:pt x="15693" y="4085"/>
                  <a:pt x="15687" y="4079"/>
                  <a:pt x="15681" y="4079"/>
                </a:cubicBezTo>
                <a:cubicBezTo>
                  <a:pt x="15681" y="4079"/>
                  <a:pt x="15676" y="4079"/>
                  <a:pt x="15670" y="4079"/>
                </a:cubicBezTo>
                <a:cubicBezTo>
                  <a:pt x="15670" y="4020"/>
                  <a:pt x="15670" y="4020"/>
                  <a:pt x="15670" y="4020"/>
                </a:cubicBezTo>
                <a:cubicBezTo>
                  <a:pt x="15598" y="4020"/>
                  <a:pt x="15598" y="4020"/>
                  <a:pt x="15598" y="4020"/>
                </a:cubicBezTo>
                <a:cubicBezTo>
                  <a:pt x="15587" y="4020"/>
                  <a:pt x="15581" y="4008"/>
                  <a:pt x="15581" y="3996"/>
                </a:cubicBezTo>
                <a:cubicBezTo>
                  <a:pt x="15581" y="3984"/>
                  <a:pt x="15581" y="3978"/>
                  <a:pt x="15581" y="3973"/>
                </a:cubicBezTo>
                <a:cubicBezTo>
                  <a:pt x="15581" y="3973"/>
                  <a:pt x="15587" y="3967"/>
                  <a:pt x="15587" y="3961"/>
                </a:cubicBezTo>
                <a:cubicBezTo>
                  <a:pt x="15592" y="3961"/>
                  <a:pt x="15592" y="3955"/>
                  <a:pt x="15598" y="3955"/>
                </a:cubicBezTo>
                <a:cubicBezTo>
                  <a:pt x="15604" y="3949"/>
                  <a:pt x="15610" y="3949"/>
                  <a:pt x="15610" y="3949"/>
                </a:cubicBezTo>
                <a:cubicBezTo>
                  <a:pt x="15628" y="3949"/>
                  <a:pt x="15634" y="3949"/>
                  <a:pt x="15646" y="3949"/>
                </a:cubicBezTo>
                <a:cubicBezTo>
                  <a:pt x="15652" y="3949"/>
                  <a:pt x="15652" y="3949"/>
                  <a:pt x="15658" y="3949"/>
                </a:cubicBezTo>
                <a:cubicBezTo>
                  <a:pt x="15664" y="3949"/>
                  <a:pt x="15664" y="3949"/>
                  <a:pt x="15670" y="3949"/>
                </a:cubicBezTo>
                <a:cubicBezTo>
                  <a:pt x="15670" y="3943"/>
                  <a:pt x="15670" y="3937"/>
                  <a:pt x="15670" y="3937"/>
                </a:cubicBezTo>
                <a:cubicBezTo>
                  <a:pt x="15670" y="3931"/>
                  <a:pt x="15676" y="3925"/>
                  <a:pt x="15676" y="3925"/>
                </a:cubicBezTo>
                <a:cubicBezTo>
                  <a:pt x="15681" y="3919"/>
                  <a:pt x="15681" y="3913"/>
                  <a:pt x="15687" y="3913"/>
                </a:cubicBezTo>
                <a:cubicBezTo>
                  <a:pt x="15693" y="3907"/>
                  <a:pt x="15693" y="3913"/>
                  <a:pt x="15699" y="3907"/>
                </a:cubicBezTo>
                <a:cubicBezTo>
                  <a:pt x="15705" y="3907"/>
                  <a:pt x="15705" y="3901"/>
                  <a:pt x="15711" y="3901"/>
                </a:cubicBezTo>
                <a:cubicBezTo>
                  <a:pt x="15717" y="3901"/>
                  <a:pt x="15729" y="3901"/>
                  <a:pt x="15735" y="3901"/>
                </a:cubicBezTo>
                <a:cubicBezTo>
                  <a:pt x="15741" y="3901"/>
                  <a:pt x="15741" y="3901"/>
                  <a:pt x="15747" y="3901"/>
                </a:cubicBezTo>
                <a:cubicBezTo>
                  <a:pt x="15753" y="3901"/>
                  <a:pt x="15753" y="3895"/>
                  <a:pt x="15753" y="3889"/>
                </a:cubicBezTo>
                <a:cubicBezTo>
                  <a:pt x="15759" y="3889"/>
                  <a:pt x="15764" y="3884"/>
                  <a:pt x="15764" y="3884"/>
                </a:cubicBezTo>
                <a:cubicBezTo>
                  <a:pt x="15770" y="3878"/>
                  <a:pt x="15770" y="3872"/>
                  <a:pt x="15776" y="3872"/>
                </a:cubicBezTo>
                <a:cubicBezTo>
                  <a:pt x="15782" y="3866"/>
                  <a:pt x="15782" y="3860"/>
                  <a:pt x="15788" y="3860"/>
                </a:cubicBezTo>
                <a:cubicBezTo>
                  <a:pt x="15794" y="3854"/>
                  <a:pt x="15794" y="3848"/>
                  <a:pt x="15806" y="3848"/>
                </a:cubicBezTo>
                <a:cubicBezTo>
                  <a:pt x="15812" y="3848"/>
                  <a:pt x="15812" y="3848"/>
                  <a:pt x="15812" y="3848"/>
                </a:cubicBezTo>
                <a:cubicBezTo>
                  <a:pt x="15812" y="3848"/>
                  <a:pt x="15818" y="3848"/>
                  <a:pt x="15818" y="3854"/>
                </a:cubicBezTo>
                <a:cubicBezTo>
                  <a:pt x="15824" y="3866"/>
                  <a:pt x="15824" y="3866"/>
                  <a:pt x="15824" y="3866"/>
                </a:cubicBezTo>
                <a:cubicBezTo>
                  <a:pt x="15818" y="3866"/>
                  <a:pt x="15818" y="3872"/>
                  <a:pt x="15818" y="3878"/>
                </a:cubicBezTo>
                <a:cubicBezTo>
                  <a:pt x="15812" y="3878"/>
                  <a:pt x="15806" y="3878"/>
                  <a:pt x="15806" y="3884"/>
                </a:cubicBezTo>
                <a:cubicBezTo>
                  <a:pt x="15800" y="3889"/>
                  <a:pt x="15800" y="3901"/>
                  <a:pt x="15800" y="3907"/>
                </a:cubicBezTo>
                <a:cubicBezTo>
                  <a:pt x="15800" y="3919"/>
                  <a:pt x="15788" y="3919"/>
                  <a:pt x="15782" y="3931"/>
                </a:cubicBezTo>
                <a:cubicBezTo>
                  <a:pt x="15776" y="3931"/>
                  <a:pt x="15776" y="3937"/>
                  <a:pt x="15770" y="3943"/>
                </a:cubicBezTo>
                <a:cubicBezTo>
                  <a:pt x="15770" y="3943"/>
                  <a:pt x="15764" y="3943"/>
                  <a:pt x="15759" y="3949"/>
                </a:cubicBezTo>
                <a:cubicBezTo>
                  <a:pt x="15759" y="3955"/>
                  <a:pt x="15759" y="3955"/>
                  <a:pt x="15759" y="3961"/>
                </a:cubicBezTo>
                <a:cubicBezTo>
                  <a:pt x="15759" y="3973"/>
                  <a:pt x="15759" y="3973"/>
                  <a:pt x="15759" y="3973"/>
                </a:cubicBezTo>
                <a:cubicBezTo>
                  <a:pt x="15764" y="3973"/>
                  <a:pt x="15770" y="3967"/>
                  <a:pt x="15770" y="3967"/>
                </a:cubicBezTo>
                <a:cubicBezTo>
                  <a:pt x="15776" y="3961"/>
                  <a:pt x="15776" y="3961"/>
                  <a:pt x="15782" y="3955"/>
                </a:cubicBezTo>
                <a:cubicBezTo>
                  <a:pt x="15836" y="3955"/>
                  <a:pt x="15836" y="3955"/>
                  <a:pt x="15836" y="3955"/>
                </a:cubicBezTo>
                <a:cubicBezTo>
                  <a:pt x="15842" y="3955"/>
                  <a:pt x="15847" y="3949"/>
                  <a:pt x="15853" y="3949"/>
                </a:cubicBezTo>
                <a:cubicBezTo>
                  <a:pt x="15859" y="3943"/>
                  <a:pt x="15865" y="3931"/>
                  <a:pt x="15871" y="3925"/>
                </a:cubicBezTo>
                <a:cubicBezTo>
                  <a:pt x="15877" y="3925"/>
                  <a:pt x="15877" y="3919"/>
                  <a:pt x="15883" y="3913"/>
                </a:cubicBezTo>
                <a:lnTo>
                  <a:pt x="15889" y="3913"/>
                </a:lnTo>
                <a:cubicBezTo>
                  <a:pt x="15895" y="3913"/>
                  <a:pt x="15901" y="3907"/>
                  <a:pt x="15901" y="3907"/>
                </a:cubicBezTo>
                <a:cubicBezTo>
                  <a:pt x="15919" y="3907"/>
                  <a:pt x="15925" y="3913"/>
                  <a:pt x="15936" y="3919"/>
                </a:cubicBezTo>
                <a:cubicBezTo>
                  <a:pt x="15942" y="3919"/>
                  <a:pt x="15948" y="3919"/>
                  <a:pt x="15948" y="3919"/>
                </a:cubicBezTo>
                <a:cubicBezTo>
                  <a:pt x="15960" y="3919"/>
                  <a:pt x="15966" y="3919"/>
                  <a:pt x="15972" y="3925"/>
                </a:cubicBezTo>
                <a:cubicBezTo>
                  <a:pt x="15978" y="3931"/>
                  <a:pt x="15978" y="3931"/>
                  <a:pt x="15984" y="3931"/>
                </a:cubicBezTo>
                <a:cubicBezTo>
                  <a:pt x="15990" y="3937"/>
                  <a:pt x="15990" y="3949"/>
                  <a:pt x="15990" y="3955"/>
                </a:cubicBezTo>
                <a:cubicBezTo>
                  <a:pt x="15990" y="3967"/>
                  <a:pt x="15990" y="3967"/>
                  <a:pt x="15990" y="3967"/>
                </a:cubicBezTo>
                <a:cubicBezTo>
                  <a:pt x="15990" y="3973"/>
                  <a:pt x="15984" y="3973"/>
                  <a:pt x="15984" y="3978"/>
                </a:cubicBezTo>
                <a:cubicBezTo>
                  <a:pt x="15978" y="3984"/>
                  <a:pt x="15972" y="3984"/>
                  <a:pt x="15972" y="3990"/>
                </a:cubicBezTo>
                <a:cubicBezTo>
                  <a:pt x="15972" y="3990"/>
                  <a:pt x="15972" y="3996"/>
                  <a:pt x="15972" y="4002"/>
                </a:cubicBezTo>
                <a:cubicBezTo>
                  <a:pt x="15966" y="4008"/>
                  <a:pt x="15960" y="4008"/>
                  <a:pt x="15960" y="4020"/>
                </a:cubicBezTo>
                <a:cubicBezTo>
                  <a:pt x="15960" y="4026"/>
                  <a:pt x="15960" y="4032"/>
                  <a:pt x="15966" y="4044"/>
                </a:cubicBezTo>
                <a:cubicBezTo>
                  <a:pt x="15984" y="4044"/>
                  <a:pt x="15984" y="4044"/>
                  <a:pt x="15984" y="4044"/>
                </a:cubicBezTo>
                <a:cubicBezTo>
                  <a:pt x="15996" y="4038"/>
                  <a:pt x="15996" y="4038"/>
                  <a:pt x="15996" y="4038"/>
                </a:cubicBezTo>
                <a:cubicBezTo>
                  <a:pt x="16002" y="4038"/>
                  <a:pt x="16008" y="4032"/>
                  <a:pt x="16014" y="4032"/>
                </a:cubicBezTo>
                <a:cubicBezTo>
                  <a:pt x="16014" y="4032"/>
                  <a:pt x="16019" y="4032"/>
                  <a:pt x="16025" y="4032"/>
                </a:cubicBezTo>
                <a:cubicBezTo>
                  <a:pt x="16031" y="4038"/>
                  <a:pt x="16037" y="4044"/>
                  <a:pt x="16043" y="4050"/>
                </a:cubicBezTo>
                <a:cubicBezTo>
                  <a:pt x="16043" y="4055"/>
                  <a:pt x="16043" y="4062"/>
                  <a:pt x="16049" y="4062"/>
                </a:cubicBezTo>
                <a:cubicBezTo>
                  <a:pt x="16049" y="4073"/>
                  <a:pt x="16049" y="4079"/>
                  <a:pt x="16049" y="4085"/>
                </a:cubicBezTo>
                <a:cubicBezTo>
                  <a:pt x="16055" y="4091"/>
                  <a:pt x="16055" y="4091"/>
                  <a:pt x="16055" y="4097"/>
                </a:cubicBezTo>
                <a:cubicBezTo>
                  <a:pt x="16055" y="4103"/>
                  <a:pt x="16061" y="4103"/>
                  <a:pt x="16061" y="4109"/>
                </a:cubicBezTo>
                <a:cubicBezTo>
                  <a:pt x="16061" y="4115"/>
                  <a:pt x="16073" y="4115"/>
                  <a:pt x="16073" y="4127"/>
                </a:cubicBezTo>
                <a:cubicBezTo>
                  <a:pt x="16073" y="4186"/>
                  <a:pt x="16073" y="4186"/>
                  <a:pt x="16073" y="4186"/>
                </a:cubicBezTo>
                <a:cubicBezTo>
                  <a:pt x="16073" y="4192"/>
                  <a:pt x="16067" y="4198"/>
                  <a:pt x="16061" y="4198"/>
                </a:cubicBezTo>
                <a:cubicBezTo>
                  <a:pt x="16055" y="4204"/>
                  <a:pt x="16049" y="4204"/>
                  <a:pt x="16049" y="4210"/>
                </a:cubicBezTo>
                <a:cubicBezTo>
                  <a:pt x="16049" y="4210"/>
                  <a:pt x="16049" y="4216"/>
                  <a:pt x="16049" y="4221"/>
                </a:cubicBezTo>
                <a:cubicBezTo>
                  <a:pt x="16043" y="4228"/>
                  <a:pt x="16043" y="4228"/>
                  <a:pt x="16043" y="4233"/>
                </a:cubicBezTo>
                <a:cubicBezTo>
                  <a:pt x="16043" y="4263"/>
                  <a:pt x="16043" y="4263"/>
                  <a:pt x="16043" y="4263"/>
                </a:cubicBezTo>
                <a:cubicBezTo>
                  <a:pt x="16102" y="4263"/>
                  <a:pt x="16102" y="4263"/>
                  <a:pt x="16102" y="4263"/>
                </a:cubicBezTo>
                <a:cubicBezTo>
                  <a:pt x="16120" y="4263"/>
                  <a:pt x="16126" y="4251"/>
                  <a:pt x="16138" y="4245"/>
                </a:cubicBezTo>
                <a:cubicBezTo>
                  <a:pt x="16150" y="4239"/>
                  <a:pt x="16150" y="4239"/>
                  <a:pt x="16150" y="4239"/>
                </a:cubicBezTo>
                <a:cubicBezTo>
                  <a:pt x="16156" y="4239"/>
                  <a:pt x="16162" y="4233"/>
                  <a:pt x="16168" y="4233"/>
                </a:cubicBezTo>
                <a:cubicBezTo>
                  <a:pt x="16174" y="4228"/>
                  <a:pt x="16174" y="4221"/>
                  <a:pt x="16180" y="4221"/>
                </a:cubicBezTo>
                <a:cubicBezTo>
                  <a:pt x="16185" y="4221"/>
                  <a:pt x="16185" y="4221"/>
                  <a:pt x="16191" y="4216"/>
                </a:cubicBezTo>
                <a:cubicBezTo>
                  <a:pt x="16197" y="4216"/>
                  <a:pt x="16197" y="4216"/>
                  <a:pt x="16203" y="4210"/>
                </a:cubicBezTo>
                <a:cubicBezTo>
                  <a:pt x="16209" y="4210"/>
                  <a:pt x="16209" y="4204"/>
                  <a:pt x="16215" y="4204"/>
                </a:cubicBezTo>
                <a:cubicBezTo>
                  <a:pt x="16221" y="4204"/>
                  <a:pt x="16227" y="4204"/>
                  <a:pt x="16227" y="4204"/>
                </a:cubicBezTo>
                <a:cubicBezTo>
                  <a:pt x="16233" y="4204"/>
                  <a:pt x="16239" y="4198"/>
                  <a:pt x="16239" y="4192"/>
                </a:cubicBezTo>
                <a:lnTo>
                  <a:pt x="16239" y="4186"/>
                </a:lnTo>
                <a:cubicBezTo>
                  <a:pt x="16239" y="4174"/>
                  <a:pt x="16239" y="4168"/>
                  <a:pt x="16239" y="4162"/>
                </a:cubicBezTo>
                <a:cubicBezTo>
                  <a:pt x="16239" y="4156"/>
                  <a:pt x="16245" y="4150"/>
                  <a:pt x="16245" y="4144"/>
                </a:cubicBezTo>
                <a:cubicBezTo>
                  <a:pt x="16245" y="4144"/>
                  <a:pt x="16245" y="4139"/>
                  <a:pt x="16245" y="4133"/>
                </a:cubicBezTo>
                <a:cubicBezTo>
                  <a:pt x="16245" y="4103"/>
                  <a:pt x="16245" y="4103"/>
                  <a:pt x="16245" y="4103"/>
                </a:cubicBezTo>
                <a:cubicBezTo>
                  <a:pt x="16233" y="4103"/>
                  <a:pt x="16227" y="4103"/>
                  <a:pt x="16215" y="4097"/>
                </a:cubicBezTo>
                <a:cubicBezTo>
                  <a:pt x="16215" y="4091"/>
                  <a:pt x="16209" y="4085"/>
                  <a:pt x="16209" y="4079"/>
                </a:cubicBezTo>
                <a:cubicBezTo>
                  <a:pt x="16209" y="4073"/>
                  <a:pt x="16209" y="4062"/>
                  <a:pt x="16209" y="4055"/>
                </a:cubicBezTo>
                <a:cubicBezTo>
                  <a:pt x="16209" y="4050"/>
                  <a:pt x="16209" y="4050"/>
                  <a:pt x="16209" y="4044"/>
                </a:cubicBezTo>
                <a:cubicBezTo>
                  <a:pt x="16209" y="4038"/>
                  <a:pt x="16203" y="4038"/>
                  <a:pt x="16197" y="4038"/>
                </a:cubicBezTo>
                <a:cubicBezTo>
                  <a:pt x="16191" y="4038"/>
                  <a:pt x="16191" y="4032"/>
                  <a:pt x="16185" y="4032"/>
                </a:cubicBezTo>
                <a:cubicBezTo>
                  <a:pt x="16180" y="4026"/>
                  <a:pt x="16180" y="4020"/>
                  <a:pt x="16180" y="4020"/>
                </a:cubicBezTo>
                <a:cubicBezTo>
                  <a:pt x="16174" y="4014"/>
                  <a:pt x="16168" y="4014"/>
                  <a:pt x="16168" y="4014"/>
                </a:cubicBezTo>
                <a:cubicBezTo>
                  <a:pt x="16162" y="4008"/>
                  <a:pt x="16156" y="4008"/>
                  <a:pt x="16156" y="4002"/>
                </a:cubicBezTo>
                <a:cubicBezTo>
                  <a:pt x="16150" y="4002"/>
                  <a:pt x="16156" y="3996"/>
                  <a:pt x="16150" y="3990"/>
                </a:cubicBezTo>
                <a:cubicBezTo>
                  <a:pt x="16150" y="3990"/>
                  <a:pt x="16144" y="3984"/>
                  <a:pt x="16144" y="3978"/>
                </a:cubicBezTo>
                <a:cubicBezTo>
                  <a:pt x="16138" y="3973"/>
                  <a:pt x="16144" y="3973"/>
                  <a:pt x="16144" y="3961"/>
                </a:cubicBezTo>
                <a:cubicBezTo>
                  <a:pt x="16144" y="3949"/>
                  <a:pt x="16144" y="3943"/>
                  <a:pt x="16144" y="3931"/>
                </a:cubicBezTo>
                <a:cubicBezTo>
                  <a:pt x="16150" y="3925"/>
                  <a:pt x="16150" y="3925"/>
                  <a:pt x="16156" y="3919"/>
                </a:cubicBezTo>
                <a:cubicBezTo>
                  <a:pt x="16156" y="3919"/>
                  <a:pt x="16156" y="3913"/>
                  <a:pt x="16162" y="3907"/>
                </a:cubicBezTo>
                <a:cubicBezTo>
                  <a:pt x="16162" y="3907"/>
                  <a:pt x="16162" y="3901"/>
                  <a:pt x="16162" y="3895"/>
                </a:cubicBezTo>
                <a:cubicBezTo>
                  <a:pt x="16168" y="3895"/>
                  <a:pt x="16174" y="3901"/>
                  <a:pt x="16174" y="3895"/>
                </a:cubicBezTo>
                <a:cubicBezTo>
                  <a:pt x="16185" y="3895"/>
                  <a:pt x="16191" y="3895"/>
                  <a:pt x="16203" y="3889"/>
                </a:cubicBezTo>
                <a:cubicBezTo>
                  <a:pt x="16209" y="3889"/>
                  <a:pt x="16209" y="3889"/>
                  <a:pt x="16209" y="3889"/>
                </a:cubicBezTo>
                <a:cubicBezTo>
                  <a:pt x="16221" y="3889"/>
                  <a:pt x="16227" y="3889"/>
                  <a:pt x="16233" y="3889"/>
                </a:cubicBezTo>
                <a:cubicBezTo>
                  <a:pt x="16233" y="3789"/>
                  <a:pt x="16233" y="3789"/>
                  <a:pt x="16233" y="3789"/>
                </a:cubicBezTo>
                <a:cubicBezTo>
                  <a:pt x="16233" y="3783"/>
                  <a:pt x="16239" y="3783"/>
                  <a:pt x="16239" y="3777"/>
                </a:cubicBezTo>
                <a:cubicBezTo>
                  <a:pt x="16239" y="3777"/>
                  <a:pt x="16239" y="3771"/>
                  <a:pt x="16239" y="3765"/>
                </a:cubicBezTo>
                <a:cubicBezTo>
                  <a:pt x="16245" y="3765"/>
                  <a:pt x="16245" y="3759"/>
                  <a:pt x="16251" y="3753"/>
                </a:cubicBezTo>
                <a:cubicBezTo>
                  <a:pt x="16251" y="3753"/>
                  <a:pt x="16257" y="3759"/>
                  <a:pt x="16262" y="3753"/>
                </a:cubicBezTo>
                <a:cubicBezTo>
                  <a:pt x="16262" y="3753"/>
                  <a:pt x="16269" y="3753"/>
                  <a:pt x="16274" y="3747"/>
                </a:cubicBezTo>
                <a:cubicBezTo>
                  <a:pt x="16286" y="3741"/>
                  <a:pt x="16286" y="3735"/>
                  <a:pt x="16292" y="3723"/>
                </a:cubicBezTo>
                <a:cubicBezTo>
                  <a:pt x="16298" y="3718"/>
                  <a:pt x="16298" y="3718"/>
                  <a:pt x="16304" y="3712"/>
                </a:cubicBezTo>
                <a:cubicBezTo>
                  <a:pt x="16310" y="3706"/>
                  <a:pt x="16316" y="3694"/>
                  <a:pt x="16322" y="3694"/>
                </a:cubicBezTo>
                <a:cubicBezTo>
                  <a:pt x="16328" y="3688"/>
                  <a:pt x="16328" y="3694"/>
                  <a:pt x="16334" y="3694"/>
                </a:cubicBezTo>
                <a:cubicBezTo>
                  <a:pt x="16340" y="3694"/>
                  <a:pt x="16340" y="3694"/>
                  <a:pt x="16346" y="3694"/>
                </a:cubicBezTo>
                <a:cubicBezTo>
                  <a:pt x="16363" y="3700"/>
                  <a:pt x="16375" y="3712"/>
                  <a:pt x="16393" y="3723"/>
                </a:cubicBezTo>
                <a:cubicBezTo>
                  <a:pt x="16393" y="3723"/>
                  <a:pt x="16399" y="3723"/>
                  <a:pt x="16405" y="3723"/>
                </a:cubicBezTo>
                <a:cubicBezTo>
                  <a:pt x="16411" y="3723"/>
                  <a:pt x="16417" y="3718"/>
                  <a:pt x="16428" y="3718"/>
                </a:cubicBezTo>
                <a:cubicBezTo>
                  <a:pt x="16428" y="3712"/>
                  <a:pt x="16435" y="3712"/>
                  <a:pt x="16435" y="3712"/>
                </a:cubicBezTo>
                <a:cubicBezTo>
                  <a:pt x="16440" y="3706"/>
                  <a:pt x="16440" y="3700"/>
                  <a:pt x="16446" y="3700"/>
                </a:cubicBezTo>
                <a:cubicBezTo>
                  <a:pt x="16452" y="3694"/>
                  <a:pt x="16452" y="3694"/>
                  <a:pt x="16458" y="3688"/>
                </a:cubicBezTo>
                <a:cubicBezTo>
                  <a:pt x="16458" y="3688"/>
                  <a:pt x="16464" y="3688"/>
                  <a:pt x="16470" y="3688"/>
                </a:cubicBezTo>
                <a:cubicBezTo>
                  <a:pt x="16476" y="3688"/>
                  <a:pt x="16470" y="3682"/>
                  <a:pt x="16476" y="3676"/>
                </a:cubicBezTo>
                <a:cubicBezTo>
                  <a:pt x="16488" y="3676"/>
                  <a:pt x="16494" y="3682"/>
                  <a:pt x="16500" y="3676"/>
                </a:cubicBezTo>
                <a:cubicBezTo>
                  <a:pt x="16506" y="3676"/>
                  <a:pt x="16506" y="3676"/>
                  <a:pt x="16512" y="3670"/>
                </a:cubicBezTo>
                <a:cubicBezTo>
                  <a:pt x="16517" y="3670"/>
                  <a:pt x="16517" y="3670"/>
                  <a:pt x="16523" y="3670"/>
                </a:cubicBezTo>
                <a:cubicBezTo>
                  <a:pt x="16529" y="3664"/>
                  <a:pt x="16529" y="3664"/>
                  <a:pt x="16535" y="3658"/>
                </a:cubicBezTo>
                <a:lnTo>
                  <a:pt x="16535" y="3652"/>
                </a:lnTo>
                <a:cubicBezTo>
                  <a:pt x="16541" y="3641"/>
                  <a:pt x="16553" y="3635"/>
                  <a:pt x="16565" y="3629"/>
                </a:cubicBezTo>
                <a:cubicBezTo>
                  <a:pt x="16565" y="3623"/>
                  <a:pt x="16571" y="3623"/>
                  <a:pt x="16577" y="3623"/>
                </a:cubicBezTo>
                <a:cubicBezTo>
                  <a:pt x="16577" y="3617"/>
                  <a:pt x="16577" y="3611"/>
                  <a:pt x="16583" y="3611"/>
                </a:cubicBezTo>
                <a:cubicBezTo>
                  <a:pt x="16583" y="3605"/>
                  <a:pt x="16589" y="3605"/>
                  <a:pt x="16589" y="3599"/>
                </a:cubicBezTo>
                <a:cubicBezTo>
                  <a:pt x="16606" y="3587"/>
                  <a:pt x="16606" y="3575"/>
                  <a:pt x="16624" y="3563"/>
                </a:cubicBezTo>
                <a:cubicBezTo>
                  <a:pt x="16624" y="3557"/>
                  <a:pt x="16630" y="3557"/>
                  <a:pt x="16636" y="3557"/>
                </a:cubicBezTo>
                <a:cubicBezTo>
                  <a:pt x="16642" y="3546"/>
                  <a:pt x="16648" y="3540"/>
                  <a:pt x="16654" y="3534"/>
                </a:cubicBezTo>
                <a:cubicBezTo>
                  <a:pt x="16654" y="3528"/>
                  <a:pt x="16654" y="3522"/>
                  <a:pt x="16654" y="3522"/>
                </a:cubicBezTo>
                <a:cubicBezTo>
                  <a:pt x="16654" y="3516"/>
                  <a:pt x="16660" y="3516"/>
                  <a:pt x="16660" y="3510"/>
                </a:cubicBezTo>
                <a:cubicBezTo>
                  <a:pt x="16666" y="3504"/>
                  <a:pt x="16666" y="3504"/>
                  <a:pt x="16666" y="3498"/>
                </a:cubicBezTo>
                <a:cubicBezTo>
                  <a:pt x="16672" y="3492"/>
                  <a:pt x="16672" y="3486"/>
                  <a:pt x="16672" y="3475"/>
                </a:cubicBezTo>
                <a:cubicBezTo>
                  <a:pt x="16678" y="3468"/>
                  <a:pt x="16683" y="3468"/>
                  <a:pt x="16683" y="3463"/>
                </a:cubicBezTo>
                <a:cubicBezTo>
                  <a:pt x="16689" y="3451"/>
                  <a:pt x="16695" y="3451"/>
                  <a:pt x="16707" y="3439"/>
                </a:cubicBezTo>
                <a:cubicBezTo>
                  <a:pt x="16707" y="3439"/>
                  <a:pt x="16713" y="3439"/>
                  <a:pt x="16719" y="3433"/>
                </a:cubicBezTo>
                <a:cubicBezTo>
                  <a:pt x="16719" y="3433"/>
                  <a:pt x="16719" y="3427"/>
                  <a:pt x="16725" y="3421"/>
                </a:cubicBezTo>
                <a:cubicBezTo>
                  <a:pt x="16725" y="3421"/>
                  <a:pt x="16731" y="3427"/>
                  <a:pt x="16737" y="3421"/>
                </a:cubicBezTo>
                <a:cubicBezTo>
                  <a:pt x="16743" y="3421"/>
                  <a:pt x="16749" y="3409"/>
                  <a:pt x="16755" y="3403"/>
                </a:cubicBezTo>
                <a:cubicBezTo>
                  <a:pt x="16760" y="3397"/>
                  <a:pt x="16760" y="3397"/>
                  <a:pt x="16767" y="3391"/>
                </a:cubicBezTo>
                <a:cubicBezTo>
                  <a:pt x="16767" y="3391"/>
                  <a:pt x="16767" y="3386"/>
                  <a:pt x="16772" y="3380"/>
                </a:cubicBezTo>
                <a:cubicBezTo>
                  <a:pt x="16772" y="3374"/>
                  <a:pt x="16778" y="3374"/>
                  <a:pt x="16784" y="3368"/>
                </a:cubicBezTo>
                <a:cubicBezTo>
                  <a:pt x="16784" y="3368"/>
                  <a:pt x="16790" y="3362"/>
                  <a:pt x="16796" y="3356"/>
                </a:cubicBezTo>
                <a:cubicBezTo>
                  <a:pt x="16796" y="3356"/>
                  <a:pt x="16802" y="3356"/>
                  <a:pt x="16808" y="3350"/>
                </a:cubicBezTo>
                <a:cubicBezTo>
                  <a:pt x="16808" y="3344"/>
                  <a:pt x="16802" y="3338"/>
                  <a:pt x="16808" y="3326"/>
                </a:cubicBezTo>
                <a:cubicBezTo>
                  <a:pt x="16808" y="3320"/>
                  <a:pt x="16808" y="3320"/>
                  <a:pt x="16808" y="3314"/>
                </a:cubicBezTo>
                <a:cubicBezTo>
                  <a:pt x="16808" y="3309"/>
                  <a:pt x="16808" y="3303"/>
                  <a:pt x="16808" y="3291"/>
                </a:cubicBezTo>
                <a:cubicBezTo>
                  <a:pt x="16808" y="3279"/>
                  <a:pt x="16808" y="3279"/>
                  <a:pt x="16808" y="3279"/>
                </a:cubicBezTo>
                <a:cubicBezTo>
                  <a:pt x="16808" y="3279"/>
                  <a:pt x="16814" y="3273"/>
                  <a:pt x="16814" y="3267"/>
                </a:cubicBezTo>
                <a:cubicBezTo>
                  <a:pt x="16820" y="3267"/>
                  <a:pt x="16826" y="3261"/>
                  <a:pt x="16826" y="3261"/>
                </a:cubicBezTo>
                <a:cubicBezTo>
                  <a:pt x="16832" y="3249"/>
                  <a:pt x="16826" y="3237"/>
                  <a:pt x="16826" y="3225"/>
                </a:cubicBezTo>
                <a:cubicBezTo>
                  <a:pt x="16826" y="3208"/>
                  <a:pt x="16826" y="3208"/>
                  <a:pt x="16826" y="3208"/>
                </a:cubicBezTo>
                <a:cubicBezTo>
                  <a:pt x="16826" y="3202"/>
                  <a:pt x="16826" y="3202"/>
                  <a:pt x="16826" y="3196"/>
                </a:cubicBezTo>
                <a:cubicBezTo>
                  <a:pt x="16826" y="3184"/>
                  <a:pt x="16826" y="3184"/>
                  <a:pt x="16826" y="3184"/>
                </a:cubicBezTo>
                <a:cubicBezTo>
                  <a:pt x="16826" y="3178"/>
                  <a:pt x="16826" y="3178"/>
                  <a:pt x="16826" y="3172"/>
                </a:cubicBezTo>
                <a:cubicBezTo>
                  <a:pt x="16826" y="3166"/>
                  <a:pt x="16832" y="3166"/>
                  <a:pt x="16832" y="3160"/>
                </a:cubicBezTo>
                <a:cubicBezTo>
                  <a:pt x="16838" y="3160"/>
                  <a:pt x="16832" y="3154"/>
                  <a:pt x="16832" y="3148"/>
                </a:cubicBezTo>
                <a:cubicBezTo>
                  <a:pt x="16838" y="3142"/>
                  <a:pt x="16838" y="3137"/>
                  <a:pt x="16838" y="3125"/>
                </a:cubicBezTo>
                <a:cubicBezTo>
                  <a:pt x="16844" y="3119"/>
                  <a:pt x="16849" y="3119"/>
                  <a:pt x="16849" y="3113"/>
                </a:cubicBezTo>
                <a:cubicBezTo>
                  <a:pt x="16855" y="3113"/>
                  <a:pt x="16855" y="3107"/>
                  <a:pt x="16855" y="3107"/>
                </a:cubicBezTo>
                <a:cubicBezTo>
                  <a:pt x="16861" y="3101"/>
                  <a:pt x="16861" y="3095"/>
                  <a:pt x="16867" y="3095"/>
                </a:cubicBezTo>
                <a:cubicBezTo>
                  <a:pt x="16867" y="3095"/>
                  <a:pt x="16873" y="3095"/>
                  <a:pt x="16879" y="3095"/>
                </a:cubicBezTo>
                <a:cubicBezTo>
                  <a:pt x="16879" y="3101"/>
                  <a:pt x="16879" y="3107"/>
                  <a:pt x="16885" y="3107"/>
                </a:cubicBezTo>
                <a:cubicBezTo>
                  <a:pt x="16885" y="3107"/>
                  <a:pt x="16891" y="3107"/>
                  <a:pt x="16891" y="3113"/>
                </a:cubicBezTo>
                <a:cubicBezTo>
                  <a:pt x="16897" y="3113"/>
                  <a:pt x="16903" y="3113"/>
                  <a:pt x="16903" y="3119"/>
                </a:cubicBezTo>
                <a:cubicBezTo>
                  <a:pt x="16909" y="3125"/>
                  <a:pt x="16915" y="3125"/>
                  <a:pt x="16915" y="3131"/>
                </a:cubicBezTo>
                <a:cubicBezTo>
                  <a:pt x="16915" y="3137"/>
                  <a:pt x="16909" y="3137"/>
                  <a:pt x="16909" y="3142"/>
                </a:cubicBezTo>
                <a:cubicBezTo>
                  <a:pt x="16909" y="3148"/>
                  <a:pt x="16909" y="3148"/>
                  <a:pt x="16903" y="3154"/>
                </a:cubicBezTo>
                <a:cubicBezTo>
                  <a:pt x="16903" y="3160"/>
                  <a:pt x="16903" y="3166"/>
                  <a:pt x="16903" y="3172"/>
                </a:cubicBezTo>
                <a:cubicBezTo>
                  <a:pt x="16903" y="3184"/>
                  <a:pt x="16909" y="3190"/>
                  <a:pt x="16909" y="3196"/>
                </a:cubicBezTo>
                <a:cubicBezTo>
                  <a:pt x="16915" y="3220"/>
                  <a:pt x="16909" y="3231"/>
                  <a:pt x="16909" y="3249"/>
                </a:cubicBezTo>
                <a:cubicBezTo>
                  <a:pt x="16909" y="3261"/>
                  <a:pt x="16915" y="3273"/>
                  <a:pt x="16909" y="3285"/>
                </a:cubicBezTo>
                <a:cubicBezTo>
                  <a:pt x="16909" y="3291"/>
                  <a:pt x="16915" y="3297"/>
                  <a:pt x="16909" y="3297"/>
                </a:cubicBezTo>
                <a:cubicBezTo>
                  <a:pt x="16909" y="3303"/>
                  <a:pt x="16903" y="3303"/>
                  <a:pt x="16903" y="3309"/>
                </a:cubicBezTo>
                <a:cubicBezTo>
                  <a:pt x="16897" y="3314"/>
                  <a:pt x="16891" y="3314"/>
                  <a:pt x="16891" y="3320"/>
                </a:cubicBezTo>
                <a:cubicBezTo>
                  <a:pt x="16891" y="3326"/>
                  <a:pt x="16891" y="3326"/>
                  <a:pt x="16891" y="3338"/>
                </a:cubicBezTo>
                <a:cubicBezTo>
                  <a:pt x="16891" y="3344"/>
                  <a:pt x="16891" y="3344"/>
                  <a:pt x="16891" y="3350"/>
                </a:cubicBezTo>
                <a:cubicBezTo>
                  <a:pt x="16891" y="3368"/>
                  <a:pt x="16897" y="3374"/>
                  <a:pt x="16903" y="3386"/>
                </a:cubicBezTo>
                <a:cubicBezTo>
                  <a:pt x="16909" y="3397"/>
                  <a:pt x="16909" y="3403"/>
                  <a:pt x="16909" y="3415"/>
                </a:cubicBezTo>
                <a:cubicBezTo>
                  <a:pt x="16909" y="3421"/>
                  <a:pt x="16909" y="3427"/>
                  <a:pt x="16909" y="3433"/>
                </a:cubicBezTo>
                <a:cubicBezTo>
                  <a:pt x="16909" y="3439"/>
                  <a:pt x="16903" y="3439"/>
                  <a:pt x="16897" y="3439"/>
                </a:cubicBezTo>
                <a:cubicBezTo>
                  <a:pt x="16891" y="3445"/>
                  <a:pt x="16885" y="3445"/>
                  <a:pt x="16885" y="3451"/>
                </a:cubicBezTo>
                <a:cubicBezTo>
                  <a:pt x="16885" y="3457"/>
                  <a:pt x="16885" y="3463"/>
                  <a:pt x="16885" y="3468"/>
                </a:cubicBezTo>
                <a:cubicBezTo>
                  <a:pt x="16885" y="3475"/>
                  <a:pt x="16885" y="3480"/>
                  <a:pt x="16885" y="3486"/>
                </a:cubicBezTo>
                <a:cubicBezTo>
                  <a:pt x="16885" y="3492"/>
                  <a:pt x="16891" y="3492"/>
                  <a:pt x="16891" y="3498"/>
                </a:cubicBezTo>
                <a:cubicBezTo>
                  <a:pt x="16891" y="3504"/>
                  <a:pt x="16885" y="3504"/>
                  <a:pt x="16885" y="3510"/>
                </a:cubicBezTo>
                <a:cubicBezTo>
                  <a:pt x="16909" y="3510"/>
                  <a:pt x="16909" y="3510"/>
                  <a:pt x="16909" y="3510"/>
                </a:cubicBezTo>
                <a:cubicBezTo>
                  <a:pt x="16909" y="3504"/>
                  <a:pt x="16915" y="3510"/>
                  <a:pt x="16921" y="3504"/>
                </a:cubicBezTo>
                <a:cubicBezTo>
                  <a:pt x="16921" y="3498"/>
                  <a:pt x="16921" y="3498"/>
                  <a:pt x="16921" y="3492"/>
                </a:cubicBezTo>
                <a:cubicBezTo>
                  <a:pt x="16926" y="3480"/>
                  <a:pt x="16926" y="3480"/>
                  <a:pt x="16926" y="3480"/>
                </a:cubicBezTo>
                <a:cubicBezTo>
                  <a:pt x="16933" y="3475"/>
                  <a:pt x="16933" y="3475"/>
                  <a:pt x="16938" y="3468"/>
                </a:cubicBezTo>
                <a:cubicBezTo>
                  <a:pt x="16938" y="3468"/>
                  <a:pt x="16938" y="3463"/>
                  <a:pt x="16944" y="3457"/>
                </a:cubicBezTo>
                <a:cubicBezTo>
                  <a:pt x="16944" y="3463"/>
                  <a:pt x="16950" y="3457"/>
                  <a:pt x="16956" y="3463"/>
                </a:cubicBezTo>
                <a:cubicBezTo>
                  <a:pt x="16956" y="3475"/>
                  <a:pt x="16950" y="3480"/>
                  <a:pt x="16956" y="3486"/>
                </a:cubicBezTo>
                <a:cubicBezTo>
                  <a:pt x="16956" y="3492"/>
                  <a:pt x="16962" y="3492"/>
                  <a:pt x="16968" y="3492"/>
                </a:cubicBezTo>
                <a:cubicBezTo>
                  <a:pt x="16974" y="3504"/>
                  <a:pt x="16986" y="3504"/>
                  <a:pt x="16998" y="3504"/>
                </a:cubicBezTo>
                <a:cubicBezTo>
                  <a:pt x="16998" y="3498"/>
                  <a:pt x="16998" y="3498"/>
                  <a:pt x="16998" y="3492"/>
                </a:cubicBezTo>
                <a:cubicBezTo>
                  <a:pt x="16998" y="3486"/>
                  <a:pt x="16998" y="3486"/>
                  <a:pt x="16992" y="3480"/>
                </a:cubicBezTo>
                <a:cubicBezTo>
                  <a:pt x="16992" y="3480"/>
                  <a:pt x="16992" y="3475"/>
                  <a:pt x="16992" y="3468"/>
                </a:cubicBezTo>
                <a:cubicBezTo>
                  <a:pt x="16992" y="3463"/>
                  <a:pt x="16986" y="3463"/>
                  <a:pt x="16980" y="3457"/>
                </a:cubicBezTo>
                <a:cubicBezTo>
                  <a:pt x="16980" y="3451"/>
                  <a:pt x="16974" y="3457"/>
                  <a:pt x="16968" y="3451"/>
                </a:cubicBezTo>
                <a:cubicBezTo>
                  <a:pt x="16968" y="3445"/>
                  <a:pt x="16968" y="3439"/>
                  <a:pt x="16962" y="3439"/>
                </a:cubicBezTo>
                <a:cubicBezTo>
                  <a:pt x="16962" y="3433"/>
                  <a:pt x="16950" y="3433"/>
                  <a:pt x="16950" y="3427"/>
                </a:cubicBezTo>
                <a:cubicBezTo>
                  <a:pt x="16944" y="3421"/>
                  <a:pt x="16950" y="3415"/>
                  <a:pt x="16944" y="3403"/>
                </a:cubicBezTo>
                <a:cubicBezTo>
                  <a:pt x="16944" y="3397"/>
                  <a:pt x="16938" y="3397"/>
                  <a:pt x="16938" y="3391"/>
                </a:cubicBezTo>
                <a:cubicBezTo>
                  <a:pt x="16933" y="3386"/>
                  <a:pt x="16926" y="3380"/>
                  <a:pt x="16926" y="3368"/>
                </a:cubicBezTo>
                <a:cubicBezTo>
                  <a:pt x="16926" y="3356"/>
                  <a:pt x="16944" y="3356"/>
                  <a:pt x="16950" y="3344"/>
                </a:cubicBezTo>
                <a:cubicBezTo>
                  <a:pt x="16950" y="3344"/>
                  <a:pt x="16956" y="3344"/>
                  <a:pt x="16956" y="3338"/>
                </a:cubicBezTo>
                <a:cubicBezTo>
                  <a:pt x="16956" y="3332"/>
                  <a:pt x="16956" y="3326"/>
                  <a:pt x="16956" y="3320"/>
                </a:cubicBezTo>
                <a:cubicBezTo>
                  <a:pt x="16956" y="3320"/>
                  <a:pt x="16956" y="3314"/>
                  <a:pt x="16956" y="3309"/>
                </a:cubicBezTo>
                <a:cubicBezTo>
                  <a:pt x="16956" y="3303"/>
                  <a:pt x="16968" y="3309"/>
                  <a:pt x="16968" y="3303"/>
                </a:cubicBezTo>
                <a:cubicBezTo>
                  <a:pt x="16968" y="3303"/>
                  <a:pt x="16968" y="3297"/>
                  <a:pt x="16974" y="3291"/>
                </a:cubicBezTo>
                <a:cubicBezTo>
                  <a:pt x="16980" y="3291"/>
                  <a:pt x="16974" y="3279"/>
                  <a:pt x="16980" y="3279"/>
                </a:cubicBezTo>
                <a:cubicBezTo>
                  <a:pt x="16992" y="3279"/>
                  <a:pt x="16998" y="3285"/>
                  <a:pt x="17004" y="3291"/>
                </a:cubicBezTo>
                <a:cubicBezTo>
                  <a:pt x="17015" y="3297"/>
                  <a:pt x="17015" y="3309"/>
                  <a:pt x="17027" y="3309"/>
                </a:cubicBezTo>
                <a:cubicBezTo>
                  <a:pt x="17033" y="3309"/>
                  <a:pt x="17033" y="3303"/>
                  <a:pt x="17039" y="3297"/>
                </a:cubicBezTo>
                <a:cubicBezTo>
                  <a:pt x="17039" y="3297"/>
                  <a:pt x="17039" y="3291"/>
                  <a:pt x="17039" y="3285"/>
                </a:cubicBezTo>
                <a:cubicBezTo>
                  <a:pt x="17039" y="3285"/>
                  <a:pt x="17033" y="3279"/>
                  <a:pt x="17033" y="3273"/>
                </a:cubicBezTo>
                <a:cubicBezTo>
                  <a:pt x="17033" y="3273"/>
                  <a:pt x="17033" y="3267"/>
                  <a:pt x="17033" y="3261"/>
                </a:cubicBezTo>
                <a:cubicBezTo>
                  <a:pt x="17033" y="3255"/>
                  <a:pt x="17027" y="3249"/>
                  <a:pt x="17027" y="3243"/>
                </a:cubicBezTo>
                <a:cubicBezTo>
                  <a:pt x="17027" y="3237"/>
                  <a:pt x="17027" y="3231"/>
                  <a:pt x="17027" y="3231"/>
                </a:cubicBezTo>
                <a:cubicBezTo>
                  <a:pt x="17027" y="3225"/>
                  <a:pt x="17021" y="3220"/>
                  <a:pt x="17021" y="3214"/>
                </a:cubicBezTo>
                <a:cubicBezTo>
                  <a:pt x="17021" y="3208"/>
                  <a:pt x="17015" y="3208"/>
                  <a:pt x="17015" y="3202"/>
                </a:cubicBezTo>
                <a:cubicBezTo>
                  <a:pt x="17010" y="3190"/>
                  <a:pt x="17015" y="3184"/>
                  <a:pt x="17015" y="3172"/>
                </a:cubicBezTo>
                <a:cubicBezTo>
                  <a:pt x="17015" y="3166"/>
                  <a:pt x="17015" y="3160"/>
                  <a:pt x="17015" y="3160"/>
                </a:cubicBezTo>
                <a:cubicBezTo>
                  <a:pt x="17010" y="3154"/>
                  <a:pt x="17010" y="3154"/>
                  <a:pt x="17004" y="3148"/>
                </a:cubicBezTo>
                <a:cubicBezTo>
                  <a:pt x="17004" y="3142"/>
                  <a:pt x="17004" y="3137"/>
                  <a:pt x="16998" y="3137"/>
                </a:cubicBezTo>
                <a:cubicBezTo>
                  <a:pt x="16992" y="3125"/>
                  <a:pt x="16986" y="3125"/>
                  <a:pt x="16980" y="3113"/>
                </a:cubicBezTo>
                <a:cubicBezTo>
                  <a:pt x="16980" y="3107"/>
                  <a:pt x="16974" y="3107"/>
                  <a:pt x="16974" y="3101"/>
                </a:cubicBezTo>
                <a:cubicBezTo>
                  <a:pt x="16974" y="3095"/>
                  <a:pt x="16974" y="3095"/>
                  <a:pt x="16974" y="3089"/>
                </a:cubicBezTo>
                <a:cubicBezTo>
                  <a:pt x="16974" y="3083"/>
                  <a:pt x="16974" y="3083"/>
                  <a:pt x="16974" y="3077"/>
                </a:cubicBezTo>
                <a:cubicBezTo>
                  <a:pt x="16974" y="3071"/>
                  <a:pt x="16974" y="3071"/>
                  <a:pt x="16974" y="3065"/>
                </a:cubicBezTo>
                <a:cubicBezTo>
                  <a:pt x="16974" y="3054"/>
                  <a:pt x="16974" y="3054"/>
                  <a:pt x="16974" y="3054"/>
                </a:cubicBezTo>
                <a:cubicBezTo>
                  <a:pt x="16974" y="3048"/>
                  <a:pt x="16980" y="3048"/>
                  <a:pt x="16980" y="3042"/>
                </a:cubicBezTo>
                <a:cubicBezTo>
                  <a:pt x="16980" y="3036"/>
                  <a:pt x="16974" y="3036"/>
                  <a:pt x="16974" y="3030"/>
                </a:cubicBezTo>
                <a:cubicBezTo>
                  <a:pt x="16974" y="3024"/>
                  <a:pt x="16980" y="3024"/>
                  <a:pt x="16980" y="3018"/>
                </a:cubicBezTo>
                <a:cubicBezTo>
                  <a:pt x="16980" y="3012"/>
                  <a:pt x="16974" y="3012"/>
                  <a:pt x="16974" y="3006"/>
                </a:cubicBezTo>
                <a:lnTo>
                  <a:pt x="16962" y="3006"/>
                </a:lnTo>
                <a:cubicBezTo>
                  <a:pt x="16956" y="2994"/>
                  <a:pt x="16962" y="2988"/>
                  <a:pt x="16962" y="2982"/>
                </a:cubicBezTo>
                <a:cubicBezTo>
                  <a:pt x="16956" y="2976"/>
                  <a:pt x="16956" y="2965"/>
                  <a:pt x="16956" y="2959"/>
                </a:cubicBezTo>
                <a:cubicBezTo>
                  <a:pt x="16950" y="2947"/>
                  <a:pt x="16956" y="2941"/>
                  <a:pt x="16956" y="2935"/>
                </a:cubicBezTo>
                <a:cubicBezTo>
                  <a:pt x="16956" y="2923"/>
                  <a:pt x="16950" y="2917"/>
                  <a:pt x="16950" y="2911"/>
                </a:cubicBezTo>
                <a:cubicBezTo>
                  <a:pt x="16926" y="2911"/>
                  <a:pt x="16926" y="2911"/>
                  <a:pt x="16926" y="2911"/>
                </a:cubicBezTo>
                <a:cubicBezTo>
                  <a:pt x="16926" y="2994"/>
                  <a:pt x="16926" y="2994"/>
                  <a:pt x="16926" y="2994"/>
                </a:cubicBezTo>
                <a:cubicBezTo>
                  <a:pt x="16921" y="2994"/>
                  <a:pt x="16915" y="2994"/>
                  <a:pt x="16909" y="2994"/>
                </a:cubicBezTo>
                <a:cubicBezTo>
                  <a:pt x="16903" y="2994"/>
                  <a:pt x="16903" y="2994"/>
                  <a:pt x="16897" y="3000"/>
                </a:cubicBezTo>
                <a:cubicBezTo>
                  <a:pt x="16897" y="3012"/>
                  <a:pt x="16897" y="3012"/>
                  <a:pt x="16897" y="3012"/>
                </a:cubicBezTo>
                <a:cubicBezTo>
                  <a:pt x="16897" y="3012"/>
                  <a:pt x="16897" y="3018"/>
                  <a:pt x="16897" y="3024"/>
                </a:cubicBezTo>
                <a:cubicBezTo>
                  <a:pt x="16897" y="3036"/>
                  <a:pt x="16897" y="3036"/>
                  <a:pt x="16897" y="3036"/>
                </a:cubicBezTo>
                <a:cubicBezTo>
                  <a:pt x="16903" y="3036"/>
                  <a:pt x="16903" y="3042"/>
                  <a:pt x="16903" y="3042"/>
                </a:cubicBezTo>
                <a:cubicBezTo>
                  <a:pt x="16909" y="3054"/>
                  <a:pt x="16903" y="3059"/>
                  <a:pt x="16903" y="3065"/>
                </a:cubicBezTo>
                <a:cubicBezTo>
                  <a:pt x="16885" y="3065"/>
                  <a:pt x="16885" y="3065"/>
                  <a:pt x="16885" y="3065"/>
                </a:cubicBezTo>
                <a:cubicBezTo>
                  <a:pt x="16879" y="3065"/>
                  <a:pt x="16873" y="3065"/>
                  <a:pt x="16873" y="3065"/>
                </a:cubicBezTo>
                <a:cubicBezTo>
                  <a:pt x="16873" y="3059"/>
                  <a:pt x="16867" y="3059"/>
                  <a:pt x="16867" y="3054"/>
                </a:cubicBezTo>
                <a:cubicBezTo>
                  <a:pt x="16867" y="3048"/>
                  <a:pt x="16873" y="3048"/>
                  <a:pt x="16873" y="3042"/>
                </a:cubicBezTo>
                <a:cubicBezTo>
                  <a:pt x="16873" y="3036"/>
                  <a:pt x="16873" y="3036"/>
                  <a:pt x="16873" y="3030"/>
                </a:cubicBezTo>
                <a:cubicBezTo>
                  <a:pt x="16873" y="3024"/>
                  <a:pt x="16879" y="3018"/>
                  <a:pt x="16879" y="3006"/>
                </a:cubicBezTo>
                <a:cubicBezTo>
                  <a:pt x="16879" y="2994"/>
                  <a:pt x="16879" y="2994"/>
                  <a:pt x="16879" y="2994"/>
                </a:cubicBezTo>
                <a:cubicBezTo>
                  <a:pt x="16873" y="2988"/>
                  <a:pt x="16873" y="2988"/>
                  <a:pt x="16867" y="2982"/>
                </a:cubicBezTo>
                <a:cubicBezTo>
                  <a:pt x="16867" y="2976"/>
                  <a:pt x="16861" y="2976"/>
                  <a:pt x="16855" y="2971"/>
                </a:cubicBezTo>
                <a:cubicBezTo>
                  <a:pt x="16855" y="2971"/>
                  <a:pt x="16849" y="2965"/>
                  <a:pt x="16844" y="2965"/>
                </a:cubicBezTo>
                <a:cubicBezTo>
                  <a:pt x="16844" y="2965"/>
                  <a:pt x="16838" y="2965"/>
                  <a:pt x="16832" y="2965"/>
                </a:cubicBezTo>
                <a:cubicBezTo>
                  <a:pt x="16826" y="2965"/>
                  <a:pt x="16826" y="2959"/>
                  <a:pt x="16820" y="2959"/>
                </a:cubicBezTo>
                <a:cubicBezTo>
                  <a:pt x="16814" y="2953"/>
                  <a:pt x="16820" y="2947"/>
                  <a:pt x="16814" y="2947"/>
                </a:cubicBezTo>
                <a:cubicBezTo>
                  <a:pt x="16814" y="2941"/>
                  <a:pt x="16808" y="2941"/>
                  <a:pt x="16802" y="2941"/>
                </a:cubicBezTo>
                <a:cubicBezTo>
                  <a:pt x="16790" y="2935"/>
                  <a:pt x="16778" y="2923"/>
                  <a:pt x="16767" y="2911"/>
                </a:cubicBezTo>
                <a:cubicBezTo>
                  <a:pt x="16737" y="2911"/>
                  <a:pt x="16737" y="2911"/>
                  <a:pt x="16737" y="2911"/>
                </a:cubicBezTo>
                <a:cubicBezTo>
                  <a:pt x="16737" y="2965"/>
                  <a:pt x="16737" y="2965"/>
                  <a:pt x="16737" y="2965"/>
                </a:cubicBezTo>
                <a:cubicBezTo>
                  <a:pt x="16683" y="2965"/>
                  <a:pt x="16683" y="2965"/>
                  <a:pt x="16683" y="2965"/>
                </a:cubicBezTo>
                <a:lnTo>
                  <a:pt x="16683" y="2959"/>
                </a:lnTo>
                <a:cubicBezTo>
                  <a:pt x="16683" y="2953"/>
                  <a:pt x="16683" y="2947"/>
                  <a:pt x="16678" y="2947"/>
                </a:cubicBezTo>
                <a:cubicBezTo>
                  <a:pt x="16678" y="2929"/>
                  <a:pt x="16666" y="2923"/>
                  <a:pt x="16660" y="2905"/>
                </a:cubicBezTo>
                <a:cubicBezTo>
                  <a:pt x="16642" y="2911"/>
                  <a:pt x="16642" y="2911"/>
                  <a:pt x="16642" y="2911"/>
                </a:cubicBezTo>
                <a:cubicBezTo>
                  <a:pt x="16642" y="2917"/>
                  <a:pt x="16648" y="2917"/>
                  <a:pt x="16648" y="2923"/>
                </a:cubicBezTo>
                <a:cubicBezTo>
                  <a:pt x="16648" y="2947"/>
                  <a:pt x="16648" y="2947"/>
                  <a:pt x="16648" y="2947"/>
                </a:cubicBezTo>
                <a:cubicBezTo>
                  <a:pt x="16648" y="2947"/>
                  <a:pt x="16642" y="2953"/>
                  <a:pt x="16642" y="2959"/>
                </a:cubicBezTo>
                <a:cubicBezTo>
                  <a:pt x="16636" y="2953"/>
                  <a:pt x="16636" y="2959"/>
                  <a:pt x="16630" y="2959"/>
                </a:cubicBezTo>
                <a:cubicBezTo>
                  <a:pt x="16624" y="2953"/>
                  <a:pt x="16624" y="2953"/>
                  <a:pt x="16618" y="2953"/>
                </a:cubicBezTo>
                <a:cubicBezTo>
                  <a:pt x="16618" y="2941"/>
                  <a:pt x="16618" y="2941"/>
                  <a:pt x="16618" y="2941"/>
                </a:cubicBezTo>
                <a:cubicBezTo>
                  <a:pt x="16618" y="2935"/>
                  <a:pt x="16618" y="2929"/>
                  <a:pt x="16618" y="2929"/>
                </a:cubicBezTo>
                <a:cubicBezTo>
                  <a:pt x="16624" y="2923"/>
                  <a:pt x="16624" y="2917"/>
                  <a:pt x="16624" y="2911"/>
                </a:cubicBezTo>
                <a:cubicBezTo>
                  <a:pt x="16624" y="2899"/>
                  <a:pt x="16612" y="2893"/>
                  <a:pt x="16606" y="2882"/>
                </a:cubicBezTo>
                <a:cubicBezTo>
                  <a:pt x="16601" y="2887"/>
                  <a:pt x="16601" y="2893"/>
                  <a:pt x="16594" y="2893"/>
                </a:cubicBezTo>
                <a:cubicBezTo>
                  <a:pt x="16589" y="2899"/>
                  <a:pt x="16589" y="2899"/>
                  <a:pt x="16583" y="2899"/>
                </a:cubicBezTo>
                <a:cubicBezTo>
                  <a:pt x="16571" y="2899"/>
                  <a:pt x="16571" y="2899"/>
                  <a:pt x="16571" y="2899"/>
                </a:cubicBezTo>
                <a:cubicBezTo>
                  <a:pt x="16559" y="2899"/>
                  <a:pt x="16559" y="2899"/>
                  <a:pt x="16559" y="2899"/>
                </a:cubicBezTo>
                <a:cubicBezTo>
                  <a:pt x="16553" y="2899"/>
                  <a:pt x="16547" y="2899"/>
                  <a:pt x="16547" y="2893"/>
                </a:cubicBezTo>
                <a:cubicBezTo>
                  <a:pt x="16547" y="2887"/>
                  <a:pt x="16547" y="2882"/>
                  <a:pt x="16547" y="2876"/>
                </a:cubicBezTo>
                <a:cubicBezTo>
                  <a:pt x="16547" y="2870"/>
                  <a:pt x="16553" y="2864"/>
                  <a:pt x="16559" y="2864"/>
                </a:cubicBezTo>
                <a:cubicBezTo>
                  <a:pt x="16559" y="2858"/>
                  <a:pt x="16559" y="2852"/>
                  <a:pt x="16565" y="2852"/>
                </a:cubicBezTo>
                <a:cubicBezTo>
                  <a:pt x="16571" y="2846"/>
                  <a:pt x="16571" y="2852"/>
                  <a:pt x="16577" y="2852"/>
                </a:cubicBezTo>
                <a:cubicBezTo>
                  <a:pt x="16583" y="2846"/>
                  <a:pt x="16589" y="2846"/>
                  <a:pt x="16601" y="2840"/>
                </a:cubicBezTo>
                <a:cubicBezTo>
                  <a:pt x="16606" y="2840"/>
                  <a:pt x="16612" y="2840"/>
                  <a:pt x="16612" y="2834"/>
                </a:cubicBezTo>
                <a:cubicBezTo>
                  <a:pt x="16618" y="2834"/>
                  <a:pt x="16618" y="2828"/>
                  <a:pt x="16624" y="2822"/>
                </a:cubicBezTo>
                <a:cubicBezTo>
                  <a:pt x="16624" y="2816"/>
                  <a:pt x="16630" y="2816"/>
                  <a:pt x="16636" y="2810"/>
                </a:cubicBezTo>
                <a:cubicBezTo>
                  <a:pt x="16642" y="2805"/>
                  <a:pt x="16642" y="2799"/>
                  <a:pt x="16648" y="2799"/>
                </a:cubicBezTo>
                <a:cubicBezTo>
                  <a:pt x="16654" y="2793"/>
                  <a:pt x="16654" y="2793"/>
                  <a:pt x="16660" y="2793"/>
                </a:cubicBezTo>
                <a:cubicBezTo>
                  <a:pt x="16666" y="2793"/>
                  <a:pt x="16666" y="2787"/>
                  <a:pt x="16672" y="2787"/>
                </a:cubicBezTo>
                <a:cubicBezTo>
                  <a:pt x="16678" y="2787"/>
                  <a:pt x="16683" y="2787"/>
                  <a:pt x="16695" y="2787"/>
                </a:cubicBezTo>
                <a:cubicBezTo>
                  <a:pt x="16695" y="2769"/>
                  <a:pt x="16689" y="2757"/>
                  <a:pt x="16695" y="2745"/>
                </a:cubicBezTo>
                <a:cubicBezTo>
                  <a:pt x="16701" y="2739"/>
                  <a:pt x="16701" y="2739"/>
                  <a:pt x="16701" y="2733"/>
                </a:cubicBezTo>
                <a:cubicBezTo>
                  <a:pt x="16707" y="2727"/>
                  <a:pt x="16713" y="2727"/>
                  <a:pt x="16713" y="2727"/>
                </a:cubicBezTo>
                <a:cubicBezTo>
                  <a:pt x="16719" y="2721"/>
                  <a:pt x="16719" y="2721"/>
                  <a:pt x="16725" y="2721"/>
                </a:cubicBezTo>
                <a:cubicBezTo>
                  <a:pt x="16731" y="2716"/>
                  <a:pt x="16731" y="2710"/>
                  <a:pt x="16731" y="2710"/>
                </a:cubicBezTo>
                <a:cubicBezTo>
                  <a:pt x="16737" y="2704"/>
                  <a:pt x="16731" y="2698"/>
                  <a:pt x="16737" y="2692"/>
                </a:cubicBezTo>
                <a:cubicBezTo>
                  <a:pt x="16743" y="2692"/>
                  <a:pt x="16743" y="2692"/>
                  <a:pt x="16749" y="2686"/>
                </a:cubicBezTo>
                <a:cubicBezTo>
                  <a:pt x="16755" y="2686"/>
                  <a:pt x="16755" y="2686"/>
                  <a:pt x="16760" y="2680"/>
                </a:cubicBezTo>
                <a:cubicBezTo>
                  <a:pt x="16767" y="2680"/>
                  <a:pt x="16767" y="2674"/>
                  <a:pt x="16767" y="2668"/>
                </a:cubicBezTo>
                <a:cubicBezTo>
                  <a:pt x="16772" y="2668"/>
                  <a:pt x="16778" y="2668"/>
                  <a:pt x="16784" y="2662"/>
                </a:cubicBezTo>
                <a:cubicBezTo>
                  <a:pt x="16784" y="2656"/>
                  <a:pt x="16784" y="2650"/>
                  <a:pt x="16790" y="2650"/>
                </a:cubicBezTo>
                <a:cubicBezTo>
                  <a:pt x="16790" y="2650"/>
                  <a:pt x="16796" y="2650"/>
                  <a:pt x="16802" y="2650"/>
                </a:cubicBezTo>
                <a:cubicBezTo>
                  <a:pt x="16802" y="2644"/>
                  <a:pt x="16808" y="2650"/>
                  <a:pt x="16814" y="2650"/>
                </a:cubicBezTo>
                <a:cubicBezTo>
                  <a:pt x="16814" y="2644"/>
                  <a:pt x="16814" y="2639"/>
                  <a:pt x="16814" y="2639"/>
                </a:cubicBezTo>
                <a:cubicBezTo>
                  <a:pt x="16820" y="2632"/>
                  <a:pt x="16820" y="2627"/>
                  <a:pt x="16820" y="2627"/>
                </a:cubicBezTo>
                <a:cubicBezTo>
                  <a:pt x="16826" y="2621"/>
                  <a:pt x="16826" y="2615"/>
                  <a:pt x="16826" y="2615"/>
                </a:cubicBezTo>
                <a:cubicBezTo>
                  <a:pt x="16826" y="2609"/>
                  <a:pt x="16832" y="2609"/>
                  <a:pt x="16832" y="2603"/>
                </a:cubicBezTo>
                <a:cubicBezTo>
                  <a:pt x="16832" y="2597"/>
                  <a:pt x="16838" y="2597"/>
                  <a:pt x="16838" y="2591"/>
                </a:cubicBezTo>
                <a:cubicBezTo>
                  <a:pt x="16844" y="2585"/>
                  <a:pt x="16844" y="2579"/>
                  <a:pt x="16844" y="2579"/>
                </a:cubicBezTo>
                <a:cubicBezTo>
                  <a:pt x="16849" y="2573"/>
                  <a:pt x="16861" y="2567"/>
                  <a:pt x="16867" y="2567"/>
                </a:cubicBezTo>
                <a:cubicBezTo>
                  <a:pt x="16879" y="2567"/>
                  <a:pt x="16885" y="2567"/>
                  <a:pt x="16891" y="2567"/>
                </a:cubicBezTo>
                <a:cubicBezTo>
                  <a:pt x="16903" y="2567"/>
                  <a:pt x="16909" y="2561"/>
                  <a:pt x="16915" y="2555"/>
                </a:cubicBezTo>
                <a:cubicBezTo>
                  <a:pt x="16921" y="2550"/>
                  <a:pt x="16921" y="2544"/>
                  <a:pt x="16926" y="2544"/>
                </a:cubicBezTo>
                <a:cubicBezTo>
                  <a:pt x="16933" y="2538"/>
                  <a:pt x="16933" y="2532"/>
                  <a:pt x="16938" y="2526"/>
                </a:cubicBezTo>
                <a:cubicBezTo>
                  <a:pt x="16944" y="2520"/>
                  <a:pt x="16950" y="2514"/>
                  <a:pt x="16962" y="2514"/>
                </a:cubicBezTo>
                <a:cubicBezTo>
                  <a:pt x="16968" y="2514"/>
                  <a:pt x="16980" y="2520"/>
                  <a:pt x="16992" y="2520"/>
                </a:cubicBezTo>
                <a:lnTo>
                  <a:pt x="16992" y="2520"/>
                </a:lnTo>
                <a:cubicBezTo>
                  <a:pt x="17004" y="2520"/>
                  <a:pt x="17010" y="2514"/>
                  <a:pt x="17021" y="2514"/>
                </a:cubicBezTo>
                <a:cubicBezTo>
                  <a:pt x="17027" y="2514"/>
                  <a:pt x="17027" y="2514"/>
                  <a:pt x="17027" y="2514"/>
                </a:cubicBezTo>
                <a:cubicBezTo>
                  <a:pt x="17033" y="2514"/>
                  <a:pt x="17033" y="2520"/>
                  <a:pt x="17039" y="2520"/>
                </a:cubicBezTo>
                <a:cubicBezTo>
                  <a:pt x="17051" y="2520"/>
                  <a:pt x="17051" y="2520"/>
                  <a:pt x="17051" y="2520"/>
                </a:cubicBezTo>
                <a:cubicBezTo>
                  <a:pt x="17057" y="2520"/>
                  <a:pt x="17057" y="2520"/>
                  <a:pt x="17063" y="2520"/>
                </a:cubicBezTo>
                <a:cubicBezTo>
                  <a:pt x="17069" y="2520"/>
                  <a:pt x="17075" y="2514"/>
                  <a:pt x="17081" y="2514"/>
                </a:cubicBezTo>
                <a:cubicBezTo>
                  <a:pt x="17087" y="2514"/>
                  <a:pt x="17087" y="2514"/>
                  <a:pt x="17087" y="2514"/>
                </a:cubicBezTo>
                <a:cubicBezTo>
                  <a:pt x="17093" y="2514"/>
                  <a:pt x="17093" y="2520"/>
                  <a:pt x="17099" y="2520"/>
                </a:cubicBezTo>
                <a:cubicBezTo>
                  <a:pt x="17104" y="2520"/>
                  <a:pt x="17116" y="2532"/>
                  <a:pt x="17122" y="2532"/>
                </a:cubicBezTo>
                <a:close/>
                <a:moveTo>
                  <a:pt x="8805" y="2585"/>
                </a:moveTo>
                <a:lnTo>
                  <a:pt x="8805" y="2585"/>
                </a:lnTo>
                <a:cubicBezTo>
                  <a:pt x="8793" y="2591"/>
                  <a:pt x="8793" y="2597"/>
                  <a:pt x="8781" y="2603"/>
                </a:cubicBezTo>
                <a:cubicBezTo>
                  <a:pt x="8781" y="2603"/>
                  <a:pt x="8775" y="2603"/>
                  <a:pt x="8769" y="2603"/>
                </a:cubicBezTo>
                <a:cubicBezTo>
                  <a:pt x="8769" y="2609"/>
                  <a:pt x="8769" y="2615"/>
                  <a:pt x="8763" y="2615"/>
                </a:cubicBezTo>
                <a:cubicBezTo>
                  <a:pt x="8757" y="2627"/>
                  <a:pt x="8751" y="2627"/>
                  <a:pt x="8745" y="2639"/>
                </a:cubicBezTo>
                <a:cubicBezTo>
                  <a:pt x="8745" y="2644"/>
                  <a:pt x="8745" y="2644"/>
                  <a:pt x="8745" y="2650"/>
                </a:cubicBezTo>
                <a:cubicBezTo>
                  <a:pt x="8757" y="2656"/>
                  <a:pt x="8757" y="2656"/>
                  <a:pt x="8757" y="2656"/>
                </a:cubicBezTo>
                <a:cubicBezTo>
                  <a:pt x="8757" y="2656"/>
                  <a:pt x="8763" y="2650"/>
                  <a:pt x="8769" y="2650"/>
                </a:cubicBezTo>
                <a:cubicBezTo>
                  <a:pt x="8769" y="2644"/>
                  <a:pt x="8775" y="2644"/>
                  <a:pt x="8775" y="2639"/>
                </a:cubicBezTo>
                <a:cubicBezTo>
                  <a:pt x="8781" y="2639"/>
                  <a:pt x="8781" y="2627"/>
                  <a:pt x="8787" y="2627"/>
                </a:cubicBezTo>
                <a:cubicBezTo>
                  <a:pt x="8787" y="2627"/>
                  <a:pt x="8793" y="2627"/>
                  <a:pt x="8799" y="2627"/>
                </a:cubicBezTo>
                <a:cubicBezTo>
                  <a:pt x="8799" y="2627"/>
                  <a:pt x="8805" y="2627"/>
                  <a:pt x="8811" y="2627"/>
                </a:cubicBezTo>
                <a:cubicBezTo>
                  <a:pt x="8811" y="2621"/>
                  <a:pt x="8805" y="2615"/>
                  <a:pt x="8811" y="2615"/>
                </a:cubicBezTo>
                <a:cubicBezTo>
                  <a:pt x="8811" y="2609"/>
                  <a:pt x="8816" y="2609"/>
                  <a:pt x="8816" y="2603"/>
                </a:cubicBezTo>
                <a:cubicBezTo>
                  <a:pt x="8816" y="2591"/>
                  <a:pt x="8823" y="2585"/>
                  <a:pt x="8823" y="2579"/>
                </a:cubicBezTo>
                <a:cubicBezTo>
                  <a:pt x="8816" y="2579"/>
                  <a:pt x="8811" y="2585"/>
                  <a:pt x="8805" y="2585"/>
                </a:cubicBezTo>
                <a:close/>
                <a:moveTo>
                  <a:pt x="8864" y="3225"/>
                </a:moveTo>
                <a:lnTo>
                  <a:pt x="8864" y="3225"/>
                </a:lnTo>
                <a:cubicBezTo>
                  <a:pt x="8870" y="3225"/>
                  <a:pt x="8870" y="3220"/>
                  <a:pt x="8876" y="3220"/>
                </a:cubicBezTo>
                <a:cubicBezTo>
                  <a:pt x="8882" y="3220"/>
                  <a:pt x="8882" y="3220"/>
                  <a:pt x="8888" y="3220"/>
                </a:cubicBezTo>
                <a:cubicBezTo>
                  <a:pt x="8894" y="3220"/>
                  <a:pt x="8894" y="3220"/>
                  <a:pt x="8900" y="3214"/>
                </a:cubicBezTo>
                <a:cubicBezTo>
                  <a:pt x="8911" y="3208"/>
                  <a:pt x="8911" y="3208"/>
                  <a:pt x="8911" y="3208"/>
                </a:cubicBezTo>
                <a:cubicBezTo>
                  <a:pt x="8917" y="3208"/>
                  <a:pt x="8911" y="3196"/>
                  <a:pt x="8917" y="3196"/>
                </a:cubicBezTo>
                <a:cubicBezTo>
                  <a:pt x="8923" y="3196"/>
                  <a:pt x="8923" y="3202"/>
                  <a:pt x="8929" y="3202"/>
                </a:cubicBezTo>
                <a:cubicBezTo>
                  <a:pt x="8935" y="3202"/>
                  <a:pt x="8935" y="3208"/>
                  <a:pt x="8941" y="3208"/>
                </a:cubicBezTo>
                <a:cubicBezTo>
                  <a:pt x="8971" y="3208"/>
                  <a:pt x="8971" y="3208"/>
                  <a:pt x="8971" y="3208"/>
                </a:cubicBezTo>
                <a:cubicBezTo>
                  <a:pt x="8971" y="3196"/>
                  <a:pt x="8977" y="3190"/>
                  <a:pt x="8977" y="3178"/>
                </a:cubicBezTo>
                <a:cubicBezTo>
                  <a:pt x="8982" y="3178"/>
                  <a:pt x="8989" y="3178"/>
                  <a:pt x="9000" y="3178"/>
                </a:cubicBezTo>
                <a:cubicBezTo>
                  <a:pt x="9000" y="3178"/>
                  <a:pt x="9006" y="3178"/>
                  <a:pt x="9012" y="3178"/>
                </a:cubicBezTo>
                <a:cubicBezTo>
                  <a:pt x="9012" y="3178"/>
                  <a:pt x="9018" y="3178"/>
                  <a:pt x="9024" y="3178"/>
                </a:cubicBezTo>
                <a:cubicBezTo>
                  <a:pt x="9030" y="3178"/>
                  <a:pt x="9036" y="3178"/>
                  <a:pt x="9042" y="3178"/>
                </a:cubicBezTo>
                <a:cubicBezTo>
                  <a:pt x="9048" y="3178"/>
                  <a:pt x="9054" y="3178"/>
                  <a:pt x="9054" y="3178"/>
                </a:cubicBezTo>
                <a:cubicBezTo>
                  <a:pt x="9060" y="3178"/>
                  <a:pt x="9066" y="3172"/>
                  <a:pt x="9066" y="3172"/>
                </a:cubicBezTo>
                <a:cubicBezTo>
                  <a:pt x="9071" y="3166"/>
                  <a:pt x="9071" y="3160"/>
                  <a:pt x="9077" y="3160"/>
                </a:cubicBezTo>
                <a:cubicBezTo>
                  <a:pt x="9083" y="3160"/>
                  <a:pt x="9089" y="3160"/>
                  <a:pt x="9095" y="3160"/>
                </a:cubicBezTo>
                <a:cubicBezTo>
                  <a:pt x="9107" y="3166"/>
                  <a:pt x="9107" y="3178"/>
                  <a:pt x="9119" y="3178"/>
                </a:cubicBezTo>
                <a:cubicBezTo>
                  <a:pt x="9125" y="3178"/>
                  <a:pt x="9125" y="3178"/>
                  <a:pt x="9125" y="3178"/>
                </a:cubicBezTo>
                <a:cubicBezTo>
                  <a:pt x="9131" y="3178"/>
                  <a:pt x="9137" y="3178"/>
                  <a:pt x="9137" y="3178"/>
                </a:cubicBezTo>
                <a:cubicBezTo>
                  <a:pt x="9148" y="3172"/>
                  <a:pt x="9154" y="3178"/>
                  <a:pt x="9160" y="3178"/>
                </a:cubicBezTo>
                <a:cubicBezTo>
                  <a:pt x="9166" y="3178"/>
                  <a:pt x="9172" y="3178"/>
                  <a:pt x="9172" y="3178"/>
                </a:cubicBezTo>
                <a:cubicBezTo>
                  <a:pt x="9178" y="3172"/>
                  <a:pt x="9178" y="3172"/>
                  <a:pt x="9184" y="3166"/>
                </a:cubicBezTo>
                <a:cubicBezTo>
                  <a:pt x="9190" y="3166"/>
                  <a:pt x="9184" y="3160"/>
                  <a:pt x="9190" y="3154"/>
                </a:cubicBezTo>
                <a:cubicBezTo>
                  <a:pt x="9196" y="3154"/>
                  <a:pt x="9196" y="3154"/>
                  <a:pt x="9202" y="3154"/>
                </a:cubicBezTo>
                <a:cubicBezTo>
                  <a:pt x="9208" y="3154"/>
                  <a:pt x="9208" y="3154"/>
                  <a:pt x="9214" y="3154"/>
                </a:cubicBezTo>
                <a:cubicBezTo>
                  <a:pt x="9220" y="3154"/>
                  <a:pt x="9220" y="3148"/>
                  <a:pt x="9226" y="3148"/>
                </a:cubicBezTo>
                <a:cubicBezTo>
                  <a:pt x="9226" y="3137"/>
                  <a:pt x="9226" y="3137"/>
                  <a:pt x="9226" y="3137"/>
                </a:cubicBezTo>
                <a:cubicBezTo>
                  <a:pt x="9226" y="3137"/>
                  <a:pt x="9220" y="3131"/>
                  <a:pt x="9220" y="3125"/>
                </a:cubicBezTo>
                <a:cubicBezTo>
                  <a:pt x="9214" y="3119"/>
                  <a:pt x="9208" y="3119"/>
                  <a:pt x="9208" y="3113"/>
                </a:cubicBezTo>
                <a:cubicBezTo>
                  <a:pt x="9208" y="3107"/>
                  <a:pt x="9208" y="3107"/>
                  <a:pt x="9208" y="3107"/>
                </a:cubicBezTo>
                <a:cubicBezTo>
                  <a:pt x="9208" y="3101"/>
                  <a:pt x="9208" y="3095"/>
                  <a:pt x="9214" y="3095"/>
                </a:cubicBezTo>
                <a:cubicBezTo>
                  <a:pt x="9214" y="3089"/>
                  <a:pt x="9220" y="3089"/>
                  <a:pt x="9226" y="3089"/>
                </a:cubicBezTo>
                <a:cubicBezTo>
                  <a:pt x="9226" y="3089"/>
                  <a:pt x="9232" y="3089"/>
                  <a:pt x="9237" y="3089"/>
                </a:cubicBezTo>
                <a:cubicBezTo>
                  <a:pt x="9237" y="3089"/>
                  <a:pt x="9237" y="3083"/>
                  <a:pt x="9237" y="3077"/>
                </a:cubicBezTo>
                <a:cubicBezTo>
                  <a:pt x="9237" y="3077"/>
                  <a:pt x="9243" y="3071"/>
                  <a:pt x="9243" y="3065"/>
                </a:cubicBezTo>
                <a:cubicBezTo>
                  <a:pt x="9267" y="3065"/>
                  <a:pt x="9267" y="3065"/>
                  <a:pt x="9267" y="3065"/>
                </a:cubicBezTo>
                <a:cubicBezTo>
                  <a:pt x="9267" y="3042"/>
                  <a:pt x="9267" y="3042"/>
                  <a:pt x="9267" y="3042"/>
                </a:cubicBezTo>
                <a:cubicBezTo>
                  <a:pt x="9261" y="3042"/>
                  <a:pt x="9255" y="3042"/>
                  <a:pt x="9255" y="3036"/>
                </a:cubicBezTo>
                <a:cubicBezTo>
                  <a:pt x="9249" y="3030"/>
                  <a:pt x="9249" y="3030"/>
                  <a:pt x="9243" y="3024"/>
                </a:cubicBezTo>
                <a:cubicBezTo>
                  <a:pt x="9243" y="3018"/>
                  <a:pt x="9249" y="3012"/>
                  <a:pt x="9243" y="3012"/>
                </a:cubicBezTo>
                <a:cubicBezTo>
                  <a:pt x="9243" y="3006"/>
                  <a:pt x="9237" y="3006"/>
                  <a:pt x="9232" y="3006"/>
                </a:cubicBezTo>
                <a:cubicBezTo>
                  <a:pt x="9232" y="3000"/>
                  <a:pt x="9226" y="3000"/>
                  <a:pt x="9220" y="2994"/>
                </a:cubicBezTo>
                <a:cubicBezTo>
                  <a:pt x="9208" y="3000"/>
                  <a:pt x="9208" y="3000"/>
                  <a:pt x="9208" y="3000"/>
                </a:cubicBezTo>
                <a:cubicBezTo>
                  <a:pt x="9208" y="3000"/>
                  <a:pt x="9214" y="3006"/>
                  <a:pt x="9214" y="3012"/>
                </a:cubicBezTo>
                <a:cubicBezTo>
                  <a:pt x="9208" y="3012"/>
                  <a:pt x="9202" y="3012"/>
                  <a:pt x="9202" y="3018"/>
                </a:cubicBezTo>
                <a:cubicBezTo>
                  <a:pt x="9196" y="3024"/>
                  <a:pt x="9196" y="3024"/>
                  <a:pt x="9190" y="3030"/>
                </a:cubicBezTo>
                <a:lnTo>
                  <a:pt x="9184" y="3030"/>
                </a:lnTo>
                <a:cubicBezTo>
                  <a:pt x="9178" y="3024"/>
                  <a:pt x="9172" y="3018"/>
                  <a:pt x="9172" y="3018"/>
                </a:cubicBezTo>
                <a:cubicBezTo>
                  <a:pt x="9172" y="3012"/>
                  <a:pt x="9172" y="3006"/>
                  <a:pt x="9172" y="3006"/>
                </a:cubicBezTo>
                <a:cubicBezTo>
                  <a:pt x="9172" y="2994"/>
                  <a:pt x="9172" y="2988"/>
                  <a:pt x="9172" y="2982"/>
                </a:cubicBezTo>
                <a:cubicBezTo>
                  <a:pt x="9172" y="2976"/>
                  <a:pt x="9172" y="2971"/>
                  <a:pt x="9172" y="2965"/>
                </a:cubicBezTo>
                <a:cubicBezTo>
                  <a:pt x="9137" y="2965"/>
                  <a:pt x="9137" y="2965"/>
                  <a:pt x="9137" y="2965"/>
                </a:cubicBezTo>
                <a:cubicBezTo>
                  <a:pt x="9137" y="2953"/>
                  <a:pt x="9143" y="2947"/>
                  <a:pt x="9137" y="2935"/>
                </a:cubicBezTo>
                <a:cubicBezTo>
                  <a:pt x="9137" y="2929"/>
                  <a:pt x="9143" y="2923"/>
                  <a:pt x="9137" y="2923"/>
                </a:cubicBezTo>
                <a:cubicBezTo>
                  <a:pt x="9137" y="2911"/>
                  <a:pt x="9125" y="2905"/>
                  <a:pt x="9119" y="2899"/>
                </a:cubicBezTo>
                <a:cubicBezTo>
                  <a:pt x="9113" y="2899"/>
                  <a:pt x="9113" y="2905"/>
                  <a:pt x="9107" y="2899"/>
                </a:cubicBezTo>
                <a:cubicBezTo>
                  <a:pt x="9101" y="2899"/>
                  <a:pt x="9107" y="2893"/>
                  <a:pt x="9101" y="2887"/>
                </a:cubicBezTo>
                <a:lnTo>
                  <a:pt x="9089" y="2887"/>
                </a:lnTo>
                <a:cubicBezTo>
                  <a:pt x="9089" y="2882"/>
                  <a:pt x="9089" y="2882"/>
                  <a:pt x="9089" y="2876"/>
                </a:cubicBezTo>
                <a:cubicBezTo>
                  <a:pt x="9089" y="2870"/>
                  <a:pt x="9083" y="2870"/>
                  <a:pt x="9083" y="2864"/>
                </a:cubicBezTo>
                <a:cubicBezTo>
                  <a:pt x="9077" y="2858"/>
                  <a:pt x="9071" y="2858"/>
                  <a:pt x="9066" y="2858"/>
                </a:cubicBezTo>
                <a:cubicBezTo>
                  <a:pt x="9066" y="2852"/>
                  <a:pt x="9071" y="2846"/>
                  <a:pt x="9066" y="2846"/>
                </a:cubicBezTo>
                <a:cubicBezTo>
                  <a:pt x="9066" y="2840"/>
                  <a:pt x="9060" y="2840"/>
                  <a:pt x="9060" y="2834"/>
                </a:cubicBezTo>
                <a:cubicBezTo>
                  <a:pt x="9054" y="2828"/>
                  <a:pt x="9054" y="2822"/>
                  <a:pt x="9054" y="2822"/>
                </a:cubicBezTo>
                <a:cubicBezTo>
                  <a:pt x="9048" y="2816"/>
                  <a:pt x="9048" y="2810"/>
                  <a:pt x="9042" y="2810"/>
                </a:cubicBezTo>
                <a:cubicBezTo>
                  <a:pt x="9036" y="2810"/>
                  <a:pt x="9036" y="2805"/>
                  <a:pt x="9030" y="2805"/>
                </a:cubicBezTo>
                <a:cubicBezTo>
                  <a:pt x="9024" y="2805"/>
                  <a:pt x="9018" y="2805"/>
                  <a:pt x="9006" y="2805"/>
                </a:cubicBezTo>
                <a:cubicBezTo>
                  <a:pt x="9000" y="2805"/>
                  <a:pt x="8994" y="2805"/>
                  <a:pt x="8982" y="2799"/>
                </a:cubicBezTo>
                <a:cubicBezTo>
                  <a:pt x="8977" y="2799"/>
                  <a:pt x="8982" y="2793"/>
                  <a:pt x="8977" y="2787"/>
                </a:cubicBezTo>
                <a:cubicBezTo>
                  <a:pt x="8977" y="2781"/>
                  <a:pt x="8977" y="2781"/>
                  <a:pt x="8982" y="2775"/>
                </a:cubicBezTo>
                <a:cubicBezTo>
                  <a:pt x="8982" y="2769"/>
                  <a:pt x="8989" y="2769"/>
                  <a:pt x="8994" y="2769"/>
                </a:cubicBezTo>
                <a:cubicBezTo>
                  <a:pt x="8994" y="2763"/>
                  <a:pt x="8994" y="2757"/>
                  <a:pt x="8994" y="2757"/>
                </a:cubicBezTo>
                <a:cubicBezTo>
                  <a:pt x="9000" y="2751"/>
                  <a:pt x="9006" y="2757"/>
                  <a:pt x="9006" y="2757"/>
                </a:cubicBezTo>
                <a:cubicBezTo>
                  <a:pt x="9012" y="2757"/>
                  <a:pt x="9012" y="2751"/>
                  <a:pt x="9018" y="2751"/>
                </a:cubicBezTo>
                <a:cubicBezTo>
                  <a:pt x="9018" y="2739"/>
                  <a:pt x="9018" y="2739"/>
                  <a:pt x="9018" y="2739"/>
                </a:cubicBezTo>
                <a:cubicBezTo>
                  <a:pt x="9018" y="2739"/>
                  <a:pt x="9018" y="2733"/>
                  <a:pt x="9018" y="2727"/>
                </a:cubicBezTo>
                <a:cubicBezTo>
                  <a:pt x="9018" y="2727"/>
                  <a:pt x="9024" y="2721"/>
                  <a:pt x="9030" y="2721"/>
                </a:cubicBezTo>
                <a:cubicBezTo>
                  <a:pt x="9030" y="2716"/>
                  <a:pt x="9036" y="2716"/>
                  <a:pt x="9042" y="2716"/>
                </a:cubicBezTo>
                <a:cubicBezTo>
                  <a:pt x="9042" y="2710"/>
                  <a:pt x="9042" y="2710"/>
                  <a:pt x="9042" y="2704"/>
                </a:cubicBezTo>
                <a:cubicBezTo>
                  <a:pt x="9042" y="2656"/>
                  <a:pt x="9042" y="2656"/>
                  <a:pt x="9042" y="2656"/>
                </a:cubicBezTo>
                <a:cubicBezTo>
                  <a:pt x="8935" y="2656"/>
                  <a:pt x="8935" y="2656"/>
                  <a:pt x="8935" y="2656"/>
                </a:cubicBezTo>
                <a:cubicBezTo>
                  <a:pt x="8935" y="2650"/>
                  <a:pt x="8935" y="2650"/>
                  <a:pt x="8941" y="2644"/>
                </a:cubicBezTo>
                <a:cubicBezTo>
                  <a:pt x="8941" y="2639"/>
                  <a:pt x="8947" y="2639"/>
                  <a:pt x="8953" y="2639"/>
                </a:cubicBezTo>
                <a:cubicBezTo>
                  <a:pt x="8953" y="2632"/>
                  <a:pt x="8947" y="2627"/>
                  <a:pt x="8953" y="2627"/>
                </a:cubicBezTo>
                <a:cubicBezTo>
                  <a:pt x="8953" y="2621"/>
                  <a:pt x="8947" y="2615"/>
                  <a:pt x="8953" y="2615"/>
                </a:cubicBezTo>
                <a:cubicBezTo>
                  <a:pt x="8953" y="2609"/>
                  <a:pt x="8959" y="2609"/>
                  <a:pt x="8959" y="2603"/>
                </a:cubicBezTo>
                <a:cubicBezTo>
                  <a:pt x="8965" y="2603"/>
                  <a:pt x="8965" y="2597"/>
                  <a:pt x="8971" y="2591"/>
                </a:cubicBezTo>
                <a:cubicBezTo>
                  <a:pt x="8977" y="2591"/>
                  <a:pt x="8977" y="2591"/>
                  <a:pt x="8982" y="2585"/>
                </a:cubicBezTo>
                <a:cubicBezTo>
                  <a:pt x="8977" y="2585"/>
                  <a:pt x="8977" y="2579"/>
                  <a:pt x="8971" y="2573"/>
                </a:cubicBezTo>
                <a:cubicBezTo>
                  <a:pt x="8965" y="2573"/>
                  <a:pt x="8959" y="2573"/>
                  <a:pt x="8953" y="2573"/>
                </a:cubicBezTo>
                <a:cubicBezTo>
                  <a:pt x="8935" y="2573"/>
                  <a:pt x="8935" y="2573"/>
                  <a:pt x="8935" y="2573"/>
                </a:cubicBezTo>
                <a:cubicBezTo>
                  <a:pt x="8929" y="2573"/>
                  <a:pt x="8929" y="2579"/>
                  <a:pt x="8923" y="2579"/>
                </a:cubicBezTo>
                <a:cubicBezTo>
                  <a:pt x="8905" y="2579"/>
                  <a:pt x="8900" y="2579"/>
                  <a:pt x="8882" y="2579"/>
                </a:cubicBezTo>
                <a:cubicBezTo>
                  <a:pt x="8882" y="2585"/>
                  <a:pt x="8882" y="2591"/>
                  <a:pt x="8882" y="2597"/>
                </a:cubicBezTo>
                <a:cubicBezTo>
                  <a:pt x="8882" y="2603"/>
                  <a:pt x="8876" y="2609"/>
                  <a:pt x="8876" y="2609"/>
                </a:cubicBezTo>
                <a:cubicBezTo>
                  <a:pt x="8876" y="2615"/>
                  <a:pt x="8864" y="2621"/>
                  <a:pt x="8864" y="2627"/>
                </a:cubicBezTo>
                <a:cubicBezTo>
                  <a:pt x="8864" y="2627"/>
                  <a:pt x="8864" y="2627"/>
                  <a:pt x="8864" y="2632"/>
                </a:cubicBezTo>
                <a:cubicBezTo>
                  <a:pt x="8864" y="2639"/>
                  <a:pt x="8870" y="2644"/>
                  <a:pt x="8870" y="2650"/>
                </a:cubicBezTo>
                <a:cubicBezTo>
                  <a:pt x="8870" y="2656"/>
                  <a:pt x="8864" y="2662"/>
                  <a:pt x="8864" y="2662"/>
                </a:cubicBezTo>
                <a:cubicBezTo>
                  <a:pt x="8858" y="2668"/>
                  <a:pt x="8852" y="2668"/>
                  <a:pt x="8840" y="2668"/>
                </a:cubicBezTo>
                <a:cubicBezTo>
                  <a:pt x="8834" y="2668"/>
                  <a:pt x="8834" y="2668"/>
                  <a:pt x="8828" y="2662"/>
                </a:cubicBezTo>
                <a:cubicBezTo>
                  <a:pt x="8823" y="2662"/>
                  <a:pt x="8823" y="2650"/>
                  <a:pt x="8811" y="2650"/>
                </a:cubicBezTo>
                <a:cubicBezTo>
                  <a:pt x="8805" y="2650"/>
                  <a:pt x="8799" y="2656"/>
                  <a:pt x="8799" y="2662"/>
                </a:cubicBezTo>
                <a:cubicBezTo>
                  <a:pt x="8793" y="2668"/>
                  <a:pt x="8799" y="2668"/>
                  <a:pt x="8799" y="2674"/>
                </a:cubicBezTo>
                <a:cubicBezTo>
                  <a:pt x="8799" y="2680"/>
                  <a:pt x="8793" y="2692"/>
                  <a:pt x="8799" y="2698"/>
                </a:cubicBezTo>
                <a:cubicBezTo>
                  <a:pt x="8805" y="2698"/>
                  <a:pt x="8805" y="2698"/>
                  <a:pt x="8811" y="2704"/>
                </a:cubicBezTo>
                <a:cubicBezTo>
                  <a:pt x="8816" y="2704"/>
                  <a:pt x="8828" y="2704"/>
                  <a:pt x="8834" y="2710"/>
                </a:cubicBezTo>
                <a:cubicBezTo>
                  <a:pt x="8834" y="2710"/>
                  <a:pt x="8828" y="2716"/>
                  <a:pt x="8828" y="2721"/>
                </a:cubicBezTo>
                <a:cubicBezTo>
                  <a:pt x="8828" y="2727"/>
                  <a:pt x="8828" y="2727"/>
                  <a:pt x="8828" y="2727"/>
                </a:cubicBezTo>
                <a:cubicBezTo>
                  <a:pt x="8828" y="2733"/>
                  <a:pt x="8823" y="2739"/>
                  <a:pt x="8823" y="2739"/>
                </a:cubicBezTo>
                <a:cubicBezTo>
                  <a:pt x="8823" y="2745"/>
                  <a:pt x="8828" y="2745"/>
                  <a:pt x="8828" y="2751"/>
                </a:cubicBezTo>
                <a:cubicBezTo>
                  <a:pt x="8828" y="2757"/>
                  <a:pt x="8828" y="2763"/>
                  <a:pt x="8823" y="2763"/>
                </a:cubicBezTo>
                <a:cubicBezTo>
                  <a:pt x="8823" y="2769"/>
                  <a:pt x="8816" y="2763"/>
                  <a:pt x="8811" y="2769"/>
                </a:cubicBezTo>
                <a:lnTo>
                  <a:pt x="8805" y="2769"/>
                </a:lnTo>
                <a:cubicBezTo>
                  <a:pt x="8799" y="2775"/>
                  <a:pt x="8793" y="2775"/>
                  <a:pt x="8793" y="2781"/>
                </a:cubicBezTo>
                <a:cubicBezTo>
                  <a:pt x="8793" y="2787"/>
                  <a:pt x="8793" y="2793"/>
                  <a:pt x="8793" y="2799"/>
                </a:cubicBezTo>
                <a:cubicBezTo>
                  <a:pt x="8816" y="2799"/>
                  <a:pt x="8816" y="2799"/>
                  <a:pt x="8816" y="2799"/>
                </a:cubicBezTo>
                <a:cubicBezTo>
                  <a:pt x="8823" y="2799"/>
                  <a:pt x="8823" y="2793"/>
                  <a:pt x="8828" y="2793"/>
                </a:cubicBezTo>
                <a:cubicBezTo>
                  <a:pt x="8834" y="2793"/>
                  <a:pt x="8834" y="2793"/>
                  <a:pt x="8840" y="2799"/>
                </a:cubicBezTo>
                <a:cubicBezTo>
                  <a:pt x="8840" y="2799"/>
                  <a:pt x="8834" y="2805"/>
                  <a:pt x="8840" y="2805"/>
                </a:cubicBezTo>
                <a:cubicBezTo>
                  <a:pt x="8840" y="2810"/>
                  <a:pt x="8846" y="2810"/>
                  <a:pt x="8852" y="2816"/>
                </a:cubicBezTo>
                <a:cubicBezTo>
                  <a:pt x="8876" y="2816"/>
                  <a:pt x="8876" y="2816"/>
                  <a:pt x="8876" y="2816"/>
                </a:cubicBezTo>
                <a:cubicBezTo>
                  <a:pt x="8876" y="2810"/>
                  <a:pt x="8870" y="2810"/>
                  <a:pt x="8876" y="2805"/>
                </a:cubicBezTo>
                <a:cubicBezTo>
                  <a:pt x="8876" y="2799"/>
                  <a:pt x="8876" y="2799"/>
                  <a:pt x="8882" y="2793"/>
                </a:cubicBezTo>
                <a:cubicBezTo>
                  <a:pt x="8888" y="2805"/>
                  <a:pt x="8888" y="2805"/>
                  <a:pt x="8888" y="2805"/>
                </a:cubicBezTo>
                <a:lnTo>
                  <a:pt x="8888" y="2810"/>
                </a:lnTo>
                <a:cubicBezTo>
                  <a:pt x="8888" y="2822"/>
                  <a:pt x="8900" y="2828"/>
                  <a:pt x="8900" y="2840"/>
                </a:cubicBezTo>
                <a:cubicBezTo>
                  <a:pt x="8900" y="2840"/>
                  <a:pt x="8900" y="2846"/>
                  <a:pt x="8894" y="2852"/>
                </a:cubicBezTo>
                <a:lnTo>
                  <a:pt x="8888" y="2852"/>
                </a:lnTo>
                <a:cubicBezTo>
                  <a:pt x="8882" y="2858"/>
                  <a:pt x="8876" y="2858"/>
                  <a:pt x="8876" y="2858"/>
                </a:cubicBezTo>
                <a:cubicBezTo>
                  <a:pt x="8876" y="2864"/>
                  <a:pt x="8870" y="2864"/>
                  <a:pt x="8876" y="2870"/>
                </a:cubicBezTo>
                <a:cubicBezTo>
                  <a:pt x="8876" y="2876"/>
                  <a:pt x="8882" y="2876"/>
                  <a:pt x="8882" y="2882"/>
                </a:cubicBezTo>
                <a:cubicBezTo>
                  <a:pt x="8941" y="2882"/>
                  <a:pt x="8941" y="2882"/>
                  <a:pt x="8941" y="2882"/>
                </a:cubicBezTo>
                <a:cubicBezTo>
                  <a:pt x="8947" y="2870"/>
                  <a:pt x="8947" y="2870"/>
                  <a:pt x="8947" y="2870"/>
                </a:cubicBezTo>
                <a:cubicBezTo>
                  <a:pt x="8947" y="2876"/>
                  <a:pt x="8953" y="2870"/>
                  <a:pt x="8959" y="2876"/>
                </a:cubicBezTo>
                <a:cubicBezTo>
                  <a:pt x="8959" y="2882"/>
                  <a:pt x="8959" y="2882"/>
                  <a:pt x="8959" y="2887"/>
                </a:cubicBezTo>
                <a:cubicBezTo>
                  <a:pt x="8965" y="2893"/>
                  <a:pt x="8971" y="2893"/>
                  <a:pt x="8971" y="2899"/>
                </a:cubicBezTo>
                <a:cubicBezTo>
                  <a:pt x="8971" y="2905"/>
                  <a:pt x="8965" y="2911"/>
                  <a:pt x="8965" y="2917"/>
                </a:cubicBezTo>
                <a:cubicBezTo>
                  <a:pt x="8965" y="2923"/>
                  <a:pt x="8965" y="2929"/>
                  <a:pt x="8971" y="2935"/>
                </a:cubicBezTo>
                <a:cubicBezTo>
                  <a:pt x="8977" y="2941"/>
                  <a:pt x="8982" y="2941"/>
                  <a:pt x="8994" y="2947"/>
                </a:cubicBezTo>
                <a:cubicBezTo>
                  <a:pt x="8989" y="2965"/>
                  <a:pt x="8989" y="2965"/>
                  <a:pt x="8989" y="2965"/>
                </a:cubicBezTo>
                <a:cubicBezTo>
                  <a:pt x="8989" y="2976"/>
                  <a:pt x="8994" y="2982"/>
                  <a:pt x="8994" y="2988"/>
                </a:cubicBezTo>
                <a:cubicBezTo>
                  <a:pt x="8994" y="2994"/>
                  <a:pt x="8989" y="3000"/>
                  <a:pt x="8989" y="3000"/>
                </a:cubicBezTo>
                <a:cubicBezTo>
                  <a:pt x="8982" y="3006"/>
                  <a:pt x="8977" y="3000"/>
                  <a:pt x="8971" y="3000"/>
                </a:cubicBezTo>
                <a:cubicBezTo>
                  <a:pt x="8965" y="3000"/>
                  <a:pt x="8959" y="3000"/>
                  <a:pt x="8953" y="3000"/>
                </a:cubicBezTo>
                <a:cubicBezTo>
                  <a:pt x="8947" y="3000"/>
                  <a:pt x="8947" y="2994"/>
                  <a:pt x="8941" y="2994"/>
                </a:cubicBezTo>
                <a:cubicBezTo>
                  <a:pt x="8935" y="2994"/>
                  <a:pt x="8929" y="2994"/>
                  <a:pt x="8923" y="2994"/>
                </a:cubicBezTo>
                <a:cubicBezTo>
                  <a:pt x="8917" y="2994"/>
                  <a:pt x="8917" y="2994"/>
                  <a:pt x="8917" y="2994"/>
                </a:cubicBezTo>
                <a:cubicBezTo>
                  <a:pt x="8917" y="2994"/>
                  <a:pt x="8911" y="2994"/>
                  <a:pt x="8905" y="2994"/>
                </a:cubicBezTo>
                <a:cubicBezTo>
                  <a:pt x="8905" y="2994"/>
                  <a:pt x="8905" y="3000"/>
                  <a:pt x="8900" y="3006"/>
                </a:cubicBezTo>
                <a:cubicBezTo>
                  <a:pt x="8894" y="3006"/>
                  <a:pt x="8900" y="3012"/>
                  <a:pt x="8894" y="3018"/>
                </a:cubicBezTo>
                <a:cubicBezTo>
                  <a:pt x="8894" y="3018"/>
                  <a:pt x="8888" y="3012"/>
                  <a:pt x="8888" y="3018"/>
                </a:cubicBezTo>
                <a:cubicBezTo>
                  <a:pt x="8882" y="3018"/>
                  <a:pt x="8876" y="3018"/>
                  <a:pt x="8876" y="3018"/>
                </a:cubicBezTo>
                <a:cubicBezTo>
                  <a:pt x="8870" y="3030"/>
                  <a:pt x="8870" y="3030"/>
                  <a:pt x="8870" y="3030"/>
                </a:cubicBezTo>
                <a:cubicBezTo>
                  <a:pt x="8876" y="3030"/>
                  <a:pt x="8876" y="3036"/>
                  <a:pt x="8882" y="3036"/>
                </a:cubicBezTo>
                <a:cubicBezTo>
                  <a:pt x="8894" y="3036"/>
                  <a:pt x="8900" y="3030"/>
                  <a:pt x="8911" y="3030"/>
                </a:cubicBezTo>
                <a:cubicBezTo>
                  <a:pt x="8917" y="3030"/>
                  <a:pt x="8923" y="3030"/>
                  <a:pt x="8929" y="3036"/>
                </a:cubicBezTo>
                <a:lnTo>
                  <a:pt x="8929" y="3042"/>
                </a:lnTo>
                <a:cubicBezTo>
                  <a:pt x="8923" y="3048"/>
                  <a:pt x="8929" y="3054"/>
                  <a:pt x="8923" y="3054"/>
                </a:cubicBezTo>
                <a:cubicBezTo>
                  <a:pt x="8923" y="3059"/>
                  <a:pt x="8917" y="3054"/>
                  <a:pt x="8911" y="3054"/>
                </a:cubicBezTo>
                <a:cubicBezTo>
                  <a:pt x="8911" y="3059"/>
                  <a:pt x="8905" y="3059"/>
                  <a:pt x="8900" y="3065"/>
                </a:cubicBezTo>
                <a:cubicBezTo>
                  <a:pt x="8900" y="3065"/>
                  <a:pt x="8900" y="3071"/>
                  <a:pt x="8894" y="3077"/>
                </a:cubicBezTo>
                <a:cubicBezTo>
                  <a:pt x="8888" y="3077"/>
                  <a:pt x="8882" y="3077"/>
                  <a:pt x="8876" y="3077"/>
                </a:cubicBezTo>
                <a:cubicBezTo>
                  <a:pt x="8870" y="3089"/>
                  <a:pt x="8870" y="3089"/>
                  <a:pt x="8870" y="3089"/>
                </a:cubicBezTo>
                <a:cubicBezTo>
                  <a:pt x="8870" y="3095"/>
                  <a:pt x="8870" y="3095"/>
                  <a:pt x="8876" y="3101"/>
                </a:cubicBezTo>
                <a:cubicBezTo>
                  <a:pt x="8876" y="3107"/>
                  <a:pt x="8876" y="3107"/>
                  <a:pt x="8882" y="3113"/>
                </a:cubicBezTo>
                <a:lnTo>
                  <a:pt x="8888" y="3113"/>
                </a:lnTo>
                <a:cubicBezTo>
                  <a:pt x="8894" y="3113"/>
                  <a:pt x="8900" y="3107"/>
                  <a:pt x="8900" y="3107"/>
                </a:cubicBezTo>
                <a:cubicBezTo>
                  <a:pt x="8905" y="3107"/>
                  <a:pt x="8911" y="3101"/>
                  <a:pt x="8917" y="3101"/>
                </a:cubicBezTo>
                <a:cubicBezTo>
                  <a:pt x="8929" y="3101"/>
                  <a:pt x="8935" y="3113"/>
                  <a:pt x="8947" y="3113"/>
                </a:cubicBezTo>
                <a:cubicBezTo>
                  <a:pt x="8953" y="3113"/>
                  <a:pt x="8953" y="3113"/>
                  <a:pt x="8959" y="3113"/>
                </a:cubicBezTo>
                <a:cubicBezTo>
                  <a:pt x="8965" y="3113"/>
                  <a:pt x="8977" y="3113"/>
                  <a:pt x="8982" y="3113"/>
                </a:cubicBezTo>
                <a:cubicBezTo>
                  <a:pt x="8982" y="3113"/>
                  <a:pt x="8989" y="3113"/>
                  <a:pt x="8994" y="3113"/>
                </a:cubicBezTo>
                <a:cubicBezTo>
                  <a:pt x="9000" y="3113"/>
                  <a:pt x="8994" y="3119"/>
                  <a:pt x="9000" y="3125"/>
                </a:cubicBezTo>
                <a:cubicBezTo>
                  <a:pt x="8994" y="3131"/>
                  <a:pt x="8994" y="3131"/>
                  <a:pt x="8989" y="3137"/>
                </a:cubicBezTo>
                <a:cubicBezTo>
                  <a:pt x="8989" y="3137"/>
                  <a:pt x="8982" y="3137"/>
                  <a:pt x="8977" y="3137"/>
                </a:cubicBezTo>
                <a:cubicBezTo>
                  <a:pt x="8971" y="3142"/>
                  <a:pt x="8965" y="3142"/>
                  <a:pt x="8953" y="3142"/>
                </a:cubicBezTo>
                <a:cubicBezTo>
                  <a:pt x="8947" y="3142"/>
                  <a:pt x="8947" y="3142"/>
                  <a:pt x="8941" y="3142"/>
                </a:cubicBezTo>
                <a:cubicBezTo>
                  <a:pt x="8935" y="3142"/>
                  <a:pt x="8935" y="3142"/>
                  <a:pt x="8929" y="3148"/>
                </a:cubicBezTo>
                <a:cubicBezTo>
                  <a:pt x="8923" y="3148"/>
                  <a:pt x="8929" y="3154"/>
                  <a:pt x="8923" y="3160"/>
                </a:cubicBezTo>
                <a:cubicBezTo>
                  <a:pt x="8923" y="3160"/>
                  <a:pt x="8917" y="3160"/>
                  <a:pt x="8911" y="3160"/>
                </a:cubicBezTo>
                <a:cubicBezTo>
                  <a:pt x="8905" y="3160"/>
                  <a:pt x="8900" y="3160"/>
                  <a:pt x="8888" y="3166"/>
                </a:cubicBezTo>
                <a:cubicBezTo>
                  <a:pt x="8888" y="3172"/>
                  <a:pt x="8894" y="3178"/>
                  <a:pt x="8888" y="3190"/>
                </a:cubicBezTo>
                <a:lnTo>
                  <a:pt x="8888" y="3196"/>
                </a:lnTo>
                <a:cubicBezTo>
                  <a:pt x="8888" y="3202"/>
                  <a:pt x="8882" y="3202"/>
                  <a:pt x="8876" y="3202"/>
                </a:cubicBezTo>
                <a:cubicBezTo>
                  <a:pt x="8870" y="3208"/>
                  <a:pt x="8870" y="3208"/>
                  <a:pt x="8864" y="3214"/>
                </a:cubicBezTo>
                <a:cubicBezTo>
                  <a:pt x="8864" y="3214"/>
                  <a:pt x="8858" y="3214"/>
                  <a:pt x="8852" y="3214"/>
                </a:cubicBezTo>
                <a:cubicBezTo>
                  <a:pt x="8858" y="3220"/>
                  <a:pt x="8858" y="3225"/>
                  <a:pt x="8864" y="3225"/>
                </a:cubicBezTo>
                <a:close/>
                <a:moveTo>
                  <a:pt x="8816" y="2929"/>
                </a:moveTo>
                <a:lnTo>
                  <a:pt x="8816" y="2929"/>
                </a:lnTo>
                <a:cubicBezTo>
                  <a:pt x="8823" y="2929"/>
                  <a:pt x="8823" y="2929"/>
                  <a:pt x="8828" y="2929"/>
                </a:cubicBezTo>
                <a:cubicBezTo>
                  <a:pt x="8840" y="2923"/>
                  <a:pt x="8846" y="2917"/>
                  <a:pt x="8846" y="2905"/>
                </a:cubicBezTo>
                <a:cubicBezTo>
                  <a:pt x="8846" y="2899"/>
                  <a:pt x="8846" y="2893"/>
                  <a:pt x="8840" y="2887"/>
                </a:cubicBezTo>
                <a:cubicBezTo>
                  <a:pt x="8840" y="2887"/>
                  <a:pt x="8834" y="2882"/>
                  <a:pt x="8828" y="2882"/>
                </a:cubicBezTo>
                <a:cubicBezTo>
                  <a:pt x="8828" y="2876"/>
                  <a:pt x="8828" y="2870"/>
                  <a:pt x="8828" y="2870"/>
                </a:cubicBezTo>
                <a:cubicBezTo>
                  <a:pt x="8828" y="2864"/>
                  <a:pt x="8828" y="2858"/>
                  <a:pt x="8828" y="2858"/>
                </a:cubicBezTo>
                <a:cubicBezTo>
                  <a:pt x="8823" y="2852"/>
                  <a:pt x="8823" y="2852"/>
                  <a:pt x="8816" y="2846"/>
                </a:cubicBezTo>
                <a:cubicBezTo>
                  <a:pt x="8811" y="2846"/>
                  <a:pt x="8811" y="2846"/>
                  <a:pt x="8805" y="2846"/>
                </a:cubicBezTo>
                <a:cubicBezTo>
                  <a:pt x="8799" y="2846"/>
                  <a:pt x="8799" y="2840"/>
                  <a:pt x="8793" y="2840"/>
                </a:cubicBezTo>
                <a:cubicBezTo>
                  <a:pt x="8787" y="2840"/>
                  <a:pt x="8787" y="2840"/>
                  <a:pt x="8787" y="2840"/>
                </a:cubicBezTo>
                <a:cubicBezTo>
                  <a:pt x="8781" y="2840"/>
                  <a:pt x="8775" y="2840"/>
                  <a:pt x="8769" y="2846"/>
                </a:cubicBezTo>
                <a:cubicBezTo>
                  <a:pt x="8769" y="2846"/>
                  <a:pt x="8763" y="2846"/>
                  <a:pt x="8757" y="2846"/>
                </a:cubicBezTo>
                <a:cubicBezTo>
                  <a:pt x="8757" y="2852"/>
                  <a:pt x="8757" y="2858"/>
                  <a:pt x="8751" y="2858"/>
                </a:cubicBezTo>
                <a:cubicBezTo>
                  <a:pt x="8751" y="2864"/>
                  <a:pt x="8745" y="2864"/>
                  <a:pt x="8739" y="2864"/>
                </a:cubicBezTo>
                <a:cubicBezTo>
                  <a:pt x="8739" y="2864"/>
                  <a:pt x="8734" y="2864"/>
                  <a:pt x="8734" y="2858"/>
                </a:cubicBezTo>
                <a:cubicBezTo>
                  <a:pt x="8727" y="2858"/>
                  <a:pt x="8727" y="2852"/>
                  <a:pt x="8727" y="2846"/>
                </a:cubicBezTo>
                <a:cubicBezTo>
                  <a:pt x="8722" y="2846"/>
                  <a:pt x="8716" y="2846"/>
                  <a:pt x="8716" y="2840"/>
                </a:cubicBezTo>
                <a:cubicBezTo>
                  <a:pt x="8686" y="2846"/>
                  <a:pt x="8686" y="2846"/>
                  <a:pt x="8686" y="2846"/>
                </a:cubicBezTo>
                <a:cubicBezTo>
                  <a:pt x="8686" y="2846"/>
                  <a:pt x="8686" y="2852"/>
                  <a:pt x="8686" y="2858"/>
                </a:cubicBezTo>
                <a:cubicBezTo>
                  <a:pt x="8686" y="2858"/>
                  <a:pt x="8686" y="2864"/>
                  <a:pt x="8686" y="2870"/>
                </a:cubicBezTo>
                <a:cubicBezTo>
                  <a:pt x="8686" y="2876"/>
                  <a:pt x="8686" y="2876"/>
                  <a:pt x="8686" y="2887"/>
                </a:cubicBezTo>
                <a:cubicBezTo>
                  <a:pt x="8686" y="2893"/>
                  <a:pt x="8686" y="2893"/>
                  <a:pt x="8686" y="2899"/>
                </a:cubicBezTo>
                <a:cubicBezTo>
                  <a:pt x="8686" y="2905"/>
                  <a:pt x="8692" y="2899"/>
                  <a:pt x="8692" y="2899"/>
                </a:cubicBezTo>
                <a:cubicBezTo>
                  <a:pt x="8686" y="2899"/>
                  <a:pt x="8680" y="2899"/>
                  <a:pt x="8680" y="2899"/>
                </a:cubicBezTo>
                <a:cubicBezTo>
                  <a:pt x="8674" y="2899"/>
                  <a:pt x="8674" y="2905"/>
                  <a:pt x="8668" y="2905"/>
                </a:cubicBezTo>
                <a:cubicBezTo>
                  <a:pt x="8662" y="2905"/>
                  <a:pt x="8662" y="2905"/>
                  <a:pt x="8657" y="2905"/>
                </a:cubicBezTo>
                <a:cubicBezTo>
                  <a:pt x="8650" y="2911"/>
                  <a:pt x="8645" y="2917"/>
                  <a:pt x="8633" y="2917"/>
                </a:cubicBezTo>
                <a:cubicBezTo>
                  <a:pt x="8627" y="2917"/>
                  <a:pt x="8627" y="2911"/>
                  <a:pt x="8621" y="2905"/>
                </a:cubicBezTo>
                <a:cubicBezTo>
                  <a:pt x="8609" y="2911"/>
                  <a:pt x="8609" y="2911"/>
                  <a:pt x="8609" y="2911"/>
                </a:cubicBezTo>
                <a:cubicBezTo>
                  <a:pt x="8609" y="2994"/>
                  <a:pt x="8609" y="2994"/>
                  <a:pt x="8609" y="2994"/>
                </a:cubicBezTo>
                <a:cubicBezTo>
                  <a:pt x="8615" y="2994"/>
                  <a:pt x="8615" y="2994"/>
                  <a:pt x="8621" y="2994"/>
                </a:cubicBezTo>
                <a:cubicBezTo>
                  <a:pt x="8633" y="2994"/>
                  <a:pt x="8639" y="2994"/>
                  <a:pt x="8650" y="2994"/>
                </a:cubicBezTo>
                <a:cubicBezTo>
                  <a:pt x="8650" y="3030"/>
                  <a:pt x="8650" y="3030"/>
                  <a:pt x="8650" y="3030"/>
                </a:cubicBezTo>
                <a:cubicBezTo>
                  <a:pt x="8639" y="3030"/>
                  <a:pt x="8639" y="3030"/>
                  <a:pt x="8633" y="3030"/>
                </a:cubicBezTo>
                <a:cubicBezTo>
                  <a:pt x="8627" y="3030"/>
                  <a:pt x="8621" y="3030"/>
                  <a:pt x="8621" y="3030"/>
                </a:cubicBezTo>
                <a:cubicBezTo>
                  <a:pt x="8615" y="3030"/>
                  <a:pt x="8615" y="3036"/>
                  <a:pt x="8615" y="3042"/>
                </a:cubicBezTo>
                <a:cubicBezTo>
                  <a:pt x="8609" y="3048"/>
                  <a:pt x="8609" y="3048"/>
                  <a:pt x="8609" y="3054"/>
                </a:cubicBezTo>
                <a:cubicBezTo>
                  <a:pt x="8609" y="3059"/>
                  <a:pt x="8609" y="3065"/>
                  <a:pt x="8609" y="3077"/>
                </a:cubicBezTo>
                <a:cubicBezTo>
                  <a:pt x="8609" y="3077"/>
                  <a:pt x="8597" y="3077"/>
                  <a:pt x="8597" y="3083"/>
                </a:cubicBezTo>
                <a:cubicBezTo>
                  <a:pt x="8597" y="3083"/>
                  <a:pt x="8591" y="3089"/>
                  <a:pt x="8591" y="3095"/>
                </a:cubicBezTo>
                <a:cubicBezTo>
                  <a:pt x="8591" y="3095"/>
                  <a:pt x="8597" y="3101"/>
                  <a:pt x="8597" y="3107"/>
                </a:cubicBezTo>
                <a:cubicBezTo>
                  <a:pt x="8597" y="3107"/>
                  <a:pt x="8603" y="3113"/>
                  <a:pt x="8609" y="3113"/>
                </a:cubicBezTo>
                <a:cubicBezTo>
                  <a:pt x="8615" y="3119"/>
                  <a:pt x="8615" y="3119"/>
                  <a:pt x="8627" y="3119"/>
                </a:cubicBezTo>
                <a:cubicBezTo>
                  <a:pt x="8633" y="3119"/>
                  <a:pt x="8633" y="3113"/>
                  <a:pt x="8645" y="3113"/>
                </a:cubicBezTo>
                <a:cubicBezTo>
                  <a:pt x="8645" y="3113"/>
                  <a:pt x="8650" y="3107"/>
                  <a:pt x="8650" y="3113"/>
                </a:cubicBezTo>
                <a:cubicBezTo>
                  <a:pt x="8657" y="3113"/>
                  <a:pt x="8662" y="3113"/>
                  <a:pt x="8662" y="3113"/>
                </a:cubicBezTo>
                <a:cubicBezTo>
                  <a:pt x="8668" y="3113"/>
                  <a:pt x="8668" y="3119"/>
                  <a:pt x="8668" y="3119"/>
                </a:cubicBezTo>
                <a:cubicBezTo>
                  <a:pt x="8680" y="3119"/>
                  <a:pt x="8680" y="3113"/>
                  <a:pt x="8686" y="3107"/>
                </a:cubicBezTo>
                <a:cubicBezTo>
                  <a:pt x="8692" y="3107"/>
                  <a:pt x="8698" y="3101"/>
                  <a:pt x="8698" y="3101"/>
                </a:cubicBezTo>
                <a:cubicBezTo>
                  <a:pt x="8698" y="3095"/>
                  <a:pt x="8698" y="3089"/>
                  <a:pt x="8698" y="3089"/>
                </a:cubicBezTo>
                <a:cubicBezTo>
                  <a:pt x="8704" y="3083"/>
                  <a:pt x="8710" y="3083"/>
                  <a:pt x="8710" y="3077"/>
                </a:cubicBezTo>
                <a:cubicBezTo>
                  <a:pt x="8811" y="3077"/>
                  <a:pt x="8811" y="3077"/>
                  <a:pt x="8811" y="3077"/>
                </a:cubicBezTo>
                <a:cubicBezTo>
                  <a:pt x="8811" y="3059"/>
                  <a:pt x="8811" y="3059"/>
                  <a:pt x="8811" y="3059"/>
                </a:cubicBezTo>
                <a:cubicBezTo>
                  <a:pt x="8811" y="3054"/>
                  <a:pt x="8799" y="3048"/>
                  <a:pt x="8799" y="3036"/>
                </a:cubicBezTo>
                <a:lnTo>
                  <a:pt x="8811" y="3036"/>
                </a:lnTo>
                <a:cubicBezTo>
                  <a:pt x="8811" y="3030"/>
                  <a:pt x="8816" y="3024"/>
                  <a:pt x="8816" y="3024"/>
                </a:cubicBezTo>
                <a:cubicBezTo>
                  <a:pt x="8816" y="3018"/>
                  <a:pt x="8816" y="3012"/>
                  <a:pt x="8816" y="3012"/>
                </a:cubicBezTo>
                <a:cubicBezTo>
                  <a:pt x="8816" y="3000"/>
                  <a:pt x="8816" y="2994"/>
                  <a:pt x="8816" y="2988"/>
                </a:cubicBezTo>
                <a:cubicBezTo>
                  <a:pt x="8816" y="2982"/>
                  <a:pt x="8816" y="2982"/>
                  <a:pt x="8816" y="2976"/>
                </a:cubicBezTo>
                <a:cubicBezTo>
                  <a:pt x="8816" y="2965"/>
                  <a:pt x="8816" y="2959"/>
                  <a:pt x="8816" y="2953"/>
                </a:cubicBezTo>
                <a:lnTo>
                  <a:pt x="8816" y="2929"/>
                </a:lnTo>
                <a:close/>
                <a:moveTo>
                  <a:pt x="11869" y="7274"/>
                </a:moveTo>
                <a:lnTo>
                  <a:pt x="11869" y="7274"/>
                </a:lnTo>
                <a:cubicBezTo>
                  <a:pt x="11869" y="7256"/>
                  <a:pt x="11851" y="7244"/>
                  <a:pt x="11851" y="7221"/>
                </a:cubicBezTo>
                <a:cubicBezTo>
                  <a:pt x="11851" y="7203"/>
                  <a:pt x="11857" y="7197"/>
                  <a:pt x="11863" y="7185"/>
                </a:cubicBezTo>
                <a:cubicBezTo>
                  <a:pt x="11869" y="7179"/>
                  <a:pt x="11875" y="7173"/>
                  <a:pt x="11875" y="7161"/>
                </a:cubicBezTo>
                <a:cubicBezTo>
                  <a:pt x="11875" y="7138"/>
                  <a:pt x="11875" y="7138"/>
                  <a:pt x="11875" y="7138"/>
                </a:cubicBezTo>
                <a:cubicBezTo>
                  <a:pt x="11875" y="7132"/>
                  <a:pt x="11869" y="7126"/>
                  <a:pt x="11869" y="7114"/>
                </a:cubicBezTo>
                <a:cubicBezTo>
                  <a:pt x="11869" y="7108"/>
                  <a:pt x="11869" y="7108"/>
                  <a:pt x="11869" y="7108"/>
                </a:cubicBezTo>
                <a:cubicBezTo>
                  <a:pt x="11869" y="7096"/>
                  <a:pt x="11887" y="7096"/>
                  <a:pt x="11893" y="7090"/>
                </a:cubicBezTo>
                <a:cubicBezTo>
                  <a:pt x="11893" y="7078"/>
                  <a:pt x="11899" y="7072"/>
                  <a:pt x="11899" y="7066"/>
                </a:cubicBezTo>
                <a:cubicBezTo>
                  <a:pt x="11899" y="7055"/>
                  <a:pt x="11899" y="7055"/>
                  <a:pt x="11899" y="7055"/>
                </a:cubicBezTo>
                <a:cubicBezTo>
                  <a:pt x="11899" y="7031"/>
                  <a:pt x="11887" y="7019"/>
                  <a:pt x="11887" y="6995"/>
                </a:cubicBezTo>
                <a:cubicBezTo>
                  <a:pt x="11887" y="6978"/>
                  <a:pt x="11887" y="6966"/>
                  <a:pt x="11887" y="6954"/>
                </a:cubicBezTo>
                <a:cubicBezTo>
                  <a:pt x="11887" y="6942"/>
                  <a:pt x="11887" y="6936"/>
                  <a:pt x="11887" y="6930"/>
                </a:cubicBezTo>
                <a:cubicBezTo>
                  <a:pt x="11887" y="6918"/>
                  <a:pt x="11875" y="6918"/>
                  <a:pt x="11863" y="6912"/>
                </a:cubicBezTo>
                <a:cubicBezTo>
                  <a:pt x="11857" y="6906"/>
                  <a:pt x="11851" y="6901"/>
                  <a:pt x="11839" y="6896"/>
                </a:cubicBezTo>
                <a:cubicBezTo>
                  <a:pt x="11834" y="6890"/>
                  <a:pt x="11827" y="6890"/>
                  <a:pt x="11816" y="6890"/>
                </a:cubicBezTo>
                <a:cubicBezTo>
                  <a:pt x="11816" y="6896"/>
                  <a:pt x="11822" y="6906"/>
                  <a:pt x="11816" y="6912"/>
                </a:cubicBezTo>
                <a:cubicBezTo>
                  <a:pt x="11816" y="6918"/>
                  <a:pt x="11822" y="6924"/>
                  <a:pt x="11816" y="6936"/>
                </a:cubicBezTo>
                <a:cubicBezTo>
                  <a:pt x="11816" y="6942"/>
                  <a:pt x="11804" y="6942"/>
                  <a:pt x="11798" y="6954"/>
                </a:cubicBezTo>
                <a:cubicBezTo>
                  <a:pt x="11786" y="6960"/>
                  <a:pt x="11786" y="6966"/>
                  <a:pt x="11780" y="6972"/>
                </a:cubicBezTo>
                <a:cubicBezTo>
                  <a:pt x="11774" y="6984"/>
                  <a:pt x="11762" y="6984"/>
                  <a:pt x="11756" y="6989"/>
                </a:cubicBezTo>
                <a:cubicBezTo>
                  <a:pt x="11750" y="7001"/>
                  <a:pt x="11750" y="7007"/>
                  <a:pt x="11750" y="7013"/>
                </a:cubicBezTo>
                <a:cubicBezTo>
                  <a:pt x="11745" y="7019"/>
                  <a:pt x="11750" y="7031"/>
                  <a:pt x="11750" y="7037"/>
                </a:cubicBezTo>
                <a:cubicBezTo>
                  <a:pt x="11745" y="7043"/>
                  <a:pt x="11733" y="7037"/>
                  <a:pt x="11727" y="7043"/>
                </a:cubicBezTo>
                <a:cubicBezTo>
                  <a:pt x="11721" y="7055"/>
                  <a:pt x="11727" y="7078"/>
                  <a:pt x="11709" y="7090"/>
                </a:cubicBezTo>
                <a:cubicBezTo>
                  <a:pt x="11703" y="7090"/>
                  <a:pt x="11697" y="7090"/>
                  <a:pt x="11685" y="7090"/>
                </a:cubicBezTo>
                <a:cubicBezTo>
                  <a:pt x="11673" y="7090"/>
                  <a:pt x="11656" y="7084"/>
                  <a:pt x="11644" y="7090"/>
                </a:cubicBezTo>
                <a:cubicBezTo>
                  <a:pt x="11626" y="7090"/>
                  <a:pt x="11608" y="7090"/>
                  <a:pt x="11596" y="7102"/>
                </a:cubicBezTo>
                <a:cubicBezTo>
                  <a:pt x="11584" y="7102"/>
                  <a:pt x="11579" y="7102"/>
                  <a:pt x="11573" y="7114"/>
                </a:cubicBezTo>
                <a:cubicBezTo>
                  <a:pt x="11567" y="7120"/>
                  <a:pt x="11573" y="7126"/>
                  <a:pt x="11573" y="7132"/>
                </a:cubicBezTo>
                <a:cubicBezTo>
                  <a:pt x="11573" y="7144"/>
                  <a:pt x="11573" y="7150"/>
                  <a:pt x="11573" y="7155"/>
                </a:cubicBezTo>
                <a:cubicBezTo>
                  <a:pt x="11567" y="7173"/>
                  <a:pt x="11549" y="7185"/>
                  <a:pt x="11549" y="7203"/>
                </a:cubicBezTo>
                <a:cubicBezTo>
                  <a:pt x="11549" y="7209"/>
                  <a:pt x="11555" y="7215"/>
                  <a:pt x="11555" y="7227"/>
                </a:cubicBezTo>
                <a:cubicBezTo>
                  <a:pt x="11555" y="7244"/>
                  <a:pt x="11555" y="7256"/>
                  <a:pt x="11555" y="7268"/>
                </a:cubicBezTo>
                <a:cubicBezTo>
                  <a:pt x="11555" y="7280"/>
                  <a:pt x="11573" y="7286"/>
                  <a:pt x="11573" y="7292"/>
                </a:cubicBezTo>
                <a:cubicBezTo>
                  <a:pt x="11573" y="7304"/>
                  <a:pt x="11573" y="7310"/>
                  <a:pt x="11573" y="7316"/>
                </a:cubicBezTo>
                <a:cubicBezTo>
                  <a:pt x="11573" y="7327"/>
                  <a:pt x="11579" y="7333"/>
                  <a:pt x="11573" y="7339"/>
                </a:cubicBezTo>
                <a:cubicBezTo>
                  <a:pt x="11567" y="7345"/>
                  <a:pt x="11555" y="7333"/>
                  <a:pt x="11549" y="7339"/>
                </a:cubicBezTo>
                <a:cubicBezTo>
                  <a:pt x="11543" y="7345"/>
                  <a:pt x="11543" y="7351"/>
                  <a:pt x="11537" y="7363"/>
                </a:cubicBezTo>
                <a:cubicBezTo>
                  <a:pt x="11537" y="7369"/>
                  <a:pt x="11531" y="7375"/>
                  <a:pt x="11525" y="7387"/>
                </a:cubicBezTo>
                <a:cubicBezTo>
                  <a:pt x="11525" y="7398"/>
                  <a:pt x="11531" y="7416"/>
                  <a:pt x="11525" y="7428"/>
                </a:cubicBezTo>
                <a:cubicBezTo>
                  <a:pt x="11525" y="7440"/>
                  <a:pt x="11513" y="7446"/>
                  <a:pt x="11507" y="7452"/>
                </a:cubicBezTo>
                <a:cubicBezTo>
                  <a:pt x="11507" y="7464"/>
                  <a:pt x="11507" y="7464"/>
                  <a:pt x="11507" y="7464"/>
                </a:cubicBezTo>
                <a:cubicBezTo>
                  <a:pt x="11507" y="7482"/>
                  <a:pt x="11519" y="7487"/>
                  <a:pt x="11519" y="7499"/>
                </a:cubicBezTo>
                <a:cubicBezTo>
                  <a:pt x="11525" y="7505"/>
                  <a:pt x="11525" y="7511"/>
                  <a:pt x="11525" y="7523"/>
                </a:cubicBezTo>
                <a:cubicBezTo>
                  <a:pt x="11525" y="7547"/>
                  <a:pt x="11525" y="7547"/>
                  <a:pt x="11525" y="7547"/>
                </a:cubicBezTo>
                <a:cubicBezTo>
                  <a:pt x="11525" y="7553"/>
                  <a:pt x="11531" y="7559"/>
                  <a:pt x="11531" y="7571"/>
                </a:cubicBezTo>
                <a:cubicBezTo>
                  <a:pt x="11537" y="7582"/>
                  <a:pt x="11531" y="7594"/>
                  <a:pt x="11531" y="7612"/>
                </a:cubicBezTo>
                <a:cubicBezTo>
                  <a:pt x="11543" y="7612"/>
                  <a:pt x="11549" y="7612"/>
                  <a:pt x="11555" y="7612"/>
                </a:cubicBezTo>
                <a:cubicBezTo>
                  <a:pt x="11573" y="7612"/>
                  <a:pt x="11584" y="7612"/>
                  <a:pt x="11602" y="7612"/>
                </a:cubicBezTo>
                <a:cubicBezTo>
                  <a:pt x="11608" y="7612"/>
                  <a:pt x="11608" y="7630"/>
                  <a:pt x="11614" y="7630"/>
                </a:cubicBezTo>
                <a:cubicBezTo>
                  <a:pt x="11620" y="7630"/>
                  <a:pt x="11626" y="7630"/>
                  <a:pt x="11638" y="7630"/>
                </a:cubicBezTo>
                <a:cubicBezTo>
                  <a:pt x="11644" y="7630"/>
                  <a:pt x="11650" y="7636"/>
                  <a:pt x="11656" y="7636"/>
                </a:cubicBezTo>
                <a:cubicBezTo>
                  <a:pt x="11668" y="7636"/>
                  <a:pt x="11673" y="7630"/>
                  <a:pt x="11679" y="7630"/>
                </a:cubicBezTo>
                <a:cubicBezTo>
                  <a:pt x="11697" y="7630"/>
                  <a:pt x="11715" y="7636"/>
                  <a:pt x="11727" y="7624"/>
                </a:cubicBezTo>
                <a:cubicBezTo>
                  <a:pt x="11733" y="7618"/>
                  <a:pt x="11739" y="7612"/>
                  <a:pt x="11745" y="7600"/>
                </a:cubicBezTo>
                <a:cubicBezTo>
                  <a:pt x="11750" y="7594"/>
                  <a:pt x="11756" y="7588"/>
                  <a:pt x="11756" y="7576"/>
                </a:cubicBezTo>
                <a:cubicBezTo>
                  <a:pt x="11756" y="7571"/>
                  <a:pt x="11756" y="7564"/>
                  <a:pt x="11756" y="7559"/>
                </a:cubicBezTo>
                <a:cubicBezTo>
                  <a:pt x="11756" y="7529"/>
                  <a:pt x="11750" y="7511"/>
                  <a:pt x="11756" y="7487"/>
                </a:cubicBezTo>
                <a:cubicBezTo>
                  <a:pt x="11756" y="7482"/>
                  <a:pt x="11762" y="7470"/>
                  <a:pt x="11762" y="7464"/>
                </a:cubicBezTo>
                <a:cubicBezTo>
                  <a:pt x="11762" y="7458"/>
                  <a:pt x="11774" y="7452"/>
                  <a:pt x="11780" y="7440"/>
                </a:cubicBezTo>
                <a:cubicBezTo>
                  <a:pt x="11780" y="7434"/>
                  <a:pt x="11792" y="7428"/>
                  <a:pt x="11798" y="7422"/>
                </a:cubicBezTo>
                <a:cubicBezTo>
                  <a:pt x="11798" y="7405"/>
                  <a:pt x="11798" y="7393"/>
                  <a:pt x="11798" y="7375"/>
                </a:cubicBezTo>
                <a:cubicBezTo>
                  <a:pt x="11798" y="7357"/>
                  <a:pt x="11792" y="7345"/>
                  <a:pt x="11798" y="7327"/>
                </a:cubicBezTo>
                <a:cubicBezTo>
                  <a:pt x="11798" y="7316"/>
                  <a:pt x="11810" y="7316"/>
                  <a:pt x="11816" y="7310"/>
                </a:cubicBezTo>
                <a:cubicBezTo>
                  <a:pt x="11827" y="7304"/>
                  <a:pt x="11839" y="7304"/>
                  <a:pt x="11845" y="7292"/>
                </a:cubicBezTo>
                <a:cubicBezTo>
                  <a:pt x="11851" y="7286"/>
                  <a:pt x="11869" y="7286"/>
                  <a:pt x="11869" y="7274"/>
                </a:cubicBezTo>
                <a:close/>
                <a:moveTo>
                  <a:pt x="10920" y="4554"/>
                </a:moveTo>
                <a:lnTo>
                  <a:pt x="10920" y="4554"/>
                </a:lnTo>
                <a:cubicBezTo>
                  <a:pt x="10920" y="4542"/>
                  <a:pt x="10909" y="4542"/>
                  <a:pt x="10903" y="4530"/>
                </a:cubicBezTo>
                <a:cubicBezTo>
                  <a:pt x="10903" y="4524"/>
                  <a:pt x="10909" y="4518"/>
                  <a:pt x="10903" y="4506"/>
                </a:cubicBezTo>
                <a:cubicBezTo>
                  <a:pt x="10903" y="4500"/>
                  <a:pt x="10909" y="4494"/>
                  <a:pt x="10903" y="4488"/>
                </a:cubicBezTo>
                <a:cubicBezTo>
                  <a:pt x="10903" y="4476"/>
                  <a:pt x="10891" y="4476"/>
                  <a:pt x="10885" y="4471"/>
                </a:cubicBezTo>
                <a:cubicBezTo>
                  <a:pt x="10873" y="4465"/>
                  <a:pt x="10867" y="4459"/>
                  <a:pt x="10861" y="4459"/>
                </a:cubicBezTo>
                <a:cubicBezTo>
                  <a:pt x="10849" y="4453"/>
                  <a:pt x="10843" y="4459"/>
                  <a:pt x="10837" y="4459"/>
                </a:cubicBezTo>
                <a:cubicBezTo>
                  <a:pt x="10825" y="4453"/>
                  <a:pt x="10825" y="4441"/>
                  <a:pt x="10814" y="4441"/>
                </a:cubicBezTo>
                <a:cubicBezTo>
                  <a:pt x="10802" y="4441"/>
                  <a:pt x="10802" y="4441"/>
                  <a:pt x="10802" y="4441"/>
                </a:cubicBezTo>
                <a:cubicBezTo>
                  <a:pt x="10778" y="4441"/>
                  <a:pt x="10766" y="4459"/>
                  <a:pt x="10743" y="4465"/>
                </a:cubicBezTo>
                <a:cubicBezTo>
                  <a:pt x="10731" y="4465"/>
                  <a:pt x="10731" y="4465"/>
                  <a:pt x="10731" y="4465"/>
                </a:cubicBezTo>
                <a:cubicBezTo>
                  <a:pt x="10570" y="4423"/>
                  <a:pt x="10570" y="4423"/>
                  <a:pt x="10570" y="4423"/>
                </a:cubicBezTo>
                <a:cubicBezTo>
                  <a:pt x="10553" y="4429"/>
                  <a:pt x="10541" y="4435"/>
                  <a:pt x="10523" y="4435"/>
                </a:cubicBezTo>
                <a:cubicBezTo>
                  <a:pt x="10511" y="4435"/>
                  <a:pt x="10499" y="4435"/>
                  <a:pt x="10488" y="4429"/>
                </a:cubicBezTo>
                <a:cubicBezTo>
                  <a:pt x="10476" y="4423"/>
                  <a:pt x="10476" y="4411"/>
                  <a:pt x="10464" y="4405"/>
                </a:cubicBezTo>
                <a:cubicBezTo>
                  <a:pt x="10446" y="4394"/>
                  <a:pt x="10440" y="4382"/>
                  <a:pt x="10422" y="4370"/>
                </a:cubicBezTo>
                <a:cubicBezTo>
                  <a:pt x="10393" y="4358"/>
                  <a:pt x="10375" y="4340"/>
                  <a:pt x="10339" y="4340"/>
                </a:cubicBezTo>
                <a:cubicBezTo>
                  <a:pt x="10316" y="4340"/>
                  <a:pt x="10304" y="4352"/>
                  <a:pt x="10280" y="4352"/>
                </a:cubicBezTo>
                <a:cubicBezTo>
                  <a:pt x="10268" y="4352"/>
                  <a:pt x="10262" y="4346"/>
                  <a:pt x="10250" y="4346"/>
                </a:cubicBezTo>
                <a:cubicBezTo>
                  <a:pt x="10250" y="4370"/>
                  <a:pt x="10245" y="4382"/>
                  <a:pt x="10250" y="4399"/>
                </a:cubicBezTo>
                <a:cubicBezTo>
                  <a:pt x="10250" y="4411"/>
                  <a:pt x="10256" y="4417"/>
                  <a:pt x="10256" y="4423"/>
                </a:cubicBezTo>
                <a:cubicBezTo>
                  <a:pt x="10256" y="4453"/>
                  <a:pt x="10250" y="4465"/>
                  <a:pt x="10250" y="4494"/>
                </a:cubicBezTo>
                <a:cubicBezTo>
                  <a:pt x="10233" y="4494"/>
                  <a:pt x="10227" y="4494"/>
                  <a:pt x="10215" y="4494"/>
                </a:cubicBezTo>
                <a:cubicBezTo>
                  <a:pt x="10191" y="4494"/>
                  <a:pt x="10191" y="4494"/>
                  <a:pt x="10191" y="4494"/>
                </a:cubicBezTo>
                <a:cubicBezTo>
                  <a:pt x="10185" y="4494"/>
                  <a:pt x="10179" y="4500"/>
                  <a:pt x="10167" y="4494"/>
                </a:cubicBezTo>
                <a:cubicBezTo>
                  <a:pt x="10156" y="4494"/>
                  <a:pt x="10156" y="4482"/>
                  <a:pt x="10144" y="4476"/>
                </a:cubicBezTo>
                <a:cubicBezTo>
                  <a:pt x="10138" y="4465"/>
                  <a:pt x="10132" y="4459"/>
                  <a:pt x="10120" y="4453"/>
                </a:cubicBezTo>
                <a:cubicBezTo>
                  <a:pt x="10114" y="4447"/>
                  <a:pt x="10102" y="4447"/>
                  <a:pt x="10090" y="4447"/>
                </a:cubicBezTo>
                <a:cubicBezTo>
                  <a:pt x="9978" y="4447"/>
                  <a:pt x="9978" y="4447"/>
                  <a:pt x="9978" y="4447"/>
                </a:cubicBezTo>
                <a:cubicBezTo>
                  <a:pt x="9978" y="4435"/>
                  <a:pt x="9972" y="4429"/>
                  <a:pt x="9966" y="4423"/>
                </a:cubicBezTo>
                <a:cubicBezTo>
                  <a:pt x="9966" y="4417"/>
                  <a:pt x="9966" y="4405"/>
                  <a:pt x="9966" y="4399"/>
                </a:cubicBezTo>
                <a:cubicBezTo>
                  <a:pt x="9960" y="4394"/>
                  <a:pt x="9948" y="4394"/>
                  <a:pt x="9942" y="4387"/>
                </a:cubicBezTo>
                <a:cubicBezTo>
                  <a:pt x="9930" y="4382"/>
                  <a:pt x="9924" y="4376"/>
                  <a:pt x="9918" y="4370"/>
                </a:cubicBezTo>
                <a:cubicBezTo>
                  <a:pt x="9912" y="4370"/>
                  <a:pt x="9901" y="4370"/>
                  <a:pt x="9895" y="4364"/>
                </a:cubicBezTo>
                <a:cubicBezTo>
                  <a:pt x="9877" y="4364"/>
                  <a:pt x="9865" y="4358"/>
                  <a:pt x="9847" y="4352"/>
                </a:cubicBezTo>
                <a:cubicBezTo>
                  <a:pt x="9829" y="4352"/>
                  <a:pt x="9818" y="4358"/>
                  <a:pt x="9806" y="4352"/>
                </a:cubicBezTo>
                <a:cubicBezTo>
                  <a:pt x="9783" y="4352"/>
                  <a:pt x="9777" y="4340"/>
                  <a:pt x="9759" y="4334"/>
                </a:cubicBezTo>
                <a:cubicBezTo>
                  <a:pt x="9736" y="4322"/>
                  <a:pt x="9718" y="4310"/>
                  <a:pt x="9712" y="4293"/>
                </a:cubicBezTo>
                <a:cubicBezTo>
                  <a:pt x="9712" y="4287"/>
                  <a:pt x="9706" y="4275"/>
                  <a:pt x="9706" y="4269"/>
                </a:cubicBezTo>
                <a:cubicBezTo>
                  <a:pt x="9706" y="4257"/>
                  <a:pt x="9712" y="4257"/>
                  <a:pt x="9718" y="4245"/>
                </a:cubicBezTo>
                <a:cubicBezTo>
                  <a:pt x="9724" y="4233"/>
                  <a:pt x="9736" y="4239"/>
                  <a:pt x="9741" y="4228"/>
                </a:cubicBezTo>
                <a:cubicBezTo>
                  <a:pt x="9741" y="4221"/>
                  <a:pt x="9747" y="4216"/>
                  <a:pt x="9747" y="4204"/>
                </a:cubicBezTo>
                <a:cubicBezTo>
                  <a:pt x="9747" y="4198"/>
                  <a:pt x="9741" y="4192"/>
                  <a:pt x="9736" y="4186"/>
                </a:cubicBezTo>
                <a:cubicBezTo>
                  <a:pt x="9730" y="4174"/>
                  <a:pt x="9718" y="4174"/>
                  <a:pt x="9712" y="4174"/>
                </a:cubicBezTo>
                <a:cubicBezTo>
                  <a:pt x="9706" y="4168"/>
                  <a:pt x="9700" y="4162"/>
                  <a:pt x="9688" y="4156"/>
                </a:cubicBezTo>
                <a:cubicBezTo>
                  <a:pt x="9700" y="4150"/>
                  <a:pt x="9694" y="4139"/>
                  <a:pt x="9706" y="4133"/>
                </a:cubicBezTo>
                <a:cubicBezTo>
                  <a:pt x="9712" y="4127"/>
                  <a:pt x="9724" y="4127"/>
                  <a:pt x="9730" y="4127"/>
                </a:cubicBezTo>
                <a:cubicBezTo>
                  <a:pt x="9736" y="4121"/>
                  <a:pt x="9747" y="4121"/>
                  <a:pt x="9753" y="4121"/>
                </a:cubicBezTo>
                <a:cubicBezTo>
                  <a:pt x="9747" y="4115"/>
                  <a:pt x="9753" y="4103"/>
                  <a:pt x="9747" y="4097"/>
                </a:cubicBezTo>
                <a:cubicBezTo>
                  <a:pt x="9741" y="4091"/>
                  <a:pt x="9730" y="4097"/>
                  <a:pt x="9724" y="4091"/>
                </a:cubicBezTo>
                <a:cubicBezTo>
                  <a:pt x="9706" y="4085"/>
                  <a:pt x="9694" y="4073"/>
                  <a:pt x="9676" y="4073"/>
                </a:cubicBezTo>
                <a:cubicBezTo>
                  <a:pt x="9670" y="4073"/>
                  <a:pt x="9664" y="4079"/>
                  <a:pt x="9653" y="4079"/>
                </a:cubicBezTo>
                <a:cubicBezTo>
                  <a:pt x="9647" y="4079"/>
                  <a:pt x="9641" y="4079"/>
                  <a:pt x="9635" y="4079"/>
                </a:cubicBezTo>
                <a:cubicBezTo>
                  <a:pt x="9617" y="4085"/>
                  <a:pt x="9605" y="4097"/>
                  <a:pt x="9587" y="4097"/>
                </a:cubicBezTo>
                <a:cubicBezTo>
                  <a:pt x="9581" y="4097"/>
                  <a:pt x="9575" y="4097"/>
                  <a:pt x="9564" y="4097"/>
                </a:cubicBezTo>
                <a:cubicBezTo>
                  <a:pt x="9540" y="4097"/>
                  <a:pt x="9522" y="4091"/>
                  <a:pt x="9498" y="4097"/>
                </a:cubicBezTo>
                <a:cubicBezTo>
                  <a:pt x="9487" y="4097"/>
                  <a:pt x="9481" y="4109"/>
                  <a:pt x="9475" y="4115"/>
                </a:cubicBezTo>
                <a:cubicBezTo>
                  <a:pt x="9463" y="4121"/>
                  <a:pt x="9457" y="4127"/>
                  <a:pt x="9451" y="4133"/>
                </a:cubicBezTo>
                <a:cubicBezTo>
                  <a:pt x="9445" y="4127"/>
                  <a:pt x="9433" y="4121"/>
                  <a:pt x="9427" y="4115"/>
                </a:cubicBezTo>
                <a:cubicBezTo>
                  <a:pt x="9421" y="4109"/>
                  <a:pt x="9421" y="4097"/>
                  <a:pt x="9409" y="4091"/>
                </a:cubicBezTo>
                <a:cubicBezTo>
                  <a:pt x="9398" y="4079"/>
                  <a:pt x="9380" y="4073"/>
                  <a:pt x="9362" y="4073"/>
                </a:cubicBezTo>
                <a:cubicBezTo>
                  <a:pt x="9338" y="4073"/>
                  <a:pt x="9321" y="4091"/>
                  <a:pt x="9297" y="4103"/>
                </a:cubicBezTo>
                <a:cubicBezTo>
                  <a:pt x="9291" y="4109"/>
                  <a:pt x="9279" y="4103"/>
                  <a:pt x="9273" y="4103"/>
                </a:cubicBezTo>
                <a:cubicBezTo>
                  <a:pt x="9261" y="4109"/>
                  <a:pt x="9261" y="4115"/>
                  <a:pt x="9249" y="4127"/>
                </a:cubicBezTo>
                <a:cubicBezTo>
                  <a:pt x="9137" y="4127"/>
                  <a:pt x="9137" y="4127"/>
                  <a:pt x="9137" y="4127"/>
                </a:cubicBezTo>
                <a:cubicBezTo>
                  <a:pt x="9131" y="4133"/>
                  <a:pt x="9131" y="4139"/>
                  <a:pt x="9125" y="4150"/>
                </a:cubicBezTo>
                <a:cubicBezTo>
                  <a:pt x="9119" y="4156"/>
                  <a:pt x="9125" y="4168"/>
                  <a:pt x="9119" y="4174"/>
                </a:cubicBezTo>
                <a:cubicBezTo>
                  <a:pt x="9113" y="4180"/>
                  <a:pt x="9107" y="4186"/>
                  <a:pt x="9095" y="4192"/>
                </a:cubicBezTo>
                <a:cubicBezTo>
                  <a:pt x="9089" y="4192"/>
                  <a:pt x="9083" y="4192"/>
                  <a:pt x="9071" y="4192"/>
                </a:cubicBezTo>
                <a:cubicBezTo>
                  <a:pt x="9054" y="4192"/>
                  <a:pt x="9042" y="4186"/>
                  <a:pt x="9030" y="4192"/>
                </a:cubicBezTo>
                <a:cubicBezTo>
                  <a:pt x="9018" y="4192"/>
                  <a:pt x="9012" y="4198"/>
                  <a:pt x="9006" y="4198"/>
                </a:cubicBezTo>
                <a:cubicBezTo>
                  <a:pt x="8994" y="4198"/>
                  <a:pt x="8994" y="4198"/>
                  <a:pt x="8994" y="4198"/>
                </a:cubicBezTo>
                <a:cubicBezTo>
                  <a:pt x="8982" y="4198"/>
                  <a:pt x="8971" y="4192"/>
                  <a:pt x="8959" y="4192"/>
                </a:cubicBezTo>
                <a:cubicBezTo>
                  <a:pt x="8929" y="4192"/>
                  <a:pt x="8917" y="4198"/>
                  <a:pt x="8888" y="4192"/>
                </a:cubicBezTo>
                <a:cubicBezTo>
                  <a:pt x="8882" y="4192"/>
                  <a:pt x="8876" y="4192"/>
                  <a:pt x="8870" y="4192"/>
                </a:cubicBezTo>
                <a:cubicBezTo>
                  <a:pt x="8858" y="4186"/>
                  <a:pt x="8852" y="4174"/>
                  <a:pt x="8846" y="4174"/>
                </a:cubicBezTo>
                <a:cubicBezTo>
                  <a:pt x="8823" y="4162"/>
                  <a:pt x="8823" y="4162"/>
                  <a:pt x="8823" y="4162"/>
                </a:cubicBezTo>
                <a:cubicBezTo>
                  <a:pt x="8816" y="4168"/>
                  <a:pt x="8805" y="4174"/>
                  <a:pt x="8805" y="4186"/>
                </a:cubicBezTo>
                <a:cubicBezTo>
                  <a:pt x="8805" y="4192"/>
                  <a:pt x="8805" y="4198"/>
                  <a:pt x="8805" y="4204"/>
                </a:cubicBezTo>
                <a:cubicBezTo>
                  <a:pt x="8805" y="4216"/>
                  <a:pt x="8799" y="4221"/>
                  <a:pt x="8799" y="4228"/>
                </a:cubicBezTo>
                <a:cubicBezTo>
                  <a:pt x="8799" y="4245"/>
                  <a:pt x="8799" y="4251"/>
                  <a:pt x="8799" y="4263"/>
                </a:cubicBezTo>
                <a:cubicBezTo>
                  <a:pt x="8793" y="4263"/>
                  <a:pt x="8787" y="4263"/>
                  <a:pt x="8775" y="4263"/>
                </a:cubicBezTo>
                <a:cubicBezTo>
                  <a:pt x="8769" y="4263"/>
                  <a:pt x="8763" y="4269"/>
                  <a:pt x="8751" y="4269"/>
                </a:cubicBezTo>
                <a:cubicBezTo>
                  <a:pt x="8739" y="4269"/>
                  <a:pt x="8727" y="4263"/>
                  <a:pt x="8716" y="4263"/>
                </a:cubicBezTo>
                <a:cubicBezTo>
                  <a:pt x="8716" y="4358"/>
                  <a:pt x="8716" y="4358"/>
                  <a:pt x="8716" y="4358"/>
                </a:cubicBezTo>
                <a:cubicBezTo>
                  <a:pt x="8627" y="4358"/>
                  <a:pt x="8627" y="4358"/>
                  <a:pt x="8627" y="4358"/>
                </a:cubicBezTo>
                <a:cubicBezTo>
                  <a:pt x="8627" y="4376"/>
                  <a:pt x="8621" y="4387"/>
                  <a:pt x="8621" y="4405"/>
                </a:cubicBezTo>
                <a:cubicBezTo>
                  <a:pt x="8621" y="4423"/>
                  <a:pt x="8621" y="4435"/>
                  <a:pt x="8621" y="4453"/>
                </a:cubicBezTo>
                <a:cubicBezTo>
                  <a:pt x="8621" y="4459"/>
                  <a:pt x="8615" y="4465"/>
                  <a:pt x="8609" y="4476"/>
                </a:cubicBezTo>
                <a:cubicBezTo>
                  <a:pt x="8609" y="4488"/>
                  <a:pt x="8603" y="4506"/>
                  <a:pt x="8603" y="4524"/>
                </a:cubicBezTo>
                <a:cubicBezTo>
                  <a:pt x="8603" y="4565"/>
                  <a:pt x="8603" y="4565"/>
                  <a:pt x="8603" y="4565"/>
                </a:cubicBezTo>
                <a:cubicBezTo>
                  <a:pt x="8538" y="4565"/>
                  <a:pt x="8538" y="4565"/>
                  <a:pt x="8538" y="4565"/>
                </a:cubicBezTo>
                <a:cubicBezTo>
                  <a:pt x="8538" y="4595"/>
                  <a:pt x="8532" y="4619"/>
                  <a:pt x="8508" y="4637"/>
                </a:cubicBezTo>
                <a:cubicBezTo>
                  <a:pt x="8502" y="4637"/>
                  <a:pt x="8490" y="4637"/>
                  <a:pt x="8484" y="4642"/>
                </a:cubicBezTo>
                <a:cubicBezTo>
                  <a:pt x="8479" y="4648"/>
                  <a:pt x="8479" y="4660"/>
                  <a:pt x="8467" y="4660"/>
                </a:cubicBezTo>
                <a:cubicBezTo>
                  <a:pt x="8461" y="4666"/>
                  <a:pt x="8455" y="4666"/>
                  <a:pt x="8443" y="4666"/>
                </a:cubicBezTo>
                <a:cubicBezTo>
                  <a:pt x="8437" y="4672"/>
                  <a:pt x="8425" y="4666"/>
                  <a:pt x="8425" y="4666"/>
                </a:cubicBezTo>
                <a:cubicBezTo>
                  <a:pt x="8413" y="4672"/>
                  <a:pt x="8419" y="4684"/>
                  <a:pt x="8413" y="4690"/>
                </a:cubicBezTo>
                <a:cubicBezTo>
                  <a:pt x="8407" y="4696"/>
                  <a:pt x="8396" y="4708"/>
                  <a:pt x="8396" y="4714"/>
                </a:cubicBezTo>
                <a:cubicBezTo>
                  <a:pt x="8384" y="4731"/>
                  <a:pt x="8384" y="4749"/>
                  <a:pt x="8372" y="4767"/>
                </a:cubicBezTo>
                <a:cubicBezTo>
                  <a:pt x="8366" y="4773"/>
                  <a:pt x="8360" y="4785"/>
                  <a:pt x="8354" y="4797"/>
                </a:cubicBezTo>
                <a:cubicBezTo>
                  <a:pt x="8348" y="4803"/>
                  <a:pt x="8354" y="4809"/>
                  <a:pt x="8348" y="4814"/>
                </a:cubicBezTo>
                <a:cubicBezTo>
                  <a:pt x="8342" y="4826"/>
                  <a:pt x="8330" y="4832"/>
                  <a:pt x="8324" y="4838"/>
                </a:cubicBezTo>
                <a:cubicBezTo>
                  <a:pt x="8318" y="4850"/>
                  <a:pt x="8318" y="4856"/>
                  <a:pt x="8313" y="4862"/>
                </a:cubicBezTo>
                <a:cubicBezTo>
                  <a:pt x="8307" y="4868"/>
                  <a:pt x="8313" y="4880"/>
                  <a:pt x="8307" y="4886"/>
                </a:cubicBezTo>
                <a:cubicBezTo>
                  <a:pt x="8301" y="4892"/>
                  <a:pt x="8295" y="4886"/>
                  <a:pt x="8283" y="4886"/>
                </a:cubicBezTo>
                <a:cubicBezTo>
                  <a:pt x="8271" y="4892"/>
                  <a:pt x="8259" y="4892"/>
                  <a:pt x="8247" y="4892"/>
                </a:cubicBezTo>
                <a:cubicBezTo>
                  <a:pt x="8247" y="4921"/>
                  <a:pt x="8247" y="4939"/>
                  <a:pt x="8247" y="4963"/>
                </a:cubicBezTo>
                <a:cubicBezTo>
                  <a:pt x="8247" y="4975"/>
                  <a:pt x="8241" y="4980"/>
                  <a:pt x="8241" y="4986"/>
                </a:cubicBezTo>
                <a:cubicBezTo>
                  <a:pt x="8235" y="4998"/>
                  <a:pt x="8235" y="5004"/>
                  <a:pt x="8235" y="5010"/>
                </a:cubicBezTo>
                <a:cubicBezTo>
                  <a:pt x="8230" y="5022"/>
                  <a:pt x="8218" y="5022"/>
                  <a:pt x="8212" y="5028"/>
                </a:cubicBezTo>
                <a:cubicBezTo>
                  <a:pt x="8206" y="5034"/>
                  <a:pt x="8194" y="5028"/>
                  <a:pt x="8188" y="5034"/>
                </a:cubicBezTo>
                <a:cubicBezTo>
                  <a:pt x="8182" y="5040"/>
                  <a:pt x="8182" y="5052"/>
                  <a:pt x="8176" y="5058"/>
                </a:cubicBezTo>
                <a:cubicBezTo>
                  <a:pt x="8176" y="5099"/>
                  <a:pt x="8176" y="5099"/>
                  <a:pt x="8176" y="5099"/>
                </a:cubicBezTo>
                <a:cubicBezTo>
                  <a:pt x="8194" y="5099"/>
                  <a:pt x="8206" y="5099"/>
                  <a:pt x="8224" y="5105"/>
                </a:cubicBezTo>
                <a:cubicBezTo>
                  <a:pt x="8230" y="5105"/>
                  <a:pt x="8235" y="5099"/>
                  <a:pt x="8247" y="5105"/>
                </a:cubicBezTo>
                <a:cubicBezTo>
                  <a:pt x="8253" y="5105"/>
                  <a:pt x="8259" y="5099"/>
                  <a:pt x="8265" y="5105"/>
                </a:cubicBezTo>
                <a:cubicBezTo>
                  <a:pt x="8277" y="5105"/>
                  <a:pt x="8277" y="5117"/>
                  <a:pt x="8283" y="5123"/>
                </a:cubicBezTo>
                <a:cubicBezTo>
                  <a:pt x="8271" y="5146"/>
                  <a:pt x="8271" y="5146"/>
                  <a:pt x="8271" y="5146"/>
                </a:cubicBezTo>
                <a:cubicBezTo>
                  <a:pt x="8271" y="5158"/>
                  <a:pt x="8259" y="5158"/>
                  <a:pt x="8259" y="5170"/>
                </a:cubicBezTo>
                <a:cubicBezTo>
                  <a:pt x="8259" y="5224"/>
                  <a:pt x="8265" y="5253"/>
                  <a:pt x="8265" y="5307"/>
                </a:cubicBezTo>
                <a:cubicBezTo>
                  <a:pt x="8265" y="5330"/>
                  <a:pt x="8265" y="5330"/>
                  <a:pt x="8265" y="5330"/>
                </a:cubicBezTo>
                <a:cubicBezTo>
                  <a:pt x="8265" y="5336"/>
                  <a:pt x="8265" y="5348"/>
                  <a:pt x="8265" y="5354"/>
                </a:cubicBezTo>
                <a:cubicBezTo>
                  <a:pt x="8259" y="5366"/>
                  <a:pt x="8253" y="5372"/>
                  <a:pt x="8247" y="5378"/>
                </a:cubicBezTo>
                <a:cubicBezTo>
                  <a:pt x="8241" y="5384"/>
                  <a:pt x="8224" y="5372"/>
                  <a:pt x="8224" y="5378"/>
                </a:cubicBezTo>
                <a:cubicBezTo>
                  <a:pt x="8218" y="5384"/>
                  <a:pt x="8218" y="5390"/>
                  <a:pt x="8218" y="5401"/>
                </a:cubicBezTo>
                <a:cubicBezTo>
                  <a:pt x="8218" y="5407"/>
                  <a:pt x="8230" y="5413"/>
                  <a:pt x="8230" y="5419"/>
                </a:cubicBezTo>
                <a:cubicBezTo>
                  <a:pt x="8230" y="5431"/>
                  <a:pt x="8230" y="5437"/>
                  <a:pt x="8235" y="5443"/>
                </a:cubicBezTo>
                <a:cubicBezTo>
                  <a:pt x="8235" y="5455"/>
                  <a:pt x="8241" y="5461"/>
                  <a:pt x="8241" y="5467"/>
                </a:cubicBezTo>
                <a:cubicBezTo>
                  <a:pt x="8241" y="5490"/>
                  <a:pt x="8241" y="5490"/>
                  <a:pt x="8241" y="5490"/>
                </a:cubicBezTo>
                <a:cubicBezTo>
                  <a:pt x="8241" y="5508"/>
                  <a:pt x="8235" y="5520"/>
                  <a:pt x="8247" y="5538"/>
                </a:cubicBezTo>
                <a:cubicBezTo>
                  <a:pt x="8247" y="5544"/>
                  <a:pt x="8259" y="5544"/>
                  <a:pt x="8265" y="5556"/>
                </a:cubicBezTo>
                <a:cubicBezTo>
                  <a:pt x="8271" y="5562"/>
                  <a:pt x="8271" y="5573"/>
                  <a:pt x="8277" y="5573"/>
                </a:cubicBezTo>
                <a:cubicBezTo>
                  <a:pt x="8289" y="5579"/>
                  <a:pt x="8295" y="5585"/>
                  <a:pt x="8301" y="5585"/>
                </a:cubicBezTo>
                <a:cubicBezTo>
                  <a:pt x="8313" y="5591"/>
                  <a:pt x="8313" y="5603"/>
                  <a:pt x="8324" y="5603"/>
                </a:cubicBezTo>
                <a:cubicBezTo>
                  <a:pt x="8330" y="5609"/>
                  <a:pt x="8342" y="5603"/>
                  <a:pt x="8348" y="5603"/>
                </a:cubicBezTo>
                <a:cubicBezTo>
                  <a:pt x="8354" y="5609"/>
                  <a:pt x="8366" y="5609"/>
                  <a:pt x="8372" y="5615"/>
                </a:cubicBezTo>
                <a:cubicBezTo>
                  <a:pt x="8384" y="5627"/>
                  <a:pt x="8372" y="5651"/>
                  <a:pt x="8384" y="5662"/>
                </a:cubicBezTo>
                <a:cubicBezTo>
                  <a:pt x="8390" y="5668"/>
                  <a:pt x="8396" y="5668"/>
                  <a:pt x="8407" y="5674"/>
                </a:cubicBezTo>
                <a:cubicBezTo>
                  <a:pt x="8413" y="5680"/>
                  <a:pt x="8419" y="5674"/>
                  <a:pt x="8425" y="5674"/>
                </a:cubicBezTo>
                <a:cubicBezTo>
                  <a:pt x="8425" y="5698"/>
                  <a:pt x="8425" y="5716"/>
                  <a:pt x="8425" y="5739"/>
                </a:cubicBezTo>
                <a:cubicBezTo>
                  <a:pt x="8431" y="5751"/>
                  <a:pt x="8437" y="5757"/>
                  <a:pt x="8443" y="5763"/>
                </a:cubicBezTo>
                <a:cubicBezTo>
                  <a:pt x="8449" y="5775"/>
                  <a:pt x="8461" y="5769"/>
                  <a:pt x="8473" y="5775"/>
                </a:cubicBezTo>
                <a:cubicBezTo>
                  <a:pt x="8490" y="5787"/>
                  <a:pt x="8502" y="5799"/>
                  <a:pt x="8520" y="5805"/>
                </a:cubicBezTo>
                <a:cubicBezTo>
                  <a:pt x="8538" y="5810"/>
                  <a:pt x="8550" y="5810"/>
                  <a:pt x="8573" y="5810"/>
                </a:cubicBezTo>
                <a:cubicBezTo>
                  <a:pt x="8573" y="5817"/>
                  <a:pt x="8573" y="5822"/>
                  <a:pt x="8573" y="5834"/>
                </a:cubicBezTo>
                <a:cubicBezTo>
                  <a:pt x="8573" y="5840"/>
                  <a:pt x="8573" y="5846"/>
                  <a:pt x="8573" y="5858"/>
                </a:cubicBezTo>
                <a:cubicBezTo>
                  <a:pt x="8579" y="5864"/>
                  <a:pt x="8573" y="5870"/>
                  <a:pt x="8573" y="5882"/>
                </a:cubicBezTo>
                <a:cubicBezTo>
                  <a:pt x="8579" y="5888"/>
                  <a:pt x="8591" y="5888"/>
                  <a:pt x="8597" y="5888"/>
                </a:cubicBezTo>
                <a:cubicBezTo>
                  <a:pt x="8609" y="5894"/>
                  <a:pt x="8615" y="5899"/>
                  <a:pt x="8621" y="5899"/>
                </a:cubicBezTo>
                <a:cubicBezTo>
                  <a:pt x="8633" y="5905"/>
                  <a:pt x="8633" y="5917"/>
                  <a:pt x="8639" y="5923"/>
                </a:cubicBezTo>
                <a:cubicBezTo>
                  <a:pt x="8650" y="5935"/>
                  <a:pt x="8668" y="5947"/>
                  <a:pt x="8686" y="5953"/>
                </a:cubicBezTo>
                <a:cubicBezTo>
                  <a:pt x="8692" y="5953"/>
                  <a:pt x="8698" y="5953"/>
                  <a:pt x="8710" y="5953"/>
                </a:cubicBezTo>
                <a:cubicBezTo>
                  <a:pt x="8716" y="5953"/>
                  <a:pt x="8722" y="5965"/>
                  <a:pt x="8734" y="5965"/>
                </a:cubicBezTo>
                <a:cubicBezTo>
                  <a:pt x="8739" y="5965"/>
                  <a:pt x="8751" y="5971"/>
                  <a:pt x="8763" y="5971"/>
                </a:cubicBezTo>
                <a:cubicBezTo>
                  <a:pt x="8775" y="5971"/>
                  <a:pt x="8781" y="5959"/>
                  <a:pt x="8787" y="5947"/>
                </a:cubicBezTo>
                <a:cubicBezTo>
                  <a:pt x="8793" y="5941"/>
                  <a:pt x="8787" y="5929"/>
                  <a:pt x="8793" y="5923"/>
                </a:cubicBezTo>
                <a:cubicBezTo>
                  <a:pt x="8805" y="5917"/>
                  <a:pt x="8823" y="5917"/>
                  <a:pt x="8840" y="5917"/>
                </a:cubicBezTo>
                <a:cubicBezTo>
                  <a:pt x="8846" y="5917"/>
                  <a:pt x="8852" y="5923"/>
                  <a:pt x="8864" y="5923"/>
                </a:cubicBezTo>
                <a:cubicBezTo>
                  <a:pt x="8870" y="5923"/>
                  <a:pt x="8876" y="5917"/>
                  <a:pt x="8888" y="5917"/>
                </a:cubicBezTo>
                <a:cubicBezTo>
                  <a:pt x="8900" y="5917"/>
                  <a:pt x="8900" y="5917"/>
                  <a:pt x="8900" y="5917"/>
                </a:cubicBezTo>
                <a:cubicBezTo>
                  <a:pt x="8923" y="5917"/>
                  <a:pt x="8935" y="5917"/>
                  <a:pt x="8959" y="5917"/>
                </a:cubicBezTo>
                <a:cubicBezTo>
                  <a:pt x="8965" y="5917"/>
                  <a:pt x="8977" y="5917"/>
                  <a:pt x="8982" y="5917"/>
                </a:cubicBezTo>
                <a:cubicBezTo>
                  <a:pt x="8989" y="5923"/>
                  <a:pt x="8982" y="5935"/>
                  <a:pt x="8994" y="5941"/>
                </a:cubicBezTo>
                <a:cubicBezTo>
                  <a:pt x="9012" y="5953"/>
                  <a:pt x="9030" y="5947"/>
                  <a:pt x="9048" y="5947"/>
                </a:cubicBezTo>
                <a:cubicBezTo>
                  <a:pt x="9066" y="5947"/>
                  <a:pt x="9071" y="5947"/>
                  <a:pt x="9083" y="5947"/>
                </a:cubicBezTo>
                <a:cubicBezTo>
                  <a:pt x="9095" y="5947"/>
                  <a:pt x="9101" y="5941"/>
                  <a:pt x="9107" y="5935"/>
                </a:cubicBezTo>
                <a:cubicBezTo>
                  <a:pt x="9113" y="5935"/>
                  <a:pt x="9125" y="5941"/>
                  <a:pt x="9131" y="5935"/>
                </a:cubicBezTo>
                <a:cubicBezTo>
                  <a:pt x="9137" y="5929"/>
                  <a:pt x="9137" y="5917"/>
                  <a:pt x="9143" y="5911"/>
                </a:cubicBezTo>
                <a:cubicBezTo>
                  <a:pt x="9148" y="5905"/>
                  <a:pt x="9154" y="5899"/>
                  <a:pt x="9166" y="5894"/>
                </a:cubicBezTo>
                <a:cubicBezTo>
                  <a:pt x="9172" y="5888"/>
                  <a:pt x="9178" y="5882"/>
                  <a:pt x="9190" y="5882"/>
                </a:cubicBezTo>
                <a:cubicBezTo>
                  <a:pt x="9202" y="5876"/>
                  <a:pt x="9214" y="5882"/>
                  <a:pt x="9232" y="5882"/>
                </a:cubicBezTo>
                <a:cubicBezTo>
                  <a:pt x="9249" y="5882"/>
                  <a:pt x="9261" y="5888"/>
                  <a:pt x="9279" y="5888"/>
                </a:cubicBezTo>
                <a:cubicBezTo>
                  <a:pt x="9291" y="5888"/>
                  <a:pt x="9291" y="5888"/>
                  <a:pt x="9291" y="5888"/>
                </a:cubicBezTo>
                <a:cubicBezTo>
                  <a:pt x="9303" y="5882"/>
                  <a:pt x="9309" y="5864"/>
                  <a:pt x="9321" y="5864"/>
                </a:cubicBezTo>
                <a:cubicBezTo>
                  <a:pt x="9338" y="5852"/>
                  <a:pt x="9356" y="5852"/>
                  <a:pt x="9380" y="5852"/>
                </a:cubicBezTo>
                <a:cubicBezTo>
                  <a:pt x="9392" y="5852"/>
                  <a:pt x="9409" y="5846"/>
                  <a:pt x="9415" y="5858"/>
                </a:cubicBezTo>
                <a:cubicBezTo>
                  <a:pt x="9421" y="5864"/>
                  <a:pt x="9421" y="5876"/>
                  <a:pt x="9421" y="5882"/>
                </a:cubicBezTo>
                <a:cubicBezTo>
                  <a:pt x="9427" y="5888"/>
                  <a:pt x="9433" y="5894"/>
                  <a:pt x="9439" y="5899"/>
                </a:cubicBezTo>
                <a:cubicBezTo>
                  <a:pt x="9439" y="5911"/>
                  <a:pt x="9439" y="5917"/>
                  <a:pt x="9445" y="5923"/>
                </a:cubicBezTo>
                <a:cubicBezTo>
                  <a:pt x="9445" y="5929"/>
                  <a:pt x="9445" y="5941"/>
                  <a:pt x="9451" y="5947"/>
                </a:cubicBezTo>
                <a:cubicBezTo>
                  <a:pt x="9457" y="5953"/>
                  <a:pt x="9463" y="5953"/>
                  <a:pt x="9475" y="5959"/>
                </a:cubicBezTo>
                <a:cubicBezTo>
                  <a:pt x="9481" y="5965"/>
                  <a:pt x="9487" y="5965"/>
                  <a:pt x="9498" y="5965"/>
                </a:cubicBezTo>
                <a:cubicBezTo>
                  <a:pt x="9694" y="5965"/>
                  <a:pt x="9694" y="5965"/>
                  <a:pt x="9694" y="5965"/>
                </a:cubicBezTo>
                <a:cubicBezTo>
                  <a:pt x="9694" y="6036"/>
                  <a:pt x="9694" y="6036"/>
                  <a:pt x="9694" y="6036"/>
                </a:cubicBezTo>
                <a:cubicBezTo>
                  <a:pt x="9694" y="6042"/>
                  <a:pt x="9688" y="6048"/>
                  <a:pt x="9688" y="6054"/>
                </a:cubicBezTo>
                <a:cubicBezTo>
                  <a:pt x="9688" y="6071"/>
                  <a:pt x="9694" y="6083"/>
                  <a:pt x="9688" y="6101"/>
                </a:cubicBezTo>
                <a:cubicBezTo>
                  <a:pt x="9688" y="6113"/>
                  <a:pt x="9694" y="6119"/>
                  <a:pt x="9688" y="6125"/>
                </a:cubicBezTo>
                <a:cubicBezTo>
                  <a:pt x="9688" y="6137"/>
                  <a:pt x="9676" y="6137"/>
                  <a:pt x="9670" y="6149"/>
                </a:cubicBezTo>
                <a:cubicBezTo>
                  <a:pt x="9670" y="6154"/>
                  <a:pt x="9664" y="6160"/>
                  <a:pt x="9664" y="6166"/>
                </a:cubicBezTo>
                <a:cubicBezTo>
                  <a:pt x="9664" y="6196"/>
                  <a:pt x="9658" y="6214"/>
                  <a:pt x="9658" y="6237"/>
                </a:cubicBezTo>
                <a:cubicBezTo>
                  <a:pt x="9658" y="6243"/>
                  <a:pt x="9658" y="6261"/>
                  <a:pt x="9653" y="6261"/>
                </a:cubicBezTo>
                <a:cubicBezTo>
                  <a:pt x="9653" y="6267"/>
                  <a:pt x="9641" y="6261"/>
                  <a:pt x="9635" y="6261"/>
                </a:cubicBezTo>
                <a:cubicBezTo>
                  <a:pt x="9623" y="6267"/>
                  <a:pt x="9629" y="6279"/>
                  <a:pt x="9623" y="6285"/>
                </a:cubicBezTo>
                <a:cubicBezTo>
                  <a:pt x="9629" y="6285"/>
                  <a:pt x="9635" y="6291"/>
                  <a:pt x="9647" y="6297"/>
                </a:cubicBezTo>
                <a:cubicBezTo>
                  <a:pt x="9658" y="6303"/>
                  <a:pt x="9676" y="6297"/>
                  <a:pt x="9688" y="6315"/>
                </a:cubicBezTo>
                <a:cubicBezTo>
                  <a:pt x="9700" y="6326"/>
                  <a:pt x="9688" y="6344"/>
                  <a:pt x="9694" y="6356"/>
                </a:cubicBezTo>
                <a:cubicBezTo>
                  <a:pt x="9700" y="6368"/>
                  <a:pt x="9700" y="6374"/>
                  <a:pt x="9706" y="6380"/>
                </a:cubicBezTo>
                <a:cubicBezTo>
                  <a:pt x="9712" y="6386"/>
                  <a:pt x="9724" y="6386"/>
                  <a:pt x="9730" y="6386"/>
                </a:cubicBezTo>
                <a:cubicBezTo>
                  <a:pt x="9736" y="6392"/>
                  <a:pt x="9747" y="6392"/>
                  <a:pt x="9753" y="6397"/>
                </a:cubicBezTo>
                <a:cubicBezTo>
                  <a:pt x="9759" y="6403"/>
                  <a:pt x="9753" y="6415"/>
                  <a:pt x="9759" y="6421"/>
                </a:cubicBezTo>
                <a:cubicBezTo>
                  <a:pt x="9771" y="6439"/>
                  <a:pt x="9789" y="6451"/>
                  <a:pt x="9800" y="6469"/>
                </a:cubicBezTo>
                <a:cubicBezTo>
                  <a:pt x="9800" y="6475"/>
                  <a:pt x="9806" y="6480"/>
                  <a:pt x="9806" y="6492"/>
                </a:cubicBezTo>
                <a:cubicBezTo>
                  <a:pt x="9818" y="6504"/>
                  <a:pt x="9829" y="6516"/>
                  <a:pt x="9835" y="6534"/>
                </a:cubicBezTo>
                <a:cubicBezTo>
                  <a:pt x="9841" y="6546"/>
                  <a:pt x="9847" y="6552"/>
                  <a:pt x="9847" y="6558"/>
                </a:cubicBezTo>
                <a:cubicBezTo>
                  <a:pt x="9853" y="6575"/>
                  <a:pt x="9847" y="6587"/>
                  <a:pt x="9847" y="6611"/>
                </a:cubicBezTo>
                <a:cubicBezTo>
                  <a:pt x="9847" y="6629"/>
                  <a:pt x="9853" y="6641"/>
                  <a:pt x="9859" y="6652"/>
                </a:cubicBezTo>
                <a:cubicBezTo>
                  <a:pt x="9865" y="6664"/>
                  <a:pt x="9877" y="6670"/>
                  <a:pt x="9877" y="6676"/>
                </a:cubicBezTo>
                <a:cubicBezTo>
                  <a:pt x="9877" y="6688"/>
                  <a:pt x="9871" y="6694"/>
                  <a:pt x="9871" y="6700"/>
                </a:cubicBezTo>
                <a:cubicBezTo>
                  <a:pt x="9871" y="6724"/>
                  <a:pt x="9871" y="6724"/>
                  <a:pt x="9871" y="6724"/>
                </a:cubicBezTo>
                <a:cubicBezTo>
                  <a:pt x="9871" y="6741"/>
                  <a:pt x="9877" y="6753"/>
                  <a:pt x="9883" y="6771"/>
                </a:cubicBezTo>
                <a:cubicBezTo>
                  <a:pt x="9889" y="6777"/>
                  <a:pt x="9901" y="6771"/>
                  <a:pt x="9906" y="6783"/>
                </a:cubicBezTo>
                <a:cubicBezTo>
                  <a:pt x="9912" y="6789"/>
                  <a:pt x="9906" y="6801"/>
                  <a:pt x="9906" y="6813"/>
                </a:cubicBezTo>
                <a:cubicBezTo>
                  <a:pt x="9906" y="6830"/>
                  <a:pt x="9906" y="6836"/>
                  <a:pt x="9906" y="6848"/>
                </a:cubicBezTo>
                <a:cubicBezTo>
                  <a:pt x="9906" y="6860"/>
                  <a:pt x="9901" y="6866"/>
                  <a:pt x="9901" y="6872"/>
                </a:cubicBezTo>
                <a:cubicBezTo>
                  <a:pt x="9901" y="6878"/>
                  <a:pt x="9901" y="6890"/>
                  <a:pt x="9895" y="6896"/>
                </a:cubicBezTo>
                <a:cubicBezTo>
                  <a:pt x="9889" y="6901"/>
                  <a:pt x="9877" y="6901"/>
                  <a:pt x="9871" y="6912"/>
                </a:cubicBezTo>
                <a:cubicBezTo>
                  <a:pt x="9853" y="6936"/>
                  <a:pt x="9841" y="6954"/>
                  <a:pt x="9835" y="6978"/>
                </a:cubicBezTo>
                <a:cubicBezTo>
                  <a:pt x="9835" y="6995"/>
                  <a:pt x="9841" y="7007"/>
                  <a:pt x="9835" y="7025"/>
                </a:cubicBezTo>
                <a:cubicBezTo>
                  <a:pt x="9835" y="7031"/>
                  <a:pt x="9835" y="7043"/>
                  <a:pt x="9829" y="7049"/>
                </a:cubicBezTo>
                <a:cubicBezTo>
                  <a:pt x="9829" y="7061"/>
                  <a:pt x="9812" y="7061"/>
                  <a:pt x="9806" y="7072"/>
                </a:cubicBezTo>
                <a:cubicBezTo>
                  <a:pt x="9806" y="7078"/>
                  <a:pt x="9800" y="7084"/>
                  <a:pt x="9800" y="7096"/>
                </a:cubicBezTo>
                <a:cubicBezTo>
                  <a:pt x="9795" y="7114"/>
                  <a:pt x="9800" y="7120"/>
                  <a:pt x="9800" y="7138"/>
                </a:cubicBezTo>
                <a:cubicBezTo>
                  <a:pt x="9800" y="7167"/>
                  <a:pt x="9795" y="7185"/>
                  <a:pt x="9806" y="7209"/>
                </a:cubicBezTo>
                <a:cubicBezTo>
                  <a:pt x="9806" y="7221"/>
                  <a:pt x="9818" y="7221"/>
                  <a:pt x="9824" y="7232"/>
                </a:cubicBezTo>
                <a:cubicBezTo>
                  <a:pt x="9835" y="7239"/>
                  <a:pt x="9847" y="7239"/>
                  <a:pt x="9847" y="7250"/>
                </a:cubicBezTo>
                <a:cubicBezTo>
                  <a:pt x="9847" y="7256"/>
                  <a:pt x="9847" y="7262"/>
                  <a:pt x="9847" y="7268"/>
                </a:cubicBezTo>
                <a:cubicBezTo>
                  <a:pt x="9847" y="7280"/>
                  <a:pt x="9847" y="7286"/>
                  <a:pt x="9847" y="7292"/>
                </a:cubicBezTo>
                <a:cubicBezTo>
                  <a:pt x="9847" y="7304"/>
                  <a:pt x="9853" y="7310"/>
                  <a:pt x="9859" y="7316"/>
                </a:cubicBezTo>
                <a:cubicBezTo>
                  <a:pt x="9865" y="7327"/>
                  <a:pt x="9865" y="7333"/>
                  <a:pt x="9871" y="7339"/>
                </a:cubicBezTo>
                <a:cubicBezTo>
                  <a:pt x="9883" y="7351"/>
                  <a:pt x="9906" y="7363"/>
                  <a:pt x="9924" y="7375"/>
                </a:cubicBezTo>
                <a:cubicBezTo>
                  <a:pt x="9924" y="7381"/>
                  <a:pt x="9924" y="7387"/>
                  <a:pt x="9924" y="7398"/>
                </a:cubicBezTo>
                <a:cubicBezTo>
                  <a:pt x="9924" y="7410"/>
                  <a:pt x="9930" y="7416"/>
                  <a:pt x="9936" y="7422"/>
                </a:cubicBezTo>
                <a:cubicBezTo>
                  <a:pt x="9936" y="7434"/>
                  <a:pt x="9936" y="7440"/>
                  <a:pt x="9942" y="7446"/>
                </a:cubicBezTo>
                <a:cubicBezTo>
                  <a:pt x="9942" y="7458"/>
                  <a:pt x="9936" y="7464"/>
                  <a:pt x="9942" y="7470"/>
                </a:cubicBezTo>
                <a:cubicBezTo>
                  <a:pt x="9942" y="7482"/>
                  <a:pt x="9960" y="7482"/>
                  <a:pt x="9960" y="7493"/>
                </a:cubicBezTo>
                <a:cubicBezTo>
                  <a:pt x="9960" y="7612"/>
                  <a:pt x="9960" y="7612"/>
                  <a:pt x="9960" y="7612"/>
                </a:cubicBezTo>
                <a:cubicBezTo>
                  <a:pt x="9960" y="7624"/>
                  <a:pt x="9966" y="7636"/>
                  <a:pt x="9966" y="7653"/>
                </a:cubicBezTo>
                <a:cubicBezTo>
                  <a:pt x="9966" y="7659"/>
                  <a:pt x="9966" y="7671"/>
                  <a:pt x="9966" y="7677"/>
                </a:cubicBezTo>
                <a:cubicBezTo>
                  <a:pt x="9972" y="7695"/>
                  <a:pt x="9983" y="7707"/>
                  <a:pt x="9990" y="7725"/>
                </a:cubicBezTo>
                <a:cubicBezTo>
                  <a:pt x="10007" y="7748"/>
                  <a:pt x="10037" y="7754"/>
                  <a:pt x="10055" y="7784"/>
                </a:cubicBezTo>
                <a:cubicBezTo>
                  <a:pt x="10055" y="7790"/>
                  <a:pt x="10055" y="7802"/>
                  <a:pt x="10055" y="7808"/>
                </a:cubicBezTo>
                <a:cubicBezTo>
                  <a:pt x="10055" y="7814"/>
                  <a:pt x="10061" y="7825"/>
                  <a:pt x="10061" y="7831"/>
                </a:cubicBezTo>
                <a:cubicBezTo>
                  <a:pt x="10061" y="7837"/>
                  <a:pt x="10067" y="7843"/>
                  <a:pt x="10072" y="7855"/>
                </a:cubicBezTo>
                <a:cubicBezTo>
                  <a:pt x="10079" y="7873"/>
                  <a:pt x="10079" y="7885"/>
                  <a:pt x="10090" y="7896"/>
                </a:cubicBezTo>
                <a:cubicBezTo>
                  <a:pt x="10090" y="7908"/>
                  <a:pt x="10102" y="7914"/>
                  <a:pt x="10114" y="7920"/>
                </a:cubicBezTo>
                <a:cubicBezTo>
                  <a:pt x="10120" y="7932"/>
                  <a:pt x="10132" y="7926"/>
                  <a:pt x="10132" y="7938"/>
                </a:cubicBezTo>
                <a:cubicBezTo>
                  <a:pt x="10138" y="7956"/>
                  <a:pt x="10132" y="7968"/>
                  <a:pt x="10132" y="7985"/>
                </a:cubicBezTo>
                <a:cubicBezTo>
                  <a:pt x="10138" y="7991"/>
                  <a:pt x="10144" y="7997"/>
                  <a:pt x="10144" y="8009"/>
                </a:cubicBezTo>
                <a:cubicBezTo>
                  <a:pt x="10150" y="8015"/>
                  <a:pt x="10161" y="8021"/>
                  <a:pt x="10161" y="8033"/>
                </a:cubicBezTo>
                <a:cubicBezTo>
                  <a:pt x="10161" y="8039"/>
                  <a:pt x="10161" y="8039"/>
                  <a:pt x="10161" y="8039"/>
                </a:cubicBezTo>
                <a:cubicBezTo>
                  <a:pt x="10161" y="8051"/>
                  <a:pt x="10144" y="8051"/>
                  <a:pt x="10138" y="8057"/>
                </a:cubicBezTo>
                <a:cubicBezTo>
                  <a:pt x="10132" y="8069"/>
                  <a:pt x="10126" y="8074"/>
                  <a:pt x="10120" y="8080"/>
                </a:cubicBezTo>
                <a:cubicBezTo>
                  <a:pt x="10120" y="8086"/>
                  <a:pt x="10126" y="8098"/>
                  <a:pt x="10120" y="8104"/>
                </a:cubicBezTo>
                <a:cubicBezTo>
                  <a:pt x="10132" y="8104"/>
                  <a:pt x="10138" y="8110"/>
                  <a:pt x="10144" y="8110"/>
                </a:cubicBezTo>
                <a:cubicBezTo>
                  <a:pt x="10167" y="8110"/>
                  <a:pt x="10167" y="8110"/>
                  <a:pt x="10167" y="8110"/>
                </a:cubicBezTo>
                <a:cubicBezTo>
                  <a:pt x="10167" y="8116"/>
                  <a:pt x="10167" y="8128"/>
                  <a:pt x="10167" y="8134"/>
                </a:cubicBezTo>
                <a:cubicBezTo>
                  <a:pt x="10167" y="8140"/>
                  <a:pt x="10167" y="8151"/>
                  <a:pt x="10167" y="8157"/>
                </a:cubicBezTo>
                <a:cubicBezTo>
                  <a:pt x="10173" y="8163"/>
                  <a:pt x="10185" y="8163"/>
                  <a:pt x="10191" y="8169"/>
                </a:cubicBezTo>
                <a:cubicBezTo>
                  <a:pt x="10197" y="8175"/>
                  <a:pt x="10203" y="8181"/>
                  <a:pt x="10215" y="8181"/>
                </a:cubicBezTo>
                <a:cubicBezTo>
                  <a:pt x="10327" y="8181"/>
                  <a:pt x="10327" y="8181"/>
                  <a:pt x="10327" y="8181"/>
                </a:cubicBezTo>
                <a:cubicBezTo>
                  <a:pt x="10345" y="8181"/>
                  <a:pt x="10357" y="8169"/>
                  <a:pt x="10375" y="8163"/>
                </a:cubicBezTo>
                <a:cubicBezTo>
                  <a:pt x="10393" y="8157"/>
                  <a:pt x="10404" y="8151"/>
                  <a:pt x="10422" y="8151"/>
                </a:cubicBezTo>
                <a:cubicBezTo>
                  <a:pt x="10565" y="8151"/>
                  <a:pt x="10565" y="8151"/>
                  <a:pt x="10565" y="8151"/>
                </a:cubicBezTo>
                <a:cubicBezTo>
                  <a:pt x="10565" y="8140"/>
                  <a:pt x="10577" y="8140"/>
                  <a:pt x="10577" y="8128"/>
                </a:cubicBezTo>
                <a:cubicBezTo>
                  <a:pt x="10582" y="8122"/>
                  <a:pt x="10577" y="8110"/>
                  <a:pt x="10577" y="8104"/>
                </a:cubicBezTo>
                <a:cubicBezTo>
                  <a:pt x="10582" y="8098"/>
                  <a:pt x="10594" y="8098"/>
                  <a:pt x="10600" y="8098"/>
                </a:cubicBezTo>
                <a:cubicBezTo>
                  <a:pt x="10612" y="8098"/>
                  <a:pt x="10618" y="8098"/>
                  <a:pt x="10624" y="8098"/>
                </a:cubicBezTo>
                <a:cubicBezTo>
                  <a:pt x="10642" y="8098"/>
                  <a:pt x="10654" y="8098"/>
                  <a:pt x="10671" y="8092"/>
                </a:cubicBezTo>
                <a:cubicBezTo>
                  <a:pt x="10677" y="8092"/>
                  <a:pt x="10689" y="8092"/>
                  <a:pt x="10695" y="8086"/>
                </a:cubicBezTo>
                <a:cubicBezTo>
                  <a:pt x="10701" y="8080"/>
                  <a:pt x="10707" y="8074"/>
                  <a:pt x="10713" y="8062"/>
                </a:cubicBezTo>
                <a:cubicBezTo>
                  <a:pt x="10713" y="8057"/>
                  <a:pt x="10707" y="8045"/>
                  <a:pt x="10713" y="8039"/>
                </a:cubicBezTo>
                <a:cubicBezTo>
                  <a:pt x="10713" y="8033"/>
                  <a:pt x="10725" y="8039"/>
                  <a:pt x="10731" y="8033"/>
                </a:cubicBezTo>
                <a:cubicBezTo>
                  <a:pt x="10743" y="8027"/>
                  <a:pt x="10748" y="8021"/>
                  <a:pt x="10754" y="8015"/>
                </a:cubicBezTo>
                <a:cubicBezTo>
                  <a:pt x="10766" y="8003"/>
                  <a:pt x="10772" y="7997"/>
                  <a:pt x="10778" y="7991"/>
                </a:cubicBezTo>
                <a:cubicBezTo>
                  <a:pt x="10790" y="7980"/>
                  <a:pt x="10796" y="7980"/>
                  <a:pt x="10802" y="7968"/>
                </a:cubicBezTo>
                <a:cubicBezTo>
                  <a:pt x="10808" y="7950"/>
                  <a:pt x="10808" y="7938"/>
                  <a:pt x="10820" y="7920"/>
                </a:cubicBezTo>
                <a:cubicBezTo>
                  <a:pt x="10825" y="7914"/>
                  <a:pt x="10831" y="7908"/>
                  <a:pt x="10843" y="7896"/>
                </a:cubicBezTo>
                <a:cubicBezTo>
                  <a:pt x="10861" y="7885"/>
                  <a:pt x="10879" y="7879"/>
                  <a:pt x="10885" y="7861"/>
                </a:cubicBezTo>
                <a:cubicBezTo>
                  <a:pt x="10891" y="7849"/>
                  <a:pt x="10891" y="7843"/>
                  <a:pt x="10891" y="7837"/>
                </a:cubicBezTo>
                <a:cubicBezTo>
                  <a:pt x="10897" y="7825"/>
                  <a:pt x="10909" y="7819"/>
                  <a:pt x="10914" y="7814"/>
                </a:cubicBezTo>
                <a:cubicBezTo>
                  <a:pt x="10926" y="7802"/>
                  <a:pt x="10932" y="7802"/>
                  <a:pt x="10938" y="7790"/>
                </a:cubicBezTo>
                <a:cubicBezTo>
                  <a:pt x="10944" y="7766"/>
                  <a:pt x="10944" y="7754"/>
                  <a:pt x="10944" y="7730"/>
                </a:cubicBezTo>
                <a:cubicBezTo>
                  <a:pt x="10944" y="7719"/>
                  <a:pt x="10950" y="7713"/>
                  <a:pt x="10944" y="7701"/>
                </a:cubicBezTo>
                <a:cubicBezTo>
                  <a:pt x="10944" y="7689"/>
                  <a:pt x="10932" y="7689"/>
                  <a:pt x="10926" y="7677"/>
                </a:cubicBezTo>
                <a:cubicBezTo>
                  <a:pt x="10926" y="7671"/>
                  <a:pt x="10926" y="7659"/>
                  <a:pt x="10920" y="7653"/>
                </a:cubicBezTo>
                <a:cubicBezTo>
                  <a:pt x="10932" y="7648"/>
                  <a:pt x="10932" y="7636"/>
                  <a:pt x="10944" y="7636"/>
                </a:cubicBezTo>
                <a:cubicBezTo>
                  <a:pt x="10950" y="7636"/>
                  <a:pt x="10962" y="7636"/>
                  <a:pt x="10968" y="7636"/>
                </a:cubicBezTo>
                <a:cubicBezTo>
                  <a:pt x="10974" y="7636"/>
                  <a:pt x="10986" y="7636"/>
                  <a:pt x="10991" y="7636"/>
                </a:cubicBezTo>
                <a:cubicBezTo>
                  <a:pt x="11003" y="7636"/>
                  <a:pt x="11003" y="7618"/>
                  <a:pt x="11015" y="7612"/>
                </a:cubicBezTo>
                <a:cubicBezTo>
                  <a:pt x="11021" y="7606"/>
                  <a:pt x="11027" y="7606"/>
                  <a:pt x="11039" y="7594"/>
                </a:cubicBezTo>
                <a:cubicBezTo>
                  <a:pt x="11045" y="7588"/>
                  <a:pt x="11045" y="7576"/>
                  <a:pt x="11051" y="7576"/>
                </a:cubicBezTo>
                <a:cubicBezTo>
                  <a:pt x="11063" y="7571"/>
                  <a:pt x="11069" y="7564"/>
                  <a:pt x="11075" y="7559"/>
                </a:cubicBezTo>
                <a:cubicBezTo>
                  <a:pt x="11080" y="7553"/>
                  <a:pt x="11098" y="7559"/>
                  <a:pt x="11098" y="7553"/>
                </a:cubicBezTo>
                <a:cubicBezTo>
                  <a:pt x="11104" y="7547"/>
                  <a:pt x="11098" y="7535"/>
                  <a:pt x="11098" y="7529"/>
                </a:cubicBezTo>
                <a:cubicBezTo>
                  <a:pt x="11098" y="7499"/>
                  <a:pt x="11092" y="7487"/>
                  <a:pt x="11086" y="7458"/>
                </a:cubicBezTo>
                <a:cubicBezTo>
                  <a:pt x="11086" y="7446"/>
                  <a:pt x="11080" y="7428"/>
                  <a:pt x="11075" y="7416"/>
                </a:cubicBezTo>
                <a:cubicBezTo>
                  <a:pt x="11075" y="7398"/>
                  <a:pt x="11069" y="7381"/>
                  <a:pt x="11057" y="7369"/>
                </a:cubicBezTo>
                <a:cubicBezTo>
                  <a:pt x="11051" y="7351"/>
                  <a:pt x="11039" y="7345"/>
                  <a:pt x="11039" y="7321"/>
                </a:cubicBezTo>
                <a:cubicBezTo>
                  <a:pt x="11039" y="7310"/>
                  <a:pt x="11051" y="7310"/>
                  <a:pt x="11057" y="7298"/>
                </a:cubicBezTo>
                <a:cubicBezTo>
                  <a:pt x="11069" y="7292"/>
                  <a:pt x="11069" y="7286"/>
                  <a:pt x="11075" y="7274"/>
                </a:cubicBezTo>
                <a:cubicBezTo>
                  <a:pt x="11080" y="7268"/>
                  <a:pt x="11086" y="7262"/>
                  <a:pt x="11098" y="7256"/>
                </a:cubicBezTo>
                <a:cubicBezTo>
                  <a:pt x="11104" y="7250"/>
                  <a:pt x="11116" y="7250"/>
                  <a:pt x="11122" y="7250"/>
                </a:cubicBezTo>
                <a:cubicBezTo>
                  <a:pt x="11128" y="7244"/>
                  <a:pt x="11128" y="7232"/>
                  <a:pt x="11134" y="7227"/>
                </a:cubicBezTo>
                <a:cubicBezTo>
                  <a:pt x="11140" y="7215"/>
                  <a:pt x="11152" y="7215"/>
                  <a:pt x="11158" y="7203"/>
                </a:cubicBezTo>
                <a:cubicBezTo>
                  <a:pt x="11163" y="7197"/>
                  <a:pt x="11158" y="7185"/>
                  <a:pt x="11169" y="7179"/>
                </a:cubicBezTo>
                <a:cubicBezTo>
                  <a:pt x="11181" y="7167"/>
                  <a:pt x="11193" y="7161"/>
                  <a:pt x="11211" y="7155"/>
                </a:cubicBezTo>
                <a:cubicBezTo>
                  <a:pt x="11223" y="7155"/>
                  <a:pt x="11229" y="7155"/>
                  <a:pt x="11235" y="7150"/>
                </a:cubicBezTo>
                <a:cubicBezTo>
                  <a:pt x="11241" y="7150"/>
                  <a:pt x="11252" y="7155"/>
                  <a:pt x="11258" y="7150"/>
                </a:cubicBezTo>
                <a:cubicBezTo>
                  <a:pt x="11270" y="7150"/>
                  <a:pt x="11270" y="7138"/>
                  <a:pt x="11282" y="7132"/>
                </a:cubicBezTo>
                <a:cubicBezTo>
                  <a:pt x="11300" y="7126"/>
                  <a:pt x="11312" y="7120"/>
                  <a:pt x="11329" y="7108"/>
                </a:cubicBezTo>
                <a:cubicBezTo>
                  <a:pt x="11341" y="7090"/>
                  <a:pt x="11353" y="7078"/>
                  <a:pt x="11353" y="7061"/>
                </a:cubicBezTo>
                <a:cubicBezTo>
                  <a:pt x="11359" y="7043"/>
                  <a:pt x="11353" y="7031"/>
                  <a:pt x="11353" y="7013"/>
                </a:cubicBezTo>
                <a:cubicBezTo>
                  <a:pt x="11353" y="7007"/>
                  <a:pt x="11359" y="7001"/>
                  <a:pt x="11359" y="6989"/>
                </a:cubicBezTo>
                <a:cubicBezTo>
                  <a:pt x="11359" y="6960"/>
                  <a:pt x="11359" y="6960"/>
                  <a:pt x="11359" y="6960"/>
                </a:cubicBezTo>
                <a:cubicBezTo>
                  <a:pt x="11359" y="6942"/>
                  <a:pt x="11365" y="6936"/>
                  <a:pt x="11359" y="6924"/>
                </a:cubicBezTo>
                <a:cubicBezTo>
                  <a:pt x="11359" y="6912"/>
                  <a:pt x="11347" y="6906"/>
                  <a:pt x="11347" y="6901"/>
                </a:cubicBezTo>
                <a:cubicBezTo>
                  <a:pt x="11347" y="6765"/>
                  <a:pt x="11347" y="6765"/>
                  <a:pt x="11347" y="6765"/>
                </a:cubicBezTo>
                <a:cubicBezTo>
                  <a:pt x="11341" y="6759"/>
                  <a:pt x="11335" y="6753"/>
                  <a:pt x="11329" y="6747"/>
                </a:cubicBezTo>
                <a:cubicBezTo>
                  <a:pt x="11312" y="6724"/>
                  <a:pt x="11306" y="6700"/>
                  <a:pt x="11294" y="6670"/>
                </a:cubicBezTo>
                <a:cubicBezTo>
                  <a:pt x="11294" y="6658"/>
                  <a:pt x="11306" y="6647"/>
                  <a:pt x="11306" y="6629"/>
                </a:cubicBezTo>
                <a:cubicBezTo>
                  <a:pt x="11306" y="6617"/>
                  <a:pt x="11300" y="6611"/>
                  <a:pt x="11300" y="6605"/>
                </a:cubicBezTo>
                <a:cubicBezTo>
                  <a:pt x="11300" y="6593"/>
                  <a:pt x="11306" y="6587"/>
                  <a:pt x="11306" y="6581"/>
                </a:cubicBezTo>
                <a:cubicBezTo>
                  <a:pt x="11306" y="6575"/>
                  <a:pt x="11294" y="6569"/>
                  <a:pt x="11294" y="6558"/>
                </a:cubicBezTo>
                <a:cubicBezTo>
                  <a:pt x="11294" y="6552"/>
                  <a:pt x="11282" y="6546"/>
                  <a:pt x="11282" y="6534"/>
                </a:cubicBezTo>
                <a:cubicBezTo>
                  <a:pt x="11282" y="6522"/>
                  <a:pt x="11282" y="6522"/>
                  <a:pt x="11282" y="6522"/>
                </a:cubicBezTo>
                <a:cubicBezTo>
                  <a:pt x="11282" y="6510"/>
                  <a:pt x="11282" y="6498"/>
                  <a:pt x="11288" y="6492"/>
                </a:cubicBezTo>
                <a:cubicBezTo>
                  <a:pt x="11288" y="6480"/>
                  <a:pt x="11288" y="6475"/>
                  <a:pt x="11288" y="6469"/>
                </a:cubicBezTo>
                <a:cubicBezTo>
                  <a:pt x="11288" y="6457"/>
                  <a:pt x="11306" y="6457"/>
                  <a:pt x="11312" y="6451"/>
                </a:cubicBezTo>
                <a:cubicBezTo>
                  <a:pt x="11329" y="6421"/>
                  <a:pt x="11353" y="6409"/>
                  <a:pt x="11365" y="6380"/>
                </a:cubicBezTo>
                <a:cubicBezTo>
                  <a:pt x="11371" y="6374"/>
                  <a:pt x="11371" y="6368"/>
                  <a:pt x="11371" y="6356"/>
                </a:cubicBezTo>
                <a:cubicBezTo>
                  <a:pt x="11377" y="6350"/>
                  <a:pt x="11389" y="6344"/>
                  <a:pt x="11389" y="6338"/>
                </a:cubicBezTo>
                <a:cubicBezTo>
                  <a:pt x="11395" y="6326"/>
                  <a:pt x="11395" y="6320"/>
                  <a:pt x="11395" y="6315"/>
                </a:cubicBezTo>
                <a:cubicBezTo>
                  <a:pt x="11401" y="6297"/>
                  <a:pt x="11407" y="6285"/>
                  <a:pt x="11418" y="6267"/>
                </a:cubicBezTo>
                <a:cubicBezTo>
                  <a:pt x="11424" y="6261"/>
                  <a:pt x="11436" y="6255"/>
                  <a:pt x="11442" y="6249"/>
                </a:cubicBezTo>
                <a:cubicBezTo>
                  <a:pt x="11448" y="6243"/>
                  <a:pt x="11460" y="6237"/>
                  <a:pt x="11466" y="6231"/>
                </a:cubicBezTo>
                <a:cubicBezTo>
                  <a:pt x="11472" y="6226"/>
                  <a:pt x="11478" y="6220"/>
                  <a:pt x="11484" y="6208"/>
                </a:cubicBezTo>
                <a:cubicBezTo>
                  <a:pt x="11495" y="6196"/>
                  <a:pt x="11507" y="6184"/>
                  <a:pt x="11525" y="6172"/>
                </a:cubicBezTo>
                <a:cubicBezTo>
                  <a:pt x="11537" y="6160"/>
                  <a:pt x="11543" y="6154"/>
                  <a:pt x="11549" y="6149"/>
                </a:cubicBezTo>
                <a:cubicBezTo>
                  <a:pt x="11561" y="6137"/>
                  <a:pt x="11561" y="6131"/>
                  <a:pt x="11573" y="6125"/>
                </a:cubicBezTo>
                <a:cubicBezTo>
                  <a:pt x="11590" y="6113"/>
                  <a:pt x="11602" y="6107"/>
                  <a:pt x="11620" y="6095"/>
                </a:cubicBezTo>
                <a:cubicBezTo>
                  <a:pt x="11626" y="6089"/>
                  <a:pt x="11626" y="6077"/>
                  <a:pt x="11632" y="6071"/>
                </a:cubicBezTo>
                <a:cubicBezTo>
                  <a:pt x="11638" y="6065"/>
                  <a:pt x="11644" y="6065"/>
                  <a:pt x="11656" y="6054"/>
                </a:cubicBezTo>
                <a:cubicBezTo>
                  <a:pt x="11656" y="6048"/>
                  <a:pt x="11656" y="6036"/>
                  <a:pt x="11656" y="6036"/>
                </a:cubicBezTo>
                <a:cubicBezTo>
                  <a:pt x="11661" y="6030"/>
                  <a:pt x="11673" y="6030"/>
                  <a:pt x="11679" y="6030"/>
                </a:cubicBezTo>
                <a:cubicBezTo>
                  <a:pt x="11691" y="6024"/>
                  <a:pt x="11697" y="6012"/>
                  <a:pt x="11703" y="6012"/>
                </a:cubicBezTo>
                <a:cubicBezTo>
                  <a:pt x="11715" y="6006"/>
                  <a:pt x="11721" y="6000"/>
                  <a:pt x="11727" y="5994"/>
                </a:cubicBezTo>
                <a:cubicBezTo>
                  <a:pt x="11733" y="5988"/>
                  <a:pt x="11745" y="5988"/>
                  <a:pt x="11750" y="5983"/>
                </a:cubicBezTo>
                <a:cubicBezTo>
                  <a:pt x="11756" y="5976"/>
                  <a:pt x="11762" y="5965"/>
                  <a:pt x="11768" y="5959"/>
                </a:cubicBezTo>
                <a:cubicBezTo>
                  <a:pt x="11780" y="5935"/>
                  <a:pt x="11774" y="5917"/>
                  <a:pt x="11786" y="5888"/>
                </a:cubicBezTo>
                <a:cubicBezTo>
                  <a:pt x="11786" y="5882"/>
                  <a:pt x="11804" y="5882"/>
                  <a:pt x="11810" y="5876"/>
                </a:cubicBezTo>
                <a:cubicBezTo>
                  <a:pt x="11816" y="5864"/>
                  <a:pt x="11822" y="5858"/>
                  <a:pt x="11827" y="5852"/>
                </a:cubicBezTo>
                <a:cubicBezTo>
                  <a:pt x="11839" y="5846"/>
                  <a:pt x="11851" y="5840"/>
                  <a:pt x="11857" y="5834"/>
                </a:cubicBezTo>
                <a:cubicBezTo>
                  <a:pt x="11869" y="5828"/>
                  <a:pt x="11869" y="5817"/>
                  <a:pt x="11875" y="5810"/>
                </a:cubicBezTo>
                <a:cubicBezTo>
                  <a:pt x="11881" y="5805"/>
                  <a:pt x="11887" y="5799"/>
                  <a:pt x="11893" y="5787"/>
                </a:cubicBezTo>
                <a:cubicBezTo>
                  <a:pt x="11899" y="5769"/>
                  <a:pt x="11899" y="5757"/>
                  <a:pt x="11899" y="5739"/>
                </a:cubicBezTo>
                <a:cubicBezTo>
                  <a:pt x="11899" y="5728"/>
                  <a:pt x="11899" y="5716"/>
                  <a:pt x="11899" y="5698"/>
                </a:cubicBezTo>
                <a:cubicBezTo>
                  <a:pt x="11899" y="5668"/>
                  <a:pt x="11916" y="5651"/>
                  <a:pt x="11916" y="5621"/>
                </a:cubicBezTo>
                <a:cubicBezTo>
                  <a:pt x="11916" y="5573"/>
                  <a:pt x="11916" y="5573"/>
                  <a:pt x="11916" y="5573"/>
                </a:cubicBezTo>
                <a:cubicBezTo>
                  <a:pt x="11905" y="5573"/>
                  <a:pt x="11893" y="5573"/>
                  <a:pt x="11881" y="5573"/>
                </a:cubicBezTo>
                <a:cubicBezTo>
                  <a:pt x="11869" y="5573"/>
                  <a:pt x="11851" y="5573"/>
                  <a:pt x="11839" y="5573"/>
                </a:cubicBezTo>
                <a:cubicBezTo>
                  <a:pt x="11834" y="5579"/>
                  <a:pt x="11827" y="5591"/>
                  <a:pt x="11816" y="5591"/>
                </a:cubicBezTo>
                <a:cubicBezTo>
                  <a:pt x="11792" y="5609"/>
                  <a:pt x="11774" y="5627"/>
                  <a:pt x="11739" y="5627"/>
                </a:cubicBezTo>
                <a:cubicBezTo>
                  <a:pt x="11721" y="5627"/>
                  <a:pt x="11715" y="5615"/>
                  <a:pt x="11697" y="5615"/>
                </a:cubicBezTo>
                <a:cubicBezTo>
                  <a:pt x="11673" y="5615"/>
                  <a:pt x="11673" y="5615"/>
                  <a:pt x="11673" y="5615"/>
                </a:cubicBezTo>
                <a:cubicBezTo>
                  <a:pt x="11656" y="5615"/>
                  <a:pt x="11650" y="5621"/>
                  <a:pt x="11632" y="5621"/>
                </a:cubicBezTo>
                <a:cubicBezTo>
                  <a:pt x="11614" y="5621"/>
                  <a:pt x="11602" y="5621"/>
                  <a:pt x="11584" y="5621"/>
                </a:cubicBezTo>
                <a:cubicBezTo>
                  <a:pt x="11579" y="5621"/>
                  <a:pt x="11561" y="5615"/>
                  <a:pt x="11549" y="5609"/>
                </a:cubicBezTo>
                <a:cubicBezTo>
                  <a:pt x="11537" y="5585"/>
                  <a:pt x="11537" y="5585"/>
                  <a:pt x="11537" y="5585"/>
                </a:cubicBezTo>
                <a:cubicBezTo>
                  <a:pt x="11537" y="5579"/>
                  <a:pt x="11525" y="5573"/>
                  <a:pt x="11519" y="5567"/>
                </a:cubicBezTo>
                <a:cubicBezTo>
                  <a:pt x="11519" y="5556"/>
                  <a:pt x="11525" y="5550"/>
                  <a:pt x="11519" y="5544"/>
                </a:cubicBezTo>
                <a:cubicBezTo>
                  <a:pt x="11519" y="5532"/>
                  <a:pt x="11501" y="5538"/>
                  <a:pt x="11501" y="5532"/>
                </a:cubicBezTo>
                <a:cubicBezTo>
                  <a:pt x="11490" y="5508"/>
                  <a:pt x="11490" y="5508"/>
                  <a:pt x="11490" y="5508"/>
                </a:cubicBezTo>
                <a:cubicBezTo>
                  <a:pt x="11484" y="5502"/>
                  <a:pt x="11490" y="5490"/>
                  <a:pt x="11490" y="5485"/>
                </a:cubicBezTo>
                <a:cubicBezTo>
                  <a:pt x="11484" y="5478"/>
                  <a:pt x="11472" y="5473"/>
                  <a:pt x="11466" y="5467"/>
                </a:cubicBezTo>
                <a:cubicBezTo>
                  <a:pt x="11460" y="5467"/>
                  <a:pt x="11448" y="5473"/>
                  <a:pt x="11442" y="5467"/>
                </a:cubicBezTo>
                <a:cubicBezTo>
                  <a:pt x="11430" y="5461"/>
                  <a:pt x="11424" y="5455"/>
                  <a:pt x="11418" y="5443"/>
                </a:cubicBezTo>
                <a:cubicBezTo>
                  <a:pt x="11413" y="5437"/>
                  <a:pt x="11413" y="5431"/>
                  <a:pt x="11401" y="5419"/>
                </a:cubicBezTo>
                <a:cubicBezTo>
                  <a:pt x="11395" y="5419"/>
                  <a:pt x="11389" y="5419"/>
                  <a:pt x="11377" y="5413"/>
                </a:cubicBezTo>
                <a:cubicBezTo>
                  <a:pt x="11371" y="5401"/>
                  <a:pt x="11371" y="5390"/>
                  <a:pt x="11359" y="5390"/>
                </a:cubicBezTo>
                <a:cubicBezTo>
                  <a:pt x="11353" y="5384"/>
                  <a:pt x="11347" y="5378"/>
                  <a:pt x="11341" y="5378"/>
                </a:cubicBezTo>
                <a:cubicBezTo>
                  <a:pt x="11329" y="5372"/>
                  <a:pt x="11324" y="5378"/>
                  <a:pt x="11318" y="5378"/>
                </a:cubicBezTo>
                <a:cubicBezTo>
                  <a:pt x="11306" y="5372"/>
                  <a:pt x="11300" y="5366"/>
                  <a:pt x="11294" y="5360"/>
                </a:cubicBezTo>
                <a:cubicBezTo>
                  <a:pt x="11276" y="5348"/>
                  <a:pt x="11276" y="5330"/>
                  <a:pt x="11270" y="5312"/>
                </a:cubicBezTo>
                <a:cubicBezTo>
                  <a:pt x="11270" y="5307"/>
                  <a:pt x="11264" y="5301"/>
                  <a:pt x="11264" y="5289"/>
                </a:cubicBezTo>
                <a:cubicBezTo>
                  <a:pt x="11264" y="5277"/>
                  <a:pt x="11264" y="5259"/>
                  <a:pt x="11258" y="5247"/>
                </a:cubicBezTo>
                <a:cubicBezTo>
                  <a:pt x="11252" y="5235"/>
                  <a:pt x="11241" y="5235"/>
                  <a:pt x="11235" y="5230"/>
                </a:cubicBezTo>
                <a:cubicBezTo>
                  <a:pt x="11223" y="5212"/>
                  <a:pt x="11211" y="5200"/>
                  <a:pt x="11199" y="5182"/>
                </a:cubicBezTo>
                <a:cubicBezTo>
                  <a:pt x="11199" y="5170"/>
                  <a:pt x="11187" y="5170"/>
                  <a:pt x="11187" y="5158"/>
                </a:cubicBezTo>
                <a:cubicBezTo>
                  <a:pt x="11187" y="5152"/>
                  <a:pt x="11193" y="5146"/>
                  <a:pt x="11193" y="5135"/>
                </a:cubicBezTo>
                <a:cubicBezTo>
                  <a:pt x="11193" y="5111"/>
                  <a:pt x="11193" y="5111"/>
                  <a:pt x="11193" y="5111"/>
                </a:cubicBezTo>
                <a:cubicBezTo>
                  <a:pt x="11193" y="5099"/>
                  <a:pt x="11193" y="5081"/>
                  <a:pt x="11187" y="5069"/>
                </a:cubicBezTo>
                <a:cubicBezTo>
                  <a:pt x="11181" y="5058"/>
                  <a:pt x="11169" y="5058"/>
                  <a:pt x="11169" y="5046"/>
                </a:cubicBezTo>
                <a:cubicBezTo>
                  <a:pt x="11158" y="5028"/>
                  <a:pt x="11158" y="5016"/>
                  <a:pt x="11146" y="4998"/>
                </a:cubicBezTo>
                <a:cubicBezTo>
                  <a:pt x="11140" y="4992"/>
                  <a:pt x="11140" y="4986"/>
                  <a:pt x="11134" y="4975"/>
                </a:cubicBezTo>
                <a:cubicBezTo>
                  <a:pt x="11128" y="4969"/>
                  <a:pt x="11116" y="4975"/>
                  <a:pt x="11110" y="4963"/>
                </a:cubicBezTo>
                <a:cubicBezTo>
                  <a:pt x="11104" y="4957"/>
                  <a:pt x="11104" y="4951"/>
                  <a:pt x="11098" y="4945"/>
                </a:cubicBezTo>
                <a:cubicBezTo>
                  <a:pt x="11098" y="4933"/>
                  <a:pt x="11098" y="4927"/>
                  <a:pt x="11098" y="4921"/>
                </a:cubicBezTo>
                <a:cubicBezTo>
                  <a:pt x="11098" y="4903"/>
                  <a:pt x="11104" y="4892"/>
                  <a:pt x="11098" y="4874"/>
                </a:cubicBezTo>
                <a:cubicBezTo>
                  <a:pt x="11098" y="4868"/>
                  <a:pt x="11092" y="4856"/>
                  <a:pt x="11092" y="4850"/>
                </a:cubicBezTo>
                <a:cubicBezTo>
                  <a:pt x="11092" y="4844"/>
                  <a:pt x="11080" y="4838"/>
                  <a:pt x="11075" y="4826"/>
                </a:cubicBezTo>
                <a:cubicBezTo>
                  <a:pt x="11063" y="4809"/>
                  <a:pt x="11045" y="4803"/>
                  <a:pt x="11039" y="4785"/>
                </a:cubicBezTo>
                <a:cubicBezTo>
                  <a:pt x="11033" y="4773"/>
                  <a:pt x="11027" y="4767"/>
                  <a:pt x="11027" y="4761"/>
                </a:cubicBezTo>
                <a:cubicBezTo>
                  <a:pt x="11021" y="4743"/>
                  <a:pt x="11027" y="4731"/>
                  <a:pt x="11027" y="4714"/>
                </a:cubicBezTo>
                <a:cubicBezTo>
                  <a:pt x="11021" y="4696"/>
                  <a:pt x="11009" y="4684"/>
                  <a:pt x="11003" y="4666"/>
                </a:cubicBezTo>
                <a:cubicBezTo>
                  <a:pt x="10997" y="4660"/>
                  <a:pt x="10991" y="4654"/>
                  <a:pt x="10986" y="4648"/>
                </a:cubicBezTo>
                <a:cubicBezTo>
                  <a:pt x="10980" y="4637"/>
                  <a:pt x="10974" y="4631"/>
                  <a:pt x="10968" y="4625"/>
                </a:cubicBezTo>
                <a:cubicBezTo>
                  <a:pt x="10962" y="4613"/>
                  <a:pt x="10950" y="4613"/>
                  <a:pt x="10944" y="4607"/>
                </a:cubicBezTo>
                <a:cubicBezTo>
                  <a:pt x="10938" y="4601"/>
                  <a:pt x="10926" y="4560"/>
                  <a:pt x="10920" y="4554"/>
                </a:cubicBezTo>
                <a:close/>
                <a:moveTo>
                  <a:pt x="5117" y="8922"/>
                </a:moveTo>
                <a:lnTo>
                  <a:pt x="5117" y="8922"/>
                </a:lnTo>
                <a:cubicBezTo>
                  <a:pt x="5111" y="8922"/>
                  <a:pt x="5111" y="8922"/>
                  <a:pt x="5105" y="8922"/>
                </a:cubicBezTo>
                <a:cubicBezTo>
                  <a:pt x="5099" y="8916"/>
                  <a:pt x="5093" y="8916"/>
                  <a:pt x="5093" y="8916"/>
                </a:cubicBezTo>
                <a:cubicBezTo>
                  <a:pt x="5093" y="8910"/>
                  <a:pt x="5093" y="8905"/>
                  <a:pt x="5093" y="8905"/>
                </a:cubicBezTo>
                <a:cubicBezTo>
                  <a:pt x="5093" y="8899"/>
                  <a:pt x="5093" y="8893"/>
                  <a:pt x="5093" y="8893"/>
                </a:cubicBezTo>
                <a:cubicBezTo>
                  <a:pt x="5087" y="8887"/>
                  <a:pt x="5087" y="8887"/>
                  <a:pt x="5081" y="8887"/>
                </a:cubicBezTo>
                <a:cubicBezTo>
                  <a:pt x="5075" y="8887"/>
                  <a:pt x="5075" y="8887"/>
                  <a:pt x="5069" y="8887"/>
                </a:cubicBezTo>
                <a:cubicBezTo>
                  <a:pt x="5069" y="8922"/>
                  <a:pt x="5069" y="8922"/>
                  <a:pt x="5069" y="8922"/>
                </a:cubicBezTo>
                <a:cubicBezTo>
                  <a:pt x="5057" y="8922"/>
                  <a:pt x="5052" y="8922"/>
                  <a:pt x="5046" y="8928"/>
                </a:cubicBezTo>
                <a:cubicBezTo>
                  <a:pt x="5040" y="8934"/>
                  <a:pt x="5040" y="8940"/>
                  <a:pt x="5040" y="8940"/>
                </a:cubicBezTo>
                <a:cubicBezTo>
                  <a:pt x="5034" y="8946"/>
                  <a:pt x="5028" y="8946"/>
                  <a:pt x="5028" y="8952"/>
                </a:cubicBezTo>
                <a:cubicBezTo>
                  <a:pt x="5028" y="8964"/>
                  <a:pt x="5040" y="8976"/>
                  <a:pt x="5052" y="8976"/>
                </a:cubicBezTo>
                <a:cubicBezTo>
                  <a:pt x="5057" y="8976"/>
                  <a:pt x="5063" y="8970"/>
                  <a:pt x="5063" y="8970"/>
                </a:cubicBezTo>
                <a:cubicBezTo>
                  <a:pt x="5069" y="8970"/>
                  <a:pt x="5075" y="8976"/>
                  <a:pt x="5075" y="8976"/>
                </a:cubicBezTo>
                <a:cubicBezTo>
                  <a:pt x="5081" y="8976"/>
                  <a:pt x="5087" y="8976"/>
                  <a:pt x="5087" y="8976"/>
                </a:cubicBezTo>
                <a:cubicBezTo>
                  <a:pt x="5093" y="8976"/>
                  <a:pt x="5093" y="8982"/>
                  <a:pt x="5099" y="8987"/>
                </a:cubicBezTo>
                <a:cubicBezTo>
                  <a:pt x="5093" y="8987"/>
                  <a:pt x="5093" y="8993"/>
                  <a:pt x="5093" y="8999"/>
                </a:cubicBezTo>
                <a:cubicBezTo>
                  <a:pt x="5093" y="9005"/>
                  <a:pt x="5081" y="9005"/>
                  <a:pt x="5081" y="9011"/>
                </a:cubicBezTo>
                <a:cubicBezTo>
                  <a:pt x="5081" y="9017"/>
                  <a:pt x="5087" y="9017"/>
                  <a:pt x="5087" y="9023"/>
                </a:cubicBezTo>
                <a:cubicBezTo>
                  <a:pt x="5087" y="9023"/>
                  <a:pt x="5087" y="9029"/>
                  <a:pt x="5087" y="9035"/>
                </a:cubicBezTo>
                <a:cubicBezTo>
                  <a:pt x="5099" y="9035"/>
                  <a:pt x="5111" y="9029"/>
                  <a:pt x="5117" y="9035"/>
                </a:cubicBezTo>
                <a:cubicBezTo>
                  <a:pt x="5129" y="9041"/>
                  <a:pt x="5135" y="9041"/>
                  <a:pt x="5140" y="9047"/>
                </a:cubicBezTo>
                <a:cubicBezTo>
                  <a:pt x="5140" y="9053"/>
                  <a:pt x="5135" y="9053"/>
                  <a:pt x="5135" y="9059"/>
                </a:cubicBezTo>
                <a:cubicBezTo>
                  <a:pt x="5135" y="9065"/>
                  <a:pt x="5135" y="9065"/>
                  <a:pt x="5135" y="9071"/>
                </a:cubicBezTo>
                <a:cubicBezTo>
                  <a:pt x="5129" y="9071"/>
                  <a:pt x="5123" y="9071"/>
                  <a:pt x="5111" y="9071"/>
                </a:cubicBezTo>
                <a:lnTo>
                  <a:pt x="5105" y="9071"/>
                </a:lnTo>
                <a:cubicBezTo>
                  <a:pt x="5093" y="9071"/>
                  <a:pt x="5087" y="9076"/>
                  <a:pt x="5081" y="9076"/>
                </a:cubicBezTo>
                <a:cubicBezTo>
                  <a:pt x="5069" y="9076"/>
                  <a:pt x="5063" y="9076"/>
                  <a:pt x="5057" y="9076"/>
                </a:cubicBezTo>
                <a:cubicBezTo>
                  <a:pt x="5052" y="9076"/>
                  <a:pt x="5052" y="9082"/>
                  <a:pt x="5046" y="9088"/>
                </a:cubicBezTo>
                <a:cubicBezTo>
                  <a:pt x="5040" y="9088"/>
                  <a:pt x="5034" y="9094"/>
                  <a:pt x="5034" y="9100"/>
                </a:cubicBezTo>
                <a:cubicBezTo>
                  <a:pt x="5034" y="9106"/>
                  <a:pt x="5034" y="9106"/>
                  <a:pt x="5034" y="9106"/>
                </a:cubicBezTo>
                <a:cubicBezTo>
                  <a:pt x="5034" y="9106"/>
                  <a:pt x="5040" y="9112"/>
                  <a:pt x="5040" y="9118"/>
                </a:cubicBezTo>
                <a:lnTo>
                  <a:pt x="5040" y="9124"/>
                </a:lnTo>
                <a:cubicBezTo>
                  <a:pt x="5040" y="9130"/>
                  <a:pt x="5040" y="9136"/>
                  <a:pt x="5040" y="9136"/>
                </a:cubicBezTo>
                <a:cubicBezTo>
                  <a:pt x="5040" y="9142"/>
                  <a:pt x="5052" y="9142"/>
                  <a:pt x="5052" y="9142"/>
                </a:cubicBezTo>
                <a:cubicBezTo>
                  <a:pt x="5052" y="9148"/>
                  <a:pt x="5057" y="9153"/>
                  <a:pt x="5057" y="9160"/>
                </a:cubicBezTo>
                <a:cubicBezTo>
                  <a:pt x="5057" y="9165"/>
                  <a:pt x="5057" y="9165"/>
                  <a:pt x="5057" y="9165"/>
                </a:cubicBezTo>
                <a:cubicBezTo>
                  <a:pt x="5057" y="9171"/>
                  <a:pt x="5052" y="9171"/>
                  <a:pt x="5052" y="9177"/>
                </a:cubicBezTo>
                <a:cubicBezTo>
                  <a:pt x="5052" y="9183"/>
                  <a:pt x="5046" y="9183"/>
                  <a:pt x="5046" y="9189"/>
                </a:cubicBezTo>
                <a:cubicBezTo>
                  <a:pt x="5046" y="9201"/>
                  <a:pt x="5057" y="9201"/>
                  <a:pt x="5063" y="9207"/>
                </a:cubicBezTo>
                <a:cubicBezTo>
                  <a:pt x="5069" y="9219"/>
                  <a:pt x="5075" y="9225"/>
                  <a:pt x="5075" y="9231"/>
                </a:cubicBezTo>
                <a:cubicBezTo>
                  <a:pt x="5075" y="9237"/>
                  <a:pt x="5063" y="9231"/>
                  <a:pt x="5063" y="9237"/>
                </a:cubicBezTo>
                <a:cubicBezTo>
                  <a:pt x="5063" y="9242"/>
                  <a:pt x="5063" y="9248"/>
                  <a:pt x="5063" y="9248"/>
                </a:cubicBezTo>
                <a:cubicBezTo>
                  <a:pt x="5069" y="9254"/>
                  <a:pt x="5075" y="9254"/>
                  <a:pt x="5075" y="9254"/>
                </a:cubicBezTo>
                <a:cubicBezTo>
                  <a:pt x="5081" y="9260"/>
                  <a:pt x="5087" y="9260"/>
                  <a:pt x="5087" y="9260"/>
                </a:cubicBezTo>
                <a:cubicBezTo>
                  <a:pt x="5093" y="9260"/>
                  <a:pt x="5087" y="9266"/>
                  <a:pt x="5087" y="9272"/>
                </a:cubicBezTo>
                <a:cubicBezTo>
                  <a:pt x="5063" y="9284"/>
                  <a:pt x="5063" y="9284"/>
                  <a:pt x="5063" y="9284"/>
                </a:cubicBezTo>
                <a:cubicBezTo>
                  <a:pt x="5069" y="9296"/>
                  <a:pt x="5069" y="9296"/>
                  <a:pt x="5069" y="9296"/>
                </a:cubicBezTo>
                <a:cubicBezTo>
                  <a:pt x="5075" y="9296"/>
                  <a:pt x="5075" y="9296"/>
                  <a:pt x="5081" y="9296"/>
                </a:cubicBezTo>
                <a:cubicBezTo>
                  <a:pt x="5105" y="9296"/>
                  <a:pt x="5105" y="9296"/>
                  <a:pt x="5105" y="9296"/>
                </a:cubicBezTo>
                <a:cubicBezTo>
                  <a:pt x="5111" y="9296"/>
                  <a:pt x="5111" y="9296"/>
                  <a:pt x="5117" y="9296"/>
                </a:cubicBezTo>
                <a:cubicBezTo>
                  <a:pt x="5117" y="9302"/>
                  <a:pt x="5117" y="9308"/>
                  <a:pt x="5111" y="9314"/>
                </a:cubicBezTo>
                <a:cubicBezTo>
                  <a:pt x="5105" y="9319"/>
                  <a:pt x="5099" y="9319"/>
                  <a:pt x="5093" y="9326"/>
                </a:cubicBezTo>
                <a:cubicBezTo>
                  <a:pt x="5099" y="9331"/>
                  <a:pt x="5099" y="9337"/>
                  <a:pt x="5111" y="9343"/>
                </a:cubicBezTo>
                <a:cubicBezTo>
                  <a:pt x="5117" y="9343"/>
                  <a:pt x="5117" y="9343"/>
                  <a:pt x="5123" y="9343"/>
                </a:cubicBezTo>
                <a:cubicBezTo>
                  <a:pt x="5129" y="9343"/>
                  <a:pt x="5129" y="9343"/>
                  <a:pt x="5135" y="9343"/>
                </a:cubicBezTo>
                <a:cubicBezTo>
                  <a:pt x="5135" y="9343"/>
                  <a:pt x="5129" y="9349"/>
                  <a:pt x="5135" y="9349"/>
                </a:cubicBezTo>
                <a:cubicBezTo>
                  <a:pt x="5123" y="9361"/>
                  <a:pt x="5123" y="9361"/>
                  <a:pt x="5123" y="9361"/>
                </a:cubicBezTo>
                <a:cubicBezTo>
                  <a:pt x="5123" y="9367"/>
                  <a:pt x="5129" y="9367"/>
                  <a:pt x="5129" y="9373"/>
                </a:cubicBezTo>
                <a:cubicBezTo>
                  <a:pt x="5135" y="9379"/>
                  <a:pt x="5140" y="9373"/>
                  <a:pt x="5140" y="9379"/>
                </a:cubicBezTo>
                <a:cubicBezTo>
                  <a:pt x="5146" y="9385"/>
                  <a:pt x="5146" y="9391"/>
                  <a:pt x="5146" y="9397"/>
                </a:cubicBezTo>
                <a:cubicBezTo>
                  <a:pt x="5146" y="9397"/>
                  <a:pt x="5140" y="9403"/>
                  <a:pt x="5140" y="9408"/>
                </a:cubicBezTo>
                <a:cubicBezTo>
                  <a:pt x="5146" y="9408"/>
                  <a:pt x="5152" y="9414"/>
                  <a:pt x="5152" y="9414"/>
                </a:cubicBezTo>
                <a:cubicBezTo>
                  <a:pt x="5164" y="9420"/>
                  <a:pt x="5176" y="9420"/>
                  <a:pt x="5188" y="9426"/>
                </a:cubicBezTo>
                <a:cubicBezTo>
                  <a:pt x="5194" y="9432"/>
                  <a:pt x="5194" y="9432"/>
                  <a:pt x="5200" y="9438"/>
                </a:cubicBezTo>
                <a:cubicBezTo>
                  <a:pt x="5200" y="9438"/>
                  <a:pt x="5200" y="9444"/>
                  <a:pt x="5200" y="9450"/>
                </a:cubicBezTo>
                <a:cubicBezTo>
                  <a:pt x="5206" y="9450"/>
                  <a:pt x="5206" y="9456"/>
                  <a:pt x="5206" y="9462"/>
                </a:cubicBezTo>
                <a:cubicBezTo>
                  <a:pt x="5206" y="9462"/>
                  <a:pt x="5212" y="9462"/>
                  <a:pt x="5218" y="9468"/>
                </a:cubicBezTo>
                <a:cubicBezTo>
                  <a:pt x="5224" y="9468"/>
                  <a:pt x="5229" y="9468"/>
                  <a:pt x="5229" y="9474"/>
                </a:cubicBezTo>
                <a:cubicBezTo>
                  <a:pt x="5229" y="9480"/>
                  <a:pt x="5229" y="9480"/>
                  <a:pt x="5229" y="9485"/>
                </a:cubicBezTo>
                <a:cubicBezTo>
                  <a:pt x="5229" y="9492"/>
                  <a:pt x="5229" y="9497"/>
                  <a:pt x="5229" y="9503"/>
                </a:cubicBezTo>
                <a:cubicBezTo>
                  <a:pt x="5241" y="9503"/>
                  <a:pt x="5247" y="9503"/>
                  <a:pt x="5253" y="9503"/>
                </a:cubicBezTo>
                <a:cubicBezTo>
                  <a:pt x="5259" y="9503"/>
                  <a:pt x="5259" y="9503"/>
                  <a:pt x="5265" y="9503"/>
                </a:cubicBezTo>
                <a:cubicBezTo>
                  <a:pt x="5271" y="9509"/>
                  <a:pt x="5271" y="9509"/>
                  <a:pt x="5277" y="9509"/>
                </a:cubicBezTo>
                <a:cubicBezTo>
                  <a:pt x="5277" y="9509"/>
                  <a:pt x="5277" y="9515"/>
                  <a:pt x="5277" y="9521"/>
                </a:cubicBezTo>
                <a:cubicBezTo>
                  <a:pt x="5283" y="9527"/>
                  <a:pt x="5289" y="9539"/>
                  <a:pt x="5295" y="9539"/>
                </a:cubicBezTo>
                <a:cubicBezTo>
                  <a:pt x="5306" y="9545"/>
                  <a:pt x="5312" y="9539"/>
                  <a:pt x="5318" y="9539"/>
                </a:cubicBezTo>
                <a:cubicBezTo>
                  <a:pt x="5324" y="9539"/>
                  <a:pt x="5324" y="9545"/>
                  <a:pt x="5330" y="9545"/>
                </a:cubicBezTo>
                <a:cubicBezTo>
                  <a:pt x="5336" y="9545"/>
                  <a:pt x="5336" y="9551"/>
                  <a:pt x="5342" y="9551"/>
                </a:cubicBezTo>
                <a:cubicBezTo>
                  <a:pt x="5348" y="9551"/>
                  <a:pt x="5348" y="9551"/>
                  <a:pt x="5354" y="9551"/>
                </a:cubicBezTo>
                <a:cubicBezTo>
                  <a:pt x="5360" y="9551"/>
                  <a:pt x="5360" y="9557"/>
                  <a:pt x="5366" y="9563"/>
                </a:cubicBezTo>
                <a:cubicBezTo>
                  <a:pt x="5372" y="9563"/>
                  <a:pt x="5378" y="9557"/>
                  <a:pt x="5390" y="9563"/>
                </a:cubicBezTo>
                <a:cubicBezTo>
                  <a:pt x="5401" y="9563"/>
                  <a:pt x="5401" y="9563"/>
                  <a:pt x="5401" y="9563"/>
                </a:cubicBezTo>
                <a:cubicBezTo>
                  <a:pt x="5401" y="9563"/>
                  <a:pt x="5407" y="9569"/>
                  <a:pt x="5413" y="9569"/>
                </a:cubicBezTo>
                <a:cubicBezTo>
                  <a:pt x="5413" y="9569"/>
                  <a:pt x="5419" y="9574"/>
                  <a:pt x="5425" y="9574"/>
                </a:cubicBezTo>
                <a:cubicBezTo>
                  <a:pt x="5514" y="9574"/>
                  <a:pt x="5514" y="9574"/>
                  <a:pt x="5514" y="9574"/>
                </a:cubicBezTo>
                <a:cubicBezTo>
                  <a:pt x="5520" y="9574"/>
                  <a:pt x="5520" y="9574"/>
                  <a:pt x="5526" y="9574"/>
                </a:cubicBezTo>
                <a:cubicBezTo>
                  <a:pt x="5532" y="9574"/>
                  <a:pt x="5532" y="9574"/>
                  <a:pt x="5538" y="9569"/>
                </a:cubicBezTo>
                <a:cubicBezTo>
                  <a:pt x="5544" y="9569"/>
                  <a:pt x="5538" y="9563"/>
                  <a:pt x="5544" y="9557"/>
                </a:cubicBezTo>
                <a:cubicBezTo>
                  <a:pt x="5544" y="9551"/>
                  <a:pt x="5550" y="9551"/>
                  <a:pt x="5556" y="9545"/>
                </a:cubicBezTo>
                <a:cubicBezTo>
                  <a:pt x="5556" y="9545"/>
                  <a:pt x="5561" y="9551"/>
                  <a:pt x="5573" y="9551"/>
                </a:cubicBezTo>
                <a:cubicBezTo>
                  <a:pt x="5579" y="9551"/>
                  <a:pt x="5585" y="9551"/>
                  <a:pt x="5591" y="9545"/>
                </a:cubicBezTo>
                <a:cubicBezTo>
                  <a:pt x="5591" y="9539"/>
                  <a:pt x="5591" y="9533"/>
                  <a:pt x="5585" y="9527"/>
                </a:cubicBezTo>
                <a:cubicBezTo>
                  <a:pt x="5585" y="9521"/>
                  <a:pt x="5579" y="9527"/>
                  <a:pt x="5573" y="9527"/>
                </a:cubicBezTo>
                <a:cubicBezTo>
                  <a:pt x="5567" y="9521"/>
                  <a:pt x="5561" y="9515"/>
                  <a:pt x="5550" y="9515"/>
                </a:cubicBezTo>
                <a:cubicBezTo>
                  <a:pt x="5550" y="9515"/>
                  <a:pt x="5544" y="9515"/>
                  <a:pt x="5538" y="9515"/>
                </a:cubicBezTo>
                <a:cubicBezTo>
                  <a:pt x="5538" y="9515"/>
                  <a:pt x="5532" y="9509"/>
                  <a:pt x="5526" y="9509"/>
                </a:cubicBezTo>
                <a:cubicBezTo>
                  <a:pt x="5520" y="9509"/>
                  <a:pt x="5514" y="9509"/>
                  <a:pt x="5502" y="9509"/>
                </a:cubicBezTo>
                <a:cubicBezTo>
                  <a:pt x="5496" y="9509"/>
                  <a:pt x="5496" y="9509"/>
                  <a:pt x="5490" y="9509"/>
                </a:cubicBezTo>
                <a:cubicBezTo>
                  <a:pt x="5490" y="9485"/>
                  <a:pt x="5490" y="9485"/>
                  <a:pt x="5490" y="9485"/>
                </a:cubicBezTo>
                <a:cubicBezTo>
                  <a:pt x="5484" y="9485"/>
                  <a:pt x="5479" y="9485"/>
                  <a:pt x="5467" y="9485"/>
                </a:cubicBezTo>
                <a:cubicBezTo>
                  <a:pt x="5461" y="9485"/>
                  <a:pt x="5461" y="9485"/>
                  <a:pt x="5455" y="9485"/>
                </a:cubicBezTo>
                <a:cubicBezTo>
                  <a:pt x="5455" y="9480"/>
                  <a:pt x="5449" y="9480"/>
                  <a:pt x="5443" y="9474"/>
                </a:cubicBezTo>
                <a:cubicBezTo>
                  <a:pt x="5443" y="9468"/>
                  <a:pt x="5443" y="9468"/>
                  <a:pt x="5443" y="9462"/>
                </a:cubicBezTo>
                <a:cubicBezTo>
                  <a:pt x="5437" y="9450"/>
                  <a:pt x="5437" y="9444"/>
                  <a:pt x="5437" y="9438"/>
                </a:cubicBezTo>
                <a:cubicBezTo>
                  <a:pt x="5437" y="9432"/>
                  <a:pt x="5437" y="9432"/>
                  <a:pt x="5437" y="9426"/>
                </a:cubicBezTo>
                <a:cubicBezTo>
                  <a:pt x="5437" y="9420"/>
                  <a:pt x="5437" y="9420"/>
                  <a:pt x="5437" y="9414"/>
                </a:cubicBezTo>
                <a:cubicBezTo>
                  <a:pt x="5437" y="9408"/>
                  <a:pt x="5425" y="9408"/>
                  <a:pt x="5425" y="9408"/>
                </a:cubicBezTo>
                <a:cubicBezTo>
                  <a:pt x="5425" y="9403"/>
                  <a:pt x="5419" y="9397"/>
                  <a:pt x="5419" y="9397"/>
                </a:cubicBezTo>
                <a:cubicBezTo>
                  <a:pt x="5419" y="9391"/>
                  <a:pt x="5419" y="9385"/>
                  <a:pt x="5419" y="9385"/>
                </a:cubicBezTo>
                <a:cubicBezTo>
                  <a:pt x="5419" y="9373"/>
                  <a:pt x="5419" y="9373"/>
                  <a:pt x="5419" y="9373"/>
                </a:cubicBezTo>
                <a:cubicBezTo>
                  <a:pt x="5419" y="9367"/>
                  <a:pt x="5413" y="9367"/>
                  <a:pt x="5413" y="9361"/>
                </a:cubicBezTo>
                <a:cubicBezTo>
                  <a:pt x="5413" y="9355"/>
                  <a:pt x="5413" y="9343"/>
                  <a:pt x="5413" y="9337"/>
                </a:cubicBezTo>
                <a:cubicBezTo>
                  <a:pt x="5413" y="9331"/>
                  <a:pt x="5413" y="9331"/>
                  <a:pt x="5413" y="9326"/>
                </a:cubicBezTo>
                <a:cubicBezTo>
                  <a:pt x="5407" y="9319"/>
                  <a:pt x="5407" y="9319"/>
                  <a:pt x="5407" y="9314"/>
                </a:cubicBezTo>
                <a:cubicBezTo>
                  <a:pt x="5401" y="9308"/>
                  <a:pt x="5390" y="9308"/>
                  <a:pt x="5390" y="9302"/>
                </a:cubicBezTo>
                <a:cubicBezTo>
                  <a:pt x="5390" y="9296"/>
                  <a:pt x="5395" y="9290"/>
                  <a:pt x="5395" y="9284"/>
                </a:cubicBezTo>
                <a:cubicBezTo>
                  <a:pt x="5395" y="9272"/>
                  <a:pt x="5395" y="9272"/>
                  <a:pt x="5395" y="9272"/>
                </a:cubicBezTo>
                <a:cubicBezTo>
                  <a:pt x="5395" y="9266"/>
                  <a:pt x="5390" y="9266"/>
                  <a:pt x="5390" y="9260"/>
                </a:cubicBezTo>
                <a:cubicBezTo>
                  <a:pt x="5390" y="9225"/>
                  <a:pt x="5390" y="9225"/>
                  <a:pt x="5390" y="9225"/>
                </a:cubicBezTo>
                <a:cubicBezTo>
                  <a:pt x="5390" y="9213"/>
                  <a:pt x="5395" y="9207"/>
                  <a:pt x="5395" y="9195"/>
                </a:cubicBezTo>
                <a:cubicBezTo>
                  <a:pt x="5449" y="9195"/>
                  <a:pt x="5449" y="9195"/>
                  <a:pt x="5449" y="9195"/>
                </a:cubicBezTo>
                <a:cubicBezTo>
                  <a:pt x="5449" y="9189"/>
                  <a:pt x="5449" y="9183"/>
                  <a:pt x="5449" y="9177"/>
                </a:cubicBezTo>
                <a:cubicBezTo>
                  <a:pt x="5449" y="9171"/>
                  <a:pt x="5449" y="9171"/>
                  <a:pt x="5449" y="9165"/>
                </a:cubicBezTo>
                <a:cubicBezTo>
                  <a:pt x="5449" y="9160"/>
                  <a:pt x="5449" y="9153"/>
                  <a:pt x="5449" y="9142"/>
                </a:cubicBezTo>
                <a:cubicBezTo>
                  <a:pt x="5455" y="9136"/>
                  <a:pt x="5455" y="9136"/>
                  <a:pt x="5461" y="9130"/>
                </a:cubicBezTo>
                <a:cubicBezTo>
                  <a:pt x="5461" y="9130"/>
                  <a:pt x="5467" y="9130"/>
                  <a:pt x="5472" y="9130"/>
                </a:cubicBezTo>
                <a:cubicBezTo>
                  <a:pt x="5479" y="9130"/>
                  <a:pt x="5484" y="9130"/>
                  <a:pt x="5496" y="9124"/>
                </a:cubicBezTo>
                <a:lnTo>
                  <a:pt x="5502" y="9118"/>
                </a:lnTo>
                <a:cubicBezTo>
                  <a:pt x="5514" y="9100"/>
                  <a:pt x="5514" y="9088"/>
                  <a:pt x="5520" y="9071"/>
                </a:cubicBezTo>
                <a:cubicBezTo>
                  <a:pt x="5520" y="9065"/>
                  <a:pt x="5526" y="9059"/>
                  <a:pt x="5526" y="9059"/>
                </a:cubicBezTo>
                <a:cubicBezTo>
                  <a:pt x="5526" y="9053"/>
                  <a:pt x="5532" y="9053"/>
                  <a:pt x="5532" y="9047"/>
                </a:cubicBezTo>
                <a:cubicBezTo>
                  <a:pt x="5538" y="9041"/>
                  <a:pt x="5538" y="9041"/>
                  <a:pt x="5544" y="9041"/>
                </a:cubicBezTo>
                <a:cubicBezTo>
                  <a:pt x="5550" y="9041"/>
                  <a:pt x="5550" y="9035"/>
                  <a:pt x="5556" y="9035"/>
                </a:cubicBezTo>
                <a:cubicBezTo>
                  <a:pt x="5561" y="9029"/>
                  <a:pt x="5561" y="9035"/>
                  <a:pt x="5567" y="9035"/>
                </a:cubicBezTo>
                <a:cubicBezTo>
                  <a:pt x="5573" y="9029"/>
                  <a:pt x="5573" y="9023"/>
                  <a:pt x="5573" y="9023"/>
                </a:cubicBezTo>
                <a:cubicBezTo>
                  <a:pt x="5573" y="8999"/>
                  <a:pt x="5573" y="8999"/>
                  <a:pt x="5573" y="8999"/>
                </a:cubicBezTo>
                <a:cubicBezTo>
                  <a:pt x="5567" y="8999"/>
                  <a:pt x="5561" y="8993"/>
                  <a:pt x="5556" y="8993"/>
                </a:cubicBezTo>
                <a:cubicBezTo>
                  <a:pt x="5544" y="8993"/>
                  <a:pt x="5538" y="8999"/>
                  <a:pt x="5532" y="8993"/>
                </a:cubicBezTo>
                <a:cubicBezTo>
                  <a:pt x="5526" y="8993"/>
                  <a:pt x="5520" y="8993"/>
                  <a:pt x="5520" y="8987"/>
                </a:cubicBezTo>
                <a:cubicBezTo>
                  <a:pt x="5514" y="8987"/>
                  <a:pt x="5520" y="8982"/>
                  <a:pt x="5514" y="8976"/>
                </a:cubicBezTo>
                <a:cubicBezTo>
                  <a:pt x="5514" y="8976"/>
                  <a:pt x="5508" y="8970"/>
                  <a:pt x="5502" y="8964"/>
                </a:cubicBezTo>
                <a:lnTo>
                  <a:pt x="5496" y="8964"/>
                </a:lnTo>
                <a:cubicBezTo>
                  <a:pt x="5490" y="8964"/>
                  <a:pt x="5484" y="8958"/>
                  <a:pt x="5484" y="8958"/>
                </a:cubicBezTo>
                <a:cubicBezTo>
                  <a:pt x="5479" y="8952"/>
                  <a:pt x="5472" y="8946"/>
                  <a:pt x="5472" y="8946"/>
                </a:cubicBezTo>
                <a:cubicBezTo>
                  <a:pt x="5467" y="8940"/>
                  <a:pt x="5461" y="8940"/>
                  <a:pt x="5461" y="8934"/>
                </a:cubicBezTo>
                <a:cubicBezTo>
                  <a:pt x="5461" y="8922"/>
                  <a:pt x="5461" y="8916"/>
                  <a:pt x="5461" y="8910"/>
                </a:cubicBezTo>
                <a:cubicBezTo>
                  <a:pt x="5461" y="8899"/>
                  <a:pt x="5461" y="8899"/>
                  <a:pt x="5461" y="8899"/>
                </a:cubicBezTo>
                <a:cubicBezTo>
                  <a:pt x="5461" y="8893"/>
                  <a:pt x="5461" y="8893"/>
                  <a:pt x="5467" y="8887"/>
                </a:cubicBezTo>
                <a:cubicBezTo>
                  <a:pt x="5467" y="8881"/>
                  <a:pt x="5472" y="8881"/>
                  <a:pt x="5479" y="8875"/>
                </a:cubicBezTo>
                <a:cubicBezTo>
                  <a:pt x="5484" y="8863"/>
                  <a:pt x="5496" y="8857"/>
                  <a:pt x="5514" y="8857"/>
                </a:cubicBezTo>
                <a:cubicBezTo>
                  <a:pt x="5579" y="8857"/>
                  <a:pt x="5579" y="8857"/>
                  <a:pt x="5579" y="8857"/>
                </a:cubicBezTo>
                <a:cubicBezTo>
                  <a:pt x="5579" y="8792"/>
                  <a:pt x="5579" y="8792"/>
                  <a:pt x="5579" y="8792"/>
                </a:cubicBezTo>
                <a:cubicBezTo>
                  <a:pt x="5579" y="8786"/>
                  <a:pt x="5579" y="8786"/>
                  <a:pt x="5579" y="8780"/>
                </a:cubicBezTo>
                <a:cubicBezTo>
                  <a:pt x="5585" y="8774"/>
                  <a:pt x="5591" y="8774"/>
                  <a:pt x="5591" y="8774"/>
                </a:cubicBezTo>
                <a:cubicBezTo>
                  <a:pt x="5597" y="8762"/>
                  <a:pt x="5603" y="8756"/>
                  <a:pt x="5603" y="8750"/>
                </a:cubicBezTo>
                <a:cubicBezTo>
                  <a:pt x="5609" y="8744"/>
                  <a:pt x="5609" y="8744"/>
                  <a:pt x="5609" y="8739"/>
                </a:cubicBezTo>
                <a:cubicBezTo>
                  <a:pt x="5609" y="8733"/>
                  <a:pt x="5609" y="8733"/>
                  <a:pt x="5609" y="8727"/>
                </a:cubicBezTo>
                <a:cubicBezTo>
                  <a:pt x="5609" y="8721"/>
                  <a:pt x="5609" y="8721"/>
                  <a:pt x="5609" y="8715"/>
                </a:cubicBezTo>
                <a:cubicBezTo>
                  <a:pt x="5609" y="8709"/>
                  <a:pt x="5609" y="8709"/>
                  <a:pt x="5609" y="8703"/>
                </a:cubicBezTo>
                <a:cubicBezTo>
                  <a:pt x="5609" y="8697"/>
                  <a:pt x="5615" y="8691"/>
                  <a:pt x="5621" y="8691"/>
                </a:cubicBezTo>
                <a:cubicBezTo>
                  <a:pt x="5633" y="8691"/>
                  <a:pt x="5638" y="8697"/>
                  <a:pt x="5650" y="8697"/>
                </a:cubicBezTo>
                <a:cubicBezTo>
                  <a:pt x="5656" y="8697"/>
                  <a:pt x="5662" y="8697"/>
                  <a:pt x="5668" y="8691"/>
                </a:cubicBezTo>
                <a:cubicBezTo>
                  <a:pt x="5674" y="8691"/>
                  <a:pt x="5680" y="8685"/>
                  <a:pt x="5680" y="8679"/>
                </a:cubicBezTo>
                <a:cubicBezTo>
                  <a:pt x="5680" y="8679"/>
                  <a:pt x="5680" y="8673"/>
                  <a:pt x="5680" y="8667"/>
                </a:cubicBezTo>
                <a:cubicBezTo>
                  <a:pt x="5680" y="8655"/>
                  <a:pt x="5680" y="8655"/>
                  <a:pt x="5680" y="8655"/>
                </a:cubicBezTo>
                <a:lnTo>
                  <a:pt x="5674" y="8650"/>
                </a:lnTo>
                <a:cubicBezTo>
                  <a:pt x="5668" y="8650"/>
                  <a:pt x="5668" y="8644"/>
                  <a:pt x="5662" y="8650"/>
                </a:cubicBezTo>
                <a:cubicBezTo>
                  <a:pt x="5656" y="8650"/>
                  <a:pt x="5656" y="8650"/>
                  <a:pt x="5650" y="8655"/>
                </a:cubicBezTo>
                <a:cubicBezTo>
                  <a:pt x="5645" y="8655"/>
                  <a:pt x="5645" y="8661"/>
                  <a:pt x="5638" y="8661"/>
                </a:cubicBezTo>
                <a:cubicBezTo>
                  <a:pt x="5633" y="8667"/>
                  <a:pt x="5633" y="8661"/>
                  <a:pt x="5627" y="8661"/>
                </a:cubicBezTo>
                <a:cubicBezTo>
                  <a:pt x="5627" y="8661"/>
                  <a:pt x="5609" y="8661"/>
                  <a:pt x="5609" y="8655"/>
                </a:cubicBezTo>
                <a:cubicBezTo>
                  <a:pt x="5603" y="8650"/>
                  <a:pt x="5609" y="8644"/>
                  <a:pt x="5609" y="8632"/>
                </a:cubicBezTo>
                <a:cubicBezTo>
                  <a:pt x="5609" y="8626"/>
                  <a:pt x="5603" y="8620"/>
                  <a:pt x="5603" y="8608"/>
                </a:cubicBezTo>
                <a:lnTo>
                  <a:pt x="5603" y="8602"/>
                </a:lnTo>
                <a:cubicBezTo>
                  <a:pt x="5603" y="8567"/>
                  <a:pt x="5603" y="8567"/>
                  <a:pt x="5603" y="8567"/>
                </a:cubicBezTo>
                <a:cubicBezTo>
                  <a:pt x="5621" y="8567"/>
                  <a:pt x="5621" y="8567"/>
                  <a:pt x="5621" y="8567"/>
                </a:cubicBezTo>
                <a:cubicBezTo>
                  <a:pt x="5633" y="8567"/>
                  <a:pt x="5638" y="8572"/>
                  <a:pt x="5645" y="8572"/>
                </a:cubicBezTo>
                <a:cubicBezTo>
                  <a:pt x="5656" y="8578"/>
                  <a:pt x="5656" y="8590"/>
                  <a:pt x="5668" y="8590"/>
                </a:cubicBezTo>
                <a:cubicBezTo>
                  <a:pt x="5739" y="8590"/>
                  <a:pt x="5739" y="8590"/>
                  <a:pt x="5739" y="8590"/>
                </a:cubicBezTo>
                <a:cubicBezTo>
                  <a:pt x="5739" y="8584"/>
                  <a:pt x="5745" y="8584"/>
                  <a:pt x="5745" y="8578"/>
                </a:cubicBezTo>
                <a:cubicBezTo>
                  <a:pt x="5745" y="8572"/>
                  <a:pt x="5739" y="8572"/>
                  <a:pt x="5733" y="8567"/>
                </a:cubicBezTo>
                <a:cubicBezTo>
                  <a:pt x="5733" y="8555"/>
                  <a:pt x="5733" y="8555"/>
                  <a:pt x="5733" y="8555"/>
                </a:cubicBezTo>
                <a:cubicBezTo>
                  <a:pt x="5733" y="8555"/>
                  <a:pt x="5733" y="8549"/>
                  <a:pt x="5733" y="8543"/>
                </a:cubicBezTo>
                <a:cubicBezTo>
                  <a:pt x="5739" y="8543"/>
                  <a:pt x="5739" y="8537"/>
                  <a:pt x="5739" y="8537"/>
                </a:cubicBezTo>
                <a:cubicBezTo>
                  <a:pt x="5745" y="8531"/>
                  <a:pt x="5751" y="8531"/>
                  <a:pt x="5751" y="8531"/>
                </a:cubicBezTo>
                <a:cubicBezTo>
                  <a:pt x="5757" y="8525"/>
                  <a:pt x="5751" y="8519"/>
                  <a:pt x="5751" y="8519"/>
                </a:cubicBezTo>
                <a:cubicBezTo>
                  <a:pt x="5751" y="8513"/>
                  <a:pt x="5751" y="8507"/>
                  <a:pt x="5751" y="8507"/>
                </a:cubicBezTo>
                <a:cubicBezTo>
                  <a:pt x="5751" y="8495"/>
                  <a:pt x="5745" y="8489"/>
                  <a:pt x="5745" y="8484"/>
                </a:cubicBezTo>
                <a:cubicBezTo>
                  <a:pt x="5745" y="8478"/>
                  <a:pt x="5739" y="8478"/>
                  <a:pt x="5739" y="8472"/>
                </a:cubicBezTo>
                <a:cubicBezTo>
                  <a:pt x="5739" y="8448"/>
                  <a:pt x="5739" y="8448"/>
                  <a:pt x="5739" y="8448"/>
                </a:cubicBezTo>
                <a:cubicBezTo>
                  <a:pt x="5793" y="8448"/>
                  <a:pt x="5793" y="8448"/>
                  <a:pt x="5793" y="8448"/>
                </a:cubicBezTo>
                <a:cubicBezTo>
                  <a:pt x="5799" y="8448"/>
                  <a:pt x="5804" y="8442"/>
                  <a:pt x="5804" y="8442"/>
                </a:cubicBezTo>
                <a:cubicBezTo>
                  <a:pt x="5828" y="8442"/>
                  <a:pt x="5828" y="8442"/>
                  <a:pt x="5828" y="8442"/>
                </a:cubicBezTo>
                <a:cubicBezTo>
                  <a:pt x="5840" y="8442"/>
                  <a:pt x="5846" y="8442"/>
                  <a:pt x="5852" y="8442"/>
                </a:cubicBezTo>
                <a:cubicBezTo>
                  <a:pt x="5864" y="8436"/>
                  <a:pt x="5864" y="8430"/>
                  <a:pt x="5876" y="8430"/>
                </a:cubicBezTo>
                <a:cubicBezTo>
                  <a:pt x="5929" y="8430"/>
                  <a:pt x="5929" y="8430"/>
                  <a:pt x="5929" y="8430"/>
                </a:cubicBezTo>
                <a:cubicBezTo>
                  <a:pt x="5941" y="8430"/>
                  <a:pt x="5947" y="8442"/>
                  <a:pt x="5953" y="8442"/>
                </a:cubicBezTo>
                <a:cubicBezTo>
                  <a:pt x="5959" y="8442"/>
                  <a:pt x="5965" y="8436"/>
                  <a:pt x="5965" y="8430"/>
                </a:cubicBezTo>
                <a:cubicBezTo>
                  <a:pt x="5970" y="8430"/>
                  <a:pt x="5970" y="8424"/>
                  <a:pt x="5970" y="8418"/>
                </a:cubicBezTo>
                <a:cubicBezTo>
                  <a:pt x="5970" y="8418"/>
                  <a:pt x="5970" y="8412"/>
                  <a:pt x="5970" y="8406"/>
                </a:cubicBezTo>
                <a:cubicBezTo>
                  <a:pt x="5977" y="8401"/>
                  <a:pt x="5977" y="8401"/>
                  <a:pt x="5982" y="8395"/>
                </a:cubicBezTo>
                <a:cubicBezTo>
                  <a:pt x="5988" y="8389"/>
                  <a:pt x="5988" y="8383"/>
                  <a:pt x="5994" y="8377"/>
                </a:cubicBezTo>
                <a:cubicBezTo>
                  <a:pt x="6000" y="8371"/>
                  <a:pt x="6006" y="8371"/>
                  <a:pt x="6012" y="8365"/>
                </a:cubicBezTo>
                <a:cubicBezTo>
                  <a:pt x="6018" y="8359"/>
                  <a:pt x="6024" y="8359"/>
                  <a:pt x="6030" y="8353"/>
                </a:cubicBezTo>
                <a:cubicBezTo>
                  <a:pt x="6036" y="8347"/>
                  <a:pt x="6036" y="8341"/>
                  <a:pt x="6042" y="8341"/>
                </a:cubicBezTo>
                <a:cubicBezTo>
                  <a:pt x="6042" y="8335"/>
                  <a:pt x="6048" y="8335"/>
                  <a:pt x="6048" y="8329"/>
                </a:cubicBezTo>
                <a:cubicBezTo>
                  <a:pt x="6054" y="8317"/>
                  <a:pt x="6054" y="8317"/>
                  <a:pt x="6054" y="8317"/>
                </a:cubicBezTo>
                <a:cubicBezTo>
                  <a:pt x="6059" y="8312"/>
                  <a:pt x="6059" y="8312"/>
                  <a:pt x="6059" y="8306"/>
                </a:cubicBezTo>
                <a:cubicBezTo>
                  <a:pt x="6059" y="8270"/>
                  <a:pt x="6059" y="8270"/>
                  <a:pt x="6059" y="8270"/>
                </a:cubicBezTo>
                <a:cubicBezTo>
                  <a:pt x="6048" y="8270"/>
                  <a:pt x="6048" y="8270"/>
                  <a:pt x="6048" y="8270"/>
                </a:cubicBezTo>
                <a:cubicBezTo>
                  <a:pt x="6048" y="8270"/>
                  <a:pt x="6042" y="8270"/>
                  <a:pt x="6036" y="8270"/>
                </a:cubicBezTo>
                <a:cubicBezTo>
                  <a:pt x="6036" y="8246"/>
                  <a:pt x="6036" y="8246"/>
                  <a:pt x="6036" y="8246"/>
                </a:cubicBezTo>
                <a:cubicBezTo>
                  <a:pt x="6036" y="8240"/>
                  <a:pt x="6042" y="8240"/>
                  <a:pt x="6036" y="8235"/>
                </a:cubicBezTo>
                <a:cubicBezTo>
                  <a:pt x="6036" y="8229"/>
                  <a:pt x="6036" y="8229"/>
                  <a:pt x="6036" y="8223"/>
                </a:cubicBezTo>
                <a:cubicBezTo>
                  <a:pt x="6036" y="8217"/>
                  <a:pt x="6030" y="8217"/>
                  <a:pt x="6024" y="8217"/>
                </a:cubicBezTo>
                <a:cubicBezTo>
                  <a:pt x="6018" y="8211"/>
                  <a:pt x="6012" y="8211"/>
                  <a:pt x="6012" y="8205"/>
                </a:cubicBezTo>
                <a:cubicBezTo>
                  <a:pt x="6000" y="8199"/>
                  <a:pt x="5994" y="8193"/>
                  <a:pt x="5988" y="8187"/>
                </a:cubicBezTo>
                <a:cubicBezTo>
                  <a:pt x="5982" y="8181"/>
                  <a:pt x="5977" y="8181"/>
                  <a:pt x="5977" y="8181"/>
                </a:cubicBezTo>
                <a:cubicBezTo>
                  <a:pt x="5970" y="8175"/>
                  <a:pt x="5970" y="8175"/>
                  <a:pt x="5965" y="8169"/>
                </a:cubicBezTo>
                <a:cubicBezTo>
                  <a:pt x="5965" y="8163"/>
                  <a:pt x="5965" y="8163"/>
                  <a:pt x="5965" y="8157"/>
                </a:cubicBezTo>
                <a:cubicBezTo>
                  <a:pt x="6012" y="8157"/>
                  <a:pt x="6012" y="8157"/>
                  <a:pt x="6012" y="8157"/>
                </a:cubicBezTo>
                <a:cubicBezTo>
                  <a:pt x="6024" y="8157"/>
                  <a:pt x="6030" y="8157"/>
                  <a:pt x="6036" y="8163"/>
                </a:cubicBezTo>
                <a:cubicBezTo>
                  <a:pt x="6048" y="8169"/>
                  <a:pt x="6054" y="8175"/>
                  <a:pt x="6059" y="8181"/>
                </a:cubicBezTo>
                <a:cubicBezTo>
                  <a:pt x="6065" y="8181"/>
                  <a:pt x="6065" y="8187"/>
                  <a:pt x="6071" y="8187"/>
                </a:cubicBezTo>
                <a:cubicBezTo>
                  <a:pt x="6077" y="8187"/>
                  <a:pt x="6083" y="8187"/>
                  <a:pt x="6083" y="8187"/>
                </a:cubicBezTo>
                <a:cubicBezTo>
                  <a:pt x="6095" y="8193"/>
                  <a:pt x="6107" y="8193"/>
                  <a:pt x="6119" y="8193"/>
                </a:cubicBezTo>
                <a:cubicBezTo>
                  <a:pt x="6125" y="8193"/>
                  <a:pt x="6125" y="8193"/>
                  <a:pt x="6131" y="8193"/>
                </a:cubicBezTo>
                <a:cubicBezTo>
                  <a:pt x="6136" y="8193"/>
                  <a:pt x="6136" y="8187"/>
                  <a:pt x="6143" y="8181"/>
                </a:cubicBezTo>
                <a:cubicBezTo>
                  <a:pt x="6148" y="8181"/>
                  <a:pt x="6154" y="8181"/>
                  <a:pt x="6166" y="8181"/>
                </a:cubicBezTo>
                <a:cubicBezTo>
                  <a:pt x="6172" y="8181"/>
                  <a:pt x="6178" y="8187"/>
                  <a:pt x="6184" y="8181"/>
                </a:cubicBezTo>
                <a:cubicBezTo>
                  <a:pt x="6190" y="8181"/>
                  <a:pt x="6196" y="8175"/>
                  <a:pt x="6196" y="8175"/>
                </a:cubicBezTo>
                <a:cubicBezTo>
                  <a:pt x="6202" y="8175"/>
                  <a:pt x="6208" y="8175"/>
                  <a:pt x="6208" y="8169"/>
                </a:cubicBezTo>
                <a:cubicBezTo>
                  <a:pt x="6214" y="8169"/>
                  <a:pt x="6214" y="8163"/>
                  <a:pt x="6220" y="8157"/>
                </a:cubicBezTo>
                <a:cubicBezTo>
                  <a:pt x="6225" y="8151"/>
                  <a:pt x="6225" y="8146"/>
                  <a:pt x="6231" y="8140"/>
                </a:cubicBezTo>
                <a:cubicBezTo>
                  <a:pt x="6231" y="8134"/>
                  <a:pt x="6231" y="8128"/>
                  <a:pt x="6237" y="8128"/>
                </a:cubicBezTo>
                <a:cubicBezTo>
                  <a:pt x="6237" y="8122"/>
                  <a:pt x="6243" y="8116"/>
                  <a:pt x="6249" y="8116"/>
                </a:cubicBezTo>
                <a:cubicBezTo>
                  <a:pt x="6249" y="8110"/>
                  <a:pt x="6255" y="8116"/>
                  <a:pt x="6255" y="8110"/>
                </a:cubicBezTo>
                <a:cubicBezTo>
                  <a:pt x="6261" y="8110"/>
                  <a:pt x="6267" y="8110"/>
                  <a:pt x="6273" y="8104"/>
                </a:cubicBezTo>
                <a:cubicBezTo>
                  <a:pt x="6273" y="8098"/>
                  <a:pt x="6279" y="8098"/>
                  <a:pt x="6279" y="8092"/>
                </a:cubicBezTo>
                <a:cubicBezTo>
                  <a:pt x="6279" y="8086"/>
                  <a:pt x="6285" y="8086"/>
                  <a:pt x="6285" y="8080"/>
                </a:cubicBezTo>
                <a:cubicBezTo>
                  <a:pt x="6285" y="8074"/>
                  <a:pt x="6285" y="8069"/>
                  <a:pt x="6285" y="8057"/>
                </a:cubicBezTo>
                <a:cubicBezTo>
                  <a:pt x="6291" y="8051"/>
                  <a:pt x="6297" y="8045"/>
                  <a:pt x="6303" y="8033"/>
                </a:cubicBezTo>
                <a:cubicBezTo>
                  <a:pt x="6309" y="8027"/>
                  <a:pt x="6314" y="8027"/>
                  <a:pt x="6314" y="8021"/>
                </a:cubicBezTo>
                <a:cubicBezTo>
                  <a:pt x="6314" y="8009"/>
                  <a:pt x="6314" y="8003"/>
                  <a:pt x="6314" y="7991"/>
                </a:cubicBezTo>
                <a:cubicBezTo>
                  <a:pt x="6314" y="7985"/>
                  <a:pt x="6314" y="7980"/>
                  <a:pt x="6314" y="7980"/>
                </a:cubicBezTo>
                <a:cubicBezTo>
                  <a:pt x="6314" y="7974"/>
                  <a:pt x="6314" y="7968"/>
                  <a:pt x="6314" y="7968"/>
                </a:cubicBezTo>
                <a:cubicBezTo>
                  <a:pt x="6314" y="7962"/>
                  <a:pt x="6320" y="7956"/>
                  <a:pt x="6320" y="7956"/>
                </a:cubicBezTo>
                <a:cubicBezTo>
                  <a:pt x="6326" y="7944"/>
                  <a:pt x="6332" y="7938"/>
                  <a:pt x="6338" y="7938"/>
                </a:cubicBezTo>
                <a:cubicBezTo>
                  <a:pt x="6344" y="7938"/>
                  <a:pt x="6350" y="7932"/>
                  <a:pt x="6350" y="7932"/>
                </a:cubicBezTo>
                <a:cubicBezTo>
                  <a:pt x="6356" y="7932"/>
                  <a:pt x="6356" y="7938"/>
                  <a:pt x="6362" y="7938"/>
                </a:cubicBezTo>
                <a:cubicBezTo>
                  <a:pt x="6362" y="7944"/>
                  <a:pt x="6362" y="7944"/>
                  <a:pt x="6356" y="7950"/>
                </a:cubicBezTo>
                <a:cubicBezTo>
                  <a:pt x="6356" y="7950"/>
                  <a:pt x="6356" y="7956"/>
                  <a:pt x="6356" y="7962"/>
                </a:cubicBezTo>
                <a:cubicBezTo>
                  <a:pt x="6356" y="7962"/>
                  <a:pt x="6350" y="7968"/>
                  <a:pt x="6350" y="7974"/>
                </a:cubicBezTo>
                <a:cubicBezTo>
                  <a:pt x="6350" y="7980"/>
                  <a:pt x="6356" y="7980"/>
                  <a:pt x="6356" y="7985"/>
                </a:cubicBezTo>
                <a:cubicBezTo>
                  <a:pt x="6368" y="7980"/>
                  <a:pt x="6374" y="7980"/>
                  <a:pt x="6380" y="7974"/>
                </a:cubicBezTo>
                <a:cubicBezTo>
                  <a:pt x="6386" y="7968"/>
                  <a:pt x="6386" y="7962"/>
                  <a:pt x="6386" y="7962"/>
                </a:cubicBezTo>
                <a:cubicBezTo>
                  <a:pt x="6391" y="7950"/>
                  <a:pt x="6391" y="7944"/>
                  <a:pt x="6397" y="7938"/>
                </a:cubicBezTo>
                <a:cubicBezTo>
                  <a:pt x="6397" y="7932"/>
                  <a:pt x="6403" y="7932"/>
                  <a:pt x="6403" y="7926"/>
                </a:cubicBezTo>
                <a:cubicBezTo>
                  <a:pt x="6409" y="7920"/>
                  <a:pt x="6409" y="7920"/>
                  <a:pt x="6415" y="7914"/>
                </a:cubicBezTo>
                <a:cubicBezTo>
                  <a:pt x="6415" y="7908"/>
                  <a:pt x="6421" y="7908"/>
                  <a:pt x="6421" y="7903"/>
                </a:cubicBezTo>
                <a:cubicBezTo>
                  <a:pt x="6421" y="7896"/>
                  <a:pt x="6427" y="7896"/>
                  <a:pt x="6427" y="7891"/>
                </a:cubicBezTo>
                <a:cubicBezTo>
                  <a:pt x="6433" y="7891"/>
                  <a:pt x="6433" y="7885"/>
                  <a:pt x="6433" y="7879"/>
                </a:cubicBezTo>
                <a:cubicBezTo>
                  <a:pt x="6433" y="7879"/>
                  <a:pt x="6439" y="7873"/>
                  <a:pt x="6439" y="7867"/>
                </a:cubicBezTo>
                <a:cubicBezTo>
                  <a:pt x="6439" y="7867"/>
                  <a:pt x="6439" y="7861"/>
                  <a:pt x="6439" y="7855"/>
                </a:cubicBezTo>
                <a:cubicBezTo>
                  <a:pt x="6439" y="7855"/>
                  <a:pt x="6439" y="7849"/>
                  <a:pt x="6445" y="7843"/>
                </a:cubicBezTo>
                <a:cubicBezTo>
                  <a:pt x="6445" y="7843"/>
                  <a:pt x="6445" y="7837"/>
                  <a:pt x="6451" y="7837"/>
                </a:cubicBezTo>
                <a:cubicBezTo>
                  <a:pt x="6457" y="7831"/>
                  <a:pt x="6463" y="7831"/>
                  <a:pt x="6463" y="7831"/>
                </a:cubicBezTo>
                <a:cubicBezTo>
                  <a:pt x="6469" y="7831"/>
                  <a:pt x="6469" y="7831"/>
                  <a:pt x="6475" y="7831"/>
                </a:cubicBezTo>
                <a:cubicBezTo>
                  <a:pt x="6480" y="7825"/>
                  <a:pt x="6480" y="7825"/>
                  <a:pt x="6486" y="7819"/>
                </a:cubicBezTo>
                <a:cubicBezTo>
                  <a:pt x="6492" y="7819"/>
                  <a:pt x="6492" y="7814"/>
                  <a:pt x="6498" y="7808"/>
                </a:cubicBezTo>
                <a:cubicBezTo>
                  <a:pt x="6498" y="7802"/>
                  <a:pt x="6504" y="7802"/>
                  <a:pt x="6504" y="7796"/>
                </a:cubicBezTo>
                <a:cubicBezTo>
                  <a:pt x="6504" y="7790"/>
                  <a:pt x="6504" y="7784"/>
                  <a:pt x="6504" y="7772"/>
                </a:cubicBezTo>
                <a:cubicBezTo>
                  <a:pt x="6504" y="7766"/>
                  <a:pt x="6504" y="7760"/>
                  <a:pt x="6504" y="7754"/>
                </a:cubicBezTo>
                <a:cubicBezTo>
                  <a:pt x="6504" y="7742"/>
                  <a:pt x="6498" y="7737"/>
                  <a:pt x="6492" y="7730"/>
                </a:cubicBezTo>
                <a:cubicBezTo>
                  <a:pt x="6492" y="7725"/>
                  <a:pt x="6492" y="7725"/>
                  <a:pt x="6492" y="7719"/>
                </a:cubicBezTo>
                <a:cubicBezTo>
                  <a:pt x="6492" y="7713"/>
                  <a:pt x="6492" y="7707"/>
                  <a:pt x="6492" y="7701"/>
                </a:cubicBezTo>
                <a:cubicBezTo>
                  <a:pt x="6492" y="7695"/>
                  <a:pt x="6492" y="7689"/>
                  <a:pt x="6492" y="7677"/>
                </a:cubicBezTo>
                <a:cubicBezTo>
                  <a:pt x="6492" y="7665"/>
                  <a:pt x="6486" y="7659"/>
                  <a:pt x="6492" y="7653"/>
                </a:cubicBezTo>
                <a:cubicBezTo>
                  <a:pt x="6492" y="7648"/>
                  <a:pt x="6498" y="7648"/>
                  <a:pt x="6498" y="7642"/>
                </a:cubicBezTo>
                <a:cubicBezTo>
                  <a:pt x="6498" y="7636"/>
                  <a:pt x="6504" y="7636"/>
                  <a:pt x="6510" y="7630"/>
                </a:cubicBezTo>
                <a:cubicBezTo>
                  <a:pt x="6516" y="7630"/>
                  <a:pt x="6516" y="7624"/>
                  <a:pt x="6522" y="7618"/>
                </a:cubicBezTo>
                <a:cubicBezTo>
                  <a:pt x="6528" y="7612"/>
                  <a:pt x="6534" y="7612"/>
                  <a:pt x="6546" y="7606"/>
                </a:cubicBezTo>
                <a:cubicBezTo>
                  <a:pt x="6546" y="7606"/>
                  <a:pt x="6552" y="7606"/>
                  <a:pt x="6558" y="7606"/>
                </a:cubicBezTo>
                <a:cubicBezTo>
                  <a:pt x="6558" y="7600"/>
                  <a:pt x="6558" y="7594"/>
                  <a:pt x="6563" y="7594"/>
                </a:cubicBezTo>
                <a:cubicBezTo>
                  <a:pt x="6563" y="7588"/>
                  <a:pt x="6569" y="7582"/>
                  <a:pt x="6569" y="7576"/>
                </a:cubicBezTo>
                <a:cubicBezTo>
                  <a:pt x="6575" y="7576"/>
                  <a:pt x="6575" y="7571"/>
                  <a:pt x="6581" y="7564"/>
                </a:cubicBezTo>
                <a:cubicBezTo>
                  <a:pt x="6581" y="7559"/>
                  <a:pt x="6587" y="7559"/>
                  <a:pt x="6587" y="7553"/>
                </a:cubicBezTo>
                <a:cubicBezTo>
                  <a:pt x="6593" y="7547"/>
                  <a:pt x="6599" y="7547"/>
                  <a:pt x="6599" y="7541"/>
                </a:cubicBezTo>
                <a:cubicBezTo>
                  <a:pt x="6605" y="7541"/>
                  <a:pt x="6605" y="7535"/>
                  <a:pt x="6611" y="7535"/>
                </a:cubicBezTo>
                <a:cubicBezTo>
                  <a:pt x="6670" y="7535"/>
                  <a:pt x="6670" y="7535"/>
                  <a:pt x="6670" y="7535"/>
                </a:cubicBezTo>
                <a:cubicBezTo>
                  <a:pt x="6676" y="7535"/>
                  <a:pt x="6682" y="7529"/>
                  <a:pt x="6694" y="7523"/>
                </a:cubicBezTo>
                <a:cubicBezTo>
                  <a:pt x="6694" y="7517"/>
                  <a:pt x="6700" y="7517"/>
                  <a:pt x="6706" y="7511"/>
                </a:cubicBezTo>
                <a:cubicBezTo>
                  <a:pt x="6706" y="7511"/>
                  <a:pt x="6706" y="7505"/>
                  <a:pt x="6712" y="7499"/>
                </a:cubicBezTo>
                <a:cubicBezTo>
                  <a:pt x="6712" y="7493"/>
                  <a:pt x="6718" y="7493"/>
                  <a:pt x="6718" y="7493"/>
                </a:cubicBezTo>
                <a:cubicBezTo>
                  <a:pt x="6860" y="7493"/>
                  <a:pt x="6860" y="7493"/>
                  <a:pt x="6860" y="7493"/>
                </a:cubicBezTo>
                <a:cubicBezTo>
                  <a:pt x="6860" y="7487"/>
                  <a:pt x="6860" y="7482"/>
                  <a:pt x="6866" y="7476"/>
                </a:cubicBezTo>
                <a:cubicBezTo>
                  <a:pt x="6866" y="7470"/>
                  <a:pt x="6860" y="7470"/>
                  <a:pt x="6866" y="7464"/>
                </a:cubicBezTo>
                <a:cubicBezTo>
                  <a:pt x="6866" y="7458"/>
                  <a:pt x="6872" y="7458"/>
                  <a:pt x="6872" y="7452"/>
                </a:cubicBezTo>
                <a:cubicBezTo>
                  <a:pt x="6878" y="7452"/>
                  <a:pt x="6884" y="7452"/>
                  <a:pt x="6884" y="7452"/>
                </a:cubicBezTo>
                <a:cubicBezTo>
                  <a:pt x="6890" y="7446"/>
                  <a:pt x="6890" y="7440"/>
                  <a:pt x="6890" y="7440"/>
                </a:cubicBezTo>
                <a:cubicBezTo>
                  <a:pt x="6901" y="7428"/>
                  <a:pt x="6901" y="7422"/>
                  <a:pt x="6907" y="7416"/>
                </a:cubicBezTo>
                <a:cubicBezTo>
                  <a:pt x="6913" y="7405"/>
                  <a:pt x="6919" y="7398"/>
                  <a:pt x="6925" y="7393"/>
                </a:cubicBezTo>
                <a:cubicBezTo>
                  <a:pt x="6925" y="7387"/>
                  <a:pt x="6919" y="7387"/>
                  <a:pt x="6925" y="7381"/>
                </a:cubicBezTo>
                <a:cubicBezTo>
                  <a:pt x="6925" y="7375"/>
                  <a:pt x="6925" y="7375"/>
                  <a:pt x="6931" y="7369"/>
                </a:cubicBezTo>
                <a:cubicBezTo>
                  <a:pt x="6937" y="7363"/>
                  <a:pt x="6949" y="7369"/>
                  <a:pt x="6955" y="7363"/>
                </a:cubicBezTo>
                <a:cubicBezTo>
                  <a:pt x="6961" y="7357"/>
                  <a:pt x="6961" y="7351"/>
                  <a:pt x="6961" y="7339"/>
                </a:cubicBezTo>
                <a:cubicBezTo>
                  <a:pt x="6961" y="7327"/>
                  <a:pt x="6961" y="7310"/>
                  <a:pt x="6967" y="7298"/>
                </a:cubicBezTo>
                <a:cubicBezTo>
                  <a:pt x="6973" y="7292"/>
                  <a:pt x="6973" y="7286"/>
                  <a:pt x="6973" y="7286"/>
                </a:cubicBezTo>
                <a:cubicBezTo>
                  <a:pt x="6979" y="7280"/>
                  <a:pt x="6979" y="7274"/>
                  <a:pt x="6979" y="7274"/>
                </a:cubicBezTo>
                <a:cubicBezTo>
                  <a:pt x="6984" y="7268"/>
                  <a:pt x="6990" y="7274"/>
                  <a:pt x="6990" y="7268"/>
                </a:cubicBezTo>
                <a:cubicBezTo>
                  <a:pt x="6996" y="7268"/>
                  <a:pt x="6996" y="7262"/>
                  <a:pt x="6996" y="7256"/>
                </a:cubicBezTo>
                <a:cubicBezTo>
                  <a:pt x="7002" y="7256"/>
                  <a:pt x="7002" y="7250"/>
                  <a:pt x="7002" y="7244"/>
                </a:cubicBezTo>
                <a:cubicBezTo>
                  <a:pt x="7002" y="7244"/>
                  <a:pt x="7002" y="7239"/>
                  <a:pt x="7002" y="7232"/>
                </a:cubicBezTo>
                <a:cubicBezTo>
                  <a:pt x="7002" y="7227"/>
                  <a:pt x="7008" y="7221"/>
                  <a:pt x="7008" y="7215"/>
                </a:cubicBezTo>
                <a:cubicBezTo>
                  <a:pt x="7008" y="7197"/>
                  <a:pt x="7002" y="7191"/>
                  <a:pt x="7008" y="7179"/>
                </a:cubicBezTo>
                <a:cubicBezTo>
                  <a:pt x="7008" y="7173"/>
                  <a:pt x="7008" y="7167"/>
                  <a:pt x="7008" y="7167"/>
                </a:cubicBezTo>
                <a:cubicBezTo>
                  <a:pt x="7008" y="7155"/>
                  <a:pt x="7008" y="7155"/>
                  <a:pt x="7008" y="7155"/>
                </a:cubicBezTo>
                <a:cubicBezTo>
                  <a:pt x="7008" y="7150"/>
                  <a:pt x="7014" y="7150"/>
                  <a:pt x="7014" y="7144"/>
                </a:cubicBezTo>
                <a:cubicBezTo>
                  <a:pt x="7020" y="7132"/>
                  <a:pt x="7020" y="7126"/>
                  <a:pt x="7026" y="7120"/>
                </a:cubicBezTo>
                <a:cubicBezTo>
                  <a:pt x="7026" y="7114"/>
                  <a:pt x="7026" y="7108"/>
                  <a:pt x="7026" y="7108"/>
                </a:cubicBezTo>
                <a:cubicBezTo>
                  <a:pt x="7032" y="7102"/>
                  <a:pt x="7032" y="7096"/>
                  <a:pt x="7032" y="7096"/>
                </a:cubicBezTo>
                <a:cubicBezTo>
                  <a:pt x="7032" y="7090"/>
                  <a:pt x="7032" y="7090"/>
                  <a:pt x="7032" y="7084"/>
                </a:cubicBezTo>
                <a:cubicBezTo>
                  <a:pt x="7038" y="7078"/>
                  <a:pt x="7032" y="7072"/>
                  <a:pt x="7032" y="7066"/>
                </a:cubicBezTo>
                <a:cubicBezTo>
                  <a:pt x="7032" y="7049"/>
                  <a:pt x="7032" y="7049"/>
                  <a:pt x="7032" y="7049"/>
                </a:cubicBezTo>
                <a:cubicBezTo>
                  <a:pt x="7032" y="7037"/>
                  <a:pt x="7026" y="7031"/>
                  <a:pt x="7026" y="7019"/>
                </a:cubicBezTo>
                <a:cubicBezTo>
                  <a:pt x="7026" y="6995"/>
                  <a:pt x="7026" y="6995"/>
                  <a:pt x="7026" y="6995"/>
                </a:cubicBezTo>
                <a:cubicBezTo>
                  <a:pt x="7026" y="6989"/>
                  <a:pt x="7026" y="6989"/>
                  <a:pt x="7026" y="6984"/>
                </a:cubicBezTo>
                <a:cubicBezTo>
                  <a:pt x="7026" y="6918"/>
                  <a:pt x="7026" y="6918"/>
                  <a:pt x="7026" y="6918"/>
                </a:cubicBezTo>
                <a:cubicBezTo>
                  <a:pt x="7032" y="6912"/>
                  <a:pt x="7032" y="6912"/>
                  <a:pt x="7038" y="6912"/>
                </a:cubicBezTo>
                <a:cubicBezTo>
                  <a:pt x="7044" y="6912"/>
                  <a:pt x="7044" y="6912"/>
                  <a:pt x="7050" y="6912"/>
                </a:cubicBezTo>
                <a:cubicBezTo>
                  <a:pt x="7056" y="6912"/>
                  <a:pt x="7056" y="6906"/>
                  <a:pt x="7061" y="6906"/>
                </a:cubicBezTo>
                <a:cubicBezTo>
                  <a:pt x="7068" y="6901"/>
                  <a:pt x="7068" y="6901"/>
                  <a:pt x="7073" y="6901"/>
                </a:cubicBezTo>
                <a:cubicBezTo>
                  <a:pt x="7085" y="6890"/>
                  <a:pt x="7091" y="6884"/>
                  <a:pt x="7097" y="6866"/>
                </a:cubicBezTo>
                <a:cubicBezTo>
                  <a:pt x="7097" y="6860"/>
                  <a:pt x="7097" y="6860"/>
                  <a:pt x="7103" y="6854"/>
                </a:cubicBezTo>
                <a:cubicBezTo>
                  <a:pt x="7103" y="6842"/>
                  <a:pt x="7103" y="6836"/>
                  <a:pt x="7109" y="6830"/>
                </a:cubicBezTo>
                <a:cubicBezTo>
                  <a:pt x="7109" y="6824"/>
                  <a:pt x="7115" y="6824"/>
                  <a:pt x="7115" y="6818"/>
                </a:cubicBezTo>
                <a:cubicBezTo>
                  <a:pt x="7121" y="6818"/>
                  <a:pt x="7127" y="6818"/>
                  <a:pt x="7127" y="6818"/>
                </a:cubicBezTo>
                <a:cubicBezTo>
                  <a:pt x="7133" y="6818"/>
                  <a:pt x="7139" y="6818"/>
                  <a:pt x="7139" y="6818"/>
                </a:cubicBezTo>
                <a:cubicBezTo>
                  <a:pt x="7150" y="6813"/>
                  <a:pt x="7150" y="6801"/>
                  <a:pt x="7162" y="6795"/>
                </a:cubicBezTo>
                <a:cubicBezTo>
                  <a:pt x="7168" y="6795"/>
                  <a:pt x="7174" y="6795"/>
                  <a:pt x="7174" y="6789"/>
                </a:cubicBezTo>
                <a:cubicBezTo>
                  <a:pt x="7180" y="6783"/>
                  <a:pt x="7180" y="6777"/>
                  <a:pt x="7186" y="6765"/>
                </a:cubicBezTo>
                <a:cubicBezTo>
                  <a:pt x="7198" y="6747"/>
                  <a:pt x="7204" y="6735"/>
                  <a:pt x="7210" y="6718"/>
                </a:cubicBezTo>
                <a:cubicBezTo>
                  <a:pt x="7216" y="6718"/>
                  <a:pt x="7216" y="6712"/>
                  <a:pt x="7216" y="6706"/>
                </a:cubicBezTo>
                <a:cubicBezTo>
                  <a:pt x="7216" y="6706"/>
                  <a:pt x="7222" y="6706"/>
                  <a:pt x="7227" y="6700"/>
                </a:cubicBezTo>
                <a:cubicBezTo>
                  <a:pt x="7227" y="6694"/>
                  <a:pt x="7234" y="6694"/>
                  <a:pt x="7239" y="6688"/>
                </a:cubicBezTo>
                <a:lnTo>
                  <a:pt x="7239" y="6682"/>
                </a:lnTo>
                <a:cubicBezTo>
                  <a:pt x="7245" y="6670"/>
                  <a:pt x="7245" y="6670"/>
                  <a:pt x="7245" y="6670"/>
                </a:cubicBezTo>
                <a:cubicBezTo>
                  <a:pt x="7251" y="6658"/>
                  <a:pt x="7257" y="6652"/>
                  <a:pt x="7257" y="6641"/>
                </a:cubicBezTo>
                <a:cubicBezTo>
                  <a:pt x="7263" y="6635"/>
                  <a:pt x="7257" y="6629"/>
                  <a:pt x="7257" y="6623"/>
                </a:cubicBezTo>
                <a:cubicBezTo>
                  <a:pt x="7257" y="6617"/>
                  <a:pt x="7263" y="6611"/>
                  <a:pt x="7257" y="6611"/>
                </a:cubicBezTo>
                <a:cubicBezTo>
                  <a:pt x="7257" y="6605"/>
                  <a:pt x="7251" y="6599"/>
                  <a:pt x="7251" y="6599"/>
                </a:cubicBezTo>
                <a:cubicBezTo>
                  <a:pt x="7245" y="6587"/>
                  <a:pt x="7239" y="6581"/>
                  <a:pt x="7239" y="6569"/>
                </a:cubicBezTo>
                <a:cubicBezTo>
                  <a:pt x="7234" y="6563"/>
                  <a:pt x="7227" y="6552"/>
                  <a:pt x="7227" y="6540"/>
                </a:cubicBezTo>
                <a:cubicBezTo>
                  <a:pt x="7227" y="6534"/>
                  <a:pt x="7227" y="6528"/>
                  <a:pt x="7227" y="6522"/>
                </a:cubicBezTo>
                <a:cubicBezTo>
                  <a:pt x="7227" y="6510"/>
                  <a:pt x="7227" y="6504"/>
                  <a:pt x="7222" y="6492"/>
                </a:cubicBezTo>
                <a:cubicBezTo>
                  <a:pt x="7222" y="6486"/>
                  <a:pt x="7216" y="6486"/>
                  <a:pt x="7216" y="6480"/>
                </a:cubicBezTo>
                <a:cubicBezTo>
                  <a:pt x="7204" y="6480"/>
                  <a:pt x="7198" y="6469"/>
                  <a:pt x="7192" y="6469"/>
                </a:cubicBezTo>
                <a:cubicBezTo>
                  <a:pt x="7133" y="6469"/>
                  <a:pt x="7133" y="6469"/>
                  <a:pt x="7133" y="6469"/>
                </a:cubicBezTo>
                <a:cubicBezTo>
                  <a:pt x="7133" y="6469"/>
                  <a:pt x="7127" y="6469"/>
                  <a:pt x="7121" y="6469"/>
                </a:cubicBezTo>
                <a:cubicBezTo>
                  <a:pt x="7121" y="6469"/>
                  <a:pt x="7115" y="6463"/>
                  <a:pt x="7109" y="6463"/>
                </a:cubicBezTo>
                <a:cubicBezTo>
                  <a:pt x="7109" y="6463"/>
                  <a:pt x="7103" y="6463"/>
                  <a:pt x="7097" y="6463"/>
                </a:cubicBezTo>
                <a:cubicBezTo>
                  <a:pt x="7091" y="6463"/>
                  <a:pt x="7091" y="6463"/>
                  <a:pt x="7085" y="6457"/>
                </a:cubicBezTo>
                <a:cubicBezTo>
                  <a:pt x="7079" y="6457"/>
                  <a:pt x="7073" y="6451"/>
                  <a:pt x="7061" y="6451"/>
                </a:cubicBezTo>
                <a:cubicBezTo>
                  <a:pt x="7061" y="6445"/>
                  <a:pt x="7056" y="6445"/>
                  <a:pt x="7050" y="6445"/>
                </a:cubicBezTo>
                <a:cubicBezTo>
                  <a:pt x="7050" y="6439"/>
                  <a:pt x="7050" y="6433"/>
                  <a:pt x="7050" y="6433"/>
                </a:cubicBezTo>
                <a:cubicBezTo>
                  <a:pt x="7044" y="6421"/>
                  <a:pt x="7044" y="6415"/>
                  <a:pt x="7038" y="6409"/>
                </a:cubicBezTo>
                <a:cubicBezTo>
                  <a:pt x="7038" y="6403"/>
                  <a:pt x="7044" y="6397"/>
                  <a:pt x="7038" y="6397"/>
                </a:cubicBezTo>
                <a:cubicBezTo>
                  <a:pt x="7038" y="6392"/>
                  <a:pt x="7032" y="6392"/>
                  <a:pt x="7026" y="6386"/>
                </a:cubicBezTo>
                <a:cubicBezTo>
                  <a:pt x="7026" y="6386"/>
                  <a:pt x="7020" y="6386"/>
                  <a:pt x="7014" y="6380"/>
                </a:cubicBezTo>
                <a:cubicBezTo>
                  <a:pt x="7008" y="6374"/>
                  <a:pt x="7008" y="6374"/>
                  <a:pt x="7002" y="6368"/>
                </a:cubicBezTo>
                <a:cubicBezTo>
                  <a:pt x="7002" y="6368"/>
                  <a:pt x="6996" y="6368"/>
                  <a:pt x="6990" y="6368"/>
                </a:cubicBezTo>
                <a:cubicBezTo>
                  <a:pt x="6984" y="6362"/>
                  <a:pt x="6979" y="6362"/>
                  <a:pt x="6973" y="6362"/>
                </a:cubicBezTo>
                <a:cubicBezTo>
                  <a:pt x="6961" y="6362"/>
                  <a:pt x="6955" y="6374"/>
                  <a:pt x="6943" y="6374"/>
                </a:cubicBezTo>
                <a:cubicBezTo>
                  <a:pt x="6878" y="6374"/>
                  <a:pt x="6878" y="6374"/>
                  <a:pt x="6878" y="6374"/>
                </a:cubicBezTo>
                <a:cubicBezTo>
                  <a:pt x="6872" y="6374"/>
                  <a:pt x="6866" y="6368"/>
                  <a:pt x="6860" y="6368"/>
                </a:cubicBezTo>
                <a:cubicBezTo>
                  <a:pt x="6848" y="6362"/>
                  <a:pt x="6848" y="6356"/>
                  <a:pt x="6836" y="6350"/>
                </a:cubicBezTo>
                <a:cubicBezTo>
                  <a:pt x="6830" y="6350"/>
                  <a:pt x="6830" y="6344"/>
                  <a:pt x="6824" y="6344"/>
                </a:cubicBezTo>
                <a:cubicBezTo>
                  <a:pt x="6818" y="6344"/>
                  <a:pt x="6813" y="6344"/>
                  <a:pt x="6801" y="6344"/>
                </a:cubicBezTo>
                <a:cubicBezTo>
                  <a:pt x="6795" y="6344"/>
                  <a:pt x="6783" y="6344"/>
                  <a:pt x="6777" y="6344"/>
                </a:cubicBezTo>
                <a:cubicBezTo>
                  <a:pt x="6777" y="6362"/>
                  <a:pt x="6777" y="6368"/>
                  <a:pt x="6771" y="6380"/>
                </a:cubicBezTo>
                <a:cubicBezTo>
                  <a:pt x="6765" y="6380"/>
                  <a:pt x="6765" y="6380"/>
                  <a:pt x="6759" y="6380"/>
                </a:cubicBezTo>
                <a:cubicBezTo>
                  <a:pt x="6753" y="6380"/>
                  <a:pt x="6747" y="6380"/>
                  <a:pt x="6747" y="6380"/>
                </a:cubicBezTo>
                <a:cubicBezTo>
                  <a:pt x="6741" y="6380"/>
                  <a:pt x="6735" y="6380"/>
                  <a:pt x="6735" y="6380"/>
                </a:cubicBezTo>
                <a:cubicBezTo>
                  <a:pt x="6729" y="6374"/>
                  <a:pt x="6729" y="6374"/>
                  <a:pt x="6724" y="6374"/>
                </a:cubicBezTo>
                <a:cubicBezTo>
                  <a:pt x="6718" y="6368"/>
                  <a:pt x="6718" y="6368"/>
                  <a:pt x="6712" y="6368"/>
                </a:cubicBezTo>
                <a:cubicBezTo>
                  <a:pt x="6712" y="6362"/>
                  <a:pt x="6712" y="6356"/>
                  <a:pt x="6712" y="6356"/>
                </a:cubicBezTo>
                <a:cubicBezTo>
                  <a:pt x="6712" y="6350"/>
                  <a:pt x="6712" y="6344"/>
                  <a:pt x="6718" y="6344"/>
                </a:cubicBezTo>
                <a:cubicBezTo>
                  <a:pt x="6724" y="6338"/>
                  <a:pt x="6724" y="6344"/>
                  <a:pt x="6729" y="6338"/>
                </a:cubicBezTo>
                <a:cubicBezTo>
                  <a:pt x="6735" y="6338"/>
                  <a:pt x="6735" y="6332"/>
                  <a:pt x="6741" y="6332"/>
                </a:cubicBezTo>
                <a:cubicBezTo>
                  <a:pt x="6735" y="6320"/>
                  <a:pt x="6735" y="6320"/>
                  <a:pt x="6735" y="6320"/>
                </a:cubicBezTo>
                <a:cubicBezTo>
                  <a:pt x="6729" y="6320"/>
                  <a:pt x="6729" y="6320"/>
                  <a:pt x="6724" y="6320"/>
                </a:cubicBezTo>
                <a:cubicBezTo>
                  <a:pt x="6718" y="6320"/>
                  <a:pt x="6718" y="6315"/>
                  <a:pt x="6712" y="6315"/>
                </a:cubicBezTo>
                <a:cubicBezTo>
                  <a:pt x="6706" y="6315"/>
                  <a:pt x="6700" y="6315"/>
                  <a:pt x="6700" y="6309"/>
                </a:cubicBezTo>
                <a:cubicBezTo>
                  <a:pt x="6694" y="6309"/>
                  <a:pt x="6688" y="6303"/>
                  <a:pt x="6688" y="6303"/>
                </a:cubicBezTo>
                <a:cubicBezTo>
                  <a:pt x="6682" y="6303"/>
                  <a:pt x="6676" y="6297"/>
                  <a:pt x="6670" y="6297"/>
                </a:cubicBezTo>
                <a:cubicBezTo>
                  <a:pt x="6670" y="6291"/>
                  <a:pt x="6670" y="6285"/>
                  <a:pt x="6664" y="6285"/>
                </a:cubicBezTo>
                <a:cubicBezTo>
                  <a:pt x="6658" y="6279"/>
                  <a:pt x="6658" y="6279"/>
                  <a:pt x="6652" y="6279"/>
                </a:cubicBezTo>
                <a:cubicBezTo>
                  <a:pt x="6646" y="6279"/>
                  <a:pt x="6641" y="6273"/>
                  <a:pt x="6635" y="6273"/>
                </a:cubicBezTo>
                <a:cubicBezTo>
                  <a:pt x="6629" y="6273"/>
                  <a:pt x="6629" y="6273"/>
                  <a:pt x="6623" y="6273"/>
                </a:cubicBezTo>
                <a:cubicBezTo>
                  <a:pt x="6617" y="6273"/>
                  <a:pt x="6611" y="6267"/>
                  <a:pt x="6611" y="6267"/>
                </a:cubicBezTo>
                <a:cubicBezTo>
                  <a:pt x="6599" y="6267"/>
                  <a:pt x="6599" y="6267"/>
                  <a:pt x="6599" y="6267"/>
                </a:cubicBezTo>
                <a:cubicBezTo>
                  <a:pt x="6593" y="6267"/>
                  <a:pt x="6593" y="6261"/>
                  <a:pt x="6587" y="6261"/>
                </a:cubicBezTo>
                <a:cubicBezTo>
                  <a:pt x="6581" y="6261"/>
                  <a:pt x="6575" y="6255"/>
                  <a:pt x="6569" y="6255"/>
                </a:cubicBezTo>
                <a:cubicBezTo>
                  <a:pt x="6563" y="6249"/>
                  <a:pt x="6552" y="6249"/>
                  <a:pt x="6546" y="6249"/>
                </a:cubicBezTo>
                <a:cubicBezTo>
                  <a:pt x="6534" y="6249"/>
                  <a:pt x="6528" y="6249"/>
                  <a:pt x="6522" y="6249"/>
                </a:cubicBezTo>
                <a:cubicBezTo>
                  <a:pt x="6522" y="6303"/>
                  <a:pt x="6522" y="6303"/>
                  <a:pt x="6522" y="6303"/>
                </a:cubicBezTo>
                <a:cubicBezTo>
                  <a:pt x="6475" y="6303"/>
                  <a:pt x="6475" y="6303"/>
                  <a:pt x="6475" y="6303"/>
                </a:cubicBezTo>
                <a:cubicBezTo>
                  <a:pt x="6475" y="6285"/>
                  <a:pt x="6475" y="6285"/>
                  <a:pt x="6475" y="6285"/>
                </a:cubicBezTo>
                <a:cubicBezTo>
                  <a:pt x="6475" y="6279"/>
                  <a:pt x="6475" y="6273"/>
                  <a:pt x="6475" y="6273"/>
                </a:cubicBezTo>
                <a:cubicBezTo>
                  <a:pt x="6480" y="6267"/>
                  <a:pt x="6480" y="6261"/>
                  <a:pt x="6486" y="6261"/>
                </a:cubicBezTo>
                <a:cubicBezTo>
                  <a:pt x="6492" y="6255"/>
                  <a:pt x="6492" y="6249"/>
                  <a:pt x="6492" y="6249"/>
                </a:cubicBezTo>
                <a:cubicBezTo>
                  <a:pt x="6498" y="6249"/>
                  <a:pt x="6504" y="6249"/>
                  <a:pt x="6504" y="6243"/>
                </a:cubicBezTo>
                <a:cubicBezTo>
                  <a:pt x="6510" y="6237"/>
                  <a:pt x="6510" y="6231"/>
                  <a:pt x="6510" y="6226"/>
                </a:cubicBezTo>
                <a:cubicBezTo>
                  <a:pt x="6498" y="6220"/>
                  <a:pt x="6492" y="6226"/>
                  <a:pt x="6486" y="6220"/>
                </a:cubicBezTo>
                <a:cubicBezTo>
                  <a:pt x="6480" y="6220"/>
                  <a:pt x="6480" y="6214"/>
                  <a:pt x="6475" y="6214"/>
                </a:cubicBezTo>
                <a:cubicBezTo>
                  <a:pt x="6469" y="6208"/>
                  <a:pt x="6463" y="6208"/>
                  <a:pt x="6451" y="6208"/>
                </a:cubicBezTo>
                <a:cubicBezTo>
                  <a:pt x="6445" y="6202"/>
                  <a:pt x="6445" y="6202"/>
                  <a:pt x="6439" y="6202"/>
                </a:cubicBezTo>
                <a:cubicBezTo>
                  <a:pt x="6427" y="6202"/>
                  <a:pt x="6427" y="6202"/>
                  <a:pt x="6427" y="6202"/>
                </a:cubicBezTo>
                <a:cubicBezTo>
                  <a:pt x="6415" y="6202"/>
                  <a:pt x="6415" y="6202"/>
                  <a:pt x="6415" y="6202"/>
                </a:cubicBezTo>
                <a:cubicBezTo>
                  <a:pt x="6409" y="6202"/>
                  <a:pt x="6409" y="6202"/>
                  <a:pt x="6403" y="6202"/>
                </a:cubicBezTo>
                <a:cubicBezTo>
                  <a:pt x="6403" y="6214"/>
                  <a:pt x="6403" y="6220"/>
                  <a:pt x="6403" y="6226"/>
                </a:cubicBezTo>
                <a:cubicBezTo>
                  <a:pt x="6403" y="6231"/>
                  <a:pt x="6403" y="6231"/>
                  <a:pt x="6403" y="6237"/>
                </a:cubicBezTo>
                <a:cubicBezTo>
                  <a:pt x="6397" y="6249"/>
                  <a:pt x="6386" y="6255"/>
                  <a:pt x="6374" y="6255"/>
                </a:cubicBezTo>
                <a:cubicBezTo>
                  <a:pt x="6368" y="6255"/>
                  <a:pt x="6362" y="6249"/>
                  <a:pt x="6356" y="6249"/>
                </a:cubicBezTo>
                <a:cubicBezTo>
                  <a:pt x="6356" y="6226"/>
                  <a:pt x="6356" y="6226"/>
                  <a:pt x="6356" y="6226"/>
                </a:cubicBezTo>
                <a:lnTo>
                  <a:pt x="6356" y="6220"/>
                </a:lnTo>
                <a:cubicBezTo>
                  <a:pt x="6356" y="6214"/>
                  <a:pt x="6356" y="6208"/>
                  <a:pt x="6356" y="6208"/>
                </a:cubicBezTo>
                <a:cubicBezTo>
                  <a:pt x="6368" y="6208"/>
                  <a:pt x="6380" y="6208"/>
                  <a:pt x="6391" y="6202"/>
                </a:cubicBezTo>
                <a:cubicBezTo>
                  <a:pt x="6391" y="6202"/>
                  <a:pt x="6397" y="6202"/>
                  <a:pt x="6403" y="6202"/>
                </a:cubicBezTo>
                <a:cubicBezTo>
                  <a:pt x="6403" y="6196"/>
                  <a:pt x="6403" y="6190"/>
                  <a:pt x="6409" y="6190"/>
                </a:cubicBezTo>
                <a:cubicBezTo>
                  <a:pt x="6409" y="6178"/>
                  <a:pt x="6403" y="6172"/>
                  <a:pt x="6409" y="6166"/>
                </a:cubicBezTo>
                <a:cubicBezTo>
                  <a:pt x="6409" y="6154"/>
                  <a:pt x="6409" y="6149"/>
                  <a:pt x="6409" y="6142"/>
                </a:cubicBezTo>
                <a:cubicBezTo>
                  <a:pt x="6409" y="6137"/>
                  <a:pt x="6409" y="6131"/>
                  <a:pt x="6409" y="6125"/>
                </a:cubicBezTo>
                <a:cubicBezTo>
                  <a:pt x="6409" y="6113"/>
                  <a:pt x="6409" y="6107"/>
                  <a:pt x="6409" y="6095"/>
                </a:cubicBezTo>
                <a:cubicBezTo>
                  <a:pt x="6403" y="6095"/>
                  <a:pt x="6397" y="6095"/>
                  <a:pt x="6391" y="6095"/>
                </a:cubicBezTo>
                <a:cubicBezTo>
                  <a:pt x="6386" y="6095"/>
                  <a:pt x="6386" y="6095"/>
                  <a:pt x="6380" y="6095"/>
                </a:cubicBezTo>
                <a:lnTo>
                  <a:pt x="6374" y="6095"/>
                </a:lnTo>
                <a:cubicBezTo>
                  <a:pt x="6374" y="6036"/>
                  <a:pt x="6374" y="6036"/>
                  <a:pt x="6374" y="6036"/>
                </a:cubicBezTo>
                <a:cubicBezTo>
                  <a:pt x="6374" y="6030"/>
                  <a:pt x="6368" y="6030"/>
                  <a:pt x="6368" y="6024"/>
                </a:cubicBezTo>
                <a:cubicBezTo>
                  <a:pt x="6368" y="6018"/>
                  <a:pt x="6368" y="6012"/>
                  <a:pt x="6362" y="6006"/>
                </a:cubicBezTo>
                <a:cubicBezTo>
                  <a:pt x="6362" y="6006"/>
                  <a:pt x="6362" y="6000"/>
                  <a:pt x="6362" y="5994"/>
                </a:cubicBezTo>
                <a:cubicBezTo>
                  <a:pt x="6356" y="5994"/>
                  <a:pt x="6350" y="5994"/>
                  <a:pt x="6350" y="5988"/>
                </a:cubicBezTo>
                <a:cubicBezTo>
                  <a:pt x="6350" y="5983"/>
                  <a:pt x="6350" y="5976"/>
                  <a:pt x="6350" y="5976"/>
                </a:cubicBezTo>
                <a:cubicBezTo>
                  <a:pt x="6344" y="5971"/>
                  <a:pt x="6344" y="5965"/>
                  <a:pt x="6338" y="5965"/>
                </a:cubicBezTo>
                <a:cubicBezTo>
                  <a:pt x="6338" y="5959"/>
                  <a:pt x="6332" y="5965"/>
                  <a:pt x="6332" y="5965"/>
                </a:cubicBezTo>
                <a:cubicBezTo>
                  <a:pt x="6320" y="5959"/>
                  <a:pt x="6303" y="5953"/>
                  <a:pt x="6297" y="5947"/>
                </a:cubicBezTo>
                <a:cubicBezTo>
                  <a:pt x="6291" y="5947"/>
                  <a:pt x="6285" y="5947"/>
                  <a:pt x="6285" y="5941"/>
                </a:cubicBezTo>
                <a:cubicBezTo>
                  <a:pt x="6279" y="5935"/>
                  <a:pt x="6285" y="5923"/>
                  <a:pt x="6279" y="5917"/>
                </a:cubicBezTo>
                <a:cubicBezTo>
                  <a:pt x="6273" y="5917"/>
                  <a:pt x="6267" y="5917"/>
                  <a:pt x="6267" y="5917"/>
                </a:cubicBezTo>
                <a:cubicBezTo>
                  <a:pt x="6261" y="5917"/>
                  <a:pt x="6255" y="5911"/>
                  <a:pt x="6255" y="5911"/>
                </a:cubicBezTo>
                <a:cubicBezTo>
                  <a:pt x="6249" y="5911"/>
                  <a:pt x="6249" y="5899"/>
                  <a:pt x="6243" y="5899"/>
                </a:cubicBezTo>
                <a:cubicBezTo>
                  <a:pt x="6237" y="5894"/>
                  <a:pt x="6231" y="5899"/>
                  <a:pt x="6220" y="5899"/>
                </a:cubicBezTo>
                <a:cubicBezTo>
                  <a:pt x="6214" y="5899"/>
                  <a:pt x="6208" y="5894"/>
                  <a:pt x="6208" y="5894"/>
                </a:cubicBezTo>
                <a:cubicBezTo>
                  <a:pt x="6202" y="5894"/>
                  <a:pt x="6196" y="5888"/>
                  <a:pt x="6190" y="5888"/>
                </a:cubicBezTo>
                <a:cubicBezTo>
                  <a:pt x="6178" y="5882"/>
                  <a:pt x="6178" y="5882"/>
                  <a:pt x="6178" y="5882"/>
                </a:cubicBezTo>
                <a:cubicBezTo>
                  <a:pt x="6172" y="5876"/>
                  <a:pt x="6172" y="5870"/>
                  <a:pt x="6160" y="5870"/>
                </a:cubicBezTo>
                <a:cubicBezTo>
                  <a:pt x="6154" y="5870"/>
                  <a:pt x="6148" y="5870"/>
                  <a:pt x="6143" y="5876"/>
                </a:cubicBezTo>
                <a:cubicBezTo>
                  <a:pt x="6143" y="5876"/>
                  <a:pt x="6143" y="5882"/>
                  <a:pt x="6136" y="5888"/>
                </a:cubicBezTo>
                <a:cubicBezTo>
                  <a:pt x="6125" y="5894"/>
                  <a:pt x="6119" y="5888"/>
                  <a:pt x="6107" y="5888"/>
                </a:cubicBezTo>
                <a:cubicBezTo>
                  <a:pt x="6089" y="5888"/>
                  <a:pt x="6089" y="5888"/>
                  <a:pt x="6089" y="5888"/>
                </a:cubicBezTo>
                <a:cubicBezTo>
                  <a:pt x="6083" y="5888"/>
                  <a:pt x="6083" y="5888"/>
                  <a:pt x="6077" y="5888"/>
                </a:cubicBezTo>
                <a:cubicBezTo>
                  <a:pt x="6065" y="5882"/>
                  <a:pt x="6059" y="5882"/>
                  <a:pt x="6054" y="5882"/>
                </a:cubicBezTo>
                <a:cubicBezTo>
                  <a:pt x="6042" y="5882"/>
                  <a:pt x="6042" y="5876"/>
                  <a:pt x="6030" y="5870"/>
                </a:cubicBezTo>
                <a:cubicBezTo>
                  <a:pt x="6030" y="5870"/>
                  <a:pt x="6024" y="5870"/>
                  <a:pt x="6018" y="5870"/>
                </a:cubicBezTo>
                <a:cubicBezTo>
                  <a:pt x="6012" y="5864"/>
                  <a:pt x="6006" y="5858"/>
                  <a:pt x="5994" y="5852"/>
                </a:cubicBezTo>
                <a:cubicBezTo>
                  <a:pt x="5988" y="5846"/>
                  <a:pt x="5977" y="5846"/>
                  <a:pt x="5970" y="5840"/>
                </a:cubicBezTo>
                <a:cubicBezTo>
                  <a:pt x="5965" y="5834"/>
                  <a:pt x="5965" y="5834"/>
                  <a:pt x="5965" y="5828"/>
                </a:cubicBezTo>
                <a:cubicBezTo>
                  <a:pt x="5959" y="5822"/>
                  <a:pt x="5953" y="5822"/>
                  <a:pt x="5953" y="5817"/>
                </a:cubicBezTo>
                <a:cubicBezTo>
                  <a:pt x="5953" y="5799"/>
                  <a:pt x="5953" y="5793"/>
                  <a:pt x="5953" y="5781"/>
                </a:cubicBezTo>
                <a:cubicBezTo>
                  <a:pt x="5947" y="5781"/>
                  <a:pt x="5947" y="5775"/>
                  <a:pt x="5941" y="5775"/>
                </a:cubicBezTo>
                <a:cubicBezTo>
                  <a:pt x="5935" y="5775"/>
                  <a:pt x="5929" y="5775"/>
                  <a:pt x="5929" y="5775"/>
                </a:cubicBezTo>
                <a:cubicBezTo>
                  <a:pt x="5923" y="5775"/>
                  <a:pt x="5923" y="5769"/>
                  <a:pt x="5917" y="5769"/>
                </a:cubicBezTo>
                <a:cubicBezTo>
                  <a:pt x="5911" y="5769"/>
                  <a:pt x="5911" y="5763"/>
                  <a:pt x="5905" y="5763"/>
                </a:cubicBezTo>
                <a:cubicBezTo>
                  <a:pt x="5899" y="5757"/>
                  <a:pt x="5899" y="5757"/>
                  <a:pt x="5893" y="5751"/>
                </a:cubicBezTo>
                <a:cubicBezTo>
                  <a:pt x="5888" y="5745"/>
                  <a:pt x="5888" y="5751"/>
                  <a:pt x="5882" y="5745"/>
                </a:cubicBezTo>
                <a:cubicBezTo>
                  <a:pt x="5882" y="5745"/>
                  <a:pt x="5888" y="5733"/>
                  <a:pt x="5882" y="5733"/>
                </a:cubicBezTo>
                <a:cubicBezTo>
                  <a:pt x="5882" y="5733"/>
                  <a:pt x="5876" y="5733"/>
                  <a:pt x="5870" y="5733"/>
                </a:cubicBezTo>
                <a:cubicBezTo>
                  <a:pt x="5864" y="5733"/>
                  <a:pt x="5864" y="5728"/>
                  <a:pt x="5858" y="5728"/>
                </a:cubicBezTo>
                <a:cubicBezTo>
                  <a:pt x="5852" y="5722"/>
                  <a:pt x="5846" y="5722"/>
                  <a:pt x="5846" y="5716"/>
                </a:cubicBezTo>
                <a:cubicBezTo>
                  <a:pt x="5846" y="5716"/>
                  <a:pt x="5846" y="5710"/>
                  <a:pt x="5840" y="5704"/>
                </a:cubicBezTo>
                <a:cubicBezTo>
                  <a:pt x="5840" y="5698"/>
                  <a:pt x="5840" y="5692"/>
                  <a:pt x="5840" y="5680"/>
                </a:cubicBezTo>
                <a:cubicBezTo>
                  <a:pt x="5828" y="5680"/>
                  <a:pt x="5828" y="5680"/>
                  <a:pt x="5828" y="5680"/>
                </a:cubicBezTo>
                <a:cubicBezTo>
                  <a:pt x="5822" y="5680"/>
                  <a:pt x="5816" y="5686"/>
                  <a:pt x="5811" y="5686"/>
                </a:cubicBezTo>
                <a:cubicBezTo>
                  <a:pt x="5799" y="5686"/>
                  <a:pt x="5793" y="5692"/>
                  <a:pt x="5787" y="5692"/>
                </a:cubicBezTo>
                <a:cubicBezTo>
                  <a:pt x="5781" y="5692"/>
                  <a:pt x="5781" y="5698"/>
                  <a:pt x="5775" y="5698"/>
                </a:cubicBezTo>
                <a:cubicBezTo>
                  <a:pt x="5769" y="5698"/>
                  <a:pt x="5763" y="5698"/>
                  <a:pt x="5757" y="5692"/>
                </a:cubicBezTo>
                <a:cubicBezTo>
                  <a:pt x="5757" y="5686"/>
                  <a:pt x="5763" y="5686"/>
                  <a:pt x="5757" y="5680"/>
                </a:cubicBezTo>
                <a:cubicBezTo>
                  <a:pt x="5757" y="5668"/>
                  <a:pt x="5757" y="5662"/>
                  <a:pt x="5757" y="5651"/>
                </a:cubicBezTo>
                <a:cubicBezTo>
                  <a:pt x="5769" y="5651"/>
                  <a:pt x="5769" y="5651"/>
                  <a:pt x="5769" y="5651"/>
                </a:cubicBezTo>
                <a:cubicBezTo>
                  <a:pt x="5775" y="5644"/>
                  <a:pt x="5775" y="5644"/>
                  <a:pt x="5781" y="5639"/>
                </a:cubicBezTo>
                <a:cubicBezTo>
                  <a:pt x="5781" y="5633"/>
                  <a:pt x="5775" y="5627"/>
                  <a:pt x="5769" y="5627"/>
                </a:cubicBezTo>
                <a:cubicBezTo>
                  <a:pt x="5769" y="5621"/>
                  <a:pt x="5763" y="5627"/>
                  <a:pt x="5757" y="5621"/>
                </a:cubicBezTo>
                <a:cubicBezTo>
                  <a:pt x="5751" y="5621"/>
                  <a:pt x="5751" y="5621"/>
                  <a:pt x="5745" y="5615"/>
                </a:cubicBezTo>
                <a:cubicBezTo>
                  <a:pt x="5739" y="5615"/>
                  <a:pt x="5733" y="5615"/>
                  <a:pt x="5733" y="5615"/>
                </a:cubicBezTo>
                <a:cubicBezTo>
                  <a:pt x="5704" y="5633"/>
                  <a:pt x="5704" y="5633"/>
                  <a:pt x="5704" y="5633"/>
                </a:cubicBezTo>
                <a:cubicBezTo>
                  <a:pt x="5698" y="5633"/>
                  <a:pt x="5698" y="5633"/>
                  <a:pt x="5698" y="5633"/>
                </a:cubicBezTo>
                <a:cubicBezTo>
                  <a:pt x="5698" y="5633"/>
                  <a:pt x="5692" y="5633"/>
                  <a:pt x="5686" y="5627"/>
                </a:cubicBezTo>
                <a:cubicBezTo>
                  <a:pt x="5680" y="5627"/>
                  <a:pt x="5674" y="5621"/>
                  <a:pt x="5668" y="5621"/>
                </a:cubicBezTo>
                <a:cubicBezTo>
                  <a:pt x="5656" y="5621"/>
                  <a:pt x="5650" y="5621"/>
                  <a:pt x="5650" y="5627"/>
                </a:cubicBezTo>
                <a:cubicBezTo>
                  <a:pt x="5645" y="5633"/>
                  <a:pt x="5645" y="5639"/>
                  <a:pt x="5645" y="5639"/>
                </a:cubicBezTo>
                <a:cubicBezTo>
                  <a:pt x="5645" y="5644"/>
                  <a:pt x="5645" y="5651"/>
                  <a:pt x="5645" y="5651"/>
                </a:cubicBezTo>
                <a:cubicBezTo>
                  <a:pt x="5638" y="5656"/>
                  <a:pt x="5638" y="5656"/>
                  <a:pt x="5638" y="5662"/>
                </a:cubicBezTo>
                <a:cubicBezTo>
                  <a:pt x="5633" y="5668"/>
                  <a:pt x="5627" y="5680"/>
                  <a:pt x="5615" y="5680"/>
                </a:cubicBezTo>
                <a:cubicBezTo>
                  <a:pt x="5609" y="5680"/>
                  <a:pt x="5609" y="5680"/>
                  <a:pt x="5603" y="5674"/>
                </a:cubicBezTo>
                <a:cubicBezTo>
                  <a:pt x="5597" y="5674"/>
                  <a:pt x="5597" y="5668"/>
                  <a:pt x="5597" y="5668"/>
                </a:cubicBezTo>
                <a:cubicBezTo>
                  <a:pt x="5597" y="5662"/>
                  <a:pt x="5591" y="5656"/>
                  <a:pt x="5591" y="5656"/>
                </a:cubicBezTo>
                <a:cubicBezTo>
                  <a:pt x="5585" y="5651"/>
                  <a:pt x="5585" y="5644"/>
                  <a:pt x="5579" y="5644"/>
                </a:cubicBezTo>
                <a:cubicBezTo>
                  <a:pt x="5573" y="5639"/>
                  <a:pt x="5561" y="5639"/>
                  <a:pt x="5556" y="5633"/>
                </a:cubicBezTo>
                <a:cubicBezTo>
                  <a:pt x="5550" y="5633"/>
                  <a:pt x="5544" y="5633"/>
                  <a:pt x="5538" y="5633"/>
                </a:cubicBezTo>
                <a:cubicBezTo>
                  <a:pt x="5479" y="5633"/>
                  <a:pt x="5479" y="5633"/>
                  <a:pt x="5479" y="5633"/>
                </a:cubicBezTo>
                <a:cubicBezTo>
                  <a:pt x="5479" y="5633"/>
                  <a:pt x="5472" y="5627"/>
                  <a:pt x="5467" y="5627"/>
                </a:cubicBezTo>
                <a:cubicBezTo>
                  <a:pt x="5461" y="5621"/>
                  <a:pt x="5449" y="5621"/>
                  <a:pt x="5437" y="5621"/>
                </a:cubicBezTo>
                <a:cubicBezTo>
                  <a:pt x="5437" y="5585"/>
                  <a:pt x="5437" y="5585"/>
                  <a:pt x="5437" y="5585"/>
                </a:cubicBezTo>
                <a:cubicBezTo>
                  <a:pt x="5431" y="5585"/>
                  <a:pt x="5425" y="5585"/>
                  <a:pt x="5419" y="5585"/>
                </a:cubicBezTo>
                <a:cubicBezTo>
                  <a:pt x="5413" y="5585"/>
                  <a:pt x="5407" y="5579"/>
                  <a:pt x="5407" y="5579"/>
                </a:cubicBezTo>
                <a:cubicBezTo>
                  <a:pt x="5401" y="5579"/>
                  <a:pt x="5395" y="5579"/>
                  <a:pt x="5390" y="5573"/>
                </a:cubicBezTo>
                <a:cubicBezTo>
                  <a:pt x="5390" y="5573"/>
                  <a:pt x="5390" y="5567"/>
                  <a:pt x="5384" y="5562"/>
                </a:cubicBezTo>
                <a:cubicBezTo>
                  <a:pt x="5378" y="5562"/>
                  <a:pt x="5378" y="5562"/>
                  <a:pt x="5372" y="5562"/>
                </a:cubicBezTo>
                <a:cubicBezTo>
                  <a:pt x="5360" y="5556"/>
                  <a:pt x="5348" y="5556"/>
                  <a:pt x="5330" y="5550"/>
                </a:cubicBezTo>
                <a:cubicBezTo>
                  <a:pt x="5330" y="5562"/>
                  <a:pt x="5330" y="5567"/>
                  <a:pt x="5330" y="5573"/>
                </a:cubicBezTo>
                <a:cubicBezTo>
                  <a:pt x="5330" y="5579"/>
                  <a:pt x="5330" y="5585"/>
                  <a:pt x="5324" y="5591"/>
                </a:cubicBezTo>
                <a:cubicBezTo>
                  <a:pt x="5324" y="5591"/>
                  <a:pt x="5324" y="5597"/>
                  <a:pt x="5318" y="5597"/>
                </a:cubicBezTo>
                <a:cubicBezTo>
                  <a:pt x="5306" y="5603"/>
                  <a:pt x="5301" y="5597"/>
                  <a:pt x="5295" y="5597"/>
                </a:cubicBezTo>
                <a:cubicBezTo>
                  <a:pt x="5289" y="5603"/>
                  <a:pt x="5289" y="5609"/>
                  <a:pt x="5283" y="5609"/>
                </a:cubicBezTo>
                <a:cubicBezTo>
                  <a:pt x="5277" y="5609"/>
                  <a:pt x="5277" y="5615"/>
                  <a:pt x="5271" y="5615"/>
                </a:cubicBezTo>
                <a:cubicBezTo>
                  <a:pt x="5265" y="5621"/>
                  <a:pt x="5259" y="5621"/>
                  <a:pt x="5259" y="5627"/>
                </a:cubicBezTo>
                <a:cubicBezTo>
                  <a:pt x="5259" y="5633"/>
                  <a:pt x="5265" y="5633"/>
                  <a:pt x="5265" y="5639"/>
                </a:cubicBezTo>
                <a:cubicBezTo>
                  <a:pt x="5265" y="5644"/>
                  <a:pt x="5265" y="5651"/>
                  <a:pt x="5265" y="5651"/>
                </a:cubicBezTo>
                <a:cubicBezTo>
                  <a:pt x="5265" y="5656"/>
                  <a:pt x="5265" y="5656"/>
                  <a:pt x="5265" y="5662"/>
                </a:cubicBezTo>
                <a:cubicBezTo>
                  <a:pt x="5265" y="5668"/>
                  <a:pt x="5271" y="5668"/>
                  <a:pt x="5271" y="5674"/>
                </a:cubicBezTo>
                <a:cubicBezTo>
                  <a:pt x="5271" y="5680"/>
                  <a:pt x="5271" y="5686"/>
                  <a:pt x="5271" y="5692"/>
                </a:cubicBezTo>
                <a:cubicBezTo>
                  <a:pt x="5271" y="5698"/>
                  <a:pt x="5271" y="5704"/>
                  <a:pt x="5271" y="5710"/>
                </a:cubicBezTo>
                <a:cubicBezTo>
                  <a:pt x="5271" y="5716"/>
                  <a:pt x="5265" y="5716"/>
                  <a:pt x="5265" y="5722"/>
                </a:cubicBezTo>
                <a:cubicBezTo>
                  <a:pt x="5265" y="5722"/>
                  <a:pt x="5259" y="5722"/>
                  <a:pt x="5253" y="5716"/>
                </a:cubicBezTo>
                <a:cubicBezTo>
                  <a:pt x="5253" y="5716"/>
                  <a:pt x="5253" y="5710"/>
                  <a:pt x="5247" y="5704"/>
                </a:cubicBezTo>
                <a:cubicBezTo>
                  <a:pt x="5241" y="5698"/>
                  <a:pt x="5235" y="5686"/>
                  <a:pt x="5229" y="5674"/>
                </a:cubicBezTo>
                <a:cubicBezTo>
                  <a:pt x="5229" y="5668"/>
                  <a:pt x="5224" y="5662"/>
                  <a:pt x="5224" y="5651"/>
                </a:cubicBezTo>
                <a:cubicBezTo>
                  <a:pt x="5224" y="5644"/>
                  <a:pt x="5224" y="5644"/>
                  <a:pt x="5224" y="5639"/>
                </a:cubicBezTo>
                <a:cubicBezTo>
                  <a:pt x="5229" y="5633"/>
                  <a:pt x="5235" y="5633"/>
                  <a:pt x="5235" y="5627"/>
                </a:cubicBezTo>
                <a:cubicBezTo>
                  <a:pt x="5235" y="5627"/>
                  <a:pt x="5235" y="5621"/>
                  <a:pt x="5235" y="5615"/>
                </a:cubicBezTo>
                <a:cubicBezTo>
                  <a:pt x="5235" y="5615"/>
                  <a:pt x="5241" y="5609"/>
                  <a:pt x="5241" y="5603"/>
                </a:cubicBezTo>
                <a:cubicBezTo>
                  <a:pt x="5241" y="5597"/>
                  <a:pt x="5229" y="5597"/>
                  <a:pt x="5229" y="5591"/>
                </a:cubicBezTo>
                <a:cubicBezTo>
                  <a:pt x="5229" y="5573"/>
                  <a:pt x="5241" y="5567"/>
                  <a:pt x="5253" y="5562"/>
                </a:cubicBezTo>
                <a:cubicBezTo>
                  <a:pt x="5253" y="5556"/>
                  <a:pt x="5259" y="5556"/>
                  <a:pt x="5265" y="5550"/>
                </a:cubicBezTo>
                <a:cubicBezTo>
                  <a:pt x="5265" y="5550"/>
                  <a:pt x="5271" y="5544"/>
                  <a:pt x="5271" y="5538"/>
                </a:cubicBezTo>
                <a:cubicBezTo>
                  <a:pt x="5277" y="5538"/>
                  <a:pt x="5277" y="5538"/>
                  <a:pt x="5283" y="5532"/>
                </a:cubicBezTo>
                <a:cubicBezTo>
                  <a:pt x="5277" y="5520"/>
                  <a:pt x="5277" y="5520"/>
                  <a:pt x="5277" y="5520"/>
                </a:cubicBezTo>
                <a:cubicBezTo>
                  <a:pt x="5253" y="5520"/>
                  <a:pt x="5253" y="5520"/>
                  <a:pt x="5253" y="5520"/>
                </a:cubicBezTo>
                <a:cubicBezTo>
                  <a:pt x="5247" y="5520"/>
                  <a:pt x="5247" y="5526"/>
                  <a:pt x="5241" y="5526"/>
                </a:cubicBezTo>
                <a:cubicBezTo>
                  <a:pt x="5235" y="5526"/>
                  <a:pt x="5229" y="5526"/>
                  <a:pt x="5229" y="5526"/>
                </a:cubicBezTo>
                <a:cubicBezTo>
                  <a:pt x="5224" y="5532"/>
                  <a:pt x="5218" y="5532"/>
                  <a:pt x="5218" y="5532"/>
                </a:cubicBezTo>
                <a:cubicBezTo>
                  <a:pt x="5218" y="5538"/>
                  <a:pt x="5218" y="5544"/>
                  <a:pt x="5212" y="5544"/>
                </a:cubicBezTo>
                <a:cubicBezTo>
                  <a:pt x="5212" y="5556"/>
                  <a:pt x="5212" y="5562"/>
                  <a:pt x="5212" y="5573"/>
                </a:cubicBezTo>
                <a:cubicBezTo>
                  <a:pt x="5152" y="5573"/>
                  <a:pt x="5152" y="5573"/>
                  <a:pt x="5152" y="5573"/>
                </a:cubicBezTo>
                <a:cubicBezTo>
                  <a:pt x="5140" y="5573"/>
                  <a:pt x="5135" y="5579"/>
                  <a:pt x="5129" y="5585"/>
                </a:cubicBezTo>
                <a:cubicBezTo>
                  <a:pt x="5123" y="5591"/>
                  <a:pt x="5117" y="5591"/>
                  <a:pt x="5117" y="5591"/>
                </a:cubicBezTo>
                <a:cubicBezTo>
                  <a:pt x="5111" y="5597"/>
                  <a:pt x="5105" y="5597"/>
                  <a:pt x="5099" y="5597"/>
                </a:cubicBezTo>
                <a:cubicBezTo>
                  <a:pt x="5093" y="5603"/>
                  <a:pt x="5093" y="5603"/>
                  <a:pt x="5087" y="5603"/>
                </a:cubicBezTo>
                <a:cubicBezTo>
                  <a:pt x="5075" y="5609"/>
                  <a:pt x="5069" y="5609"/>
                  <a:pt x="5057" y="5609"/>
                </a:cubicBezTo>
                <a:lnTo>
                  <a:pt x="5052" y="5615"/>
                </a:lnTo>
                <a:cubicBezTo>
                  <a:pt x="5040" y="5615"/>
                  <a:pt x="5034" y="5615"/>
                  <a:pt x="5028" y="5615"/>
                </a:cubicBezTo>
                <a:cubicBezTo>
                  <a:pt x="5028" y="5680"/>
                  <a:pt x="5028" y="5680"/>
                  <a:pt x="5028" y="5680"/>
                </a:cubicBezTo>
                <a:cubicBezTo>
                  <a:pt x="5016" y="5686"/>
                  <a:pt x="5016" y="5692"/>
                  <a:pt x="5004" y="5698"/>
                </a:cubicBezTo>
                <a:cubicBezTo>
                  <a:pt x="4998" y="5698"/>
                  <a:pt x="4998" y="5698"/>
                  <a:pt x="4992" y="5698"/>
                </a:cubicBezTo>
                <a:cubicBezTo>
                  <a:pt x="4986" y="5698"/>
                  <a:pt x="4980" y="5698"/>
                  <a:pt x="4969" y="5698"/>
                </a:cubicBezTo>
                <a:cubicBezTo>
                  <a:pt x="4969" y="5704"/>
                  <a:pt x="4969" y="5710"/>
                  <a:pt x="4969" y="5716"/>
                </a:cubicBezTo>
                <a:cubicBezTo>
                  <a:pt x="4969" y="5722"/>
                  <a:pt x="4963" y="5722"/>
                  <a:pt x="4963" y="5728"/>
                </a:cubicBezTo>
                <a:cubicBezTo>
                  <a:pt x="4963" y="5733"/>
                  <a:pt x="4957" y="5733"/>
                  <a:pt x="4957" y="5739"/>
                </a:cubicBezTo>
                <a:cubicBezTo>
                  <a:pt x="4957" y="5745"/>
                  <a:pt x="4957" y="5745"/>
                  <a:pt x="4957" y="5751"/>
                </a:cubicBezTo>
                <a:cubicBezTo>
                  <a:pt x="4957" y="5757"/>
                  <a:pt x="4951" y="5757"/>
                  <a:pt x="4945" y="5757"/>
                </a:cubicBezTo>
                <a:cubicBezTo>
                  <a:pt x="4939" y="5769"/>
                  <a:pt x="4933" y="5769"/>
                  <a:pt x="4921" y="5775"/>
                </a:cubicBezTo>
                <a:cubicBezTo>
                  <a:pt x="4921" y="5781"/>
                  <a:pt x="4915" y="5781"/>
                  <a:pt x="4909" y="5787"/>
                </a:cubicBezTo>
                <a:cubicBezTo>
                  <a:pt x="4909" y="5787"/>
                  <a:pt x="4915" y="5793"/>
                  <a:pt x="4909" y="5799"/>
                </a:cubicBezTo>
                <a:cubicBezTo>
                  <a:pt x="4909" y="5805"/>
                  <a:pt x="4903" y="5805"/>
                  <a:pt x="4897" y="5810"/>
                </a:cubicBezTo>
                <a:lnTo>
                  <a:pt x="4897" y="5817"/>
                </a:lnTo>
                <a:lnTo>
                  <a:pt x="4897" y="5828"/>
                </a:lnTo>
                <a:cubicBezTo>
                  <a:pt x="4903" y="5828"/>
                  <a:pt x="4909" y="5828"/>
                  <a:pt x="4909" y="5828"/>
                </a:cubicBezTo>
                <a:cubicBezTo>
                  <a:pt x="4915" y="5834"/>
                  <a:pt x="4921" y="5834"/>
                  <a:pt x="4927" y="5834"/>
                </a:cubicBezTo>
                <a:cubicBezTo>
                  <a:pt x="4927" y="5852"/>
                  <a:pt x="4921" y="5864"/>
                  <a:pt x="4927" y="5882"/>
                </a:cubicBezTo>
                <a:lnTo>
                  <a:pt x="4927" y="5888"/>
                </a:lnTo>
                <a:cubicBezTo>
                  <a:pt x="4933" y="5899"/>
                  <a:pt x="4939" y="5905"/>
                  <a:pt x="4939" y="5911"/>
                </a:cubicBezTo>
                <a:cubicBezTo>
                  <a:pt x="4939" y="5917"/>
                  <a:pt x="4939" y="5923"/>
                  <a:pt x="4945" y="5923"/>
                </a:cubicBezTo>
                <a:cubicBezTo>
                  <a:pt x="4945" y="5929"/>
                  <a:pt x="4945" y="5935"/>
                  <a:pt x="4945" y="5941"/>
                </a:cubicBezTo>
                <a:cubicBezTo>
                  <a:pt x="4945" y="5947"/>
                  <a:pt x="4945" y="5953"/>
                  <a:pt x="4945" y="5959"/>
                </a:cubicBezTo>
                <a:cubicBezTo>
                  <a:pt x="4939" y="5965"/>
                  <a:pt x="4933" y="5965"/>
                  <a:pt x="4933" y="5965"/>
                </a:cubicBezTo>
                <a:cubicBezTo>
                  <a:pt x="4927" y="5971"/>
                  <a:pt x="4915" y="5971"/>
                  <a:pt x="4915" y="5976"/>
                </a:cubicBezTo>
                <a:cubicBezTo>
                  <a:pt x="4915" y="5983"/>
                  <a:pt x="4915" y="5988"/>
                  <a:pt x="4915" y="5988"/>
                </a:cubicBezTo>
                <a:cubicBezTo>
                  <a:pt x="4915" y="6000"/>
                  <a:pt x="4921" y="6006"/>
                  <a:pt x="4921" y="6012"/>
                </a:cubicBezTo>
                <a:cubicBezTo>
                  <a:pt x="4921" y="6024"/>
                  <a:pt x="4921" y="6030"/>
                  <a:pt x="4915" y="6036"/>
                </a:cubicBezTo>
                <a:cubicBezTo>
                  <a:pt x="4915" y="6042"/>
                  <a:pt x="4909" y="6048"/>
                  <a:pt x="4903" y="6048"/>
                </a:cubicBezTo>
                <a:cubicBezTo>
                  <a:pt x="4903" y="6054"/>
                  <a:pt x="4903" y="6060"/>
                  <a:pt x="4897" y="6060"/>
                </a:cubicBezTo>
                <a:cubicBezTo>
                  <a:pt x="4891" y="6060"/>
                  <a:pt x="4891" y="6060"/>
                  <a:pt x="4886" y="6060"/>
                </a:cubicBezTo>
                <a:cubicBezTo>
                  <a:pt x="4880" y="6065"/>
                  <a:pt x="4874" y="6065"/>
                  <a:pt x="4862" y="6065"/>
                </a:cubicBezTo>
                <a:cubicBezTo>
                  <a:pt x="4862" y="6083"/>
                  <a:pt x="4862" y="6083"/>
                  <a:pt x="4862" y="6083"/>
                </a:cubicBezTo>
                <a:cubicBezTo>
                  <a:pt x="4862" y="6089"/>
                  <a:pt x="4868" y="6089"/>
                  <a:pt x="4868" y="6095"/>
                </a:cubicBezTo>
                <a:cubicBezTo>
                  <a:pt x="4868" y="6095"/>
                  <a:pt x="4868" y="6101"/>
                  <a:pt x="4868" y="6107"/>
                </a:cubicBezTo>
                <a:cubicBezTo>
                  <a:pt x="4856" y="6113"/>
                  <a:pt x="4844" y="6119"/>
                  <a:pt x="4832" y="6125"/>
                </a:cubicBezTo>
                <a:cubicBezTo>
                  <a:pt x="4832" y="6149"/>
                  <a:pt x="4832" y="6149"/>
                  <a:pt x="4832" y="6149"/>
                </a:cubicBezTo>
                <a:cubicBezTo>
                  <a:pt x="4826" y="6149"/>
                  <a:pt x="4820" y="6149"/>
                  <a:pt x="4820" y="6149"/>
                </a:cubicBezTo>
                <a:cubicBezTo>
                  <a:pt x="4808" y="6154"/>
                  <a:pt x="4802" y="6154"/>
                  <a:pt x="4797" y="6160"/>
                </a:cubicBezTo>
                <a:cubicBezTo>
                  <a:pt x="4791" y="6160"/>
                  <a:pt x="4791" y="6166"/>
                  <a:pt x="4791" y="6172"/>
                </a:cubicBezTo>
                <a:cubicBezTo>
                  <a:pt x="4779" y="6184"/>
                  <a:pt x="4779" y="6196"/>
                  <a:pt x="4779" y="6214"/>
                </a:cubicBezTo>
                <a:cubicBezTo>
                  <a:pt x="4731" y="6214"/>
                  <a:pt x="4731" y="6214"/>
                  <a:pt x="4731" y="6214"/>
                </a:cubicBezTo>
                <a:cubicBezTo>
                  <a:pt x="4731" y="6231"/>
                  <a:pt x="4737" y="6237"/>
                  <a:pt x="4731" y="6249"/>
                </a:cubicBezTo>
                <a:cubicBezTo>
                  <a:pt x="4731" y="6261"/>
                  <a:pt x="4731" y="6267"/>
                  <a:pt x="4731" y="6273"/>
                </a:cubicBezTo>
                <a:cubicBezTo>
                  <a:pt x="4731" y="6279"/>
                  <a:pt x="4725" y="6279"/>
                  <a:pt x="4725" y="6285"/>
                </a:cubicBezTo>
                <a:cubicBezTo>
                  <a:pt x="4725" y="6291"/>
                  <a:pt x="4731" y="6291"/>
                  <a:pt x="4731" y="6297"/>
                </a:cubicBezTo>
                <a:cubicBezTo>
                  <a:pt x="4731" y="6303"/>
                  <a:pt x="4725" y="6309"/>
                  <a:pt x="4725" y="6309"/>
                </a:cubicBezTo>
                <a:cubicBezTo>
                  <a:pt x="4731" y="6320"/>
                  <a:pt x="4737" y="6326"/>
                  <a:pt x="4737" y="6332"/>
                </a:cubicBezTo>
                <a:cubicBezTo>
                  <a:pt x="4743" y="6332"/>
                  <a:pt x="4749" y="6326"/>
                  <a:pt x="4749" y="6326"/>
                </a:cubicBezTo>
                <a:cubicBezTo>
                  <a:pt x="4755" y="6326"/>
                  <a:pt x="4761" y="6320"/>
                  <a:pt x="4767" y="6320"/>
                </a:cubicBezTo>
                <a:cubicBezTo>
                  <a:pt x="4779" y="6320"/>
                  <a:pt x="4785" y="6326"/>
                  <a:pt x="4797" y="6326"/>
                </a:cubicBezTo>
                <a:cubicBezTo>
                  <a:pt x="4797" y="6344"/>
                  <a:pt x="4797" y="6344"/>
                  <a:pt x="4797" y="6344"/>
                </a:cubicBezTo>
                <a:cubicBezTo>
                  <a:pt x="4791" y="6350"/>
                  <a:pt x="4791" y="6356"/>
                  <a:pt x="4791" y="6356"/>
                </a:cubicBezTo>
                <a:cubicBezTo>
                  <a:pt x="4779" y="6362"/>
                  <a:pt x="4773" y="6368"/>
                  <a:pt x="4767" y="6368"/>
                </a:cubicBezTo>
                <a:cubicBezTo>
                  <a:pt x="4761" y="6368"/>
                  <a:pt x="4761" y="6368"/>
                  <a:pt x="4755" y="6368"/>
                </a:cubicBezTo>
                <a:cubicBezTo>
                  <a:pt x="4749" y="6368"/>
                  <a:pt x="4743" y="6368"/>
                  <a:pt x="4737" y="6368"/>
                </a:cubicBezTo>
                <a:cubicBezTo>
                  <a:pt x="4737" y="6380"/>
                  <a:pt x="4743" y="6386"/>
                  <a:pt x="4737" y="6392"/>
                </a:cubicBezTo>
                <a:cubicBezTo>
                  <a:pt x="4737" y="6397"/>
                  <a:pt x="4737" y="6403"/>
                  <a:pt x="4737" y="6403"/>
                </a:cubicBezTo>
                <a:cubicBezTo>
                  <a:pt x="4731" y="6409"/>
                  <a:pt x="4731" y="6409"/>
                  <a:pt x="4725" y="6409"/>
                </a:cubicBezTo>
                <a:cubicBezTo>
                  <a:pt x="4720" y="6415"/>
                  <a:pt x="4720" y="6415"/>
                  <a:pt x="4714" y="6421"/>
                </a:cubicBezTo>
                <a:cubicBezTo>
                  <a:pt x="4708" y="6421"/>
                  <a:pt x="4708" y="6421"/>
                  <a:pt x="4702" y="6427"/>
                </a:cubicBezTo>
                <a:cubicBezTo>
                  <a:pt x="4702" y="6433"/>
                  <a:pt x="4702" y="6439"/>
                  <a:pt x="4702" y="6445"/>
                </a:cubicBezTo>
                <a:cubicBezTo>
                  <a:pt x="4702" y="6451"/>
                  <a:pt x="4702" y="6457"/>
                  <a:pt x="4702" y="6463"/>
                </a:cubicBezTo>
                <a:cubicBezTo>
                  <a:pt x="4702" y="6469"/>
                  <a:pt x="4708" y="6469"/>
                  <a:pt x="4714" y="6475"/>
                </a:cubicBezTo>
                <a:cubicBezTo>
                  <a:pt x="4714" y="6480"/>
                  <a:pt x="4720" y="6480"/>
                  <a:pt x="4720" y="6486"/>
                </a:cubicBezTo>
                <a:cubicBezTo>
                  <a:pt x="4720" y="6498"/>
                  <a:pt x="4720" y="6498"/>
                  <a:pt x="4720" y="6498"/>
                </a:cubicBezTo>
                <a:cubicBezTo>
                  <a:pt x="4720" y="6504"/>
                  <a:pt x="4720" y="6510"/>
                  <a:pt x="4720" y="6522"/>
                </a:cubicBezTo>
                <a:cubicBezTo>
                  <a:pt x="4720" y="6528"/>
                  <a:pt x="4720" y="6528"/>
                  <a:pt x="4720" y="6534"/>
                </a:cubicBezTo>
                <a:cubicBezTo>
                  <a:pt x="4720" y="6540"/>
                  <a:pt x="4725" y="6540"/>
                  <a:pt x="4725" y="6546"/>
                </a:cubicBezTo>
                <a:cubicBezTo>
                  <a:pt x="4731" y="6546"/>
                  <a:pt x="4737" y="6546"/>
                  <a:pt x="4737" y="6552"/>
                </a:cubicBezTo>
                <a:cubicBezTo>
                  <a:pt x="4743" y="6552"/>
                  <a:pt x="4749" y="6552"/>
                  <a:pt x="4749" y="6552"/>
                </a:cubicBezTo>
                <a:cubicBezTo>
                  <a:pt x="4755" y="6552"/>
                  <a:pt x="4761" y="6552"/>
                  <a:pt x="4761" y="6552"/>
                </a:cubicBezTo>
                <a:cubicBezTo>
                  <a:pt x="4767" y="6552"/>
                  <a:pt x="4767" y="6552"/>
                  <a:pt x="4773" y="6558"/>
                </a:cubicBezTo>
                <a:cubicBezTo>
                  <a:pt x="4779" y="6558"/>
                  <a:pt x="4785" y="6558"/>
                  <a:pt x="4785" y="6563"/>
                </a:cubicBezTo>
                <a:cubicBezTo>
                  <a:pt x="4791" y="6563"/>
                  <a:pt x="4791" y="6569"/>
                  <a:pt x="4797" y="6575"/>
                </a:cubicBezTo>
                <a:lnTo>
                  <a:pt x="4802" y="6581"/>
                </a:lnTo>
                <a:cubicBezTo>
                  <a:pt x="4802" y="6587"/>
                  <a:pt x="4808" y="6593"/>
                  <a:pt x="4808" y="6599"/>
                </a:cubicBezTo>
                <a:cubicBezTo>
                  <a:pt x="4814" y="6599"/>
                  <a:pt x="4814" y="6605"/>
                  <a:pt x="4814" y="6611"/>
                </a:cubicBezTo>
                <a:cubicBezTo>
                  <a:pt x="4820" y="6611"/>
                  <a:pt x="4826" y="6611"/>
                  <a:pt x="4826" y="6617"/>
                </a:cubicBezTo>
                <a:cubicBezTo>
                  <a:pt x="4832" y="6623"/>
                  <a:pt x="4832" y="6623"/>
                  <a:pt x="4832" y="6629"/>
                </a:cubicBezTo>
                <a:cubicBezTo>
                  <a:pt x="4838" y="6635"/>
                  <a:pt x="4832" y="6647"/>
                  <a:pt x="4832" y="6652"/>
                </a:cubicBezTo>
                <a:cubicBezTo>
                  <a:pt x="4832" y="6658"/>
                  <a:pt x="4838" y="6658"/>
                  <a:pt x="4838" y="6664"/>
                </a:cubicBezTo>
                <a:cubicBezTo>
                  <a:pt x="4838" y="6670"/>
                  <a:pt x="4838" y="6670"/>
                  <a:pt x="4838" y="6676"/>
                </a:cubicBezTo>
                <a:cubicBezTo>
                  <a:pt x="4844" y="6682"/>
                  <a:pt x="4850" y="6682"/>
                  <a:pt x="4850" y="6682"/>
                </a:cubicBezTo>
                <a:cubicBezTo>
                  <a:pt x="4856" y="6688"/>
                  <a:pt x="4856" y="6694"/>
                  <a:pt x="4862" y="6694"/>
                </a:cubicBezTo>
                <a:cubicBezTo>
                  <a:pt x="4862" y="6700"/>
                  <a:pt x="4868" y="6700"/>
                  <a:pt x="4874" y="6706"/>
                </a:cubicBezTo>
                <a:cubicBezTo>
                  <a:pt x="4874" y="6712"/>
                  <a:pt x="4874" y="6718"/>
                  <a:pt x="4874" y="6730"/>
                </a:cubicBezTo>
                <a:cubicBezTo>
                  <a:pt x="4874" y="6753"/>
                  <a:pt x="4874" y="6753"/>
                  <a:pt x="4874" y="6753"/>
                </a:cubicBezTo>
                <a:cubicBezTo>
                  <a:pt x="4874" y="6759"/>
                  <a:pt x="4880" y="6765"/>
                  <a:pt x="4880" y="6765"/>
                </a:cubicBezTo>
                <a:cubicBezTo>
                  <a:pt x="4886" y="6771"/>
                  <a:pt x="4886" y="6777"/>
                  <a:pt x="4886" y="6777"/>
                </a:cubicBezTo>
                <a:cubicBezTo>
                  <a:pt x="4891" y="6783"/>
                  <a:pt x="4897" y="6783"/>
                  <a:pt x="4897" y="6789"/>
                </a:cubicBezTo>
                <a:cubicBezTo>
                  <a:pt x="4909" y="6795"/>
                  <a:pt x="4915" y="6807"/>
                  <a:pt x="4915" y="6818"/>
                </a:cubicBezTo>
                <a:cubicBezTo>
                  <a:pt x="4915" y="6836"/>
                  <a:pt x="4909" y="6848"/>
                  <a:pt x="4915" y="6860"/>
                </a:cubicBezTo>
                <a:cubicBezTo>
                  <a:pt x="4915" y="6860"/>
                  <a:pt x="4921" y="6866"/>
                  <a:pt x="4921" y="6872"/>
                </a:cubicBezTo>
                <a:cubicBezTo>
                  <a:pt x="4927" y="6872"/>
                  <a:pt x="4933" y="6872"/>
                  <a:pt x="4933" y="6878"/>
                </a:cubicBezTo>
                <a:cubicBezTo>
                  <a:pt x="4939" y="6878"/>
                  <a:pt x="4939" y="6884"/>
                  <a:pt x="4939" y="6884"/>
                </a:cubicBezTo>
                <a:cubicBezTo>
                  <a:pt x="4945" y="6890"/>
                  <a:pt x="4945" y="6890"/>
                  <a:pt x="4951" y="6890"/>
                </a:cubicBezTo>
                <a:cubicBezTo>
                  <a:pt x="4957" y="6896"/>
                  <a:pt x="4957" y="6896"/>
                  <a:pt x="4963" y="6901"/>
                </a:cubicBezTo>
                <a:cubicBezTo>
                  <a:pt x="4969" y="6901"/>
                  <a:pt x="4969" y="6901"/>
                  <a:pt x="4974" y="6906"/>
                </a:cubicBezTo>
                <a:cubicBezTo>
                  <a:pt x="4974" y="6906"/>
                  <a:pt x="4980" y="6912"/>
                  <a:pt x="4980" y="6918"/>
                </a:cubicBezTo>
                <a:cubicBezTo>
                  <a:pt x="4980" y="6918"/>
                  <a:pt x="4980" y="6924"/>
                  <a:pt x="4980" y="6930"/>
                </a:cubicBezTo>
                <a:cubicBezTo>
                  <a:pt x="4980" y="6942"/>
                  <a:pt x="4980" y="6948"/>
                  <a:pt x="4980" y="6960"/>
                </a:cubicBezTo>
                <a:cubicBezTo>
                  <a:pt x="4980" y="6960"/>
                  <a:pt x="4980" y="6966"/>
                  <a:pt x="4980" y="6972"/>
                </a:cubicBezTo>
                <a:cubicBezTo>
                  <a:pt x="4980" y="6978"/>
                  <a:pt x="4980" y="6978"/>
                  <a:pt x="4980" y="6984"/>
                </a:cubicBezTo>
                <a:cubicBezTo>
                  <a:pt x="4986" y="6989"/>
                  <a:pt x="4992" y="6989"/>
                  <a:pt x="4992" y="6989"/>
                </a:cubicBezTo>
                <a:cubicBezTo>
                  <a:pt x="4998" y="7001"/>
                  <a:pt x="4998" y="7007"/>
                  <a:pt x="5004" y="7013"/>
                </a:cubicBezTo>
                <a:cubicBezTo>
                  <a:pt x="5010" y="7019"/>
                  <a:pt x="5010" y="7019"/>
                  <a:pt x="5010" y="7025"/>
                </a:cubicBezTo>
                <a:cubicBezTo>
                  <a:pt x="5016" y="7031"/>
                  <a:pt x="5016" y="7031"/>
                  <a:pt x="5022" y="7037"/>
                </a:cubicBezTo>
                <a:cubicBezTo>
                  <a:pt x="5028" y="7037"/>
                  <a:pt x="5028" y="7037"/>
                  <a:pt x="5034" y="7037"/>
                </a:cubicBezTo>
                <a:cubicBezTo>
                  <a:pt x="5040" y="7043"/>
                  <a:pt x="5046" y="7043"/>
                  <a:pt x="5046" y="7049"/>
                </a:cubicBezTo>
                <a:cubicBezTo>
                  <a:pt x="5052" y="7049"/>
                  <a:pt x="5052" y="7055"/>
                  <a:pt x="5057" y="7055"/>
                </a:cubicBezTo>
                <a:cubicBezTo>
                  <a:pt x="5063" y="7055"/>
                  <a:pt x="5069" y="7061"/>
                  <a:pt x="5069" y="7061"/>
                </a:cubicBezTo>
                <a:cubicBezTo>
                  <a:pt x="5081" y="7061"/>
                  <a:pt x="5087" y="7061"/>
                  <a:pt x="5093" y="7061"/>
                </a:cubicBezTo>
                <a:cubicBezTo>
                  <a:pt x="5099" y="7061"/>
                  <a:pt x="5099" y="7066"/>
                  <a:pt x="5105" y="7066"/>
                </a:cubicBezTo>
                <a:cubicBezTo>
                  <a:pt x="5111" y="7072"/>
                  <a:pt x="5111" y="7078"/>
                  <a:pt x="5117" y="7078"/>
                </a:cubicBezTo>
                <a:cubicBezTo>
                  <a:pt x="5123" y="7084"/>
                  <a:pt x="5123" y="7090"/>
                  <a:pt x="5123" y="7090"/>
                </a:cubicBezTo>
                <a:cubicBezTo>
                  <a:pt x="5129" y="7096"/>
                  <a:pt x="5135" y="7096"/>
                  <a:pt x="5135" y="7096"/>
                </a:cubicBezTo>
                <a:cubicBezTo>
                  <a:pt x="5140" y="7102"/>
                  <a:pt x="5146" y="7102"/>
                  <a:pt x="5146" y="7108"/>
                </a:cubicBezTo>
                <a:cubicBezTo>
                  <a:pt x="5158" y="7114"/>
                  <a:pt x="5158" y="7120"/>
                  <a:pt x="5170" y="7120"/>
                </a:cubicBezTo>
                <a:cubicBezTo>
                  <a:pt x="5176" y="7126"/>
                  <a:pt x="5188" y="7126"/>
                  <a:pt x="5194" y="7132"/>
                </a:cubicBezTo>
                <a:cubicBezTo>
                  <a:pt x="5200" y="7132"/>
                  <a:pt x="5200" y="7138"/>
                  <a:pt x="5206" y="7138"/>
                </a:cubicBezTo>
                <a:cubicBezTo>
                  <a:pt x="5218" y="7144"/>
                  <a:pt x="5224" y="7144"/>
                  <a:pt x="5229" y="7155"/>
                </a:cubicBezTo>
                <a:cubicBezTo>
                  <a:pt x="5235" y="7155"/>
                  <a:pt x="5235" y="7161"/>
                  <a:pt x="5235" y="7167"/>
                </a:cubicBezTo>
                <a:cubicBezTo>
                  <a:pt x="5241" y="7173"/>
                  <a:pt x="5247" y="7173"/>
                  <a:pt x="5247" y="7179"/>
                </a:cubicBezTo>
                <a:cubicBezTo>
                  <a:pt x="5253" y="7185"/>
                  <a:pt x="5259" y="7191"/>
                  <a:pt x="5265" y="7197"/>
                </a:cubicBezTo>
                <a:cubicBezTo>
                  <a:pt x="5271" y="7203"/>
                  <a:pt x="5271" y="7209"/>
                  <a:pt x="5277" y="7209"/>
                </a:cubicBezTo>
                <a:cubicBezTo>
                  <a:pt x="5283" y="7209"/>
                  <a:pt x="5283" y="7209"/>
                  <a:pt x="5289" y="7209"/>
                </a:cubicBezTo>
                <a:cubicBezTo>
                  <a:pt x="5295" y="7209"/>
                  <a:pt x="5301" y="7209"/>
                  <a:pt x="5312" y="7209"/>
                </a:cubicBezTo>
                <a:cubicBezTo>
                  <a:pt x="5312" y="7327"/>
                  <a:pt x="5312" y="7327"/>
                  <a:pt x="5312" y="7327"/>
                </a:cubicBezTo>
                <a:cubicBezTo>
                  <a:pt x="5312" y="7339"/>
                  <a:pt x="5306" y="7345"/>
                  <a:pt x="5306" y="7351"/>
                </a:cubicBezTo>
                <a:cubicBezTo>
                  <a:pt x="5306" y="7363"/>
                  <a:pt x="5306" y="7363"/>
                  <a:pt x="5306" y="7369"/>
                </a:cubicBezTo>
                <a:cubicBezTo>
                  <a:pt x="5306" y="7375"/>
                  <a:pt x="5306" y="7375"/>
                  <a:pt x="5306" y="7375"/>
                </a:cubicBezTo>
                <a:cubicBezTo>
                  <a:pt x="5306" y="7387"/>
                  <a:pt x="5306" y="7387"/>
                  <a:pt x="5306" y="7387"/>
                </a:cubicBezTo>
                <a:cubicBezTo>
                  <a:pt x="5306" y="7398"/>
                  <a:pt x="5312" y="7405"/>
                  <a:pt x="5312" y="7416"/>
                </a:cubicBezTo>
                <a:cubicBezTo>
                  <a:pt x="5312" y="7422"/>
                  <a:pt x="5312" y="7422"/>
                  <a:pt x="5312" y="7422"/>
                </a:cubicBezTo>
                <a:cubicBezTo>
                  <a:pt x="5312" y="7428"/>
                  <a:pt x="5306" y="7428"/>
                  <a:pt x="5306" y="7434"/>
                </a:cubicBezTo>
                <a:cubicBezTo>
                  <a:pt x="5306" y="7440"/>
                  <a:pt x="5306" y="7440"/>
                  <a:pt x="5306" y="7446"/>
                </a:cubicBezTo>
                <a:cubicBezTo>
                  <a:pt x="5306" y="7452"/>
                  <a:pt x="5301" y="7452"/>
                  <a:pt x="5301" y="7458"/>
                </a:cubicBezTo>
                <a:cubicBezTo>
                  <a:pt x="5301" y="7464"/>
                  <a:pt x="5301" y="7470"/>
                  <a:pt x="5301" y="7476"/>
                </a:cubicBezTo>
                <a:cubicBezTo>
                  <a:pt x="5301" y="7476"/>
                  <a:pt x="5301" y="7476"/>
                  <a:pt x="5301" y="7482"/>
                </a:cubicBezTo>
                <a:cubicBezTo>
                  <a:pt x="5301" y="7493"/>
                  <a:pt x="5301" y="7493"/>
                  <a:pt x="5301" y="7493"/>
                </a:cubicBezTo>
                <a:cubicBezTo>
                  <a:pt x="5301" y="7499"/>
                  <a:pt x="5306" y="7499"/>
                  <a:pt x="5306" y="7505"/>
                </a:cubicBezTo>
                <a:cubicBezTo>
                  <a:pt x="5306" y="7511"/>
                  <a:pt x="5306" y="7517"/>
                  <a:pt x="5306" y="7523"/>
                </a:cubicBezTo>
                <a:cubicBezTo>
                  <a:pt x="5306" y="7529"/>
                  <a:pt x="5306" y="7529"/>
                  <a:pt x="5306" y="7529"/>
                </a:cubicBezTo>
                <a:cubicBezTo>
                  <a:pt x="5306" y="7541"/>
                  <a:pt x="5306" y="7541"/>
                  <a:pt x="5306" y="7541"/>
                </a:cubicBezTo>
                <a:cubicBezTo>
                  <a:pt x="5306" y="7547"/>
                  <a:pt x="5295" y="7547"/>
                  <a:pt x="5295" y="7553"/>
                </a:cubicBezTo>
                <a:cubicBezTo>
                  <a:pt x="5295" y="7564"/>
                  <a:pt x="5295" y="7571"/>
                  <a:pt x="5295" y="7576"/>
                </a:cubicBezTo>
                <a:cubicBezTo>
                  <a:pt x="5301" y="7582"/>
                  <a:pt x="5306" y="7588"/>
                  <a:pt x="5306" y="7594"/>
                </a:cubicBezTo>
                <a:cubicBezTo>
                  <a:pt x="5306" y="7606"/>
                  <a:pt x="5306" y="7606"/>
                  <a:pt x="5306" y="7606"/>
                </a:cubicBezTo>
                <a:cubicBezTo>
                  <a:pt x="5306" y="7618"/>
                  <a:pt x="5306" y="7618"/>
                  <a:pt x="5306" y="7618"/>
                </a:cubicBezTo>
                <a:cubicBezTo>
                  <a:pt x="5306" y="7618"/>
                  <a:pt x="5301" y="7624"/>
                  <a:pt x="5301" y="7630"/>
                </a:cubicBezTo>
                <a:cubicBezTo>
                  <a:pt x="5301" y="7630"/>
                  <a:pt x="5301" y="7636"/>
                  <a:pt x="5301" y="7642"/>
                </a:cubicBezTo>
                <a:cubicBezTo>
                  <a:pt x="5301" y="7642"/>
                  <a:pt x="5295" y="7648"/>
                  <a:pt x="5295" y="7653"/>
                </a:cubicBezTo>
                <a:cubicBezTo>
                  <a:pt x="5295" y="7653"/>
                  <a:pt x="5295" y="7659"/>
                  <a:pt x="5289" y="7659"/>
                </a:cubicBezTo>
                <a:cubicBezTo>
                  <a:pt x="5289" y="7665"/>
                  <a:pt x="5289" y="7671"/>
                  <a:pt x="5283" y="7677"/>
                </a:cubicBezTo>
                <a:cubicBezTo>
                  <a:pt x="5283" y="7689"/>
                  <a:pt x="5277" y="7695"/>
                  <a:pt x="5271" y="7707"/>
                </a:cubicBezTo>
                <a:cubicBezTo>
                  <a:pt x="5271" y="7707"/>
                  <a:pt x="5265" y="7713"/>
                  <a:pt x="5265" y="7719"/>
                </a:cubicBezTo>
                <a:cubicBezTo>
                  <a:pt x="5265" y="7725"/>
                  <a:pt x="5265" y="7730"/>
                  <a:pt x="5265" y="7742"/>
                </a:cubicBezTo>
                <a:cubicBezTo>
                  <a:pt x="5265" y="7742"/>
                  <a:pt x="5265" y="7742"/>
                  <a:pt x="5265" y="7748"/>
                </a:cubicBezTo>
                <a:cubicBezTo>
                  <a:pt x="5265" y="7760"/>
                  <a:pt x="5265" y="7766"/>
                  <a:pt x="5265" y="7778"/>
                </a:cubicBezTo>
                <a:cubicBezTo>
                  <a:pt x="5265" y="7778"/>
                  <a:pt x="5265" y="7784"/>
                  <a:pt x="5265" y="7790"/>
                </a:cubicBezTo>
                <a:cubicBezTo>
                  <a:pt x="5265" y="7790"/>
                  <a:pt x="5265" y="7796"/>
                  <a:pt x="5265" y="7802"/>
                </a:cubicBezTo>
                <a:cubicBezTo>
                  <a:pt x="5265" y="7808"/>
                  <a:pt x="5265" y="7808"/>
                  <a:pt x="5265" y="7814"/>
                </a:cubicBezTo>
                <a:cubicBezTo>
                  <a:pt x="5265" y="7819"/>
                  <a:pt x="5265" y="7825"/>
                  <a:pt x="5265" y="7825"/>
                </a:cubicBezTo>
                <a:cubicBezTo>
                  <a:pt x="5265" y="7831"/>
                  <a:pt x="5259" y="7837"/>
                  <a:pt x="5259" y="7843"/>
                </a:cubicBezTo>
                <a:cubicBezTo>
                  <a:pt x="5253" y="7843"/>
                  <a:pt x="5253" y="7849"/>
                  <a:pt x="5253" y="7855"/>
                </a:cubicBezTo>
                <a:cubicBezTo>
                  <a:pt x="5253" y="7861"/>
                  <a:pt x="5247" y="7861"/>
                  <a:pt x="5247" y="7867"/>
                </a:cubicBezTo>
                <a:cubicBezTo>
                  <a:pt x="5241" y="7873"/>
                  <a:pt x="5235" y="7873"/>
                  <a:pt x="5235" y="7879"/>
                </a:cubicBezTo>
                <a:cubicBezTo>
                  <a:pt x="5224" y="7891"/>
                  <a:pt x="5218" y="7896"/>
                  <a:pt x="5218" y="7914"/>
                </a:cubicBezTo>
                <a:cubicBezTo>
                  <a:pt x="5218" y="7920"/>
                  <a:pt x="5218" y="7920"/>
                  <a:pt x="5218" y="7920"/>
                </a:cubicBezTo>
                <a:cubicBezTo>
                  <a:pt x="5218" y="7920"/>
                  <a:pt x="5218" y="7926"/>
                  <a:pt x="5218" y="7932"/>
                </a:cubicBezTo>
                <a:cubicBezTo>
                  <a:pt x="5218" y="7932"/>
                  <a:pt x="5218" y="7938"/>
                  <a:pt x="5218" y="7944"/>
                </a:cubicBezTo>
                <a:cubicBezTo>
                  <a:pt x="5224" y="7944"/>
                  <a:pt x="5224" y="7950"/>
                  <a:pt x="5224" y="7956"/>
                </a:cubicBezTo>
                <a:cubicBezTo>
                  <a:pt x="5229" y="7956"/>
                  <a:pt x="5229" y="7962"/>
                  <a:pt x="5235" y="7962"/>
                </a:cubicBezTo>
                <a:cubicBezTo>
                  <a:pt x="5241" y="7980"/>
                  <a:pt x="5247" y="7991"/>
                  <a:pt x="5247" y="8009"/>
                </a:cubicBezTo>
                <a:cubicBezTo>
                  <a:pt x="5247" y="8027"/>
                  <a:pt x="5241" y="8039"/>
                  <a:pt x="5241" y="8057"/>
                </a:cubicBezTo>
                <a:cubicBezTo>
                  <a:pt x="5241" y="8057"/>
                  <a:pt x="5235" y="8062"/>
                  <a:pt x="5235" y="8069"/>
                </a:cubicBezTo>
                <a:cubicBezTo>
                  <a:pt x="5235" y="8080"/>
                  <a:pt x="5235" y="8086"/>
                  <a:pt x="5235" y="8104"/>
                </a:cubicBezTo>
                <a:cubicBezTo>
                  <a:pt x="5235" y="8110"/>
                  <a:pt x="5229" y="8116"/>
                  <a:pt x="5229" y="8128"/>
                </a:cubicBezTo>
                <a:cubicBezTo>
                  <a:pt x="5229" y="8134"/>
                  <a:pt x="5229" y="8134"/>
                  <a:pt x="5224" y="8140"/>
                </a:cubicBezTo>
                <a:cubicBezTo>
                  <a:pt x="5224" y="8146"/>
                  <a:pt x="5218" y="8146"/>
                  <a:pt x="5212" y="8151"/>
                </a:cubicBezTo>
                <a:cubicBezTo>
                  <a:pt x="5212" y="8157"/>
                  <a:pt x="5218" y="8157"/>
                  <a:pt x="5212" y="8163"/>
                </a:cubicBezTo>
                <a:cubicBezTo>
                  <a:pt x="5212" y="8169"/>
                  <a:pt x="5212" y="8169"/>
                  <a:pt x="5206" y="8175"/>
                </a:cubicBezTo>
                <a:cubicBezTo>
                  <a:pt x="5206" y="8181"/>
                  <a:pt x="5200" y="8181"/>
                  <a:pt x="5200" y="8187"/>
                </a:cubicBezTo>
                <a:cubicBezTo>
                  <a:pt x="5194" y="8193"/>
                  <a:pt x="5194" y="8193"/>
                  <a:pt x="5188" y="8199"/>
                </a:cubicBezTo>
                <a:lnTo>
                  <a:pt x="5182" y="8205"/>
                </a:lnTo>
                <a:cubicBezTo>
                  <a:pt x="5182" y="8229"/>
                  <a:pt x="5182" y="8229"/>
                  <a:pt x="5182" y="8229"/>
                </a:cubicBezTo>
                <a:cubicBezTo>
                  <a:pt x="5182" y="8235"/>
                  <a:pt x="5182" y="8240"/>
                  <a:pt x="5182" y="8246"/>
                </a:cubicBezTo>
                <a:cubicBezTo>
                  <a:pt x="5182" y="8252"/>
                  <a:pt x="5182" y="8252"/>
                  <a:pt x="5182" y="8264"/>
                </a:cubicBezTo>
                <a:lnTo>
                  <a:pt x="5182" y="8270"/>
                </a:lnTo>
                <a:cubicBezTo>
                  <a:pt x="5182" y="8276"/>
                  <a:pt x="5182" y="8276"/>
                  <a:pt x="5182" y="8282"/>
                </a:cubicBezTo>
                <a:cubicBezTo>
                  <a:pt x="5182" y="8288"/>
                  <a:pt x="5176" y="8288"/>
                  <a:pt x="5176" y="8294"/>
                </a:cubicBezTo>
                <a:cubicBezTo>
                  <a:pt x="5170" y="8300"/>
                  <a:pt x="5170" y="8300"/>
                  <a:pt x="5170" y="8306"/>
                </a:cubicBezTo>
                <a:cubicBezTo>
                  <a:pt x="5164" y="8312"/>
                  <a:pt x="5158" y="8312"/>
                  <a:pt x="5158" y="8317"/>
                </a:cubicBezTo>
                <a:cubicBezTo>
                  <a:pt x="5152" y="8323"/>
                  <a:pt x="5152" y="8323"/>
                  <a:pt x="5152" y="8329"/>
                </a:cubicBezTo>
                <a:cubicBezTo>
                  <a:pt x="5152" y="8335"/>
                  <a:pt x="5140" y="8341"/>
                  <a:pt x="5135" y="8347"/>
                </a:cubicBezTo>
                <a:cubicBezTo>
                  <a:pt x="5135" y="8347"/>
                  <a:pt x="5129" y="8347"/>
                  <a:pt x="5123" y="8353"/>
                </a:cubicBezTo>
                <a:cubicBezTo>
                  <a:pt x="5123" y="8359"/>
                  <a:pt x="5123" y="8359"/>
                  <a:pt x="5117" y="8365"/>
                </a:cubicBezTo>
                <a:cubicBezTo>
                  <a:pt x="5117" y="8365"/>
                  <a:pt x="5117" y="8371"/>
                  <a:pt x="5117" y="8377"/>
                </a:cubicBezTo>
                <a:cubicBezTo>
                  <a:pt x="5117" y="8383"/>
                  <a:pt x="5129" y="8383"/>
                  <a:pt x="5129" y="8389"/>
                </a:cubicBezTo>
                <a:cubicBezTo>
                  <a:pt x="5129" y="8389"/>
                  <a:pt x="5129" y="8395"/>
                  <a:pt x="5129" y="8401"/>
                </a:cubicBezTo>
                <a:cubicBezTo>
                  <a:pt x="5129" y="8406"/>
                  <a:pt x="5135" y="8412"/>
                  <a:pt x="5135" y="8424"/>
                </a:cubicBezTo>
                <a:lnTo>
                  <a:pt x="5135" y="8430"/>
                </a:lnTo>
                <a:cubicBezTo>
                  <a:pt x="5135" y="8436"/>
                  <a:pt x="5140" y="8442"/>
                  <a:pt x="5140" y="8442"/>
                </a:cubicBezTo>
                <a:cubicBezTo>
                  <a:pt x="5140" y="8454"/>
                  <a:pt x="5140" y="8460"/>
                  <a:pt x="5140" y="8466"/>
                </a:cubicBezTo>
                <a:cubicBezTo>
                  <a:pt x="5140" y="8489"/>
                  <a:pt x="5140" y="8501"/>
                  <a:pt x="5129" y="8513"/>
                </a:cubicBezTo>
                <a:cubicBezTo>
                  <a:pt x="5129" y="8519"/>
                  <a:pt x="5123" y="8525"/>
                  <a:pt x="5123" y="8525"/>
                </a:cubicBezTo>
                <a:cubicBezTo>
                  <a:pt x="5117" y="8531"/>
                  <a:pt x="5111" y="8531"/>
                  <a:pt x="5111" y="8537"/>
                </a:cubicBezTo>
                <a:cubicBezTo>
                  <a:pt x="5105" y="8543"/>
                  <a:pt x="5111" y="8549"/>
                  <a:pt x="5111" y="8561"/>
                </a:cubicBezTo>
                <a:cubicBezTo>
                  <a:pt x="5111" y="8561"/>
                  <a:pt x="5105" y="8567"/>
                  <a:pt x="5111" y="8572"/>
                </a:cubicBezTo>
                <a:lnTo>
                  <a:pt x="5117" y="8578"/>
                </a:lnTo>
                <a:cubicBezTo>
                  <a:pt x="5123" y="8590"/>
                  <a:pt x="5123" y="8590"/>
                  <a:pt x="5123" y="8590"/>
                </a:cubicBezTo>
                <a:cubicBezTo>
                  <a:pt x="5129" y="8602"/>
                  <a:pt x="5135" y="8608"/>
                  <a:pt x="5135" y="8614"/>
                </a:cubicBezTo>
                <a:cubicBezTo>
                  <a:pt x="5135" y="8620"/>
                  <a:pt x="5129" y="8620"/>
                  <a:pt x="5129" y="8626"/>
                </a:cubicBezTo>
                <a:cubicBezTo>
                  <a:pt x="5123" y="8626"/>
                  <a:pt x="5117" y="8626"/>
                  <a:pt x="5111" y="8632"/>
                </a:cubicBezTo>
                <a:cubicBezTo>
                  <a:pt x="5105" y="8632"/>
                  <a:pt x="5099" y="8632"/>
                  <a:pt x="5099" y="8638"/>
                </a:cubicBezTo>
                <a:cubicBezTo>
                  <a:pt x="5093" y="8644"/>
                  <a:pt x="5093" y="8644"/>
                  <a:pt x="5093" y="8650"/>
                </a:cubicBezTo>
                <a:cubicBezTo>
                  <a:pt x="5093" y="8655"/>
                  <a:pt x="5093" y="8655"/>
                  <a:pt x="5093" y="8661"/>
                </a:cubicBezTo>
                <a:cubicBezTo>
                  <a:pt x="5087" y="8667"/>
                  <a:pt x="5081" y="8667"/>
                  <a:pt x="5081" y="8673"/>
                </a:cubicBezTo>
                <a:cubicBezTo>
                  <a:pt x="5081" y="8673"/>
                  <a:pt x="5081" y="8679"/>
                  <a:pt x="5081" y="8685"/>
                </a:cubicBezTo>
                <a:cubicBezTo>
                  <a:pt x="5075" y="8691"/>
                  <a:pt x="5075" y="8697"/>
                  <a:pt x="5075" y="8703"/>
                </a:cubicBezTo>
                <a:cubicBezTo>
                  <a:pt x="5075" y="8709"/>
                  <a:pt x="5075" y="8715"/>
                  <a:pt x="5081" y="8721"/>
                </a:cubicBezTo>
                <a:cubicBezTo>
                  <a:pt x="5087" y="8721"/>
                  <a:pt x="5093" y="8721"/>
                  <a:pt x="5093" y="8727"/>
                </a:cubicBezTo>
                <a:cubicBezTo>
                  <a:pt x="5099" y="8727"/>
                  <a:pt x="5099" y="8733"/>
                  <a:pt x="5105" y="8733"/>
                </a:cubicBezTo>
                <a:cubicBezTo>
                  <a:pt x="5140" y="8733"/>
                  <a:pt x="5140" y="8733"/>
                  <a:pt x="5140" y="8733"/>
                </a:cubicBezTo>
                <a:cubicBezTo>
                  <a:pt x="5152" y="8632"/>
                  <a:pt x="5152" y="8632"/>
                  <a:pt x="5152" y="8632"/>
                </a:cubicBezTo>
                <a:cubicBezTo>
                  <a:pt x="5194" y="8632"/>
                  <a:pt x="5194" y="8632"/>
                  <a:pt x="5194" y="8632"/>
                </a:cubicBezTo>
                <a:cubicBezTo>
                  <a:pt x="5194" y="8661"/>
                  <a:pt x="5194" y="8661"/>
                  <a:pt x="5194" y="8661"/>
                </a:cubicBezTo>
                <a:cubicBezTo>
                  <a:pt x="5188" y="8667"/>
                  <a:pt x="5188" y="8673"/>
                  <a:pt x="5188" y="8673"/>
                </a:cubicBezTo>
                <a:cubicBezTo>
                  <a:pt x="5182" y="8679"/>
                  <a:pt x="5176" y="8679"/>
                  <a:pt x="5176" y="8679"/>
                </a:cubicBezTo>
                <a:cubicBezTo>
                  <a:pt x="5170" y="8685"/>
                  <a:pt x="5170" y="8691"/>
                  <a:pt x="5164" y="8691"/>
                </a:cubicBezTo>
                <a:cubicBezTo>
                  <a:pt x="5164" y="8750"/>
                  <a:pt x="5164" y="8750"/>
                  <a:pt x="5164" y="8750"/>
                </a:cubicBezTo>
                <a:cubicBezTo>
                  <a:pt x="5164" y="8756"/>
                  <a:pt x="5158" y="8762"/>
                  <a:pt x="5158" y="8762"/>
                </a:cubicBezTo>
                <a:cubicBezTo>
                  <a:pt x="5152" y="8768"/>
                  <a:pt x="5146" y="8768"/>
                  <a:pt x="5146" y="8774"/>
                </a:cubicBezTo>
                <a:cubicBezTo>
                  <a:pt x="5140" y="8774"/>
                  <a:pt x="5140" y="8780"/>
                  <a:pt x="5140" y="8786"/>
                </a:cubicBezTo>
                <a:cubicBezTo>
                  <a:pt x="5140" y="8786"/>
                  <a:pt x="5140" y="8792"/>
                  <a:pt x="5140" y="8798"/>
                </a:cubicBezTo>
                <a:cubicBezTo>
                  <a:pt x="5140" y="8810"/>
                  <a:pt x="5146" y="8816"/>
                  <a:pt x="5146" y="8833"/>
                </a:cubicBezTo>
                <a:cubicBezTo>
                  <a:pt x="5146" y="8845"/>
                  <a:pt x="5146" y="8851"/>
                  <a:pt x="5146" y="8869"/>
                </a:cubicBezTo>
                <a:cubicBezTo>
                  <a:pt x="5146" y="8869"/>
                  <a:pt x="5140" y="8875"/>
                  <a:pt x="5140" y="8881"/>
                </a:cubicBezTo>
                <a:cubicBezTo>
                  <a:pt x="5129" y="8869"/>
                  <a:pt x="5129" y="8869"/>
                  <a:pt x="5129" y="8869"/>
                </a:cubicBezTo>
                <a:cubicBezTo>
                  <a:pt x="5123" y="8869"/>
                  <a:pt x="5123" y="8863"/>
                  <a:pt x="5117" y="8857"/>
                </a:cubicBezTo>
                <a:lnTo>
                  <a:pt x="5111" y="8857"/>
                </a:lnTo>
                <a:cubicBezTo>
                  <a:pt x="5105" y="8851"/>
                  <a:pt x="5111" y="8845"/>
                  <a:pt x="5111" y="8845"/>
                </a:cubicBezTo>
                <a:cubicBezTo>
                  <a:pt x="5111" y="8833"/>
                  <a:pt x="5111" y="8833"/>
                  <a:pt x="5111" y="8833"/>
                </a:cubicBezTo>
                <a:cubicBezTo>
                  <a:pt x="5111" y="8821"/>
                  <a:pt x="5105" y="8816"/>
                  <a:pt x="5105" y="8810"/>
                </a:cubicBezTo>
                <a:lnTo>
                  <a:pt x="5105" y="8816"/>
                </a:lnTo>
                <a:cubicBezTo>
                  <a:pt x="5099" y="8816"/>
                  <a:pt x="5093" y="8816"/>
                  <a:pt x="5087" y="8816"/>
                </a:cubicBezTo>
                <a:cubicBezTo>
                  <a:pt x="5087" y="8851"/>
                  <a:pt x="5087" y="8851"/>
                  <a:pt x="5087" y="8851"/>
                </a:cubicBezTo>
                <a:cubicBezTo>
                  <a:pt x="5093" y="8851"/>
                  <a:pt x="5099" y="8851"/>
                  <a:pt x="5099" y="8851"/>
                </a:cubicBezTo>
                <a:cubicBezTo>
                  <a:pt x="5105" y="8857"/>
                  <a:pt x="5105" y="8863"/>
                  <a:pt x="5105" y="8863"/>
                </a:cubicBezTo>
                <a:cubicBezTo>
                  <a:pt x="5111" y="8869"/>
                  <a:pt x="5117" y="8869"/>
                  <a:pt x="5117" y="8875"/>
                </a:cubicBezTo>
                <a:cubicBezTo>
                  <a:pt x="5117" y="8875"/>
                  <a:pt x="5123" y="8881"/>
                  <a:pt x="5123" y="8887"/>
                </a:cubicBezTo>
                <a:lnTo>
                  <a:pt x="5123" y="8893"/>
                </a:lnTo>
                <a:cubicBezTo>
                  <a:pt x="5123" y="8899"/>
                  <a:pt x="5123" y="8905"/>
                  <a:pt x="5123" y="8905"/>
                </a:cubicBezTo>
                <a:cubicBezTo>
                  <a:pt x="5129" y="8916"/>
                  <a:pt x="5123" y="8922"/>
                  <a:pt x="5123" y="8928"/>
                </a:cubicBezTo>
                <a:lnTo>
                  <a:pt x="5117" y="8922"/>
                </a:lnTo>
                <a:close/>
                <a:moveTo>
                  <a:pt x="5259" y="5241"/>
                </a:moveTo>
                <a:lnTo>
                  <a:pt x="5259" y="5241"/>
                </a:lnTo>
                <a:cubicBezTo>
                  <a:pt x="5271" y="5235"/>
                  <a:pt x="5271" y="5224"/>
                  <a:pt x="5283" y="5218"/>
                </a:cubicBezTo>
                <a:cubicBezTo>
                  <a:pt x="5289" y="5218"/>
                  <a:pt x="5301" y="5212"/>
                  <a:pt x="5306" y="5212"/>
                </a:cubicBezTo>
                <a:cubicBezTo>
                  <a:pt x="5312" y="5212"/>
                  <a:pt x="5318" y="5212"/>
                  <a:pt x="5330" y="5212"/>
                </a:cubicBezTo>
                <a:cubicBezTo>
                  <a:pt x="5336" y="5212"/>
                  <a:pt x="5342" y="5218"/>
                  <a:pt x="5348" y="5218"/>
                </a:cubicBezTo>
                <a:cubicBezTo>
                  <a:pt x="5360" y="5218"/>
                  <a:pt x="5366" y="5212"/>
                  <a:pt x="5372" y="5212"/>
                </a:cubicBezTo>
                <a:cubicBezTo>
                  <a:pt x="5390" y="5212"/>
                  <a:pt x="5401" y="5212"/>
                  <a:pt x="5419" y="5212"/>
                </a:cubicBezTo>
                <a:cubicBezTo>
                  <a:pt x="5437" y="5212"/>
                  <a:pt x="5449" y="5206"/>
                  <a:pt x="5467" y="5206"/>
                </a:cubicBezTo>
                <a:cubicBezTo>
                  <a:pt x="5472" y="5206"/>
                  <a:pt x="5479" y="5200"/>
                  <a:pt x="5490" y="5200"/>
                </a:cubicBezTo>
                <a:cubicBezTo>
                  <a:pt x="5496" y="5200"/>
                  <a:pt x="5502" y="5206"/>
                  <a:pt x="5508" y="5206"/>
                </a:cubicBezTo>
                <a:cubicBezTo>
                  <a:pt x="5526" y="5206"/>
                  <a:pt x="5538" y="5212"/>
                  <a:pt x="5556" y="5212"/>
                </a:cubicBezTo>
                <a:cubicBezTo>
                  <a:pt x="5579" y="5212"/>
                  <a:pt x="5579" y="5212"/>
                  <a:pt x="5579" y="5212"/>
                </a:cubicBezTo>
                <a:cubicBezTo>
                  <a:pt x="5591" y="5212"/>
                  <a:pt x="5591" y="5200"/>
                  <a:pt x="5603" y="5200"/>
                </a:cubicBezTo>
                <a:cubicBezTo>
                  <a:pt x="5597" y="5194"/>
                  <a:pt x="5585" y="5194"/>
                  <a:pt x="5579" y="5188"/>
                </a:cubicBezTo>
                <a:cubicBezTo>
                  <a:pt x="5573" y="5176"/>
                  <a:pt x="5579" y="5164"/>
                  <a:pt x="5579" y="5152"/>
                </a:cubicBezTo>
                <a:cubicBezTo>
                  <a:pt x="5550" y="5158"/>
                  <a:pt x="5538" y="5164"/>
                  <a:pt x="5508" y="5164"/>
                </a:cubicBezTo>
                <a:cubicBezTo>
                  <a:pt x="5490" y="5164"/>
                  <a:pt x="5490" y="5164"/>
                  <a:pt x="5490" y="5164"/>
                </a:cubicBezTo>
                <a:cubicBezTo>
                  <a:pt x="5472" y="5164"/>
                  <a:pt x="5467" y="5152"/>
                  <a:pt x="5455" y="5152"/>
                </a:cubicBezTo>
                <a:cubicBezTo>
                  <a:pt x="5443" y="5152"/>
                  <a:pt x="5443" y="5152"/>
                  <a:pt x="5443" y="5152"/>
                </a:cubicBezTo>
                <a:cubicBezTo>
                  <a:pt x="5431" y="5152"/>
                  <a:pt x="5431" y="5170"/>
                  <a:pt x="5419" y="5170"/>
                </a:cubicBezTo>
                <a:cubicBezTo>
                  <a:pt x="5413" y="5170"/>
                  <a:pt x="5407" y="5170"/>
                  <a:pt x="5395" y="5170"/>
                </a:cubicBezTo>
                <a:cubicBezTo>
                  <a:pt x="5390" y="5170"/>
                  <a:pt x="5378" y="5170"/>
                  <a:pt x="5372" y="5170"/>
                </a:cubicBezTo>
                <a:cubicBezTo>
                  <a:pt x="5366" y="5170"/>
                  <a:pt x="5360" y="5158"/>
                  <a:pt x="5348" y="5152"/>
                </a:cubicBezTo>
                <a:cubicBezTo>
                  <a:pt x="5342" y="5152"/>
                  <a:pt x="5336" y="5152"/>
                  <a:pt x="5330" y="5146"/>
                </a:cubicBezTo>
                <a:cubicBezTo>
                  <a:pt x="5318" y="5146"/>
                  <a:pt x="5312" y="5135"/>
                  <a:pt x="5306" y="5129"/>
                </a:cubicBezTo>
                <a:cubicBezTo>
                  <a:pt x="5289" y="5129"/>
                  <a:pt x="5277" y="5129"/>
                  <a:pt x="5259" y="5129"/>
                </a:cubicBezTo>
                <a:cubicBezTo>
                  <a:pt x="5241" y="5129"/>
                  <a:pt x="5229" y="5123"/>
                  <a:pt x="5212" y="5123"/>
                </a:cubicBezTo>
                <a:cubicBezTo>
                  <a:pt x="5194" y="5123"/>
                  <a:pt x="5188" y="5129"/>
                  <a:pt x="5170" y="5129"/>
                </a:cubicBezTo>
                <a:cubicBezTo>
                  <a:pt x="5170" y="5200"/>
                  <a:pt x="5170" y="5200"/>
                  <a:pt x="5170" y="5200"/>
                </a:cubicBezTo>
                <a:cubicBezTo>
                  <a:pt x="5176" y="5206"/>
                  <a:pt x="5182" y="5218"/>
                  <a:pt x="5188" y="5224"/>
                </a:cubicBezTo>
                <a:cubicBezTo>
                  <a:pt x="5200" y="5230"/>
                  <a:pt x="5206" y="5235"/>
                  <a:pt x="5212" y="5241"/>
                </a:cubicBezTo>
                <a:cubicBezTo>
                  <a:pt x="5235" y="5241"/>
                  <a:pt x="5235" y="5241"/>
                  <a:pt x="5235" y="5241"/>
                </a:cubicBezTo>
                <a:cubicBezTo>
                  <a:pt x="5247" y="5241"/>
                  <a:pt x="5253" y="5241"/>
                  <a:pt x="5259" y="5241"/>
                </a:cubicBezTo>
                <a:close/>
                <a:moveTo>
                  <a:pt x="4992" y="5224"/>
                </a:moveTo>
                <a:lnTo>
                  <a:pt x="4992" y="5224"/>
                </a:lnTo>
                <a:cubicBezTo>
                  <a:pt x="4986" y="5218"/>
                  <a:pt x="4992" y="5206"/>
                  <a:pt x="4986" y="5200"/>
                </a:cubicBezTo>
                <a:cubicBezTo>
                  <a:pt x="4980" y="5194"/>
                  <a:pt x="4969" y="5200"/>
                  <a:pt x="4963" y="5194"/>
                </a:cubicBezTo>
                <a:cubicBezTo>
                  <a:pt x="4957" y="5188"/>
                  <a:pt x="4951" y="5182"/>
                  <a:pt x="4939" y="5182"/>
                </a:cubicBezTo>
                <a:cubicBezTo>
                  <a:pt x="4874" y="5182"/>
                  <a:pt x="4874" y="5182"/>
                  <a:pt x="4874" y="5182"/>
                </a:cubicBezTo>
                <a:cubicBezTo>
                  <a:pt x="4880" y="5194"/>
                  <a:pt x="4880" y="5206"/>
                  <a:pt x="4891" y="5212"/>
                </a:cubicBezTo>
                <a:cubicBezTo>
                  <a:pt x="4903" y="5212"/>
                  <a:pt x="4909" y="5206"/>
                  <a:pt x="4915" y="5212"/>
                </a:cubicBezTo>
                <a:cubicBezTo>
                  <a:pt x="4927" y="5218"/>
                  <a:pt x="4933" y="5218"/>
                  <a:pt x="4939" y="5224"/>
                </a:cubicBezTo>
                <a:cubicBezTo>
                  <a:pt x="4945" y="5230"/>
                  <a:pt x="4939" y="5235"/>
                  <a:pt x="4945" y="5247"/>
                </a:cubicBezTo>
                <a:cubicBezTo>
                  <a:pt x="4951" y="5241"/>
                  <a:pt x="4963" y="5247"/>
                  <a:pt x="4969" y="5247"/>
                </a:cubicBezTo>
                <a:cubicBezTo>
                  <a:pt x="4980" y="5241"/>
                  <a:pt x="4980" y="5230"/>
                  <a:pt x="4992" y="5224"/>
                </a:cubicBezTo>
                <a:close/>
                <a:moveTo>
                  <a:pt x="5093" y="5093"/>
                </a:moveTo>
                <a:lnTo>
                  <a:pt x="5093" y="5093"/>
                </a:lnTo>
                <a:cubicBezTo>
                  <a:pt x="5081" y="5075"/>
                  <a:pt x="5069" y="5063"/>
                  <a:pt x="5052" y="5052"/>
                </a:cubicBezTo>
                <a:cubicBezTo>
                  <a:pt x="5034" y="5040"/>
                  <a:pt x="5028" y="5022"/>
                  <a:pt x="5004" y="5022"/>
                </a:cubicBezTo>
                <a:cubicBezTo>
                  <a:pt x="4980" y="5022"/>
                  <a:pt x="4980" y="5022"/>
                  <a:pt x="4980" y="5022"/>
                </a:cubicBezTo>
                <a:cubicBezTo>
                  <a:pt x="4957" y="5022"/>
                  <a:pt x="4951" y="5022"/>
                  <a:pt x="4927" y="5022"/>
                </a:cubicBezTo>
                <a:cubicBezTo>
                  <a:pt x="4921" y="5022"/>
                  <a:pt x="4915" y="5022"/>
                  <a:pt x="4903" y="5022"/>
                </a:cubicBezTo>
                <a:cubicBezTo>
                  <a:pt x="4897" y="5022"/>
                  <a:pt x="4891" y="5016"/>
                  <a:pt x="4880" y="5010"/>
                </a:cubicBezTo>
                <a:cubicBezTo>
                  <a:pt x="4874" y="5004"/>
                  <a:pt x="4874" y="4992"/>
                  <a:pt x="4868" y="4986"/>
                </a:cubicBezTo>
                <a:cubicBezTo>
                  <a:pt x="4856" y="4986"/>
                  <a:pt x="4850" y="4980"/>
                  <a:pt x="4844" y="4975"/>
                </a:cubicBezTo>
                <a:cubicBezTo>
                  <a:pt x="4826" y="4969"/>
                  <a:pt x="4814" y="4963"/>
                  <a:pt x="4797" y="4957"/>
                </a:cubicBezTo>
                <a:cubicBezTo>
                  <a:pt x="4773" y="4945"/>
                  <a:pt x="4773" y="4945"/>
                  <a:pt x="4773" y="4945"/>
                </a:cubicBezTo>
                <a:cubicBezTo>
                  <a:pt x="4767" y="4939"/>
                  <a:pt x="4767" y="4921"/>
                  <a:pt x="4755" y="4921"/>
                </a:cubicBezTo>
                <a:cubicBezTo>
                  <a:pt x="4743" y="4915"/>
                  <a:pt x="4731" y="4921"/>
                  <a:pt x="4720" y="4921"/>
                </a:cubicBezTo>
                <a:cubicBezTo>
                  <a:pt x="4708" y="4921"/>
                  <a:pt x="4696" y="4921"/>
                  <a:pt x="4684" y="4921"/>
                </a:cubicBezTo>
                <a:cubicBezTo>
                  <a:pt x="4672" y="4921"/>
                  <a:pt x="4672" y="4933"/>
                  <a:pt x="4660" y="4933"/>
                </a:cubicBezTo>
                <a:cubicBezTo>
                  <a:pt x="4648" y="4933"/>
                  <a:pt x="4648" y="4927"/>
                  <a:pt x="4636" y="4927"/>
                </a:cubicBezTo>
                <a:cubicBezTo>
                  <a:pt x="4589" y="4927"/>
                  <a:pt x="4589" y="4927"/>
                  <a:pt x="4589" y="4927"/>
                </a:cubicBezTo>
                <a:cubicBezTo>
                  <a:pt x="4577" y="4927"/>
                  <a:pt x="4571" y="4921"/>
                  <a:pt x="4565" y="4927"/>
                </a:cubicBezTo>
                <a:cubicBezTo>
                  <a:pt x="4554" y="4927"/>
                  <a:pt x="4547" y="4921"/>
                  <a:pt x="4542" y="4927"/>
                </a:cubicBezTo>
                <a:cubicBezTo>
                  <a:pt x="4530" y="4933"/>
                  <a:pt x="4524" y="4945"/>
                  <a:pt x="4524" y="4963"/>
                </a:cubicBezTo>
                <a:cubicBezTo>
                  <a:pt x="4524" y="4975"/>
                  <a:pt x="4536" y="4986"/>
                  <a:pt x="4547" y="4992"/>
                </a:cubicBezTo>
                <a:cubicBezTo>
                  <a:pt x="4559" y="5004"/>
                  <a:pt x="4577" y="5004"/>
                  <a:pt x="4595" y="5004"/>
                </a:cubicBezTo>
                <a:cubicBezTo>
                  <a:pt x="4607" y="5004"/>
                  <a:pt x="4613" y="5004"/>
                  <a:pt x="4619" y="5004"/>
                </a:cubicBezTo>
                <a:cubicBezTo>
                  <a:pt x="4636" y="4998"/>
                  <a:pt x="4648" y="4980"/>
                  <a:pt x="4666" y="4975"/>
                </a:cubicBezTo>
                <a:cubicBezTo>
                  <a:pt x="4672" y="4975"/>
                  <a:pt x="4678" y="4975"/>
                  <a:pt x="4690" y="4975"/>
                </a:cubicBezTo>
                <a:cubicBezTo>
                  <a:pt x="4720" y="4975"/>
                  <a:pt x="4737" y="4986"/>
                  <a:pt x="4755" y="5004"/>
                </a:cubicBezTo>
                <a:cubicBezTo>
                  <a:pt x="4767" y="5010"/>
                  <a:pt x="4761" y="5022"/>
                  <a:pt x="4767" y="5028"/>
                </a:cubicBezTo>
                <a:cubicBezTo>
                  <a:pt x="4773" y="5034"/>
                  <a:pt x="4785" y="5034"/>
                  <a:pt x="4791" y="5034"/>
                </a:cubicBezTo>
                <a:cubicBezTo>
                  <a:pt x="4802" y="5034"/>
                  <a:pt x="4802" y="5046"/>
                  <a:pt x="4814" y="5046"/>
                </a:cubicBezTo>
                <a:cubicBezTo>
                  <a:pt x="4826" y="5046"/>
                  <a:pt x="4832" y="5040"/>
                  <a:pt x="4844" y="5046"/>
                </a:cubicBezTo>
                <a:cubicBezTo>
                  <a:pt x="4856" y="5046"/>
                  <a:pt x="4856" y="5063"/>
                  <a:pt x="4868" y="5069"/>
                </a:cubicBezTo>
                <a:cubicBezTo>
                  <a:pt x="4880" y="5081"/>
                  <a:pt x="4897" y="5093"/>
                  <a:pt x="4915" y="5093"/>
                </a:cubicBezTo>
                <a:lnTo>
                  <a:pt x="5093" y="5093"/>
                </a:lnTo>
                <a:close/>
                <a:moveTo>
                  <a:pt x="7850" y="1998"/>
                </a:moveTo>
                <a:lnTo>
                  <a:pt x="7850" y="1998"/>
                </a:lnTo>
                <a:cubicBezTo>
                  <a:pt x="7862" y="1992"/>
                  <a:pt x="7862" y="1986"/>
                  <a:pt x="7874" y="1986"/>
                </a:cubicBezTo>
                <a:cubicBezTo>
                  <a:pt x="7880" y="1986"/>
                  <a:pt x="7892" y="1986"/>
                  <a:pt x="7897" y="1986"/>
                </a:cubicBezTo>
                <a:cubicBezTo>
                  <a:pt x="7903" y="1986"/>
                  <a:pt x="7909" y="1998"/>
                  <a:pt x="7915" y="2004"/>
                </a:cubicBezTo>
                <a:cubicBezTo>
                  <a:pt x="7921" y="2010"/>
                  <a:pt x="7933" y="2004"/>
                  <a:pt x="7939" y="2016"/>
                </a:cubicBezTo>
                <a:cubicBezTo>
                  <a:pt x="7945" y="2022"/>
                  <a:pt x="7933" y="2034"/>
                  <a:pt x="7939" y="2040"/>
                </a:cubicBezTo>
                <a:cubicBezTo>
                  <a:pt x="7927" y="2040"/>
                  <a:pt x="7921" y="2034"/>
                  <a:pt x="7915" y="2034"/>
                </a:cubicBezTo>
                <a:cubicBezTo>
                  <a:pt x="7886" y="2034"/>
                  <a:pt x="7874" y="2034"/>
                  <a:pt x="7844" y="2034"/>
                </a:cubicBezTo>
                <a:cubicBezTo>
                  <a:pt x="7838" y="2034"/>
                  <a:pt x="7832" y="2040"/>
                  <a:pt x="7820" y="2040"/>
                </a:cubicBezTo>
                <a:cubicBezTo>
                  <a:pt x="7826" y="2075"/>
                  <a:pt x="7826" y="2075"/>
                  <a:pt x="7826" y="2075"/>
                </a:cubicBezTo>
                <a:cubicBezTo>
                  <a:pt x="7838" y="2075"/>
                  <a:pt x="7844" y="2069"/>
                  <a:pt x="7850" y="2069"/>
                </a:cubicBezTo>
                <a:cubicBezTo>
                  <a:pt x="7897" y="2069"/>
                  <a:pt x="7897" y="2069"/>
                  <a:pt x="7897" y="2069"/>
                </a:cubicBezTo>
                <a:lnTo>
                  <a:pt x="7903" y="2075"/>
                </a:lnTo>
                <a:cubicBezTo>
                  <a:pt x="7903" y="2123"/>
                  <a:pt x="7903" y="2123"/>
                  <a:pt x="7903" y="2123"/>
                </a:cubicBezTo>
                <a:cubicBezTo>
                  <a:pt x="7915" y="2146"/>
                  <a:pt x="7915" y="2146"/>
                  <a:pt x="7915" y="2146"/>
                </a:cubicBezTo>
                <a:cubicBezTo>
                  <a:pt x="7939" y="2146"/>
                  <a:pt x="7939" y="2146"/>
                  <a:pt x="7939" y="2146"/>
                </a:cubicBezTo>
                <a:cubicBezTo>
                  <a:pt x="7945" y="2146"/>
                  <a:pt x="7951" y="2141"/>
                  <a:pt x="7957" y="2141"/>
                </a:cubicBezTo>
                <a:cubicBezTo>
                  <a:pt x="7975" y="2141"/>
                  <a:pt x="7986" y="2141"/>
                  <a:pt x="8004" y="2141"/>
                </a:cubicBezTo>
                <a:cubicBezTo>
                  <a:pt x="8028" y="2141"/>
                  <a:pt x="8028" y="2141"/>
                  <a:pt x="8028" y="2141"/>
                </a:cubicBezTo>
                <a:cubicBezTo>
                  <a:pt x="8034" y="2141"/>
                  <a:pt x="8046" y="2134"/>
                  <a:pt x="8052" y="2141"/>
                </a:cubicBezTo>
                <a:cubicBezTo>
                  <a:pt x="8064" y="2146"/>
                  <a:pt x="8058" y="2158"/>
                  <a:pt x="8069" y="2164"/>
                </a:cubicBezTo>
                <a:cubicBezTo>
                  <a:pt x="8075" y="2164"/>
                  <a:pt x="8081" y="2170"/>
                  <a:pt x="8093" y="2176"/>
                </a:cubicBezTo>
                <a:cubicBezTo>
                  <a:pt x="8105" y="2176"/>
                  <a:pt x="8111" y="2176"/>
                  <a:pt x="8123" y="2176"/>
                </a:cubicBezTo>
                <a:cubicBezTo>
                  <a:pt x="8141" y="2176"/>
                  <a:pt x="8147" y="2176"/>
                  <a:pt x="8158" y="2176"/>
                </a:cubicBezTo>
                <a:cubicBezTo>
                  <a:pt x="8170" y="2170"/>
                  <a:pt x="8176" y="2164"/>
                  <a:pt x="8182" y="2158"/>
                </a:cubicBezTo>
                <a:cubicBezTo>
                  <a:pt x="8194" y="2146"/>
                  <a:pt x="8188" y="2134"/>
                  <a:pt x="8200" y="2129"/>
                </a:cubicBezTo>
                <a:cubicBezTo>
                  <a:pt x="8206" y="2123"/>
                  <a:pt x="8212" y="2117"/>
                  <a:pt x="8224" y="2111"/>
                </a:cubicBezTo>
                <a:cubicBezTo>
                  <a:pt x="8230" y="2111"/>
                  <a:pt x="8235" y="2111"/>
                  <a:pt x="8247" y="2111"/>
                </a:cubicBezTo>
                <a:cubicBezTo>
                  <a:pt x="8259" y="2105"/>
                  <a:pt x="8259" y="2093"/>
                  <a:pt x="8265" y="2087"/>
                </a:cubicBezTo>
                <a:cubicBezTo>
                  <a:pt x="8283" y="2081"/>
                  <a:pt x="8295" y="2075"/>
                  <a:pt x="8313" y="2069"/>
                </a:cubicBezTo>
                <a:cubicBezTo>
                  <a:pt x="8342" y="2069"/>
                  <a:pt x="8366" y="2069"/>
                  <a:pt x="8402" y="2069"/>
                </a:cubicBezTo>
                <a:cubicBezTo>
                  <a:pt x="8402" y="2028"/>
                  <a:pt x="8402" y="2028"/>
                  <a:pt x="8402" y="2028"/>
                </a:cubicBezTo>
                <a:cubicBezTo>
                  <a:pt x="8396" y="2016"/>
                  <a:pt x="8396" y="2004"/>
                  <a:pt x="8390" y="2004"/>
                </a:cubicBezTo>
                <a:cubicBezTo>
                  <a:pt x="8366" y="1992"/>
                  <a:pt x="8366" y="1992"/>
                  <a:pt x="8366" y="1992"/>
                </a:cubicBezTo>
                <a:cubicBezTo>
                  <a:pt x="8360" y="1986"/>
                  <a:pt x="8348" y="1992"/>
                  <a:pt x="8342" y="1992"/>
                </a:cubicBezTo>
                <a:cubicBezTo>
                  <a:pt x="8342" y="1980"/>
                  <a:pt x="8342" y="1975"/>
                  <a:pt x="8342" y="1968"/>
                </a:cubicBezTo>
                <a:cubicBezTo>
                  <a:pt x="8342" y="1957"/>
                  <a:pt x="8354" y="1957"/>
                  <a:pt x="8354" y="1945"/>
                </a:cubicBezTo>
                <a:cubicBezTo>
                  <a:pt x="8354" y="1933"/>
                  <a:pt x="8348" y="1927"/>
                  <a:pt x="8348" y="1915"/>
                </a:cubicBezTo>
                <a:cubicBezTo>
                  <a:pt x="8295" y="1915"/>
                  <a:pt x="8295" y="1915"/>
                  <a:pt x="8295" y="1915"/>
                </a:cubicBezTo>
                <a:cubicBezTo>
                  <a:pt x="8283" y="1915"/>
                  <a:pt x="8277" y="1921"/>
                  <a:pt x="8265" y="1921"/>
                </a:cubicBezTo>
                <a:cubicBezTo>
                  <a:pt x="8259" y="1927"/>
                  <a:pt x="8253" y="1933"/>
                  <a:pt x="8247" y="1939"/>
                </a:cubicBezTo>
                <a:cubicBezTo>
                  <a:pt x="8235" y="1945"/>
                  <a:pt x="8230" y="1951"/>
                  <a:pt x="8218" y="1951"/>
                </a:cubicBezTo>
                <a:cubicBezTo>
                  <a:pt x="8212" y="1951"/>
                  <a:pt x="8212" y="1963"/>
                  <a:pt x="8206" y="1963"/>
                </a:cubicBezTo>
                <a:cubicBezTo>
                  <a:pt x="8194" y="1963"/>
                  <a:pt x="8188" y="1957"/>
                  <a:pt x="8182" y="1957"/>
                </a:cubicBezTo>
                <a:cubicBezTo>
                  <a:pt x="8164" y="1957"/>
                  <a:pt x="8152" y="1951"/>
                  <a:pt x="8135" y="1951"/>
                </a:cubicBezTo>
                <a:cubicBezTo>
                  <a:pt x="8117" y="1951"/>
                  <a:pt x="8105" y="1957"/>
                  <a:pt x="8093" y="1957"/>
                </a:cubicBezTo>
                <a:cubicBezTo>
                  <a:pt x="8069" y="1963"/>
                  <a:pt x="8064" y="1980"/>
                  <a:pt x="8040" y="1980"/>
                </a:cubicBezTo>
                <a:cubicBezTo>
                  <a:pt x="7992" y="1980"/>
                  <a:pt x="7992" y="1980"/>
                  <a:pt x="7992" y="1980"/>
                </a:cubicBezTo>
                <a:cubicBezTo>
                  <a:pt x="7992" y="1957"/>
                  <a:pt x="7992" y="1957"/>
                  <a:pt x="7992" y="1957"/>
                </a:cubicBezTo>
                <a:cubicBezTo>
                  <a:pt x="7992" y="1933"/>
                  <a:pt x="7992" y="1933"/>
                  <a:pt x="7992" y="1933"/>
                </a:cubicBezTo>
                <a:cubicBezTo>
                  <a:pt x="7992" y="1921"/>
                  <a:pt x="7980" y="1921"/>
                  <a:pt x="7975" y="1909"/>
                </a:cubicBezTo>
                <a:cubicBezTo>
                  <a:pt x="7957" y="1915"/>
                  <a:pt x="7957" y="1915"/>
                  <a:pt x="7957" y="1915"/>
                </a:cubicBezTo>
                <a:cubicBezTo>
                  <a:pt x="7957" y="1939"/>
                  <a:pt x="7957" y="1939"/>
                  <a:pt x="7957" y="1939"/>
                </a:cubicBezTo>
                <a:cubicBezTo>
                  <a:pt x="7939" y="1933"/>
                  <a:pt x="7933" y="1927"/>
                  <a:pt x="7921" y="1927"/>
                </a:cubicBezTo>
                <a:cubicBezTo>
                  <a:pt x="7909" y="1927"/>
                  <a:pt x="7897" y="1933"/>
                  <a:pt x="7886" y="1933"/>
                </a:cubicBezTo>
                <a:cubicBezTo>
                  <a:pt x="7880" y="1933"/>
                  <a:pt x="7868" y="1933"/>
                  <a:pt x="7862" y="1933"/>
                </a:cubicBezTo>
                <a:cubicBezTo>
                  <a:pt x="7856" y="1939"/>
                  <a:pt x="7844" y="1939"/>
                  <a:pt x="7838" y="1945"/>
                </a:cubicBezTo>
                <a:cubicBezTo>
                  <a:pt x="7832" y="1951"/>
                  <a:pt x="7820" y="1957"/>
                  <a:pt x="7820" y="1968"/>
                </a:cubicBezTo>
                <a:cubicBezTo>
                  <a:pt x="7820" y="1980"/>
                  <a:pt x="7826" y="1986"/>
                  <a:pt x="7826" y="1998"/>
                </a:cubicBezTo>
                <a:cubicBezTo>
                  <a:pt x="7838" y="1992"/>
                  <a:pt x="7844" y="1998"/>
                  <a:pt x="7850" y="1998"/>
                </a:cubicBezTo>
                <a:close/>
                <a:moveTo>
                  <a:pt x="6095" y="3137"/>
                </a:moveTo>
                <a:lnTo>
                  <a:pt x="6095" y="3137"/>
                </a:lnTo>
                <a:cubicBezTo>
                  <a:pt x="6083" y="3142"/>
                  <a:pt x="6077" y="3142"/>
                  <a:pt x="6071" y="3148"/>
                </a:cubicBezTo>
                <a:cubicBezTo>
                  <a:pt x="6065" y="3154"/>
                  <a:pt x="6071" y="3166"/>
                  <a:pt x="6071" y="3172"/>
                </a:cubicBezTo>
                <a:cubicBezTo>
                  <a:pt x="6065" y="3184"/>
                  <a:pt x="6065" y="3190"/>
                  <a:pt x="6065" y="3202"/>
                </a:cubicBezTo>
                <a:cubicBezTo>
                  <a:pt x="6065" y="3214"/>
                  <a:pt x="6054" y="3214"/>
                  <a:pt x="6048" y="3225"/>
                </a:cubicBezTo>
                <a:cubicBezTo>
                  <a:pt x="6042" y="3231"/>
                  <a:pt x="6036" y="3237"/>
                  <a:pt x="6030" y="3249"/>
                </a:cubicBezTo>
                <a:cubicBezTo>
                  <a:pt x="6018" y="3261"/>
                  <a:pt x="6006" y="3279"/>
                  <a:pt x="5988" y="3291"/>
                </a:cubicBezTo>
                <a:cubicBezTo>
                  <a:pt x="5965" y="3314"/>
                  <a:pt x="5947" y="3332"/>
                  <a:pt x="5947" y="3368"/>
                </a:cubicBezTo>
                <a:cubicBezTo>
                  <a:pt x="5947" y="3380"/>
                  <a:pt x="5953" y="3386"/>
                  <a:pt x="5953" y="3397"/>
                </a:cubicBezTo>
                <a:cubicBezTo>
                  <a:pt x="6113" y="3397"/>
                  <a:pt x="6113" y="3397"/>
                  <a:pt x="6113" y="3397"/>
                </a:cubicBezTo>
                <a:cubicBezTo>
                  <a:pt x="6136" y="3397"/>
                  <a:pt x="6148" y="3415"/>
                  <a:pt x="6160" y="3427"/>
                </a:cubicBezTo>
                <a:cubicBezTo>
                  <a:pt x="6178" y="3445"/>
                  <a:pt x="6184" y="3457"/>
                  <a:pt x="6208" y="3463"/>
                </a:cubicBezTo>
                <a:cubicBezTo>
                  <a:pt x="6214" y="3457"/>
                  <a:pt x="6225" y="3457"/>
                  <a:pt x="6231" y="3445"/>
                </a:cubicBezTo>
                <a:cubicBezTo>
                  <a:pt x="6231" y="3433"/>
                  <a:pt x="6231" y="3415"/>
                  <a:pt x="6231" y="3403"/>
                </a:cubicBezTo>
                <a:cubicBezTo>
                  <a:pt x="6231" y="3391"/>
                  <a:pt x="6225" y="3386"/>
                  <a:pt x="6225" y="3380"/>
                </a:cubicBezTo>
                <a:cubicBezTo>
                  <a:pt x="6225" y="3356"/>
                  <a:pt x="6237" y="3350"/>
                  <a:pt x="6249" y="3332"/>
                </a:cubicBezTo>
                <a:cubicBezTo>
                  <a:pt x="6243" y="3309"/>
                  <a:pt x="6243" y="3309"/>
                  <a:pt x="6243" y="3309"/>
                </a:cubicBezTo>
                <a:cubicBezTo>
                  <a:pt x="6231" y="3309"/>
                  <a:pt x="6225" y="3314"/>
                  <a:pt x="6220" y="3309"/>
                </a:cubicBezTo>
                <a:cubicBezTo>
                  <a:pt x="6202" y="3303"/>
                  <a:pt x="6190" y="3291"/>
                  <a:pt x="6172" y="3279"/>
                </a:cubicBezTo>
                <a:cubicBezTo>
                  <a:pt x="6160" y="3273"/>
                  <a:pt x="6160" y="3261"/>
                  <a:pt x="6148" y="3261"/>
                </a:cubicBezTo>
                <a:cubicBezTo>
                  <a:pt x="6143" y="3255"/>
                  <a:pt x="6136" y="3255"/>
                  <a:pt x="6125" y="3255"/>
                </a:cubicBezTo>
                <a:cubicBezTo>
                  <a:pt x="6119" y="3249"/>
                  <a:pt x="6113" y="3255"/>
                  <a:pt x="6107" y="3255"/>
                </a:cubicBezTo>
                <a:cubicBezTo>
                  <a:pt x="6095" y="3249"/>
                  <a:pt x="6089" y="3243"/>
                  <a:pt x="6083" y="3243"/>
                </a:cubicBezTo>
                <a:cubicBezTo>
                  <a:pt x="6089" y="3225"/>
                  <a:pt x="6089" y="3208"/>
                  <a:pt x="6101" y="3196"/>
                </a:cubicBezTo>
                <a:cubicBezTo>
                  <a:pt x="6101" y="3190"/>
                  <a:pt x="6119" y="3190"/>
                  <a:pt x="6119" y="3184"/>
                </a:cubicBezTo>
                <a:cubicBezTo>
                  <a:pt x="6125" y="3178"/>
                  <a:pt x="6125" y="3172"/>
                  <a:pt x="6125" y="3160"/>
                </a:cubicBezTo>
                <a:cubicBezTo>
                  <a:pt x="6125" y="3148"/>
                  <a:pt x="6119" y="3148"/>
                  <a:pt x="6113" y="3137"/>
                </a:cubicBezTo>
                <a:cubicBezTo>
                  <a:pt x="6107" y="3142"/>
                  <a:pt x="6101" y="3137"/>
                  <a:pt x="6095" y="3137"/>
                </a:cubicBezTo>
                <a:close/>
                <a:moveTo>
                  <a:pt x="5787" y="3261"/>
                </a:moveTo>
                <a:lnTo>
                  <a:pt x="5787" y="3261"/>
                </a:lnTo>
                <a:cubicBezTo>
                  <a:pt x="5775" y="3261"/>
                  <a:pt x="5769" y="3255"/>
                  <a:pt x="5763" y="3255"/>
                </a:cubicBezTo>
                <a:cubicBezTo>
                  <a:pt x="5757" y="3249"/>
                  <a:pt x="5745" y="3255"/>
                  <a:pt x="5739" y="3255"/>
                </a:cubicBezTo>
                <a:cubicBezTo>
                  <a:pt x="5727" y="3249"/>
                  <a:pt x="5727" y="3243"/>
                  <a:pt x="5716" y="3243"/>
                </a:cubicBezTo>
                <a:cubicBezTo>
                  <a:pt x="5704" y="3237"/>
                  <a:pt x="5704" y="3225"/>
                  <a:pt x="5692" y="3220"/>
                </a:cubicBezTo>
                <a:cubicBezTo>
                  <a:pt x="5686" y="3214"/>
                  <a:pt x="5680" y="3220"/>
                  <a:pt x="5668" y="3220"/>
                </a:cubicBezTo>
                <a:cubicBezTo>
                  <a:pt x="5650" y="3231"/>
                  <a:pt x="5650" y="3231"/>
                  <a:pt x="5650" y="3231"/>
                </a:cubicBezTo>
                <a:cubicBezTo>
                  <a:pt x="5656" y="3231"/>
                  <a:pt x="5662" y="3237"/>
                  <a:pt x="5668" y="3243"/>
                </a:cubicBezTo>
                <a:cubicBezTo>
                  <a:pt x="5680" y="3249"/>
                  <a:pt x="5680" y="3261"/>
                  <a:pt x="5686" y="3261"/>
                </a:cubicBezTo>
                <a:cubicBezTo>
                  <a:pt x="5692" y="3267"/>
                  <a:pt x="5704" y="3273"/>
                  <a:pt x="5710" y="3279"/>
                </a:cubicBezTo>
                <a:cubicBezTo>
                  <a:pt x="5722" y="3291"/>
                  <a:pt x="5727" y="3303"/>
                  <a:pt x="5745" y="3303"/>
                </a:cubicBezTo>
                <a:cubicBezTo>
                  <a:pt x="5757" y="3303"/>
                  <a:pt x="5763" y="3291"/>
                  <a:pt x="5775" y="3279"/>
                </a:cubicBezTo>
                <a:cubicBezTo>
                  <a:pt x="5775" y="3279"/>
                  <a:pt x="5781" y="3267"/>
                  <a:pt x="5787" y="3261"/>
                </a:cubicBezTo>
                <a:close/>
                <a:moveTo>
                  <a:pt x="7393" y="1731"/>
                </a:moveTo>
                <a:lnTo>
                  <a:pt x="7393" y="1731"/>
                </a:lnTo>
                <a:cubicBezTo>
                  <a:pt x="7400" y="1731"/>
                  <a:pt x="7400" y="1731"/>
                  <a:pt x="7400" y="1731"/>
                </a:cubicBezTo>
                <a:cubicBezTo>
                  <a:pt x="7405" y="1731"/>
                  <a:pt x="7405" y="1731"/>
                  <a:pt x="7411" y="1731"/>
                </a:cubicBezTo>
                <a:lnTo>
                  <a:pt x="7411" y="1731"/>
                </a:lnTo>
                <a:cubicBezTo>
                  <a:pt x="7411" y="1731"/>
                  <a:pt x="7411" y="1731"/>
                  <a:pt x="7417" y="1731"/>
                </a:cubicBezTo>
                <a:lnTo>
                  <a:pt x="7417" y="1731"/>
                </a:lnTo>
                <a:cubicBezTo>
                  <a:pt x="7423" y="1737"/>
                  <a:pt x="7423" y="1737"/>
                  <a:pt x="7423" y="1737"/>
                </a:cubicBezTo>
                <a:cubicBezTo>
                  <a:pt x="7423" y="1737"/>
                  <a:pt x="7423" y="1737"/>
                  <a:pt x="7429" y="1737"/>
                </a:cubicBezTo>
                <a:cubicBezTo>
                  <a:pt x="7429" y="1743"/>
                  <a:pt x="7429" y="1743"/>
                  <a:pt x="7435" y="1743"/>
                </a:cubicBezTo>
                <a:cubicBezTo>
                  <a:pt x="7435" y="1749"/>
                  <a:pt x="7435" y="1749"/>
                  <a:pt x="7435" y="1749"/>
                </a:cubicBezTo>
                <a:cubicBezTo>
                  <a:pt x="7441" y="1749"/>
                  <a:pt x="7447" y="1749"/>
                  <a:pt x="7447" y="1749"/>
                </a:cubicBezTo>
                <a:cubicBezTo>
                  <a:pt x="7459" y="1749"/>
                  <a:pt x="7465" y="1749"/>
                  <a:pt x="7471" y="1749"/>
                </a:cubicBezTo>
                <a:cubicBezTo>
                  <a:pt x="7482" y="1755"/>
                  <a:pt x="7488" y="1761"/>
                  <a:pt x="7494" y="1767"/>
                </a:cubicBezTo>
                <a:cubicBezTo>
                  <a:pt x="7506" y="1773"/>
                  <a:pt x="7512" y="1767"/>
                  <a:pt x="7524" y="1767"/>
                </a:cubicBezTo>
                <a:cubicBezTo>
                  <a:pt x="7530" y="1767"/>
                  <a:pt x="7536" y="1767"/>
                  <a:pt x="7542" y="1767"/>
                </a:cubicBezTo>
                <a:cubicBezTo>
                  <a:pt x="7548" y="1767"/>
                  <a:pt x="7548" y="1761"/>
                  <a:pt x="7554" y="1761"/>
                </a:cubicBezTo>
                <a:cubicBezTo>
                  <a:pt x="7566" y="1761"/>
                  <a:pt x="7571" y="1755"/>
                  <a:pt x="7577" y="1749"/>
                </a:cubicBezTo>
                <a:cubicBezTo>
                  <a:pt x="7583" y="1743"/>
                  <a:pt x="7589" y="1743"/>
                  <a:pt x="7595" y="1737"/>
                </a:cubicBezTo>
                <a:cubicBezTo>
                  <a:pt x="7595" y="1731"/>
                  <a:pt x="7595" y="1725"/>
                  <a:pt x="7601" y="1725"/>
                </a:cubicBezTo>
                <a:cubicBezTo>
                  <a:pt x="7613" y="1720"/>
                  <a:pt x="7619" y="1714"/>
                  <a:pt x="7625" y="1714"/>
                </a:cubicBezTo>
                <a:cubicBezTo>
                  <a:pt x="7631" y="1708"/>
                  <a:pt x="7643" y="1714"/>
                  <a:pt x="7648" y="1714"/>
                </a:cubicBezTo>
                <a:cubicBezTo>
                  <a:pt x="7654" y="1714"/>
                  <a:pt x="7654" y="1708"/>
                  <a:pt x="7660" y="1708"/>
                </a:cubicBezTo>
                <a:cubicBezTo>
                  <a:pt x="7666" y="1708"/>
                  <a:pt x="7672" y="1702"/>
                  <a:pt x="7672" y="1702"/>
                </a:cubicBezTo>
                <a:cubicBezTo>
                  <a:pt x="7678" y="1702"/>
                  <a:pt x="7684" y="1702"/>
                  <a:pt x="7690" y="1702"/>
                </a:cubicBezTo>
                <a:cubicBezTo>
                  <a:pt x="7690" y="1702"/>
                  <a:pt x="7696" y="1696"/>
                  <a:pt x="7702" y="1696"/>
                </a:cubicBezTo>
                <a:cubicBezTo>
                  <a:pt x="7702" y="1696"/>
                  <a:pt x="7708" y="1690"/>
                  <a:pt x="7714" y="1690"/>
                </a:cubicBezTo>
                <a:cubicBezTo>
                  <a:pt x="7714" y="1690"/>
                  <a:pt x="7720" y="1690"/>
                  <a:pt x="7726" y="1690"/>
                </a:cubicBezTo>
                <a:lnTo>
                  <a:pt x="7732" y="1684"/>
                </a:lnTo>
                <a:cubicBezTo>
                  <a:pt x="7737" y="1678"/>
                  <a:pt x="7743" y="1678"/>
                  <a:pt x="7743" y="1678"/>
                </a:cubicBezTo>
                <a:cubicBezTo>
                  <a:pt x="7749" y="1672"/>
                  <a:pt x="7749" y="1666"/>
                  <a:pt x="7755" y="1666"/>
                </a:cubicBezTo>
                <a:cubicBezTo>
                  <a:pt x="7761" y="1660"/>
                  <a:pt x="7761" y="1654"/>
                  <a:pt x="7767" y="1648"/>
                </a:cubicBezTo>
                <a:cubicBezTo>
                  <a:pt x="7767" y="1648"/>
                  <a:pt x="7773" y="1642"/>
                  <a:pt x="7779" y="1636"/>
                </a:cubicBezTo>
                <a:cubicBezTo>
                  <a:pt x="7785" y="1625"/>
                  <a:pt x="7791" y="1619"/>
                  <a:pt x="7803" y="1619"/>
                </a:cubicBezTo>
                <a:cubicBezTo>
                  <a:pt x="7862" y="1619"/>
                  <a:pt x="7862" y="1619"/>
                  <a:pt x="7862" y="1619"/>
                </a:cubicBezTo>
                <a:cubicBezTo>
                  <a:pt x="7868" y="1619"/>
                  <a:pt x="7874" y="1613"/>
                  <a:pt x="7880" y="1607"/>
                </a:cubicBezTo>
                <a:cubicBezTo>
                  <a:pt x="7886" y="1607"/>
                  <a:pt x="7892" y="1601"/>
                  <a:pt x="7892" y="1595"/>
                </a:cubicBezTo>
                <a:cubicBezTo>
                  <a:pt x="7897" y="1595"/>
                  <a:pt x="7903" y="1589"/>
                  <a:pt x="7909" y="1583"/>
                </a:cubicBezTo>
                <a:cubicBezTo>
                  <a:pt x="7909" y="1583"/>
                  <a:pt x="7909" y="1577"/>
                  <a:pt x="7909" y="1571"/>
                </a:cubicBezTo>
                <a:cubicBezTo>
                  <a:pt x="7897" y="1571"/>
                  <a:pt x="7897" y="1571"/>
                  <a:pt x="7897" y="1571"/>
                </a:cubicBezTo>
                <a:cubicBezTo>
                  <a:pt x="7886" y="1577"/>
                  <a:pt x="7880" y="1577"/>
                  <a:pt x="7874" y="1583"/>
                </a:cubicBezTo>
                <a:cubicBezTo>
                  <a:pt x="7874" y="1589"/>
                  <a:pt x="7874" y="1595"/>
                  <a:pt x="7874" y="1595"/>
                </a:cubicBezTo>
                <a:cubicBezTo>
                  <a:pt x="7868" y="1601"/>
                  <a:pt x="7862" y="1601"/>
                  <a:pt x="7850" y="1601"/>
                </a:cubicBezTo>
                <a:cubicBezTo>
                  <a:pt x="7844" y="1601"/>
                  <a:pt x="7844" y="1601"/>
                  <a:pt x="7844" y="1601"/>
                </a:cubicBezTo>
                <a:cubicBezTo>
                  <a:pt x="7838" y="1601"/>
                  <a:pt x="7826" y="1595"/>
                  <a:pt x="7820" y="1589"/>
                </a:cubicBezTo>
                <a:cubicBezTo>
                  <a:pt x="7814" y="1583"/>
                  <a:pt x="7814" y="1571"/>
                  <a:pt x="7803" y="1571"/>
                </a:cubicBezTo>
                <a:cubicBezTo>
                  <a:pt x="7803" y="1565"/>
                  <a:pt x="7797" y="1571"/>
                  <a:pt x="7797" y="1571"/>
                </a:cubicBezTo>
                <a:cubicBezTo>
                  <a:pt x="7785" y="1571"/>
                  <a:pt x="7785" y="1571"/>
                  <a:pt x="7785" y="1571"/>
                </a:cubicBezTo>
                <a:cubicBezTo>
                  <a:pt x="7761" y="1571"/>
                  <a:pt x="7749" y="1571"/>
                  <a:pt x="7732" y="1565"/>
                </a:cubicBezTo>
                <a:cubicBezTo>
                  <a:pt x="7732" y="1559"/>
                  <a:pt x="7726" y="1559"/>
                  <a:pt x="7726" y="1559"/>
                </a:cubicBezTo>
                <a:cubicBezTo>
                  <a:pt x="7720" y="1559"/>
                  <a:pt x="7714" y="1554"/>
                  <a:pt x="7714" y="1554"/>
                </a:cubicBezTo>
                <a:cubicBezTo>
                  <a:pt x="7708" y="1548"/>
                  <a:pt x="7702" y="1548"/>
                  <a:pt x="7702" y="1542"/>
                </a:cubicBezTo>
                <a:cubicBezTo>
                  <a:pt x="7696" y="1536"/>
                  <a:pt x="7696" y="1536"/>
                  <a:pt x="7696" y="1530"/>
                </a:cubicBezTo>
                <a:cubicBezTo>
                  <a:pt x="7696" y="1506"/>
                  <a:pt x="7696" y="1506"/>
                  <a:pt x="7696" y="1506"/>
                </a:cubicBezTo>
                <a:cubicBezTo>
                  <a:pt x="7708" y="1506"/>
                  <a:pt x="7708" y="1500"/>
                  <a:pt x="7720" y="1500"/>
                </a:cubicBezTo>
                <a:cubicBezTo>
                  <a:pt x="7732" y="1500"/>
                  <a:pt x="7737" y="1506"/>
                  <a:pt x="7749" y="1500"/>
                </a:cubicBezTo>
                <a:cubicBezTo>
                  <a:pt x="7755" y="1500"/>
                  <a:pt x="7761" y="1500"/>
                  <a:pt x="7761" y="1500"/>
                </a:cubicBezTo>
                <a:cubicBezTo>
                  <a:pt x="7773" y="1500"/>
                  <a:pt x="7779" y="1500"/>
                  <a:pt x="7791" y="1494"/>
                </a:cubicBezTo>
                <a:cubicBezTo>
                  <a:pt x="7797" y="1488"/>
                  <a:pt x="7803" y="1482"/>
                  <a:pt x="7809" y="1470"/>
                </a:cubicBezTo>
                <a:cubicBezTo>
                  <a:pt x="7814" y="1470"/>
                  <a:pt x="7814" y="1470"/>
                  <a:pt x="7820" y="1476"/>
                </a:cubicBezTo>
                <a:cubicBezTo>
                  <a:pt x="7826" y="1476"/>
                  <a:pt x="7826" y="1482"/>
                  <a:pt x="7826" y="1488"/>
                </a:cubicBezTo>
                <a:cubicBezTo>
                  <a:pt x="7832" y="1494"/>
                  <a:pt x="7826" y="1506"/>
                  <a:pt x="7826" y="1512"/>
                </a:cubicBezTo>
                <a:cubicBezTo>
                  <a:pt x="7826" y="1518"/>
                  <a:pt x="7832" y="1524"/>
                  <a:pt x="7832" y="1524"/>
                </a:cubicBezTo>
                <a:cubicBezTo>
                  <a:pt x="7838" y="1530"/>
                  <a:pt x="7838" y="1536"/>
                  <a:pt x="7838" y="1536"/>
                </a:cubicBezTo>
                <a:cubicBezTo>
                  <a:pt x="7844" y="1548"/>
                  <a:pt x="7856" y="1548"/>
                  <a:pt x="7868" y="1548"/>
                </a:cubicBezTo>
                <a:cubicBezTo>
                  <a:pt x="7874" y="1548"/>
                  <a:pt x="7874" y="1548"/>
                  <a:pt x="7880" y="1542"/>
                </a:cubicBezTo>
                <a:cubicBezTo>
                  <a:pt x="7880" y="1536"/>
                  <a:pt x="7880" y="1530"/>
                  <a:pt x="7880" y="1530"/>
                </a:cubicBezTo>
                <a:cubicBezTo>
                  <a:pt x="7886" y="1518"/>
                  <a:pt x="7897" y="1518"/>
                  <a:pt x="7903" y="1512"/>
                </a:cubicBezTo>
                <a:cubicBezTo>
                  <a:pt x="7915" y="1512"/>
                  <a:pt x="7921" y="1512"/>
                  <a:pt x="7927" y="1512"/>
                </a:cubicBezTo>
                <a:cubicBezTo>
                  <a:pt x="7939" y="1512"/>
                  <a:pt x="7945" y="1512"/>
                  <a:pt x="7957" y="1512"/>
                </a:cubicBezTo>
                <a:cubicBezTo>
                  <a:pt x="7957" y="1512"/>
                  <a:pt x="7963" y="1512"/>
                  <a:pt x="7963" y="1506"/>
                </a:cubicBezTo>
                <a:cubicBezTo>
                  <a:pt x="7963" y="1500"/>
                  <a:pt x="7963" y="1494"/>
                  <a:pt x="7963" y="1488"/>
                </a:cubicBezTo>
                <a:cubicBezTo>
                  <a:pt x="7963" y="1476"/>
                  <a:pt x="7957" y="1470"/>
                  <a:pt x="7951" y="1459"/>
                </a:cubicBezTo>
                <a:cubicBezTo>
                  <a:pt x="7951" y="1453"/>
                  <a:pt x="7945" y="1447"/>
                  <a:pt x="7945" y="1447"/>
                </a:cubicBezTo>
                <a:cubicBezTo>
                  <a:pt x="7933" y="1441"/>
                  <a:pt x="7927" y="1441"/>
                  <a:pt x="7921" y="1435"/>
                </a:cubicBezTo>
                <a:cubicBezTo>
                  <a:pt x="7909" y="1429"/>
                  <a:pt x="7903" y="1423"/>
                  <a:pt x="7897" y="1417"/>
                </a:cubicBezTo>
                <a:cubicBezTo>
                  <a:pt x="7897" y="1405"/>
                  <a:pt x="7903" y="1399"/>
                  <a:pt x="7897" y="1393"/>
                </a:cubicBezTo>
                <a:cubicBezTo>
                  <a:pt x="7897" y="1387"/>
                  <a:pt x="7892" y="1387"/>
                  <a:pt x="7886" y="1387"/>
                </a:cubicBezTo>
                <a:cubicBezTo>
                  <a:pt x="7886" y="1382"/>
                  <a:pt x="7886" y="1376"/>
                  <a:pt x="7886" y="1376"/>
                </a:cubicBezTo>
                <a:cubicBezTo>
                  <a:pt x="7886" y="1370"/>
                  <a:pt x="7886" y="1364"/>
                  <a:pt x="7886" y="1364"/>
                </a:cubicBezTo>
                <a:cubicBezTo>
                  <a:pt x="7886" y="1358"/>
                  <a:pt x="7880" y="1358"/>
                  <a:pt x="7874" y="1358"/>
                </a:cubicBezTo>
                <a:cubicBezTo>
                  <a:pt x="7868" y="1352"/>
                  <a:pt x="7862" y="1352"/>
                  <a:pt x="7850" y="1346"/>
                </a:cubicBezTo>
                <a:cubicBezTo>
                  <a:pt x="7844" y="1346"/>
                  <a:pt x="7844" y="1340"/>
                  <a:pt x="7838" y="1340"/>
                </a:cubicBezTo>
                <a:cubicBezTo>
                  <a:pt x="7844" y="1334"/>
                  <a:pt x="7844" y="1334"/>
                  <a:pt x="7850" y="1328"/>
                </a:cubicBezTo>
                <a:cubicBezTo>
                  <a:pt x="7850" y="1328"/>
                  <a:pt x="7856" y="1328"/>
                  <a:pt x="7862" y="1328"/>
                </a:cubicBezTo>
                <a:cubicBezTo>
                  <a:pt x="7868" y="1328"/>
                  <a:pt x="7874" y="1340"/>
                  <a:pt x="7880" y="1346"/>
                </a:cubicBezTo>
                <a:cubicBezTo>
                  <a:pt x="7886" y="1346"/>
                  <a:pt x="7880" y="1358"/>
                  <a:pt x="7886" y="1358"/>
                </a:cubicBezTo>
                <a:cubicBezTo>
                  <a:pt x="7892" y="1358"/>
                  <a:pt x="7892" y="1358"/>
                  <a:pt x="7897" y="1358"/>
                </a:cubicBezTo>
                <a:cubicBezTo>
                  <a:pt x="7909" y="1358"/>
                  <a:pt x="7909" y="1358"/>
                  <a:pt x="7909" y="1358"/>
                </a:cubicBezTo>
                <a:cubicBezTo>
                  <a:pt x="7915" y="1358"/>
                  <a:pt x="7921" y="1352"/>
                  <a:pt x="7921" y="1352"/>
                </a:cubicBezTo>
                <a:cubicBezTo>
                  <a:pt x="7927" y="1352"/>
                  <a:pt x="7927" y="1358"/>
                  <a:pt x="7933" y="1358"/>
                </a:cubicBezTo>
                <a:cubicBezTo>
                  <a:pt x="7939" y="1340"/>
                  <a:pt x="7939" y="1328"/>
                  <a:pt x="7939" y="1310"/>
                </a:cubicBezTo>
                <a:cubicBezTo>
                  <a:pt x="7939" y="1299"/>
                  <a:pt x="7939" y="1299"/>
                  <a:pt x="7939" y="1299"/>
                </a:cubicBezTo>
                <a:cubicBezTo>
                  <a:pt x="7939" y="1299"/>
                  <a:pt x="7939" y="1293"/>
                  <a:pt x="7939" y="1287"/>
                </a:cubicBezTo>
                <a:cubicBezTo>
                  <a:pt x="7939" y="1287"/>
                  <a:pt x="7945" y="1281"/>
                  <a:pt x="7945" y="1275"/>
                </a:cubicBezTo>
                <a:cubicBezTo>
                  <a:pt x="7945" y="1275"/>
                  <a:pt x="7945" y="1269"/>
                  <a:pt x="7945" y="1263"/>
                </a:cubicBezTo>
                <a:cubicBezTo>
                  <a:pt x="7939" y="1263"/>
                  <a:pt x="7933" y="1263"/>
                  <a:pt x="7933" y="1263"/>
                </a:cubicBezTo>
                <a:cubicBezTo>
                  <a:pt x="7921" y="1257"/>
                  <a:pt x="7915" y="1257"/>
                  <a:pt x="7909" y="1257"/>
                </a:cubicBezTo>
                <a:cubicBezTo>
                  <a:pt x="7897" y="1257"/>
                  <a:pt x="7892" y="1251"/>
                  <a:pt x="7880" y="1257"/>
                </a:cubicBezTo>
                <a:cubicBezTo>
                  <a:pt x="7880" y="1257"/>
                  <a:pt x="7880" y="1263"/>
                  <a:pt x="7880" y="1269"/>
                </a:cubicBezTo>
                <a:cubicBezTo>
                  <a:pt x="7874" y="1269"/>
                  <a:pt x="7868" y="1269"/>
                  <a:pt x="7862" y="1269"/>
                </a:cubicBezTo>
                <a:cubicBezTo>
                  <a:pt x="7826" y="1269"/>
                  <a:pt x="7826" y="1269"/>
                  <a:pt x="7826" y="1269"/>
                </a:cubicBezTo>
                <a:cubicBezTo>
                  <a:pt x="7832" y="1263"/>
                  <a:pt x="7832" y="1257"/>
                  <a:pt x="7838" y="1257"/>
                </a:cubicBezTo>
                <a:cubicBezTo>
                  <a:pt x="7838" y="1251"/>
                  <a:pt x="7844" y="1251"/>
                  <a:pt x="7850" y="1251"/>
                </a:cubicBezTo>
                <a:cubicBezTo>
                  <a:pt x="7850" y="1251"/>
                  <a:pt x="7856" y="1245"/>
                  <a:pt x="7862" y="1245"/>
                </a:cubicBezTo>
                <a:cubicBezTo>
                  <a:pt x="7862" y="1245"/>
                  <a:pt x="7856" y="1239"/>
                  <a:pt x="7862" y="1233"/>
                </a:cubicBezTo>
                <a:cubicBezTo>
                  <a:pt x="7850" y="1233"/>
                  <a:pt x="7844" y="1227"/>
                  <a:pt x="7838" y="1227"/>
                </a:cubicBezTo>
                <a:cubicBezTo>
                  <a:pt x="7832" y="1227"/>
                  <a:pt x="7832" y="1221"/>
                  <a:pt x="7826" y="1221"/>
                </a:cubicBezTo>
                <a:cubicBezTo>
                  <a:pt x="7832" y="1210"/>
                  <a:pt x="7832" y="1210"/>
                  <a:pt x="7832" y="1210"/>
                </a:cubicBezTo>
                <a:cubicBezTo>
                  <a:pt x="7880" y="1210"/>
                  <a:pt x="7880" y="1210"/>
                  <a:pt x="7880" y="1210"/>
                </a:cubicBezTo>
                <a:cubicBezTo>
                  <a:pt x="7880" y="1245"/>
                  <a:pt x="7880" y="1245"/>
                  <a:pt x="7880" y="1245"/>
                </a:cubicBezTo>
                <a:cubicBezTo>
                  <a:pt x="7927" y="1245"/>
                  <a:pt x="7927" y="1245"/>
                  <a:pt x="7927" y="1245"/>
                </a:cubicBezTo>
                <a:cubicBezTo>
                  <a:pt x="7933" y="1245"/>
                  <a:pt x="7939" y="1245"/>
                  <a:pt x="7939" y="1239"/>
                </a:cubicBezTo>
                <a:cubicBezTo>
                  <a:pt x="7945" y="1239"/>
                  <a:pt x="7939" y="1233"/>
                  <a:pt x="7945" y="1227"/>
                </a:cubicBezTo>
                <a:cubicBezTo>
                  <a:pt x="7951" y="1227"/>
                  <a:pt x="7963" y="1227"/>
                  <a:pt x="7969" y="1227"/>
                </a:cubicBezTo>
                <a:cubicBezTo>
                  <a:pt x="7980" y="1227"/>
                  <a:pt x="7980" y="1227"/>
                  <a:pt x="7980" y="1227"/>
                </a:cubicBezTo>
                <a:cubicBezTo>
                  <a:pt x="7998" y="1227"/>
                  <a:pt x="7998" y="1239"/>
                  <a:pt x="8016" y="1239"/>
                </a:cubicBezTo>
                <a:cubicBezTo>
                  <a:pt x="8022" y="1239"/>
                  <a:pt x="8028" y="1233"/>
                  <a:pt x="8034" y="1233"/>
                </a:cubicBezTo>
                <a:cubicBezTo>
                  <a:pt x="8034" y="1227"/>
                  <a:pt x="8034" y="1221"/>
                  <a:pt x="8040" y="1221"/>
                </a:cubicBezTo>
                <a:cubicBezTo>
                  <a:pt x="8046" y="1215"/>
                  <a:pt x="8052" y="1215"/>
                  <a:pt x="8052" y="1210"/>
                </a:cubicBezTo>
                <a:cubicBezTo>
                  <a:pt x="8052" y="1204"/>
                  <a:pt x="8046" y="1198"/>
                  <a:pt x="8040" y="1192"/>
                </a:cubicBezTo>
                <a:cubicBezTo>
                  <a:pt x="8040" y="1186"/>
                  <a:pt x="8034" y="1180"/>
                  <a:pt x="8034" y="1180"/>
                </a:cubicBezTo>
                <a:cubicBezTo>
                  <a:pt x="8028" y="1174"/>
                  <a:pt x="8022" y="1168"/>
                  <a:pt x="8016" y="1168"/>
                </a:cubicBezTo>
                <a:cubicBezTo>
                  <a:pt x="8010" y="1168"/>
                  <a:pt x="8004" y="1168"/>
                  <a:pt x="7998" y="1168"/>
                </a:cubicBezTo>
                <a:cubicBezTo>
                  <a:pt x="7992" y="1168"/>
                  <a:pt x="7992" y="1174"/>
                  <a:pt x="7986" y="1174"/>
                </a:cubicBezTo>
                <a:cubicBezTo>
                  <a:pt x="7980" y="1174"/>
                  <a:pt x="7980" y="1180"/>
                  <a:pt x="7975" y="1180"/>
                </a:cubicBezTo>
                <a:cubicBezTo>
                  <a:pt x="7969" y="1180"/>
                  <a:pt x="7969" y="1174"/>
                  <a:pt x="7963" y="1174"/>
                </a:cubicBezTo>
                <a:cubicBezTo>
                  <a:pt x="7957" y="1174"/>
                  <a:pt x="7951" y="1168"/>
                  <a:pt x="7951" y="1168"/>
                </a:cubicBezTo>
                <a:cubicBezTo>
                  <a:pt x="7951" y="1162"/>
                  <a:pt x="7945" y="1162"/>
                  <a:pt x="7945" y="1156"/>
                </a:cubicBezTo>
                <a:cubicBezTo>
                  <a:pt x="7945" y="1144"/>
                  <a:pt x="7951" y="1144"/>
                  <a:pt x="7957" y="1144"/>
                </a:cubicBezTo>
                <a:cubicBezTo>
                  <a:pt x="7963" y="1144"/>
                  <a:pt x="7969" y="1144"/>
                  <a:pt x="7969" y="1144"/>
                </a:cubicBezTo>
                <a:cubicBezTo>
                  <a:pt x="7975" y="1144"/>
                  <a:pt x="7980" y="1150"/>
                  <a:pt x="7980" y="1150"/>
                </a:cubicBezTo>
                <a:cubicBezTo>
                  <a:pt x="7992" y="1150"/>
                  <a:pt x="7998" y="1150"/>
                  <a:pt x="8004" y="1150"/>
                </a:cubicBezTo>
                <a:cubicBezTo>
                  <a:pt x="8016" y="1150"/>
                  <a:pt x="8022" y="1150"/>
                  <a:pt x="8034" y="1150"/>
                </a:cubicBezTo>
                <a:lnTo>
                  <a:pt x="8040" y="1144"/>
                </a:lnTo>
                <a:cubicBezTo>
                  <a:pt x="8052" y="1138"/>
                  <a:pt x="8052" y="1138"/>
                  <a:pt x="8052" y="1138"/>
                </a:cubicBezTo>
                <a:cubicBezTo>
                  <a:pt x="8058" y="1132"/>
                  <a:pt x="8058" y="1127"/>
                  <a:pt x="8064" y="1127"/>
                </a:cubicBezTo>
                <a:cubicBezTo>
                  <a:pt x="8069" y="1127"/>
                  <a:pt x="8069" y="1132"/>
                  <a:pt x="8075" y="1132"/>
                </a:cubicBezTo>
                <a:cubicBezTo>
                  <a:pt x="8093" y="1132"/>
                  <a:pt x="8093" y="1132"/>
                  <a:pt x="8093" y="1132"/>
                </a:cubicBezTo>
                <a:cubicBezTo>
                  <a:pt x="8099" y="1132"/>
                  <a:pt x="8105" y="1132"/>
                  <a:pt x="8111" y="1132"/>
                </a:cubicBezTo>
                <a:cubicBezTo>
                  <a:pt x="8117" y="1132"/>
                  <a:pt x="8117" y="1132"/>
                  <a:pt x="8123" y="1127"/>
                </a:cubicBezTo>
                <a:cubicBezTo>
                  <a:pt x="8129" y="1127"/>
                  <a:pt x="8123" y="1121"/>
                  <a:pt x="8123" y="1115"/>
                </a:cubicBezTo>
                <a:cubicBezTo>
                  <a:pt x="8117" y="1109"/>
                  <a:pt x="8111" y="1103"/>
                  <a:pt x="8105" y="1103"/>
                </a:cubicBezTo>
                <a:cubicBezTo>
                  <a:pt x="8099" y="1097"/>
                  <a:pt x="8093" y="1103"/>
                  <a:pt x="8093" y="1103"/>
                </a:cubicBezTo>
                <a:cubicBezTo>
                  <a:pt x="8087" y="1097"/>
                  <a:pt x="8081" y="1097"/>
                  <a:pt x="8075" y="1091"/>
                </a:cubicBezTo>
                <a:cubicBezTo>
                  <a:pt x="8069" y="1085"/>
                  <a:pt x="8064" y="1085"/>
                  <a:pt x="8064" y="1079"/>
                </a:cubicBezTo>
                <a:cubicBezTo>
                  <a:pt x="8064" y="1073"/>
                  <a:pt x="8058" y="1073"/>
                  <a:pt x="8058" y="1067"/>
                </a:cubicBezTo>
                <a:cubicBezTo>
                  <a:pt x="8058" y="1061"/>
                  <a:pt x="8064" y="1055"/>
                  <a:pt x="8064" y="1050"/>
                </a:cubicBezTo>
                <a:cubicBezTo>
                  <a:pt x="8064" y="1044"/>
                  <a:pt x="8058" y="1038"/>
                  <a:pt x="8058" y="1032"/>
                </a:cubicBezTo>
                <a:cubicBezTo>
                  <a:pt x="8058" y="1026"/>
                  <a:pt x="8064" y="1026"/>
                  <a:pt x="8064" y="1020"/>
                </a:cubicBezTo>
                <a:lnTo>
                  <a:pt x="8064" y="1014"/>
                </a:lnTo>
                <a:cubicBezTo>
                  <a:pt x="8081" y="1014"/>
                  <a:pt x="8087" y="1014"/>
                  <a:pt x="8111" y="1014"/>
                </a:cubicBezTo>
                <a:cubicBezTo>
                  <a:pt x="8111" y="978"/>
                  <a:pt x="8111" y="978"/>
                  <a:pt x="8111" y="978"/>
                </a:cubicBezTo>
                <a:cubicBezTo>
                  <a:pt x="8111" y="966"/>
                  <a:pt x="8093" y="961"/>
                  <a:pt x="8087" y="949"/>
                </a:cubicBezTo>
                <a:cubicBezTo>
                  <a:pt x="8081" y="943"/>
                  <a:pt x="8087" y="943"/>
                  <a:pt x="8087" y="937"/>
                </a:cubicBezTo>
                <a:cubicBezTo>
                  <a:pt x="8087" y="931"/>
                  <a:pt x="8081" y="925"/>
                  <a:pt x="8081" y="919"/>
                </a:cubicBezTo>
                <a:cubicBezTo>
                  <a:pt x="8069" y="919"/>
                  <a:pt x="8064" y="925"/>
                  <a:pt x="8046" y="919"/>
                </a:cubicBezTo>
                <a:cubicBezTo>
                  <a:pt x="8040" y="919"/>
                  <a:pt x="8040" y="919"/>
                  <a:pt x="8034" y="919"/>
                </a:cubicBezTo>
                <a:cubicBezTo>
                  <a:pt x="8028" y="919"/>
                  <a:pt x="8028" y="913"/>
                  <a:pt x="8022" y="913"/>
                </a:cubicBezTo>
                <a:cubicBezTo>
                  <a:pt x="8016" y="913"/>
                  <a:pt x="8016" y="913"/>
                  <a:pt x="8010" y="907"/>
                </a:cubicBezTo>
                <a:cubicBezTo>
                  <a:pt x="8004" y="907"/>
                  <a:pt x="8004" y="907"/>
                  <a:pt x="7998" y="901"/>
                </a:cubicBezTo>
                <a:cubicBezTo>
                  <a:pt x="7998" y="901"/>
                  <a:pt x="7992" y="895"/>
                  <a:pt x="7992" y="889"/>
                </a:cubicBezTo>
                <a:cubicBezTo>
                  <a:pt x="7986" y="889"/>
                  <a:pt x="7986" y="884"/>
                  <a:pt x="7986" y="877"/>
                </a:cubicBezTo>
                <a:cubicBezTo>
                  <a:pt x="7986" y="872"/>
                  <a:pt x="7986" y="872"/>
                  <a:pt x="7986" y="872"/>
                </a:cubicBezTo>
                <a:cubicBezTo>
                  <a:pt x="7992" y="866"/>
                  <a:pt x="7998" y="866"/>
                  <a:pt x="7998" y="866"/>
                </a:cubicBezTo>
                <a:cubicBezTo>
                  <a:pt x="8004" y="860"/>
                  <a:pt x="8004" y="854"/>
                  <a:pt x="8010" y="854"/>
                </a:cubicBezTo>
                <a:cubicBezTo>
                  <a:pt x="8010" y="848"/>
                  <a:pt x="8016" y="854"/>
                  <a:pt x="8022" y="854"/>
                </a:cubicBezTo>
                <a:cubicBezTo>
                  <a:pt x="8028" y="848"/>
                  <a:pt x="8034" y="848"/>
                  <a:pt x="8046" y="848"/>
                </a:cubicBezTo>
                <a:cubicBezTo>
                  <a:pt x="8052" y="848"/>
                  <a:pt x="8052" y="848"/>
                  <a:pt x="8058" y="848"/>
                </a:cubicBezTo>
                <a:cubicBezTo>
                  <a:pt x="8081" y="848"/>
                  <a:pt x="8081" y="848"/>
                  <a:pt x="8081" y="848"/>
                </a:cubicBezTo>
                <a:cubicBezTo>
                  <a:pt x="8087" y="848"/>
                  <a:pt x="8093" y="842"/>
                  <a:pt x="8105" y="848"/>
                </a:cubicBezTo>
                <a:lnTo>
                  <a:pt x="8111" y="854"/>
                </a:lnTo>
                <a:cubicBezTo>
                  <a:pt x="8117" y="860"/>
                  <a:pt x="8123" y="860"/>
                  <a:pt x="8123" y="872"/>
                </a:cubicBezTo>
                <a:cubicBezTo>
                  <a:pt x="8123" y="877"/>
                  <a:pt x="8123" y="877"/>
                  <a:pt x="8123" y="877"/>
                </a:cubicBezTo>
                <a:cubicBezTo>
                  <a:pt x="8129" y="877"/>
                  <a:pt x="8123" y="884"/>
                  <a:pt x="8117" y="884"/>
                </a:cubicBezTo>
                <a:cubicBezTo>
                  <a:pt x="8117" y="895"/>
                  <a:pt x="8111" y="895"/>
                  <a:pt x="8111" y="901"/>
                </a:cubicBezTo>
                <a:cubicBezTo>
                  <a:pt x="8111" y="919"/>
                  <a:pt x="8117" y="931"/>
                  <a:pt x="8123" y="949"/>
                </a:cubicBezTo>
                <a:cubicBezTo>
                  <a:pt x="8141" y="943"/>
                  <a:pt x="8141" y="943"/>
                  <a:pt x="8141" y="943"/>
                </a:cubicBezTo>
                <a:cubicBezTo>
                  <a:pt x="8141" y="848"/>
                  <a:pt x="8141" y="848"/>
                  <a:pt x="8141" y="848"/>
                </a:cubicBezTo>
                <a:cubicBezTo>
                  <a:pt x="8141" y="842"/>
                  <a:pt x="8147" y="842"/>
                  <a:pt x="8147" y="836"/>
                </a:cubicBezTo>
                <a:cubicBezTo>
                  <a:pt x="8152" y="836"/>
                  <a:pt x="8158" y="830"/>
                  <a:pt x="8158" y="824"/>
                </a:cubicBezTo>
                <a:cubicBezTo>
                  <a:pt x="8158" y="818"/>
                  <a:pt x="8158" y="818"/>
                  <a:pt x="8158" y="818"/>
                </a:cubicBezTo>
                <a:cubicBezTo>
                  <a:pt x="8158" y="812"/>
                  <a:pt x="8152" y="812"/>
                  <a:pt x="8152" y="806"/>
                </a:cubicBezTo>
                <a:cubicBezTo>
                  <a:pt x="8147" y="800"/>
                  <a:pt x="8147" y="795"/>
                  <a:pt x="8135" y="795"/>
                </a:cubicBezTo>
                <a:cubicBezTo>
                  <a:pt x="8129" y="795"/>
                  <a:pt x="8123" y="795"/>
                  <a:pt x="8117" y="795"/>
                </a:cubicBezTo>
                <a:lnTo>
                  <a:pt x="8111" y="800"/>
                </a:lnTo>
                <a:cubicBezTo>
                  <a:pt x="8099" y="800"/>
                  <a:pt x="8099" y="800"/>
                  <a:pt x="8087" y="800"/>
                </a:cubicBezTo>
                <a:cubicBezTo>
                  <a:pt x="8069" y="800"/>
                  <a:pt x="8069" y="800"/>
                  <a:pt x="8069" y="800"/>
                </a:cubicBezTo>
                <a:cubicBezTo>
                  <a:pt x="8064" y="800"/>
                  <a:pt x="8064" y="800"/>
                  <a:pt x="8058" y="800"/>
                </a:cubicBezTo>
                <a:cubicBezTo>
                  <a:pt x="8052" y="800"/>
                  <a:pt x="8052" y="800"/>
                  <a:pt x="8046" y="800"/>
                </a:cubicBezTo>
                <a:cubicBezTo>
                  <a:pt x="8046" y="765"/>
                  <a:pt x="8046" y="765"/>
                  <a:pt x="8046" y="765"/>
                </a:cubicBezTo>
                <a:cubicBezTo>
                  <a:pt x="8052" y="765"/>
                  <a:pt x="8058" y="759"/>
                  <a:pt x="8058" y="759"/>
                </a:cubicBezTo>
                <a:cubicBezTo>
                  <a:pt x="8064" y="759"/>
                  <a:pt x="8064" y="765"/>
                  <a:pt x="8069" y="765"/>
                </a:cubicBezTo>
                <a:cubicBezTo>
                  <a:pt x="8081" y="765"/>
                  <a:pt x="8081" y="765"/>
                  <a:pt x="8081" y="765"/>
                </a:cubicBezTo>
                <a:cubicBezTo>
                  <a:pt x="8093" y="765"/>
                  <a:pt x="8099" y="765"/>
                  <a:pt x="8105" y="765"/>
                </a:cubicBezTo>
                <a:cubicBezTo>
                  <a:pt x="8111" y="765"/>
                  <a:pt x="8111" y="759"/>
                  <a:pt x="8117" y="753"/>
                </a:cubicBezTo>
                <a:cubicBezTo>
                  <a:pt x="8111" y="753"/>
                  <a:pt x="8111" y="747"/>
                  <a:pt x="8111" y="741"/>
                </a:cubicBezTo>
                <a:cubicBezTo>
                  <a:pt x="8105" y="741"/>
                  <a:pt x="8105" y="735"/>
                  <a:pt x="8099" y="729"/>
                </a:cubicBezTo>
                <a:cubicBezTo>
                  <a:pt x="8087" y="729"/>
                  <a:pt x="8081" y="735"/>
                  <a:pt x="8075" y="735"/>
                </a:cubicBezTo>
                <a:cubicBezTo>
                  <a:pt x="8069" y="735"/>
                  <a:pt x="8069" y="729"/>
                  <a:pt x="8064" y="723"/>
                </a:cubicBezTo>
                <a:cubicBezTo>
                  <a:pt x="8058" y="723"/>
                  <a:pt x="8058" y="723"/>
                  <a:pt x="8052" y="723"/>
                </a:cubicBezTo>
                <a:cubicBezTo>
                  <a:pt x="8046" y="723"/>
                  <a:pt x="8046" y="723"/>
                  <a:pt x="8040" y="723"/>
                </a:cubicBezTo>
                <a:cubicBezTo>
                  <a:pt x="8034" y="723"/>
                  <a:pt x="8028" y="718"/>
                  <a:pt x="8022" y="718"/>
                </a:cubicBezTo>
                <a:cubicBezTo>
                  <a:pt x="8010" y="718"/>
                  <a:pt x="8004" y="718"/>
                  <a:pt x="7992" y="723"/>
                </a:cubicBezTo>
                <a:cubicBezTo>
                  <a:pt x="7992" y="729"/>
                  <a:pt x="7998" y="735"/>
                  <a:pt x="7992" y="741"/>
                </a:cubicBezTo>
                <a:cubicBezTo>
                  <a:pt x="7992" y="747"/>
                  <a:pt x="7992" y="747"/>
                  <a:pt x="7986" y="753"/>
                </a:cubicBezTo>
                <a:cubicBezTo>
                  <a:pt x="7986" y="753"/>
                  <a:pt x="7980" y="753"/>
                  <a:pt x="7975" y="753"/>
                </a:cubicBezTo>
                <a:cubicBezTo>
                  <a:pt x="7975" y="747"/>
                  <a:pt x="7969" y="747"/>
                  <a:pt x="7963" y="741"/>
                </a:cubicBezTo>
                <a:cubicBezTo>
                  <a:pt x="7963" y="741"/>
                  <a:pt x="7963" y="735"/>
                  <a:pt x="7963" y="729"/>
                </a:cubicBezTo>
                <a:cubicBezTo>
                  <a:pt x="7963" y="723"/>
                  <a:pt x="7963" y="718"/>
                  <a:pt x="7969" y="711"/>
                </a:cubicBezTo>
                <a:cubicBezTo>
                  <a:pt x="7969" y="706"/>
                  <a:pt x="7969" y="700"/>
                  <a:pt x="7975" y="700"/>
                </a:cubicBezTo>
                <a:cubicBezTo>
                  <a:pt x="7975" y="694"/>
                  <a:pt x="7980" y="700"/>
                  <a:pt x="7986" y="694"/>
                </a:cubicBezTo>
                <a:cubicBezTo>
                  <a:pt x="7986" y="688"/>
                  <a:pt x="7992" y="688"/>
                  <a:pt x="7992" y="682"/>
                </a:cubicBezTo>
                <a:cubicBezTo>
                  <a:pt x="7998" y="682"/>
                  <a:pt x="7992" y="676"/>
                  <a:pt x="7992" y="670"/>
                </a:cubicBezTo>
                <a:cubicBezTo>
                  <a:pt x="7992" y="664"/>
                  <a:pt x="7992" y="658"/>
                  <a:pt x="7992" y="646"/>
                </a:cubicBezTo>
                <a:cubicBezTo>
                  <a:pt x="7992" y="640"/>
                  <a:pt x="7998" y="629"/>
                  <a:pt x="7998" y="617"/>
                </a:cubicBezTo>
                <a:cubicBezTo>
                  <a:pt x="8034" y="617"/>
                  <a:pt x="8034" y="617"/>
                  <a:pt x="8034" y="617"/>
                </a:cubicBezTo>
                <a:cubicBezTo>
                  <a:pt x="8034" y="605"/>
                  <a:pt x="8034" y="599"/>
                  <a:pt x="8040" y="587"/>
                </a:cubicBezTo>
                <a:cubicBezTo>
                  <a:pt x="8040" y="587"/>
                  <a:pt x="8046" y="581"/>
                  <a:pt x="8046" y="575"/>
                </a:cubicBezTo>
                <a:cubicBezTo>
                  <a:pt x="8058" y="575"/>
                  <a:pt x="8064" y="575"/>
                  <a:pt x="8069" y="575"/>
                </a:cubicBezTo>
                <a:cubicBezTo>
                  <a:pt x="8081" y="575"/>
                  <a:pt x="8081" y="575"/>
                  <a:pt x="8081" y="575"/>
                </a:cubicBezTo>
                <a:cubicBezTo>
                  <a:pt x="8087" y="575"/>
                  <a:pt x="8087" y="569"/>
                  <a:pt x="8093" y="569"/>
                </a:cubicBezTo>
                <a:cubicBezTo>
                  <a:pt x="8093" y="563"/>
                  <a:pt x="8093" y="557"/>
                  <a:pt x="8093" y="557"/>
                </a:cubicBezTo>
                <a:cubicBezTo>
                  <a:pt x="8093" y="552"/>
                  <a:pt x="8087" y="545"/>
                  <a:pt x="8087" y="540"/>
                </a:cubicBezTo>
                <a:cubicBezTo>
                  <a:pt x="8087" y="534"/>
                  <a:pt x="8093" y="528"/>
                  <a:pt x="8099" y="522"/>
                </a:cubicBezTo>
                <a:cubicBezTo>
                  <a:pt x="8099" y="516"/>
                  <a:pt x="8105" y="516"/>
                  <a:pt x="8105" y="510"/>
                </a:cubicBezTo>
                <a:cubicBezTo>
                  <a:pt x="8105" y="504"/>
                  <a:pt x="8111" y="504"/>
                  <a:pt x="8111" y="498"/>
                </a:cubicBezTo>
                <a:cubicBezTo>
                  <a:pt x="8111" y="492"/>
                  <a:pt x="8117" y="492"/>
                  <a:pt x="8123" y="492"/>
                </a:cubicBezTo>
                <a:cubicBezTo>
                  <a:pt x="8129" y="486"/>
                  <a:pt x="8135" y="480"/>
                  <a:pt x="8147" y="480"/>
                </a:cubicBezTo>
                <a:cubicBezTo>
                  <a:pt x="8158" y="474"/>
                  <a:pt x="8164" y="486"/>
                  <a:pt x="8182" y="480"/>
                </a:cubicBezTo>
                <a:lnTo>
                  <a:pt x="8188" y="480"/>
                </a:lnTo>
                <a:cubicBezTo>
                  <a:pt x="8194" y="474"/>
                  <a:pt x="8194" y="468"/>
                  <a:pt x="8194" y="468"/>
                </a:cubicBezTo>
                <a:cubicBezTo>
                  <a:pt x="8200" y="463"/>
                  <a:pt x="8200" y="457"/>
                  <a:pt x="8200" y="457"/>
                </a:cubicBezTo>
                <a:cubicBezTo>
                  <a:pt x="8200" y="451"/>
                  <a:pt x="8200" y="445"/>
                  <a:pt x="8206" y="445"/>
                </a:cubicBezTo>
                <a:cubicBezTo>
                  <a:pt x="8206" y="439"/>
                  <a:pt x="8212" y="439"/>
                  <a:pt x="8218" y="439"/>
                </a:cubicBezTo>
                <a:cubicBezTo>
                  <a:pt x="8224" y="433"/>
                  <a:pt x="8224" y="433"/>
                  <a:pt x="8230" y="433"/>
                </a:cubicBezTo>
                <a:cubicBezTo>
                  <a:pt x="8230" y="433"/>
                  <a:pt x="8235" y="433"/>
                  <a:pt x="8241" y="433"/>
                </a:cubicBezTo>
                <a:cubicBezTo>
                  <a:pt x="8241" y="433"/>
                  <a:pt x="8247" y="433"/>
                  <a:pt x="8253" y="427"/>
                </a:cubicBezTo>
                <a:cubicBezTo>
                  <a:pt x="8253" y="427"/>
                  <a:pt x="8259" y="433"/>
                  <a:pt x="8265" y="427"/>
                </a:cubicBezTo>
                <a:cubicBezTo>
                  <a:pt x="8265" y="427"/>
                  <a:pt x="8265" y="421"/>
                  <a:pt x="8271" y="415"/>
                </a:cubicBezTo>
                <a:cubicBezTo>
                  <a:pt x="8265" y="403"/>
                  <a:pt x="8265" y="403"/>
                  <a:pt x="8265" y="403"/>
                </a:cubicBezTo>
                <a:cubicBezTo>
                  <a:pt x="8164" y="403"/>
                  <a:pt x="8164" y="403"/>
                  <a:pt x="8164" y="403"/>
                </a:cubicBezTo>
                <a:cubicBezTo>
                  <a:pt x="8135" y="397"/>
                  <a:pt x="8135" y="397"/>
                  <a:pt x="8135" y="397"/>
                </a:cubicBezTo>
                <a:cubicBezTo>
                  <a:pt x="8147" y="397"/>
                  <a:pt x="8152" y="397"/>
                  <a:pt x="8158" y="391"/>
                </a:cubicBezTo>
                <a:cubicBezTo>
                  <a:pt x="8170" y="386"/>
                  <a:pt x="8176" y="374"/>
                  <a:pt x="8188" y="374"/>
                </a:cubicBezTo>
                <a:cubicBezTo>
                  <a:pt x="8200" y="374"/>
                  <a:pt x="8200" y="374"/>
                  <a:pt x="8206" y="379"/>
                </a:cubicBezTo>
                <a:cubicBezTo>
                  <a:pt x="8212" y="379"/>
                  <a:pt x="8218" y="386"/>
                  <a:pt x="8224" y="386"/>
                </a:cubicBezTo>
                <a:cubicBezTo>
                  <a:pt x="8230" y="386"/>
                  <a:pt x="8230" y="386"/>
                  <a:pt x="8235" y="386"/>
                </a:cubicBezTo>
                <a:cubicBezTo>
                  <a:pt x="8247" y="386"/>
                  <a:pt x="8247" y="386"/>
                  <a:pt x="8247" y="386"/>
                </a:cubicBezTo>
                <a:cubicBezTo>
                  <a:pt x="8253" y="386"/>
                  <a:pt x="8253" y="386"/>
                  <a:pt x="8259" y="386"/>
                </a:cubicBezTo>
                <a:cubicBezTo>
                  <a:pt x="8265" y="386"/>
                  <a:pt x="8265" y="386"/>
                  <a:pt x="8271" y="386"/>
                </a:cubicBezTo>
                <a:cubicBezTo>
                  <a:pt x="8277" y="386"/>
                  <a:pt x="8283" y="379"/>
                  <a:pt x="8283" y="379"/>
                </a:cubicBezTo>
                <a:cubicBezTo>
                  <a:pt x="8289" y="379"/>
                  <a:pt x="8289" y="374"/>
                  <a:pt x="8295" y="368"/>
                </a:cubicBezTo>
                <a:cubicBezTo>
                  <a:pt x="8295" y="368"/>
                  <a:pt x="8301" y="362"/>
                  <a:pt x="8301" y="356"/>
                </a:cubicBezTo>
                <a:cubicBezTo>
                  <a:pt x="8307" y="350"/>
                  <a:pt x="8313" y="350"/>
                  <a:pt x="8318" y="344"/>
                </a:cubicBezTo>
                <a:cubicBezTo>
                  <a:pt x="8318" y="338"/>
                  <a:pt x="8318" y="332"/>
                  <a:pt x="8324" y="332"/>
                </a:cubicBezTo>
                <a:cubicBezTo>
                  <a:pt x="8330" y="332"/>
                  <a:pt x="8342" y="332"/>
                  <a:pt x="8348" y="332"/>
                </a:cubicBezTo>
                <a:cubicBezTo>
                  <a:pt x="8360" y="332"/>
                  <a:pt x="8360" y="332"/>
                  <a:pt x="8360" y="332"/>
                </a:cubicBezTo>
                <a:cubicBezTo>
                  <a:pt x="8378" y="332"/>
                  <a:pt x="8390" y="326"/>
                  <a:pt x="8407" y="326"/>
                </a:cubicBezTo>
                <a:cubicBezTo>
                  <a:pt x="8407" y="326"/>
                  <a:pt x="8413" y="326"/>
                  <a:pt x="8419" y="326"/>
                </a:cubicBezTo>
                <a:cubicBezTo>
                  <a:pt x="8419" y="320"/>
                  <a:pt x="8425" y="320"/>
                  <a:pt x="8425" y="320"/>
                </a:cubicBezTo>
                <a:cubicBezTo>
                  <a:pt x="8431" y="320"/>
                  <a:pt x="8437" y="314"/>
                  <a:pt x="8437" y="308"/>
                </a:cubicBezTo>
                <a:cubicBezTo>
                  <a:pt x="8443" y="302"/>
                  <a:pt x="8449" y="302"/>
                  <a:pt x="8449" y="297"/>
                </a:cubicBezTo>
                <a:cubicBezTo>
                  <a:pt x="8449" y="291"/>
                  <a:pt x="8449" y="285"/>
                  <a:pt x="8449" y="273"/>
                </a:cubicBezTo>
                <a:cubicBezTo>
                  <a:pt x="8449" y="267"/>
                  <a:pt x="8449" y="261"/>
                  <a:pt x="8443" y="255"/>
                </a:cubicBezTo>
                <a:cubicBezTo>
                  <a:pt x="8443" y="249"/>
                  <a:pt x="8437" y="249"/>
                  <a:pt x="8431" y="249"/>
                </a:cubicBezTo>
                <a:cubicBezTo>
                  <a:pt x="8425" y="243"/>
                  <a:pt x="8419" y="243"/>
                  <a:pt x="8407" y="243"/>
                </a:cubicBezTo>
                <a:cubicBezTo>
                  <a:pt x="8396" y="243"/>
                  <a:pt x="8390" y="243"/>
                  <a:pt x="8384" y="249"/>
                </a:cubicBezTo>
                <a:cubicBezTo>
                  <a:pt x="8378" y="249"/>
                  <a:pt x="8372" y="255"/>
                  <a:pt x="8366" y="255"/>
                </a:cubicBezTo>
                <a:cubicBezTo>
                  <a:pt x="8360" y="255"/>
                  <a:pt x="8354" y="261"/>
                  <a:pt x="8342" y="261"/>
                </a:cubicBezTo>
                <a:cubicBezTo>
                  <a:pt x="8336" y="261"/>
                  <a:pt x="8330" y="255"/>
                  <a:pt x="8318" y="255"/>
                </a:cubicBezTo>
                <a:cubicBezTo>
                  <a:pt x="8313" y="249"/>
                  <a:pt x="8313" y="249"/>
                  <a:pt x="8307" y="249"/>
                </a:cubicBezTo>
                <a:cubicBezTo>
                  <a:pt x="8289" y="243"/>
                  <a:pt x="8289" y="243"/>
                  <a:pt x="8289" y="243"/>
                </a:cubicBezTo>
                <a:cubicBezTo>
                  <a:pt x="8283" y="237"/>
                  <a:pt x="8277" y="237"/>
                  <a:pt x="8271" y="237"/>
                </a:cubicBezTo>
                <a:cubicBezTo>
                  <a:pt x="8265" y="237"/>
                  <a:pt x="8259" y="243"/>
                  <a:pt x="8247" y="243"/>
                </a:cubicBezTo>
                <a:cubicBezTo>
                  <a:pt x="8241" y="243"/>
                  <a:pt x="8241" y="243"/>
                  <a:pt x="8235" y="243"/>
                </a:cubicBezTo>
                <a:cubicBezTo>
                  <a:pt x="8224" y="243"/>
                  <a:pt x="8218" y="243"/>
                  <a:pt x="8206" y="249"/>
                </a:cubicBezTo>
                <a:cubicBezTo>
                  <a:pt x="8206" y="249"/>
                  <a:pt x="8200" y="255"/>
                  <a:pt x="8194" y="255"/>
                </a:cubicBezTo>
                <a:cubicBezTo>
                  <a:pt x="8194" y="261"/>
                  <a:pt x="8188" y="261"/>
                  <a:pt x="8188" y="261"/>
                </a:cubicBezTo>
                <a:cubicBezTo>
                  <a:pt x="8182" y="273"/>
                  <a:pt x="8182" y="279"/>
                  <a:pt x="8176" y="285"/>
                </a:cubicBezTo>
                <a:cubicBezTo>
                  <a:pt x="8176" y="291"/>
                  <a:pt x="8176" y="297"/>
                  <a:pt x="8170" y="297"/>
                </a:cubicBezTo>
                <a:cubicBezTo>
                  <a:pt x="8170" y="302"/>
                  <a:pt x="8164" y="302"/>
                  <a:pt x="8158" y="302"/>
                </a:cubicBezTo>
                <a:cubicBezTo>
                  <a:pt x="8152" y="302"/>
                  <a:pt x="8147" y="302"/>
                  <a:pt x="8135" y="302"/>
                </a:cubicBezTo>
                <a:cubicBezTo>
                  <a:pt x="8123" y="302"/>
                  <a:pt x="8117" y="302"/>
                  <a:pt x="8111" y="302"/>
                </a:cubicBezTo>
                <a:cubicBezTo>
                  <a:pt x="8099" y="302"/>
                  <a:pt x="8093" y="302"/>
                  <a:pt x="8087" y="302"/>
                </a:cubicBezTo>
                <a:cubicBezTo>
                  <a:pt x="8081" y="297"/>
                  <a:pt x="8081" y="291"/>
                  <a:pt x="8075" y="291"/>
                </a:cubicBezTo>
                <a:cubicBezTo>
                  <a:pt x="8069" y="285"/>
                  <a:pt x="8058" y="285"/>
                  <a:pt x="8046" y="285"/>
                </a:cubicBezTo>
                <a:cubicBezTo>
                  <a:pt x="8040" y="285"/>
                  <a:pt x="8034" y="285"/>
                  <a:pt x="8028" y="285"/>
                </a:cubicBezTo>
                <a:cubicBezTo>
                  <a:pt x="8016" y="291"/>
                  <a:pt x="8016" y="297"/>
                  <a:pt x="8010" y="308"/>
                </a:cubicBezTo>
                <a:cubicBezTo>
                  <a:pt x="8004" y="308"/>
                  <a:pt x="8004" y="314"/>
                  <a:pt x="8004" y="320"/>
                </a:cubicBezTo>
                <a:cubicBezTo>
                  <a:pt x="7998" y="320"/>
                  <a:pt x="7998" y="320"/>
                  <a:pt x="7992" y="326"/>
                </a:cubicBezTo>
                <a:cubicBezTo>
                  <a:pt x="7986" y="326"/>
                  <a:pt x="7986" y="326"/>
                  <a:pt x="7980" y="326"/>
                </a:cubicBezTo>
                <a:cubicBezTo>
                  <a:pt x="7969" y="326"/>
                  <a:pt x="7963" y="320"/>
                  <a:pt x="7957" y="326"/>
                </a:cubicBezTo>
                <a:cubicBezTo>
                  <a:pt x="7945" y="326"/>
                  <a:pt x="7939" y="326"/>
                  <a:pt x="7933" y="332"/>
                </a:cubicBezTo>
                <a:cubicBezTo>
                  <a:pt x="7927" y="332"/>
                  <a:pt x="7927" y="338"/>
                  <a:pt x="7921" y="338"/>
                </a:cubicBezTo>
                <a:cubicBezTo>
                  <a:pt x="7909" y="344"/>
                  <a:pt x="7903" y="338"/>
                  <a:pt x="7892" y="344"/>
                </a:cubicBezTo>
                <a:cubicBezTo>
                  <a:pt x="7892" y="344"/>
                  <a:pt x="7886" y="350"/>
                  <a:pt x="7880" y="350"/>
                </a:cubicBezTo>
                <a:cubicBezTo>
                  <a:pt x="7880" y="356"/>
                  <a:pt x="7874" y="362"/>
                  <a:pt x="7868" y="362"/>
                </a:cubicBezTo>
                <a:cubicBezTo>
                  <a:pt x="7862" y="374"/>
                  <a:pt x="7862" y="386"/>
                  <a:pt x="7850" y="391"/>
                </a:cubicBezTo>
                <a:cubicBezTo>
                  <a:pt x="7844" y="397"/>
                  <a:pt x="7844" y="397"/>
                  <a:pt x="7838" y="397"/>
                </a:cubicBezTo>
                <a:cubicBezTo>
                  <a:pt x="7832" y="397"/>
                  <a:pt x="7832" y="391"/>
                  <a:pt x="7826" y="391"/>
                </a:cubicBezTo>
                <a:cubicBezTo>
                  <a:pt x="7832" y="391"/>
                  <a:pt x="7832" y="386"/>
                  <a:pt x="7832" y="379"/>
                </a:cubicBezTo>
                <a:cubicBezTo>
                  <a:pt x="7838" y="379"/>
                  <a:pt x="7844" y="379"/>
                  <a:pt x="7844" y="374"/>
                </a:cubicBezTo>
                <a:cubicBezTo>
                  <a:pt x="7850" y="374"/>
                  <a:pt x="7850" y="368"/>
                  <a:pt x="7850" y="362"/>
                </a:cubicBezTo>
                <a:cubicBezTo>
                  <a:pt x="7856" y="362"/>
                  <a:pt x="7856" y="356"/>
                  <a:pt x="7862" y="350"/>
                </a:cubicBezTo>
                <a:cubicBezTo>
                  <a:pt x="7862" y="344"/>
                  <a:pt x="7868" y="332"/>
                  <a:pt x="7874" y="332"/>
                </a:cubicBezTo>
                <a:cubicBezTo>
                  <a:pt x="7880" y="326"/>
                  <a:pt x="7880" y="332"/>
                  <a:pt x="7886" y="332"/>
                </a:cubicBezTo>
                <a:cubicBezTo>
                  <a:pt x="7892" y="326"/>
                  <a:pt x="7897" y="326"/>
                  <a:pt x="7903" y="320"/>
                </a:cubicBezTo>
                <a:cubicBezTo>
                  <a:pt x="7903" y="314"/>
                  <a:pt x="7903" y="314"/>
                  <a:pt x="7903" y="308"/>
                </a:cubicBezTo>
                <a:cubicBezTo>
                  <a:pt x="7903" y="285"/>
                  <a:pt x="7903" y="285"/>
                  <a:pt x="7903" y="285"/>
                </a:cubicBezTo>
                <a:cubicBezTo>
                  <a:pt x="7909" y="279"/>
                  <a:pt x="7909" y="273"/>
                  <a:pt x="7915" y="273"/>
                </a:cubicBezTo>
                <a:cubicBezTo>
                  <a:pt x="7921" y="273"/>
                  <a:pt x="7927" y="273"/>
                  <a:pt x="7927" y="267"/>
                </a:cubicBezTo>
                <a:cubicBezTo>
                  <a:pt x="7933" y="267"/>
                  <a:pt x="7939" y="267"/>
                  <a:pt x="7939" y="261"/>
                </a:cubicBezTo>
                <a:cubicBezTo>
                  <a:pt x="7945" y="255"/>
                  <a:pt x="7939" y="255"/>
                  <a:pt x="7939" y="249"/>
                </a:cubicBezTo>
                <a:cubicBezTo>
                  <a:pt x="7939" y="243"/>
                  <a:pt x="7939" y="243"/>
                  <a:pt x="7939" y="237"/>
                </a:cubicBezTo>
                <a:cubicBezTo>
                  <a:pt x="7939" y="231"/>
                  <a:pt x="7939" y="231"/>
                  <a:pt x="7933" y="225"/>
                </a:cubicBezTo>
                <a:cubicBezTo>
                  <a:pt x="7933" y="225"/>
                  <a:pt x="7927" y="220"/>
                  <a:pt x="7927" y="213"/>
                </a:cubicBezTo>
                <a:cubicBezTo>
                  <a:pt x="7921" y="213"/>
                  <a:pt x="7921" y="213"/>
                  <a:pt x="7915" y="213"/>
                </a:cubicBezTo>
                <a:cubicBezTo>
                  <a:pt x="7903" y="213"/>
                  <a:pt x="7903" y="213"/>
                  <a:pt x="7903" y="213"/>
                </a:cubicBezTo>
                <a:cubicBezTo>
                  <a:pt x="7897" y="213"/>
                  <a:pt x="7897" y="220"/>
                  <a:pt x="7892" y="220"/>
                </a:cubicBezTo>
                <a:cubicBezTo>
                  <a:pt x="7880" y="220"/>
                  <a:pt x="7874" y="220"/>
                  <a:pt x="7862" y="220"/>
                </a:cubicBezTo>
                <a:cubicBezTo>
                  <a:pt x="7856" y="220"/>
                  <a:pt x="7856" y="220"/>
                  <a:pt x="7850" y="220"/>
                </a:cubicBezTo>
                <a:cubicBezTo>
                  <a:pt x="7838" y="220"/>
                  <a:pt x="7826" y="220"/>
                  <a:pt x="7814" y="220"/>
                </a:cubicBezTo>
                <a:cubicBezTo>
                  <a:pt x="7809" y="220"/>
                  <a:pt x="7803" y="220"/>
                  <a:pt x="7803" y="213"/>
                </a:cubicBezTo>
                <a:cubicBezTo>
                  <a:pt x="7803" y="231"/>
                  <a:pt x="7803" y="237"/>
                  <a:pt x="7803" y="255"/>
                </a:cubicBezTo>
                <a:lnTo>
                  <a:pt x="7797" y="261"/>
                </a:lnTo>
                <a:cubicBezTo>
                  <a:pt x="7797" y="267"/>
                  <a:pt x="7803" y="267"/>
                  <a:pt x="7803" y="273"/>
                </a:cubicBezTo>
                <a:cubicBezTo>
                  <a:pt x="7797" y="273"/>
                  <a:pt x="7791" y="279"/>
                  <a:pt x="7785" y="279"/>
                </a:cubicBezTo>
                <a:cubicBezTo>
                  <a:pt x="7779" y="279"/>
                  <a:pt x="7779" y="273"/>
                  <a:pt x="7773" y="273"/>
                </a:cubicBezTo>
                <a:cubicBezTo>
                  <a:pt x="7761" y="273"/>
                  <a:pt x="7761" y="273"/>
                  <a:pt x="7749" y="273"/>
                </a:cubicBezTo>
                <a:cubicBezTo>
                  <a:pt x="7743" y="273"/>
                  <a:pt x="7737" y="273"/>
                  <a:pt x="7732" y="273"/>
                </a:cubicBezTo>
                <a:cubicBezTo>
                  <a:pt x="7720" y="273"/>
                  <a:pt x="7720" y="279"/>
                  <a:pt x="7708" y="285"/>
                </a:cubicBezTo>
                <a:cubicBezTo>
                  <a:pt x="7708" y="285"/>
                  <a:pt x="7702" y="285"/>
                  <a:pt x="7696" y="285"/>
                </a:cubicBezTo>
                <a:cubicBezTo>
                  <a:pt x="7690" y="291"/>
                  <a:pt x="7690" y="291"/>
                  <a:pt x="7684" y="297"/>
                </a:cubicBezTo>
                <a:cubicBezTo>
                  <a:pt x="7684" y="297"/>
                  <a:pt x="7678" y="297"/>
                  <a:pt x="7672" y="297"/>
                </a:cubicBezTo>
                <a:cubicBezTo>
                  <a:pt x="7672" y="291"/>
                  <a:pt x="7678" y="285"/>
                  <a:pt x="7678" y="285"/>
                </a:cubicBezTo>
                <a:cubicBezTo>
                  <a:pt x="7678" y="279"/>
                  <a:pt x="7684" y="279"/>
                  <a:pt x="7684" y="273"/>
                </a:cubicBezTo>
                <a:cubicBezTo>
                  <a:pt x="7684" y="267"/>
                  <a:pt x="7684" y="261"/>
                  <a:pt x="7690" y="261"/>
                </a:cubicBezTo>
                <a:cubicBezTo>
                  <a:pt x="7690" y="255"/>
                  <a:pt x="7696" y="249"/>
                  <a:pt x="7702" y="249"/>
                </a:cubicBezTo>
                <a:cubicBezTo>
                  <a:pt x="7714" y="249"/>
                  <a:pt x="7714" y="249"/>
                  <a:pt x="7714" y="249"/>
                </a:cubicBezTo>
                <a:cubicBezTo>
                  <a:pt x="7720" y="249"/>
                  <a:pt x="7726" y="249"/>
                  <a:pt x="7737" y="249"/>
                </a:cubicBezTo>
                <a:cubicBezTo>
                  <a:pt x="7743" y="249"/>
                  <a:pt x="7749" y="249"/>
                  <a:pt x="7761" y="249"/>
                </a:cubicBezTo>
                <a:cubicBezTo>
                  <a:pt x="7767" y="243"/>
                  <a:pt x="7767" y="243"/>
                  <a:pt x="7773" y="237"/>
                </a:cubicBezTo>
                <a:cubicBezTo>
                  <a:pt x="7767" y="225"/>
                  <a:pt x="7767" y="225"/>
                  <a:pt x="7767" y="225"/>
                </a:cubicBezTo>
                <a:cubicBezTo>
                  <a:pt x="7767" y="225"/>
                  <a:pt x="7761" y="220"/>
                  <a:pt x="7755" y="220"/>
                </a:cubicBezTo>
                <a:cubicBezTo>
                  <a:pt x="7749" y="220"/>
                  <a:pt x="7749" y="220"/>
                  <a:pt x="7743" y="220"/>
                </a:cubicBezTo>
                <a:cubicBezTo>
                  <a:pt x="7737" y="220"/>
                  <a:pt x="7732" y="220"/>
                  <a:pt x="7726" y="220"/>
                </a:cubicBezTo>
                <a:cubicBezTo>
                  <a:pt x="7708" y="220"/>
                  <a:pt x="7696" y="225"/>
                  <a:pt x="7678" y="225"/>
                </a:cubicBezTo>
                <a:cubicBezTo>
                  <a:pt x="7672" y="225"/>
                  <a:pt x="7666" y="225"/>
                  <a:pt x="7654" y="225"/>
                </a:cubicBezTo>
                <a:cubicBezTo>
                  <a:pt x="7654" y="225"/>
                  <a:pt x="7648" y="231"/>
                  <a:pt x="7643" y="231"/>
                </a:cubicBezTo>
                <a:cubicBezTo>
                  <a:pt x="7566" y="231"/>
                  <a:pt x="7566" y="231"/>
                  <a:pt x="7566" y="231"/>
                </a:cubicBezTo>
                <a:cubicBezTo>
                  <a:pt x="7554" y="231"/>
                  <a:pt x="7548" y="225"/>
                  <a:pt x="7536" y="225"/>
                </a:cubicBezTo>
                <a:cubicBezTo>
                  <a:pt x="7524" y="225"/>
                  <a:pt x="7518" y="225"/>
                  <a:pt x="7506" y="231"/>
                </a:cubicBezTo>
                <a:cubicBezTo>
                  <a:pt x="7500" y="231"/>
                  <a:pt x="7494" y="231"/>
                  <a:pt x="7494" y="231"/>
                </a:cubicBezTo>
                <a:cubicBezTo>
                  <a:pt x="7488" y="231"/>
                  <a:pt x="7482" y="237"/>
                  <a:pt x="7482" y="237"/>
                </a:cubicBezTo>
                <a:cubicBezTo>
                  <a:pt x="7477" y="237"/>
                  <a:pt x="7471" y="243"/>
                  <a:pt x="7471" y="243"/>
                </a:cubicBezTo>
                <a:cubicBezTo>
                  <a:pt x="7465" y="243"/>
                  <a:pt x="7459" y="249"/>
                  <a:pt x="7453" y="249"/>
                </a:cubicBezTo>
                <a:cubicBezTo>
                  <a:pt x="7447" y="249"/>
                  <a:pt x="7441" y="249"/>
                  <a:pt x="7435" y="249"/>
                </a:cubicBezTo>
                <a:cubicBezTo>
                  <a:pt x="7429" y="249"/>
                  <a:pt x="7429" y="255"/>
                  <a:pt x="7423" y="255"/>
                </a:cubicBezTo>
                <a:cubicBezTo>
                  <a:pt x="7417" y="255"/>
                  <a:pt x="7411" y="255"/>
                  <a:pt x="7405" y="255"/>
                </a:cubicBezTo>
                <a:cubicBezTo>
                  <a:pt x="7400" y="255"/>
                  <a:pt x="7400" y="261"/>
                  <a:pt x="7393" y="261"/>
                </a:cubicBezTo>
                <a:cubicBezTo>
                  <a:pt x="7388" y="261"/>
                  <a:pt x="7382" y="261"/>
                  <a:pt x="7382" y="261"/>
                </a:cubicBezTo>
                <a:cubicBezTo>
                  <a:pt x="7376" y="267"/>
                  <a:pt x="7370" y="267"/>
                  <a:pt x="7364" y="267"/>
                </a:cubicBezTo>
                <a:cubicBezTo>
                  <a:pt x="7358" y="267"/>
                  <a:pt x="7358" y="267"/>
                  <a:pt x="7352" y="261"/>
                </a:cubicBezTo>
                <a:cubicBezTo>
                  <a:pt x="7358" y="261"/>
                  <a:pt x="7358" y="255"/>
                  <a:pt x="7358" y="255"/>
                </a:cubicBezTo>
                <a:cubicBezTo>
                  <a:pt x="7364" y="243"/>
                  <a:pt x="7370" y="237"/>
                  <a:pt x="7376" y="231"/>
                </a:cubicBezTo>
                <a:cubicBezTo>
                  <a:pt x="7376" y="225"/>
                  <a:pt x="7382" y="220"/>
                  <a:pt x="7382" y="220"/>
                </a:cubicBezTo>
                <a:cubicBezTo>
                  <a:pt x="7393" y="213"/>
                  <a:pt x="7400" y="208"/>
                  <a:pt x="7411" y="208"/>
                </a:cubicBezTo>
                <a:cubicBezTo>
                  <a:pt x="7417" y="208"/>
                  <a:pt x="7417" y="202"/>
                  <a:pt x="7423" y="202"/>
                </a:cubicBezTo>
                <a:cubicBezTo>
                  <a:pt x="7619" y="202"/>
                  <a:pt x="7619" y="202"/>
                  <a:pt x="7619" y="202"/>
                </a:cubicBezTo>
                <a:cubicBezTo>
                  <a:pt x="7619" y="202"/>
                  <a:pt x="7625" y="202"/>
                  <a:pt x="7631" y="202"/>
                </a:cubicBezTo>
                <a:cubicBezTo>
                  <a:pt x="7631" y="196"/>
                  <a:pt x="7631" y="190"/>
                  <a:pt x="7637" y="190"/>
                </a:cubicBezTo>
                <a:cubicBezTo>
                  <a:pt x="7643" y="190"/>
                  <a:pt x="7643" y="184"/>
                  <a:pt x="7648" y="184"/>
                </a:cubicBezTo>
                <a:cubicBezTo>
                  <a:pt x="7809" y="184"/>
                  <a:pt x="7809" y="184"/>
                  <a:pt x="7809" y="184"/>
                </a:cubicBezTo>
                <a:cubicBezTo>
                  <a:pt x="7814" y="184"/>
                  <a:pt x="7820" y="184"/>
                  <a:pt x="7820" y="184"/>
                </a:cubicBezTo>
                <a:cubicBezTo>
                  <a:pt x="7832" y="184"/>
                  <a:pt x="7838" y="184"/>
                  <a:pt x="7844" y="184"/>
                </a:cubicBezTo>
                <a:cubicBezTo>
                  <a:pt x="7850" y="184"/>
                  <a:pt x="7850" y="178"/>
                  <a:pt x="7856" y="178"/>
                </a:cubicBezTo>
                <a:cubicBezTo>
                  <a:pt x="7862" y="178"/>
                  <a:pt x="7856" y="166"/>
                  <a:pt x="7862" y="166"/>
                </a:cubicBezTo>
                <a:cubicBezTo>
                  <a:pt x="7868" y="166"/>
                  <a:pt x="7868" y="166"/>
                  <a:pt x="7874" y="166"/>
                </a:cubicBezTo>
                <a:cubicBezTo>
                  <a:pt x="7880" y="166"/>
                  <a:pt x="7880" y="160"/>
                  <a:pt x="7886" y="160"/>
                </a:cubicBezTo>
                <a:cubicBezTo>
                  <a:pt x="7892" y="160"/>
                  <a:pt x="7892" y="160"/>
                  <a:pt x="7897" y="160"/>
                </a:cubicBezTo>
                <a:cubicBezTo>
                  <a:pt x="7903" y="160"/>
                  <a:pt x="7903" y="160"/>
                  <a:pt x="7909" y="160"/>
                </a:cubicBezTo>
                <a:cubicBezTo>
                  <a:pt x="7915" y="160"/>
                  <a:pt x="7915" y="154"/>
                  <a:pt x="7921" y="154"/>
                </a:cubicBezTo>
                <a:cubicBezTo>
                  <a:pt x="7933" y="148"/>
                  <a:pt x="7945" y="154"/>
                  <a:pt x="7957" y="154"/>
                </a:cubicBezTo>
                <a:cubicBezTo>
                  <a:pt x="7963" y="154"/>
                  <a:pt x="7963" y="148"/>
                  <a:pt x="7969" y="148"/>
                </a:cubicBezTo>
                <a:cubicBezTo>
                  <a:pt x="7969" y="125"/>
                  <a:pt x="7969" y="125"/>
                  <a:pt x="7969" y="125"/>
                </a:cubicBezTo>
                <a:cubicBezTo>
                  <a:pt x="7939" y="119"/>
                  <a:pt x="7939" y="119"/>
                  <a:pt x="7939" y="119"/>
                </a:cubicBezTo>
                <a:cubicBezTo>
                  <a:pt x="7933" y="125"/>
                  <a:pt x="7927" y="125"/>
                  <a:pt x="7921" y="125"/>
                </a:cubicBezTo>
                <a:cubicBezTo>
                  <a:pt x="7915" y="125"/>
                  <a:pt x="7915" y="125"/>
                  <a:pt x="7915" y="125"/>
                </a:cubicBezTo>
                <a:cubicBezTo>
                  <a:pt x="7909" y="125"/>
                  <a:pt x="7909" y="125"/>
                  <a:pt x="7903" y="119"/>
                </a:cubicBezTo>
                <a:cubicBezTo>
                  <a:pt x="7892" y="119"/>
                  <a:pt x="7880" y="113"/>
                  <a:pt x="7868" y="113"/>
                </a:cubicBezTo>
                <a:cubicBezTo>
                  <a:pt x="7856" y="113"/>
                  <a:pt x="7850" y="119"/>
                  <a:pt x="7844" y="119"/>
                </a:cubicBezTo>
                <a:cubicBezTo>
                  <a:pt x="7832" y="119"/>
                  <a:pt x="7826" y="119"/>
                  <a:pt x="7814" y="113"/>
                </a:cubicBezTo>
                <a:cubicBezTo>
                  <a:pt x="7809" y="113"/>
                  <a:pt x="7809" y="113"/>
                  <a:pt x="7803" y="107"/>
                </a:cubicBezTo>
                <a:cubicBezTo>
                  <a:pt x="7803" y="107"/>
                  <a:pt x="7814" y="107"/>
                  <a:pt x="7814" y="101"/>
                </a:cubicBezTo>
                <a:cubicBezTo>
                  <a:pt x="7814" y="95"/>
                  <a:pt x="7809" y="95"/>
                  <a:pt x="7809" y="89"/>
                </a:cubicBezTo>
                <a:cubicBezTo>
                  <a:pt x="7803" y="89"/>
                  <a:pt x="7803" y="89"/>
                  <a:pt x="7797" y="89"/>
                </a:cubicBezTo>
                <a:cubicBezTo>
                  <a:pt x="7791" y="89"/>
                  <a:pt x="7785" y="83"/>
                  <a:pt x="7773" y="83"/>
                </a:cubicBezTo>
                <a:cubicBezTo>
                  <a:pt x="7773" y="83"/>
                  <a:pt x="7773" y="83"/>
                  <a:pt x="7767" y="83"/>
                </a:cubicBezTo>
                <a:cubicBezTo>
                  <a:pt x="7761" y="89"/>
                  <a:pt x="7761" y="95"/>
                  <a:pt x="7755" y="95"/>
                </a:cubicBezTo>
                <a:cubicBezTo>
                  <a:pt x="7702" y="95"/>
                  <a:pt x="7702" y="95"/>
                  <a:pt x="7702" y="95"/>
                </a:cubicBezTo>
                <a:cubicBezTo>
                  <a:pt x="7690" y="95"/>
                  <a:pt x="7684" y="83"/>
                  <a:pt x="7678" y="77"/>
                </a:cubicBezTo>
                <a:cubicBezTo>
                  <a:pt x="7672" y="77"/>
                  <a:pt x="7672" y="77"/>
                  <a:pt x="7666" y="77"/>
                </a:cubicBezTo>
                <a:cubicBezTo>
                  <a:pt x="7654" y="71"/>
                  <a:pt x="7648" y="77"/>
                  <a:pt x="7643" y="77"/>
                </a:cubicBezTo>
                <a:cubicBezTo>
                  <a:pt x="7571" y="77"/>
                  <a:pt x="7571" y="77"/>
                  <a:pt x="7571" y="77"/>
                </a:cubicBezTo>
                <a:cubicBezTo>
                  <a:pt x="7554" y="77"/>
                  <a:pt x="7554" y="77"/>
                  <a:pt x="7554" y="77"/>
                </a:cubicBezTo>
                <a:cubicBezTo>
                  <a:pt x="7512" y="77"/>
                  <a:pt x="7512" y="77"/>
                  <a:pt x="7512" y="77"/>
                </a:cubicBezTo>
                <a:cubicBezTo>
                  <a:pt x="7488" y="77"/>
                  <a:pt x="7488" y="77"/>
                  <a:pt x="7488" y="77"/>
                </a:cubicBezTo>
                <a:cubicBezTo>
                  <a:pt x="7482" y="77"/>
                  <a:pt x="7477" y="77"/>
                  <a:pt x="7465" y="77"/>
                </a:cubicBezTo>
                <a:cubicBezTo>
                  <a:pt x="7459" y="77"/>
                  <a:pt x="7459" y="83"/>
                  <a:pt x="7453" y="89"/>
                </a:cubicBezTo>
                <a:cubicBezTo>
                  <a:pt x="7352" y="89"/>
                  <a:pt x="7352" y="89"/>
                  <a:pt x="7352" y="89"/>
                </a:cubicBezTo>
                <a:cubicBezTo>
                  <a:pt x="7358" y="77"/>
                  <a:pt x="7358" y="77"/>
                  <a:pt x="7358" y="77"/>
                </a:cubicBezTo>
                <a:cubicBezTo>
                  <a:pt x="7382" y="77"/>
                  <a:pt x="7382" y="77"/>
                  <a:pt x="7382" y="77"/>
                </a:cubicBezTo>
                <a:cubicBezTo>
                  <a:pt x="7388" y="77"/>
                  <a:pt x="7393" y="77"/>
                  <a:pt x="7405" y="77"/>
                </a:cubicBezTo>
                <a:cubicBezTo>
                  <a:pt x="7405" y="77"/>
                  <a:pt x="7411" y="71"/>
                  <a:pt x="7411" y="65"/>
                </a:cubicBezTo>
                <a:cubicBezTo>
                  <a:pt x="7417" y="65"/>
                  <a:pt x="7417" y="59"/>
                  <a:pt x="7417" y="54"/>
                </a:cubicBezTo>
                <a:cubicBezTo>
                  <a:pt x="7761" y="54"/>
                  <a:pt x="7761" y="54"/>
                  <a:pt x="7761" y="54"/>
                </a:cubicBezTo>
                <a:cubicBezTo>
                  <a:pt x="7761" y="47"/>
                  <a:pt x="7761" y="47"/>
                  <a:pt x="7761" y="42"/>
                </a:cubicBezTo>
                <a:cubicBezTo>
                  <a:pt x="7755" y="36"/>
                  <a:pt x="7755" y="36"/>
                  <a:pt x="7749" y="30"/>
                </a:cubicBezTo>
                <a:cubicBezTo>
                  <a:pt x="7743" y="30"/>
                  <a:pt x="7743" y="24"/>
                  <a:pt x="7737" y="24"/>
                </a:cubicBezTo>
                <a:cubicBezTo>
                  <a:pt x="7726" y="18"/>
                  <a:pt x="7720" y="18"/>
                  <a:pt x="7714" y="18"/>
                </a:cubicBezTo>
                <a:cubicBezTo>
                  <a:pt x="7696" y="18"/>
                  <a:pt x="7696" y="18"/>
                  <a:pt x="7696" y="18"/>
                </a:cubicBezTo>
                <a:cubicBezTo>
                  <a:pt x="7690" y="18"/>
                  <a:pt x="7684" y="18"/>
                  <a:pt x="7672" y="18"/>
                </a:cubicBezTo>
                <a:cubicBezTo>
                  <a:pt x="7660" y="18"/>
                  <a:pt x="7654" y="12"/>
                  <a:pt x="7648" y="12"/>
                </a:cubicBezTo>
                <a:cubicBezTo>
                  <a:pt x="7643" y="12"/>
                  <a:pt x="7643" y="6"/>
                  <a:pt x="7637" y="6"/>
                </a:cubicBezTo>
                <a:cubicBezTo>
                  <a:pt x="7631" y="6"/>
                  <a:pt x="7631" y="6"/>
                  <a:pt x="7625" y="6"/>
                </a:cubicBezTo>
                <a:cubicBezTo>
                  <a:pt x="7619" y="0"/>
                  <a:pt x="7613" y="6"/>
                  <a:pt x="7601" y="6"/>
                </a:cubicBezTo>
                <a:cubicBezTo>
                  <a:pt x="7589" y="6"/>
                  <a:pt x="7583" y="6"/>
                  <a:pt x="7577" y="6"/>
                </a:cubicBezTo>
                <a:cubicBezTo>
                  <a:pt x="7571" y="6"/>
                  <a:pt x="7566" y="6"/>
                  <a:pt x="7566" y="6"/>
                </a:cubicBezTo>
                <a:cubicBezTo>
                  <a:pt x="7554" y="6"/>
                  <a:pt x="7548" y="6"/>
                  <a:pt x="7536" y="6"/>
                </a:cubicBezTo>
                <a:cubicBezTo>
                  <a:pt x="7524" y="6"/>
                  <a:pt x="7524" y="6"/>
                  <a:pt x="7524" y="6"/>
                </a:cubicBezTo>
                <a:cubicBezTo>
                  <a:pt x="7512" y="6"/>
                  <a:pt x="7506" y="0"/>
                  <a:pt x="7500" y="0"/>
                </a:cubicBezTo>
                <a:cubicBezTo>
                  <a:pt x="7405" y="0"/>
                  <a:pt x="7352" y="0"/>
                  <a:pt x="7257" y="0"/>
                </a:cubicBezTo>
                <a:cubicBezTo>
                  <a:pt x="7245" y="0"/>
                  <a:pt x="7239" y="0"/>
                  <a:pt x="7234" y="6"/>
                </a:cubicBezTo>
                <a:cubicBezTo>
                  <a:pt x="7227" y="6"/>
                  <a:pt x="7222" y="6"/>
                  <a:pt x="7222" y="6"/>
                </a:cubicBezTo>
                <a:cubicBezTo>
                  <a:pt x="7216" y="6"/>
                  <a:pt x="7210" y="12"/>
                  <a:pt x="7204" y="12"/>
                </a:cubicBezTo>
                <a:cubicBezTo>
                  <a:pt x="7204" y="18"/>
                  <a:pt x="7198" y="24"/>
                  <a:pt x="7192" y="24"/>
                </a:cubicBezTo>
                <a:cubicBezTo>
                  <a:pt x="7192" y="24"/>
                  <a:pt x="7186" y="24"/>
                  <a:pt x="7180" y="24"/>
                </a:cubicBezTo>
                <a:cubicBezTo>
                  <a:pt x="7168" y="24"/>
                  <a:pt x="7168" y="24"/>
                  <a:pt x="7168" y="24"/>
                </a:cubicBezTo>
                <a:cubicBezTo>
                  <a:pt x="7162" y="24"/>
                  <a:pt x="7162" y="24"/>
                  <a:pt x="7156" y="24"/>
                </a:cubicBezTo>
                <a:cubicBezTo>
                  <a:pt x="7139" y="24"/>
                  <a:pt x="7139" y="24"/>
                  <a:pt x="7139" y="24"/>
                </a:cubicBezTo>
                <a:cubicBezTo>
                  <a:pt x="7139" y="24"/>
                  <a:pt x="7133" y="18"/>
                  <a:pt x="7127" y="18"/>
                </a:cubicBezTo>
                <a:cubicBezTo>
                  <a:pt x="7121" y="18"/>
                  <a:pt x="7115" y="18"/>
                  <a:pt x="7109" y="18"/>
                </a:cubicBezTo>
                <a:cubicBezTo>
                  <a:pt x="7103" y="18"/>
                  <a:pt x="7097" y="18"/>
                  <a:pt x="7091" y="18"/>
                </a:cubicBezTo>
                <a:cubicBezTo>
                  <a:pt x="7073" y="18"/>
                  <a:pt x="7068" y="30"/>
                  <a:pt x="7056" y="36"/>
                </a:cubicBezTo>
                <a:cubicBezTo>
                  <a:pt x="7061" y="42"/>
                  <a:pt x="7061" y="54"/>
                  <a:pt x="7061" y="59"/>
                </a:cubicBezTo>
                <a:cubicBezTo>
                  <a:pt x="7068" y="65"/>
                  <a:pt x="7068" y="65"/>
                  <a:pt x="7068" y="71"/>
                </a:cubicBezTo>
                <a:cubicBezTo>
                  <a:pt x="7068" y="83"/>
                  <a:pt x="7056" y="83"/>
                  <a:pt x="7050" y="89"/>
                </a:cubicBezTo>
                <a:cubicBezTo>
                  <a:pt x="7044" y="89"/>
                  <a:pt x="7038" y="89"/>
                  <a:pt x="7026" y="89"/>
                </a:cubicBezTo>
                <a:cubicBezTo>
                  <a:pt x="7014" y="89"/>
                  <a:pt x="7008" y="89"/>
                  <a:pt x="7002" y="83"/>
                </a:cubicBezTo>
                <a:cubicBezTo>
                  <a:pt x="6996" y="83"/>
                  <a:pt x="6996" y="77"/>
                  <a:pt x="6990" y="77"/>
                </a:cubicBezTo>
                <a:cubicBezTo>
                  <a:pt x="6931" y="77"/>
                  <a:pt x="6931" y="77"/>
                  <a:pt x="6931" y="77"/>
                </a:cubicBezTo>
                <a:cubicBezTo>
                  <a:pt x="6913" y="77"/>
                  <a:pt x="6907" y="65"/>
                  <a:pt x="6890" y="54"/>
                </a:cubicBezTo>
                <a:lnTo>
                  <a:pt x="6884" y="54"/>
                </a:lnTo>
                <a:cubicBezTo>
                  <a:pt x="6866" y="54"/>
                  <a:pt x="6860" y="47"/>
                  <a:pt x="6848" y="47"/>
                </a:cubicBezTo>
                <a:cubicBezTo>
                  <a:pt x="6842" y="47"/>
                  <a:pt x="6842" y="47"/>
                  <a:pt x="6836" y="47"/>
                </a:cubicBezTo>
                <a:cubicBezTo>
                  <a:pt x="6830" y="54"/>
                  <a:pt x="6824" y="54"/>
                  <a:pt x="6824" y="54"/>
                </a:cubicBezTo>
                <a:cubicBezTo>
                  <a:pt x="6818" y="54"/>
                  <a:pt x="6818" y="59"/>
                  <a:pt x="6813" y="65"/>
                </a:cubicBezTo>
                <a:cubicBezTo>
                  <a:pt x="6813" y="65"/>
                  <a:pt x="6807" y="71"/>
                  <a:pt x="6801" y="71"/>
                </a:cubicBezTo>
                <a:cubicBezTo>
                  <a:pt x="6789" y="71"/>
                  <a:pt x="6783" y="71"/>
                  <a:pt x="6777" y="71"/>
                </a:cubicBezTo>
                <a:cubicBezTo>
                  <a:pt x="6765" y="71"/>
                  <a:pt x="6765" y="71"/>
                  <a:pt x="6765" y="71"/>
                </a:cubicBezTo>
                <a:cubicBezTo>
                  <a:pt x="6759" y="71"/>
                  <a:pt x="6759" y="71"/>
                  <a:pt x="6753" y="71"/>
                </a:cubicBezTo>
                <a:cubicBezTo>
                  <a:pt x="6747" y="71"/>
                  <a:pt x="6741" y="59"/>
                  <a:pt x="6735" y="59"/>
                </a:cubicBezTo>
                <a:cubicBezTo>
                  <a:pt x="6724" y="59"/>
                  <a:pt x="6718" y="65"/>
                  <a:pt x="6706" y="71"/>
                </a:cubicBezTo>
                <a:cubicBezTo>
                  <a:pt x="6688" y="71"/>
                  <a:pt x="6676" y="65"/>
                  <a:pt x="6658" y="65"/>
                </a:cubicBezTo>
                <a:lnTo>
                  <a:pt x="6652" y="65"/>
                </a:lnTo>
                <a:lnTo>
                  <a:pt x="6646" y="71"/>
                </a:lnTo>
                <a:lnTo>
                  <a:pt x="6641" y="71"/>
                </a:lnTo>
                <a:lnTo>
                  <a:pt x="6635" y="71"/>
                </a:lnTo>
                <a:cubicBezTo>
                  <a:pt x="6629" y="71"/>
                  <a:pt x="6623" y="77"/>
                  <a:pt x="6623" y="77"/>
                </a:cubicBezTo>
                <a:cubicBezTo>
                  <a:pt x="6617" y="77"/>
                  <a:pt x="6611" y="83"/>
                  <a:pt x="6605" y="83"/>
                </a:cubicBezTo>
                <a:cubicBezTo>
                  <a:pt x="6605" y="89"/>
                  <a:pt x="6611" y="89"/>
                  <a:pt x="6611" y="95"/>
                </a:cubicBezTo>
                <a:cubicBezTo>
                  <a:pt x="6617" y="101"/>
                  <a:pt x="6617" y="101"/>
                  <a:pt x="6617" y="101"/>
                </a:cubicBezTo>
                <a:cubicBezTo>
                  <a:pt x="6623" y="101"/>
                  <a:pt x="6623" y="101"/>
                  <a:pt x="6623" y="107"/>
                </a:cubicBezTo>
                <a:cubicBezTo>
                  <a:pt x="6629" y="107"/>
                  <a:pt x="6629" y="101"/>
                  <a:pt x="6635" y="107"/>
                </a:cubicBezTo>
                <a:cubicBezTo>
                  <a:pt x="6641" y="107"/>
                  <a:pt x="6641" y="107"/>
                  <a:pt x="6646" y="113"/>
                </a:cubicBezTo>
                <a:cubicBezTo>
                  <a:pt x="6652" y="113"/>
                  <a:pt x="6652" y="113"/>
                  <a:pt x="6652" y="119"/>
                </a:cubicBezTo>
                <a:cubicBezTo>
                  <a:pt x="6658" y="119"/>
                  <a:pt x="6658" y="119"/>
                  <a:pt x="6658" y="125"/>
                </a:cubicBezTo>
                <a:cubicBezTo>
                  <a:pt x="6658" y="125"/>
                  <a:pt x="6664" y="125"/>
                  <a:pt x="6664" y="131"/>
                </a:cubicBezTo>
                <a:cubicBezTo>
                  <a:pt x="6664" y="131"/>
                  <a:pt x="6664" y="136"/>
                  <a:pt x="6664" y="142"/>
                </a:cubicBezTo>
                <a:cubicBezTo>
                  <a:pt x="6670" y="148"/>
                  <a:pt x="6664" y="148"/>
                  <a:pt x="6664" y="154"/>
                </a:cubicBezTo>
                <a:cubicBezTo>
                  <a:pt x="6658" y="148"/>
                  <a:pt x="6658" y="148"/>
                  <a:pt x="6658" y="148"/>
                </a:cubicBezTo>
                <a:lnTo>
                  <a:pt x="6658" y="148"/>
                </a:lnTo>
                <a:cubicBezTo>
                  <a:pt x="6652" y="142"/>
                  <a:pt x="6652" y="142"/>
                  <a:pt x="6652" y="142"/>
                </a:cubicBezTo>
                <a:cubicBezTo>
                  <a:pt x="6652" y="136"/>
                  <a:pt x="6646" y="142"/>
                  <a:pt x="6646" y="142"/>
                </a:cubicBezTo>
                <a:cubicBezTo>
                  <a:pt x="6646" y="136"/>
                  <a:pt x="6641" y="136"/>
                  <a:pt x="6641" y="136"/>
                </a:cubicBezTo>
                <a:cubicBezTo>
                  <a:pt x="6635" y="136"/>
                  <a:pt x="6635" y="136"/>
                  <a:pt x="6635" y="136"/>
                </a:cubicBezTo>
                <a:cubicBezTo>
                  <a:pt x="6629" y="136"/>
                  <a:pt x="6629" y="131"/>
                  <a:pt x="6623" y="131"/>
                </a:cubicBezTo>
                <a:cubicBezTo>
                  <a:pt x="6623" y="131"/>
                  <a:pt x="6623" y="131"/>
                  <a:pt x="6617" y="131"/>
                </a:cubicBezTo>
                <a:cubicBezTo>
                  <a:pt x="6617" y="131"/>
                  <a:pt x="6617" y="131"/>
                  <a:pt x="6611" y="131"/>
                </a:cubicBezTo>
                <a:cubicBezTo>
                  <a:pt x="6611" y="125"/>
                  <a:pt x="6611" y="125"/>
                  <a:pt x="6605" y="125"/>
                </a:cubicBezTo>
                <a:cubicBezTo>
                  <a:pt x="6605" y="125"/>
                  <a:pt x="6605" y="125"/>
                  <a:pt x="6599" y="125"/>
                </a:cubicBezTo>
                <a:lnTo>
                  <a:pt x="6593" y="125"/>
                </a:lnTo>
                <a:cubicBezTo>
                  <a:pt x="6587" y="125"/>
                  <a:pt x="6587" y="125"/>
                  <a:pt x="6581" y="125"/>
                </a:cubicBezTo>
                <a:cubicBezTo>
                  <a:pt x="6575" y="125"/>
                  <a:pt x="6575" y="125"/>
                  <a:pt x="6569" y="125"/>
                </a:cubicBezTo>
                <a:cubicBezTo>
                  <a:pt x="6569" y="125"/>
                  <a:pt x="6563" y="125"/>
                  <a:pt x="6563" y="131"/>
                </a:cubicBezTo>
                <a:cubicBezTo>
                  <a:pt x="6563" y="131"/>
                  <a:pt x="6563" y="131"/>
                  <a:pt x="6563" y="136"/>
                </a:cubicBezTo>
                <a:cubicBezTo>
                  <a:pt x="6563" y="136"/>
                  <a:pt x="6563" y="136"/>
                  <a:pt x="6563" y="142"/>
                </a:cubicBezTo>
                <a:cubicBezTo>
                  <a:pt x="6563" y="148"/>
                  <a:pt x="6563" y="148"/>
                  <a:pt x="6569" y="154"/>
                </a:cubicBezTo>
                <a:cubicBezTo>
                  <a:pt x="6569" y="154"/>
                  <a:pt x="6569" y="154"/>
                  <a:pt x="6575" y="160"/>
                </a:cubicBezTo>
                <a:cubicBezTo>
                  <a:pt x="6575" y="160"/>
                  <a:pt x="6575" y="160"/>
                  <a:pt x="6581" y="166"/>
                </a:cubicBezTo>
                <a:cubicBezTo>
                  <a:pt x="6587" y="166"/>
                  <a:pt x="6587" y="166"/>
                  <a:pt x="6593" y="172"/>
                </a:cubicBezTo>
                <a:cubicBezTo>
                  <a:pt x="6599" y="172"/>
                  <a:pt x="6605" y="172"/>
                  <a:pt x="6605" y="178"/>
                </a:cubicBezTo>
                <a:cubicBezTo>
                  <a:pt x="6611" y="178"/>
                  <a:pt x="6611" y="178"/>
                  <a:pt x="6611" y="178"/>
                </a:cubicBezTo>
                <a:cubicBezTo>
                  <a:pt x="6617" y="178"/>
                  <a:pt x="6617" y="178"/>
                  <a:pt x="6617" y="178"/>
                </a:cubicBezTo>
                <a:cubicBezTo>
                  <a:pt x="6623" y="178"/>
                  <a:pt x="6623" y="178"/>
                  <a:pt x="6623" y="184"/>
                </a:cubicBezTo>
                <a:cubicBezTo>
                  <a:pt x="6629" y="184"/>
                  <a:pt x="6635" y="184"/>
                  <a:pt x="6641" y="184"/>
                </a:cubicBezTo>
                <a:cubicBezTo>
                  <a:pt x="6652" y="184"/>
                  <a:pt x="6652" y="184"/>
                  <a:pt x="6652" y="184"/>
                </a:cubicBezTo>
                <a:lnTo>
                  <a:pt x="6658" y="184"/>
                </a:lnTo>
                <a:lnTo>
                  <a:pt x="6664" y="184"/>
                </a:lnTo>
                <a:cubicBezTo>
                  <a:pt x="6664" y="190"/>
                  <a:pt x="6670" y="190"/>
                  <a:pt x="6670" y="190"/>
                </a:cubicBezTo>
                <a:cubicBezTo>
                  <a:pt x="6676" y="196"/>
                  <a:pt x="6676" y="196"/>
                  <a:pt x="6682" y="202"/>
                </a:cubicBezTo>
                <a:cubicBezTo>
                  <a:pt x="6682" y="202"/>
                  <a:pt x="6682" y="202"/>
                  <a:pt x="6688" y="208"/>
                </a:cubicBezTo>
                <a:cubicBezTo>
                  <a:pt x="6688" y="208"/>
                  <a:pt x="6694" y="213"/>
                  <a:pt x="6694" y="220"/>
                </a:cubicBezTo>
                <a:cubicBezTo>
                  <a:pt x="6700" y="220"/>
                  <a:pt x="6700" y="220"/>
                  <a:pt x="6700" y="225"/>
                </a:cubicBezTo>
                <a:cubicBezTo>
                  <a:pt x="6700" y="225"/>
                  <a:pt x="6706" y="225"/>
                  <a:pt x="6706" y="231"/>
                </a:cubicBezTo>
                <a:cubicBezTo>
                  <a:pt x="6706" y="231"/>
                  <a:pt x="6706" y="231"/>
                  <a:pt x="6706" y="237"/>
                </a:cubicBezTo>
                <a:lnTo>
                  <a:pt x="6706" y="243"/>
                </a:lnTo>
                <a:cubicBezTo>
                  <a:pt x="6706" y="249"/>
                  <a:pt x="6706" y="255"/>
                  <a:pt x="6700" y="255"/>
                </a:cubicBezTo>
                <a:cubicBezTo>
                  <a:pt x="6700" y="255"/>
                  <a:pt x="6700" y="255"/>
                  <a:pt x="6694" y="255"/>
                </a:cubicBezTo>
                <a:cubicBezTo>
                  <a:pt x="6688" y="255"/>
                  <a:pt x="6688" y="249"/>
                  <a:pt x="6682" y="249"/>
                </a:cubicBezTo>
                <a:lnTo>
                  <a:pt x="6676" y="249"/>
                </a:lnTo>
                <a:cubicBezTo>
                  <a:pt x="6670" y="249"/>
                  <a:pt x="6670" y="249"/>
                  <a:pt x="6670" y="249"/>
                </a:cubicBezTo>
                <a:cubicBezTo>
                  <a:pt x="6664" y="249"/>
                  <a:pt x="6664" y="243"/>
                  <a:pt x="6658" y="243"/>
                </a:cubicBezTo>
                <a:cubicBezTo>
                  <a:pt x="6652" y="243"/>
                  <a:pt x="6652" y="237"/>
                  <a:pt x="6646" y="237"/>
                </a:cubicBezTo>
                <a:cubicBezTo>
                  <a:pt x="6646" y="237"/>
                  <a:pt x="6646" y="237"/>
                  <a:pt x="6641" y="237"/>
                </a:cubicBezTo>
                <a:cubicBezTo>
                  <a:pt x="6641" y="237"/>
                  <a:pt x="6641" y="237"/>
                  <a:pt x="6635" y="231"/>
                </a:cubicBezTo>
                <a:lnTo>
                  <a:pt x="6629" y="231"/>
                </a:lnTo>
                <a:cubicBezTo>
                  <a:pt x="6623" y="231"/>
                  <a:pt x="6623" y="225"/>
                  <a:pt x="6617" y="225"/>
                </a:cubicBezTo>
                <a:cubicBezTo>
                  <a:pt x="6617" y="225"/>
                  <a:pt x="6617" y="225"/>
                  <a:pt x="6611" y="225"/>
                </a:cubicBezTo>
                <a:cubicBezTo>
                  <a:pt x="6605" y="225"/>
                  <a:pt x="6599" y="220"/>
                  <a:pt x="6593" y="220"/>
                </a:cubicBezTo>
                <a:cubicBezTo>
                  <a:pt x="6587" y="220"/>
                  <a:pt x="6587" y="220"/>
                  <a:pt x="6581" y="220"/>
                </a:cubicBezTo>
                <a:cubicBezTo>
                  <a:pt x="6575" y="213"/>
                  <a:pt x="6575" y="213"/>
                  <a:pt x="6569" y="208"/>
                </a:cubicBezTo>
                <a:cubicBezTo>
                  <a:pt x="6563" y="208"/>
                  <a:pt x="6563" y="208"/>
                  <a:pt x="6563" y="208"/>
                </a:cubicBezTo>
                <a:cubicBezTo>
                  <a:pt x="6558" y="208"/>
                  <a:pt x="6558" y="202"/>
                  <a:pt x="6558" y="202"/>
                </a:cubicBezTo>
                <a:cubicBezTo>
                  <a:pt x="6552" y="202"/>
                  <a:pt x="6552" y="202"/>
                  <a:pt x="6552" y="202"/>
                </a:cubicBezTo>
                <a:cubicBezTo>
                  <a:pt x="6546" y="196"/>
                  <a:pt x="6546" y="196"/>
                  <a:pt x="6540" y="196"/>
                </a:cubicBezTo>
                <a:cubicBezTo>
                  <a:pt x="6540" y="190"/>
                  <a:pt x="6534" y="190"/>
                  <a:pt x="6534" y="190"/>
                </a:cubicBezTo>
                <a:lnTo>
                  <a:pt x="6528" y="184"/>
                </a:lnTo>
                <a:lnTo>
                  <a:pt x="6522" y="178"/>
                </a:lnTo>
                <a:cubicBezTo>
                  <a:pt x="6516" y="178"/>
                  <a:pt x="6516" y="178"/>
                  <a:pt x="6516" y="178"/>
                </a:cubicBezTo>
                <a:cubicBezTo>
                  <a:pt x="6510" y="178"/>
                  <a:pt x="6510" y="172"/>
                  <a:pt x="6510" y="172"/>
                </a:cubicBezTo>
                <a:cubicBezTo>
                  <a:pt x="6504" y="172"/>
                  <a:pt x="6504" y="172"/>
                  <a:pt x="6504" y="172"/>
                </a:cubicBezTo>
                <a:cubicBezTo>
                  <a:pt x="6498" y="172"/>
                  <a:pt x="6498" y="172"/>
                  <a:pt x="6492" y="172"/>
                </a:cubicBezTo>
                <a:cubicBezTo>
                  <a:pt x="6469" y="172"/>
                  <a:pt x="6469" y="172"/>
                  <a:pt x="6469" y="172"/>
                </a:cubicBezTo>
                <a:lnTo>
                  <a:pt x="6463" y="172"/>
                </a:lnTo>
                <a:cubicBezTo>
                  <a:pt x="6457" y="172"/>
                  <a:pt x="6451" y="166"/>
                  <a:pt x="6451" y="166"/>
                </a:cubicBezTo>
                <a:cubicBezTo>
                  <a:pt x="6445" y="166"/>
                  <a:pt x="6439" y="166"/>
                  <a:pt x="6439" y="166"/>
                </a:cubicBezTo>
                <a:cubicBezTo>
                  <a:pt x="6433" y="160"/>
                  <a:pt x="6427" y="154"/>
                  <a:pt x="6421" y="154"/>
                </a:cubicBezTo>
                <a:cubicBezTo>
                  <a:pt x="6397" y="154"/>
                  <a:pt x="6386" y="160"/>
                  <a:pt x="6362" y="160"/>
                </a:cubicBezTo>
                <a:cubicBezTo>
                  <a:pt x="6362" y="160"/>
                  <a:pt x="6362" y="160"/>
                  <a:pt x="6362" y="166"/>
                </a:cubicBezTo>
                <a:cubicBezTo>
                  <a:pt x="6362" y="166"/>
                  <a:pt x="6368" y="166"/>
                  <a:pt x="6368" y="172"/>
                </a:cubicBezTo>
                <a:cubicBezTo>
                  <a:pt x="6374" y="178"/>
                  <a:pt x="6374" y="178"/>
                  <a:pt x="6380" y="184"/>
                </a:cubicBezTo>
                <a:cubicBezTo>
                  <a:pt x="6386" y="190"/>
                  <a:pt x="6386" y="190"/>
                  <a:pt x="6391" y="190"/>
                </a:cubicBezTo>
                <a:cubicBezTo>
                  <a:pt x="6391" y="196"/>
                  <a:pt x="6397" y="190"/>
                  <a:pt x="6397" y="190"/>
                </a:cubicBezTo>
                <a:cubicBezTo>
                  <a:pt x="6403" y="196"/>
                  <a:pt x="6403" y="196"/>
                  <a:pt x="6403" y="196"/>
                </a:cubicBezTo>
                <a:cubicBezTo>
                  <a:pt x="6409" y="196"/>
                  <a:pt x="6409" y="202"/>
                  <a:pt x="6409" y="202"/>
                </a:cubicBezTo>
                <a:cubicBezTo>
                  <a:pt x="6409" y="208"/>
                  <a:pt x="6415" y="208"/>
                  <a:pt x="6421" y="213"/>
                </a:cubicBezTo>
                <a:cubicBezTo>
                  <a:pt x="6421" y="213"/>
                  <a:pt x="6421" y="213"/>
                  <a:pt x="6427" y="213"/>
                </a:cubicBezTo>
                <a:cubicBezTo>
                  <a:pt x="6427" y="220"/>
                  <a:pt x="6427" y="220"/>
                  <a:pt x="6427" y="225"/>
                </a:cubicBezTo>
                <a:cubicBezTo>
                  <a:pt x="6433" y="225"/>
                  <a:pt x="6433" y="225"/>
                  <a:pt x="6439" y="225"/>
                </a:cubicBezTo>
                <a:cubicBezTo>
                  <a:pt x="6439" y="231"/>
                  <a:pt x="6439" y="237"/>
                  <a:pt x="6445" y="237"/>
                </a:cubicBezTo>
                <a:cubicBezTo>
                  <a:pt x="6445" y="243"/>
                  <a:pt x="6445" y="243"/>
                  <a:pt x="6445" y="243"/>
                </a:cubicBezTo>
                <a:cubicBezTo>
                  <a:pt x="6445" y="249"/>
                  <a:pt x="6445" y="249"/>
                  <a:pt x="6451" y="255"/>
                </a:cubicBezTo>
                <a:cubicBezTo>
                  <a:pt x="6451" y="255"/>
                  <a:pt x="6451" y="261"/>
                  <a:pt x="6451" y="267"/>
                </a:cubicBezTo>
                <a:cubicBezTo>
                  <a:pt x="6451" y="273"/>
                  <a:pt x="6451" y="273"/>
                  <a:pt x="6451" y="273"/>
                </a:cubicBezTo>
                <a:cubicBezTo>
                  <a:pt x="6439" y="273"/>
                  <a:pt x="6439" y="273"/>
                  <a:pt x="6439" y="273"/>
                </a:cubicBezTo>
                <a:cubicBezTo>
                  <a:pt x="6433" y="273"/>
                  <a:pt x="6433" y="273"/>
                  <a:pt x="6433" y="273"/>
                </a:cubicBezTo>
                <a:cubicBezTo>
                  <a:pt x="6427" y="273"/>
                  <a:pt x="6427" y="273"/>
                  <a:pt x="6421" y="267"/>
                </a:cubicBezTo>
                <a:cubicBezTo>
                  <a:pt x="6421" y="267"/>
                  <a:pt x="6421" y="267"/>
                  <a:pt x="6421" y="261"/>
                </a:cubicBezTo>
                <a:cubicBezTo>
                  <a:pt x="6415" y="261"/>
                  <a:pt x="6409" y="261"/>
                  <a:pt x="6409" y="261"/>
                </a:cubicBezTo>
                <a:lnTo>
                  <a:pt x="6409" y="255"/>
                </a:lnTo>
                <a:cubicBezTo>
                  <a:pt x="6403" y="255"/>
                  <a:pt x="6403" y="255"/>
                  <a:pt x="6403" y="249"/>
                </a:cubicBezTo>
                <a:cubicBezTo>
                  <a:pt x="6397" y="249"/>
                  <a:pt x="6397" y="249"/>
                  <a:pt x="6391" y="243"/>
                </a:cubicBezTo>
                <a:cubicBezTo>
                  <a:pt x="6391" y="243"/>
                  <a:pt x="6386" y="243"/>
                  <a:pt x="6386" y="237"/>
                </a:cubicBezTo>
                <a:cubicBezTo>
                  <a:pt x="6386" y="237"/>
                  <a:pt x="6380" y="237"/>
                  <a:pt x="6380" y="231"/>
                </a:cubicBezTo>
                <a:cubicBezTo>
                  <a:pt x="6374" y="231"/>
                  <a:pt x="6368" y="225"/>
                  <a:pt x="6362" y="225"/>
                </a:cubicBezTo>
                <a:cubicBezTo>
                  <a:pt x="6362" y="225"/>
                  <a:pt x="6362" y="220"/>
                  <a:pt x="6356" y="220"/>
                </a:cubicBezTo>
                <a:cubicBezTo>
                  <a:pt x="6356" y="220"/>
                  <a:pt x="6356" y="220"/>
                  <a:pt x="6350" y="220"/>
                </a:cubicBezTo>
                <a:cubicBezTo>
                  <a:pt x="6350" y="213"/>
                  <a:pt x="6350" y="213"/>
                  <a:pt x="6344" y="213"/>
                </a:cubicBezTo>
                <a:cubicBezTo>
                  <a:pt x="6344" y="208"/>
                  <a:pt x="6338" y="208"/>
                  <a:pt x="6338" y="202"/>
                </a:cubicBezTo>
                <a:cubicBezTo>
                  <a:pt x="6332" y="202"/>
                  <a:pt x="6332" y="202"/>
                  <a:pt x="6332" y="202"/>
                </a:cubicBezTo>
                <a:cubicBezTo>
                  <a:pt x="6326" y="202"/>
                  <a:pt x="6326" y="202"/>
                  <a:pt x="6326" y="202"/>
                </a:cubicBezTo>
                <a:cubicBezTo>
                  <a:pt x="6320" y="202"/>
                  <a:pt x="6314" y="202"/>
                  <a:pt x="6309" y="196"/>
                </a:cubicBezTo>
                <a:lnTo>
                  <a:pt x="6303" y="196"/>
                </a:lnTo>
                <a:cubicBezTo>
                  <a:pt x="6303" y="190"/>
                  <a:pt x="6303" y="190"/>
                  <a:pt x="6303" y="184"/>
                </a:cubicBezTo>
                <a:lnTo>
                  <a:pt x="6297" y="184"/>
                </a:lnTo>
                <a:cubicBezTo>
                  <a:pt x="6297" y="178"/>
                  <a:pt x="6291" y="178"/>
                  <a:pt x="6291" y="178"/>
                </a:cubicBezTo>
                <a:cubicBezTo>
                  <a:pt x="6285" y="178"/>
                  <a:pt x="6285" y="178"/>
                  <a:pt x="6279" y="178"/>
                </a:cubicBezTo>
                <a:cubicBezTo>
                  <a:pt x="6279" y="178"/>
                  <a:pt x="6279" y="178"/>
                  <a:pt x="6273" y="178"/>
                </a:cubicBezTo>
                <a:cubicBezTo>
                  <a:pt x="6273" y="178"/>
                  <a:pt x="6267" y="172"/>
                  <a:pt x="6261" y="172"/>
                </a:cubicBezTo>
                <a:cubicBezTo>
                  <a:pt x="6243" y="172"/>
                  <a:pt x="6243" y="172"/>
                  <a:pt x="6243" y="172"/>
                </a:cubicBezTo>
                <a:cubicBezTo>
                  <a:pt x="6243" y="184"/>
                  <a:pt x="6243" y="184"/>
                  <a:pt x="6243" y="184"/>
                </a:cubicBezTo>
                <a:cubicBezTo>
                  <a:pt x="6243" y="190"/>
                  <a:pt x="6243" y="190"/>
                  <a:pt x="6249" y="196"/>
                </a:cubicBezTo>
                <a:cubicBezTo>
                  <a:pt x="6249" y="202"/>
                  <a:pt x="6255" y="208"/>
                  <a:pt x="6255" y="213"/>
                </a:cubicBezTo>
                <a:cubicBezTo>
                  <a:pt x="6261" y="213"/>
                  <a:pt x="6261" y="220"/>
                  <a:pt x="6261" y="220"/>
                </a:cubicBezTo>
                <a:cubicBezTo>
                  <a:pt x="6261" y="225"/>
                  <a:pt x="6261" y="225"/>
                  <a:pt x="6261" y="231"/>
                </a:cubicBezTo>
                <a:cubicBezTo>
                  <a:pt x="6255" y="231"/>
                  <a:pt x="6261" y="231"/>
                  <a:pt x="6261" y="237"/>
                </a:cubicBezTo>
                <a:lnTo>
                  <a:pt x="6255" y="243"/>
                </a:lnTo>
                <a:cubicBezTo>
                  <a:pt x="6255" y="249"/>
                  <a:pt x="6255" y="249"/>
                  <a:pt x="6255" y="249"/>
                </a:cubicBezTo>
                <a:cubicBezTo>
                  <a:pt x="6255" y="249"/>
                  <a:pt x="6255" y="249"/>
                  <a:pt x="6255" y="255"/>
                </a:cubicBezTo>
                <a:cubicBezTo>
                  <a:pt x="6249" y="261"/>
                  <a:pt x="6249" y="267"/>
                  <a:pt x="6243" y="279"/>
                </a:cubicBezTo>
                <a:lnTo>
                  <a:pt x="6243" y="285"/>
                </a:lnTo>
                <a:cubicBezTo>
                  <a:pt x="6243" y="285"/>
                  <a:pt x="6243" y="291"/>
                  <a:pt x="6237" y="291"/>
                </a:cubicBezTo>
                <a:cubicBezTo>
                  <a:pt x="6237" y="291"/>
                  <a:pt x="6237" y="291"/>
                  <a:pt x="6231" y="291"/>
                </a:cubicBezTo>
                <a:cubicBezTo>
                  <a:pt x="6225" y="291"/>
                  <a:pt x="6225" y="291"/>
                  <a:pt x="6220" y="291"/>
                </a:cubicBezTo>
                <a:lnTo>
                  <a:pt x="6214" y="285"/>
                </a:lnTo>
                <a:cubicBezTo>
                  <a:pt x="6208" y="285"/>
                  <a:pt x="6202" y="279"/>
                  <a:pt x="6202" y="273"/>
                </a:cubicBezTo>
                <a:cubicBezTo>
                  <a:pt x="6202" y="273"/>
                  <a:pt x="6202" y="273"/>
                  <a:pt x="6202" y="267"/>
                </a:cubicBezTo>
                <a:cubicBezTo>
                  <a:pt x="6202" y="267"/>
                  <a:pt x="6202" y="261"/>
                  <a:pt x="6202" y="255"/>
                </a:cubicBezTo>
                <a:cubicBezTo>
                  <a:pt x="6202" y="255"/>
                  <a:pt x="6208" y="255"/>
                  <a:pt x="6208" y="249"/>
                </a:cubicBezTo>
                <a:cubicBezTo>
                  <a:pt x="6214" y="243"/>
                  <a:pt x="6214" y="243"/>
                  <a:pt x="6220" y="237"/>
                </a:cubicBezTo>
                <a:cubicBezTo>
                  <a:pt x="6220" y="237"/>
                  <a:pt x="6225" y="237"/>
                  <a:pt x="6225" y="231"/>
                </a:cubicBezTo>
                <a:cubicBezTo>
                  <a:pt x="6225" y="231"/>
                  <a:pt x="6225" y="231"/>
                  <a:pt x="6225" y="225"/>
                </a:cubicBezTo>
                <a:cubicBezTo>
                  <a:pt x="6225" y="225"/>
                  <a:pt x="6225" y="225"/>
                  <a:pt x="6225" y="220"/>
                </a:cubicBezTo>
                <a:cubicBezTo>
                  <a:pt x="6225" y="220"/>
                  <a:pt x="6220" y="220"/>
                  <a:pt x="6220" y="213"/>
                </a:cubicBezTo>
                <a:cubicBezTo>
                  <a:pt x="6220" y="213"/>
                  <a:pt x="6220" y="208"/>
                  <a:pt x="6214" y="208"/>
                </a:cubicBezTo>
                <a:cubicBezTo>
                  <a:pt x="6214" y="202"/>
                  <a:pt x="6208" y="202"/>
                  <a:pt x="6208" y="202"/>
                </a:cubicBezTo>
                <a:cubicBezTo>
                  <a:pt x="6208" y="196"/>
                  <a:pt x="6208" y="196"/>
                  <a:pt x="6208" y="196"/>
                </a:cubicBezTo>
                <a:lnTo>
                  <a:pt x="6214" y="190"/>
                </a:lnTo>
                <a:cubicBezTo>
                  <a:pt x="6208" y="184"/>
                  <a:pt x="6208" y="184"/>
                  <a:pt x="6202" y="178"/>
                </a:cubicBezTo>
                <a:cubicBezTo>
                  <a:pt x="6202" y="178"/>
                  <a:pt x="6202" y="178"/>
                  <a:pt x="6196" y="172"/>
                </a:cubicBezTo>
                <a:cubicBezTo>
                  <a:pt x="6196" y="172"/>
                  <a:pt x="6190" y="172"/>
                  <a:pt x="6190" y="166"/>
                </a:cubicBezTo>
                <a:lnTo>
                  <a:pt x="6184" y="166"/>
                </a:lnTo>
                <a:cubicBezTo>
                  <a:pt x="6178" y="160"/>
                  <a:pt x="6178" y="160"/>
                  <a:pt x="6178" y="160"/>
                </a:cubicBezTo>
                <a:cubicBezTo>
                  <a:pt x="6172" y="154"/>
                  <a:pt x="6172" y="160"/>
                  <a:pt x="6166" y="160"/>
                </a:cubicBezTo>
                <a:lnTo>
                  <a:pt x="6160" y="160"/>
                </a:lnTo>
                <a:cubicBezTo>
                  <a:pt x="6154" y="160"/>
                  <a:pt x="6154" y="160"/>
                  <a:pt x="6154" y="160"/>
                </a:cubicBezTo>
                <a:cubicBezTo>
                  <a:pt x="6148" y="160"/>
                  <a:pt x="6143" y="160"/>
                  <a:pt x="6143" y="166"/>
                </a:cubicBezTo>
                <a:cubicBezTo>
                  <a:pt x="6136" y="166"/>
                  <a:pt x="6136" y="166"/>
                  <a:pt x="6136" y="166"/>
                </a:cubicBezTo>
                <a:cubicBezTo>
                  <a:pt x="6131" y="166"/>
                  <a:pt x="6125" y="172"/>
                  <a:pt x="6119" y="172"/>
                </a:cubicBezTo>
                <a:cubicBezTo>
                  <a:pt x="6119" y="178"/>
                  <a:pt x="6119" y="178"/>
                  <a:pt x="6113" y="178"/>
                </a:cubicBezTo>
                <a:cubicBezTo>
                  <a:pt x="6113" y="178"/>
                  <a:pt x="6113" y="184"/>
                  <a:pt x="6107" y="184"/>
                </a:cubicBezTo>
                <a:cubicBezTo>
                  <a:pt x="6107" y="184"/>
                  <a:pt x="6107" y="184"/>
                  <a:pt x="6101" y="184"/>
                </a:cubicBezTo>
                <a:cubicBezTo>
                  <a:pt x="6101" y="184"/>
                  <a:pt x="6101" y="184"/>
                  <a:pt x="6095" y="184"/>
                </a:cubicBezTo>
                <a:cubicBezTo>
                  <a:pt x="6095" y="184"/>
                  <a:pt x="6095" y="190"/>
                  <a:pt x="6089" y="190"/>
                </a:cubicBezTo>
                <a:lnTo>
                  <a:pt x="6083" y="190"/>
                </a:lnTo>
                <a:cubicBezTo>
                  <a:pt x="6077" y="190"/>
                  <a:pt x="6077" y="196"/>
                  <a:pt x="6077" y="196"/>
                </a:cubicBezTo>
                <a:cubicBezTo>
                  <a:pt x="6071" y="196"/>
                  <a:pt x="6065" y="196"/>
                  <a:pt x="6065" y="196"/>
                </a:cubicBezTo>
                <a:cubicBezTo>
                  <a:pt x="6059" y="196"/>
                  <a:pt x="6059" y="196"/>
                  <a:pt x="6059" y="196"/>
                </a:cubicBezTo>
                <a:cubicBezTo>
                  <a:pt x="6024" y="196"/>
                  <a:pt x="6024" y="196"/>
                  <a:pt x="6024" y="196"/>
                </a:cubicBezTo>
                <a:cubicBezTo>
                  <a:pt x="6018" y="196"/>
                  <a:pt x="6018" y="196"/>
                  <a:pt x="6018" y="196"/>
                </a:cubicBezTo>
                <a:cubicBezTo>
                  <a:pt x="6012" y="196"/>
                  <a:pt x="6012" y="196"/>
                  <a:pt x="6006" y="202"/>
                </a:cubicBezTo>
                <a:cubicBezTo>
                  <a:pt x="6006" y="202"/>
                  <a:pt x="6006" y="202"/>
                  <a:pt x="6000" y="202"/>
                </a:cubicBezTo>
                <a:cubicBezTo>
                  <a:pt x="6000" y="202"/>
                  <a:pt x="5994" y="208"/>
                  <a:pt x="5988" y="208"/>
                </a:cubicBezTo>
                <a:lnTo>
                  <a:pt x="5988" y="208"/>
                </a:lnTo>
                <a:cubicBezTo>
                  <a:pt x="5982" y="208"/>
                  <a:pt x="5982" y="202"/>
                  <a:pt x="5977" y="202"/>
                </a:cubicBezTo>
                <a:cubicBezTo>
                  <a:pt x="5965" y="202"/>
                  <a:pt x="5959" y="208"/>
                  <a:pt x="5947" y="208"/>
                </a:cubicBezTo>
                <a:cubicBezTo>
                  <a:pt x="5941" y="208"/>
                  <a:pt x="5941" y="208"/>
                  <a:pt x="5935" y="208"/>
                </a:cubicBezTo>
                <a:cubicBezTo>
                  <a:pt x="5935" y="208"/>
                  <a:pt x="5935" y="208"/>
                  <a:pt x="5929" y="208"/>
                </a:cubicBezTo>
                <a:cubicBezTo>
                  <a:pt x="5929" y="208"/>
                  <a:pt x="5929" y="213"/>
                  <a:pt x="5923" y="213"/>
                </a:cubicBezTo>
                <a:cubicBezTo>
                  <a:pt x="5923" y="213"/>
                  <a:pt x="5929" y="220"/>
                  <a:pt x="5923" y="220"/>
                </a:cubicBezTo>
                <a:cubicBezTo>
                  <a:pt x="5929" y="220"/>
                  <a:pt x="5929" y="225"/>
                  <a:pt x="5929" y="225"/>
                </a:cubicBezTo>
                <a:lnTo>
                  <a:pt x="5935" y="225"/>
                </a:lnTo>
                <a:cubicBezTo>
                  <a:pt x="5935" y="225"/>
                  <a:pt x="5935" y="225"/>
                  <a:pt x="5941" y="225"/>
                </a:cubicBezTo>
                <a:cubicBezTo>
                  <a:pt x="5947" y="231"/>
                  <a:pt x="5947" y="225"/>
                  <a:pt x="5953" y="225"/>
                </a:cubicBezTo>
                <a:cubicBezTo>
                  <a:pt x="5959" y="231"/>
                  <a:pt x="5959" y="231"/>
                  <a:pt x="5959" y="231"/>
                </a:cubicBezTo>
                <a:cubicBezTo>
                  <a:pt x="5965" y="231"/>
                  <a:pt x="5965" y="231"/>
                  <a:pt x="5970" y="237"/>
                </a:cubicBezTo>
                <a:cubicBezTo>
                  <a:pt x="5970" y="237"/>
                  <a:pt x="5970" y="237"/>
                  <a:pt x="5977" y="243"/>
                </a:cubicBezTo>
                <a:cubicBezTo>
                  <a:pt x="5977" y="243"/>
                  <a:pt x="5977" y="243"/>
                  <a:pt x="5977" y="249"/>
                </a:cubicBezTo>
                <a:cubicBezTo>
                  <a:pt x="5977" y="249"/>
                  <a:pt x="5982" y="249"/>
                  <a:pt x="5982" y="255"/>
                </a:cubicBezTo>
                <a:cubicBezTo>
                  <a:pt x="5982" y="255"/>
                  <a:pt x="5982" y="261"/>
                  <a:pt x="5988" y="261"/>
                </a:cubicBezTo>
                <a:cubicBezTo>
                  <a:pt x="5988" y="261"/>
                  <a:pt x="5988" y="261"/>
                  <a:pt x="5994" y="261"/>
                </a:cubicBezTo>
                <a:cubicBezTo>
                  <a:pt x="6000" y="261"/>
                  <a:pt x="6000" y="267"/>
                  <a:pt x="6006" y="267"/>
                </a:cubicBezTo>
                <a:cubicBezTo>
                  <a:pt x="6006" y="267"/>
                  <a:pt x="6006" y="267"/>
                  <a:pt x="6012" y="267"/>
                </a:cubicBezTo>
                <a:cubicBezTo>
                  <a:pt x="6012" y="267"/>
                  <a:pt x="6018" y="267"/>
                  <a:pt x="6024" y="267"/>
                </a:cubicBezTo>
                <a:cubicBezTo>
                  <a:pt x="6024" y="267"/>
                  <a:pt x="6024" y="267"/>
                  <a:pt x="6030" y="267"/>
                </a:cubicBezTo>
                <a:cubicBezTo>
                  <a:pt x="6030" y="273"/>
                  <a:pt x="6030" y="273"/>
                  <a:pt x="6036" y="273"/>
                </a:cubicBezTo>
                <a:cubicBezTo>
                  <a:pt x="6036" y="279"/>
                  <a:pt x="6042" y="279"/>
                  <a:pt x="6042" y="279"/>
                </a:cubicBezTo>
                <a:cubicBezTo>
                  <a:pt x="6048" y="279"/>
                  <a:pt x="6048" y="285"/>
                  <a:pt x="6048" y="285"/>
                </a:cubicBezTo>
                <a:cubicBezTo>
                  <a:pt x="6054" y="285"/>
                  <a:pt x="6054" y="285"/>
                  <a:pt x="6054" y="285"/>
                </a:cubicBezTo>
                <a:cubicBezTo>
                  <a:pt x="6059" y="291"/>
                  <a:pt x="6059" y="291"/>
                  <a:pt x="6065" y="297"/>
                </a:cubicBezTo>
                <a:cubicBezTo>
                  <a:pt x="6059" y="302"/>
                  <a:pt x="6059" y="302"/>
                  <a:pt x="6059" y="302"/>
                </a:cubicBezTo>
                <a:cubicBezTo>
                  <a:pt x="6036" y="302"/>
                  <a:pt x="6036" y="302"/>
                  <a:pt x="6036" y="302"/>
                </a:cubicBezTo>
                <a:cubicBezTo>
                  <a:pt x="6036" y="302"/>
                  <a:pt x="6036" y="297"/>
                  <a:pt x="6030" y="297"/>
                </a:cubicBezTo>
                <a:cubicBezTo>
                  <a:pt x="6030" y="297"/>
                  <a:pt x="6030" y="297"/>
                  <a:pt x="6024" y="297"/>
                </a:cubicBezTo>
                <a:cubicBezTo>
                  <a:pt x="6024" y="297"/>
                  <a:pt x="6024" y="297"/>
                  <a:pt x="6018" y="297"/>
                </a:cubicBezTo>
                <a:cubicBezTo>
                  <a:pt x="6012" y="291"/>
                  <a:pt x="6012" y="291"/>
                  <a:pt x="6006" y="291"/>
                </a:cubicBezTo>
                <a:cubicBezTo>
                  <a:pt x="6000" y="291"/>
                  <a:pt x="6000" y="285"/>
                  <a:pt x="6000" y="285"/>
                </a:cubicBezTo>
                <a:cubicBezTo>
                  <a:pt x="5994" y="285"/>
                  <a:pt x="5994" y="279"/>
                  <a:pt x="5994" y="279"/>
                </a:cubicBezTo>
                <a:cubicBezTo>
                  <a:pt x="5988" y="279"/>
                  <a:pt x="5988" y="279"/>
                  <a:pt x="5988" y="273"/>
                </a:cubicBezTo>
                <a:cubicBezTo>
                  <a:pt x="5982" y="273"/>
                  <a:pt x="5982" y="273"/>
                  <a:pt x="5982" y="267"/>
                </a:cubicBezTo>
                <a:cubicBezTo>
                  <a:pt x="5970" y="267"/>
                  <a:pt x="5970" y="273"/>
                  <a:pt x="5959" y="267"/>
                </a:cubicBezTo>
                <a:cubicBezTo>
                  <a:pt x="5959" y="267"/>
                  <a:pt x="5959" y="267"/>
                  <a:pt x="5953" y="267"/>
                </a:cubicBezTo>
                <a:cubicBezTo>
                  <a:pt x="5947" y="267"/>
                  <a:pt x="5947" y="267"/>
                  <a:pt x="5947" y="267"/>
                </a:cubicBezTo>
                <a:cubicBezTo>
                  <a:pt x="5947" y="267"/>
                  <a:pt x="5947" y="267"/>
                  <a:pt x="5941" y="267"/>
                </a:cubicBezTo>
                <a:cubicBezTo>
                  <a:pt x="5935" y="267"/>
                  <a:pt x="5935" y="261"/>
                  <a:pt x="5935" y="261"/>
                </a:cubicBezTo>
                <a:cubicBezTo>
                  <a:pt x="5929" y="255"/>
                  <a:pt x="5929" y="255"/>
                  <a:pt x="5923" y="255"/>
                </a:cubicBezTo>
                <a:cubicBezTo>
                  <a:pt x="5917" y="255"/>
                  <a:pt x="5917" y="255"/>
                  <a:pt x="5917" y="255"/>
                </a:cubicBezTo>
                <a:cubicBezTo>
                  <a:pt x="5911" y="249"/>
                  <a:pt x="5905" y="249"/>
                  <a:pt x="5899" y="249"/>
                </a:cubicBezTo>
                <a:cubicBezTo>
                  <a:pt x="5899" y="243"/>
                  <a:pt x="5899" y="243"/>
                  <a:pt x="5893" y="243"/>
                </a:cubicBezTo>
                <a:cubicBezTo>
                  <a:pt x="5893" y="237"/>
                  <a:pt x="5888" y="237"/>
                  <a:pt x="5888" y="237"/>
                </a:cubicBezTo>
                <a:cubicBezTo>
                  <a:pt x="5888" y="231"/>
                  <a:pt x="5888" y="231"/>
                  <a:pt x="5888" y="231"/>
                </a:cubicBezTo>
                <a:cubicBezTo>
                  <a:pt x="5882" y="225"/>
                  <a:pt x="5882" y="225"/>
                  <a:pt x="5882" y="225"/>
                </a:cubicBezTo>
                <a:cubicBezTo>
                  <a:pt x="5876" y="225"/>
                  <a:pt x="5876" y="225"/>
                  <a:pt x="5876" y="225"/>
                </a:cubicBezTo>
                <a:cubicBezTo>
                  <a:pt x="5864" y="225"/>
                  <a:pt x="5858" y="225"/>
                  <a:pt x="5852" y="231"/>
                </a:cubicBezTo>
                <a:cubicBezTo>
                  <a:pt x="5846" y="231"/>
                  <a:pt x="5846" y="231"/>
                  <a:pt x="5846" y="231"/>
                </a:cubicBezTo>
                <a:cubicBezTo>
                  <a:pt x="5840" y="231"/>
                  <a:pt x="5840" y="231"/>
                  <a:pt x="5840" y="237"/>
                </a:cubicBezTo>
                <a:cubicBezTo>
                  <a:pt x="5834" y="237"/>
                  <a:pt x="5834" y="237"/>
                  <a:pt x="5834" y="237"/>
                </a:cubicBezTo>
                <a:cubicBezTo>
                  <a:pt x="5828" y="243"/>
                  <a:pt x="5828" y="237"/>
                  <a:pt x="5822" y="243"/>
                </a:cubicBezTo>
                <a:cubicBezTo>
                  <a:pt x="5822" y="243"/>
                  <a:pt x="5822" y="243"/>
                  <a:pt x="5816" y="243"/>
                </a:cubicBezTo>
                <a:cubicBezTo>
                  <a:pt x="5816" y="249"/>
                  <a:pt x="5811" y="249"/>
                  <a:pt x="5804" y="249"/>
                </a:cubicBezTo>
                <a:cubicBezTo>
                  <a:pt x="5804" y="249"/>
                  <a:pt x="5799" y="249"/>
                  <a:pt x="5799" y="255"/>
                </a:cubicBezTo>
                <a:cubicBezTo>
                  <a:pt x="5793" y="255"/>
                  <a:pt x="5793" y="255"/>
                  <a:pt x="5793" y="261"/>
                </a:cubicBezTo>
                <a:cubicBezTo>
                  <a:pt x="5793" y="267"/>
                  <a:pt x="5793" y="273"/>
                  <a:pt x="5799" y="273"/>
                </a:cubicBezTo>
                <a:cubicBezTo>
                  <a:pt x="5799" y="279"/>
                  <a:pt x="5804" y="279"/>
                  <a:pt x="5804" y="279"/>
                </a:cubicBezTo>
                <a:cubicBezTo>
                  <a:pt x="5804" y="285"/>
                  <a:pt x="5804" y="285"/>
                  <a:pt x="5804" y="285"/>
                </a:cubicBezTo>
                <a:cubicBezTo>
                  <a:pt x="5811" y="291"/>
                  <a:pt x="5811" y="291"/>
                  <a:pt x="5811" y="291"/>
                </a:cubicBezTo>
                <a:cubicBezTo>
                  <a:pt x="5811" y="338"/>
                  <a:pt x="5811" y="338"/>
                  <a:pt x="5811" y="338"/>
                </a:cubicBezTo>
                <a:cubicBezTo>
                  <a:pt x="5775" y="338"/>
                  <a:pt x="5775" y="338"/>
                  <a:pt x="5775" y="338"/>
                </a:cubicBezTo>
                <a:cubicBezTo>
                  <a:pt x="5769" y="338"/>
                  <a:pt x="5769" y="338"/>
                  <a:pt x="5763" y="338"/>
                </a:cubicBezTo>
                <a:cubicBezTo>
                  <a:pt x="5757" y="332"/>
                  <a:pt x="5757" y="332"/>
                  <a:pt x="5757" y="332"/>
                </a:cubicBezTo>
                <a:cubicBezTo>
                  <a:pt x="5751" y="332"/>
                  <a:pt x="5751" y="326"/>
                  <a:pt x="5751" y="326"/>
                </a:cubicBezTo>
                <a:cubicBezTo>
                  <a:pt x="5745" y="326"/>
                  <a:pt x="5745" y="326"/>
                  <a:pt x="5745" y="326"/>
                </a:cubicBezTo>
                <a:cubicBezTo>
                  <a:pt x="5716" y="326"/>
                  <a:pt x="5704" y="320"/>
                  <a:pt x="5680" y="320"/>
                </a:cubicBezTo>
                <a:cubicBezTo>
                  <a:pt x="5680" y="326"/>
                  <a:pt x="5674" y="326"/>
                  <a:pt x="5674" y="326"/>
                </a:cubicBezTo>
                <a:cubicBezTo>
                  <a:pt x="5668" y="332"/>
                  <a:pt x="5668" y="332"/>
                  <a:pt x="5668" y="338"/>
                </a:cubicBezTo>
                <a:lnTo>
                  <a:pt x="5662" y="344"/>
                </a:lnTo>
                <a:cubicBezTo>
                  <a:pt x="5656" y="344"/>
                  <a:pt x="5656" y="344"/>
                  <a:pt x="5650" y="344"/>
                </a:cubicBezTo>
                <a:cubicBezTo>
                  <a:pt x="5645" y="350"/>
                  <a:pt x="5638" y="350"/>
                  <a:pt x="5633" y="356"/>
                </a:cubicBezTo>
                <a:cubicBezTo>
                  <a:pt x="5627" y="356"/>
                  <a:pt x="5627" y="356"/>
                  <a:pt x="5621" y="356"/>
                </a:cubicBezTo>
                <a:cubicBezTo>
                  <a:pt x="5615" y="356"/>
                  <a:pt x="5615" y="362"/>
                  <a:pt x="5609" y="368"/>
                </a:cubicBezTo>
                <a:cubicBezTo>
                  <a:pt x="5603" y="374"/>
                  <a:pt x="5603" y="374"/>
                  <a:pt x="5603" y="374"/>
                </a:cubicBezTo>
                <a:cubicBezTo>
                  <a:pt x="5603" y="374"/>
                  <a:pt x="5597" y="379"/>
                  <a:pt x="5591" y="379"/>
                </a:cubicBezTo>
                <a:cubicBezTo>
                  <a:pt x="5591" y="386"/>
                  <a:pt x="5591" y="386"/>
                  <a:pt x="5585" y="386"/>
                </a:cubicBezTo>
                <a:lnTo>
                  <a:pt x="5579" y="386"/>
                </a:lnTo>
                <a:cubicBezTo>
                  <a:pt x="5579" y="391"/>
                  <a:pt x="5573" y="386"/>
                  <a:pt x="5567" y="386"/>
                </a:cubicBezTo>
                <a:lnTo>
                  <a:pt x="5561" y="386"/>
                </a:lnTo>
                <a:cubicBezTo>
                  <a:pt x="5556" y="386"/>
                  <a:pt x="5556" y="391"/>
                  <a:pt x="5550" y="391"/>
                </a:cubicBezTo>
                <a:cubicBezTo>
                  <a:pt x="5550" y="391"/>
                  <a:pt x="5550" y="391"/>
                  <a:pt x="5544" y="391"/>
                </a:cubicBezTo>
                <a:lnTo>
                  <a:pt x="5538" y="391"/>
                </a:lnTo>
                <a:cubicBezTo>
                  <a:pt x="5538" y="397"/>
                  <a:pt x="5532" y="397"/>
                  <a:pt x="5532" y="397"/>
                </a:cubicBezTo>
                <a:cubicBezTo>
                  <a:pt x="5526" y="397"/>
                  <a:pt x="5526" y="403"/>
                  <a:pt x="5526" y="403"/>
                </a:cubicBezTo>
                <a:cubicBezTo>
                  <a:pt x="5520" y="403"/>
                  <a:pt x="5520" y="403"/>
                  <a:pt x="5520" y="403"/>
                </a:cubicBezTo>
                <a:lnTo>
                  <a:pt x="5520" y="409"/>
                </a:lnTo>
                <a:cubicBezTo>
                  <a:pt x="5514" y="415"/>
                  <a:pt x="5514" y="415"/>
                  <a:pt x="5514" y="415"/>
                </a:cubicBezTo>
                <a:cubicBezTo>
                  <a:pt x="5508" y="415"/>
                  <a:pt x="5508" y="415"/>
                  <a:pt x="5508" y="415"/>
                </a:cubicBezTo>
                <a:cubicBezTo>
                  <a:pt x="5502" y="415"/>
                  <a:pt x="5502" y="415"/>
                  <a:pt x="5502" y="415"/>
                </a:cubicBezTo>
                <a:cubicBezTo>
                  <a:pt x="5496" y="415"/>
                  <a:pt x="5496" y="421"/>
                  <a:pt x="5496" y="421"/>
                </a:cubicBezTo>
                <a:cubicBezTo>
                  <a:pt x="5496" y="427"/>
                  <a:pt x="5490" y="433"/>
                  <a:pt x="5484" y="439"/>
                </a:cubicBezTo>
                <a:cubicBezTo>
                  <a:pt x="5484" y="439"/>
                  <a:pt x="5484" y="439"/>
                  <a:pt x="5484" y="445"/>
                </a:cubicBezTo>
                <a:lnTo>
                  <a:pt x="5479" y="445"/>
                </a:lnTo>
                <a:cubicBezTo>
                  <a:pt x="5479" y="445"/>
                  <a:pt x="5472" y="445"/>
                  <a:pt x="5472" y="451"/>
                </a:cubicBezTo>
                <a:cubicBezTo>
                  <a:pt x="5472" y="457"/>
                  <a:pt x="5472" y="457"/>
                  <a:pt x="5472" y="463"/>
                </a:cubicBezTo>
                <a:cubicBezTo>
                  <a:pt x="5484" y="463"/>
                  <a:pt x="5484" y="463"/>
                  <a:pt x="5484" y="463"/>
                </a:cubicBezTo>
                <a:cubicBezTo>
                  <a:pt x="5490" y="463"/>
                  <a:pt x="5490" y="463"/>
                  <a:pt x="5496" y="463"/>
                </a:cubicBezTo>
                <a:cubicBezTo>
                  <a:pt x="5502" y="463"/>
                  <a:pt x="5508" y="463"/>
                  <a:pt x="5514" y="468"/>
                </a:cubicBezTo>
                <a:cubicBezTo>
                  <a:pt x="5514" y="468"/>
                  <a:pt x="5514" y="468"/>
                  <a:pt x="5520" y="468"/>
                </a:cubicBezTo>
                <a:cubicBezTo>
                  <a:pt x="5520" y="474"/>
                  <a:pt x="5520" y="474"/>
                  <a:pt x="5520" y="474"/>
                </a:cubicBezTo>
                <a:cubicBezTo>
                  <a:pt x="5526" y="474"/>
                  <a:pt x="5526" y="474"/>
                  <a:pt x="5526" y="474"/>
                </a:cubicBezTo>
                <a:cubicBezTo>
                  <a:pt x="5532" y="474"/>
                  <a:pt x="5538" y="474"/>
                  <a:pt x="5544" y="474"/>
                </a:cubicBezTo>
                <a:cubicBezTo>
                  <a:pt x="5550" y="474"/>
                  <a:pt x="5556" y="480"/>
                  <a:pt x="5561" y="474"/>
                </a:cubicBezTo>
                <a:cubicBezTo>
                  <a:pt x="5567" y="474"/>
                  <a:pt x="5573" y="474"/>
                  <a:pt x="5573" y="474"/>
                </a:cubicBezTo>
                <a:cubicBezTo>
                  <a:pt x="5579" y="474"/>
                  <a:pt x="5579" y="474"/>
                  <a:pt x="5579" y="468"/>
                </a:cubicBezTo>
                <a:cubicBezTo>
                  <a:pt x="5585" y="468"/>
                  <a:pt x="5585" y="468"/>
                  <a:pt x="5585" y="463"/>
                </a:cubicBezTo>
                <a:cubicBezTo>
                  <a:pt x="5591" y="463"/>
                  <a:pt x="5591" y="463"/>
                  <a:pt x="5597" y="463"/>
                </a:cubicBezTo>
                <a:cubicBezTo>
                  <a:pt x="5603" y="463"/>
                  <a:pt x="5603" y="468"/>
                  <a:pt x="5603" y="474"/>
                </a:cubicBezTo>
                <a:cubicBezTo>
                  <a:pt x="5603" y="474"/>
                  <a:pt x="5603" y="480"/>
                  <a:pt x="5603" y="486"/>
                </a:cubicBezTo>
                <a:lnTo>
                  <a:pt x="5603" y="492"/>
                </a:lnTo>
                <a:cubicBezTo>
                  <a:pt x="5603" y="498"/>
                  <a:pt x="5603" y="498"/>
                  <a:pt x="5609" y="498"/>
                </a:cubicBezTo>
                <a:cubicBezTo>
                  <a:pt x="5609" y="504"/>
                  <a:pt x="5609" y="504"/>
                  <a:pt x="5609" y="504"/>
                </a:cubicBezTo>
                <a:cubicBezTo>
                  <a:pt x="5609" y="510"/>
                  <a:pt x="5609" y="510"/>
                  <a:pt x="5609" y="510"/>
                </a:cubicBezTo>
                <a:cubicBezTo>
                  <a:pt x="5609" y="540"/>
                  <a:pt x="5609" y="540"/>
                  <a:pt x="5609" y="540"/>
                </a:cubicBezTo>
                <a:cubicBezTo>
                  <a:pt x="5609" y="552"/>
                  <a:pt x="5603" y="557"/>
                  <a:pt x="5597" y="569"/>
                </a:cubicBezTo>
                <a:cubicBezTo>
                  <a:pt x="5591" y="569"/>
                  <a:pt x="5591" y="569"/>
                  <a:pt x="5591" y="569"/>
                </a:cubicBezTo>
                <a:cubicBezTo>
                  <a:pt x="5585" y="575"/>
                  <a:pt x="5585" y="575"/>
                  <a:pt x="5585" y="575"/>
                </a:cubicBezTo>
                <a:cubicBezTo>
                  <a:pt x="5579" y="575"/>
                  <a:pt x="5573" y="575"/>
                  <a:pt x="5567" y="575"/>
                </a:cubicBezTo>
                <a:cubicBezTo>
                  <a:pt x="5561" y="575"/>
                  <a:pt x="5561" y="575"/>
                  <a:pt x="5561" y="575"/>
                </a:cubicBezTo>
                <a:cubicBezTo>
                  <a:pt x="5556" y="575"/>
                  <a:pt x="5556" y="575"/>
                  <a:pt x="5550" y="575"/>
                </a:cubicBezTo>
                <a:cubicBezTo>
                  <a:pt x="5550" y="575"/>
                  <a:pt x="5544" y="575"/>
                  <a:pt x="5538" y="575"/>
                </a:cubicBezTo>
                <a:cubicBezTo>
                  <a:pt x="5532" y="575"/>
                  <a:pt x="5532" y="575"/>
                  <a:pt x="5526" y="575"/>
                </a:cubicBezTo>
                <a:cubicBezTo>
                  <a:pt x="5526" y="581"/>
                  <a:pt x="5526" y="581"/>
                  <a:pt x="5520" y="581"/>
                </a:cubicBezTo>
                <a:cubicBezTo>
                  <a:pt x="5520" y="587"/>
                  <a:pt x="5514" y="587"/>
                  <a:pt x="5514" y="587"/>
                </a:cubicBezTo>
                <a:cubicBezTo>
                  <a:pt x="5508" y="587"/>
                  <a:pt x="5508" y="587"/>
                  <a:pt x="5502" y="587"/>
                </a:cubicBezTo>
                <a:cubicBezTo>
                  <a:pt x="5479" y="587"/>
                  <a:pt x="5479" y="587"/>
                  <a:pt x="5479" y="587"/>
                </a:cubicBezTo>
                <a:cubicBezTo>
                  <a:pt x="5472" y="587"/>
                  <a:pt x="5467" y="587"/>
                  <a:pt x="5455" y="587"/>
                </a:cubicBezTo>
                <a:cubicBezTo>
                  <a:pt x="5455" y="587"/>
                  <a:pt x="5455" y="587"/>
                  <a:pt x="5449" y="587"/>
                </a:cubicBezTo>
                <a:cubicBezTo>
                  <a:pt x="5449" y="587"/>
                  <a:pt x="5449" y="581"/>
                  <a:pt x="5443" y="581"/>
                </a:cubicBezTo>
                <a:cubicBezTo>
                  <a:pt x="5437" y="581"/>
                  <a:pt x="5437" y="581"/>
                  <a:pt x="5431" y="581"/>
                </a:cubicBezTo>
                <a:cubicBezTo>
                  <a:pt x="5425" y="581"/>
                  <a:pt x="5419" y="581"/>
                  <a:pt x="5413" y="581"/>
                </a:cubicBezTo>
                <a:cubicBezTo>
                  <a:pt x="5407" y="587"/>
                  <a:pt x="5401" y="587"/>
                  <a:pt x="5401" y="587"/>
                </a:cubicBezTo>
                <a:cubicBezTo>
                  <a:pt x="5401" y="593"/>
                  <a:pt x="5395" y="593"/>
                  <a:pt x="5395" y="599"/>
                </a:cubicBezTo>
                <a:lnTo>
                  <a:pt x="5395" y="605"/>
                </a:lnTo>
                <a:cubicBezTo>
                  <a:pt x="5395" y="611"/>
                  <a:pt x="5390" y="617"/>
                  <a:pt x="5384" y="617"/>
                </a:cubicBezTo>
                <a:cubicBezTo>
                  <a:pt x="5384" y="617"/>
                  <a:pt x="5384" y="617"/>
                  <a:pt x="5378" y="617"/>
                </a:cubicBezTo>
                <a:cubicBezTo>
                  <a:pt x="5348" y="617"/>
                  <a:pt x="5348" y="617"/>
                  <a:pt x="5348" y="617"/>
                </a:cubicBezTo>
                <a:cubicBezTo>
                  <a:pt x="5342" y="617"/>
                  <a:pt x="5342" y="623"/>
                  <a:pt x="5336" y="629"/>
                </a:cubicBezTo>
                <a:cubicBezTo>
                  <a:pt x="5330" y="629"/>
                  <a:pt x="5330" y="629"/>
                  <a:pt x="5330" y="629"/>
                </a:cubicBezTo>
                <a:cubicBezTo>
                  <a:pt x="5324" y="629"/>
                  <a:pt x="5318" y="634"/>
                  <a:pt x="5312" y="634"/>
                </a:cubicBezTo>
                <a:cubicBezTo>
                  <a:pt x="5306" y="634"/>
                  <a:pt x="5306" y="634"/>
                  <a:pt x="5301" y="634"/>
                </a:cubicBezTo>
                <a:lnTo>
                  <a:pt x="5295" y="629"/>
                </a:lnTo>
                <a:cubicBezTo>
                  <a:pt x="5289" y="629"/>
                  <a:pt x="5283" y="629"/>
                  <a:pt x="5277" y="629"/>
                </a:cubicBezTo>
                <a:cubicBezTo>
                  <a:pt x="5277" y="629"/>
                  <a:pt x="5271" y="629"/>
                  <a:pt x="5265" y="629"/>
                </a:cubicBezTo>
                <a:cubicBezTo>
                  <a:pt x="5265" y="629"/>
                  <a:pt x="5259" y="629"/>
                  <a:pt x="5259" y="634"/>
                </a:cubicBezTo>
                <a:cubicBezTo>
                  <a:pt x="5253" y="634"/>
                  <a:pt x="5253" y="634"/>
                  <a:pt x="5253" y="634"/>
                </a:cubicBezTo>
                <a:cubicBezTo>
                  <a:pt x="5247" y="634"/>
                  <a:pt x="5247" y="634"/>
                  <a:pt x="5241" y="634"/>
                </a:cubicBezTo>
                <a:cubicBezTo>
                  <a:pt x="5241" y="634"/>
                  <a:pt x="5235" y="634"/>
                  <a:pt x="5235" y="640"/>
                </a:cubicBezTo>
                <a:cubicBezTo>
                  <a:pt x="5235" y="640"/>
                  <a:pt x="5235" y="640"/>
                  <a:pt x="5235" y="646"/>
                </a:cubicBezTo>
                <a:cubicBezTo>
                  <a:pt x="5235" y="646"/>
                  <a:pt x="5235" y="646"/>
                  <a:pt x="5235" y="652"/>
                </a:cubicBezTo>
                <a:cubicBezTo>
                  <a:pt x="5235" y="652"/>
                  <a:pt x="5235" y="652"/>
                  <a:pt x="5229" y="658"/>
                </a:cubicBezTo>
                <a:cubicBezTo>
                  <a:pt x="5229" y="658"/>
                  <a:pt x="5229" y="658"/>
                  <a:pt x="5229" y="664"/>
                </a:cubicBezTo>
                <a:lnTo>
                  <a:pt x="5224" y="664"/>
                </a:lnTo>
                <a:cubicBezTo>
                  <a:pt x="5194" y="664"/>
                  <a:pt x="5194" y="664"/>
                  <a:pt x="5194" y="664"/>
                </a:cubicBezTo>
                <a:cubicBezTo>
                  <a:pt x="5188" y="664"/>
                  <a:pt x="5188" y="664"/>
                  <a:pt x="5188" y="670"/>
                </a:cubicBezTo>
                <a:cubicBezTo>
                  <a:pt x="5182" y="676"/>
                  <a:pt x="5182" y="676"/>
                  <a:pt x="5182" y="682"/>
                </a:cubicBezTo>
                <a:cubicBezTo>
                  <a:pt x="5182" y="682"/>
                  <a:pt x="5182" y="688"/>
                  <a:pt x="5182" y="694"/>
                </a:cubicBezTo>
                <a:cubicBezTo>
                  <a:pt x="5188" y="694"/>
                  <a:pt x="5188" y="700"/>
                  <a:pt x="5188" y="706"/>
                </a:cubicBezTo>
                <a:cubicBezTo>
                  <a:pt x="5194" y="706"/>
                  <a:pt x="5200" y="711"/>
                  <a:pt x="5200" y="711"/>
                </a:cubicBezTo>
                <a:cubicBezTo>
                  <a:pt x="5206" y="718"/>
                  <a:pt x="5206" y="723"/>
                  <a:pt x="5206" y="723"/>
                </a:cubicBezTo>
                <a:cubicBezTo>
                  <a:pt x="5212" y="723"/>
                  <a:pt x="5218" y="723"/>
                  <a:pt x="5218" y="723"/>
                </a:cubicBezTo>
                <a:cubicBezTo>
                  <a:pt x="5224" y="723"/>
                  <a:pt x="5229" y="723"/>
                  <a:pt x="5229" y="723"/>
                </a:cubicBezTo>
                <a:cubicBezTo>
                  <a:pt x="5235" y="723"/>
                  <a:pt x="5241" y="723"/>
                  <a:pt x="5241" y="723"/>
                </a:cubicBezTo>
                <a:cubicBezTo>
                  <a:pt x="5253" y="729"/>
                  <a:pt x="5259" y="729"/>
                  <a:pt x="5265" y="735"/>
                </a:cubicBezTo>
                <a:cubicBezTo>
                  <a:pt x="5271" y="735"/>
                  <a:pt x="5265" y="741"/>
                  <a:pt x="5271" y="747"/>
                </a:cubicBezTo>
                <a:cubicBezTo>
                  <a:pt x="5330" y="747"/>
                  <a:pt x="5330" y="747"/>
                  <a:pt x="5330" y="747"/>
                </a:cubicBezTo>
                <a:cubicBezTo>
                  <a:pt x="5348" y="759"/>
                  <a:pt x="5348" y="759"/>
                  <a:pt x="5348" y="759"/>
                </a:cubicBezTo>
                <a:cubicBezTo>
                  <a:pt x="5354" y="759"/>
                  <a:pt x="5360" y="759"/>
                  <a:pt x="5360" y="759"/>
                </a:cubicBezTo>
                <a:cubicBezTo>
                  <a:pt x="5360" y="759"/>
                  <a:pt x="5360" y="765"/>
                  <a:pt x="5366" y="765"/>
                </a:cubicBezTo>
                <a:cubicBezTo>
                  <a:pt x="5366" y="765"/>
                  <a:pt x="5372" y="771"/>
                  <a:pt x="5378" y="771"/>
                </a:cubicBezTo>
                <a:cubicBezTo>
                  <a:pt x="5384" y="771"/>
                  <a:pt x="5384" y="771"/>
                  <a:pt x="5390" y="771"/>
                </a:cubicBezTo>
                <a:lnTo>
                  <a:pt x="5395" y="771"/>
                </a:lnTo>
                <a:cubicBezTo>
                  <a:pt x="5407" y="771"/>
                  <a:pt x="5407" y="771"/>
                  <a:pt x="5407" y="771"/>
                </a:cubicBezTo>
                <a:cubicBezTo>
                  <a:pt x="5413" y="771"/>
                  <a:pt x="5413" y="771"/>
                  <a:pt x="5419" y="771"/>
                </a:cubicBezTo>
                <a:cubicBezTo>
                  <a:pt x="5419" y="771"/>
                  <a:pt x="5419" y="771"/>
                  <a:pt x="5425" y="771"/>
                </a:cubicBezTo>
                <a:cubicBezTo>
                  <a:pt x="5431" y="771"/>
                  <a:pt x="5431" y="765"/>
                  <a:pt x="5437" y="765"/>
                </a:cubicBezTo>
                <a:lnTo>
                  <a:pt x="5443" y="765"/>
                </a:lnTo>
                <a:cubicBezTo>
                  <a:pt x="5479" y="765"/>
                  <a:pt x="5479" y="765"/>
                  <a:pt x="5479" y="765"/>
                </a:cubicBezTo>
                <a:cubicBezTo>
                  <a:pt x="5479" y="765"/>
                  <a:pt x="5484" y="759"/>
                  <a:pt x="5490" y="759"/>
                </a:cubicBezTo>
                <a:cubicBezTo>
                  <a:pt x="5496" y="759"/>
                  <a:pt x="5496" y="759"/>
                  <a:pt x="5502" y="759"/>
                </a:cubicBezTo>
                <a:cubicBezTo>
                  <a:pt x="5508" y="759"/>
                  <a:pt x="5508" y="759"/>
                  <a:pt x="5508" y="759"/>
                </a:cubicBezTo>
                <a:cubicBezTo>
                  <a:pt x="5514" y="759"/>
                  <a:pt x="5514" y="759"/>
                  <a:pt x="5520" y="759"/>
                </a:cubicBezTo>
                <a:cubicBezTo>
                  <a:pt x="5520" y="759"/>
                  <a:pt x="5520" y="759"/>
                  <a:pt x="5526" y="759"/>
                </a:cubicBezTo>
                <a:cubicBezTo>
                  <a:pt x="5526" y="783"/>
                  <a:pt x="5526" y="783"/>
                  <a:pt x="5526" y="783"/>
                </a:cubicBezTo>
                <a:cubicBezTo>
                  <a:pt x="5526" y="783"/>
                  <a:pt x="5520" y="789"/>
                  <a:pt x="5520" y="795"/>
                </a:cubicBezTo>
                <a:cubicBezTo>
                  <a:pt x="5514" y="795"/>
                  <a:pt x="5514" y="795"/>
                  <a:pt x="5514" y="795"/>
                </a:cubicBezTo>
                <a:cubicBezTo>
                  <a:pt x="5508" y="795"/>
                  <a:pt x="5508" y="795"/>
                  <a:pt x="5502" y="800"/>
                </a:cubicBezTo>
                <a:lnTo>
                  <a:pt x="5496" y="800"/>
                </a:lnTo>
                <a:cubicBezTo>
                  <a:pt x="5490" y="806"/>
                  <a:pt x="5490" y="812"/>
                  <a:pt x="5490" y="812"/>
                </a:cubicBezTo>
                <a:cubicBezTo>
                  <a:pt x="5484" y="812"/>
                  <a:pt x="5484" y="812"/>
                  <a:pt x="5484" y="812"/>
                </a:cubicBezTo>
                <a:cubicBezTo>
                  <a:pt x="5479" y="812"/>
                  <a:pt x="5479" y="812"/>
                  <a:pt x="5479" y="812"/>
                </a:cubicBezTo>
                <a:cubicBezTo>
                  <a:pt x="5472" y="812"/>
                  <a:pt x="5472" y="806"/>
                  <a:pt x="5467" y="806"/>
                </a:cubicBezTo>
                <a:cubicBezTo>
                  <a:pt x="5467" y="806"/>
                  <a:pt x="5467" y="806"/>
                  <a:pt x="5461" y="806"/>
                </a:cubicBezTo>
                <a:cubicBezTo>
                  <a:pt x="5461" y="806"/>
                  <a:pt x="5461" y="806"/>
                  <a:pt x="5455" y="800"/>
                </a:cubicBezTo>
                <a:cubicBezTo>
                  <a:pt x="5455" y="800"/>
                  <a:pt x="5455" y="800"/>
                  <a:pt x="5449" y="800"/>
                </a:cubicBezTo>
                <a:cubicBezTo>
                  <a:pt x="5437" y="800"/>
                  <a:pt x="5437" y="800"/>
                  <a:pt x="5437" y="800"/>
                </a:cubicBezTo>
                <a:cubicBezTo>
                  <a:pt x="5431" y="800"/>
                  <a:pt x="5425" y="800"/>
                  <a:pt x="5419" y="800"/>
                </a:cubicBezTo>
                <a:cubicBezTo>
                  <a:pt x="5419" y="806"/>
                  <a:pt x="5413" y="806"/>
                  <a:pt x="5413" y="806"/>
                </a:cubicBezTo>
                <a:cubicBezTo>
                  <a:pt x="5407" y="812"/>
                  <a:pt x="5401" y="812"/>
                  <a:pt x="5395" y="812"/>
                </a:cubicBezTo>
                <a:cubicBezTo>
                  <a:pt x="5390" y="812"/>
                  <a:pt x="5390" y="812"/>
                  <a:pt x="5390" y="812"/>
                </a:cubicBezTo>
                <a:cubicBezTo>
                  <a:pt x="5384" y="812"/>
                  <a:pt x="5384" y="806"/>
                  <a:pt x="5378" y="806"/>
                </a:cubicBezTo>
                <a:cubicBezTo>
                  <a:pt x="5378" y="806"/>
                  <a:pt x="5378" y="812"/>
                  <a:pt x="5372" y="806"/>
                </a:cubicBezTo>
                <a:cubicBezTo>
                  <a:pt x="5366" y="806"/>
                  <a:pt x="5366" y="806"/>
                  <a:pt x="5360" y="800"/>
                </a:cubicBezTo>
                <a:cubicBezTo>
                  <a:pt x="5354" y="800"/>
                  <a:pt x="5354" y="800"/>
                  <a:pt x="5348" y="800"/>
                </a:cubicBezTo>
                <a:cubicBezTo>
                  <a:pt x="5342" y="800"/>
                  <a:pt x="5342" y="800"/>
                  <a:pt x="5342" y="800"/>
                </a:cubicBezTo>
                <a:cubicBezTo>
                  <a:pt x="5336" y="800"/>
                  <a:pt x="5336" y="806"/>
                  <a:pt x="5336" y="806"/>
                </a:cubicBezTo>
                <a:cubicBezTo>
                  <a:pt x="5336" y="812"/>
                  <a:pt x="5330" y="812"/>
                  <a:pt x="5330" y="818"/>
                </a:cubicBezTo>
                <a:cubicBezTo>
                  <a:pt x="5301" y="818"/>
                  <a:pt x="5301" y="818"/>
                  <a:pt x="5301" y="818"/>
                </a:cubicBezTo>
                <a:cubicBezTo>
                  <a:pt x="5295" y="818"/>
                  <a:pt x="5295" y="818"/>
                  <a:pt x="5295" y="824"/>
                </a:cubicBezTo>
                <a:cubicBezTo>
                  <a:pt x="5289" y="824"/>
                  <a:pt x="5289" y="824"/>
                  <a:pt x="5289" y="830"/>
                </a:cubicBezTo>
                <a:cubicBezTo>
                  <a:pt x="5289" y="836"/>
                  <a:pt x="5295" y="842"/>
                  <a:pt x="5301" y="848"/>
                </a:cubicBezTo>
                <a:cubicBezTo>
                  <a:pt x="5301" y="848"/>
                  <a:pt x="5306" y="848"/>
                  <a:pt x="5306" y="854"/>
                </a:cubicBezTo>
                <a:cubicBezTo>
                  <a:pt x="5312" y="854"/>
                  <a:pt x="5312" y="854"/>
                  <a:pt x="5312" y="854"/>
                </a:cubicBezTo>
                <a:cubicBezTo>
                  <a:pt x="5324" y="860"/>
                  <a:pt x="5324" y="854"/>
                  <a:pt x="5330" y="854"/>
                </a:cubicBezTo>
                <a:cubicBezTo>
                  <a:pt x="5342" y="860"/>
                  <a:pt x="5342" y="860"/>
                  <a:pt x="5348" y="866"/>
                </a:cubicBezTo>
                <a:cubicBezTo>
                  <a:pt x="5354" y="866"/>
                  <a:pt x="5360" y="866"/>
                  <a:pt x="5366" y="872"/>
                </a:cubicBezTo>
                <a:cubicBezTo>
                  <a:pt x="5372" y="872"/>
                  <a:pt x="5372" y="872"/>
                  <a:pt x="5378" y="872"/>
                </a:cubicBezTo>
                <a:cubicBezTo>
                  <a:pt x="5384" y="877"/>
                  <a:pt x="5390" y="877"/>
                  <a:pt x="5395" y="884"/>
                </a:cubicBezTo>
                <a:cubicBezTo>
                  <a:pt x="5401" y="884"/>
                  <a:pt x="5401" y="884"/>
                  <a:pt x="5401" y="884"/>
                </a:cubicBezTo>
                <a:cubicBezTo>
                  <a:pt x="5395" y="884"/>
                  <a:pt x="5390" y="884"/>
                  <a:pt x="5384" y="884"/>
                </a:cubicBezTo>
                <a:cubicBezTo>
                  <a:pt x="5384" y="889"/>
                  <a:pt x="5378" y="889"/>
                  <a:pt x="5378" y="889"/>
                </a:cubicBezTo>
                <a:lnTo>
                  <a:pt x="5378" y="895"/>
                </a:lnTo>
                <a:cubicBezTo>
                  <a:pt x="5378" y="895"/>
                  <a:pt x="5378" y="901"/>
                  <a:pt x="5384" y="901"/>
                </a:cubicBezTo>
                <a:cubicBezTo>
                  <a:pt x="5384" y="901"/>
                  <a:pt x="5384" y="901"/>
                  <a:pt x="5390" y="901"/>
                </a:cubicBezTo>
                <a:cubicBezTo>
                  <a:pt x="5390" y="907"/>
                  <a:pt x="5395" y="907"/>
                  <a:pt x="5401" y="907"/>
                </a:cubicBezTo>
                <a:lnTo>
                  <a:pt x="5401" y="913"/>
                </a:lnTo>
                <a:cubicBezTo>
                  <a:pt x="5407" y="913"/>
                  <a:pt x="5407" y="919"/>
                  <a:pt x="5407" y="919"/>
                </a:cubicBezTo>
                <a:cubicBezTo>
                  <a:pt x="5407" y="919"/>
                  <a:pt x="5407" y="925"/>
                  <a:pt x="5413" y="925"/>
                </a:cubicBezTo>
                <a:cubicBezTo>
                  <a:pt x="5413" y="925"/>
                  <a:pt x="5413" y="925"/>
                  <a:pt x="5419" y="925"/>
                </a:cubicBezTo>
                <a:cubicBezTo>
                  <a:pt x="5419" y="931"/>
                  <a:pt x="5419" y="931"/>
                  <a:pt x="5425" y="931"/>
                </a:cubicBezTo>
                <a:cubicBezTo>
                  <a:pt x="5425" y="931"/>
                  <a:pt x="5425" y="931"/>
                  <a:pt x="5431" y="931"/>
                </a:cubicBezTo>
                <a:cubicBezTo>
                  <a:pt x="5431" y="937"/>
                  <a:pt x="5431" y="937"/>
                  <a:pt x="5437" y="937"/>
                </a:cubicBezTo>
                <a:cubicBezTo>
                  <a:pt x="5443" y="937"/>
                  <a:pt x="5443" y="937"/>
                  <a:pt x="5449" y="943"/>
                </a:cubicBezTo>
                <a:lnTo>
                  <a:pt x="5455" y="943"/>
                </a:lnTo>
                <a:cubicBezTo>
                  <a:pt x="5461" y="949"/>
                  <a:pt x="5461" y="949"/>
                  <a:pt x="5461" y="949"/>
                </a:cubicBezTo>
                <a:cubicBezTo>
                  <a:pt x="5467" y="955"/>
                  <a:pt x="5467" y="955"/>
                  <a:pt x="5472" y="955"/>
                </a:cubicBezTo>
                <a:cubicBezTo>
                  <a:pt x="5479" y="955"/>
                  <a:pt x="5484" y="955"/>
                  <a:pt x="5490" y="955"/>
                </a:cubicBezTo>
                <a:lnTo>
                  <a:pt x="5490" y="955"/>
                </a:lnTo>
                <a:cubicBezTo>
                  <a:pt x="5496" y="955"/>
                  <a:pt x="5496" y="955"/>
                  <a:pt x="5496" y="955"/>
                </a:cubicBezTo>
                <a:cubicBezTo>
                  <a:pt x="5502" y="955"/>
                  <a:pt x="5502" y="955"/>
                  <a:pt x="5502" y="955"/>
                </a:cubicBezTo>
                <a:cubicBezTo>
                  <a:pt x="5502" y="949"/>
                  <a:pt x="5502" y="949"/>
                  <a:pt x="5502" y="949"/>
                </a:cubicBezTo>
                <a:cubicBezTo>
                  <a:pt x="5502" y="943"/>
                  <a:pt x="5496" y="943"/>
                  <a:pt x="5496" y="937"/>
                </a:cubicBezTo>
                <a:cubicBezTo>
                  <a:pt x="5496" y="937"/>
                  <a:pt x="5490" y="937"/>
                  <a:pt x="5490" y="931"/>
                </a:cubicBezTo>
                <a:cubicBezTo>
                  <a:pt x="5490" y="931"/>
                  <a:pt x="5490" y="925"/>
                  <a:pt x="5496" y="925"/>
                </a:cubicBezTo>
                <a:lnTo>
                  <a:pt x="5496" y="925"/>
                </a:lnTo>
                <a:cubicBezTo>
                  <a:pt x="5502" y="925"/>
                  <a:pt x="5508" y="925"/>
                  <a:pt x="5514" y="925"/>
                </a:cubicBezTo>
                <a:cubicBezTo>
                  <a:pt x="5520" y="925"/>
                  <a:pt x="5526" y="925"/>
                  <a:pt x="5532" y="925"/>
                </a:cubicBezTo>
                <a:cubicBezTo>
                  <a:pt x="5538" y="925"/>
                  <a:pt x="5544" y="925"/>
                  <a:pt x="5550" y="931"/>
                </a:cubicBezTo>
                <a:cubicBezTo>
                  <a:pt x="5550" y="931"/>
                  <a:pt x="5550" y="931"/>
                  <a:pt x="5556" y="931"/>
                </a:cubicBezTo>
                <a:cubicBezTo>
                  <a:pt x="5556" y="931"/>
                  <a:pt x="5556" y="931"/>
                  <a:pt x="5561" y="931"/>
                </a:cubicBezTo>
                <a:cubicBezTo>
                  <a:pt x="5561" y="931"/>
                  <a:pt x="5561" y="937"/>
                  <a:pt x="5567" y="937"/>
                </a:cubicBezTo>
                <a:cubicBezTo>
                  <a:pt x="5567" y="937"/>
                  <a:pt x="5567" y="937"/>
                  <a:pt x="5573" y="937"/>
                </a:cubicBezTo>
                <a:cubicBezTo>
                  <a:pt x="5573" y="925"/>
                  <a:pt x="5573" y="925"/>
                  <a:pt x="5573" y="925"/>
                </a:cubicBezTo>
                <a:cubicBezTo>
                  <a:pt x="5597" y="925"/>
                  <a:pt x="5597" y="925"/>
                  <a:pt x="5597" y="925"/>
                </a:cubicBezTo>
                <a:cubicBezTo>
                  <a:pt x="5597" y="925"/>
                  <a:pt x="5597" y="925"/>
                  <a:pt x="5603" y="925"/>
                </a:cubicBezTo>
                <a:cubicBezTo>
                  <a:pt x="5603" y="931"/>
                  <a:pt x="5603" y="931"/>
                  <a:pt x="5609" y="931"/>
                </a:cubicBezTo>
                <a:cubicBezTo>
                  <a:pt x="5615" y="931"/>
                  <a:pt x="5615" y="931"/>
                  <a:pt x="5621" y="931"/>
                </a:cubicBezTo>
                <a:cubicBezTo>
                  <a:pt x="5627" y="931"/>
                  <a:pt x="5633" y="937"/>
                  <a:pt x="5638" y="931"/>
                </a:cubicBezTo>
                <a:cubicBezTo>
                  <a:pt x="5638" y="931"/>
                  <a:pt x="5638" y="925"/>
                  <a:pt x="5645" y="925"/>
                </a:cubicBezTo>
                <a:cubicBezTo>
                  <a:pt x="5645" y="925"/>
                  <a:pt x="5645" y="925"/>
                  <a:pt x="5650" y="925"/>
                </a:cubicBezTo>
                <a:lnTo>
                  <a:pt x="5650" y="919"/>
                </a:lnTo>
                <a:cubicBezTo>
                  <a:pt x="5656" y="919"/>
                  <a:pt x="5656" y="919"/>
                  <a:pt x="5656" y="919"/>
                </a:cubicBezTo>
                <a:cubicBezTo>
                  <a:pt x="5662" y="919"/>
                  <a:pt x="5668" y="919"/>
                  <a:pt x="5668" y="919"/>
                </a:cubicBezTo>
                <a:cubicBezTo>
                  <a:pt x="5674" y="919"/>
                  <a:pt x="5674" y="913"/>
                  <a:pt x="5674" y="913"/>
                </a:cubicBezTo>
                <a:lnTo>
                  <a:pt x="5680" y="907"/>
                </a:lnTo>
                <a:cubicBezTo>
                  <a:pt x="5686" y="907"/>
                  <a:pt x="5686" y="901"/>
                  <a:pt x="5686" y="901"/>
                </a:cubicBezTo>
                <a:cubicBezTo>
                  <a:pt x="5692" y="901"/>
                  <a:pt x="5698" y="907"/>
                  <a:pt x="5704" y="907"/>
                </a:cubicBezTo>
                <a:cubicBezTo>
                  <a:pt x="5710" y="907"/>
                  <a:pt x="5710" y="913"/>
                  <a:pt x="5716" y="913"/>
                </a:cubicBezTo>
                <a:cubicBezTo>
                  <a:pt x="5716" y="919"/>
                  <a:pt x="5716" y="919"/>
                  <a:pt x="5722" y="919"/>
                </a:cubicBezTo>
                <a:cubicBezTo>
                  <a:pt x="5739" y="919"/>
                  <a:pt x="5739" y="919"/>
                  <a:pt x="5739" y="919"/>
                </a:cubicBezTo>
                <a:cubicBezTo>
                  <a:pt x="5745" y="919"/>
                  <a:pt x="5751" y="919"/>
                  <a:pt x="5757" y="919"/>
                </a:cubicBezTo>
                <a:cubicBezTo>
                  <a:pt x="5757" y="919"/>
                  <a:pt x="5757" y="919"/>
                  <a:pt x="5763" y="919"/>
                </a:cubicBezTo>
                <a:cubicBezTo>
                  <a:pt x="5763" y="919"/>
                  <a:pt x="5763" y="925"/>
                  <a:pt x="5769" y="925"/>
                </a:cubicBezTo>
                <a:cubicBezTo>
                  <a:pt x="5775" y="925"/>
                  <a:pt x="5781" y="925"/>
                  <a:pt x="5787" y="931"/>
                </a:cubicBezTo>
                <a:cubicBezTo>
                  <a:pt x="5787" y="931"/>
                  <a:pt x="5787" y="937"/>
                  <a:pt x="5793" y="937"/>
                </a:cubicBezTo>
                <a:cubicBezTo>
                  <a:pt x="5793" y="937"/>
                  <a:pt x="5799" y="937"/>
                  <a:pt x="5799" y="943"/>
                </a:cubicBezTo>
                <a:lnTo>
                  <a:pt x="5804" y="943"/>
                </a:lnTo>
                <a:cubicBezTo>
                  <a:pt x="5846" y="943"/>
                  <a:pt x="5846" y="943"/>
                  <a:pt x="5846" y="943"/>
                </a:cubicBezTo>
                <a:cubicBezTo>
                  <a:pt x="5846" y="943"/>
                  <a:pt x="5846" y="943"/>
                  <a:pt x="5852" y="943"/>
                </a:cubicBezTo>
                <a:cubicBezTo>
                  <a:pt x="5852" y="943"/>
                  <a:pt x="5852" y="943"/>
                  <a:pt x="5858" y="943"/>
                </a:cubicBezTo>
                <a:cubicBezTo>
                  <a:pt x="5864" y="949"/>
                  <a:pt x="5864" y="949"/>
                  <a:pt x="5876" y="955"/>
                </a:cubicBezTo>
                <a:cubicBezTo>
                  <a:pt x="5876" y="955"/>
                  <a:pt x="5876" y="961"/>
                  <a:pt x="5882" y="961"/>
                </a:cubicBezTo>
                <a:cubicBezTo>
                  <a:pt x="5888" y="961"/>
                  <a:pt x="5888" y="961"/>
                  <a:pt x="5893" y="961"/>
                </a:cubicBezTo>
                <a:cubicBezTo>
                  <a:pt x="5899" y="961"/>
                  <a:pt x="5899" y="961"/>
                  <a:pt x="5899" y="961"/>
                </a:cubicBezTo>
                <a:cubicBezTo>
                  <a:pt x="5905" y="961"/>
                  <a:pt x="5905" y="961"/>
                  <a:pt x="5905" y="961"/>
                </a:cubicBezTo>
                <a:cubicBezTo>
                  <a:pt x="5911" y="961"/>
                  <a:pt x="5911" y="966"/>
                  <a:pt x="5911" y="966"/>
                </a:cubicBezTo>
                <a:cubicBezTo>
                  <a:pt x="5917" y="972"/>
                  <a:pt x="5917" y="972"/>
                  <a:pt x="5923" y="978"/>
                </a:cubicBezTo>
                <a:cubicBezTo>
                  <a:pt x="5923" y="978"/>
                  <a:pt x="5929" y="978"/>
                  <a:pt x="5929" y="984"/>
                </a:cubicBezTo>
                <a:cubicBezTo>
                  <a:pt x="5935" y="984"/>
                  <a:pt x="5935" y="984"/>
                  <a:pt x="5941" y="984"/>
                </a:cubicBezTo>
                <a:cubicBezTo>
                  <a:pt x="5947" y="984"/>
                  <a:pt x="5947" y="984"/>
                  <a:pt x="5947" y="984"/>
                </a:cubicBezTo>
                <a:cubicBezTo>
                  <a:pt x="5953" y="984"/>
                  <a:pt x="5953" y="984"/>
                  <a:pt x="5959" y="984"/>
                </a:cubicBezTo>
                <a:cubicBezTo>
                  <a:pt x="5959" y="984"/>
                  <a:pt x="5959" y="990"/>
                  <a:pt x="5965" y="990"/>
                </a:cubicBezTo>
                <a:cubicBezTo>
                  <a:pt x="5965" y="996"/>
                  <a:pt x="5970" y="996"/>
                  <a:pt x="5970" y="1002"/>
                </a:cubicBezTo>
                <a:cubicBezTo>
                  <a:pt x="5970" y="1038"/>
                  <a:pt x="5970" y="1038"/>
                  <a:pt x="5970" y="1038"/>
                </a:cubicBezTo>
                <a:cubicBezTo>
                  <a:pt x="5970" y="1044"/>
                  <a:pt x="5977" y="1050"/>
                  <a:pt x="5977" y="1050"/>
                </a:cubicBezTo>
                <a:cubicBezTo>
                  <a:pt x="5982" y="1055"/>
                  <a:pt x="5982" y="1055"/>
                  <a:pt x="5982" y="1055"/>
                </a:cubicBezTo>
                <a:cubicBezTo>
                  <a:pt x="5982" y="1061"/>
                  <a:pt x="5988" y="1061"/>
                  <a:pt x="5988" y="1061"/>
                </a:cubicBezTo>
                <a:cubicBezTo>
                  <a:pt x="5988" y="1061"/>
                  <a:pt x="5994" y="1061"/>
                  <a:pt x="5994" y="1067"/>
                </a:cubicBezTo>
                <a:cubicBezTo>
                  <a:pt x="5994" y="1067"/>
                  <a:pt x="6000" y="1061"/>
                  <a:pt x="6000" y="1067"/>
                </a:cubicBezTo>
                <a:cubicBezTo>
                  <a:pt x="6006" y="1067"/>
                  <a:pt x="6006" y="1067"/>
                  <a:pt x="6012" y="1067"/>
                </a:cubicBezTo>
                <a:cubicBezTo>
                  <a:pt x="6012" y="1067"/>
                  <a:pt x="6012" y="1073"/>
                  <a:pt x="6018" y="1073"/>
                </a:cubicBezTo>
                <a:lnTo>
                  <a:pt x="6024" y="1073"/>
                </a:lnTo>
                <a:cubicBezTo>
                  <a:pt x="6024" y="1079"/>
                  <a:pt x="6024" y="1079"/>
                  <a:pt x="6030" y="1079"/>
                </a:cubicBezTo>
                <a:cubicBezTo>
                  <a:pt x="6030" y="1085"/>
                  <a:pt x="6030" y="1091"/>
                  <a:pt x="6036" y="1091"/>
                </a:cubicBezTo>
                <a:cubicBezTo>
                  <a:pt x="6036" y="1097"/>
                  <a:pt x="6036" y="1097"/>
                  <a:pt x="6036" y="1097"/>
                </a:cubicBezTo>
                <a:cubicBezTo>
                  <a:pt x="6036" y="1103"/>
                  <a:pt x="6036" y="1103"/>
                  <a:pt x="6042" y="1103"/>
                </a:cubicBezTo>
                <a:cubicBezTo>
                  <a:pt x="6042" y="1109"/>
                  <a:pt x="6048" y="1109"/>
                  <a:pt x="6048" y="1115"/>
                </a:cubicBezTo>
                <a:cubicBezTo>
                  <a:pt x="6054" y="1115"/>
                  <a:pt x="6054" y="1121"/>
                  <a:pt x="6054" y="1121"/>
                </a:cubicBezTo>
                <a:cubicBezTo>
                  <a:pt x="6059" y="1121"/>
                  <a:pt x="6059" y="1127"/>
                  <a:pt x="6059" y="1127"/>
                </a:cubicBezTo>
                <a:cubicBezTo>
                  <a:pt x="6059" y="1132"/>
                  <a:pt x="6065" y="1132"/>
                  <a:pt x="6065" y="1132"/>
                </a:cubicBezTo>
                <a:cubicBezTo>
                  <a:pt x="6065" y="1138"/>
                  <a:pt x="6071" y="1138"/>
                  <a:pt x="6071" y="1138"/>
                </a:cubicBezTo>
                <a:cubicBezTo>
                  <a:pt x="6071" y="1144"/>
                  <a:pt x="6071" y="1144"/>
                  <a:pt x="6077" y="1150"/>
                </a:cubicBezTo>
                <a:cubicBezTo>
                  <a:pt x="6077" y="1156"/>
                  <a:pt x="6077" y="1156"/>
                  <a:pt x="6077" y="1162"/>
                </a:cubicBezTo>
                <a:cubicBezTo>
                  <a:pt x="6083" y="1162"/>
                  <a:pt x="6083" y="1168"/>
                  <a:pt x="6083" y="1168"/>
                </a:cubicBezTo>
                <a:cubicBezTo>
                  <a:pt x="6083" y="1174"/>
                  <a:pt x="6089" y="1180"/>
                  <a:pt x="6095" y="1186"/>
                </a:cubicBezTo>
                <a:cubicBezTo>
                  <a:pt x="6095" y="1186"/>
                  <a:pt x="6095" y="1186"/>
                  <a:pt x="6101" y="1192"/>
                </a:cubicBezTo>
                <a:cubicBezTo>
                  <a:pt x="6101" y="1192"/>
                  <a:pt x="6107" y="1198"/>
                  <a:pt x="6113" y="1198"/>
                </a:cubicBezTo>
                <a:lnTo>
                  <a:pt x="6113" y="1204"/>
                </a:lnTo>
                <a:cubicBezTo>
                  <a:pt x="6113" y="1210"/>
                  <a:pt x="6113" y="1210"/>
                  <a:pt x="6113" y="1210"/>
                </a:cubicBezTo>
                <a:cubicBezTo>
                  <a:pt x="6113" y="1215"/>
                  <a:pt x="6113" y="1215"/>
                  <a:pt x="6113" y="1221"/>
                </a:cubicBezTo>
                <a:cubicBezTo>
                  <a:pt x="6113" y="1221"/>
                  <a:pt x="6107" y="1221"/>
                  <a:pt x="6107" y="1227"/>
                </a:cubicBezTo>
                <a:cubicBezTo>
                  <a:pt x="6107" y="1233"/>
                  <a:pt x="6113" y="1233"/>
                  <a:pt x="6113" y="1233"/>
                </a:cubicBezTo>
                <a:cubicBezTo>
                  <a:pt x="6119" y="1245"/>
                  <a:pt x="6125" y="1245"/>
                  <a:pt x="6125" y="1251"/>
                </a:cubicBezTo>
                <a:cubicBezTo>
                  <a:pt x="6125" y="1281"/>
                  <a:pt x="6125" y="1281"/>
                  <a:pt x="6125" y="1281"/>
                </a:cubicBezTo>
                <a:cubicBezTo>
                  <a:pt x="6125" y="1287"/>
                  <a:pt x="6119" y="1287"/>
                  <a:pt x="6119" y="1293"/>
                </a:cubicBezTo>
                <a:lnTo>
                  <a:pt x="6113" y="1299"/>
                </a:lnTo>
                <a:cubicBezTo>
                  <a:pt x="6113" y="1304"/>
                  <a:pt x="6113" y="1304"/>
                  <a:pt x="6113" y="1310"/>
                </a:cubicBezTo>
                <a:cubicBezTo>
                  <a:pt x="6143" y="1310"/>
                  <a:pt x="6143" y="1310"/>
                  <a:pt x="6143" y="1310"/>
                </a:cubicBezTo>
                <a:cubicBezTo>
                  <a:pt x="6143" y="1334"/>
                  <a:pt x="6143" y="1334"/>
                  <a:pt x="6143" y="1334"/>
                </a:cubicBezTo>
                <a:cubicBezTo>
                  <a:pt x="6136" y="1334"/>
                  <a:pt x="6131" y="1334"/>
                  <a:pt x="6125" y="1334"/>
                </a:cubicBezTo>
                <a:cubicBezTo>
                  <a:pt x="6125" y="1334"/>
                  <a:pt x="6119" y="1340"/>
                  <a:pt x="6113" y="1340"/>
                </a:cubicBezTo>
                <a:lnTo>
                  <a:pt x="6113" y="1346"/>
                </a:lnTo>
                <a:cubicBezTo>
                  <a:pt x="6113" y="1358"/>
                  <a:pt x="6119" y="1358"/>
                  <a:pt x="6119" y="1370"/>
                </a:cubicBezTo>
                <a:cubicBezTo>
                  <a:pt x="6119" y="1376"/>
                  <a:pt x="6119" y="1382"/>
                  <a:pt x="6119" y="1387"/>
                </a:cubicBezTo>
                <a:cubicBezTo>
                  <a:pt x="6095" y="1387"/>
                  <a:pt x="6095" y="1387"/>
                  <a:pt x="6095" y="1387"/>
                </a:cubicBezTo>
                <a:cubicBezTo>
                  <a:pt x="6095" y="1411"/>
                  <a:pt x="6095" y="1411"/>
                  <a:pt x="6095" y="1411"/>
                </a:cubicBezTo>
                <a:cubicBezTo>
                  <a:pt x="6101" y="1411"/>
                  <a:pt x="6101" y="1423"/>
                  <a:pt x="6107" y="1423"/>
                </a:cubicBezTo>
                <a:cubicBezTo>
                  <a:pt x="6113" y="1429"/>
                  <a:pt x="6119" y="1429"/>
                  <a:pt x="6125" y="1429"/>
                </a:cubicBezTo>
                <a:cubicBezTo>
                  <a:pt x="6136" y="1429"/>
                  <a:pt x="6136" y="1429"/>
                  <a:pt x="6136" y="1429"/>
                </a:cubicBezTo>
                <a:cubicBezTo>
                  <a:pt x="6143" y="1429"/>
                  <a:pt x="6148" y="1429"/>
                  <a:pt x="6148" y="1429"/>
                </a:cubicBezTo>
                <a:cubicBezTo>
                  <a:pt x="6154" y="1435"/>
                  <a:pt x="6154" y="1435"/>
                  <a:pt x="6160" y="1435"/>
                </a:cubicBezTo>
                <a:cubicBezTo>
                  <a:pt x="6220" y="1435"/>
                  <a:pt x="6220" y="1435"/>
                  <a:pt x="6220" y="1435"/>
                </a:cubicBezTo>
                <a:cubicBezTo>
                  <a:pt x="6220" y="1429"/>
                  <a:pt x="6220" y="1423"/>
                  <a:pt x="6220" y="1417"/>
                </a:cubicBezTo>
                <a:lnTo>
                  <a:pt x="6225" y="1411"/>
                </a:lnTo>
                <a:cubicBezTo>
                  <a:pt x="6231" y="1411"/>
                  <a:pt x="6237" y="1411"/>
                  <a:pt x="6249" y="1411"/>
                </a:cubicBezTo>
                <a:cubicBezTo>
                  <a:pt x="6249" y="1411"/>
                  <a:pt x="6255" y="1411"/>
                  <a:pt x="6261" y="1411"/>
                </a:cubicBezTo>
                <a:lnTo>
                  <a:pt x="6267" y="1411"/>
                </a:lnTo>
                <a:cubicBezTo>
                  <a:pt x="6273" y="1417"/>
                  <a:pt x="6273" y="1417"/>
                  <a:pt x="6273" y="1423"/>
                </a:cubicBezTo>
                <a:cubicBezTo>
                  <a:pt x="6273" y="1429"/>
                  <a:pt x="6273" y="1435"/>
                  <a:pt x="6273" y="1435"/>
                </a:cubicBezTo>
                <a:cubicBezTo>
                  <a:pt x="6273" y="1441"/>
                  <a:pt x="6279" y="1447"/>
                  <a:pt x="6279" y="1447"/>
                </a:cubicBezTo>
                <a:cubicBezTo>
                  <a:pt x="6285" y="1453"/>
                  <a:pt x="6285" y="1459"/>
                  <a:pt x="6291" y="1459"/>
                </a:cubicBezTo>
                <a:cubicBezTo>
                  <a:pt x="6297" y="1465"/>
                  <a:pt x="6297" y="1470"/>
                  <a:pt x="6303" y="1470"/>
                </a:cubicBezTo>
                <a:cubicBezTo>
                  <a:pt x="6309" y="1470"/>
                  <a:pt x="6314" y="1470"/>
                  <a:pt x="6314" y="1470"/>
                </a:cubicBezTo>
                <a:cubicBezTo>
                  <a:pt x="6320" y="1470"/>
                  <a:pt x="6326" y="1470"/>
                  <a:pt x="6326" y="1470"/>
                </a:cubicBezTo>
                <a:cubicBezTo>
                  <a:pt x="6332" y="1470"/>
                  <a:pt x="6332" y="1470"/>
                  <a:pt x="6338" y="1476"/>
                </a:cubicBezTo>
                <a:cubicBezTo>
                  <a:pt x="6344" y="1476"/>
                  <a:pt x="6344" y="1476"/>
                  <a:pt x="6350" y="1482"/>
                </a:cubicBezTo>
                <a:cubicBezTo>
                  <a:pt x="6356" y="1482"/>
                  <a:pt x="6356" y="1488"/>
                  <a:pt x="6356" y="1494"/>
                </a:cubicBezTo>
                <a:cubicBezTo>
                  <a:pt x="6362" y="1494"/>
                  <a:pt x="6368" y="1494"/>
                  <a:pt x="6368" y="1500"/>
                </a:cubicBezTo>
                <a:cubicBezTo>
                  <a:pt x="6374" y="1500"/>
                  <a:pt x="6374" y="1506"/>
                  <a:pt x="6374" y="1512"/>
                </a:cubicBezTo>
                <a:cubicBezTo>
                  <a:pt x="6368" y="1524"/>
                  <a:pt x="6368" y="1524"/>
                  <a:pt x="6368" y="1524"/>
                </a:cubicBezTo>
                <a:cubicBezTo>
                  <a:pt x="6350" y="1524"/>
                  <a:pt x="6350" y="1524"/>
                  <a:pt x="6350" y="1524"/>
                </a:cubicBezTo>
                <a:cubicBezTo>
                  <a:pt x="6344" y="1524"/>
                  <a:pt x="6338" y="1518"/>
                  <a:pt x="6332" y="1518"/>
                </a:cubicBezTo>
                <a:cubicBezTo>
                  <a:pt x="6309" y="1518"/>
                  <a:pt x="6309" y="1518"/>
                  <a:pt x="6309" y="1518"/>
                </a:cubicBezTo>
                <a:cubicBezTo>
                  <a:pt x="6297" y="1518"/>
                  <a:pt x="6285" y="1524"/>
                  <a:pt x="6273" y="1518"/>
                </a:cubicBezTo>
                <a:cubicBezTo>
                  <a:pt x="6273" y="1518"/>
                  <a:pt x="6267" y="1512"/>
                  <a:pt x="6261" y="1512"/>
                </a:cubicBezTo>
                <a:cubicBezTo>
                  <a:pt x="6261" y="1512"/>
                  <a:pt x="6267" y="1500"/>
                  <a:pt x="6261" y="1500"/>
                </a:cubicBezTo>
                <a:cubicBezTo>
                  <a:pt x="6255" y="1500"/>
                  <a:pt x="6255" y="1500"/>
                  <a:pt x="6249" y="1500"/>
                </a:cubicBezTo>
                <a:cubicBezTo>
                  <a:pt x="6243" y="1500"/>
                  <a:pt x="6237" y="1500"/>
                  <a:pt x="6225" y="1494"/>
                </a:cubicBezTo>
                <a:cubicBezTo>
                  <a:pt x="6220" y="1494"/>
                  <a:pt x="6214" y="1494"/>
                  <a:pt x="6202" y="1494"/>
                </a:cubicBezTo>
                <a:cubicBezTo>
                  <a:pt x="6190" y="1494"/>
                  <a:pt x="6178" y="1500"/>
                  <a:pt x="6166" y="1500"/>
                </a:cubicBezTo>
                <a:cubicBezTo>
                  <a:pt x="6172" y="1512"/>
                  <a:pt x="6172" y="1518"/>
                  <a:pt x="6178" y="1524"/>
                </a:cubicBezTo>
                <a:cubicBezTo>
                  <a:pt x="6178" y="1530"/>
                  <a:pt x="6184" y="1530"/>
                  <a:pt x="6190" y="1536"/>
                </a:cubicBezTo>
                <a:cubicBezTo>
                  <a:pt x="6190" y="1536"/>
                  <a:pt x="6196" y="1542"/>
                  <a:pt x="6196" y="1548"/>
                </a:cubicBezTo>
                <a:cubicBezTo>
                  <a:pt x="6196" y="1554"/>
                  <a:pt x="6190" y="1554"/>
                  <a:pt x="6190" y="1559"/>
                </a:cubicBezTo>
                <a:cubicBezTo>
                  <a:pt x="6184" y="1559"/>
                  <a:pt x="6178" y="1559"/>
                  <a:pt x="6172" y="1559"/>
                </a:cubicBezTo>
                <a:cubicBezTo>
                  <a:pt x="6166" y="1559"/>
                  <a:pt x="6160" y="1565"/>
                  <a:pt x="6160" y="1571"/>
                </a:cubicBezTo>
                <a:cubicBezTo>
                  <a:pt x="6154" y="1571"/>
                  <a:pt x="6148" y="1577"/>
                  <a:pt x="6148" y="1583"/>
                </a:cubicBezTo>
                <a:cubicBezTo>
                  <a:pt x="6148" y="1595"/>
                  <a:pt x="6148" y="1601"/>
                  <a:pt x="6154" y="1601"/>
                </a:cubicBezTo>
                <a:cubicBezTo>
                  <a:pt x="6166" y="1613"/>
                  <a:pt x="6172" y="1601"/>
                  <a:pt x="6190" y="1607"/>
                </a:cubicBezTo>
                <a:cubicBezTo>
                  <a:pt x="6196" y="1607"/>
                  <a:pt x="6202" y="1613"/>
                  <a:pt x="6208" y="1619"/>
                </a:cubicBezTo>
                <a:cubicBezTo>
                  <a:pt x="6225" y="1625"/>
                  <a:pt x="6225" y="1642"/>
                  <a:pt x="6243" y="1642"/>
                </a:cubicBezTo>
                <a:cubicBezTo>
                  <a:pt x="6249" y="1642"/>
                  <a:pt x="6249" y="1636"/>
                  <a:pt x="6255" y="1631"/>
                </a:cubicBezTo>
                <a:cubicBezTo>
                  <a:pt x="6261" y="1625"/>
                  <a:pt x="6261" y="1613"/>
                  <a:pt x="6273" y="1613"/>
                </a:cubicBezTo>
                <a:cubicBezTo>
                  <a:pt x="6291" y="1613"/>
                  <a:pt x="6297" y="1613"/>
                  <a:pt x="6309" y="1613"/>
                </a:cubicBezTo>
                <a:cubicBezTo>
                  <a:pt x="6309" y="1571"/>
                  <a:pt x="6309" y="1571"/>
                  <a:pt x="6309" y="1571"/>
                </a:cubicBezTo>
                <a:cubicBezTo>
                  <a:pt x="6297" y="1571"/>
                  <a:pt x="6291" y="1577"/>
                  <a:pt x="6279" y="1571"/>
                </a:cubicBezTo>
                <a:cubicBezTo>
                  <a:pt x="6273" y="1571"/>
                  <a:pt x="6273" y="1571"/>
                  <a:pt x="6267" y="1571"/>
                </a:cubicBezTo>
                <a:cubicBezTo>
                  <a:pt x="6261" y="1571"/>
                  <a:pt x="6267" y="1559"/>
                  <a:pt x="6261" y="1559"/>
                </a:cubicBezTo>
                <a:cubicBezTo>
                  <a:pt x="6255" y="1559"/>
                  <a:pt x="6255" y="1559"/>
                  <a:pt x="6249" y="1559"/>
                </a:cubicBezTo>
                <a:cubicBezTo>
                  <a:pt x="6249" y="1559"/>
                  <a:pt x="6243" y="1559"/>
                  <a:pt x="6237" y="1559"/>
                </a:cubicBezTo>
                <a:cubicBezTo>
                  <a:pt x="6243" y="1548"/>
                  <a:pt x="6243" y="1548"/>
                  <a:pt x="6243" y="1548"/>
                </a:cubicBezTo>
                <a:cubicBezTo>
                  <a:pt x="6267" y="1548"/>
                  <a:pt x="6267" y="1548"/>
                  <a:pt x="6267" y="1548"/>
                </a:cubicBezTo>
                <a:cubicBezTo>
                  <a:pt x="6273" y="1548"/>
                  <a:pt x="6273" y="1548"/>
                  <a:pt x="6279" y="1548"/>
                </a:cubicBezTo>
                <a:cubicBezTo>
                  <a:pt x="6285" y="1554"/>
                  <a:pt x="6285" y="1554"/>
                  <a:pt x="6291" y="1559"/>
                </a:cubicBezTo>
                <a:cubicBezTo>
                  <a:pt x="6297" y="1559"/>
                  <a:pt x="6297" y="1559"/>
                  <a:pt x="6303" y="1565"/>
                </a:cubicBezTo>
                <a:cubicBezTo>
                  <a:pt x="6303" y="1565"/>
                  <a:pt x="6309" y="1565"/>
                  <a:pt x="6314" y="1565"/>
                </a:cubicBezTo>
                <a:cubicBezTo>
                  <a:pt x="6320" y="1565"/>
                  <a:pt x="6320" y="1565"/>
                  <a:pt x="6326" y="1565"/>
                </a:cubicBezTo>
                <a:cubicBezTo>
                  <a:pt x="6350" y="1565"/>
                  <a:pt x="6350" y="1565"/>
                  <a:pt x="6350" y="1565"/>
                </a:cubicBezTo>
                <a:cubicBezTo>
                  <a:pt x="6356" y="1565"/>
                  <a:pt x="6368" y="1565"/>
                  <a:pt x="6374" y="1571"/>
                </a:cubicBezTo>
                <a:cubicBezTo>
                  <a:pt x="6380" y="1571"/>
                  <a:pt x="6386" y="1577"/>
                  <a:pt x="6386" y="1583"/>
                </a:cubicBezTo>
                <a:cubicBezTo>
                  <a:pt x="6386" y="1589"/>
                  <a:pt x="6386" y="1589"/>
                  <a:pt x="6386" y="1589"/>
                </a:cubicBezTo>
                <a:cubicBezTo>
                  <a:pt x="6386" y="1595"/>
                  <a:pt x="6374" y="1595"/>
                  <a:pt x="6374" y="1601"/>
                </a:cubicBezTo>
                <a:cubicBezTo>
                  <a:pt x="6368" y="1601"/>
                  <a:pt x="6374" y="1607"/>
                  <a:pt x="6374" y="1613"/>
                </a:cubicBezTo>
                <a:cubicBezTo>
                  <a:pt x="6368" y="1619"/>
                  <a:pt x="6362" y="1619"/>
                  <a:pt x="6362" y="1625"/>
                </a:cubicBezTo>
                <a:cubicBezTo>
                  <a:pt x="6362" y="1631"/>
                  <a:pt x="6362" y="1631"/>
                  <a:pt x="6362" y="1631"/>
                </a:cubicBezTo>
                <a:cubicBezTo>
                  <a:pt x="6362" y="1636"/>
                  <a:pt x="6368" y="1636"/>
                  <a:pt x="6368" y="1642"/>
                </a:cubicBezTo>
                <a:cubicBezTo>
                  <a:pt x="6374" y="1642"/>
                  <a:pt x="6380" y="1648"/>
                  <a:pt x="6380" y="1648"/>
                </a:cubicBezTo>
                <a:cubicBezTo>
                  <a:pt x="6386" y="1654"/>
                  <a:pt x="6386" y="1660"/>
                  <a:pt x="6386" y="1666"/>
                </a:cubicBezTo>
                <a:cubicBezTo>
                  <a:pt x="6386" y="1696"/>
                  <a:pt x="6386" y="1696"/>
                  <a:pt x="6386" y="1696"/>
                </a:cubicBezTo>
                <a:cubicBezTo>
                  <a:pt x="6356" y="1696"/>
                  <a:pt x="6356" y="1696"/>
                  <a:pt x="6356" y="1696"/>
                </a:cubicBezTo>
                <a:cubicBezTo>
                  <a:pt x="6350" y="1696"/>
                  <a:pt x="6350" y="1690"/>
                  <a:pt x="6344" y="1696"/>
                </a:cubicBezTo>
                <a:cubicBezTo>
                  <a:pt x="6338" y="1696"/>
                  <a:pt x="6338" y="1702"/>
                  <a:pt x="6332" y="1702"/>
                </a:cubicBezTo>
                <a:cubicBezTo>
                  <a:pt x="6326" y="1708"/>
                  <a:pt x="6326" y="1714"/>
                  <a:pt x="6326" y="1714"/>
                </a:cubicBezTo>
                <a:cubicBezTo>
                  <a:pt x="6320" y="1714"/>
                  <a:pt x="6314" y="1714"/>
                  <a:pt x="6309" y="1714"/>
                </a:cubicBezTo>
                <a:cubicBezTo>
                  <a:pt x="6297" y="1714"/>
                  <a:pt x="6297" y="1714"/>
                  <a:pt x="6297" y="1714"/>
                </a:cubicBezTo>
                <a:cubicBezTo>
                  <a:pt x="6291" y="1714"/>
                  <a:pt x="6291" y="1708"/>
                  <a:pt x="6285" y="1708"/>
                </a:cubicBezTo>
                <a:cubicBezTo>
                  <a:pt x="6285" y="1708"/>
                  <a:pt x="6279" y="1714"/>
                  <a:pt x="6273" y="1714"/>
                </a:cubicBezTo>
                <a:cubicBezTo>
                  <a:pt x="6273" y="1767"/>
                  <a:pt x="6273" y="1767"/>
                  <a:pt x="6273" y="1767"/>
                </a:cubicBezTo>
                <a:cubicBezTo>
                  <a:pt x="6267" y="1767"/>
                  <a:pt x="6261" y="1767"/>
                  <a:pt x="6261" y="1767"/>
                </a:cubicBezTo>
                <a:cubicBezTo>
                  <a:pt x="6255" y="1761"/>
                  <a:pt x="6249" y="1761"/>
                  <a:pt x="6243" y="1761"/>
                </a:cubicBezTo>
                <a:cubicBezTo>
                  <a:pt x="6237" y="1761"/>
                  <a:pt x="6243" y="1767"/>
                  <a:pt x="6237" y="1773"/>
                </a:cubicBezTo>
                <a:cubicBezTo>
                  <a:pt x="6231" y="1773"/>
                  <a:pt x="6225" y="1773"/>
                  <a:pt x="6225" y="1779"/>
                </a:cubicBezTo>
                <a:cubicBezTo>
                  <a:pt x="6220" y="1779"/>
                  <a:pt x="6214" y="1779"/>
                  <a:pt x="6214" y="1779"/>
                </a:cubicBezTo>
                <a:cubicBezTo>
                  <a:pt x="6208" y="1779"/>
                  <a:pt x="6202" y="1779"/>
                  <a:pt x="6202" y="1785"/>
                </a:cubicBezTo>
                <a:cubicBezTo>
                  <a:pt x="6196" y="1785"/>
                  <a:pt x="6196" y="1797"/>
                  <a:pt x="6196" y="1802"/>
                </a:cubicBezTo>
                <a:cubicBezTo>
                  <a:pt x="6196" y="1809"/>
                  <a:pt x="6196" y="1809"/>
                  <a:pt x="6196" y="1809"/>
                </a:cubicBezTo>
                <a:cubicBezTo>
                  <a:pt x="6196" y="1814"/>
                  <a:pt x="6202" y="1820"/>
                  <a:pt x="6202" y="1820"/>
                </a:cubicBezTo>
                <a:cubicBezTo>
                  <a:pt x="6208" y="1826"/>
                  <a:pt x="6208" y="1832"/>
                  <a:pt x="6214" y="1838"/>
                </a:cubicBezTo>
                <a:cubicBezTo>
                  <a:pt x="6214" y="1838"/>
                  <a:pt x="6220" y="1838"/>
                  <a:pt x="6225" y="1838"/>
                </a:cubicBezTo>
                <a:cubicBezTo>
                  <a:pt x="6225" y="1844"/>
                  <a:pt x="6231" y="1844"/>
                  <a:pt x="6237" y="1844"/>
                </a:cubicBezTo>
                <a:cubicBezTo>
                  <a:pt x="6243" y="1844"/>
                  <a:pt x="6243" y="1850"/>
                  <a:pt x="6249" y="1850"/>
                </a:cubicBezTo>
                <a:cubicBezTo>
                  <a:pt x="6249" y="1856"/>
                  <a:pt x="6255" y="1856"/>
                  <a:pt x="6261" y="1856"/>
                </a:cubicBezTo>
                <a:cubicBezTo>
                  <a:pt x="6261" y="1862"/>
                  <a:pt x="6261" y="1874"/>
                  <a:pt x="6261" y="1880"/>
                </a:cubicBezTo>
                <a:cubicBezTo>
                  <a:pt x="6255" y="1880"/>
                  <a:pt x="6249" y="1880"/>
                  <a:pt x="6243" y="1886"/>
                </a:cubicBezTo>
                <a:cubicBezTo>
                  <a:pt x="6237" y="1886"/>
                  <a:pt x="6231" y="1897"/>
                  <a:pt x="6231" y="1903"/>
                </a:cubicBezTo>
                <a:cubicBezTo>
                  <a:pt x="6231" y="1915"/>
                  <a:pt x="6243" y="1921"/>
                  <a:pt x="6249" y="1933"/>
                </a:cubicBezTo>
                <a:cubicBezTo>
                  <a:pt x="6249" y="1939"/>
                  <a:pt x="6255" y="1945"/>
                  <a:pt x="6261" y="1957"/>
                </a:cubicBezTo>
                <a:lnTo>
                  <a:pt x="6261" y="1963"/>
                </a:lnTo>
                <a:cubicBezTo>
                  <a:pt x="6267" y="1968"/>
                  <a:pt x="6273" y="1968"/>
                  <a:pt x="6279" y="1968"/>
                </a:cubicBezTo>
                <a:cubicBezTo>
                  <a:pt x="6285" y="1968"/>
                  <a:pt x="6291" y="1968"/>
                  <a:pt x="6297" y="1963"/>
                </a:cubicBezTo>
                <a:cubicBezTo>
                  <a:pt x="6303" y="1963"/>
                  <a:pt x="6303" y="1957"/>
                  <a:pt x="6309" y="1957"/>
                </a:cubicBezTo>
                <a:cubicBezTo>
                  <a:pt x="6309" y="1951"/>
                  <a:pt x="6314" y="1957"/>
                  <a:pt x="6320" y="1957"/>
                </a:cubicBezTo>
                <a:cubicBezTo>
                  <a:pt x="6332" y="1957"/>
                  <a:pt x="6332" y="1957"/>
                  <a:pt x="6332" y="1957"/>
                </a:cubicBezTo>
                <a:cubicBezTo>
                  <a:pt x="6332" y="1957"/>
                  <a:pt x="6338" y="1957"/>
                  <a:pt x="6344" y="1957"/>
                </a:cubicBezTo>
                <a:cubicBezTo>
                  <a:pt x="6344" y="1963"/>
                  <a:pt x="6344" y="1968"/>
                  <a:pt x="6344" y="1968"/>
                </a:cubicBezTo>
                <a:cubicBezTo>
                  <a:pt x="6338" y="1975"/>
                  <a:pt x="6344" y="1980"/>
                  <a:pt x="6338" y="1980"/>
                </a:cubicBezTo>
                <a:cubicBezTo>
                  <a:pt x="6338" y="1986"/>
                  <a:pt x="6332" y="1980"/>
                  <a:pt x="6326" y="1980"/>
                </a:cubicBezTo>
                <a:cubicBezTo>
                  <a:pt x="6326" y="1986"/>
                  <a:pt x="6320" y="1986"/>
                  <a:pt x="6314" y="1986"/>
                </a:cubicBezTo>
                <a:cubicBezTo>
                  <a:pt x="6314" y="1992"/>
                  <a:pt x="6314" y="1998"/>
                  <a:pt x="6314" y="1998"/>
                </a:cubicBezTo>
                <a:cubicBezTo>
                  <a:pt x="6314" y="2004"/>
                  <a:pt x="6309" y="2004"/>
                  <a:pt x="6309" y="2010"/>
                </a:cubicBezTo>
                <a:cubicBezTo>
                  <a:pt x="6309" y="2016"/>
                  <a:pt x="6297" y="2016"/>
                  <a:pt x="6297" y="2028"/>
                </a:cubicBezTo>
                <a:cubicBezTo>
                  <a:pt x="6297" y="2034"/>
                  <a:pt x="6303" y="2034"/>
                  <a:pt x="6303" y="2040"/>
                </a:cubicBezTo>
                <a:cubicBezTo>
                  <a:pt x="6303" y="2052"/>
                  <a:pt x="6303" y="2057"/>
                  <a:pt x="6309" y="2063"/>
                </a:cubicBezTo>
                <a:cubicBezTo>
                  <a:pt x="6314" y="2069"/>
                  <a:pt x="6314" y="2075"/>
                  <a:pt x="6320" y="2075"/>
                </a:cubicBezTo>
                <a:cubicBezTo>
                  <a:pt x="6320" y="2081"/>
                  <a:pt x="6326" y="2075"/>
                  <a:pt x="6332" y="2075"/>
                </a:cubicBezTo>
                <a:cubicBezTo>
                  <a:pt x="6332" y="2075"/>
                  <a:pt x="6338" y="2075"/>
                  <a:pt x="6344" y="2075"/>
                </a:cubicBezTo>
                <a:lnTo>
                  <a:pt x="6350" y="2069"/>
                </a:lnTo>
                <a:cubicBezTo>
                  <a:pt x="6356" y="2063"/>
                  <a:pt x="6356" y="2057"/>
                  <a:pt x="6362" y="2057"/>
                </a:cubicBezTo>
                <a:cubicBezTo>
                  <a:pt x="6362" y="2052"/>
                  <a:pt x="6362" y="2046"/>
                  <a:pt x="6368" y="2046"/>
                </a:cubicBezTo>
                <a:cubicBezTo>
                  <a:pt x="6368" y="2046"/>
                  <a:pt x="6374" y="2040"/>
                  <a:pt x="6380" y="2040"/>
                </a:cubicBezTo>
                <a:cubicBezTo>
                  <a:pt x="6386" y="2040"/>
                  <a:pt x="6391" y="2046"/>
                  <a:pt x="6397" y="2046"/>
                </a:cubicBezTo>
                <a:cubicBezTo>
                  <a:pt x="6397" y="2093"/>
                  <a:pt x="6397" y="2093"/>
                  <a:pt x="6397" y="2093"/>
                </a:cubicBezTo>
                <a:cubicBezTo>
                  <a:pt x="6391" y="2093"/>
                  <a:pt x="6391" y="2099"/>
                  <a:pt x="6386" y="2105"/>
                </a:cubicBezTo>
                <a:cubicBezTo>
                  <a:pt x="6386" y="2105"/>
                  <a:pt x="6380" y="2105"/>
                  <a:pt x="6374" y="2105"/>
                </a:cubicBezTo>
                <a:cubicBezTo>
                  <a:pt x="6374" y="2105"/>
                  <a:pt x="6368" y="2111"/>
                  <a:pt x="6362" y="2111"/>
                </a:cubicBezTo>
                <a:cubicBezTo>
                  <a:pt x="6362" y="2117"/>
                  <a:pt x="6356" y="2117"/>
                  <a:pt x="6350" y="2123"/>
                </a:cubicBezTo>
                <a:cubicBezTo>
                  <a:pt x="6350" y="2129"/>
                  <a:pt x="6350" y="2134"/>
                  <a:pt x="6350" y="2141"/>
                </a:cubicBezTo>
                <a:cubicBezTo>
                  <a:pt x="6350" y="2146"/>
                  <a:pt x="6350" y="2152"/>
                  <a:pt x="6356" y="2158"/>
                </a:cubicBezTo>
                <a:cubicBezTo>
                  <a:pt x="6356" y="2158"/>
                  <a:pt x="6362" y="2164"/>
                  <a:pt x="6368" y="2164"/>
                </a:cubicBezTo>
                <a:cubicBezTo>
                  <a:pt x="6374" y="2170"/>
                  <a:pt x="6374" y="2170"/>
                  <a:pt x="6380" y="2176"/>
                </a:cubicBezTo>
                <a:cubicBezTo>
                  <a:pt x="6386" y="2188"/>
                  <a:pt x="6391" y="2200"/>
                  <a:pt x="6403" y="2212"/>
                </a:cubicBezTo>
                <a:cubicBezTo>
                  <a:pt x="6409" y="2212"/>
                  <a:pt x="6415" y="2218"/>
                  <a:pt x="6415" y="2218"/>
                </a:cubicBezTo>
                <a:cubicBezTo>
                  <a:pt x="6415" y="2223"/>
                  <a:pt x="6421" y="2223"/>
                  <a:pt x="6421" y="2229"/>
                </a:cubicBezTo>
                <a:cubicBezTo>
                  <a:pt x="6421" y="2235"/>
                  <a:pt x="6421" y="2241"/>
                  <a:pt x="6421" y="2241"/>
                </a:cubicBezTo>
                <a:cubicBezTo>
                  <a:pt x="6421" y="2253"/>
                  <a:pt x="6433" y="2259"/>
                  <a:pt x="6433" y="2265"/>
                </a:cubicBezTo>
                <a:cubicBezTo>
                  <a:pt x="6439" y="2271"/>
                  <a:pt x="6439" y="2283"/>
                  <a:pt x="6439" y="2289"/>
                </a:cubicBezTo>
                <a:cubicBezTo>
                  <a:pt x="6445" y="2300"/>
                  <a:pt x="6457" y="2300"/>
                  <a:pt x="6463" y="2307"/>
                </a:cubicBezTo>
                <a:cubicBezTo>
                  <a:pt x="6469" y="2312"/>
                  <a:pt x="6475" y="2312"/>
                  <a:pt x="6475" y="2312"/>
                </a:cubicBezTo>
                <a:cubicBezTo>
                  <a:pt x="6480" y="2318"/>
                  <a:pt x="6480" y="2318"/>
                  <a:pt x="6486" y="2324"/>
                </a:cubicBezTo>
                <a:cubicBezTo>
                  <a:pt x="6486" y="2330"/>
                  <a:pt x="6480" y="2342"/>
                  <a:pt x="6486" y="2348"/>
                </a:cubicBezTo>
                <a:cubicBezTo>
                  <a:pt x="6486" y="2354"/>
                  <a:pt x="6486" y="2354"/>
                  <a:pt x="6492" y="2360"/>
                </a:cubicBezTo>
                <a:cubicBezTo>
                  <a:pt x="6504" y="2366"/>
                  <a:pt x="6516" y="2366"/>
                  <a:pt x="6528" y="2372"/>
                </a:cubicBezTo>
                <a:cubicBezTo>
                  <a:pt x="6540" y="2372"/>
                  <a:pt x="6540" y="2384"/>
                  <a:pt x="6552" y="2389"/>
                </a:cubicBezTo>
                <a:cubicBezTo>
                  <a:pt x="6552" y="2389"/>
                  <a:pt x="6552" y="2395"/>
                  <a:pt x="6558" y="2401"/>
                </a:cubicBezTo>
                <a:cubicBezTo>
                  <a:pt x="6563" y="2401"/>
                  <a:pt x="6563" y="2401"/>
                  <a:pt x="6569" y="2401"/>
                </a:cubicBezTo>
                <a:cubicBezTo>
                  <a:pt x="6581" y="2401"/>
                  <a:pt x="6581" y="2401"/>
                  <a:pt x="6581" y="2401"/>
                </a:cubicBezTo>
                <a:cubicBezTo>
                  <a:pt x="6587" y="2401"/>
                  <a:pt x="6587" y="2395"/>
                  <a:pt x="6593" y="2395"/>
                </a:cubicBezTo>
                <a:cubicBezTo>
                  <a:pt x="6599" y="2389"/>
                  <a:pt x="6605" y="2389"/>
                  <a:pt x="6611" y="2389"/>
                </a:cubicBezTo>
                <a:cubicBezTo>
                  <a:pt x="6617" y="2389"/>
                  <a:pt x="6617" y="2389"/>
                  <a:pt x="6617" y="2389"/>
                </a:cubicBezTo>
                <a:cubicBezTo>
                  <a:pt x="6617" y="2389"/>
                  <a:pt x="6623" y="2395"/>
                  <a:pt x="6629" y="2395"/>
                </a:cubicBezTo>
                <a:cubicBezTo>
                  <a:pt x="6629" y="2395"/>
                  <a:pt x="6635" y="2389"/>
                  <a:pt x="6641" y="2395"/>
                </a:cubicBezTo>
                <a:cubicBezTo>
                  <a:pt x="6641" y="2395"/>
                  <a:pt x="6641" y="2401"/>
                  <a:pt x="6641" y="2407"/>
                </a:cubicBezTo>
                <a:cubicBezTo>
                  <a:pt x="6641" y="2407"/>
                  <a:pt x="6641" y="2413"/>
                  <a:pt x="6646" y="2419"/>
                </a:cubicBezTo>
                <a:cubicBezTo>
                  <a:pt x="6646" y="2425"/>
                  <a:pt x="6652" y="2425"/>
                  <a:pt x="6658" y="2425"/>
                </a:cubicBezTo>
                <a:cubicBezTo>
                  <a:pt x="6664" y="2431"/>
                  <a:pt x="6664" y="2431"/>
                  <a:pt x="6670" y="2431"/>
                </a:cubicBezTo>
                <a:cubicBezTo>
                  <a:pt x="6682" y="2437"/>
                  <a:pt x="6688" y="2431"/>
                  <a:pt x="6694" y="2431"/>
                </a:cubicBezTo>
                <a:cubicBezTo>
                  <a:pt x="6700" y="2437"/>
                  <a:pt x="6706" y="2437"/>
                  <a:pt x="6706" y="2443"/>
                </a:cubicBezTo>
                <a:cubicBezTo>
                  <a:pt x="6706" y="2449"/>
                  <a:pt x="6706" y="2455"/>
                  <a:pt x="6712" y="2455"/>
                </a:cubicBezTo>
                <a:cubicBezTo>
                  <a:pt x="6712" y="2461"/>
                  <a:pt x="6718" y="2466"/>
                  <a:pt x="6724" y="2466"/>
                </a:cubicBezTo>
                <a:cubicBezTo>
                  <a:pt x="6729" y="2466"/>
                  <a:pt x="6735" y="2466"/>
                  <a:pt x="6741" y="2466"/>
                </a:cubicBezTo>
                <a:cubicBezTo>
                  <a:pt x="6753" y="2466"/>
                  <a:pt x="6759" y="2473"/>
                  <a:pt x="6765" y="2466"/>
                </a:cubicBezTo>
                <a:cubicBezTo>
                  <a:pt x="6771" y="2466"/>
                  <a:pt x="6771" y="2461"/>
                  <a:pt x="6777" y="2461"/>
                </a:cubicBezTo>
                <a:cubicBezTo>
                  <a:pt x="6783" y="2455"/>
                  <a:pt x="6783" y="2455"/>
                  <a:pt x="6789" y="2455"/>
                </a:cubicBezTo>
                <a:cubicBezTo>
                  <a:pt x="6795" y="2449"/>
                  <a:pt x="6801" y="2449"/>
                  <a:pt x="6801" y="2443"/>
                </a:cubicBezTo>
                <a:cubicBezTo>
                  <a:pt x="6801" y="2443"/>
                  <a:pt x="6801" y="2437"/>
                  <a:pt x="6801" y="2431"/>
                </a:cubicBezTo>
                <a:cubicBezTo>
                  <a:pt x="6801" y="2419"/>
                  <a:pt x="6801" y="2419"/>
                  <a:pt x="6801" y="2419"/>
                </a:cubicBezTo>
                <a:cubicBezTo>
                  <a:pt x="6801" y="2401"/>
                  <a:pt x="6801" y="2389"/>
                  <a:pt x="6807" y="2378"/>
                </a:cubicBezTo>
                <a:cubicBezTo>
                  <a:pt x="6813" y="2366"/>
                  <a:pt x="6824" y="2366"/>
                  <a:pt x="6830" y="2354"/>
                </a:cubicBezTo>
                <a:cubicBezTo>
                  <a:pt x="6830" y="2354"/>
                  <a:pt x="6830" y="2348"/>
                  <a:pt x="6836" y="2342"/>
                </a:cubicBezTo>
                <a:cubicBezTo>
                  <a:pt x="6836" y="2342"/>
                  <a:pt x="6842" y="2336"/>
                  <a:pt x="6842" y="2330"/>
                </a:cubicBezTo>
                <a:cubicBezTo>
                  <a:pt x="6842" y="2324"/>
                  <a:pt x="6836" y="2318"/>
                  <a:pt x="6836" y="2312"/>
                </a:cubicBezTo>
                <a:cubicBezTo>
                  <a:pt x="6836" y="2307"/>
                  <a:pt x="6836" y="2307"/>
                  <a:pt x="6836" y="2300"/>
                </a:cubicBezTo>
                <a:cubicBezTo>
                  <a:pt x="6836" y="2295"/>
                  <a:pt x="6836" y="2295"/>
                  <a:pt x="6836" y="2289"/>
                </a:cubicBezTo>
                <a:cubicBezTo>
                  <a:pt x="6836" y="2277"/>
                  <a:pt x="6836" y="2271"/>
                  <a:pt x="6836" y="2265"/>
                </a:cubicBezTo>
                <a:cubicBezTo>
                  <a:pt x="6830" y="2259"/>
                  <a:pt x="6824" y="2259"/>
                  <a:pt x="6824" y="2259"/>
                </a:cubicBezTo>
                <a:cubicBezTo>
                  <a:pt x="6824" y="2253"/>
                  <a:pt x="6818" y="2247"/>
                  <a:pt x="6818" y="2247"/>
                </a:cubicBezTo>
                <a:cubicBezTo>
                  <a:pt x="6818" y="2241"/>
                  <a:pt x="6813" y="2235"/>
                  <a:pt x="6813" y="2235"/>
                </a:cubicBezTo>
                <a:cubicBezTo>
                  <a:pt x="6813" y="2223"/>
                  <a:pt x="6830" y="2218"/>
                  <a:pt x="6842" y="2218"/>
                </a:cubicBezTo>
                <a:cubicBezTo>
                  <a:pt x="6854" y="2218"/>
                  <a:pt x="6854" y="2218"/>
                  <a:pt x="6854" y="2218"/>
                </a:cubicBezTo>
                <a:cubicBezTo>
                  <a:pt x="6860" y="2218"/>
                  <a:pt x="6860" y="2218"/>
                  <a:pt x="6866" y="2218"/>
                </a:cubicBezTo>
                <a:cubicBezTo>
                  <a:pt x="6878" y="2218"/>
                  <a:pt x="6884" y="2218"/>
                  <a:pt x="6890" y="2218"/>
                </a:cubicBezTo>
                <a:cubicBezTo>
                  <a:pt x="6890" y="2206"/>
                  <a:pt x="6890" y="2206"/>
                  <a:pt x="6890" y="2194"/>
                </a:cubicBezTo>
                <a:lnTo>
                  <a:pt x="6890" y="2188"/>
                </a:lnTo>
                <a:cubicBezTo>
                  <a:pt x="6890" y="2182"/>
                  <a:pt x="6895" y="2176"/>
                  <a:pt x="6895" y="2176"/>
                </a:cubicBezTo>
                <a:cubicBezTo>
                  <a:pt x="6901" y="2170"/>
                  <a:pt x="6901" y="2170"/>
                  <a:pt x="6907" y="2164"/>
                </a:cubicBezTo>
                <a:cubicBezTo>
                  <a:pt x="6913" y="2164"/>
                  <a:pt x="6919" y="2164"/>
                  <a:pt x="6919" y="2164"/>
                </a:cubicBezTo>
                <a:cubicBezTo>
                  <a:pt x="6925" y="2164"/>
                  <a:pt x="6925" y="2158"/>
                  <a:pt x="6931" y="2158"/>
                </a:cubicBezTo>
                <a:cubicBezTo>
                  <a:pt x="6931" y="2099"/>
                  <a:pt x="6931" y="2099"/>
                  <a:pt x="6931" y="2099"/>
                </a:cubicBezTo>
                <a:cubicBezTo>
                  <a:pt x="6937" y="2093"/>
                  <a:pt x="6943" y="2093"/>
                  <a:pt x="6943" y="2087"/>
                </a:cubicBezTo>
                <a:cubicBezTo>
                  <a:pt x="6943" y="2081"/>
                  <a:pt x="6943" y="2075"/>
                  <a:pt x="6943" y="2069"/>
                </a:cubicBezTo>
                <a:cubicBezTo>
                  <a:pt x="6937" y="2063"/>
                  <a:pt x="6937" y="2063"/>
                  <a:pt x="6937" y="2057"/>
                </a:cubicBezTo>
                <a:cubicBezTo>
                  <a:pt x="6931" y="2052"/>
                  <a:pt x="6937" y="2052"/>
                  <a:pt x="6931" y="2046"/>
                </a:cubicBezTo>
                <a:cubicBezTo>
                  <a:pt x="6931" y="2040"/>
                  <a:pt x="6919" y="2046"/>
                  <a:pt x="6919" y="2040"/>
                </a:cubicBezTo>
                <a:cubicBezTo>
                  <a:pt x="6919" y="2034"/>
                  <a:pt x="6919" y="2028"/>
                  <a:pt x="6925" y="2022"/>
                </a:cubicBezTo>
                <a:cubicBezTo>
                  <a:pt x="6931" y="2022"/>
                  <a:pt x="6937" y="2022"/>
                  <a:pt x="6937" y="2022"/>
                </a:cubicBezTo>
                <a:cubicBezTo>
                  <a:pt x="6943" y="2022"/>
                  <a:pt x="6955" y="2022"/>
                  <a:pt x="6961" y="2022"/>
                </a:cubicBezTo>
                <a:cubicBezTo>
                  <a:pt x="6967" y="2016"/>
                  <a:pt x="6967" y="2016"/>
                  <a:pt x="6973" y="2016"/>
                </a:cubicBezTo>
                <a:cubicBezTo>
                  <a:pt x="6979" y="2010"/>
                  <a:pt x="6979" y="2010"/>
                  <a:pt x="6984" y="2004"/>
                </a:cubicBezTo>
                <a:cubicBezTo>
                  <a:pt x="6984" y="2004"/>
                  <a:pt x="6984" y="1998"/>
                  <a:pt x="6984" y="1992"/>
                </a:cubicBezTo>
                <a:cubicBezTo>
                  <a:pt x="6984" y="1992"/>
                  <a:pt x="6984" y="1986"/>
                  <a:pt x="6984" y="1980"/>
                </a:cubicBezTo>
                <a:cubicBezTo>
                  <a:pt x="6984" y="1980"/>
                  <a:pt x="6984" y="1975"/>
                  <a:pt x="6984" y="1968"/>
                </a:cubicBezTo>
                <a:cubicBezTo>
                  <a:pt x="7056" y="1968"/>
                  <a:pt x="7056" y="1968"/>
                  <a:pt x="7056" y="1968"/>
                </a:cubicBezTo>
                <a:cubicBezTo>
                  <a:pt x="7056" y="1957"/>
                  <a:pt x="7056" y="1951"/>
                  <a:pt x="7056" y="1939"/>
                </a:cubicBezTo>
                <a:cubicBezTo>
                  <a:pt x="7056" y="1933"/>
                  <a:pt x="7056" y="1933"/>
                  <a:pt x="7056" y="1927"/>
                </a:cubicBezTo>
                <a:cubicBezTo>
                  <a:pt x="7097" y="1927"/>
                  <a:pt x="7097" y="1927"/>
                  <a:pt x="7097" y="1927"/>
                </a:cubicBezTo>
                <a:cubicBezTo>
                  <a:pt x="7097" y="1939"/>
                  <a:pt x="7091" y="1951"/>
                  <a:pt x="7097" y="1963"/>
                </a:cubicBezTo>
                <a:cubicBezTo>
                  <a:pt x="7097" y="1968"/>
                  <a:pt x="7097" y="1968"/>
                  <a:pt x="7097" y="1975"/>
                </a:cubicBezTo>
                <a:cubicBezTo>
                  <a:pt x="7103" y="1975"/>
                  <a:pt x="7109" y="1975"/>
                  <a:pt x="7121" y="1975"/>
                </a:cubicBezTo>
                <a:cubicBezTo>
                  <a:pt x="7127" y="1975"/>
                  <a:pt x="7127" y="1975"/>
                  <a:pt x="7133" y="1975"/>
                </a:cubicBezTo>
                <a:cubicBezTo>
                  <a:pt x="7145" y="1975"/>
                  <a:pt x="7150" y="1963"/>
                  <a:pt x="7162" y="1957"/>
                </a:cubicBezTo>
                <a:cubicBezTo>
                  <a:pt x="7168" y="1951"/>
                  <a:pt x="7168" y="1945"/>
                  <a:pt x="7174" y="1945"/>
                </a:cubicBezTo>
                <a:cubicBezTo>
                  <a:pt x="7180" y="1939"/>
                  <a:pt x="7180" y="1933"/>
                  <a:pt x="7186" y="1933"/>
                </a:cubicBezTo>
                <a:cubicBezTo>
                  <a:pt x="7192" y="1927"/>
                  <a:pt x="7192" y="1927"/>
                  <a:pt x="7198" y="1927"/>
                </a:cubicBezTo>
                <a:cubicBezTo>
                  <a:pt x="7210" y="1927"/>
                  <a:pt x="7210" y="1927"/>
                  <a:pt x="7210" y="1927"/>
                </a:cubicBezTo>
                <a:cubicBezTo>
                  <a:pt x="7216" y="1927"/>
                  <a:pt x="7222" y="1927"/>
                  <a:pt x="7234" y="1927"/>
                </a:cubicBezTo>
                <a:cubicBezTo>
                  <a:pt x="7234" y="1927"/>
                  <a:pt x="7239" y="1921"/>
                  <a:pt x="7245" y="1921"/>
                </a:cubicBezTo>
                <a:cubicBezTo>
                  <a:pt x="7245" y="1915"/>
                  <a:pt x="7251" y="1921"/>
                  <a:pt x="7257" y="1915"/>
                </a:cubicBezTo>
                <a:cubicBezTo>
                  <a:pt x="7257" y="1915"/>
                  <a:pt x="7251" y="1909"/>
                  <a:pt x="7257" y="1903"/>
                </a:cubicBezTo>
                <a:cubicBezTo>
                  <a:pt x="7263" y="1891"/>
                  <a:pt x="7263" y="1891"/>
                  <a:pt x="7263" y="1891"/>
                </a:cubicBezTo>
                <a:lnTo>
                  <a:pt x="7269" y="1886"/>
                </a:lnTo>
                <a:cubicBezTo>
                  <a:pt x="7275" y="1880"/>
                  <a:pt x="7281" y="1880"/>
                  <a:pt x="7281" y="1880"/>
                </a:cubicBezTo>
                <a:cubicBezTo>
                  <a:pt x="7287" y="1874"/>
                  <a:pt x="7293" y="1874"/>
                  <a:pt x="7293" y="1874"/>
                </a:cubicBezTo>
                <a:cubicBezTo>
                  <a:pt x="7299" y="1868"/>
                  <a:pt x="7299" y="1862"/>
                  <a:pt x="7299" y="1862"/>
                </a:cubicBezTo>
                <a:cubicBezTo>
                  <a:pt x="7305" y="1856"/>
                  <a:pt x="7305" y="1850"/>
                  <a:pt x="7311" y="1850"/>
                </a:cubicBezTo>
                <a:cubicBezTo>
                  <a:pt x="7311" y="1844"/>
                  <a:pt x="7316" y="1850"/>
                  <a:pt x="7322" y="1844"/>
                </a:cubicBezTo>
                <a:cubicBezTo>
                  <a:pt x="7328" y="1838"/>
                  <a:pt x="7328" y="1832"/>
                  <a:pt x="7334" y="1820"/>
                </a:cubicBezTo>
                <a:cubicBezTo>
                  <a:pt x="7334" y="1820"/>
                  <a:pt x="7334" y="1814"/>
                  <a:pt x="7340" y="1809"/>
                </a:cubicBezTo>
                <a:cubicBezTo>
                  <a:pt x="7340" y="1809"/>
                  <a:pt x="7346" y="1809"/>
                  <a:pt x="7352" y="1809"/>
                </a:cubicBezTo>
                <a:cubicBezTo>
                  <a:pt x="7358" y="1809"/>
                  <a:pt x="7358" y="1809"/>
                  <a:pt x="7364" y="1802"/>
                </a:cubicBezTo>
                <a:cubicBezTo>
                  <a:pt x="7364" y="1802"/>
                  <a:pt x="7364" y="1797"/>
                  <a:pt x="7364" y="1791"/>
                </a:cubicBezTo>
                <a:cubicBezTo>
                  <a:pt x="7364" y="1785"/>
                  <a:pt x="7370" y="1785"/>
                  <a:pt x="7370" y="1779"/>
                </a:cubicBezTo>
                <a:cubicBezTo>
                  <a:pt x="7376" y="1779"/>
                  <a:pt x="7382" y="1779"/>
                  <a:pt x="7382" y="1779"/>
                </a:cubicBezTo>
                <a:cubicBezTo>
                  <a:pt x="7388" y="1773"/>
                  <a:pt x="7393" y="1773"/>
                  <a:pt x="7393" y="1767"/>
                </a:cubicBezTo>
                <a:cubicBezTo>
                  <a:pt x="7400" y="1755"/>
                  <a:pt x="7393" y="1743"/>
                  <a:pt x="7393" y="1731"/>
                </a:cubicBezTo>
                <a:close/>
                <a:moveTo>
                  <a:pt x="4281" y="848"/>
                </a:moveTo>
                <a:lnTo>
                  <a:pt x="4281" y="848"/>
                </a:lnTo>
                <a:cubicBezTo>
                  <a:pt x="4322" y="889"/>
                  <a:pt x="4322" y="889"/>
                  <a:pt x="4322" y="889"/>
                </a:cubicBezTo>
                <a:cubicBezTo>
                  <a:pt x="4370" y="907"/>
                  <a:pt x="4370" y="907"/>
                  <a:pt x="4370" y="907"/>
                </a:cubicBezTo>
                <a:cubicBezTo>
                  <a:pt x="4423" y="889"/>
                  <a:pt x="4423" y="889"/>
                  <a:pt x="4423" y="889"/>
                </a:cubicBezTo>
                <a:cubicBezTo>
                  <a:pt x="4423" y="889"/>
                  <a:pt x="4423" y="877"/>
                  <a:pt x="4447" y="889"/>
                </a:cubicBezTo>
                <a:cubicBezTo>
                  <a:pt x="4470" y="895"/>
                  <a:pt x="4482" y="901"/>
                  <a:pt x="4494" y="901"/>
                </a:cubicBezTo>
                <a:cubicBezTo>
                  <a:pt x="4512" y="901"/>
                  <a:pt x="4536" y="913"/>
                  <a:pt x="4536" y="901"/>
                </a:cubicBezTo>
                <a:cubicBezTo>
                  <a:pt x="4542" y="889"/>
                  <a:pt x="4571" y="877"/>
                  <a:pt x="4571" y="877"/>
                </a:cubicBezTo>
                <a:cubicBezTo>
                  <a:pt x="4571" y="877"/>
                  <a:pt x="4595" y="895"/>
                  <a:pt x="4607" y="895"/>
                </a:cubicBezTo>
                <a:cubicBezTo>
                  <a:pt x="4619" y="895"/>
                  <a:pt x="4642" y="901"/>
                  <a:pt x="4648" y="895"/>
                </a:cubicBezTo>
                <a:cubicBezTo>
                  <a:pt x="4660" y="889"/>
                  <a:pt x="4654" y="889"/>
                  <a:pt x="4672" y="889"/>
                </a:cubicBezTo>
                <a:cubicBezTo>
                  <a:pt x="4720" y="889"/>
                  <a:pt x="4720" y="889"/>
                  <a:pt x="4720" y="889"/>
                </a:cubicBezTo>
                <a:cubicBezTo>
                  <a:pt x="4725" y="901"/>
                  <a:pt x="4702" y="919"/>
                  <a:pt x="4714" y="925"/>
                </a:cubicBezTo>
                <a:cubicBezTo>
                  <a:pt x="4755" y="931"/>
                  <a:pt x="4773" y="919"/>
                  <a:pt x="4773" y="919"/>
                </a:cubicBezTo>
                <a:cubicBezTo>
                  <a:pt x="4808" y="919"/>
                  <a:pt x="4808" y="919"/>
                  <a:pt x="4808" y="919"/>
                </a:cubicBezTo>
                <a:cubicBezTo>
                  <a:pt x="4856" y="901"/>
                  <a:pt x="4856" y="901"/>
                  <a:pt x="4856" y="901"/>
                </a:cubicBezTo>
                <a:cubicBezTo>
                  <a:pt x="4856" y="901"/>
                  <a:pt x="4856" y="889"/>
                  <a:pt x="4880" y="889"/>
                </a:cubicBezTo>
                <a:cubicBezTo>
                  <a:pt x="4897" y="889"/>
                  <a:pt x="4909" y="860"/>
                  <a:pt x="4909" y="860"/>
                </a:cubicBezTo>
                <a:cubicBezTo>
                  <a:pt x="4897" y="824"/>
                  <a:pt x="4897" y="824"/>
                  <a:pt x="4897" y="824"/>
                </a:cubicBezTo>
                <a:cubicBezTo>
                  <a:pt x="4856" y="848"/>
                  <a:pt x="4856" y="848"/>
                  <a:pt x="4856" y="848"/>
                </a:cubicBezTo>
                <a:cubicBezTo>
                  <a:pt x="4838" y="800"/>
                  <a:pt x="4838" y="800"/>
                  <a:pt x="4838" y="800"/>
                </a:cubicBezTo>
                <a:cubicBezTo>
                  <a:pt x="4886" y="795"/>
                  <a:pt x="4886" y="795"/>
                  <a:pt x="4886" y="795"/>
                </a:cubicBezTo>
                <a:cubicBezTo>
                  <a:pt x="4903" y="753"/>
                  <a:pt x="4903" y="753"/>
                  <a:pt x="4903" y="753"/>
                </a:cubicBezTo>
                <a:cubicBezTo>
                  <a:pt x="4886" y="718"/>
                  <a:pt x="4886" y="718"/>
                  <a:pt x="4886" y="718"/>
                </a:cubicBezTo>
                <a:cubicBezTo>
                  <a:pt x="4921" y="718"/>
                  <a:pt x="4921" y="718"/>
                  <a:pt x="4921" y="718"/>
                </a:cubicBezTo>
                <a:cubicBezTo>
                  <a:pt x="4980" y="723"/>
                  <a:pt x="4980" y="723"/>
                  <a:pt x="4980" y="723"/>
                </a:cubicBezTo>
                <a:cubicBezTo>
                  <a:pt x="4980" y="723"/>
                  <a:pt x="4998" y="723"/>
                  <a:pt x="5010" y="718"/>
                </a:cubicBezTo>
                <a:cubicBezTo>
                  <a:pt x="5016" y="706"/>
                  <a:pt x="5010" y="676"/>
                  <a:pt x="5010" y="676"/>
                </a:cubicBezTo>
                <a:cubicBezTo>
                  <a:pt x="5010" y="676"/>
                  <a:pt x="4957" y="646"/>
                  <a:pt x="4986" y="646"/>
                </a:cubicBezTo>
                <a:cubicBezTo>
                  <a:pt x="5034" y="646"/>
                  <a:pt x="5034" y="646"/>
                  <a:pt x="5034" y="646"/>
                </a:cubicBezTo>
                <a:cubicBezTo>
                  <a:pt x="5052" y="646"/>
                  <a:pt x="5063" y="652"/>
                  <a:pt x="5063" y="640"/>
                </a:cubicBezTo>
                <a:cubicBezTo>
                  <a:pt x="5063" y="623"/>
                  <a:pt x="5040" y="599"/>
                  <a:pt x="5040" y="599"/>
                </a:cubicBezTo>
                <a:cubicBezTo>
                  <a:pt x="5040" y="599"/>
                  <a:pt x="5010" y="599"/>
                  <a:pt x="4992" y="587"/>
                </a:cubicBezTo>
                <a:cubicBezTo>
                  <a:pt x="4980" y="575"/>
                  <a:pt x="4951" y="581"/>
                  <a:pt x="4951" y="581"/>
                </a:cubicBezTo>
                <a:cubicBezTo>
                  <a:pt x="4909" y="599"/>
                  <a:pt x="4909" y="599"/>
                  <a:pt x="4909" y="599"/>
                </a:cubicBezTo>
                <a:cubicBezTo>
                  <a:pt x="4880" y="617"/>
                  <a:pt x="4880" y="617"/>
                  <a:pt x="4880" y="617"/>
                </a:cubicBezTo>
                <a:cubicBezTo>
                  <a:pt x="4874" y="587"/>
                  <a:pt x="4874" y="587"/>
                  <a:pt x="4874" y="587"/>
                </a:cubicBezTo>
                <a:cubicBezTo>
                  <a:pt x="4915" y="575"/>
                  <a:pt x="4915" y="575"/>
                  <a:pt x="4915" y="575"/>
                </a:cubicBezTo>
                <a:cubicBezTo>
                  <a:pt x="4915" y="575"/>
                  <a:pt x="4909" y="563"/>
                  <a:pt x="4921" y="557"/>
                </a:cubicBezTo>
                <a:cubicBezTo>
                  <a:pt x="4933" y="557"/>
                  <a:pt x="4957" y="540"/>
                  <a:pt x="4957" y="540"/>
                </a:cubicBezTo>
                <a:cubicBezTo>
                  <a:pt x="4998" y="540"/>
                  <a:pt x="4998" y="540"/>
                  <a:pt x="4998" y="540"/>
                </a:cubicBezTo>
                <a:cubicBezTo>
                  <a:pt x="5016" y="563"/>
                  <a:pt x="5016" y="563"/>
                  <a:pt x="5016" y="563"/>
                </a:cubicBezTo>
                <a:cubicBezTo>
                  <a:pt x="5075" y="569"/>
                  <a:pt x="5075" y="569"/>
                  <a:pt x="5075" y="569"/>
                </a:cubicBezTo>
                <a:cubicBezTo>
                  <a:pt x="5075" y="569"/>
                  <a:pt x="5099" y="575"/>
                  <a:pt x="5111" y="563"/>
                </a:cubicBezTo>
                <a:cubicBezTo>
                  <a:pt x="5123" y="552"/>
                  <a:pt x="5152" y="534"/>
                  <a:pt x="5152" y="534"/>
                </a:cubicBezTo>
                <a:cubicBezTo>
                  <a:pt x="5105" y="498"/>
                  <a:pt x="5105" y="498"/>
                  <a:pt x="5105" y="498"/>
                </a:cubicBezTo>
                <a:cubicBezTo>
                  <a:pt x="5158" y="492"/>
                  <a:pt x="5158" y="492"/>
                  <a:pt x="5158" y="492"/>
                </a:cubicBezTo>
                <a:cubicBezTo>
                  <a:pt x="5182" y="522"/>
                  <a:pt x="5182" y="522"/>
                  <a:pt x="5182" y="522"/>
                </a:cubicBezTo>
                <a:cubicBezTo>
                  <a:pt x="5229" y="516"/>
                  <a:pt x="5229" y="516"/>
                  <a:pt x="5229" y="516"/>
                </a:cubicBezTo>
                <a:cubicBezTo>
                  <a:pt x="5283" y="498"/>
                  <a:pt x="5283" y="498"/>
                  <a:pt x="5283" y="498"/>
                </a:cubicBezTo>
                <a:cubicBezTo>
                  <a:pt x="5259" y="463"/>
                  <a:pt x="5259" y="463"/>
                  <a:pt x="5259" y="463"/>
                </a:cubicBezTo>
                <a:cubicBezTo>
                  <a:pt x="5224" y="445"/>
                  <a:pt x="5224" y="445"/>
                  <a:pt x="5224" y="445"/>
                </a:cubicBezTo>
                <a:cubicBezTo>
                  <a:pt x="5289" y="445"/>
                  <a:pt x="5289" y="445"/>
                  <a:pt x="5289" y="445"/>
                </a:cubicBezTo>
                <a:cubicBezTo>
                  <a:pt x="5330" y="445"/>
                  <a:pt x="5330" y="445"/>
                  <a:pt x="5330" y="445"/>
                </a:cubicBezTo>
                <a:cubicBezTo>
                  <a:pt x="5348" y="421"/>
                  <a:pt x="5348" y="421"/>
                  <a:pt x="5348" y="421"/>
                </a:cubicBezTo>
                <a:cubicBezTo>
                  <a:pt x="5401" y="409"/>
                  <a:pt x="5401" y="409"/>
                  <a:pt x="5401" y="409"/>
                </a:cubicBezTo>
                <a:cubicBezTo>
                  <a:pt x="5449" y="374"/>
                  <a:pt x="5449" y="374"/>
                  <a:pt x="5449" y="374"/>
                </a:cubicBezTo>
                <a:cubicBezTo>
                  <a:pt x="5449" y="374"/>
                  <a:pt x="5496" y="356"/>
                  <a:pt x="5508" y="356"/>
                </a:cubicBezTo>
                <a:cubicBezTo>
                  <a:pt x="5526" y="350"/>
                  <a:pt x="5561" y="320"/>
                  <a:pt x="5561" y="320"/>
                </a:cubicBezTo>
                <a:cubicBezTo>
                  <a:pt x="5615" y="314"/>
                  <a:pt x="5615" y="314"/>
                  <a:pt x="5615" y="314"/>
                </a:cubicBezTo>
                <a:cubicBezTo>
                  <a:pt x="5645" y="297"/>
                  <a:pt x="5645" y="297"/>
                  <a:pt x="5645" y="297"/>
                </a:cubicBezTo>
                <a:cubicBezTo>
                  <a:pt x="5621" y="267"/>
                  <a:pt x="5621" y="267"/>
                  <a:pt x="5621" y="267"/>
                </a:cubicBezTo>
                <a:cubicBezTo>
                  <a:pt x="5621" y="267"/>
                  <a:pt x="5591" y="285"/>
                  <a:pt x="5579" y="285"/>
                </a:cubicBezTo>
                <a:cubicBezTo>
                  <a:pt x="5573" y="285"/>
                  <a:pt x="5532" y="308"/>
                  <a:pt x="5520" y="297"/>
                </a:cubicBezTo>
                <a:cubicBezTo>
                  <a:pt x="5508" y="291"/>
                  <a:pt x="5520" y="285"/>
                  <a:pt x="5496" y="285"/>
                </a:cubicBezTo>
                <a:cubicBezTo>
                  <a:pt x="5472" y="285"/>
                  <a:pt x="5425" y="291"/>
                  <a:pt x="5425" y="291"/>
                </a:cubicBezTo>
                <a:cubicBezTo>
                  <a:pt x="5437" y="261"/>
                  <a:pt x="5437" y="261"/>
                  <a:pt x="5437" y="261"/>
                </a:cubicBezTo>
                <a:cubicBezTo>
                  <a:pt x="5490" y="255"/>
                  <a:pt x="5490" y="255"/>
                  <a:pt x="5490" y="255"/>
                </a:cubicBezTo>
                <a:cubicBezTo>
                  <a:pt x="5556" y="255"/>
                  <a:pt x="5556" y="255"/>
                  <a:pt x="5556" y="255"/>
                </a:cubicBezTo>
                <a:cubicBezTo>
                  <a:pt x="5615" y="255"/>
                  <a:pt x="5615" y="255"/>
                  <a:pt x="5615" y="255"/>
                </a:cubicBezTo>
                <a:cubicBezTo>
                  <a:pt x="5615" y="255"/>
                  <a:pt x="5650" y="237"/>
                  <a:pt x="5674" y="237"/>
                </a:cubicBezTo>
                <a:cubicBezTo>
                  <a:pt x="5698" y="237"/>
                  <a:pt x="5733" y="220"/>
                  <a:pt x="5733" y="220"/>
                </a:cubicBezTo>
                <a:cubicBezTo>
                  <a:pt x="5799" y="220"/>
                  <a:pt x="5799" y="220"/>
                  <a:pt x="5799" y="220"/>
                </a:cubicBezTo>
                <a:cubicBezTo>
                  <a:pt x="5799" y="220"/>
                  <a:pt x="5804" y="196"/>
                  <a:pt x="5811" y="184"/>
                </a:cubicBezTo>
                <a:cubicBezTo>
                  <a:pt x="5822" y="166"/>
                  <a:pt x="5804" y="148"/>
                  <a:pt x="5804" y="148"/>
                </a:cubicBezTo>
                <a:cubicBezTo>
                  <a:pt x="5751" y="160"/>
                  <a:pt x="5751" y="160"/>
                  <a:pt x="5751" y="160"/>
                </a:cubicBezTo>
                <a:cubicBezTo>
                  <a:pt x="5710" y="154"/>
                  <a:pt x="5710" y="154"/>
                  <a:pt x="5710" y="154"/>
                </a:cubicBezTo>
                <a:cubicBezTo>
                  <a:pt x="5698" y="125"/>
                  <a:pt x="5698" y="125"/>
                  <a:pt x="5698" y="125"/>
                </a:cubicBezTo>
                <a:cubicBezTo>
                  <a:pt x="5645" y="95"/>
                  <a:pt x="5645" y="95"/>
                  <a:pt x="5645" y="95"/>
                </a:cubicBezTo>
                <a:cubicBezTo>
                  <a:pt x="5597" y="107"/>
                  <a:pt x="5597" y="107"/>
                  <a:pt x="5597" y="107"/>
                </a:cubicBezTo>
                <a:cubicBezTo>
                  <a:pt x="5538" y="107"/>
                  <a:pt x="5538" y="107"/>
                  <a:pt x="5538" y="107"/>
                </a:cubicBezTo>
                <a:cubicBezTo>
                  <a:pt x="5472" y="125"/>
                  <a:pt x="5472" y="125"/>
                  <a:pt x="5472" y="125"/>
                </a:cubicBezTo>
                <a:cubicBezTo>
                  <a:pt x="5479" y="101"/>
                  <a:pt x="5479" y="101"/>
                  <a:pt x="5479" y="101"/>
                </a:cubicBezTo>
                <a:cubicBezTo>
                  <a:pt x="5425" y="95"/>
                  <a:pt x="5425" y="95"/>
                  <a:pt x="5425" y="95"/>
                </a:cubicBezTo>
                <a:cubicBezTo>
                  <a:pt x="5425" y="95"/>
                  <a:pt x="5390" y="107"/>
                  <a:pt x="5384" y="101"/>
                </a:cubicBezTo>
                <a:cubicBezTo>
                  <a:pt x="5378" y="89"/>
                  <a:pt x="5372" y="77"/>
                  <a:pt x="5372" y="77"/>
                </a:cubicBezTo>
                <a:cubicBezTo>
                  <a:pt x="5330" y="77"/>
                  <a:pt x="5330" y="77"/>
                  <a:pt x="5330" y="77"/>
                </a:cubicBezTo>
                <a:cubicBezTo>
                  <a:pt x="5301" y="59"/>
                  <a:pt x="5271" y="59"/>
                  <a:pt x="5271" y="59"/>
                </a:cubicBezTo>
                <a:cubicBezTo>
                  <a:pt x="5271" y="59"/>
                  <a:pt x="5271" y="107"/>
                  <a:pt x="5265" y="101"/>
                </a:cubicBezTo>
                <a:cubicBezTo>
                  <a:pt x="5253" y="101"/>
                  <a:pt x="5241" y="113"/>
                  <a:pt x="5229" y="101"/>
                </a:cubicBezTo>
                <a:cubicBezTo>
                  <a:pt x="5218" y="83"/>
                  <a:pt x="5224" y="77"/>
                  <a:pt x="5206" y="77"/>
                </a:cubicBezTo>
                <a:cubicBezTo>
                  <a:pt x="5188" y="77"/>
                  <a:pt x="5182" y="77"/>
                  <a:pt x="5170" y="77"/>
                </a:cubicBezTo>
                <a:cubicBezTo>
                  <a:pt x="5158" y="77"/>
                  <a:pt x="5158" y="107"/>
                  <a:pt x="5158" y="107"/>
                </a:cubicBezTo>
                <a:cubicBezTo>
                  <a:pt x="5140" y="125"/>
                  <a:pt x="5105" y="107"/>
                  <a:pt x="5105" y="107"/>
                </a:cubicBezTo>
                <a:cubicBezTo>
                  <a:pt x="5075" y="77"/>
                  <a:pt x="5052" y="77"/>
                  <a:pt x="5052" y="77"/>
                </a:cubicBezTo>
                <a:cubicBezTo>
                  <a:pt x="4998" y="71"/>
                  <a:pt x="4998" y="71"/>
                  <a:pt x="4998" y="71"/>
                </a:cubicBezTo>
                <a:cubicBezTo>
                  <a:pt x="4998" y="71"/>
                  <a:pt x="4957" y="59"/>
                  <a:pt x="4957" y="71"/>
                </a:cubicBezTo>
                <a:cubicBezTo>
                  <a:pt x="4945" y="101"/>
                  <a:pt x="4957" y="125"/>
                  <a:pt x="4957" y="125"/>
                </a:cubicBezTo>
                <a:cubicBezTo>
                  <a:pt x="4933" y="125"/>
                  <a:pt x="4933" y="125"/>
                  <a:pt x="4933" y="125"/>
                </a:cubicBezTo>
                <a:cubicBezTo>
                  <a:pt x="4897" y="107"/>
                  <a:pt x="4897" y="107"/>
                  <a:pt x="4897" y="107"/>
                </a:cubicBezTo>
                <a:cubicBezTo>
                  <a:pt x="4897" y="107"/>
                  <a:pt x="4891" y="95"/>
                  <a:pt x="4874" y="95"/>
                </a:cubicBezTo>
                <a:cubicBezTo>
                  <a:pt x="4820" y="95"/>
                  <a:pt x="4820" y="95"/>
                  <a:pt x="4820" y="95"/>
                </a:cubicBezTo>
                <a:cubicBezTo>
                  <a:pt x="4820" y="119"/>
                  <a:pt x="4820" y="119"/>
                  <a:pt x="4820" y="119"/>
                </a:cubicBezTo>
                <a:cubicBezTo>
                  <a:pt x="4773" y="119"/>
                  <a:pt x="4773" y="119"/>
                  <a:pt x="4773" y="119"/>
                </a:cubicBezTo>
                <a:cubicBezTo>
                  <a:pt x="4749" y="107"/>
                  <a:pt x="4702" y="113"/>
                  <a:pt x="4702" y="113"/>
                </a:cubicBezTo>
                <a:cubicBezTo>
                  <a:pt x="4684" y="131"/>
                  <a:pt x="4648" y="136"/>
                  <a:pt x="4648" y="136"/>
                </a:cubicBezTo>
                <a:cubicBezTo>
                  <a:pt x="4619" y="172"/>
                  <a:pt x="4619" y="172"/>
                  <a:pt x="4619" y="172"/>
                </a:cubicBezTo>
                <a:cubicBezTo>
                  <a:pt x="4684" y="172"/>
                  <a:pt x="4684" y="172"/>
                  <a:pt x="4684" y="172"/>
                </a:cubicBezTo>
                <a:cubicBezTo>
                  <a:pt x="4702" y="184"/>
                  <a:pt x="4767" y="202"/>
                  <a:pt x="4767" y="202"/>
                </a:cubicBezTo>
                <a:cubicBezTo>
                  <a:pt x="4767" y="202"/>
                  <a:pt x="4785" y="190"/>
                  <a:pt x="4791" y="202"/>
                </a:cubicBezTo>
                <a:cubicBezTo>
                  <a:pt x="4797" y="220"/>
                  <a:pt x="4802" y="237"/>
                  <a:pt x="4802" y="237"/>
                </a:cubicBezTo>
                <a:cubicBezTo>
                  <a:pt x="4802" y="237"/>
                  <a:pt x="4761" y="243"/>
                  <a:pt x="4749" y="231"/>
                </a:cubicBezTo>
                <a:cubicBezTo>
                  <a:pt x="4737" y="220"/>
                  <a:pt x="4725" y="208"/>
                  <a:pt x="4708" y="208"/>
                </a:cubicBezTo>
                <a:cubicBezTo>
                  <a:pt x="4648" y="208"/>
                  <a:pt x="4648" y="208"/>
                  <a:pt x="4648" y="208"/>
                </a:cubicBezTo>
                <a:cubicBezTo>
                  <a:pt x="4648" y="208"/>
                  <a:pt x="4613" y="202"/>
                  <a:pt x="4601" y="190"/>
                </a:cubicBezTo>
                <a:cubicBezTo>
                  <a:pt x="4595" y="184"/>
                  <a:pt x="4589" y="160"/>
                  <a:pt x="4571" y="160"/>
                </a:cubicBezTo>
                <a:cubicBezTo>
                  <a:pt x="4559" y="166"/>
                  <a:pt x="4530" y="166"/>
                  <a:pt x="4530" y="166"/>
                </a:cubicBezTo>
                <a:cubicBezTo>
                  <a:pt x="4494" y="148"/>
                  <a:pt x="4494" y="148"/>
                  <a:pt x="4494" y="148"/>
                </a:cubicBezTo>
                <a:cubicBezTo>
                  <a:pt x="4494" y="148"/>
                  <a:pt x="4482" y="142"/>
                  <a:pt x="4470" y="148"/>
                </a:cubicBezTo>
                <a:cubicBezTo>
                  <a:pt x="4441" y="154"/>
                  <a:pt x="4441" y="154"/>
                  <a:pt x="4441" y="154"/>
                </a:cubicBezTo>
                <a:cubicBezTo>
                  <a:pt x="4435" y="178"/>
                  <a:pt x="4435" y="178"/>
                  <a:pt x="4435" y="178"/>
                </a:cubicBezTo>
                <a:cubicBezTo>
                  <a:pt x="4435" y="178"/>
                  <a:pt x="4447" y="208"/>
                  <a:pt x="4435" y="208"/>
                </a:cubicBezTo>
                <a:cubicBezTo>
                  <a:pt x="4393" y="208"/>
                  <a:pt x="4393" y="208"/>
                  <a:pt x="4393" y="208"/>
                </a:cubicBezTo>
                <a:cubicBezTo>
                  <a:pt x="4346" y="196"/>
                  <a:pt x="4346" y="196"/>
                  <a:pt x="4346" y="196"/>
                </a:cubicBezTo>
                <a:cubicBezTo>
                  <a:pt x="4322" y="196"/>
                  <a:pt x="4322" y="196"/>
                  <a:pt x="4322" y="196"/>
                </a:cubicBezTo>
                <a:cubicBezTo>
                  <a:pt x="4293" y="220"/>
                  <a:pt x="4293" y="220"/>
                  <a:pt x="4293" y="220"/>
                </a:cubicBezTo>
                <a:cubicBezTo>
                  <a:pt x="4293" y="220"/>
                  <a:pt x="4281" y="231"/>
                  <a:pt x="4269" y="231"/>
                </a:cubicBezTo>
                <a:cubicBezTo>
                  <a:pt x="4239" y="231"/>
                  <a:pt x="4239" y="231"/>
                  <a:pt x="4239" y="231"/>
                </a:cubicBezTo>
                <a:cubicBezTo>
                  <a:pt x="4210" y="231"/>
                  <a:pt x="4210" y="231"/>
                  <a:pt x="4210" y="231"/>
                </a:cubicBezTo>
                <a:cubicBezTo>
                  <a:pt x="4204" y="255"/>
                  <a:pt x="4204" y="255"/>
                  <a:pt x="4204" y="255"/>
                </a:cubicBezTo>
                <a:cubicBezTo>
                  <a:pt x="4144" y="249"/>
                  <a:pt x="4144" y="249"/>
                  <a:pt x="4144" y="249"/>
                </a:cubicBezTo>
                <a:cubicBezTo>
                  <a:pt x="4144" y="273"/>
                  <a:pt x="4144" y="273"/>
                  <a:pt x="4144" y="273"/>
                </a:cubicBezTo>
                <a:cubicBezTo>
                  <a:pt x="4180" y="279"/>
                  <a:pt x="4180" y="279"/>
                  <a:pt x="4180" y="279"/>
                </a:cubicBezTo>
                <a:cubicBezTo>
                  <a:pt x="4198" y="285"/>
                  <a:pt x="4198" y="285"/>
                  <a:pt x="4198" y="285"/>
                </a:cubicBezTo>
                <a:cubicBezTo>
                  <a:pt x="4198" y="320"/>
                  <a:pt x="4198" y="320"/>
                  <a:pt x="4198" y="320"/>
                </a:cubicBezTo>
                <a:cubicBezTo>
                  <a:pt x="4245" y="332"/>
                  <a:pt x="4245" y="332"/>
                  <a:pt x="4245" y="332"/>
                </a:cubicBezTo>
                <a:cubicBezTo>
                  <a:pt x="4245" y="332"/>
                  <a:pt x="4257" y="362"/>
                  <a:pt x="4269" y="362"/>
                </a:cubicBezTo>
                <a:cubicBezTo>
                  <a:pt x="4281" y="362"/>
                  <a:pt x="4316" y="362"/>
                  <a:pt x="4316" y="362"/>
                </a:cubicBezTo>
                <a:cubicBezTo>
                  <a:pt x="4316" y="362"/>
                  <a:pt x="4340" y="374"/>
                  <a:pt x="4358" y="379"/>
                </a:cubicBezTo>
                <a:cubicBezTo>
                  <a:pt x="4381" y="386"/>
                  <a:pt x="4411" y="386"/>
                  <a:pt x="4411" y="386"/>
                </a:cubicBezTo>
                <a:cubicBezTo>
                  <a:pt x="4435" y="350"/>
                  <a:pt x="4435" y="350"/>
                  <a:pt x="4435" y="350"/>
                </a:cubicBezTo>
                <a:cubicBezTo>
                  <a:pt x="4453" y="332"/>
                  <a:pt x="4453" y="332"/>
                  <a:pt x="4453" y="332"/>
                </a:cubicBezTo>
                <a:cubicBezTo>
                  <a:pt x="4512" y="326"/>
                  <a:pt x="4512" y="326"/>
                  <a:pt x="4512" y="326"/>
                </a:cubicBezTo>
                <a:cubicBezTo>
                  <a:pt x="4476" y="350"/>
                  <a:pt x="4476" y="350"/>
                  <a:pt x="4476" y="350"/>
                </a:cubicBezTo>
                <a:cubicBezTo>
                  <a:pt x="4447" y="386"/>
                  <a:pt x="4447" y="386"/>
                  <a:pt x="4447" y="386"/>
                </a:cubicBezTo>
                <a:cubicBezTo>
                  <a:pt x="4453" y="415"/>
                  <a:pt x="4453" y="415"/>
                  <a:pt x="4453" y="415"/>
                </a:cubicBezTo>
                <a:cubicBezTo>
                  <a:pt x="4536" y="415"/>
                  <a:pt x="4536" y="415"/>
                  <a:pt x="4536" y="415"/>
                </a:cubicBezTo>
                <a:cubicBezTo>
                  <a:pt x="4536" y="415"/>
                  <a:pt x="4601" y="433"/>
                  <a:pt x="4607" y="415"/>
                </a:cubicBezTo>
                <a:cubicBezTo>
                  <a:pt x="4613" y="397"/>
                  <a:pt x="4631" y="379"/>
                  <a:pt x="4631" y="379"/>
                </a:cubicBezTo>
                <a:cubicBezTo>
                  <a:pt x="4684" y="386"/>
                  <a:pt x="4684" y="386"/>
                  <a:pt x="4684" y="386"/>
                </a:cubicBezTo>
                <a:cubicBezTo>
                  <a:pt x="4755" y="386"/>
                  <a:pt x="4755" y="386"/>
                  <a:pt x="4755" y="386"/>
                </a:cubicBezTo>
                <a:cubicBezTo>
                  <a:pt x="4802" y="356"/>
                  <a:pt x="4802" y="356"/>
                  <a:pt x="4802" y="356"/>
                </a:cubicBezTo>
                <a:cubicBezTo>
                  <a:pt x="4826" y="332"/>
                  <a:pt x="4826" y="332"/>
                  <a:pt x="4826" y="332"/>
                </a:cubicBezTo>
                <a:cubicBezTo>
                  <a:pt x="4832" y="314"/>
                  <a:pt x="4832" y="314"/>
                  <a:pt x="4832" y="314"/>
                </a:cubicBezTo>
                <a:cubicBezTo>
                  <a:pt x="4832" y="314"/>
                  <a:pt x="4856" y="314"/>
                  <a:pt x="4874" y="314"/>
                </a:cubicBezTo>
                <a:cubicBezTo>
                  <a:pt x="4886" y="308"/>
                  <a:pt x="4921" y="291"/>
                  <a:pt x="4921" y="291"/>
                </a:cubicBezTo>
                <a:cubicBezTo>
                  <a:pt x="4969" y="297"/>
                  <a:pt x="4969" y="297"/>
                  <a:pt x="4969" y="297"/>
                </a:cubicBezTo>
                <a:cubicBezTo>
                  <a:pt x="4939" y="302"/>
                  <a:pt x="4939" y="302"/>
                  <a:pt x="4939" y="302"/>
                </a:cubicBezTo>
                <a:cubicBezTo>
                  <a:pt x="4891" y="326"/>
                  <a:pt x="4891" y="326"/>
                  <a:pt x="4891" y="326"/>
                </a:cubicBezTo>
                <a:cubicBezTo>
                  <a:pt x="4868" y="338"/>
                  <a:pt x="4844" y="356"/>
                  <a:pt x="4844" y="356"/>
                </a:cubicBezTo>
                <a:cubicBezTo>
                  <a:pt x="4909" y="350"/>
                  <a:pt x="4909" y="350"/>
                  <a:pt x="4909" y="350"/>
                </a:cubicBezTo>
                <a:cubicBezTo>
                  <a:pt x="4939" y="356"/>
                  <a:pt x="4939" y="356"/>
                  <a:pt x="4939" y="356"/>
                </a:cubicBezTo>
                <a:cubicBezTo>
                  <a:pt x="4963" y="362"/>
                  <a:pt x="4963" y="362"/>
                  <a:pt x="4963" y="362"/>
                </a:cubicBezTo>
                <a:cubicBezTo>
                  <a:pt x="4945" y="386"/>
                  <a:pt x="4945" y="386"/>
                  <a:pt x="4945" y="386"/>
                </a:cubicBezTo>
                <a:cubicBezTo>
                  <a:pt x="4880" y="386"/>
                  <a:pt x="4880" y="386"/>
                  <a:pt x="4880" y="386"/>
                </a:cubicBezTo>
                <a:cubicBezTo>
                  <a:pt x="4832" y="386"/>
                  <a:pt x="4832" y="386"/>
                  <a:pt x="4832" y="386"/>
                </a:cubicBezTo>
                <a:cubicBezTo>
                  <a:pt x="4802" y="397"/>
                  <a:pt x="4802" y="397"/>
                  <a:pt x="4802" y="397"/>
                </a:cubicBezTo>
                <a:cubicBezTo>
                  <a:pt x="4773" y="403"/>
                  <a:pt x="4773" y="403"/>
                  <a:pt x="4773" y="403"/>
                </a:cubicBezTo>
                <a:cubicBezTo>
                  <a:pt x="4749" y="415"/>
                  <a:pt x="4708" y="415"/>
                  <a:pt x="4708" y="415"/>
                </a:cubicBezTo>
                <a:cubicBezTo>
                  <a:pt x="4672" y="415"/>
                  <a:pt x="4672" y="415"/>
                  <a:pt x="4672" y="415"/>
                </a:cubicBezTo>
                <a:cubicBezTo>
                  <a:pt x="4636" y="421"/>
                  <a:pt x="4636" y="421"/>
                  <a:pt x="4636" y="421"/>
                </a:cubicBezTo>
                <a:cubicBezTo>
                  <a:pt x="4636" y="451"/>
                  <a:pt x="4636" y="451"/>
                  <a:pt x="4636" y="451"/>
                </a:cubicBezTo>
                <a:cubicBezTo>
                  <a:pt x="4672" y="457"/>
                  <a:pt x="4672" y="457"/>
                  <a:pt x="4672" y="457"/>
                </a:cubicBezTo>
                <a:cubicBezTo>
                  <a:pt x="4702" y="474"/>
                  <a:pt x="4702" y="474"/>
                  <a:pt x="4702" y="474"/>
                </a:cubicBezTo>
                <a:cubicBezTo>
                  <a:pt x="4714" y="504"/>
                  <a:pt x="4714" y="504"/>
                  <a:pt x="4714" y="504"/>
                </a:cubicBezTo>
                <a:cubicBezTo>
                  <a:pt x="4791" y="516"/>
                  <a:pt x="4791" y="516"/>
                  <a:pt x="4791" y="516"/>
                </a:cubicBezTo>
                <a:cubicBezTo>
                  <a:pt x="4755" y="522"/>
                  <a:pt x="4755" y="522"/>
                  <a:pt x="4755" y="522"/>
                </a:cubicBezTo>
                <a:cubicBezTo>
                  <a:pt x="4714" y="516"/>
                  <a:pt x="4714" y="516"/>
                  <a:pt x="4714" y="516"/>
                </a:cubicBezTo>
                <a:cubicBezTo>
                  <a:pt x="4714" y="516"/>
                  <a:pt x="4672" y="492"/>
                  <a:pt x="4654" y="486"/>
                </a:cubicBezTo>
                <a:cubicBezTo>
                  <a:pt x="4642" y="480"/>
                  <a:pt x="4595" y="445"/>
                  <a:pt x="4583" y="445"/>
                </a:cubicBezTo>
                <a:cubicBezTo>
                  <a:pt x="4571" y="445"/>
                  <a:pt x="4524" y="439"/>
                  <a:pt x="4524" y="439"/>
                </a:cubicBezTo>
                <a:cubicBezTo>
                  <a:pt x="4441" y="433"/>
                  <a:pt x="4441" y="433"/>
                  <a:pt x="4441" y="433"/>
                </a:cubicBezTo>
                <a:cubicBezTo>
                  <a:pt x="4435" y="463"/>
                  <a:pt x="4435" y="463"/>
                  <a:pt x="4435" y="463"/>
                </a:cubicBezTo>
                <a:cubicBezTo>
                  <a:pt x="4465" y="492"/>
                  <a:pt x="4465" y="492"/>
                  <a:pt x="4465" y="492"/>
                </a:cubicBezTo>
                <a:cubicBezTo>
                  <a:pt x="4506" y="522"/>
                  <a:pt x="4506" y="522"/>
                  <a:pt x="4506" y="522"/>
                </a:cubicBezTo>
                <a:cubicBezTo>
                  <a:pt x="4583" y="569"/>
                  <a:pt x="4583" y="569"/>
                  <a:pt x="4583" y="569"/>
                </a:cubicBezTo>
                <a:cubicBezTo>
                  <a:pt x="4631" y="587"/>
                  <a:pt x="4631" y="587"/>
                  <a:pt x="4631" y="587"/>
                </a:cubicBezTo>
                <a:cubicBezTo>
                  <a:pt x="4708" y="593"/>
                  <a:pt x="4708" y="593"/>
                  <a:pt x="4708" y="593"/>
                </a:cubicBezTo>
                <a:cubicBezTo>
                  <a:pt x="4708" y="593"/>
                  <a:pt x="4702" y="617"/>
                  <a:pt x="4690" y="617"/>
                </a:cubicBezTo>
                <a:cubicBezTo>
                  <a:pt x="4678" y="617"/>
                  <a:pt x="4660" y="611"/>
                  <a:pt x="4660" y="629"/>
                </a:cubicBezTo>
                <a:cubicBezTo>
                  <a:pt x="4660" y="658"/>
                  <a:pt x="4660" y="658"/>
                  <a:pt x="4660" y="658"/>
                </a:cubicBezTo>
                <a:cubicBezTo>
                  <a:pt x="4589" y="611"/>
                  <a:pt x="4589" y="611"/>
                  <a:pt x="4589" y="611"/>
                </a:cubicBezTo>
                <a:cubicBezTo>
                  <a:pt x="4542" y="605"/>
                  <a:pt x="4542" y="605"/>
                  <a:pt x="4542" y="605"/>
                </a:cubicBezTo>
                <a:cubicBezTo>
                  <a:pt x="4482" y="611"/>
                  <a:pt x="4482" y="611"/>
                  <a:pt x="4482" y="611"/>
                </a:cubicBezTo>
                <a:cubicBezTo>
                  <a:pt x="4435" y="617"/>
                  <a:pt x="4435" y="617"/>
                  <a:pt x="4435" y="617"/>
                </a:cubicBezTo>
                <a:cubicBezTo>
                  <a:pt x="4393" y="640"/>
                  <a:pt x="4393" y="640"/>
                  <a:pt x="4393" y="640"/>
                </a:cubicBezTo>
                <a:cubicBezTo>
                  <a:pt x="4393" y="670"/>
                  <a:pt x="4393" y="670"/>
                  <a:pt x="4393" y="670"/>
                </a:cubicBezTo>
                <a:cubicBezTo>
                  <a:pt x="4399" y="694"/>
                  <a:pt x="4399" y="694"/>
                  <a:pt x="4399" y="694"/>
                </a:cubicBezTo>
                <a:cubicBezTo>
                  <a:pt x="4441" y="700"/>
                  <a:pt x="4441" y="700"/>
                  <a:pt x="4441" y="700"/>
                </a:cubicBezTo>
                <a:cubicBezTo>
                  <a:pt x="4500" y="700"/>
                  <a:pt x="4500" y="700"/>
                  <a:pt x="4500" y="700"/>
                </a:cubicBezTo>
                <a:cubicBezTo>
                  <a:pt x="4554" y="694"/>
                  <a:pt x="4554" y="694"/>
                  <a:pt x="4554" y="694"/>
                </a:cubicBezTo>
                <a:cubicBezTo>
                  <a:pt x="4506" y="723"/>
                  <a:pt x="4506" y="723"/>
                  <a:pt x="4506" y="723"/>
                </a:cubicBezTo>
                <a:cubicBezTo>
                  <a:pt x="4518" y="753"/>
                  <a:pt x="4518" y="753"/>
                  <a:pt x="4518" y="753"/>
                </a:cubicBezTo>
                <a:cubicBezTo>
                  <a:pt x="4565" y="759"/>
                  <a:pt x="4565" y="759"/>
                  <a:pt x="4565" y="759"/>
                </a:cubicBezTo>
                <a:cubicBezTo>
                  <a:pt x="4565" y="759"/>
                  <a:pt x="4577" y="753"/>
                  <a:pt x="4595" y="747"/>
                </a:cubicBezTo>
                <a:cubicBezTo>
                  <a:pt x="4607" y="741"/>
                  <a:pt x="4654" y="711"/>
                  <a:pt x="4654" y="711"/>
                </a:cubicBezTo>
                <a:cubicBezTo>
                  <a:pt x="4636" y="747"/>
                  <a:pt x="4636" y="747"/>
                  <a:pt x="4636" y="747"/>
                </a:cubicBezTo>
                <a:cubicBezTo>
                  <a:pt x="4589" y="777"/>
                  <a:pt x="4589" y="777"/>
                  <a:pt x="4589" y="777"/>
                </a:cubicBezTo>
                <a:cubicBezTo>
                  <a:pt x="4542" y="783"/>
                  <a:pt x="4542" y="783"/>
                  <a:pt x="4542" y="783"/>
                </a:cubicBezTo>
                <a:cubicBezTo>
                  <a:pt x="4459" y="753"/>
                  <a:pt x="4459" y="753"/>
                  <a:pt x="4459" y="753"/>
                </a:cubicBezTo>
                <a:cubicBezTo>
                  <a:pt x="4459" y="753"/>
                  <a:pt x="4423" y="723"/>
                  <a:pt x="4399" y="723"/>
                </a:cubicBezTo>
                <a:cubicBezTo>
                  <a:pt x="4376" y="723"/>
                  <a:pt x="4334" y="729"/>
                  <a:pt x="4334" y="729"/>
                </a:cubicBezTo>
                <a:cubicBezTo>
                  <a:pt x="4346" y="759"/>
                  <a:pt x="4346" y="759"/>
                  <a:pt x="4346" y="759"/>
                </a:cubicBezTo>
                <a:cubicBezTo>
                  <a:pt x="4346" y="759"/>
                  <a:pt x="4370" y="806"/>
                  <a:pt x="4358" y="806"/>
                </a:cubicBezTo>
                <a:cubicBezTo>
                  <a:pt x="4346" y="806"/>
                  <a:pt x="4304" y="812"/>
                  <a:pt x="4304" y="812"/>
                </a:cubicBezTo>
                <a:lnTo>
                  <a:pt x="4281" y="848"/>
                </a:lnTo>
                <a:close/>
                <a:moveTo>
                  <a:pt x="4304" y="658"/>
                </a:moveTo>
                <a:lnTo>
                  <a:pt x="4304" y="658"/>
                </a:lnTo>
                <a:cubicBezTo>
                  <a:pt x="4334" y="658"/>
                  <a:pt x="4334" y="658"/>
                  <a:pt x="4334" y="658"/>
                </a:cubicBezTo>
                <a:cubicBezTo>
                  <a:pt x="4346" y="658"/>
                  <a:pt x="4340" y="634"/>
                  <a:pt x="4340" y="634"/>
                </a:cubicBezTo>
                <a:cubicBezTo>
                  <a:pt x="4340" y="599"/>
                  <a:pt x="4340" y="599"/>
                  <a:pt x="4340" y="599"/>
                </a:cubicBezTo>
                <a:cubicBezTo>
                  <a:pt x="4388" y="617"/>
                  <a:pt x="4388" y="617"/>
                  <a:pt x="4388" y="617"/>
                </a:cubicBezTo>
                <a:cubicBezTo>
                  <a:pt x="4388" y="617"/>
                  <a:pt x="4399" y="605"/>
                  <a:pt x="4399" y="593"/>
                </a:cubicBezTo>
                <a:cubicBezTo>
                  <a:pt x="4399" y="581"/>
                  <a:pt x="4435" y="593"/>
                  <a:pt x="4453" y="599"/>
                </a:cubicBezTo>
                <a:cubicBezTo>
                  <a:pt x="4465" y="605"/>
                  <a:pt x="4488" y="569"/>
                  <a:pt x="4488" y="569"/>
                </a:cubicBezTo>
                <a:cubicBezTo>
                  <a:pt x="4488" y="528"/>
                  <a:pt x="4488" y="528"/>
                  <a:pt x="4488" y="528"/>
                </a:cubicBezTo>
                <a:cubicBezTo>
                  <a:pt x="4429" y="510"/>
                  <a:pt x="4429" y="510"/>
                  <a:pt x="4429" y="510"/>
                </a:cubicBezTo>
                <a:cubicBezTo>
                  <a:pt x="4429" y="510"/>
                  <a:pt x="4417" y="510"/>
                  <a:pt x="4393" y="498"/>
                </a:cubicBezTo>
                <a:cubicBezTo>
                  <a:pt x="4376" y="474"/>
                  <a:pt x="4376" y="474"/>
                  <a:pt x="4376" y="474"/>
                </a:cubicBezTo>
                <a:cubicBezTo>
                  <a:pt x="4376" y="451"/>
                  <a:pt x="4376" y="451"/>
                  <a:pt x="4376" y="451"/>
                </a:cubicBezTo>
                <a:cubicBezTo>
                  <a:pt x="4340" y="427"/>
                  <a:pt x="4340" y="427"/>
                  <a:pt x="4340" y="427"/>
                </a:cubicBezTo>
                <a:cubicBezTo>
                  <a:pt x="4340" y="427"/>
                  <a:pt x="4328" y="451"/>
                  <a:pt x="4316" y="451"/>
                </a:cubicBezTo>
                <a:cubicBezTo>
                  <a:pt x="4304" y="445"/>
                  <a:pt x="4293" y="433"/>
                  <a:pt x="4293" y="421"/>
                </a:cubicBezTo>
                <a:cubicBezTo>
                  <a:pt x="4293" y="409"/>
                  <a:pt x="4275" y="403"/>
                  <a:pt x="4263" y="397"/>
                </a:cubicBezTo>
                <a:cubicBezTo>
                  <a:pt x="4257" y="391"/>
                  <a:pt x="4233" y="391"/>
                  <a:pt x="4204" y="379"/>
                </a:cubicBezTo>
                <a:cubicBezTo>
                  <a:pt x="4180" y="374"/>
                  <a:pt x="4174" y="350"/>
                  <a:pt x="4174" y="350"/>
                </a:cubicBezTo>
                <a:cubicBezTo>
                  <a:pt x="4144" y="326"/>
                  <a:pt x="4144" y="326"/>
                  <a:pt x="4144" y="326"/>
                </a:cubicBezTo>
                <a:cubicBezTo>
                  <a:pt x="4144" y="326"/>
                  <a:pt x="4109" y="297"/>
                  <a:pt x="4097" y="291"/>
                </a:cubicBezTo>
                <a:cubicBezTo>
                  <a:pt x="4085" y="291"/>
                  <a:pt x="4067" y="291"/>
                  <a:pt x="4067" y="291"/>
                </a:cubicBezTo>
                <a:cubicBezTo>
                  <a:pt x="4067" y="291"/>
                  <a:pt x="4008" y="297"/>
                  <a:pt x="4008" y="314"/>
                </a:cubicBezTo>
                <a:cubicBezTo>
                  <a:pt x="4049" y="314"/>
                  <a:pt x="4049" y="314"/>
                  <a:pt x="4049" y="314"/>
                </a:cubicBezTo>
                <a:cubicBezTo>
                  <a:pt x="4067" y="314"/>
                  <a:pt x="4061" y="320"/>
                  <a:pt x="4067" y="338"/>
                </a:cubicBezTo>
                <a:cubicBezTo>
                  <a:pt x="4067" y="350"/>
                  <a:pt x="4032" y="344"/>
                  <a:pt x="4032" y="344"/>
                </a:cubicBezTo>
                <a:cubicBezTo>
                  <a:pt x="3978" y="344"/>
                  <a:pt x="3978" y="344"/>
                  <a:pt x="3978" y="344"/>
                </a:cubicBezTo>
                <a:cubicBezTo>
                  <a:pt x="3955" y="350"/>
                  <a:pt x="3955" y="350"/>
                  <a:pt x="3955" y="350"/>
                </a:cubicBezTo>
                <a:cubicBezTo>
                  <a:pt x="3955" y="350"/>
                  <a:pt x="3978" y="368"/>
                  <a:pt x="3990" y="374"/>
                </a:cubicBezTo>
                <a:cubicBezTo>
                  <a:pt x="4008" y="379"/>
                  <a:pt x="3996" y="403"/>
                  <a:pt x="3996" y="403"/>
                </a:cubicBezTo>
                <a:cubicBezTo>
                  <a:pt x="3949" y="397"/>
                  <a:pt x="3949" y="397"/>
                  <a:pt x="3949" y="397"/>
                </a:cubicBezTo>
                <a:cubicBezTo>
                  <a:pt x="3919" y="403"/>
                  <a:pt x="3919" y="403"/>
                  <a:pt x="3919" y="403"/>
                </a:cubicBezTo>
                <a:cubicBezTo>
                  <a:pt x="3925" y="439"/>
                  <a:pt x="3925" y="439"/>
                  <a:pt x="3925" y="439"/>
                </a:cubicBezTo>
                <a:cubicBezTo>
                  <a:pt x="3895" y="457"/>
                  <a:pt x="3895" y="457"/>
                  <a:pt x="3895" y="457"/>
                </a:cubicBezTo>
                <a:cubicBezTo>
                  <a:pt x="3895" y="492"/>
                  <a:pt x="3895" y="492"/>
                  <a:pt x="3895" y="492"/>
                </a:cubicBezTo>
                <a:cubicBezTo>
                  <a:pt x="3937" y="492"/>
                  <a:pt x="3937" y="492"/>
                  <a:pt x="3937" y="492"/>
                </a:cubicBezTo>
                <a:cubicBezTo>
                  <a:pt x="3937" y="534"/>
                  <a:pt x="3937" y="534"/>
                  <a:pt x="3937" y="534"/>
                </a:cubicBezTo>
                <a:cubicBezTo>
                  <a:pt x="3978" y="557"/>
                  <a:pt x="3978" y="557"/>
                  <a:pt x="3978" y="557"/>
                </a:cubicBezTo>
                <a:cubicBezTo>
                  <a:pt x="4020" y="552"/>
                  <a:pt x="4020" y="552"/>
                  <a:pt x="4020" y="552"/>
                </a:cubicBezTo>
                <a:cubicBezTo>
                  <a:pt x="4061" y="540"/>
                  <a:pt x="4061" y="540"/>
                  <a:pt x="4061" y="540"/>
                </a:cubicBezTo>
                <a:cubicBezTo>
                  <a:pt x="4115" y="534"/>
                  <a:pt x="4115" y="534"/>
                  <a:pt x="4115" y="534"/>
                </a:cubicBezTo>
                <a:cubicBezTo>
                  <a:pt x="4138" y="563"/>
                  <a:pt x="4138" y="563"/>
                  <a:pt x="4138" y="563"/>
                </a:cubicBezTo>
                <a:cubicBezTo>
                  <a:pt x="4138" y="563"/>
                  <a:pt x="4103" y="575"/>
                  <a:pt x="4091" y="575"/>
                </a:cubicBezTo>
                <a:cubicBezTo>
                  <a:pt x="4044" y="575"/>
                  <a:pt x="4044" y="575"/>
                  <a:pt x="4044" y="575"/>
                </a:cubicBezTo>
                <a:cubicBezTo>
                  <a:pt x="4008" y="593"/>
                  <a:pt x="4008" y="593"/>
                  <a:pt x="4008" y="593"/>
                </a:cubicBezTo>
                <a:cubicBezTo>
                  <a:pt x="4056" y="623"/>
                  <a:pt x="4056" y="623"/>
                  <a:pt x="4056" y="623"/>
                </a:cubicBezTo>
                <a:cubicBezTo>
                  <a:pt x="4085" y="658"/>
                  <a:pt x="4085" y="658"/>
                  <a:pt x="4085" y="658"/>
                </a:cubicBezTo>
                <a:cubicBezTo>
                  <a:pt x="4168" y="676"/>
                  <a:pt x="4168" y="676"/>
                  <a:pt x="4168" y="676"/>
                </a:cubicBezTo>
                <a:cubicBezTo>
                  <a:pt x="4227" y="670"/>
                  <a:pt x="4227" y="670"/>
                  <a:pt x="4227" y="670"/>
                </a:cubicBezTo>
                <a:cubicBezTo>
                  <a:pt x="4287" y="682"/>
                  <a:pt x="4287" y="682"/>
                  <a:pt x="4287" y="682"/>
                </a:cubicBezTo>
                <a:lnTo>
                  <a:pt x="4304" y="658"/>
                </a:lnTo>
                <a:close/>
                <a:moveTo>
                  <a:pt x="4156" y="759"/>
                </a:moveTo>
                <a:lnTo>
                  <a:pt x="4156" y="759"/>
                </a:lnTo>
                <a:cubicBezTo>
                  <a:pt x="4133" y="800"/>
                  <a:pt x="4133" y="800"/>
                  <a:pt x="4133" y="800"/>
                </a:cubicBezTo>
                <a:cubicBezTo>
                  <a:pt x="4215" y="806"/>
                  <a:pt x="4215" y="806"/>
                  <a:pt x="4215" y="806"/>
                </a:cubicBezTo>
                <a:cubicBezTo>
                  <a:pt x="4263" y="789"/>
                  <a:pt x="4263" y="789"/>
                  <a:pt x="4263" y="789"/>
                </a:cubicBezTo>
                <a:cubicBezTo>
                  <a:pt x="4263" y="789"/>
                  <a:pt x="4233" y="753"/>
                  <a:pt x="4222" y="747"/>
                </a:cubicBezTo>
                <a:lnTo>
                  <a:pt x="4156" y="759"/>
                </a:lnTo>
                <a:close/>
                <a:moveTo>
                  <a:pt x="4204" y="1103"/>
                </a:moveTo>
                <a:lnTo>
                  <a:pt x="4204" y="1103"/>
                </a:lnTo>
                <a:cubicBezTo>
                  <a:pt x="4281" y="1097"/>
                  <a:pt x="4281" y="1097"/>
                  <a:pt x="4281" y="1097"/>
                </a:cubicBezTo>
                <a:cubicBezTo>
                  <a:pt x="4316" y="1073"/>
                  <a:pt x="4316" y="1073"/>
                  <a:pt x="4316" y="1073"/>
                </a:cubicBezTo>
                <a:cubicBezTo>
                  <a:pt x="4316" y="1073"/>
                  <a:pt x="4352" y="1103"/>
                  <a:pt x="4370" y="1109"/>
                </a:cubicBezTo>
                <a:cubicBezTo>
                  <a:pt x="4381" y="1121"/>
                  <a:pt x="4453" y="1115"/>
                  <a:pt x="4453" y="1115"/>
                </a:cubicBezTo>
                <a:cubicBezTo>
                  <a:pt x="4547" y="1115"/>
                  <a:pt x="4547" y="1115"/>
                  <a:pt x="4547" y="1115"/>
                </a:cubicBezTo>
                <a:cubicBezTo>
                  <a:pt x="4589" y="1103"/>
                  <a:pt x="4589" y="1103"/>
                  <a:pt x="4589" y="1103"/>
                </a:cubicBezTo>
                <a:cubicBezTo>
                  <a:pt x="4607" y="1085"/>
                  <a:pt x="4607" y="1085"/>
                  <a:pt x="4607" y="1085"/>
                </a:cubicBezTo>
                <a:cubicBezTo>
                  <a:pt x="4636" y="1109"/>
                  <a:pt x="4636" y="1109"/>
                  <a:pt x="4636" y="1109"/>
                </a:cubicBezTo>
                <a:cubicBezTo>
                  <a:pt x="4684" y="1103"/>
                  <a:pt x="4684" y="1103"/>
                  <a:pt x="4684" y="1103"/>
                </a:cubicBezTo>
                <a:cubicBezTo>
                  <a:pt x="4684" y="1103"/>
                  <a:pt x="4755" y="1097"/>
                  <a:pt x="4767" y="1097"/>
                </a:cubicBezTo>
                <a:cubicBezTo>
                  <a:pt x="4785" y="1097"/>
                  <a:pt x="4773" y="1073"/>
                  <a:pt x="4773" y="1061"/>
                </a:cubicBezTo>
                <a:cubicBezTo>
                  <a:pt x="4773" y="1050"/>
                  <a:pt x="4802" y="1044"/>
                  <a:pt x="4802" y="1044"/>
                </a:cubicBezTo>
                <a:cubicBezTo>
                  <a:pt x="4797" y="996"/>
                  <a:pt x="4797" y="996"/>
                  <a:pt x="4797" y="996"/>
                </a:cubicBezTo>
                <a:cubicBezTo>
                  <a:pt x="4725" y="978"/>
                  <a:pt x="4725" y="978"/>
                  <a:pt x="4725" y="978"/>
                </a:cubicBezTo>
                <a:cubicBezTo>
                  <a:pt x="4642" y="961"/>
                  <a:pt x="4642" y="961"/>
                  <a:pt x="4642" y="961"/>
                </a:cubicBezTo>
                <a:cubicBezTo>
                  <a:pt x="4583" y="978"/>
                  <a:pt x="4583" y="978"/>
                  <a:pt x="4583" y="978"/>
                </a:cubicBezTo>
                <a:cubicBezTo>
                  <a:pt x="4494" y="1002"/>
                  <a:pt x="4494" y="1002"/>
                  <a:pt x="4494" y="1002"/>
                </a:cubicBezTo>
                <a:cubicBezTo>
                  <a:pt x="4435" y="1008"/>
                  <a:pt x="4435" y="1008"/>
                  <a:pt x="4435" y="1008"/>
                </a:cubicBezTo>
                <a:cubicBezTo>
                  <a:pt x="4358" y="990"/>
                  <a:pt x="4358" y="990"/>
                  <a:pt x="4358" y="990"/>
                </a:cubicBezTo>
                <a:cubicBezTo>
                  <a:pt x="4293" y="996"/>
                  <a:pt x="4293" y="996"/>
                  <a:pt x="4293" y="996"/>
                </a:cubicBezTo>
                <a:cubicBezTo>
                  <a:pt x="4239" y="955"/>
                  <a:pt x="4239" y="955"/>
                  <a:pt x="4239" y="955"/>
                </a:cubicBezTo>
                <a:cubicBezTo>
                  <a:pt x="4233" y="907"/>
                  <a:pt x="4233" y="907"/>
                  <a:pt x="4233" y="907"/>
                </a:cubicBezTo>
                <a:cubicBezTo>
                  <a:pt x="4210" y="872"/>
                  <a:pt x="4210" y="872"/>
                  <a:pt x="4210" y="872"/>
                </a:cubicBezTo>
                <a:cubicBezTo>
                  <a:pt x="4138" y="872"/>
                  <a:pt x="4138" y="872"/>
                  <a:pt x="4138" y="872"/>
                </a:cubicBezTo>
                <a:cubicBezTo>
                  <a:pt x="4091" y="877"/>
                  <a:pt x="4091" y="877"/>
                  <a:pt x="4091" y="877"/>
                </a:cubicBezTo>
                <a:cubicBezTo>
                  <a:pt x="4091" y="877"/>
                  <a:pt x="4109" y="925"/>
                  <a:pt x="4109" y="937"/>
                </a:cubicBezTo>
                <a:cubicBezTo>
                  <a:pt x="4115" y="949"/>
                  <a:pt x="4144" y="990"/>
                  <a:pt x="4144" y="990"/>
                </a:cubicBezTo>
                <a:cubicBezTo>
                  <a:pt x="4115" y="1032"/>
                  <a:pt x="4115" y="1032"/>
                  <a:pt x="4115" y="1032"/>
                </a:cubicBezTo>
                <a:cubicBezTo>
                  <a:pt x="4150" y="1067"/>
                  <a:pt x="4150" y="1067"/>
                  <a:pt x="4150" y="1067"/>
                </a:cubicBezTo>
                <a:lnTo>
                  <a:pt x="4204" y="1103"/>
                </a:lnTo>
                <a:close/>
                <a:moveTo>
                  <a:pt x="3806" y="1115"/>
                </a:moveTo>
                <a:lnTo>
                  <a:pt x="3806" y="1115"/>
                </a:lnTo>
                <a:cubicBezTo>
                  <a:pt x="3848" y="1115"/>
                  <a:pt x="3848" y="1115"/>
                  <a:pt x="3848" y="1115"/>
                </a:cubicBezTo>
                <a:cubicBezTo>
                  <a:pt x="3830" y="1091"/>
                  <a:pt x="3830" y="1091"/>
                  <a:pt x="3830" y="1091"/>
                </a:cubicBezTo>
                <a:lnTo>
                  <a:pt x="3806" y="1115"/>
                </a:lnTo>
                <a:close/>
                <a:moveTo>
                  <a:pt x="3895" y="1044"/>
                </a:moveTo>
                <a:lnTo>
                  <a:pt x="3895" y="1044"/>
                </a:lnTo>
                <a:cubicBezTo>
                  <a:pt x="3937" y="1079"/>
                  <a:pt x="3937" y="1079"/>
                  <a:pt x="3937" y="1079"/>
                </a:cubicBezTo>
                <a:cubicBezTo>
                  <a:pt x="3978" y="1079"/>
                  <a:pt x="3978" y="1079"/>
                  <a:pt x="3978" y="1079"/>
                </a:cubicBezTo>
                <a:cubicBezTo>
                  <a:pt x="4020" y="1097"/>
                  <a:pt x="4020" y="1097"/>
                  <a:pt x="4020" y="1097"/>
                </a:cubicBezTo>
                <a:cubicBezTo>
                  <a:pt x="4049" y="1085"/>
                  <a:pt x="4049" y="1085"/>
                  <a:pt x="4049" y="1085"/>
                </a:cubicBezTo>
                <a:cubicBezTo>
                  <a:pt x="4061" y="1038"/>
                  <a:pt x="4061" y="1038"/>
                  <a:pt x="4061" y="1038"/>
                </a:cubicBezTo>
                <a:cubicBezTo>
                  <a:pt x="4026" y="1020"/>
                  <a:pt x="4026" y="1020"/>
                  <a:pt x="4026" y="1020"/>
                </a:cubicBezTo>
                <a:cubicBezTo>
                  <a:pt x="4002" y="984"/>
                  <a:pt x="4002" y="984"/>
                  <a:pt x="4002" y="984"/>
                </a:cubicBezTo>
                <a:cubicBezTo>
                  <a:pt x="3961" y="990"/>
                  <a:pt x="3961" y="990"/>
                  <a:pt x="3961" y="990"/>
                </a:cubicBezTo>
                <a:cubicBezTo>
                  <a:pt x="3907" y="1014"/>
                  <a:pt x="3907" y="1014"/>
                  <a:pt x="3907" y="1014"/>
                </a:cubicBezTo>
                <a:lnTo>
                  <a:pt x="3895" y="1044"/>
                </a:lnTo>
                <a:close/>
                <a:moveTo>
                  <a:pt x="4032" y="919"/>
                </a:moveTo>
                <a:lnTo>
                  <a:pt x="4032" y="919"/>
                </a:lnTo>
                <a:cubicBezTo>
                  <a:pt x="4067" y="889"/>
                  <a:pt x="4067" y="889"/>
                  <a:pt x="4067" y="889"/>
                </a:cubicBezTo>
                <a:cubicBezTo>
                  <a:pt x="4061" y="866"/>
                  <a:pt x="4061" y="866"/>
                  <a:pt x="4061" y="866"/>
                </a:cubicBezTo>
                <a:cubicBezTo>
                  <a:pt x="4026" y="830"/>
                  <a:pt x="4026" y="830"/>
                  <a:pt x="4026" y="830"/>
                </a:cubicBezTo>
                <a:cubicBezTo>
                  <a:pt x="3967" y="830"/>
                  <a:pt x="3967" y="830"/>
                  <a:pt x="3967" y="830"/>
                </a:cubicBezTo>
                <a:cubicBezTo>
                  <a:pt x="3937" y="818"/>
                  <a:pt x="3937" y="818"/>
                  <a:pt x="3937" y="818"/>
                </a:cubicBezTo>
                <a:cubicBezTo>
                  <a:pt x="3883" y="824"/>
                  <a:pt x="3883" y="824"/>
                  <a:pt x="3883" y="824"/>
                </a:cubicBezTo>
                <a:cubicBezTo>
                  <a:pt x="3878" y="866"/>
                  <a:pt x="3878" y="866"/>
                  <a:pt x="3878" y="866"/>
                </a:cubicBezTo>
                <a:cubicBezTo>
                  <a:pt x="3931" y="889"/>
                  <a:pt x="3931" y="889"/>
                  <a:pt x="3931" y="889"/>
                </a:cubicBezTo>
                <a:cubicBezTo>
                  <a:pt x="3978" y="919"/>
                  <a:pt x="3978" y="919"/>
                  <a:pt x="3978" y="919"/>
                </a:cubicBezTo>
                <a:lnTo>
                  <a:pt x="4032" y="919"/>
                </a:lnTo>
                <a:close/>
                <a:moveTo>
                  <a:pt x="3919" y="783"/>
                </a:moveTo>
                <a:lnTo>
                  <a:pt x="3919" y="783"/>
                </a:lnTo>
                <a:cubicBezTo>
                  <a:pt x="3984" y="783"/>
                  <a:pt x="3984" y="783"/>
                  <a:pt x="3984" y="783"/>
                </a:cubicBezTo>
                <a:cubicBezTo>
                  <a:pt x="4026" y="771"/>
                  <a:pt x="4026" y="771"/>
                  <a:pt x="4026" y="771"/>
                </a:cubicBezTo>
                <a:cubicBezTo>
                  <a:pt x="4067" y="765"/>
                  <a:pt x="4067" y="765"/>
                  <a:pt x="4067" y="765"/>
                </a:cubicBezTo>
                <a:cubicBezTo>
                  <a:pt x="4067" y="735"/>
                  <a:pt x="4067" y="735"/>
                  <a:pt x="4067" y="735"/>
                </a:cubicBezTo>
                <a:cubicBezTo>
                  <a:pt x="4008" y="735"/>
                  <a:pt x="4008" y="735"/>
                  <a:pt x="4008" y="735"/>
                </a:cubicBezTo>
                <a:cubicBezTo>
                  <a:pt x="3949" y="735"/>
                  <a:pt x="3949" y="735"/>
                  <a:pt x="3949" y="735"/>
                </a:cubicBezTo>
                <a:cubicBezTo>
                  <a:pt x="3919" y="759"/>
                  <a:pt x="3919" y="759"/>
                  <a:pt x="3919" y="759"/>
                </a:cubicBezTo>
                <a:lnTo>
                  <a:pt x="3919" y="783"/>
                </a:lnTo>
                <a:close/>
                <a:moveTo>
                  <a:pt x="3931" y="711"/>
                </a:moveTo>
                <a:lnTo>
                  <a:pt x="3931" y="711"/>
                </a:lnTo>
                <a:cubicBezTo>
                  <a:pt x="3972" y="706"/>
                  <a:pt x="3972" y="706"/>
                  <a:pt x="3972" y="706"/>
                </a:cubicBezTo>
                <a:cubicBezTo>
                  <a:pt x="3984" y="682"/>
                  <a:pt x="3984" y="682"/>
                  <a:pt x="3984" y="682"/>
                </a:cubicBezTo>
                <a:cubicBezTo>
                  <a:pt x="3937" y="646"/>
                  <a:pt x="3937" y="646"/>
                  <a:pt x="3937" y="646"/>
                </a:cubicBezTo>
                <a:cubicBezTo>
                  <a:pt x="3872" y="640"/>
                  <a:pt x="3872" y="640"/>
                  <a:pt x="3872" y="640"/>
                </a:cubicBezTo>
                <a:cubicBezTo>
                  <a:pt x="3812" y="605"/>
                  <a:pt x="3812" y="605"/>
                  <a:pt x="3812" y="605"/>
                </a:cubicBezTo>
                <a:cubicBezTo>
                  <a:pt x="3789" y="629"/>
                  <a:pt x="3789" y="629"/>
                  <a:pt x="3789" y="629"/>
                </a:cubicBezTo>
                <a:cubicBezTo>
                  <a:pt x="3812" y="658"/>
                  <a:pt x="3812" y="658"/>
                  <a:pt x="3812" y="658"/>
                </a:cubicBezTo>
                <a:cubicBezTo>
                  <a:pt x="3830" y="711"/>
                  <a:pt x="3830" y="711"/>
                  <a:pt x="3830" y="711"/>
                </a:cubicBezTo>
                <a:cubicBezTo>
                  <a:pt x="3878" y="718"/>
                  <a:pt x="3878" y="718"/>
                  <a:pt x="3878" y="718"/>
                </a:cubicBezTo>
                <a:lnTo>
                  <a:pt x="3931" y="711"/>
                </a:lnTo>
                <a:close/>
                <a:moveTo>
                  <a:pt x="3771" y="498"/>
                </a:moveTo>
                <a:lnTo>
                  <a:pt x="3771" y="498"/>
                </a:lnTo>
                <a:cubicBezTo>
                  <a:pt x="3753" y="457"/>
                  <a:pt x="3753" y="457"/>
                  <a:pt x="3753" y="457"/>
                </a:cubicBezTo>
                <a:cubicBezTo>
                  <a:pt x="3717" y="445"/>
                  <a:pt x="3717" y="445"/>
                  <a:pt x="3717" y="445"/>
                </a:cubicBezTo>
                <a:cubicBezTo>
                  <a:pt x="3682" y="445"/>
                  <a:pt x="3682" y="445"/>
                  <a:pt x="3682" y="445"/>
                </a:cubicBezTo>
                <a:cubicBezTo>
                  <a:pt x="3682" y="480"/>
                  <a:pt x="3682" y="480"/>
                  <a:pt x="3682" y="480"/>
                </a:cubicBezTo>
                <a:cubicBezTo>
                  <a:pt x="3723" y="480"/>
                  <a:pt x="3723" y="480"/>
                  <a:pt x="3723" y="480"/>
                </a:cubicBezTo>
                <a:cubicBezTo>
                  <a:pt x="3735" y="510"/>
                  <a:pt x="3735" y="510"/>
                  <a:pt x="3735" y="510"/>
                </a:cubicBezTo>
                <a:lnTo>
                  <a:pt x="3771" y="498"/>
                </a:lnTo>
                <a:close/>
                <a:moveTo>
                  <a:pt x="3729" y="741"/>
                </a:moveTo>
                <a:lnTo>
                  <a:pt x="3729" y="741"/>
                </a:lnTo>
                <a:cubicBezTo>
                  <a:pt x="3747" y="718"/>
                  <a:pt x="3747" y="718"/>
                  <a:pt x="3747" y="718"/>
                </a:cubicBezTo>
                <a:cubicBezTo>
                  <a:pt x="3735" y="682"/>
                  <a:pt x="3735" y="682"/>
                  <a:pt x="3735" y="682"/>
                </a:cubicBezTo>
                <a:cubicBezTo>
                  <a:pt x="3706" y="658"/>
                  <a:pt x="3706" y="658"/>
                  <a:pt x="3706" y="658"/>
                </a:cubicBezTo>
                <a:cubicBezTo>
                  <a:pt x="3694" y="629"/>
                  <a:pt x="3694" y="629"/>
                  <a:pt x="3694" y="629"/>
                </a:cubicBezTo>
                <a:cubicBezTo>
                  <a:pt x="3646" y="611"/>
                  <a:pt x="3646" y="611"/>
                  <a:pt x="3646" y="611"/>
                </a:cubicBezTo>
                <a:cubicBezTo>
                  <a:pt x="3617" y="587"/>
                  <a:pt x="3617" y="587"/>
                  <a:pt x="3617" y="587"/>
                </a:cubicBezTo>
                <a:cubicBezTo>
                  <a:pt x="3581" y="593"/>
                  <a:pt x="3581" y="593"/>
                  <a:pt x="3581" y="593"/>
                </a:cubicBezTo>
                <a:cubicBezTo>
                  <a:pt x="3551" y="569"/>
                  <a:pt x="3551" y="569"/>
                  <a:pt x="3551" y="569"/>
                </a:cubicBezTo>
                <a:cubicBezTo>
                  <a:pt x="3504" y="552"/>
                  <a:pt x="3504" y="552"/>
                  <a:pt x="3504" y="552"/>
                </a:cubicBezTo>
                <a:cubicBezTo>
                  <a:pt x="3474" y="557"/>
                  <a:pt x="3474" y="557"/>
                  <a:pt x="3474" y="557"/>
                </a:cubicBezTo>
                <a:cubicBezTo>
                  <a:pt x="3385" y="569"/>
                  <a:pt x="3385" y="569"/>
                  <a:pt x="3385" y="569"/>
                </a:cubicBezTo>
                <a:cubicBezTo>
                  <a:pt x="3409" y="599"/>
                  <a:pt x="3409" y="599"/>
                  <a:pt x="3409" y="599"/>
                </a:cubicBezTo>
                <a:cubicBezTo>
                  <a:pt x="3439" y="599"/>
                  <a:pt x="3439" y="599"/>
                  <a:pt x="3439" y="599"/>
                </a:cubicBezTo>
                <a:cubicBezTo>
                  <a:pt x="3468" y="611"/>
                  <a:pt x="3468" y="611"/>
                  <a:pt x="3468" y="611"/>
                </a:cubicBezTo>
                <a:cubicBezTo>
                  <a:pt x="3480" y="646"/>
                  <a:pt x="3480" y="646"/>
                  <a:pt x="3480" y="646"/>
                </a:cubicBezTo>
                <a:cubicBezTo>
                  <a:pt x="3427" y="646"/>
                  <a:pt x="3427" y="646"/>
                  <a:pt x="3427" y="646"/>
                </a:cubicBezTo>
                <a:cubicBezTo>
                  <a:pt x="3445" y="676"/>
                  <a:pt x="3445" y="676"/>
                  <a:pt x="3445" y="676"/>
                </a:cubicBezTo>
                <a:cubicBezTo>
                  <a:pt x="3480" y="676"/>
                  <a:pt x="3480" y="676"/>
                  <a:pt x="3480" y="676"/>
                </a:cubicBezTo>
                <a:cubicBezTo>
                  <a:pt x="3498" y="694"/>
                  <a:pt x="3498" y="694"/>
                  <a:pt x="3498" y="694"/>
                </a:cubicBezTo>
                <a:cubicBezTo>
                  <a:pt x="3534" y="682"/>
                  <a:pt x="3534" y="682"/>
                  <a:pt x="3534" y="682"/>
                </a:cubicBezTo>
                <a:cubicBezTo>
                  <a:pt x="3563" y="682"/>
                  <a:pt x="3563" y="682"/>
                  <a:pt x="3563" y="682"/>
                </a:cubicBezTo>
                <a:cubicBezTo>
                  <a:pt x="3629" y="688"/>
                  <a:pt x="3629" y="688"/>
                  <a:pt x="3629" y="688"/>
                </a:cubicBezTo>
                <a:cubicBezTo>
                  <a:pt x="3682" y="729"/>
                  <a:pt x="3682" y="729"/>
                  <a:pt x="3682" y="729"/>
                </a:cubicBezTo>
                <a:lnTo>
                  <a:pt x="3729" y="741"/>
                </a:lnTo>
                <a:close/>
                <a:moveTo>
                  <a:pt x="3623" y="747"/>
                </a:moveTo>
                <a:lnTo>
                  <a:pt x="3623" y="747"/>
                </a:lnTo>
                <a:cubicBezTo>
                  <a:pt x="3587" y="723"/>
                  <a:pt x="3587" y="723"/>
                  <a:pt x="3587" y="723"/>
                </a:cubicBezTo>
                <a:cubicBezTo>
                  <a:pt x="3534" y="723"/>
                  <a:pt x="3534" y="723"/>
                  <a:pt x="3534" y="723"/>
                </a:cubicBezTo>
                <a:cubicBezTo>
                  <a:pt x="3540" y="759"/>
                  <a:pt x="3540" y="759"/>
                  <a:pt x="3540" y="759"/>
                </a:cubicBezTo>
                <a:cubicBezTo>
                  <a:pt x="3587" y="759"/>
                  <a:pt x="3587" y="759"/>
                  <a:pt x="3587" y="759"/>
                </a:cubicBezTo>
                <a:lnTo>
                  <a:pt x="3623" y="747"/>
                </a:lnTo>
                <a:close/>
                <a:moveTo>
                  <a:pt x="3599" y="996"/>
                </a:moveTo>
                <a:lnTo>
                  <a:pt x="3599" y="996"/>
                </a:lnTo>
                <a:cubicBezTo>
                  <a:pt x="3635" y="984"/>
                  <a:pt x="3635" y="984"/>
                  <a:pt x="3635" y="984"/>
                </a:cubicBezTo>
                <a:cubicBezTo>
                  <a:pt x="3658" y="978"/>
                  <a:pt x="3658" y="978"/>
                  <a:pt x="3658" y="978"/>
                </a:cubicBezTo>
                <a:cubicBezTo>
                  <a:pt x="3682" y="1008"/>
                  <a:pt x="3682" y="1008"/>
                  <a:pt x="3682" y="1008"/>
                </a:cubicBezTo>
                <a:cubicBezTo>
                  <a:pt x="3706" y="1055"/>
                  <a:pt x="3706" y="1055"/>
                  <a:pt x="3706" y="1055"/>
                </a:cubicBezTo>
                <a:cubicBezTo>
                  <a:pt x="3729" y="1044"/>
                  <a:pt x="3729" y="1044"/>
                  <a:pt x="3729" y="1044"/>
                </a:cubicBezTo>
                <a:cubicBezTo>
                  <a:pt x="3783" y="1038"/>
                  <a:pt x="3783" y="1038"/>
                  <a:pt x="3783" y="1038"/>
                </a:cubicBezTo>
                <a:cubicBezTo>
                  <a:pt x="3812" y="1032"/>
                  <a:pt x="3812" y="1032"/>
                  <a:pt x="3812" y="1032"/>
                </a:cubicBezTo>
                <a:cubicBezTo>
                  <a:pt x="3818" y="1002"/>
                  <a:pt x="3818" y="1002"/>
                  <a:pt x="3818" y="1002"/>
                </a:cubicBezTo>
                <a:cubicBezTo>
                  <a:pt x="3818" y="955"/>
                  <a:pt x="3818" y="955"/>
                  <a:pt x="3818" y="955"/>
                </a:cubicBezTo>
                <a:cubicBezTo>
                  <a:pt x="3818" y="955"/>
                  <a:pt x="3824" y="943"/>
                  <a:pt x="3836" y="937"/>
                </a:cubicBezTo>
                <a:cubicBezTo>
                  <a:pt x="3848" y="925"/>
                  <a:pt x="3824" y="901"/>
                  <a:pt x="3824" y="901"/>
                </a:cubicBezTo>
                <a:cubicBezTo>
                  <a:pt x="3824" y="901"/>
                  <a:pt x="3795" y="877"/>
                  <a:pt x="3777" y="877"/>
                </a:cubicBezTo>
                <a:cubicBezTo>
                  <a:pt x="3765" y="877"/>
                  <a:pt x="3747" y="895"/>
                  <a:pt x="3747" y="895"/>
                </a:cubicBezTo>
                <a:cubicBezTo>
                  <a:pt x="3694" y="866"/>
                  <a:pt x="3694" y="866"/>
                  <a:pt x="3694" y="866"/>
                </a:cubicBezTo>
                <a:cubicBezTo>
                  <a:pt x="3646" y="866"/>
                  <a:pt x="3646" y="866"/>
                  <a:pt x="3646" y="866"/>
                </a:cubicBezTo>
                <a:cubicBezTo>
                  <a:pt x="3682" y="889"/>
                  <a:pt x="3682" y="889"/>
                  <a:pt x="3682" y="889"/>
                </a:cubicBezTo>
                <a:cubicBezTo>
                  <a:pt x="3682" y="889"/>
                  <a:pt x="3712" y="925"/>
                  <a:pt x="3723" y="943"/>
                </a:cubicBezTo>
                <a:cubicBezTo>
                  <a:pt x="3729" y="961"/>
                  <a:pt x="3688" y="949"/>
                  <a:pt x="3688" y="949"/>
                </a:cubicBezTo>
                <a:cubicBezTo>
                  <a:pt x="3629" y="889"/>
                  <a:pt x="3629" y="889"/>
                  <a:pt x="3629" y="889"/>
                </a:cubicBezTo>
                <a:cubicBezTo>
                  <a:pt x="3587" y="889"/>
                  <a:pt x="3587" y="889"/>
                  <a:pt x="3587" y="889"/>
                </a:cubicBezTo>
                <a:cubicBezTo>
                  <a:pt x="3587" y="925"/>
                  <a:pt x="3587" y="925"/>
                  <a:pt x="3587" y="925"/>
                </a:cubicBezTo>
                <a:cubicBezTo>
                  <a:pt x="3599" y="961"/>
                  <a:pt x="3599" y="961"/>
                  <a:pt x="3599" y="961"/>
                </a:cubicBezTo>
                <a:cubicBezTo>
                  <a:pt x="3551" y="931"/>
                  <a:pt x="3551" y="931"/>
                  <a:pt x="3551" y="931"/>
                </a:cubicBezTo>
                <a:cubicBezTo>
                  <a:pt x="3522" y="877"/>
                  <a:pt x="3522" y="877"/>
                  <a:pt x="3522" y="877"/>
                </a:cubicBezTo>
                <a:cubicBezTo>
                  <a:pt x="3451" y="848"/>
                  <a:pt x="3451" y="848"/>
                  <a:pt x="3451" y="848"/>
                </a:cubicBezTo>
                <a:cubicBezTo>
                  <a:pt x="3445" y="895"/>
                  <a:pt x="3445" y="895"/>
                  <a:pt x="3445" y="895"/>
                </a:cubicBezTo>
                <a:cubicBezTo>
                  <a:pt x="3468" y="925"/>
                  <a:pt x="3468" y="925"/>
                  <a:pt x="3468" y="925"/>
                </a:cubicBezTo>
                <a:cubicBezTo>
                  <a:pt x="3468" y="925"/>
                  <a:pt x="3528" y="966"/>
                  <a:pt x="3534" y="978"/>
                </a:cubicBezTo>
                <a:lnTo>
                  <a:pt x="3599" y="996"/>
                </a:lnTo>
                <a:close/>
                <a:moveTo>
                  <a:pt x="3433" y="1020"/>
                </a:moveTo>
                <a:lnTo>
                  <a:pt x="3433" y="1020"/>
                </a:lnTo>
                <a:cubicBezTo>
                  <a:pt x="3445" y="1050"/>
                  <a:pt x="3445" y="1050"/>
                  <a:pt x="3445" y="1050"/>
                </a:cubicBezTo>
                <a:cubicBezTo>
                  <a:pt x="3480" y="1050"/>
                  <a:pt x="3480" y="1050"/>
                  <a:pt x="3480" y="1050"/>
                </a:cubicBezTo>
                <a:cubicBezTo>
                  <a:pt x="3480" y="1050"/>
                  <a:pt x="3492" y="1032"/>
                  <a:pt x="3492" y="1026"/>
                </a:cubicBezTo>
                <a:cubicBezTo>
                  <a:pt x="3492" y="1014"/>
                  <a:pt x="3451" y="996"/>
                  <a:pt x="3451" y="1008"/>
                </a:cubicBezTo>
                <a:cubicBezTo>
                  <a:pt x="3457" y="1020"/>
                  <a:pt x="3433" y="1020"/>
                  <a:pt x="3433" y="1020"/>
                </a:cubicBezTo>
                <a:close/>
                <a:moveTo>
                  <a:pt x="3451" y="806"/>
                </a:moveTo>
                <a:lnTo>
                  <a:pt x="3451" y="806"/>
                </a:lnTo>
                <a:cubicBezTo>
                  <a:pt x="3415" y="759"/>
                  <a:pt x="3415" y="759"/>
                  <a:pt x="3415" y="759"/>
                </a:cubicBezTo>
                <a:cubicBezTo>
                  <a:pt x="3368" y="729"/>
                  <a:pt x="3368" y="729"/>
                  <a:pt x="3368" y="729"/>
                </a:cubicBezTo>
                <a:cubicBezTo>
                  <a:pt x="3368" y="729"/>
                  <a:pt x="3362" y="753"/>
                  <a:pt x="3374" y="771"/>
                </a:cubicBezTo>
                <a:cubicBezTo>
                  <a:pt x="3380" y="789"/>
                  <a:pt x="3421" y="818"/>
                  <a:pt x="3421" y="818"/>
                </a:cubicBezTo>
                <a:lnTo>
                  <a:pt x="3451" y="806"/>
                </a:lnTo>
                <a:close/>
                <a:moveTo>
                  <a:pt x="4939" y="1832"/>
                </a:moveTo>
                <a:lnTo>
                  <a:pt x="4939" y="1832"/>
                </a:lnTo>
                <a:cubicBezTo>
                  <a:pt x="4986" y="1838"/>
                  <a:pt x="4986" y="1838"/>
                  <a:pt x="4986" y="1838"/>
                </a:cubicBezTo>
                <a:cubicBezTo>
                  <a:pt x="5040" y="1826"/>
                  <a:pt x="5040" y="1826"/>
                  <a:pt x="5040" y="1826"/>
                </a:cubicBezTo>
                <a:cubicBezTo>
                  <a:pt x="5063" y="1785"/>
                  <a:pt x="5063" y="1785"/>
                  <a:pt x="5063" y="1785"/>
                </a:cubicBezTo>
                <a:cubicBezTo>
                  <a:pt x="5040" y="1743"/>
                  <a:pt x="5040" y="1743"/>
                  <a:pt x="5040" y="1743"/>
                </a:cubicBezTo>
                <a:cubicBezTo>
                  <a:pt x="5040" y="1743"/>
                  <a:pt x="4969" y="1743"/>
                  <a:pt x="4957" y="1743"/>
                </a:cubicBezTo>
                <a:cubicBezTo>
                  <a:pt x="4951" y="1743"/>
                  <a:pt x="4915" y="1797"/>
                  <a:pt x="4915" y="1797"/>
                </a:cubicBezTo>
                <a:lnTo>
                  <a:pt x="4939" y="1832"/>
                </a:lnTo>
                <a:close/>
                <a:moveTo>
                  <a:pt x="4020" y="1346"/>
                </a:moveTo>
                <a:lnTo>
                  <a:pt x="4020" y="1346"/>
                </a:lnTo>
                <a:cubicBezTo>
                  <a:pt x="4056" y="1322"/>
                  <a:pt x="4056" y="1322"/>
                  <a:pt x="4056" y="1322"/>
                </a:cubicBezTo>
                <a:cubicBezTo>
                  <a:pt x="4061" y="1281"/>
                  <a:pt x="4061" y="1281"/>
                  <a:pt x="4061" y="1281"/>
                </a:cubicBezTo>
                <a:cubicBezTo>
                  <a:pt x="4115" y="1293"/>
                  <a:pt x="4115" y="1293"/>
                  <a:pt x="4115" y="1293"/>
                </a:cubicBezTo>
                <a:cubicBezTo>
                  <a:pt x="4150" y="1269"/>
                  <a:pt x="4150" y="1269"/>
                  <a:pt x="4150" y="1269"/>
                </a:cubicBezTo>
                <a:cubicBezTo>
                  <a:pt x="4180" y="1221"/>
                  <a:pt x="4180" y="1221"/>
                  <a:pt x="4180" y="1221"/>
                </a:cubicBezTo>
                <a:cubicBezTo>
                  <a:pt x="4215" y="1186"/>
                  <a:pt x="4215" y="1186"/>
                  <a:pt x="4215" y="1186"/>
                </a:cubicBezTo>
                <a:cubicBezTo>
                  <a:pt x="4215" y="1186"/>
                  <a:pt x="4180" y="1162"/>
                  <a:pt x="4162" y="1162"/>
                </a:cubicBezTo>
                <a:cubicBezTo>
                  <a:pt x="4109" y="1162"/>
                  <a:pt x="4109" y="1162"/>
                  <a:pt x="4109" y="1162"/>
                </a:cubicBezTo>
                <a:cubicBezTo>
                  <a:pt x="4061" y="1144"/>
                  <a:pt x="4061" y="1144"/>
                  <a:pt x="4061" y="1144"/>
                </a:cubicBezTo>
                <a:cubicBezTo>
                  <a:pt x="4061" y="1144"/>
                  <a:pt x="3996" y="1144"/>
                  <a:pt x="3984" y="1144"/>
                </a:cubicBezTo>
                <a:cubicBezTo>
                  <a:pt x="3972" y="1144"/>
                  <a:pt x="3984" y="1168"/>
                  <a:pt x="3984" y="1186"/>
                </a:cubicBezTo>
                <a:cubicBezTo>
                  <a:pt x="3984" y="1198"/>
                  <a:pt x="3949" y="1210"/>
                  <a:pt x="3949" y="1210"/>
                </a:cubicBezTo>
                <a:cubicBezTo>
                  <a:pt x="3949" y="1281"/>
                  <a:pt x="3949" y="1281"/>
                  <a:pt x="3949" y="1281"/>
                </a:cubicBezTo>
                <a:cubicBezTo>
                  <a:pt x="3949" y="1281"/>
                  <a:pt x="3961" y="1346"/>
                  <a:pt x="3961" y="1358"/>
                </a:cubicBezTo>
                <a:lnTo>
                  <a:pt x="4020" y="1346"/>
                </a:lnTo>
                <a:close/>
                <a:moveTo>
                  <a:pt x="3765" y="1435"/>
                </a:moveTo>
                <a:lnTo>
                  <a:pt x="3765" y="1435"/>
                </a:lnTo>
                <a:cubicBezTo>
                  <a:pt x="3777" y="1435"/>
                  <a:pt x="3806" y="1405"/>
                  <a:pt x="3806" y="1405"/>
                </a:cubicBezTo>
                <a:cubicBezTo>
                  <a:pt x="3872" y="1399"/>
                  <a:pt x="3872" y="1399"/>
                  <a:pt x="3872" y="1399"/>
                </a:cubicBezTo>
                <a:cubicBezTo>
                  <a:pt x="3895" y="1352"/>
                  <a:pt x="3895" y="1352"/>
                  <a:pt x="3895" y="1352"/>
                </a:cubicBezTo>
                <a:cubicBezTo>
                  <a:pt x="3878" y="1316"/>
                  <a:pt x="3878" y="1316"/>
                  <a:pt x="3878" y="1316"/>
                </a:cubicBezTo>
                <a:cubicBezTo>
                  <a:pt x="3836" y="1281"/>
                  <a:pt x="3836" y="1281"/>
                  <a:pt x="3836" y="1281"/>
                </a:cubicBezTo>
                <a:cubicBezTo>
                  <a:pt x="3801" y="1263"/>
                  <a:pt x="3801" y="1263"/>
                  <a:pt x="3801" y="1263"/>
                </a:cubicBezTo>
                <a:cubicBezTo>
                  <a:pt x="3848" y="1239"/>
                  <a:pt x="3848" y="1239"/>
                  <a:pt x="3848" y="1239"/>
                </a:cubicBezTo>
                <a:cubicBezTo>
                  <a:pt x="3848" y="1239"/>
                  <a:pt x="3860" y="1227"/>
                  <a:pt x="3848" y="1210"/>
                </a:cubicBezTo>
                <a:cubicBezTo>
                  <a:pt x="3836" y="1198"/>
                  <a:pt x="3806" y="1174"/>
                  <a:pt x="3806" y="1174"/>
                </a:cubicBezTo>
                <a:cubicBezTo>
                  <a:pt x="3789" y="1150"/>
                  <a:pt x="3789" y="1150"/>
                  <a:pt x="3789" y="1150"/>
                </a:cubicBezTo>
                <a:cubicBezTo>
                  <a:pt x="3741" y="1156"/>
                  <a:pt x="3741" y="1156"/>
                  <a:pt x="3741" y="1156"/>
                </a:cubicBezTo>
                <a:cubicBezTo>
                  <a:pt x="3735" y="1186"/>
                  <a:pt x="3735" y="1186"/>
                  <a:pt x="3735" y="1186"/>
                </a:cubicBezTo>
                <a:cubicBezTo>
                  <a:pt x="3717" y="1186"/>
                  <a:pt x="3717" y="1186"/>
                  <a:pt x="3717" y="1186"/>
                </a:cubicBezTo>
                <a:cubicBezTo>
                  <a:pt x="3676" y="1174"/>
                  <a:pt x="3676" y="1174"/>
                  <a:pt x="3676" y="1174"/>
                </a:cubicBezTo>
                <a:cubicBezTo>
                  <a:pt x="3635" y="1186"/>
                  <a:pt x="3635" y="1186"/>
                  <a:pt x="3635" y="1186"/>
                </a:cubicBezTo>
                <a:cubicBezTo>
                  <a:pt x="3640" y="1215"/>
                  <a:pt x="3640" y="1215"/>
                  <a:pt x="3640" y="1215"/>
                </a:cubicBezTo>
                <a:cubicBezTo>
                  <a:pt x="3676" y="1251"/>
                  <a:pt x="3676" y="1251"/>
                  <a:pt x="3676" y="1251"/>
                </a:cubicBezTo>
                <a:cubicBezTo>
                  <a:pt x="3664" y="1287"/>
                  <a:pt x="3664" y="1287"/>
                  <a:pt x="3664" y="1287"/>
                </a:cubicBezTo>
                <a:cubicBezTo>
                  <a:pt x="3664" y="1287"/>
                  <a:pt x="3646" y="1304"/>
                  <a:pt x="3635" y="1299"/>
                </a:cubicBezTo>
                <a:cubicBezTo>
                  <a:pt x="3623" y="1293"/>
                  <a:pt x="3593" y="1269"/>
                  <a:pt x="3593" y="1269"/>
                </a:cubicBezTo>
                <a:cubicBezTo>
                  <a:pt x="3563" y="1269"/>
                  <a:pt x="3563" y="1269"/>
                  <a:pt x="3563" y="1269"/>
                </a:cubicBezTo>
                <a:cubicBezTo>
                  <a:pt x="3557" y="1304"/>
                  <a:pt x="3557" y="1304"/>
                  <a:pt x="3557" y="1304"/>
                </a:cubicBezTo>
                <a:cubicBezTo>
                  <a:pt x="3599" y="1328"/>
                  <a:pt x="3599" y="1328"/>
                  <a:pt x="3599" y="1328"/>
                </a:cubicBezTo>
                <a:cubicBezTo>
                  <a:pt x="3629" y="1346"/>
                  <a:pt x="3629" y="1346"/>
                  <a:pt x="3629" y="1346"/>
                </a:cubicBezTo>
                <a:cubicBezTo>
                  <a:pt x="3676" y="1358"/>
                  <a:pt x="3676" y="1358"/>
                  <a:pt x="3676" y="1358"/>
                </a:cubicBezTo>
                <a:cubicBezTo>
                  <a:pt x="3676" y="1358"/>
                  <a:pt x="3700" y="1393"/>
                  <a:pt x="3700" y="1405"/>
                </a:cubicBezTo>
                <a:cubicBezTo>
                  <a:pt x="3700" y="1417"/>
                  <a:pt x="3765" y="1435"/>
                  <a:pt x="3765" y="1435"/>
                </a:cubicBezTo>
                <a:close/>
                <a:moveTo>
                  <a:pt x="3445" y="1257"/>
                </a:moveTo>
                <a:lnTo>
                  <a:pt x="3445" y="1257"/>
                </a:lnTo>
                <a:cubicBezTo>
                  <a:pt x="3457" y="1215"/>
                  <a:pt x="3457" y="1215"/>
                  <a:pt x="3457" y="1215"/>
                </a:cubicBezTo>
                <a:cubicBezTo>
                  <a:pt x="3433" y="1192"/>
                  <a:pt x="3433" y="1192"/>
                  <a:pt x="3433" y="1192"/>
                </a:cubicBezTo>
                <a:cubicBezTo>
                  <a:pt x="3344" y="1180"/>
                  <a:pt x="3344" y="1180"/>
                  <a:pt x="3344" y="1180"/>
                </a:cubicBezTo>
                <a:cubicBezTo>
                  <a:pt x="3326" y="1204"/>
                  <a:pt x="3326" y="1204"/>
                  <a:pt x="3326" y="1204"/>
                </a:cubicBezTo>
                <a:cubicBezTo>
                  <a:pt x="3326" y="1204"/>
                  <a:pt x="3362" y="1233"/>
                  <a:pt x="3374" y="1239"/>
                </a:cubicBezTo>
                <a:cubicBezTo>
                  <a:pt x="3385" y="1239"/>
                  <a:pt x="3415" y="1281"/>
                  <a:pt x="3415" y="1281"/>
                </a:cubicBezTo>
                <a:lnTo>
                  <a:pt x="3445" y="1257"/>
                </a:lnTo>
                <a:close/>
                <a:moveTo>
                  <a:pt x="3261" y="1192"/>
                </a:moveTo>
                <a:lnTo>
                  <a:pt x="3261" y="1192"/>
                </a:lnTo>
                <a:cubicBezTo>
                  <a:pt x="3237" y="1210"/>
                  <a:pt x="3237" y="1210"/>
                  <a:pt x="3237" y="1210"/>
                </a:cubicBezTo>
                <a:cubicBezTo>
                  <a:pt x="3279" y="1215"/>
                  <a:pt x="3279" y="1215"/>
                  <a:pt x="3279" y="1215"/>
                </a:cubicBezTo>
                <a:cubicBezTo>
                  <a:pt x="3291" y="1186"/>
                  <a:pt x="3291" y="1186"/>
                  <a:pt x="3291" y="1186"/>
                </a:cubicBezTo>
                <a:lnTo>
                  <a:pt x="3261" y="1192"/>
                </a:lnTo>
                <a:close/>
                <a:moveTo>
                  <a:pt x="2982" y="670"/>
                </a:moveTo>
                <a:lnTo>
                  <a:pt x="2982" y="670"/>
                </a:lnTo>
                <a:cubicBezTo>
                  <a:pt x="3030" y="670"/>
                  <a:pt x="3030" y="670"/>
                  <a:pt x="3030" y="670"/>
                </a:cubicBezTo>
                <a:cubicBezTo>
                  <a:pt x="3101" y="670"/>
                  <a:pt x="3101" y="670"/>
                  <a:pt x="3101" y="670"/>
                </a:cubicBezTo>
                <a:cubicBezTo>
                  <a:pt x="3184" y="670"/>
                  <a:pt x="3184" y="670"/>
                  <a:pt x="3184" y="670"/>
                </a:cubicBezTo>
                <a:cubicBezTo>
                  <a:pt x="3184" y="670"/>
                  <a:pt x="3190" y="646"/>
                  <a:pt x="3172" y="640"/>
                </a:cubicBezTo>
                <a:cubicBezTo>
                  <a:pt x="3160" y="640"/>
                  <a:pt x="3119" y="623"/>
                  <a:pt x="3119" y="623"/>
                </a:cubicBezTo>
                <a:cubicBezTo>
                  <a:pt x="3065" y="629"/>
                  <a:pt x="3065" y="629"/>
                  <a:pt x="3065" y="629"/>
                </a:cubicBezTo>
                <a:cubicBezTo>
                  <a:pt x="3024" y="640"/>
                  <a:pt x="3024" y="640"/>
                  <a:pt x="3024" y="640"/>
                </a:cubicBezTo>
                <a:lnTo>
                  <a:pt x="2982" y="670"/>
                </a:lnTo>
                <a:close/>
                <a:moveTo>
                  <a:pt x="3036" y="800"/>
                </a:moveTo>
                <a:lnTo>
                  <a:pt x="3036" y="800"/>
                </a:lnTo>
                <a:cubicBezTo>
                  <a:pt x="3071" y="789"/>
                  <a:pt x="3071" y="789"/>
                  <a:pt x="3071" y="789"/>
                </a:cubicBezTo>
                <a:cubicBezTo>
                  <a:pt x="3131" y="783"/>
                  <a:pt x="3131" y="783"/>
                  <a:pt x="3131" y="783"/>
                </a:cubicBezTo>
                <a:cubicBezTo>
                  <a:pt x="3148" y="759"/>
                  <a:pt x="3148" y="759"/>
                  <a:pt x="3148" y="759"/>
                </a:cubicBezTo>
                <a:cubicBezTo>
                  <a:pt x="3119" y="735"/>
                  <a:pt x="3119" y="735"/>
                  <a:pt x="3119" y="735"/>
                </a:cubicBezTo>
                <a:cubicBezTo>
                  <a:pt x="3148" y="729"/>
                  <a:pt x="3148" y="729"/>
                  <a:pt x="3148" y="729"/>
                </a:cubicBezTo>
                <a:cubicBezTo>
                  <a:pt x="3166" y="706"/>
                  <a:pt x="3166" y="706"/>
                  <a:pt x="3166" y="706"/>
                </a:cubicBezTo>
                <a:cubicBezTo>
                  <a:pt x="3131" y="706"/>
                  <a:pt x="3131" y="706"/>
                  <a:pt x="3131" y="706"/>
                </a:cubicBezTo>
                <a:cubicBezTo>
                  <a:pt x="3059" y="706"/>
                  <a:pt x="3059" y="706"/>
                  <a:pt x="3059" y="706"/>
                </a:cubicBezTo>
                <a:cubicBezTo>
                  <a:pt x="3018" y="718"/>
                  <a:pt x="3018" y="718"/>
                  <a:pt x="3018" y="718"/>
                </a:cubicBezTo>
                <a:cubicBezTo>
                  <a:pt x="2976" y="741"/>
                  <a:pt x="2976" y="741"/>
                  <a:pt x="2976" y="741"/>
                </a:cubicBezTo>
                <a:cubicBezTo>
                  <a:pt x="3012" y="795"/>
                  <a:pt x="3012" y="795"/>
                  <a:pt x="3012" y="795"/>
                </a:cubicBezTo>
                <a:lnTo>
                  <a:pt x="3036" y="800"/>
                </a:lnTo>
                <a:close/>
                <a:moveTo>
                  <a:pt x="2941" y="747"/>
                </a:moveTo>
                <a:lnTo>
                  <a:pt x="2941" y="747"/>
                </a:lnTo>
                <a:cubicBezTo>
                  <a:pt x="2935" y="711"/>
                  <a:pt x="2935" y="711"/>
                  <a:pt x="2935" y="711"/>
                </a:cubicBezTo>
                <a:cubicBezTo>
                  <a:pt x="2887" y="694"/>
                  <a:pt x="2887" y="694"/>
                  <a:pt x="2887" y="694"/>
                </a:cubicBezTo>
                <a:cubicBezTo>
                  <a:pt x="2864" y="694"/>
                  <a:pt x="2864" y="694"/>
                  <a:pt x="2864" y="694"/>
                </a:cubicBezTo>
                <a:cubicBezTo>
                  <a:pt x="2876" y="723"/>
                  <a:pt x="2876" y="723"/>
                  <a:pt x="2876" y="723"/>
                </a:cubicBezTo>
                <a:cubicBezTo>
                  <a:pt x="2893" y="741"/>
                  <a:pt x="2893" y="741"/>
                  <a:pt x="2893" y="741"/>
                </a:cubicBezTo>
                <a:lnTo>
                  <a:pt x="2941" y="747"/>
                </a:lnTo>
                <a:close/>
                <a:moveTo>
                  <a:pt x="2881" y="889"/>
                </a:moveTo>
                <a:lnTo>
                  <a:pt x="2881" y="889"/>
                </a:lnTo>
                <a:cubicBezTo>
                  <a:pt x="2828" y="907"/>
                  <a:pt x="2828" y="907"/>
                  <a:pt x="2828" y="907"/>
                </a:cubicBezTo>
                <a:cubicBezTo>
                  <a:pt x="2799" y="949"/>
                  <a:pt x="2799" y="949"/>
                  <a:pt x="2799" y="949"/>
                </a:cubicBezTo>
                <a:cubicBezTo>
                  <a:pt x="2769" y="972"/>
                  <a:pt x="2769" y="972"/>
                  <a:pt x="2769" y="972"/>
                </a:cubicBezTo>
                <a:cubicBezTo>
                  <a:pt x="2739" y="1008"/>
                  <a:pt x="2739" y="1008"/>
                  <a:pt x="2739" y="1008"/>
                </a:cubicBezTo>
                <a:cubicBezTo>
                  <a:pt x="2745" y="1038"/>
                  <a:pt x="2745" y="1038"/>
                  <a:pt x="2745" y="1038"/>
                </a:cubicBezTo>
                <a:cubicBezTo>
                  <a:pt x="2804" y="1044"/>
                  <a:pt x="2804" y="1044"/>
                  <a:pt x="2804" y="1044"/>
                </a:cubicBezTo>
                <a:cubicBezTo>
                  <a:pt x="2864" y="1055"/>
                  <a:pt x="2864" y="1055"/>
                  <a:pt x="2864" y="1055"/>
                </a:cubicBezTo>
                <a:cubicBezTo>
                  <a:pt x="2911" y="1050"/>
                  <a:pt x="2911" y="1050"/>
                  <a:pt x="2911" y="1050"/>
                </a:cubicBezTo>
                <a:cubicBezTo>
                  <a:pt x="2953" y="1032"/>
                  <a:pt x="2953" y="1032"/>
                  <a:pt x="2953" y="1032"/>
                </a:cubicBezTo>
                <a:cubicBezTo>
                  <a:pt x="3030" y="1044"/>
                  <a:pt x="3030" y="1044"/>
                  <a:pt x="3030" y="1044"/>
                </a:cubicBezTo>
                <a:cubicBezTo>
                  <a:pt x="3077" y="1044"/>
                  <a:pt x="3077" y="1044"/>
                  <a:pt x="3077" y="1044"/>
                </a:cubicBezTo>
                <a:cubicBezTo>
                  <a:pt x="3059" y="1061"/>
                  <a:pt x="3018" y="1061"/>
                  <a:pt x="3018" y="1061"/>
                </a:cubicBezTo>
                <a:cubicBezTo>
                  <a:pt x="2965" y="1061"/>
                  <a:pt x="2965" y="1061"/>
                  <a:pt x="2965" y="1061"/>
                </a:cubicBezTo>
                <a:cubicBezTo>
                  <a:pt x="2929" y="1079"/>
                  <a:pt x="2929" y="1079"/>
                  <a:pt x="2929" y="1079"/>
                </a:cubicBezTo>
                <a:cubicBezTo>
                  <a:pt x="2935" y="1109"/>
                  <a:pt x="2935" y="1109"/>
                  <a:pt x="2935" y="1109"/>
                </a:cubicBezTo>
                <a:cubicBezTo>
                  <a:pt x="2965" y="1121"/>
                  <a:pt x="2965" y="1121"/>
                  <a:pt x="2965" y="1121"/>
                </a:cubicBezTo>
                <a:cubicBezTo>
                  <a:pt x="3036" y="1121"/>
                  <a:pt x="3036" y="1121"/>
                  <a:pt x="3036" y="1121"/>
                </a:cubicBezTo>
                <a:cubicBezTo>
                  <a:pt x="3107" y="1097"/>
                  <a:pt x="3107" y="1097"/>
                  <a:pt x="3107" y="1097"/>
                </a:cubicBezTo>
                <a:cubicBezTo>
                  <a:pt x="3154" y="1061"/>
                  <a:pt x="3154" y="1061"/>
                  <a:pt x="3154" y="1061"/>
                </a:cubicBezTo>
                <a:cubicBezTo>
                  <a:pt x="3208" y="1055"/>
                  <a:pt x="3208" y="1055"/>
                  <a:pt x="3208" y="1055"/>
                </a:cubicBezTo>
                <a:cubicBezTo>
                  <a:pt x="3273" y="1055"/>
                  <a:pt x="3273" y="1055"/>
                  <a:pt x="3273" y="1055"/>
                </a:cubicBezTo>
                <a:cubicBezTo>
                  <a:pt x="3344" y="1055"/>
                  <a:pt x="3344" y="1055"/>
                  <a:pt x="3344" y="1055"/>
                </a:cubicBezTo>
                <a:cubicBezTo>
                  <a:pt x="3368" y="1026"/>
                  <a:pt x="3368" y="1026"/>
                  <a:pt x="3368" y="1026"/>
                </a:cubicBezTo>
                <a:cubicBezTo>
                  <a:pt x="3385" y="961"/>
                  <a:pt x="3385" y="961"/>
                  <a:pt x="3385" y="961"/>
                </a:cubicBezTo>
                <a:cubicBezTo>
                  <a:pt x="3362" y="943"/>
                  <a:pt x="3362" y="943"/>
                  <a:pt x="3362" y="943"/>
                </a:cubicBezTo>
                <a:cubicBezTo>
                  <a:pt x="3332" y="943"/>
                  <a:pt x="3332" y="943"/>
                  <a:pt x="3332" y="943"/>
                </a:cubicBezTo>
                <a:cubicBezTo>
                  <a:pt x="3326" y="966"/>
                  <a:pt x="3326" y="966"/>
                  <a:pt x="3326" y="966"/>
                </a:cubicBezTo>
                <a:cubicBezTo>
                  <a:pt x="3285" y="955"/>
                  <a:pt x="3285" y="955"/>
                  <a:pt x="3285" y="955"/>
                </a:cubicBezTo>
                <a:cubicBezTo>
                  <a:pt x="3237" y="913"/>
                  <a:pt x="3237" y="913"/>
                  <a:pt x="3237" y="913"/>
                </a:cubicBezTo>
                <a:cubicBezTo>
                  <a:pt x="3237" y="884"/>
                  <a:pt x="3237" y="884"/>
                  <a:pt x="3237" y="884"/>
                </a:cubicBezTo>
                <a:cubicBezTo>
                  <a:pt x="3219" y="854"/>
                  <a:pt x="3219" y="854"/>
                  <a:pt x="3219" y="854"/>
                </a:cubicBezTo>
                <a:cubicBezTo>
                  <a:pt x="3178" y="854"/>
                  <a:pt x="3178" y="854"/>
                  <a:pt x="3178" y="854"/>
                </a:cubicBezTo>
                <a:cubicBezTo>
                  <a:pt x="3160" y="872"/>
                  <a:pt x="3160" y="872"/>
                  <a:pt x="3160" y="872"/>
                </a:cubicBezTo>
                <a:cubicBezTo>
                  <a:pt x="3131" y="877"/>
                  <a:pt x="3131" y="877"/>
                  <a:pt x="3131" y="877"/>
                </a:cubicBezTo>
                <a:cubicBezTo>
                  <a:pt x="3131" y="901"/>
                  <a:pt x="3131" y="901"/>
                  <a:pt x="3131" y="901"/>
                </a:cubicBezTo>
                <a:cubicBezTo>
                  <a:pt x="3166" y="925"/>
                  <a:pt x="3166" y="925"/>
                  <a:pt x="3166" y="925"/>
                </a:cubicBezTo>
                <a:cubicBezTo>
                  <a:pt x="3166" y="949"/>
                  <a:pt x="3160" y="966"/>
                  <a:pt x="3160" y="966"/>
                </a:cubicBezTo>
                <a:cubicBezTo>
                  <a:pt x="3202" y="972"/>
                  <a:pt x="3202" y="972"/>
                  <a:pt x="3202" y="972"/>
                </a:cubicBezTo>
                <a:cubicBezTo>
                  <a:pt x="3202" y="972"/>
                  <a:pt x="3213" y="996"/>
                  <a:pt x="3202" y="996"/>
                </a:cubicBezTo>
                <a:cubicBezTo>
                  <a:pt x="3190" y="1002"/>
                  <a:pt x="3166" y="1002"/>
                  <a:pt x="3166" y="1002"/>
                </a:cubicBezTo>
                <a:cubicBezTo>
                  <a:pt x="3107" y="1002"/>
                  <a:pt x="3107" y="1002"/>
                  <a:pt x="3107" y="1002"/>
                </a:cubicBezTo>
                <a:cubicBezTo>
                  <a:pt x="3071" y="978"/>
                  <a:pt x="3071" y="978"/>
                  <a:pt x="3071" y="978"/>
                </a:cubicBezTo>
                <a:cubicBezTo>
                  <a:pt x="3036" y="931"/>
                  <a:pt x="3036" y="931"/>
                  <a:pt x="3036" y="931"/>
                </a:cubicBezTo>
                <a:cubicBezTo>
                  <a:pt x="2988" y="913"/>
                  <a:pt x="2988" y="913"/>
                  <a:pt x="2988" y="913"/>
                </a:cubicBezTo>
                <a:cubicBezTo>
                  <a:pt x="2953" y="913"/>
                  <a:pt x="2953" y="913"/>
                  <a:pt x="2953" y="913"/>
                </a:cubicBezTo>
                <a:cubicBezTo>
                  <a:pt x="2911" y="895"/>
                  <a:pt x="2911" y="895"/>
                  <a:pt x="2911" y="895"/>
                </a:cubicBezTo>
                <a:lnTo>
                  <a:pt x="2881" y="889"/>
                </a:lnTo>
                <a:close/>
                <a:moveTo>
                  <a:pt x="2899" y="836"/>
                </a:moveTo>
                <a:lnTo>
                  <a:pt x="2899" y="836"/>
                </a:lnTo>
                <a:cubicBezTo>
                  <a:pt x="2905" y="860"/>
                  <a:pt x="2905" y="860"/>
                  <a:pt x="2905" y="860"/>
                </a:cubicBezTo>
                <a:cubicBezTo>
                  <a:pt x="2965" y="866"/>
                  <a:pt x="2965" y="866"/>
                  <a:pt x="2965" y="866"/>
                </a:cubicBezTo>
                <a:cubicBezTo>
                  <a:pt x="2965" y="836"/>
                  <a:pt x="2965" y="836"/>
                  <a:pt x="2965" y="836"/>
                </a:cubicBezTo>
                <a:cubicBezTo>
                  <a:pt x="2965" y="836"/>
                  <a:pt x="2899" y="848"/>
                  <a:pt x="2899" y="836"/>
                </a:cubicBezTo>
                <a:close/>
                <a:moveTo>
                  <a:pt x="2668" y="955"/>
                </a:moveTo>
                <a:lnTo>
                  <a:pt x="2668" y="955"/>
                </a:lnTo>
                <a:cubicBezTo>
                  <a:pt x="2644" y="990"/>
                  <a:pt x="2644" y="990"/>
                  <a:pt x="2644" y="990"/>
                </a:cubicBezTo>
                <a:cubicBezTo>
                  <a:pt x="2698" y="1002"/>
                  <a:pt x="2698" y="1002"/>
                  <a:pt x="2698" y="1002"/>
                </a:cubicBezTo>
                <a:cubicBezTo>
                  <a:pt x="2721" y="943"/>
                  <a:pt x="2721" y="943"/>
                  <a:pt x="2721" y="943"/>
                </a:cubicBezTo>
                <a:lnTo>
                  <a:pt x="2668" y="955"/>
                </a:lnTo>
                <a:close/>
                <a:moveTo>
                  <a:pt x="2763" y="884"/>
                </a:moveTo>
                <a:lnTo>
                  <a:pt x="2763" y="884"/>
                </a:lnTo>
                <a:cubicBezTo>
                  <a:pt x="2810" y="872"/>
                  <a:pt x="2810" y="872"/>
                  <a:pt x="2810" y="872"/>
                </a:cubicBezTo>
                <a:cubicBezTo>
                  <a:pt x="2822" y="812"/>
                  <a:pt x="2822" y="812"/>
                  <a:pt x="2822" y="812"/>
                </a:cubicBezTo>
                <a:cubicBezTo>
                  <a:pt x="2840" y="777"/>
                  <a:pt x="2840" y="777"/>
                  <a:pt x="2840" y="777"/>
                </a:cubicBezTo>
                <a:cubicBezTo>
                  <a:pt x="2781" y="765"/>
                  <a:pt x="2781" y="765"/>
                  <a:pt x="2781" y="765"/>
                </a:cubicBezTo>
                <a:cubicBezTo>
                  <a:pt x="2745" y="795"/>
                  <a:pt x="2745" y="795"/>
                  <a:pt x="2745" y="795"/>
                </a:cubicBezTo>
                <a:cubicBezTo>
                  <a:pt x="2680" y="795"/>
                  <a:pt x="2680" y="795"/>
                  <a:pt x="2680" y="795"/>
                </a:cubicBezTo>
                <a:cubicBezTo>
                  <a:pt x="2638" y="789"/>
                  <a:pt x="2638" y="789"/>
                  <a:pt x="2638" y="789"/>
                </a:cubicBezTo>
                <a:cubicBezTo>
                  <a:pt x="2638" y="789"/>
                  <a:pt x="2609" y="836"/>
                  <a:pt x="2597" y="848"/>
                </a:cubicBezTo>
                <a:cubicBezTo>
                  <a:pt x="2591" y="860"/>
                  <a:pt x="2555" y="889"/>
                  <a:pt x="2555" y="889"/>
                </a:cubicBezTo>
                <a:cubicBezTo>
                  <a:pt x="2502" y="889"/>
                  <a:pt x="2502" y="889"/>
                  <a:pt x="2502" y="889"/>
                </a:cubicBezTo>
                <a:cubicBezTo>
                  <a:pt x="2455" y="913"/>
                  <a:pt x="2455" y="913"/>
                  <a:pt x="2455" y="913"/>
                </a:cubicBezTo>
                <a:cubicBezTo>
                  <a:pt x="2478" y="949"/>
                  <a:pt x="2478" y="949"/>
                  <a:pt x="2478" y="949"/>
                </a:cubicBezTo>
                <a:cubicBezTo>
                  <a:pt x="2532" y="966"/>
                  <a:pt x="2532" y="966"/>
                  <a:pt x="2532" y="966"/>
                </a:cubicBezTo>
                <a:cubicBezTo>
                  <a:pt x="2555" y="937"/>
                  <a:pt x="2555" y="937"/>
                  <a:pt x="2555" y="937"/>
                </a:cubicBezTo>
                <a:cubicBezTo>
                  <a:pt x="2591" y="961"/>
                  <a:pt x="2591" y="961"/>
                  <a:pt x="2591" y="961"/>
                </a:cubicBezTo>
                <a:cubicBezTo>
                  <a:pt x="2621" y="943"/>
                  <a:pt x="2621" y="943"/>
                  <a:pt x="2621" y="943"/>
                </a:cubicBezTo>
                <a:cubicBezTo>
                  <a:pt x="2626" y="919"/>
                  <a:pt x="2626" y="919"/>
                  <a:pt x="2626" y="919"/>
                </a:cubicBezTo>
                <a:cubicBezTo>
                  <a:pt x="2662" y="919"/>
                  <a:pt x="2662" y="919"/>
                  <a:pt x="2662" y="919"/>
                </a:cubicBezTo>
                <a:cubicBezTo>
                  <a:pt x="2674" y="884"/>
                  <a:pt x="2674" y="884"/>
                  <a:pt x="2674" y="884"/>
                </a:cubicBezTo>
                <a:cubicBezTo>
                  <a:pt x="2710" y="860"/>
                  <a:pt x="2710" y="860"/>
                  <a:pt x="2710" y="860"/>
                </a:cubicBezTo>
                <a:cubicBezTo>
                  <a:pt x="2733" y="895"/>
                  <a:pt x="2733" y="895"/>
                  <a:pt x="2733" y="895"/>
                </a:cubicBezTo>
                <a:lnTo>
                  <a:pt x="2763" y="884"/>
                </a:lnTo>
                <a:close/>
                <a:moveTo>
                  <a:pt x="2799" y="1631"/>
                </a:moveTo>
                <a:lnTo>
                  <a:pt x="2799" y="1631"/>
                </a:lnTo>
                <a:cubicBezTo>
                  <a:pt x="2876" y="1636"/>
                  <a:pt x="2876" y="1636"/>
                  <a:pt x="2876" y="1636"/>
                </a:cubicBezTo>
                <a:cubicBezTo>
                  <a:pt x="2935" y="1636"/>
                  <a:pt x="2935" y="1636"/>
                  <a:pt x="2935" y="1636"/>
                </a:cubicBezTo>
                <a:cubicBezTo>
                  <a:pt x="2965" y="1690"/>
                  <a:pt x="2965" y="1690"/>
                  <a:pt x="2965" y="1690"/>
                </a:cubicBezTo>
                <a:cubicBezTo>
                  <a:pt x="3006" y="1714"/>
                  <a:pt x="3006" y="1714"/>
                  <a:pt x="3006" y="1714"/>
                </a:cubicBezTo>
                <a:cubicBezTo>
                  <a:pt x="3083" y="1714"/>
                  <a:pt x="3083" y="1714"/>
                  <a:pt x="3083" y="1714"/>
                </a:cubicBezTo>
                <a:cubicBezTo>
                  <a:pt x="3154" y="1708"/>
                  <a:pt x="3154" y="1708"/>
                  <a:pt x="3154" y="1708"/>
                </a:cubicBezTo>
                <a:cubicBezTo>
                  <a:pt x="3202" y="1684"/>
                  <a:pt x="3202" y="1684"/>
                  <a:pt x="3202" y="1684"/>
                </a:cubicBezTo>
                <a:cubicBezTo>
                  <a:pt x="3255" y="1666"/>
                  <a:pt x="3255" y="1666"/>
                  <a:pt x="3255" y="1666"/>
                </a:cubicBezTo>
                <a:cubicBezTo>
                  <a:pt x="3302" y="1642"/>
                  <a:pt x="3302" y="1642"/>
                  <a:pt x="3302" y="1642"/>
                </a:cubicBezTo>
                <a:cubicBezTo>
                  <a:pt x="3332" y="1625"/>
                  <a:pt x="3332" y="1625"/>
                  <a:pt x="3332" y="1625"/>
                </a:cubicBezTo>
                <a:cubicBezTo>
                  <a:pt x="3356" y="1642"/>
                  <a:pt x="3356" y="1642"/>
                  <a:pt x="3356" y="1642"/>
                </a:cubicBezTo>
                <a:cubicBezTo>
                  <a:pt x="3385" y="1636"/>
                  <a:pt x="3385" y="1636"/>
                  <a:pt x="3385" y="1636"/>
                </a:cubicBezTo>
                <a:cubicBezTo>
                  <a:pt x="3468" y="1678"/>
                  <a:pt x="3468" y="1678"/>
                  <a:pt x="3468" y="1678"/>
                </a:cubicBezTo>
                <a:cubicBezTo>
                  <a:pt x="3522" y="1678"/>
                  <a:pt x="3522" y="1678"/>
                  <a:pt x="3522" y="1678"/>
                </a:cubicBezTo>
                <a:cubicBezTo>
                  <a:pt x="3569" y="1672"/>
                  <a:pt x="3569" y="1672"/>
                  <a:pt x="3569" y="1672"/>
                </a:cubicBezTo>
                <a:cubicBezTo>
                  <a:pt x="3587" y="1636"/>
                  <a:pt x="3587" y="1636"/>
                  <a:pt x="3587" y="1636"/>
                </a:cubicBezTo>
                <a:cubicBezTo>
                  <a:pt x="3551" y="1607"/>
                  <a:pt x="3551" y="1607"/>
                  <a:pt x="3551" y="1607"/>
                </a:cubicBezTo>
                <a:cubicBezTo>
                  <a:pt x="3581" y="1601"/>
                  <a:pt x="3581" y="1601"/>
                  <a:pt x="3581" y="1601"/>
                </a:cubicBezTo>
                <a:cubicBezTo>
                  <a:pt x="3629" y="1595"/>
                  <a:pt x="3629" y="1595"/>
                  <a:pt x="3629" y="1595"/>
                </a:cubicBezTo>
                <a:cubicBezTo>
                  <a:pt x="3640" y="1571"/>
                  <a:pt x="3640" y="1571"/>
                  <a:pt x="3640" y="1571"/>
                </a:cubicBezTo>
                <a:cubicBezTo>
                  <a:pt x="3593" y="1542"/>
                  <a:pt x="3593" y="1542"/>
                  <a:pt x="3593" y="1542"/>
                </a:cubicBezTo>
                <a:cubicBezTo>
                  <a:pt x="3498" y="1506"/>
                  <a:pt x="3498" y="1506"/>
                  <a:pt x="3498" y="1506"/>
                </a:cubicBezTo>
                <a:cubicBezTo>
                  <a:pt x="3451" y="1459"/>
                  <a:pt x="3451" y="1459"/>
                  <a:pt x="3451" y="1459"/>
                </a:cubicBezTo>
                <a:cubicBezTo>
                  <a:pt x="3462" y="1411"/>
                  <a:pt x="3462" y="1411"/>
                  <a:pt x="3462" y="1411"/>
                </a:cubicBezTo>
                <a:cubicBezTo>
                  <a:pt x="3415" y="1382"/>
                  <a:pt x="3415" y="1382"/>
                  <a:pt x="3415" y="1382"/>
                </a:cubicBezTo>
                <a:cubicBezTo>
                  <a:pt x="3409" y="1316"/>
                  <a:pt x="3409" y="1316"/>
                  <a:pt x="3409" y="1316"/>
                </a:cubicBezTo>
                <a:cubicBezTo>
                  <a:pt x="3374" y="1269"/>
                  <a:pt x="3374" y="1269"/>
                  <a:pt x="3374" y="1269"/>
                </a:cubicBezTo>
                <a:cubicBezTo>
                  <a:pt x="3314" y="1245"/>
                  <a:pt x="3314" y="1245"/>
                  <a:pt x="3314" y="1245"/>
                </a:cubicBezTo>
                <a:cubicBezTo>
                  <a:pt x="3261" y="1245"/>
                  <a:pt x="3261" y="1245"/>
                  <a:pt x="3261" y="1245"/>
                </a:cubicBezTo>
                <a:cubicBezTo>
                  <a:pt x="3261" y="1293"/>
                  <a:pt x="3261" y="1293"/>
                  <a:pt x="3261" y="1293"/>
                </a:cubicBezTo>
                <a:cubicBezTo>
                  <a:pt x="3267" y="1328"/>
                  <a:pt x="3267" y="1328"/>
                  <a:pt x="3267" y="1328"/>
                </a:cubicBezTo>
                <a:cubicBezTo>
                  <a:pt x="3297" y="1376"/>
                  <a:pt x="3297" y="1376"/>
                  <a:pt x="3297" y="1376"/>
                </a:cubicBezTo>
                <a:cubicBezTo>
                  <a:pt x="3279" y="1393"/>
                  <a:pt x="3279" y="1393"/>
                  <a:pt x="3279" y="1393"/>
                </a:cubicBezTo>
                <a:cubicBezTo>
                  <a:pt x="3255" y="1393"/>
                  <a:pt x="3255" y="1393"/>
                  <a:pt x="3255" y="1393"/>
                </a:cubicBezTo>
                <a:cubicBezTo>
                  <a:pt x="3231" y="1370"/>
                  <a:pt x="3231" y="1370"/>
                  <a:pt x="3231" y="1370"/>
                </a:cubicBezTo>
                <a:cubicBezTo>
                  <a:pt x="3225" y="1340"/>
                  <a:pt x="3225" y="1340"/>
                  <a:pt x="3225" y="1340"/>
                </a:cubicBezTo>
                <a:cubicBezTo>
                  <a:pt x="3213" y="1310"/>
                  <a:pt x="3213" y="1310"/>
                  <a:pt x="3213" y="1310"/>
                </a:cubicBezTo>
                <a:cubicBezTo>
                  <a:pt x="3172" y="1263"/>
                  <a:pt x="3172" y="1263"/>
                  <a:pt x="3172" y="1263"/>
                </a:cubicBezTo>
                <a:cubicBezTo>
                  <a:pt x="3125" y="1263"/>
                  <a:pt x="3125" y="1263"/>
                  <a:pt x="3125" y="1263"/>
                </a:cubicBezTo>
                <a:cubicBezTo>
                  <a:pt x="3136" y="1293"/>
                  <a:pt x="3136" y="1293"/>
                  <a:pt x="3136" y="1293"/>
                </a:cubicBezTo>
                <a:cubicBezTo>
                  <a:pt x="3154" y="1316"/>
                  <a:pt x="3154" y="1316"/>
                  <a:pt x="3154" y="1316"/>
                </a:cubicBezTo>
                <a:cubicBezTo>
                  <a:pt x="3107" y="1316"/>
                  <a:pt x="3107" y="1316"/>
                  <a:pt x="3107" y="1316"/>
                </a:cubicBezTo>
                <a:cubicBezTo>
                  <a:pt x="3107" y="1340"/>
                  <a:pt x="3107" y="1340"/>
                  <a:pt x="3107" y="1340"/>
                </a:cubicBezTo>
                <a:cubicBezTo>
                  <a:pt x="3065" y="1346"/>
                  <a:pt x="3065" y="1346"/>
                  <a:pt x="3065" y="1346"/>
                </a:cubicBezTo>
                <a:cubicBezTo>
                  <a:pt x="3071" y="1322"/>
                  <a:pt x="3071" y="1322"/>
                  <a:pt x="3071" y="1322"/>
                </a:cubicBezTo>
                <a:cubicBezTo>
                  <a:pt x="3083" y="1287"/>
                  <a:pt x="3083" y="1287"/>
                  <a:pt x="3083" y="1287"/>
                </a:cubicBezTo>
                <a:cubicBezTo>
                  <a:pt x="3047" y="1287"/>
                  <a:pt x="3047" y="1287"/>
                  <a:pt x="3047" y="1287"/>
                </a:cubicBezTo>
                <a:cubicBezTo>
                  <a:pt x="3006" y="1269"/>
                  <a:pt x="3006" y="1269"/>
                  <a:pt x="3006" y="1269"/>
                </a:cubicBezTo>
                <a:cubicBezTo>
                  <a:pt x="2965" y="1275"/>
                  <a:pt x="2965" y="1275"/>
                  <a:pt x="2965" y="1275"/>
                </a:cubicBezTo>
                <a:cubicBezTo>
                  <a:pt x="2958" y="1304"/>
                  <a:pt x="2958" y="1304"/>
                  <a:pt x="2958" y="1304"/>
                </a:cubicBezTo>
                <a:cubicBezTo>
                  <a:pt x="2923" y="1299"/>
                  <a:pt x="2923" y="1299"/>
                  <a:pt x="2923" y="1299"/>
                </a:cubicBezTo>
                <a:cubicBezTo>
                  <a:pt x="2935" y="1281"/>
                  <a:pt x="2935" y="1281"/>
                  <a:pt x="2935" y="1281"/>
                </a:cubicBezTo>
                <a:cubicBezTo>
                  <a:pt x="2923" y="1239"/>
                  <a:pt x="2923" y="1239"/>
                  <a:pt x="2923" y="1239"/>
                </a:cubicBezTo>
                <a:cubicBezTo>
                  <a:pt x="2899" y="1233"/>
                  <a:pt x="2899" y="1233"/>
                  <a:pt x="2899" y="1233"/>
                </a:cubicBezTo>
                <a:cubicBezTo>
                  <a:pt x="2852" y="1233"/>
                  <a:pt x="2852" y="1233"/>
                  <a:pt x="2852" y="1233"/>
                </a:cubicBezTo>
                <a:cubicBezTo>
                  <a:pt x="2816" y="1263"/>
                  <a:pt x="2816" y="1263"/>
                  <a:pt x="2816" y="1263"/>
                </a:cubicBezTo>
                <a:cubicBezTo>
                  <a:pt x="2781" y="1275"/>
                  <a:pt x="2781" y="1275"/>
                  <a:pt x="2781" y="1275"/>
                </a:cubicBezTo>
                <a:cubicBezTo>
                  <a:pt x="2733" y="1287"/>
                  <a:pt x="2733" y="1287"/>
                  <a:pt x="2733" y="1287"/>
                </a:cubicBezTo>
                <a:cubicBezTo>
                  <a:pt x="2698" y="1310"/>
                  <a:pt x="2698" y="1310"/>
                  <a:pt x="2698" y="1310"/>
                </a:cubicBezTo>
                <a:cubicBezTo>
                  <a:pt x="2704" y="1352"/>
                  <a:pt x="2704" y="1352"/>
                  <a:pt x="2704" y="1352"/>
                </a:cubicBezTo>
                <a:cubicBezTo>
                  <a:pt x="2656" y="1382"/>
                  <a:pt x="2656" y="1382"/>
                  <a:pt x="2656" y="1382"/>
                </a:cubicBezTo>
                <a:cubicBezTo>
                  <a:pt x="2656" y="1405"/>
                  <a:pt x="2656" y="1405"/>
                  <a:pt x="2656" y="1405"/>
                </a:cubicBezTo>
                <a:cubicBezTo>
                  <a:pt x="2692" y="1405"/>
                  <a:pt x="2692" y="1405"/>
                  <a:pt x="2692" y="1405"/>
                </a:cubicBezTo>
                <a:cubicBezTo>
                  <a:pt x="2715" y="1423"/>
                  <a:pt x="2715" y="1423"/>
                  <a:pt x="2715" y="1423"/>
                </a:cubicBezTo>
                <a:cubicBezTo>
                  <a:pt x="2757" y="1411"/>
                  <a:pt x="2757" y="1411"/>
                  <a:pt x="2757" y="1411"/>
                </a:cubicBezTo>
                <a:cubicBezTo>
                  <a:pt x="2810" y="1405"/>
                  <a:pt x="2810" y="1405"/>
                  <a:pt x="2810" y="1405"/>
                </a:cubicBezTo>
                <a:cubicBezTo>
                  <a:pt x="2846" y="1429"/>
                  <a:pt x="2846" y="1429"/>
                  <a:pt x="2846" y="1429"/>
                </a:cubicBezTo>
                <a:cubicBezTo>
                  <a:pt x="2792" y="1447"/>
                  <a:pt x="2792" y="1447"/>
                  <a:pt x="2792" y="1447"/>
                </a:cubicBezTo>
                <a:cubicBezTo>
                  <a:pt x="2745" y="1459"/>
                  <a:pt x="2745" y="1459"/>
                  <a:pt x="2745" y="1459"/>
                </a:cubicBezTo>
                <a:cubicBezTo>
                  <a:pt x="2721" y="1482"/>
                  <a:pt x="2721" y="1482"/>
                  <a:pt x="2721" y="1482"/>
                </a:cubicBezTo>
                <a:cubicBezTo>
                  <a:pt x="2787" y="1506"/>
                  <a:pt x="2787" y="1506"/>
                  <a:pt x="2787" y="1506"/>
                </a:cubicBezTo>
                <a:cubicBezTo>
                  <a:pt x="2846" y="1506"/>
                  <a:pt x="2846" y="1506"/>
                  <a:pt x="2846" y="1506"/>
                </a:cubicBezTo>
                <a:cubicBezTo>
                  <a:pt x="2917" y="1500"/>
                  <a:pt x="2917" y="1500"/>
                  <a:pt x="2917" y="1500"/>
                </a:cubicBezTo>
                <a:cubicBezTo>
                  <a:pt x="2976" y="1500"/>
                  <a:pt x="2976" y="1500"/>
                  <a:pt x="2976" y="1500"/>
                </a:cubicBezTo>
                <a:cubicBezTo>
                  <a:pt x="2976" y="1500"/>
                  <a:pt x="3012" y="1518"/>
                  <a:pt x="3024" y="1518"/>
                </a:cubicBezTo>
                <a:cubicBezTo>
                  <a:pt x="3036" y="1524"/>
                  <a:pt x="3018" y="1548"/>
                  <a:pt x="3018" y="1548"/>
                </a:cubicBezTo>
                <a:cubicBezTo>
                  <a:pt x="2917" y="1548"/>
                  <a:pt x="2917" y="1548"/>
                  <a:pt x="2917" y="1548"/>
                </a:cubicBezTo>
                <a:cubicBezTo>
                  <a:pt x="2828" y="1548"/>
                  <a:pt x="2828" y="1548"/>
                  <a:pt x="2828" y="1548"/>
                </a:cubicBezTo>
                <a:cubicBezTo>
                  <a:pt x="2763" y="1571"/>
                  <a:pt x="2763" y="1571"/>
                  <a:pt x="2763" y="1571"/>
                </a:cubicBezTo>
                <a:lnTo>
                  <a:pt x="2799" y="1631"/>
                </a:lnTo>
                <a:close/>
                <a:moveTo>
                  <a:pt x="3279" y="1743"/>
                </a:moveTo>
                <a:lnTo>
                  <a:pt x="3279" y="1743"/>
                </a:lnTo>
                <a:cubicBezTo>
                  <a:pt x="3326" y="1720"/>
                  <a:pt x="3326" y="1720"/>
                  <a:pt x="3326" y="1720"/>
                </a:cubicBezTo>
                <a:cubicBezTo>
                  <a:pt x="3368" y="1714"/>
                  <a:pt x="3368" y="1714"/>
                  <a:pt x="3368" y="1714"/>
                </a:cubicBezTo>
                <a:cubicBezTo>
                  <a:pt x="3374" y="1672"/>
                  <a:pt x="3374" y="1672"/>
                  <a:pt x="3374" y="1672"/>
                </a:cubicBezTo>
                <a:cubicBezTo>
                  <a:pt x="3297" y="1696"/>
                  <a:pt x="3297" y="1696"/>
                  <a:pt x="3297" y="1696"/>
                </a:cubicBezTo>
                <a:cubicBezTo>
                  <a:pt x="3219" y="1731"/>
                  <a:pt x="3219" y="1731"/>
                  <a:pt x="3219" y="1731"/>
                </a:cubicBezTo>
                <a:lnTo>
                  <a:pt x="3279" y="1743"/>
                </a:lnTo>
                <a:close/>
                <a:moveTo>
                  <a:pt x="2484" y="1435"/>
                </a:moveTo>
                <a:lnTo>
                  <a:pt x="2484" y="1435"/>
                </a:lnTo>
                <a:cubicBezTo>
                  <a:pt x="2544" y="1435"/>
                  <a:pt x="2544" y="1435"/>
                  <a:pt x="2544" y="1435"/>
                </a:cubicBezTo>
                <a:cubicBezTo>
                  <a:pt x="2579" y="1405"/>
                  <a:pt x="2579" y="1405"/>
                  <a:pt x="2579" y="1405"/>
                </a:cubicBezTo>
                <a:cubicBezTo>
                  <a:pt x="2591" y="1352"/>
                  <a:pt x="2591" y="1352"/>
                  <a:pt x="2591" y="1352"/>
                </a:cubicBezTo>
                <a:cubicBezTo>
                  <a:pt x="2591" y="1352"/>
                  <a:pt x="2644" y="1328"/>
                  <a:pt x="2644" y="1316"/>
                </a:cubicBezTo>
                <a:cubicBezTo>
                  <a:pt x="2650" y="1304"/>
                  <a:pt x="2686" y="1281"/>
                  <a:pt x="2686" y="1281"/>
                </a:cubicBezTo>
                <a:cubicBezTo>
                  <a:pt x="2787" y="1239"/>
                  <a:pt x="2787" y="1239"/>
                  <a:pt x="2787" y="1239"/>
                </a:cubicBezTo>
                <a:cubicBezTo>
                  <a:pt x="2852" y="1221"/>
                  <a:pt x="2852" y="1221"/>
                  <a:pt x="2852" y="1221"/>
                </a:cubicBezTo>
                <a:cubicBezTo>
                  <a:pt x="2846" y="1186"/>
                  <a:pt x="2846" y="1186"/>
                  <a:pt x="2846" y="1186"/>
                </a:cubicBezTo>
                <a:cubicBezTo>
                  <a:pt x="2763" y="1138"/>
                  <a:pt x="2763" y="1138"/>
                  <a:pt x="2763" y="1138"/>
                </a:cubicBezTo>
                <a:cubicBezTo>
                  <a:pt x="2721" y="1132"/>
                  <a:pt x="2721" y="1132"/>
                  <a:pt x="2721" y="1132"/>
                </a:cubicBezTo>
                <a:cubicBezTo>
                  <a:pt x="2662" y="1156"/>
                  <a:pt x="2662" y="1156"/>
                  <a:pt x="2662" y="1156"/>
                </a:cubicBezTo>
                <a:cubicBezTo>
                  <a:pt x="2603" y="1132"/>
                  <a:pt x="2603" y="1132"/>
                  <a:pt x="2603" y="1132"/>
                </a:cubicBezTo>
                <a:cubicBezTo>
                  <a:pt x="2538" y="1109"/>
                  <a:pt x="2538" y="1109"/>
                  <a:pt x="2538" y="1109"/>
                </a:cubicBezTo>
                <a:cubicBezTo>
                  <a:pt x="2460" y="1109"/>
                  <a:pt x="2460" y="1109"/>
                  <a:pt x="2460" y="1109"/>
                </a:cubicBezTo>
                <a:cubicBezTo>
                  <a:pt x="2360" y="1115"/>
                  <a:pt x="2360" y="1115"/>
                  <a:pt x="2360" y="1115"/>
                </a:cubicBezTo>
                <a:cubicBezTo>
                  <a:pt x="2360" y="1144"/>
                  <a:pt x="2360" y="1144"/>
                  <a:pt x="2360" y="1144"/>
                </a:cubicBezTo>
                <a:cubicBezTo>
                  <a:pt x="2378" y="1192"/>
                  <a:pt x="2378" y="1192"/>
                  <a:pt x="2378" y="1192"/>
                </a:cubicBezTo>
                <a:cubicBezTo>
                  <a:pt x="2360" y="1269"/>
                  <a:pt x="2360" y="1269"/>
                  <a:pt x="2360" y="1269"/>
                </a:cubicBezTo>
                <a:cubicBezTo>
                  <a:pt x="2277" y="1370"/>
                  <a:pt x="2277" y="1370"/>
                  <a:pt x="2277" y="1370"/>
                </a:cubicBezTo>
                <a:cubicBezTo>
                  <a:pt x="2378" y="1399"/>
                  <a:pt x="2378" y="1399"/>
                  <a:pt x="2378" y="1399"/>
                </a:cubicBezTo>
                <a:cubicBezTo>
                  <a:pt x="2431" y="1476"/>
                  <a:pt x="2431" y="1476"/>
                  <a:pt x="2431" y="1476"/>
                </a:cubicBezTo>
                <a:lnTo>
                  <a:pt x="2484" y="1435"/>
                </a:lnTo>
                <a:close/>
                <a:moveTo>
                  <a:pt x="107" y="2466"/>
                </a:moveTo>
                <a:lnTo>
                  <a:pt x="107" y="2466"/>
                </a:lnTo>
                <a:cubicBezTo>
                  <a:pt x="89" y="2425"/>
                  <a:pt x="89" y="2425"/>
                  <a:pt x="89" y="2425"/>
                </a:cubicBezTo>
                <a:cubicBezTo>
                  <a:pt x="41" y="2425"/>
                  <a:pt x="41" y="2425"/>
                  <a:pt x="41" y="2425"/>
                </a:cubicBezTo>
                <a:cubicBezTo>
                  <a:pt x="24" y="2443"/>
                  <a:pt x="24" y="2443"/>
                  <a:pt x="24" y="2443"/>
                </a:cubicBezTo>
                <a:cubicBezTo>
                  <a:pt x="30" y="2478"/>
                  <a:pt x="30" y="2478"/>
                  <a:pt x="30" y="2478"/>
                </a:cubicBezTo>
                <a:cubicBezTo>
                  <a:pt x="83" y="2478"/>
                  <a:pt x="83" y="2478"/>
                  <a:pt x="83" y="2478"/>
                </a:cubicBezTo>
                <a:lnTo>
                  <a:pt x="107" y="2466"/>
                </a:lnTo>
                <a:close/>
                <a:moveTo>
                  <a:pt x="1061" y="2407"/>
                </a:moveTo>
                <a:lnTo>
                  <a:pt x="1061" y="2407"/>
                </a:lnTo>
                <a:cubicBezTo>
                  <a:pt x="1061" y="2407"/>
                  <a:pt x="1049" y="2395"/>
                  <a:pt x="1049" y="2384"/>
                </a:cubicBezTo>
                <a:cubicBezTo>
                  <a:pt x="1049" y="2372"/>
                  <a:pt x="1079" y="2372"/>
                  <a:pt x="1079" y="2372"/>
                </a:cubicBezTo>
                <a:cubicBezTo>
                  <a:pt x="1150" y="2378"/>
                  <a:pt x="1150" y="2378"/>
                  <a:pt x="1150" y="2378"/>
                </a:cubicBezTo>
                <a:cubicBezTo>
                  <a:pt x="1210" y="2419"/>
                  <a:pt x="1210" y="2419"/>
                  <a:pt x="1210" y="2419"/>
                </a:cubicBezTo>
                <a:cubicBezTo>
                  <a:pt x="1275" y="2455"/>
                  <a:pt x="1275" y="2455"/>
                  <a:pt x="1275" y="2455"/>
                </a:cubicBezTo>
                <a:cubicBezTo>
                  <a:pt x="1346" y="2473"/>
                  <a:pt x="1346" y="2473"/>
                  <a:pt x="1346" y="2473"/>
                </a:cubicBezTo>
                <a:cubicBezTo>
                  <a:pt x="1405" y="2455"/>
                  <a:pt x="1405" y="2455"/>
                  <a:pt x="1405" y="2455"/>
                </a:cubicBezTo>
                <a:cubicBezTo>
                  <a:pt x="1453" y="2478"/>
                  <a:pt x="1453" y="2478"/>
                  <a:pt x="1453" y="2478"/>
                </a:cubicBezTo>
                <a:cubicBezTo>
                  <a:pt x="1494" y="2478"/>
                  <a:pt x="1494" y="2478"/>
                  <a:pt x="1494" y="2478"/>
                </a:cubicBezTo>
                <a:cubicBezTo>
                  <a:pt x="1542" y="2514"/>
                  <a:pt x="1542" y="2514"/>
                  <a:pt x="1542" y="2514"/>
                </a:cubicBezTo>
                <a:cubicBezTo>
                  <a:pt x="1613" y="2550"/>
                  <a:pt x="1613" y="2550"/>
                  <a:pt x="1613" y="2550"/>
                </a:cubicBezTo>
                <a:cubicBezTo>
                  <a:pt x="1648" y="2585"/>
                  <a:pt x="1648" y="2585"/>
                  <a:pt x="1648" y="2585"/>
                </a:cubicBezTo>
                <a:cubicBezTo>
                  <a:pt x="1648" y="2585"/>
                  <a:pt x="1696" y="2603"/>
                  <a:pt x="1708" y="2603"/>
                </a:cubicBezTo>
                <a:cubicBezTo>
                  <a:pt x="1719" y="2603"/>
                  <a:pt x="1731" y="2591"/>
                  <a:pt x="1731" y="2591"/>
                </a:cubicBezTo>
                <a:cubicBezTo>
                  <a:pt x="1779" y="2615"/>
                  <a:pt x="1779" y="2615"/>
                  <a:pt x="1779" y="2615"/>
                </a:cubicBezTo>
                <a:cubicBezTo>
                  <a:pt x="1802" y="2656"/>
                  <a:pt x="1802" y="2656"/>
                  <a:pt x="1802" y="2656"/>
                </a:cubicBezTo>
                <a:cubicBezTo>
                  <a:pt x="1874" y="2674"/>
                  <a:pt x="1874" y="2674"/>
                  <a:pt x="1874" y="2674"/>
                </a:cubicBezTo>
                <a:cubicBezTo>
                  <a:pt x="1862" y="2710"/>
                  <a:pt x="1862" y="2710"/>
                  <a:pt x="1862" y="2710"/>
                </a:cubicBezTo>
                <a:cubicBezTo>
                  <a:pt x="1921" y="2733"/>
                  <a:pt x="1921" y="2733"/>
                  <a:pt x="1921" y="2733"/>
                </a:cubicBezTo>
                <a:cubicBezTo>
                  <a:pt x="1909" y="2769"/>
                  <a:pt x="1909" y="2769"/>
                  <a:pt x="1909" y="2769"/>
                </a:cubicBezTo>
                <a:cubicBezTo>
                  <a:pt x="1951" y="2787"/>
                  <a:pt x="1951" y="2787"/>
                  <a:pt x="1951" y="2787"/>
                </a:cubicBezTo>
                <a:cubicBezTo>
                  <a:pt x="1992" y="2793"/>
                  <a:pt x="1992" y="2793"/>
                  <a:pt x="1992" y="2793"/>
                </a:cubicBezTo>
                <a:cubicBezTo>
                  <a:pt x="1992" y="2828"/>
                  <a:pt x="1992" y="2828"/>
                  <a:pt x="1992" y="2828"/>
                </a:cubicBezTo>
                <a:cubicBezTo>
                  <a:pt x="2028" y="2876"/>
                  <a:pt x="2028" y="2876"/>
                  <a:pt x="2028" y="2876"/>
                </a:cubicBezTo>
                <a:cubicBezTo>
                  <a:pt x="2034" y="2923"/>
                  <a:pt x="2034" y="2923"/>
                  <a:pt x="2034" y="2923"/>
                </a:cubicBezTo>
                <a:cubicBezTo>
                  <a:pt x="2051" y="2965"/>
                  <a:pt x="2051" y="2965"/>
                  <a:pt x="2051" y="2965"/>
                </a:cubicBezTo>
                <a:cubicBezTo>
                  <a:pt x="2105" y="2971"/>
                  <a:pt x="2105" y="2971"/>
                  <a:pt x="2105" y="2971"/>
                </a:cubicBezTo>
                <a:cubicBezTo>
                  <a:pt x="2117" y="3030"/>
                  <a:pt x="2117" y="3030"/>
                  <a:pt x="2117" y="3030"/>
                </a:cubicBezTo>
                <a:cubicBezTo>
                  <a:pt x="2170" y="3077"/>
                  <a:pt x="2170" y="3077"/>
                  <a:pt x="2170" y="3077"/>
                </a:cubicBezTo>
                <a:cubicBezTo>
                  <a:pt x="2182" y="3113"/>
                  <a:pt x="2182" y="3113"/>
                  <a:pt x="2182" y="3113"/>
                </a:cubicBezTo>
                <a:cubicBezTo>
                  <a:pt x="2241" y="3142"/>
                  <a:pt x="2241" y="3142"/>
                  <a:pt x="2241" y="3142"/>
                </a:cubicBezTo>
                <a:cubicBezTo>
                  <a:pt x="2294" y="3166"/>
                  <a:pt x="2294" y="3166"/>
                  <a:pt x="2294" y="3166"/>
                </a:cubicBezTo>
                <a:cubicBezTo>
                  <a:pt x="2336" y="3178"/>
                  <a:pt x="2336" y="3178"/>
                  <a:pt x="2336" y="3178"/>
                </a:cubicBezTo>
                <a:cubicBezTo>
                  <a:pt x="2348" y="3208"/>
                  <a:pt x="2348" y="3208"/>
                  <a:pt x="2348" y="3208"/>
                </a:cubicBezTo>
                <a:cubicBezTo>
                  <a:pt x="2407" y="3243"/>
                  <a:pt x="2407" y="3243"/>
                  <a:pt x="2407" y="3243"/>
                </a:cubicBezTo>
                <a:cubicBezTo>
                  <a:pt x="2449" y="3273"/>
                  <a:pt x="2449" y="3273"/>
                  <a:pt x="2449" y="3273"/>
                </a:cubicBezTo>
                <a:cubicBezTo>
                  <a:pt x="2472" y="3344"/>
                  <a:pt x="2472" y="3344"/>
                  <a:pt x="2472" y="3344"/>
                </a:cubicBezTo>
                <a:cubicBezTo>
                  <a:pt x="2472" y="3397"/>
                  <a:pt x="2472" y="3397"/>
                  <a:pt x="2472" y="3397"/>
                </a:cubicBezTo>
                <a:cubicBezTo>
                  <a:pt x="2437" y="3362"/>
                  <a:pt x="2437" y="3362"/>
                  <a:pt x="2437" y="3362"/>
                </a:cubicBezTo>
                <a:cubicBezTo>
                  <a:pt x="2401" y="3320"/>
                  <a:pt x="2401" y="3320"/>
                  <a:pt x="2401" y="3320"/>
                </a:cubicBezTo>
                <a:cubicBezTo>
                  <a:pt x="2395" y="3291"/>
                  <a:pt x="2395" y="3291"/>
                  <a:pt x="2395" y="3291"/>
                </a:cubicBezTo>
                <a:cubicBezTo>
                  <a:pt x="2348" y="3261"/>
                  <a:pt x="2348" y="3261"/>
                  <a:pt x="2348" y="3261"/>
                </a:cubicBezTo>
                <a:cubicBezTo>
                  <a:pt x="2318" y="3249"/>
                  <a:pt x="2318" y="3249"/>
                  <a:pt x="2318" y="3249"/>
                </a:cubicBezTo>
                <a:cubicBezTo>
                  <a:pt x="2312" y="3202"/>
                  <a:pt x="2312" y="3202"/>
                  <a:pt x="2312" y="3202"/>
                </a:cubicBezTo>
                <a:cubicBezTo>
                  <a:pt x="2271" y="3202"/>
                  <a:pt x="2271" y="3202"/>
                  <a:pt x="2271" y="3202"/>
                </a:cubicBezTo>
                <a:cubicBezTo>
                  <a:pt x="2241" y="3184"/>
                  <a:pt x="2241" y="3184"/>
                  <a:pt x="2241" y="3184"/>
                </a:cubicBezTo>
                <a:cubicBezTo>
                  <a:pt x="2212" y="3172"/>
                  <a:pt x="2212" y="3172"/>
                  <a:pt x="2212" y="3172"/>
                </a:cubicBezTo>
                <a:cubicBezTo>
                  <a:pt x="2182" y="3160"/>
                  <a:pt x="2182" y="3160"/>
                  <a:pt x="2182" y="3160"/>
                </a:cubicBezTo>
                <a:cubicBezTo>
                  <a:pt x="2152" y="3166"/>
                  <a:pt x="2152" y="3166"/>
                  <a:pt x="2152" y="3166"/>
                </a:cubicBezTo>
                <a:cubicBezTo>
                  <a:pt x="2182" y="3202"/>
                  <a:pt x="2182" y="3202"/>
                  <a:pt x="2182" y="3202"/>
                </a:cubicBezTo>
                <a:cubicBezTo>
                  <a:pt x="2217" y="3225"/>
                  <a:pt x="2217" y="3225"/>
                  <a:pt x="2217" y="3225"/>
                </a:cubicBezTo>
                <a:cubicBezTo>
                  <a:pt x="2253" y="3261"/>
                  <a:pt x="2253" y="3261"/>
                  <a:pt x="2253" y="3261"/>
                </a:cubicBezTo>
                <a:cubicBezTo>
                  <a:pt x="2330" y="3309"/>
                  <a:pt x="2330" y="3309"/>
                  <a:pt x="2330" y="3309"/>
                </a:cubicBezTo>
                <a:cubicBezTo>
                  <a:pt x="2354" y="3362"/>
                  <a:pt x="2354" y="3362"/>
                  <a:pt x="2354" y="3362"/>
                </a:cubicBezTo>
                <a:cubicBezTo>
                  <a:pt x="2383" y="3433"/>
                  <a:pt x="2383" y="3433"/>
                  <a:pt x="2383" y="3433"/>
                </a:cubicBezTo>
                <a:cubicBezTo>
                  <a:pt x="2383" y="3486"/>
                  <a:pt x="2383" y="3486"/>
                  <a:pt x="2383" y="3486"/>
                </a:cubicBezTo>
                <a:cubicBezTo>
                  <a:pt x="2378" y="3563"/>
                  <a:pt x="2378" y="3563"/>
                  <a:pt x="2378" y="3563"/>
                </a:cubicBezTo>
                <a:cubicBezTo>
                  <a:pt x="2378" y="3646"/>
                  <a:pt x="2378" y="3646"/>
                  <a:pt x="2378" y="3646"/>
                </a:cubicBezTo>
                <a:cubicBezTo>
                  <a:pt x="2348" y="3664"/>
                  <a:pt x="2348" y="3664"/>
                  <a:pt x="2348" y="3664"/>
                </a:cubicBezTo>
                <a:cubicBezTo>
                  <a:pt x="2348" y="3718"/>
                  <a:pt x="2348" y="3718"/>
                  <a:pt x="2348" y="3718"/>
                </a:cubicBezTo>
                <a:cubicBezTo>
                  <a:pt x="2383" y="3777"/>
                  <a:pt x="2383" y="3777"/>
                  <a:pt x="2383" y="3777"/>
                </a:cubicBezTo>
                <a:cubicBezTo>
                  <a:pt x="2372" y="3830"/>
                  <a:pt x="2372" y="3830"/>
                  <a:pt x="2372" y="3830"/>
                </a:cubicBezTo>
                <a:cubicBezTo>
                  <a:pt x="2378" y="3872"/>
                  <a:pt x="2378" y="3872"/>
                  <a:pt x="2378" y="3872"/>
                </a:cubicBezTo>
                <a:cubicBezTo>
                  <a:pt x="2401" y="3907"/>
                  <a:pt x="2401" y="3907"/>
                  <a:pt x="2401" y="3907"/>
                </a:cubicBezTo>
                <a:cubicBezTo>
                  <a:pt x="2401" y="3961"/>
                  <a:pt x="2401" y="3961"/>
                  <a:pt x="2401" y="3961"/>
                </a:cubicBezTo>
                <a:cubicBezTo>
                  <a:pt x="2431" y="4008"/>
                  <a:pt x="2431" y="4008"/>
                  <a:pt x="2431" y="4008"/>
                </a:cubicBezTo>
                <a:cubicBezTo>
                  <a:pt x="2472" y="4044"/>
                  <a:pt x="2472" y="4044"/>
                  <a:pt x="2472" y="4044"/>
                </a:cubicBezTo>
                <a:cubicBezTo>
                  <a:pt x="2496" y="4121"/>
                  <a:pt x="2496" y="4121"/>
                  <a:pt x="2496" y="4121"/>
                </a:cubicBezTo>
                <a:cubicBezTo>
                  <a:pt x="2538" y="4156"/>
                  <a:pt x="2538" y="4156"/>
                  <a:pt x="2538" y="4156"/>
                </a:cubicBezTo>
                <a:cubicBezTo>
                  <a:pt x="2544" y="4192"/>
                  <a:pt x="2544" y="4192"/>
                  <a:pt x="2544" y="4192"/>
                </a:cubicBezTo>
                <a:cubicBezTo>
                  <a:pt x="2579" y="4239"/>
                  <a:pt x="2579" y="4239"/>
                  <a:pt x="2579" y="4239"/>
                </a:cubicBezTo>
                <a:cubicBezTo>
                  <a:pt x="2633" y="4239"/>
                  <a:pt x="2633" y="4239"/>
                  <a:pt x="2633" y="4239"/>
                </a:cubicBezTo>
                <a:cubicBezTo>
                  <a:pt x="2668" y="4269"/>
                  <a:pt x="2668" y="4269"/>
                  <a:pt x="2668" y="4269"/>
                </a:cubicBezTo>
                <a:cubicBezTo>
                  <a:pt x="2721" y="4299"/>
                  <a:pt x="2721" y="4299"/>
                  <a:pt x="2721" y="4299"/>
                </a:cubicBezTo>
                <a:cubicBezTo>
                  <a:pt x="2763" y="4340"/>
                  <a:pt x="2763" y="4340"/>
                  <a:pt x="2763" y="4340"/>
                </a:cubicBezTo>
                <a:cubicBezTo>
                  <a:pt x="2775" y="4387"/>
                  <a:pt x="2775" y="4387"/>
                  <a:pt x="2775" y="4387"/>
                </a:cubicBezTo>
                <a:cubicBezTo>
                  <a:pt x="2799" y="4435"/>
                  <a:pt x="2799" y="4435"/>
                  <a:pt x="2799" y="4435"/>
                </a:cubicBezTo>
                <a:cubicBezTo>
                  <a:pt x="2822" y="4512"/>
                  <a:pt x="2822" y="4512"/>
                  <a:pt x="2822" y="4512"/>
                </a:cubicBezTo>
                <a:cubicBezTo>
                  <a:pt x="2858" y="4548"/>
                  <a:pt x="2858" y="4548"/>
                  <a:pt x="2858" y="4548"/>
                </a:cubicBezTo>
                <a:cubicBezTo>
                  <a:pt x="2899" y="4589"/>
                  <a:pt x="2899" y="4589"/>
                  <a:pt x="2899" y="4589"/>
                </a:cubicBezTo>
                <a:cubicBezTo>
                  <a:pt x="2911" y="4619"/>
                  <a:pt x="2911" y="4619"/>
                  <a:pt x="2911" y="4619"/>
                </a:cubicBezTo>
                <a:cubicBezTo>
                  <a:pt x="2876" y="4642"/>
                  <a:pt x="2876" y="4642"/>
                  <a:pt x="2876" y="4642"/>
                </a:cubicBezTo>
                <a:cubicBezTo>
                  <a:pt x="2899" y="4672"/>
                  <a:pt x="2899" y="4672"/>
                  <a:pt x="2899" y="4672"/>
                </a:cubicBezTo>
                <a:cubicBezTo>
                  <a:pt x="2941" y="4708"/>
                  <a:pt x="2941" y="4708"/>
                  <a:pt x="2941" y="4708"/>
                </a:cubicBezTo>
                <a:cubicBezTo>
                  <a:pt x="2994" y="4737"/>
                  <a:pt x="2994" y="4737"/>
                  <a:pt x="2994" y="4737"/>
                </a:cubicBezTo>
                <a:cubicBezTo>
                  <a:pt x="3030" y="4779"/>
                  <a:pt x="3030" y="4779"/>
                  <a:pt x="3030" y="4779"/>
                </a:cubicBezTo>
                <a:cubicBezTo>
                  <a:pt x="3024" y="4809"/>
                  <a:pt x="3024" y="4809"/>
                  <a:pt x="3024" y="4809"/>
                </a:cubicBezTo>
                <a:cubicBezTo>
                  <a:pt x="3030" y="4832"/>
                  <a:pt x="3030" y="4832"/>
                  <a:pt x="3030" y="4832"/>
                </a:cubicBezTo>
                <a:cubicBezTo>
                  <a:pt x="3077" y="4850"/>
                  <a:pt x="3077" y="4850"/>
                  <a:pt x="3077" y="4850"/>
                </a:cubicBezTo>
                <a:cubicBezTo>
                  <a:pt x="3113" y="4886"/>
                  <a:pt x="3113" y="4886"/>
                  <a:pt x="3113" y="4886"/>
                </a:cubicBezTo>
                <a:cubicBezTo>
                  <a:pt x="3142" y="4915"/>
                  <a:pt x="3142" y="4915"/>
                  <a:pt x="3142" y="4915"/>
                </a:cubicBezTo>
                <a:cubicBezTo>
                  <a:pt x="3148" y="4951"/>
                  <a:pt x="3148" y="4951"/>
                  <a:pt x="3148" y="4951"/>
                </a:cubicBezTo>
                <a:cubicBezTo>
                  <a:pt x="3172" y="4939"/>
                  <a:pt x="3172" y="4939"/>
                  <a:pt x="3172" y="4939"/>
                </a:cubicBezTo>
                <a:cubicBezTo>
                  <a:pt x="3178" y="4897"/>
                  <a:pt x="3178" y="4897"/>
                  <a:pt x="3178" y="4897"/>
                </a:cubicBezTo>
                <a:cubicBezTo>
                  <a:pt x="3160" y="4856"/>
                  <a:pt x="3160" y="4856"/>
                  <a:pt x="3160" y="4856"/>
                </a:cubicBezTo>
                <a:cubicBezTo>
                  <a:pt x="3119" y="4838"/>
                  <a:pt x="3119" y="4838"/>
                  <a:pt x="3119" y="4838"/>
                </a:cubicBezTo>
                <a:cubicBezTo>
                  <a:pt x="3113" y="4803"/>
                  <a:pt x="3113" y="4803"/>
                  <a:pt x="3113" y="4803"/>
                </a:cubicBezTo>
                <a:cubicBezTo>
                  <a:pt x="3071" y="4773"/>
                  <a:pt x="3071" y="4773"/>
                  <a:pt x="3071" y="4773"/>
                </a:cubicBezTo>
                <a:cubicBezTo>
                  <a:pt x="3053" y="4726"/>
                  <a:pt x="3053" y="4726"/>
                  <a:pt x="3053" y="4726"/>
                </a:cubicBezTo>
                <a:cubicBezTo>
                  <a:pt x="3036" y="4678"/>
                  <a:pt x="3036" y="4678"/>
                  <a:pt x="3036" y="4678"/>
                </a:cubicBezTo>
                <a:cubicBezTo>
                  <a:pt x="3000" y="4642"/>
                  <a:pt x="3000" y="4642"/>
                  <a:pt x="3000" y="4642"/>
                </a:cubicBezTo>
                <a:cubicBezTo>
                  <a:pt x="2988" y="4595"/>
                  <a:pt x="2988" y="4595"/>
                  <a:pt x="2988" y="4595"/>
                </a:cubicBezTo>
                <a:cubicBezTo>
                  <a:pt x="2953" y="4583"/>
                  <a:pt x="2953" y="4583"/>
                  <a:pt x="2953" y="4583"/>
                </a:cubicBezTo>
                <a:cubicBezTo>
                  <a:pt x="2929" y="4524"/>
                  <a:pt x="2929" y="4524"/>
                  <a:pt x="2929" y="4524"/>
                </a:cubicBezTo>
                <a:cubicBezTo>
                  <a:pt x="2887" y="4476"/>
                  <a:pt x="2887" y="4476"/>
                  <a:pt x="2887" y="4476"/>
                </a:cubicBezTo>
                <a:cubicBezTo>
                  <a:pt x="2881" y="4417"/>
                  <a:pt x="2881" y="4417"/>
                  <a:pt x="2881" y="4417"/>
                </a:cubicBezTo>
                <a:cubicBezTo>
                  <a:pt x="2917" y="4411"/>
                  <a:pt x="2917" y="4411"/>
                  <a:pt x="2917" y="4411"/>
                </a:cubicBezTo>
                <a:cubicBezTo>
                  <a:pt x="2965" y="4429"/>
                  <a:pt x="2965" y="4429"/>
                  <a:pt x="2965" y="4429"/>
                </a:cubicBezTo>
                <a:cubicBezTo>
                  <a:pt x="2994" y="4465"/>
                  <a:pt x="2994" y="4465"/>
                  <a:pt x="2994" y="4465"/>
                </a:cubicBezTo>
                <a:cubicBezTo>
                  <a:pt x="2994" y="4518"/>
                  <a:pt x="2994" y="4518"/>
                  <a:pt x="2994" y="4518"/>
                </a:cubicBezTo>
                <a:cubicBezTo>
                  <a:pt x="3047" y="4589"/>
                  <a:pt x="3047" y="4589"/>
                  <a:pt x="3047" y="4589"/>
                </a:cubicBezTo>
                <a:cubicBezTo>
                  <a:pt x="3101" y="4648"/>
                  <a:pt x="3101" y="4648"/>
                  <a:pt x="3101" y="4648"/>
                </a:cubicBezTo>
                <a:cubicBezTo>
                  <a:pt x="3148" y="4690"/>
                  <a:pt x="3148" y="4690"/>
                  <a:pt x="3148" y="4690"/>
                </a:cubicBezTo>
                <a:cubicBezTo>
                  <a:pt x="3184" y="4731"/>
                  <a:pt x="3184" y="4731"/>
                  <a:pt x="3184" y="4731"/>
                </a:cubicBezTo>
                <a:cubicBezTo>
                  <a:pt x="3190" y="4773"/>
                  <a:pt x="3190" y="4773"/>
                  <a:pt x="3190" y="4773"/>
                </a:cubicBezTo>
                <a:cubicBezTo>
                  <a:pt x="3243" y="4803"/>
                  <a:pt x="3243" y="4803"/>
                  <a:pt x="3243" y="4803"/>
                </a:cubicBezTo>
                <a:cubicBezTo>
                  <a:pt x="3279" y="4844"/>
                  <a:pt x="3279" y="4844"/>
                  <a:pt x="3279" y="4844"/>
                </a:cubicBezTo>
                <a:cubicBezTo>
                  <a:pt x="3308" y="4892"/>
                  <a:pt x="3308" y="4892"/>
                  <a:pt x="3308" y="4892"/>
                </a:cubicBezTo>
                <a:cubicBezTo>
                  <a:pt x="3368" y="4957"/>
                  <a:pt x="3368" y="4957"/>
                  <a:pt x="3368" y="4957"/>
                </a:cubicBezTo>
                <a:cubicBezTo>
                  <a:pt x="3391" y="5010"/>
                  <a:pt x="3391" y="5010"/>
                  <a:pt x="3391" y="5010"/>
                </a:cubicBezTo>
                <a:cubicBezTo>
                  <a:pt x="3421" y="5034"/>
                  <a:pt x="3421" y="5034"/>
                  <a:pt x="3421" y="5034"/>
                </a:cubicBezTo>
                <a:cubicBezTo>
                  <a:pt x="3391" y="5052"/>
                  <a:pt x="3391" y="5052"/>
                  <a:pt x="3391" y="5052"/>
                </a:cubicBezTo>
                <a:cubicBezTo>
                  <a:pt x="3385" y="5087"/>
                  <a:pt x="3385" y="5087"/>
                  <a:pt x="3385" y="5087"/>
                </a:cubicBezTo>
                <a:cubicBezTo>
                  <a:pt x="3451" y="5141"/>
                  <a:pt x="3451" y="5141"/>
                  <a:pt x="3451" y="5141"/>
                </a:cubicBezTo>
                <a:cubicBezTo>
                  <a:pt x="3504" y="5182"/>
                  <a:pt x="3504" y="5182"/>
                  <a:pt x="3504" y="5182"/>
                </a:cubicBezTo>
                <a:cubicBezTo>
                  <a:pt x="3569" y="5200"/>
                  <a:pt x="3569" y="5200"/>
                  <a:pt x="3569" y="5200"/>
                </a:cubicBezTo>
                <a:cubicBezTo>
                  <a:pt x="3640" y="5241"/>
                  <a:pt x="3640" y="5241"/>
                  <a:pt x="3640" y="5241"/>
                </a:cubicBezTo>
                <a:cubicBezTo>
                  <a:pt x="3717" y="5277"/>
                  <a:pt x="3717" y="5277"/>
                  <a:pt x="3717" y="5277"/>
                </a:cubicBezTo>
                <a:cubicBezTo>
                  <a:pt x="3806" y="5318"/>
                  <a:pt x="3806" y="5318"/>
                  <a:pt x="3806" y="5318"/>
                </a:cubicBezTo>
                <a:cubicBezTo>
                  <a:pt x="3878" y="5342"/>
                  <a:pt x="3878" y="5342"/>
                  <a:pt x="3878" y="5342"/>
                </a:cubicBezTo>
                <a:cubicBezTo>
                  <a:pt x="3925" y="5336"/>
                  <a:pt x="3925" y="5336"/>
                  <a:pt x="3925" y="5336"/>
                </a:cubicBezTo>
                <a:cubicBezTo>
                  <a:pt x="3937" y="5312"/>
                  <a:pt x="3937" y="5312"/>
                  <a:pt x="3937" y="5312"/>
                </a:cubicBezTo>
                <a:cubicBezTo>
                  <a:pt x="3990" y="5307"/>
                  <a:pt x="3990" y="5307"/>
                  <a:pt x="3990" y="5307"/>
                </a:cubicBezTo>
                <a:cubicBezTo>
                  <a:pt x="4044" y="5336"/>
                  <a:pt x="4044" y="5336"/>
                  <a:pt x="4044" y="5336"/>
                </a:cubicBezTo>
                <a:cubicBezTo>
                  <a:pt x="4109" y="5384"/>
                  <a:pt x="4109" y="5384"/>
                  <a:pt x="4109" y="5384"/>
                </a:cubicBezTo>
                <a:cubicBezTo>
                  <a:pt x="4144" y="5425"/>
                  <a:pt x="4144" y="5425"/>
                  <a:pt x="4144" y="5425"/>
                </a:cubicBezTo>
                <a:cubicBezTo>
                  <a:pt x="4192" y="5425"/>
                  <a:pt x="4192" y="5425"/>
                  <a:pt x="4192" y="5425"/>
                </a:cubicBezTo>
                <a:cubicBezTo>
                  <a:pt x="4215" y="5425"/>
                  <a:pt x="4215" y="5425"/>
                  <a:pt x="4215" y="5425"/>
                </a:cubicBezTo>
                <a:cubicBezTo>
                  <a:pt x="4245" y="5437"/>
                  <a:pt x="4245" y="5437"/>
                  <a:pt x="4245" y="5437"/>
                </a:cubicBezTo>
                <a:cubicBezTo>
                  <a:pt x="4275" y="5478"/>
                  <a:pt x="4275" y="5478"/>
                  <a:pt x="4275" y="5478"/>
                </a:cubicBezTo>
                <a:cubicBezTo>
                  <a:pt x="4340" y="5496"/>
                  <a:pt x="4340" y="5496"/>
                  <a:pt x="4340" y="5496"/>
                </a:cubicBezTo>
                <a:cubicBezTo>
                  <a:pt x="4340" y="5473"/>
                  <a:pt x="4340" y="5473"/>
                  <a:pt x="4340" y="5473"/>
                </a:cubicBezTo>
                <a:cubicBezTo>
                  <a:pt x="4376" y="5490"/>
                  <a:pt x="4376" y="5490"/>
                  <a:pt x="4376" y="5490"/>
                </a:cubicBezTo>
                <a:cubicBezTo>
                  <a:pt x="4411" y="5538"/>
                  <a:pt x="4411" y="5538"/>
                  <a:pt x="4411" y="5538"/>
                </a:cubicBezTo>
                <a:cubicBezTo>
                  <a:pt x="4411" y="5538"/>
                  <a:pt x="4459" y="5591"/>
                  <a:pt x="4470" y="5603"/>
                </a:cubicBezTo>
                <a:cubicBezTo>
                  <a:pt x="4482" y="5609"/>
                  <a:pt x="4465" y="5651"/>
                  <a:pt x="4465" y="5651"/>
                </a:cubicBezTo>
                <a:cubicBezTo>
                  <a:pt x="4488" y="5674"/>
                  <a:pt x="4488" y="5674"/>
                  <a:pt x="4488" y="5674"/>
                </a:cubicBezTo>
                <a:cubicBezTo>
                  <a:pt x="4512" y="5662"/>
                  <a:pt x="4512" y="5662"/>
                  <a:pt x="4512" y="5662"/>
                </a:cubicBezTo>
                <a:cubicBezTo>
                  <a:pt x="4547" y="5680"/>
                  <a:pt x="4547" y="5680"/>
                  <a:pt x="4547" y="5680"/>
                </a:cubicBezTo>
                <a:cubicBezTo>
                  <a:pt x="4595" y="5728"/>
                  <a:pt x="4595" y="5728"/>
                  <a:pt x="4595" y="5728"/>
                </a:cubicBezTo>
                <a:cubicBezTo>
                  <a:pt x="4595" y="5728"/>
                  <a:pt x="4631" y="5757"/>
                  <a:pt x="4648" y="5739"/>
                </a:cubicBezTo>
                <a:cubicBezTo>
                  <a:pt x="4731" y="5787"/>
                  <a:pt x="4731" y="5787"/>
                  <a:pt x="4731" y="5787"/>
                </a:cubicBezTo>
                <a:cubicBezTo>
                  <a:pt x="4779" y="5805"/>
                  <a:pt x="4779" y="5805"/>
                  <a:pt x="4779" y="5805"/>
                </a:cubicBezTo>
                <a:cubicBezTo>
                  <a:pt x="4773" y="5757"/>
                  <a:pt x="4773" y="5757"/>
                  <a:pt x="4773" y="5757"/>
                </a:cubicBezTo>
                <a:cubicBezTo>
                  <a:pt x="4797" y="5728"/>
                  <a:pt x="4797" y="5728"/>
                  <a:pt x="4797" y="5728"/>
                </a:cubicBezTo>
                <a:cubicBezTo>
                  <a:pt x="4880" y="5733"/>
                  <a:pt x="4880" y="5733"/>
                  <a:pt x="4880" y="5733"/>
                </a:cubicBezTo>
                <a:cubicBezTo>
                  <a:pt x="4886" y="5763"/>
                  <a:pt x="4886" y="5763"/>
                  <a:pt x="4886" y="5763"/>
                </a:cubicBezTo>
                <a:cubicBezTo>
                  <a:pt x="4909" y="5763"/>
                  <a:pt x="4909" y="5763"/>
                  <a:pt x="4909" y="5763"/>
                </a:cubicBezTo>
                <a:cubicBezTo>
                  <a:pt x="4927" y="5728"/>
                  <a:pt x="4927" y="5728"/>
                  <a:pt x="4927" y="5728"/>
                </a:cubicBezTo>
                <a:cubicBezTo>
                  <a:pt x="4897" y="5692"/>
                  <a:pt x="4897" y="5692"/>
                  <a:pt x="4897" y="5692"/>
                </a:cubicBezTo>
                <a:cubicBezTo>
                  <a:pt x="4814" y="5692"/>
                  <a:pt x="4814" y="5692"/>
                  <a:pt x="4814" y="5692"/>
                </a:cubicBezTo>
                <a:cubicBezTo>
                  <a:pt x="4761" y="5686"/>
                  <a:pt x="4761" y="5686"/>
                  <a:pt x="4761" y="5686"/>
                </a:cubicBezTo>
                <a:cubicBezTo>
                  <a:pt x="4678" y="5680"/>
                  <a:pt x="4678" y="5680"/>
                  <a:pt x="4678" y="5680"/>
                </a:cubicBezTo>
                <a:cubicBezTo>
                  <a:pt x="4642" y="5656"/>
                  <a:pt x="4642" y="5656"/>
                  <a:pt x="4642" y="5656"/>
                </a:cubicBezTo>
                <a:cubicBezTo>
                  <a:pt x="4589" y="5603"/>
                  <a:pt x="4589" y="5603"/>
                  <a:pt x="4589" y="5603"/>
                </a:cubicBezTo>
                <a:cubicBezTo>
                  <a:pt x="4595" y="5562"/>
                  <a:pt x="4595" y="5562"/>
                  <a:pt x="4595" y="5562"/>
                </a:cubicBezTo>
                <a:cubicBezTo>
                  <a:pt x="4595" y="5502"/>
                  <a:pt x="4595" y="5502"/>
                  <a:pt x="4595" y="5502"/>
                </a:cubicBezTo>
                <a:cubicBezTo>
                  <a:pt x="4613" y="5431"/>
                  <a:pt x="4613" y="5431"/>
                  <a:pt x="4613" y="5431"/>
                </a:cubicBezTo>
                <a:cubicBezTo>
                  <a:pt x="4613" y="5384"/>
                  <a:pt x="4613" y="5384"/>
                  <a:pt x="4613" y="5384"/>
                </a:cubicBezTo>
                <a:cubicBezTo>
                  <a:pt x="4583" y="5342"/>
                  <a:pt x="4583" y="5342"/>
                  <a:pt x="4583" y="5342"/>
                </a:cubicBezTo>
                <a:cubicBezTo>
                  <a:pt x="4536" y="5318"/>
                  <a:pt x="4536" y="5318"/>
                  <a:pt x="4536" y="5318"/>
                </a:cubicBezTo>
                <a:cubicBezTo>
                  <a:pt x="4459" y="5324"/>
                  <a:pt x="4459" y="5324"/>
                  <a:pt x="4459" y="5324"/>
                </a:cubicBezTo>
                <a:cubicBezTo>
                  <a:pt x="4405" y="5312"/>
                  <a:pt x="4405" y="5312"/>
                  <a:pt x="4405" y="5312"/>
                </a:cubicBezTo>
                <a:cubicBezTo>
                  <a:pt x="4340" y="5336"/>
                  <a:pt x="4340" y="5336"/>
                  <a:pt x="4340" y="5336"/>
                </a:cubicBezTo>
                <a:cubicBezTo>
                  <a:pt x="4304" y="5312"/>
                  <a:pt x="4304" y="5312"/>
                  <a:pt x="4304" y="5312"/>
                </a:cubicBezTo>
                <a:cubicBezTo>
                  <a:pt x="4340" y="5283"/>
                  <a:pt x="4340" y="5283"/>
                  <a:pt x="4340" y="5283"/>
                </a:cubicBezTo>
                <a:cubicBezTo>
                  <a:pt x="4340" y="5230"/>
                  <a:pt x="4340" y="5230"/>
                  <a:pt x="4340" y="5230"/>
                </a:cubicBezTo>
                <a:cubicBezTo>
                  <a:pt x="4352" y="5200"/>
                  <a:pt x="4352" y="5200"/>
                  <a:pt x="4352" y="5200"/>
                </a:cubicBezTo>
                <a:cubicBezTo>
                  <a:pt x="4376" y="5146"/>
                  <a:pt x="4376" y="5146"/>
                  <a:pt x="4376" y="5146"/>
                </a:cubicBezTo>
                <a:cubicBezTo>
                  <a:pt x="4376" y="5093"/>
                  <a:pt x="4376" y="5093"/>
                  <a:pt x="4376" y="5093"/>
                </a:cubicBezTo>
                <a:cubicBezTo>
                  <a:pt x="4411" y="5069"/>
                  <a:pt x="4411" y="5069"/>
                  <a:pt x="4411" y="5069"/>
                </a:cubicBezTo>
                <a:cubicBezTo>
                  <a:pt x="4417" y="5028"/>
                  <a:pt x="4417" y="5028"/>
                  <a:pt x="4417" y="5028"/>
                </a:cubicBezTo>
                <a:cubicBezTo>
                  <a:pt x="4388" y="5010"/>
                  <a:pt x="4388" y="5010"/>
                  <a:pt x="4388" y="5010"/>
                </a:cubicBezTo>
                <a:cubicBezTo>
                  <a:pt x="4304" y="5016"/>
                  <a:pt x="4304" y="5016"/>
                  <a:pt x="4304" y="5016"/>
                </a:cubicBezTo>
                <a:cubicBezTo>
                  <a:pt x="4251" y="5022"/>
                  <a:pt x="4251" y="5022"/>
                  <a:pt x="4251" y="5022"/>
                </a:cubicBezTo>
                <a:cubicBezTo>
                  <a:pt x="4227" y="5063"/>
                  <a:pt x="4227" y="5063"/>
                  <a:pt x="4227" y="5063"/>
                </a:cubicBezTo>
                <a:cubicBezTo>
                  <a:pt x="4204" y="5123"/>
                  <a:pt x="4204" y="5123"/>
                  <a:pt x="4204" y="5123"/>
                </a:cubicBezTo>
                <a:cubicBezTo>
                  <a:pt x="4180" y="5176"/>
                  <a:pt x="4180" y="5176"/>
                  <a:pt x="4180" y="5176"/>
                </a:cubicBezTo>
                <a:cubicBezTo>
                  <a:pt x="4133" y="5182"/>
                  <a:pt x="4133" y="5182"/>
                  <a:pt x="4133" y="5182"/>
                </a:cubicBezTo>
                <a:cubicBezTo>
                  <a:pt x="4067" y="5200"/>
                  <a:pt x="4067" y="5200"/>
                  <a:pt x="4067" y="5200"/>
                </a:cubicBezTo>
                <a:cubicBezTo>
                  <a:pt x="3996" y="5206"/>
                  <a:pt x="3996" y="5206"/>
                  <a:pt x="3996" y="5206"/>
                </a:cubicBezTo>
                <a:cubicBezTo>
                  <a:pt x="3967" y="5170"/>
                  <a:pt x="3967" y="5170"/>
                  <a:pt x="3967" y="5170"/>
                </a:cubicBezTo>
                <a:cubicBezTo>
                  <a:pt x="3907" y="5141"/>
                  <a:pt x="3907" y="5141"/>
                  <a:pt x="3907" y="5141"/>
                </a:cubicBezTo>
                <a:cubicBezTo>
                  <a:pt x="3890" y="5093"/>
                  <a:pt x="3890" y="5093"/>
                  <a:pt x="3890" y="5093"/>
                </a:cubicBezTo>
                <a:cubicBezTo>
                  <a:pt x="3848" y="5034"/>
                  <a:pt x="3848" y="5034"/>
                  <a:pt x="3848" y="5034"/>
                </a:cubicBezTo>
                <a:cubicBezTo>
                  <a:pt x="3824" y="4933"/>
                  <a:pt x="3824" y="4933"/>
                  <a:pt x="3824" y="4933"/>
                </a:cubicBezTo>
                <a:cubicBezTo>
                  <a:pt x="3818" y="4856"/>
                  <a:pt x="3818" y="4856"/>
                  <a:pt x="3818" y="4856"/>
                </a:cubicBezTo>
                <a:cubicBezTo>
                  <a:pt x="3848" y="4803"/>
                  <a:pt x="3848" y="4803"/>
                  <a:pt x="3848" y="4803"/>
                </a:cubicBezTo>
                <a:cubicBezTo>
                  <a:pt x="3860" y="4731"/>
                  <a:pt x="3860" y="4731"/>
                  <a:pt x="3860" y="4731"/>
                </a:cubicBezTo>
                <a:cubicBezTo>
                  <a:pt x="3830" y="4666"/>
                  <a:pt x="3830" y="4666"/>
                  <a:pt x="3830" y="4666"/>
                </a:cubicBezTo>
                <a:cubicBezTo>
                  <a:pt x="3883" y="4601"/>
                  <a:pt x="3883" y="4601"/>
                  <a:pt x="3883" y="4601"/>
                </a:cubicBezTo>
                <a:cubicBezTo>
                  <a:pt x="3925" y="4595"/>
                  <a:pt x="3925" y="4595"/>
                  <a:pt x="3925" y="4595"/>
                </a:cubicBezTo>
                <a:cubicBezTo>
                  <a:pt x="3967" y="4565"/>
                  <a:pt x="3967" y="4565"/>
                  <a:pt x="3967" y="4565"/>
                </a:cubicBezTo>
                <a:cubicBezTo>
                  <a:pt x="4014" y="4524"/>
                  <a:pt x="4014" y="4524"/>
                  <a:pt x="4014" y="4524"/>
                </a:cubicBezTo>
                <a:cubicBezTo>
                  <a:pt x="4073" y="4530"/>
                  <a:pt x="4073" y="4530"/>
                  <a:pt x="4073" y="4530"/>
                </a:cubicBezTo>
                <a:cubicBezTo>
                  <a:pt x="4115" y="4548"/>
                  <a:pt x="4115" y="4548"/>
                  <a:pt x="4115" y="4548"/>
                </a:cubicBezTo>
                <a:cubicBezTo>
                  <a:pt x="4150" y="4530"/>
                  <a:pt x="4150" y="4530"/>
                  <a:pt x="4150" y="4530"/>
                </a:cubicBezTo>
                <a:cubicBezTo>
                  <a:pt x="4180" y="4571"/>
                  <a:pt x="4180" y="4571"/>
                  <a:pt x="4180" y="4571"/>
                </a:cubicBezTo>
                <a:cubicBezTo>
                  <a:pt x="4227" y="4571"/>
                  <a:pt x="4227" y="4571"/>
                  <a:pt x="4227" y="4571"/>
                </a:cubicBezTo>
                <a:cubicBezTo>
                  <a:pt x="4269" y="4565"/>
                  <a:pt x="4269" y="4565"/>
                  <a:pt x="4269" y="4565"/>
                </a:cubicBezTo>
                <a:cubicBezTo>
                  <a:pt x="4263" y="4536"/>
                  <a:pt x="4263" y="4536"/>
                  <a:pt x="4263" y="4536"/>
                </a:cubicBezTo>
                <a:cubicBezTo>
                  <a:pt x="4275" y="4494"/>
                  <a:pt x="4275" y="4494"/>
                  <a:pt x="4275" y="4494"/>
                </a:cubicBezTo>
                <a:cubicBezTo>
                  <a:pt x="4340" y="4488"/>
                  <a:pt x="4340" y="4488"/>
                  <a:pt x="4340" y="4488"/>
                </a:cubicBezTo>
                <a:cubicBezTo>
                  <a:pt x="4381" y="4482"/>
                  <a:pt x="4381" y="4482"/>
                  <a:pt x="4381" y="4482"/>
                </a:cubicBezTo>
                <a:cubicBezTo>
                  <a:pt x="4459" y="4494"/>
                  <a:pt x="4459" y="4494"/>
                  <a:pt x="4459" y="4494"/>
                </a:cubicBezTo>
                <a:cubicBezTo>
                  <a:pt x="4494" y="4530"/>
                  <a:pt x="4494" y="4530"/>
                  <a:pt x="4494" y="4530"/>
                </a:cubicBezTo>
                <a:cubicBezTo>
                  <a:pt x="4518" y="4530"/>
                  <a:pt x="4518" y="4530"/>
                  <a:pt x="4518" y="4530"/>
                </a:cubicBezTo>
                <a:cubicBezTo>
                  <a:pt x="4536" y="4506"/>
                  <a:pt x="4536" y="4506"/>
                  <a:pt x="4536" y="4506"/>
                </a:cubicBezTo>
                <a:cubicBezTo>
                  <a:pt x="4559" y="4500"/>
                  <a:pt x="4559" y="4500"/>
                  <a:pt x="4559" y="4500"/>
                </a:cubicBezTo>
                <a:cubicBezTo>
                  <a:pt x="4595" y="4536"/>
                  <a:pt x="4595" y="4536"/>
                  <a:pt x="4595" y="4536"/>
                </a:cubicBezTo>
                <a:cubicBezTo>
                  <a:pt x="4631" y="4577"/>
                  <a:pt x="4631" y="4577"/>
                  <a:pt x="4631" y="4577"/>
                </a:cubicBezTo>
                <a:cubicBezTo>
                  <a:pt x="4631" y="4631"/>
                  <a:pt x="4631" y="4631"/>
                  <a:pt x="4631" y="4631"/>
                </a:cubicBezTo>
                <a:cubicBezTo>
                  <a:pt x="4648" y="4654"/>
                  <a:pt x="4648" y="4654"/>
                  <a:pt x="4648" y="4654"/>
                </a:cubicBezTo>
                <a:cubicBezTo>
                  <a:pt x="4654" y="4690"/>
                  <a:pt x="4654" y="4690"/>
                  <a:pt x="4654" y="4690"/>
                </a:cubicBezTo>
                <a:cubicBezTo>
                  <a:pt x="4684" y="4714"/>
                  <a:pt x="4684" y="4714"/>
                  <a:pt x="4684" y="4714"/>
                </a:cubicBezTo>
                <a:cubicBezTo>
                  <a:pt x="4696" y="4743"/>
                  <a:pt x="4696" y="4743"/>
                  <a:pt x="4696" y="4743"/>
                </a:cubicBezTo>
                <a:cubicBezTo>
                  <a:pt x="4725" y="4761"/>
                  <a:pt x="4725" y="4761"/>
                  <a:pt x="4725" y="4761"/>
                </a:cubicBezTo>
                <a:cubicBezTo>
                  <a:pt x="4731" y="4803"/>
                  <a:pt x="4731" y="4803"/>
                  <a:pt x="4731" y="4803"/>
                </a:cubicBezTo>
                <a:cubicBezTo>
                  <a:pt x="4761" y="4809"/>
                  <a:pt x="4761" y="4809"/>
                  <a:pt x="4761" y="4809"/>
                </a:cubicBezTo>
                <a:cubicBezTo>
                  <a:pt x="4779" y="4785"/>
                  <a:pt x="4779" y="4785"/>
                  <a:pt x="4779" y="4785"/>
                </a:cubicBezTo>
                <a:cubicBezTo>
                  <a:pt x="4791" y="4743"/>
                  <a:pt x="4791" y="4743"/>
                  <a:pt x="4791" y="4743"/>
                </a:cubicBezTo>
                <a:cubicBezTo>
                  <a:pt x="4773" y="4696"/>
                  <a:pt x="4773" y="4696"/>
                  <a:pt x="4773" y="4696"/>
                </a:cubicBezTo>
                <a:cubicBezTo>
                  <a:pt x="4755" y="4619"/>
                  <a:pt x="4755" y="4619"/>
                  <a:pt x="4755" y="4619"/>
                </a:cubicBezTo>
                <a:cubicBezTo>
                  <a:pt x="4720" y="4554"/>
                  <a:pt x="4720" y="4554"/>
                  <a:pt x="4720" y="4554"/>
                </a:cubicBezTo>
                <a:cubicBezTo>
                  <a:pt x="4720" y="4471"/>
                  <a:pt x="4720" y="4471"/>
                  <a:pt x="4720" y="4471"/>
                </a:cubicBezTo>
                <a:cubicBezTo>
                  <a:pt x="4720" y="4459"/>
                  <a:pt x="4737" y="4411"/>
                  <a:pt x="4737" y="4411"/>
                </a:cubicBezTo>
                <a:cubicBezTo>
                  <a:pt x="4773" y="4346"/>
                  <a:pt x="4773" y="4346"/>
                  <a:pt x="4773" y="4346"/>
                </a:cubicBezTo>
                <a:cubicBezTo>
                  <a:pt x="4820" y="4328"/>
                  <a:pt x="4820" y="4328"/>
                  <a:pt x="4820" y="4328"/>
                </a:cubicBezTo>
                <a:cubicBezTo>
                  <a:pt x="4880" y="4275"/>
                  <a:pt x="4880" y="4275"/>
                  <a:pt x="4880" y="4275"/>
                </a:cubicBezTo>
                <a:cubicBezTo>
                  <a:pt x="4933" y="4239"/>
                  <a:pt x="4933" y="4239"/>
                  <a:pt x="4933" y="4239"/>
                </a:cubicBezTo>
                <a:cubicBezTo>
                  <a:pt x="4980" y="4221"/>
                  <a:pt x="4980" y="4221"/>
                  <a:pt x="4980" y="4221"/>
                </a:cubicBezTo>
                <a:cubicBezTo>
                  <a:pt x="4992" y="4186"/>
                  <a:pt x="4992" y="4186"/>
                  <a:pt x="4992" y="4186"/>
                </a:cubicBezTo>
                <a:cubicBezTo>
                  <a:pt x="5034" y="4162"/>
                  <a:pt x="5034" y="4162"/>
                  <a:pt x="5034" y="4162"/>
                </a:cubicBezTo>
                <a:cubicBezTo>
                  <a:pt x="4998" y="4097"/>
                  <a:pt x="4998" y="4097"/>
                  <a:pt x="4998" y="4097"/>
                </a:cubicBezTo>
                <a:cubicBezTo>
                  <a:pt x="4969" y="4067"/>
                  <a:pt x="4969" y="4067"/>
                  <a:pt x="4969" y="4067"/>
                </a:cubicBezTo>
                <a:cubicBezTo>
                  <a:pt x="4980" y="4038"/>
                  <a:pt x="4980" y="4038"/>
                  <a:pt x="4980" y="4038"/>
                </a:cubicBezTo>
                <a:cubicBezTo>
                  <a:pt x="4957" y="4002"/>
                  <a:pt x="4957" y="4002"/>
                  <a:pt x="4957" y="4002"/>
                </a:cubicBezTo>
                <a:cubicBezTo>
                  <a:pt x="4998" y="3984"/>
                  <a:pt x="4998" y="3984"/>
                  <a:pt x="4998" y="3984"/>
                </a:cubicBezTo>
                <a:cubicBezTo>
                  <a:pt x="5034" y="4032"/>
                  <a:pt x="5034" y="4032"/>
                  <a:pt x="5034" y="4032"/>
                </a:cubicBezTo>
                <a:cubicBezTo>
                  <a:pt x="5052" y="3984"/>
                  <a:pt x="5052" y="3984"/>
                  <a:pt x="5052" y="3984"/>
                </a:cubicBezTo>
                <a:cubicBezTo>
                  <a:pt x="5075" y="3943"/>
                  <a:pt x="5075" y="3943"/>
                  <a:pt x="5075" y="3943"/>
                </a:cubicBezTo>
                <a:cubicBezTo>
                  <a:pt x="5105" y="3919"/>
                  <a:pt x="5105" y="3919"/>
                  <a:pt x="5105" y="3919"/>
                </a:cubicBezTo>
                <a:cubicBezTo>
                  <a:pt x="5129" y="3830"/>
                  <a:pt x="5129" y="3830"/>
                  <a:pt x="5129" y="3830"/>
                </a:cubicBezTo>
                <a:cubicBezTo>
                  <a:pt x="5206" y="3830"/>
                  <a:pt x="5206" y="3830"/>
                  <a:pt x="5206" y="3830"/>
                </a:cubicBezTo>
                <a:cubicBezTo>
                  <a:pt x="5253" y="3807"/>
                  <a:pt x="5253" y="3807"/>
                  <a:pt x="5253" y="3807"/>
                </a:cubicBezTo>
                <a:cubicBezTo>
                  <a:pt x="5312" y="3801"/>
                  <a:pt x="5312" y="3801"/>
                  <a:pt x="5312" y="3801"/>
                </a:cubicBezTo>
                <a:cubicBezTo>
                  <a:pt x="5295" y="3765"/>
                  <a:pt x="5295" y="3765"/>
                  <a:pt x="5295" y="3765"/>
                </a:cubicBezTo>
                <a:cubicBezTo>
                  <a:pt x="5295" y="3694"/>
                  <a:pt x="5295" y="3694"/>
                  <a:pt x="5295" y="3694"/>
                </a:cubicBezTo>
                <a:cubicBezTo>
                  <a:pt x="5336" y="3641"/>
                  <a:pt x="5336" y="3641"/>
                  <a:pt x="5336" y="3641"/>
                </a:cubicBezTo>
                <a:cubicBezTo>
                  <a:pt x="5378" y="3641"/>
                  <a:pt x="5378" y="3641"/>
                  <a:pt x="5378" y="3641"/>
                </a:cubicBezTo>
                <a:cubicBezTo>
                  <a:pt x="5395" y="3605"/>
                  <a:pt x="5395" y="3605"/>
                  <a:pt x="5395" y="3605"/>
                </a:cubicBezTo>
                <a:cubicBezTo>
                  <a:pt x="5455" y="3611"/>
                  <a:pt x="5455" y="3611"/>
                  <a:pt x="5455" y="3611"/>
                </a:cubicBezTo>
                <a:cubicBezTo>
                  <a:pt x="5508" y="3575"/>
                  <a:pt x="5508" y="3575"/>
                  <a:pt x="5508" y="3575"/>
                </a:cubicBezTo>
                <a:cubicBezTo>
                  <a:pt x="5544" y="3534"/>
                  <a:pt x="5544" y="3534"/>
                  <a:pt x="5544" y="3534"/>
                </a:cubicBezTo>
                <a:cubicBezTo>
                  <a:pt x="5609" y="3528"/>
                  <a:pt x="5609" y="3528"/>
                  <a:pt x="5609" y="3528"/>
                </a:cubicBezTo>
                <a:cubicBezTo>
                  <a:pt x="5609" y="3528"/>
                  <a:pt x="5668" y="3540"/>
                  <a:pt x="5680" y="3546"/>
                </a:cubicBezTo>
                <a:cubicBezTo>
                  <a:pt x="5692" y="3546"/>
                  <a:pt x="5662" y="3569"/>
                  <a:pt x="5662" y="3569"/>
                </a:cubicBezTo>
                <a:cubicBezTo>
                  <a:pt x="5585" y="3569"/>
                  <a:pt x="5585" y="3569"/>
                  <a:pt x="5585" y="3569"/>
                </a:cubicBezTo>
                <a:cubicBezTo>
                  <a:pt x="5585" y="3569"/>
                  <a:pt x="5561" y="3587"/>
                  <a:pt x="5550" y="3593"/>
                </a:cubicBezTo>
                <a:cubicBezTo>
                  <a:pt x="5538" y="3599"/>
                  <a:pt x="5550" y="3646"/>
                  <a:pt x="5550" y="3646"/>
                </a:cubicBezTo>
                <a:cubicBezTo>
                  <a:pt x="5579" y="3658"/>
                  <a:pt x="5579" y="3658"/>
                  <a:pt x="5579" y="3658"/>
                </a:cubicBezTo>
                <a:cubicBezTo>
                  <a:pt x="5615" y="3629"/>
                  <a:pt x="5615" y="3629"/>
                  <a:pt x="5615" y="3629"/>
                </a:cubicBezTo>
                <a:cubicBezTo>
                  <a:pt x="5638" y="3611"/>
                  <a:pt x="5638" y="3611"/>
                  <a:pt x="5638" y="3611"/>
                </a:cubicBezTo>
                <a:cubicBezTo>
                  <a:pt x="5686" y="3599"/>
                  <a:pt x="5686" y="3599"/>
                  <a:pt x="5686" y="3599"/>
                </a:cubicBezTo>
                <a:cubicBezTo>
                  <a:pt x="5739" y="3575"/>
                  <a:pt x="5739" y="3575"/>
                  <a:pt x="5739" y="3575"/>
                </a:cubicBezTo>
                <a:cubicBezTo>
                  <a:pt x="5793" y="3563"/>
                  <a:pt x="5793" y="3563"/>
                  <a:pt x="5793" y="3563"/>
                </a:cubicBezTo>
                <a:cubicBezTo>
                  <a:pt x="5828" y="3510"/>
                  <a:pt x="5828" y="3510"/>
                  <a:pt x="5828" y="3510"/>
                </a:cubicBezTo>
                <a:cubicBezTo>
                  <a:pt x="5870" y="3480"/>
                  <a:pt x="5870" y="3480"/>
                  <a:pt x="5870" y="3480"/>
                </a:cubicBezTo>
                <a:cubicBezTo>
                  <a:pt x="5876" y="3439"/>
                  <a:pt x="5876" y="3439"/>
                  <a:pt x="5876" y="3439"/>
                </a:cubicBezTo>
                <a:cubicBezTo>
                  <a:pt x="5822" y="3451"/>
                  <a:pt x="5822" y="3451"/>
                  <a:pt x="5822" y="3451"/>
                </a:cubicBezTo>
                <a:cubicBezTo>
                  <a:pt x="5787" y="3510"/>
                  <a:pt x="5787" y="3510"/>
                  <a:pt x="5787" y="3510"/>
                </a:cubicBezTo>
                <a:cubicBezTo>
                  <a:pt x="5722" y="3516"/>
                  <a:pt x="5722" y="3516"/>
                  <a:pt x="5722" y="3516"/>
                </a:cubicBezTo>
                <a:cubicBezTo>
                  <a:pt x="5668" y="3492"/>
                  <a:pt x="5668" y="3492"/>
                  <a:pt x="5668" y="3492"/>
                </a:cubicBezTo>
                <a:cubicBezTo>
                  <a:pt x="5615" y="3445"/>
                  <a:pt x="5615" y="3445"/>
                  <a:pt x="5615" y="3445"/>
                </a:cubicBezTo>
                <a:cubicBezTo>
                  <a:pt x="5585" y="3374"/>
                  <a:pt x="5585" y="3374"/>
                  <a:pt x="5585" y="3374"/>
                </a:cubicBezTo>
                <a:cubicBezTo>
                  <a:pt x="5638" y="3338"/>
                  <a:pt x="5638" y="3338"/>
                  <a:pt x="5638" y="3338"/>
                </a:cubicBezTo>
                <a:cubicBezTo>
                  <a:pt x="5633" y="3273"/>
                  <a:pt x="5633" y="3273"/>
                  <a:pt x="5633" y="3273"/>
                </a:cubicBezTo>
                <a:cubicBezTo>
                  <a:pt x="5561" y="3267"/>
                  <a:pt x="5561" y="3267"/>
                  <a:pt x="5561" y="3267"/>
                </a:cubicBezTo>
                <a:cubicBezTo>
                  <a:pt x="5484" y="3291"/>
                  <a:pt x="5484" y="3291"/>
                  <a:pt x="5484" y="3291"/>
                </a:cubicBezTo>
                <a:cubicBezTo>
                  <a:pt x="5401" y="3344"/>
                  <a:pt x="5401" y="3344"/>
                  <a:pt x="5401" y="3344"/>
                </a:cubicBezTo>
                <a:cubicBezTo>
                  <a:pt x="5318" y="3421"/>
                  <a:pt x="5318" y="3421"/>
                  <a:pt x="5318" y="3421"/>
                </a:cubicBezTo>
                <a:cubicBezTo>
                  <a:pt x="5253" y="3468"/>
                  <a:pt x="5253" y="3468"/>
                  <a:pt x="5253" y="3468"/>
                </a:cubicBezTo>
                <a:cubicBezTo>
                  <a:pt x="5277" y="3421"/>
                  <a:pt x="5277" y="3421"/>
                  <a:pt x="5277" y="3421"/>
                </a:cubicBezTo>
                <a:cubicBezTo>
                  <a:pt x="5318" y="3380"/>
                  <a:pt x="5318" y="3380"/>
                  <a:pt x="5318" y="3380"/>
                </a:cubicBezTo>
                <a:cubicBezTo>
                  <a:pt x="5342" y="3356"/>
                  <a:pt x="5342" y="3356"/>
                  <a:pt x="5342" y="3356"/>
                </a:cubicBezTo>
                <a:cubicBezTo>
                  <a:pt x="5277" y="3338"/>
                  <a:pt x="5277" y="3338"/>
                  <a:pt x="5277" y="3338"/>
                </a:cubicBezTo>
                <a:cubicBezTo>
                  <a:pt x="5360" y="3338"/>
                  <a:pt x="5360" y="3338"/>
                  <a:pt x="5360" y="3338"/>
                </a:cubicBezTo>
                <a:cubicBezTo>
                  <a:pt x="5378" y="3297"/>
                  <a:pt x="5378" y="3297"/>
                  <a:pt x="5378" y="3297"/>
                </a:cubicBezTo>
                <a:cubicBezTo>
                  <a:pt x="5425" y="3261"/>
                  <a:pt x="5425" y="3261"/>
                  <a:pt x="5425" y="3261"/>
                </a:cubicBezTo>
                <a:cubicBezTo>
                  <a:pt x="5479" y="3261"/>
                  <a:pt x="5479" y="3261"/>
                  <a:pt x="5479" y="3261"/>
                </a:cubicBezTo>
                <a:cubicBezTo>
                  <a:pt x="5502" y="3214"/>
                  <a:pt x="5502" y="3214"/>
                  <a:pt x="5502" y="3214"/>
                </a:cubicBezTo>
                <a:cubicBezTo>
                  <a:pt x="5550" y="3196"/>
                  <a:pt x="5550" y="3196"/>
                  <a:pt x="5550" y="3196"/>
                </a:cubicBezTo>
                <a:cubicBezTo>
                  <a:pt x="5621" y="3196"/>
                  <a:pt x="5621" y="3196"/>
                  <a:pt x="5621" y="3196"/>
                </a:cubicBezTo>
                <a:cubicBezTo>
                  <a:pt x="5745" y="3190"/>
                  <a:pt x="5745" y="3190"/>
                  <a:pt x="5745" y="3190"/>
                </a:cubicBezTo>
                <a:cubicBezTo>
                  <a:pt x="5811" y="3202"/>
                  <a:pt x="5811" y="3202"/>
                  <a:pt x="5811" y="3202"/>
                </a:cubicBezTo>
                <a:cubicBezTo>
                  <a:pt x="5864" y="3202"/>
                  <a:pt x="5864" y="3202"/>
                  <a:pt x="5864" y="3202"/>
                </a:cubicBezTo>
                <a:cubicBezTo>
                  <a:pt x="5917" y="3166"/>
                  <a:pt x="5917" y="3166"/>
                  <a:pt x="5917" y="3166"/>
                </a:cubicBezTo>
                <a:cubicBezTo>
                  <a:pt x="5959" y="3113"/>
                  <a:pt x="5959" y="3113"/>
                  <a:pt x="5959" y="3113"/>
                </a:cubicBezTo>
                <a:cubicBezTo>
                  <a:pt x="6042" y="3107"/>
                  <a:pt x="6042" y="3107"/>
                  <a:pt x="6042" y="3107"/>
                </a:cubicBezTo>
                <a:cubicBezTo>
                  <a:pt x="6089" y="3089"/>
                  <a:pt x="6089" y="3089"/>
                  <a:pt x="6089" y="3089"/>
                </a:cubicBezTo>
                <a:cubicBezTo>
                  <a:pt x="6113" y="3065"/>
                  <a:pt x="6113" y="3065"/>
                  <a:pt x="6113" y="3065"/>
                </a:cubicBezTo>
                <a:cubicBezTo>
                  <a:pt x="6083" y="3042"/>
                  <a:pt x="6083" y="3042"/>
                  <a:pt x="6083" y="3042"/>
                </a:cubicBezTo>
                <a:cubicBezTo>
                  <a:pt x="6101" y="3018"/>
                  <a:pt x="6101" y="3018"/>
                  <a:pt x="6101" y="3018"/>
                </a:cubicBezTo>
                <a:cubicBezTo>
                  <a:pt x="6107" y="2971"/>
                  <a:pt x="6107" y="2971"/>
                  <a:pt x="6107" y="2971"/>
                </a:cubicBezTo>
                <a:cubicBezTo>
                  <a:pt x="6042" y="2959"/>
                  <a:pt x="6042" y="2959"/>
                  <a:pt x="6042" y="2959"/>
                </a:cubicBezTo>
                <a:cubicBezTo>
                  <a:pt x="6036" y="2935"/>
                  <a:pt x="6036" y="2935"/>
                  <a:pt x="6036" y="2935"/>
                </a:cubicBezTo>
                <a:cubicBezTo>
                  <a:pt x="5965" y="2935"/>
                  <a:pt x="5965" y="2935"/>
                  <a:pt x="5965" y="2935"/>
                </a:cubicBezTo>
                <a:cubicBezTo>
                  <a:pt x="5917" y="2959"/>
                  <a:pt x="5917" y="2959"/>
                  <a:pt x="5917" y="2959"/>
                </a:cubicBezTo>
                <a:cubicBezTo>
                  <a:pt x="5882" y="2982"/>
                  <a:pt x="5882" y="2982"/>
                  <a:pt x="5882" y="2982"/>
                </a:cubicBezTo>
                <a:cubicBezTo>
                  <a:pt x="5852" y="2971"/>
                  <a:pt x="5852" y="2971"/>
                  <a:pt x="5852" y="2971"/>
                </a:cubicBezTo>
                <a:cubicBezTo>
                  <a:pt x="5864" y="2941"/>
                  <a:pt x="5864" y="2941"/>
                  <a:pt x="5864" y="2941"/>
                </a:cubicBezTo>
                <a:cubicBezTo>
                  <a:pt x="5923" y="2917"/>
                  <a:pt x="5923" y="2917"/>
                  <a:pt x="5923" y="2917"/>
                </a:cubicBezTo>
                <a:cubicBezTo>
                  <a:pt x="5994" y="2899"/>
                  <a:pt x="5994" y="2899"/>
                  <a:pt x="5994" y="2899"/>
                </a:cubicBezTo>
                <a:cubicBezTo>
                  <a:pt x="6030" y="2876"/>
                  <a:pt x="6030" y="2876"/>
                  <a:pt x="6030" y="2876"/>
                </a:cubicBezTo>
                <a:cubicBezTo>
                  <a:pt x="5982" y="2870"/>
                  <a:pt x="5982" y="2870"/>
                  <a:pt x="5982" y="2870"/>
                </a:cubicBezTo>
                <a:cubicBezTo>
                  <a:pt x="5935" y="2846"/>
                  <a:pt x="5935" y="2846"/>
                  <a:pt x="5935" y="2846"/>
                </a:cubicBezTo>
                <a:cubicBezTo>
                  <a:pt x="5876" y="2828"/>
                  <a:pt x="5876" y="2828"/>
                  <a:pt x="5876" y="2828"/>
                </a:cubicBezTo>
                <a:cubicBezTo>
                  <a:pt x="5840" y="2799"/>
                  <a:pt x="5840" y="2799"/>
                  <a:pt x="5840" y="2799"/>
                </a:cubicBezTo>
                <a:cubicBezTo>
                  <a:pt x="5799" y="2763"/>
                  <a:pt x="5799" y="2763"/>
                  <a:pt x="5799" y="2763"/>
                </a:cubicBezTo>
                <a:cubicBezTo>
                  <a:pt x="5781" y="2727"/>
                  <a:pt x="5781" y="2727"/>
                  <a:pt x="5781" y="2727"/>
                </a:cubicBezTo>
                <a:cubicBezTo>
                  <a:pt x="5804" y="2727"/>
                  <a:pt x="5804" y="2727"/>
                  <a:pt x="5804" y="2727"/>
                </a:cubicBezTo>
                <a:cubicBezTo>
                  <a:pt x="5811" y="2704"/>
                  <a:pt x="5811" y="2704"/>
                  <a:pt x="5811" y="2704"/>
                </a:cubicBezTo>
                <a:cubicBezTo>
                  <a:pt x="5775" y="2650"/>
                  <a:pt x="5775" y="2650"/>
                  <a:pt x="5775" y="2650"/>
                </a:cubicBezTo>
                <a:cubicBezTo>
                  <a:pt x="5727" y="2585"/>
                  <a:pt x="5727" y="2585"/>
                  <a:pt x="5727" y="2585"/>
                </a:cubicBezTo>
                <a:cubicBezTo>
                  <a:pt x="5656" y="2484"/>
                  <a:pt x="5656" y="2484"/>
                  <a:pt x="5656" y="2484"/>
                </a:cubicBezTo>
                <a:cubicBezTo>
                  <a:pt x="5633" y="2431"/>
                  <a:pt x="5633" y="2431"/>
                  <a:pt x="5633" y="2431"/>
                </a:cubicBezTo>
                <a:cubicBezTo>
                  <a:pt x="5579" y="2496"/>
                  <a:pt x="5579" y="2496"/>
                  <a:pt x="5579" y="2496"/>
                </a:cubicBezTo>
                <a:cubicBezTo>
                  <a:pt x="5579" y="2550"/>
                  <a:pt x="5579" y="2550"/>
                  <a:pt x="5579" y="2550"/>
                </a:cubicBezTo>
                <a:cubicBezTo>
                  <a:pt x="5526" y="2573"/>
                  <a:pt x="5526" y="2573"/>
                  <a:pt x="5526" y="2573"/>
                </a:cubicBezTo>
                <a:cubicBezTo>
                  <a:pt x="5496" y="2609"/>
                  <a:pt x="5496" y="2609"/>
                  <a:pt x="5496" y="2609"/>
                </a:cubicBezTo>
                <a:cubicBezTo>
                  <a:pt x="5443" y="2603"/>
                  <a:pt x="5443" y="2603"/>
                  <a:pt x="5443" y="2603"/>
                </a:cubicBezTo>
                <a:cubicBezTo>
                  <a:pt x="5431" y="2573"/>
                  <a:pt x="5431" y="2573"/>
                  <a:pt x="5431" y="2573"/>
                </a:cubicBezTo>
                <a:cubicBezTo>
                  <a:pt x="5395" y="2544"/>
                  <a:pt x="5395" y="2544"/>
                  <a:pt x="5395" y="2544"/>
                </a:cubicBezTo>
                <a:cubicBezTo>
                  <a:pt x="5342" y="2555"/>
                  <a:pt x="5342" y="2555"/>
                  <a:pt x="5342" y="2555"/>
                </a:cubicBezTo>
                <a:cubicBezTo>
                  <a:pt x="5360" y="2496"/>
                  <a:pt x="5360" y="2496"/>
                  <a:pt x="5360" y="2496"/>
                </a:cubicBezTo>
                <a:cubicBezTo>
                  <a:pt x="5360" y="2419"/>
                  <a:pt x="5360" y="2419"/>
                  <a:pt x="5360" y="2419"/>
                </a:cubicBezTo>
                <a:cubicBezTo>
                  <a:pt x="5354" y="2372"/>
                  <a:pt x="5354" y="2372"/>
                  <a:pt x="5354" y="2372"/>
                </a:cubicBezTo>
                <a:cubicBezTo>
                  <a:pt x="5295" y="2372"/>
                  <a:pt x="5295" y="2372"/>
                  <a:pt x="5295" y="2372"/>
                </a:cubicBezTo>
                <a:cubicBezTo>
                  <a:pt x="5247" y="2342"/>
                  <a:pt x="5247" y="2342"/>
                  <a:pt x="5247" y="2342"/>
                </a:cubicBezTo>
                <a:cubicBezTo>
                  <a:pt x="5200" y="2295"/>
                  <a:pt x="5200" y="2295"/>
                  <a:pt x="5200" y="2295"/>
                </a:cubicBezTo>
                <a:cubicBezTo>
                  <a:pt x="5117" y="2247"/>
                  <a:pt x="5117" y="2247"/>
                  <a:pt x="5117" y="2247"/>
                </a:cubicBezTo>
                <a:cubicBezTo>
                  <a:pt x="5093" y="2265"/>
                  <a:pt x="5093" y="2265"/>
                  <a:pt x="5093" y="2265"/>
                </a:cubicBezTo>
                <a:cubicBezTo>
                  <a:pt x="5022" y="2265"/>
                  <a:pt x="5022" y="2265"/>
                  <a:pt x="5022" y="2265"/>
                </a:cubicBezTo>
                <a:cubicBezTo>
                  <a:pt x="4992" y="2247"/>
                  <a:pt x="4992" y="2247"/>
                  <a:pt x="4992" y="2247"/>
                </a:cubicBezTo>
                <a:cubicBezTo>
                  <a:pt x="4915" y="2247"/>
                  <a:pt x="4915" y="2247"/>
                  <a:pt x="4915" y="2247"/>
                </a:cubicBezTo>
                <a:cubicBezTo>
                  <a:pt x="4886" y="2277"/>
                  <a:pt x="4886" y="2277"/>
                  <a:pt x="4886" y="2277"/>
                </a:cubicBezTo>
                <a:cubicBezTo>
                  <a:pt x="4915" y="2324"/>
                  <a:pt x="4915" y="2324"/>
                  <a:pt x="4915" y="2324"/>
                </a:cubicBezTo>
                <a:cubicBezTo>
                  <a:pt x="4903" y="2384"/>
                  <a:pt x="4903" y="2384"/>
                  <a:pt x="4903" y="2384"/>
                </a:cubicBezTo>
                <a:cubicBezTo>
                  <a:pt x="4909" y="2425"/>
                  <a:pt x="4909" y="2425"/>
                  <a:pt x="4909" y="2425"/>
                </a:cubicBezTo>
                <a:cubicBezTo>
                  <a:pt x="4939" y="2478"/>
                  <a:pt x="4939" y="2478"/>
                  <a:pt x="4939" y="2478"/>
                </a:cubicBezTo>
                <a:cubicBezTo>
                  <a:pt x="4897" y="2478"/>
                  <a:pt x="4897" y="2478"/>
                  <a:pt x="4897" y="2478"/>
                </a:cubicBezTo>
                <a:cubicBezTo>
                  <a:pt x="4897" y="2532"/>
                  <a:pt x="4897" y="2532"/>
                  <a:pt x="4897" y="2532"/>
                </a:cubicBezTo>
                <a:cubicBezTo>
                  <a:pt x="4874" y="2561"/>
                  <a:pt x="4874" y="2561"/>
                  <a:pt x="4874" y="2561"/>
                </a:cubicBezTo>
                <a:cubicBezTo>
                  <a:pt x="4909" y="2579"/>
                  <a:pt x="4909" y="2579"/>
                  <a:pt x="4909" y="2579"/>
                </a:cubicBezTo>
                <a:cubicBezTo>
                  <a:pt x="4957" y="2621"/>
                  <a:pt x="4957" y="2621"/>
                  <a:pt x="4957" y="2621"/>
                </a:cubicBezTo>
                <a:cubicBezTo>
                  <a:pt x="4974" y="2686"/>
                  <a:pt x="4974" y="2686"/>
                  <a:pt x="4974" y="2686"/>
                </a:cubicBezTo>
                <a:cubicBezTo>
                  <a:pt x="4974" y="2757"/>
                  <a:pt x="4974" y="2757"/>
                  <a:pt x="4974" y="2757"/>
                </a:cubicBezTo>
                <a:cubicBezTo>
                  <a:pt x="4939" y="2810"/>
                  <a:pt x="4939" y="2810"/>
                  <a:pt x="4939" y="2810"/>
                </a:cubicBezTo>
                <a:cubicBezTo>
                  <a:pt x="4886" y="2852"/>
                  <a:pt x="4886" y="2852"/>
                  <a:pt x="4886" y="2852"/>
                </a:cubicBezTo>
                <a:cubicBezTo>
                  <a:pt x="4814" y="2858"/>
                  <a:pt x="4814" y="2858"/>
                  <a:pt x="4814" y="2858"/>
                </a:cubicBezTo>
                <a:cubicBezTo>
                  <a:pt x="4856" y="2923"/>
                  <a:pt x="4856" y="2923"/>
                  <a:pt x="4856" y="2923"/>
                </a:cubicBezTo>
                <a:cubicBezTo>
                  <a:pt x="4856" y="3000"/>
                  <a:pt x="4856" y="3000"/>
                  <a:pt x="4856" y="3000"/>
                </a:cubicBezTo>
                <a:cubicBezTo>
                  <a:pt x="4874" y="3048"/>
                  <a:pt x="4874" y="3048"/>
                  <a:pt x="4874" y="3048"/>
                </a:cubicBezTo>
                <a:cubicBezTo>
                  <a:pt x="4862" y="3083"/>
                  <a:pt x="4862" y="3083"/>
                  <a:pt x="4862" y="3083"/>
                </a:cubicBezTo>
                <a:cubicBezTo>
                  <a:pt x="4832" y="3131"/>
                  <a:pt x="4832" y="3131"/>
                  <a:pt x="4832" y="3131"/>
                </a:cubicBezTo>
                <a:cubicBezTo>
                  <a:pt x="4761" y="3137"/>
                  <a:pt x="4761" y="3137"/>
                  <a:pt x="4761" y="3137"/>
                </a:cubicBezTo>
                <a:cubicBezTo>
                  <a:pt x="4725" y="3071"/>
                  <a:pt x="4725" y="3071"/>
                  <a:pt x="4725" y="3071"/>
                </a:cubicBezTo>
                <a:cubicBezTo>
                  <a:pt x="4672" y="3018"/>
                  <a:pt x="4672" y="3018"/>
                  <a:pt x="4672" y="3018"/>
                </a:cubicBezTo>
                <a:cubicBezTo>
                  <a:pt x="4672" y="2965"/>
                  <a:pt x="4672" y="2965"/>
                  <a:pt x="4672" y="2965"/>
                </a:cubicBezTo>
                <a:cubicBezTo>
                  <a:pt x="4660" y="2899"/>
                  <a:pt x="4660" y="2899"/>
                  <a:pt x="4660" y="2899"/>
                </a:cubicBezTo>
                <a:cubicBezTo>
                  <a:pt x="4666" y="2840"/>
                  <a:pt x="4666" y="2840"/>
                  <a:pt x="4666" y="2840"/>
                </a:cubicBezTo>
                <a:cubicBezTo>
                  <a:pt x="4577" y="2828"/>
                  <a:pt x="4577" y="2828"/>
                  <a:pt x="4577" y="2828"/>
                </a:cubicBezTo>
                <a:cubicBezTo>
                  <a:pt x="4512" y="2828"/>
                  <a:pt x="4512" y="2828"/>
                  <a:pt x="4512" y="2828"/>
                </a:cubicBezTo>
                <a:cubicBezTo>
                  <a:pt x="4482" y="2805"/>
                  <a:pt x="4482" y="2805"/>
                  <a:pt x="4482" y="2805"/>
                </a:cubicBezTo>
                <a:cubicBezTo>
                  <a:pt x="4399" y="2787"/>
                  <a:pt x="4399" y="2787"/>
                  <a:pt x="4399" y="2787"/>
                </a:cubicBezTo>
                <a:cubicBezTo>
                  <a:pt x="4364" y="2751"/>
                  <a:pt x="4364" y="2751"/>
                  <a:pt x="4364" y="2751"/>
                </a:cubicBezTo>
                <a:cubicBezTo>
                  <a:pt x="4293" y="2716"/>
                  <a:pt x="4293" y="2716"/>
                  <a:pt x="4293" y="2716"/>
                </a:cubicBezTo>
                <a:cubicBezTo>
                  <a:pt x="4222" y="2674"/>
                  <a:pt x="4222" y="2674"/>
                  <a:pt x="4222" y="2674"/>
                </a:cubicBezTo>
                <a:cubicBezTo>
                  <a:pt x="4121" y="2698"/>
                  <a:pt x="4121" y="2698"/>
                  <a:pt x="4121" y="2698"/>
                </a:cubicBezTo>
                <a:cubicBezTo>
                  <a:pt x="4103" y="2662"/>
                  <a:pt x="4103" y="2662"/>
                  <a:pt x="4103" y="2662"/>
                </a:cubicBezTo>
                <a:cubicBezTo>
                  <a:pt x="4061" y="2573"/>
                  <a:pt x="4061" y="2573"/>
                  <a:pt x="4061" y="2573"/>
                </a:cubicBezTo>
                <a:cubicBezTo>
                  <a:pt x="4014" y="2555"/>
                  <a:pt x="4014" y="2555"/>
                  <a:pt x="4014" y="2555"/>
                </a:cubicBezTo>
                <a:cubicBezTo>
                  <a:pt x="3978" y="2520"/>
                  <a:pt x="3978" y="2520"/>
                  <a:pt x="3978" y="2520"/>
                </a:cubicBezTo>
                <a:cubicBezTo>
                  <a:pt x="3990" y="2413"/>
                  <a:pt x="3990" y="2413"/>
                  <a:pt x="3990" y="2413"/>
                </a:cubicBezTo>
                <a:cubicBezTo>
                  <a:pt x="4038" y="2336"/>
                  <a:pt x="4038" y="2336"/>
                  <a:pt x="4038" y="2336"/>
                </a:cubicBezTo>
                <a:cubicBezTo>
                  <a:pt x="4091" y="2265"/>
                  <a:pt x="4091" y="2265"/>
                  <a:pt x="4091" y="2265"/>
                </a:cubicBezTo>
                <a:cubicBezTo>
                  <a:pt x="4150" y="2235"/>
                  <a:pt x="4150" y="2235"/>
                  <a:pt x="4150" y="2235"/>
                </a:cubicBezTo>
                <a:cubicBezTo>
                  <a:pt x="4198" y="2200"/>
                  <a:pt x="4198" y="2200"/>
                  <a:pt x="4198" y="2200"/>
                </a:cubicBezTo>
                <a:cubicBezTo>
                  <a:pt x="4180" y="2158"/>
                  <a:pt x="4180" y="2158"/>
                  <a:pt x="4180" y="2158"/>
                </a:cubicBezTo>
                <a:cubicBezTo>
                  <a:pt x="4103" y="2141"/>
                  <a:pt x="4103" y="2141"/>
                  <a:pt x="4103" y="2141"/>
                </a:cubicBezTo>
                <a:cubicBezTo>
                  <a:pt x="4014" y="2111"/>
                  <a:pt x="4014" y="2111"/>
                  <a:pt x="4014" y="2111"/>
                </a:cubicBezTo>
                <a:cubicBezTo>
                  <a:pt x="4115" y="2129"/>
                  <a:pt x="4115" y="2129"/>
                  <a:pt x="4115" y="2129"/>
                </a:cubicBezTo>
                <a:cubicBezTo>
                  <a:pt x="4198" y="2146"/>
                  <a:pt x="4198" y="2146"/>
                  <a:pt x="4198" y="2146"/>
                </a:cubicBezTo>
                <a:cubicBezTo>
                  <a:pt x="4239" y="2141"/>
                  <a:pt x="4239" y="2141"/>
                  <a:pt x="4239" y="2141"/>
                </a:cubicBezTo>
                <a:cubicBezTo>
                  <a:pt x="4245" y="2099"/>
                  <a:pt x="4245" y="2099"/>
                  <a:pt x="4245" y="2099"/>
                </a:cubicBezTo>
                <a:cubicBezTo>
                  <a:pt x="4316" y="2117"/>
                  <a:pt x="4316" y="2117"/>
                  <a:pt x="4316" y="2117"/>
                </a:cubicBezTo>
                <a:cubicBezTo>
                  <a:pt x="4352" y="2111"/>
                  <a:pt x="4352" y="2111"/>
                  <a:pt x="4352" y="2111"/>
                </a:cubicBezTo>
                <a:cubicBezTo>
                  <a:pt x="4358" y="2075"/>
                  <a:pt x="4358" y="2075"/>
                  <a:pt x="4358" y="2075"/>
                </a:cubicBezTo>
                <a:cubicBezTo>
                  <a:pt x="4381" y="2063"/>
                  <a:pt x="4381" y="2063"/>
                  <a:pt x="4381" y="2063"/>
                </a:cubicBezTo>
                <a:cubicBezTo>
                  <a:pt x="4399" y="2016"/>
                  <a:pt x="4399" y="2016"/>
                  <a:pt x="4399" y="2016"/>
                </a:cubicBezTo>
                <a:cubicBezTo>
                  <a:pt x="4346" y="2010"/>
                  <a:pt x="4346" y="2010"/>
                  <a:pt x="4346" y="2010"/>
                </a:cubicBezTo>
                <a:cubicBezTo>
                  <a:pt x="4287" y="2004"/>
                  <a:pt x="4287" y="2004"/>
                  <a:pt x="4287" y="2004"/>
                </a:cubicBezTo>
                <a:cubicBezTo>
                  <a:pt x="4263" y="1980"/>
                  <a:pt x="4263" y="1980"/>
                  <a:pt x="4263" y="1980"/>
                </a:cubicBezTo>
                <a:cubicBezTo>
                  <a:pt x="4192" y="1951"/>
                  <a:pt x="4192" y="1951"/>
                  <a:pt x="4192" y="1951"/>
                </a:cubicBezTo>
                <a:cubicBezTo>
                  <a:pt x="4239" y="1957"/>
                  <a:pt x="4239" y="1957"/>
                  <a:pt x="4239" y="1957"/>
                </a:cubicBezTo>
                <a:cubicBezTo>
                  <a:pt x="4316" y="1975"/>
                  <a:pt x="4316" y="1975"/>
                  <a:pt x="4316" y="1975"/>
                </a:cubicBezTo>
                <a:cubicBezTo>
                  <a:pt x="4370" y="1992"/>
                  <a:pt x="4370" y="1992"/>
                  <a:pt x="4370" y="1992"/>
                </a:cubicBezTo>
                <a:cubicBezTo>
                  <a:pt x="4417" y="1975"/>
                  <a:pt x="4417" y="1975"/>
                  <a:pt x="4417" y="1975"/>
                </a:cubicBezTo>
                <a:cubicBezTo>
                  <a:pt x="4453" y="1933"/>
                  <a:pt x="4453" y="1933"/>
                  <a:pt x="4453" y="1933"/>
                </a:cubicBezTo>
                <a:cubicBezTo>
                  <a:pt x="4417" y="1897"/>
                  <a:pt x="4417" y="1897"/>
                  <a:pt x="4417" y="1897"/>
                </a:cubicBezTo>
                <a:cubicBezTo>
                  <a:pt x="4470" y="1897"/>
                  <a:pt x="4470" y="1897"/>
                  <a:pt x="4470" y="1897"/>
                </a:cubicBezTo>
                <a:cubicBezTo>
                  <a:pt x="4500" y="1927"/>
                  <a:pt x="4500" y="1927"/>
                  <a:pt x="4500" y="1927"/>
                </a:cubicBezTo>
                <a:cubicBezTo>
                  <a:pt x="4476" y="1963"/>
                  <a:pt x="4476" y="1963"/>
                  <a:pt x="4476" y="1963"/>
                </a:cubicBezTo>
                <a:cubicBezTo>
                  <a:pt x="4453" y="2028"/>
                  <a:pt x="4453" y="2028"/>
                  <a:pt x="4453" y="2028"/>
                </a:cubicBezTo>
                <a:cubicBezTo>
                  <a:pt x="4453" y="2105"/>
                  <a:pt x="4453" y="2105"/>
                  <a:pt x="4453" y="2105"/>
                </a:cubicBezTo>
                <a:cubicBezTo>
                  <a:pt x="4399" y="2117"/>
                  <a:pt x="4399" y="2117"/>
                  <a:pt x="4399" y="2117"/>
                </a:cubicBezTo>
                <a:cubicBezTo>
                  <a:pt x="4417" y="2152"/>
                  <a:pt x="4417" y="2152"/>
                  <a:pt x="4417" y="2152"/>
                </a:cubicBezTo>
                <a:cubicBezTo>
                  <a:pt x="4470" y="2158"/>
                  <a:pt x="4470" y="2158"/>
                  <a:pt x="4470" y="2158"/>
                </a:cubicBezTo>
                <a:cubicBezTo>
                  <a:pt x="4470" y="2188"/>
                  <a:pt x="4470" y="2188"/>
                  <a:pt x="4470" y="2188"/>
                </a:cubicBezTo>
                <a:cubicBezTo>
                  <a:pt x="4470" y="2188"/>
                  <a:pt x="4524" y="2200"/>
                  <a:pt x="4542" y="2182"/>
                </a:cubicBezTo>
                <a:cubicBezTo>
                  <a:pt x="4559" y="2141"/>
                  <a:pt x="4559" y="2141"/>
                  <a:pt x="4559" y="2141"/>
                </a:cubicBezTo>
                <a:cubicBezTo>
                  <a:pt x="4631" y="2146"/>
                  <a:pt x="4631" y="2146"/>
                  <a:pt x="4631" y="2146"/>
                </a:cubicBezTo>
                <a:cubicBezTo>
                  <a:pt x="4666" y="2152"/>
                  <a:pt x="4666" y="2152"/>
                  <a:pt x="4666" y="2152"/>
                </a:cubicBezTo>
                <a:cubicBezTo>
                  <a:pt x="4702" y="2170"/>
                  <a:pt x="4702" y="2170"/>
                  <a:pt x="4702" y="2170"/>
                </a:cubicBezTo>
                <a:cubicBezTo>
                  <a:pt x="4755" y="2170"/>
                  <a:pt x="4755" y="2170"/>
                  <a:pt x="4755" y="2170"/>
                </a:cubicBezTo>
                <a:cubicBezTo>
                  <a:pt x="4761" y="2123"/>
                  <a:pt x="4761" y="2123"/>
                  <a:pt x="4761" y="2123"/>
                </a:cubicBezTo>
                <a:cubicBezTo>
                  <a:pt x="4708" y="2111"/>
                  <a:pt x="4708" y="2111"/>
                  <a:pt x="4708" y="2111"/>
                </a:cubicBezTo>
                <a:cubicBezTo>
                  <a:pt x="4684" y="2057"/>
                  <a:pt x="4684" y="2057"/>
                  <a:pt x="4684" y="2057"/>
                </a:cubicBezTo>
                <a:cubicBezTo>
                  <a:pt x="4619" y="2052"/>
                  <a:pt x="4619" y="2052"/>
                  <a:pt x="4619" y="2052"/>
                </a:cubicBezTo>
                <a:cubicBezTo>
                  <a:pt x="4565" y="2010"/>
                  <a:pt x="4565" y="2010"/>
                  <a:pt x="4565" y="2010"/>
                </a:cubicBezTo>
                <a:cubicBezTo>
                  <a:pt x="4518" y="1998"/>
                  <a:pt x="4518" y="1998"/>
                  <a:pt x="4518" y="1998"/>
                </a:cubicBezTo>
                <a:cubicBezTo>
                  <a:pt x="4518" y="1968"/>
                  <a:pt x="4518" y="1968"/>
                  <a:pt x="4518" y="1968"/>
                </a:cubicBezTo>
                <a:cubicBezTo>
                  <a:pt x="4565" y="1975"/>
                  <a:pt x="4565" y="1975"/>
                  <a:pt x="4565" y="1975"/>
                </a:cubicBezTo>
                <a:cubicBezTo>
                  <a:pt x="4583" y="1957"/>
                  <a:pt x="4583" y="1957"/>
                  <a:pt x="4583" y="1957"/>
                </a:cubicBezTo>
                <a:cubicBezTo>
                  <a:pt x="4577" y="1927"/>
                  <a:pt x="4577" y="1927"/>
                  <a:pt x="4577" y="1927"/>
                </a:cubicBezTo>
                <a:cubicBezTo>
                  <a:pt x="4631" y="1927"/>
                  <a:pt x="4631" y="1927"/>
                  <a:pt x="4631" y="1927"/>
                </a:cubicBezTo>
                <a:cubicBezTo>
                  <a:pt x="4648" y="1891"/>
                  <a:pt x="4648" y="1891"/>
                  <a:pt x="4648" y="1891"/>
                </a:cubicBezTo>
                <a:cubicBezTo>
                  <a:pt x="4702" y="1856"/>
                  <a:pt x="4702" y="1856"/>
                  <a:pt x="4702" y="1856"/>
                </a:cubicBezTo>
                <a:cubicBezTo>
                  <a:pt x="4720" y="1820"/>
                  <a:pt x="4720" y="1820"/>
                  <a:pt x="4720" y="1820"/>
                </a:cubicBezTo>
                <a:cubicBezTo>
                  <a:pt x="4690" y="1791"/>
                  <a:pt x="4690" y="1791"/>
                  <a:pt x="4690" y="1791"/>
                </a:cubicBezTo>
                <a:cubicBezTo>
                  <a:pt x="4666" y="1731"/>
                  <a:pt x="4666" y="1731"/>
                  <a:pt x="4666" y="1731"/>
                </a:cubicBezTo>
                <a:cubicBezTo>
                  <a:pt x="4714" y="1725"/>
                  <a:pt x="4714" y="1725"/>
                  <a:pt x="4714" y="1725"/>
                </a:cubicBezTo>
                <a:cubicBezTo>
                  <a:pt x="4725" y="1678"/>
                  <a:pt x="4725" y="1678"/>
                  <a:pt x="4725" y="1678"/>
                </a:cubicBezTo>
                <a:cubicBezTo>
                  <a:pt x="4690" y="1636"/>
                  <a:pt x="4690" y="1636"/>
                  <a:pt x="4690" y="1636"/>
                </a:cubicBezTo>
                <a:cubicBezTo>
                  <a:pt x="4642" y="1613"/>
                  <a:pt x="4642" y="1613"/>
                  <a:pt x="4642" y="1613"/>
                </a:cubicBezTo>
                <a:cubicBezTo>
                  <a:pt x="4571" y="1577"/>
                  <a:pt x="4571" y="1577"/>
                  <a:pt x="4571" y="1577"/>
                </a:cubicBezTo>
                <a:cubicBezTo>
                  <a:pt x="4648" y="1577"/>
                  <a:pt x="4648" y="1577"/>
                  <a:pt x="4648" y="1577"/>
                </a:cubicBezTo>
                <a:cubicBezTo>
                  <a:pt x="4654" y="1559"/>
                  <a:pt x="4654" y="1559"/>
                  <a:pt x="4654" y="1559"/>
                </a:cubicBezTo>
                <a:cubicBezTo>
                  <a:pt x="4714" y="1565"/>
                  <a:pt x="4714" y="1565"/>
                  <a:pt x="4714" y="1565"/>
                </a:cubicBezTo>
                <a:cubicBezTo>
                  <a:pt x="4755" y="1589"/>
                  <a:pt x="4755" y="1589"/>
                  <a:pt x="4755" y="1589"/>
                </a:cubicBezTo>
                <a:cubicBezTo>
                  <a:pt x="4814" y="1583"/>
                  <a:pt x="4814" y="1583"/>
                  <a:pt x="4814" y="1583"/>
                </a:cubicBezTo>
                <a:cubicBezTo>
                  <a:pt x="4868" y="1571"/>
                  <a:pt x="4868" y="1571"/>
                  <a:pt x="4868" y="1571"/>
                </a:cubicBezTo>
                <a:cubicBezTo>
                  <a:pt x="4820" y="1530"/>
                  <a:pt x="4820" y="1530"/>
                  <a:pt x="4820" y="1530"/>
                </a:cubicBezTo>
                <a:cubicBezTo>
                  <a:pt x="4856" y="1524"/>
                  <a:pt x="4856" y="1524"/>
                  <a:pt x="4856" y="1524"/>
                </a:cubicBezTo>
                <a:cubicBezTo>
                  <a:pt x="4903" y="1571"/>
                  <a:pt x="4903" y="1571"/>
                  <a:pt x="4903" y="1571"/>
                </a:cubicBezTo>
                <a:cubicBezTo>
                  <a:pt x="4957" y="1577"/>
                  <a:pt x="4957" y="1577"/>
                  <a:pt x="4957" y="1577"/>
                </a:cubicBezTo>
                <a:cubicBezTo>
                  <a:pt x="4980" y="1625"/>
                  <a:pt x="4980" y="1625"/>
                  <a:pt x="4980" y="1625"/>
                </a:cubicBezTo>
                <a:cubicBezTo>
                  <a:pt x="5022" y="1631"/>
                  <a:pt x="5022" y="1631"/>
                  <a:pt x="5022" y="1631"/>
                </a:cubicBezTo>
                <a:cubicBezTo>
                  <a:pt x="5040" y="1666"/>
                  <a:pt x="5040" y="1666"/>
                  <a:pt x="5040" y="1666"/>
                </a:cubicBezTo>
                <a:cubicBezTo>
                  <a:pt x="5087" y="1684"/>
                  <a:pt x="5087" y="1684"/>
                  <a:pt x="5087" y="1684"/>
                </a:cubicBezTo>
                <a:cubicBezTo>
                  <a:pt x="5111" y="1725"/>
                  <a:pt x="5111" y="1725"/>
                  <a:pt x="5111" y="1725"/>
                </a:cubicBezTo>
                <a:cubicBezTo>
                  <a:pt x="5158" y="1743"/>
                  <a:pt x="5158" y="1743"/>
                  <a:pt x="5158" y="1743"/>
                </a:cubicBezTo>
                <a:cubicBezTo>
                  <a:pt x="5194" y="1785"/>
                  <a:pt x="5194" y="1785"/>
                  <a:pt x="5194" y="1785"/>
                </a:cubicBezTo>
                <a:cubicBezTo>
                  <a:pt x="5206" y="1838"/>
                  <a:pt x="5206" y="1838"/>
                  <a:pt x="5206" y="1838"/>
                </a:cubicBezTo>
                <a:cubicBezTo>
                  <a:pt x="5146" y="1891"/>
                  <a:pt x="5146" y="1891"/>
                  <a:pt x="5146" y="1891"/>
                </a:cubicBezTo>
                <a:cubicBezTo>
                  <a:pt x="5099" y="1945"/>
                  <a:pt x="5099" y="1945"/>
                  <a:pt x="5099" y="1945"/>
                </a:cubicBezTo>
                <a:cubicBezTo>
                  <a:pt x="5123" y="1998"/>
                  <a:pt x="5123" y="1998"/>
                  <a:pt x="5123" y="1998"/>
                </a:cubicBezTo>
                <a:cubicBezTo>
                  <a:pt x="5040" y="2010"/>
                  <a:pt x="5040" y="2010"/>
                  <a:pt x="5040" y="2010"/>
                </a:cubicBezTo>
                <a:cubicBezTo>
                  <a:pt x="4992" y="1998"/>
                  <a:pt x="4992" y="1998"/>
                  <a:pt x="4992" y="1998"/>
                </a:cubicBezTo>
                <a:cubicBezTo>
                  <a:pt x="4945" y="1998"/>
                  <a:pt x="4945" y="1998"/>
                  <a:pt x="4945" y="1998"/>
                </a:cubicBezTo>
                <a:cubicBezTo>
                  <a:pt x="4886" y="2040"/>
                  <a:pt x="4886" y="2040"/>
                  <a:pt x="4886" y="2040"/>
                </a:cubicBezTo>
                <a:cubicBezTo>
                  <a:pt x="4886" y="2087"/>
                  <a:pt x="4886" y="2087"/>
                  <a:pt x="4886" y="2087"/>
                </a:cubicBezTo>
                <a:cubicBezTo>
                  <a:pt x="4957" y="2099"/>
                  <a:pt x="4957" y="2099"/>
                  <a:pt x="4957" y="2099"/>
                </a:cubicBezTo>
                <a:cubicBezTo>
                  <a:pt x="5016" y="2093"/>
                  <a:pt x="5016" y="2093"/>
                  <a:pt x="5016" y="2093"/>
                </a:cubicBezTo>
                <a:cubicBezTo>
                  <a:pt x="5028" y="2069"/>
                  <a:pt x="5028" y="2069"/>
                  <a:pt x="5028" y="2069"/>
                </a:cubicBezTo>
                <a:cubicBezTo>
                  <a:pt x="5052" y="2052"/>
                  <a:pt x="5052" y="2052"/>
                  <a:pt x="5052" y="2052"/>
                </a:cubicBezTo>
                <a:cubicBezTo>
                  <a:pt x="5093" y="2063"/>
                  <a:pt x="5093" y="2063"/>
                  <a:pt x="5093" y="2063"/>
                </a:cubicBezTo>
                <a:cubicBezTo>
                  <a:pt x="5158" y="2081"/>
                  <a:pt x="5158" y="2081"/>
                  <a:pt x="5158" y="2081"/>
                </a:cubicBezTo>
                <a:cubicBezTo>
                  <a:pt x="5224" y="2146"/>
                  <a:pt x="5224" y="2146"/>
                  <a:pt x="5224" y="2146"/>
                </a:cubicBezTo>
                <a:cubicBezTo>
                  <a:pt x="5241" y="2182"/>
                  <a:pt x="5241" y="2182"/>
                  <a:pt x="5241" y="2182"/>
                </a:cubicBezTo>
                <a:cubicBezTo>
                  <a:pt x="5277" y="2223"/>
                  <a:pt x="5277" y="2223"/>
                  <a:pt x="5277" y="2223"/>
                </a:cubicBezTo>
                <a:cubicBezTo>
                  <a:pt x="5336" y="2223"/>
                  <a:pt x="5336" y="2223"/>
                  <a:pt x="5336" y="2223"/>
                </a:cubicBezTo>
                <a:cubicBezTo>
                  <a:pt x="5395" y="2277"/>
                  <a:pt x="5395" y="2277"/>
                  <a:pt x="5395" y="2277"/>
                </a:cubicBezTo>
                <a:cubicBezTo>
                  <a:pt x="5484" y="2283"/>
                  <a:pt x="5484" y="2283"/>
                  <a:pt x="5484" y="2283"/>
                </a:cubicBezTo>
                <a:cubicBezTo>
                  <a:pt x="5544" y="2307"/>
                  <a:pt x="5544" y="2307"/>
                  <a:pt x="5544" y="2307"/>
                </a:cubicBezTo>
                <a:cubicBezTo>
                  <a:pt x="5550" y="2271"/>
                  <a:pt x="5550" y="2271"/>
                  <a:pt x="5550" y="2271"/>
                </a:cubicBezTo>
                <a:cubicBezTo>
                  <a:pt x="5455" y="2200"/>
                  <a:pt x="5455" y="2200"/>
                  <a:pt x="5455" y="2200"/>
                </a:cubicBezTo>
                <a:cubicBezTo>
                  <a:pt x="5413" y="2170"/>
                  <a:pt x="5413" y="2170"/>
                  <a:pt x="5413" y="2170"/>
                </a:cubicBezTo>
                <a:cubicBezTo>
                  <a:pt x="5395" y="2134"/>
                  <a:pt x="5395" y="2134"/>
                  <a:pt x="5395" y="2134"/>
                </a:cubicBezTo>
                <a:cubicBezTo>
                  <a:pt x="5455" y="2170"/>
                  <a:pt x="5455" y="2170"/>
                  <a:pt x="5455" y="2170"/>
                </a:cubicBezTo>
                <a:cubicBezTo>
                  <a:pt x="5561" y="2223"/>
                  <a:pt x="5561" y="2223"/>
                  <a:pt x="5561" y="2223"/>
                </a:cubicBezTo>
                <a:cubicBezTo>
                  <a:pt x="5615" y="2253"/>
                  <a:pt x="5615" y="2253"/>
                  <a:pt x="5615" y="2253"/>
                </a:cubicBezTo>
                <a:cubicBezTo>
                  <a:pt x="5615" y="2200"/>
                  <a:pt x="5615" y="2200"/>
                  <a:pt x="5615" y="2200"/>
                </a:cubicBezTo>
                <a:cubicBezTo>
                  <a:pt x="5650" y="2158"/>
                  <a:pt x="5650" y="2158"/>
                  <a:pt x="5650" y="2158"/>
                </a:cubicBezTo>
                <a:cubicBezTo>
                  <a:pt x="5597" y="2129"/>
                  <a:pt x="5597" y="2129"/>
                  <a:pt x="5597" y="2129"/>
                </a:cubicBezTo>
                <a:cubicBezTo>
                  <a:pt x="5585" y="2057"/>
                  <a:pt x="5585" y="2057"/>
                  <a:pt x="5585" y="2057"/>
                </a:cubicBezTo>
                <a:cubicBezTo>
                  <a:pt x="5514" y="2034"/>
                  <a:pt x="5514" y="2034"/>
                  <a:pt x="5514" y="2034"/>
                </a:cubicBezTo>
                <a:cubicBezTo>
                  <a:pt x="5425" y="1939"/>
                  <a:pt x="5425" y="1939"/>
                  <a:pt x="5425" y="1939"/>
                </a:cubicBezTo>
                <a:cubicBezTo>
                  <a:pt x="5455" y="1915"/>
                  <a:pt x="5455" y="1915"/>
                  <a:pt x="5455" y="1915"/>
                </a:cubicBezTo>
                <a:cubicBezTo>
                  <a:pt x="5484" y="1891"/>
                  <a:pt x="5484" y="1891"/>
                  <a:pt x="5484" y="1891"/>
                </a:cubicBezTo>
                <a:cubicBezTo>
                  <a:pt x="5597" y="1975"/>
                  <a:pt x="5597" y="1975"/>
                  <a:pt x="5597" y="1975"/>
                </a:cubicBezTo>
                <a:cubicBezTo>
                  <a:pt x="5638" y="2034"/>
                  <a:pt x="5638" y="2034"/>
                  <a:pt x="5638" y="2034"/>
                </a:cubicBezTo>
                <a:cubicBezTo>
                  <a:pt x="5686" y="2040"/>
                  <a:pt x="5686" y="2040"/>
                  <a:pt x="5686" y="2040"/>
                </a:cubicBezTo>
                <a:cubicBezTo>
                  <a:pt x="5704" y="1975"/>
                  <a:pt x="5704" y="1975"/>
                  <a:pt x="5704" y="1975"/>
                </a:cubicBezTo>
                <a:cubicBezTo>
                  <a:pt x="5763" y="1957"/>
                  <a:pt x="5763" y="1957"/>
                  <a:pt x="5763" y="1957"/>
                </a:cubicBezTo>
                <a:cubicBezTo>
                  <a:pt x="5769" y="1927"/>
                  <a:pt x="5769" y="1927"/>
                  <a:pt x="5769" y="1927"/>
                </a:cubicBezTo>
                <a:cubicBezTo>
                  <a:pt x="5811" y="1927"/>
                  <a:pt x="5811" y="1927"/>
                  <a:pt x="5811" y="1927"/>
                </a:cubicBezTo>
                <a:cubicBezTo>
                  <a:pt x="5828" y="1897"/>
                  <a:pt x="5828" y="1897"/>
                  <a:pt x="5828" y="1897"/>
                </a:cubicBezTo>
                <a:cubicBezTo>
                  <a:pt x="5822" y="1856"/>
                  <a:pt x="5822" y="1856"/>
                  <a:pt x="5822" y="1856"/>
                </a:cubicBezTo>
                <a:cubicBezTo>
                  <a:pt x="5745" y="1856"/>
                  <a:pt x="5745" y="1856"/>
                  <a:pt x="5745" y="1856"/>
                </a:cubicBezTo>
                <a:cubicBezTo>
                  <a:pt x="5745" y="1832"/>
                  <a:pt x="5745" y="1832"/>
                  <a:pt x="5745" y="1832"/>
                </a:cubicBezTo>
                <a:cubicBezTo>
                  <a:pt x="5698" y="1797"/>
                  <a:pt x="5698" y="1797"/>
                  <a:pt x="5698" y="1797"/>
                </a:cubicBezTo>
                <a:cubicBezTo>
                  <a:pt x="5662" y="1791"/>
                  <a:pt x="5662" y="1791"/>
                  <a:pt x="5662" y="1791"/>
                </a:cubicBezTo>
                <a:cubicBezTo>
                  <a:pt x="5609" y="1767"/>
                  <a:pt x="5609" y="1767"/>
                  <a:pt x="5609" y="1767"/>
                </a:cubicBezTo>
                <a:cubicBezTo>
                  <a:pt x="5573" y="1767"/>
                  <a:pt x="5573" y="1767"/>
                  <a:pt x="5573" y="1767"/>
                </a:cubicBezTo>
                <a:cubicBezTo>
                  <a:pt x="5561" y="1737"/>
                  <a:pt x="5561" y="1737"/>
                  <a:pt x="5561" y="1737"/>
                </a:cubicBezTo>
                <a:cubicBezTo>
                  <a:pt x="5544" y="1708"/>
                  <a:pt x="5544" y="1708"/>
                  <a:pt x="5544" y="1708"/>
                </a:cubicBezTo>
                <a:cubicBezTo>
                  <a:pt x="5479" y="1708"/>
                  <a:pt x="5479" y="1708"/>
                  <a:pt x="5479" y="1708"/>
                </a:cubicBezTo>
                <a:cubicBezTo>
                  <a:pt x="5449" y="1708"/>
                  <a:pt x="5449" y="1708"/>
                  <a:pt x="5449" y="1708"/>
                </a:cubicBezTo>
                <a:cubicBezTo>
                  <a:pt x="5449" y="1654"/>
                  <a:pt x="5449" y="1654"/>
                  <a:pt x="5449" y="1654"/>
                </a:cubicBezTo>
                <a:cubicBezTo>
                  <a:pt x="5496" y="1654"/>
                  <a:pt x="5496" y="1654"/>
                  <a:pt x="5496" y="1654"/>
                </a:cubicBezTo>
                <a:cubicBezTo>
                  <a:pt x="5520" y="1636"/>
                  <a:pt x="5520" y="1636"/>
                  <a:pt x="5520" y="1636"/>
                </a:cubicBezTo>
                <a:cubicBezTo>
                  <a:pt x="5455" y="1619"/>
                  <a:pt x="5455" y="1619"/>
                  <a:pt x="5455" y="1619"/>
                </a:cubicBezTo>
                <a:cubicBezTo>
                  <a:pt x="5467" y="1595"/>
                  <a:pt x="5467" y="1595"/>
                  <a:pt x="5467" y="1595"/>
                </a:cubicBezTo>
                <a:cubicBezTo>
                  <a:pt x="5496" y="1589"/>
                  <a:pt x="5496" y="1589"/>
                  <a:pt x="5496" y="1589"/>
                </a:cubicBezTo>
                <a:cubicBezTo>
                  <a:pt x="5461" y="1559"/>
                  <a:pt x="5461" y="1559"/>
                  <a:pt x="5461" y="1559"/>
                </a:cubicBezTo>
                <a:cubicBezTo>
                  <a:pt x="5407" y="1542"/>
                  <a:pt x="5407" y="1542"/>
                  <a:pt x="5407" y="1542"/>
                </a:cubicBezTo>
                <a:cubicBezTo>
                  <a:pt x="5425" y="1512"/>
                  <a:pt x="5425" y="1512"/>
                  <a:pt x="5425" y="1512"/>
                </a:cubicBezTo>
                <a:cubicBezTo>
                  <a:pt x="5372" y="1488"/>
                  <a:pt x="5372" y="1488"/>
                  <a:pt x="5372" y="1488"/>
                </a:cubicBezTo>
                <a:cubicBezTo>
                  <a:pt x="5312" y="1494"/>
                  <a:pt x="5312" y="1494"/>
                  <a:pt x="5312" y="1494"/>
                </a:cubicBezTo>
                <a:cubicBezTo>
                  <a:pt x="5306" y="1465"/>
                  <a:pt x="5306" y="1465"/>
                  <a:pt x="5306" y="1465"/>
                </a:cubicBezTo>
                <a:cubicBezTo>
                  <a:pt x="5259" y="1465"/>
                  <a:pt x="5259" y="1465"/>
                  <a:pt x="5259" y="1465"/>
                </a:cubicBezTo>
                <a:cubicBezTo>
                  <a:pt x="5235" y="1459"/>
                  <a:pt x="5235" y="1459"/>
                  <a:pt x="5235" y="1459"/>
                </a:cubicBezTo>
                <a:cubicBezTo>
                  <a:pt x="5277" y="1429"/>
                  <a:pt x="5277" y="1429"/>
                  <a:pt x="5277" y="1429"/>
                </a:cubicBezTo>
                <a:cubicBezTo>
                  <a:pt x="5224" y="1417"/>
                  <a:pt x="5224" y="1417"/>
                  <a:pt x="5224" y="1417"/>
                </a:cubicBezTo>
                <a:cubicBezTo>
                  <a:pt x="5152" y="1429"/>
                  <a:pt x="5152" y="1429"/>
                  <a:pt x="5152" y="1429"/>
                </a:cubicBezTo>
                <a:cubicBezTo>
                  <a:pt x="5111" y="1387"/>
                  <a:pt x="5111" y="1387"/>
                  <a:pt x="5111" y="1387"/>
                </a:cubicBezTo>
                <a:cubicBezTo>
                  <a:pt x="5105" y="1358"/>
                  <a:pt x="5105" y="1358"/>
                  <a:pt x="5105" y="1358"/>
                </a:cubicBezTo>
                <a:cubicBezTo>
                  <a:pt x="5057" y="1358"/>
                  <a:pt x="5057" y="1358"/>
                  <a:pt x="5057" y="1358"/>
                </a:cubicBezTo>
                <a:cubicBezTo>
                  <a:pt x="5057" y="1328"/>
                  <a:pt x="5057" y="1328"/>
                  <a:pt x="5057" y="1328"/>
                </a:cubicBezTo>
                <a:cubicBezTo>
                  <a:pt x="4986" y="1304"/>
                  <a:pt x="4986" y="1304"/>
                  <a:pt x="4986" y="1304"/>
                </a:cubicBezTo>
                <a:cubicBezTo>
                  <a:pt x="4897" y="1304"/>
                  <a:pt x="4897" y="1304"/>
                  <a:pt x="4897" y="1304"/>
                </a:cubicBezTo>
                <a:cubicBezTo>
                  <a:pt x="4886" y="1328"/>
                  <a:pt x="4886" y="1328"/>
                  <a:pt x="4886" y="1328"/>
                </a:cubicBezTo>
                <a:cubicBezTo>
                  <a:pt x="4844" y="1334"/>
                  <a:pt x="4844" y="1334"/>
                  <a:pt x="4844" y="1334"/>
                </a:cubicBezTo>
                <a:cubicBezTo>
                  <a:pt x="4802" y="1328"/>
                  <a:pt x="4802" y="1328"/>
                  <a:pt x="4802" y="1328"/>
                </a:cubicBezTo>
                <a:cubicBezTo>
                  <a:pt x="4785" y="1358"/>
                  <a:pt x="4785" y="1358"/>
                  <a:pt x="4785" y="1358"/>
                </a:cubicBezTo>
                <a:cubicBezTo>
                  <a:pt x="4743" y="1358"/>
                  <a:pt x="4743" y="1358"/>
                  <a:pt x="4743" y="1358"/>
                </a:cubicBezTo>
                <a:cubicBezTo>
                  <a:pt x="4737" y="1322"/>
                  <a:pt x="4737" y="1322"/>
                  <a:pt x="4737" y="1322"/>
                </a:cubicBezTo>
                <a:cubicBezTo>
                  <a:pt x="4767" y="1281"/>
                  <a:pt x="4767" y="1281"/>
                  <a:pt x="4767" y="1281"/>
                </a:cubicBezTo>
                <a:cubicBezTo>
                  <a:pt x="4725" y="1233"/>
                  <a:pt x="4725" y="1233"/>
                  <a:pt x="4725" y="1233"/>
                </a:cubicBezTo>
                <a:cubicBezTo>
                  <a:pt x="4702" y="1186"/>
                  <a:pt x="4702" y="1186"/>
                  <a:pt x="4702" y="1186"/>
                </a:cubicBezTo>
                <a:cubicBezTo>
                  <a:pt x="4625" y="1186"/>
                  <a:pt x="4625" y="1186"/>
                  <a:pt x="4625" y="1186"/>
                </a:cubicBezTo>
                <a:cubicBezTo>
                  <a:pt x="4583" y="1221"/>
                  <a:pt x="4583" y="1221"/>
                  <a:pt x="4583" y="1221"/>
                </a:cubicBezTo>
                <a:cubicBezTo>
                  <a:pt x="4530" y="1221"/>
                  <a:pt x="4530" y="1221"/>
                  <a:pt x="4530" y="1221"/>
                </a:cubicBezTo>
                <a:cubicBezTo>
                  <a:pt x="4494" y="1245"/>
                  <a:pt x="4494" y="1245"/>
                  <a:pt x="4494" y="1245"/>
                </a:cubicBezTo>
                <a:cubicBezTo>
                  <a:pt x="4488" y="1293"/>
                  <a:pt x="4488" y="1293"/>
                  <a:pt x="4488" y="1293"/>
                </a:cubicBezTo>
                <a:cubicBezTo>
                  <a:pt x="4518" y="1340"/>
                  <a:pt x="4518" y="1340"/>
                  <a:pt x="4518" y="1340"/>
                </a:cubicBezTo>
                <a:cubicBezTo>
                  <a:pt x="4494" y="1370"/>
                  <a:pt x="4494" y="1370"/>
                  <a:pt x="4494" y="1370"/>
                </a:cubicBezTo>
                <a:cubicBezTo>
                  <a:pt x="4542" y="1429"/>
                  <a:pt x="4542" y="1429"/>
                  <a:pt x="4542" y="1429"/>
                </a:cubicBezTo>
                <a:cubicBezTo>
                  <a:pt x="4506" y="1435"/>
                  <a:pt x="4506" y="1435"/>
                  <a:pt x="4506" y="1435"/>
                </a:cubicBezTo>
                <a:cubicBezTo>
                  <a:pt x="4453" y="1387"/>
                  <a:pt x="4453" y="1387"/>
                  <a:pt x="4453" y="1387"/>
                </a:cubicBezTo>
                <a:cubicBezTo>
                  <a:pt x="4435" y="1316"/>
                  <a:pt x="4435" y="1316"/>
                  <a:pt x="4435" y="1316"/>
                </a:cubicBezTo>
                <a:cubicBezTo>
                  <a:pt x="4429" y="1269"/>
                  <a:pt x="4429" y="1269"/>
                  <a:pt x="4429" y="1269"/>
                </a:cubicBezTo>
                <a:cubicBezTo>
                  <a:pt x="4470" y="1221"/>
                  <a:pt x="4470" y="1221"/>
                  <a:pt x="4470" y="1221"/>
                </a:cubicBezTo>
                <a:cubicBezTo>
                  <a:pt x="4524" y="1186"/>
                  <a:pt x="4524" y="1186"/>
                  <a:pt x="4524" y="1186"/>
                </a:cubicBezTo>
                <a:cubicBezTo>
                  <a:pt x="4447" y="1186"/>
                  <a:pt x="4447" y="1186"/>
                  <a:pt x="4447" y="1186"/>
                </a:cubicBezTo>
                <a:cubicBezTo>
                  <a:pt x="4370" y="1192"/>
                  <a:pt x="4370" y="1192"/>
                  <a:pt x="4370" y="1192"/>
                </a:cubicBezTo>
                <a:cubicBezTo>
                  <a:pt x="4299" y="1251"/>
                  <a:pt x="4299" y="1251"/>
                  <a:pt x="4299" y="1251"/>
                </a:cubicBezTo>
                <a:cubicBezTo>
                  <a:pt x="4257" y="1328"/>
                  <a:pt x="4257" y="1328"/>
                  <a:pt x="4257" y="1328"/>
                </a:cubicBezTo>
                <a:cubicBezTo>
                  <a:pt x="4251" y="1429"/>
                  <a:pt x="4251" y="1429"/>
                  <a:pt x="4251" y="1429"/>
                </a:cubicBezTo>
                <a:cubicBezTo>
                  <a:pt x="4316" y="1441"/>
                  <a:pt x="4316" y="1441"/>
                  <a:pt x="4316" y="1441"/>
                </a:cubicBezTo>
                <a:cubicBezTo>
                  <a:pt x="4364" y="1441"/>
                  <a:pt x="4364" y="1441"/>
                  <a:pt x="4364" y="1441"/>
                </a:cubicBezTo>
                <a:cubicBezTo>
                  <a:pt x="4381" y="1482"/>
                  <a:pt x="4381" y="1482"/>
                  <a:pt x="4381" y="1482"/>
                </a:cubicBezTo>
                <a:cubicBezTo>
                  <a:pt x="4334" y="1470"/>
                  <a:pt x="4334" y="1470"/>
                  <a:pt x="4334" y="1470"/>
                </a:cubicBezTo>
                <a:cubicBezTo>
                  <a:pt x="4275" y="1488"/>
                  <a:pt x="4275" y="1488"/>
                  <a:pt x="4275" y="1488"/>
                </a:cubicBezTo>
                <a:cubicBezTo>
                  <a:pt x="4322" y="1530"/>
                  <a:pt x="4322" y="1530"/>
                  <a:pt x="4322" y="1530"/>
                </a:cubicBezTo>
                <a:cubicBezTo>
                  <a:pt x="4388" y="1530"/>
                  <a:pt x="4388" y="1530"/>
                  <a:pt x="4388" y="1530"/>
                </a:cubicBezTo>
                <a:cubicBezTo>
                  <a:pt x="4417" y="1518"/>
                  <a:pt x="4417" y="1518"/>
                  <a:pt x="4417" y="1518"/>
                </a:cubicBezTo>
                <a:cubicBezTo>
                  <a:pt x="4459" y="1548"/>
                  <a:pt x="4459" y="1548"/>
                  <a:pt x="4459" y="1548"/>
                </a:cubicBezTo>
                <a:cubicBezTo>
                  <a:pt x="4542" y="1571"/>
                  <a:pt x="4542" y="1571"/>
                  <a:pt x="4542" y="1571"/>
                </a:cubicBezTo>
                <a:cubicBezTo>
                  <a:pt x="4494" y="1589"/>
                  <a:pt x="4494" y="1589"/>
                  <a:pt x="4494" y="1589"/>
                </a:cubicBezTo>
                <a:cubicBezTo>
                  <a:pt x="4488" y="1631"/>
                  <a:pt x="4488" y="1631"/>
                  <a:pt x="4488" y="1631"/>
                </a:cubicBezTo>
                <a:cubicBezTo>
                  <a:pt x="4524" y="1654"/>
                  <a:pt x="4524" y="1654"/>
                  <a:pt x="4524" y="1654"/>
                </a:cubicBezTo>
                <a:cubicBezTo>
                  <a:pt x="4470" y="1731"/>
                  <a:pt x="4470" y="1731"/>
                  <a:pt x="4470" y="1731"/>
                </a:cubicBezTo>
                <a:cubicBezTo>
                  <a:pt x="4441" y="1791"/>
                  <a:pt x="4441" y="1791"/>
                  <a:pt x="4441" y="1791"/>
                </a:cubicBezTo>
                <a:cubicBezTo>
                  <a:pt x="4405" y="1832"/>
                  <a:pt x="4405" y="1832"/>
                  <a:pt x="4405" y="1832"/>
                </a:cubicBezTo>
                <a:cubicBezTo>
                  <a:pt x="4364" y="1814"/>
                  <a:pt x="4364" y="1814"/>
                  <a:pt x="4364" y="1814"/>
                </a:cubicBezTo>
                <a:cubicBezTo>
                  <a:pt x="4340" y="1749"/>
                  <a:pt x="4340" y="1749"/>
                  <a:pt x="4340" y="1749"/>
                </a:cubicBezTo>
                <a:cubicBezTo>
                  <a:pt x="4364" y="1708"/>
                  <a:pt x="4364" y="1708"/>
                  <a:pt x="4364" y="1708"/>
                </a:cubicBezTo>
                <a:cubicBezTo>
                  <a:pt x="4293" y="1648"/>
                  <a:pt x="4293" y="1648"/>
                  <a:pt x="4293" y="1648"/>
                </a:cubicBezTo>
                <a:cubicBezTo>
                  <a:pt x="4239" y="1696"/>
                  <a:pt x="4239" y="1696"/>
                  <a:pt x="4239" y="1696"/>
                </a:cubicBezTo>
                <a:cubicBezTo>
                  <a:pt x="4156" y="1607"/>
                  <a:pt x="4156" y="1607"/>
                  <a:pt x="4156" y="1607"/>
                </a:cubicBezTo>
                <a:cubicBezTo>
                  <a:pt x="4127" y="1595"/>
                  <a:pt x="4127" y="1595"/>
                  <a:pt x="4127" y="1595"/>
                </a:cubicBezTo>
                <a:cubicBezTo>
                  <a:pt x="4133" y="1548"/>
                  <a:pt x="4133" y="1548"/>
                  <a:pt x="4133" y="1548"/>
                </a:cubicBezTo>
                <a:cubicBezTo>
                  <a:pt x="4121" y="1494"/>
                  <a:pt x="4121" y="1494"/>
                  <a:pt x="4121" y="1494"/>
                </a:cubicBezTo>
                <a:cubicBezTo>
                  <a:pt x="4085" y="1494"/>
                  <a:pt x="4085" y="1494"/>
                  <a:pt x="4085" y="1494"/>
                </a:cubicBezTo>
                <a:cubicBezTo>
                  <a:pt x="4085" y="1447"/>
                  <a:pt x="4085" y="1447"/>
                  <a:pt x="4085" y="1447"/>
                </a:cubicBezTo>
                <a:cubicBezTo>
                  <a:pt x="4026" y="1399"/>
                  <a:pt x="4026" y="1399"/>
                  <a:pt x="4026" y="1399"/>
                </a:cubicBezTo>
                <a:cubicBezTo>
                  <a:pt x="3955" y="1399"/>
                  <a:pt x="3955" y="1399"/>
                  <a:pt x="3955" y="1399"/>
                </a:cubicBezTo>
                <a:cubicBezTo>
                  <a:pt x="3943" y="1423"/>
                  <a:pt x="3943" y="1423"/>
                  <a:pt x="3943" y="1423"/>
                </a:cubicBezTo>
                <a:cubicBezTo>
                  <a:pt x="3907" y="1429"/>
                  <a:pt x="3907" y="1429"/>
                  <a:pt x="3907" y="1429"/>
                </a:cubicBezTo>
                <a:cubicBezTo>
                  <a:pt x="3878" y="1476"/>
                  <a:pt x="3878" y="1476"/>
                  <a:pt x="3878" y="1476"/>
                </a:cubicBezTo>
                <a:cubicBezTo>
                  <a:pt x="3895" y="1512"/>
                  <a:pt x="3895" y="1512"/>
                  <a:pt x="3895" y="1512"/>
                </a:cubicBezTo>
                <a:cubicBezTo>
                  <a:pt x="3883" y="1542"/>
                  <a:pt x="3883" y="1542"/>
                  <a:pt x="3883" y="1542"/>
                </a:cubicBezTo>
                <a:cubicBezTo>
                  <a:pt x="3943" y="1589"/>
                  <a:pt x="3943" y="1589"/>
                  <a:pt x="3943" y="1589"/>
                </a:cubicBezTo>
                <a:cubicBezTo>
                  <a:pt x="3996" y="1619"/>
                  <a:pt x="3996" y="1619"/>
                  <a:pt x="3996" y="1619"/>
                </a:cubicBezTo>
                <a:cubicBezTo>
                  <a:pt x="3978" y="1660"/>
                  <a:pt x="3978" y="1660"/>
                  <a:pt x="3978" y="1660"/>
                </a:cubicBezTo>
                <a:cubicBezTo>
                  <a:pt x="3919" y="1648"/>
                  <a:pt x="3919" y="1648"/>
                  <a:pt x="3919" y="1648"/>
                </a:cubicBezTo>
                <a:cubicBezTo>
                  <a:pt x="3937" y="1702"/>
                  <a:pt x="3937" y="1702"/>
                  <a:pt x="3937" y="1702"/>
                </a:cubicBezTo>
                <a:cubicBezTo>
                  <a:pt x="3990" y="1696"/>
                  <a:pt x="3990" y="1696"/>
                  <a:pt x="3990" y="1696"/>
                </a:cubicBezTo>
                <a:cubicBezTo>
                  <a:pt x="4044" y="1660"/>
                  <a:pt x="4044" y="1660"/>
                  <a:pt x="4044" y="1660"/>
                </a:cubicBezTo>
                <a:cubicBezTo>
                  <a:pt x="4044" y="1714"/>
                  <a:pt x="4044" y="1714"/>
                  <a:pt x="4044" y="1714"/>
                </a:cubicBezTo>
                <a:cubicBezTo>
                  <a:pt x="3949" y="1767"/>
                  <a:pt x="3949" y="1767"/>
                  <a:pt x="3949" y="1767"/>
                </a:cubicBezTo>
                <a:cubicBezTo>
                  <a:pt x="3955" y="1838"/>
                  <a:pt x="3955" y="1838"/>
                  <a:pt x="3955" y="1838"/>
                </a:cubicBezTo>
                <a:cubicBezTo>
                  <a:pt x="3890" y="1802"/>
                  <a:pt x="3890" y="1802"/>
                  <a:pt x="3890" y="1802"/>
                </a:cubicBezTo>
                <a:cubicBezTo>
                  <a:pt x="3907" y="1749"/>
                  <a:pt x="3907" y="1749"/>
                  <a:pt x="3907" y="1749"/>
                </a:cubicBezTo>
                <a:cubicBezTo>
                  <a:pt x="3872" y="1749"/>
                  <a:pt x="3872" y="1749"/>
                  <a:pt x="3872" y="1749"/>
                </a:cubicBezTo>
                <a:cubicBezTo>
                  <a:pt x="3866" y="1702"/>
                  <a:pt x="3866" y="1702"/>
                  <a:pt x="3866" y="1702"/>
                </a:cubicBezTo>
                <a:cubicBezTo>
                  <a:pt x="3901" y="1702"/>
                  <a:pt x="3901" y="1702"/>
                  <a:pt x="3901" y="1702"/>
                </a:cubicBezTo>
                <a:cubicBezTo>
                  <a:pt x="3890" y="1631"/>
                  <a:pt x="3890" y="1631"/>
                  <a:pt x="3890" y="1631"/>
                </a:cubicBezTo>
                <a:cubicBezTo>
                  <a:pt x="3801" y="1583"/>
                  <a:pt x="3801" y="1583"/>
                  <a:pt x="3801" y="1583"/>
                </a:cubicBezTo>
                <a:cubicBezTo>
                  <a:pt x="3783" y="1636"/>
                  <a:pt x="3783" y="1636"/>
                  <a:pt x="3783" y="1636"/>
                </a:cubicBezTo>
                <a:cubicBezTo>
                  <a:pt x="3729" y="1660"/>
                  <a:pt x="3729" y="1660"/>
                  <a:pt x="3729" y="1660"/>
                </a:cubicBezTo>
                <a:cubicBezTo>
                  <a:pt x="3812" y="1714"/>
                  <a:pt x="3812" y="1714"/>
                  <a:pt x="3812" y="1714"/>
                </a:cubicBezTo>
                <a:cubicBezTo>
                  <a:pt x="3777" y="1743"/>
                  <a:pt x="3777" y="1743"/>
                  <a:pt x="3777" y="1743"/>
                </a:cubicBezTo>
                <a:cubicBezTo>
                  <a:pt x="3759" y="1785"/>
                  <a:pt x="3759" y="1785"/>
                  <a:pt x="3759" y="1785"/>
                </a:cubicBezTo>
                <a:cubicBezTo>
                  <a:pt x="3605" y="1791"/>
                  <a:pt x="3605" y="1791"/>
                  <a:pt x="3605" y="1791"/>
                </a:cubicBezTo>
                <a:cubicBezTo>
                  <a:pt x="3528" y="1761"/>
                  <a:pt x="3528" y="1761"/>
                  <a:pt x="3528" y="1761"/>
                </a:cubicBezTo>
                <a:cubicBezTo>
                  <a:pt x="3474" y="1749"/>
                  <a:pt x="3474" y="1749"/>
                  <a:pt x="3474" y="1749"/>
                </a:cubicBezTo>
                <a:cubicBezTo>
                  <a:pt x="3397" y="1708"/>
                  <a:pt x="3397" y="1708"/>
                  <a:pt x="3397" y="1708"/>
                </a:cubicBezTo>
                <a:cubicBezTo>
                  <a:pt x="3344" y="1737"/>
                  <a:pt x="3344" y="1737"/>
                  <a:pt x="3344" y="1737"/>
                </a:cubicBezTo>
                <a:cubicBezTo>
                  <a:pt x="3267" y="1773"/>
                  <a:pt x="3267" y="1773"/>
                  <a:pt x="3267" y="1773"/>
                </a:cubicBezTo>
                <a:cubicBezTo>
                  <a:pt x="3285" y="1820"/>
                  <a:pt x="3285" y="1820"/>
                  <a:pt x="3285" y="1820"/>
                </a:cubicBezTo>
                <a:cubicBezTo>
                  <a:pt x="3273" y="1897"/>
                  <a:pt x="3273" y="1897"/>
                  <a:pt x="3273" y="1897"/>
                </a:cubicBezTo>
                <a:cubicBezTo>
                  <a:pt x="3225" y="1809"/>
                  <a:pt x="3225" y="1809"/>
                  <a:pt x="3225" y="1809"/>
                </a:cubicBezTo>
                <a:cubicBezTo>
                  <a:pt x="3148" y="1773"/>
                  <a:pt x="3148" y="1773"/>
                  <a:pt x="3148" y="1773"/>
                </a:cubicBezTo>
                <a:cubicBezTo>
                  <a:pt x="3065" y="1791"/>
                  <a:pt x="3065" y="1791"/>
                  <a:pt x="3065" y="1791"/>
                </a:cubicBezTo>
                <a:cubicBezTo>
                  <a:pt x="2876" y="1773"/>
                  <a:pt x="2876" y="1773"/>
                  <a:pt x="2876" y="1773"/>
                </a:cubicBezTo>
                <a:cubicBezTo>
                  <a:pt x="2876" y="1749"/>
                  <a:pt x="2876" y="1749"/>
                  <a:pt x="2876" y="1749"/>
                </a:cubicBezTo>
                <a:cubicBezTo>
                  <a:pt x="2941" y="1725"/>
                  <a:pt x="2941" y="1725"/>
                  <a:pt x="2941" y="1725"/>
                </a:cubicBezTo>
                <a:cubicBezTo>
                  <a:pt x="2846" y="1678"/>
                  <a:pt x="2846" y="1678"/>
                  <a:pt x="2846" y="1678"/>
                </a:cubicBezTo>
                <a:cubicBezTo>
                  <a:pt x="2787" y="1678"/>
                  <a:pt x="2787" y="1678"/>
                  <a:pt x="2787" y="1678"/>
                </a:cubicBezTo>
                <a:cubicBezTo>
                  <a:pt x="2615" y="1631"/>
                  <a:pt x="2615" y="1631"/>
                  <a:pt x="2615" y="1631"/>
                </a:cubicBezTo>
                <a:cubicBezTo>
                  <a:pt x="2573" y="1595"/>
                  <a:pt x="2573" y="1595"/>
                  <a:pt x="2573" y="1595"/>
                </a:cubicBezTo>
                <a:cubicBezTo>
                  <a:pt x="2496" y="1583"/>
                  <a:pt x="2496" y="1583"/>
                  <a:pt x="2496" y="1583"/>
                </a:cubicBezTo>
                <a:cubicBezTo>
                  <a:pt x="2449" y="1589"/>
                  <a:pt x="2449" y="1589"/>
                  <a:pt x="2449" y="1589"/>
                </a:cubicBezTo>
                <a:cubicBezTo>
                  <a:pt x="2431" y="1619"/>
                  <a:pt x="2431" y="1619"/>
                  <a:pt x="2431" y="1619"/>
                </a:cubicBezTo>
                <a:cubicBezTo>
                  <a:pt x="2389" y="1631"/>
                  <a:pt x="2389" y="1631"/>
                  <a:pt x="2389" y="1631"/>
                </a:cubicBezTo>
                <a:cubicBezTo>
                  <a:pt x="2342" y="1559"/>
                  <a:pt x="2342" y="1559"/>
                  <a:pt x="2342" y="1559"/>
                </a:cubicBezTo>
                <a:cubicBezTo>
                  <a:pt x="2318" y="1619"/>
                  <a:pt x="2318" y="1619"/>
                  <a:pt x="2318" y="1619"/>
                </a:cubicBezTo>
                <a:cubicBezTo>
                  <a:pt x="2265" y="1613"/>
                  <a:pt x="2265" y="1613"/>
                  <a:pt x="2265" y="1613"/>
                </a:cubicBezTo>
                <a:cubicBezTo>
                  <a:pt x="2217" y="1530"/>
                  <a:pt x="2217" y="1530"/>
                  <a:pt x="2217" y="1530"/>
                </a:cubicBezTo>
                <a:cubicBezTo>
                  <a:pt x="2158" y="1512"/>
                  <a:pt x="2158" y="1512"/>
                  <a:pt x="2158" y="1512"/>
                </a:cubicBezTo>
                <a:cubicBezTo>
                  <a:pt x="2140" y="1571"/>
                  <a:pt x="2140" y="1571"/>
                  <a:pt x="2140" y="1571"/>
                </a:cubicBezTo>
                <a:cubicBezTo>
                  <a:pt x="2105" y="1601"/>
                  <a:pt x="2105" y="1601"/>
                  <a:pt x="2105" y="1601"/>
                </a:cubicBezTo>
                <a:cubicBezTo>
                  <a:pt x="2045" y="1613"/>
                  <a:pt x="2045" y="1613"/>
                  <a:pt x="2045" y="1613"/>
                </a:cubicBezTo>
                <a:cubicBezTo>
                  <a:pt x="1974" y="1636"/>
                  <a:pt x="1974" y="1636"/>
                  <a:pt x="1974" y="1636"/>
                </a:cubicBezTo>
                <a:cubicBezTo>
                  <a:pt x="1897" y="1672"/>
                  <a:pt x="1897" y="1672"/>
                  <a:pt x="1897" y="1672"/>
                </a:cubicBezTo>
                <a:cubicBezTo>
                  <a:pt x="1957" y="1619"/>
                  <a:pt x="1957" y="1619"/>
                  <a:pt x="1957" y="1619"/>
                </a:cubicBezTo>
                <a:cubicBezTo>
                  <a:pt x="2022" y="1601"/>
                  <a:pt x="2022" y="1601"/>
                  <a:pt x="2022" y="1601"/>
                </a:cubicBezTo>
                <a:cubicBezTo>
                  <a:pt x="2069" y="1583"/>
                  <a:pt x="2069" y="1583"/>
                  <a:pt x="2069" y="1583"/>
                </a:cubicBezTo>
                <a:cubicBezTo>
                  <a:pt x="2087" y="1554"/>
                  <a:pt x="2087" y="1554"/>
                  <a:pt x="2087" y="1554"/>
                </a:cubicBezTo>
                <a:cubicBezTo>
                  <a:pt x="2063" y="1548"/>
                  <a:pt x="2063" y="1548"/>
                  <a:pt x="2063" y="1548"/>
                </a:cubicBezTo>
                <a:cubicBezTo>
                  <a:pt x="1986" y="1571"/>
                  <a:pt x="1986" y="1571"/>
                  <a:pt x="1986" y="1571"/>
                </a:cubicBezTo>
                <a:cubicBezTo>
                  <a:pt x="1897" y="1613"/>
                  <a:pt x="1897" y="1613"/>
                  <a:pt x="1897" y="1613"/>
                </a:cubicBezTo>
                <a:cubicBezTo>
                  <a:pt x="1850" y="1613"/>
                  <a:pt x="1850" y="1613"/>
                  <a:pt x="1850" y="1613"/>
                </a:cubicBezTo>
                <a:cubicBezTo>
                  <a:pt x="1802" y="1613"/>
                  <a:pt x="1802" y="1613"/>
                  <a:pt x="1802" y="1613"/>
                </a:cubicBezTo>
                <a:cubicBezTo>
                  <a:pt x="1713" y="1666"/>
                  <a:pt x="1713" y="1666"/>
                  <a:pt x="1713" y="1666"/>
                </a:cubicBezTo>
                <a:cubicBezTo>
                  <a:pt x="1624" y="1654"/>
                  <a:pt x="1624" y="1654"/>
                  <a:pt x="1624" y="1654"/>
                </a:cubicBezTo>
                <a:cubicBezTo>
                  <a:pt x="1553" y="1601"/>
                  <a:pt x="1553" y="1601"/>
                  <a:pt x="1553" y="1601"/>
                </a:cubicBezTo>
                <a:cubicBezTo>
                  <a:pt x="1423" y="1595"/>
                  <a:pt x="1423" y="1595"/>
                  <a:pt x="1423" y="1595"/>
                </a:cubicBezTo>
                <a:cubicBezTo>
                  <a:pt x="1376" y="1571"/>
                  <a:pt x="1376" y="1571"/>
                  <a:pt x="1376" y="1571"/>
                </a:cubicBezTo>
                <a:cubicBezTo>
                  <a:pt x="1310" y="1559"/>
                  <a:pt x="1310" y="1559"/>
                  <a:pt x="1310" y="1559"/>
                </a:cubicBezTo>
                <a:cubicBezTo>
                  <a:pt x="1233" y="1571"/>
                  <a:pt x="1233" y="1571"/>
                  <a:pt x="1233" y="1571"/>
                </a:cubicBezTo>
                <a:cubicBezTo>
                  <a:pt x="1180" y="1548"/>
                  <a:pt x="1180" y="1548"/>
                  <a:pt x="1180" y="1548"/>
                </a:cubicBezTo>
                <a:cubicBezTo>
                  <a:pt x="1097" y="1548"/>
                  <a:pt x="1097" y="1548"/>
                  <a:pt x="1097" y="1548"/>
                </a:cubicBezTo>
                <a:cubicBezTo>
                  <a:pt x="1008" y="1524"/>
                  <a:pt x="1008" y="1524"/>
                  <a:pt x="1008" y="1524"/>
                </a:cubicBezTo>
                <a:cubicBezTo>
                  <a:pt x="931" y="1524"/>
                  <a:pt x="931" y="1524"/>
                  <a:pt x="931" y="1524"/>
                </a:cubicBezTo>
                <a:cubicBezTo>
                  <a:pt x="866" y="1524"/>
                  <a:pt x="866" y="1524"/>
                  <a:pt x="866" y="1524"/>
                </a:cubicBezTo>
                <a:cubicBezTo>
                  <a:pt x="848" y="1482"/>
                  <a:pt x="848" y="1482"/>
                  <a:pt x="848" y="1482"/>
                </a:cubicBezTo>
                <a:cubicBezTo>
                  <a:pt x="723" y="1476"/>
                  <a:pt x="723" y="1476"/>
                  <a:pt x="723" y="1476"/>
                </a:cubicBezTo>
                <a:cubicBezTo>
                  <a:pt x="670" y="1482"/>
                  <a:pt x="670" y="1482"/>
                  <a:pt x="670" y="1482"/>
                </a:cubicBezTo>
                <a:cubicBezTo>
                  <a:pt x="688" y="1453"/>
                  <a:pt x="688" y="1453"/>
                  <a:pt x="688" y="1453"/>
                </a:cubicBezTo>
                <a:cubicBezTo>
                  <a:pt x="611" y="1447"/>
                  <a:pt x="611" y="1447"/>
                  <a:pt x="611" y="1447"/>
                </a:cubicBezTo>
                <a:cubicBezTo>
                  <a:pt x="545" y="1488"/>
                  <a:pt x="545" y="1488"/>
                  <a:pt x="545" y="1488"/>
                </a:cubicBezTo>
                <a:cubicBezTo>
                  <a:pt x="445" y="1488"/>
                  <a:pt x="445" y="1488"/>
                  <a:pt x="445" y="1488"/>
                </a:cubicBezTo>
                <a:cubicBezTo>
                  <a:pt x="368" y="1542"/>
                  <a:pt x="368" y="1542"/>
                  <a:pt x="368" y="1542"/>
                </a:cubicBezTo>
                <a:cubicBezTo>
                  <a:pt x="308" y="1542"/>
                  <a:pt x="308" y="1542"/>
                  <a:pt x="308" y="1542"/>
                </a:cubicBezTo>
                <a:cubicBezTo>
                  <a:pt x="255" y="1583"/>
                  <a:pt x="255" y="1583"/>
                  <a:pt x="255" y="1583"/>
                </a:cubicBezTo>
                <a:cubicBezTo>
                  <a:pt x="249" y="1636"/>
                  <a:pt x="249" y="1636"/>
                  <a:pt x="249" y="1636"/>
                </a:cubicBezTo>
                <a:cubicBezTo>
                  <a:pt x="184" y="1678"/>
                  <a:pt x="184" y="1678"/>
                  <a:pt x="184" y="1678"/>
                </a:cubicBezTo>
                <a:cubicBezTo>
                  <a:pt x="83" y="1678"/>
                  <a:pt x="83" y="1678"/>
                  <a:pt x="83" y="1678"/>
                </a:cubicBezTo>
                <a:cubicBezTo>
                  <a:pt x="65" y="1737"/>
                  <a:pt x="65" y="1737"/>
                  <a:pt x="65" y="1737"/>
                </a:cubicBezTo>
                <a:cubicBezTo>
                  <a:pt x="184" y="1791"/>
                  <a:pt x="184" y="1791"/>
                  <a:pt x="184" y="1791"/>
                </a:cubicBezTo>
                <a:cubicBezTo>
                  <a:pt x="219" y="1844"/>
                  <a:pt x="219" y="1844"/>
                  <a:pt x="219" y="1844"/>
                </a:cubicBezTo>
                <a:cubicBezTo>
                  <a:pt x="285" y="1868"/>
                  <a:pt x="285" y="1868"/>
                  <a:pt x="285" y="1868"/>
                </a:cubicBezTo>
                <a:cubicBezTo>
                  <a:pt x="332" y="1933"/>
                  <a:pt x="332" y="1933"/>
                  <a:pt x="332" y="1933"/>
                </a:cubicBezTo>
                <a:cubicBezTo>
                  <a:pt x="267" y="1945"/>
                  <a:pt x="267" y="1945"/>
                  <a:pt x="267" y="1945"/>
                </a:cubicBezTo>
                <a:cubicBezTo>
                  <a:pt x="207" y="1933"/>
                  <a:pt x="207" y="1933"/>
                  <a:pt x="207" y="1933"/>
                </a:cubicBezTo>
                <a:cubicBezTo>
                  <a:pt x="201" y="1880"/>
                  <a:pt x="201" y="1880"/>
                  <a:pt x="201" y="1880"/>
                </a:cubicBezTo>
                <a:cubicBezTo>
                  <a:pt x="130" y="1921"/>
                  <a:pt x="130" y="1921"/>
                  <a:pt x="130" y="1921"/>
                </a:cubicBezTo>
                <a:cubicBezTo>
                  <a:pt x="71" y="1927"/>
                  <a:pt x="71" y="1927"/>
                  <a:pt x="71" y="1927"/>
                </a:cubicBezTo>
                <a:cubicBezTo>
                  <a:pt x="0" y="1980"/>
                  <a:pt x="0" y="1980"/>
                  <a:pt x="0" y="1980"/>
                </a:cubicBezTo>
                <a:cubicBezTo>
                  <a:pt x="30" y="2004"/>
                  <a:pt x="30" y="2004"/>
                  <a:pt x="30" y="2004"/>
                </a:cubicBezTo>
                <a:cubicBezTo>
                  <a:pt x="71" y="2034"/>
                  <a:pt x="71" y="2034"/>
                  <a:pt x="71" y="2034"/>
                </a:cubicBezTo>
                <a:cubicBezTo>
                  <a:pt x="95" y="2093"/>
                  <a:pt x="95" y="2093"/>
                  <a:pt x="95" y="2093"/>
                </a:cubicBezTo>
                <a:cubicBezTo>
                  <a:pt x="279" y="2075"/>
                  <a:pt x="279" y="2075"/>
                  <a:pt x="279" y="2075"/>
                </a:cubicBezTo>
                <a:cubicBezTo>
                  <a:pt x="326" y="2046"/>
                  <a:pt x="326" y="2046"/>
                  <a:pt x="326" y="2046"/>
                </a:cubicBezTo>
                <a:cubicBezTo>
                  <a:pt x="373" y="2052"/>
                  <a:pt x="373" y="2052"/>
                  <a:pt x="373" y="2052"/>
                </a:cubicBezTo>
                <a:cubicBezTo>
                  <a:pt x="362" y="2105"/>
                  <a:pt x="362" y="2105"/>
                  <a:pt x="362" y="2105"/>
                </a:cubicBezTo>
                <a:cubicBezTo>
                  <a:pt x="362" y="2170"/>
                  <a:pt x="362" y="2170"/>
                  <a:pt x="362" y="2170"/>
                </a:cubicBezTo>
                <a:cubicBezTo>
                  <a:pt x="296" y="2170"/>
                  <a:pt x="296" y="2170"/>
                  <a:pt x="296" y="2170"/>
                </a:cubicBezTo>
                <a:cubicBezTo>
                  <a:pt x="231" y="2194"/>
                  <a:pt x="231" y="2194"/>
                  <a:pt x="231" y="2194"/>
                </a:cubicBezTo>
                <a:cubicBezTo>
                  <a:pt x="172" y="2188"/>
                  <a:pt x="172" y="2188"/>
                  <a:pt x="172" y="2188"/>
                </a:cubicBezTo>
                <a:cubicBezTo>
                  <a:pt x="154" y="2253"/>
                  <a:pt x="154" y="2253"/>
                  <a:pt x="154" y="2253"/>
                </a:cubicBezTo>
                <a:cubicBezTo>
                  <a:pt x="89" y="2312"/>
                  <a:pt x="89" y="2312"/>
                  <a:pt x="89" y="2312"/>
                </a:cubicBezTo>
                <a:cubicBezTo>
                  <a:pt x="101" y="2354"/>
                  <a:pt x="101" y="2354"/>
                  <a:pt x="101" y="2354"/>
                </a:cubicBezTo>
                <a:cubicBezTo>
                  <a:pt x="130" y="2360"/>
                  <a:pt x="130" y="2360"/>
                  <a:pt x="130" y="2360"/>
                </a:cubicBezTo>
                <a:cubicBezTo>
                  <a:pt x="142" y="2395"/>
                  <a:pt x="142" y="2395"/>
                  <a:pt x="142" y="2395"/>
                </a:cubicBezTo>
                <a:cubicBezTo>
                  <a:pt x="172" y="2449"/>
                  <a:pt x="172" y="2449"/>
                  <a:pt x="172" y="2449"/>
                </a:cubicBezTo>
                <a:cubicBezTo>
                  <a:pt x="249" y="2478"/>
                  <a:pt x="249" y="2478"/>
                  <a:pt x="249" y="2478"/>
                </a:cubicBezTo>
                <a:cubicBezTo>
                  <a:pt x="285" y="2431"/>
                  <a:pt x="285" y="2431"/>
                  <a:pt x="285" y="2431"/>
                </a:cubicBezTo>
                <a:cubicBezTo>
                  <a:pt x="326" y="2490"/>
                  <a:pt x="326" y="2490"/>
                  <a:pt x="326" y="2490"/>
                </a:cubicBezTo>
                <a:cubicBezTo>
                  <a:pt x="320" y="2573"/>
                  <a:pt x="320" y="2573"/>
                  <a:pt x="320" y="2573"/>
                </a:cubicBezTo>
                <a:cubicBezTo>
                  <a:pt x="356" y="2573"/>
                  <a:pt x="356" y="2573"/>
                  <a:pt x="356" y="2573"/>
                </a:cubicBezTo>
                <a:cubicBezTo>
                  <a:pt x="385" y="2555"/>
                  <a:pt x="385" y="2555"/>
                  <a:pt x="385" y="2555"/>
                </a:cubicBezTo>
                <a:cubicBezTo>
                  <a:pt x="445" y="2555"/>
                  <a:pt x="445" y="2555"/>
                  <a:pt x="445" y="2555"/>
                </a:cubicBezTo>
                <a:cubicBezTo>
                  <a:pt x="486" y="2573"/>
                  <a:pt x="486" y="2573"/>
                  <a:pt x="486" y="2573"/>
                </a:cubicBezTo>
                <a:cubicBezTo>
                  <a:pt x="504" y="2538"/>
                  <a:pt x="504" y="2538"/>
                  <a:pt x="504" y="2538"/>
                </a:cubicBezTo>
                <a:cubicBezTo>
                  <a:pt x="545" y="2567"/>
                  <a:pt x="545" y="2567"/>
                  <a:pt x="545" y="2567"/>
                </a:cubicBezTo>
                <a:cubicBezTo>
                  <a:pt x="587" y="2544"/>
                  <a:pt x="587" y="2544"/>
                  <a:pt x="587" y="2544"/>
                </a:cubicBezTo>
                <a:cubicBezTo>
                  <a:pt x="587" y="2544"/>
                  <a:pt x="563" y="2597"/>
                  <a:pt x="563" y="2615"/>
                </a:cubicBezTo>
                <a:cubicBezTo>
                  <a:pt x="563" y="2632"/>
                  <a:pt x="528" y="2656"/>
                  <a:pt x="510" y="2662"/>
                </a:cubicBezTo>
                <a:cubicBezTo>
                  <a:pt x="492" y="2674"/>
                  <a:pt x="421" y="2733"/>
                  <a:pt x="421" y="2733"/>
                </a:cubicBezTo>
                <a:cubicBezTo>
                  <a:pt x="391" y="2775"/>
                  <a:pt x="391" y="2775"/>
                  <a:pt x="391" y="2775"/>
                </a:cubicBezTo>
                <a:cubicBezTo>
                  <a:pt x="332" y="2775"/>
                  <a:pt x="332" y="2775"/>
                  <a:pt x="332" y="2775"/>
                </a:cubicBezTo>
                <a:cubicBezTo>
                  <a:pt x="279" y="2816"/>
                  <a:pt x="279" y="2816"/>
                  <a:pt x="279" y="2816"/>
                </a:cubicBezTo>
                <a:cubicBezTo>
                  <a:pt x="201" y="2834"/>
                  <a:pt x="201" y="2834"/>
                  <a:pt x="201" y="2834"/>
                </a:cubicBezTo>
                <a:cubicBezTo>
                  <a:pt x="136" y="2887"/>
                  <a:pt x="136" y="2887"/>
                  <a:pt x="136" y="2887"/>
                </a:cubicBezTo>
                <a:cubicBezTo>
                  <a:pt x="172" y="2905"/>
                  <a:pt x="172" y="2905"/>
                  <a:pt x="172" y="2905"/>
                </a:cubicBezTo>
                <a:cubicBezTo>
                  <a:pt x="237" y="2858"/>
                  <a:pt x="237" y="2858"/>
                  <a:pt x="237" y="2858"/>
                </a:cubicBezTo>
                <a:cubicBezTo>
                  <a:pt x="279" y="2852"/>
                  <a:pt x="279" y="2852"/>
                  <a:pt x="279" y="2852"/>
                </a:cubicBezTo>
                <a:cubicBezTo>
                  <a:pt x="350" y="2816"/>
                  <a:pt x="350" y="2816"/>
                  <a:pt x="350" y="2816"/>
                </a:cubicBezTo>
                <a:cubicBezTo>
                  <a:pt x="433" y="2781"/>
                  <a:pt x="433" y="2781"/>
                  <a:pt x="433" y="2781"/>
                </a:cubicBezTo>
                <a:cubicBezTo>
                  <a:pt x="593" y="2704"/>
                  <a:pt x="593" y="2704"/>
                  <a:pt x="593" y="2704"/>
                </a:cubicBezTo>
                <a:cubicBezTo>
                  <a:pt x="616" y="2656"/>
                  <a:pt x="616" y="2656"/>
                  <a:pt x="616" y="2656"/>
                </a:cubicBezTo>
                <a:cubicBezTo>
                  <a:pt x="789" y="2561"/>
                  <a:pt x="789" y="2561"/>
                  <a:pt x="789" y="2561"/>
                </a:cubicBezTo>
                <a:cubicBezTo>
                  <a:pt x="741" y="2496"/>
                  <a:pt x="741" y="2496"/>
                  <a:pt x="741" y="2496"/>
                </a:cubicBezTo>
                <a:cubicBezTo>
                  <a:pt x="830" y="2449"/>
                  <a:pt x="830" y="2449"/>
                  <a:pt x="830" y="2449"/>
                </a:cubicBezTo>
                <a:cubicBezTo>
                  <a:pt x="871" y="2372"/>
                  <a:pt x="871" y="2372"/>
                  <a:pt x="871" y="2372"/>
                </a:cubicBezTo>
                <a:cubicBezTo>
                  <a:pt x="949" y="2354"/>
                  <a:pt x="949" y="2354"/>
                  <a:pt x="949" y="2354"/>
                </a:cubicBezTo>
                <a:cubicBezTo>
                  <a:pt x="990" y="2378"/>
                  <a:pt x="990" y="2378"/>
                  <a:pt x="990" y="2378"/>
                </a:cubicBezTo>
                <a:cubicBezTo>
                  <a:pt x="901" y="2413"/>
                  <a:pt x="901" y="2413"/>
                  <a:pt x="901" y="2413"/>
                </a:cubicBezTo>
                <a:cubicBezTo>
                  <a:pt x="877" y="2461"/>
                  <a:pt x="877" y="2461"/>
                  <a:pt x="877" y="2461"/>
                </a:cubicBezTo>
                <a:cubicBezTo>
                  <a:pt x="889" y="2508"/>
                  <a:pt x="889" y="2508"/>
                  <a:pt x="889" y="2508"/>
                </a:cubicBezTo>
                <a:cubicBezTo>
                  <a:pt x="1002" y="2455"/>
                  <a:pt x="1002" y="2455"/>
                  <a:pt x="1002" y="2455"/>
                </a:cubicBezTo>
                <a:cubicBezTo>
                  <a:pt x="1079" y="2443"/>
                  <a:pt x="1079" y="2443"/>
                  <a:pt x="1079" y="2443"/>
                </a:cubicBezTo>
                <a:lnTo>
                  <a:pt x="1061" y="2407"/>
                </a:lnTo>
                <a:close/>
                <a:moveTo>
                  <a:pt x="830" y="2639"/>
                </a:moveTo>
                <a:lnTo>
                  <a:pt x="830" y="2639"/>
                </a:lnTo>
                <a:cubicBezTo>
                  <a:pt x="830" y="2585"/>
                  <a:pt x="830" y="2585"/>
                  <a:pt x="830" y="2585"/>
                </a:cubicBezTo>
                <a:cubicBezTo>
                  <a:pt x="789" y="2615"/>
                  <a:pt x="789" y="2615"/>
                  <a:pt x="789" y="2615"/>
                </a:cubicBezTo>
                <a:cubicBezTo>
                  <a:pt x="711" y="2662"/>
                  <a:pt x="711" y="2662"/>
                  <a:pt x="711" y="2662"/>
                </a:cubicBezTo>
                <a:cubicBezTo>
                  <a:pt x="735" y="2716"/>
                  <a:pt x="735" y="2716"/>
                  <a:pt x="735" y="2716"/>
                </a:cubicBezTo>
                <a:cubicBezTo>
                  <a:pt x="789" y="2686"/>
                  <a:pt x="789" y="2686"/>
                  <a:pt x="789" y="2686"/>
                </a:cubicBezTo>
                <a:lnTo>
                  <a:pt x="830" y="2639"/>
                </a:lnTo>
                <a:close/>
              </a:path>
            </a:pathLst>
          </a:cu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57" name="Freeform 510"/>
          <p:cNvSpPr/>
          <p:nvPr/>
        </p:nvSpPr>
        <p:spPr>
          <a:xfrm>
            <a:off x="5351400" y="1930320"/>
            <a:ext cx="247680" cy="311400"/>
          </a:xfrm>
          <a:custGeom>
            <a:avLst/>
            <a:gdLst/>
            <a:ahLst/>
            <a:rect l="l" t="t" r="r" b="b"/>
            <a:pathLst>
              <a:path w="1139" h="1424">
                <a:moveTo>
                  <a:pt x="569" y="0"/>
                </a:moveTo>
                <a:lnTo>
                  <a:pt x="569" y="0"/>
                </a:lnTo>
                <a:cubicBezTo>
                  <a:pt x="255" y="0"/>
                  <a:pt x="0" y="255"/>
                  <a:pt x="0" y="569"/>
                </a:cubicBezTo>
                <a:cubicBezTo>
                  <a:pt x="0" y="889"/>
                  <a:pt x="374" y="1423"/>
                  <a:pt x="569" y="1423"/>
                </a:cubicBezTo>
                <a:cubicBezTo>
                  <a:pt x="765" y="1423"/>
                  <a:pt x="1138" y="889"/>
                  <a:pt x="1138" y="569"/>
                </a:cubicBezTo>
                <a:cubicBezTo>
                  <a:pt x="1138" y="255"/>
                  <a:pt x="883" y="0"/>
                  <a:pt x="569" y="0"/>
                </a:cubicBezTo>
                <a:close/>
                <a:moveTo>
                  <a:pt x="569" y="925"/>
                </a:moveTo>
                <a:lnTo>
                  <a:pt x="569" y="925"/>
                </a:lnTo>
                <a:cubicBezTo>
                  <a:pt x="374" y="925"/>
                  <a:pt x="213" y="765"/>
                  <a:pt x="213" y="569"/>
                </a:cubicBezTo>
                <a:cubicBezTo>
                  <a:pt x="213" y="373"/>
                  <a:pt x="374" y="219"/>
                  <a:pt x="569" y="219"/>
                </a:cubicBezTo>
                <a:cubicBezTo>
                  <a:pt x="765" y="219"/>
                  <a:pt x="925" y="373"/>
                  <a:pt x="925" y="569"/>
                </a:cubicBezTo>
                <a:cubicBezTo>
                  <a:pt x="925" y="765"/>
                  <a:pt x="765" y="925"/>
                  <a:pt x="569" y="925"/>
                </a:cubicBezTo>
                <a:close/>
              </a:path>
            </a:pathLst>
          </a:custGeom>
          <a:solidFill>
            <a:srgbClr val="f32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58" name="Freeform 511"/>
          <p:cNvSpPr/>
          <p:nvPr/>
        </p:nvSpPr>
        <p:spPr>
          <a:xfrm>
            <a:off x="2355840" y="1940040"/>
            <a:ext cx="250920" cy="311040"/>
          </a:xfrm>
          <a:custGeom>
            <a:avLst/>
            <a:gdLst/>
            <a:ahLst/>
            <a:rect l="l" t="t" r="r" b="b"/>
            <a:pathLst>
              <a:path w="1145" h="1424">
                <a:moveTo>
                  <a:pt x="569" y="0"/>
                </a:moveTo>
                <a:lnTo>
                  <a:pt x="569" y="0"/>
                </a:lnTo>
                <a:cubicBezTo>
                  <a:pt x="254" y="0"/>
                  <a:pt x="0" y="254"/>
                  <a:pt x="0" y="569"/>
                </a:cubicBezTo>
                <a:cubicBezTo>
                  <a:pt x="0" y="889"/>
                  <a:pt x="373" y="1423"/>
                  <a:pt x="569" y="1423"/>
                </a:cubicBezTo>
                <a:cubicBezTo>
                  <a:pt x="770" y="1423"/>
                  <a:pt x="1144" y="889"/>
                  <a:pt x="1144" y="569"/>
                </a:cubicBezTo>
                <a:cubicBezTo>
                  <a:pt x="1144" y="254"/>
                  <a:pt x="889" y="0"/>
                  <a:pt x="569" y="0"/>
                </a:cubicBezTo>
                <a:close/>
                <a:moveTo>
                  <a:pt x="569" y="925"/>
                </a:moveTo>
                <a:lnTo>
                  <a:pt x="569" y="925"/>
                </a:lnTo>
                <a:cubicBezTo>
                  <a:pt x="379" y="925"/>
                  <a:pt x="219" y="764"/>
                  <a:pt x="219" y="569"/>
                </a:cubicBezTo>
                <a:cubicBezTo>
                  <a:pt x="219" y="379"/>
                  <a:pt x="379" y="219"/>
                  <a:pt x="569" y="219"/>
                </a:cubicBezTo>
                <a:cubicBezTo>
                  <a:pt x="764" y="219"/>
                  <a:pt x="925" y="379"/>
                  <a:pt x="925" y="569"/>
                </a:cubicBezTo>
                <a:cubicBezTo>
                  <a:pt x="925" y="764"/>
                  <a:pt x="764" y="925"/>
                  <a:pt x="569" y="925"/>
                </a:cubicBezTo>
                <a:close/>
              </a:path>
            </a:pathLst>
          </a:custGeom>
          <a:solidFill>
            <a:srgbClr val="d2d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59" name="Freeform 513"/>
          <p:cNvSpPr/>
          <p:nvPr/>
        </p:nvSpPr>
        <p:spPr>
          <a:xfrm>
            <a:off x="3227400" y="3156120"/>
            <a:ext cx="249120" cy="312480"/>
          </a:xfrm>
          <a:custGeom>
            <a:avLst/>
            <a:gdLst/>
            <a:ahLst/>
            <a:rect l="l" t="t" r="r" b="b"/>
            <a:pathLst>
              <a:path w="1139" h="1430">
                <a:moveTo>
                  <a:pt x="569" y="0"/>
                </a:moveTo>
                <a:lnTo>
                  <a:pt x="569" y="0"/>
                </a:lnTo>
                <a:cubicBezTo>
                  <a:pt x="255" y="0"/>
                  <a:pt x="0" y="255"/>
                  <a:pt x="0" y="576"/>
                </a:cubicBezTo>
                <a:cubicBezTo>
                  <a:pt x="0" y="890"/>
                  <a:pt x="367" y="1429"/>
                  <a:pt x="569" y="1429"/>
                </a:cubicBezTo>
                <a:cubicBezTo>
                  <a:pt x="765" y="1429"/>
                  <a:pt x="1138" y="890"/>
                  <a:pt x="1138" y="576"/>
                </a:cubicBezTo>
                <a:cubicBezTo>
                  <a:pt x="1138" y="255"/>
                  <a:pt x="883" y="0"/>
                  <a:pt x="569" y="0"/>
                </a:cubicBezTo>
                <a:close/>
                <a:moveTo>
                  <a:pt x="569" y="925"/>
                </a:moveTo>
                <a:lnTo>
                  <a:pt x="569" y="925"/>
                </a:lnTo>
                <a:cubicBezTo>
                  <a:pt x="373" y="925"/>
                  <a:pt x="213" y="765"/>
                  <a:pt x="213" y="576"/>
                </a:cubicBezTo>
                <a:cubicBezTo>
                  <a:pt x="213" y="380"/>
                  <a:pt x="373" y="220"/>
                  <a:pt x="569" y="220"/>
                </a:cubicBezTo>
                <a:cubicBezTo>
                  <a:pt x="765" y="220"/>
                  <a:pt x="919" y="380"/>
                  <a:pt x="919" y="576"/>
                </a:cubicBezTo>
                <a:cubicBezTo>
                  <a:pt x="919" y="765"/>
                  <a:pt x="765" y="925"/>
                  <a:pt x="569" y="925"/>
                </a:cubicBezTo>
                <a:close/>
              </a:path>
            </a:pathLst>
          </a:custGeom>
          <a:solidFill>
            <a:srgbClr val="82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60" name="TextBox 16"/>
          <p:cNvSpPr/>
          <p:nvPr/>
        </p:nvSpPr>
        <p:spPr>
          <a:xfrm>
            <a:off x="2128320" y="2228760"/>
            <a:ext cx="688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unito Bold"/>
                <a:ea typeface="Nunito Bold"/>
              </a:rPr>
              <a:t>USA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Nunito Bold"/>
                <a:ea typeface="Nunito Bold"/>
              </a:rPr>
              <a:t>19,450000</a:t>
            </a:r>
            <a:endParaRPr b="0" lang="en-US" sz="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61" name="TextBox 17"/>
          <p:cNvSpPr/>
          <p:nvPr/>
        </p:nvSpPr>
        <p:spPr>
          <a:xfrm>
            <a:off x="2812680" y="3400560"/>
            <a:ext cx="1076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unito Bold"/>
                <a:ea typeface="Nunito Bold"/>
              </a:rPr>
              <a:t>BRASIL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Nunito Bold"/>
                <a:ea typeface="Nunito Bold"/>
              </a:rPr>
              <a:t>19,450000</a:t>
            </a:r>
            <a:endParaRPr b="0" lang="en-US" sz="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62" name="TextBox 20"/>
          <p:cNvSpPr/>
          <p:nvPr/>
        </p:nvSpPr>
        <p:spPr>
          <a:xfrm>
            <a:off x="4880520" y="2228760"/>
            <a:ext cx="1189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unito Bold"/>
                <a:ea typeface="Nunito Bold"/>
              </a:rPr>
              <a:t>EUROPE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Nunito Bold"/>
                <a:ea typeface="Nunito Bold"/>
              </a:rPr>
              <a:t>19,450000</a:t>
            </a:r>
            <a:endParaRPr b="0" lang="en-US" sz="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63" name="TextBox 205"/>
          <p:cNvSpPr/>
          <p:nvPr/>
        </p:nvSpPr>
        <p:spPr>
          <a:xfrm>
            <a:off x="3277800" y="736560"/>
            <a:ext cx="2591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World Map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Diamond 1"/>
          <p:cNvSpPr/>
          <p:nvPr/>
        </p:nvSpPr>
        <p:spPr>
          <a:xfrm>
            <a:off x="2146320" y="138240"/>
            <a:ext cx="4869000" cy="4870440"/>
          </a:xfrm>
          <a:prstGeom prst="diamond">
            <a:avLst/>
          </a:pr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65" name="TextBox 11"/>
          <p:cNvSpPr/>
          <p:nvPr/>
        </p:nvSpPr>
        <p:spPr>
          <a:xfrm>
            <a:off x="2911680" y="235908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unito Bold"/>
                <a:ea typeface="Nunito Bold"/>
              </a:rPr>
              <a:t>56,790,500</a:t>
            </a:r>
            <a:endParaRPr b="0" lang="en-US" sz="48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66" name="TextBox 12"/>
          <p:cNvSpPr/>
          <p:nvPr/>
        </p:nvSpPr>
        <p:spPr>
          <a:xfrm>
            <a:off x="3205080" y="3206880"/>
            <a:ext cx="27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unito Bold"/>
                <a:ea typeface="Nunito Bold"/>
              </a:rPr>
              <a:t>Write here your big numbers</a:t>
            </a:r>
            <a:endParaRPr b="0" lang="en-US" sz="1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67" name="Shape 2546"/>
          <p:cNvSpPr/>
          <p:nvPr/>
        </p:nvSpPr>
        <p:spPr>
          <a:xfrm>
            <a:off x="4030560" y="1468440"/>
            <a:ext cx="1065240" cy="87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20400"/>
                </a:moveTo>
                <a:lnTo>
                  <a:pt x="18655" y="20400"/>
                </a:lnTo>
                <a:lnTo>
                  <a:pt x="18655" y="1200"/>
                </a:lnTo>
                <a:lnTo>
                  <a:pt x="20618" y="1200"/>
                </a:lnTo>
                <a:cubicBezTo>
                  <a:pt x="20618" y="1200"/>
                  <a:pt x="20618" y="20400"/>
                  <a:pt x="20618" y="20400"/>
                </a:cubicBezTo>
                <a:close/>
                <a:moveTo>
                  <a:pt x="21109" y="0"/>
                </a:moveTo>
                <a:lnTo>
                  <a:pt x="18164" y="0"/>
                </a:lnTo>
                <a:cubicBezTo>
                  <a:pt x="17893" y="0"/>
                  <a:pt x="17673" y="269"/>
                  <a:pt x="17673" y="600"/>
                </a:cubicBezTo>
                <a:lnTo>
                  <a:pt x="17673" y="21000"/>
                </a:lnTo>
                <a:cubicBezTo>
                  <a:pt x="17673" y="21332"/>
                  <a:pt x="17893" y="21600"/>
                  <a:pt x="18164" y="21600"/>
                </a:cubicBezTo>
                <a:lnTo>
                  <a:pt x="21109" y="21600"/>
                </a:lnTo>
                <a:cubicBezTo>
                  <a:pt x="21380" y="21600"/>
                  <a:pt x="21600" y="21332"/>
                  <a:pt x="21600" y="21000"/>
                </a:cubicBezTo>
                <a:lnTo>
                  <a:pt x="21600" y="600"/>
                </a:lnTo>
                <a:cubicBezTo>
                  <a:pt x="21600" y="269"/>
                  <a:pt x="21380" y="0"/>
                  <a:pt x="21109" y="0"/>
                </a:cubicBezTo>
                <a:moveTo>
                  <a:pt x="8836" y="20400"/>
                </a:moveTo>
                <a:lnTo>
                  <a:pt x="6873" y="20400"/>
                </a:lnTo>
                <a:lnTo>
                  <a:pt x="6873" y="3600"/>
                </a:lnTo>
                <a:lnTo>
                  <a:pt x="8836" y="3600"/>
                </a:lnTo>
                <a:cubicBezTo>
                  <a:pt x="8836" y="3600"/>
                  <a:pt x="8836" y="20400"/>
                  <a:pt x="8836" y="20400"/>
                </a:cubicBezTo>
                <a:close/>
                <a:moveTo>
                  <a:pt x="9327" y="2400"/>
                </a:moveTo>
                <a:lnTo>
                  <a:pt x="6382" y="2400"/>
                </a:lnTo>
                <a:cubicBezTo>
                  <a:pt x="6111" y="2400"/>
                  <a:pt x="5891" y="2669"/>
                  <a:pt x="5891" y="3000"/>
                </a:cubicBezTo>
                <a:lnTo>
                  <a:pt x="5891" y="21000"/>
                </a:lnTo>
                <a:cubicBezTo>
                  <a:pt x="5891" y="21332"/>
                  <a:pt x="6111" y="21600"/>
                  <a:pt x="6382" y="21600"/>
                </a:cubicBezTo>
                <a:lnTo>
                  <a:pt x="9327" y="21600"/>
                </a:lnTo>
                <a:cubicBezTo>
                  <a:pt x="9598" y="21600"/>
                  <a:pt x="9818" y="21332"/>
                  <a:pt x="9818" y="21000"/>
                </a:cubicBezTo>
                <a:lnTo>
                  <a:pt x="9818" y="3000"/>
                </a:lnTo>
                <a:cubicBezTo>
                  <a:pt x="9818" y="2669"/>
                  <a:pt x="9598" y="2400"/>
                  <a:pt x="9327" y="2400"/>
                </a:cubicBezTo>
                <a:moveTo>
                  <a:pt x="14727" y="20400"/>
                </a:moveTo>
                <a:lnTo>
                  <a:pt x="12764" y="20400"/>
                </a:lnTo>
                <a:lnTo>
                  <a:pt x="12764" y="10800"/>
                </a:lnTo>
                <a:lnTo>
                  <a:pt x="14727" y="10800"/>
                </a:lnTo>
                <a:cubicBezTo>
                  <a:pt x="14727" y="10800"/>
                  <a:pt x="14727" y="20400"/>
                  <a:pt x="14727" y="20400"/>
                </a:cubicBezTo>
                <a:close/>
                <a:moveTo>
                  <a:pt x="15218" y="9600"/>
                </a:moveTo>
                <a:lnTo>
                  <a:pt x="12273" y="9600"/>
                </a:lnTo>
                <a:cubicBezTo>
                  <a:pt x="12002" y="9600"/>
                  <a:pt x="11782" y="9869"/>
                  <a:pt x="11782" y="10200"/>
                </a:cubicBezTo>
                <a:lnTo>
                  <a:pt x="11782" y="21000"/>
                </a:lnTo>
                <a:cubicBezTo>
                  <a:pt x="11782" y="21332"/>
                  <a:pt x="12002" y="21600"/>
                  <a:pt x="12273" y="21600"/>
                </a:cubicBezTo>
                <a:lnTo>
                  <a:pt x="15218" y="21600"/>
                </a:lnTo>
                <a:cubicBezTo>
                  <a:pt x="15489" y="21600"/>
                  <a:pt x="15709" y="21332"/>
                  <a:pt x="15709" y="21000"/>
                </a:cubicBezTo>
                <a:lnTo>
                  <a:pt x="15709" y="10200"/>
                </a:lnTo>
                <a:cubicBezTo>
                  <a:pt x="15709" y="9869"/>
                  <a:pt x="15489" y="9600"/>
                  <a:pt x="15218" y="9600"/>
                </a:cubicBezTo>
                <a:moveTo>
                  <a:pt x="2945" y="20400"/>
                </a:moveTo>
                <a:lnTo>
                  <a:pt x="982" y="20400"/>
                </a:lnTo>
                <a:lnTo>
                  <a:pt x="982" y="14400"/>
                </a:lnTo>
                <a:lnTo>
                  <a:pt x="2945" y="14400"/>
                </a:lnTo>
                <a:cubicBezTo>
                  <a:pt x="2945" y="14400"/>
                  <a:pt x="2945" y="20400"/>
                  <a:pt x="2945" y="20400"/>
                </a:cubicBezTo>
                <a:close/>
                <a:moveTo>
                  <a:pt x="3436" y="13200"/>
                </a:moveTo>
                <a:lnTo>
                  <a:pt x="491" y="13200"/>
                </a:lnTo>
                <a:cubicBezTo>
                  <a:pt x="220" y="13200"/>
                  <a:pt x="0" y="13469"/>
                  <a:pt x="0" y="13800"/>
                </a:cubicBezTo>
                <a:lnTo>
                  <a:pt x="0" y="21000"/>
                </a:lnTo>
                <a:cubicBezTo>
                  <a:pt x="0" y="21332"/>
                  <a:pt x="220" y="21600"/>
                  <a:pt x="491" y="21600"/>
                </a:cubicBezTo>
                <a:lnTo>
                  <a:pt x="3436" y="21600"/>
                </a:lnTo>
                <a:cubicBezTo>
                  <a:pt x="3707" y="21600"/>
                  <a:pt x="3927" y="21332"/>
                  <a:pt x="3927" y="21000"/>
                </a:cubicBezTo>
                <a:lnTo>
                  <a:pt x="3927" y="13800"/>
                </a:lnTo>
                <a:cubicBezTo>
                  <a:pt x="3927" y="13469"/>
                  <a:pt x="3707" y="13200"/>
                  <a:pt x="3436" y="132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19"/>
          <p:cNvSpPr/>
          <p:nvPr/>
        </p:nvSpPr>
        <p:spPr>
          <a:xfrm>
            <a:off x="1402200" y="3029040"/>
            <a:ext cx="19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Nixie One"/>
                <a:ea typeface="Nixie One"/>
              </a:rPr>
              <a:t>Project Achievements</a:t>
            </a:r>
            <a:endParaRPr b="0" lang="en-US" sz="1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69" name="TextBox 22"/>
          <p:cNvSpPr/>
          <p:nvPr/>
        </p:nvSpPr>
        <p:spPr>
          <a:xfrm>
            <a:off x="1371240" y="203508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Nixie One"/>
                <a:ea typeface="Nixie One"/>
              </a:rPr>
              <a:t>Revenue from sales </a:t>
            </a:r>
            <a:endParaRPr b="0" lang="en-US" sz="1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0" name="TextBox 25"/>
          <p:cNvSpPr/>
          <p:nvPr/>
        </p:nvSpPr>
        <p:spPr>
          <a:xfrm>
            <a:off x="1407240" y="41353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Nixie One"/>
                <a:ea typeface="Nixie One"/>
              </a:rPr>
              <a:t>Users around the world</a:t>
            </a:r>
            <a:endParaRPr b="0" lang="en-US" sz="1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1" name="TextBox 15"/>
          <p:cNvSpPr/>
          <p:nvPr/>
        </p:nvSpPr>
        <p:spPr>
          <a:xfrm>
            <a:off x="1401120" y="2494080"/>
            <a:ext cx="117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000" spc="-1" strike="noStrike">
                <a:solidFill>
                  <a:srgbClr val="f32f80"/>
                </a:solidFill>
                <a:latin typeface="Nunito Bold"/>
                <a:ea typeface="Nunito Bold"/>
              </a:rPr>
              <a:t>130%</a:t>
            </a:r>
            <a:endParaRPr b="0" lang="en-US" sz="30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2" name="TextBox 16"/>
          <p:cNvSpPr/>
          <p:nvPr/>
        </p:nvSpPr>
        <p:spPr>
          <a:xfrm>
            <a:off x="1439640" y="1468440"/>
            <a:ext cx="214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000" spc="-1" strike="noStrike">
                <a:solidFill>
                  <a:srgbClr val="403459"/>
                </a:solidFill>
                <a:latin typeface="Nunito Bold"/>
                <a:ea typeface="Nunito Bold"/>
              </a:rPr>
              <a:t>56,790,500</a:t>
            </a:r>
            <a:endParaRPr b="0" lang="en-US" sz="30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3" name="TextBox 17"/>
          <p:cNvSpPr/>
          <p:nvPr/>
        </p:nvSpPr>
        <p:spPr>
          <a:xfrm>
            <a:off x="1439640" y="3552840"/>
            <a:ext cx="214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000" spc="-1" strike="noStrike">
                <a:solidFill>
                  <a:srgbClr val="9c5280"/>
                </a:solidFill>
                <a:latin typeface="Nunito Bold"/>
                <a:ea typeface="Nunito Bold"/>
              </a:rPr>
              <a:t>56,790,500</a:t>
            </a:r>
            <a:endParaRPr b="0" lang="en-US" sz="30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4" name="TextBox 109"/>
          <p:cNvSpPr/>
          <p:nvPr/>
        </p:nvSpPr>
        <p:spPr>
          <a:xfrm>
            <a:off x="1320840" y="539640"/>
            <a:ext cx="275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Funny facts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ight Arrow 2"/>
          <p:cNvSpPr/>
          <p:nvPr/>
        </p:nvSpPr>
        <p:spPr>
          <a:xfrm>
            <a:off x="6221520" y="2201760"/>
            <a:ext cx="1677960" cy="15940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2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6" name="TextBox 21"/>
          <p:cNvSpPr/>
          <p:nvPr/>
        </p:nvSpPr>
        <p:spPr>
          <a:xfrm>
            <a:off x="6383520" y="27986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unito Bold"/>
                <a:ea typeface="Nunito Bold"/>
              </a:rPr>
              <a:t>Step 03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7" name="TextBox 9"/>
          <p:cNvSpPr/>
          <p:nvPr/>
        </p:nvSpPr>
        <p:spPr>
          <a:xfrm>
            <a:off x="2000160" y="1054080"/>
            <a:ext cx="2805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The process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8" name="Right Arrow 10"/>
          <p:cNvSpPr/>
          <p:nvPr/>
        </p:nvSpPr>
        <p:spPr>
          <a:xfrm>
            <a:off x="2101680" y="2201760"/>
            <a:ext cx="1676520" cy="1594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9c5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79" name="TextBox 11"/>
          <p:cNvSpPr/>
          <p:nvPr/>
        </p:nvSpPr>
        <p:spPr>
          <a:xfrm>
            <a:off x="2262240" y="27986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unito Bold"/>
                <a:ea typeface="Nunito Bold"/>
              </a:rPr>
              <a:t>Step 01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0" name="Right Arrow 12"/>
          <p:cNvSpPr/>
          <p:nvPr/>
        </p:nvSpPr>
        <p:spPr>
          <a:xfrm>
            <a:off x="4162320" y="2201760"/>
            <a:ext cx="1676520" cy="1594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d2d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1" name="TextBox 13"/>
          <p:cNvSpPr/>
          <p:nvPr/>
        </p:nvSpPr>
        <p:spPr>
          <a:xfrm>
            <a:off x="4322880" y="27986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unito Bold"/>
                <a:ea typeface="Nunito Bold"/>
              </a:rPr>
              <a:t>Step 02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Box 24"/>
          <p:cNvSpPr/>
          <p:nvPr/>
        </p:nvSpPr>
        <p:spPr>
          <a:xfrm>
            <a:off x="5899320" y="3844800"/>
            <a:ext cx="20192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73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 can refer to the information</a:t>
            </a:r>
            <a:endParaRPr b="0" lang="en-US" sz="1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3" name="TextBox 25"/>
          <p:cNvSpPr/>
          <p:nvPr/>
        </p:nvSpPr>
        <p:spPr>
          <a:xfrm>
            <a:off x="5941080" y="349560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6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D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4" name="TextBox 26"/>
          <p:cNvSpPr/>
          <p:nvPr/>
        </p:nvSpPr>
        <p:spPr>
          <a:xfrm>
            <a:off x="1495440" y="3844800"/>
            <a:ext cx="20192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73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 can refer to the information</a:t>
            </a:r>
            <a:endParaRPr b="0" lang="en-US" sz="1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5" name="TextBox 27"/>
          <p:cNvSpPr/>
          <p:nvPr/>
        </p:nvSpPr>
        <p:spPr>
          <a:xfrm>
            <a:off x="1539360" y="349560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6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C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6" name="TextBox 28"/>
          <p:cNvSpPr/>
          <p:nvPr/>
        </p:nvSpPr>
        <p:spPr>
          <a:xfrm>
            <a:off x="5899320" y="2036880"/>
            <a:ext cx="20192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73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 can refer to the information</a:t>
            </a:r>
            <a:endParaRPr b="0" lang="en-US" sz="1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7" name="TextBox 29"/>
          <p:cNvSpPr/>
          <p:nvPr/>
        </p:nvSpPr>
        <p:spPr>
          <a:xfrm>
            <a:off x="5945760" y="168768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6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B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8" name="TextBox 30"/>
          <p:cNvSpPr/>
          <p:nvPr/>
        </p:nvSpPr>
        <p:spPr>
          <a:xfrm>
            <a:off x="1495440" y="2036880"/>
            <a:ext cx="20192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73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 can refer to the information</a:t>
            </a:r>
            <a:endParaRPr b="0" lang="en-US" sz="1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89" name="TextBox 31"/>
          <p:cNvSpPr/>
          <p:nvPr/>
        </p:nvSpPr>
        <p:spPr>
          <a:xfrm>
            <a:off x="1542600" y="16876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6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A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0" name="TextBox 19"/>
          <p:cNvSpPr/>
          <p:nvPr/>
        </p:nvSpPr>
        <p:spPr>
          <a:xfrm>
            <a:off x="3701880" y="3844800"/>
            <a:ext cx="20196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73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 can refer to the information</a:t>
            </a:r>
            <a:endParaRPr b="0" lang="en-US" sz="1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1" name="TextBox 20"/>
          <p:cNvSpPr/>
          <p:nvPr/>
        </p:nvSpPr>
        <p:spPr>
          <a:xfrm>
            <a:off x="3743280" y="349560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6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D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2" name="TextBox 21"/>
          <p:cNvSpPr/>
          <p:nvPr/>
        </p:nvSpPr>
        <p:spPr>
          <a:xfrm>
            <a:off x="3701880" y="2036880"/>
            <a:ext cx="20196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73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 can refer to the information</a:t>
            </a:r>
            <a:endParaRPr b="0" lang="en-US" sz="11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3" name="TextBox 22"/>
          <p:cNvSpPr/>
          <p:nvPr/>
        </p:nvSpPr>
        <p:spPr>
          <a:xfrm>
            <a:off x="3747600" y="168768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6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B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4" name="Shape 2552"/>
          <p:cNvSpPr/>
          <p:nvPr/>
        </p:nvSpPr>
        <p:spPr>
          <a:xfrm>
            <a:off x="3701880" y="1176480"/>
            <a:ext cx="403560" cy="36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360"/>
                </a:moveTo>
                <a:cubicBezTo>
                  <a:pt x="9864" y="18360"/>
                  <a:pt x="8922" y="18237"/>
                  <a:pt x="7998" y="17995"/>
                </a:cubicBezTo>
                <a:cubicBezTo>
                  <a:pt x="7923" y="17975"/>
                  <a:pt x="7846" y="17965"/>
                  <a:pt x="7770" y="17965"/>
                </a:cubicBezTo>
                <a:cubicBezTo>
                  <a:pt x="7646" y="17965"/>
                  <a:pt x="7522" y="17991"/>
                  <a:pt x="7406" y="18043"/>
                </a:cubicBezTo>
                <a:lnTo>
                  <a:pt x="3352" y="19826"/>
                </a:lnTo>
                <a:lnTo>
                  <a:pt x="4013" y="16735"/>
                </a:lnTo>
                <a:cubicBezTo>
                  <a:pt x="4098" y="16339"/>
                  <a:pt x="3972" y="15924"/>
                  <a:pt x="3689" y="15662"/>
                </a:cubicBezTo>
                <a:cubicBezTo>
                  <a:pt x="1944" y="14045"/>
                  <a:pt x="982" y="11934"/>
                  <a:pt x="982" y="9720"/>
                </a:cubicBezTo>
                <a:cubicBezTo>
                  <a:pt x="982" y="4956"/>
                  <a:pt x="5387" y="1080"/>
                  <a:pt x="10800" y="1080"/>
                </a:cubicBezTo>
                <a:cubicBezTo>
                  <a:pt x="16214" y="1080"/>
                  <a:pt x="20618" y="4956"/>
                  <a:pt x="20618" y="9720"/>
                </a:cubicBezTo>
                <a:cubicBezTo>
                  <a:pt x="20618" y="14484"/>
                  <a:pt x="16214" y="18360"/>
                  <a:pt x="10800" y="18360"/>
                </a:cubicBezTo>
                <a:moveTo>
                  <a:pt x="10800" y="0"/>
                </a:moveTo>
                <a:cubicBezTo>
                  <a:pt x="4835" y="0"/>
                  <a:pt x="0" y="4352"/>
                  <a:pt x="0" y="9720"/>
                </a:cubicBezTo>
                <a:cubicBezTo>
                  <a:pt x="0" y="12353"/>
                  <a:pt x="1168" y="14738"/>
                  <a:pt x="3057" y="16488"/>
                </a:cubicBezTo>
                <a:lnTo>
                  <a:pt x="1964" y="21600"/>
                </a:lnTo>
                <a:lnTo>
                  <a:pt x="7770" y="19046"/>
                </a:lnTo>
                <a:cubicBezTo>
                  <a:pt x="8732" y="19298"/>
                  <a:pt x="9747" y="19440"/>
                  <a:pt x="10800" y="19440"/>
                </a:cubicBezTo>
                <a:cubicBezTo>
                  <a:pt x="16765" y="19440"/>
                  <a:pt x="21600" y="15089"/>
                  <a:pt x="21600" y="9720"/>
                </a:cubicBezTo>
                <a:cubicBezTo>
                  <a:pt x="21600" y="4352"/>
                  <a:pt x="16765" y="0"/>
                  <a:pt x="10800" y="0"/>
                </a:cubicBezTo>
              </a:path>
            </a:pathLst>
          </a:custGeom>
          <a:solidFill>
            <a:srgbClr val="f32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5" name="Shape 2579"/>
          <p:cNvSpPr/>
          <p:nvPr/>
        </p:nvSpPr>
        <p:spPr>
          <a:xfrm>
            <a:off x="1495440" y="1135080"/>
            <a:ext cx="403200" cy="40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57" y="18984"/>
                </a:moveTo>
                <a:lnTo>
                  <a:pt x="11380" y="15408"/>
                </a:lnTo>
                <a:lnTo>
                  <a:pt x="10800" y="14983"/>
                </a:lnTo>
                <a:lnTo>
                  <a:pt x="10219" y="15408"/>
                </a:lnTo>
                <a:lnTo>
                  <a:pt x="5343" y="18984"/>
                </a:lnTo>
                <a:lnTo>
                  <a:pt x="7313" y="13075"/>
                </a:lnTo>
                <a:lnTo>
                  <a:pt x="7534" y="12411"/>
                </a:lnTo>
                <a:lnTo>
                  <a:pt x="6980" y="11985"/>
                </a:lnTo>
                <a:lnTo>
                  <a:pt x="2887" y="8836"/>
                </a:lnTo>
                <a:lnTo>
                  <a:pt x="8535" y="8836"/>
                </a:lnTo>
                <a:lnTo>
                  <a:pt x="8774" y="8199"/>
                </a:lnTo>
                <a:lnTo>
                  <a:pt x="10800" y="2796"/>
                </a:lnTo>
                <a:lnTo>
                  <a:pt x="12826" y="8199"/>
                </a:lnTo>
                <a:lnTo>
                  <a:pt x="13065" y="8836"/>
                </a:lnTo>
                <a:lnTo>
                  <a:pt x="18714" y="8836"/>
                </a:lnTo>
                <a:lnTo>
                  <a:pt x="14619" y="11985"/>
                </a:lnTo>
                <a:lnTo>
                  <a:pt x="14066" y="12411"/>
                </a:lnTo>
                <a:cubicBezTo>
                  <a:pt x="14066" y="12411"/>
                  <a:pt x="16257" y="18984"/>
                  <a:pt x="16257" y="18984"/>
                </a:cubicBezTo>
                <a:close/>
                <a:moveTo>
                  <a:pt x="21600" y="7855"/>
                </a:moveTo>
                <a:lnTo>
                  <a:pt x="13745" y="7855"/>
                </a:lnTo>
                <a:lnTo>
                  <a:pt x="10800" y="0"/>
                </a:lnTo>
                <a:lnTo>
                  <a:pt x="7855" y="7855"/>
                </a:lnTo>
                <a:lnTo>
                  <a:pt x="0" y="7855"/>
                </a:lnTo>
                <a:lnTo>
                  <a:pt x="6382" y="12764"/>
                </a:lnTo>
                <a:lnTo>
                  <a:pt x="3436" y="21600"/>
                </a:lnTo>
                <a:lnTo>
                  <a:pt x="10800" y="16200"/>
                </a:lnTo>
                <a:lnTo>
                  <a:pt x="18164" y="21600"/>
                </a:lnTo>
                <a:lnTo>
                  <a:pt x="15218" y="12764"/>
                </a:lnTo>
                <a:cubicBezTo>
                  <a:pt x="15218" y="12764"/>
                  <a:pt x="21600" y="7855"/>
                  <a:pt x="21600" y="7855"/>
                </a:cubicBezTo>
                <a:close/>
              </a:path>
            </a:pathLst>
          </a:cu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6" name="Shape 2587"/>
          <p:cNvSpPr/>
          <p:nvPr/>
        </p:nvSpPr>
        <p:spPr>
          <a:xfrm>
            <a:off x="1495440" y="3035160"/>
            <a:ext cx="4032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d2d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7" name="Shape 2588"/>
          <p:cNvSpPr/>
          <p:nvPr/>
        </p:nvSpPr>
        <p:spPr>
          <a:xfrm>
            <a:off x="3701880" y="3035160"/>
            <a:ext cx="403560" cy="36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82" y="12420"/>
                </a:moveTo>
                <a:cubicBezTo>
                  <a:pt x="16368" y="12420"/>
                  <a:pt x="15709" y="11694"/>
                  <a:pt x="15709" y="10800"/>
                </a:cubicBezTo>
                <a:cubicBezTo>
                  <a:pt x="15709" y="9906"/>
                  <a:pt x="16368" y="9180"/>
                  <a:pt x="17182" y="9180"/>
                </a:cubicBezTo>
                <a:cubicBezTo>
                  <a:pt x="17995" y="9180"/>
                  <a:pt x="18655" y="9906"/>
                  <a:pt x="18655" y="10800"/>
                </a:cubicBezTo>
                <a:cubicBezTo>
                  <a:pt x="18655" y="11694"/>
                  <a:pt x="17995" y="12420"/>
                  <a:pt x="17182" y="12420"/>
                </a:cubicBezTo>
                <a:moveTo>
                  <a:pt x="21109" y="10260"/>
                </a:moveTo>
                <a:lnTo>
                  <a:pt x="19587" y="10260"/>
                </a:lnTo>
                <a:cubicBezTo>
                  <a:pt x="19360" y="9028"/>
                  <a:pt x="18369" y="8100"/>
                  <a:pt x="17182" y="8100"/>
                </a:cubicBezTo>
                <a:cubicBezTo>
                  <a:pt x="15994" y="8100"/>
                  <a:pt x="15004" y="9028"/>
                  <a:pt x="14777" y="10260"/>
                </a:cubicBezTo>
                <a:lnTo>
                  <a:pt x="491" y="10260"/>
                </a:lnTo>
                <a:cubicBezTo>
                  <a:pt x="220" y="10260"/>
                  <a:pt x="0" y="10502"/>
                  <a:pt x="0" y="10800"/>
                </a:cubicBezTo>
                <a:cubicBezTo>
                  <a:pt x="0" y="11098"/>
                  <a:pt x="220" y="11340"/>
                  <a:pt x="491" y="11340"/>
                </a:cubicBezTo>
                <a:lnTo>
                  <a:pt x="14777" y="11340"/>
                </a:lnTo>
                <a:cubicBezTo>
                  <a:pt x="15004" y="12572"/>
                  <a:pt x="15994" y="13500"/>
                  <a:pt x="17182" y="13500"/>
                </a:cubicBezTo>
                <a:cubicBezTo>
                  <a:pt x="18369" y="13500"/>
                  <a:pt x="19360" y="12572"/>
                  <a:pt x="19587" y="11340"/>
                </a:cubicBezTo>
                <a:lnTo>
                  <a:pt x="21109" y="11340"/>
                </a:lnTo>
                <a:cubicBezTo>
                  <a:pt x="21380" y="11340"/>
                  <a:pt x="21600" y="11098"/>
                  <a:pt x="21600" y="10800"/>
                </a:cubicBezTo>
                <a:cubicBezTo>
                  <a:pt x="21600" y="10502"/>
                  <a:pt x="21380" y="10260"/>
                  <a:pt x="21109" y="10260"/>
                </a:cubicBezTo>
                <a:moveTo>
                  <a:pt x="5400" y="1080"/>
                </a:moveTo>
                <a:cubicBezTo>
                  <a:pt x="6214" y="1080"/>
                  <a:pt x="6873" y="1806"/>
                  <a:pt x="6873" y="2700"/>
                </a:cubicBezTo>
                <a:cubicBezTo>
                  <a:pt x="6873" y="3595"/>
                  <a:pt x="6214" y="4320"/>
                  <a:pt x="5400" y="4320"/>
                </a:cubicBezTo>
                <a:cubicBezTo>
                  <a:pt x="4586" y="4320"/>
                  <a:pt x="3927" y="3595"/>
                  <a:pt x="3927" y="2700"/>
                </a:cubicBezTo>
                <a:cubicBezTo>
                  <a:pt x="3927" y="1806"/>
                  <a:pt x="4586" y="1080"/>
                  <a:pt x="5400" y="1080"/>
                </a:cubicBezTo>
                <a:moveTo>
                  <a:pt x="491" y="3240"/>
                </a:moveTo>
                <a:lnTo>
                  <a:pt x="2995" y="3240"/>
                </a:lnTo>
                <a:cubicBezTo>
                  <a:pt x="3222" y="4472"/>
                  <a:pt x="4213" y="5400"/>
                  <a:pt x="5400" y="5400"/>
                </a:cubicBezTo>
                <a:cubicBezTo>
                  <a:pt x="6587" y="5400"/>
                  <a:pt x="7578" y="4472"/>
                  <a:pt x="7805" y="3240"/>
                </a:cubicBezTo>
                <a:lnTo>
                  <a:pt x="21109" y="3240"/>
                </a:lnTo>
                <a:cubicBezTo>
                  <a:pt x="21380" y="3240"/>
                  <a:pt x="21600" y="2999"/>
                  <a:pt x="21600" y="2700"/>
                </a:cubicBezTo>
                <a:cubicBezTo>
                  <a:pt x="21600" y="2402"/>
                  <a:pt x="21380" y="2160"/>
                  <a:pt x="21109" y="2160"/>
                </a:cubicBezTo>
                <a:lnTo>
                  <a:pt x="7805" y="2160"/>
                </a:lnTo>
                <a:cubicBezTo>
                  <a:pt x="7578" y="928"/>
                  <a:pt x="6587" y="0"/>
                  <a:pt x="5400" y="0"/>
                </a:cubicBezTo>
                <a:cubicBezTo>
                  <a:pt x="4213" y="0"/>
                  <a:pt x="3222" y="928"/>
                  <a:pt x="2995" y="2160"/>
                </a:cubicBezTo>
                <a:lnTo>
                  <a:pt x="491" y="2160"/>
                </a:lnTo>
                <a:cubicBezTo>
                  <a:pt x="220" y="2160"/>
                  <a:pt x="0" y="2402"/>
                  <a:pt x="0" y="2700"/>
                </a:cubicBezTo>
                <a:cubicBezTo>
                  <a:pt x="0" y="2999"/>
                  <a:pt x="220" y="3240"/>
                  <a:pt x="491" y="3240"/>
                </a:cubicBezTo>
                <a:moveTo>
                  <a:pt x="9327" y="20519"/>
                </a:moveTo>
                <a:cubicBezTo>
                  <a:pt x="8514" y="20519"/>
                  <a:pt x="7855" y="19794"/>
                  <a:pt x="7855" y="18899"/>
                </a:cubicBezTo>
                <a:cubicBezTo>
                  <a:pt x="7855" y="18005"/>
                  <a:pt x="8514" y="17279"/>
                  <a:pt x="9327" y="17279"/>
                </a:cubicBezTo>
                <a:cubicBezTo>
                  <a:pt x="10141" y="17279"/>
                  <a:pt x="10800" y="18005"/>
                  <a:pt x="10800" y="18899"/>
                </a:cubicBezTo>
                <a:cubicBezTo>
                  <a:pt x="10800" y="19794"/>
                  <a:pt x="10141" y="20519"/>
                  <a:pt x="9327" y="20519"/>
                </a:cubicBezTo>
                <a:moveTo>
                  <a:pt x="21109" y="18359"/>
                </a:moveTo>
                <a:lnTo>
                  <a:pt x="11732" y="18359"/>
                </a:lnTo>
                <a:cubicBezTo>
                  <a:pt x="11505" y="17127"/>
                  <a:pt x="10515" y="16199"/>
                  <a:pt x="9327" y="16199"/>
                </a:cubicBezTo>
                <a:cubicBezTo>
                  <a:pt x="8140" y="16199"/>
                  <a:pt x="7150" y="17127"/>
                  <a:pt x="6922" y="18359"/>
                </a:cubicBezTo>
                <a:lnTo>
                  <a:pt x="491" y="18359"/>
                </a:lnTo>
                <a:cubicBezTo>
                  <a:pt x="220" y="18359"/>
                  <a:pt x="0" y="18601"/>
                  <a:pt x="0" y="18899"/>
                </a:cubicBezTo>
                <a:cubicBezTo>
                  <a:pt x="0" y="19198"/>
                  <a:pt x="220" y="19439"/>
                  <a:pt x="491" y="19439"/>
                </a:cubicBezTo>
                <a:lnTo>
                  <a:pt x="6922" y="19439"/>
                </a:lnTo>
                <a:cubicBezTo>
                  <a:pt x="7150" y="20672"/>
                  <a:pt x="8140" y="21600"/>
                  <a:pt x="9327" y="21600"/>
                </a:cubicBezTo>
                <a:cubicBezTo>
                  <a:pt x="10515" y="21600"/>
                  <a:pt x="11505" y="20672"/>
                  <a:pt x="11732" y="19439"/>
                </a:cubicBezTo>
                <a:lnTo>
                  <a:pt x="21109" y="19439"/>
                </a:lnTo>
                <a:cubicBezTo>
                  <a:pt x="21380" y="19439"/>
                  <a:pt x="21600" y="19198"/>
                  <a:pt x="21600" y="18899"/>
                </a:cubicBezTo>
                <a:cubicBezTo>
                  <a:pt x="21600" y="18601"/>
                  <a:pt x="21380" y="18359"/>
                  <a:pt x="21109" y="18359"/>
                </a:cubicBezTo>
              </a:path>
            </a:pathLst>
          </a:custGeom>
          <a:solidFill>
            <a:srgbClr val="9c5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8" name="Shape 2632"/>
          <p:cNvSpPr/>
          <p:nvPr/>
        </p:nvSpPr>
        <p:spPr>
          <a:xfrm>
            <a:off x="5899320" y="1158840"/>
            <a:ext cx="330120" cy="40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7673"/>
                </a:moveTo>
                <a:cubicBezTo>
                  <a:pt x="4588" y="17673"/>
                  <a:pt x="1200" y="16051"/>
                  <a:pt x="1200" y="15218"/>
                </a:cubicBezTo>
                <a:cubicBezTo>
                  <a:pt x="1200" y="14690"/>
                  <a:pt x="1355" y="14275"/>
                  <a:pt x="1611" y="13896"/>
                </a:cubicBezTo>
                <a:cubicBezTo>
                  <a:pt x="3255" y="14967"/>
                  <a:pt x="6746" y="15709"/>
                  <a:pt x="10800" y="15709"/>
                </a:cubicBezTo>
                <a:cubicBezTo>
                  <a:pt x="14856" y="15709"/>
                  <a:pt x="18345" y="14966"/>
                  <a:pt x="19987" y="13894"/>
                </a:cubicBezTo>
                <a:cubicBezTo>
                  <a:pt x="20244" y="14273"/>
                  <a:pt x="20400" y="14689"/>
                  <a:pt x="20400" y="15218"/>
                </a:cubicBezTo>
                <a:cubicBezTo>
                  <a:pt x="20400" y="16051"/>
                  <a:pt x="17011" y="17673"/>
                  <a:pt x="10800" y="17673"/>
                </a:cubicBezTo>
                <a:moveTo>
                  <a:pt x="10800" y="20618"/>
                </a:moveTo>
                <a:cubicBezTo>
                  <a:pt x="9475" y="20618"/>
                  <a:pt x="8400" y="19739"/>
                  <a:pt x="8400" y="18655"/>
                </a:cubicBezTo>
                <a:cubicBezTo>
                  <a:pt x="8400" y="18625"/>
                  <a:pt x="8408" y="18597"/>
                  <a:pt x="8409" y="18567"/>
                </a:cubicBezTo>
                <a:cubicBezTo>
                  <a:pt x="9179" y="18623"/>
                  <a:pt x="9977" y="18655"/>
                  <a:pt x="10800" y="18655"/>
                </a:cubicBezTo>
                <a:cubicBezTo>
                  <a:pt x="11623" y="18655"/>
                  <a:pt x="12421" y="18623"/>
                  <a:pt x="13191" y="18567"/>
                </a:cubicBezTo>
                <a:cubicBezTo>
                  <a:pt x="13192" y="18597"/>
                  <a:pt x="13200" y="18625"/>
                  <a:pt x="13200" y="18655"/>
                </a:cubicBezTo>
                <a:cubicBezTo>
                  <a:pt x="13200" y="19739"/>
                  <a:pt x="12125" y="20618"/>
                  <a:pt x="10800" y="20618"/>
                </a:cubicBezTo>
                <a:moveTo>
                  <a:pt x="2948" y="12551"/>
                </a:moveTo>
                <a:cubicBezTo>
                  <a:pt x="4308" y="11388"/>
                  <a:pt x="6000" y="9939"/>
                  <a:pt x="6000" y="6873"/>
                </a:cubicBezTo>
                <a:cubicBezTo>
                  <a:pt x="6000" y="5232"/>
                  <a:pt x="7238" y="3825"/>
                  <a:pt x="8988" y="3239"/>
                </a:cubicBezTo>
                <a:cubicBezTo>
                  <a:pt x="9428" y="3657"/>
                  <a:pt x="10072" y="3927"/>
                  <a:pt x="10800" y="3927"/>
                </a:cubicBezTo>
                <a:cubicBezTo>
                  <a:pt x="11528" y="3927"/>
                  <a:pt x="12172" y="3657"/>
                  <a:pt x="12611" y="3239"/>
                </a:cubicBezTo>
                <a:cubicBezTo>
                  <a:pt x="14362" y="3825"/>
                  <a:pt x="15600" y="5232"/>
                  <a:pt x="15600" y="6873"/>
                </a:cubicBezTo>
                <a:cubicBezTo>
                  <a:pt x="15600" y="9939"/>
                  <a:pt x="17292" y="11388"/>
                  <a:pt x="18652" y="12551"/>
                </a:cubicBezTo>
                <a:cubicBezTo>
                  <a:pt x="18911" y="12773"/>
                  <a:pt x="19152" y="12979"/>
                  <a:pt x="19366" y="13183"/>
                </a:cubicBezTo>
                <a:cubicBezTo>
                  <a:pt x="18217" y="14077"/>
                  <a:pt x="14825" y="14727"/>
                  <a:pt x="10800" y="14727"/>
                </a:cubicBezTo>
                <a:cubicBezTo>
                  <a:pt x="6779" y="14727"/>
                  <a:pt x="3383" y="14079"/>
                  <a:pt x="2230" y="13186"/>
                </a:cubicBezTo>
                <a:cubicBezTo>
                  <a:pt x="2446" y="12981"/>
                  <a:pt x="2687" y="12774"/>
                  <a:pt x="2948" y="12551"/>
                </a:cubicBezTo>
                <a:moveTo>
                  <a:pt x="10800" y="982"/>
                </a:moveTo>
                <a:cubicBezTo>
                  <a:pt x="11462" y="982"/>
                  <a:pt x="12000" y="1422"/>
                  <a:pt x="12000" y="1964"/>
                </a:cubicBezTo>
                <a:cubicBezTo>
                  <a:pt x="12000" y="2506"/>
                  <a:pt x="11462" y="2945"/>
                  <a:pt x="10800" y="2945"/>
                </a:cubicBezTo>
                <a:cubicBezTo>
                  <a:pt x="10138" y="2945"/>
                  <a:pt x="9600" y="2506"/>
                  <a:pt x="9600" y="1964"/>
                </a:cubicBezTo>
                <a:cubicBezTo>
                  <a:pt x="9600" y="1422"/>
                  <a:pt x="10138" y="982"/>
                  <a:pt x="10800" y="982"/>
                </a:cubicBezTo>
                <a:moveTo>
                  <a:pt x="21600" y="15218"/>
                </a:moveTo>
                <a:cubicBezTo>
                  <a:pt x="21600" y="11782"/>
                  <a:pt x="16800" y="11782"/>
                  <a:pt x="16800" y="6873"/>
                </a:cubicBezTo>
                <a:cubicBezTo>
                  <a:pt x="16800" y="4845"/>
                  <a:pt x="15296" y="3105"/>
                  <a:pt x="13152" y="2356"/>
                </a:cubicBezTo>
                <a:cubicBezTo>
                  <a:pt x="13183" y="2229"/>
                  <a:pt x="13200" y="2098"/>
                  <a:pt x="13200" y="1964"/>
                </a:cubicBezTo>
                <a:cubicBezTo>
                  <a:pt x="13200" y="879"/>
                  <a:pt x="12125" y="0"/>
                  <a:pt x="10800" y="0"/>
                </a:cubicBezTo>
                <a:cubicBezTo>
                  <a:pt x="9475" y="0"/>
                  <a:pt x="8400" y="879"/>
                  <a:pt x="8400" y="1964"/>
                </a:cubicBezTo>
                <a:cubicBezTo>
                  <a:pt x="8400" y="2098"/>
                  <a:pt x="8417" y="2229"/>
                  <a:pt x="8448" y="2356"/>
                </a:cubicBezTo>
                <a:cubicBezTo>
                  <a:pt x="6304" y="3105"/>
                  <a:pt x="4800" y="4845"/>
                  <a:pt x="4800" y="6873"/>
                </a:cubicBezTo>
                <a:cubicBezTo>
                  <a:pt x="4800" y="11782"/>
                  <a:pt x="0" y="11782"/>
                  <a:pt x="0" y="15218"/>
                </a:cubicBezTo>
                <a:cubicBezTo>
                  <a:pt x="0" y="16716"/>
                  <a:pt x="3016" y="17986"/>
                  <a:pt x="7217" y="18457"/>
                </a:cubicBezTo>
                <a:cubicBezTo>
                  <a:pt x="7211" y="18523"/>
                  <a:pt x="7200" y="18587"/>
                  <a:pt x="7200" y="18655"/>
                </a:cubicBezTo>
                <a:cubicBezTo>
                  <a:pt x="7200" y="20282"/>
                  <a:pt x="8812" y="21600"/>
                  <a:pt x="10800" y="21600"/>
                </a:cubicBezTo>
                <a:cubicBezTo>
                  <a:pt x="12788" y="21600"/>
                  <a:pt x="14400" y="20282"/>
                  <a:pt x="14400" y="18655"/>
                </a:cubicBezTo>
                <a:cubicBezTo>
                  <a:pt x="14400" y="18587"/>
                  <a:pt x="14389" y="18523"/>
                  <a:pt x="14383" y="18457"/>
                </a:cubicBezTo>
                <a:cubicBezTo>
                  <a:pt x="18584" y="17986"/>
                  <a:pt x="21600" y="16716"/>
                  <a:pt x="21600" y="15218"/>
                </a:cubicBezTo>
              </a:path>
            </a:pathLst>
          </a:custGeom>
          <a:solidFill>
            <a:srgbClr val="9c5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99" name="Shape 2633"/>
          <p:cNvSpPr/>
          <p:nvPr/>
        </p:nvSpPr>
        <p:spPr>
          <a:xfrm>
            <a:off x="5899320" y="3035160"/>
            <a:ext cx="4032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144" y="18334"/>
                </a:moveTo>
                <a:lnTo>
                  <a:pt x="15583" y="6873"/>
                </a:lnTo>
                <a:lnTo>
                  <a:pt x="20168" y="6873"/>
                </a:lnTo>
                <a:cubicBezTo>
                  <a:pt x="20168" y="6873"/>
                  <a:pt x="12144" y="18334"/>
                  <a:pt x="12144" y="18334"/>
                </a:cubicBezTo>
                <a:close/>
                <a:moveTo>
                  <a:pt x="10800" y="19403"/>
                </a:moveTo>
                <a:lnTo>
                  <a:pt x="7041" y="6873"/>
                </a:lnTo>
                <a:lnTo>
                  <a:pt x="14559" y="6873"/>
                </a:lnTo>
                <a:cubicBezTo>
                  <a:pt x="14559" y="6873"/>
                  <a:pt x="10800" y="19403"/>
                  <a:pt x="10800" y="19403"/>
                </a:cubicBezTo>
                <a:close/>
                <a:moveTo>
                  <a:pt x="1432" y="6873"/>
                </a:moveTo>
                <a:lnTo>
                  <a:pt x="6017" y="6873"/>
                </a:lnTo>
                <a:lnTo>
                  <a:pt x="9456" y="18334"/>
                </a:lnTo>
                <a:cubicBezTo>
                  <a:pt x="9456" y="18334"/>
                  <a:pt x="1432" y="6873"/>
                  <a:pt x="1432" y="6873"/>
                </a:cubicBezTo>
                <a:close/>
                <a:moveTo>
                  <a:pt x="6578" y="982"/>
                </a:moveTo>
                <a:lnTo>
                  <a:pt x="8536" y="982"/>
                </a:lnTo>
                <a:lnTo>
                  <a:pt x="6082" y="5891"/>
                </a:lnTo>
                <a:lnTo>
                  <a:pt x="1669" y="5891"/>
                </a:lnTo>
                <a:cubicBezTo>
                  <a:pt x="1669" y="5891"/>
                  <a:pt x="6578" y="982"/>
                  <a:pt x="6578" y="982"/>
                </a:cubicBezTo>
                <a:close/>
                <a:moveTo>
                  <a:pt x="11973" y="982"/>
                </a:moveTo>
                <a:lnTo>
                  <a:pt x="14427" y="5891"/>
                </a:lnTo>
                <a:lnTo>
                  <a:pt x="7173" y="5891"/>
                </a:lnTo>
                <a:lnTo>
                  <a:pt x="9627" y="982"/>
                </a:lnTo>
                <a:cubicBezTo>
                  <a:pt x="9627" y="982"/>
                  <a:pt x="11973" y="982"/>
                  <a:pt x="11973" y="982"/>
                </a:cubicBezTo>
                <a:close/>
                <a:moveTo>
                  <a:pt x="15022" y="982"/>
                </a:moveTo>
                <a:lnTo>
                  <a:pt x="19931" y="5891"/>
                </a:lnTo>
                <a:lnTo>
                  <a:pt x="15518" y="5891"/>
                </a:lnTo>
                <a:lnTo>
                  <a:pt x="13064" y="982"/>
                </a:lnTo>
                <a:cubicBezTo>
                  <a:pt x="13064" y="982"/>
                  <a:pt x="15022" y="982"/>
                  <a:pt x="15022" y="982"/>
                </a:cubicBezTo>
                <a:close/>
                <a:moveTo>
                  <a:pt x="21600" y="6382"/>
                </a:moveTo>
                <a:cubicBezTo>
                  <a:pt x="21600" y="6272"/>
                  <a:pt x="21557" y="6175"/>
                  <a:pt x="21495" y="6093"/>
                </a:cubicBezTo>
                <a:lnTo>
                  <a:pt x="21502" y="6088"/>
                </a:lnTo>
                <a:lnTo>
                  <a:pt x="21471" y="6057"/>
                </a:lnTo>
                <a:cubicBezTo>
                  <a:pt x="21459" y="6044"/>
                  <a:pt x="21448" y="6032"/>
                  <a:pt x="21434" y="6020"/>
                </a:cubicBezTo>
                <a:lnTo>
                  <a:pt x="15611" y="197"/>
                </a:lnTo>
                <a:lnTo>
                  <a:pt x="15604" y="201"/>
                </a:lnTo>
                <a:cubicBezTo>
                  <a:pt x="15514" y="82"/>
                  <a:pt x="15379" y="0"/>
                  <a:pt x="15218" y="0"/>
                </a:cubicBezTo>
                <a:lnTo>
                  <a:pt x="6382" y="0"/>
                </a:lnTo>
                <a:cubicBezTo>
                  <a:pt x="6221" y="0"/>
                  <a:pt x="6086" y="82"/>
                  <a:pt x="5996" y="201"/>
                </a:cubicBezTo>
                <a:lnTo>
                  <a:pt x="5989" y="197"/>
                </a:lnTo>
                <a:lnTo>
                  <a:pt x="166" y="6020"/>
                </a:lnTo>
                <a:cubicBezTo>
                  <a:pt x="152" y="6032"/>
                  <a:pt x="141" y="6044"/>
                  <a:pt x="129" y="6057"/>
                </a:cubicBezTo>
                <a:lnTo>
                  <a:pt x="98" y="6088"/>
                </a:lnTo>
                <a:lnTo>
                  <a:pt x="105" y="6093"/>
                </a:lnTo>
                <a:cubicBezTo>
                  <a:pt x="43" y="6175"/>
                  <a:pt x="0" y="6272"/>
                  <a:pt x="0" y="6382"/>
                </a:cubicBezTo>
                <a:cubicBezTo>
                  <a:pt x="0" y="6499"/>
                  <a:pt x="46" y="6602"/>
                  <a:pt x="115" y="6686"/>
                </a:cubicBezTo>
                <a:lnTo>
                  <a:pt x="109" y="6690"/>
                </a:lnTo>
                <a:lnTo>
                  <a:pt x="10418" y="21418"/>
                </a:lnTo>
                <a:lnTo>
                  <a:pt x="10424" y="21413"/>
                </a:lnTo>
                <a:cubicBezTo>
                  <a:pt x="10514" y="21525"/>
                  <a:pt x="10646" y="21600"/>
                  <a:pt x="10800" y="21600"/>
                </a:cubicBezTo>
                <a:cubicBezTo>
                  <a:pt x="10954" y="21600"/>
                  <a:pt x="11086" y="21525"/>
                  <a:pt x="11176" y="21413"/>
                </a:cubicBezTo>
                <a:lnTo>
                  <a:pt x="11182" y="21418"/>
                </a:lnTo>
                <a:lnTo>
                  <a:pt x="21491" y="6690"/>
                </a:lnTo>
                <a:lnTo>
                  <a:pt x="21485" y="6686"/>
                </a:lnTo>
                <a:cubicBezTo>
                  <a:pt x="21553" y="6602"/>
                  <a:pt x="21600" y="6499"/>
                  <a:pt x="21600" y="6382"/>
                </a:cubicBezTo>
              </a:path>
            </a:pathLst>
          </a:cu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00" name="TextBox 23"/>
          <p:cNvSpPr/>
          <p:nvPr/>
        </p:nvSpPr>
        <p:spPr>
          <a:xfrm>
            <a:off x="2313000" y="277920"/>
            <a:ext cx="4518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Features with icons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riangle 7"/>
          <p:cNvSpPr/>
          <p:nvPr/>
        </p:nvSpPr>
        <p:spPr>
          <a:xfrm>
            <a:off x="2720880" y="3063960"/>
            <a:ext cx="1319400" cy="1136520"/>
          </a:xfrm>
          <a:prstGeom prst="triangle">
            <a:avLst>
              <a:gd name="adj" fmla="val 50000"/>
            </a:avLst>
          </a:prstGeom>
          <a:solidFill>
            <a:srgbClr val="40345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02" name="Triangle 8"/>
          <p:cNvSpPr/>
          <p:nvPr/>
        </p:nvSpPr>
        <p:spPr>
          <a:xfrm>
            <a:off x="3379680" y="2092320"/>
            <a:ext cx="1851120" cy="2108160"/>
          </a:xfrm>
          <a:prstGeom prst="triangle">
            <a:avLst>
              <a:gd name="adj" fmla="val 50000"/>
            </a:avLst>
          </a:prstGeom>
          <a:solidFill>
            <a:srgbClr val="f32f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03" name="TextBox 9"/>
          <p:cNvSpPr/>
          <p:nvPr/>
        </p:nvSpPr>
        <p:spPr>
          <a:xfrm>
            <a:off x="5856120" y="4322880"/>
            <a:ext cx="3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494949"/>
                </a:solidFill>
                <a:latin typeface="Nunito Bold"/>
                <a:ea typeface="Nunito Bold"/>
              </a:rPr>
              <a:t>Q4</a:t>
            </a:r>
            <a:endParaRPr b="0" lang="en-US" sz="12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04" name="TextBox 10"/>
          <p:cNvSpPr/>
          <p:nvPr/>
        </p:nvSpPr>
        <p:spPr>
          <a:xfrm>
            <a:off x="5174280" y="4322880"/>
            <a:ext cx="3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494949"/>
                </a:solidFill>
                <a:latin typeface="Nunito Bold"/>
                <a:ea typeface="Nunito Bold"/>
              </a:rPr>
              <a:t>Q3</a:t>
            </a:r>
            <a:endParaRPr b="0" lang="en-US" sz="12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05" name="TextBox 13"/>
          <p:cNvSpPr/>
          <p:nvPr/>
        </p:nvSpPr>
        <p:spPr>
          <a:xfrm>
            <a:off x="4110480" y="4322880"/>
            <a:ext cx="3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494949"/>
                </a:solidFill>
                <a:latin typeface="Nunito Bold"/>
                <a:ea typeface="Nunito Bold"/>
              </a:rPr>
              <a:t>Q2</a:t>
            </a:r>
            <a:endParaRPr b="0" lang="en-US" sz="12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06" name="TextBox 14"/>
          <p:cNvSpPr/>
          <p:nvPr/>
        </p:nvSpPr>
        <p:spPr>
          <a:xfrm>
            <a:off x="3220560" y="4322880"/>
            <a:ext cx="3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494949"/>
                </a:solidFill>
                <a:latin typeface="Nunito Bold"/>
                <a:ea typeface="Nunito Bold"/>
              </a:rPr>
              <a:t>Q1</a:t>
            </a:r>
            <a:endParaRPr b="0" lang="en-US" sz="12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07" name="TextBox 15"/>
          <p:cNvSpPr/>
          <p:nvPr/>
        </p:nvSpPr>
        <p:spPr>
          <a:xfrm>
            <a:off x="5643000" y="292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800" spc="-1" strike="noStrike">
                <a:solidFill>
                  <a:srgbClr val="494949"/>
                </a:solidFill>
                <a:latin typeface="Nunito Bold"/>
                <a:ea typeface="Nunito Bold"/>
              </a:rPr>
              <a:t>37%</a:t>
            </a:r>
            <a:endParaRPr b="0" lang="en-US" sz="18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08" name="TextBox 16"/>
          <p:cNvSpPr/>
          <p:nvPr/>
        </p:nvSpPr>
        <p:spPr>
          <a:xfrm>
            <a:off x="3061800" y="2619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800" spc="-1" strike="noStrike">
                <a:solidFill>
                  <a:srgbClr val="494949"/>
                </a:solidFill>
                <a:latin typeface="Nunito Bold"/>
                <a:ea typeface="Nunito Bold"/>
              </a:rPr>
              <a:t>50%</a:t>
            </a:r>
            <a:endParaRPr b="0" lang="en-US" sz="18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09" name="TextBox 17"/>
          <p:cNvSpPr/>
          <p:nvPr/>
        </p:nvSpPr>
        <p:spPr>
          <a:xfrm>
            <a:off x="3995280" y="1731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800" spc="-1" strike="noStrike">
                <a:solidFill>
                  <a:srgbClr val="494949"/>
                </a:solidFill>
                <a:latin typeface="Nunito Bold"/>
                <a:ea typeface="Nunito Bold"/>
              </a:rPr>
              <a:t>86%</a:t>
            </a:r>
            <a:endParaRPr b="0" lang="en-US" sz="18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10" name="TextBox 18"/>
          <p:cNvSpPr/>
          <p:nvPr/>
        </p:nvSpPr>
        <p:spPr>
          <a:xfrm>
            <a:off x="5050800" y="23083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800" spc="-1" strike="noStrike">
                <a:solidFill>
                  <a:srgbClr val="494949"/>
                </a:solidFill>
                <a:latin typeface="Nunito Bold"/>
                <a:ea typeface="Nunito Bold"/>
              </a:rPr>
              <a:t>59%</a:t>
            </a:r>
            <a:endParaRPr b="0" lang="en-US" sz="18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11" name="Triangle 19"/>
          <p:cNvSpPr/>
          <p:nvPr/>
        </p:nvSpPr>
        <p:spPr>
          <a:xfrm>
            <a:off x="4572000" y="2828880"/>
            <a:ext cx="1592280" cy="1371600"/>
          </a:xfrm>
          <a:prstGeom prst="triangle">
            <a:avLst>
              <a:gd name="adj" fmla="val 50000"/>
            </a:avLst>
          </a:prstGeom>
          <a:solidFill>
            <a:srgbClr val="9c52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12" name="Triangle 20"/>
          <p:cNvSpPr/>
          <p:nvPr/>
        </p:nvSpPr>
        <p:spPr>
          <a:xfrm>
            <a:off x="5548320" y="3333600"/>
            <a:ext cx="1006560" cy="866880"/>
          </a:xfrm>
          <a:prstGeom prst="triangle">
            <a:avLst>
              <a:gd name="adj" fmla="val 50000"/>
            </a:avLst>
          </a:prstGeom>
          <a:solidFill>
            <a:srgbClr val="d2dae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13" name="TextBox 23"/>
          <p:cNvSpPr/>
          <p:nvPr/>
        </p:nvSpPr>
        <p:spPr>
          <a:xfrm>
            <a:off x="2072160" y="277920"/>
            <a:ext cx="49996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Use Charts to present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data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8"/>
          <p:cNvSpPr/>
          <p:nvPr/>
        </p:nvSpPr>
        <p:spPr>
          <a:xfrm>
            <a:off x="2854800" y="3538440"/>
            <a:ext cx="344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I am here because I love to design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presentations.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94" name="TextBox 9"/>
          <p:cNvSpPr/>
          <p:nvPr/>
        </p:nvSpPr>
        <p:spPr>
          <a:xfrm>
            <a:off x="4040280" y="248436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400" spc="-1" strike="noStrike">
                <a:solidFill>
                  <a:srgbClr val="d2dae6"/>
                </a:solidFill>
                <a:latin typeface="Nunito Bold"/>
                <a:ea typeface="Nunito Bold"/>
              </a:rPr>
              <a:t>Hello!</a:t>
            </a:r>
            <a:endParaRPr b="0" lang="en-US" sz="2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3261600" y="285264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400" spc="-1" strike="noStrike">
                <a:solidFill>
                  <a:srgbClr val="403459"/>
                </a:solidFill>
                <a:latin typeface="Nunito Bold"/>
                <a:ea typeface="Nunito Bold"/>
              </a:rPr>
              <a:t>I Am John Miller</a:t>
            </a:r>
            <a:endParaRPr b="0" lang="en-US" sz="2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96" name="TextBox 11"/>
          <p:cNvSpPr/>
          <p:nvPr/>
        </p:nvSpPr>
        <p:spPr>
          <a:xfrm>
            <a:off x="2833560" y="4260960"/>
            <a:ext cx="34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You can contact me at @username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pic>
        <p:nvPicPr>
          <p:cNvPr id="697" name="Picture Placeholder 12" descr=""/>
          <p:cNvPicPr/>
          <p:nvPr/>
        </p:nvPicPr>
        <p:blipFill>
          <a:blip r:embed="rId1"/>
          <a:stretch/>
        </p:blipFill>
        <p:spPr>
          <a:xfrm>
            <a:off x="3765600" y="569880"/>
            <a:ext cx="162540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4" descr="iPhone6_mockup_front_white.png"/>
          <p:cNvPicPr/>
          <p:nvPr/>
        </p:nvPicPr>
        <p:blipFill>
          <a:blip r:embed="rId1"/>
          <a:stretch/>
        </p:blipFill>
        <p:spPr>
          <a:xfrm>
            <a:off x="5261040" y="420840"/>
            <a:ext cx="2662200" cy="416376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4"/>
          <p:cNvSpPr/>
          <p:nvPr/>
        </p:nvSpPr>
        <p:spPr>
          <a:xfrm>
            <a:off x="1700280" y="1311120"/>
            <a:ext cx="35542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494949"/>
                </a:solidFill>
                <a:latin typeface="Nunito Bold"/>
                <a:ea typeface="Nunito Bold"/>
              </a:rPr>
              <a:t>Mobile</a:t>
            </a:r>
            <a:endParaRPr b="0" lang="en-US" sz="3600" spc="-1" strike="noStrike">
              <a:solidFill>
                <a:srgbClr val="b4b4b4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494949"/>
                </a:solidFill>
                <a:latin typeface="Nunito Bold"/>
                <a:ea typeface="Nunito Bold"/>
              </a:rPr>
              <a:t>Project</a:t>
            </a:r>
            <a:endParaRPr b="0" lang="en-US" sz="3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16" name="TextBox 21"/>
          <p:cNvSpPr/>
          <p:nvPr/>
        </p:nvSpPr>
        <p:spPr>
          <a:xfrm>
            <a:off x="1709640" y="2467080"/>
            <a:ext cx="38782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 can refer is what the end-user derives value from also can refer.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pic>
        <p:nvPicPr>
          <p:cNvPr id="817" name="Picture Placeholder 3" descr=""/>
          <p:cNvPicPr/>
          <p:nvPr/>
        </p:nvPicPr>
        <p:blipFill>
          <a:blip r:embed="rId2"/>
          <a:stretch/>
        </p:blipFill>
        <p:spPr>
          <a:xfrm>
            <a:off x="5765760" y="1060560"/>
            <a:ext cx="163692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20"/>
          <p:cNvGrpSpPr/>
          <p:nvPr/>
        </p:nvGrpSpPr>
        <p:grpSpPr>
          <a:xfrm>
            <a:off x="641520" y="1411200"/>
            <a:ext cx="3689280" cy="2122560"/>
            <a:chOff x="641520" y="1411200"/>
            <a:chExt cx="3689280" cy="2122560"/>
          </a:xfrm>
        </p:grpSpPr>
        <p:sp>
          <p:nvSpPr>
            <p:cNvPr id="819" name="Freeform 45"/>
            <p:cNvSpPr/>
            <p:nvPr/>
          </p:nvSpPr>
          <p:spPr>
            <a:xfrm>
              <a:off x="641520" y="3452040"/>
              <a:ext cx="1858320" cy="81720"/>
            </a:xfrm>
            <a:custGeom>
              <a:avLst/>
              <a:gdLst/>
              <a:ahLst/>
              <a:rect l="l" t="t" r="r" b="b"/>
              <a:pathLst>
                <a:path w="885" h="39">
                  <a:moveTo>
                    <a:pt x="0" y="16"/>
                  </a:moveTo>
                  <a:cubicBezTo>
                    <a:pt x="0" y="23"/>
                    <a:pt x="30" y="39"/>
                    <a:pt x="78" y="39"/>
                  </a:cubicBezTo>
                  <a:cubicBezTo>
                    <a:pt x="126" y="39"/>
                    <a:pt x="885" y="39"/>
                    <a:pt x="885" y="39"/>
                  </a:cubicBezTo>
                  <a:cubicBezTo>
                    <a:pt x="885" y="0"/>
                    <a:pt x="885" y="0"/>
                    <a:pt x="88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0" name="Freeform 46"/>
            <p:cNvSpPr/>
            <p:nvPr/>
          </p:nvSpPr>
          <p:spPr>
            <a:xfrm>
              <a:off x="2472480" y="3452040"/>
              <a:ext cx="1858320" cy="81720"/>
            </a:xfrm>
            <a:custGeom>
              <a:avLst/>
              <a:gdLst/>
              <a:ahLst/>
              <a:rect l="l" t="t" r="r" b="b"/>
              <a:pathLst>
                <a:path w="884" h="39">
                  <a:moveTo>
                    <a:pt x="884" y="16"/>
                  </a:moveTo>
                  <a:cubicBezTo>
                    <a:pt x="884" y="23"/>
                    <a:pt x="854" y="39"/>
                    <a:pt x="806" y="39"/>
                  </a:cubicBezTo>
                  <a:cubicBezTo>
                    <a:pt x="758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84" y="0"/>
                    <a:pt x="884" y="0"/>
                    <a:pt x="884" y="0"/>
                  </a:cubicBezTo>
                  <a:lnTo>
                    <a:pt x="884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1" name="Freeform 47"/>
            <p:cNvSpPr/>
            <p:nvPr/>
          </p:nvSpPr>
          <p:spPr>
            <a:xfrm>
              <a:off x="1005120" y="1411200"/>
              <a:ext cx="2989440" cy="2046960"/>
            </a:xfrm>
            <a:custGeom>
              <a:avLst/>
              <a:gdLst/>
              <a:ahLst/>
              <a:rect l="l" t="t" r="r" b="b"/>
              <a:pathLst>
                <a:path w="1423" h="974">
                  <a:moveTo>
                    <a:pt x="1378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20"/>
                    <a:pt x="0" y="45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0" y="929"/>
                    <a:pt x="0" y="929"/>
                    <a:pt x="0" y="929"/>
                  </a:cubicBezTo>
                  <a:cubicBezTo>
                    <a:pt x="0" y="954"/>
                    <a:pt x="20" y="974"/>
                    <a:pt x="45" y="974"/>
                  </a:cubicBezTo>
                  <a:cubicBezTo>
                    <a:pt x="1378" y="974"/>
                    <a:pt x="1378" y="974"/>
                    <a:pt x="1378" y="974"/>
                  </a:cubicBezTo>
                  <a:cubicBezTo>
                    <a:pt x="1403" y="974"/>
                    <a:pt x="1423" y="954"/>
                    <a:pt x="1423" y="929"/>
                  </a:cubicBezTo>
                  <a:cubicBezTo>
                    <a:pt x="1423" y="45"/>
                    <a:pt x="1423" y="45"/>
                    <a:pt x="1423" y="45"/>
                  </a:cubicBezTo>
                  <a:cubicBezTo>
                    <a:pt x="1423" y="20"/>
                    <a:pt x="1403" y="0"/>
                    <a:pt x="1378" y="0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2" name="Freeform 48"/>
            <p:cNvSpPr/>
            <p:nvPr/>
          </p:nvSpPr>
          <p:spPr>
            <a:xfrm>
              <a:off x="1015560" y="1421640"/>
              <a:ext cx="2970360" cy="2026080"/>
            </a:xfrm>
            <a:custGeom>
              <a:avLst/>
              <a:gdLst/>
              <a:ahLst/>
              <a:rect l="l" t="t" r="r" b="b"/>
              <a:pathLst>
                <a:path w="1414" h="964">
                  <a:moveTo>
                    <a:pt x="40" y="964"/>
                  </a:moveTo>
                  <a:cubicBezTo>
                    <a:pt x="18" y="964"/>
                    <a:pt x="0" y="946"/>
                    <a:pt x="0" y="92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1373" y="0"/>
                    <a:pt x="1373" y="0"/>
                    <a:pt x="1373" y="0"/>
                  </a:cubicBezTo>
                  <a:cubicBezTo>
                    <a:pt x="1396" y="0"/>
                    <a:pt x="1414" y="18"/>
                    <a:pt x="1414" y="40"/>
                  </a:cubicBezTo>
                  <a:cubicBezTo>
                    <a:pt x="1414" y="924"/>
                    <a:pt x="1414" y="924"/>
                    <a:pt x="1414" y="924"/>
                  </a:cubicBezTo>
                  <a:cubicBezTo>
                    <a:pt x="1414" y="946"/>
                    <a:pt x="1396" y="964"/>
                    <a:pt x="1373" y="964"/>
                  </a:cubicBezTo>
                  <a:lnTo>
                    <a:pt x="40" y="964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3" name="Rectangle 50"/>
            <p:cNvSpPr/>
            <p:nvPr/>
          </p:nvSpPr>
          <p:spPr>
            <a:xfrm>
              <a:off x="641520" y="3418200"/>
              <a:ext cx="3689280" cy="66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4" name="Freeform 51"/>
            <p:cNvSpPr/>
            <p:nvPr/>
          </p:nvSpPr>
          <p:spPr>
            <a:xfrm>
              <a:off x="2220120" y="3418200"/>
              <a:ext cx="529560" cy="37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0"/>
                  </a:moveTo>
                  <a:cubicBezTo>
                    <a:pt x="2" y="10"/>
                    <a:pt x="11" y="18"/>
                    <a:pt x="22" y="18"/>
                  </a:cubicBezTo>
                  <a:cubicBezTo>
                    <a:pt x="230" y="18"/>
                    <a:pt x="230" y="18"/>
                    <a:pt x="230" y="18"/>
                  </a:cubicBezTo>
                  <a:cubicBezTo>
                    <a:pt x="241" y="18"/>
                    <a:pt x="250" y="10"/>
                    <a:pt x="2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5" name="Rectangle 52"/>
            <p:cNvSpPr/>
            <p:nvPr/>
          </p:nvSpPr>
          <p:spPr>
            <a:xfrm>
              <a:off x="1114200" y="1549800"/>
              <a:ext cx="2772720" cy="1750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6" name="Oval 54"/>
            <p:cNvSpPr/>
            <p:nvPr/>
          </p:nvSpPr>
          <p:spPr>
            <a:xfrm>
              <a:off x="2482920" y="1476000"/>
              <a:ext cx="31320" cy="3132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7" name="Oval 55"/>
            <p:cNvSpPr/>
            <p:nvPr/>
          </p:nvSpPr>
          <p:spPr>
            <a:xfrm>
              <a:off x="2482920" y="1474200"/>
              <a:ext cx="31320" cy="2916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8" name="Oval 56"/>
            <p:cNvSpPr/>
            <p:nvPr/>
          </p:nvSpPr>
          <p:spPr>
            <a:xfrm>
              <a:off x="2489400" y="1478160"/>
              <a:ext cx="18720" cy="20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29" name="Oval 57"/>
            <p:cNvSpPr/>
            <p:nvPr/>
          </p:nvSpPr>
          <p:spPr>
            <a:xfrm>
              <a:off x="2493360" y="1484640"/>
              <a:ext cx="10440" cy="1044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30" name="Freeform 58"/>
            <p:cNvSpPr/>
            <p:nvPr/>
          </p:nvSpPr>
          <p:spPr>
            <a:xfrm>
              <a:off x="2497680" y="1486800"/>
              <a:ext cx="180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-12960" bIns="-1296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</p:grpSp>
      <p:sp>
        <p:nvSpPr>
          <p:cNvPr id="831" name="TextBox 51"/>
          <p:cNvSpPr/>
          <p:nvPr/>
        </p:nvSpPr>
        <p:spPr>
          <a:xfrm>
            <a:off x="3762360" y="1411200"/>
            <a:ext cx="35542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494949"/>
                </a:solidFill>
                <a:latin typeface="Nunito Bold"/>
                <a:ea typeface="Nunito Bold"/>
              </a:rPr>
              <a:t>Laptop</a:t>
            </a:r>
            <a:endParaRPr b="0" lang="en-US" sz="3600" spc="-1" strike="noStrike">
              <a:solidFill>
                <a:srgbClr val="b4b4b4"/>
              </a:solidFill>
              <a:latin typeface="Calibri"/>
            </a:endParaRPr>
          </a:p>
          <a:p>
            <a:pPr algn="r">
              <a:lnSpc>
                <a:spcPts val="4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494949"/>
                </a:solidFill>
                <a:latin typeface="Nunito Bold"/>
                <a:ea typeface="Nunito Bold"/>
              </a:rPr>
              <a:t>Project</a:t>
            </a:r>
            <a:endParaRPr b="0" lang="en-US" sz="3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32" name="TextBox 52"/>
          <p:cNvSpPr/>
          <p:nvPr/>
        </p:nvSpPr>
        <p:spPr>
          <a:xfrm>
            <a:off x="4429080" y="2567160"/>
            <a:ext cx="286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 can refer.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pic>
        <p:nvPicPr>
          <p:cNvPr id="833" name="Picture Placeholder 4" descr=""/>
          <p:cNvPicPr/>
          <p:nvPr/>
        </p:nvPicPr>
        <p:blipFill>
          <a:blip r:embed="rId1"/>
          <a:stretch/>
        </p:blipFill>
        <p:spPr>
          <a:xfrm>
            <a:off x="1114560" y="1542960"/>
            <a:ext cx="277164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"/>
          <p:cNvGrpSpPr/>
          <p:nvPr/>
        </p:nvGrpSpPr>
        <p:grpSpPr>
          <a:xfrm>
            <a:off x="5064120" y="1252440"/>
            <a:ext cx="3014640" cy="2451240"/>
            <a:chOff x="5064120" y="1252440"/>
            <a:chExt cx="3014640" cy="2451240"/>
          </a:xfrm>
        </p:grpSpPr>
        <p:sp>
          <p:nvSpPr>
            <p:cNvPr id="835" name="Freeform 5"/>
            <p:cNvSpPr/>
            <p:nvPr/>
          </p:nvSpPr>
          <p:spPr>
            <a:xfrm>
              <a:off x="5064120" y="1252440"/>
              <a:ext cx="3014640" cy="1840320"/>
            </a:xfrm>
            <a:custGeom>
              <a:avLst/>
              <a:gdLst/>
              <a:ahLst/>
              <a:rect l="l" t="t" r="r" b="b"/>
              <a:pathLst>
                <a:path w="2537" h="1533">
                  <a:moveTo>
                    <a:pt x="2537" y="1533"/>
                  </a:moveTo>
                  <a:cubicBezTo>
                    <a:pt x="2537" y="71"/>
                    <a:pt x="2537" y="71"/>
                    <a:pt x="2537" y="71"/>
                  </a:cubicBezTo>
                  <a:cubicBezTo>
                    <a:pt x="2537" y="32"/>
                    <a:pt x="2506" y="0"/>
                    <a:pt x="2467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32" y="0"/>
                    <a:pt x="0" y="32"/>
                    <a:pt x="0" y="71"/>
                  </a:cubicBezTo>
                  <a:cubicBezTo>
                    <a:pt x="0" y="1533"/>
                    <a:pt x="0" y="1533"/>
                    <a:pt x="0" y="1533"/>
                  </a:cubicBezTo>
                  <a:lnTo>
                    <a:pt x="2537" y="153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>
              <a:off x="5181120" y="1377360"/>
              <a:ext cx="2780280" cy="1588320"/>
            </a:xfrm>
            <a:custGeom>
              <a:avLst/>
              <a:gdLst/>
              <a:ahLst/>
              <a:rect l="l" t="t" r="r" b="b"/>
              <a:pathLst>
                <a:path w="2085" h="1180">
                  <a:moveTo>
                    <a:pt x="2075" y="10"/>
                  </a:moveTo>
                  <a:lnTo>
                    <a:pt x="2075" y="1170"/>
                  </a:lnTo>
                  <a:lnTo>
                    <a:pt x="10" y="1170"/>
                  </a:lnTo>
                  <a:lnTo>
                    <a:pt x="10" y="10"/>
                  </a:lnTo>
                  <a:lnTo>
                    <a:pt x="2075" y="10"/>
                  </a:lnTo>
                  <a:close/>
                  <a:moveTo>
                    <a:pt x="2085" y="0"/>
                  </a:moveTo>
                  <a:lnTo>
                    <a:pt x="207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170"/>
                  </a:lnTo>
                  <a:lnTo>
                    <a:pt x="0" y="1180"/>
                  </a:lnTo>
                  <a:lnTo>
                    <a:pt x="10" y="1180"/>
                  </a:lnTo>
                  <a:lnTo>
                    <a:pt x="2075" y="1180"/>
                  </a:lnTo>
                  <a:lnTo>
                    <a:pt x="2085" y="1180"/>
                  </a:lnTo>
                  <a:lnTo>
                    <a:pt x="2085" y="1170"/>
                  </a:lnTo>
                  <a:lnTo>
                    <a:pt x="2085" y="10"/>
                  </a:lnTo>
                  <a:lnTo>
                    <a:pt x="2085" y="0"/>
                  </a:lnTo>
                  <a:lnTo>
                    <a:pt x="2085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37" name="Freeform 7"/>
            <p:cNvSpPr/>
            <p:nvPr/>
          </p:nvSpPr>
          <p:spPr>
            <a:xfrm>
              <a:off x="5181120" y="1377360"/>
              <a:ext cx="2780280" cy="1588320"/>
            </a:xfrm>
            <a:custGeom>
              <a:avLst/>
              <a:gdLst/>
              <a:ahLst/>
              <a:rect l="l" t="t" r="r" b="b"/>
              <a:pathLst>
                <a:path w="2085" h="1180">
                  <a:moveTo>
                    <a:pt x="2075" y="10"/>
                  </a:moveTo>
                  <a:lnTo>
                    <a:pt x="2075" y="1170"/>
                  </a:lnTo>
                  <a:lnTo>
                    <a:pt x="10" y="1170"/>
                  </a:lnTo>
                  <a:lnTo>
                    <a:pt x="10" y="10"/>
                  </a:lnTo>
                  <a:lnTo>
                    <a:pt x="2075" y="10"/>
                  </a:lnTo>
                  <a:moveTo>
                    <a:pt x="2085" y="0"/>
                  </a:moveTo>
                  <a:lnTo>
                    <a:pt x="207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170"/>
                  </a:lnTo>
                  <a:lnTo>
                    <a:pt x="0" y="1180"/>
                  </a:lnTo>
                  <a:lnTo>
                    <a:pt x="10" y="1180"/>
                  </a:lnTo>
                  <a:lnTo>
                    <a:pt x="2075" y="1180"/>
                  </a:lnTo>
                  <a:lnTo>
                    <a:pt x="2085" y="1180"/>
                  </a:lnTo>
                  <a:lnTo>
                    <a:pt x="2085" y="1170"/>
                  </a:lnTo>
                  <a:lnTo>
                    <a:pt x="2085" y="10"/>
                  </a:lnTo>
                  <a:lnTo>
                    <a:pt x="2085" y="0"/>
                  </a:lnTo>
                  <a:lnTo>
                    <a:pt x="20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38" name="Rectangle 8"/>
            <p:cNvSpPr/>
            <p:nvPr/>
          </p:nvSpPr>
          <p:spPr>
            <a:xfrm>
              <a:off x="5194800" y="1391040"/>
              <a:ext cx="2753280" cy="1561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39" name="Freeform 9"/>
            <p:cNvSpPr/>
            <p:nvPr/>
          </p:nvSpPr>
          <p:spPr>
            <a:xfrm>
              <a:off x="6058800" y="3662280"/>
              <a:ext cx="1014480" cy="41400"/>
            </a:xfrm>
            <a:custGeom>
              <a:avLst/>
              <a:gdLst/>
              <a:ahLst/>
              <a:rect l="l" t="t" r="r" b="b"/>
              <a:pathLst>
                <a:path w="854" h="35">
                  <a:moveTo>
                    <a:pt x="852" y="24"/>
                  </a:moveTo>
                  <a:cubicBezTo>
                    <a:pt x="478" y="5"/>
                    <a:pt x="478" y="5"/>
                    <a:pt x="478" y="5"/>
                  </a:cubicBezTo>
                  <a:cubicBezTo>
                    <a:pt x="478" y="0"/>
                    <a:pt x="478" y="0"/>
                    <a:pt x="478" y="0"/>
                  </a:cubicBezTo>
                  <a:cubicBezTo>
                    <a:pt x="427" y="3"/>
                    <a:pt x="427" y="3"/>
                    <a:pt x="427" y="3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75" y="5"/>
                    <a:pt x="375" y="5"/>
                    <a:pt x="375" y="5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4"/>
                    <a:pt x="0" y="35"/>
                    <a:pt x="24" y="35"/>
                  </a:cubicBezTo>
                  <a:cubicBezTo>
                    <a:pt x="41" y="35"/>
                    <a:pt x="247" y="35"/>
                    <a:pt x="375" y="35"/>
                  </a:cubicBezTo>
                  <a:cubicBezTo>
                    <a:pt x="435" y="35"/>
                    <a:pt x="478" y="35"/>
                    <a:pt x="478" y="35"/>
                  </a:cubicBezTo>
                  <a:cubicBezTo>
                    <a:pt x="606" y="35"/>
                    <a:pt x="812" y="35"/>
                    <a:pt x="829" y="35"/>
                  </a:cubicBezTo>
                  <a:cubicBezTo>
                    <a:pt x="854" y="35"/>
                    <a:pt x="852" y="24"/>
                    <a:pt x="852" y="24"/>
                  </a:cubicBez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40" name="Freeform 10"/>
            <p:cNvSpPr/>
            <p:nvPr/>
          </p:nvSpPr>
          <p:spPr>
            <a:xfrm>
              <a:off x="6053400" y="3340440"/>
              <a:ext cx="1023840" cy="353880"/>
            </a:xfrm>
            <a:custGeom>
              <a:avLst/>
              <a:gdLst/>
              <a:ahLst/>
              <a:rect l="l" t="t" r="r" b="b"/>
              <a:pathLst>
                <a:path w="861" h="295">
                  <a:moveTo>
                    <a:pt x="790" y="274"/>
                  </a:moveTo>
                  <a:cubicBezTo>
                    <a:pt x="760" y="268"/>
                    <a:pt x="744" y="271"/>
                    <a:pt x="738" y="224"/>
                  </a:cubicBezTo>
                  <a:cubicBezTo>
                    <a:pt x="731" y="177"/>
                    <a:pt x="714" y="0"/>
                    <a:pt x="714" y="0"/>
                  </a:cubicBezTo>
                  <a:cubicBezTo>
                    <a:pt x="431" y="4"/>
                    <a:pt x="431" y="4"/>
                    <a:pt x="431" y="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30" y="177"/>
                    <a:pt x="124" y="224"/>
                  </a:cubicBezTo>
                  <a:cubicBezTo>
                    <a:pt x="117" y="271"/>
                    <a:pt x="102" y="268"/>
                    <a:pt x="72" y="274"/>
                  </a:cubicBezTo>
                  <a:cubicBezTo>
                    <a:pt x="42" y="280"/>
                    <a:pt x="0" y="287"/>
                    <a:pt x="0" y="291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379" y="295"/>
                    <a:pt x="379" y="295"/>
                    <a:pt x="379" y="295"/>
                  </a:cubicBezTo>
                  <a:cubicBezTo>
                    <a:pt x="482" y="295"/>
                    <a:pt x="482" y="295"/>
                    <a:pt x="482" y="295"/>
                  </a:cubicBezTo>
                  <a:cubicBezTo>
                    <a:pt x="861" y="295"/>
                    <a:pt x="861" y="295"/>
                    <a:pt x="861" y="295"/>
                  </a:cubicBezTo>
                  <a:cubicBezTo>
                    <a:pt x="861" y="295"/>
                    <a:pt x="861" y="295"/>
                    <a:pt x="861" y="291"/>
                  </a:cubicBezTo>
                  <a:cubicBezTo>
                    <a:pt x="861" y="287"/>
                    <a:pt x="820" y="280"/>
                    <a:pt x="790" y="274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41" name="Oval 11"/>
            <p:cNvSpPr/>
            <p:nvPr/>
          </p:nvSpPr>
          <p:spPr>
            <a:xfrm>
              <a:off x="6550920" y="1303560"/>
              <a:ext cx="41040" cy="4140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42" name="Oval 12"/>
            <p:cNvSpPr/>
            <p:nvPr/>
          </p:nvSpPr>
          <p:spPr>
            <a:xfrm>
              <a:off x="6550920" y="1300680"/>
              <a:ext cx="41040" cy="414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>
              <a:off x="6557400" y="1307520"/>
              <a:ext cx="27720" cy="26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44" name="Oval 14"/>
            <p:cNvSpPr/>
            <p:nvPr/>
          </p:nvSpPr>
          <p:spPr>
            <a:xfrm>
              <a:off x="6565320" y="1312920"/>
              <a:ext cx="13320" cy="1584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45" name="Oval 15"/>
            <p:cNvSpPr/>
            <p:nvPr/>
          </p:nvSpPr>
          <p:spPr>
            <a:xfrm>
              <a:off x="6569280" y="1319400"/>
              <a:ext cx="39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46" name="Freeform 16"/>
            <p:cNvSpPr/>
            <p:nvPr/>
          </p:nvSpPr>
          <p:spPr>
            <a:xfrm>
              <a:off x="6053400" y="3340440"/>
              <a:ext cx="828000" cy="353880"/>
            </a:xfrm>
            <a:custGeom>
              <a:avLst/>
              <a:gdLst/>
              <a:ahLst/>
              <a:rect l="l" t="t" r="r" b="b"/>
              <a:pathLst>
                <a:path w="696" h="295">
                  <a:moveTo>
                    <a:pt x="696" y="10"/>
                  </a:moveTo>
                  <a:cubicBezTo>
                    <a:pt x="573" y="2"/>
                    <a:pt x="573" y="2"/>
                    <a:pt x="573" y="2"/>
                  </a:cubicBezTo>
                  <a:cubicBezTo>
                    <a:pt x="431" y="4"/>
                    <a:pt x="431" y="4"/>
                    <a:pt x="431" y="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30" y="177"/>
                    <a:pt x="124" y="224"/>
                  </a:cubicBezTo>
                  <a:cubicBezTo>
                    <a:pt x="117" y="271"/>
                    <a:pt x="102" y="268"/>
                    <a:pt x="72" y="274"/>
                  </a:cubicBezTo>
                  <a:cubicBezTo>
                    <a:pt x="42" y="280"/>
                    <a:pt x="0" y="287"/>
                    <a:pt x="0" y="291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379" y="295"/>
                    <a:pt x="379" y="295"/>
                    <a:pt x="379" y="295"/>
                  </a:cubicBezTo>
                  <a:cubicBezTo>
                    <a:pt x="432" y="295"/>
                    <a:pt x="432" y="295"/>
                    <a:pt x="432" y="295"/>
                  </a:cubicBezTo>
                  <a:lnTo>
                    <a:pt x="696" y="10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  <p:sp>
          <p:nvSpPr>
            <p:cNvPr id="847" name="Freeform 17"/>
            <p:cNvSpPr/>
            <p:nvPr/>
          </p:nvSpPr>
          <p:spPr>
            <a:xfrm>
              <a:off x="5064120" y="3092760"/>
              <a:ext cx="3014640" cy="289440"/>
            </a:xfrm>
            <a:custGeom>
              <a:avLst/>
              <a:gdLst/>
              <a:ahLst/>
              <a:rect l="l" t="t" r="r" b="b"/>
              <a:pathLst>
                <a:path w="2537" h="241">
                  <a:moveTo>
                    <a:pt x="0" y="0"/>
                  </a:moveTo>
                  <a:cubicBezTo>
                    <a:pt x="0" y="170"/>
                    <a:pt x="0" y="170"/>
                    <a:pt x="0" y="170"/>
                  </a:cubicBezTo>
                  <a:cubicBezTo>
                    <a:pt x="0" y="209"/>
                    <a:pt x="32" y="241"/>
                    <a:pt x="71" y="241"/>
                  </a:cubicBezTo>
                  <a:cubicBezTo>
                    <a:pt x="2467" y="241"/>
                    <a:pt x="2467" y="241"/>
                    <a:pt x="2467" y="241"/>
                  </a:cubicBezTo>
                  <a:cubicBezTo>
                    <a:pt x="2506" y="241"/>
                    <a:pt x="2537" y="209"/>
                    <a:pt x="2537" y="170"/>
                  </a:cubicBezTo>
                  <a:cubicBezTo>
                    <a:pt x="2537" y="0"/>
                    <a:pt x="2537" y="0"/>
                    <a:pt x="253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noAutofit/>
            </a:bodyPr>
            <a:p>
              <a:endParaRPr b="0" lang="en-US" sz="1300" spc="-1" strike="noStrike">
                <a:solidFill>
                  <a:srgbClr val="b4b4b4"/>
                </a:solidFill>
                <a:latin typeface="Calibri"/>
              </a:endParaRPr>
            </a:p>
          </p:txBody>
        </p:sp>
      </p:grpSp>
      <p:sp>
        <p:nvSpPr>
          <p:cNvPr id="848" name="TextBox 26"/>
          <p:cNvSpPr/>
          <p:nvPr/>
        </p:nvSpPr>
        <p:spPr>
          <a:xfrm>
            <a:off x="1547640" y="1390680"/>
            <a:ext cx="3552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494949"/>
                </a:solidFill>
                <a:latin typeface="Nunito Bold"/>
                <a:ea typeface="Nunito Bold"/>
              </a:rPr>
              <a:t>Desktop</a:t>
            </a:r>
            <a:endParaRPr b="0" lang="en-US" sz="3600" spc="-1" strike="noStrike">
              <a:solidFill>
                <a:srgbClr val="b4b4b4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494949"/>
                </a:solidFill>
                <a:latin typeface="Nunito Bold"/>
                <a:ea typeface="Nunito Bold"/>
              </a:rPr>
              <a:t>Project</a:t>
            </a:r>
            <a:endParaRPr b="0" lang="en-US" sz="3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49" name="TextBox 28"/>
          <p:cNvSpPr/>
          <p:nvPr/>
        </p:nvSpPr>
        <p:spPr>
          <a:xfrm>
            <a:off x="1557360" y="2546280"/>
            <a:ext cx="3213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 can refer is what.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pic>
        <p:nvPicPr>
          <p:cNvPr id="850" name="Picture Placeholder 11" descr=""/>
          <p:cNvPicPr/>
          <p:nvPr/>
        </p:nvPicPr>
        <p:blipFill>
          <a:blip r:embed="rId1"/>
          <a:stretch/>
        </p:blipFill>
        <p:spPr>
          <a:xfrm>
            <a:off x="5194440" y="1390680"/>
            <a:ext cx="27540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Box 3"/>
          <p:cNvSpPr/>
          <p:nvPr/>
        </p:nvSpPr>
        <p:spPr>
          <a:xfrm>
            <a:off x="3395880" y="2749680"/>
            <a:ext cx="23677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You can find me at: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@username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myemail@domain.com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52" name="TextBox 1"/>
          <p:cNvSpPr/>
          <p:nvPr/>
        </p:nvSpPr>
        <p:spPr>
          <a:xfrm>
            <a:off x="3341160" y="21366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400" spc="-1" strike="noStrike">
                <a:solidFill>
                  <a:srgbClr val="f32f80"/>
                </a:solidFill>
                <a:latin typeface="Nunito Bold"/>
                <a:ea typeface="Nunito Bold"/>
              </a:rPr>
              <a:t>Any questions?</a:t>
            </a:r>
            <a:endParaRPr b="0" lang="en-US" sz="2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53" name="TextBox 8"/>
          <p:cNvSpPr/>
          <p:nvPr/>
        </p:nvSpPr>
        <p:spPr>
          <a:xfrm>
            <a:off x="3391200" y="1366920"/>
            <a:ext cx="236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4400" spc="-1" strike="noStrike">
                <a:solidFill>
                  <a:srgbClr val="403459"/>
                </a:solidFill>
                <a:latin typeface="Nunito Bold"/>
                <a:ea typeface="Nunito Bold"/>
              </a:rPr>
              <a:t>Thanks!</a:t>
            </a:r>
            <a:endParaRPr b="0" lang="en-US" sz="44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Box 9"/>
          <p:cNvSpPr/>
          <p:nvPr/>
        </p:nvSpPr>
        <p:spPr>
          <a:xfrm>
            <a:off x="2340000" y="2801880"/>
            <a:ext cx="512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Presentation template designed by </a:t>
            </a:r>
            <a:r>
              <a:rPr b="0" lang="en-US" sz="1600" spc="-1" strike="noStrike" u="sng">
                <a:solidFill>
                  <a:srgbClr val="f33b48"/>
                </a:solidFill>
                <a:uFillTx/>
                <a:latin typeface="Nixie One"/>
                <a:ea typeface="Nixie One"/>
                <a:hlinkClick r:id="rId1"/>
              </a:rPr>
              <a:t>Slidesmash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55" name="Shape 2916"/>
          <p:cNvSpPr/>
          <p:nvPr/>
        </p:nvSpPr>
        <p:spPr>
          <a:xfrm>
            <a:off x="2076480" y="2911320"/>
            <a:ext cx="162000" cy="13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14597" y="10473"/>
                </a:moveTo>
                <a:lnTo>
                  <a:pt x="14600" y="10470"/>
                </a:lnTo>
                <a:lnTo>
                  <a:pt x="9691" y="5070"/>
                </a:lnTo>
                <a:lnTo>
                  <a:pt x="9688" y="5073"/>
                </a:lnTo>
                <a:cubicBezTo>
                  <a:pt x="9598" y="4974"/>
                  <a:pt x="9471" y="4909"/>
                  <a:pt x="9327" y="4909"/>
                </a:cubicBezTo>
                <a:cubicBezTo>
                  <a:pt x="9056" y="4909"/>
                  <a:pt x="8836" y="5129"/>
                  <a:pt x="8836" y="5400"/>
                </a:cubicBezTo>
                <a:cubicBezTo>
                  <a:pt x="8836" y="5527"/>
                  <a:pt x="8887" y="5641"/>
                  <a:pt x="8967" y="5728"/>
                </a:cubicBezTo>
                <a:lnTo>
                  <a:pt x="8964" y="5730"/>
                </a:lnTo>
                <a:lnTo>
                  <a:pt x="13573" y="10800"/>
                </a:lnTo>
                <a:lnTo>
                  <a:pt x="8964" y="15870"/>
                </a:lnTo>
                <a:lnTo>
                  <a:pt x="8967" y="15873"/>
                </a:lnTo>
                <a:cubicBezTo>
                  <a:pt x="8887" y="15960"/>
                  <a:pt x="8836" y="16073"/>
                  <a:pt x="8836" y="16200"/>
                </a:cubicBezTo>
                <a:cubicBezTo>
                  <a:pt x="8836" y="16471"/>
                  <a:pt x="9056" y="16691"/>
                  <a:pt x="9327" y="16691"/>
                </a:cubicBezTo>
                <a:cubicBezTo>
                  <a:pt x="9471" y="16691"/>
                  <a:pt x="9598" y="16627"/>
                  <a:pt x="9688" y="16527"/>
                </a:cubicBezTo>
                <a:lnTo>
                  <a:pt x="9691" y="16530"/>
                </a:lnTo>
                <a:lnTo>
                  <a:pt x="14600" y="11130"/>
                </a:lnTo>
                <a:lnTo>
                  <a:pt x="14597" y="11127"/>
                </a:lnTo>
                <a:cubicBezTo>
                  <a:pt x="14676" y="11041"/>
                  <a:pt x="14727" y="10927"/>
                  <a:pt x="14727" y="10800"/>
                </a:cubicBezTo>
                <a:cubicBezTo>
                  <a:pt x="14727" y="10673"/>
                  <a:pt x="14676" y="10559"/>
                  <a:pt x="14597" y="10473"/>
                </a:cubicBezTo>
              </a:path>
            </a:pathLst>
          </a:cu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56" name="TextBox 11"/>
          <p:cNvSpPr/>
          <p:nvPr/>
        </p:nvSpPr>
        <p:spPr>
          <a:xfrm>
            <a:off x="2340000" y="3225960"/>
            <a:ext cx="512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Photographs by </a:t>
            </a:r>
            <a:r>
              <a:rPr b="0" lang="en-US" sz="1600" spc="-1" strike="noStrike" u="sng">
                <a:solidFill>
                  <a:srgbClr val="f33b48"/>
                </a:solidFill>
                <a:uFillTx/>
                <a:latin typeface="Nixie One"/>
                <a:ea typeface="Nixie One"/>
                <a:hlinkClick r:id="rId2"/>
              </a:rPr>
              <a:t>pexels.com</a:t>
            </a:r>
            <a:r>
              <a:rPr b="0" lang="en-US" sz="1600" spc="-1" strike="noStrike" u="sng">
                <a:solidFill>
                  <a:srgbClr val="494949"/>
                </a:solidFill>
                <a:uFillTx/>
                <a:latin typeface="Nixie One"/>
                <a:ea typeface="Nixie One"/>
              </a:rPr>
              <a:t> and </a:t>
            </a:r>
            <a:r>
              <a:rPr b="0" lang="en-US" sz="1600" spc="-1" strike="noStrike" u="sng">
                <a:solidFill>
                  <a:srgbClr val="f33b48"/>
                </a:solidFill>
                <a:uFillTx/>
                <a:latin typeface="Nixie One"/>
                <a:ea typeface="Nixie One"/>
                <a:hlinkClick r:id="rId3"/>
              </a:rPr>
              <a:t>unsplash.com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57" name="Shape 2916"/>
          <p:cNvSpPr/>
          <p:nvPr/>
        </p:nvSpPr>
        <p:spPr>
          <a:xfrm>
            <a:off x="2076480" y="3340080"/>
            <a:ext cx="162000" cy="13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19636"/>
                </a:moveTo>
                <a:cubicBezTo>
                  <a:pt x="20618" y="20178"/>
                  <a:pt x="20178" y="20618"/>
                  <a:pt x="19636" y="20618"/>
                </a:cubicBezTo>
                <a:lnTo>
                  <a:pt x="1964" y="20618"/>
                </a:lnTo>
                <a:cubicBezTo>
                  <a:pt x="1422" y="20618"/>
                  <a:pt x="982" y="20178"/>
                  <a:pt x="982" y="19636"/>
                </a:cubicBezTo>
                <a:lnTo>
                  <a:pt x="982" y="1964"/>
                </a:lnTo>
                <a:cubicBezTo>
                  <a:pt x="982" y="1422"/>
                  <a:pt x="1422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14597" y="10473"/>
                </a:moveTo>
                <a:lnTo>
                  <a:pt x="14600" y="10470"/>
                </a:lnTo>
                <a:lnTo>
                  <a:pt x="9691" y="5070"/>
                </a:lnTo>
                <a:lnTo>
                  <a:pt x="9688" y="5073"/>
                </a:lnTo>
                <a:cubicBezTo>
                  <a:pt x="9598" y="4974"/>
                  <a:pt x="9471" y="4909"/>
                  <a:pt x="9327" y="4909"/>
                </a:cubicBezTo>
                <a:cubicBezTo>
                  <a:pt x="9056" y="4909"/>
                  <a:pt x="8836" y="5129"/>
                  <a:pt x="8836" y="5400"/>
                </a:cubicBezTo>
                <a:cubicBezTo>
                  <a:pt x="8836" y="5527"/>
                  <a:pt x="8887" y="5641"/>
                  <a:pt x="8967" y="5728"/>
                </a:cubicBezTo>
                <a:lnTo>
                  <a:pt x="8964" y="5730"/>
                </a:lnTo>
                <a:lnTo>
                  <a:pt x="13573" y="10800"/>
                </a:lnTo>
                <a:lnTo>
                  <a:pt x="8964" y="15870"/>
                </a:lnTo>
                <a:lnTo>
                  <a:pt x="8967" y="15873"/>
                </a:lnTo>
                <a:cubicBezTo>
                  <a:pt x="8887" y="15960"/>
                  <a:pt x="8836" y="16073"/>
                  <a:pt x="8836" y="16200"/>
                </a:cubicBezTo>
                <a:cubicBezTo>
                  <a:pt x="8836" y="16471"/>
                  <a:pt x="9056" y="16691"/>
                  <a:pt x="9327" y="16691"/>
                </a:cubicBezTo>
                <a:cubicBezTo>
                  <a:pt x="9471" y="16691"/>
                  <a:pt x="9598" y="16627"/>
                  <a:pt x="9688" y="16527"/>
                </a:cubicBezTo>
                <a:lnTo>
                  <a:pt x="9691" y="16530"/>
                </a:lnTo>
                <a:lnTo>
                  <a:pt x="14600" y="11130"/>
                </a:lnTo>
                <a:lnTo>
                  <a:pt x="14597" y="11127"/>
                </a:lnTo>
                <a:cubicBezTo>
                  <a:pt x="14676" y="11041"/>
                  <a:pt x="14727" y="10927"/>
                  <a:pt x="14727" y="10800"/>
                </a:cubicBezTo>
                <a:cubicBezTo>
                  <a:pt x="14727" y="10673"/>
                  <a:pt x="14676" y="10559"/>
                  <a:pt x="14597" y="10473"/>
                </a:cubicBezTo>
              </a:path>
            </a:pathLst>
          </a:cu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58" name="TextBox 14"/>
          <p:cNvSpPr/>
          <p:nvPr/>
        </p:nvSpPr>
        <p:spPr>
          <a:xfrm>
            <a:off x="1947960" y="1862280"/>
            <a:ext cx="46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Special thanks to all people who made and share these awesome resources for free: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59" name="TextBox 15"/>
          <p:cNvSpPr/>
          <p:nvPr/>
        </p:nvSpPr>
        <p:spPr>
          <a:xfrm>
            <a:off x="1950120" y="1084320"/>
            <a:ext cx="1762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Credits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7"/>
          <p:cNvSpPr/>
          <p:nvPr/>
        </p:nvSpPr>
        <p:spPr>
          <a:xfrm>
            <a:off x="1551600" y="1519200"/>
            <a:ext cx="604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This presentation uses the following typographies and colors: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61" name="TextBox 9"/>
          <p:cNvSpPr/>
          <p:nvPr/>
        </p:nvSpPr>
        <p:spPr>
          <a:xfrm>
            <a:off x="3827160" y="32418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800" spc="-1" strike="noStrike">
                <a:solidFill>
                  <a:srgbClr val="494949"/>
                </a:solidFill>
                <a:latin typeface="Nunito Bold"/>
                <a:ea typeface="Nunito Bold"/>
              </a:rPr>
              <a:t>Colors used</a:t>
            </a:r>
            <a:endParaRPr b="0" lang="en-US" sz="18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62" name="Rectangle 1"/>
          <p:cNvSpPr/>
          <p:nvPr/>
        </p:nvSpPr>
        <p:spPr>
          <a:xfrm>
            <a:off x="5378400" y="3701880"/>
            <a:ext cx="327240" cy="343080"/>
          </a:xfrm>
          <a:prstGeom prst="rect">
            <a:avLst/>
          </a:prstGeom>
          <a:solidFill>
            <a:srgbClr val="82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63" name="Rectangle 6"/>
          <p:cNvSpPr/>
          <p:nvPr/>
        </p:nvSpPr>
        <p:spPr>
          <a:xfrm>
            <a:off x="4408560" y="3701880"/>
            <a:ext cx="326880" cy="343080"/>
          </a:xfrm>
          <a:prstGeom prst="rect">
            <a:avLst/>
          </a:prstGeom>
          <a:solidFill>
            <a:srgbClr val="9c5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64" name="Rectangle 8"/>
          <p:cNvSpPr/>
          <p:nvPr/>
        </p:nvSpPr>
        <p:spPr>
          <a:xfrm>
            <a:off x="3924360" y="3701880"/>
            <a:ext cx="325440" cy="343080"/>
          </a:xfrm>
          <a:prstGeom prst="rect">
            <a:avLst/>
          </a:prstGeom>
          <a:solidFill>
            <a:srgbClr val="f32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65" name="Rectangle 10"/>
          <p:cNvSpPr/>
          <p:nvPr/>
        </p:nvSpPr>
        <p:spPr>
          <a:xfrm>
            <a:off x="3438360" y="3701880"/>
            <a:ext cx="325440" cy="343080"/>
          </a:xfrm>
          <a:prstGeom prst="rect">
            <a:avLst/>
          </a:pr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66" name="Rectangle 11"/>
          <p:cNvSpPr/>
          <p:nvPr/>
        </p:nvSpPr>
        <p:spPr>
          <a:xfrm>
            <a:off x="4894200" y="3701880"/>
            <a:ext cx="325440" cy="343080"/>
          </a:xfrm>
          <a:prstGeom prst="rect">
            <a:avLst/>
          </a:prstGeom>
          <a:solidFill>
            <a:srgbClr val="d2da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67" name="TextBox 12"/>
          <p:cNvSpPr/>
          <p:nvPr/>
        </p:nvSpPr>
        <p:spPr>
          <a:xfrm>
            <a:off x="993600" y="2211480"/>
            <a:ext cx="65120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800" spc="-1" strike="noStrike">
                <a:solidFill>
                  <a:srgbClr val="494949"/>
                </a:solidFill>
                <a:latin typeface="Nunito Bold"/>
                <a:ea typeface="Nunito Bold"/>
              </a:rPr>
              <a:t>Free Fonts used:</a:t>
            </a:r>
            <a:endParaRPr b="0" lang="en-US" sz="18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Nixie One"/>
                <a:ea typeface="Nixie One"/>
              </a:rPr>
              <a:t>https://www.fontsquirrel.com/fonts/Nixie-One</a:t>
            </a:r>
            <a:endParaRPr b="0" lang="en-US" sz="1400" spc="-1" strike="noStrike">
              <a:solidFill>
                <a:srgbClr val="b4b4b4"/>
              </a:solidFill>
              <a:latin typeface="Calibri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Nixie One"/>
                <a:ea typeface="Nixie One"/>
              </a:rPr>
              <a:t>https://www.fontsquirrel.com/fonts/nunito</a:t>
            </a:r>
            <a:endParaRPr b="0" lang="en-US" sz="14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868" name="TextBox 17"/>
          <p:cNvSpPr/>
          <p:nvPr/>
        </p:nvSpPr>
        <p:spPr>
          <a:xfrm>
            <a:off x="3197880" y="5745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494949"/>
                </a:solidFill>
                <a:latin typeface="Nunito Bold"/>
                <a:ea typeface="Nunito Bold"/>
              </a:rPr>
              <a:t>Presentation Design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Oval 774"/>
          <p:cNvSpPr/>
          <p:nvPr/>
        </p:nvSpPr>
        <p:spPr>
          <a:xfrm>
            <a:off x="641520" y="1042920"/>
            <a:ext cx="1730160" cy="1728720"/>
          </a:xfrm>
          <a:prstGeom prst="ellipse">
            <a:avLst/>
          </a:prstGeom>
          <a:solidFill>
            <a:srgbClr val="9c5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699" name="TextBox 9"/>
          <p:cNvSpPr/>
          <p:nvPr/>
        </p:nvSpPr>
        <p:spPr>
          <a:xfrm>
            <a:off x="873360" y="3630600"/>
            <a:ext cx="24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494949"/>
                </a:solidFill>
                <a:latin typeface="Nunito"/>
                <a:ea typeface="Nunito"/>
              </a:rPr>
              <a:t>Build better presentations in less time</a:t>
            </a:r>
            <a:endParaRPr b="0" lang="en-US" sz="10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859680" y="3011400"/>
            <a:ext cx="44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494949"/>
                </a:solidFill>
                <a:latin typeface="Nunito Bold"/>
                <a:ea typeface="Nunito Bold"/>
              </a:rPr>
              <a:t>TRANSITION SLIDE</a:t>
            </a:r>
            <a:endParaRPr b="0" lang="en-US" sz="3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01" name="TextBox 772"/>
          <p:cNvSpPr/>
          <p:nvPr/>
        </p:nvSpPr>
        <p:spPr>
          <a:xfrm>
            <a:off x="1061280" y="1146240"/>
            <a:ext cx="906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Nunito Black"/>
                <a:ea typeface="Nunito Black"/>
              </a:rPr>
              <a:t>1</a:t>
            </a:r>
            <a:endParaRPr b="0" lang="en-US" sz="100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3008160" y="1182600"/>
            <a:ext cx="6135840" cy="2765520"/>
          </a:xfrm>
          <a:prstGeom prst="rect">
            <a:avLst/>
          </a:prstGeom>
          <a:solidFill>
            <a:srgbClr val="82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03" name="TextBox 35"/>
          <p:cNvSpPr/>
          <p:nvPr/>
        </p:nvSpPr>
        <p:spPr>
          <a:xfrm>
            <a:off x="4572000" y="2143080"/>
            <a:ext cx="380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unito Bold"/>
                <a:ea typeface="Nunito Bold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Nunito Bold"/>
                <a:ea typeface="Nunito Bold"/>
              </a:rPr>
              <a:t>A person who never made a mistake never tried anything new”</a:t>
            </a:r>
            <a:endParaRPr b="0" lang="en-US" sz="22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7378560" y="1270080"/>
            <a:ext cx="1279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Nunito Bold"/>
                <a:ea typeface="Nunito Bold"/>
              </a:rPr>
              <a:t>“</a:t>
            </a:r>
            <a:endParaRPr b="0" lang="en-US" sz="100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7"/>
          <p:cNvSpPr/>
          <p:nvPr/>
        </p:nvSpPr>
        <p:spPr>
          <a:xfrm>
            <a:off x="1312920" y="2287440"/>
            <a:ext cx="55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More about your project. Statistics, analysis and content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06" name="Shape 2540"/>
          <p:cNvSpPr/>
          <p:nvPr/>
        </p:nvSpPr>
        <p:spPr>
          <a:xfrm>
            <a:off x="750960" y="2359080"/>
            <a:ext cx="209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32" y="6661"/>
                </a:moveTo>
                <a:cubicBezTo>
                  <a:pt x="20540" y="6471"/>
                  <a:pt x="20228" y="6473"/>
                  <a:pt x="20038" y="6667"/>
                </a:cubicBezTo>
                <a:cubicBezTo>
                  <a:pt x="19903" y="6804"/>
                  <a:pt x="19870" y="7000"/>
                  <a:pt x="19929" y="7171"/>
                </a:cubicBezTo>
                <a:lnTo>
                  <a:pt x="19918" y="7175"/>
                </a:lnTo>
                <a:cubicBezTo>
                  <a:pt x="20365" y="8298"/>
                  <a:pt x="20618" y="9518"/>
                  <a:pt x="20618" y="10800"/>
                </a:cubicBezTo>
                <a:cubicBezTo>
                  <a:pt x="20618" y="16223"/>
                  <a:pt x="16223" y="20618"/>
                  <a:pt x="10800" y="20618"/>
                </a:cubicBezTo>
                <a:cubicBezTo>
                  <a:pt x="5378" y="20618"/>
                  <a:pt x="982" y="16223"/>
                  <a:pt x="982" y="10800"/>
                </a:cubicBezTo>
                <a:cubicBezTo>
                  <a:pt x="982" y="5377"/>
                  <a:pt x="5378" y="982"/>
                  <a:pt x="10800" y="982"/>
                </a:cubicBezTo>
                <a:cubicBezTo>
                  <a:pt x="13575" y="982"/>
                  <a:pt x="16077" y="2136"/>
                  <a:pt x="17862" y="3989"/>
                </a:cubicBezTo>
                <a:lnTo>
                  <a:pt x="17868" y="3982"/>
                </a:lnTo>
                <a:cubicBezTo>
                  <a:pt x="18062" y="4157"/>
                  <a:pt x="18359" y="4153"/>
                  <a:pt x="18544" y="3965"/>
                </a:cubicBezTo>
                <a:cubicBezTo>
                  <a:pt x="18734" y="3771"/>
                  <a:pt x="18732" y="3461"/>
                  <a:pt x="18539" y="3270"/>
                </a:cubicBezTo>
                <a:cubicBezTo>
                  <a:pt x="18520" y="3252"/>
                  <a:pt x="18496" y="3244"/>
                  <a:pt x="18476" y="3230"/>
                </a:cubicBezTo>
                <a:cubicBezTo>
                  <a:pt x="16521" y="1241"/>
                  <a:pt x="13810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5" y="21600"/>
                  <a:pt x="21600" y="16764"/>
                  <a:pt x="21600" y="10800"/>
                </a:cubicBezTo>
                <a:cubicBezTo>
                  <a:pt x="21600" y="9412"/>
                  <a:pt x="21329" y="8089"/>
                  <a:pt x="20851" y="6869"/>
                </a:cubicBezTo>
                <a:cubicBezTo>
                  <a:pt x="20828" y="6794"/>
                  <a:pt x="20793" y="6721"/>
                  <a:pt x="20732" y="6661"/>
                </a:cubicBezTo>
                <a:moveTo>
                  <a:pt x="10792" y="13534"/>
                </a:moveTo>
                <a:lnTo>
                  <a:pt x="6238" y="8980"/>
                </a:lnTo>
                <a:cubicBezTo>
                  <a:pt x="6149" y="8891"/>
                  <a:pt x="6027" y="8836"/>
                  <a:pt x="5891" y="8836"/>
                </a:cubicBezTo>
                <a:cubicBezTo>
                  <a:pt x="5620" y="8836"/>
                  <a:pt x="5400" y="9056"/>
                  <a:pt x="5400" y="9327"/>
                </a:cubicBezTo>
                <a:cubicBezTo>
                  <a:pt x="5400" y="9463"/>
                  <a:pt x="5455" y="9585"/>
                  <a:pt x="5544" y="9675"/>
                </a:cubicBezTo>
                <a:lnTo>
                  <a:pt x="10453" y="14583"/>
                </a:lnTo>
                <a:cubicBezTo>
                  <a:pt x="10542" y="14672"/>
                  <a:pt x="10664" y="14727"/>
                  <a:pt x="10800" y="14727"/>
                </a:cubicBezTo>
                <a:cubicBezTo>
                  <a:pt x="10940" y="14727"/>
                  <a:pt x="11064" y="14668"/>
                  <a:pt x="11154" y="14574"/>
                </a:cubicBezTo>
                <a:lnTo>
                  <a:pt x="11155" y="14576"/>
                </a:lnTo>
                <a:lnTo>
                  <a:pt x="19353" y="5988"/>
                </a:lnTo>
                <a:cubicBezTo>
                  <a:pt x="19353" y="5989"/>
                  <a:pt x="19354" y="5990"/>
                  <a:pt x="19354" y="5991"/>
                </a:cubicBezTo>
                <a:lnTo>
                  <a:pt x="20055" y="5255"/>
                </a:lnTo>
                <a:cubicBezTo>
                  <a:pt x="20055" y="5255"/>
                  <a:pt x="20054" y="5254"/>
                  <a:pt x="20054" y="5253"/>
                </a:cubicBezTo>
                <a:lnTo>
                  <a:pt x="21464" y="3775"/>
                </a:lnTo>
                <a:lnTo>
                  <a:pt x="21463" y="3774"/>
                </a:lnTo>
                <a:cubicBezTo>
                  <a:pt x="21547" y="3686"/>
                  <a:pt x="21600" y="3567"/>
                  <a:pt x="21600" y="3436"/>
                </a:cubicBezTo>
                <a:cubicBezTo>
                  <a:pt x="21600" y="3166"/>
                  <a:pt x="21380" y="2945"/>
                  <a:pt x="21109" y="2945"/>
                </a:cubicBezTo>
                <a:cubicBezTo>
                  <a:pt x="20969" y="2945"/>
                  <a:pt x="20844" y="3005"/>
                  <a:pt x="20755" y="3099"/>
                </a:cubicBezTo>
                <a:lnTo>
                  <a:pt x="20754" y="3097"/>
                </a:lnTo>
                <a:lnTo>
                  <a:pt x="19493" y="4419"/>
                </a:lnTo>
                <a:cubicBezTo>
                  <a:pt x="19492" y="4418"/>
                  <a:pt x="19491" y="4416"/>
                  <a:pt x="19490" y="4415"/>
                </a:cubicBezTo>
                <a:lnTo>
                  <a:pt x="18805" y="5133"/>
                </a:lnTo>
                <a:cubicBezTo>
                  <a:pt x="18806" y="5134"/>
                  <a:pt x="18807" y="5136"/>
                  <a:pt x="18807" y="5137"/>
                </a:cubicBezTo>
                <a:cubicBezTo>
                  <a:pt x="18807" y="5137"/>
                  <a:pt x="10792" y="13534"/>
                  <a:pt x="10792" y="13534"/>
                </a:cubicBezTo>
                <a:close/>
              </a:path>
            </a:pathLst>
          </a:cu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07" name="TextBox 9"/>
          <p:cNvSpPr/>
          <p:nvPr/>
        </p:nvSpPr>
        <p:spPr>
          <a:xfrm>
            <a:off x="1283760" y="1568520"/>
            <a:ext cx="49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Write here a list of features, textboxes easy to edit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08" name="Shape 2540"/>
          <p:cNvSpPr/>
          <p:nvPr/>
        </p:nvSpPr>
        <p:spPr>
          <a:xfrm>
            <a:off x="750960" y="1638360"/>
            <a:ext cx="209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32" y="6661"/>
                </a:moveTo>
                <a:cubicBezTo>
                  <a:pt x="20540" y="6471"/>
                  <a:pt x="20228" y="6473"/>
                  <a:pt x="20038" y="6667"/>
                </a:cubicBezTo>
                <a:cubicBezTo>
                  <a:pt x="19903" y="6804"/>
                  <a:pt x="19870" y="7000"/>
                  <a:pt x="19929" y="7171"/>
                </a:cubicBezTo>
                <a:lnTo>
                  <a:pt x="19918" y="7175"/>
                </a:lnTo>
                <a:cubicBezTo>
                  <a:pt x="20365" y="8298"/>
                  <a:pt x="20618" y="9518"/>
                  <a:pt x="20618" y="10800"/>
                </a:cubicBezTo>
                <a:cubicBezTo>
                  <a:pt x="20618" y="16223"/>
                  <a:pt x="16223" y="20618"/>
                  <a:pt x="10800" y="20618"/>
                </a:cubicBezTo>
                <a:cubicBezTo>
                  <a:pt x="5378" y="20618"/>
                  <a:pt x="982" y="16223"/>
                  <a:pt x="982" y="10800"/>
                </a:cubicBezTo>
                <a:cubicBezTo>
                  <a:pt x="982" y="5377"/>
                  <a:pt x="5378" y="982"/>
                  <a:pt x="10800" y="982"/>
                </a:cubicBezTo>
                <a:cubicBezTo>
                  <a:pt x="13575" y="982"/>
                  <a:pt x="16077" y="2136"/>
                  <a:pt x="17862" y="3989"/>
                </a:cubicBezTo>
                <a:lnTo>
                  <a:pt x="17868" y="3982"/>
                </a:lnTo>
                <a:cubicBezTo>
                  <a:pt x="18062" y="4157"/>
                  <a:pt x="18359" y="4153"/>
                  <a:pt x="18544" y="3965"/>
                </a:cubicBezTo>
                <a:cubicBezTo>
                  <a:pt x="18734" y="3771"/>
                  <a:pt x="18732" y="3461"/>
                  <a:pt x="18539" y="3270"/>
                </a:cubicBezTo>
                <a:cubicBezTo>
                  <a:pt x="18520" y="3252"/>
                  <a:pt x="18496" y="3244"/>
                  <a:pt x="18476" y="3230"/>
                </a:cubicBezTo>
                <a:cubicBezTo>
                  <a:pt x="16521" y="1241"/>
                  <a:pt x="13810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5" y="21600"/>
                  <a:pt x="21600" y="16764"/>
                  <a:pt x="21600" y="10800"/>
                </a:cubicBezTo>
                <a:cubicBezTo>
                  <a:pt x="21600" y="9412"/>
                  <a:pt x="21329" y="8089"/>
                  <a:pt x="20851" y="6869"/>
                </a:cubicBezTo>
                <a:cubicBezTo>
                  <a:pt x="20828" y="6794"/>
                  <a:pt x="20793" y="6721"/>
                  <a:pt x="20732" y="6661"/>
                </a:cubicBezTo>
                <a:moveTo>
                  <a:pt x="10792" y="13534"/>
                </a:moveTo>
                <a:lnTo>
                  <a:pt x="6238" y="8980"/>
                </a:lnTo>
                <a:cubicBezTo>
                  <a:pt x="6149" y="8891"/>
                  <a:pt x="6027" y="8836"/>
                  <a:pt x="5891" y="8836"/>
                </a:cubicBezTo>
                <a:cubicBezTo>
                  <a:pt x="5620" y="8836"/>
                  <a:pt x="5400" y="9056"/>
                  <a:pt x="5400" y="9327"/>
                </a:cubicBezTo>
                <a:cubicBezTo>
                  <a:pt x="5400" y="9463"/>
                  <a:pt x="5455" y="9585"/>
                  <a:pt x="5544" y="9675"/>
                </a:cubicBezTo>
                <a:lnTo>
                  <a:pt x="10453" y="14583"/>
                </a:lnTo>
                <a:cubicBezTo>
                  <a:pt x="10542" y="14672"/>
                  <a:pt x="10664" y="14727"/>
                  <a:pt x="10800" y="14727"/>
                </a:cubicBezTo>
                <a:cubicBezTo>
                  <a:pt x="10940" y="14727"/>
                  <a:pt x="11064" y="14668"/>
                  <a:pt x="11154" y="14574"/>
                </a:cubicBezTo>
                <a:lnTo>
                  <a:pt x="11155" y="14576"/>
                </a:lnTo>
                <a:lnTo>
                  <a:pt x="19353" y="5988"/>
                </a:lnTo>
                <a:cubicBezTo>
                  <a:pt x="19353" y="5989"/>
                  <a:pt x="19354" y="5990"/>
                  <a:pt x="19354" y="5991"/>
                </a:cubicBezTo>
                <a:lnTo>
                  <a:pt x="20055" y="5255"/>
                </a:lnTo>
                <a:cubicBezTo>
                  <a:pt x="20055" y="5255"/>
                  <a:pt x="20054" y="5254"/>
                  <a:pt x="20054" y="5253"/>
                </a:cubicBezTo>
                <a:lnTo>
                  <a:pt x="21464" y="3775"/>
                </a:lnTo>
                <a:lnTo>
                  <a:pt x="21463" y="3774"/>
                </a:lnTo>
                <a:cubicBezTo>
                  <a:pt x="21547" y="3686"/>
                  <a:pt x="21600" y="3567"/>
                  <a:pt x="21600" y="3436"/>
                </a:cubicBezTo>
                <a:cubicBezTo>
                  <a:pt x="21600" y="3166"/>
                  <a:pt x="21380" y="2945"/>
                  <a:pt x="21109" y="2945"/>
                </a:cubicBezTo>
                <a:cubicBezTo>
                  <a:pt x="20969" y="2945"/>
                  <a:pt x="20844" y="3005"/>
                  <a:pt x="20755" y="3099"/>
                </a:cubicBezTo>
                <a:lnTo>
                  <a:pt x="20754" y="3097"/>
                </a:lnTo>
                <a:lnTo>
                  <a:pt x="19493" y="4419"/>
                </a:lnTo>
                <a:cubicBezTo>
                  <a:pt x="19492" y="4418"/>
                  <a:pt x="19491" y="4416"/>
                  <a:pt x="19490" y="4415"/>
                </a:cubicBezTo>
                <a:lnTo>
                  <a:pt x="18805" y="5133"/>
                </a:lnTo>
                <a:cubicBezTo>
                  <a:pt x="18806" y="5134"/>
                  <a:pt x="18807" y="5136"/>
                  <a:pt x="18807" y="5137"/>
                </a:cubicBezTo>
                <a:cubicBezTo>
                  <a:pt x="18807" y="5137"/>
                  <a:pt x="10792" y="13534"/>
                  <a:pt x="10792" y="13534"/>
                </a:cubicBezTo>
                <a:close/>
              </a:path>
            </a:pathLst>
          </a:cu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09" name="TextBox 11"/>
          <p:cNvSpPr/>
          <p:nvPr/>
        </p:nvSpPr>
        <p:spPr>
          <a:xfrm>
            <a:off x="1183320" y="192888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Here you can write more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10" name="Shape 2540"/>
          <p:cNvSpPr/>
          <p:nvPr/>
        </p:nvSpPr>
        <p:spPr>
          <a:xfrm>
            <a:off x="750960" y="1998720"/>
            <a:ext cx="209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32" y="6661"/>
                </a:moveTo>
                <a:cubicBezTo>
                  <a:pt x="20540" y="6471"/>
                  <a:pt x="20228" y="6473"/>
                  <a:pt x="20038" y="6667"/>
                </a:cubicBezTo>
                <a:cubicBezTo>
                  <a:pt x="19903" y="6804"/>
                  <a:pt x="19870" y="7000"/>
                  <a:pt x="19929" y="7171"/>
                </a:cubicBezTo>
                <a:lnTo>
                  <a:pt x="19918" y="7175"/>
                </a:lnTo>
                <a:cubicBezTo>
                  <a:pt x="20365" y="8298"/>
                  <a:pt x="20618" y="9518"/>
                  <a:pt x="20618" y="10800"/>
                </a:cubicBezTo>
                <a:cubicBezTo>
                  <a:pt x="20618" y="16223"/>
                  <a:pt x="16223" y="20618"/>
                  <a:pt x="10800" y="20618"/>
                </a:cubicBezTo>
                <a:cubicBezTo>
                  <a:pt x="5378" y="20618"/>
                  <a:pt x="982" y="16223"/>
                  <a:pt x="982" y="10800"/>
                </a:cubicBezTo>
                <a:cubicBezTo>
                  <a:pt x="982" y="5377"/>
                  <a:pt x="5378" y="982"/>
                  <a:pt x="10800" y="982"/>
                </a:cubicBezTo>
                <a:cubicBezTo>
                  <a:pt x="13575" y="982"/>
                  <a:pt x="16077" y="2136"/>
                  <a:pt x="17862" y="3989"/>
                </a:cubicBezTo>
                <a:lnTo>
                  <a:pt x="17868" y="3982"/>
                </a:lnTo>
                <a:cubicBezTo>
                  <a:pt x="18062" y="4157"/>
                  <a:pt x="18359" y="4153"/>
                  <a:pt x="18544" y="3965"/>
                </a:cubicBezTo>
                <a:cubicBezTo>
                  <a:pt x="18734" y="3771"/>
                  <a:pt x="18732" y="3461"/>
                  <a:pt x="18539" y="3270"/>
                </a:cubicBezTo>
                <a:cubicBezTo>
                  <a:pt x="18520" y="3252"/>
                  <a:pt x="18496" y="3244"/>
                  <a:pt x="18476" y="3230"/>
                </a:cubicBezTo>
                <a:cubicBezTo>
                  <a:pt x="16521" y="1241"/>
                  <a:pt x="13810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5" y="21600"/>
                  <a:pt x="21600" y="16764"/>
                  <a:pt x="21600" y="10800"/>
                </a:cubicBezTo>
                <a:cubicBezTo>
                  <a:pt x="21600" y="9412"/>
                  <a:pt x="21329" y="8089"/>
                  <a:pt x="20851" y="6869"/>
                </a:cubicBezTo>
                <a:cubicBezTo>
                  <a:pt x="20828" y="6794"/>
                  <a:pt x="20793" y="6721"/>
                  <a:pt x="20732" y="6661"/>
                </a:cubicBezTo>
                <a:moveTo>
                  <a:pt x="10792" y="13534"/>
                </a:moveTo>
                <a:lnTo>
                  <a:pt x="6238" y="8980"/>
                </a:lnTo>
                <a:cubicBezTo>
                  <a:pt x="6149" y="8891"/>
                  <a:pt x="6027" y="8836"/>
                  <a:pt x="5891" y="8836"/>
                </a:cubicBezTo>
                <a:cubicBezTo>
                  <a:pt x="5620" y="8836"/>
                  <a:pt x="5400" y="9056"/>
                  <a:pt x="5400" y="9327"/>
                </a:cubicBezTo>
                <a:cubicBezTo>
                  <a:pt x="5400" y="9463"/>
                  <a:pt x="5455" y="9585"/>
                  <a:pt x="5544" y="9675"/>
                </a:cubicBezTo>
                <a:lnTo>
                  <a:pt x="10453" y="14583"/>
                </a:lnTo>
                <a:cubicBezTo>
                  <a:pt x="10542" y="14672"/>
                  <a:pt x="10664" y="14727"/>
                  <a:pt x="10800" y="14727"/>
                </a:cubicBezTo>
                <a:cubicBezTo>
                  <a:pt x="10940" y="14727"/>
                  <a:pt x="11064" y="14668"/>
                  <a:pt x="11154" y="14574"/>
                </a:cubicBezTo>
                <a:lnTo>
                  <a:pt x="11155" y="14576"/>
                </a:lnTo>
                <a:lnTo>
                  <a:pt x="19353" y="5988"/>
                </a:lnTo>
                <a:cubicBezTo>
                  <a:pt x="19353" y="5989"/>
                  <a:pt x="19354" y="5990"/>
                  <a:pt x="19354" y="5991"/>
                </a:cubicBezTo>
                <a:lnTo>
                  <a:pt x="20055" y="5255"/>
                </a:lnTo>
                <a:cubicBezTo>
                  <a:pt x="20055" y="5255"/>
                  <a:pt x="20054" y="5254"/>
                  <a:pt x="20054" y="5253"/>
                </a:cubicBezTo>
                <a:lnTo>
                  <a:pt x="21464" y="3775"/>
                </a:lnTo>
                <a:lnTo>
                  <a:pt x="21463" y="3774"/>
                </a:lnTo>
                <a:cubicBezTo>
                  <a:pt x="21547" y="3686"/>
                  <a:pt x="21600" y="3567"/>
                  <a:pt x="21600" y="3436"/>
                </a:cubicBezTo>
                <a:cubicBezTo>
                  <a:pt x="21600" y="3166"/>
                  <a:pt x="21380" y="2945"/>
                  <a:pt x="21109" y="2945"/>
                </a:cubicBezTo>
                <a:cubicBezTo>
                  <a:pt x="20969" y="2945"/>
                  <a:pt x="20844" y="3005"/>
                  <a:pt x="20755" y="3099"/>
                </a:cubicBezTo>
                <a:lnTo>
                  <a:pt x="20754" y="3097"/>
                </a:lnTo>
                <a:lnTo>
                  <a:pt x="19493" y="4419"/>
                </a:lnTo>
                <a:cubicBezTo>
                  <a:pt x="19492" y="4418"/>
                  <a:pt x="19491" y="4416"/>
                  <a:pt x="19490" y="4415"/>
                </a:cubicBezTo>
                <a:lnTo>
                  <a:pt x="18805" y="5133"/>
                </a:lnTo>
                <a:cubicBezTo>
                  <a:pt x="18806" y="5134"/>
                  <a:pt x="18807" y="5136"/>
                  <a:pt x="18807" y="5137"/>
                </a:cubicBezTo>
                <a:cubicBezTo>
                  <a:pt x="18807" y="5137"/>
                  <a:pt x="10792" y="13534"/>
                  <a:pt x="10792" y="13534"/>
                </a:cubicBezTo>
                <a:close/>
              </a:path>
            </a:pathLst>
          </a:cu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641520" y="3220920"/>
            <a:ext cx="63309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Content itself is what the end-user derives value from also can refer to the information provided through the medium, the way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12" name="TextBox 14"/>
          <p:cNvSpPr/>
          <p:nvPr/>
        </p:nvSpPr>
        <p:spPr>
          <a:xfrm>
            <a:off x="675720" y="782640"/>
            <a:ext cx="3509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Your Slide Title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0"/>
          <p:cNvSpPr/>
          <p:nvPr/>
        </p:nvSpPr>
        <p:spPr>
          <a:xfrm>
            <a:off x="1716120" y="2838600"/>
            <a:ext cx="56181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The marketing mix is a business tool used in marketing and by marketers, originally can be used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14" name="TextBox 11"/>
          <p:cNvSpPr/>
          <p:nvPr/>
        </p:nvSpPr>
        <p:spPr>
          <a:xfrm>
            <a:off x="1687680" y="1660680"/>
            <a:ext cx="4077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6500" spc="-1" strike="noStrike">
                <a:solidFill>
                  <a:srgbClr val="9c5280"/>
                </a:solidFill>
                <a:latin typeface="Nunito Bold"/>
                <a:ea typeface="Nunito Bold"/>
              </a:rPr>
              <a:t>BIG TITLE</a:t>
            </a:r>
            <a:endParaRPr b="0" lang="en-US" sz="65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15" name="Freeform 47"/>
          <p:cNvSpPr/>
          <p:nvPr/>
        </p:nvSpPr>
        <p:spPr>
          <a:xfrm rot="21396600">
            <a:off x="6416280" y="1120320"/>
            <a:ext cx="1290600" cy="1289160"/>
          </a:xfrm>
          <a:custGeom>
            <a:avLst/>
            <a:gdLst/>
            <a:ahLst/>
            <a:rect l="l" t="t" r="r" b="b"/>
            <a:pathLst>
              <a:path w="2660" h="2661">
                <a:moveTo>
                  <a:pt x="2399" y="595"/>
                </a:moveTo>
                <a:lnTo>
                  <a:pt x="2399" y="595"/>
                </a:lnTo>
                <a:cubicBezTo>
                  <a:pt x="2372" y="610"/>
                  <a:pt x="2345" y="623"/>
                  <a:pt x="2316" y="635"/>
                </a:cubicBezTo>
                <a:lnTo>
                  <a:pt x="2316" y="635"/>
                </a:lnTo>
                <a:cubicBezTo>
                  <a:pt x="2309" y="638"/>
                  <a:pt x="2291" y="640"/>
                  <a:pt x="2276" y="628"/>
                </a:cubicBezTo>
                <a:lnTo>
                  <a:pt x="2276" y="628"/>
                </a:lnTo>
                <a:cubicBezTo>
                  <a:pt x="2263" y="617"/>
                  <a:pt x="2099" y="451"/>
                  <a:pt x="2038" y="390"/>
                </a:cubicBezTo>
                <a:lnTo>
                  <a:pt x="2038" y="390"/>
                </a:lnTo>
                <a:cubicBezTo>
                  <a:pt x="2024" y="376"/>
                  <a:pt x="2022" y="350"/>
                  <a:pt x="2026" y="341"/>
                </a:cubicBezTo>
                <a:lnTo>
                  <a:pt x="2026" y="341"/>
                </a:lnTo>
                <a:cubicBezTo>
                  <a:pt x="2038" y="313"/>
                  <a:pt x="2052" y="285"/>
                  <a:pt x="2067" y="258"/>
                </a:cubicBezTo>
                <a:lnTo>
                  <a:pt x="2067" y="258"/>
                </a:lnTo>
                <a:cubicBezTo>
                  <a:pt x="2070" y="250"/>
                  <a:pt x="2087" y="244"/>
                  <a:pt x="2099" y="255"/>
                </a:cubicBezTo>
                <a:lnTo>
                  <a:pt x="2099" y="255"/>
                </a:lnTo>
                <a:cubicBezTo>
                  <a:pt x="2166" y="322"/>
                  <a:pt x="2388" y="543"/>
                  <a:pt x="2402" y="558"/>
                </a:cubicBezTo>
                <a:lnTo>
                  <a:pt x="2402" y="558"/>
                </a:lnTo>
                <a:cubicBezTo>
                  <a:pt x="2419" y="577"/>
                  <a:pt x="2408" y="590"/>
                  <a:pt x="2399" y="595"/>
                </a:cubicBezTo>
                <a:close/>
                <a:moveTo>
                  <a:pt x="2133" y="690"/>
                </a:moveTo>
                <a:lnTo>
                  <a:pt x="2133" y="690"/>
                </a:lnTo>
                <a:cubicBezTo>
                  <a:pt x="2087" y="699"/>
                  <a:pt x="2040" y="708"/>
                  <a:pt x="1992" y="713"/>
                </a:cubicBezTo>
                <a:lnTo>
                  <a:pt x="1992" y="713"/>
                </a:lnTo>
                <a:cubicBezTo>
                  <a:pt x="1942" y="720"/>
                  <a:pt x="1939" y="714"/>
                  <a:pt x="1946" y="669"/>
                </a:cubicBezTo>
                <a:lnTo>
                  <a:pt x="1946" y="669"/>
                </a:lnTo>
                <a:cubicBezTo>
                  <a:pt x="1952" y="620"/>
                  <a:pt x="1960" y="573"/>
                  <a:pt x="1969" y="528"/>
                </a:cubicBezTo>
                <a:lnTo>
                  <a:pt x="1969" y="528"/>
                </a:lnTo>
                <a:cubicBezTo>
                  <a:pt x="1971" y="523"/>
                  <a:pt x="1978" y="517"/>
                  <a:pt x="1985" y="526"/>
                </a:cubicBezTo>
                <a:lnTo>
                  <a:pt x="1985" y="526"/>
                </a:lnTo>
                <a:cubicBezTo>
                  <a:pt x="2022" y="562"/>
                  <a:pt x="2131" y="671"/>
                  <a:pt x="2136" y="676"/>
                </a:cubicBezTo>
                <a:lnTo>
                  <a:pt x="2136" y="676"/>
                </a:lnTo>
                <a:cubicBezTo>
                  <a:pt x="2141" y="683"/>
                  <a:pt x="2138" y="689"/>
                  <a:pt x="2133" y="690"/>
                </a:cubicBezTo>
                <a:close/>
                <a:moveTo>
                  <a:pt x="1788" y="908"/>
                </a:moveTo>
                <a:lnTo>
                  <a:pt x="1752" y="871"/>
                </a:lnTo>
                <a:lnTo>
                  <a:pt x="1752" y="871"/>
                </a:lnTo>
                <a:cubicBezTo>
                  <a:pt x="1765" y="870"/>
                  <a:pt x="1779" y="869"/>
                  <a:pt x="1792" y="867"/>
                </a:cubicBezTo>
                <a:lnTo>
                  <a:pt x="1792" y="867"/>
                </a:lnTo>
                <a:cubicBezTo>
                  <a:pt x="1791" y="881"/>
                  <a:pt x="1790" y="894"/>
                  <a:pt x="1788" y="908"/>
                </a:cubicBezTo>
                <a:close/>
                <a:moveTo>
                  <a:pt x="1767" y="1093"/>
                </a:moveTo>
                <a:lnTo>
                  <a:pt x="1767" y="1093"/>
                </a:lnTo>
                <a:cubicBezTo>
                  <a:pt x="1760" y="1139"/>
                  <a:pt x="1754" y="1183"/>
                  <a:pt x="1743" y="1226"/>
                </a:cubicBezTo>
                <a:lnTo>
                  <a:pt x="1743" y="1226"/>
                </a:lnTo>
                <a:cubicBezTo>
                  <a:pt x="1742" y="1233"/>
                  <a:pt x="1737" y="1240"/>
                  <a:pt x="1727" y="1231"/>
                </a:cubicBezTo>
                <a:lnTo>
                  <a:pt x="1727" y="1231"/>
                </a:lnTo>
                <a:cubicBezTo>
                  <a:pt x="1718" y="1222"/>
                  <a:pt x="1440" y="942"/>
                  <a:pt x="1429" y="932"/>
                </a:cubicBezTo>
                <a:lnTo>
                  <a:pt x="1429" y="932"/>
                </a:lnTo>
                <a:cubicBezTo>
                  <a:pt x="1420" y="922"/>
                  <a:pt x="1428" y="918"/>
                  <a:pt x="1433" y="917"/>
                </a:cubicBezTo>
                <a:lnTo>
                  <a:pt x="1433" y="917"/>
                </a:lnTo>
                <a:cubicBezTo>
                  <a:pt x="1474" y="907"/>
                  <a:pt x="1516" y="900"/>
                  <a:pt x="1559" y="893"/>
                </a:cubicBezTo>
                <a:lnTo>
                  <a:pt x="1559" y="893"/>
                </a:lnTo>
                <a:cubicBezTo>
                  <a:pt x="1568" y="892"/>
                  <a:pt x="1579" y="887"/>
                  <a:pt x="1594" y="901"/>
                </a:cubicBezTo>
                <a:lnTo>
                  <a:pt x="1594" y="901"/>
                </a:lnTo>
                <a:cubicBezTo>
                  <a:pt x="1605" y="913"/>
                  <a:pt x="1719" y="1027"/>
                  <a:pt x="1758" y="1066"/>
                </a:cubicBezTo>
                <a:lnTo>
                  <a:pt x="1758" y="1066"/>
                </a:lnTo>
                <a:cubicBezTo>
                  <a:pt x="1765" y="1073"/>
                  <a:pt x="1768" y="1087"/>
                  <a:pt x="1767" y="1093"/>
                </a:cubicBezTo>
                <a:close/>
                <a:moveTo>
                  <a:pt x="1686" y="1404"/>
                </a:moveTo>
                <a:lnTo>
                  <a:pt x="1686" y="1404"/>
                </a:lnTo>
                <a:cubicBezTo>
                  <a:pt x="1671" y="1437"/>
                  <a:pt x="1655" y="1466"/>
                  <a:pt x="1636" y="1496"/>
                </a:cubicBezTo>
                <a:lnTo>
                  <a:pt x="1636" y="1496"/>
                </a:lnTo>
                <a:cubicBezTo>
                  <a:pt x="1633" y="1500"/>
                  <a:pt x="1619" y="1506"/>
                  <a:pt x="1608" y="1495"/>
                </a:cubicBezTo>
                <a:lnTo>
                  <a:pt x="1608" y="1495"/>
                </a:lnTo>
                <a:cubicBezTo>
                  <a:pt x="1596" y="1483"/>
                  <a:pt x="1156" y="1043"/>
                  <a:pt x="1156" y="1043"/>
                </a:cubicBezTo>
                <a:lnTo>
                  <a:pt x="1156" y="1043"/>
                </a:lnTo>
                <a:cubicBezTo>
                  <a:pt x="1152" y="1039"/>
                  <a:pt x="1153" y="1032"/>
                  <a:pt x="1160" y="1027"/>
                </a:cubicBezTo>
                <a:lnTo>
                  <a:pt x="1160" y="1027"/>
                </a:lnTo>
                <a:cubicBezTo>
                  <a:pt x="1190" y="1007"/>
                  <a:pt x="1221" y="989"/>
                  <a:pt x="1255" y="974"/>
                </a:cubicBezTo>
                <a:lnTo>
                  <a:pt x="1255" y="974"/>
                </a:lnTo>
                <a:cubicBezTo>
                  <a:pt x="1261" y="971"/>
                  <a:pt x="1274" y="966"/>
                  <a:pt x="1291" y="981"/>
                </a:cubicBezTo>
                <a:lnTo>
                  <a:pt x="1291" y="981"/>
                </a:lnTo>
                <a:cubicBezTo>
                  <a:pt x="1305" y="995"/>
                  <a:pt x="1604" y="1295"/>
                  <a:pt x="1678" y="1369"/>
                </a:cubicBezTo>
                <a:lnTo>
                  <a:pt x="1678" y="1369"/>
                </a:lnTo>
                <a:cubicBezTo>
                  <a:pt x="1689" y="1379"/>
                  <a:pt x="1689" y="1398"/>
                  <a:pt x="1686" y="1404"/>
                </a:cubicBezTo>
                <a:close/>
                <a:moveTo>
                  <a:pt x="1520" y="1618"/>
                </a:moveTo>
                <a:lnTo>
                  <a:pt x="1520" y="1618"/>
                </a:lnTo>
                <a:cubicBezTo>
                  <a:pt x="1492" y="1640"/>
                  <a:pt x="1461" y="1659"/>
                  <a:pt x="1429" y="1675"/>
                </a:cubicBezTo>
                <a:lnTo>
                  <a:pt x="1429" y="1675"/>
                </a:lnTo>
                <a:cubicBezTo>
                  <a:pt x="1417" y="1681"/>
                  <a:pt x="1409" y="1680"/>
                  <a:pt x="1399" y="1669"/>
                </a:cubicBezTo>
                <a:lnTo>
                  <a:pt x="1399" y="1669"/>
                </a:lnTo>
                <a:cubicBezTo>
                  <a:pt x="1327" y="1598"/>
                  <a:pt x="994" y="1265"/>
                  <a:pt x="988" y="1258"/>
                </a:cubicBezTo>
                <a:lnTo>
                  <a:pt x="988" y="1258"/>
                </a:lnTo>
                <a:cubicBezTo>
                  <a:pt x="980" y="1250"/>
                  <a:pt x="982" y="1238"/>
                  <a:pt x="983" y="1234"/>
                </a:cubicBezTo>
                <a:lnTo>
                  <a:pt x="983" y="1234"/>
                </a:lnTo>
                <a:cubicBezTo>
                  <a:pt x="1000" y="1201"/>
                  <a:pt x="1019" y="1169"/>
                  <a:pt x="1042" y="1140"/>
                </a:cubicBezTo>
                <a:lnTo>
                  <a:pt x="1042" y="1140"/>
                </a:lnTo>
                <a:cubicBezTo>
                  <a:pt x="1045" y="1135"/>
                  <a:pt x="1058" y="1134"/>
                  <a:pt x="1061" y="1137"/>
                </a:cubicBezTo>
                <a:lnTo>
                  <a:pt x="1061" y="1137"/>
                </a:lnTo>
                <a:cubicBezTo>
                  <a:pt x="1061" y="1137"/>
                  <a:pt x="1509" y="1584"/>
                  <a:pt x="1517" y="1593"/>
                </a:cubicBezTo>
                <a:lnTo>
                  <a:pt x="1517" y="1593"/>
                </a:lnTo>
                <a:cubicBezTo>
                  <a:pt x="1527" y="1603"/>
                  <a:pt x="1524" y="1614"/>
                  <a:pt x="1520" y="1618"/>
                </a:cubicBezTo>
                <a:close/>
                <a:moveTo>
                  <a:pt x="1258" y="1736"/>
                </a:moveTo>
                <a:lnTo>
                  <a:pt x="1258" y="1736"/>
                </a:lnTo>
                <a:cubicBezTo>
                  <a:pt x="1215" y="1748"/>
                  <a:pt x="1172" y="1756"/>
                  <a:pt x="1126" y="1764"/>
                </a:cubicBezTo>
                <a:lnTo>
                  <a:pt x="1126" y="1764"/>
                </a:lnTo>
                <a:cubicBezTo>
                  <a:pt x="1121" y="1765"/>
                  <a:pt x="1111" y="1765"/>
                  <a:pt x="1100" y="1755"/>
                </a:cubicBezTo>
                <a:lnTo>
                  <a:pt x="1100" y="1755"/>
                </a:lnTo>
                <a:cubicBezTo>
                  <a:pt x="1092" y="1747"/>
                  <a:pt x="951" y="1606"/>
                  <a:pt x="907" y="1562"/>
                </a:cubicBezTo>
                <a:lnTo>
                  <a:pt x="907" y="1562"/>
                </a:lnTo>
                <a:cubicBezTo>
                  <a:pt x="893" y="1548"/>
                  <a:pt x="894" y="1539"/>
                  <a:pt x="897" y="1527"/>
                </a:cubicBezTo>
                <a:lnTo>
                  <a:pt x="897" y="1527"/>
                </a:lnTo>
                <a:cubicBezTo>
                  <a:pt x="904" y="1485"/>
                  <a:pt x="912" y="1445"/>
                  <a:pt x="922" y="1406"/>
                </a:cubicBezTo>
                <a:lnTo>
                  <a:pt x="922" y="1406"/>
                </a:lnTo>
                <a:cubicBezTo>
                  <a:pt x="926" y="1391"/>
                  <a:pt x="934" y="1395"/>
                  <a:pt x="943" y="1402"/>
                </a:cubicBezTo>
                <a:lnTo>
                  <a:pt x="943" y="1402"/>
                </a:lnTo>
                <a:cubicBezTo>
                  <a:pt x="943" y="1402"/>
                  <a:pt x="1252" y="1710"/>
                  <a:pt x="1260" y="1719"/>
                </a:cubicBezTo>
                <a:lnTo>
                  <a:pt x="1260" y="1719"/>
                </a:lnTo>
                <a:cubicBezTo>
                  <a:pt x="1268" y="1727"/>
                  <a:pt x="1263" y="1735"/>
                  <a:pt x="1258" y="1736"/>
                </a:cubicBezTo>
                <a:close/>
                <a:moveTo>
                  <a:pt x="927" y="1788"/>
                </a:moveTo>
                <a:lnTo>
                  <a:pt x="927" y="1788"/>
                </a:lnTo>
                <a:cubicBezTo>
                  <a:pt x="911" y="1789"/>
                  <a:pt x="897" y="1790"/>
                  <a:pt x="882" y="1791"/>
                </a:cubicBezTo>
                <a:lnTo>
                  <a:pt x="882" y="1791"/>
                </a:lnTo>
                <a:cubicBezTo>
                  <a:pt x="869" y="1793"/>
                  <a:pt x="867" y="1786"/>
                  <a:pt x="868" y="1776"/>
                </a:cubicBezTo>
                <a:lnTo>
                  <a:pt x="868" y="1776"/>
                </a:lnTo>
                <a:cubicBezTo>
                  <a:pt x="869" y="1763"/>
                  <a:pt x="870" y="1747"/>
                  <a:pt x="872" y="1733"/>
                </a:cubicBezTo>
                <a:lnTo>
                  <a:pt x="872" y="1733"/>
                </a:lnTo>
                <a:cubicBezTo>
                  <a:pt x="872" y="1727"/>
                  <a:pt x="876" y="1718"/>
                  <a:pt x="887" y="1729"/>
                </a:cubicBezTo>
                <a:lnTo>
                  <a:pt x="887" y="1729"/>
                </a:lnTo>
                <a:cubicBezTo>
                  <a:pt x="893" y="1736"/>
                  <a:pt x="914" y="1758"/>
                  <a:pt x="929" y="1771"/>
                </a:cubicBezTo>
                <a:lnTo>
                  <a:pt x="929" y="1771"/>
                </a:lnTo>
                <a:cubicBezTo>
                  <a:pt x="937" y="1780"/>
                  <a:pt x="932" y="1787"/>
                  <a:pt x="927" y="1788"/>
                </a:cubicBezTo>
                <a:close/>
                <a:moveTo>
                  <a:pt x="719" y="1952"/>
                </a:moveTo>
                <a:lnTo>
                  <a:pt x="719" y="1952"/>
                </a:lnTo>
                <a:cubicBezTo>
                  <a:pt x="712" y="2002"/>
                  <a:pt x="706" y="2049"/>
                  <a:pt x="696" y="2096"/>
                </a:cubicBezTo>
                <a:lnTo>
                  <a:pt x="696" y="2096"/>
                </a:lnTo>
                <a:cubicBezTo>
                  <a:pt x="695" y="2102"/>
                  <a:pt x="691" y="2113"/>
                  <a:pt x="682" y="2104"/>
                </a:cubicBezTo>
                <a:lnTo>
                  <a:pt x="682" y="2104"/>
                </a:lnTo>
                <a:cubicBezTo>
                  <a:pt x="675" y="2096"/>
                  <a:pt x="590" y="2011"/>
                  <a:pt x="558" y="1980"/>
                </a:cubicBezTo>
                <a:lnTo>
                  <a:pt x="558" y="1980"/>
                </a:lnTo>
                <a:cubicBezTo>
                  <a:pt x="549" y="1971"/>
                  <a:pt x="559" y="1965"/>
                  <a:pt x="565" y="1963"/>
                </a:cubicBezTo>
                <a:lnTo>
                  <a:pt x="565" y="1963"/>
                </a:lnTo>
                <a:cubicBezTo>
                  <a:pt x="610" y="1955"/>
                  <a:pt x="657" y="1948"/>
                  <a:pt x="706" y="1942"/>
                </a:cubicBezTo>
                <a:lnTo>
                  <a:pt x="706" y="1942"/>
                </a:lnTo>
                <a:cubicBezTo>
                  <a:pt x="714" y="1941"/>
                  <a:pt x="720" y="1945"/>
                  <a:pt x="719" y="1952"/>
                </a:cubicBezTo>
                <a:lnTo>
                  <a:pt x="647" y="2284"/>
                </a:lnTo>
                <a:lnTo>
                  <a:pt x="647" y="2284"/>
                </a:lnTo>
                <a:cubicBezTo>
                  <a:pt x="634" y="2319"/>
                  <a:pt x="619" y="2353"/>
                  <a:pt x="601" y="2386"/>
                </a:cubicBezTo>
                <a:lnTo>
                  <a:pt x="601" y="2386"/>
                </a:lnTo>
                <a:cubicBezTo>
                  <a:pt x="599" y="2391"/>
                  <a:pt x="589" y="2395"/>
                  <a:pt x="581" y="2387"/>
                </a:cubicBezTo>
                <a:lnTo>
                  <a:pt x="581" y="2387"/>
                </a:lnTo>
                <a:cubicBezTo>
                  <a:pt x="524" y="2330"/>
                  <a:pt x="285" y="2091"/>
                  <a:pt x="275" y="2081"/>
                </a:cubicBezTo>
                <a:lnTo>
                  <a:pt x="275" y="2081"/>
                </a:lnTo>
                <a:cubicBezTo>
                  <a:pt x="263" y="2069"/>
                  <a:pt x="271" y="2059"/>
                  <a:pt x="277" y="2057"/>
                </a:cubicBezTo>
                <a:lnTo>
                  <a:pt x="277" y="2057"/>
                </a:lnTo>
                <a:cubicBezTo>
                  <a:pt x="310" y="2039"/>
                  <a:pt x="344" y="2024"/>
                  <a:pt x="379" y="2012"/>
                </a:cubicBezTo>
                <a:lnTo>
                  <a:pt x="379" y="2012"/>
                </a:lnTo>
                <a:cubicBezTo>
                  <a:pt x="385" y="2010"/>
                  <a:pt x="399" y="2009"/>
                  <a:pt x="407" y="2017"/>
                </a:cubicBezTo>
                <a:lnTo>
                  <a:pt x="407" y="2017"/>
                </a:lnTo>
                <a:cubicBezTo>
                  <a:pt x="413" y="2024"/>
                  <a:pt x="588" y="2198"/>
                  <a:pt x="640" y="2250"/>
                </a:cubicBezTo>
                <a:lnTo>
                  <a:pt x="640" y="2250"/>
                </a:lnTo>
                <a:cubicBezTo>
                  <a:pt x="654" y="2264"/>
                  <a:pt x="651" y="2269"/>
                  <a:pt x="647" y="2284"/>
                </a:cubicBezTo>
                <a:lnTo>
                  <a:pt x="719" y="1952"/>
                </a:lnTo>
                <a:close/>
                <a:moveTo>
                  <a:pt x="2633" y="488"/>
                </a:moveTo>
                <a:lnTo>
                  <a:pt x="2633" y="488"/>
                </a:lnTo>
                <a:cubicBezTo>
                  <a:pt x="2607" y="462"/>
                  <a:pt x="2566" y="462"/>
                  <a:pt x="2542" y="488"/>
                </a:cubicBezTo>
                <a:lnTo>
                  <a:pt x="2542" y="488"/>
                </a:lnTo>
                <a:cubicBezTo>
                  <a:pt x="2533" y="496"/>
                  <a:pt x="2522" y="490"/>
                  <a:pt x="2509" y="477"/>
                </a:cubicBezTo>
                <a:lnTo>
                  <a:pt x="2509" y="477"/>
                </a:lnTo>
                <a:cubicBezTo>
                  <a:pt x="2433" y="403"/>
                  <a:pt x="2186" y="157"/>
                  <a:pt x="2176" y="145"/>
                </a:cubicBezTo>
                <a:lnTo>
                  <a:pt x="2176" y="145"/>
                </a:lnTo>
                <a:cubicBezTo>
                  <a:pt x="2166" y="132"/>
                  <a:pt x="2168" y="123"/>
                  <a:pt x="2171" y="119"/>
                </a:cubicBezTo>
                <a:lnTo>
                  <a:pt x="2171" y="119"/>
                </a:lnTo>
                <a:cubicBezTo>
                  <a:pt x="2197" y="93"/>
                  <a:pt x="2197" y="52"/>
                  <a:pt x="2171" y="26"/>
                </a:cubicBezTo>
                <a:lnTo>
                  <a:pt x="2171" y="26"/>
                </a:lnTo>
                <a:cubicBezTo>
                  <a:pt x="2146" y="0"/>
                  <a:pt x="2105" y="0"/>
                  <a:pt x="2080" y="26"/>
                </a:cubicBezTo>
                <a:lnTo>
                  <a:pt x="2080" y="26"/>
                </a:lnTo>
                <a:cubicBezTo>
                  <a:pt x="1886" y="221"/>
                  <a:pt x="1836" y="475"/>
                  <a:pt x="1807" y="723"/>
                </a:cubicBezTo>
                <a:lnTo>
                  <a:pt x="1807" y="723"/>
                </a:lnTo>
                <a:cubicBezTo>
                  <a:pt x="1806" y="731"/>
                  <a:pt x="1803" y="736"/>
                  <a:pt x="1795" y="736"/>
                </a:cubicBezTo>
                <a:lnTo>
                  <a:pt x="1795" y="736"/>
                </a:lnTo>
                <a:cubicBezTo>
                  <a:pt x="1510" y="764"/>
                  <a:pt x="1210" y="784"/>
                  <a:pt x="994" y="996"/>
                </a:cubicBezTo>
                <a:lnTo>
                  <a:pt x="994" y="996"/>
                </a:lnTo>
                <a:cubicBezTo>
                  <a:pt x="782" y="1210"/>
                  <a:pt x="763" y="1511"/>
                  <a:pt x="735" y="1796"/>
                </a:cubicBezTo>
                <a:lnTo>
                  <a:pt x="735" y="1796"/>
                </a:lnTo>
                <a:cubicBezTo>
                  <a:pt x="734" y="1802"/>
                  <a:pt x="727" y="1808"/>
                  <a:pt x="719" y="1809"/>
                </a:cubicBezTo>
                <a:lnTo>
                  <a:pt x="719" y="1809"/>
                </a:lnTo>
                <a:cubicBezTo>
                  <a:pt x="472" y="1836"/>
                  <a:pt x="219" y="1888"/>
                  <a:pt x="25" y="2081"/>
                </a:cubicBezTo>
                <a:lnTo>
                  <a:pt x="25" y="2081"/>
                </a:lnTo>
                <a:cubicBezTo>
                  <a:pt x="0" y="2107"/>
                  <a:pt x="0" y="2148"/>
                  <a:pt x="25" y="2173"/>
                </a:cubicBezTo>
                <a:lnTo>
                  <a:pt x="25" y="2173"/>
                </a:lnTo>
                <a:cubicBezTo>
                  <a:pt x="50" y="2198"/>
                  <a:pt x="93" y="2198"/>
                  <a:pt x="117" y="2173"/>
                </a:cubicBezTo>
                <a:lnTo>
                  <a:pt x="117" y="2173"/>
                </a:lnTo>
                <a:cubicBezTo>
                  <a:pt x="123" y="2168"/>
                  <a:pt x="130" y="2162"/>
                  <a:pt x="136" y="2156"/>
                </a:cubicBezTo>
                <a:lnTo>
                  <a:pt x="136" y="2156"/>
                </a:lnTo>
                <a:cubicBezTo>
                  <a:pt x="145" y="2147"/>
                  <a:pt x="151" y="2145"/>
                  <a:pt x="165" y="2158"/>
                </a:cubicBezTo>
                <a:lnTo>
                  <a:pt x="165" y="2158"/>
                </a:lnTo>
                <a:cubicBezTo>
                  <a:pt x="232" y="2226"/>
                  <a:pt x="499" y="2493"/>
                  <a:pt x="506" y="2499"/>
                </a:cubicBezTo>
                <a:lnTo>
                  <a:pt x="506" y="2499"/>
                </a:lnTo>
                <a:cubicBezTo>
                  <a:pt x="513" y="2507"/>
                  <a:pt x="509" y="2519"/>
                  <a:pt x="506" y="2522"/>
                </a:cubicBezTo>
                <a:lnTo>
                  <a:pt x="506" y="2522"/>
                </a:lnTo>
                <a:cubicBezTo>
                  <a:pt x="500" y="2530"/>
                  <a:pt x="493" y="2536"/>
                  <a:pt x="487" y="2542"/>
                </a:cubicBezTo>
                <a:lnTo>
                  <a:pt x="487" y="2542"/>
                </a:lnTo>
                <a:cubicBezTo>
                  <a:pt x="461" y="2568"/>
                  <a:pt x="461" y="2609"/>
                  <a:pt x="487" y="2635"/>
                </a:cubicBezTo>
                <a:lnTo>
                  <a:pt x="487" y="2635"/>
                </a:lnTo>
                <a:cubicBezTo>
                  <a:pt x="512" y="2660"/>
                  <a:pt x="554" y="2660"/>
                  <a:pt x="579" y="2635"/>
                </a:cubicBezTo>
                <a:lnTo>
                  <a:pt x="579" y="2635"/>
                </a:lnTo>
                <a:cubicBezTo>
                  <a:pt x="772" y="2440"/>
                  <a:pt x="823" y="2188"/>
                  <a:pt x="851" y="1940"/>
                </a:cubicBezTo>
                <a:lnTo>
                  <a:pt x="851" y="1940"/>
                </a:lnTo>
                <a:cubicBezTo>
                  <a:pt x="852" y="1930"/>
                  <a:pt x="853" y="1926"/>
                  <a:pt x="864" y="1925"/>
                </a:cubicBezTo>
                <a:lnTo>
                  <a:pt x="864" y="1925"/>
                </a:lnTo>
                <a:cubicBezTo>
                  <a:pt x="1149" y="1896"/>
                  <a:pt x="1449" y="1877"/>
                  <a:pt x="1664" y="1665"/>
                </a:cubicBezTo>
                <a:lnTo>
                  <a:pt x="1664" y="1665"/>
                </a:lnTo>
                <a:cubicBezTo>
                  <a:pt x="1876" y="1451"/>
                  <a:pt x="1896" y="1150"/>
                  <a:pt x="1924" y="865"/>
                </a:cubicBezTo>
                <a:lnTo>
                  <a:pt x="1924" y="865"/>
                </a:lnTo>
                <a:cubicBezTo>
                  <a:pt x="1925" y="857"/>
                  <a:pt x="1928" y="853"/>
                  <a:pt x="1938" y="853"/>
                </a:cubicBezTo>
                <a:lnTo>
                  <a:pt x="1938" y="853"/>
                </a:lnTo>
                <a:cubicBezTo>
                  <a:pt x="2185" y="825"/>
                  <a:pt x="2438" y="774"/>
                  <a:pt x="2633" y="580"/>
                </a:cubicBezTo>
                <a:lnTo>
                  <a:pt x="2633" y="580"/>
                </a:lnTo>
                <a:cubicBezTo>
                  <a:pt x="2659" y="555"/>
                  <a:pt x="2659" y="513"/>
                  <a:pt x="2633" y="488"/>
                </a:cubicBezTo>
                <a:close/>
              </a:path>
            </a:pathLst>
          </a:custGeom>
          <a:solidFill>
            <a:srgbClr val="4034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5"/>
          <p:cNvSpPr/>
          <p:nvPr/>
        </p:nvSpPr>
        <p:spPr>
          <a:xfrm>
            <a:off x="4633920" y="2340000"/>
            <a:ext cx="33336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Content itself is what the end-user derives value from also can refer to the information provided through the medium, the way in which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17" name="TextBox 16"/>
          <p:cNvSpPr/>
          <p:nvPr/>
        </p:nvSpPr>
        <p:spPr>
          <a:xfrm>
            <a:off x="4676040" y="18414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B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18" name="TextBox 199"/>
          <p:cNvSpPr/>
          <p:nvPr/>
        </p:nvSpPr>
        <p:spPr>
          <a:xfrm>
            <a:off x="1234800" y="782640"/>
            <a:ext cx="548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in two columns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19" name="TextBox 200"/>
          <p:cNvSpPr/>
          <p:nvPr/>
        </p:nvSpPr>
        <p:spPr>
          <a:xfrm>
            <a:off x="1327320" y="2340000"/>
            <a:ext cx="33336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Content itself is what the end-user derives value from also can refer to the information provided through the medium, the way in which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20" name="TextBox 201"/>
          <p:cNvSpPr/>
          <p:nvPr/>
        </p:nvSpPr>
        <p:spPr>
          <a:xfrm>
            <a:off x="1366920" y="184140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A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9"/>
          <p:cNvSpPr/>
          <p:nvPr/>
        </p:nvSpPr>
        <p:spPr>
          <a:xfrm>
            <a:off x="6350040" y="2217600"/>
            <a:ext cx="24321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Content itself is what the end-user derives value from also can refer to the information provided through the medium, 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22" name="TextBox 17"/>
          <p:cNvSpPr/>
          <p:nvPr/>
        </p:nvSpPr>
        <p:spPr>
          <a:xfrm>
            <a:off x="6389640" y="17254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C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23" name="TextBox 109"/>
          <p:cNvSpPr/>
          <p:nvPr/>
        </p:nvSpPr>
        <p:spPr>
          <a:xfrm>
            <a:off x="1269360" y="782640"/>
            <a:ext cx="5851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5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in three columns</a:t>
            </a:r>
            <a:endParaRPr b="0" lang="en-US" sz="35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24" name="TextBox 110"/>
          <p:cNvSpPr/>
          <p:nvPr/>
        </p:nvSpPr>
        <p:spPr>
          <a:xfrm>
            <a:off x="1325520" y="2217600"/>
            <a:ext cx="2433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Content itself is what the end-user derives value from also can refer to the information provided through the medium, 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25" name="TextBox 111"/>
          <p:cNvSpPr/>
          <p:nvPr/>
        </p:nvSpPr>
        <p:spPr>
          <a:xfrm>
            <a:off x="1365480" y="172548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A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26" name="TextBox 112"/>
          <p:cNvSpPr/>
          <p:nvPr/>
        </p:nvSpPr>
        <p:spPr>
          <a:xfrm>
            <a:off x="3836880" y="2217600"/>
            <a:ext cx="2433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Content itself is what the end-user derives value from also can refer to the information provided through the medium, 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  <p:sp>
        <p:nvSpPr>
          <p:cNvPr id="727" name="TextBox 113"/>
          <p:cNvSpPr/>
          <p:nvPr/>
        </p:nvSpPr>
        <p:spPr>
          <a:xfrm>
            <a:off x="3874320" y="1725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494949"/>
                </a:solidFill>
                <a:latin typeface="Nunito Bold"/>
                <a:ea typeface="Nunito Bold"/>
              </a:rPr>
              <a:t>Content B</a:t>
            </a:r>
            <a:endParaRPr b="0" lang="en-US" sz="20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35"/>
          <p:cNvSpPr/>
          <p:nvPr/>
        </p:nvSpPr>
        <p:spPr>
          <a:xfrm>
            <a:off x="3965400" y="1357200"/>
            <a:ext cx="37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200" spc="-1" strike="noStrike">
                <a:solidFill>
                  <a:srgbClr val="494949"/>
                </a:solidFill>
                <a:latin typeface="Nunito Bold"/>
                <a:ea typeface="Nunito Bold"/>
              </a:rPr>
              <a:t>A Picture Is Worth A Thousand Words</a:t>
            </a:r>
            <a:endParaRPr b="0" lang="en-US" sz="3200" spc="-1" strike="noStrike">
              <a:solidFill>
                <a:srgbClr val="b4b4b4"/>
              </a:solidFill>
              <a:latin typeface="Calibri"/>
            </a:endParaRPr>
          </a:p>
        </p:txBody>
      </p:sp>
      <p:pic>
        <p:nvPicPr>
          <p:cNvPr id="729" name="Picture Placeholder 100" descr=""/>
          <p:cNvPicPr/>
          <p:nvPr/>
        </p:nvPicPr>
        <p:blipFill>
          <a:blip r:embed="rId1"/>
          <a:stretch/>
        </p:blipFill>
        <p:spPr>
          <a:xfrm>
            <a:off x="1163520" y="1006560"/>
            <a:ext cx="2463840" cy="2992320"/>
          </a:xfrm>
          <a:prstGeom prst="rect">
            <a:avLst/>
          </a:prstGeom>
          <a:ln w="0">
            <a:noFill/>
          </a:ln>
        </p:spPr>
      </p:pic>
      <p:sp>
        <p:nvSpPr>
          <p:cNvPr id="730" name="TextBox 104"/>
          <p:cNvSpPr/>
          <p:nvPr/>
        </p:nvSpPr>
        <p:spPr>
          <a:xfrm>
            <a:off x="3987720" y="2990880"/>
            <a:ext cx="30625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494949"/>
                </a:solidFill>
                <a:latin typeface="Nixie One"/>
                <a:ea typeface="Nixie One"/>
              </a:rPr>
              <a:t>Itself is what the end-user derives value from also.</a:t>
            </a:r>
            <a:endParaRPr b="0" lang="en-US" sz="1600" spc="-1" strike="noStrike">
              <a:solidFill>
                <a:srgbClr val="b4b4b4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21:47:38Z</dcterms:created>
  <dc:creator>Designed by Slidesmash</dc:creator>
  <dc:description/>
  <cp:keywords/>
  <dc:language>en-US</dc:language>
  <cp:lastModifiedBy>Microsoft Office User</cp:lastModifiedBy>
  <dcterms:modified xsi:type="dcterms:W3CDTF">2017-10-17T14:13:44Z</dcterms:modified>
  <cp:revision>5873</cp:revision>
  <dc:subject/>
  <dc:title>Designed by Slidesmash</dc:title>
</cp:coreProperties>
</file>