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53-58AB-47FD-B490-A1B99F15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F21-30E2-44D5-AE5C-EAB05756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070-7280-4591-ABCE-CFDA7EE6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F27-2DC5-40D8-A07C-8714F68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71A-DF91-4788-84F1-9D3C772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ECC-0287-49D2-8287-003952B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047-AB41-41EB-B573-93B477DB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346-B315-4A6D-AD62-3EAA676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566-E301-4948-8891-B05A46B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D44-1BA3-4D0E-BC7E-E1318C7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7E7-5405-4A9A-9E12-FB3EE42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AC4-69E0-4AEA-B115-8245FEF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9A6-2D28-46B9-8D12-912C37F4D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743200"/>
            <a:ext cx="5181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Exodus 18:13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2503" t="12214" r="23337" b="64472"/>
          <a:stretch/>
        </p:blipFill>
        <p:spPr>
          <a:xfrm>
            <a:off x="838080" y="83808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057400"/>
            <a:ext cx="883908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Missi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Part 1:  Abolish the Death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457200"/>
            <a:ext cx="861048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 Peter 3:9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not slow in keeping his promise, as some understand slowness. He is patient with you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 wanting anyone to perish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everyone to come to repentance.  N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5120" y="2514600"/>
            <a:ext cx="5181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Acts 6:1-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228600"/>
            <a:ext cx="82296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thew 24:14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is gospel of the kingdom will be preached in the whole world as a testimony to all nations, and then the end will come.  N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2514600"/>
            <a:ext cx="5181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Acts 6:1-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228600"/>
            <a:ext cx="8610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Timothy 2:3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good, and pleases God our Savior, 4 who wan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 men to be sa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o come to a knowledge of the truth. N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4572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THE ANSWER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Accepting t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gift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of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life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through Jesus Chri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438280"/>
            <a:ext cx="8839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Jesus said, "I am the way and the truth and the life. No one comes to the Father except through me.” John 14:6 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ans 10:13 "Everyone who calls on the name of the Lord will be saved."  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omans 6:23 For the wages of sin is death, but the gift of God is eternal life in Christ Jesus our Lord.  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457200"/>
            <a:ext cx="7772400" cy="48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WE BELIEVE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came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died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rose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lives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He is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Lord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-76320"/>
            <a:ext cx="8305920" cy="424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How Do I Know? A-B-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60000"/>
              </a:lnSpc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Unicode MS"/>
              </a:rPr>
              <a:t>A</a:t>
            </a:r>
            <a:r>
              <a:rPr b="1" i="1" lang="en-US" sz="4000" spc="-1" strike="noStrike">
                <a:solidFill>
                  <a:srgbClr val="cc0000"/>
                </a:solidFill>
                <a:latin typeface="Arial Unicode MS"/>
              </a:rPr>
              <a:t>dmit you have sin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60000"/>
              </a:lnSpc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Unicode MS"/>
              </a:rPr>
              <a:t>B</a:t>
            </a:r>
            <a:r>
              <a:rPr b="1" i="1" lang="en-US" sz="4000" spc="-1" strike="noStrike">
                <a:solidFill>
                  <a:srgbClr val="cc0000"/>
                </a:solidFill>
                <a:latin typeface="Arial Unicode MS"/>
              </a:rPr>
              <a:t>elieve that Jesus Christ died for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60000"/>
              </a:lnSpc>
              <a:spcBef>
                <a:spcPts val="2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Unicode MS"/>
              </a:rPr>
              <a:t>C</a:t>
            </a:r>
            <a:r>
              <a:rPr b="1" i="1" lang="en-US" sz="4000" spc="-1" strike="noStrike">
                <a:solidFill>
                  <a:srgbClr val="cc0000"/>
                </a:solidFill>
                <a:latin typeface="Arial Unicode MS"/>
              </a:rPr>
              <a:t>onfess that Jesus Christ is the Lord of your l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2743200"/>
            <a:ext cx="5181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Exodus 18:13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2503" t="12214" r="23337" b="64472"/>
          <a:stretch/>
        </p:blipFill>
        <p:spPr>
          <a:xfrm>
            <a:off x="838080" y="83808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205740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Mission Objective:  Abolish the Death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5720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THE PROBLEM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By the law we are all guilty and we are condemned to the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death penal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429000"/>
            <a:ext cx="541044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Romans 5:18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4572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THE ANSWER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We need someone to take our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429000"/>
            <a:ext cx="541044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Luke 19: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9144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THE MISSION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Stop people from going to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he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19520"/>
            <a:ext cx="5791320" cy="299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Revelation 20:12-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939960"/>
            <a:ext cx="9067680" cy="64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Revelation 20:15  A lake of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velation 20:1  A bottomless pi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Psalms 11:6  Fiery coals, burning sulfur, scorching win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aiah 33:14  A consuming fire &amp; everlasting bu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Psalms 18:5 A place of sorrow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tthew 8:12  A place of weep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Matthew 13:41,42  A furnace of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6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Flames"/>
              </a:rPr>
              <a:t>H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lin ang="5400000"/>
              </a:gradFill>
              <a:latin typeface="Flames"/>
              <a:ea typeface="Flame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1015920"/>
            <a:ext cx="853416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Revelation 20:10  • A place of torment day and night for ever and 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velation 16:10-11 Men gnawed their tongues in agony and cursed the God of heaven because of their pains and their sores, but they refused to repent of what they had done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2 Thessalonians 1:9  A place of everlasting destruc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tthew 25:30  A place of darkness, weeping and gnashing of teet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6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Flames"/>
              </a:rPr>
              <a:t>H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lin ang="5400000"/>
              </a:gradFill>
              <a:latin typeface="Flames"/>
              <a:ea typeface="Flames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20636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tthew 25:46  A place of everlasting punishmen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Luke 16:24  “Tormented in this flame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velation 14:11 "The smoke of their torment rises for ever......there is no rest day or night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6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Flames"/>
              </a:rPr>
              <a:t>H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lin ang="5400000"/>
              </a:gradFill>
              <a:latin typeface="Flames"/>
              <a:ea typeface="Flames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2403360"/>
            <a:ext cx="9144000" cy="4454640"/>
            <a:chOff x="0" y="2403360"/>
            <a:chExt cx="9144000" cy="4454640"/>
          </a:xfrm>
        </p:grpSpPr>
        <p:pic>
          <p:nvPicPr>
            <p:cNvPr id="64" name="431214_41756420" descr=""/>
            <p:cNvPicPr/>
            <p:nvPr/>
          </p:nvPicPr>
          <p:blipFill>
            <a:blip r:embed="rId1"/>
            <a:stretch/>
          </p:blipFill>
          <p:spPr>
            <a:xfrm>
              <a:off x="2825640" y="2403360"/>
              <a:ext cx="6318360" cy="441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431214_41756420" descr=""/>
            <p:cNvPicPr/>
            <p:nvPr/>
          </p:nvPicPr>
          <p:blipFill>
            <a:blip r:embed="rId2"/>
            <a:srcRect l="28571" t="1726" r="27951" b="0"/>
            <a:stretch/>
          </p:blipFill>
          <p:spPr>
            <a:xfrm>
              <a:off x="2825640" y="2403360"/>
              <a:ext cx="274716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431214_41756420" descr=""/>
            <p:cNvPicPr/>
            <p:nvPr/>
          </p:nvPicPr>
          <p:blipFill>
            <a:blip r:embed="rId3"/>
            <a:srcRect l="0" t="-860" r="55280" b="0"/>
            <a:stretch/>
          </p:blipFill>
          <p:spPr>
            <a:xfrm>
              <a:off x="0" y="2403360"/>
              <a:ext cx="2825640" cy="445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 txBox="1"/>
          <p:nvPr/>
        </p:nvSpPr>
        <p:spPr>
          <a:xfrm>
            <a:off x="380880" y="3886200"/>
            <a:ext cx="59076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81680" y="3505320"/>
            <a:ext cx="59076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43000" y="3733920"/>
            <a:ext cx="590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29600" y="3809880"/>
            <a:ext cx="59040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3276720"/>
            <a:ext cx="59076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24080" y="3352680"/>
            <a:ext cx="59076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14800" y="3505320"/>
            <a:ext cx="590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06668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Tubular"/>
              </a:rPr>
              <a:t>THE REALITY: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  Unless something changes </a:t>
            </a:r>
            <a:r>
              <a:rPr b="1" i="1" lang="en-US" sz="3600" spc="-1" strike="noStrike" u="sng">
                <a:solidFill>
                  <a:srgbClr val="ff9900"/>
                </a:solidFill>
                <a:uFillTx/>
                <a:latin typeface="Tubular"/>
              </a:rPr>
              <a:t>7</a:t>
            </a:r>
            <a:r>
              <a:rPr b="1" i="1" lang="en-US" sz="3600" spc="-1" strike="noStrike">
                <a:solidFill>
                  <a:srgbClr val="ff9900"/>
                </a:solidFill>
                <a:latin typeface="Tubular"/>
              </a:rPr>
              <a:t> out of 10 people in our city are headed for h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6:00:00Z</dcterms:created>
  <dc:creator/>
  <dc:description/>
  <dc:language>en-US</dc:language>
  <cp:lastModifiedBy/>
  <dcterms:modified xsi:type="dcterms:W3CDTF">2008-07-24T19:17:31Z</dcterms:modified>
  <cp:revision>1</cp:revision>
  <dc:subject/>
  <dc:title>Slide 1</dc:title>
</cp:coreProperties>
</file>