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3FC-08E2-4D5D-89FA-8DCCEE6F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428-A338-4833-81E4-E48C5761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F0F-B0B5-4180-A1E1-65FEB3F6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37C-2D7F-4686-B05B-15084580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DDB-AB54-4AA7-9BE6-111E0430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9A1-902D-45C5-ABCE-12C57A2B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9FC-AFB2-4286-B886-EFF97BD9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311-5403-4893-837C-EA613AC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599-E968-4193-A0D6-8F80B1BA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F01-5DF4-4B2C-B797-464B4979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DE0-DA28-450A-876C-C1BCB525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0AC-77C4-4D3D-9483-CBE455C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102-FBD1-4E4F-A962-030C5110A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743200"/>
            <a:ext cx="51814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Exodus 18:13-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2503" t="12214" r="23337" b="64472"/>
          <a:stretch/>
        </p:blipFill>
        <p:spPr>
          <a:xfrm>
            <a:off x="838080" y="83808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205740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Mission Objective #3:  Multiply &amp; Divers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33720" y="609480"/>
            <a:ext cx="6019560" cy="21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Matthew 28:16-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Mark 16:15-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3211"/>
          <a:stretch/>
        </p:blipFill>
        <p:spPr>
          <a:xfrm>
            <a:off x="0" y="849240"/>
            <a:ext cx="9144000" cy="6008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76320"/>
            <a:ext cx="9144000" cy="490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4880" indent="-746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Boulder"/>
              </a:rPr>
              <a:t>The Goal of Jesu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746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7462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g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us into active du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7462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power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us to take His pl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2 Corinthians 5:17-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7460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Acts 1: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74628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quip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us for vic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74628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xpan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he Kingd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833" t="85699" r="61671" b="3304"/>
          <a:stretch/>
        </p:blipFill>
        <p:spPr>
          <a:xfrm>
            <a:off x="5715000" y="6095880"/>
            <a:ext cx="342900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3211"/>
          <a:stretch/>
        </p:blipFill>
        <p:spPr>
          <a:xfrm>
            <a:off x="0" y="849240"/>
            <a:ext cx="9144000" cy="600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320" y="763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Romans 1: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not ashamed of the gospel, because it is the power of God for the salvation of everyone who believes: first for the Jew, then for the Gentile.  N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833" t="85699" r="61671" b="3304"/>
          <a:stretch/>
        </p:blipFill>
        <p:spPr>
          <a:xfrm>
            <a:off x="5715000" y="6095880"/>
            <a:ext cx="342900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4169" t="0" r="0" b="24497"/>
          <a:stretch/>
        </p:blipFill>
        <p:spPr>
          <a:xfrm>
            <a:off x="0" y="1676520"/>
            <a:ext cx="7848720" cy="518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83282" r="61671" b="4510"/>
          <a:stretch/>
        </p:blipFill>
        <p:spPr>
          <a:xfrm>
            <a:off x="5638680" y="6019920"/>
            <a:ext cx="350532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228600"/>
            <a:ext cx="8229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nsom"/>
              </a:rPr>
              <a:t>Our Respons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3880"/>
            <a:ext cx="9144000" cy="388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70000"/>
              </a:lnSpc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BE </a:t>
            </a: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WILLING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TO BE USED BY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iah 6:8-9  Then I heard the voice of the Lord saying, "Whom shall I send? And who will go for us?"  And I said, "Here am I. Send me!"   9 He said, "Go and tell this people: . . . NI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7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Corinthians 1:27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4169" t="0" r="0" b="24497"/>
          <a:stretch/>
        </p:blipFill>
        <p:spPr>
          <a:xfrm>
            <a:off x="0" y="1676520"/>
            <a:ext cx="7848720" cy="518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83282" r="61671" b="4510"/>
          <a:stretch/>
        </p:blipFill>
        <p:spPr>
          <a:xfrm>
            <a:off x="5638680" y="6019920"/>
            <a:ext cx="350532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228600"/>
            <a:ext cx="8229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nsom"/>
              </a:rPr>
              <a:t>Our Respons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23880"/>
            <a:ext cx="9144000" cy="439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70000"/>
              </a:lnSpc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BE </a:t>
            </a: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WILLING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TO BE USED BY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95280">
              <a:lnSpc>
                <a:spcPct val="170000"/>
              </a:lnSpc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BE </a:t>
            </a: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HUMBLE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AND P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ilippians 2:13  for it is God who works in you to will and to act according to his good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Timothy 2: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4169" t="0" r="0" b="24497"/>
          <a:stretch/>
        </p:blipFill>
        <p:spPr>
          <a:xfrm>
            <a:off x="0" y="1752480"/>
            <a:ext cx="7848720" cy="5181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83282" r="61671" b="4510"/>
          <a:stretch/>
        </p:blipFill>
        <p:spPr>
          <a:xfrm>
            <a:off x="5638680" y="6019920"/>
            <a:ext cx="3505320" cy="838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228600"/>
            <a:ext cx="8229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nsom"/>
              </a:rPr>
              <a:t>Our Respons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990720"/>
            <a:ext cx="9144000" cy="537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746280">
              <a:lnSpc>
                <a:spcPct val="170000"/>
              </a:lnSpc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BE </a:t>
            </a: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WILLING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TO BE USED BY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46280">
              <a:lnSpc>
                <a:spcPct val="170000"/>
              </a:lnSpc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BE </a:t>
            </a: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HUMBLE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AND P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46280">
              <a:lnSpc>
                <a:spcPct val="170000"/>
              </a:lnSpc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BE </a:t>
            </a: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FILLED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WITH THE SPIR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462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chariah  4:6  . . . 'Not by might nor by power, but by my Spirit,' says the LORD Almighty. N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462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4169" t="0" r="0" b="24497"/>
          <a:stretch/>
        </p:blipFill>
        <p:spPr>
          <a:xfrm>
            <a:off x="0" y="1752480"/>
            <a:ext cx="7848720" cy="5181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282" r="61671" b="4510"/>
          <a:stretch/>
        </p:blipFill>
        <p:spPr>
          <a:xfrm>
            <a:off x="5638680" y="6019920"/>
            <a:ext cx="3505320" cy="838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280" y="228600"/>
            <a:ext cx="8229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nsom"/>
              </a:rPr>
              <a:t>Our Respons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523880"/>
            <a:ext cx="9144000" cy="306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-395280">
              <a:lnSpc>
                <a:spcPct val="170000"/>
              </a:lnSpc>
              <a:buClr>
                <a:srgbClr val="66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BE </a:t>
            </a: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BOLD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 TO STEP OUT WITH WHAT YOU H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95280">
              <a:lnSpc>
                <a:spcPct val="17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s 4:29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9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2743200"/>
            <a:ext cx="51814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Metro"/>
              </a:rPr>
              <a:t>Exodus 18:13-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22503" t="12214" r="23337" b="64472"/>
          <a:stretch/>
        </p:blipFill>
        <p:spPr>
          <a:xfrm>
            <a:off x="838080" y="83808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205740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Mission Objective #3:  Multiply &amp; Divers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6:00:00Z</dcterms:created>
  <dc:creator/>
  <dc:description/>
  <dc:language>en-US</dc:language>
  <cp:lastModifiedBy/>
  <dcterms:modified xsi:type="dcterms:W3CDTF">2008-07-24T03:56:03Z</dcterms:modified>
  <cp:revision>1</cp:revision>
  <dc:subject/>
  <dc:title>Slide 1</dc:title>
</cp:coreProperties>
</file>