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9B1-4D55-4C29-A6F9-53CB3062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5AD-CE6A-4A1B-AC97-9CED5FCA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BEC-1771-41BB-AB8D-FEE65569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976-BA75-4BF8-A807-153666A2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1AB-F593-4153-9ADE-4E2B4306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4D8-277B-42D3-BD9C-561AF85F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C34-6555-4642-9A3A-267092D7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98F-0916-4081-8149-C335F4EC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DDB-878A-4E9F-8998-59B34390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1B2-41C5-4F9B-A767-10459E8C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00C-5CA4-4478-9C2D-40C94677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7C4-B483-4F7D-97B4-0BA463A8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858F-D456-453B-97DF-4E0796F9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7088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6 класс (авторы УМ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К. Кауфман, М. Кауфм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дготовил учит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Кулешова Г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333360"/>
            <a:ext cx="8165880" cy="35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определённые   и 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рицательные местоимения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Утвердительные неопределённые местоим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body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where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bod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 кто-то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asty in the frid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ас есть что-то вкусное в холодильник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Вопросительные местоим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body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-ниб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-ниб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wher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-нибудь, куда-ниб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ther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ythi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in your 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воей сумке ест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-нибуд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ybody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d this 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то-нибудь читать эту книг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ll you go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yw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xt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едеш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да-нибудь в следующем месяц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Отрицательные местоим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ч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here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bod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n the bed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пальн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к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book i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wher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ей книг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гд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e ha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hing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n her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её не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чего в рук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С местоимениями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omething,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omebody,</a:t>
            </a: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nothing, nobody, anything, anybody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глаголы употребляются в 3 л ед. </a:t>
            </a:r>
            <a:r>
              <a:rPr b="0" i="1" lang="ru-RU" sz="3600" spc="-1" strike="noStrike">
                <a:solidFill>
                  <a:srgbClr val="000066"/>
                </a:solidFill>
                <a:latin typeface="Arial"/>
              </a:rPr>
              <a:t>ч.</a:t>
            </a:r>
            <a:br>
              <a:rPr sz="3600"/>
            </a:br>
            <a:br>
              <a:rPr sz="3600"/>
            </a:b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a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anybody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ot a dog?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 кого-нибудь есть собака?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nothing on the table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столе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ичего не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и наличии местоимени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body,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thing, nowher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ругих отрицани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предложении н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реб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91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body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will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o to the cine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икто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йдёт в ки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thing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to 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них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т ниче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е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y dog i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where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оей собаки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игде 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11:09:38Z</dcterms:created>
  <dc:creator>1</dc:creator>
  <dc:description/>
  <dc:language>en-US</dc:language>
  <cp:lastModifiedBy>1</cp:lastModifiedBy>
  <dcterms:modified xsi:type="dcterms:W3CDTF">2015-11-29T18:00:29Z</dcterms:modified>
  <cp:revision>3</cp:revision>
  <dc:subject/>
  <dc:title> </dc:title>
</cp:coreProperties>
</file>