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AFA-E5AD-4DD3-961B-B3067D90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0F2-34BB-438A-A677-13D3CC04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CE7-931F-48A5-946C-2DA6729B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EF0-2007-44EC-8649-F507D97A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497-88EE-445A-BBC0-8917C457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DDD-58B3-42B5-84A2-6EB481FF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09B-061C-4021-96EF-302C1847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334-6C17-4BE7-A55A-76A6C579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4E8-1CF2-4354-BEEA-E46FCBFF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3AA-9EA1-4DFE-AB45-4F695D2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448-F06B-4219-8F46-3B9FE0B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10A-BF01-4E7D-813D-43D31065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9591-C44B-447E-BE7D-A927E5EDD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032000" cy="295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40338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 r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2519280" cy="165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51128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234936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771640" y="2349360"/>
            <a:ext cx="1871640" cy="172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2376360" cy="165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700360" y="4581360"/>
            <a:ext cx="19429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musical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3200" y="260280"/>
            <a:ext cx="2783160" cy="15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59280" y="26028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220500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843280" y="2205000"/>
            <a:ext cx="194472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79280" y="4437000"/>
            <a:ext cx="2664000" cy="1716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2987640" y="4437000"/>
            <a:ext cx="2160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pp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92360" cy="151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59280" y="260280"/>
            <a:ext cx="2160360" cy="151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411280" y="2276640"/>
            <a:ext cx="2665440" cy="180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50920" y="2276640"/>
            <a:ext cx="1620720" cy="180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79280" y="4508640"/>
            <a:ext cx="2664000" cy="172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987640" y="4508640"/>
            <a:ext cx="1871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ng in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d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403236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84360" y="2276640"/>
            <a:ext cx="3382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21:21:18Z</dcterms:created>
  <dc:creator>1</dc:creator>
  <dc:description/>
  <dc:language>en-US</dc:language>
  <cp:lastModifiedBy>1</cp:lastModifiedBy>
  <dcterms:modified xsi:type="dcterms:W3CDTF">2015-11-29T10:58:59Z</dcterms:modified>
  <cp:revision>3</cp:revision>
  <dc:subject/>
  <dc:title>Pastime</dc:title>
</cp:coreProperties>
</file>