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0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0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0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67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5960" y="160488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5960" y="396432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0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0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0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0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0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0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0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9200" y="396432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0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60488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 rot="20340000">
            <a:off x="609480" y="4807080"/>
            <a:ext cx="1657440" cy="1655640"/>
          </a:xfrm>
          <a:prstGeom prst="rect">
            <a:avLst/>
          </a:prstGeom>
          <a:solidFill>
            <a:srgbClr val="ccffcc">
              <a:alpha val="37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1493640" cy="1513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"/>
          <p:cNvSpPr/>
          <p:nvPr/>
        </p:nvSpPr>
        <p:spPr>
          <a:xfrm flipH="1">
            <a:off x="468360" y="1413000"/>
            <a:ext cx="71280" cy="5184720"/>
          </a:xfrm>
          <a:prstGeom prst="rect">
            <a:avLst/>
          </a:prstGeom>
          <a:solidFill>
            <a:srgbClr val="969696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539640" y="6524640"/>
            <a:ext cx="5040360" cy="73080"/>
          </a:xfrm>
          <a:prstGeom prst="rect">
            <a:avLst/>
          </a:prstGeom>
          <a:solidFill>
            <a:srgbClr val="969696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3780000" y="260280"/>
            <a:ext cx="5040000" cy="73080"/>
          </a:xfrm>
          <a:prstGeom prst="rect">
            <a:avLst/>
          </a:prstGeom>
          <a:solidFill>
            <a:srgbClr val="969696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5435640" y="476280"/>
            <a:ext cx="3384360" cy="71280"/>
          </a:xfrm>
          <a:prstGeom prst="rect">
            <a:avLst/>
          </a:prstGeom>
          <a:solidFill>
            <a:srgbClr val="969696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6732720" y="692280"/>
            <a:ext cx="2089080" cy="72720"/>
          </a:xfrm>
          <a:prstGeom prst="rect">
            <a:avLst/>
          </a:prstGeom>
          <a:solidFill>
            <a:srgbClr val="969696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 flipH="1">
            <a:off x="8748720" y="260280"/>
            <a:ext cx="71280" cy="5184720"/>
          </a:xfrm>
          <a:prstGeom prst="rect">
            <a:avLst/>
          </a:prstGeom>
          <a:solidFill>
            <a:srgbClr val="969696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0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78920"/>
            <a:ext cx="5302440" cy="13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c4c4c"/>
                </a:solidFill>
                <a:latin typeface="Comic Sans MS"/>
              </a:rPr>
              <a:t>История вторая  «Познаватель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720720" y="1440000"/>
            <a:ext cx="79200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c4c4c"/>
                </a:solidFill>
                <a:latin typeface="Comic Sans MS"/>
              </a:rPr>
              <a:t>«Природой восхищение — источник вдохнове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140360" y="2519280"/>
            <a:ext cx="450036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Родная природа прекрасна и удивитель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Вызывает у человека чувства восхититель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Любовь и душевные волнения буд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А мы – </a:t>
            </a:r>
            <a:r>
              <a:rPr b="1" lang="ru-RU" sz="2800" spc="-1" strike="noStrike">
                <a:solidFill>
                  <a:srgbClr val="4c4c4c"/>
                </a:solidFill>
                <a:latin typeface="Comic Sans MS"/>
              </a:rPr>
              <a:t>Творческие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лю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C:\Users\Боря\AppData\Local\Temp\Rar$DIa0.021\№1.jpg"/>
          <p:cNvPicPr/>
          <p:nvPr/>
        </p:nvPicPr>
        <p:blipFill>
          <a:blip r:embed="rId1"/>
          <a:stretch/>
        </p:blipFill>
        <p:spPr>
          <a:xfrm>
            <a:off x="611280" y="2637000"/>
            <a:ext cx="3462120" cy="267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68360" y="2492280"/>
            <a:ext cx="845964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4c4c4c"/>
                </a:solidFill>
                <a:latin typeface="Comic Sans MS"/>
              </a:rPr>
              <a:t>Задач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i="1" lang="ru-RU" sz="3600" spc="-1" strike="noStrike">
                <a:solidFill>
                  <a:srgbClr val="4c4c4c"/>
                </a:solidFill>
                <a:latin typeface="Comic Sans MS"/>
              </a:rPr>
              <a:t>1.Найти  примеры использования образа сойки в народном творчеств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4c4c4c"/>
                </a:solidFill>
                <a:latin typeface="Comic Sans MS"/>
              </a:rPr>
              <a:t>культурных традициях наро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Группа 4"/>
          <p:cNvGrpSpPr/>
          <p:nvPr/>
        </p:nvGrpSpPr>
        <p:grpSpPr>
          <a:xfrm>
            <a:off x="539640" y="404640"/>
            <a:ext cx="8280360" cy="2457720"/>
            <a:chOff x="539640" y="404640"/>
            <a:chExt cx="8280360" cy="2457720"/>
          </a:xfrm>
        </p:grpSpPr>
        <p:sp>
          <p:nvSpPr>
            <p:cNvPr id="52" name="Text Box 2"/>
            <p:cNvSpPr/>
            <p:nvPr/>
          </p:nvSpPr>
          <p:spPr>
            <a:xfrm>
              <a:off x="1619280" y="404640"/>
              <a:ext cx="2438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000" spc="-1" strike="noStrike">
                  <a:solidFill>
                    <a:srgbClr val="4c4c4c"/>
                  </a:solidFill>
                  <a:latin typeface="Comic Sans MS"/>
                </a:rPr>
                <a:t>Гипотеза: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Text Box 3"/>
            <p:cNvSpPr/>
            <p:nvPr/>
          </p:nvSpPr>
          <p:spPr>
            <a:xfrm>
              <a:off x="539640" y="1125360"/>
              <a:ext cx="8280360" cy="17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4c4c4c"/>
                  </a:solidFill>
                  <a:latin typeface="Comic Sans MS"/>
                </a:rPr>
                <a:t>Если птица красива, значит  ее образ имеет отображение в культуре</a:t>
              </a:r>
              <a:r>
                <a:rPr b="1" i="1" lang="ru-RU" sz="3600" spc="-1" strike="noStrike">
                  <a:solidFill>
                    <a:srgbClr val="4c4c4c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759280" y="1619280"/>
            <a:ext cx="3060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c4c4c"/>
                </a:solidFill>
                <a:latin typeface="Comic Sans MS"/>
              </a:rPr>
              <a:t>Издревле люди уважительно относились к птице-сойке. Эта любовь находит свое отражение в народных промысл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728800" y="1778040"/>
            <a:ext cx="3030480" cy="218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Text Box 3"/>
          <p:cNvSpPr/>
          <p:nvPr/>
        </p:nvSpPr>
        <p:spPr>
          <a:xfrm>
            <a:off x="285840" y="357120"/>
            <a:ext cx="75596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Comic Sans MS"/>
              </a:rPr>
              <a:t>Образ сойки в народн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4c4c4c"/>
                </a:solidFill>
                <a:latin typeface="Comic Sans MS"/>
              </a:rPr>
              <a:t>творче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76640" y="3130560"/>
            <a:ext cx="1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976640" y="3130560"/>
            <a:ext cx="1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976640" y="3130560"/>
            <a:ext cx="1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539640" y="3600360"/>
            <a:ext cx="2519640" cy="301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Text Box 8"/>
          <p:cNvSpPr/>
          <p:nvPr/>
        </p:nvSpPr>
        <p:spPr>
          <a:xfrm>
            <a:off x="3240000" y="4140360"/>
            <a:ext cx="2225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Образ сойки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русских мотив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34960" y="1609560"/>
            <a:ext cx="81057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4c4c4c"/>
                </a:solidFill>
                <a:latin typeface="Comic Sans MS"/>
              </a:rPr>
              <a:t>В Православном русском «Народном календаре» один из дней декабря считается Сойкиным днём. «Птица сойка - из рода вороньего. О девяти зеркальцах её крылья. Просит она заступничества у вороньей стаи, у метели – крутели за встреченного в эти дни. И надобно почесть чудесную птицу, а коли она к окну прилетит или у крыльца станет кричать, – то это предвестие хороше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700360" y="5400720"/>
            <a:ext cx="59403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4c4c4c"/>
                </a:solidFill>
                <a:latin typeface="Comic Sans MS"/>
              </a:rPr>
              <a:t>Открывает птица-сойка грядущее, хлопочет о счастье твоем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85840" y="357120"/>
            <a:ext cx="75596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Comic Sans MS"/>
              </a:rPr>
              <a:t>Образ сойки в народн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4c4c4c"/>
                </a:solidFill>
                <a:latin typeface="Comic Sans MS"/>
              </a:rPr>
              <a:t>творче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3640" y="1628280"/>
            <a:ext cx="5580000" cy="48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Comic Sans MS"/>
              </a:rPr>
              <a:t>Узнав из народного календаря  о такой удивительной способности нашей «красавицы», мы решили назвать своё иссле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4c4c4c"/>
                </a:solidFill>
                <a:latin typeface="Comic Sans MS"/>
              </a:rPr>
              <a:t>«Птичий Дон Кихот», так как она предстала перед нами  совсем в новой «ипостаси» - «благородного рыцаря», «рыцаря-заступ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673200" y="360360"/>
            <a:ext cx="66135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Comic Sans MS"/>
              </a:rPr>
              <a:t>Образ сойки в  народном творче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2700360" cy="328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Comic Sans MS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85880" y="1285560"/>
            <a:ext cx="796608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Наша гипотеза «Если птица красива, значит  ее образ имеет отображение в культуре» подтвердилась. Образ красивой и громкоголосой птицы имеет отражение в русской культ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Конечно же, дети, воспитанные на таких традициях, будут относиться к природе, как к своей матери: бережно, с любовь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трепетно, сохраняя и преумножая 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             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богатства для своих будущих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24:19Z</dcterms:created>
  <dc:creator>ыыы</dc:creator>
  <dc:description/>
  <dc:language>en-US</dc:language>
  <cp:lastModifiedBy>Mew</cp:lastModifiedBy>
  <dcterms:modified xsi:type="dcterms:W3CDTF">2016-05-31T11:07:22Z</dcterms:modified>
  <cp:revision>19</cp:revision>
  <dc:subject/>
  <dc:title>Слайд 1</dc:title>
</cp:coreProperties>
</file>