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250920" y="189000"/>
            <a:ext cx="8713800" cy="71280"/>
          </a:xfrm>
          <a:prstGeom prst="rect">
            <a:avLst/>
          </a:prstGeom>
          <a:solidFill>
            <a:srgbClr val="33333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 flipV="1">
            <a:off x="250920" y="6593760"/>
            <a:ext cx="8642160" cy="73080"/>
          </a:xfrm>
          <a:prstGeom prst="rect">
            <a:avLst/>
          </a:prstGeom>
          <a:solidFill>
            <a:srgbClr val="33333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 flipH="1" rot="16200000">
            <a:off x="-2953440" y="3392280"/>
            <a:ext cx="6480000" cy="73080"/>
          </a:xfrm>
          <a:prstGeom prst="rect">
            <a:avLst/>
          </a:prstGeom>
          <a:solidFill>
            <a:srgbClr val="33333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 flipH="1" rot="16200000">
            <a:off x="5688360" y="3392280"/>
            <a:ext cx="6480000" cy="73080"/>
          </a:xfrm>
          <a:prstGeom prst="rect">
            <a:avLst/>
          </a:prstGeom>
          <a:solidFill>
            <a:srgbClr val="33333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75;&#1086;&#1090;&#1086;&#1074;&#1086;.og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88;&#1072;&#1082;&#1090;&#1080;&#1095;&#1077;&#1089;&#1082;&#1072;&#1103;%20&#1088;&#1072;&#1073;&#1086;&#1090;&#1072;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457200" y="272880"/>
            <a:ext cx="82296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omic Sans MS"/>
              </a:rPr>
              <a:t>История первая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Comic Sans MS"/>
              </a:rPr>
              <a:t>  «Определительная»</a:t>
            </a:r>
            <a:br>
              <a:rPr sz="4000"/>
            </a:br>
            <a:r>
              <a:rPr b="1" i="1" lang="ru-RU" sz="3600" spc="-1" strike="noStrike">
                <a:solidFill>
                  <a:srgbClr val="660066"/>
                </a:solidFill>
                <a:latin typeface="Comic Sans MS"/>
              </a:rPr>
              <a:t>«Какова птичка, такова и клич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1079640" y="2519280"/>
            <a:ext cx="73800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39640" y="2340000"/>
            <a:ext cx="450072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Comic Sans MS"/>
              </a:rPr>
              <a:t>Чтобы птицу распознать, ее надо описать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Comic Sans MS"/>
              </a:rPr>
              <a:t>Какие перышки, какой «носок»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Comic Sans MS"/>
              </a:rPr>
              <a:t>Какой у этой птички голос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Comic Sans MS"/>
              </a:rPr>
              <a:t>Это метод описательны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Comic Sans MS"/>
              </a:rPr>
              <a:t>А мы - самые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Наблюда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C:\Users\Боря\AppData\Local\Temp\Rar$DIa0.871\№1.jpg"/>
          <p:cNvPicPr/>
          <p:nvPr/>
        </p:nvPicPr>
        <p:blipFill>
          <a:blip r:embed="rId1"/>
          <a:stretch/>
        </p:blipFill>
        <p:spPr>
          <a:xfrm>
            <a:off x="5219640" y="2349360"/>
            <a:ext cx="2933640" cy="393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539640" y="3603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omic Sans MS"/>
              </a:rPr>
              <a:t>Гипотез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Comic Sans MS"/>
              </a:rPr>
              <a:t>Если птичка красива, значит её название связано с внешним вид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Группа 5"/>
          <p:cNvGrpSpPr/>
          <p:nvPr/>
        </p:nvGrpSpPr>
        <p:grpSpPr>
          <a:xfrm>
            <a:off x="539640" y="2719440"/>
            <a:ext cx="8280360" cy="3565440"/>
            <a:chOff x="539640" y="2719440"/>
            <a:chExt cx="8280360" cy="3565440"/>
          </a:xfrm>
        </p:grpSpPr>
        <p:sp>
          <p:nvSpPr>
            <p:cNvPr id="48" name="Text Box 2"/>
            <p:cNvSpPr/>
            <p:nvPr/>
          </p:nvSpPr>
          <p:spPr>
            <a:xfrm>
              <a:off x="539640" y="5097600"/>
              <a:ext cx="792000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200" spc="-1" strike="noStrike">
                  <a:solidFill>
                    <a:srgbClr val="660066"/>
                  </a:solidFill>
                  <a:latin typeface="Comic Sans MS"/>
                </a:rPr>
                <a:t>2</a:t>
              </a:r>
              <a:r>
                <a:rPr b="0" i="1" lang="ru-RU" sz="3600" spc="-1" strike="noStrike">
                  <a:solidFill>
                    <a:srgbClr val="660066"/>
                  </a:solidFill>
                  <a:latin typeface="Comic Sans MS"/>
                </a:rPr>
                <a:t>.Познакомиться с историей названия рода «Сойка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Text Box 3"/>
            <p:cNvSpPr/>
            <p:nvPr/>
          </p:nvSpPr>
          <p:spPr>
            <a:xfrm>
              <a:off x="3595680" y="2719440"/>
              <a:ext cx="21636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660066"/>
                  </a:solidFill>
                  <a:latin typeface="Comic Sans MS"/>
                </a:rPr>
                <a:t>Задачи: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39640" y="3419280"/>
              <a:ext cx="828036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660066"/>
                  </a:solidFill>
                  <a:latin typeface="Comic Sans MS"/>
                </a:rPr>
                <a:t>1. Определить принадлежность «незнакомки» к отряду, семейству и виду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2880"/>
            <a:ext cx="82296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079640" y="2519280"/>
            <a:ext cx="73800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Описание «незнаком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92000" y="1440000"/>
            <a:ext cx="514692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Птица, крупнее  средних размеров, летающая, живет в лесу. По строению клюва — растительнояд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Отряд Воробьин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Довольно крупная птица с крепким телосложением, сильными ногами, прямым крепким клювом. Обильное оперение. Растительнояд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Семейство Ворон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92120" y="1612800"/>
            <a:ext cx="2881440" cy="333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2880"/>
            <a:ext cx="82296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079640" y="2519280"/>
            <a:ext cx="73800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8226360" cy="8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Описание «незнаком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600360" y="1109520"/>
            <a:ext cx="52196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Довольно крупная птица с голубым «зеркальцем» на сгибе крыла , черными усами на сероватой голове. Затылок, шея, спина  и грудь окрашены  в винно-бурый цвет. Маховые и рулевые перья черные. Надхвостье и подхвостье белые. Клюв черный, лапы бурые, глаза голуб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Вид Сойка обыкновен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В ХМАО-Югре обитает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подвид Сойка сибирская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с рыжеватым оперением на голове и спин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808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7" descr="C:\Users\Боря\AppData\Local\Temp\Rar$DIa0.212\№5.jpg"/>
          <p:cNvPicPr/>
          <p:nvPr/>
        </p:nvPicPr>
        <p:blipFill>
          <a:blip r:embed="rId1"/>
          <a:srcRect l="6688" t="0" r="45274" b="0"/>
          <a:stretch/>
        </p:blipFill>
        <p:spPr>
          <a:xfrm>
            <a:off x="468360" y="1700280"/>
            <a:ext cx="2922480" cy="434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1700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5d2884"/>
                </a:solidFill>
                <a:latin typeface="Comic Sans MS"/>
              </a:rPr>
              <a:t>Поведение со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492360" y="1411200"/>
            <a:ext cx="55436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d2884"/>
                </a:solidFill>
                <a:latin typeface="Comic Sans MS"/>
              </a:rPr>
              <a:t>Сойка запасает плоды и семена разных деревьев. За два месяца одна сойка устраивает до 2500 «кладовок».  Из всех своих запасов в холодные и снежные зимы сойка сможет найти лишь 10%. Практически бескорыстно участвует она в благородном деле распространения ценных пород деревь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d2884"/>
                </a:solidFill>
                <a:latin typeface="Comic Sans MS"/>
              </a:rPr>
              <a:t>Сойка </a:t>
            </a:r>
            <a:r>
              <a:rPr b="0" lang="ru-RU" sz="2400" spc="-1" strike="noStrike" u="sng">
                <a:solidFill>
                  <a:srgbClr val="7030a0"/>
                </a:solidFill>
                <a:uFillTx/>
                <a:latin typeface="Comic Sans MS"/>
                <a:hlinkClick r:id="rId1"/>
              </a:rPr>
              <a:t>может копировать услышанные зв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Рисунок 7" descr=""/>
          <p:cNvPicPr/>
          <p:nvPr/>
        </p:nvPicPr>
        <p:blipFill>
          <a:blip r:embed="rId2"/>
          <a:stretch/>
        </p:blipFill>
        <p:spPr>
          <a:xfrm>
            <a:off x="498600" y="909720"/>
            <a:ext cx="2952720" cy="2435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"/>
          <p:cNvPicPr/>
          <p:nvPr/>
        </p:nvPicPr>
        <p:blipFill>
          <a:blip r:embed="rId3"/>
          <a:stretch/>
        </p:blipFill>
        <p:spPr>
          <a:xfrm>
            <a:off x="950760" y="3652920"/>
            <a:ext cx="1981440" cy="2165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324000" y="3344760"/>
            <a:ext cx="33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5d2884"/>
                </a:solidFill>
                <a:latin typeface="Comic Sans MS"/>
              </a:rPr>
              <a:t>Умная сойка распространяет плод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324000" y="593568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5d2884"/>
                </a:solidFill>
                <a:latin typeface="Comic Sans MS"/>
              </a:rPr>
              <a:t>Бельгийская марка с изображением сой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31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omic Sans MS"/>
              </a:rPr>
              <a:t>История названия 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16360" y="1260360"/>
            <a:ext cx="518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Из Интернета мы узнали, что слово сойка – уменьшительная форма от древнерусского названия этой птицы «соя».</a:t>
            </a: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 Предполагается, что название родственно глаголу сиять, и дано птице за яркое оперение. Птичка действительно «сияет» на фоне первого снега с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своими рыжими перышками и красивыми полосочками белого и синего  цвета на крылыш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C:\Users\Боря\AppData\Local\Temp\Rar$DIa0.791\№6.jpg"/>
          <p:cNvPicPr/>
          <p:nvPr/>
        </p:nvPicPr>
        <p:blipFill>
          <a:blip r:embed="rId1"/>
          <a:stretch/>
        </p:blipFill>
        <p:spPr>
          <a:xfrm>
            <a:off x="324000" y="2133720"/>
            <a:ext cx="3527280" cy="292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2880"/>
            <a:ext cx="82296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079640" y="2519280"/>
            <a:ext cx="73800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178920"/>
            <a:ext cx="822492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0360" y="1079640"/>
            <a:ext cx="84596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Comic Sans MS"/>
              </a:rPr>
              <a:t>Наша гипоте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Comic Sans MS"/>
              </a:rPr>
              <a:t>«Если птичка красива, значит её название связано с внешним видом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Comic Sans MS"/>
              </a:rPr>
              <a:t>оказалась вер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Comic Sans MS"/>
              </a:rPr>
              <a:t>Очень часто животные получают название, связанное с внешним видом, образом жизни или поведение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Comic Sans MS"/>
              </a:rPr>
              <a:t>Но это совсем не обязатель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19240"/>
            <a:ext cx="82249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95280" y="1469880"/>
            <a:ext cx="864072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Comic Sans MS"/>
              </a:rPr>
              <a:t>Выполняя свое исследование мы научились описывать животных и работать с атласом-определителем  птиц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Comic Sans MS"/>
              </a:rPr>
              <a:t>Для своих товарищей мы составили  </a:t>
            </a:r>
            <a:r>
              <a:rPr b="0" lang="ru-RU" sz="3600" spc="-1" strike="noStrike" u="sng">
                <a:solidFill>
                  <a:srgbClr val="7030a0"/>
                </a:solidFill>
                <a:uFillTx/>
                <a:latin typeface="Comic Sans MS"/>
                <a:hlinkClick r:id="rId1"/>
              </a:rPr>
              <a:t>инструкцию</a:t>
            </a:r>
            <a:r>
              <a:rPr b="0" lang="ru-RU" sz="3600" spc="-1" strike="noStrike">
                <a:solidFill>
                  <a:srgbClr val="660066"/>
                </a:solidFill>
                <a:latin typeface="Comic Sans MS"/>
              </a:rPr>
              <a:t> описания и классификации птиц, по которой можно закрепить полученные знания и ум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32:02Z</dcterms:created>
  <dc:creator>ыыы</dc:creator>
  <dc:description/>
  <dc:language>en-US</dc:language>
  <cp:lastModifiedBy>Mew</cp:lastModifiedBy>
  <dcterms:modified xsi:type="dcterms:W3CDTF">2016-05-31T11:04:13Z</dcterms:modified>
  <cp:revision>27</cp:revision>
  <dc:subject/>
  <dc:title>Слайд 1</dc:title>
</cp:coreProperties>
</file>