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1932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949560"/>
            <a:ext cx="819324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55160" y="160452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55160" y="3949560"/>
            <a:ext cx="399816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2704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97600" y="160452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2704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97600" y="3949560"/>
            <a:ext cx="2638080" cy="21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 flipH="1">
            <a:off x="324000" y="189000"/>
            <a:ext cx="71280" cy="619272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 flipH="1">
            <a:off x="179280" y="333360"/>
            <a:ext cx="712944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 flipH="1">
            <a:off x="4572000" y="6524640"/>
            <a:ext cx="439272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 flipH="1">
            <a:off x="8748720" y="1989000"/>
            <a:ext cx="71280" cy="47530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"/>
          <p:cNvSpPr/>
          <p:nvPr/>
        </p:nvSpPr>
        <p:spPr>
          <a:xfrm flipH="1">
            <a:off x="324000" y="189000"/>
            <a:ext cx="71280" cy="619272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 flipH="1">
            <a:off x="179280" y="333360"/>
            <a:ext cx="712944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 flipH="1">
            <a:off x="4572000" y="6524640"/>
            <a:ext cx="439272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 flipH="1">
            <a:off x="8748720" y="1989000"/>
            <a:ext cx="71280" cy="47530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4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"/>
          <p:cNvSpPr/>
          <p:nvPr/>
        </p:nvSpPr>
        <p:spPr>
          <a:xfrm flipH="1">
            <a:off x="324000" y="189000"/>
            <a:ext cx="71280" cy="619272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 flipH="1">
            <a:off x="179280" y="333360"/>
            <a:ext cx="712944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 flipH="1">
            <a:off x="4572000" y="6524640"/>
            <a:ext cx="439272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 flipH="1">
            <a:off x="8748720" y="1989000"/>
            <a:ext cx="71280" cy="47530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4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"/>
          <p:cNvSpPr/>
          <p:nvPr/>
        </p:nvSpPr>
        <p:spPr>
          <a:xfrm flipH="1">
            <a:off x="324000" y="189000"/>
            <a:ext cx="71280" cy="619272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"/>
          <p:cNvSpPr/>
          <p:nvPr/>
        </p:nvSpPr>
        <p:spPr>
          <a:xfrm flipH="1">
            <a:off x="179280" y="333360"/>
            <a:ext cx="712944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 flipH="1">
            <a:off x="4572000" y="6524640"/>
            <a:ext cx="439272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 flipH="1">
            <a:off x="8748720" y="1989000"/>
            <a:ext cx="71280" cy="47530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2" descr=""/>
          <p:cNvPicPr/>
          <p:nvPr/>
        </p:nvPicPr>
        <p:blipFill>
          <a:blip r:embed="rId4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 flipH="1">
            <a:off x="324000" y="189000"/>
            <a:ext cx="71280" cy="619272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 flipH="1">
            <a:off x="179280" y="333360"/>
            <a:ext cx="712944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 flipH="1">
            <a:off x="4572000" y="6524640"/>
            <a:ext cx="439272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 flipH="1">
            <a:off x="8748720" y="1989000"/>
            <a:ext cx="71280" cy="47530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4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 flipH="1">
            <a:off x="324000" y="189000"/>
            <a:ext cx="71280" cy="619272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 flipH="1">
            <a:off x="179280" y="333360"/>
            <a:ext cx="712944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 flipH="1">
            <a:off x="4572000" y="6524640"/>
            <a:ext cx="439272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 flipH="1">
            <a:off x="8748720" y="1989000"/>
            <a:ext cx="71280" cy="47530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4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 flipH="1">
            <a:off x="324000" y="189000"/>
            <a:ext cx="71280" cy="619272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 flipH="1">
            <a:off x="179280" y="333360"/>
            <a:ext cx="712944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 flipH="1">
            <a:off x="4572000" y="6524640"/>
            <a:ext cx="439272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 flipH="1">
            <a:off x="8748720" y="1989000"/>
            <a:ext cx="71280" cy="47530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4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 flipH="1">
            <a:off x="324000" y="189000"/>
            <a:ext cx="71280" cy="619272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 flipH="1">
            <a:off x="179280" y="333360"/>
            <a:ext cx="712944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 flipH="1">
            <a:off x="4572000" y="6524640"/>
            <a:ext cx="439272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 flipH="1">
            <a:off x="8748720" y="1989000"/>
            <a:ext cx="71280" cy="47530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4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"/>
          <p:cNvSpPr/>
          <p:nvPr/>
        </p:nvSpPr>
        <p:spPr>
          <a:xfrm flipH="1">
            <a:off x="324000" y="189000"/>
            <a:ext cx="71280" cy="619272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 flipH="1">
            <a:off x="179280" y="333360"/>
            <a:ext cx="712944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 flipH="1">
            <a:off x="4572000" y="6524640"/>
            <a:ext cx="439272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 flipH="1">
            <a:off x="8748720" y="1989000"/>
            <a:ext cx="71280" cy="47530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4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"/>
          <p:cNvSpPr/>
          <p:nvPr/>
        </p:nvSpPr>
        <p:spPr>
          <a:xfrm flipH="1">
            <a:off x="324000" y="189000"/>
            <a:ext cx="71280" cy="619272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 flipH="1">
            <a:off x="179280" y="333360"/>
            <a:ext cx="712944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 flipH="1">
            <a:off x="4572000" y="6524640"/>
            <a:ext cx="4392720" cy="712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 flipH="1">
            <a:off x="8748720" y="1989000"/>
            <a:ext cx="71280" cy="4753080"/>
          </a:xfrm>
          <a:prstGeom prst="rect">
            <a:avLst/>
          </a:prstGeom>
          <a:solidFill>
            <a:srgbClr val="99cc00">
              <a:alpha val="23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3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4"/>
          <a:stretch/>
        </p:blipFill>
        <p:spPr>
          <a:xfrm>
            <a:off x="0" y="71280"/>
            <a:ext cx="9101160" cy="67154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1932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1932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%5BBIO7_01-03%5D_%5BTI_03%5D.htm" TargetMode="Externa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%5BBIO7_01-03%5D_%5BIM_01%5D.swf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&#1053;&#1072;&#1073;&#1083;&#1102;&#1076;&#1072;&#1090;&#1077;&#1083;&#1100;&#1085;&#1099;&#1077;.ppt" TargetMode="External"/><Relationship Id="rId2" Type="http://schemas.openxmlformats.org/officeDocument/2006/relationships/hyperlink" Target="&#1090;&#1074;&#1086;&#1088;&#1095;&#1077;&#1089;&#1082;&#1080;&#1077;.ppt" TargetMode="External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3959280" y="3600360"/>
            <a:ext cx="468000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2"/>
          <p:cNvSpPr/>
          <p:nvPr/>
        </p:nvSpPr>
        <p:spPr>
          <a:xfrm>
            <a:off x="557280" y="514440"/>
            <a:ext cx="8082000" cy="21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8956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8951760"/>
                <a:tab algn="l" pos="9401040"/>
                <a:tab algn="l" pos="98503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резентация к уроку по учеб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8956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8951760"/>
                <a:tab algn="l" pos="9401040"/>
                <a:tab algn="l" pos="98503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предмету «Биология» в 7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8956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8951760"/>
                <a:tab algn="l" pos="9401040"/>
                <a:tab algn="l" pos="98503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на тему «Классификация животных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8956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8951760"/>
                <a:tab algn="l" pos="9401040"/>
                <a:tab algn="l" pos="98503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основные систематические групп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8956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8951760"/>
                <a:tab algn="l" pos="9401040"/>
                <a:tab algn="l" pos="98503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8956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8951760"/>
                <a:tab algn="l" pos="9401040"/>
                <a:tab algn="l" pos="985032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63640"/>
                <a:tab algn="l" pos="1312920"/>
                <a:tab algn="l" pos="1762200"/>
                <a:tab algn="l" pos="2211480"/>
                <a:tab algn="l" pos="2660760"/>
                <a:tab algn="l" pos="3110040"/>
                <a:tab algn="l" pos="3559320"/>
                <a:tab algn="l" pos="4008600"/>
                <a:tab algn="l" pos="4457880"/>
                <a:tab algn="l" pos="4906800"/>
                <a:tab algn="l" pos="5389560"/>
                <a:tab algn="l" pos="5805360"/>
                <a:tab algn="l" pos="6254640"/>
                <a:tab algn="l" pos="6703920"/>
                <a:tab algn="l" pos="7153200"/>
                <a:tab algn="l" pos="7602480"/>
                <a:tab algn="l" pos="8051760"/>
                <a:tab algn="l" pos="8501040"/>
                <a:tab algn="l" pos="8950320"/>
                <a:tab algn="l" pos="8951760"/>
                <a:tab algn="l" pos="9401040"/>
                <a:tab algn="l" pos="985032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385920" y="5199120"/>
            <a:ext cx="65354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4143240" y="2998800"/>
            <a:ext cx="485964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Разработчик презентации Шипилова Елена Алексеевна, учитель биологии и дополнительного образ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МБОУ СОШ №1 города Сургута ХМАО-Ю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6" descr="C:\Users\Боря\AppData\Local\Temp\Rar$DIa0.697\№1.jpg"/>
          <p:cNvPicPr/>
          <p:nvPr/>
        </p:nvPicPr>
        <p:blipFill>
          <a:blip r:embed="rId1"/>
          <a:stretch/>
        </p:blipFill>
        <p:spPr>
          <a:xfrm>
            <a:off x="237960" y="3413160"/>
            <a:ext cx="384984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196480" cy="50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Привлекает она к себе «рыцарей Дон Кихотов» без страха и упрёка, которые шли сюда за духом романтики, бескорыстно, из желания быть полезными и нужными Отчиз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Здесь не только люди – Дон Кихоты, здесь птицы Дон Кихоты. Трудятся они не для блага своего, а выполняют вселенскую роль «рождателей леса». И мы верим, что заглянувшая в эти дни к нам в окно сойка – предвестие благополучия для нашей любимой школы, для нашего любимого города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Домашнее задание: параграф 3, вопросы 4,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Творческое задание: выполнить рисунок птицы нашего 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3635280" y="692280"/>
            <a:ext cx="53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Comic Sans MS"/>
              </a:rPr>
              <a:t>Однажды утром мы с одноклассниками на перемене  увидели в окне удивительную, очень необычную птичку. И хотя, птичка была явно немного напугана, но всё-таки с любопытством глядела на нас, а мы на неё.</a:t>
            </a:r>
            <a:r>
              <a:rPr b="0" i="1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Comic Sans MS"/>
              </a:rPr>
              <a:t>Эта птичка нас заинтересовала своим внешним видом и поведением, нам захотелось узнать как зовут эту красавицу. Мы провели свое исследование на уроке би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329544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"/>
          <p:cNvSpPr/>
          <p:nvPr/>
        </p:nvSpPr>
        <p:spPr>
          <a:xfrm>
            <a:off x="900000" y="60012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Comic Sans MS"/>
              </a:rPr>
              <a:t>Птичий Дон Кихо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4014720" y="1770120"/>
            <a:ext cx="46800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Comic Sans MS"/>
              </a:rPr>
              <a:t>Природа-мать! Когда б таких су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Comic Sans MS"/>
              </a:rPr>
              <a:t>Ты иногда не посылала ми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Comic Sans MS"/>
              </a:rPr>
              <a:t>Заглохла б нива жиз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Comic Sans MS"/>
              </a:rPr>
              <a:t>(по мотивам стихотворения Н.А.Некрасов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4" descr="C:\Users\Боря\AppData\Local\Temp\Rar$DIa0.513\№8.jpg"/>
          <p:cNvPicPr/>
          <p:nvPr/>
        </p:nvPicPr>
        <p:blipFill>
          <a:blip r:embed="rId1"/>
          <a:stretch/>
        </p:blipFill>
        <p:spPr>
          <a:xfrm>
            <a:off x="539640" y="1916280"/>
            <a:ext cx="3349800" cy="238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7" name="Прямоугольник 2"/>
          <p:cNvSpPr/>
          <p:nvPr/>
        </p:nvSpPr>
        <p:spPr>
          <a:xfrm>
            <a:off x="895320" y="515772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Основополагающий вопрос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Как понять свое предназнач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1"/>
          <p:cNvSpPr/>
          <p:nvPr/>
        </p:nvSpPr>
        <p:spPr>
          <a:xfrm>
            <a:off x="395280" y="522360"/>
            <a:ext cx="8569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  <a:ea typeface="SimSun"/>
              </a:rPr>
              <a:t>Цель: </a:t>
            </a:r>
            <a:r>
              <a:rPr b="0" lang="ru-RU" sz="3200" spc="-1" strike="noStrike">
                <a:solidFill>
                  <a:srgbClr val="006600"/>
                </a:solidFill>
                <a:latin typeface="Comic Sans MS"/>
                <a:ea typeface="SimSun"/>
              </a:rPr>
              <a:t>определить название и место в системе природы неизвестной пт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  <a:ea typeface="SimSun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  <a:ea typeface="SimSun"/>
              </a:rPr>
              <a:t>познакомиться с основными таксономическими единицами классификации животных и принципами их классифик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  <a:ea typeface="SimSun"/>
              </a:rPr>
              <a:t>научиться описывать животное, определять его название по атласу–определителю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  <a:ea typeface="SimSun"/>
              </a:rPr>
              <a:t>продолжить познавать удивительный мир и красоту родной прир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  <a:ea typeface="SimSun"/>
              </a:rPr>
              <a:t>найти образ сойки в культурных традиц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390600"/>
            <a:ext cx="8193240" cy="8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Основные по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268280"/>
            <a:ext cx="819324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Систематика</a:t>
            </a: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 – это раздел биологии, который описывает живые организмы, дает им название и </a:t>
            </a: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классифицирует</a:t>
            </a: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, то есть распределяет на родственные группы в общей системе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Таксон</a:t>
            </a: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 - группа организмов, связанных той или иной степенью родства: </a:t>
            </a: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царство, тип, класс, отряд, семейство, род,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Вид</a:t>
            </a:r>
            <a:r>
              <a:rPr b="0" lang="ru-RU" sz="2400" spc="-1" strike="noStrike">
                <a:solidFill>
                  <a:srgbClr val="006600"/>
                </a:solidFill>
                <a:latin typeface="Comic Sans MS"/>
              </a:rPr>
              <a:t>- совокупность особей, имеющих сходное строение, образ жизни, способность скрещиваться и давать плодовитое потомство, населяющих определенную территорию - </a:t>
            </a: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аре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71520" y="939600"/>
            <a:ext cx="819288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Из истории систематики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Объект 3" descr=""/>
          <p:cNvPicPr/>
          <p:nvPr/>
        </p:nvPicPr>
        <p:blipFill>
          <a:blip r:embed="rId1"/>
          <a:stretch/>
        </p:blipFill>
        <p:spPr>
          <a:xfrm>
            <a:off x="479520" y="1062000"/>
            <a:ext cx="2543040" cy="307656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4"/>
          <p:cNvSpPr/>
          <p:nvPr/>
        </p:nvSpPr>
        <p:spPr>
          <a:xfrm>
            <a:off x="3022560" y="1986120"/>
            <a:ext cx="590724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008000"/>
                </a:solidFill>
                <a:uFillTx/>
                <a:latin typeface="Comic Sans MS"/>
                <a:ea typeface="SimSun"/>
                <a:hlinkClick r:id="rId2"/>
              </a:rPr>
              <a:t>Карл Лин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300" spc="-1" strike="noStrike">
                <a:solidFill>
                  <a:srgbClr val="006600"/>
                </a:solidFill>
                <a:latin typeface="Comic Sans MS"/>
                <a:ea typeface="SimSun"/>
              </a:rPr>
              <a:t>установил реальность видов и выделил их главный признак (свободное скрещивание особей одного вида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300" spc="-1" strike="noStrike">
                <a:solidFill>
                  <a:srgbClr val="006600"/>
                </a:solidFill>
                <a:latin typeface="Comic Sans MS"/>
                <a:ea typeface="SimSun"/>
              </a:rPr>
              <a:t>ввел основные единицы систематики: вид, род, семейство, отряд, класс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300" spc="-1" strike="noStrike">
                <a:solidFill>
                  <a:srgbClr val="006600"/>
                </a:solidFill>
                <a:latin typeface="Comic Sans MS"/>
                <a:ea typeface="SimSun"/>
              </a:rPr>
              <a:t>создал систему органического мира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300" spc="-1" strike="noStrike">
                <a:solidFill>
                  <a:srgbClr val="006600"/>
                </a:solidFill>
                <a:latin typeface="Comic Sans MS"/>
                <a:ea typeface="SimSun"/>
              </a:rPr>
              <a:t>ввел бинарную (двойную) номенклатуру названий живых организмов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684360" y="4248000"/>
            <a:ext cx="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395280" y="4248000"/>
            <a:ext cx="2521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Comic Sans MS"/>
              </a:rPr>
              <a:t>Карл Линней, автор лучшей системы классификации живых организмов своего времен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Comic Sans MS"/>
              </a:rPr>
              <a:t>1735 год «Система природы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1"/>
          <p:cNvSpPr/>
          <p:nvPr/>
        </p:nvSpPr>
        <p:spPr>
          <a:xfrm>
            <a:off x="4788000" y="985680"/>
            <a:ext cx="388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Comic Sans MS"/>
              </a:rPr>
              <a:t>Если не будешь знать имён, умрёт и познание вещей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Comic Sans MS"/>
              </a:rPr>
              <a:t>Карл Лин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19288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omic Sans MS"/>
              </a:rPr>
              <a:t>Принципы современной систематики и класс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9680" y="1714680"/>
            <a:ext cx="8193240" cy="44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Все животные объединены в систему соподчиненных групп (таксонов) на основе детального изучения строения, процессов жизнедеятельности, распространения и поведения. Виды обозначаются двумя словами на латинском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Современная систематика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1"/>
          <p:cNvSpPr/>
          <p:nvPr/>
        </p:nvSpPr>
        <p:spPr>
          <a:xfrm>
            <a:off x="519120" y="955800"/>
            <a:ext cx="378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Перед уроком мы провели предварительную работу. Каждому нашлось дело по душе. Мы разделились на группы по интересам и каждая работала в своем направлении. Предлагаем вам свои исследовательские истори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2955960" y="2647800"/>
            <a:ext cx="325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3714840" y="1500120"/>
            <a:ext cx="384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Comic Sans MS"/>
              </a:rPr>
              <a:t>Группа «Наблюдательные»: описание, классификация, история названия рода «Сойк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15"/>
          <p:cNvSpPr/>
          <p:nvPr/>
        </p:nvSpPr>
        <p:spPr>
          <a:xfrm>
            <a:off x="3780000" y="4154400"/>
            <a:ext cx="35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Comic Sans MS"/>
              </a:rPr>
              <a:t>Группа «Творческие»: история об использовании образа сойки в куль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5">
            <a:hlinkClick r:id="rId1"/>
          </p:cNvPr>
          <p:cNvSpPr/>
          <p:nvPr/>
        </p:nvSpPr>
        <p:spPr>
          <a:xfrm>
            <a:off x="7577280" y="1674720"/>
            <a:ext cx="1152360" cy="576360"/>
          </a:xfrm>
          <a:prstGeom prst="rightArrow">
            <a:avLst>
              <a:gd name="adj1" fmla="val 50000"/>
              <a:gd name="adj2" fmla="val 81928"/>
            </a:avLst>
          </a:prstGeom>
          <a:solidFill>
            <a:srgbClr val="ffff00">
              <a:alpha val="20000"/>
            </a:srgbClr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5">
            <a:hlinkClick r:id="rId2"/>
          </p:cNvPr>
          <p:cNvSpPr/>
          <p:nvPr/>
        </p:nvSpPr>
        <p:spPr>
          <a:xfrm>
            <a:off x="7548480" y="4327560"/>
            <a:ext cx="1152720" cy="576360"/>
          </a:xfrm>
          <a:prstGeom prst="rightArrow">
            <a:avLst>
              <a:gd name="adj1" fmla="val 50000"/>
              <a:gd name="adj2" fmla="val 81954"/>
            </a:avLst>
          </a:prstGeom>
          <a:solidFill>
            <a:srgbClr val="ffff00">
              <a:alpha val="20000"/>
            </a:srgbClr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1"/>
          <p:cNvSpPr/>
          <p:nvPr/>
        </p:nvSpPr>
        <p:spPr>
          <a:xfrm>
            <a:off x="3240000" y="0"/>
            <a:ext cx="5759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omic Sans MS"/>
              </a:rPr>
              <a:t>Заключе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Comic Sans MS"/>
              </a:rPr>
              <a:t>Урок оказался для нас  познавательным и поучительным. Мы по-другому, с особой любовью, посмотрели на город, в котором мы живём, на природу, окружающую н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Comic Sans MS"/>
              </a:rPr>
              <a:t>Суровый, холодный край – кладовая земли, наполненная сокровищами: нефтью, газом, лесом и не только, но и богата наша Земля светлым благородным нача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417760" cy="22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7" name="Picture 5" descr="C:\Users\Боря\AppData\Local\Temp\Rar$DIa0.520\№13 .jpg"/>
          <p:cNvPicPr/>
          <p:nvPr/>
        </p:nvPicPr>
        <p:blipFill>
          <a:blip r:embed="rId2"/>
          <a:stretch/>
        </p:blipFill>
        <p:spPr>
          <a:xfrm>
            <a:off x="468360" y="4076640"/>
            <a:ext cx="252108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7:30:32Z</dcterms:created>
  <dc:creator>ыыы</dc:creator>
  <dc:description/>
  <dc:language>en-US</dc:language>
  <cp:lastModifiedBy>Mew</cp:lastModifiedBy>
  <dcterms:modified xsi:type="dcterms:W3CDTF">2016-05-31T10:59:46Z</dcterms:modified>
  <cp:revision>59</cp:revision>
  <dc:subject/>
  <dc:title>Слайд 1</dc:title>
</cp:coreProperties>
</file>