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82D-1353-41BA-9C9A-AA94B639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164-3FC4-48A7-9E3B-A080643B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0FB-2040-4288-A8B0-E38EAC6B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8C3-880C-4BD9-8ED5-0DCB898C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8317-25C9-4B01-B2CF-69FB4C80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02B1-9F76-451F-92F4-209F53B3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C03E-61AD-42A3-9CD7-C317361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BC97-E486-4D76-A150-85D8194E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3477-79DA-4413-B6BA-1B84E65E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09A3-88A7-418E-92B0-DEC3F515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BD9C-254A-4F2E-82F5-EEBB4DA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8EC-D687-495A-A5C0-8CFB4884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34D8-02A0-4631-8B67-1D6A2F9C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64F0-5EA4-4CE9-8544-09E97DE2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B9B9-F24B-40F0-8019-8AB18592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B891-4CDA-4774-97CD-64DC9927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BE2E-F23E-4729-97A4-3D749965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A8F-35B2-46B5-9549-3C186A4F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76C-B1B9-443F-A338-E504B904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786-EC99-40F6-97F7-44D21370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A13-E951-42B9-B433-EE29083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6D2-E5F1-4B1A-86D8-65F90D7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6C6-8789-4AE6-91E7-9078DA54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589-65D6-48E5-AE7A-9779BAF0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E6FD-DB56-4196-894F-006CC7DB9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6A87-E98E-46CF-8F23-2BD41E0A2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ravmir.ru/navodnenie-v-tbilisi-prosim-molitv-foto/" TargetMode="External"/><Relationship Id="rId2" Type="http://schemas.openxmlformats.org/officeDocument/2006/relationships/hyperlink" Target="http://pogoda-dnem.ru/&#1079;&#1077;&#1084;&#1083;&#1077;&#1090;&#1088;&#1103;&#1089;&#1077;&#1085;&#1080;&#1077;-&#1074;-&#1103;&#1087;&#1086;&#1085;&#1080;&#1080;-11-&#1084;&#1072;&#1088;&#1090;&#1072;-2011-&#1075;-&#1092;&#1086;&#1090;&#1086;/" TargetMode="External"/><Relationship Id="rId3" Type="http://schemas.openxmlformats.org/officeDocument/2006/relationships/hyperlink" Target="http://chydesa-mira.ru/wp-content/uploads/2015/12/&#1080;&#1079;&#1074;&#1077;&#1088;&#1078;&#1077;&#1085;&#1080;&#1077;-&#1074;&#1091;&#1083;&#1082;&#1072;&#1085;&#1072;.jp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езентация к уроку по учебному предмету «Английский язык» в 8 классе на тему  «Природные бедствия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765800" y="5300640"/>
            <a:ext cx="583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: Е. Н. Шмакова, 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4, г. Рассказово, Тамбов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6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uess the c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rossword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zzle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 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8360" y="1677960"/>
          <a:ext cx="4751280" cy="5175360"/>
        </p:xfrm>
        <a:graphic>
          <a:graphicData uri="http://schemas.openxmlformats.org/drawingml/2006/table">
            <a:tbl>
              <a:tblPr/>
              <a:tblGrid>
                <a:gridCol w="315720"/>
                <a:gridCol w="319320"/>
                <a:gridCol w="317520"/>
                <a:gridCol w="317520"/>
                <a:gridCol w="315720"/>
                <a:gridCol w="317520"/>
                <a:gridCol w="317520"/>
                <a:gridCol w="317520"/>
                <a:gridCol w="316080"/>
                <a:gridCol w="315720"/>
                <a:gridCol w="316080"/>
                <a:gridCol w="317520"/>
                <a:gridCol w="315720"/>
                <a:gridCol w="316080"/>
                <a:gridCol w="31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5508720" y="1700280"/>
            <a:ext cx="33843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 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Shaking of the ground is typical of …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) A very violent wind is typical of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G) Terrible fire is typical of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I) Hot sun and dry weather are typical of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08720" y="4437000"/>
            <a:ext cx="309564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cal 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5) Heavy rain and a violent storm are typical of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7) Not enough water is typical of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205000"/>
            <a:ext cx="31687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3213000"/>
            <a:ext cx="2232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5300640"/>
            <a:ext cx="22320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6381720"/>
            <a:ext cx="223200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4292640"/>
            <a:ext cx="28728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5805360"/>
            <a:ext cx="287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3789360"/>
            <a:ext cx="289080" cy="1511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5805360"/>
            <a:ext cx="289080" cy="10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708280"/>
            <a:ext cx="2890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metas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about natural disa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pl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What are they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and describe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Where do they happ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Why are they danger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Использованные источн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К «Английский с удовольствием» 8 класс, М.З.Биболет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удиоприложение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 MP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сурсы интерне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pravmir.ru/navodnenie-v-tbilisi-prosim-molitv-foto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pogoda-dnem.ru/землетрясение-в-японии-11-марта-2011-г-фото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chydesa-mira.ru/wp-content/uploads/2015/12/извержение-вулкана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ural Disasters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 Englis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», 8 класс, М.З.Биболет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ural Disast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290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t the pictures and say what the word  “disasters” m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869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д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Объект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1785960" cy="126540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4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1871640" cy="1163520"/>
          </a:xfrm>
          <a:prstGeom prst="rect">
            <a:avLst/>
          </a:prstGeom>
          <a:ln w="0">
            <a:noFill/>
          </a:ln>
        </p:spPr>
      </p:pic>
      <p:pic>
        <p:nvPicPr>
          <p:cNvPr id="107" name="Объект 4" descr=""/>
          <p:cNvPicPr/>
          <p:nvPr/>
        </p:nvPicPr>
        <p:blipFill>
          <a:blip r:embed="rId3"/>
          <a:stretch/>
        </p:blipFill>
        <p:spPr>
          <a:xfrm>
            <a:off x="4500720" y="3213000"/>
            <a:ext cx="1800000" cy="1231920"/>
          </a:xfrm>
          <a:prstGeom prst="rect">
            <a:avLst/>
          </a:prstGeom>
          <a:ln w="0">
            <a:noFill/>
          </a:ln>
        </p:spPr>
      </p:pic>
      <p:pic>
        <p:nvPicPr>
          <p:cNvPr id="108" name="Объект 4" descr=""/>
          <p:cNvPicPr/>
          <p:nvPr/>
        </p:nvPicPr>
        <p:blipFill>
          <a:blip r:embed="rId4"/>
          <a:stretch/>
        </p:blipFill>
        <p:spPr>
          <a:xfrm>
            <a:off x="6516720" y="3213000"/>
            <a:ext cx="1871640" cy="1206720"/>
          </a:xfrm>
          <a:prstGeom prst="rect">
            <a:avLst/>
          </a:prstGeom>
          <a:ln w="0">
            <a:noFill/>
          </a:ln>
        </p:spPr>
      </p:pic>
      <p:pic>
        <p:nvPicPr>
          <p:cNvPr id="109" name="Объект 4" descr=""/>
          <p:cNvPicPr/>
          <p:nvPr/>
        </p:nvPicPr>
        <p:blipFill>
          <a:blip r:embed="rId5"/>
          <a:stretch/>
        </p:blipFill>
        <p:spPr>
          <a:xfrm>
            <a:off x="4500720" y="4581360"/>
            <a:ext cx="1800000" cy="11098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"/>
          <p:cNvPicPr/>
          <p:nvPr/>
        </p:nvPicPr>
        <p:blipFill>
          <a:blip r:embed="rId6"/>
          <a:srcRect l="5553" t="0" r="5553" b="0"/>
          <a:stretch/>
        </p:blipFill>
        <p:spPr>
          <a:xfrm>
            <a:off x="6516720" y="4581360"/>
            <a:ext cx="1871640" cy="110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4797360"/>
            <a:ext cx="2087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kinds of disasters do you k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nad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[tɔ: neıdəu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221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29560" y="460044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can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[vɒl keınəʊ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Объект 4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3816360" cy="2701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4" descr=""/>
          <p:cNvPicPr/>
          <p:nvPr/>
        </p:nvPicPr>
        <p:blipFill>
          <a:blip r:embed="rId2"/>
          <a:stretch/>
        </p:blipFill>
        <p:spPr>
          <a:xfrm>
            <a:off x="5003640" y="1905120"/>
            <a:ext cx="360072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kinds of disasters do you k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[flʌd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437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4280" y="488952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ugh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[drɑʊt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Объект 4" descr=""/>
          <p:cNvPicPr/>
          <p:nvPr/>
        </p:nvPicPr>
        <p:blipFill>
          <a:blip r:embed="rId1"/>
          <a:stretch/>
        </p:blipFill>
        <p:spPr>
          <a:xfrm>
            <a:off x="4932360" y="4076640"/>
            <a:ext cx="3816360" cy="2459160"/>
          </a:xfrm>
          <a:prstGeom prst="rect">
            <a:avLst/>
          </a:prstGeom>
          <a:ln w="0">
            <a:noFill/>
          </a:ln>
        </p:spPr>
      </p:pic>
      <p:pic>
        <p:nvPicPr>
          <p:cNvPr id="123" name="Объект 4" descr=""/>
          <p:cNvPicPr/>
          <p:nvPr/>
        </p:nvPicPr>
        <p:blipFill>
          <a:blip r:embed="rId2"/>
          <a:stretch/>
        </p:blipFill>
        <p:spPr>
          <a:xfrm>
            <a:off x="5003640" y="1905120"/>
            <a:ext cx="367200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kinds of disasters do you k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quak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[ɜ:θkweık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4437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91960" y="481824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rrican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[hʌrıkə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6" descr=""/>
          <p:cNvPicPr/>
          <p:nvPr/>
        </p:nvPicPr>
        <p:blipFill>
          <a:blip r:embed="rId1"/>
          <a:srcRect l="5553" t="0" r="5553" b="0"/>
          <a:stretch/>
        </p:blipFill>
        <p:spPr>
          <a:xfrm>
            <a:off x="4932360" y="4005360"/>
            <a:ext cx="3311640" cy="2205000"/>
          </a:xfrm>
          <a:prstGeom prst="rect">
            <a:avLst/>
          </a:prstGeom>
          <a:ln w="0">
            <a:noFill/>
          </a:ln>
        </p:spPr>
      </p:pic>
      <p:pic>
        <p:nvPicPr>
          <p:cNvPr id="129" name="Объект 4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28644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tch the words and the tex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n earthqu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a hurric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 tor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 drou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6720" y="1599840"/>
            <a:ext cx="5543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a large amount of water which covers a place that is usually dry 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______________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a sudden shaking of the gr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a very violent wind or st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very violent wind in the form of a funnel of air that spins at great spe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a mountain with a hole called a crater in the top. Sometimes lava and gases are thrown from the cr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a long period of dry weather when there is not enough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220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77192E-006 L 0.30382 0.0798 E">
                                      <p:cBhvr>
                                        <p:cTn id="11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07425E-006 L 0.32309 0.11496 E">
                                      <p:cBhvr>
                                        <p:cTn id="11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37659E-006 L 0.33316 0.27596 E">
                                      <p:cBhvr>
                                        <p:cTn id="122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2107E-006 L 0.33403 0.10132 E">
                                      <p:cBhvr>
                                        <p:cTn id="126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1874E-006 L 0.35087 -0.25191 E">
                                      <p:cBhvr>
                                        <p:cTn id="130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7164E-006 L 0.33403 0.26602 E">
                                      <p:cBhvr>
                                        <p:cTn id="134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re can natural disasters happ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49240" y="2330280"/>
          <a:ext cx="7985160" cy="3443400"/>
        </p:xfrm>
        <a:graphic>
          <a:graphicData uri="http://schemas.openxmlformats.org/drawingml/2006/table">
            <a:tbl>
              <a:tblPr/>
              <a:tblGrid>
                <a:gridCol w="1752840"/>
                <a:gridCol w="2168280"/>
                <a:gridCol w="406404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quak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, South America, North America, Euro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an, China, India, Turkey, Peru, Chile, Mexico, the USA, Armenia, the Russian Federation, Portug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rrica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, North Amer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an, the Russian Federation, China, the Philippines, the 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rnado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cano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, Asia, South Amer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y, the Russian Federation, Salvador, Hawa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495600" y="170028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Listen and fill 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627280" y="2997360"/>
            <a:ext cx="21607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3789360"/>
            <a:ext cx="2160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4437000"/>
            <a:ext cx="2160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5157720"/>
            <a:ext cx="21607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2997360"/>
            <a:ext cx="403200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789360"/>
            <a:ext cx="4032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4437000"/>
            <a:ext cx="4032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5157720"/>
            <a:ext cx="4032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2187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e natural disasters dangerous? Why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28846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amage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ред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estroy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зруш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injure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вред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i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уб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urt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ред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ить б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reak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ма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2286000" cy="1577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300720" y="2781360"/>
            <a:ext cx="2519280" cy="190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116000" y="4365720"/>
            <a:ext cx="4246560" cy="2317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364000" y="4724280"/>
            <a:ext cx="3473640" cy="1947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75600" y="162864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describe the pictures, use the wor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0T16:52:01Z</dcterms:created>
  <dc:creator>User</dc:creator>
  <dc:description/>
  <dc:language>en-US</dc:language>
  <cp:lastModifiedBy>User</cp:lastModifiedBy>
  <dcterms:modified xsi:type="dcterms:W3CDTF">2016-10-23T08:02:04Z</dcterms:modified>
  <cp:revision>48</cp:revision>
  <dc:subject/>
  <dc:title>Презентация по теме «Disasters»</dc:title>
</cp:coreProperties>
</file>