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B26C6-7B5E-4058-B81A-8F45866289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306E1-A925-4546-A925-0873B269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51F-6367-4EBD-9BE3-855575C0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BBFA-6C32-48C9-A9B2-E41A5041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F9559-AED5-4A3C-AE4A-FA43A3ED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F704-41D8-4642-B9A8-03B6E966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ptional slide.  This information is not on the out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405-AD77-4F05-A314-319B9D05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EAD-D879-49E9-8E0D-0F27FF0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195-6F59-4448-832E-04A8D4DA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046-CE89-423D-84D6-1613E989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5EE-8726-45F2-94F9-02A4641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03CA-9979-4DDF-9280-89F217E1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B834-12D6-4AE8-B128-94ACFD11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E08A-4955-439A-A007-544F3DB6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EA58-F0DF-49D8-836F-898B97A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0A8E-46BF-4CE3-A8D9-D46399E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422-E8B4-4029-A706-175B65A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051-A281-418B-9FAF-635F0DCD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7A1-D07B-437B-9070-A6479B0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1BB-35E9-45C5-A29B-DA12949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1371-4318-4921-8BE6-BCC2C4EA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9068-1D25-43FC-A8B9-E426D15D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2D6-F9B6-4122-9C5B-36F0BA0A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D3DC-A588-465D-8747-CBD17D18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17A26-847A-415B-A804-118BF492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7E53-3E17-45E6-91CD-D8B15A5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102E-3D06-456C-AF3E-FF7BE62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EB0A-C0A7-4B4B-AD2F-EFD6F213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50C-65D6-4C71-8B14-B3592CCC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9AEC-4C3E-49DD-BCD5-43AAC23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1B24-01DF-4681-8852-4D2ACB31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A4B4-5A67-4DCB-816D-04548C9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E6D1-3BE0-4762-86F4-D209948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9877-8114-478E-A9B9-33AF4F68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F3ED-8D99-4076-BC17-46825823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5376-62E1-42CA-9A23-43400BF1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7B7-ED65-4CDB-8AAE-B088E3E5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4CF-404A-4C17-8FB3-7745E139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A98-3339-469B-BD00-E3F0E99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F51-B5E2-4C94-A96A-8FF4E68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EAD-50A8-44B7-838D-B715FFCA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833-B0DF-4E4A-A87C-B4EC706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200B6-D4EB-4FD0-AD23-B91F318975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8EF93-25EC-41CD-9C2C-6B3553DD4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AC6BD-2340-4BB2-8C0F-FBD5E5F00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C127F-6A81-48E8-A742-23D65ADFF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06B86-9741-4AB8-A04D-DF4DBA207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89670-C909-4028-B5DF-89C0FC170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1066680"/>
            <a:ext cx="44895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6171b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16171b"/>
                </a:solidFill>
                <a:latin typeface="Arial Black"/>
              </a:rPr>
              <a:t>Couples fail to make each other happy.</a:t>
            </a:r>
            <a:endParaRPr b="0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929200" y="-17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-11160" y="3143160"/>
            <a:ext cx="4489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7161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67161d"/>
                </a:solidFill>
                <a:latin typeface="Arial Black"/>
              </a:rPr>
              <a:t>Needs aren’t being met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7161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67161d"/>
                </a:solidFill>
                <a:latin typeface="Arial Black"/>
              </a:rPr>
              <a:t>Failure to care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5929200" y="-17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5951520" y="-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626000" y="1084320"/>
            <a:ext cx="44895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6171b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16171b"/>
                </a:solidFill>
                <a:latin typeface="Arial Black"/>
              </a:rPr>
              <a:t>Couples make each other unhappy.</a:t>
            </a:r>
            <a:endParaRPr b="0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0799640" y="-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4527720" y="3143160"/>
            <a:ext cx="4743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22444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122444"/>
                </a:solidFill>
                <a:latin typeface="Arial Black"/>
              </a:rPr>
              <a:t>Deliberately hurting each other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22444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122444"/>
                </a:solidFill>
                <a:latin typeface="Arial Black"/>
              </a:rPr>
              <a:t>Failure to protect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-6480" y="1066680"/>
            <a:ext cx="44895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16171b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16171b"/>
                </a:solidFill>
                <a:latin typeface="Arial Black"/>
              </a:rPr>
              <a:t>Couples fail to make each other happy.</a:t>
            </a:r>
            <a:endParaRPr b="0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-17640" y="3143160"/>
            <a:ext cx="4489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7161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67161d"/>
                </a:solidFill>
                <a:latin typeface="Arial Black"/>
              </a:rPr>
              <a:t>Needs aren’t being met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7161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67161d"/>
                </a:solidFill>
                <a:latin typeface="Arial Black"/>
              </a:rPr>
              <a:t>Failure to care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7"/>
          <p:cNvSpPr txBox="1"/>
          <p:nvPr/>
        </p:nvSpPr>
        <p:spPr>
          <a:xfrm>
            <a:off x="228600" y="15228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83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51a49"/>
                </a:solidFill>
                <a:effectLst>
                  <a:outerShdw dist="17819" dir="2700000" blurRad="0" rotWithShape="0">
                    <a:srgbClr val="391e03">
                      <a:alpha val="75000"/>
                    </a:srgbClr>
                  </a:outerShdw>
                </a:effectLst>
                <a:latin typeface="Arial Black"/>
              </a:rPr>
              <a:t>Why Affairs Happen</a:t>
            </a:r>
            <a:endParaRPr b="0" i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51a49"/>
              </a:solidFill>
              <a:effectLst>
                <a:outerShdw dist="17819" dir="2700000" blurRad="0" rotWithShape="0">
                  <a:srgbClr val="391e03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3520" y="609480"/>
            <a:ext cx="8076960" cy="37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Women - lack of </a:t>
            </a: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affec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Men - lack of </a:t>
            </a: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se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Low self este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Misplaced </a:t>
            </a: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friendship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Failure to set and implement personal boundar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344680" y="4305240"/>
            <a:ext cx="807732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6. Depress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7. Revenge and bitternes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04920" y="228600"/>
            <a:ext cx="86868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22444"/>
                </a:solidFill>
                <a:latin typeface="Arial"/>
              </a:rPr>
              <a:t>What percent actually marry the forbidden lover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22444"/>
                </a:solidFill>
                <a:latin typeface="Arial"/>
              </a:rPr>
              <a:t>3%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22444"/>
                </a:solidFill>
                <a:latin typeface="Arial"/>
              </a:rPr>
              <a:t>What percent of those marriages end in divorce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22444"/>
                </a:solidFill>
                <a:latin typeface="Arial"/>
              </a:rPr>
              <a:t>75%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22444"/>
                </a:solidFill>
                <a:latin typeface="Arial"/>
              </a:rPr>
              <a:t>Therefore, what are the odds of a lasting marriage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22444"/>
                </a:solidFill>
                <a:latin typeface="Arial"/>
              </a:rPr>
              <a:t>0.75%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84200" y="1227240"/>
            <a:ext cx="473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. Defend you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yes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rs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461880" y="3579840"/>
            <a:ext cx="5637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y are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ewa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o forming our thoughts and belief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203040" y="270000"/>
            <a:ext cx="506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James 1:19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Everyone should be quick to listen, slow to speak and slow to become angry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683160" y="331920"/>
            <a:ext cx="5062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RK 4:9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n Jesus said, "He who has ears to hear, let him hear."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earing.jpg"/>
          <p:cNvPicPr/>
          <p:nvPr/>
        </p:nvPicPr>
        <p:blipFill>
          <a:blip r:embed="rId1"/>
          <a:stretch/>
        </p:blipFill>
        <p:spPr>
          <a:xfrm>
            <a:off x="0" y="1778040"/>
            <a:ext cx="3683160" cy="5079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835440" y="3741840"/>
            <a:ext cx="5062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plified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and let him consider, and comprehend].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700520" y="920880"/>
            <a:ext cx="356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. Defend your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ought life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03040" y="270000"/>
            <a:ext cx="856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verbs 4:23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e careful how you think; your life is shaped by your thoughts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03040" y="270000"/>
            <a:ext cx="85680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hilippians 4:8-9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ly, brothers, whatever is true, whatever is noble, whatever is right, whatever is pure, whatever is lovely, whatever is admirable—if anything is excellent or praiseworthy—think about such things. [AMP - fix your minds on them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ever you have learned or received or heard from me, or seen in me—put it into practice. And the God of peace will be with you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098960" y="1271520"/>
            <a:ext cx="46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James 3:13-18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230880" y="1344600"/>
            <a:ext cx="260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3. Guard you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tives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203040" y="270000"/>
            <a:ext cx="8568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 Thessalonians 5:21-23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ve all things; hold fast that which is good.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bstain from all appearance of evil.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d the very God of peace sanctify you wholly; and I pray God your whole spirit and soul and body be preserved blameless unto the coming of our Lord Jesus Christ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842080" y="1301760"/>
            <a:ext cx="33019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verbs 5:8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Keep to a path far from her, do not go near the door of her house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560520" y="62532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4. Defend your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outh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523880" y="167796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James 3:1-12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270000" y="193680"/>
            <a:ext cx="849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phesians 4:29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(AMP) Let no foul or polluting language, nor evil word nor unwholesome or worthless talk [ever] come out of your mouth, but only such [speech] as is good and beneficial to the spiritual progress of others, as is fitting to the ne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the occasion, that it may be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lessing and give grace (God'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vor) to those who hear it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357120" y="13500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5. Block the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st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357120" y="2365200"/>
            <a:ext cx="87868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hilippians 3:13-14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rothers, I do not consider myself yet to have taken hold of it. But one thing I do: Forgetting what is behind and straining toward what is ahead,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 press on toward the goal to win the prize for which God has called me heavenward in Christ Jesus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22200" y="209520"/>
            <a:ext cx="81993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rriage is like a fireplace . . .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. . . you have to regularly put logs on the fire to maintain the heat!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533520" y="609480"/>
            <a:ext cx="807696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22444"/>
                </a:solidFill>
                <a:latin typeface="Arial"/>
              </a:rPr>
              <a:t>Enjoying </a:t>
            </a:r>
            <a:r>
              <a:rPr b="0" i="1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common</a:t>
            </a:r>
            <a:r>
              <a:rPr b="0" i="1" lang="en-US" sz="3200" spc="-1" strike="noStrike">
                <a:solidFill>
                  <a:srgbClr val="122444"/>
                </a:solidFill>
                <a:latin typeface="Arial"/>
              </a:rPr>
              <a:t> interest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22444"/>
                </a:solidFill>
                <a:latin typeface="Arial"/>
              </a:rPr>
              <a:t>Sharing personal information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22444"/>
                </a:solidFill>
                <a:latin typeface="Arial"/>
              </a:rPr>
              <a:t>Anticipating </a:t>
            </a:r>
            <a:r>
              <a:rPr b="0" i="1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time</a:t>
            </a: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 together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Hiding the </a:t>
            </a: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friendship</a:t>
            </a: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 from my spouse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Flirting</a:t>
            </a: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, minor arousing touch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Inventing excuses to call or meet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228600" y="15228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83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51a49"/>
                </a:solidFill>
                <a:effectLst>
                  <a:outerShdw dist="17819" dir="2700000" blurRad="0" rotWithShape="0">
                    <a:srgbClr val="391e03">
                      <a:alpha val="75000"/>
                    </a:srgbClr>
                  </a:outerShdw>
                </a:effectLst>
                <a:latin typeface="Arial Black"/>
              </a:rPr>
              <a:t>Anatomy of an Affair</a:t>
            </a:r>
            <a:endParaRPr b="0" i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51a49"/>
              </a:solidFill>
              <a:effectLst>
                <a:outerShdw dist="17819" dir="2700000" blurRad="0" rotWithShape="0">
                  <a:srgbClr val="391e03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381400" y="4549680"/>
            <a:ext cx="807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7. Deceiving </a:t>
            </a: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words</a:t>
            </a: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 and action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8. </a:t>
            </a:r>
            <a:r>
              <a:rPr b="0" lang="en-US" sz="3200" spc="-1" strike="noStrike" u="sng">
                <a:solidFill>
                  <a:srgbClr val="122444"/>
                </a:solidFill>
                <a:uFillTx/>
                <a:latin typeface="Arial"/>
              </a:rPr>
              <a:t>Physical</a:t>
            </a: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22444"/>
                </a:solidFill>
                <a:latin typeface="Arial"/>
              </a:rPr>
              <a:t>inappropriatenes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122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2:47:26Z</dcterms:created>
  <dc:creator/>
  <dc:description/>
  <dc:language>en-US</dc:language>
  <cp:lastModifiedBy/>
  <dcterms:modified xsi:type="dcterms:W3CDTF">2010-10-24T02:47:31Z</dcterms:modified>
  <cp:revision>1</cp:revision>
  <dc:subject/>
  <dc:title/>
</cp:coreProperties>
</file>