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C1904-F99E-4E02-9D0F-2D8DD74DC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75D0C-056B-4AA1-B1E2-42AADEB78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FF438-C146-4AD2-A80E-34DAC9F35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2AC25-DCA8-491F-8F04-491F77B72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D6559-A119-4CEB-A556-34C62C5D5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4ED4B-0781-4002-9F25-77DC58645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F6757-D516-4DDB-80CC-2048AC977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FE0AD-9CE8-45C6-8A5F-953F88083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F381A-4353-49D7-9E2D-6799767F8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53EFB-E49C-489F-A09A-2460AFBB8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3D4A4-66B4-4C91-AABA-00BF7A7D3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3F747-374A-4A5E-9F3E-41B6DA953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3D197-13AC-492F-8EAB-C84B63497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BE4D6-B601-464E-810A-A8BD05F4B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89F6E-822A-4423-940E-6A636ED4D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6A970-C1E9-49FE-87C1-1F7C39500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21DA8-D1A5-4D64-B9C9-B16684BA8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FC387-A9E4-4311-A192-7955F3E31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DD0BD-BAF2-48A4-867B-31586BE5F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8B055-A18F-4603-9CE7-EC3C940C2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3B06C-CF89-4D10-ACB8-8EA91473A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4BDAD-5D7E-4318-B61C-35BDC6E12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99C99-A95C-4429-84B6-45482707D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339E8-1E5E-4432-959F-004D9DE3A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9E20A-ADE2-4F32-9C89-8AE2704AC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CB4E0-73BC-4866-BF92-7E2BAC034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ED9-D485-46CA-AEB3-F24D2663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39B-6AB1-45A0-AF09-98DD9C7B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171-EF2A-4341-82EF-5B54F0A8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5B2-C93F-43B0-A03E-C44098C8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9BED-77FC-40DE-B926-1C077B83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2786-5ECB-4954-93F6-32E8DE5A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8D5C-A51E-4F47-BC05-CEB15663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A251-13C9-4570-9E0A-40924F6C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F0C4-70D2-4436-90D5-7E48827C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270A-D3C2-42BE-9AD6-4E00E2F8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9D03-4FF8-4CB4-9811-2AE0FA6B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656-BC95-4F49-B042-CF48C970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9F6A-D4B0-47B6-AAB5-463A7E0D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B467-ABEF-4181-AFF0-ADCCB532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D927-3760-4375-A5DD-06F9299C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C6BA-AD0A-48E0-9EB1-C70CEEBB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4CD4-B69C-48E6-A255-7EC5545E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BA38-FE6B-4A8E-A5F1-6F4E14F5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C452-F044-4198-AFD6-A96C4D0D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0EA6-0B8E-4F1A-ABCB-7451BEF0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966FA-E64F-452A-8EBE-8429057B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86F78-CDAD-40A9-BA25-5F414149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48A-C861-45FE-9968-FAF1458F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9AEF-FB82-491A-83FF-56CD2F43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F7E5A-2F19-41A5-9F7D-1EC622F4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5DD3-C9F6-4150-A6E1-B90CD8F2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37F60-DBBC-4024-9EB6-65DA52B9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587BC-B864-4372-9B84-48A92685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E4931-20F4-4BC7-A015-B9BBF9EB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B0322-1AD3-4DD8-ACA9-E2F6418D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356CB-B77B-408F-90EC-E7CC350C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CF639-23F4-47BA-86E1-F36BC0AA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CB9BC-9527-4C75-9AB1-B6DE705F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82F-832A-4A25-8E93-A9E7B83B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B0CC0-BC7B-4036-A620-BF1B8840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C3D26-87A2-4117-BF61-00690D1E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72319-6B0E-4376-9642-EF6C6F15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7C527-5FDD-45D8-B713-C8821671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3A2AF-1F5C-4174-B67C-1AEAFF5A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4F6DE-4C47-4B17-8C1E-347A9142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9EFC2-E5D8-45FB-8E31-BB8647EA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AEE34-28D4-48FC-BAEA-36B0C2E3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4095D-1087-465B-BF8B-D9091AB4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915FF-B6BD-45B5-80D9-8E2FF4C5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F7D-7609-4DFF-8158-1B61ABF0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83231-3ED4-4F9F-85A6-9675B260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0C4C0-6B53-4B4C-AC31-C004D4B5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CB345-D5EC-46FB-ADC1-59BD0E56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0E6EB-E8EC-41EA-991B-FFED82BA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07DF2-494D-436F-8BDB-EB8D3396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D91C1-9C6E-4340-A7B7-63E42F09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2D083-CDA4-4646-A47E-CC535310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BA154-92C3-4260-9F03-7652C117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AF945-30A4-4340-8A25-DBBC1D9A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9139F-B422-49D8-B85B-770A55AD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6EC-1E12-4904-9F89-9DBCB060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3BD6F-E558-4BA6-B4D3-938664B5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C8794-1A78-4614-A3BE-D810B054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DC956-F639-4898-82F4-40205F2A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8AEAD-099A-43C4-8837-A8823DAD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A1A62-0C71-4E2E-82DB-07B7BA50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89976-C768-4112-A27A-83F8C233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9DA34-435D-49BA-AEAC-165270F3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60E83-488D-443F-9037-26B1C37F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B8658-F6F9-4237-BDF2-0400D937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5CA64-6ADD-44B4-BDDC-B247C776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552-44FA-4B67-BF44-D621C3A4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9C83B-4066-4EC8-B65D-E076C044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FD44D-6DB9-4DCE-A39F-5381CE56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9F8F8-B236-47EF-B766-00195C5B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76A69-5312-4501-ABE6-F694FE97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66B43-1952-446A-9232-F7C23B36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FB81F-0180-4FB0-90F6-9DAB3DDB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89007-9260-48AA-A5EA-B0003EC4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84083-0492-4D5A-8A2C-CD9C5B22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4485E-D536-449B-9CD4-04BA22A6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B15BE-C733-4A90-96D9-E9AB840F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50A-D673-46CC-85D1-410B4AC4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8BE42-9BC0-44D7-BCF2-52614095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97308-07F7-4929-8C79-8C0F4F04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37377-37A8-4F52-988E-4EEC3980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28A85-9B23-4C2D-8816-B4A1106F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EF050-A1B0-4EBA-908C-96CB774A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3116E-A64E-496F-B306-3ACDFF43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5C83F-895B-4651-9889-69C0F80C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4EC50-4E76-46F6-B11D-754B3C6A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DFED2-AC33-408A-B3D4-A7D5F1B7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B190E-66FE-4E67-B917-22729EBB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8CB-72A7-49C8-AB81-A7B90660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8EB76-6F21-426D-9CCB-DB3E072B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8402E-6BAC-409D-9631-C3CB09E8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1BCA0-CDB5-4D5D-89FE-3E340CBD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98D80-BCEC-4E99-809B-DA6E0EFF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EECBC-4792-48F4-868D-BEAB8449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C380F-72C3-4385-84CB-8AA7C194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ED9AC-A36B-427E-980D-EC45A46E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9A68F-F319-48A9-8DB6-18D314C1E2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42E19-7129-4766-A579-D67000BCC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FA0C6-D28A-4D5E-AFBF-2293CCCB09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C85B5-01ED-435B-BA21-5CBB293B6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DBDA5-17C1-4571-B530-274BD5328B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D578A-A239-45DC-8A05-7CB5FFC6C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35401-42BE-49AB-9291-17133EF659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BEC40-C2C8-4A31-A12B-8265B7D0C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90F99-461C-446B-BE4C-A919DF9AE7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F649B-E0A2-49E1-A8A6-2E9E77BC3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0F7B5-C69E-4926-A4FC-23B948D73D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0DD88-FC07-4A2D-96C7-15EDDE24B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85710-82A3-4C6A-B340-4146279134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9C567-4025-4728-A8D9-77EB181CF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CFC8A-5B11-4794-B900-233981A0FC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9FD81-01A8-4176-88D3-DE61068FF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3"/>
          <p:cNvSpPr/>
          <p:nvPr/>
        </p:nvSpPr>
        <p:spPr>
          <a:xfrm>
            <a:off x="138240" y="81000"/>
            <a:ext cx="88167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phesians 3:16-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8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d may you have the power to understand, as all God’s people should, how wide, how long, how high, and how deep his love is. 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9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y you experience the love of Christ, though it is too great to understand fully. Then you will be made complete with all the fullness of life and power that </a:t>
            </a:r>
            <a:r>
              <a:rPr b="1" i="1" lang="en-US" sz="3000" spc="-1" strike="noStrike">
                <a:solidFill>
                  <a:srgbClr val="800000"/>
                </a:solidFill>
                <a:latin typeface="Arial"/>
                <a:ea typeface="Arial"/>
              </a:rPr>
              <a:t>comes from Go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138240" y="81000"/>
            <a:ext cx="88167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cclesiastes 4:9-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wo are better than one, because they have a good return for their work: 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f one falls down, his friend can help him up. But pity the man who falls and has no one to help him up!  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so, if two lie down together, they will keep warm. But how can one keep warm alone?   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ough one may be overpowered, two can defend themselves.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cord of three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trands is not quickly brok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3"/>
          <p:cNvSpPr/>
          <p:nvPr/>
        </p:nvSpPr>
        <p:spPr>
          <a:xfrm>
            <a:off x="2095560" y="1911240"/>
            <a:ext cx="61801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We will live a more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 Black"/>
              </a:rPr>
              <a:t>satisfied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 and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 Black"/>
              </a:rPr>
              <a:t>fulfilled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 lif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3"/>
          <p:cNvSpPr/>
          <p:nvPr/>
        </p:nvSpPr>
        <p:spPr>
          <a:xfrm>
            <a:off x="1095480" y="2444760"/>
            <a:ext cx="7632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2. We strengthen our commitment to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 Black"/>
              </a:rPr>
              <a:t>each other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3"/>
          <p:cNvSpPr/>
          <p:nvPr/>
        </p:nvSpPr>
        <p:spPr>
          <a:xfrm>
            <a:off x="338040" y="1590840"/>
            <a:ext cx="8575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3. We become a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 Black"/>
              </a:rPr>
              <a:t>blessing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 versus a 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 Black"/>
              </a:rPr>
              <a:t>burden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 in the relationship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2363760" y="3181320"/>
            <a:ext cx="53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 become a sail versus an anch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1647720" y="81000"/>
            <a:ext cx="73072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alatians 5:13-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You, my brothers, were called to be free. But do not use your freedom to indulge the sinful nature; rather, serve one another in love. 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entire law is summed up in a single command: "Love your neighbor as yourself." 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f you keep on biting and devouring each other, watch out or you will be destroyed by each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3"/>
          <p:cNvSpPr/>
          <p:nvPr/>
        </p:nvSpPr>
        <p:spPr>
          <a:xfrm>
            <a:off x="1647720" y="81000"/>
            <a:ext cx="73072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tthew 20:2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Just as the Son of Man did not come to be served, but to serve, and to give his life as a ransom for man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328680" y="3713040"/>
            <a:ext cx="8508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James 3: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or where envying and strife is,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re is confusion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and every evil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3"/>
          <p:cNvSpPr/>
          <p:nvPr/>
        </p:nvSpPr>
        <p:spPr>
          <a:xfrm>
            <a:off x="1647720" y="81000"/>
            <a:ext cx="73072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uke 6:3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ive, and it will be given to you. A good measure, pressed down, shaken together and running over, will be poured into your lap. For with the measure you use, it will be measured to y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3"/>
          <p:cNvSpPr/>
          <p:nvPr/>
        </p:nvSpPr>
        <p:spPr>
          <a:xfrm>
            <a:off x="2095560" y="1911240"/>
            <a:ext cx="61801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4. We respond in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 Black"/>
              </a:rPr>
              <a:t>love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 Black"/>
              </a:rPr>
              <a:t>forgiveness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 versus anger and frustration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3"/>
          <p:cNvSpPr/>
          <p:nvPr/>
        </p:nvSpPr>
        <p:spPr>
          <a:xfrm>
            <a:off x="1027080" y="1944720"/>
            <a:ext cx="75805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5. We have built our marriage on a secure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 Black"/>
              </a:rPr>
              <a:t>foundation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3"/>
          <p:cNvSpPr/>
          <p:nvPr/>
        </p:nvSpPr>
        <p:spPr>
          <a:xfrm>
            <a:off x="328680" y="3336840"/>
            <a:ext cx="790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:   to pledge oneself, to be strong towards, to endure in, to persevere, to maintain a consistent responsibil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3"/>
          <p:cNvSpPr/>
          <p:nvPr/>
        </p:nvSpPr>
        <p:spPr>
          <a:xfrm>
            <a:off x="328680" y="3336840"/>
            <a:ext cx="7359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o get MORE committed to Christ we have to become LESS committed to something el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3"/>
          <p:cNvSpPr/>
          <p:nvPr/>
        </p:nvSpPr>
        <p:spPr>
          <a:xfrm>
            <a:off x="2770200" y="743040"/>
            <a:ext cx="439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rriage is about personal satisfa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3405240" y="527040"/>
            <a:ext cx="4390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goal of marriage is to achi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appin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2728800" y="485640"/>
            <a:ext cx="5094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f my mate would change a few things th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rriage would b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rea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"/>
          <p:cNvSpPr/>
          <p:nvPr/>
        </p:nvSpPr>
        <p:spPr>
          <a:xfrm>
            <a:off x="322200" y="554040"/>
            <a:ext cx="8535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b23f3b"/>
                </a:solidFill>
                <a:latin typeface="Arial"/>
                <a:ea typeface="Arial"/>
              </a:rPr>
              <a:t>“</a:t>
            </a:r>
            <a:r>
              <a:rPr b="1" i="1" lang="en-US" sz="4000" spc="-1" strike="noStrike">
                <a:solidFill>
                  <a:srgbClr val="b23f3b"/>
                </a:solidFill>
                <a:latin typeface="Arial"/>
                <a:ea typeface="Arial"/>
              </a:rPr>
              <a:t>When you ascribe attributes of </a:t>
            </a:r>
            <a:r>
              <a:rPr b="1" i="1" lang="en-US" sz="4000" spc="-1" strike="noStrike" u="sng">
                <a:solidFill>
                  <a:srgbClr val="b23f3b"/>
                </a:solidFill>
                <a:uFillTx/>
                <a:latin typeface="Arial"/>
                <a:ea typeface="Arial"/>
              </a:rPr>
              <a:t>deity</a:t>
            </a:r>
            <a:r>
              <a:rPr b="1" i="1" lang="en-US" sz="4000" spc="-1" strike="noStrike">
                <a:solidFill>
                  <a:srgbClr val="b23f3b"/>
                </a:solidFill>
                <a:latin typeface="Arial"/>
                <a:ea typeface="Arial"/>
              </a:rPr>
              <a:t> to </a:t>
            </a:r>
            <a:r>
              <a:rPr b="1" i="1" lang="en-US" sz="4000" spc="-1" strike="noStrike" u="sng">
                <a:solidFill>
                  <a:srgbClr val="b23f3b"/>
                </a:solidFill>
                <a:uFillTx/>
                <a:latin typeface="Arial"/>
                <a:ea typeface="Arial"/>
              </a:rPr>
              <a:t>humanity</a:t>
            </a:r>
            <a:r>
              <a:rPr b="1" i="1" lang="en-US" sz="4000" spc="-1" strike="noStrike">
                <a:solidFill>
                  <a:srgbClr val="b23f3b"/>
                </a:solidFill>
                <a:latin typeface="Arial"/>
                <a:ea typeface="Arial"/>
              </a:rPr>
              <a:t> you will ALWAYS be let down and disappointed.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328680" y="351000"/>
            <a:ext cx="85089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tthew 6:33 (Messa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teep your life in God-reality, God-initiative, God-provisions. Don’t worry about missing out. You’ll find all your everyday human concerns will be m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3"/>
          <p:cNvSpPr/>
          <p:nvPr/>
        </p:nvSpPr>
        <p:spPr>
          <a:xfrm>
            <a:off x="138240" y="81000"/>
            <a:ext cx="8820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phesians 3:16-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 pray that from his glorious, unlimited resources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he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will empower you with inner strength through his Spirit. 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n Christ will make his home in your hearts as you trust in him. Your roots will grow down into God’s love and keep you stro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3:12:32Z</dcterms:created>
  <dc:creator/>
  <dc:description/>
  <dc:language>en-US</dc:language>
  <cp:lastModifiedBy/>
  <dcterms:modified xsi:type="dcterms:W3CDTF">2010-10-24T03:12:35Z</dcterms:modified>
  <cp:revision>1</cp:revision>
  <dc:subject/>
  <dc:title/>
</cp:coreProperties>
</file>