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8EB79-25F3-4FBD-9BAA-B57F2FD0D6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CF54D-DADB-4451-BE82-2C1608D3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69869-565D-4285-AA7A-D2CD2D06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109-1871-4AA2-B130-404EC926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9BF-2DA0-4EF9-806D-2AE244A1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34B1B-8F97-41EF-9143-56DFE362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0590E-0563-473A-A178-4F2E5EDB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20C3A-930B-4DEE-88DE-BC172DB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D3543-0182-47B4-AF9B-6225642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4913-9A9F-4ABC-8873-FD39B05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BD082-4FD4-4F8F-8F97-187213E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76ED8-60BF-4742-BB7B-FE21FD1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205FC-3B27-41B7-94FF-ABC783CF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F9AD7-18E1-44AF-8A41-3F2C72A0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4267F-F79B-49BA-93AE-143A40C9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211-BB34-4EC2-BA90-2BADEB4C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F6577-B92B-4140-983D-FB4E5C29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8DF47-21FF-4F84-A1A5-2BE0557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D25D1-8637-42E4-B11A-3788B9E2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4192A-1D9C-4024-A18A-D8D401D6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485EC-11C3-44BB-9BB1-5FEB9B25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391F8-7764-47CC-957F-A1EFF78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7A5FB-F0AF-436E-BF22-B18AABC9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548E7-2508-4CB7-B17F-383B7E1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1B7F-5F6B-4435-88F8-D808B53D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1F5BB-9AE9-4817-A8AF-DACA68C2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76F-C269-4CD6-9276-6BBA474C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108BC-2424-45BD-9083-32F54E73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A199B-0DDF-476B-8CD8-DDE18C7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E10D1-3AA0-4944-A84E-20C466D7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89162-0462-4A1A-B9F7-04108CE2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574FC-340F-48F6-85D2-7187129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520ED-D215-4008-8DDA-950E8248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1AEE-847E-4A89-8AE1-BA2808BE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35D21-73BA-4940-A4DA-C8C349E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0FFA3-CBAA-4F22-9C4C-64C9D1D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82280-FCE0-40BB-8657-108FF42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963E-71C5-4998-8838-E557EA2D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302D5-B163-4868-A451-73870C56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44DDE-7A2F-4EBB-BBD3-C3C1D394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BB5D3-DEDD-4834-9497-2DC3133D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66373-F3CE-4273-9BDA-CF3C6CE6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5BDE9-EAD5-4762-BC2F-77081CB3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09951-3FB1-4059-9943-05AFEB74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F9A16-E392-40B0-A7A7-B8BB18E7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FC29-4388-4A4C-A915-5BE055EC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D53D3-8177-4E31-A60D-BD7E26B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321EA-3F43-403A-9C2A-F58F33A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C977-942F-45BA-9EA9-7915BD65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C150D-CCAF-431A-A7EE-75B93DD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49F14-543A-4988-8D2B-11DB128B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205AA-8861-4914-A4A5-EEF06045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59349-7468-4BD3-83BA-2C1D8DC9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04A26-9F14-44B7-B60B-11020901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C18D5-E17A-49E9-814E-0597810C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B8103-DE21-4422-9E19-6A6B3831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D7F63-9425-409D-B875-46B5156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E4E63-9F15-4836-93AA-AE32E246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2183F-89CB-40C2-9CB3-180A2644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F8D4-29BE-4624-8B7E-8B4E81D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9A0C7-475F-4EB5-ACC3-3C6D9869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349AC-80AC-433F-A72B-181FC98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45D68-DE00-4502-B894-4DF1ABB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7D36D-3861-40C4-8B0B-89B399F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DE59C-5BC0-42C9-8E6C-2C56D3B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EC538-3B54-4071-9ED1-BF16E012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78BFC-FC67-4618-AA8B-C360D728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859E-CD22-4FCD-99E2-7880058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C40F-DD58-4570-A3F5-3BC4E252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02D1-8485-42B3-8BA1-2152DB9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E806-4F20-469E-A8E4-89FF96E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B00-F6E5-47A5-9694-E465B162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9260-39F0-469C-9702-9FB5B26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851B-7D9E-493C-ADF8-40761C1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F786-389D-47B7-8FAC-D2A28AF1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4227-C557-43D2-883C-41F5525A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1294-2906-4D5F-A5FB-CEFC3CB8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54C7-0A11-4640-B7C0-5AC8D817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C2A4-EEB5-4DBE-ABB7-0F9D5F2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5DC1-50BA-43A3-95CE-C89DD89B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9E48-B6ED-4DCA-AA52-226C48D3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9FC4-3730-43D8-B95F-D7B139C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84D-5A09-48F4-99B4-C5D98CD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DD5A-10B9-4F56-84EE-CA0AC7AA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5282-D80D-4E6E-8926-E2C61674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2228-0CF2-4B58-9625-D25CDDEF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7147-6EC6-43F3-9F88-8293540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3D30-450F-4A59-9E55-918BF433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B664-E4DE-4D22-ABFC-0CB26AC0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633D-8889-44A8-8118-A1C81FA6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0FC2-9C89-4C3F-98BF-3553BCD5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EAC3-73B7-401F-A546-9DCDB8D5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93A7-491C-464E-8DC2-31740C80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8E7-8AE8-4CB5-A12C-9263CC8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4204-EC3D-4134-9A6E-19B30588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121FB-6C56-4915-B182-ECE70224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E941-0232-4282-9DA5-0D722781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4618-702A-428E-97AC-EB16163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7E6E-BCB3-4B12-828C-5FCCAB5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E9694-C351-4019-AB84-42EB7CB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D313-9C4C-4E39-AC8F-7980E904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81FA-191B-4039-A0D3-7DDEBE17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3B85-FB29-4137-8024-709CF6CE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AB2C-55E9-4683-A000-FE903ADF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BE3-81B9-4402-92AD-BD0A605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4F140-BDDF-44CA-BAFF-030F303E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67D4F-DCC7-402E-A102-6DBF488E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1BF1A-8ADA-4E90-95CC-EE5CF461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6995-9E6A-49DA-9227-4B607C32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95DB-7899-44BB-8ABC-AE7AED0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EB84D-AAD9-4626-8C1B-CEDC539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178C-B221-48C1-AFF3-84236F9F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036A-FA6B-4228-9A54-B13DD73C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28637-5870-4225-9D39-335D4B9C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27E11-5391-4D61-8487-EF1B4F9F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3FF-32F1-4950-927B-20540CCC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8C0F-6955-47C1-82AC-3525F19E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B074B-BA6D-4B0E-B04C-4E4360C0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BA84-E267-44EF-8BE9-F961391F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4664B-0C85-484A-8888-B841AE13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870F-814E-4335-86E9-B633FF5F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E7F9-5734-4936-8061-DCCD5963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FBB6-E41E-40D4-8D6B-97CDD961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5B1C6-E0C6-41E4-992D-E8C87CC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B9C7-2664-4FEC-91D6-7103071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5FA0-7182-476D-B41E-AB5FC50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8B5-A2B5-4DAD-B5F5-7A7B2B20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385BA-4DB9-4E9D-9AF5-28741624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CFB65-0636-4A54-9D9E-3B1A3637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9B9D3-D15D-4702-993F-65C91096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74469-6AB9-4887-9EA2-96AF0A4D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5E959-1710-43BA-B8B4-C62BAA2C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D004-7E75-41EC-A136-3F89CB7D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2C481-9124-4366-819B-B3A51A5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6D8C3-034D-41F1-9763-1A0BD3D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AD573-2D5F-4DC7-9EB8-3D4FAE4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5902-8C5A-456F-9A37-8150EDB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D92-1A0B-4AEA-8634-DCB6F55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83805-B4CC-418C-9CE8-FB4184A0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08EF-5C7B-442E-9560-1F915BF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9D7EF-65A2-4E23-8C53-57E9A90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42E0-4A0D-43C9-A4C1-3875EEC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61F1A-9029-47A3-A73D-94DF7BAE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DC139-2220-4C5B-A7E3-22C1EF65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FAC3-5A18-4204-9625-42BB4684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3E03-D76A-49C4-8681-7A8BFADC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AC426-7192-45FC-98D7-2C9B53AD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DF3F-6CD5-4F4A-A9DC-45584B0D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D0E-FBCA-44C8-8530-FC1CB59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998E9-DD8D-4D90-889E-58AB65B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BE76A-D9AA-4AD1-B88A-8557BD3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C301-A1F1-4DAC-BCC9-0DE52D5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34C3B-F8BF-466B-88B7-8540C50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80C3-32E3-4EAC-A026-4AD42585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D4E7-0196-4974-9655-573A3CAF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9579F-AA01-4859-9FCA-344604AE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6B176-C7F3-496C-B8FD-5CE4CFF0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F8414-DA69-4CC2-874B-64785DB0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1A0F0-2296-4D8D-BF19-4564E209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7D64A-C187-4D55-9845-10B8932D6F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DAC78-DAD2-4468-9238-88E7F0954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5062E-6264-4772-BC38-3BDF8A0723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5F210-249C-401F-9DB9-990EE84BA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9D873-2C4A-4F37-9D83-94EA8BA73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60DC7-9173-4BC7-8ED3-56B887C8A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1947F-C139-447C-8245-E4243C184C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3CA10-4F52-4B05-AA5A-95A14FD56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58022-2EF5-41F1-AE2D-3533CFEAA0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763D3-19EF-467B-916D-16C38B588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3ADAE-D635-4BC5-AACE-2218F4292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7F495-6BDB-48B8-B49D-E44561AE2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C24B1-01DC-4008-9647-407BC044E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1E160-163A-4E90-9664-9CD257105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64E84-921C-4EB5-ABA8-AC557AD77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A073F-9375-4949-BA51-A03618329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3FD59-AF6D-420A-9073-ADF7D4FC6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6185D-EBCE-45D7-883A-8DDD5CF1A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023B1-77DD-4DBB-B8D5-7A15E216D7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4E889-BC6A-4EBF-A26E-6C413A792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56DBC-DC2A-4928-83A9-17590811EF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E873C-7AD1-44D5-BA3A-7755DF494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3593B-67CB-43AC-B294-5B60701B2B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2B605-9151-4371-A364-117003B34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406A3-03A4-4663-9DDF-6BBAF72E04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CE0A3-99F9-4FE7-A53E-6DDB073FA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203040" y="230040"/>
            <a:ext cx="8899560" cy="183168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808080">
                <a:alpha val="8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Job 31: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I made a covenant with my eyes not to look lustfully at a girl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203040" y="230040"/>
            <a:ext cx="8899560" cy="125244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808080">
                <a:alpha val="8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1 Corinthians 10: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Do not cause anyone to stumbl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203040" y="230040"/>
            <a:ext cx="8899560" cy="241092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808080">
                <a:alpha val="8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Proverbs 16: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Pleasant words are a honeycomb, sweet to the soul and healing to the bon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203040" y="230040"/>
            <a:ext cx="8899560" cy="241092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808080">
                <a:alpha val="8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Proverbs 12: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Reckless words pierce like a sword, but the tongue of the wise brings healin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2"/>
          <p:cNvSpPr/>
          <p:nvPr/>
        </p:nvSpPr>
        <p:spPr>
          <a:xfrm>
            <a:off x="709560" y="1633680"/>
            <a:ext cx="760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overbs 15: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 hot-tempered man stirs up strife, but he who is slow to anger pacifies conten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2"/>
          <p:cNvSpPr/>
          <p:nvPr/>
        </p:nvSpPr>
        <p:spPr>
          <a:xfrm>
            <a:off x="198360" y="2627280"/>
            <a:ext cx="8764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1. Listen first, talk secon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2"/>
          <p:cNvSpPr/>
          <p:nvPr/>
        </p:nvSpPr>
        <p:spPr>
          <a:xfrm>
            <a:off x="149400" y="1501920"/>
            <a:ext cx="876456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2. Never attempt to communicate when you are “HALT.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(Hungry, Angry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nely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, or Tir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2"/>
          <p:cNvSpPr/>
          <p:nvPr/>
        </p:nvSpPr>
        <p:spPr>
          <a:xfrm>
            <a:off x="149400" y="2178000"/>
            <a:ext cx="8764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3. Call a time out if tempers are too ho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2"/>
          <p:cNvSpPr/>
          <p:nvPr/>
        </p:nvSpPr>
        <p:spPr>
          <a:xfrm>
            <a:off x="149400" y="1501920"/>
            <a:ext cx="8764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4. Share feelings versus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ccusations</a:t>
            </a: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214200" y="3395520"/>
            <a:ext cx="8963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i="1" lang="en-US" sz="3800" spc="-1" strike="noStrike">
                <a:solidFill>
                  <a:srgbClr val="000000"/>
                </a:solidFill>
                <a:latin typeface="Tahoma"/>
                <a:ea typeface="Tahoma"/>
              </a:rPr>
              <a:t>I feel unloved and unappreciated when you… (actions)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2"/>
          <p:cNvSpPr/>
          <p:nvPr/>
        </p:nvSpPr>
        <p:spPr>
          <a:xfrm>
            <a:off x="149400" y="1501920"/>
            <a:ext cx="8764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4. Share feelings versus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ccusations</a:t>
            </a: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214200" y="3395520"/>
            <a:ext cx="8963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i="1" lang="en-US" sz="3800" spc="-1" strike="noStrike">
                <a:solidFill>
                  <a:srgbClr val="000000"/>
                </a:solidFill>
                <a:latin typeface="Tahoma"/>
                <a:ea typeface="Tahoma"/>
              </a:rPr>
              <a:t>People can refute your facts but never your feelings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2"/>
          <p:cNvSpPr/>
          <p:nvPr/>
        </p:nvSpPr>
        <p:spPr>
          <a:xfrm>
            <a:off x="149400" y="1814400"/>
            <a:ext cx="8764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5. Avoid the words “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ever</a:t>
            </a: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” and “always.” It makes people more defensiv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2"/>
          <p:cNvSpPr/>
          <p:nvPr/>
        </p:nvSpPr>
        <p:spPr>
          <a:xfrm>
            <a:off x="149400" y="1814400"/>
            <a:ext cx="8764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6. Stay focused on the issue at hand. Don’t pile on sideline issu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2"/>
          <p:cNvSpPr/>
          <p:nvPr/>
        </p:nvSpPr>
        <p:spPr>
          <a:xfrm>
            <a:off x="149400" y="1814400"/>
            <a:ext cx="8764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7. Find common ground. Not my way or your way, but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ur</a:t>
            </a: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 wa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2"/>
          <p:cNvSpPr/>
          <p:nvPr/>
        </p:nvSpPr>
        <p:spPr>
          <a:xfrm>
            <a:off x="149400" y="1814400"/>
            <a:ext cx="8764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8. Value your relationship higher than being right or wrong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2"/>
          <p:cNvSpPr/>
          <p:nvPr/>
        </p:nvSpPr>
        <p:spPr>
          <a:xfrm>
            <a:off x="149400" y="1814400"/>
            <a:ext cx="8764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9. Keep communication respectful and at a conversation leve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2"/>
          <p:cNvSpPr/>
          <p:nvPr/>
        </p:nvSpPr>
        <p:spPr>
          <a:xfrm>
            <a:off x="149400" y="1814400"/>
            <a:ext cx="8764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10. Be willing to be wrong, compromise, and apologiz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2"/>
          <p:cNvSpPr/>
          <p:nvPr/>
        </p:nvSpPr>
        <p:spPr>
          <a:xfrm>
            <a:off x="149400" y="2160720"/>
            <a:ext cx="8764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11. Never go to bed with unresolved conflict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3"/>
          <p:cNvSpPr/>
          <p:nvPr/>
        </p:nvSpPr>
        <p:spPr>
          <a:xfrm>
            <a:off x="709560" y="461880"/>
            <a:ext cx="7604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Ephesians 4:26-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In your anger do not sin. Do not let the sun go down while you are still angry,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7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nd do not give the devil a footh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2"/>
          <p:cNvSpPr/>
          <p:nvPr/>
        </p:nvSpPr>
        <p:spPr>
          <a:xfrm>
            <a:off x="149400" y="1698480"/>
            <a:ext cx="8764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ahoma"/>
              </a:rPr>
              <a:t>12. Do a positive act of kindness to let your spouse know it is over and you have moved 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rcRect l="0" t="17724" r="0" b="14326"/>
          <a:stretch/>
        </p:blipFill>
        <p:spPr>
          <a:xfrm>
            <a:off x="0" y="-203040"/>
            <a:ext cx="9144000" cy="4165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6"/>
          <p:cNvSpPr/>
          <p:nvPr/>
        </p:nvSpPr>
        <p:spPr>
          <a:xfrm>
            <a:off x="1390680" y="3962520"/>
            <a:ext cx="61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N VER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709560" y="461880"/>
            <a:ext cx="760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overbs 24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By wisdom a house is built, and through understanding it is establish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203040" y="230040"/>
            <a:ext cx="8899560" cy="588636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808080">
                <a:alpha val="8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Luke 14:28-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Suppose one of you wants to build a tower. Will he not first sit down and estimate the cost to see if he has enough money to complete it? </a:t>
            </a:r>
            <a:r>
              <a:rPr b="1" lang="en-US" sz="3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29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For if he lays th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foundation and i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not able to finish i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everyone who see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it will ridicule him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1"/>
          <p:cNvSpPr/>
          <p:nvPr/>
        </p:nvSpPr>
        <p:spPr>
          <a:xfrm>
            <a:off x="203040" y="230040"/>
            <a:ext cx="8899560" cy="183168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808080">
                <a:alpha val="8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Luke 14:28-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30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Tahoma"/>
              </a:rPr>
              <a:t>saying, 'This fellow began to build and was not able to finish.'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2:15:29Z</dcterms:created>
  <dc:creator/>
  <dc:description/>
  <dc:language>en-US</dc:language>
  <cp:lastModifiedBy/>
  <dcterms:modified xsi:type="dcterms:W3CDTF">2010-10-24T02:15:32Z</dcterms:modified>
  <cp:revision>1</cp:revision>
  <dc:subject/>
  <dc:title/>
</cp:coreProperties>
</file>